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0F5-B3AB-4B66-9DD5-9D9937C2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D14-8CCE-4167-AAE8-2A99469F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03B-E920-4AD1-ABC3-473FF531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F0B-8272-4789-8F7A-969826A5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29A-7A32-4E07-A1B9-291FC142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30F-F569-40E0-BF59-E3225147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391-FAA9-4F73-80B5-5F031949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574-8845-4216-9EBE-87D3A5B2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2C6-B8A7-4ED9-8D85-81C5A304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EEA-B5E5-495C-B2B6-1A05594D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CCE-BA71-4B7B-A009-9DA3996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B07-D23E-441C-B6A4-1415438C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B9FBE197-AFAC-42E2-83F3-F563838F3181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122520" cy="1069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31840" y="7743960"/>
            <a:ext cx="12858840" cy="242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330200"/>
            <a:ext cx="15122520" cy="899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398840" y="1486080"/>
            <a:ext cx="632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4:52:34Z</dcterms:created>
  <dc:creator>fukase3</dc:creator>
  <dc:description/>
  <dc:language>en-US</dc:language>
  <cp:lastModifiedBy>fukase3</cp:lastModifiedBy>
  <dcterms:modified xsi:type="dcterms:W3CDTF">2009-05-08T04:57:14Z</dcterms:modified>
  <cp:revision>1</cp:revision>
  <dc:subject/>
  <dc:title>スライド 1</dc:title>
</cp:coreProperties>
</file>