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05C0-69AC-4B88-BFDA-42F2B534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1D80-687F-4C55-BE06-52A985F5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8622-58D8-448A-815E-6E1B72D9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AB99-FE8B-42DF-AB15-8A6BB82C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A129-764A-448C-ABBA-5F52ADB2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F340-7751-418E-AA94-371D570E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0D2F-4EF6-4AA2-BB4A-AE1C6CE7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5402-7F31-4DE2-A731-F6DB1B5F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167F-FA88-4DEF-AC55-F21AFD9A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4C56-EA86-4031-BE76-627B27BD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8618-B78C-4F54-B264-CE659B64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130C-15B8-4171-9281-D328D488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200" indent="-5652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1044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E9550FD4-D08E-4BA6-B225-D24B444C1442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グループ化 58"/>
          <p:cNvGrpSpPr/>
          <p:nvPr/>
        </p:nvGrpSpPr>
        <p:grpSpPr>
          <a:xfrm>
            <a:off x="768240" y="1365120"/>
            <a:ext cx="10966680" cy="8004240"/>
            <a:chOff x="768240" y="1365120"/>
            <a:chExt cx="10966680" cy="8004240"/>
          </a:xfrm>
        </p:grpSpPr>
        <p:sp>
          <p:nvSpPr>
            <p:cNvPr id="42" name="Freeform 12"/>
            <p:cNvSpPr/>
            <p:nvPr/>
          </p:nvSpPr>
          <p:spPr>
            <a:xfrm>
              <a:off x="768240" y="1365120"/>
              <a:ext cx="10966680" cy="8004240"/>
            </a:xfrm>
            <a:custGeom>
              <a:avLst/>
              <a:gdLst>
                <a:gd name="textAreaLeft" fmla="*/ 0 w 10966680"/>
                <a:gd name="textAreaRight" fmla="*/ 10967040 w 10966680"/>
                <a:gd name="textAreaTop" fmla="*/ 0 h 8004240"/>
                <a:gd name="textAreaBottom" fmla="*/ 8004600 h 8004240"/>
              </a:gdLst>
              <a:ahLst/>
              <a:rect l="textAreaLeft" t="textAreaTop" r="textAreaRight" b="textAreaBottom"/>
              <a:pathLst>
                <a:path w="6908" h="5042">
                  <a:moveTo>
                    <a:pt x="2692" y="252"/>
                  </a:moveTo>
                  <a:lnTo>
                    <a:pt x="2704" y="482"/>
                  </a:lnTo>
                  <a:lnTo>
                    <a:pt x="2704" y="482"/>
                  </a:lnTo>
                  <a:lnTo>
                    <a:pt x="2732" y="488"/>
                  </a:lnTo>
                  <a:lnTo>
                    <a:pt x="2760" y="494"/>
                  </a:lnTo>
                  <a:lnTo>
                    <a:pt x="2788" y="504"/>
                  </a:lnTo>
                  <a:lnTo>
                    <a:pt x="2816" y="514"/>
                  </a:lnTo>
                  <a:lnTo>
                    <a:pt x="2842" y="528"/>
                  </a:lnTo>
                  <a:lnTo>
                    <a:pt x="2868" y="542"/>
                  </a:lnTo>
                  <a:lnTo>
                    <a:pt x="2894" y="558"/>
                  </a:lnTo>
                  <a:lnTo>
                    <a:pt x="2918" y="576"/>
                  </a:lnTo>
                  <a:lnTo>
                    <a:pt x="2942" y="594"/>
                  </a:lnTo>
                  <a:lnTo>
                    <a:pt x="2964" y="614"/>
                  </a:lnTo>
                  <a:lnTo>
                    <a:pt x="2986" y="636"/>
                  </a:lnTo>
                  <a:lnTo>
                    <a:pt x="3004" y="658"/>
                  </a:lnTo>
                  <a:lnTo>
                    <a:pt x="3022" y="682"/>
                  </a:lnTo>
                  <a:lnTo>
                    <a:pt x="3040" y="706"/>
                  </a:lnTo>
                  <a:lnTo>
                    <a:pt x="3054" y="732"/>
                  </a:lnTo>
                  <a:lnTo>
                    <a:pt x="3066" y="760"/>
                  </a:lnTo>
                  <a:lnTo>
                    <a:pt x="3066" y="760"/>
                  </a:lnTo>
                  <a:lnTo>
                    <a:pt x="3076" y="796"/>
                  </a:lnTo>
                  <a:lnTo>
                    <a:pt x="3084" y="832"/>
                  </a:lnTo>
                  <a:lnTo>
                    <a:pt x="3092" y="870"/>
                  </a:lnTo>
                  <a:lnTo>
                    <a:pt x="3098" y="910"/>
                  </a:lnTo>
                  <a:lnTo>
                    <a:pt x="3102" y="950"/>
                  </a:lnTo>
                  <a:lnTo>
                    <a:pt x="3106" y="990"/>
                  </a:lnTo>
                  <a:lnTo>
                    <a:pt x="3108" y="1030"/>
                  </a:lnTo>
                  <a:lnTo>
                    <a:pt x="3108" y="1070"/>
                  </a:lnTo>
                  <a:lnTo>
                    <a:pt x="3108" y="1110"/>
                  </a:lnTo>
                  <a:lnTo>
                    <a:pt x="3106" y="1150"/>
                  </a:lnTo>
                  <a:lnTo>
                    <a:pt x="3102" y="1190"/>
                  </a:lnTo>
                  <a:lnTo>
                    <a:pt x="3096" y="1230"/>
                  </a:lnTo>
                  <a:lnTo>
                    <a:pt x="3090" y="1268"/>
                  </a:lnTo>
                  <a:lnTo>
                    <a:pt x="3082" y="1306"/>
                  </a:lnTo>
                  <a:lnTo>
                    <a:pt x="3072" y="1342"/>
                  </a:lnTo>
                  <a:lnTo>
                    <a:pt x="3060" y="1378"/>
                  </a:lnTo>
                  <a:lnTo>
                    <a:pt x="3060" y="1378"/>
                  </a:lnTo>
                  <a:lnTo>
                    <a:pt x="3064" y="1410"/>
                  </a:lnTo>
                  <a:lnTo>
                    <a:pt x="3070" y="1442"/>
                  </a:lnTo>
                  <a:lnTo>
                    <a:pt x="3080" y="1474"/>
                  </a:lnTo>
                  <a:lnTo>
                    <a:pt x="3092" y="1506"/>
                  </a:lnTo>
                  <a:lnTo>
                    <a:pt x="3102" y="1538"/>
                  </a:lnTo>
                  <a:lnTo>
                    <a:pt x="3112" y="1570"/>
                  </a:lnTo>
                  <a:lnTo>
                    <a:pt x="3120" y="1604"/>
                  </a:lnTo>
                  <a:lnTo>
                    <a:pt x="3126" y="1638"/>
                  </a:lnTo>
                  <a:lnTo>
                    <a:pt x="3126" y="1638"/>
                  </a:lnTo>
                  <a:lnTo>
                    <a:pt x="3130" y="1674"/>
                  </a:lnTo>
                  <a:lnTo>
                    <a:pt x="3134" y="1710"/>
                  </a:lnTo>
                  <a:lnTo>
                    <a:pt x="3136" y="1746"/>
                  </a:lnTo>
                  <a:lnTo>
                    <a:pt x="3134" y="1782"/>
                  </a:lnTo>
                  <a:lnTo>
                    <a:pt x="3132" y="1816"/>
                  </a:lnTo>
                  <a:lnTo>
                    <a:pt x="3126" y="1852"/>
                  </a:lnTo>
                  <a:lnTo>
                    <a:pt x="3120" y="1886"/>
                  </a:lnTo>
                  <a:lnTo>
                    <a:pt x="3112" y="1918"/>
                  </a:lnTo>
                  <a:lnTo>
                    <a:pt x="3100" y="1952"/>
                  </a:lnTo>
                  <a:lnTo>
                    <a:pt x="3086" y="1984"/>
                  </a:lnTo>
                  <a:lnTo>
                    <a:pt x="3070" y="2014"/>
                  </a:lnTo>
                  <a:lnTo>
                    <a:pt x="3054" y="2044"/>
                  </a:lnTo>
                  <a:lnTo>
                    <a:pt x="3032" y="2074"/>
                  </a:lnTo>
                  <a:lnTo>
                    <a:pt x="3010" y="2102"/>
                  </a:lnTo>
                  <a:lnTo>
                    <a:pt x="2986" y="2128"/>
                  </a:lnTo>
                  <a:lnTo>
                    <a:pt x="2958" y="2154"/>
                  </a:lnTo>
                  <a:lnTo>
                    <a:pt x="2958" y="2154"/>
                  </a:lnTo>
                  <a:lnTo>
                    <a:pt x="2938" y="2166"/>
                  </a:lnTo>
                  <a:lnTo>
                    <a:pt x="2914" y="2178"/>
                  </a:lnTo>
                  <a:lnTo>
                    <a:pt x="2890" y="2190"/>
                  </a:lnTo>
                  <a:lnTo>
                    <a:pt x="2866" y="2202"/>
                  </a:lnTo>
                  <a:lnTo>
                    <a:pt x="2856" y="2208"/>
                  </a:lnTo>
                  <a:lnTo>
                    <a:pt x="2846" y="2216"/>
                  </a:lnTo>
                  <a:lnTo>
                    <a:pt x="2838" y="2224"/>
                  </a:lnTo>
                  <a:lnTo>
                    <a:pt x="2830" y="2234"/>
                  </a:lnTo>
                  <a:lnTo>
                    <a:pt x="2826" y="2246"/>
                  </a:lnTo>
                  <a:lnTo>
                    <a:pt x="2822" y="2258"/>
                  </a:lnTo>
                  <a:lnTo>
                    <a:pt x="2822" y="2272"/>
                  </a:lnTo>
                  <a:lnTo>
                    <a:pt x="2824" y="2288"/>
                  </a:lnTo>
                  <a:lnTo>
                    <a:pt x="2824" y="2288"/>
                  </a:lnTo>
                  <a:lnTo>
                    <a:pt x="2816" y="2344"/>
                  </a:lnTo>
                  <a:lnTo>
                    <a:pt x="2806" y="2396"/>
                  </a:lnTo>
                  <a:lnTo>
                    <a:pt x="2792" y="2450"/>
                  </a:lnTo>
                  <a:lnTo>
                    <a:pt x="2776" y="2502"/>
                  </a:lnTo>
                  <a:lnTo>
                    <a:pt x="2760" y="2552"/>
                  </a:lnTo>
                  <a:lnTo>
                    <a:pt x="2742" y="2602"/>
                  </a:lnTo>
                  <a:lnTo>
                    <a:pt x="2704" y="2702"/>
                  </a:lnTo>
                  <a:lnTo>
                    <a:pt x="2704" y="2702"/>
                  </a:lnTo>
                  <a:lnTo>
                    <a:pt x="2800" y="2758"/>
                  </a:lnTo>
                  <a:lnTo>
                    <a:pt x="2894" y="2818"/>
                  </a:lnTo>
                  <a:lnTo>
                    <a:pt x="2988" y="2878"/>
                  </a:lnTo>
                  <a:lnTo>
                    <a:pt x="3080" y="2942"/>
                  </a:lnTo>
                  <a:lnTo>
                    <a:pt x="3172" y="3008"/>
                  </a:lnTo>
                  <a:lnTo>
                    <a:pt x="3262" y="3076"/>
                  </a:lnTo>
                  <a:lnTo>
                    <a:pt x="3442" y="3214"/>
                  </a:lnTo>
                  <a:lnTo>
                    <a:pt x="3442" y="3214"/>
                  </a:lnTo>
                  <a:lnTo>
                    <a:pt x="3474" y="3382"/>
                  </a:lnTo>
                  <a:lnTo>
                    <a:pt x="3500" y="3552"/>
                  </a:lnTo>
                  <a:lnTo>
                    <a:pt x="3526" y="3724"/>
                  </a:lnTo>
                  <a:lnTo>
                    <a:pt x="3548" y="3896"/>
                  </a:lnTo>
                  <a:lnTo>
                    <a:pt x="3592" y="4240"/>
                  </a:lnTo>
                  <a:lnTo>
                    <a:pt x="3614" y="4412"/>
                  </a:lnTo>
                  <a:lnTo>
                    <a:pt x="3636" y="4584"/>
                  </a:lnTo>
                  <a:lnTo>
                    <a:pt x="3662" y="4556"/>
                  </a:lnTo>
                  <a:lnTo>
                    <a:pt x="3662" y="4556"/>
                  </a:lnTo>
                  <a:lnTo>
                    <a:pt x="3726" y="4348"/>
                  </a:lnTo>
                  <a:lnTo>
                    <a:pt x="3760" y="4244"/>
                  </a:lnTo>
                  <a:lnTo>
                    <a:pt x="3794" y="4138"/>
                  </a:lnTo>
                  <a:lnTo>
                    <a:pt x="3832" y="4032"/>
                  </a:lnTo>
                  <a:lnTo>
                    <a:pt x="3870" y="3928"/>
                  </a:lnTo>
                  <a:lnTo>
                    <a:pt x="3914" y="3826"/>
                  </a:lnTo>
                  <a:lnTo>
                    <a:pt x="3938" y="3776"/>
                  </a:lnTo>
                  <a:lnTo>
                    <a:pt x="3962" y="3726"/>
                  </a:lnTo>
                  <a:lnTo>
                    <a:pt x="3986" y="3676"/>
                  </a:lnTo>
                  <a:lnTo>
                    <a:pt x="4014" y="3628"/>
                  </a:lnTo>
                  <a:lnTo>
                    <a:pt x="4042" y="3582"/>
                  </a:lnTo>
                  <a:lnTo>
                    <a:pt x="4072" y="3536"/>
                  </a:lnTo>
                  <a:lnTo>
                    <a:pt x="4102" y="3490"/>
                  </a:lnTo>
                  <a:lnTo>
                    <a:pt x="4134" y="3446"/>
                  </a:lnTo>
                  <a:lnTo>
                    <a:pt x="4170" y="3404"/>
                  </a:lnTo>
                  <a:lnTo>
                    <a:pt x="4206" y="3362"/>
                  </a:lnTo>
                  <a:lnTo>
                    <a:pt x="4244" y="3322"/>
                  </a:lnTo>
                  <a:lnTo>
                    <a:pt x="4284" y="3282"/>
                  </a:lnTo>
                  <a:lnTo>
                    <a:pt x="4324" y="3246"/>
                  </a:lnTo>
                  <a:lnTo>
                    <a:pt x="4368" y="3210"/>
                  </a:lnTo>
                  <a:lnTo>
                    <a:pt x="4414" y="3176"/>
                  </a:lnTo>
                  <a:lnTo>
                    <a:pt x="4464" y="3144"/>
                  </a:lnTo>
                  <a:lnTo>
                    <a:pt x="4514" y="3114"/>
                  </a:lnTo>
                  <a:lnTo>
                    <a:pt x="4568" y="3084"/>
                  </a:lnTo>
                  <a:lnTo>
                    <a:pt x="4568" y="3084"/>
                  </a:lnTo>
                  <a:lnTo>
                    <a:pt x="4552" y="3056"/>
                  </a:lnTo>
                  <a:lnTo>
                    <a:pt x="4532" y="3028"/>
                  </a:lnTo>
                  <a:lnTo>
                    <a:pt x="4512" y="3000"/>
                  </a:lnTo>
                  <a:lnTo>
                    <a:pt x="4488" y="2972"/>
                  </a:lnTo>
                  <a:lnTo>
                    <a:pt x="4438" y="2916"/>
                  </a:lnTo>
                  <a:lnTo>
                    <a:pt x="4414" y="2886"/>
                  </a:lnTo>
                  <a:lnTo>
                    <a:pt x="4390" y="2858"/>
                  </a:lnTo>
                  <a:lnTo>
                    <a:pt x="4390" y="2858"/>
                  </a:lnTo>
                  <a:lnTo>
                    <a:pt x="4358" y="2856"/>
                  </a:lnTo>
                  <a:lnTo>
                    <a:pt x="4328" y="2850"/>
                  </a:lnTo>
                  <a:lnTo>
                    <a:pt x="4298" y="2838"/>
                  </a:lnTo>
                  <a:lnTo>
                    <a:pt x="4270" y="2824"/>
                  </a:lnTo>
                  <a:lnTo>
                    <a:pt x="4244" y="2808"/>
                  </a:lnTo>
                  <a:lnTo>
                    <a:pt x="4220" y="2788"/>
                  </a:lnTo>
                  <a:lnTo>
                    <a:pt x="4196" y="2766"/>
                  </a:lnTo>
                  <a:lnTo>
                    <a:pt x="4174" y="2742"/>
                  </a:lnTo>
                  <a:lnTo>
                    <a:pt x="4152" y="2716"/>
                  </a:lnTo>
                  <a:lnTo>
                    <a:pt x="4134" y="2688"/>
                  </a:lnTo>
                  <a:lnTo>
                    <a:pt x="4114" y="2660"/>
                  </a:lnTo>
                  <a:lnTo>
                    <a:pt x="4098" y="2632"/>
                  </a:lnTo>
                  <a:lnTo>
                    <a:pt x="4068" y="2576"/>
                  </a:lnTo>
                  <a:lnTo>
                    <a:pt x="4042" y="2524"/>
                  </a:lnTo>
                  <a:lnTo>
                    <a:pt x="4042" y="2524"/>
                  </a:lnTo>
                  <a:lnTo>
                    <a:pt x="4038" y="2492"/>
                  </a:lnTo>
                  <a:lnTo>
                    <a:pt x="4036" y="2458"/>
                  </a:lnTo>
                  <a:lnTo>
                    <a:pt x="4036" y="2426"/>
                  </a:lnTo>
                  <a:lnTo>
                    <a:pt x="4038" y="2392"/>
                  </a:lnTo>
                  <a:lnTo>
                    <a:pt x="4042" y="2360"/>
                  </a:lnTo>
                  <a:lnTo>
                    <a:pt x="4050" y="2328"/>
                  </a:lnTo>
                  <a:lnTo>
                    <a:pt x="4058" y="2296"/>
                  </a:lnTo>
                  <a:lnTo>
                    <a:pt x="4068" y="2268"/>
                  </a:lnTo>
                  <a:lnTo>
                    <a:pt x="4068" y="2268"/>
                  </a:lnTo>
                  <a:lnTo>
                    <a:pt x="4036" y="2234"/>
                  </a:lnTo>
                  <a:lnTo>
                    <a:pt x="4006" y="2200"/>
                  </a:lnTo>
                  <a:lnTo>
                    <a:pt x="3980" y="2164"/>
                  </a:lnTo>
                  <a:lnTo>
                    <a:pt x="3968" y="2146"/>
                  </a:lnTo>
                  <a:lnTo>
                    <a:pt x="3958" y="2126"/>
                  </a:lnTo>
                  <a:lnTo>
                    <a:pt x="3950" y="2106"/>
                  </a:lnTo>
                  <a:lnTo>
                    <a:pt x="3942" y="2086"/>
                  </a:lnTo>
                  <a:lnTo>
                    <a:pt x="3936" y="2066"/>
                  </a:lnTo>
                  <a:lnTo>
                    <a:pt x="3932" y="2044"/>
                  </a:lnTo>
                  <a:lnTo>
                    <a:pt x="3930" y="2022"/>
                  </a:lnTo>
                  <a:lnTo>
                    <a:pt x="3930" y="2000"/>
                  </a:lnTo>
                  <a:lnTo>
                    <a:pt x="3930" y="1976"/>
                  </a:lnTo>
                  <a:lnTo>
                    <a:pt x="3934" y="1954"/>
                  </a:lnTo>
                  <a:lnTo>
                    <a:pt x="3934" y="1954"/>
                  </a:lnTo>
                  <a:lnTo>
                    <a:pt x="3944" y="1908"/>
                  </a:lnTo>
                  <a:lnTo>
                    <a:pt x="3950" y="1886"/>
                  </a:lnTo>
                  <a:lnTo>
                    <a:pt x="3960" y="1864"/>
                  </a:lnTo>
                  <a:lnTo>
                    <a:pt x="3970" y="1844"/>
                  </a:lnTo>
                  <a:lnTo>
                    <a:pt x="3982" y="1824"/>
                  </a:lnTo>
                  <a:lnTo>
                    <a:pt x="3998" y="1808"/>
                  </a:lnTo>
                  <a:lnTo>
                    <a:pt x="4018" y="1792"/>
                  </a:lnTo>
                  <a:lnTo>
                    <a:pt x="4018" y="1792"/>
                  </a:lnTo>
                  <a:lnTo>
                    <a:pt x="3988" y="1736"/>
                  </a:lnTo>
                  <a:lnTo>
                    <a:pt x="3974" y="1704"/>
                  </a:lnTo>
                  <a:lnTo>
                    <a:pt x="3960" y="1674"/>
                  </a:lnTo>
                  <a:lnTo>
                    <a:pt x="3948" y="1640"/>
                  </a:lnTo>
                  <a:lnTo>
                    <a:pt x="3936" y="1608"/>
                  </a:lnTo>
                  <a:lnTo>
                    <a:pt x="3928" y="1574"/>
                  </a:lnTo>
                  <a:lnTo>
                    <a:pt x="3920" y="1542"/>
                  </a:lnTo>
                  <a:lnTo>
                    <a:pt x="3916" y="1508"/>
                  </a:lnTo>
                  <a:lnTo>
                    <a:pt x="3912" y="1474"/>
                  </a:lnTo>
                  <a:lnTo>
                    <a:pt x="3912" y="1440"/>
                  </a:lnTo>
                  <a:lnTo>
                    <a:pt x="3914" y="1406"/>
                  </a:lnTo>
                  <a:lnTo>
                    <a:pt x="3920" y="1372"/>
                  </a:lnTo>
                  <a:lnTo>
                    <a:pt x="3928" y="1340"/>
                  </a:lnTo>
                  <a:lnTo>
                    <a:pt x="3940" y="1308"/>
                  </a:lnTo>
                  <a:lnTo>
                    <a:pt x="3956" y="1276"/>
                  </a:lnTo>
                  <a:lnTo>
                    <a:pt x="3956" y="1276"/>
                  </a:lnTo>
                  <a:lnTo>
                    <a:pt x="3968" y="1250"/>
                  </a:lnTo>
                  <a:lnTo>
                    <a:pt x="3982" y="1224"/>
                  </a:lnTo>
                  <a:lnTo>
                    <a:pt x="3998" y="1200"/>
                  </a:lnTo>
                  <a:lnTo>
                    <a:pt x="4016" y="1178"/>
                  </a:lnTo>
                  <a:lnTo>
                    <a:pt x="4036" y="1156"/>
                  </a:lnTo>
                  <a:lnTo>
                    <a:pt x="4056" y="1138"/>
                  </a:lnTo>
                  <a:lnTo>
                    <a:pt x="4078" y="1118"/>
                  </a:lnTo>
                  <a:lnTo>
                    <a:pt x="4102" y="1102"/>
                  </a:lnTo>
                  <a:lnTo>
                    <a:pt x="4126" y="1088"/>
                  </a:lnTo>
                  <a:lnTo>
                    <a:pt x="4150" y="1074"/>
                  </a:lnTo>
                  <a:lnTo>
                    <a:pt x="4176" y="1062"/>
                  </a:lnTo>
                  <a:lnTo>
                    <a:pt x="4202" y="1050"/>
                  </a:lnTo>
                  <a:lnTo>
                    <a:pt x="4230" y="1042"/>
                  </a:lnTo>
                  <a:lnTo>
                    <a:pt x="4256" y="1034"/>
                  </a:lnTo>
                  <a:lnTo>
                    <a:pt x="4284" y="1028"/>
                  </a:lnTo>
                  <a:lnTo>
                    <a:pt x="4310" y="1022"/>
                  </a:lnTo>
                  <a:lnTo>
                    <a:pt x="4310" y="1022"/>
                  </a:lnTo>
                  <a:lnTo>
                    <a:pt x="4316" y="1002"/>
                  </a:lnTo>
                  <a:lnTo>
                    <a:pt x="4320" y="982"/>
                  </a:lnTo>
                  <a:lnTo>
                    <a:pt x="4324" y="942"/>
                  </a:lnTo>
                  <a:lnTo>
                    <a:pt x="4328" y="900"/>
                  </a:lnTo>
                  <a:lnTo>
                    <a:pt x="4332" y="880"/>
                  </a:lnTo>
                  <a:lnTo>
                    <a:pt x="4338" y="862"/>
                  </a:lnTo>
                  <a:lnTo>
                    <a:pt x="4338" y="862"/>
                  </a:lnTo>
                  <a:lnTo>
                    <a:pt x="4348" y="828"/>
                  </a:lnTo>
                  <a:lnTo>
                    <a:pt x="4358" y="796"/>
                  </a:lnTo>
                  <a:lnTo>
                    <a:pt x="4372" y="764"/>
                  </a:lnTo>
                  <a:lnTo>
                    <a:pt x="4388" y="734"/>
                  </a:lnTo>
                  <a:lnTo>
                    <a:pt x="4404" y="706"/>
                  </a:lnTo>
                  <a:lnTo>
                    <a:pt x="4422" y="680"/>
                  </a:lnTo>
                  <a:lnTo>
                    <a:pt x="4440" y="654"/>
                  </a:lnTo>
                  <a:lnTo>
                    <a:pt x="4460" y="630"/>
                  </a:lnTo>
                  <a:lnTo>
                    <a:pt x="4482" y="606"/>
                  </a:lnTo>
                  <a:lnTo>
                    <a:pt x="4504" y="584"/>
                  </a:lnTo>
                  <a:lnTo>
                    <a:pt x="4528" y="562"/>
                  </a:lnTo>
                  <a:lnTo>
                    <a:pt x="4552" y="542"/>
                  </a:lnTo>
                  <a:lnTo>
                    <a:pt x="4578" y="524"/>
                  </a:lnTo>
                  <a:lnTo>
                    <a:pt x="4604" y="506"/>
                  </a:lnTo>
                  <a:lnTo>
                    <a:pt x="4632" y="490"/>
                  </a:lnTo>
                  <a:lnTo>
                    <a:pt x="4660" y="474"/>
                  </a:lnTo>
                  <a:lnTo>
                    <a:pt x="4718" y="446"/>
                  </a:lnTo>
                  <a:lnTo>
                    <a:pt x="4778" y="420"/>
                  </a:lnTo>
                  <a:lnTo>
                    <a:pt x="4840" y="398"/>
                  </a:lnTo>
                  <a:lnTo>
                    <a:pt x="4902" y="380"/>
                  </a:lnTo>
                  <a:lnTo>
                    <a:pt x="4966" y="364"/>
                  </a:lnTo>
                  <a:lnTo>
                    <a:pt x="5030" y="352"/>
                  </a:lnTo>
                  <a:lnTo>
                    <a:pt x="5092" y="342"/>
                  </a:lnTo>
                  <a:lnTo>
                    <a:pt x="5156" y="332"/>
                  </a:lnTo>
                  <a:lnTo>
                    <a:pt x="5156" y="332"/>
                  </a:lnTo>
                  <a:lnTo>
                    <a:pt x="5204" y="334"/>
                  </a:lnTo>
                  <a:lnTo>
                    <a:pt x="5252" y="338"/>
                  </a:lnTo>
                  <a:lnTo>
                    <a:pt x="5298" y="344"/>
                  </a:lnTo>
                  <a:lnTo>
                    <a:pt x="5344" y="350"/>
                  </a:lnTo>
                  <a:lnTo>
                    <a:pt x="5390" y="358"/>
                  </a:lnTo>
                  <a:lnTo>
                    <a:pt x="5436" y="370"/>
                  </a:lnTo>
                  <a:lnTo>
                    <a:pt x="5480" y="382"/>
                  </a:lnTo>
                  <a:lnTo>
                    <a:pt x="5522" y="398"/>
                  </a:lnTo>
                  <a:lnTo>
                    <a:pt x="5564" y="414"/>
                  </a:lnTo>
                  <a:lnTo>
                    <a:pt x="5606" y="434"/>
                  </a:lnTo>
                  <a:lnTo>
                    <a:pt x="5646" y="456"/>
                  </a:lnTo>
                  <a:lnTo>
                    <a:pt x="5686" y="482"/>
                  </a:lnTo>
                  <a:lnTo>
                    <a:pt x="5724" y="508"/>
                  </a:lnTo>
                  <a:lnTo>
                    <a:pt x="5760" y="538"/>
                  </a:lnTo>
                  <a:lnTo>
                    <a:pt x="5796" y="572"/>
                  </a:lnTo>
                  <a:lnTo>
                    <a:pt x="5830" y="608"/>
                  </a:lnTo>
                  <a:lnTo>
                    <a:pt x="5830" y="608"/>
                  </a:lnTo>
                  <a:lnTo>
                    <a:pt x="5860" y="600"/>
                  </a:lnTo>
                  <a:lnTo>
                    <a:pt x="5892" y="594"/>
                  </a:lnTo>
                  <a:lnTo>
                    <a:pt x="5924" y="590"/>
                  </a:lnTo>
                  <a:lnTo>
                    <a:pt x="5956" y="588"/>
                  </a:lnTo>
                  <a:lnTo>
                    <a:pt x="5988" y="586"/>
                  </a:lnTo>
                  <a:lnTo>
                    <a:pt x="6020" y="588"/>
                  </a:lnTo>
                  <a:lnTo>
                    <a:pt x="6052" y="590"/>
                  </a:lnTo>
                  <a:lnTo>
                    <a:pt x="6084" y="594"/>
                  </a:lnTo>
                  <a:lnTo>
                    <a:pt x="6114" y="600"/>
                  </a:lnTo>
                  <a:lnTo>
                    <a:pt x="6146" y="608"/>
                  </a:lnTo>
                  <a:lnTo>
                    <a:pt x="6176" y="616"/>
                  </a:lnTo>
                  <a:lnTo>
                    <a:pt x="6206" y="628"/>
                  </a:lnTo>
                  <a:lnTo>
                    <a:pt x="6234" y="640"/>
                  </a:lnTo>
                  <a:lnTo>
                    <a:pt x="6262" y="654"/>
                  </a:lnTo>
                  <a:lnTo>
                    <a:pt x="6288" y="670"/>
                  </a:lnTo>
                  <a:lnTo>
                    <a:pt x="6314" y="688"/>
                  </a:lnTo>
                  <a:lnTo>
                    <a:pt x="6314" y="688"/>
                  </a:lnTo>
                  <a:lnTo>
                    <a:pt x="6342" y="714"/>
                  </a:lnTo>
                  <a:lnTo>
                    <a:pt x="6370" y="742"/>
                  </a:lnTo>
                  <a:lnTo>
                    <a:pt x="6394" y="770"/>
                  </a:lnTo>
                  <a:lnTo>
                    <a:pt x="6418" y="800"/>
                  </a:lnTo>
                  <a:lnTo>
                    <a:pt x="6440" y="832"/>
                  </a:lnTo>
                  <a:lnTo>
                    <a:pt x="6458" y="864"/>
                  </a:lnTo>
                  <a:lnTo>
                    <a:pt x="6474" y="898"/>
                  </a:lnTo>
                  <a:lnTo>
                    <a:pt x="6488" y="932"/>
                  </a:lnTo>
                  <a:lnTo>
                    <a:pt x="6500" y="968"/>
                  </a:lnTo>
                  <a:lnTo>
                    <a:pt x="6508" y="1004"/>
                  </a:lnTo>
                  <a:lnTo>
                    <a:pt x="6514" y="1040"/>
                  </a:lnTo>
                  <a:lnTo>
                    <a:pt x="6516" y="1078"/>
                  </a:lnTo>
                  <a:lnTo>
                    <a:pt x="6516" y="1114"/>
                  </a:lnTo>
                  <a:lnTo>
                    <a:pt x="6512" y="1152"/>
                  </a:lnTo>
                  <a:lnTo>
                    <a:pt x="6504" y="1190"/>
                  </a:lnTo>
                  <a:lnTo>
                    <a:pt x="6492" y="1228"/>
                  </a:lnTo>
                  <a:lnTo>
                    <a:pt x="6492" y="1228"/>
                  </a:lnTo>
                  <a:lnTo>
                    <a:pt x="6490" y="1230"/>
                  </a:lnTo>
                  <a:lnTo>
                    <a:pt x="6488" y="1232"/>
                  </a:lnTo>
                  <a:lnTo>
                    <a:pt x="6486" y="1238"/>
                  </a:lnTo>
                  <a:lnTo>
                    <a:pt x="6486" y="1256"/>
                  </a:lnTo>
                  <a:lnTo>
                    <a:pt x="6486" y="1256"/>
                  </a:lnTo>
                  <a:lnTo>
                    <a:pt x="6512" y="1276"/>
                  </a:lnTo>
                  <a:lnTo>
                    <a:pt x="6536" y="1298"/>
                  </a:lnTo>
                  <a:lnTo>
                    <a:pt x="6558" y="1322"/>
                  </a:lnTo>
                  <a:lnTo>
                    <a:pt x="6578" y="1344"/>
                  </a:lnTo>
                  <a:lnTo>
                    <a:pt x="6596" y="1368"/>
                  </a:lnTo>
                  <a:lnTo>
                    <a:pt x="6614" y="1394"/>
                  </a:lnTo>
                  <a:lnTo>
                    <a:pt x="6628" y="1420"/>
                  </a:lnTo>
                  <a:lnTo>
                    <a:pt x="6642" y="1446"/>
                  </a:lnTo>
                  <a:lnTo>
                    <a:pt x="6652" y="1474"/>
                  </a:lnTo>
                  <a:lnTo>
                    <a:pt x="6662" y="1502"/>
                  </a:lnTo>
                  <a:lnTo>
                    <a:pt x="6668" y="1530"/>
                  </a:lnTo>
                  <a:lnTo>
                    <a:pt x="6672" y="1560"/>
                  </a:lnTo>
                  <a:lnTo>
                    <a:pt x="6674" y="1590"/>
                  </a:lnTo>
                  <a:lnTo>
                    <a:pt x="6672" y="1622"/>
                  </a:lnTo>
                  <a:lnTo>
                    <a:pt x="6668" y="1652"/>
                  </a:lnTo>
                  <a:lnTo>
                    <a:pt x="6662" y="1686"/>
                  </a:lnTo>
                  <a:lnTo>
                    <a:pt x="6662" y="1686"/>
                  </a:lnTo>
                  <a:lnTo>
                    <a:pt x="6654" y="1708"/>
                  </a:lnTo>
                  <a:lnTo>
                    <a:pt x="6644" y="1730"/>
                  </a:lnTo>
                  <a:lnTo>
                    <a:pt x="6632" y="1752"/>
                  </a:lnTo>
                  <a:lnTo>
                    <a:pt x="6616" y="1772"/>
                  </a:lnTo>
                  <a:lnTo>
                    <a:pt x="6584" y="1812"/>
                  </a:lnTo>
                  <a:lnTo>
                    <a:pt x="6568" y="1832"/>
                  </a:lnTo>
                  <a:lnTo>
                    <a:pt x="6552" y="1852"/>
                  </a:lnTo>
                  <a:lnTo>
                    <a:pt x="6552" y="1852"/>
                  </a:lnTo>
                  <a:lnTo>
                    <a:pt x="6560" y="1878"/>
                  </a:lnTo>
                  <a:lnTo>
                    <a:pt x="6564" y="1904"/>
                  </a:lnTo>
                  <a:lnTo>
                    <a:pt x="6568" y="1928"/>
                  </a:lnTo>
                  <a:lnTo>
                    <a:pt x="6568" y="1954"/>
                  </a:lnTo>
                  <a:lnTo>
                    <a:pt x="6566" y="1980"/>
                  </a:lnTo>
                  <a:lnTo>
                    <a:pt x="6564" y="2004"/>
                  </a:lnTo>
                  <a:lnTo>
                    <a:pt x="6558" y="2028"/>
                  </a:lnTo>
                  <a:lnTo>
                    <a:pt x="6550" y="2052"/>
                  </a:lnTo>
                  <a:lnTo>
                    <a:pt x="6542" y="2076"/>
                  </a:lnTo>
                  <a:lnTo>
                    <a:pt x="6532" y="2098"/>
                  </a:lnTo>
                  <a:lnTo>
                    <a:pt x="6520" y="2120"/>
                  </a:lnTo>
                  <a:lnTo>
                    <a:pt x="6506" y="2142"/>
                  </a:lnTo>
                  <a:lnTo>
                    <a:pt x="6492" y="2164"/>
                  </a:lnTo>
                  <a:lnTo>
                    <a:pt x="6476" y="2184"/>
                  </a:lnTo>
                  <a:lnTo>
                    <a:pt x="6460" y="2204"/>
                  </a:lnTo>
                  <a:lnTo>
                    <a:pt x="6442" y="2222"/>
                  </a:lnTo>
                  <a:lnTo>
                    <a:pt x="6442" y="2222"/>
                  </a:lnTo>
                  <a:lnTo>
                    <a:pt x="6466" y="2292"/>
                  </a:lnTo>
                  <a:lnTo>
                    <a:pt x="6478" y="2328"/>
                  </a:lnTo>
                  <a:lnTo>
                    <a:pt x="6488" y="2366"/>
                  </a:lnTo>
                  <a:lnTo>
                    <a:pt x="6494" y="2402"/>
                  </a:lnTo>
                  <a:lnTo>
                    <a:pt x="6496" y="2422"/>
                  </a:lnTo>
                  <a:lnTo>
                    <a:pt x="6496" y="2440"/>
                  </a:lnTo>
                  <a:lnTo>
                    <a:pt x="6494" y="2458"/>
                  </a:lnTo>
                  <a:lnTo>
                    <a:pt x="6492" y="2478"/>
                  </a:lnTo>
                  <a:lnTo>
                    <a:pt x="6486" y="2496"/>
                  </a:lnTo>
                  <a:lnTo>
                    <a:pt x="6480" y="2514"/>
                  </a:lnTo>
                  <a:lnTo>
                    <a:pt x="6480" y="2514"/>
                  </a:lnTo>
                  <a:lnTo>
                    <a:pt x="6470" y="2544"/>
                  </a:lnTo>
                  <a:lnTo>
                    <a:pt x="6458" y="2572"/>
                  </a:lnTo>
                  <a:lnTo>
                    <a:pt x="6442" y="2598"/>
                  </a:lnTo>
                  <a:lnTo>
                    <a:pt x="6426" y="2622"/>
                  </a:lnTo>
                  <a:lnTo>
                    <a:pt x="6406" y="2646"/>
                  </a:lnTo>
                  <a:lnTo>
                    <a:pt x="6386" y="2668"/>
                  </a:lnTo>
                  <a:lnTo>
                    <a:pt x="6364" y="2690"/>
                  </a:lnTo>
                  <a:lnTo>
                    <a:pt x="6340" y="2710"/>
                  </a:lnTo>
                  <a:lnTo>
                    <a:pt x="6316" y="2728"/>
                  </a:lnTo>
                  <a:lnTo>
                    <a:pt x="6290" y="2744"/>
                  </a:lnTo>
                  <a:lnTo>
                    <a:pt x="6264" y="2760"/>
                  </a:lnTo>
                  <a:lnTo>
                    <a:pt x="6236" y="2774"/>
                  </a:lnTo>
                  <a:lnTo>
                    <a:pt x="6210" y="2786"/>
                  </a:lnTo>
                  <a:lnTo>
                    <a:pt x="6182" y="2798"/>
                  </a:lnTo>
                  <a:lnTo>
                    <a:pt x="6154" y="2808"/>
                  </a:lnTo>
                  <a:lnTo>
                    <a:pt x="6126" y="2816"/>
                  </a:lnTo>
                  <a:lnTo>
                    <a:pt x="6126" y="2816"/>
                  </a:lnTo>
                  <a:lnTo>
                    <a:pt x="6102" y="2834"/>
                  </a:lnTo>
                  <a:lnTo>
                    <a:pt x="6080" y="2854"/>
                  </a:lnTo>
                  <a:lnTo>
                    <a:pt x="6060" y="2876"/>
                  </a:lnTo>
                  <a:lnTo>
                    <a:pt x="6040" y="2900"/>
                  </a:lnTo>
                  <a:lnTo>
                    <a:pt x="6002" y="2948"/>
                  </a:lnTo>
                  <a:lnTo>
                    <a:pt x="5984" y="2970"/>
                  </a:lnTo>
                  <a:lnTo>
                    <a:pt x="5964" y="2992"/>
                  </a:lnTo>
                  <a:lnTo>
                    <a:pt x="5964" y="2992"/>
                  </a:lnTo>
                  <a:lnTo>
                    <a:pt x="6018" y="3044"/>
                  </a:lnTo>
                  <a:lnTo>
                    <a:pt x="6072" y="3096"/>
                  </a:lnTo>
                  <a:lnTo>
                    <a:pt x="6122" y="3148"/>
                  </a:lnTo>
                  <a:lnTo>
                    <a:pt x="6170" y="3202"/>
                  </a:lnTo>
                  <a:lnTo>
                    <a:pt x="6218" y="3258"/>
                  </a:lnTo>
                  <a:lnTo>
                    <a:pt x="6262" y="3314"/>
                  </a:lnTo>
                  <a:lnTo>
                    <a:pt x="6306" y="3370"/>
                  </a:lnTo>
                  <a:lnTo>
                    <a:pt x="6346" y="3428"/>
                  </a:lnTo>
                  <a:lnTo>
                    <a:pt x="6386" y="3486"/>
                  </a:lnTo>
                  <a:lnTo>
                    <a:pt x="6424" y="3544"/>
                  </a:lnTo>
                  <a:lnTo>
                    <a:pt x="6460" y="3604"/>
                  </a:lnTo>
                  <a:lnTo>
                    <a:pt x="6494" y="3666"/>
                  </a:lnTo>
                  <a:lnTo>
                    <a:pt x="6528" y="3726"/>
                  </a:lnTo>
                  <a:lnTo>
                    <a:pt x="6558" y="3788"/>
                  </a:lnTo>
                  <a:lnTo>
                    <a:pt x="6588" y="3850"/>
                  </a:lnTo>
                  <a:lnTo>
                    <a:pt x="6616" y="3914"/>
                  </a:lnTo>
                  <a:lnTo>
                    <a:pt x="6644" y="3978"/>
                  </a:lnTo>
                  <a:lnTo>
                    <a:pt x="6670" y="4042"/>
                  </a:lnTo>
                  <a:lnTo>
                    <a:pt x="6694" y="4108"/>
                  </a:lnTo>
                  <a:lnTo>
                    <a:pt x="6716" y="4172"/>
                  </a:lnTo>
                  <a:lnTo>
                    <a:pt x="6738" y="4238"/>
                  </a:lnTo>
                  <a:lnTo>
                    <a:pt x="6760" y="4306"/>
                  </a:lnTo>
                  <a:lnTo>
                    <a:pt x="6778" y="4372"/>
                  </a:lnTo>
                  <a:lnTo>
                    <a:pt x="6796" y="4440"/>
                  </a:lnTo>
                  <a:lnTo>
                    <a:pt x="6830" y="4576"/>
                  </a:lnTo>
                  <a:lnTo>
                    <a:pt x="6860" y="4714"/>
                  </a:lnTo>
                  <a:lnTo>
                    <a:pt x="6884" y="4852"/>
                  </a:lnTo>
                  <a:lnTo>
                    <a:pt x="6908" y="4992"/>
                  </a:lnTo>
                  <a:lnTo>
                    <a:pt x="6908" y="4992"/>
                  </a:lnTo>
                  <a:lnTo>
                    <a:pt x="6744" y="4988"/>
                  </a:lnTo>
                  <a:lnTo>
                    <a:pt x="6582" y="4986"/>
                  </a:lnTo>
                  <a:lnTo>
                    <a:pt x="6418" y="4986"/>
                  </a:lnTo>
                  <a:lnTo>
                    <a:pt x="6254" y="4990"/>
                  </a:lnTo>
                  <a:lnTo>
                    <a:pt x="6090" y="4996"/>
                  </a:lnTo>
                  <a:lnTo>
                    <a:pt x="5924" y="5002"/>
                  </a:lnTo>
                  <a:lnTo>
                    <a:pt x="5594" y="5018"/>
                  </a:lnTo>
                  <a:lnTo>
                    <a:pt x="5262" y="5032"/>
                  </a:lnTo>
                  <a:lnTo>
                    <a:pt x="5096" y="5036"/>
                  </a:lnTo>
                  <a:lnTo>
                    <a:pt x="4930" y="5040"/>
                  </a:lnTo>
                  <a:lnTo>
                    <a:pt x="4764" y="5042"/>
                  </a:lnTo>
                  <a:lnTo>
                    <a:pt x="4598" y="5040"/>
                  </a:lnTo>
                  <a:lnTo>
                    <a:pt x="4432" y="5036"/>
                  </a:lnTo>
                  <a:lnTo>
                    <a:pt x="4266" y="5028"/>
                  </a:lnTo>
                  <a:lnTo>
                    <a:pt x="4266" y="5028"/>
                  </a:lnTo>
                  <a:lnTo>
                    <a:pt x="4090" y="5020"/>
                  </a:lnTo>
                  <a:lnTo>
                    <a:pt x="3914" y="5012"/>
                  </a:lnTo>
                  <a:lnTo>
                    <a:pt x="3738" y="5008"/>
                  </a:lnTo>
                  <a:lnTo>
                    <a:pt x="3562" y="5004"/>
                  </a:lnTo>
                  <a:lnTo>
                    <a:pt x="3208" y="5002"/>
                  </a:lnTo>
                  <a:lnTo>
                    <a:pt x="2852" y="5002"/>
                  </a:lnTo>
                  <a:lnTo>
                    <a:pt x="2498" y="5002"/>
                  </a:lnTo>
                  <a:lnTo>
                    <a:pt x="2142" y="5000"/>
                  </a:lnTo>
                  <a:lnTo>
                    <a:pt x="1964" y="4998"/>
                  </a:lnTo>
                  <a:lnTo>
                    <a:pt x="1788" y="4994"/>
                  </a:lnTo>
                  <a:lnTo>
                    <a:pt x="1610" y="4988"/>
                  </a:lnTo>
                  <a:lnTo>
                    <a:pt x="1432" y="4980"/>
                  </a:lnTo>
                  <a:lnTo>
                    <a:pt x="134" y="4992"/>
                  </a:lnTo>
                  <a:lnTo>
                    <a:pt x="134" y="4992"/>
                  </a:lnTo>
                  <a:lnTo>
                    <a:pt x="118" y="4996"/>
                  </a:lnTo>
                  <a:lnTo>
                    <a:pt x="102" y="4996"/>
                  </a:lnTo>
                  <a:lnTo>
                    <a:pt x="66" y="4998"/>
                  </a:lnTo>
                  <a:lnTo>
                    <a:pt x="32" y="4998"/>
                  </a:lnTo>
                  <a:lnTo>
                    <a:pt x="0" y="4998"/>
                  </a:lnTo>
                  <a:lnTo>
                    <a:pt x="0" y="4998"/>
                  </a:lnTo>
                  <a:lnTo>
                    <a:pt x="8" y="4772"/>
                  </a:lnTo>
                  <a:lnTo>
                    <a:pt x="20" y="4546"/>
                  </a:lnTo>
                  <a:lnTo>
                    <a:pt x="26" y="4436"/>
                  </a:lnTo>
                  <a:lnTo>
                    <a:pt x="36" y="4324"/>
                  </a:lnTo>
                  <a:lnTo>
                    <a:pt x="46" y="4214"/>
                  </a:lnTo>
                  <a:lnTo>
                    <a:pt x="58" y="4104"/>
                  </a:lnTo>
                  <a:lnTo>
                    <a:pt x="72" y="3996"/>
                  </a:lnTo>
                  <a:lnTo>
                    <a:pt x="88" y="3888"/>
                  </a:lnTo>
                  <a:lnTo>
                    <a:pt x="106" y="3782"/>
                  </a:lnTo>
                  <a:lnTo>
                    <a:pt x="128" y="3676"/>
                  </a:lnTo>
                  <a:lnTo>
                    <a:pt x="150" y="3570"/>
                  </a:lnTo>
                  <a:lnTo>
                    <a:pt x="178" y="3468"/>
                  </a:lnTo>
                  <a:lnTo>
                    <a:pt x="206" y="3364"/>
                  </a:lnTo>
                  <a:lnTo>
                    <a:pt x="238" y="3264"/>
                  </a:lnTo>
                  <a:lnTo>
                    <a:pt x="238" y="3264"/>
                  </a:lnTo>
                  <a:lnTo>
                    <a:pt x="336" y="3162"/>
                  </a:lnTo>
                  <a:lnTo>
                    <a:pt x="436" y="3066"/>
                  </a:lnTo>
                  <a:lnTo>
                    <a:pt x="538" y="2972"/>
                  </a:lnTo>
                  <a:lnTo>
                    <a:pt x="642" y="2882"/>
                  </a:lnTo>
                  <a:lnTo>
                    <a:pt x="748" y="2794"/>
                  </a:lnTo>
                  <a:lnTo>
                    <a:pt x="854" y="2712"/>
                  </a:lnTo>
                  <a:lnTo>
                    <a:pt x="962" y="2632"/>
                  </a:lnTo>
                  <a:lnTo>
                    <a:pt x="1072" y="2556"/>
                  </a:lnTo>
                  <a:lnTo>
                    <a:pt x="1072" y="2556"/>
                  </a:lnTo>
                  <a:lnTo>
                    <a:pt x="1052" y="2532"/>
                  </a:lnTo>
                  <a:lnTo>
                    <a:pt x="1036" y="2508"/>
                  </a:lnTo>
                  <a:lnTo>
                    <a:pt x="1020" y="2484"/>
                  </a:lnTo>
                  <a:lnTo>
                    <a:pt x="1004" y="2458"/>
                  </a:lnTo>
                  <a:lnTo>
                    <a:pt x="978" y="2404"/>
                  </a:lnTo>
                  <a:lnTo>
                    <a:pt x="954" y="2350"/>
                  </a:lnTo>
                  <a:lnTo>
                    <a:pt x="934" y="2296"/>
                  </a:lnTo>
                  <a:lnTo>
                    <a:pt x="914" y="2240"/>
                  </a:lnTo>
                  <a:lnTo>
                    <a:pt x="878" y="2126"/>
                  </a:lnTo>
                  <a:lnTo>
                    <a:pt x="878" y="2126"/>
                  </a:lnTo>
                  <a:lnTo>
                    <a:pt x="848" y="2112"/>
                  </a:lnTo>
                  <a:lnTo>
                    <a:pt x="818" y="2096"/>
                  </a:lnTo>
                  <a:lnTo>
                    <a:pt x="790" y="2078"/>
                  </a:lnTo>
                  <a:lnTo>
                    <a:pt x="762" y="2060"/>
                  </a:lnTo>
                  <a:lnTo>
                    <a:pt x="736" y="2038"/>
                  </a:lnTo>
                  <a:lnTo>
                    <a:pt x="710" y="2014"/>
                  </a:lnTo>
                  <a:lnTo>
                    <a:pt x="688" y="1990"/>
                  </a:lnTo>
                  <a:lnTo>
                    <a:pt x="666" y="1964"/>
                  </a:lnTo>
                  <a:lnTo>
                    <a:pt x="646" y="1936"/>
                  </a:lnTo>
                  <a:lnTo>
                    <a:pt x="628" y="1906"/>
                  </a:lnTo>
                  <a:lnTo>
                    <a:pt x="612" y="1876"/>
                  </a:lnTo>
                  <a:lnTo>
                    <a:pt x="600" y="1846"/>
                  </a:lnTo>
                  <a:lnTo>
                    <a:pt x="588" y="1814"/>
                  </a:lnTo>
                  <a:lnTo>
                    <a:pt x="582" y="1780"/>
                  </a:lnTo>
                  <a:lnTo>
                    <a:pt x="578" y="1746"/>
                  </a:lnTo>
                  <a:lnTo>
                    <a:pt x="576" y="1712"/>
                  </a:lnTo>
                  <a:lnTo>
                    <a:pt x="576" y="1712"/>
                  </a:lnTo>
                  <a:lnTo>
                    <a:pt x="578" y="1686"/>
                  </a:lnTo>
                  <a:lnTo>
                    <a:pt x="580" y="1660"/>
                  </a:lnTo>
                  <a:lnTo>
                    <a:pt x="584" y="1636"/>
                  </a:lnTo>
                  <a:lnTo>
                    <a:pt x="590" y="1610"/>
                  </a:lnTo>
                  <a:lnTo>
                    <a:pt x="604" y="1564"/>
                  </a:lnTo>
                  <a:lnTo>
                    <a:pt x="622" y="1518"/>
                  </a:lnTo>
                  <a:lnTo>
                    <a:pt x="644" y="1474"/>
                  </a:lnTo>
                  <a:lnTo>
                    <a:pt x="668" y="1432"/>
                  </a:lnTo>
                  <a:lnTo>
                    <a:pt x="698" y="1390"/>
                  </a:lnTo>
                  <a:lnTo>
                    <a:pt x="728" y="1350"/>
                  </a:lnTo>
                  <a:lnTo>
                    <a:pt x="728" y="1350"/>
                  </a:lnTo>
                  <a:lnTo>
                    <a:pt x="712" y="1296"/>
                  </a:lnTo>
                  <a:lnTo>
                    <a:pt x="698" y="1240"/>
                  </a:lnTo>
                  <a:lnTo>
                    <a:pt x="686" y="1182"/>
                  </a:lnTo>
                  <a:lnTo>
                    <a:pt x="678" y="1122"/>
                  </a:lnTo>
                  <a:lnTo>
                    <a:pt x="670" y="1064"/>
                  </a:lnTo>
                  <a:lnTo>
                    <a:pt x="668" y="1004"/>
                  </a:lnTo>
                  <a:lnTo>
                    <a:pt x="666" y="942"/>
                  </a:lnTo>
                  <a:lnTo>
                    <a:pt x="668" y="882"/>
                  </a:lnTo>
                  <a:lnTo>
                    <a:pt x="674" y="824"/>
                  </a:lnTo>
                  <a:lnTo>
                    <a:pt x="684" y="764"/>
                  </a:lnTo>
                  <a:lnTo>
                    <a:pt x="696" y="706"/>
                  </a:lnTo>
                  <a:lnTo>
                    <a:pt x="712" y="650"/>
                  </a:lnTo>
                  <a:lnTo>
                    <a:pt x="732" y="596"/>
                  </a:lnTo>
                  <a:lnTo>
                    <a:pt x="756" y="544"/>
                  </a:lnTo>
                  <a:lnTo>
                    <a:pt x="768" y="518"/>
                  </a:lnTo>
                  <a:lnTo>
                    <a:pt x="782" y="494"/>
                  </a:lnTo>
                  <a:lnTo>
                    <a:pt x="798" y="470"/>
                  </a:lnTo>
                  <a:lnTo>
                    <a:pt x="814" y="446"/>
                  </a:lnTo>
                  <a:lnTo>
                    <a:pt x="814" y="446"/>
                  </a:lnTo>
                  <a:lnTo>
                    <a:pt x="886" y="388"/>
                  </a:lnTo>
                  <a:lnTo>
                    <a:pt x="958" y="334"/>
                  </a:lnTo>
                  <a:lnTo>
                    <a:pt x="1032" y="282"/>
                  </a:lnTo>
                  <a:lnTo>
                    <a:pt x="1110" y="236"/>
                  </a:lnTo>
                  <a:lnTo>
                    <a:pt x="1188" y="194"/>
                  </a:lnTo>
                  <a:lnTo>
                    <a:pt x="1268" y="156"/>
                  </a:lnTo>
                  <a:lnTo>
                    <a:pt x="1350" y="122"/>
                  </a:lnTo>
                  <a:lnTo>
                    <a:pt x="1434" y="92"/>
                  </a:lnTo>
                  <a:lnTo>
                    <a:pt x="1520" y="66"/>
                  </a:lnTo>
                  <a:lnTo>
                    <a:pt x="1608" y="44"/>
                  </a:lnTo>
                  <a:lnTo>
                    <a:pt x="1696" y="26"/>
                  </a:lnTo>
                  <a:lnTo>
                    <a:pt x="1786" y="14"/>
                  </a:lnTo>
                  <a:lnTo>
                    <a:pt x="1878" y="4"/>
                  </a:lnTo>
                  <a:lnTo>
                    <a:pt x="1972" y="0"/>
                  </a:lnTo>
                  <a:lnTo>
                    <a:pt x="2066" y="0"/>
                  </a:lnTo>
                  <a:lnTo>
                    <a:pt x="2162" y="4"/>
                  </a:lnTo>
                  <a:lnTo>
                    <a:pt x="2162" y="4"/>
                  </a:lnTo>
                  <a:lnTo>
                    <a:pt x="2200" y="8"/>
                  </a:lnTo>
                  <a:lnTo>
                    <a:pt x="2236" y="14"/>
                  </a:lnTo>
                  <a:lnTo>
                    <a:pt x="2274" y="20"/>
                  </a:lnTo>
                  <a:lnTo>
                    <a:pt x="2312" y="28"/>
                  </a:lnTo>
                  <a:lnTo>
                    <a:pt x="2348" y="38"/>
                  </a:lnTo>
                  <a:lnTo>
                    <a:pt x="2384" y="50"/>
                  </a:lnTo>
                  <a:lnTo>
                    <a:pt x="2420" y="62"/>
                  </a:lnTo>
                  <a:lnTo>
                    <a:pt x="2454" y="76"/>
                  </a:lnTo>
                  <a:lnTo>
                    <a:pt x="2488" y="92"/>
                  </a:lnTo>
                  <a:lnTo>
                    <a:pt x="2520" y="110"/>
                  </a:lnTo>
                  <a:lnTo>
                    <a:pt x="2552" y="128"/>
                  </a:lnTo>
                  <a:lnTo>
                    <a:pt x="2582" y="150"/>
                  </a:lnTo>
                  <a:lnTo>
                    <a:pt x="2612" y="172"/>
                  </a:lnTo>
                  <a:lnTo>
                    <a:pt x="2640" y="196"/>
                  </a:lnTo>
                  <a:lnTo>
                    <a:pt x="2668" y="224"/>
                  </a:lnTo>
                  <a:lnTo>
                    <a:pt x="2692" y="252"/>
                  </a:lnTo>
                  <a:lnTo>
                    <a:pt x="2692" y="252"/>
                  </a:lnTo>
                  <a:close/>
                </a:path>
              </a:pathLst>
            </a:custGeom>
            <a:solidFill>
              <a:srgbClr val="456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13"/>
            <p:cNvSpPr/>
            <p:nvPr/>
          </p:nvSpPr>
          <p:spPr>
            <a:xfrm>
              <a:off x="2676240" y="1555560"/>
              <a:ext cx="2152440" cy="603000"/>
            </a:xfrm>
            <a:custGeom>
              <a:avLst/>
              <a:gdLst>
                <a:gd name="textAreaLeft" fmla="*/ 0 w 2152440"/>
                <a:gd name="textAreaRight" fmla="*/ 2152800 w 215244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1356" h="380">
                  <a:moveTo>
                    <a:pt x="1342" y="246"/>
                  </a:moveTo>
                  <a:lnTo>
                    <a:pt x="1342" y="246"/>
                  </a:lnTo>
                  <a:lnTo>
                    <a:pt x="1348" y="278"/>
                  </a:lnTo>
                  <a:lnTo>
                    <a:pt x="1354" y="310"/>
                  </a:lnTo>
                  <a:lnTo>
                    <a:pt x="1356" y="344"/>
                  </a:lnTo>
                  <a:lnTo>
                    <a:pt x="1356" y="380"/>
                  </a:lnTo>
                  <a:lnTo>
                    <a:pt x="1356" y="380"/>
                  </a:lnTo>
                  <a:lnTo>
                    <a:pt x="1282" y="350"/>
                  </a:lnTo>
                  <a:lnTo>
                    <a:pt x="1204" y="322"/>
                  </a:lnTo>
                  <a:lnTo>
                    <a:pt x="1124" y="298"/>
                  </a:lnTo>
                  <a:lnTo>
                    <a:pt x="1040" y="278"/>
                  </a:lnTo>
                  <a:lnTo>
                    <a:pt x="956" y="262"/>
                  </a:lnTo>
                  <a:lnTo>
                    <a:pt x="870" y="248"/>
                  </a:lnTo>
                  <a:lnTo>
                    <a:pt x="784" y="240"/>
                  </a:lnTo>
                  <a:lnTo>
                    <a:pt x="696" y="234"/>
                  </a:lnTo>
                  <a:lnTo>
                    <a:pt x="610" y="234"/>
                  </a:lnTo>
                  <a:lnTo>
                    <a:pt x="522" y="240"/>
                  </a:lnTo>
                  <a:lnTo>
                    <a:pt x="480" y="244"/>
                  </a:lnTo>
                  <a:lnTo>
                    <a:pt x="436" y="248"/>
                  </a:lnTo>
                  <a:lnTo>
                    <a:pt x="394" y="256"/>
                  </a:lnTo>
                  <a:lnTo>
                    <a:pt x="352" y="262"/>
                  </a:lnTo>
                  <a:lnTo>
                    <a:pt x="310" y="272"/>
                  </a:lnTo>
                  <a:lnTo>
                    <a:pt x="270" y="282"/>
                  </a:lnTo>
                  <a:lnTo>
                    <a:pt x="228" y="294"/>
                  </a:lnTo>
                  <a:lnTo>
                    <a:pt x="188" y="308"/>
                  </a:lnTo>
                  <a:lnTo>
                    <a:pt x="150" y="322"/>
                  </a:lnTo>
                  <a:lnTo>
                    <a:pt x="112" y="338"/>
                  </a:lnTo>
                  <a:lnTo>
                    <a:pt x="74" y="356"/>
                  </a:lnTo>
                  <a:lnTo>
                    <a:pt x="36" y="374"/>
                  </a:lnTo>
                  <a:lnTo>
                    <a:pt x="36" y="374"/>
                  </a:lnTo>
                  <a:lnTo>
                    <a:pt x="26" y="362"/>
                  </a:lnTo>
                  <a:lnTo>
                    <a:pt x="16" y="346"/>
                  </a:lnTo>
                  <a:lnTo>
                    <a:pt x="8" y="330"/>
                  </a:lnTo>
                  <a:lnTo>
                    <a:pt x="4" y="312"/>
                  </a:lnTo>
                  <a:lnTo>
                    <a:pt x="0" y="294"/>
                  </a:lnTo>
                  <a:lnTo>
                    <a:pt x="0" y="276"/>
                  </a:lnTo>
                  <a:lnTo>
                    <a:pt x="4" y="258"/>
                  </a:lnTo>
                  <a:lnTo>
                    <a:pt x="10" y="240"/>
                  </a:lnTo>
                  <a:lnTo>
                    <a:pt x="10" y="240"/>
                  </a:lnTo>
                  <a:lnTo>
                    <a:pt x="32" y="216"/>
                  </a:lnTo>
                  <a:lnTo>
                    <a:pt x="54" y="196"/>
                  </a:lnTo>
                  <a:lnTo>
                    <a:pt x="76" y="176"/>
                  </a:lnTo>
                  <a:lnTo>
                    <a:pt x="100" y="158"/>
                  </a:lnTo>
                  <a:lnTo>
                    <a:pt x="124" y="140"/>
                  </a:lnTo>
                  <a:lnTo>
                    <a:pt x="148" y="124"/>
                  </a:lnTo>
                  <a:lnTo>
                    <a:pt x="174" y="110"/>
                  </a:lnTo>
                  <a:lnTo>
                    <a:pt x="200" y="96"/>
                  </a:lnTo>
                  <a:lnTo>
                    <a:pt x="226" y="82"/>
                  </a:lnTo>
                  <a:lnTo>
                    <a:pt x="254" y="72"/>
                  </a:lnTo>
                  <a:lnTo>
                    <a:pt x="310" y="52"/>
                  </a:lnTo>
                  <a:lnTo>
                    <a:pt x="366" y="36"/>
                  </a:lnTo>
                  <a:lnTo>
                    <a:pt x="426" y="24"/>
                  </a:lnTo>
                  <a:lnTo>
                    <a:pt x="486" y="14"/>
                  </a:lnTo>
                  <a:lnTo>
                    <a:pt x="548" y="8"/>
                  </a:lnTo>
                  <a:lnTo>
                    <a:pt x="610" y="2"/>
                  </a:lnTo>
                  <a:lnTo>
                    <a:pt x="672" y="0"/>
                  </a:lnTo>
                  <a:lnTo>
                    <a:pt x="736" y="0"/>
                  </a:lnTo>
                  <a:lnTo>
                    <a:pt x="800" y="0"/>
                  </a:lnTo>
                  <a:lnTo>
                    <a:pt x="926" y="4"/>
                  </a:lnTo>
                  <a:lnTo>
                    <a:pt x="926" y="4"/>
                  </a:lnTo>
                  <a:lnTo>
                    <a:pt x="958" y="6"/>
                  </a:lnTo>
                  <a:lnTo>
                    <a:pt x="988" y="12"/>
                  </a:lnTo>
                  <a:lnTo>
                    <a:pt x="1018" y="18"/>
                  </a:lnTo>
                  <a:lnTo>
                    <a:pt x="1048" y="26"/>
                  </a:lnTo>
                  <a:lnTo>
                    <a:pt x="1076" y="36"/>
                  </a:lnTo>
                  <a:lnTo>
                    <a:pt x="1106" y="48"/>
                  </a:lnTo>
                  <a:lnTo>
                    <a:pt x="1132" y="60"/>
                  </a:lnTo>
                  <a:lnTo>
                    <a:pt x="1160" y="74"/>
                  </a:lnTo>
                  <a:lnTo>
                    <a:pt x="1186" y="90"/>
                  </a:lnTo>
                  <a:lnTo>
                    <a:pt x="1210" y="108"/>
                  </a:lnTo>
                  <a:lnTo>
                    <a:pt x="1234" y="128"/>
                  </a:lnTo>
                  <a:lnTo>
                    <a:pt x="1258" y="148"/>
                  </a:lnTo>
                  <a:lnTo>
                    <a:pt x="1280" y="170"/>
                  </a:lnTo>
                  <a:lnTo>
                    <a:pt x="1302" y="194"/>
                  </a:lnTo>
                  <a:lnTo>
                    <a:pt x="1322" y="220"/>
                  </a:lnTo>
                  <a:lnTo>
                    <a:pt x="1342" y="246"/>
                  </a:lnTo>
                  <a:lnTo>
                    <a:pt x="1342" y="246"/>
                  </a:lnTo>
                  <a:close/>
                </a:path>
              </a:pathLst>
            </a:custGeom>
            <a:solidFill>
              <a:srgbClr val="dbe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14"/>
            <p:cNvSpPr/>
            <p:nvPr/>
          </p:nvSpPr>
          <p:spPr>
            <a:xfrm>
              <a:off x="2145960" y="2022120"/>
              <a:ext cx="469800" cy="62208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296" h="392">
                  <a:moveTo>
                    <a:pt x="296" y="178"/>
                  </a:moveTo>
                  <a:lnTo>
                    <a:pt x="290" y="200"/>
                  </a:lnTo>
                  <a:lnTo>
                    <a:pt x="290" y="200"/>
                  </a:lnTo>
                  <a:lnTo>
                    <a:pt x="270" y="210"/>
                  </a:lnTo>
                  <a:lnTo>
                    <a:pt x="252" y="224"/>
                  </a:lnTo>
                  <a:lnTo>
                    <a:pt x="234" y="238"/>
                  </a:lnTo>
                  <a:lnTo>
                    <a:pt x="218" y="256"/>
                  </a:lnTo>
                  <a:lnTo>
                    <a:pt x="186" y="296"/>
                  </a:lnTo>
                  <a:lnTo>
                    <a:pt x="154" y="334"/>
                  </a:lnTo>
                  <a:lnTo>
                    <a:pt x="138" y="350"/>
                  </a:lnTo>
                  <a:lnTo>
                    <a:pt x="122" y="366"/>
                  </a:lnTo>
                  <a:lnTo>
                    <a:pt x="104" y="378"/>
                  </a:lnTo>
                  <a:lnTo>
                    <a:pt x="86" y="388"/>
                  </a:lnTo>
                  <a:lnTo>
                    <a:pt x="66" y="392"/>
                  </a:lnTo>
                  <a:lnTo>
                    <a:pt x="56" y="392"/>
                  </a:lnTo>
                  <a:lnTo>
                    <a:pt x="46" y="392"/>
                  </a:lnTo>
                  <a:lnTo>
                    <a:pt x="36" y="390"/>
                  </a:lnTo>
                  <a:lnTo>
                    <a:pt x="24" y="386"/>
                  </a:lnTo>
                  <a:lnTo>
                    <a:pt x="12" y="382"/>
                  </a:lnTo>
                  <a:lnTo>
                    <a:pt x="0" y="376"/>
                  </a:lnTo>
                  <a:lnTo>
                    <a:pt x="0" y="376"/>
                  </a:lnTo>
                  <a:lnTo>
                    <a:pt x="0" y="348"/>
                  </a:lnTo>
                  <a:lnTo>
                    <a:pt x="2" y="320"/>
                  </a:lnTo>
                  <a:lnTo>
                    <a:pt x="4" y="292"/>
                  </a:lnTo>
                  <a:lnTo>
                    <a:pt x="10" y="266"/>
                  </a:lnTo>
                  <a:lnTo>
                    <a:pt x="18" y="240"/>
                  </a:lnTo>
                  <a:lnTo>
                    <a:pt x="28" y="216"/>
                  </a:lnTo>
                  <a:lnTo>
                    <a:pt x="40" y="192"/>
                  </a:lnTo>
                  <a:lnTo>
                    <a:pt x="54" y="168"/>
                  </a:lnTo>
                  <a:lnTo>
                    <a:pt x="68" y="144"/>
                  </a:lnTo>
                  <a:lnTo>
                    <a:pt x="86" y="122"/>
                  </a:lnTo>
                  <a:lnTo>
                    <a:pt x="104" y="100"/>
                  </a:lnTo>
                  <a:lnTo>
                    <a:pt x="122" y="78"/>
                  </a:lnTo>
                  <a:lnTo>
                    <a:pt x="142" y="58"/>
                  </a:lnTo>
                  <a:lnTo>
                    <a:pt x="164" y="38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22" y="18"/>
                  </a:lnTo>
                  <a:lnTo>
                    <a:pt x="234" y="38"/>
                  </a:lnTo>
                  <a:lnTo>
                    <a:pt x="256" y="84"/>
                  </a:lnTo>
                  <a:lnTo>
                    <a:pt x="276" y="132"/>
                  </a:lnTo>
                  <a:lnTo>
                    <a:pt x="296" y="178"/>
                  </a:lnTo>
                  <a:lnTo>
                    <a:pt x="296" y="178"/>
                  </a:lnTo>
                  <a:close/>
                </a:path>
              </a:pathLst>
            </a:custGeom>
            <a:solidFill>
              <a:srgbClr val="dbe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15"/>
            <p:cNvSpPr/>
            <p:nvPr/>
          </p:nvSpPr>
          <p:spPr>
            <a:xfrm>
              <a:off x="3425760" y="2088720"/>
              <a:ext cx="679320" cy="139680"/>
            </a:xfrm>
            <a:custGeom>
              <a:avLst/>
              <a:gdLst>
                <a:gd name="textAreaLeft" fmla="*/ 0 w 679320"/>
                <a:gd name="textAreaRight" fmla="*/ 679320 w 6793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428" h="88">
                  <a:moveTo>
                    <a:pt x="428" y="6"/>
                  </a:moveTo>
                  <a:lnTo>
                    <a:pt x="428" y="6"/>
                  </a:lnTo>
                  <a:lnTo>
                    <a:pt x="406" y="20"/>
                  </a:lnTo>
                  <a:lnTo>
                    <a:pt x="382" y="32"/>
                  </a:lnTo>
                  <a:lnTo>
                    <a:pt x="358" y="44"/>
                  </a:lnTo>
                  <a:lnTo>
                    <a:pt x="332" y="56"/>
                  </a:lnTo>
                  <a:lnTo>
                    <a:pt x="306" y="64"/>
                  </a:lnTo>
                  <a:lnTo>
                    <a:pt x="278" y="72"/>
                  </a:lnTo>
                  <a:lnTo>
                    <a:pt x="250" y="78"/>
                  </a:lnTo>
                  <a:lnTo>
                    <a:pt x="222" y="84"/>
                  </a:lnTo>
                  <a:lnTo>
                    <a:pt x="194" y="86"/>
                  </a:lnTo>
                  <a:lnTo>
                    <a:pt x="164" y="88"/>
                  </a:lnTo>
                  <a:lnTo>
                    <a:pt x="136" y="86"/>
                  </a:lnTo>
                  <a:lnTo>
                    <a:pt x="108" y="84"/>
                  </a:lnTo>
                  <a:lnTo>
                    <a:pt x="80" y="80"/>
                  </a:lnTo>
                  <a:lnTo>
                    <a:pt x="52" y="72"/>
                  </a:lnTo>
                  <a:lnTo>
                    <a:pt x="26" y="6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4" y="38"/>
                  </a:lnTo>
                  <a:lnTo>
                    <a:pt x="48" y="26"/>
                  </a:lnTo>
                  <a:lnTo>
                    <a:pt x="72" y="18"/>
                  </a:lnTo>
                  <a:lnTo>
                    <a:pt x="96" y="12"/>
                  </a:lnTo>
                  <a:lnTo>
                    <a:pt x="122" y="6"/>
                  </a:lnTo>
                  <a:lnTo>
                    <a:pt x="148" y="4"/>
                  </a:lnTo>
                  <a:lnTo>
                    <a:pt x="202" y="0"/>
                  </a:lnTo>
                  <a:lnTo>
                    <a:pt x="258" y="0"/>
                  </a:lnTo>
                  <a:lnTo>
                    <a:pt x="314" y="2"/>
                  </a:lnTo>
                  <a:lnTo>
                    <a:pt x="372" y="4"/>
                  </a:lnTo>
                  <a:lnTo>
                    <a:pt x="428" y="6"/>
                  </a:lnTo>
                  <a:lnTo>
                    <a:pt x="428" y="6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16"/>
            <p:cNvSpPr/>
            <p:nvPr/>
          </p:nvSpPr>
          <p:spPr>
            <a:xfrm>
              <a:off x="8677440" y="2114280"/>
              <a:ext cx="1009440" cy="927000"/>
            </a:xfrm>
            <a:custGeom>
              <a:avLst/>
              <a:gdLst>
                <a:gd name="textAreaLeft" fmla="*/ 0 w 1009440"/>
                <a:gd name="textAreaRight" fmla="*/ 1009440 w 100944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w="636" h="584">
                  <a:moveTo>
                    <a:pt x="588" y="232"/>
                  </a:moveTo>
                  <a:lnTo>
                    <a:pt x="588" y="232"/>
                  </a:lnTo>
                  <a:lnTo>
                    <a:pt x="600" y="248"/>
                  </a:lnTo>
                  <a:lnTo>
                    <a:pt x="610" y="268"/>
                  </a:lnTo>
                  <a:lnTo>
                    <a:pt x="620" y="288"/>
                  </a:lnTo>
                  <a:lnTo>
                    <a:pt x="626" y="308"/>
                  </a:lnTo>
                  <a:lnTo>
                    <a:pt x="632" y="328"/>
                  </a:lnTo>
                  <a:lnTo>
                    <a:pt x="634" y="350"/>
                  </a:lnTo>
                  <a:lnTo>
                    <a:pt x="636" y="372"/>
                  </a:lnTo>
                  <a:lnTo>
                    <a:pt x="636" y="394"/>
                  </a:lnTo>
                  <a:lnTo>
                    <a:pt x="634" y="416"/>
                  </a:lnTo>
                  <a:lnTo>
                    <a:pt x="632" y="438"/>
                  </a:lnTo>
                  <a:lnTo>
                    <a:pt x="628" y="458"/>
                  </a:lnTo>
                  <a:lnTo>
                    <a:pt x="622" y="480"/>
                  </a:lnTo>
                  <a:lnTo>
                    <a:pt x="616" y="500"/>
                  </a:lnTo>
                  <a:lnTo>
                    <a:pt x="608" y="520"/>
                  </a:lnTo>
                  <a:lnTo>
                    <a:pt x="598" y="538"/>
                  </a:lnTo>
                  <a:lnTo>
                    <a:pt x="588" y="556"/>
                  </a:lnTo>
                  <a:lnTo>
                    <a:pt x="562" y="584"/>
                  </a:lnTo>
                  <a:lnTo>
                    <a:pt x="562" y="584"/>
                  </a:lnTo>
                  <a:lnTo>
                    <a:pt x="544" y="538"/>
                  </a:lnTo>
                  <a:lnTo>
                    <a:pt x="524" y="496"/>
                  </a:lnTo>
                  <a:lnTo>
                    <a:pt x="500" y="452"/>
                  </a:lnTo>
                  <a:lnTo>
                    <a:pt x="472" y="412"/>
                  </a:lnTo>
                  <a:lnTo>
                    <a:pt x="442" y="374"/>
                  </a:lnTo>
                  <a:lnTo>
                    <a:pt x="408" y="336"/>
                  </a:lnTo>
                  <a:lnTo>
                    <a:pt x="374" y="300"/>
                  </a:lnTo>
                  <a:lnTo>
                    <a:pt x="336" y="266"/>
                  </a:lnTo>
                  <a:lnTo>
                    <a:pt x="298" y="234"/>
                  </a:lnTo>
                  <a:lnTo>
                    <a:pt x="258" y="204"/>
                  </a:lnTo>
                  <a:lnTo>
                    <a:pt x="216" y="174"/>
                  </a:lnTo>
                  <a:lnTo>
                    <a:pt x="174" y="148"/>
                  </a:lnTo>
                  <a:lnTo>
                    <a:pt x="130" y="124"/>
                  </a:lnTo>
                  <a:lnTo>
                    <a:pt x="86" y="104"/>
                  </a:lnTo>
                  <a:lnTo>
                    <a:pt x="44" y="8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8" y="56"/>
                  </a:lnTo>
                  <a:lnTo>
                    <a:pt x="36" y="44"/>
                  </a:lnTo>
                  <a:lnTo>
                    <a:pt x="56" y="34"/>
                  </a:lnTo>
                  <a:lnTo>
                    <a:pt x="76" y="26"/>
                  </a:lnTo>
                  <a:lnTo>
                    <a:pt x="96" y="18"/>
                  </a:lnTo>
                  <a:lnTo>
                    <a:pt x="118" y="12"/>
                  </a:lnTo>
                  <a:lnTo>
                    <a:pt x="140" y="8"/>
                  </a:lnTo>
                  <a:lnTo>
                    <a:pt x="162" y="4"/>
                  </a:lnTo>
                  <a:lnTo>
                    <a:pt x="184" y="2"/>
                  </a:lnTo>
                  <a:lnTo>
                    <a:pt x="208" y="0"/>
                  </a:lnTo>
                  <a:lnTo>
                    <a:pt x="230" y="0"/>
                  </a:lnTo>
                  <a:lnTo>
                    <a:pt x="254" y="2"/>
                  </a:lnTo>
                  <a:lnTo>
                    <a:pt x="276" y="6"/>
                  </a:lnTo>
                  <a:lnTo>
                    <a:pt x="298" y="10"/>
                  </a:lnTo>
                  <a:lnTo>
                    <a:pt x="320" y="14"/>
                  </a:lnTo>
                  <a:lnTo>
                    <a:pt x="340" y="22"/>
                  </a:lnTo>
                  <a:lnTo>
                    <a:pt x="340" y="22"/>
                  </a:lnTo>
                  <a:lnTo>
                    <a:pt x="378" y="38"/>
                  </a:lnTo>
                  <a:lnTo>
                    <a:pt x="414" y="58"/>
                  </a:lnTo>
                  <a:lnTo>
                    <a:pt x="450" y="80"/>
                  </a:lnTo>
                  <a:lnTo>
                    <a:pt x="484" y="104"/>
                  </a:lnTo>
                  <a:lnTo>
                    <a:pt x="514" y="132"/>
                  </a:lnTo>
                  <a:lnTo>
                    <a:pt x="542" y="162"/>
                  </a:lnTo>
                  <a:lnTo>
                    <a:pt x="566" y="196"/>
                  </a:lnTo>
                  <a:lnTo>
                    <a:pt x="588" y="232"/>
                  </a:lnTo>
                  <a:lnTo>
                    <a:pt x="588" y="232"/>
                  </a:lnTo>
                  <a:close/>
                </a:path>
              </a:pathLst>
            </a:custGeom>
            <a:solidFill>
              <a:srgbClr val="dbe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7"/>
            <p:cNvSpPr/>
            <p:nvPr/>
          </p:nvSpPr>
          <p:spPr>
            <a:xfrm>
              <a:off x="9560160" y="2149200"/>
              <a:ext cx="419040" cy="7966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264" h="502">
                  <a:moveTo>
                    <a:pt x="246" y="194"/>
                  </a:moveTo>
                  <a:lnTo>
                    <a:pt x="246" y="194"/>
                  </a:lnTo>
                  <a:lnTo>
                    <a:pt x="256" y="220"/>
                  </a:lnTo>
                  <a:lnTo>
                    <a:pt x="262" y="246"/>
                  </a:lnTo>
                  <a:lnTo>
                    <a:pt x="264" y="274"/>
                  </a:lnTo>
                  <a:lnTo>
                    <a:pt x="262" y="302"/>
                  </a:lnTo>
                  <a:lnTo>
                    <a:pt x="260" y="330"/>
                  </a:lnTo>
                  <a:lnTo>
                    <a:pt x="254" y="358"/>
                  </a:lnTo>
                  <a:lnTo>
                    <a:pt x="246" y="384"/>
                  </a:lnTo>
                  <a:lnTo>
                    <a:pt x="238" y="408"/>
                  </a:lnTo>
                  <a:lnTo>
                    <a:pt x="238" y="408"/>
                  </a:lnTo>
                  <a:lnTo>
                    <a:pt x="226" y="426"/>
                  </a:lnTo>
                  <a:lnTo>
                    <a:pt x="214" y="440"/>
                  </a:lnTo>
                  <a:lnTo>
                    <a:pt x="202" y="454"/>
                  </a:lnTo>
                  <a:lnTo>
                    <a:pt x="188" y="466"/>
                  </a:lnTo>
                  <a:lnTo>
                    <a:pt x="174" y="478"/>
                  </a:lnTo>
                  <a:lnTo>
                    <a:pt x="158" y="488"/>
                  </a:lnTo>
                  <a:lnTo>
                    <a:pt x="142" y="496"/>
                  </a:lnTo>
                  <a:lnTo>
                    <a:pt x="124" y="502"/>
                  </a:lnTo>
                  <a:lnTo>
                    <a:pt x="124" y="502"/>
                  </a:lnTo>
                  <a:lnTo>
                    <a:pt x="132" y="466"/>
                  </a:lnTo>
                  <a:lnTo>
                    <a:pt x="138" y="430"/>
                  </a:lnTo>
                  <a:lnTo>
                    <a:pt x="140" y="396"/>
                  </a:lnTo>
                  <a:lnTo>
                    <a:pt x="140" y="362"/>
                  </a:lnTo>
                  <a:lnTo>
                    <a:pt x="136" y="330"/>
                  </a:lnTo>
                  <a:lnTo>
                    <a:pt x="130" y="298"/>
                  </a:lnTo>
                  <a:lnTo>
                    <a:pt x="122" y="266"/>
                  </a:lnTo>
                  <a:lnTo>
                    <a:pt x="114" y="236"/>
                  </a:lnTo>
                  <a:lnTo>
                    <a:pt x="102" y="204"/>
                  </a:lnTo>
                  <a:lnTo>
                    <a:pt x="90" y="174"/>
                  </a:lnTo>
                  <a:lnTo>
                    <a:pt x="62" y="116"/>
                  </a:lnTo>
                  <a:lnTo>
                    <a:pt x="30" y="58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14"/>
                  </a:lnTo>
                  <a:lnTo>
                    <a:pt x="72" y="30"/>
                  </a:lnTo>
                  <a:lnTo>
                    <a:pt x="108" y="50"/>
                  </a:lnTo>
                  <a:lnTo>
                    <a:pt x="142" y="72"/>
                  </a:lnTo>
                  <a:lnTo>
                    <a:pt x="174" y="98"/>
                  </a:lnTo>
                  <a:lnTo>
                    <a:pt x="202" y="128"/>
                  </a:lnTo>
                  <a:lnTo>
                    <a:pt x="214" y="144"/>
                  </a:lnTo>
                  <a:lnTo>
                    <a:pt x="226" y="160"/>
                  </a:lnTo>
                  <a:lnTo>
                    <a:pt x="238" y="176"/>
                  </a:lnTo>
                  <a:lnTo>
                    <a:pt x="246" y="194"/>
                  </a:lnTo>
                  <a:lnTo>
                    <a:pt x="246" y="194"/>
                  </a:lnTo>
                  <a:close/>
                </a:path>
              </a:pathLst>
            </a:custGeom>
            <a:solidFill>
              <a:srgbClr val="dbe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8"/>
            <p:cNvSpPr/>
            <p:nvPr/>
          </p:nvSpPr>
          <p:spPr>
            <a:xfrm>
              <a:off x="2771640" y="2206440"/>
              <a:ext cx="1990800" cy="326880"/>
            </a:xfrm>
            <a:custGeom>
              <a:avLst/>
              <a:gdLst>
                <a:gd name="textAreaLeft" fmla="*/ 0 w 1990800"/>
                <a:gd name="textAreaRight" fmla="*/ 1991160 w 199080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1254" h="206">
                  <a:moveTo>
                    <a:pt x="1254" y="92"/>
                  </a:moveTo>
                  <a:lnTo>
                    <a:pt x="1254" y="92"/>
                  </a:lnTo>
                  <a:lnTo>
                    <a:pt x="1216" y="82"/>
                  </a:lnTo>
                  <a:lnTo>
                    <a:pt x="1178" y="76"/>
                  </a:lnTo>
                  <a:lnTo>
                    <a:pt x="1140" y="74"/>
                  </a:lnTo>
                  <a:lnTo>
                    <a:pt x="1102" y="74"/>
                  </a:lnTo>
                  <a:lnTo>
                    <a:pt x="1064" y="76"/>
                  </a:lnTo>
                  <a:lnTo>
                    <a:pt x="1026" y="80"/>
                  </a:lnTo>
                  <a:lnTo>
                    <a:pt x="990" y="88"/>
                  </a:lnTo>
                  <a:lnTo>
                    <a:pt x="952" y="96"/>
                  </a:lnTo>
                  <a:lnTo>
                    <a:pt x="916" y="106"/>
                  </a:lnTo>
                  <a:lnTo>
                    <a:pt x="880" y="118"/>
                  </a:lnTo>
                  <a:lnTo>
                    <a:pt x="808" y="144"/>
                  </a:lnTo>
                  <a:lnTo>
                    <a:pt x="736" y="170"/>
                  </a:lnTo>
                  <a:lnTo>
                    <a:pt x="666" y="196"/>
                  </a:lnTo>
                  <a:lnTo>
                    <a:pt x="666" y="196"/>
                  </a:lnTo>
                  <a:lnTo>
                    <a:pt x="622" y="204"/>
                  </a:lnTo>
                  <a:lnTo>
                    <a:pt x="578" y="206"/>
                  </a:lnTo>
                  <a:lnTo>
                    <a:pt x="536" y="206"/>
                  </a:lnTo>
                  <a:lnTo>
                    <a:pt x="494" y="200"/>
                  </a:lnTo>
                  <a:lnTo>
                    <a:pt x="454" y="194"/>
                  </a:lnTo>
                  <a:lnTo>
                    <a:pt x="414" y="184"/>
                  </a:lnTo>
                  <a:lnTo>
                    <a:pt x="334" y="162"/>
                  </a:lnTo>
                  <a:lnTo>
                    <a:pt x="256" y="138"/>
                  </a:lnTo>
                  <a:lnTo>
                    <a:pt x="214" y="128"/>
                  </a:lnTo>
                  <a:lnTo>
                    <a:pt x="174" y="118"/>
                  </a:lnTo>
                  <a:lnTo>
                    <a:pt x="132" y="112"/>
                  </a:lnTo>
                  <a:lnTo>
                    <a:pt x="90" y="108"/>
                  </a:lnTo>
                  <a:lnTo>
                    <a:pt x="46" y="106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22" y="92"/>
                  </a:lnTo>
                  <a:lnTo>
                    <a:pt x="44" y="76"/>
                  </a:lnTo>
                  <a:lnTo>
                    <a:pt x="64" y="62"/>
                  </a:lnTo>
                  <a:lnTo>
                    <a:pt x="86" y="50"/>
                  </a:lnTo>
                  <a:lnTo>
                    <a:pt x="108" y="42"/>
                  </a:lnTo>
                  <a:lnTo>
                    <a:pt x="130" y="34"/>
                  </a:lnTo>
                  <a:lnTo>
                    <a:pt x="152" y="30"/>
                  </a:lnTo>
                  <a:lnTo>
                    <a:pt x="176" y="26"/>
                  </a:lnTo>
                  <a:lnTo>
                    <a:pt x="198" y="24"/>
                  </a:lnTo>
                  <a:lnTo>
                    <a:pt x="220" y="24"/>
                  </a:lnTo>
                  <a:lnTo>
                    <a:pt x="266" y="26"/>
                  </a:lnTo>
                  <a:lnTo>
                    <a:pt x="314" y="32"/>
                  </a:lnTo>
                  <a:lnTo>
                    <a:pt x="362" y="42"/>
                  </a:lnTo>
                  <a:lnTo>
                    <a:pt x="458" y="62"/>
                  </a:lnTo>
                  <a:lnTo>
                    <a:pt x="506" y="70"/>
                  </a:lnTo>
                  <a:lnTo>
                    <a:pt x="554" y="76"/>
                  </a:lnTo>
                  <a:lnTo>
                    <a:pt x="580" y="76"/>
                  </a:lnTo>
                  <a:lnTo>
                    <a:pt x="604" y="76"/>
                  </a:lnTo>
                  <a:lnTo>
                    <a:pt x="628" y="76"/>
                  </a:lnTo>
                  <a:lnTo>
                    <a:pt x="654" y="72"/>
                  </a:lnTo>
                  <a:lnTo>
                    <a:pt x="678" y="68"/>
                  </a:lnTo>
                  <a:lnTo>
                    <a:pt x="704" y="62"/>
                  </a:lnTo>
                  <a:lnTo>
                    <a:pt x="728" y="54"/>
                  </a:lnTo>
                  <a:lnTo>
                    <a:pt x="752" y="44"/>
                  </a:lnTo>
                  <a:lnTo>
                    <a:pt x="752" y="44"/>
                  </a:lnTo>
                  <a:lnTo>
                    <a:pt x="782" y="32"/>
                  </a:lnTo>
                  <a:lnTo>
                    <a:pt x="812" y="22"/>
                  </a:lnTo>
                  <a:lnTo>
                    <a:pt x="844" y="14"/>
                  </a:lnTo>
                  <a:lnTo>
                    <a:pt x="876" y="8"/>
                  </a:lnTo>
                  <a:lnTo>
                    <a:pt x="910" y="2"/>
                  </a:lnTo>
                  <a:lnTo>
                    <a:pt x="944" y="0"/>
                  </a:lnTo>
                  <a:lnTo>
                    <a:pt x="978" y="0"/>
                  </a:lnTo>
                  <a:lnTo>
                    <a:pt x="1012" y="2"/>
                  </a:lnTo>
                  <a:lnTo>
                    <a:pt x="1044" y="6"/>
                  </a:lnTo>
                  <a:lnTo>
                    <a:pt x="1078" y="12"/>
                  </a:lnTo>
                  <a:lnTo>
                    <a:pt x="1110" y="20"/>
                  </a:lnTo>
                  <a:lnTo>
                    <a:pt x="1142" y="30"/>
                  </a:lnTo>
                  <a:lnTo>
                    <a:pt x="1172" y="44"/>
                  </a:lnTo>
                  <a:lnTo>
                    <a:pt x="1202" y="58"/>
                  </a:lnTo>
                  <a:lnTo>
                    <a:pt x="1228" y="74"/>
                  </a:lnTo>
                  <a:lnTo>
                    <a:pt x="1254" y="92"/>
                  </a:lnTo>
                  <a:lnTo>
                    <a:pt x="1254" y="92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9"/>
            <p:cNvSpPr/>
            <p:nvPr/>
          </p:nvSpPr>
          <p:spPr>
            <a:xfrm>
              <a:off x="4994280" y="2346120"/>
              <a:ext cx="438120" cy="12254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225440"/>
                <a:gd name="textAreaBottom" fmla="*/ 1225440 h 1225440"/>
              </a:gdLst>
              <a:ahLst/>
              <a:rect l="textAreaLeft" t="textAreaTop" r="textAreaRight" b="textAreaBottom"/>
              <a:pathLst>
                <a:path w="276" h="772">
                  <a:moveTo>
                    <a:pt x="230" y="144"/>
                  </a:moveTo>
                  <a:lnTo>
                    <a:pt x="230" y="144"/>
                  </a:lnTo>
                  <a:lnTo>
                    <a:pt x="244" y="184"/>
                  </a:lnTo>
                  <a:lnTo>
                    <a:pt x="254" y="224"/>
                  </a:lnTo>
                  <a:lnTo>
                    <a:pt x="264" y="264"/>
                  </a:lnTo>
                  <a:lnTo>
                    <a:pt x="270" y="306"/>
                  </a:lnTo>
                  <a:lnTo>
                    <a:pt x="274" y="350"/>
                  </a:lnTo>
                  <a:lnTo>
                    <a:pt x="276" y="392"/>
                  </a:lnTo>
                  <a:lnTo>
                    <a:pt x="274" y="436"/>
                  </a:lnTo>
                  <a:lnTo>
                    <a:pt x="272" y="478"/>
                  </a:lnTo>
                  <a:lnTo>
                    <a:pt x="264" y="520"/>
                  </a:lnTo>
                  <a:lnTo>
                    <a:pt x="256" y="562"/>
                  </a:lnTo>
                  <a:lnTo>
                    <a:pt x="244" y="602"/>
                  </a:lnTo>
                  <a:lnTo>
                    <a:pt x="228" y="640"/>
                  </a:lnTo>
                  <a:lnTo>
                    <a:pt x="210" y="676"/>
                  </a:lnTo>
                  <a:lnTo>
                    <a:pt x="188" y="710"/>
                  </a:lnTo>
                  <a:lnTo>
                    <a:pt x="164" y="742"/>
                  </a:lnTo>
                  <a:lnTo>
                    <a:pt x="134" y="772"/>
                  </a:lnTo>
                  <a:lnTo>
                    <a:pt x="134" y="772"/>
                  </a:lnTo>
                  <a:lnTo>
                    <a:pt x="128" y="724"/>
                  </a:lnTo>
                  <a:lnTo>
                    <a:pt x="120" y="676"/>
                  </a:lnTo>
                  <a:lnTo>
                    <a:pt x="110" y="580"/>
                  </a:lnTo>
                  <a:lnTo>
                    <a:pt x="100" y="484"/>
                  </a:lnTo>
                  <a:lnTo>
                    <a:pt x="90" y="388"/>
                  </a:lnTo>
                  <a:lnTo>
                    <a:pt x="76" y="292"/>
                  </a:lnTo>
                  <a:lnTo>
                    <a:pt x="68" y="246"/>
                  </a:lnTo>
                  <a:lnTo>
                    <a:pt x="58" y="200"/>
                  </a:lnTo>
                  <a:lnTo>
                    <a:pt x="46" y="154"/>
                  </a:lnTo>
                  <a:lnTo>
                    <a:pt x="34" y="110"/>
                  </a:lnTo>
                  <a:lnTo>
                    <a:pt x="18" y="6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14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8" y="2"/>
                  </a:lnTo>
                  <a:lnTo>
                    <a:pt x="30" y="0"/>
                  </a:lnTo>
                  <a:lnTo>
                    <a:pt x="46" y="2"/>
                  </a:lnTo>
                  <a:lnTo>
                    <a:pt x="78" y="8"/>
                  </a:lnTo>
                  <a:lnTo>
                    <a:pt x="94" y="10"/>
                  </a:lnTo>
                  <a:lnTo>
                    <a:pt x="108" y="10"/>
                  </a:lnTo>
                  <a:lnTo>
                    <a:pt x="230" y="144"/>
                  </a:lnTo>
                  <a:close/>
                </a:path>
              </a:pathLst>
            </a:custGeom>
            <a:solidFill>
              <a:srgbClr val="dbe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20"/>
            <p:cNvSpPr/>
            <p:nvPr/>
          </p:nvSpPr>
          <p:spPr>
            <a:xfrm>
              <a:off x="7197840" y="2415960"/>
              <a:ext cx="2174760" cy="2298600"/>
            </a:xfrm>
            <a:custGeom>
              <a:avLst/>
              <a:gdLst>
                <a:gd name="textAreaLeft" fmla="*/ 0 w 2174760"/>
                <a:gd name="textAreaRight" fmla="*/ 2175120 w 2174760"/>
                <a:gd name="textAreaTop" fmla="*/ 0 h 2298600"/>
                <a:gd name="textAreaBottom" fmla="*/ 2298960 h 2298600"/>
              </a:gdLst>
              <a:ahLst/>
              <a:rect l="textAreaLeft" t="textAreaTop" r="textAreaRight" b="textAreaBottom"/>
              <a:pathLst>
                <a:path w="1370" h="1448">
                  <a:moveTo>
                    <a:pt x="1338" y="240"/>
                  </a:moveTo>
                  <a:lnTo>
                    <a:pt x="1338" y="240"/>
                  </a:lnTo>
                  <a:lnTo>
                    <a:pt x="1350" y="278"/>
                  </a:lnTo>
                  <a:lnTo>
                    <a:pt x="1360" y="316"/>
                  </a:lnTo>
                  <a:lnTo>
                    <a:pt x="1366" y="358"/>
                  </a:lnTo>
                  <a:lnTo>
                    <a:pt x="1370" y="400"/>
                  </a:lnTo>
                  <a:lnTo>
                    <a:pt x="1370" y="400"/>
                  </a:lnTo>
                  <a:lnTo>
                    <a:pt x="1298" y="408"/>
                  </a:lnTo>
                  <a:lnTo>
                    <a:pt x="1228" y="420"/>
                  </a:lnTo>
                  <a:lnTo>
                    <a:pt x="1158" y="436"/>
                  </a:lnTo>
                  <a:lnTo>
                    <a:pt x="1090" y="456"/>
                  </a:lnTo>
                  <a:lnTo>
                    <a:pt x="1058" y="468"/>
                  </a:lnTo>
                  <a:lnTo>
                    <a:pt x="1026" y="480"/>
                  </a:lnTo>
                  <a:lnTo>
                    <a:pt x="994" y="494"/>
                  </a:lnTo>
                  <a:lnTo>
                    <a:pt x="962" y="510"/>
                  </a:lnTo>
                  <a:lnTo>
                    <a:pt x="932" y="528"/>
                  </a:lnTo>
                  <a:lnTo>
                    <a:pt x="900" y="546"/>
                  </a:lnTo>
                  <a:lnTo>
                    <a:pt x="872" y="566"/>
                  </a:lnTo>
                  <a:lnTo>
                    <a:pt x="842" y="588"/>
                  </a:lnTo>
                  <a:lnTo>
                    <a:pt x="842" y="588"/>
                  </a:lnTo>
                  <a:lnTo>
                    <a:pt x="806" y="616"/>
                  </a:lnTo>
                  <a:lnTo>
                    <a:pt x="770" y="648"/>
                  </a:lnTo>
                  <a:lnTo>
                    <a:pt x="736" y="684"/>
                  </a:lnTo>
                  <a:lnTo>
                    <a:pt x="702" y="720"/>
                  </a:lnTo>
                  <a:lnTo>
                    <a:pt x="638" y="794"/>
                  </a:lnTo>
                  <a:lnTo>
                    <a:pt x="606" y="832"/>
                  </a:lnTo>
                  <a:lnTo>
                    <a:pt x="572" y="868"/>
                  </a:lnTo>
                  <a:lnTo>
                    <a:pt x="540" y="902"/>
                  </a:lnTo>
                  <a:lnTo>
                    <a:pt x="504" y="934"/>
                  </a:lnTo>
                  <a:lnTo>
                    <a:pt x="468" y="962"/>
                  </a:lnTo>
                  <a:lnTo>
                    <a:pt x="430" y="986"/>
                  </a:lnTo>
                  <a:lnTo>
                    <a:pt x="412" y="998"/>
                  </a:lnTo>
                  <a:lnTo>
                    <a:pt x="390" y="1008"/>
                  </a:lnTo>
                  <a:lnTo>
                    <a:pt x="370" y="1016"/>
                  </a:lnTo>
                  <a:lnTo>
                    <a:pt x="348" y="1022"/>
                  </a:lnTo>
                  <a:lnTo>
                    <a:pt x="326" y="1028"/>
                  </a:lnTo>
                  <a:lnTo>
                    <a:pt x="302" y="1032"/>
                  </a:lnTo>
                  <a:lnTo>
                    <a:pt x="280" y="1034"/>
                  </a:lnTo>
                  <a:lnTo>
                    <a:pt x="254" y="1034"/>
                  </a:lnTo>
                  <a:lnTo>
                    <a:pt x="240" y="1050"/>
                  </a:lnTo>
                  <a:lnTo>
                    <a:pt x="240" y="1050"/>
                  </a:lnTo>
                  <a:lnTo>
                    <a:pt x="244" y="1078"/>
                  </a:lnTo>
                  <a:lnTo>
                    <a:pt x="248" y="1106"/>
                  </a:lnTo>
                  <a:lnTo>
                    <a:pt x="250" y="1132"/>
                  </a:lnTo>
                  <a:lnTo>
                    <a:pt x="250" y="1160"/>
                  </a:lnTo>
                  <a:lnTo>
                    <a:pt x="250" y="1188"/>
                  </a:lnTo>
                  <a:lnTo>
                    <a:pt x="246" y="1214"/>
                  </a:lnTo>
                  <a:lnTo>
                    <a:pt x="242" y="1240"/>
                  </a:lnTo>
                  <a:lnTo>
                    <a:pt x="236" y="1266"/>
                  </a:lnTo>
                  <a:lnTo>
                    <a:pt x="228" y="1292"/>
                  </a:lnTo>
                  <a:lnTo>
                    <a:pt x="218" y="1316"/>
                  </a:lnTo>
                  <a:lnTo>
                    <a:pt x="206" y="1340"/>
                  </a:lnTo>
                  <a:lnTo>
                    <a:pt x="192" y="1362"/>
                  </a:lnTo>
                  <a:lnTo>
                    <a:pt x="176" y="1382"/>
                  </a:lnTo>
                  <a:lnTo>
                    <a:pt x="158" y="1402"/>
                  </a:lnTo>
                  <a:lnTo>
                    <a:pt x="136" y="1420"/>
                  </a:lnTo>
                  <a:lnTo>
                    <a:pt x="114" y="1438"/>
                  </a:lnTo>
                  <a:lnTo>
                    <a:pt x="114" y="1438"/>
                  </a:lnTo>
                  <a:lnTo>
                    <a:pt x="106" y="1444"/>
                  </a:lnTo>
                  <a:lnTo>
                    <a:pt x="98" y="1446"/>
                  </a:lnTo>
                  <a:lnTo>
                    <a:pt x="92" y="1448"/>
                  </a:lnTo>
                  <a:lnTo>
                    <a:pt x="84" y="1446"/>
                  </a:lnTo>
                  <a:lnTo>
                    <a:pt x="78" y="1444"/>
                  </a:lnTo>
                  <a:lnTo>
                    <a:pt x="74" y="1440"/>
                  </a:lnTo>
                  <a:lnTo>
                    <a:pt x="62" y="1430"/>
                  </a:lnTo>
                  <a:lnTo>
                    <a:pt x="54" y="1416"/>
                  </a:lnTo>
                  <a:lnTo>
                    <a:pt x="44" y="1402"/>
                  </a:lnTo>
                  <a:lnTo>
                    <a:pt x="36" y="1388"/>
                  </a:lnTo>
                  <a:lnTo>
                    <a:pt x="28" y="1378"/>
                  </a:lnTo>
                  <a:lnTo>
                    <a:pt x="28" y="1378"/>
                  </a:lnTo>
                  <a:lnTo>
                    <a:pt x="22" y="1358"/>
                  </a:lnTo>
                  <a:lnTo>
                    <a:pt x="20" y="1338"/>
                  </a:lnTo>
                  <a:lnTo>
                    <a:pt x="18" y="1318"/>
                  </a:lnTo>
                  <a:lnTo>
                    <a:pt x="20" y="1298"/>
                  </a:lnTo>
                  <a:lnTo>
                    <a:pt x="22" y="1280"/>
                  </a:lnTo>
                  <a:lnTo>
                    <a:pt x="26" y="1262"/>
                  </a:lnTo>
                  <a:lnTo>
                    <a:pt x="32" y="1242"/>
                  </a:lnTo>
                  <a:lnTo>
                    <a:pt x="38" y="1224"/>
                  </a:lnTo>
                  <a:lnTo>
                    <a:pt x="54" y="1190"/>
                  </a:lnTo>
                  <a:lnTo>
                    <a:pt x="74" y="1156"/>
                  </a:lnTo>
                  <a:lnTo>
                    <a:pt x="96" y="1124"/>
                  </a:lnTo>
                  <a:lnTo>
                    <a:pt x="120" y="1092"/>
                  </a:lnTo>
                  <a:lnTo>
                    <a:pt x="120" y="1092"/>
                  </a:lnTo>
                  <a:lnTo>
                    <a:pt x="88" y="1050"/>
                  </a:lnTo>
                  <a:lnTo>
                    <a:pt x="72" y="1028"/>
                  </a:lnTo>
                  <a:lnTo>
                    <a:pt x="58" y="1006"/>
                  </a:lnTo>
                  <a:lnTo>
                    <a:pt x="46" y="984"/>
                  </a:lnTo>
                  <a:lnTo>
                    <a:pt x="34" y="960"/>
                  </a:lnTo>
                  <a:lnTo>
                    <a:pt x="22" y="934"/>
                  </a:lnTo>
                  <a:lnTo>
                    <a:pt x="14" y="910"/>
                  </a:lnTo>
                  <a:lnTo>
                    <a:pt x="8" y="884"/>
                  </a:lnTo>
                  <a:lnTo>
                    <a:pt x="2" y="860"/>
                  </a:lnTo>
                  <a:lnTo>
                    <a:pt x="0" y="834"/>
                  </a:lnTo>
                  <a:lnTo>
                    <a:pt x="0" y="808"/>
                  </a:lnTo>
                  <a:lnTo>
                    <a:pt x="2" y="782"/>
                  </a:lnTo>
                  <a:lnTo>
                    <a:pt x="8" y="756"/>
                  </a:lnTo>
                  <a:lnTo>
                    <a:pt x="16" y="730"/>
                  </a:lnTo>
                  <a:lnTo>
                    <a:pt x="28" y="704"/>
                  </a:lnTo>
                  <a:lnTo>
                    <a:pt x="28" y="704"/>
                  </a:lnTo>
                  <a:lnTo>
                    <a:pt x="38" y="674"/>
                  </a:lnTo>
                  <a:lnTo>
                    <a:pt x="50" y="646"/>
                  </a:lnTo>
                  <a:lnTo>
                    <a:pt x="64" y="620"/>
                  </a:lnTo>
                  <a:lnTo>
                    <a:pt x="82" y="596"/>
                  </a:lnTo>
                  <a:lnTo>
                    <a:pt x="102" y="572"/>
                  </a:lnTo>
                  <a:lnTo>
                    <a:pt x="124" y="550"/>
                  </a:lnTo>
                  <a:lnTo>
                    <a:pt x="146" y="528"/>
                  </a:lnTo>
                  <a:lnTo>
                    <a:pt x="172" y="510"/>
                  </a:lnTo>
                  <a:lnTo>
                    <a:pt x="198" y="492"/>
                  </a:lnTo>
                  <a:lnTo>
                    <a:pt x="224" y="478"/>
                  </a:lnTo>
                  <a:lnTo>
                    <a:pt x="252" y="464"/>
                  </a:lnTo>
                  <a:lnTo>
                    <a:pt x="282" y="452"/>
                  </a:lnTo>
                  <a:lnTo>
                    <a:pt x="312" y="442"/>
                  </a:lnTo>
                  <a:lnTo>
                    <a:pt x="340" y="434"/>
                  </a:lnTo>
                  <a:lnTo>
                    <a:pt x="370" y="430"/>
                  </a:lnTo>
                  <a:lnTo>
                    <a:pt x="400" y="426"/>
                  </a:lnTo>
                  <a:lnTo>
                    <a:pt x="400" y="426"/>
                  </a:lnTo>
                  <a:lnTo>
                    <a:pt x="408" y="410"/>
                  </a:lnTo>
                  <a:lnTo>
                    <a:pt x="414" y="392"/>
                  </a:lnTo>
                  <a:lnTo>
                    <a:pt x="418" y="374"/>
                  </a:lnTo>
                  <a:lnTo>
                    <a:pt x="420" y="356"/>
                  </a:lnTo>
                  <a:lnTo>
                    <a:pt x="422" y="316"/>
                  </a:lnTo>
                  <a:lnTo>
                    <a:pt x="424" y="298"/>
                  </a:lnTo>
                  <a:lnTo>
                    <a:pt x="428" y="280"/>
                  </a:lnTo>
                  <a:lnTo>
                    <a:pt x="428" y="280"/>
                  </a:lnTo>
                  <a:lnTo>
                    <a:pt x="438" y="248"/>
                  </a:lnTo>
                  <a:lnTo>
                    <a:pt x="454" y="220"/>
                  </a:lnTo>
                  <a:lnTo>
                    <a:pt x="470" y="192"/>
                  </a:lnTo>
                  <a:lnTo>
                    <a:pt x="490" y="166"/>
                  </a:lnTo>
                  <a:lnTo>
                    <a:pt x="510" y="142"/>
                  </a:lnTo>
                  <a:lnTo>
                    <a:pt x="534" y="120"/>
                  </a:lnTo>
                  <a:lnTo>
                    <a:pt x="558" y="100"/>
                  </a:lnTo>
                  <a:lnTo>
                    <a:pt x="584" y="82"/>
                  </a:lnTo>
                  <a:lnTo>
                    <a:pt x="612" y="64"/>
                  </a:lnTo>
                  <a:lnTo>
                    <a:pt x="640" y="50"/>
                  </a:lnTo>
                  <a:lnTo>
                    <a:pt x="670" y="36"/>
                  </a:lnTo>
                  <a:lnTo>
                    <a:pt x="700" y="26"/>
                  </a:lnTo>
                  <a:lnTo>
                    <a:pt x="732" y="16"/>
                  </a:lnTo>
                  <a:lnTo>
                    <a:pt x="762" y="8"/>
                  </a:lnTo>
                  <a:lnTo>
                    <a:pt x="794" y="2"/>
                  </a:lnTo>
                  <a:lnTo>
                    <a:pt x="824" y="0"/>
                  </a:lnTo>
                  <a:lnTo>
                    <a:pt x="824" y="0"/>
                  </a:lnTo>
                  <a:lnTo>
                    <a:pt x="862" y="2"/>
                  </a:lnTo>
                  <a:lnTo>
                    <a:pt x="900" y="4"/>
                  </a:lnTo>
                  <a:lnTo>
                    <a:pt x="938" y="10"/>
                  </a:lnTo>
                  <a:lnTo>
                    <a:pt x="974" y="16"/>
                  </a:lnTo>
                  <a:lnTo>
                    <a:pt x="1010" y="24"/>
                  </a:lnTo>
                  <a:lnTo>
                    <a:pt x="1046" y="34"/>
                  </a:lnTo>
                  <a:lnTo>
                    <a:pt x="1080" y="44"/>
                  </a:lnTo>
                  <a:lnTo>
                    <a:pt x="1114" y="58"/>
                  </a:lnTo>
                  <a:lnTo>
                    <a:pt x="1146" y="72"/>
                  </a:lnTo>
                  <a:lnTo>
                    <a:pt x="1178" y="90"/>
                  </a:lnTo>
                  <a:lnTo>
                    <a:pt x="1208" y="108"/>
                  </a:lnTo>
                  <a:lnTo>
                    <a:pt x="1238" y="130"/>
                  </a:lnTo>
                  <a:lnTo>
                    <a:pt x="1264" y="154"/>
                  </a:lnTo>
                  <a:lnTo>
                    <a:pt x="1290" y="180"/>
                  </a:lnTo>
                  <a:lnTo>
                    <a:pt x="1316" y="210"/>
                  </a:lnTo>
                  <a:lnTo>
                    <a:pt x="1338" y="240"/>
                  </a:lnTo>
                  <a:lnTo>
                    <a:pt x="1338" y="240"/>
                  </a:lnTo>
                  <a:close/>
                </a:path>
              </a:pathLst>
            </a:custGeom>
            <a:solidFill>
              <a:srgbClr val="dbe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21"/>
            <p:cNvSpPr/>
            <p:nvPr/>
          </p:nvSpPr>
          <p:spPr>
            <a:xfrm>
              <a:off x="2425320" y="2466720"/>
              <a:ext cx="2663640" cy="2990880"/>
            </a:xfrm>
            <a:custGeom>
              <a:avLst/>
              <a:gdLst>
                <a:gd name="textAreaLeft" fmla="*/ 0 w 2663640"/>
                <a:gd name="textAreaRight" fmla="*/ 2663640 w 2663640"/>
                <a:gd name="textAreaTop" fmla="*/ 0 h 2990880"/>
                <a:gd name="textAreaBottom" fmla="*/ 2991240 h 2990880"/>
              </a:gdLst>
              <a:ahLst/>
              <a:rect l="textAreaLeft" t="textAreaTop" r="textAreaRight" b="textAreaBottom"/>
              <a:pathLst>
                <a:path w="1678" h="1884">
                  <a:moveTo>
                    <a:pt x="1532" y="122"/>
                  </a:moveTo>
                  <a:lnTo>
                    <a:pt x="1532" y="122"/>
                  </a:lnTo>
                  <a:lnTo>
                    <a:pt x="1494" y="106"/>
                  </a:lnTo>
                  <a:lnTo>
                    <a:pt x="1452" y="94"/>
                  </a:lnTo>
                  <a:lnTo>
                    <a:pt x="1410" y="84"/>
                  </a:lnTo>
                  <a:lnTo>
                    <a:pt x="1386" y="80"/>
                  </a:lnTo>
                  <a:lnTo>
                    <a:pt x="1364" y="78"/>
                  </a:lnTo>
                  <a:lnTo>
                    <a:pt x="1342" y="78"/>
                  </a:lnTo>
                  <a:lnTo>
                    <a:pt x="1318" y="80"/>
                  </a:lnTo>
                  <a:lnTo>
                    <a:pt x="1296" y="82"/>
                  </a:lnTo>
                  <a:lnTo>
                    <a:pt x="1274" y="88"/>
                  </a:lnTo>
                  <a:lnTo>
                    <a:pt x="1252" y="94"/>
                  </a:lnTo>
                  <a:lnTo>
                    <a:pt x="1232" y="104"/>
                  </a:lnTo>
                  <a:lnTo>
                    <a:pt x="1212" y="114"/>
                  </a:lnTo>
                  <a:lnTo>
                    <a:pt x="1192" y="128"/>
                  </a:lnTo>
                  <a:lnTo>
                    <a:pt x="1192" y="128"/>
                  </a:lnTo>
                  <a:lnTo>
                    <a:pt x="1160" y="154"/>
                  </a:lnTo>
                  <a:lnTo>
                    <a:pt x="1128" y="182"/>
                  </a:lnTo>
                  <a:lnTo>
                    <a:pt x="1100" y="212"/>
                  </a:lnTo>
                  <a:lnTo>
                    <a:pt x="1074" y="244"/>
                  </a:lnTo>
                  <a:lnTo>
                    <a:pt x="1050" y="276"/>
                  </a:lnTo>
                  <a:lnTo>
                    <a:pt x="1026" y="308"/>
                  </a:lnTo>
                  <a:lnTo>
                    <a:pt x="1006" y="342"/>
                  </a:lnTo>
                  <a:lnTo>
                    <a:pt x="988" y="376"/>
                  </a:lnTo>
                  <a:lnTo>
                    <a:pt x="988" y="376"/>
                  </a:lnTo>
                  <a:lnTo>
                    <a:pt x="1036" y="374"/>
                  </a:lnTo>
                  <a:lnTo>
                    <a:pt x="1084" y="368"/>
                  </a:lnTo>
                  <a:lnTo>
                    <a:pt x="1134" y="364"/>
                  </a:lnTo>
                  <a:lnTo>
                    <a:pt x="1184" y="360"/>
                  </a:lnTo>
                  <a:lnTo>
                    <a:pt x="1234" y="360"/>
                  </a:lnTo>
                  <a:lnTo>
                    <a:pt x="1260" y="362"/>
                  </a:lnTo>
                  <a:lnTo>
                    <a:pt x="1284" y="364"/>
                  </a:lnTo>
                  <a:lnTo>
                    <a:pt x="1308" y="368"/>
                  </a:lnTo>
                  <a:lnTo>
                    <a:pt x="1330" y="376"/>
                  </a:lnTo>
                  <a:lnTo>
                    <a:pt x="1352" y="384"/>
                  </a:lnTo>
                  <a:lnTo>
                    <a:pt x="1374" y="394"/>
                  </a:lnTo>
                  <a:lnTo>
                    <a:pt x="1374" y="394"/>
                  </a:lnTo>
                  <a:lnTo>
                    <a:pt x="1410" y="414"/>
                  </a:lnTo>
                  <a:lnTo>
                    <a:pt x="1446" y="434"/>
                  </a:lnTo>
                  <a:lnTo>
                    <a:pt x="1482" y="458"/>
                  </a:lnTo>
                  <a:lnTo>
                    <a:pt x="1514" y="484"/>
                  </a:lnTo>
                  <a:lnTo>
                    <a:pt x="1544" y="514"/>
                  </a:lnTo>
                  <a:lnTo>
                    <a:pt x="1572" y="544"/>
                  </a:lnTo>
                  <a:lnTo>
                    <a:pt x="1598" y="578"/>
                  </a:lnTo>
                  <a:lnTo>
                    <a:pt x="1608" y="596"/>
                  </a:lnTo>
                  <a:lnTo>
                    <a:pt x="1618" y="614"/>
                  </a:lnTo>
                  <a:lnTo>
                    <a:pt x="1618" y="614"/>
                  </a:lnTo>
                  <a:lnTo>
                    <a:pt x="1610" y="632"/>
                  </a:lnTo>
                  <a:lnTo>
                    <a:pt x="1600" y="646"/>
                  </a:lnTo>
                  <a:lnTo>
                    <a:pt x="1588" y="660"/>
                  </a:lnTo>
                  <a:lnTo>
                    <a:pt x="1576" y="672"/>
                  </a:lnTo>
                  <a:lnTo>
                    <a:pt x="1560" y="682"/>
                  </a:lnTo>
                  <a:lnTo>
                    <a:pt x="1546" y="692"/>
                  </a:lnTo>
                  <a:lnTo>
                    <a:pt x="1514" y="710"/>
                  </a:lnTo>
                  <a:lnTo>
                    <a:pt x="1520" y="722"/>
                  </a:lnTo>
                  <a:lnTo>
                    <a:pt x="1666" y="704"/>
                  </a:lnTo>
                  <a:lnTo>
                    <a:pt x="1666" y="704"/>
                  </a:lnTo>
                  <a:lnTo>
                    <a:pt x="1668" y="720"/>
                  </a:lnTo>
                  <a:lnTo>
                    <a:pt x="1670" y="734"/>
                  </a:lnTo>
                  <a:lnTo>
                    <a:pt x="1674" y="764"/>
                  </a:lnTo>
                  <a:lnTo>
                    <a:pt x="1676" y="780"/>
                  </a:lnTo>
                  <a:lnTo>
                    <a:pt x="1678" y="794"/>
                  </a:lnTo>
                  <a:lnTo>
                    <a:pt x="1676" y="810"/>
                  </a:lnTo>
                  <a:lnTo>
                    <a:pt x="1672" y="824"/>
                  </a:lnTo>
                  <a:lnTo>
                    <a:pt x="1672" y="824"/>
                  </a:lnTo>
                  <a:lnTo>
                    <a:pt x="1646" y="826"/>
                  </a:lnTo>
                  <a:lnTo>
                    <a:pt x="1622" y="826"/>
                  </a:lnTo>
                  <a:lnTo>
                    <a:pt x="1600" y="822"/>
                  </a:lnTo>
                  <a:lnTo>
                    <a:pt x="1578" y="816"/>
                  </a:lnTo>
                  <a:lnTo>
                    <a:pt x="1534" y="804"/>
                  </a:lnTo>
                  <a:lnTo>
                    <a:pt x="1512" y="800"/>
                  </a:lnTo>
                  <a:lnTo>
                    <a:pt x="1488" y="798"/>
                  </a:lnTo>
                  <a:lnTo>
                    <a:pt x="1488" y="798"/>
                  </a:lnTo>
                  <a:lnTo>
                    <a:pt x="1490" y="808"/>
                  </a:lnTo>
                  <a:lnTo>
                    <a:pt x="1496" y="818"/>
                  </a:lnTo>
                  <a:lnTo>
                    <a:pt x="1510" y="838"/>
                  </a:lnTo>
                  <a:lnTo>
                    <a:pt x="1526" y="856"/>
                  </a:lnTo>
                  <a:lnTo>
                    <a:pt x="1546" y="874"/>
                  </a:lnTo>
                  <a:lnTo>
                    <a:pt x="1592" y="906"/>
                  </a:lnTo>
                  <a:lnTo>
                    <a:pt x="1614" y="922"/>
                  </a:lnTo>
                  <a:lnTo>
                    <a:pt x="1634" y="938"/>
                  </a:lnTo>
                  <a:lnTo>
                    <a:pt x="1634" y="938"/>
                  </a:lnTo>
                  <a:lnTo>
                    <a:pt x="1644" y="984"/>
                  </a:lnTo>
                  <a:lnTo>
                    <a:pt x="1652" y="1030"/>
                  </a:lnTo>
                  <a:lnTo>
                    <a:pt x="1658" y="1078"/>
                  </a:lnTo>
                  <a:lnTo>
                    <a:pt x="1662" y="1126"/>
                  </a:lnTo>
                  <a:lnTo>
                    <a:pt x="1666" y="1174"/>
                  </a:lnTo>
                  <a:lnTo>
                    <a:pt x="1666" y="1222"/>
                  </a:lnTo>
                  <a:lnTo>
                    <a:pt x="1666" y="1272"/>
                  </a:lnTo>
                  <a:lnTo>
                    <a:pt x="1666" y="1320"/>
                  </a:lnTo>
                  <a:lnTo>
                    <a:pt x="1658" y="1418"/>
                  </a:lnTo>
                  <a:lnTo>
                    <a:pt x="1648" y="1516"/>
                  </a:lnTo>
                  <a:lnTo>
                    <a:pt x="1634" y="1610"/>
                  </a:lnTo>
                  <a:lnTo>
                    <a:pt x="1618" y="1702"/>
                  </a:lnTo>
                  <a:lnTo>
                    <a:pt x="1618" y="1702"/>
                  </a:lnTo>
                  <a:lnTo>
                    <a:pt x="1610" y="1722"/>
                  </a:lnTo>
                  <a:lnTo>
                    <a:pt x="1598" y="1742"/>
                  </a:lnTo>
                  <a:lnTo>
                    <a:pt x="1588" y="1760"/>
                  </a:lnTo>
                  <a:lnTo>
                    <a:pt x="1574" y="1776"/>
                  </a:lnTo>
                  <a:lnTo>
                    <a:pt x="1560" y="1792"/>
                  </a:lnTo>
                  <a:lnTo>
                    <a:pt x="1544" y="1806"/>
                  </a:lnTo>
                  <a:lnTo>
                    <a:pt x="1528" y="1818"/>
                  </a:lnTo>
                  <a:lnTo>
                    <a:pt x="1512" y="1830"/>
                  </a:lnTo>
                  <a:lnTo>
                    <a:pt x="1494" y="1842"/>
                  </a:lnTo>
                  <a:lnTo>
                    <a:pt x="1476" y="1850"/>
                  </a:lnTo>
                  <a:lnTo>
                    <a:pt x="1456" y="1858"/>
                  </a:lnTo>
                  <a:lnTo>
                    <a:pt x="1436" y="1866"/>
                  </a:lnTo>
                  <a:lnTo>
                    <a:pt x="1396" y="1876"/>
                  </a:lnTo>
                  <a:lnTo>
                    <a:pt x="1352" y="1884"/>
                  </a:lnTo>
                  <a:lnTo>
                    <a:pt x="1352" y="1884"/>
                  </a:lnTo>
                  <a:lnTo>
                    <a:pt x="1364" y="1840"/>
                  </a:lnTo>
                  <a:lnTo>
                    <a:pt x="1372" y="1794"/>
                  </a:lnTo>
                  <a:lnTo>
                    <a:pt x="1376" y="1750"/>
                  </a:lnTo>
                  <a:lnTo>
                    <a:pt x="1376" y="1706"/>
                  </a:lnTo>
                  <a:lnTo>
                    <a:pt x="1372" y="1662"/>
                  </a:lnTo>
                  <a:lnTo>
                    <a:pt x="1364" y="1618"/>
                  </a:lnTo>
                  <a:lnTo>
                    <a:pt x="1354" y="1576"/>
                  </a:lnTo>
                  <a:lnTo>
                    <a:pt x="1340" y="1534"/>
                  </a:lnTo>
                  <a:lnTo>
                    <a:pt x="1324" y="1492"/>
                  </a:lnTo>
                  <a:lnTo>
                    <a:pt x="1304" y="1452"/>
                  </a:lnTo>
                  <a:lnTo>
                    <a:pt x="1280" y="1412"/>
                  </a:lnTo>
                  <a:lnTo>
                    <a:pt x="1254" y="1374"/>
                  </a:lnTo>
                  <a:lnTo>
                    <a:pt x="1226" y="1338"/>
                  </a:lnTo>
                  <a:lnTo>
                    <a:pt x="1196" y="1304"/>
                  </a:lnTo>
                  <a:lnTo>
                    <a:pt x="1162" y="1270"/>
                  </a:lnTo>
                  <a:lnTo>
                    <a:pt x="1126" y="1238"/>
                  </a:lnTo>
                  <a:lnTo>
                    <a:pt x="1126" y="1238"/>
                  </a:lnTo>
                  <a:lnTo>
                    <a:pt x="1110" y="1230"/>
                  </a:lnTo>
                  <a:lnTo>
                    <a:pt x="1094" y="1218"/>
                  </a:lnTo>
                  <a:lnTo>
                    <a:pt x="1078" y="1206"/>
                  </a:lnTo>
                  <a:lnTo>
                    <a:pt x="1062" y="1196"/>
                  </a:lnTo>
                  <a:lnTo>
                    <a:pt x="1044" y="1188"/>
                  </a:lnTo>
                  <a:lnTo>
                    <a:pt x="1036" y="1186"/>
                  </a:lnTo>
                  <a:lnTo>
                    <a:pt x="1026" y="1184"/>
                  </a:lnTo>
                  <a:lnTo>
                    <a:pt x="1018" y="1184"/>
                  </a:lnTo>
                  <a:lnTo>
                    <a:pt x="1008" y="1186"/>
                  </a:lnTo>
                  <a:lnTo>
                    <a:pt x="998" y="1188"/>
                  </a:lnTo>
                  <a:lnTo>
                    <a:pt x="988" y="1194"/>
                  </a:lnTo>
                  <a:lnTo>
                    <a:pt x="988" y="1194"/>
                  </a:lnTo>
                  <a:lnTo>
                    <a:pt x="992" y="1202"/>
                  </a:lnTo>
                  <a:lnTo>
                    <a:pt x="998" y="1208"/>
                  </a:lnTo>
                  <a:lnTo>
                    <a:pt x="1004" y="1212"/>
                  </a:lnTo>
                  <a:lnTo>
                    <a:pt x="1012" y="1214"/>
                  </a:lnTo>
                  <a:lnTo>
                    <a:pt x="1030" y="1216"/>
                  </a:lnTo>
                  <a:lnTo>
                    <a:pt x="1038" y="1218"/>
                  </a:lnTo>
                  <a:lnTo>
                    <a:pt x="1046" y="1220"/>
                  </a:lnTo>
                  <a:lnTo>
                    <a:pt x="1046" y="1220"/>
                  </a:lnTo>
                  <a:lnTo>
                    <a:pt x="1076" y="1250"/>
                  </a:lnTo>
                  <a:lnTo>
                    <a:pt x="1106" y="1280"/>
                  </a:lnTo>
                  <a:lnTo>
                    <a:pt x="1136" y="1312"/>
                  </a:lnTo>
                  <a:lnTo>
                    <a:pt x="1162" y="1346"/>
                  </a:lnTo>
                  <a:lnTo>
                    <a:pt x="1184" y="1380"/>
                  </a:lnTo>
                  <a:lnTo>
                    <a:pt x="1204" y="1416"/>
                  </a:lnTo>
                  <a:lnTo>
                    <a:pt x="1212" y="1434"/>
                  </a:lnTo>
                  <a:lnTo>
                    <a:pt x="1220" y="1454"/>
                  </a:lnTo>
                  <a:lnTo>
                    <a:pt x="1226" y="1472"/>
                  </a:lnTo>
                  <a:lnTo>
                    <a:pt x="1230" y="1492"/>
                  </a:lnTo>
                  <a:lnTo>
                    <a:pt x="1230" y="1492"/>
                  </a:lnTo>
                  <a:lnTo>
                    <a:pt x="1210" y="1514"/>
                  </a:lnTo>
                  <a:lnTo>
                    <a:pt x="1190" y="1534"/>
                  </a:lnTo>
                  <a:lnTo>
                    <a:pt x="1168" y="1554"/>
                  </a:lnTo>
                  <a:lnTo>
                    <a:pt x="1146" y="1572"/>
                  </a:lnTo>
                  <a:lnTo>
                    <a:pt x="1122" y="1588"/>
                  </a:lnTo>
                  <a:lnTo>
                    <a:pt x="1098" y="1602"/>
                  </a:lnTo>
                  <a:lnTo>
                    <a:pt x="1072" y="1614"/>
                  </a:lnTo>
                  <a:lnTo>
                    <a:pt x="1048" y="1626"/>
                  </a:lnTo>
                  <a:lnTo>
                    <a:pt x="1022" y="1636"/>
                  </a:lnTo>
                  <a:lnTo>
                    <a:pt x="994" y="1644"/>
                  </a:lnTo>
                  <a:lnTo>
                    <a:pt x="966" y="1650"/>
                  </a:lnTo>
                  <a:lnTo>
                    <a:pt x="938" y="1654"/>
                  </a:lnTo>
                  <a:lnTo>
                    <a:pt x="910" y="1656"/>
                  </a:lnTo>
                  <a:lnTo>
                    <a:pt x="882" y="1658"/>
                  </a:lnTo>
                  <a:lnTo>
                    <a:pt x="852" y="1656"/>
                  </a:lnTo>
                  <a:lnTo>
                    <a:pt x="822" y="1654"/>
                  </a:lnTo>
                  <a:lnTo>
                    <a:pt x="822" y="1654"/>
                  </a:lnTo>
                  <a:lnTo>
                    <a:pt x="730" y="1634"/>
                  </a:lnTo>
                  <a:lnTo>
                    <a:pt x="684" y="1622"/>
                  </a:lnTo>
                  <a:lnTo>
                    <a:pt x="638" y="1608"/>
                  </a:lnTo>
                  <a:lnTo>
                    <a:pt x="596" y="1590"/>
                  </a:lnTo>
                  <a:lnTo>
                    <a:pt x="576" y="1580"/>
                  </a:lnTo>
                  <a:lnTo>
                    <a:pt x="556" y="1568"/>
                  </a:lnTo>
                  <a:lnTo>
                    <a:pt x="538" y="1556"/>
                  </a:lnTo>
                  <a:lnTo>
                    <a:pt x="520" y="1542"/>
                  </a:lnTo>
                  <a:lnTo>
                    <a:pt x="502" y="1526"/>
                  </a:lnTo>
                  <a:lnTo>
                    <a:pt x="488" y="1508"/>
                  </a:lnTo>
                  <a:lnTo>
                    <a:pt x="488" y="1508"/>
                  </a:lnTo>
                  <a:lnTo>
                    <a:pt x="510" y="1446"/>
                  </a:lnTo>
                  <a:lnTo>
                    <a:pt x="522" y="1414"/>
                  </a:lnTo>
                  <a:lnTo>
                    <a:pt x="536" y="1382"/>
                  </a:lnTo>
                  <a:lnTo>
                    <a:pt x="554" y="1354"/>
                  </a:lnTo>
                  <a:lnTo>
                    <a:pt x="574" y="1326"/>
                  </a:lnTo>
                  <a:lnTo>
                    <a:pt x="586" y="1314"/>
                  </a:lnTo>
                  <a:lnTo>
                    <a:pt x="598" y="1302"/>
                  </a:lnTo>
                  <a:lnTo>
                    <a:pt x="612" y="1290"/>
                  </a:lnTo>
                  <a:lnTo>
                    <a:pt x="628" y="1280"/>
                  </a:lnTo>
                  <a:lnTo>
                    <a:pt x="628" y="1280"/>
                  </a:lnTo>
                  <a:lnTo>
                    <a:pt x="648" y="1288"/>
                  </a:lnTo>
                  <a:lnTo>
                    <a:pt x="670" y="1296"/>
                  </a:lnTo>
                  <a:lnTo>
                    <a:pt x="712" y="1316"/>
                  </a:lnTo>
                  <a:lnTo>
                    <a:pt x="794" y="1358"/>
                  </a:lnTo>
                  <a:lnTo>
                    <a:pt x="794" y="1358"/>
                  </a:lnTo>
                  <a:lnTo>
                    <a:pt x="798" y="1322"/>
                  </a:lnTo>
                  <a:lnTo>
                    <a:pt x="800" y="1286"/>
                  </a:lnTo>
                  <a:lnTo>
                    <a:pt x="800" y="1250"/>
                  </a:lnTo>
                  <a:lnTo>
                    <a:pt x="798" y="1214"/>
                  </a:lnTo>
                  <a:lnTo>
                    <a:pt x="792" y="1138"/>
                  </a:lnTo>
                  <a:lnTo>
                    <a:pt x="782" y="1066"/>
                  </a:lnTo>
                  <a:lnTo>
                    <a:pt x="782" y="1066"/>
                  </a:lnTo>
                  <a:lnTo>
                    <a:pt x="774" y="1028"/>
                  </a:lnTo>
                  <a:lnTo>
                    <a:pt x="766" y="988"/>
                  </a:lnTo>
                  <a:lnTo>
                    <a:pt x="752" y="910"/>
                  </a:lnTo>
                  <a:lnTo>
                    <a:pt x="744" y="870"/>
                  </a:lnTo>
                  <a:lnTo>
                    <a:pt x="734" y="832"/>
                  </a:lnTo>
                  <a:lnTo>
                    <a:pt x="722" y="794"/>
                  </a:lnTo>
                  <a:lnTo>
                    <a:pt x="708" y="758"/>
                  </a:lnTo>
                  <a:lnTo>
                    <a:pt x="708" y="758"/>
                  </a:lnTo>
                  <a:lnTo>
                    <a:pt x="702" y="768"/>
                  </a:lnTo>
                  <a:lnTo>
                    <a:pt x="698" y="778"/>
                  </a:lnTo>
                  <a:lnTo>
                    <a:pt x="694" y="790"/>
                  </a:lnTo>
                  <a:lnTo>
                    <a:pt x="692" y="804"/>
                  </a:lnTo>
                  <a:lnTo>
                    <a:pt x="690" y="830"/>
                  </a:lnTo>
                  <a:lnTo>
                    <a:pt x="690" y="860"/>
                  </a:lnTo>
                  <a:lnTo>
                    <a:pt x="690" y="890"/>
                  </a:lnTo>
                  <a:lnTo>
                    <a:pt x="690" y="920"/>
                  </a:lnTo>
                  <a:lnTo>
                    <a:pt x="688" y="948"/>
                  </a:lnTo>
                  <a:lnTo>
                    <a:pt x="686" y="960"/>
                  </a:lnTo>
                  <a:lnTo>
                    <a:pt x="682" y="974"/>
                  </a:lnTo>
                  <a:lnTo>
                    <a:pt x="682" y="974"/>
                  </a:lnTo>
                  <a:lnTo>
                    <a:pt x="668" y="1014"/>
                  </a:lnTo>
                  <a:lnTo>
                    <a:pt x="650" y="1054"/>
                  </a:lnTo>
                  <a:lnTo>
                    <a:pt x="630" y="1094"/>
                  </a:lnTo>
                  <a:lnTo>
                    <a:pt x="608" y="1132"/>
                  </a:lnTo>
                  <a:lnTo>
                    <a:pt x="584" y="1168"/>
                  </a:lnTo>
                  <a:lnTo>
                    <a:pt x="560" y="1206"/>
                  </a:lnTo>
                  <a:lnTo>
                    <a:pt x="508" y="1278"/>
                  </a:lnTo>
                  <a:lnTo>
                    <a:pt x="456" y="1352"/>
                  </a:lnTo>
                  <a:lnTo>
                    <a:pt x="432" y="1388"/>
                  </a:lnTo>
                  <a:lnTo>
                    <a:pt x="410" y="1426"/>
                  </a:lnTo>
                  <a:lnTo>
                    <a:pt x="390" y="1466"/>
                  </a:lnTo>
                  <a:lnTo>
                    <a:pt x="372" y="1504"/>
                  </a:lnTo>
                  <a:lnTo>
                    <a:pt x="358" y="1546"/>
                  </a:lnTo>
                  <a:lnTo>
                    <a:pt x="346" y="1588"/>
                  </a:lnTo>
                  <a:lnTo>
                    <a:pt x="294" y="1836"/>
                  </a:lnTo>
                  <a:lnTo>
                    <a:pt x="294" y="1836"/>
                  </a:lnTo>
                  <a:lnTo>
                    <a:pt x="270" y="1828"/>
                  </a:lnTo>
                  <a:lnTo>
                    <a:pt x="248" y="1816"/>
                  </a:lnTo>
                  <a:lnTo>
                    <a:pt x="226" y="1804"/>
                  </a:lnTo>
                  <a:lnTo>
                    <a:pt x="206" y="1788"/>
                  </a:lnTo>
                  <a:lnTo>
                    <a:pt x="186" y="1772"/>
                  </a:lnTo>
                  <a:lnTo>
                    <a:pt x="168" y="1754"/>
                  </a:lnTo>
                  <a:lnTo>
                    <a:pt x="150" y="1734"/>
                  </a:lnTo>
                  <a:lnTo>
                    <a:pt x="134" y="1714"/>
                  </a:lnTo>
                  <a:lnTo>
                    <a:pt x="118" y="1692"/>
                  </a:lnTo>
                  <a:lnTo>
                    <a:pt x="102" y="1670"/>
                  </a:lnTo>
                  <a:lnTo>
                    <a:pt x="76" y="1626"/>
                  </a:lnTo>
                  <a:lnTo>
                    <a:pt x="52" y="1580"/>
                  </a:lnTo>
                  <a:lnTo>
                    <a:pt x="34" y="1534"/>
                  </a:lnTo>
                  <a:lnTo>
                    <a:pt x="34" y="1534"/>
                  </a:lnTo>
                  <a:lnTo>
                    <a:pt x="20" y="1448"/>
                  </a:lnTo>
                  <a:lnTo>
                    <a:pt x="12" y="1400"/>
                  </a:lnTo>
                  <a:lnTo>
                    <a:pt x="6" y="1354"/>
                  </a:lnTo>
                  <a:lnTo>
                    <a:pt x="2" y="1304"/>
                  </a:lnTo>
                  <a:lnTo>
                    <a:pt x="0" y="1256"/>
                  </a:lnTo>
                  <a:lnTo>
                    <a:pt x="0" y="1206"/>
                  </a:lnTo>
                  <a:lnTo>
                    <a:pt x="4" y="1158"/>
                  </a:lnTo>
                  <a:lnTo>
                    <a:pt x="10" y="1112"/>
                  </a:lnTo>
                  <a:lnTo>
                    <a:pt x="20" y="1064"/>
                  </a:lnTo>
                  <a:lnTo>
                    <a:pt x="34" y="1020"/>
                  </a:lnTo>
                  <a:lnTo>
                    <a:pt x="42" y="998"/>
                  </a:lnTo>
                  <a:lnTo>
                    <a:pt x="52" y="978"/>
                  </a:lnTo>
                  <a:lnTo>
                    <a:pt x="64" y="958"/>
                  </a:lnTo>
                  <a:lnTo>
                    <a:pt x="76" y="938"/>
                  </a:lnTo>
                  <a:lnTo>
                    <a:pt x="90" y="920"/>
                  </a:lnTo>
                  <a:lnTo>
                    <a:pt x="104" y="902"/>
                  </a:lnTo>
                  <a:lnTo>
                    <a:pt x="120" y="884"/>
                  </a:lnTo>
                  <a:lnTo>
                    <a:pt x="138" y="868"/>
                  </a:lnTo>
                  <a:lnTo>
                    <a:pt x="158" y="854"/>
                  </a:lnTo>
                  <a:lnTo>
                    <a:pt x="180" y="838"/>
                  </a:lnTo>
                  <a:lnTo>
                    <a:pt x="180" y="838"/>
                  </a:lnTo>
                  <a:lnTo>
                    <a:pt x="164" y="832"/>
                  </a:lnTo>
                  <a:lnTo>
                    <a:pt x="148" y="830"/>
                  </a:lnTo>
                  <a:lnTo>
                    <a:pt x="132" y="830"/>
                  </a:lnTo>
                  <a:lnTo>
                    <a:pt x="114" y="832"/>
                  </a:lnTo>
                  <a:lnTo>
                    <a:pt x="78" y="836"/>
                  </a:lnTo>
                  <a:lnTo>
                    <a:pt x="58" y="838"/>
                  </a:lnTo>
                  <a:lnTo>
                    <a:pt x="40" y="836"/>
                  </a:lnTo>
                  <a:lnTo>
                    <a:pt x="24" y="836"/>
                  </a:lnTo>
                  <a:lnTo>
                    <a:pt x="24" y="836"/>
                  </a:lnTo>
                  <a:lnTo>
                    <a:pt x="18" y="798"/>
                  </a:lnTo>
                  <a:lnTo>
                    <a:pt x="16" y="758"/>
                  </a:lnTo>
                  <a:lnTo>
                    <a:pt x="16" y="738"/>
                  </a:lnTo>
                  <a:lnTo>
                    <a:pt x="18" y="718"/>
                  </a:lnTo>
                  <a:lnTo>
                    <a:pt x="22" y="700"/>
                  </a:lnTo>
                  <a:lnTo>
                    <a:pt x="28" y="684"/>
                  </a:lnTo>
                  <a:lnTo>
                    <a:pt x="28" y="684"/>
                  </a:lnTo>
                  <a:lnTo>
                    <a:pt x="48" y="686"/>
                  </a:lnTo>
                  <a:lnTo>
                    <a:pt x="68" y="692"/>
                  </a:lnTo>
                  <a:lnTo>
                    <a:pt x="108" y="702"/>
                  </a:lnTo>
                  <a:lnTo>
                    <a:pt x="126" y="706"/>
                  </a:lnTo>
                  <a:lnTo>
                    <a:pt x="146" y="710"/>
                  </a:lnTo>
                  <a:lnTo>
                    <a:pt x="168" y="712"/>
                  </a:lnTo>
                  <a:lnTo>
                    <a:pt x="188" y="710"/>
                  </a:lnTo>
                  <a:lnTo>
                    <a:pt x="188" y="710"/>
                  </a:lnTo>
                  <a:lnTo>
                    <a:pt x="150" y="678"/>
                  </a:lnTo>
                  <a:lnTo>
                    <a:pt x="104" y="642"/>
                  </a:lnTo>
                  <a:lnTo>
                    <a:pt x="60" y="604"/>
                  </a:lnTo>
                  <a:lnTo>
                    <a:pt x="38" y="582"/>
                  </a:lnTo>
                  <a:lnTo>
                    <a:pt x="18" y="562"/>
                  </a:lnTo>
                  <a:lnTo>
                    <a:pt x="18" y="562"/>
                  </a:lnTo>
                  <a:lnTo>
                    <a:pt x="32" y="536"/>
                  </a:lnTo>
                  <a:lnTo>
                    <a:pt x="48" y="512"/>
                  </a:lnTo>
                  <a:lnTo>
                    <a:pt x="64" y="492"/>
                  </a:lnTo>
                  <a:lnTo>
                    <a:pt x="84" y="474"/>
                  </a:lnTo>
                  <a:lnTo>
                    <a:pt x="104" y="456"/>
                  </a:lnTo>
                  <a:lnTo>
                    <a:pt x="126" y="442"/>
                  </a:lnTo>
                  <a:lnTo>
                    <a:pt x="148" y="430"/>
                  </a:lnTo>
                  <a:lnTo>
                    <a:pt x="172" y="420"/>
                  </a:lnTo>
                  <a:lnTo>
                    <a:pt x="198" y="410"/>
                  </a:lnTo>
                  <a:lnTo>
                    <a:pt x="222" y="402"/>
                  </a:lnTo>
                  <a:lnTo>
                    <a:pt x="274" y="390"/>
                  </a:lnTo>
                  <a:lnTo>
                    <a:pt x="328" y="380"/>
                  </a:lnTo>
                  <a:lnTo>
                    <a:pt x="380" y="370"/>
                  </a:lnTo>
                  <a:lnTo>
                    <a:pt x="380" y="370"/>
                  </a:lnTo>
                  <a:lnTo>
                    <a:pt x="402" y="368"/>
                  </a:lnTo>
                  <a:lnTo>
                    <a:pt x="422" y="368"/>
                  </a:lnTo>
                  <a:lnTo>
                    <a:pt x="442" y="370"/>
                  </a:lnTo>
                  <a:lnTo>
                    <a:pt x="460" y="374"/>
                  </a:lnTo>
                  <a:lnTo>
                    <a:pt x="480" y="380"/>
                  </a:lnTo>
                  <a:lnTo>
                    <a:pt x="498" y="386"/>
                  </a:lnTo>
                  <a:lnTo>
                    <a:pt x="532" y="404"/>
                  </a:lnTo>
                  <a:lnTo>
                    <a:pt x="566" y="422"/>
                  </a:lnTo>
                  <a:lnTo>
                    <a:pt x="598" y="442"/>
                  </a:lnTo>
                  <a:lnTo>
                    <a:pt x="630" y="460"/>
                  </a:lnTo>
                  <a:lnTo>
                    <a:pt x="664" y="474"/>
                  </a:lnTo>
                  <a:lnTo>
                    <a:pt x="622" y="256"/>
                  </a:lnTo>
                  <a:lnTo>
                    <a:pt x="622" y="256"/>
                  </a:lnTo>
                  <a:lnTo>
                    <a:pt x="594" y="226"/>
                  </a:lnTo>
                  <a:lnTo>
                    <a:pt x="568" y="196"/>
                  </a:lnTo>
                  <a:lnTo>
                    <a:pt x="542" y="166"/>
                  </a:lnTo>
                  <a:lnTo>
                    <a:pt x="516" y="138"/>
                  </a:lnTo>
                  <a:lnTo>
                    <a:pt x="502" y="126"/>
                  </a:lnTo>
                  <a:lnTo>
                    <a:pt x="486" y="114"/>
                  </a:lnTo>
                  <a:lnTo>
                    <a:pt x="472" y="104"/>
                  </a:lnTo>
                  <a:lnTo>
                    <a:pt x="454" y="94"/>
                  </a:lnTo>
                  <a:lnTo>
                    <a:pt x="438" y="88"/>
                  </a:lnTo>
                  <a:lnTo>
                    <a:pt x="420" y="82"/>
                  </a:lnTo>
                  <a:lnTo>
                    <a:pt x="400" y="76"/>
                  </a:lnTo>
                  <a:lnTo>
                    <a:pt x="380" y="74"/>
                  </a:lnTo>
                  <a:lnTo>
                    <a:pt x="380" y="74"/>
                  </a:lnTo>
                  <a:lnTo>
                    <a:pt x="352" y="74"/>
                  </a:lnTo>
                  <a:lnTo>
                    <a:pt x="324" y="76"/>
                  </a:lnTo>
                  <a:lnTo>
                    <a:pt x="298" y="80"/>
                  </a:lnTo>
                  <a:lnTo>
                    <a:pt x="272" y="86"/>
                  </a:lnTo>
                  <a:lnTo>
                    <a:pt x="246" y="96"/>
                  </a:lnTo>
                  <a:lnTo>
                    <a:pt x="222" y="106"/>
                  </a:lnTo>
                  <a:lnTo>
                    <a:pt x="200" y="116"/>
                  </a:lnTo>
                  <a:lnTo>
                    <a:pt x="176" y="130"/>
                  </a:lnTo>
                  <a:lnTo>
                    <a:pt x="132" y="158"/>
                  </a:lnTo>
                  <a:lnTo>
                    <a:pt x="90" y="192"/>
                  </a:lnTo>
                  <a:lnTo>
                    <a:pt x="48" y="226"/>
                  </a:lnTo>
                  <a:lnTo>
                    <a:pt x="6" y="262"/>
                  </a:lnTo>
                  <a:lnTo>
                    <a:pt x="6" y="262"/>
                  </a:lnTo>
                  <a:lnTo>
                    <a:pt x="22" y="214"/>
                  </a:lnTo>
                  <a:lnTo>
                    <a:pt x="40" y="166"/>
                  </a:lnTo>
                  <a:lnTo>
                    <a:pt x="62" y="120"/>
                  </a:lnTo>
                  <a:lnTo>
                    <a:pt x="88" y="74"/>
                  </a:lnTo>
                  <a:lnTo>
                    <a:pt x="88" y="74"/>
                  </a:lnTo>
                  <a:lnTo>
                    <a:pt x="112" y="58"/>
                  </a:lnTo>
                  <a:lnTo>
                    <a:pt x="138" y="44"/>
                  </a:lnTo>
                  <a:lnTo>
                    <a:pt x="164" y="32"/>
                  </a:lnTo>
                  <a:lnTo>
                    <a:pt x="190" y="22"/>
                  </a:lnTo>
                  <a:lnTo>
                    <a:pt x="216" y="16"/>
                  </a:lnTo>
                  <a:lnTo>
                    <a:pt x="240" y="12"/>
                  </a:lnTo>
                  <a:lnTo>
                    <a:pt x="266" y="8"/>
                  </a:lnTo>
                  <a:lnTo>
                    <a:pt x="292" y="6"/>
                  </a:lnTo>
                  <a:lnTo>
                    <a:pt x="316" y="6"/>
                  </a:lnTo>
                  <a:lnTo>
                    <a:pt x="342" y="8"/>
                  </a:lnTo>
                  <a:lnTo>
                    <a:pt x="392" y="16"/>
                  </a:lnTo>
                  <a:lnTo>
                    <a:pt x="442" y="26"/>
                  </a:lnTo>
                  <a:lnTo>
                    <a:pt x="494" y="38"/>
                  </a:lnTo>
                  <a:lnTo>
                    <a:pt x="596" y="66"/>
                  </a:lnTo>
                  <a:lnTo>
                    <a:pt x="648" y="78"/>
                  </a:lnTo>
                  <a:lnTo>
                    <a:pt x="698" y="86"/>
                  </a:lnTo>
                  <a:lnTo>
                    <a:pt x="724" y="90"/>
                  </a:lnTo>
                  <a:lnTo>
                    <a:pt x="752" y="92"/>
                  </a:lnTo>
                  <a:lnTo>
                    <a:pt x="778" y="92"/>
                  </a:lnTo>
                  <a:lnTo>
                    <a:pt x="804" y="92"/>
                  </a:lnTo>
                  <a:lnTo>
                    <a:pt x="830" y="88"/>
                  </a:lnTo>
                  <a:lnTo>
                    <a:pt x="858" y="84"/>
                  </a:lnTo>
                  <a:lnTo>
                    <a:pt x="884" y="78"/>
                  </a:lnTo>
                  <a:lnTo>
                    <a:pt x="912" y="68"/>
                  </a:lnTo>
                  <a:lnTo>
                    <a:pt x="1152" y="0"/>
                  </a:lnTo>
                  <a:lnTo>
                    <a:pt x="1152" y="0"/>
                  </a:lnTo>
                  <a:lnTo>
                    <a:pt x="1204" y="8"/>
                  </a:lnTo>
                  <a:lnTo>
                    <a:pt x="1256" y="12"/>
                  </a:lnTo>
                  <a:lnTo>
                    <a:pt x="1308" y="18"/>
                  </a:lnTo>
                  <a:lnTo>
                    <a:pt x="1360" y="24"/>
                  </a:lnTo>
                  <a:lnTo>
                    <a:pt x="1384" y="30"/>
                  </a:lnTo>
                  <a:lnTo>
                    <a:pt x="1408" y="36"/>
                  </a:lnTo>
                  <a:lnTo>
                    <a:pt x="1432" y="44"/>
                  </a:lnTo>
                  <a:lnTo>
                    <a:pt x="1454" y="54"/>
                  </a:lnTo>
                  <a:lnTo>
                    <a:pt x="1476" y="66"/>
                  </a:lnTo>
                  <a:lnTo>
                    <a:pt x="1496" y="82"/>
                  </a:lnTo>
                  <a:lnTo>
                    <a:pt x="1514" y="100"/>
                  </a:lnTo>
                  <a:lnTo>
                    <a:pt x="1532" y="122"/>
                  </a:lnTo>
                  <a:lnTo>
                    <a:pt x="1532" y="122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9782280" y="2508120"/>
              <a:ext cx="634680" cy="660240"/>
            </a:xfrm>
            <a:custGeom>
              <a:avLst/>
              <a:gdLst>
                <a:gd name="textAreaLeft" fmla="*/ 0 w 634680"/>
                <a:gd name="textAreaRight" fmla="*/ 635040 w 63468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400" h="416">
                  <a:moveTo>
                    <a:pt x="394" y="210"/>
                  </a:moveTo>
                  <a:lnTo>
                    <a:pt x="394" y="210"/>
                  </a:lnTo>
                  <a:lnTo>
                    <a:pt x="386" y="238"/>
                  </a:lnTo>
                  <a:lnTo>
                    <a:pt x="374" y="264"/>
                  </a:lnTo>
                  <a:lnTo>
                    <a:pt x="362" y="290"/>
                  </a:lnTo>
                  <a:lnTo>
                    <a:pt x="346" y="316"/>
                  </a:lnTo>
                  <a:lnTo>
                    <a:pt x="328" y="338"/>
                  </a:lnTo>
                  <a:lnTo>
                    <a:pt x="308" y="360"/>
                  </a:lnTo>
                  <a:lnTo>
                    <a:pt x="284" y="378"/>
                  </a:lnTo>
                  <a:lnTo>
                    <a:pt x="260" y="394"/>
                  </a:lnTo>
                  <a:lnTo>
                    <a:pt x="260" y="394"/>
                  </a:lnTo>
                  <a:lnTo>
                    <a:pt x="244" y="402"/>
                  </a:lnTo>
                  <a:lnTo>
                    <a:pt x="228" y="406"/>
                  </a:lnTo>
                  <a:lnTo>
                    <a:pt x="212" y="410"/>
                  </a:lnTo>
                  <a:lnTo>
                    <a:pt x="196" y="414"/>
                  </a:lnTo>
                  <a:lnTo>
                    <a:pt x="164" y="416"/>
                  </a:lnTo>
                  <a:lnTo>
                    <a:pt x="130" y="416"/>
                  </a:lnTo>
                  <a:lnTo>
                    <a:pt x="96" y="412"/>
                  </a:lnTo>
                  <a:lnTo>
                    <a:pt x="62" y="406"/>
                  </a:lnTo>
                  <a:lnTo>
                    <a:pt x="30" y="398"/>
                  </a:lnTo>
                  <a:lnTo>
                    <a:pt x="0" y="388"/>
                  </a:lnTo>
                  <a:lnTo>
                    <a:pt x="0" y="388"/>
                  </a:lnTo>
                  <a:lnTo>
                    <a:pt x="38" y="362"/>
                  </a:lnTo>
                  <a:lnTo>
                    <a:pt x="80" y="334"/>
                  </a:lnTo>
                  <a:lnTo>
                    <a:pt x="122" y="302"/>
                  </a:lnTo>
                  <a:lnTo>
                    <a:pt x="164" y="266"/>
                  </a:lnTo>
                  <a:lnTo>
                    <a:pt x="204" y="230"/>
                  </a:lnTo>
                  <a:lnTo>
                    <a:pt x="222" y="210"/>
                  </a:lnTo>
                  <a:lnTo>
                    <a:pt x="240" y="190"/>
                  </a:lnTo>
                  <a:lnTo>
                    <a:pt x="256" y="168"/>
                  </a:lnTo>
                  <a:lnTo>
                    <a:pt x="270" y="148"/>
                  </a:lnTo>
                  <a:lnTo>
                    <a:pt x="284" y="126"/>
                  </a:lnTo>
                  <a:lnTo>
                    <a:pt x="294" y="102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54" y="8"/>
                  </a:lnTo>
                  <a:lnTo>
                    <a:pt x="364" y="18"/>
                  </a:lnTo>
                  <a:lnTo>
                    <a:pt x="374" y="28"/>
                  </a:lnTo>
                  <a:lnTo>
                    <a:pt x="382" y="38"/>
                  </a:lnTo>
                  <a:lnTo>
                    <a:pt x="388" y="50"/>
                  </a:lnTo>
                  <a:lnTo>
                    <a:pt x="392" y="64"/>
                  </a:lnTo>
                  <a:lnTo>
                    <a:pt x="396" y="78"/>
                  </a:lnTo>
                  <a:lnTo>
                    <a:pt x="398" y="92"/>
                  </a:lnTo>
                  <a:lnTo>
                    <a:pt x="400" y="122"/>
                  </a:lnTo>
                  <a:lnTo>
                    <a:pt x="398" y="152"/>
                  </a:lnTo>
                  <a:lnTo>
                    <a:pt x="394" y="210"/>
                  </a:lnTo>
                  <a:lnTo>
                    <a:pt x="394" y="210"/>
                  </a:lnTo>
                  <a:close/>
                </a:path>
              </a:pathLst>
            </a:custGeom>
            <a:solidFill>
              <a:srgbClr val="dbe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3"/>
            <p:cNvSpPr/>
            <p:nvPr/>
          </p:nvSpPr>
          <p:spPr>
            <a:xfrm>
              <a:off x="9995040" y="2705040"/>
              <a:ext cx="1028520" cy="1352520"/>
            </a:xfrm>
            <a:custGeom>
              <a:avLst/>
              <a:gdLst>
                <a:gd name="textAreaLeft" fmla="*/ 0 w 1028520"/>
                <a:gd name="textAreaRight" fmla="*/ 1028880 w 1028520"/>
                <a:gd name="textAreaTop" fmla="*/ 0 h 1352520"/>
                <a:gd name="textAreaBottom" fmla="*/ 1352880 h 1352520"/>
              </a:gdLst>
              <a:ahLst/>
              <a:rect l="textAreaLeft" t="textAreaTop" r="textAreaRight" b="textAreaBottom"/>
              <a:pathLst>
                <a:path w="648" h="852">
                  <a:moveTo>
                    <a:pt x="540" y="438"/>
                  </a:moveTo>
                  <a:lnTo>
                    <a:pt x="540" y="438"/>
                  </a:lnTo>
                  <a:lnTo>
                    <a:pt x="572" y="484"/>
                  </a:lnTo>
                  <a:lnTo>
                    <a:pt x="586" y="508"/>
                  </a:lnTo>
                  <a:lnTo>
                    <a:pt x="600" y="532"/>
                  </a:lnTo>
                  <a:lnTo>
                    <a:pt x="612" y="558"/>
                  </a:lnTo>
                  <a:lnTo>
                    <a:pt x="622" y="584"/>
                  </a:lnTo>
                  <a:lnTo>
                    <a:pt x="632" y="610"/>
                  </a:lnTo>
                  <a:lnTo>
                    <a:pt x="640" y="638"/>
                  </a:lnTo>
                  <a:lnTo>
                    <a:pt x="644" y="664"/>
                  </a:lnTo>
                  <a:lnTo>
                    <a:pt x="648" y="692"/>
                  </a:lnTo>
                  <a:lnTo>
                    <a:pt x="648" y="720"/>
                  </a:lnTo>
                  <a:lnTo>
                    <a:pt x="646" y="746"/>
                  </a:lnTo>
                  <a:lnTo>
                    <a:pt x="642" y="774"/>
                  </a:lnTo>
                  <a:lnTo>
                    <a:pt x="634" y="800"/>
                  </a:lnTo>
                  <a:lnTo>
                    <a:pt x="624" y="826"/>
                  </a:lnTo>
                  <a:lnTo>
                    <a:pt x="608" y="852"/>
                  </a:lnTo>
                  <a:lnTo>
                    <a:pt x="608" y="852"/>
                  </a:lnTo>
                  <a:lnTo>
                    <a:pt x="584" y="846"/>
                  </a:lnTo>
                  <a:lnTo>
                    <a:pt x="562" y="838"/>
                  </a:lnTo>
                  <a:lnTo>
                    <a:pt x="538" y="828"/>
                  </a:lnTo>
                  <a:lnTo>
                    <a:pt x="516" y="818"/>
                  </a:lnTo>
                  <a:lnTo>
                    <a:pt x="474" y="794"/>
                  </a:lnTo>
                  <a:lnTo>
                    <a:pt x="434" y="766"/>
                  </a:lnTo>
                  <a:lnTo>
                    <a:pt x="396" y="734"/>
                  </a:lnTo>
                  <a:lnTo>
                    <a:pt x="360" y="700"/>
                  </a:lnTo>
                  <a:lnTo>
                    <a:pt x="324" y="666"/>
                  </a:lnTo>
                  <a:lnTo>
                    <a:pt x="288" y="628"/>
                  </a:lnTo>
                  <a:lnTo>
                    <a:pt x="220" y="550"/>
                  </a:lnTo>
                  <a:lnTo>
                    <a:pt x="150" y="474"/>
                  </a:lnTo>
                  <a:lnTo>
                    <a:pt x="114" y="436"/>
                  </a:lnTo>
                  <a:lnTo>
                    <a:pt x="78" y="400"/>
                  </a:lnTo>
                  <a:lnTo>
                    <a:pt x="40" y="366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52" y="330"/>
                  </a:lnTo>
                  <a:lnTo>
                    <a:pt x="104" y="322"/>
                  </a:lnTo>
                  <a:lnTo>
                    <a:pt x="130" y="316"/>
                  </a:lnTo>
                  <a:lnTo>
                    <a:pt x="154" y="308"/>
                  </a:lnTo>
                  <a:lnTo>
                    <a:pt x="178" y="300"/>
                  </a:lnTo>
                  <a:lnTo>
                    <a:pt x="202" y="290"/>
                  </a:lnTo>
                  <a:lnTo>
                    <a:pt x="224" y="280"/>
                  </a:lnTo>
                  <a:lnTo>
                    <a:pt x="246" y="266"/>
                  </a:lnTo>
                  <a:lnTo>
                    <a:pt x="268" y="252"/>
                  </a:lnTo>
                  <a:lnTo>
                    <a:pt x="288" y="238"/>
                  </a:lnTo>
                  <a:lnTo>
                    <a:pt x="306" y="220"/>
                  </a:lnTo>
                  <a:lnTo>
                    <a:pt x="324" y="200"/>
                  </a:lnTo>
                  <a:lnTo>
                    <a:pt x="340" y="180"/>
                  </a:lnTo>
                  <a:lnTo>
                    <a:pt x="354" y="158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428" y="20"/>
                  </a:lnTo>
                  <a:lnTo>
                    <a:pt x="450" y="42"/>
                  </a:lnTo>
                  <a:lnTo>
                    <a:pt x="468" y="64"/>
                  </a:lnTo>
                  <a:lnTo>
                    <a:pt x="486" y="88"/>
                  </a:lnTo>
                  <a:lnTo>
                    <a:pt x="500" y="114"/>
                  </a:lnTo>
                  <a:lnTo>
                    <a:pt x="514" y="140"/>
                  </a:lnTo>
                  <a:lnTo>
                    <a:pt x="524" y="168"/>
                  </a:lnTo>
                  <a:lnTo>
                    <a:pt x="534" y="196"/>
                  </a:lnTo>
                  <a:lnTo>
                    <a:pt x="542" y="224"/>
                  </a:lnTo>
                  <a:lnTo>
                    <a:pt x="548" y="254"/>
                  </a:lnTo>
                  <a:lnTo>
                    <a:pt x="552" y="284"/>
                  </a:lnTo>
                  <a:lnTo>
                    <a:pt x="554" y="314"/>
                  </a:lnTo>
                  <a:lnTo>
                    <a:pt x="552" y="344"/>
                  </a:lnTo>
                  <a:lnTo>
                    <a:pt x="550" y="376"/>
                  </a:lnTo>
                  <a:lnTo>
                    <a:pt x="546" y="406"/>
                  </a:lnTo>
                  <a:lnTo>
                    <a:pt x="540" y="438"/>
                  </a:lnTo>
                  <a:lnTo>
                    <a:pt x="540" y="438"/>
                  </a:lnTo>
                  <a:close/>
                </a:path>
              </a:pathLst>
            </a:custGeom>
            <a:solidFill>
              <a:srgbClr val="dbe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4"/>
            <p:cNvSpPr/>
            <p:nvPr/>
          </p:nvSpPr>
          <p:spPr>
            <a:xfrm>
              <a:off x="4254480" y="2742840"/>
              <a:ext cx="730080" cy="438120"/>
            </a:xfrm>
            <a:custGeom>
              <a:avLst/>
              <a:gdLst>
                <a:gd name="textAreaLeft" fmla="*/ 0 w 730080"/>
                <a:gd name="textAreaRight" fmla="*/ 730080 w 7300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460" h="276">
                  <a:moveTo>
                    <a:pt x="460" y="276"/>
                  </a:moveTo>
                  <a:lnTo>
                    <a:pt x="460" y="276"/>
                  </a:lnTo>
                  <a:lnTo>
                    <a:pt x="412" y="234"/>
                  </a:lnTo>
                  <a:lnTo>
                    <a:pt x="362" y="192"/>
                  </a:lnTo>
                  <a:lnTo>
                    <a:pt x="334" y="172"/>
                  </a:lnTo>
                  <a:lnTo>
                    <a:pt x="308" y="154"/>
                  </a:lnTo>
                  <a:lnTo>
                    <a:pt x="282" y="138"/>
                  </a:lnTo>
                  <a:lnTo>
                    <a:pt x="254" y="124"/>
                  </a:lnTo>
                  <a:lnTo>
                    <a:pt x="224" y="110"/>
                  </a:lnTo>
                  <a:lnTo>
                    <a:pt x="196" y="102"/>
                  </a:lnTo>
                  <a:lnTo>
                    <a:pt x="166" y="94"/>
                  </a:lnTo>
                  <a:lnTo>
                    <a:pt x="134" y="90"/>
                  </a:lnTo>
                  <a:lnTo>
                    <a:pt x="102" y="90"/>
                  </a:lnTo>
                  <a:lnTo>
                    <a:pt x="70" y="94"/>
                  </a:lnTo>
                  <a:lnTo>
                    <a:pt x="36" y="10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8" y="96"/>
                  </a:lnTo>
                  <a:lnTo>
                    <a:pt x="18" y="82"/>
                  </a:lnTo>
                  <a:lnTo>
                    <a:pt x="28" y="68"/>
                  </a:lnTo>
                  <a:lnTo>
                    <a:pt x="42" y="56"/>
                  </a:lnTo>
                  <a:lnTo>
                    <a:pt x="56" y="46"/>
                  </a:lnTo>
                  <a:lnTo>
                    <a:pt x="70" y="36"/>
                  </a:lnTo>
                  <a:lnTo>
                    <a:pt x="100" y="20"/>
                  </a:lnTo>
                  <a:lnTo>
                    <a:pt x="100" y="20"/>
                  </a:lnTo>
                  <a:lnTo>
                    <a:pt x="128" y="12"/>
                  </a:lnTo>
                  <a:lnTo>
                    <a:pt x="158" y="4"/>
                  </a:lnTo>
                  <a:lnTo>
                    <a:pt x="188" y="0"/>
                  </a:lnTo>
                  <a:lnTo>
                    <a:pt x="220" y="0"/>
                  </a:lnTo>
                  <a:lnTo>
                    <a:pt x="250" y="2"/>
                  </a:lnTo>
                  <a:lnTo>
                    <a:pt x="280" y="8"/>
                  </a:lnTo>
                  <a:lnTo>
                    <a:pt x="294" y="14"/>
                  </a:lnTo>
                  <a:lnTo>
                    <a:pt x="308" y="20"/>
                  </a:lnTo>
                  <a:lnTo>
                    <a:pt x="320" y="26"/>
                  </a:lnTo>
                  <a:lnTo>
                    <a:pt x="332" y="34"/>
                  </a:lnTo>
                  <a:lnTo>
                    <a:pt x="332" y="34"/>
                  </a:lnTo>
                  <a:lnTo>
                    <a:pt x="368" y="94"/>
                  </a:lnTo>
                  <a:lnTo>
                    <a:pt x="402" y="154"/>
                  </a:lnTo>
                  <a:lnTo>
                    <a:pt x="432" y="214"/>
                  </a:lnTo>
                  <a:lnTo>
                    <a:pt x="460" y="276"/>
                  </a:lnTo>
                  <a:lnTo>
                    <a:pt x="460" y="276"/>
                  </a:lnTo>
                  <a:close/>
                </a:path>
              </a:pathLst>
            </a:custGeom>
            <a:solidFill>
              <a:srgbClr val="dbe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25"/>
            <p:cNvSpPr/>
            <p:nvPr/>
          </p:nvSpPr>
          <p:spPr>
            <a:xfrm>
              <a:off x="2095200" y="2790720"/>
              <a:ext cx="171360" cy="6570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108" h="414">
                  <a:moveTo>
                    <a:pt x="108" y="22"/>
                  </a:moveTo>
                  <a:lnTo>
                    <a:pt x="108" y="22"/>
                  </a:lnTo>
                  <a:lnTo>
                    <a:pt x="108" y="116"/>
                  </a:lnTo>
                  <a:lnTo>
                    <a:pt x="104" y="216"/>
                  </a:lnTo>
                  <a:lnTo>
                    <a:pt x="96" y="414"/>
                  </a:lnTo>
                  <a:lnTo>
                    <a:pt x="96" y="414"/>
                  </a:lnTo>
                  <a:lnTo>
                    <a:pt x="74" y="366"/>
                  </a:lnTo>
                  <a:lnTo>
                    <a:pt x="54" y="318"/>
                  </a:lnTo>
                  <a:lnTo>
                    <a:pt x="36" y="266"/>
                  </a:lnTo>
                  <a:lnTo>
                    <a:pt x="20" y="214"/>
                  </a:lnTo>
                  <a:lnTo>
                    <a:pt x="8" y="160"/>
                  </a:lnTo>
                  <a:lnTo>
                    <a:pt x="4" y="134"/>
                  </a:lnTo>
                  <a:lnTo>
                    <a:pt x="2" y="108"/>
                  </a:lnTo>
                  <a:lnTo>
                    <a:pt x="0" y="80"/>
                  </a:lnTo>
                  <a:lnTo>
                    <a:pt x="0" y="52"/>
                  </a:lnTo>
                  <a:lnTo>
                    <a:pt x="2" y="26"/>
                  </a:lnTo>
                  <a:lnTo>
                    <a:pt x="6" y="0"/>
                  </a:lnTo>
                  <a:lnTo>
                    <a:pt x="6" y="0"/>
                  </a:lnTo>
                  <a:lnTo>
                    <a:pt x="30" y="4"/>
                  </a:lnTo>
                  <a:lnTo>
                    <a:pt x="56" y="12"/>
                  </a:lnTo>
                  <a:lnTo>
                    <a:pt x="80" y="18"/>
                  </a:lnTo>
                  <a:lnTo>
                    <a:pt x="108" y="22"/>
                  </a:lnTo>
                  <a:lnTo>
                    <a:pt x="108" y="22"/>
                  </a:lnTo>
                  <a:close/>
                </a:path>
              </a:pathLst>
            </a:custGeom>
            <a:solidFill>
              <a:srgbClr val="dbe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26"/>
            <p:cNvSpPr/>
            <p:nvPr/>
          </p:nvSpPr>
          <p:spPr>
            <a:xfrm>
              <a:off x="2489040" y="2790720"/>
              <a:ext cx="787320" cy="34920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96" h="220">
                  <a:moveTo>
                    <a:pt x="496" y="92"/>
                  </a:moveTo>
                  <a:lnTo>
                    <a:pt x="496" y="112"/>
                  </a:lnTo>
                  <a:lnTo>
                    <a:pt x="496" y="112"/>
                  </a:lnTo>
                  <a:lnTo>
                    <a:pt x="460" y="100"/>
                  </a:lnTo>
                  <a:lnTo>
                    <a:pt x="428" y="92"/>
                  </a:lnTo>
                  <a:lnTo>
                    <a:pt x="394" y="86"/>
                  </a:lnTo>
                  <a:lnTo>
                    <a:pt x="360" y="82"/>
                  </a:lnTo>
                  <a:lnTo>
                    <a:pt x="328" y="80"/>
                  </a:lnTo>
                  <a:lnTo>
                    <a:pt x="294" y="82"/>
                  </a:lnTo>
                  <a:lnTo>
                    <a:pt x="262" y="86"/>
                  </a:lnTo>
                  <a:lnTo>
                    <a:pt x="230" y="92"/>
                  </a:lnTo>
                  <a:lnTo>
                    <a:pt x="200" y="100"/>
                  </a:lnTo>
                  <a:lnTo>
                    <a:pt x="168" y="110"/>
                  </a:lnTo>
                  <a:lnTo>
                    <a:pt x="138" y="122"/>
                  </a:lnTo>
                  <a:lnTo>
                    <a:pt x="110" y="138"/>
                  </a:lnTo>
                  <a:lnTo>
                    <a:pt x="80" y="156"/>
                  </a:lnTo>
                  <a:lnTo>
                    <a:pt x="52" y="174"/>
                  </a:lnTo>
                  <a:lnTo>
                    <a:pt x="26" y="196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26" y="184"/>
                  </a:lnTo>
                  <a:lnTo>
                    <a:pt x="54" y="148"/>
                  </a:lnTo>
                  <a:lnTo>
                    <a:pt x="86" y="112"/>
                  </a:lnTo>
                  <a:lnTo>
                    <a:pt x="120" y="80"/>
                  </a:lnTo>
                  <a:lnTo>
                    <a:pt x="138" y="66"/>
                  </a:lnTo>
                  <a:lnTo>
                    <a:pt x="158" y="52"/>
                  </a:lnTo>
                  <a:lnTo>
                    <a:pt x="176" y="38"/>
                  </a:lnTo>
                  <a:lnTo>
                    <a:pt x="196" y="28"/>
                  </a:lnTo>
                  <a:lnTo>
                    <a:pt x="216" y="18"/>
                  </a:lnTo>
                  <a:lnTo>
                    <a:pt x="238" y="10"/>
                  </a:lnTo>
                  <a:lnTo>
                    <a:pt x="258" y="4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312" y="0"/>
                  </a:lnTo>
                  <a:lnTo>
                    <a:pt x="344" y="2"/>
                  </a:lnTo>
                  <a:lnTo>
                    <a:pt x="374" y="8"/>
                  </a:lnTo>
                  <a:lnTo>
                    <a:pt x="404" y="16"/>
                  </a:lnTo>
                  <a:lnTo>
                    <a:pt x="432" y="28"/>
                  </a:lnTo>
                  <a:lnTo>
                    <a:pt x="444" y="36"/>
                  </a:lnTo>
                  <a:lnTo>
                    <a:pt x="456" y="44"/>
                  </a:lnTo>
                  <a:lnTo>
                    <a:pt x="468" y="54"/>
                  </a:lnTo>
                  <a:lnTo>
                    <a:pt x="478" y="66"/>
                  </a:lnTo>
                  <a:lnTo>
                    <a:pt x="488" y="78"/>
                  </a:lnTo>
                  <a:lnTo>
                    <a:pt x="496" y="92"/>
                  </a:lnTo>
                  <a:lnTo>
                    <a:pt x="496" y="92"/>
                  </a:lnTo>
                  <a:close/>
                </a:path>
              </a:pathLst>
            </a:custGeom>
            <a:solidFill>
              <a:srgbClr val="dbe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27"/>
            <p:cNvSpPr/>
            <p:nvPr/>
          </p:nvSpPr>
          <p:spPr>
            <a:xfrm>
              <a:off x="8858520" y="3247920"/>
              <a:ext cx="780840" cy="20304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492" h="128">
                  <a:moveTo>
                    <a:pt x="492" y="42"/>
                  </a:moveTo>
                  <a:lnTo>
                    <a:pt x="492" y="42"/>
                  </a:lnTo>
                  <a:lnTo>
                    <a:pt x="462" y="50"/>
                  </a:lnTo>
                  <a:lnTo>
                    <a:pt x="432" y="60"/>
                  </a:lnTo>
                  <a:lnTo>
                    <a:pt x="370" y="82"/>
                  </a:lnTo>
                  <a:lnTo>
                    <a:pt x="306" y="102"/>
                  </a:lnTo>
                  <a:lnTo>
                    <a:pt x="274" y="112"/>
                  </a:lnTo>
                  <a:lnTo>
                    <a:pt x="242" y="118"/>
                  </a:lnTo>
                  <a:lnTo>
                    <a:pt x="210" y="124"/>
                  </a:lnTo>
                  <a:lnTo>
                    <a:pt x="180" y="128"/>
                  </a:lnTo>
                  <a:lnTo>
                    <a:pt x="148" y="128"/>
                  </a:lnTo>
                  <a:lnTo>
                    <a:pt x="116" y="124"/>
                  </a:lnTo>
                  <a:lnTo>
                    <a:pt x="86" y="116"/>
                  </a:lnTo>
                  <a:lnTo>
                    <a:pt x="56" y="104"/>
                  </a:lnTo>
                  <a:lnTo>
                    <a:pt x="42" y="96"/>
                  </a:lnTo>
                  <a:lnTo>
                    <a:pt x="28" y="86"/>
                  </a:lnTo>
                  <a:lnTo>
                    <a:pt x="14" y="76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4" y="48"/>
                  </a:lnTo>
                  <a:lnTo>
                    <a:pt x="52" y="36"/>
                  </a:lnTo>
                  <a:lnTo>
                    <a:pt x="80" y="26"/>
                  </a:lnTo>
                  <a:lnTo>
                    <a:pt x="110" y="18"/>
                  </a:lnTo>
                  <a:lnTo>
                    <a:pt x="140" y="10"/>
                  </a:lnTo>
                  <a:lnTo>
                    <a:pt x="170" y="6"/>
                  </a:lnTo>
                  <a:lnTo>
                    <a:pt x="202" y="2"/>
                  </a:lnTo>
                  <a:lnTo>
                    <a:pt x="234" y="0"/>
                  </a:lnTo>
                  <a:lnTo>
                    <a:pt x="266" y="0"/>
                  </a:lnTo>
                  <a:lnTo>
                    <a:pt x="298" y="2"/>
                  </a:lnTo>
                  <a:lnTo>
                    <a:pt x="362" y="8"/>
                  </a:lnTo>
                  <a:lnTo>
                    <a:pt x="422" y="18"/>
                  </a:lnTo>
                  <a:lnTo>
                    <a:pt x="480" y="30"/>
                  </a:lnTo>
                  <a:lnTo>
                    <a:pt x="492" y="42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8"/>
            <p:cNvSpPr/>
            <p:nvPr/>
          </p:nvSpPr>
          <p:spPr>
            <a:xfrm>
              <a:off x="2968560" y="3396960"/>
              <a:ext cx="177480" cy="46332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112" h="292">
                  <a:moveTo>
                    <a:pt x="112" y="22"/>
                  </a:moveTo>
                  <a:lnTo>
                    <a:pt x="112" y="22"/>
                  </a:lnTo>
                  <a:lnTo>
                    <a:pt x="108" y="92"/>
                  </a:lnTo>
                  <a:lnTo>
                    <a:pt x="102" y="158"/>
                  </a:lnTo>
                  <a:lnTo>
                    <a:pt x="86" y="292"/>
                  </a:lnTo>
                  <a:lnTo>
                    <a:pt x="86" y="292"/>
                  </a:lnTo>
                  <a:lnTo>
                    <a:pt x="60" y="292"/>
                  </a:lnTo>
                  <a:lnTo>
                    <a:pt x="46" y="292"/>
                  </a:lnTo>
                  <a:lnTo>
                    <a:pt x="34" y="290"/>
                  </a:lnTo>
                  <a:lnTo>
                    <a:pt x="22" y="288"/>
                  </a:lnTo>
                  <a:lnTo>
                    <a:pt x="12" y="282"/>
                  </a:lnTo>
                  <a:lnTo>
                    <a:pt x="4" y="276"/>
                  </a:lnTo>
                  <a:lnTo>
                    <a:pt x="0" y="26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32" y="4"/>
                  </a:lnTo>
                  <a:lnTo>
                    <a:pt x="46" y="2"/>
                  </a:lnTo>
                  <a:lnTo>
                    <a:pt x="76" y="0"/>
                  </a:lnTo>
                  <a:lnTo>
                    <a:pt x="88" y="0"/>
                  </a:lnTo>
                  <a:lnTo>
                    <a:pt x="98" y="4"/>
                  </a:lnTo>
                  <a:lnTo>
                    <a:pt x="104" y="8"/>
                  </a:lnTo>
                  <a:lnTo>
                    <a:pt x="108" y="12"/>
                  </a:lnTo>
                  <a:lnTo>
                    <a:pt x="110" y="16"/>
                  </a:lnTo>
                  <a:lnTo>
                    <a:pt x="112" y="22"/>
                  </a:lnTo>
                  <a:lnTo>
                    <a:pt x="112" y="22"/>
                  </a:lnTo>
                  <a:close/>
                </a:path>
              </a:pathLst>
            </a:custGeom>
            <a:solidFill>
              <a:srgbClr val="456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9"/>
            <p:cNvSpPr/>
            <p:nvPr/>
          </p:nvSpPr>
          <p:spPr>
            <a:xfrm>
              <a:off x="4273560" y="3400200"/>
              <a:ext cx="161640" cy="4698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102" h="296">
                  <a:moveTo>
                    <a:pt x="102" y="284"/>
                  </a:moveTo>
                  <a:lnTo>
                    <a:pt x="102" y="284"/>
                  </a:lnTo>
                  <a:lnTo>
                    <a:pt x="92" y="290"/>
                  </a:lnTo>
                  <a:lnTo>
                    <a:pt x="82" y="294"/>
                  </a:lnTo>
                  <a:lnTo>
                    <a:pt x="72" y="296"/>
                  </a:lnTo>
                  <a:lnTo>
                    <a:pt x="60" y="296"/>
                  </a:lnTo>
                  <a:lnTo>
                    <a:pt x="36" y="294"/>
                  </a:lnTo>
                  <a:lnTo>
                    <a:pt x="24" y="294"/>
                  </a:lnTo>
                  <a:lnTo>
                    <a:pt x="12" y="296"/>
                  </a:lnTo>
                  <a:lnTo>
                    <a:pt x="12" y="296"/>
                  </a:lnTo>
                  <a:lnTo>
                    <a:pt x="6" y="266"/>
                  </a:lnTo>
                  <a:lnTo>
                    <a:pt x="2" y="232"/>
                  </a:lnTo>
                  <a:lnTo>
                    <a:pt x="0" y="198"/>
                  </a:lnTo>
                  <a:lnTo>
                    <a:pt x="0" y="160"/>
                  </a:lnTo>
                  <a:lnTo>
                    <a:pt x="2" y="8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4" y="4"/>
                  </a:lnTo>
                  <a:lnTo>
                    <a:pt x="48" y="2"/>
                  </a:lnTo>
                  <a:lnTo>
                    <a:pt x="72" y="0"/>
                  </a:lnTo>
                  <a:lnTo>
                    <a:pt x="94" y="4"/>
                  </a:lnTo>
                  <a:lnTo>
                    <a:pt x="102" y="284"/>
                  </a:lnTo>
                  <a:close/>
                </a:path>
              </a:pathLst>
            </a:custGeom>
            <a:solidFill>
              <a:srgbClr val="456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30"/>
            <p:cNvSpPr/>
            <p:nvPr/>
          </p:nvSpPr>
          <p:spPr>
            <a:xfrm>
              <a:off x="8550360" y="3422520"/>
              <a:ext cx="1463400" cy="301320"/>
            </a:xfrm>
            <a:custGeom>
              <a:avLst/>
              <a:gdLst>
                <a:gd name="textAreaLeft" fmla="*/ 0 w 1463400"/>
                <a:gd name="textAreaRight" fmla="*/ 1463760 w 146340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922" h="190">
                  <a:moveTo>
                    <a:pt x="922" y="66"/>
                  </a:moveTo>
                  <a:lnTo>
                    <a:pt x="916" y="76"/>
                  </a:lnTo>
                  <a:lnTo>
                    <a:pt x="916" y="76"/>
                  </a:lnTo>
                  <a:lnTo>
                    <a:pt x="888" y="68"/>
                  </a:lnTo>
                  <a:lnTo>
                    <a:pt x="862" y="62"/>
                  </a:lnTo>
                  <a:lnTo>
                    <a:pt x="836" y="58"/>
                  </a:lnTo>
                  <a:lnTo>
                    <a:pt x="812" y="56"/>
                  </a:lnTo>
                  <a:lnTo>
                    <a:pt x="786" y="58"/>
                  </a:lnTo>
                  <a:lnTo>
                    <a:pt x="762" y="60"/>
                  </a:lnTo>
                  <a:lnTo>
                    <a:pt x="738" y="64"/>
                  </a:lnTo>
                  <a:lnTo>
                    <a:pt x="714" y="68"/>
                  </a:lnTo>
                  <a:lnTo>
                    <a:pt x="666" y="82"/>
                  </a:lnTo>
                  <a:lnTo>
                    <a:pt x="620" y="100"/>
                  </a:lnTo>
                  <a:lnTo>
                    <a:pt x="530" y="138"/>
                  </a:lnTo>
                  <a:lnTo>
                    <a:pt x="486" y="156"/>
                  </a:lnTo>
                  <a:lnTo>
                    <a:pt x="440" y="170"/>
                  </a:lnTo>
                  <a:lnTo>
                    <a:pt x="418" y="178"/>
                  </a:lnTo>
                  <a:lnTo>
                    <a:pt x="396" y="182"/>
                  </a:lnTo>
                  <a:lnTo>
                    <a:pt x="372" y="186"/>
                  </a:lnTo>
                  <a:lnTo>
                    <a:pt x="350" y="188"/>
                  </a:lnTo>
                  <a:lnTo>
                    <a:pt x="326" y="190"/>
                  </a:lnTo>
                  <a:lnTo>
                    <a:pt x="304" y="188"/>
                  </a:lnTo>
                  <a:lnTo>
                    <a:pt x="280" y="184"/>
                  </a:lnTo>
                  <a:lnTo>
                    <a:pt x="256" y="178"/>
                  </a:lnTo>
                  <a:lnTo>
                    <a:pt x="232" y="170"/>
                  </a:lnTo>
                  <a:lnTo>
                    <a:pt x="208" y="160"/>
                  </a:lnTo>
                  <a:lnTo>
                    <a:pt x="182" y="146"/>
                  </a:lnTo>
                  <a:lnTo>
                    <a:pt x="158" y="13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6" y="32"/>
                  </a:lnTo>
                  <a:lnTo>
                    <a:pt x="54" y="26"/>
                  </a:lnTo>
                  <a:lnTo>
                    <a:pt x="80" y="24"/>
                  </a:lnTo>
                  <a:lnTo>
                    <a:pt x="108" y="24"/>
                  </a:lnTo>
                  <a:lnTo>
                    <a:pt x="134" y="26"/>
                  </a:lnTo>
                  <a:lnTo>
                    <a:pt x="162" y="30"/>
                  </a:lnTo>
                  <a:lnTo>
                    <a:pt x="216" y="42"/>
                  </a:lnTo>
                  <a:lnTo>
                    <a:pt x="270" y="56"/>
                  </a:lnTo>
                  <a:lnTo>
                    <a:pt x="298" y="62"/>
                  </a:lnTo>
                  <a:lnTo>
                    <a:pt x="326" y="66"/>
                  </a:lnTo>
                  <a:lnTo>
                    <a:pt x="354" y="68"/>
                  </a:lnTo>
                  <a:lnTo>
                    <a:pt x="382" y="70"/>
                  </a:lnTo>
                  <a:lnTo>
                    <a:pt x="412" y="66"/>
                  </a:lnTo>
                  <a:lnTo>
                    <a:pt x="442" y="60"/>
                  </a:lnTo>
                  <a:lnTo>
                    <a:pt x="442" y="60"/>
                  </a:lnTo>
                  <a:lnTo>
                    <a:pt x="560" y="28"/>
                  </a:lnTo>
                  <a:lnTo>
                    <a:pt x="622" y="14"/>
                  </a:lnTo>
                  <a:lnTo>
                    <a:pt x="654" y="8"/>
                  </a:lnTo>
                  <a:lnTo>
                    <a:pt x="686" y="4"/>
                  </a:lnTo>
                  <a:lnTo>
                    <a:pt x="718" y="0"/>
                  </a:lnTo>
                  <a:lnTo>
                    <a:pt x="748" y="0"/>
                  </a:lnTo>
                  <a:lnTo>
                    <a:pt x="780" y="4"/>
                  </a:lnTo>
                  <a:lnTo>
                    <a:pt x="810" y="8"/>
                  </a:lnTo>
                  <a:lnTo>
                    <a:pt x="840" y="18"/>
                  </a:lnTo>
                  <a:lnTo>
                    <a:pt x="868" y="30"/>
                  </a:lnTo>
                  <a:lnTo>
                    <a:pt x="896" y="46"/>
                  </a:lnTo>
                  <a:lnTo>
                    <a:pt x="922" y="66"/>
                  </a:lnTo>
                  <a:lnTo>
                    <a:pt x="922" y="66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31"/>
            <p:cNvSpPr/>
            <p:nvPr/>
          </p:nvSpPr>
          <p:spPr>
            <a:xfrm>
              <a:off x="7715160" y="3616200"/>
              <a:ext cx="2682720" cy="2508120"/>
            </a:xfrm>
            <a:custGeom>
              <a:avLst/>
              <a:gdLst>
                <a:gd name="textAreaLeft" fmla="*/ 0 w 2682720"/>
                <a:gd name="textAreaRight" fmla="*/ 2683080 w 2682720"/>
                <a:gd name="textAreaTop" fmla="*/ 0 h 2508120"/>
                <a:gd name="textAreaBottom" fmla="*/ 2508480 h 2508120"/>
              </a:gdLst>
              <a:ahLst/>
              <a:rect l="textAreaLeft" t="textAreaTop" r="textAreaRight" b="textAreaBottom"/>
              <a:pathLst>
                <a:path w="1690" h="1580">
                  <a:moveTo>
                    <a:pt x="1608" y="154"/>
                  </a:moveTo>
                  <a:lnTo>
                    <a:pt x="1608" y="154"/>
                  </a:lnTo>
                  <a:lnTo>
                    <a:pt x="1628" y="192"/>
                  </a:lnTo>
                  <a:lnTo>
                    <a:pt x="1644" y="232"/>
                  </a:lnTo>
                  <a:lnTo>
                    <a:pt x="1656" y="274"/>
                  </a:lnTo>
                  <a:lnTo>
                    <a:pt x="1666" y="318"/>
                  </a:lnTo>
                  <a:lnTo>
                    <a:pt x="1668" y="340"/>
                  </a:lnTo>
                  <a:lnTo>
                    <a:pt x="1670" y="362"/>
                  </a:lnTo>
                  <a:lnTo>
                    <a:pt x="1670" y="384"/>
                  </a:lnTo>
                  <a:lnTo>
                    <a:pt x="1668" y="406"/>
                  </a:lnTo>
                  <a:lnTo>
                    <a:pt x="1666" y="426"/>
                  </a:lnTo>
                  <a:lnTo>
                    <a:pt x="1662" y="448"/>
                  </a:lnTo>
                  <a:lnTo>
                    <a:pt x="1656" y="468"/>
                  </a:lnTo>
                  <a:lnTo>
                    <a:pt x="1648" y="488"/>
                  </a:lnTo>
                  <a:lnTo>
                    <a:pt x="1648" y="488"/>
                  </a:lnTo>
                  <a:lnTo>
                    <a:pt x="1636" y="502"/>
                  </a:lnTo>
                  <a:lnTo>
                    <a:pt x="1620" y="516"/>
                  </a:lnTo>
                  <a:lnTo>
                    <a:pt x="1590" y="540"/>
                  </a:lnTo>
                  <a:lnTo>
                    <a:pt x="1576" y="552"/>
                  </a:lnTo>
                  <a:lnTo>
                    <a:pt x="1566" y="566"/>
                  </a:lnTo>
                  <a:lnTo>
                    <a:pt x="1558" y="580"/>
                  </a:lnTo>
                  <a:lnTo>
                    <a:pt x="1556" y="588"/>
                  </a:lnTo>
                  <a:lnTo>
                    <a:pt x="1556" y="596"/>
                  </a:lnTo>
                  <a:lnTo>
                    <a:pt x="1556" y="596"/>
                  </a:lnTo>
                  <a:lnTo>
                    <a:pt x="1586" y="592"/>
                  </a:lnTo>
                  <a:lnTo>
                    <a:pt x="1618" y="590"/>
                  </a:lnTo>
                  <a:lnTo>
                    <a:pt x="1636" y="590"/>
                  </a:lnTo>
                  <a:lnTo>
                    <a:pt x="1652" y="592"/>
                  </a:lnTo>
                  <a:lnTo>
                    <a:pt x="1666" y="594"/>
                  </a:lnTo>
                  <a:lnTo>
                    <a:pt x="1680" y="602"/>
                  </a:lnTo>
                  <a:lnTo>
                    <a:pt x="1680" y="602"/>
                  </a:lnTo>
                  <a:lnTo>
                    <a:pt x="1686" y="614"/>
                  </a:lnTo>
                  <a:lnTo>
                    <a:pt x="1690" y="628"/>
                  </a:lnTo>
                  <a:lnTo>
                    <a:pt x="1690" y="642"/>
                  </a:lnTo>
                  <a:lnTo>
                    <a:pt x="1690" y="656"/>
                  </a:lnTo>
                  <a:lnTo>
                    <a:pt x="1686" y="670"/>
                  </a:lnTo>
                  <a:lnTo>
                    <a:pt x="1682" y="684"/>
                  </a:lnTo>
                  <a:lnTo>
                    <a:pt x="1676" y="696"/>
                  </a:lnTo>
                  <a:lnTo>
                    <a:pt x="1668" y="708"/>
                  </a:lnTo>
                  <a:lnTo>
                    <a:pt x="1668" y="708"/>
                  </a:lnTo>
                  <a:lnTo>
                    <a:pt x="1556" y="676"/>
                  </a:lnTo>
                  <a:lnTo>
                    <a:pt x="1556" y="676"/>
                  </a:lnTo>
                  <a:lnTo>
                    <a:pt x="1564" y="696"/>
                  </a:lnTo>
                  <a:lnTo>
                    <a:pt x="1574" y="716"/>
                  </a:lnTo>
                  <a:lnTo>
                    <a:pt x="1598" y="760"/>
                  </a:lnTo>
                  <a:lnTo>
                    <a:pt x="1622" y="804"/>
                  </a:lnTo>
                  <a:lnTo>
                    <a:pt x="1632" y="826"/>
                  </a:lnTo>
                  <a:lnTo>
                    <a:pt x="1642" y="850"/>
                  </a:lnTo>
                  <a:lnTo>
                    <a:pt x="1642" y="850"/>
                  </a:lnTo>
                  <a:lnTo>
                    <a:pt x="1650" y="870"/>
                  </a:lnTo>
                  <a:lnTo>
                    <a:pt x="1656" y="890"/>
                  </a:lnTo>
                  <a:lnTo>
                    <a:pt x="1666" y="932"/>
                  </a:lnTo>
                  <a:lnTo>
                    <a:pt x="1672" y="974"/>
                  </a:lnTo>
                  <a:lnTo>
                    <a:pt x="1674" y="1014"/>
                  </a:lnTo>
                  <a:lnTo>
                    <a:pt x="1670" y="1054"/>
                  </a:lnTo>
                  <a:lnTo>
                    <a:pt x="1664" y="1092"/>
                  </a:lnTo>
                  <a:lnTo>
                    <a:pt x="1654" y="1132"/>
                  </a:lnTo>
                  <a:lnTo>
                    <a:pt x="1642" y="1170"/>
                  </a:lnTo>
                  <a:lnTo>
                    <a:pt x="1626" y="1208"/>
                  </a:lnTo>
                  <a:lnTo>
                    <a:pt x="1610" y="1246"/>
                  </a:lnTo>
                  <a:lnTo>
                    <a:pt x="1592" y="1282"/>
                  </a:lnTo>
                  <a:lnTo>
                    <a:pt x="1572" y="1318"/>
                  </a:lnTo>
                  <a:lnTo>
                    <a:pt x="1530" y="1390"/>
                  </a:lnTo>
                  <a:lnTo>
                    <a:pt x="1490" y="1458"/>
                  </a:lnTo>
                  <a:lnTo>
                    <a:pt x="1490" y="1458"/>
                  </a:lnTo>
                  <a:lnTo>
                    <a:pt x="1458" y="1494"/>
                  </a:lnTo>
                  <a:lnTo>
                    <a:pt x="1440" y="1514"/>
                  </a:lnTo>
                  <a:lnTo>
                    <a:pt x="1422" y="1532"/>
                  </a:lnTo>
                  <a:lnTo>
                    <a:pt x="1404" y="1550"/>
                  </a:lnTo>
                  <a:lnTo>
                    <a:pt x="1384" y="1564"/>
                  </a:lnTo>
                  <a:lnTo>
                    <a:pt x="1362" y="1574"/>
                  </a:lnTo>
                  <a:lnTo>
                    <a:pt x="1352" y="1578"/>
                  </a:lnTo>
                  <a:lnTo>
                    <a:pt x="1340" y="1580"/>
                  </a:lnTo>
                  <a:lnTo>
                    <a:pt x="1340" y="1580"/>
                  </a:lnTo>
                  <a:lnTo>
                    <a:pt x="1348" y="1530"/>
                  </a:lnTo>
                  <a:lnTo>
                    <a:pt x="1352" y="1482"/>
                  </a:lnTo>
                  <a:lnTo>
                    <a:pt x="1352" y="1432"/>
                  </a:lnTo>
                  <a:lnTo>
                    <a:pt x="1348" y="1386"/>
                  </a:lnTo>
                  <a:lnTo>
                    <a:pt x="1342" y="1338"/>
                  </a:lnTo>
                  <a:lnTo>
                    <a:pt x="1334" y="1292"/>
                  </a:lnTo>
                  <a:lnTo>
                    <a:pt x="1324" y="1246"/>
                  </a:lnTo>
                  <a:lnTo>
                    <a:pt x="1310" y="1202"/>
                  </a:lnTo>
                  <a:lnTo>
                    <a:pt x="1294" y="1158"/>
                  </a:lnTo>
                  <a:lnTo>
                    <a:pt x="1274" y="1116"/>
                  </a:lnTo>
                  <a:lnTo>
                    <a:pt x="1254" y="1074"/>
                  </a:lnTo>
                  <a:lnTo>
                    <a:pt x="1232" y="1032"/>
                  </a:lnTo>
                  <a:lnTo>
                    <a:pt x="1208" y="992"/>
                  </a:lnTo>
                  <a:lnTo>
                    <a:pt x="1184" y="952"/>
                  </a:lnTo>
                  <a:lnTo>
                    <a:pt x="1156" y="914"/>
                  </a:lnTo>
                  <a:lnTo>
                    <a:pt x="1128" y="876"/>
                  </a:lnTo>
                  <a:lnTo>
                    <a:pt x="1126" y="876"/>
                  </a:lnTo>
                  <a:lnTo>
                    <a:pt x="1126" y="876"/>
                  </a:lnTo>
                  <a:lnTo>
                    <a:pt x="1124" y="898"/>
                  </a:lnTo>
                  <a:lnTo>
                    <a:pt x="1126" y="922"/>
                  </a:lnTo>
                  <a:lnTo>
                    <a:pt x="1130" y="948"/>
                  </a:lnTo>
                  <a:lnTo>
                    <a:pt x="1136" y="972"/>
                  </a:lnTo>
                  <a:lnTo>
                    <a:pt x="1150" y="1026"/>
                  </a:lnTo>
                  <a:lnTo>
                    <a:pt x="1156" y="1052"/>
                  </a:lnTo>
                  <a:lnTo>
                    <a:pt x="1162" y="1078"/>
                  </a:lnTo>
                  <a:lnTo>
                    <a:pt x="1166" y="1104"/>
                  </a:lnTo>
                  <a:lnTo>
                    <a:pt x="1166" y="1128"/>
                  </a:lnTo>
                  <a:lnTo>
                    <a:pt x="1164" y="1152"/>
                  </a:lnTo>
                  <a:lnTo>
                    <a:pt x="1158" y="1174"/>
                  </a:lnTo>
                  <a:lnTo>
                    <a:pt x="1154" y="1186"/>
                  </a:lnTo>
                  <a:lnTo>
                    <a:pt x="1148" y="1196"/>
                  </a:lnTo>
                  <a:lnTo>
                    <a:pt x="1140" y="1206"/>
                  </a:lnTo>
                  <a:lnTo>
                    <a:pt x="1132" y="1214"/>
                  </a:lnTo>
                  <a:lnTo>
                    <a:pt x="1122" y="1224"/>
                  </a:lnTo>
                  <a:lnTo>
                    <a:pt x="1110" y="1232"/>
                  </a:lnTo>
                  <a:lnTo>
                    <a:pt x="1096" y="1240"/>
                  </a:lnTo>
                  <a:lnTo>
                    <a:pt x="1080" y="1246"/>
                  </a:lnTo>
                  <a:lnTo>
                    <a:pt x="1080" y="1246"/>
                  </a:lnTo>
                  <a:lnTo>
                    <a:pt x="1060" y="1258"/>
                  </a:lnTo>
                  <a:lnTo>
                    <a:pt x="1040" y="1270"/>
                  </a:lnTo>
                  <a:lnTo>
                    <a:pt x="1018" y="1278"/>
                  </a:lnTo>
                  <a:lnTo>
                    <a:pt x="996" y="1286"/>
                  </a:lnTo>
                  <a:lnTo>
                    <a:pt x="972" y="1294"/>
                  </a:lnTo>
                  <a:lnTo>
                    <a:pt x="948" y="1298"/>
                  </a:lnTo>
                  <a:lnTo>
                    <a:pt x="922" y="1302"/>
                  </a:lnTo>
                  <a:lnTo>
                    <a:pt x="898" y="1306"/>
                  </a:lnTo>
                  <a:lnTo>
                    <a:pt x="872" y="1306"/>
                  </a:lnTo>
                  <a:lnTo>
                    <a:pt x="848" y="1306"/>
                  </a:lnTo>
                  <a:lnTo>
                    <a:pt x="822" y="1306"/>
                  </a:lnTo>
                  <a:lnTo>
                    <a:pt x="798" y="1302"/>
                  </a:lnTo>
                  <a:lnTo>
                    <a:pt x="774" y="1298"/>
                  </a:lnTo>
                  <a:lnTo>
                    <a:pt x="750" y="1294"/>
                  </a:lnTo>
                  <a:lnTo>
                    <a:pt x="726" y="1286"/>
                  </a:lnTo>
                  <a:lnTo>
                    <a:pt x="704" y="1278"/>
                  </a:lnTo>
                  <a:lnTo>
                    <a:pt x="704" y="1278"/>
                  </a:lnTo>
                  <a:lnTo>
                    <a:pt x="682" y="1268"/>
                  </a:lnTo>
                  <a:lnTo>
                    <a:pt x="660" y="1252"/>
                  </a:lnTo>
                  <a:lnTo>
                    <a:pt x="642" y="1234"/>
                  </a:lnTo>
                  <a:lnTo>
                    <a:pt x="628" y="1214"/>
                  </a:lnTo>
                  <a:lnTo>
                    <a:pt x="614" y="1192"/>
                  </a:lnTo>
                  <a:lnTo>
                    <a:pt x="600" y="1170"/>
                  </a:lnTo>
                  <a:lnTo>
                    <a:pt x="580" y="1124"/>
                  </a:lnTo>
                  <a:lnTo>
                    <a:pt x="580" y="1124"/>
                  </a:lnTo>
                  <a:lnTo>
                    <a:pt x="590" y="1094"/>
                  </a:lnTo>
                  <a:lnTo>
                    <a:pt x="604" y="1064"/>
                  </a:lnTo>
                  <a:lnTo>
                    <a:pt x="622" y="1036"/>
                  </a:lnTo>
                  <a:lnTo>
                    <a:pt x="642" y="1010"/>
                  </a:lnTo>
                  <a:lnTo>
                    <a:pt x="666" y="984"/>
                  </a:lnTo>
                  <a:lnTo>
                    <a:pt x="690" y="960"/>
                  </a:lnTo>
                  <a:lnTo>
                    <a:pt x="716" y="938"/>
                  </a:lnTo>
                  <a:lnTo>
                    <a:pt x="744" y="918"/>
                  </a:lnTo>
                  <a:lnTo>
                    <a:pt x="744" y="918"/>
                  </a:lnTo>
                  <a:lnTo>
                    <a:pt x="756" y="936"/>
                  </a:lnTo>
                  <a:lnTo>
                    <a:pt x="772" y="952"/>
                  </a:lnTo>
                  <a:lnTo>
                    <a:pt x="804" y="984"/>
                  </a:lnTo>
                  <a:lnTo>
                    <a:pt x="842" y="1016"/>
                  </a:lnTo>
                  <a:lnTo>
                    <a:pt x="878" y="1044"/>
                  </a:lnTo>
                  <a:lnTo>
                    <a:pt x="878" y="1044"/>
                  </a:lnTo>
                  <a:lnTo>
                    <a:pt x="886" y="1016"/>
                  </a:lnTo>
                  <a:lnTo>
                    <a:pt x="892" y="986"/>
                  </a:lnTo>
                  <a:lnTo>
                    <a:pt x="896" y="958"/>
                  </a:lnTo>
                  <a:lnTo>
                    <a:pt x="900" y="928"/>
                  </a:lnTo>
                  <a:lnTo>
                    <a:pt x="902" y="898"/>
                  </a:lnTo>
                  <a:lnTo>
                    <a:pt x="904" y="868"/>
                  </a:lnTo>
                  <a:lnTo>
                    <a:pt x="904" y="838"/>
                  </a:lnTo>
                  <a:lnTo>
                    <a:pt x="902" y="808"/>
                  </a:lnTo>
                  <a:lnTo>
                    <a:pt x="896" y="748"/>
                  </a:lnTo>
                  <a:lnTo>
                    <a:pt x="886" y="688"/>
                  </a:lnTo>
                  <a:lnTo>
                    <a:pt x="878" y="660"/>
                  </a:lnTo>
                  <a:lnTo>
                    <a:pt x="870" y="632"/>
                  </a:lnTo>
                  <a:lnTo>
                    <a:pt x="860" y="606"/>
                  </a:lnTo>
                  <a:lnTo>
                    <a:pt x="850" y="580"/>
                  </a:lnTo>
                  <a:lnTo>
                    <a:pt x="850" y="580"/>
                  </a:lnTo>
                  <a:lnTo>
                    <a:pt x="842" y="614"/>
                  </a:lnTo>
                  <a:lnTo>
                    <a:pt x="830" y="648"/>
                  </a:lnTo>
                  <a:lnTo>
                    <a:pt x="818" y="682"/>
                  </a:lnTo>
                  <a:lnTo>
                    <a:pt x="804" y="714"/>
                  </a:lnTo>
                  <a:lnTo>
                    <a:pt x="786" y="746"/>
                  </a:lnTo>
                  <a:lnTo>
                    <a:pt x="766" y="776"/>
                  </a:lnTo>
                  <a:lnTo>
                    <a:pt x="754" y="792"/>
                  </a:lnTo>
                  <a:lnTo>
                    <a:pt x="740" y="806"/>
                  </a:lnTo>
                  <a:lnTo>
                    <a:pt x="726" y="818"/>
                  </a:lnTo>
                  <a:lnTo>
                    <a:pt x="710" y="832"/>
                  </a:lnTo>
                  <a:lnTo>
                    <a:pt x="710" y="832"/>
                  </a:lnTo>
                  <a:lnTo>
                    <a:pt x="670" y="862"/>
                  </a:lnTo>
                  <a:lnTo>
                    <a:pt x="632" y="894"/>
                  </a:lnTo>
                  <a:lnTo>
                    <a:pt x="594" y="926"/>
                  </a:lnTo>
                  <a:lnTo>
                    <a:pt x="560" y="962"/>
                  </a:lnTo>
                  <a:lnTo>
                    <a:pt x="528" y="1000"/>
                  </a:lnTo>
                  <a:lnTo>
                    <a:pt x="500" y="1038"/>
                  </a:lnTo>
                  <a:lnTo>
                    <a:pt x="472" y="1078"/>
                  </a:lnTo>
                  <a:lnTo>
                    <a:pt x="450" y="1120"/>
                  </a:lnTo>
                  <a:lnTo>
                    <a:pt x="428" y="1162"/>
                  </a:lnTo>
                  <a:lnTo>
                    <a:pt x="412" y="1208"/>
                  </a:lnTo>
                  <a:lnTo>
                    <a:pt x="398" y="1252"/>
                  </a:lnTo>
                  <a:lnTo>
                    <a:pt x="388" y="1298"/>
                  </a:lnTo>
                  <a:lnTo>
                    <a:pt x="380" y="1346"/>
                  </a:lnTo>
                  <a:lnTo>
                    <a:pt x="378" y="1394"/>
                  </a:lnTo>
                  <a:lnTo>
                    <a:pt x="380" y="1444"/>
                  </a:lnTo>
                  <a:lnTo>
                    <a:pt x="386" y="1494"/>
                  </a:lnTo>
                  <a:lnTo>
                    <a:pt x="386" y="1494"/>
                  </a:lnTo>
                  <a:lnTo>
                    <a:pt x="402" y="1574"/>
                  </a:lnTo>
                  <a:lnTo>
                    <a:pt x="402" y="1574"/>
                  </a:lnTo>
                  <a:lnTo>
                    <a:pt x="366" y="1552"/>
                  </a:lnTo>
                  <a:lnTo>
                    <a:pt x="328" y="1528"/>
                  </a:lnTo>
                  <a:lnTo>
                    <a:pt x="294" y="1500"/>
                  </a:lnTo>
                  <a:lnTo>
                    <a:pt x="262" y="1472"/>
                  </a:lnTo>
                  <a:lnTo>
                    <a:pt x="230" y="1442"/>
                  </a:lnTo>
                  <a:lnTo>
                    <a:pt x="202" y="1410"/>
                  </a:lnTo>
                  <a:lnTo>
                    <a:pt x="174" y="1376"/>
                  </a:lnTo>
                  <a:lnTo>
                    <a:pt x="150" y="1340"/>
                  </a:lnTo>
                  <a:lnTo>
                    <a:pt x="128" y="1304"/>
                  </a:lnTo>
                  <a:lnTo>
                    <a:pt x="106" y="1266"/>
                  </a:lnTo>
                  <a:lnTo>
                    <a:pt x="90" y="1228"/>
                  </a:lnTo>
                  <a:lnTo>
                    <a:pt x="74" y="1188"/>
                  </a:lnTo>
                  <a:lnTo>
                    <a:pt x="62" y="1148"/>
                  </a:lnTo>
                  <a:lnTo>
                    <a:pt x="52" y="1106"/>
                  </a:lnTo>
                  <a:lnTo>
                    <a:pt x="46" y="1064"/>
                  </a:lnTo>
                  <a:lnTo>
                    <a:pt x="42" y="1022"/>
                  </a:lnTo>
                  <a:lnTo>
                    <a:pt x="56" y="804"/>
                  </a:lnTo>
                  <a:lnTo>
                    <a:pt x="56" y="804"/>
                  </a:lnTo>
                  <a:lnTo>
                    <a:pt x="64" y="796"/>
                  </a:lnTo>
                  <a:lnTo>
                    <a:pt x="70" y="790"/>
                  </a:lnTo>
                  <a:lnTo>
                    <a:pt x="80" y="788"/>
                  </a:lnTo>
                  <a:lnTo>
                    <a:pt x="88" y="786"/>
                  </a:lnTo>
                  <a:lnTo>
                    <a:pt x="106" y="782"/>
                  </a:lnTo>
                  <a:lnTo>
                    <a:pt x="114" y="780"/>
                  </a:lnTo>
                  <a:lnTo>
                    <a:pt x="122" y="774"/>
                  </a:lnTo>
                  <a:lnTo>
                    <a:pt x="122" y="774"/>
                  </a:lnTo>
                  <a:lnTo>
                    <a:pt x="98" y="754"/>
                  </a:lnTo>
                  <a:lnTo>
                    <a:pt x="74" y="732"/>
                  </a:lnTo>
                  <a:lnTo>
                    <a:pt x="54" y="708"/>
                  </a:lnTo>
                  <a:lnTo>
                    <a:pt x="36" y="682"/>
                  </a:lnTo>
                  <a:lnTo>
                    <a:pt x="22" y="656"/>
                  </a:lnTo>
                  <a:lnTo>
                    <a:pt x="12" y="628"/>
                  </a:lnTo>
                  <a:lnTo>
                    <a:pt x="6" y="600"/>
                  </a:lnTo>
                  <a:lnTo>
                    <a:pt x="2" y="568"/>
                  </a:lnTo>
                  <a:lnTo>
                    <a:pt x="2" y="568"/>
                  </a:lnTo>
                  <a:lnTo>
                    <a:pt x="18" y="564"/>
                  </a:lnTo>
                  <a:lnTo>
                    <a:pt x="34" y="562"/>
                  </a:lnTo>
                  <a:lnTo>
                    <a:pt x="68" y="560"/>
                  </a:lnTo>
                  <a:lnTo>
                    <a:pt x="102" y="556"/>
                  </a:lnTo>
                  <a:lnTo>
                    <a:pt x="118" y="554"/>
                  </a:lnTo>
                  <a:lnTo>
                    <a:pt x="134" y="548"/>
                  </a:lnTo>
                  <a:lnTo>
                    <a:pt x="134" y="548"/>
                  </a:lnTo>
                  <a:lnTo>
                    <a:pt x="120" y="542"/>
                  </a:lnTo>
                  <a:lnTo>
                    <a:pt x="106" y="536"/>
                  </a:lnTo>
                  <a:lnTo>
                    <a:pt x="94" y="528"/>
                  </a:lnTo>
                  <a:lnTo>
                    <a:pt x="82" y="518"/>
                  </a:lnTo>
                  <a:lnTo>
                    <a:pt x="72" y="508"/>
                  </a:lnTo>
                  <a:lnTo>
                    <a:pt x="62" y="496"/>
                  </a:lnTo>
                  <a:lnTo>
                    <a:pt x="44" y="472"/>
                  </a:lnTo>
                  <a:lnTo>
                    <a:pt x="30" y="444"/>
                  </a:lnTo>
                  <a:lnTo>
                    <a:pt x="18" y="416"/>
                  </a:lnTo>
                  <a:lnTo>
                    <a:pt x="8" y="388"/>
                  </a:lnTo>
                  <a:lnTo>
                    <a:pt x="0" y="360"/>
                  </a:lnTo>
                  <a:lnTo>
                    <a:pt x="0" y="360"/>
                  </a:lnTo>
                  <a:lnTo>
                    <a:pt x="26" y="350"/>
                  </a:lnTo>
                  <a:lnTo>
                    <a:pt x="52" y="340"/>
                  </a:lnTo>
                  <a:lnTo>
                    <a:pt x="104" y="316"/>
                  </a:lnTo>
                  <a:lnTo>
                    <a:pt x="128" y="304"/>
                  </a:lnTo>
                  <a:lnTo>
                    <a:pt x="154" y="294"/>
                  </a:lnTo>
                  <a:lnTo>
                    <a:pt x="182" y="286"/>
                  </a:lnTo>
                  <a:lnTo>
                    <a:pt x="208" y="278"/>
                  </a:lnTo>
                  <a:lnTo>
                    <a:pt x="208" y="278"/>
                  </a:lnTo>
                  <a:lnTo>
                    <a:pt x="208" y="322"/>
                  </a:lnTo>
                  <a:lnTo>
                    <a:pt x="208" y="344"/>
                  </a:lnTo>
                  <a:lnTo>
                    <a:pt x="210" y="366"/>
                  </a:lnTo>
                  <a:lnTo>
                    <a:pt x="212" y="386"/>
                  </a:lnTo>
                  <a:lnTo>
                    <a:pt x="218" y="406"/>
                  </a:lnTo>
                  <a:lnTo>
                    <a:pt x="226" y="424"/>
                  </a:lnTo>
                  <a:lnTo>
                    <a:pt x="236" y="440"/>
                  </a:lnTo>
                  <a:lnTo>
                    <a:pt x="236" y="440"/>
                  </a:lnTo>
                  <a:lnTo>
                    <a:pt x="238" y="400"/>
                  </a:lnTo>
                  <a:lnTo>
                    <a:pt x="242" y="380"/>
                  </a:lnTo>
                  <a:lnTo>
                    <a:pt x="246" y="360"/>
                  </a:lnTo>
                  <a:lnTo>
                    <a:pt x="250" y="342"/>
                  </a:lnTo>
                  <a:lnTo>
                    <a:pt x="258" y="322"/>
                  </a:lnTo>
                  <a:lnTo>
                    <a:pt x="266" y="304"/>
                  </a:lnTo>
                  <a:lnTo>
                    <a:pt x="274" y="284"/>
                  </a:lnTo>
                  <a:lnTo>
                    <a:pt x="284" y="268"/>
                  </a:lnTo>
                  <a:lnTo>
                    <a:pt x="296" y="250"/>
                  </a:lnTo>
                  <a:lnTo>
                    <a:pt x="308" y="234"/>
                  </a:lnTo>
                  <a:lnTo>
                    <a:pt x="322" y="220"/>
                  </a:lnTo>
                  <a:lnTo>
                    <a:pt x="338" y="206"/>
                  </a:lnTo>
                  <a:lnTo>
                    <a:pt x="354" y="194"/>
                  </a:lnTo>
                  <a:lnTo>
                    <a:pt x="372" y="184"/>
                  </a:lnTo>
                  <a:lnTo>
                    <a:pt x="390" y="174"/>
                  </a:lnTo>
                  <a:lnTo>
                    <a:pt x="390" y="174"/>
                  </a:lnTo>
                  <a:lnTo>
                    <a:pt x="412" y="168"/>
                  </a:lnTo>
                  <a:lnTo>
                    <a:pt x="432" y="166"/>
                  </a:lnTo>
                  <a:lnTo>
                    <a:pt x="454" y="166"/>
                  </a:lnTo>
                  <a:lnTo>
                    <a:pt x="476" y="168"/>
                  </a:lnTo>
                  <a:lnTo>
                    <a:pt x="518" y="172"/>
                  </a:lnTo>
                  <a:lnTo>
                    <a:pt x="538" y="172"/>
                  </a:lnTo>
                  <a:lnTo>
                    <a:pt x="558" y="168"/>
                  </a:lnTo>
                  <a:lnTo>
                    <a:pt x="558" y="168"/>
                  </a:lnTo>
                  <a:lnTo>
                    <a:pt x="544" y="148"/>
                  </a:lnTo>
                  <a:lnTo>
                    <a:pt x="526" y="132"/>
                  </a:lnTo>
                  <a:lnTo>
                    <a:pt x="506" y="116"/>
                  </a:lnTo>
                  <a:lnTo>
                    <a:pt x="484" y="104"/>
                  </a:lnTo>
                  <a:lnTo>
                    <a:pt x="462" y="92"/>
                  </a:lnTo>
                  <a:lnTo>
                    <a:pt x="438" y="82"/>
                  </a:lnTo>
                  <a:lnTo>
                    <a:pt x="390" y="68"/>
                  </a:lnTo>
                  <a:lnTo>
                    <a:pt x="390" y="68"/>
                  </a:lnTo>
                  <a:lnTo>
                    <a:pt x="416" y="54"/>
                  </a:lnTo>
                  <a:lnTo>
                    <a:pt x="440" y="46"/>
                  </a:lnTo>
                  <a:lnTo>
                    <a:pt x="464" y="42"/>
                  </a:lnTo>
                  <a:lnTo>
                    <a:pt x="488" y="42"/>
                  </a:lnTo>
                  <a:lnTo>
                    <a:pt x="512" y="44"/>
                  </a:lnTo>
                  <a:lnTo>
                    <a:pt x="536" y="50"/>
                  </a:lnTo>
                  <a:lnTo>
                    <a:pt x="560" y="56"/>
                  </a:lnTo>
                  <a:lnTo>
                    <a:pt x="584" y="66"/>
                  </a:lnTo>
                  <a:lnTo>
                    <a:pt x="632" y="86"/>
                  </a:lnTo>
                  <a:lnTo>
                    <a:pt x="682" y="108"/>
                  </a:lnTo>
                  <a:lnTo>
                    <a:pt x="706" y="118"/>
                  </a:lnTo>
                  <a:lnTo>
                    <a:pt x="730" y="128"/>
                  </a:lnTo>
                  <a:lnTo>
                    <a:pt x="754" y="134"/>
                  </a:lnTo>
                  <a:lnTo>
                    <a:pt x="780" y="138"/>
                  </a:lnTo>
                  <a:lnTo>
                    <a:pt x="780" y="138"/>
                  </a:lnTo>
                  <a:lnTo>
                    <a:pt x="800" y="142"/>
                  </a:lnTo>
                  <a:lnTo>
                    <a:pt x="822" y="142"/>
                  </a:lnTo>
                  <a:lnTo>
                    <a:pt x="842" y="142"/>
                  </a:lnTo>
                  <a:lnTo>
                    <a:pt x="862" y="140"/>
                  </a:lnTo>
                  <a:lnTo>
                    <a:pt x="900" y="134"/>
                  </a:lnTo>
                  <a:lnTo>
                    <a:pt x="938" y="124"/>
                  </a:lnTo>
                  <a:lnTo>
                    <a:pt x="974" y="112"/>
                  </a:lnTo>
                  <a:lnTo>
                    <a:pt x="1008" y="96"/>
                  </a:lnTo>
                  <a:lnTo>
                    <a:pt x="1078" y="62"/>
                  </a:lnTo>
                  <a:lnTo>
                    <a:pt x="1112" y="46"/>
                  </a:lnTo>
                  <a:lnTo>
                    <a:pt x="1146" y="30"/>
                  </a:lnTo>
                  <a:lnTo>
                    <a:pt x="1182" y="18"/>
                  </a:lnTo>
                  <a:lnTo>
                    <a:pt x="1218" y="8"/>
                  </a:lnTo>
                  <a:lnTo>
                    <a:pt x="1254" y="2"/>
                  </a:lnTo>
                  <a:lnTo>
                    <a:pt x="1274" y="0"/>
                  </a:lnTo>
                  <a:lnTo>
                    <a:pt x="1294" y="0"/>
                  </a:lnTo>
                  <a:lnTo>
                    <a:pt x="1314" y="0"/>
                  </a:lnTo>
                  <a:lnTo>
                    <a:pt x="1334" y="4"/>
                  </a:lnTo>
                  <a:lnTo>
                    <a:pt x="1354" y="8"/>
                  </a:lnTo>
                  <a:lnTo>
                    <a:pt x="1376" y="14"/>
                  </a:lnTo>
                  <a:lnTo>
                    <a:pt x="1376" y="14"/>
                  </a:lnTo>
                  <a:lnTo>
                    <a:pt x="1440" y="36"/>
                  </a:lnTo>
                  <a:lnTo>
                    <a:pt x="1472" y="48"/>
                  </a:lnTo>
                  <a:lnTo>
                    <a:pt x="1504" y="64"/>
                  </a:lnTo>
                  <a:lnTo>
                    <a:pt x="1534" y="80"/>
                  </a:lnTo>
                  <a:lnTo>
                    <a:pt x="1560" y="100"/>
                  </a:lnTo>
                  <a:lnTo>
                    <a:pt x="1574" y="112"/>
                  </a:lnTo>
                  <a:lnTo>
                    <a:pt x="1586" y="124"/>
                  </a:lnTo>
                  <a:lnTo>
                    <a:pt x="1598" y="138"/>
                  </a:lnTo>
                  <a:lnTo>
                    <a:pt x="1608" y="154"/>
                  </a:lnTo>
                  <a:lnTo>
                    <a:pt x="1608" y="154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32"/>
            <p:cNvSpPr/>
            <p:nvPr/>
          </p:nvSpPr>
          <p:spPr>
            <a:xfrm>
              <a:off x="1828440" y="3638520"/>
              <a:ext cx="406080" cy="87300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873000"/>
                <a:gd name="textAreaBottom" fmla="*/ 873360 h 873000"/>
              </a:gdLst>
              <a:ahLst/>
              <a:rect l="textAreaLeft" t="textAreaTop" r="textAreaRight" b="textAreaBottom"/>
              <a:pathLst>
                <a:path w="256" h="550">
                  <a:moveTo>
                    <a:pt x="254" y="18"/>
                  </a:moveTo>
                  <a:lnTo>
                    <a:pt x="254" y="18"/>
                  </a:lnTo>
                  <a:lnTo>
                    <a:pt x="256" y="40"/>
                  </a:lnTo>
                  <a:lnTo>
                    <a:pt x="252" y="60"/>
                  </a:lnTo>
                  <a:lnTo>
                    <a:pt x="248" y="82"/>
                  </a:lnTo>
                  <a:lnTo>
                    <a:pt x="242" y="100"/>
                  </a:lnTo>
                  <a:lnTo>
                    <a:pt x="232" y="120"/>
                  </a:lnTo>
                  <a:lnTo>
                    <a:pt x="222" y="138"/>
                  </a:lnTo>
                  <a:lnTo>
                    <a:pt x="200" y="174"/>
                  </a:lnTo>
                  <a:lnTo>
                    <a:pt x="178" y="210"/>
                  </a:lnTo>
                  <a:lnTo>
                    <a:pt x="168" y="228"/>
                  </a:lnTo>
                  <a:lnTo>
                    <a:pt x="160" y="246"/>
                  </a:lnTo>
                  <a:lnTo>
                    <a:pt x="152" y="266"/>
                  </a:lnTo>
                  <a:lnTo>
                    <a:pt x="146" y="286"/>
                  </a:lnTo>
                  <a:lnTo>
                    <a:pt x="142" y="306"/>
                  </a:lnTo>
                  <a:lnTo>
                    <a:pt x="140" y="328"/>
                  </a:lnTo>
                  <a:lnTo>
                    <a:pt x="140" y="328"/>
                  </a:lnTo>
                  <a:lnTo>
                    <a:pt x="138" y="346"/>
                  </a:lnTo>
                  <a:lnTo>
                    <a:pt x="138" y="362"/>
                  </a:lnTo>
                  <a:lnTo>
                    <a:pt x="138" y="378"/>
                  </a:lnTo>
                  <a:lnTo>
                    <a:pt x="140" y="392"/>
                  </a:lnTo>
                  <a:lnTo>
                    <a:pt x="144" y="408"/>
                  </a:lnTo>
                  <a:lnTo>
                    <a:pt x="150" y="422"/>
                  </a:lnTo>
                  <a:lnTo>
                    <a:pt x="164" y="448"/>
                  </a:lnTo>
                  <a:lnTo>
                    <a:pt x="182" y="474"/>
                  </a:lnTo>
                  <a:lnTo>
                    <a:pt x="200" y="498"/>
                  </a:lnTo>
                  <a:lnTo>
                    <a:pt x="218" y="524"/>
                  </a:lnTo>
                  <a:lnTo>
                    <a:pt x="236" y="548"/>
                  </a:lnTo>
                  <a:lnTo>
                    <a:pt x="236" y="548"/>
                  </a:lnTo>
                  <a:lnTo>
                    <a:pt x="220" y="550"/>
                  </a:lnTo>
                  <a:lnTo>
                    <a:pt x="204" y="548"/>
                  </a:lnTo>
                  <a:lnTo>
                    <a:pt x="188" y="544"/>
                  </a:lnTo>
                  <a:lnTo>
                    <a:pt x="172" y="538"/>
                  </a:lnTo>
                  <a:lnTo>
                    <a:pt x="156" y="530"/>
                  </a:lnTo>
                  <a:lnTo>
                    <a:pt x="142" y="522"/>
                  </a:lnTo>
                  <a:lnTo>
                    <a:pt x="128" y="510"/>
                  </a:lnTo>
                  <a:lnTo>
                    <a:pt x="114" y="498"/>
                  </a:lnTo>
                  <a:lnTo>
                    <a:pt x="88" y="472"/>
                  </a:lnTo>
                  <a:lnTo>
                    <a:pt x="66" y="442"/>
                  </a:lnTo>
                  <a:lnTo>
                    <a:pt x="44" y="412"/>
                  </a:lnTo>
                  <a:lnTo>
                    <a:pt x="28" y="382"/>
                  </a:lnTo>
                  <a:lnTo>
                    <a:pt x="28" y="382"/>
                  </a:lnTo>
                  <a:lnTo>
                    <a:pt x="18" y="354"/>
                  </a:lnTo>
                  <a:lnTo>
                    <a:pt x="10" y="326"/>
                  </a:lnTo>
                  <a:lnTo>
                    <a:pt x="4" y="298"/>
                  </a:lnTo>
                  <a:lnTo>
                    <a:pt x="0" y="268"/>
                  </a:lnTo>
                  <a:lnTo>
                    <a:pt x="0" y="238"/>
                  </a:lnTo>
                  <a:lnTo>
                    <a:pt x="2" y="208"/>
                  </a:lnTo>
                  <a:lnTo>
                    <a:pt x="6" y="180"/>
                  </a:lnTo>
                  <a:lnTo>
                    <a:pt x="16" y="152"/>
                  </a:lnTo>
                  <a:lnTo>
                    <a:pt x="16" y="152"/>
                  </a:lnTo>
                  <a:lnTo>
                    <a:pt x="36" y="122"/>
                  </a:lnTo>
                  <a:lnTo>
                    <a:pt x="60" y="96"/>
                  </a:lnTo>
                  <a:lnTo>
                    <a:pt x="86" y="72"/>
                  </a:lnTo>
                  <a:lnTo>
                    <a:pt x="114" y="50"/>
                  </a:lnTo>
                  <a:lnTo>
                    <a:pt x="144" y="32"/>
                  </a:lnTo>
                  <a:lnTo>
                    <a:pt x="176" y="16"/>
                  </a:lnTo>
                  <a:lnTo>
                    <a:pt x="210" y="6"/>
                  </a:lnTo>
                  <a:lnTo>
                    <a:pt x="242" y="0"/>
                  </a:lnTo>
                  <a:lnTo>
                    <a:pt x="254" y="18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33"/>
            <p:cNvSpPr/>
            <p:nvPr/>
          </p:nvSpPr>
          <p:spPr>
            <a:xfrm>
              <a:off x="5222880" y="3755880"/>
              <a:ext cx="387360" cy="7873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244" h="496">
                  <a:moveTo>
                    <a:pt x="190" y="44"/>
                  </a:moveTo>
                  <a:lnTo>
                    <a:pt x="190" y="44"/>
                  </a:lnTo>
                  <a:lnTo>
                    <a:pt x="204" y="62"/>
                  </a:lnTo>
                  <a:lnTo>
                    <a:pt x="214" y="80"/>
                  </a:lnTo>
                  <a:lnTo>
                    <a:pt x="224" y="98"/>
                  </a:lnTo>
                  <a:lnTo>
                    <a:pt x="232" y="116"/>
                  </a:lnTo>
                  <a:lnTo>
                    <a:pt x="236" y="136"/>
                  </a:lnTo>
                  <a:lnTo>
                    <a:pt x="242" y="158"/>
                  </a:lnTo>
                  <a:lnTo>
                    <a:pt x="244" y="178"/>
                  </a:lnTo>
                  <a:lnTo>
                    <a:pt x="244" y="200"/>
                  </a:lnTo>
                  <a:lnTo>
                    <a:pt x="244" y="242"/>
                  </a:lnTo>
                  <a:lnTo>
                    <a:pt x="240" y="284"/>
                  </a:lnTo>
                  <a:lnTo>
                    <a:pt x="232" y="326"/>
                  </a:lnTo>
                  <a:lnTo>
                    <a:pt x="220" y="368"/>
                  </a:lnTo>
                  <a:lnTo>
                    <a:pt x="220" y="368"/>
                  </a:lnTo>
                  <a:lnTo>
                    <a:pt x="212" y="392"/>
                  </a:lnTo>
                  <a:lnTo>
                    <a:pt x="198" y="414"/>
                  </a:lnTo>
                  <a:lnTo>
                    <a:pt x="182" y="436"/>
                  </a:lnTo>
                  <a:lnTo>
                    <a:pt x="162" y="454"/>
                  </a:lnTo>
                  <a:lnTo>
                    <a:pt x="140" y="470"/>
                  </a:lnTo>
                  <a:lnTo>
                    <a:pt x="116" y="484"/>
                  </a:lnTo>
                  <a:lnTo>
                    <a:pt x="92" y="492"/>
                  </a:lnTo>
                  <a:lnTo>
                    <a:pt x="78" y="494"/>
                  </a:lnTo>
                  <a:lnTo>
                    <a:pt x="66" y="496"/>
                  </a:lnTo>
                  <a:lnTo>
                    <a:pt x="66" y="496"/>
                  </a:lnTo>
                  <a:lnTo>
                    <a:pt x="80" y="476"/>
                  </a:lnTo>
                  <a:lnTo>
                    <a:pt x="92" y="454"/>
                  </a:lnTo>
                  <a:lnTo>
                    <a:pt x="102" y="432"/>
                  </a:lnTo>
                  <a:lnTo>
                    <a:pt x="110" y="408"/>
                  </a:lnTo>
                  <a:lnTo>
                    <a:pt x="118" y="384"/>
                  </a:lnTo>
                  <a:lnTo>
                    <a:pt x="122" y="360"/>
                  </a:lnTo>
                  <a:lnTo>
                    <a:pt x="126" y="334"/>
                  </a:lnTo>
                  <a:lnTo>
                    <a:pt x="128" y="308"/>
                  </a:lnTo>
                  <a:lnTo>
                    <a:pt x="128" y="282"/>
                  </a:lnTo>
                  <a:lnTo>
                    <a:pt x="126" y="256"/>
                  </a:lnTo>
                  <a:lnTo>
                    <a:pt x="124" y="230"/>
                  </a:lnTo>
                  <a:lnTo>
                    <a:pt x="118" y="206"/>
                  </a:lnTo>
                  <a:lnTo>
                    <a:pt x="112" y="180"/>
                  </a:lnTo>
                  <a:lnTo>
                    <a:pt x="102" y="158"/>
                  </a:lnTo>
                  <a:lnTo>
                    <a:pt x="92" y="134"/>
                  </a:lnTo>
                  <a:lnTo>
                    <a:pt x="80" y="114"/>
                  </a:lnTo>
                  <a:lnTo>
                    <a:pt x="80" y="114"/>
                  </a:lnTo>
                  <a:lnTo>
                    <a:pt x="66" y="88"/>
                  </a:lnTo>
                  <a:lnTo>
                    <a:pt x="46" y="62"/>
                  </a:lnTo>
                  <a:lnTo>
                    <a:pt x="36" y="50"/>
                  </a:lnTo>
                  <a:lnTo>
                    <a:pt x="24" y="40"/>
                  </a:lnTo>
                  <a:lnTo>
                    <a:pt x="12" y="3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10" y="18"/>
                  </a:lnTo>
                  <a:lnTo>
                    <a:pt x="20" y="10"/>
                  </a:lnTo>
                  <a:lnTo>
                    <a:pt x="32" y="4"/>
                  </a:lnTo>
                  <a:lnTo>
                    <a:pt x="44" y="2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82" y="0"/>
                  </a:lnTo>
                  <a:lnTo>
                    <a:pt x="94" y="4"/>
                  </a:lnTo>
                  <a:lnTo>
                    <a:pt x="120" y="10"/>
                  </a:lnTo>
                  <a:lnTo>
                    <a:pt x="146" y="22"/>
                  </a:lnTo>
                  <a:lnTo>
                    <a:pt x="170" y="34"/>
                  </a:lnTo>
                  <a:lnTo>
                    <a:pt x="190" y="44"/>
                  </a:lnTo>
                  <a:lnTo>
                    <a:pt x="190" y="44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34"/>
            <p:cNvSpPr/>
            <p:nvPr/>
          </p:nvSpPr>
          <p:spPr>
            <a:xfrm>
              <a:off x="9429840" y="3813120"/>
              <a:ext cx="501480" cy="44100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316" h="278">
                  <a:moveTo>
                    <a:pt x="270" y="98"/>
                  </a:moveTo>
                  <a:lnTo>
                    <a:pt x="270" y="98"/>
                  </a:lnTo>
                  <a:lnTo>
                    <a:pt x="288" y="140"/>
                  </a:lnTo>
                  <a:lnTo>
                    <a:pt x="296" y="162"/>
                  </a:lnTo>
                  <a:lnTo>
                    <a:pt x="304" y="184"/>
                  </a:lnTo>
                  <a:lnTo>
                    <a:pt x="312" y="206"/>
                  </a:lnTo>
                  <a:lnTo>
                    <a:pt x="316" y="230"/>
                  </a:lnTo>
                  <a:lnTo>
                    <a:pt x="316" y="254"/>
                  </a:lnTo>
                  <a:lnTo>
                    <a:pt x="314" y="278"/>
                  </a:lnTo>
                  <a:lnTo>
                    <a:pt x="314" y="278"/>
                  </a:lnTo>
                  <a:lnTo>
                    <a:pt x="278" y="222"/>
                  </a:lnTo>
                  <a:lnTo>
                    <a:pt x="256" y="192"/>
                  </a:lnTo>
                  <a:lnTo>
                    <a:pt x="234" y="162"/>
                  </a:lnTo>
                  <a:lnTo>
                    <a:pt x="208" y="134"/>
                  </a:lnTo>
                  <a:lnTo>
                    <a:pt x="194" y="122"/>
                  </a:lnTo>
                  <a:lnTo>
                    <a:pt x="180" y="110"/>
                  </a:lnTo>
                  <a:lnTo>
                    <a:pt x="166" y="102"/>
                  </a:lnTo>
                  <a:lnTo>
                    <a:pt x="148" y="94"/>
                  </a:lnTo>
                  <a:lnTo>
                    <a:pt x="132" y="88"/>
                  </a:lnTo>
                  <a:lnTo>
                    <a:pt x="114" y="84"/>
                  </a:lnTo>
                  <a:lnTo>
                    <a:pt x="114" y="84"/>
                  </a:lnTo>
                  <a:lnTo>
                    <a:pt x="84" y="88"/>
                  </a:lnTo>
                  <a:lnTo>
                    <a:pt x="54" y="92"/>
                  </a:lnTo>
                  <a:lnTo>
                    <a:pt x="40" y="96"/>
                  </a:lnTo>
                  <a:lnTo>
                    <a:pt x="26" y="100"/>
                  </a:lnTo>
                  <a:lnTo>
                    <a:pt x="14" y="108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8" y="96"/>
                  </a:lnTo>
                  <a:lnTo>
                    <a:pt x="20" y="78"/>
                  </a:lnTo>
                  <a:lnTo>
                    <a:pt x="34" y="60"/>
                  </a:lnTo>
                  <a:lnTo>
                    <a:pt x="48" y="42"/>
                  </a:lnTo>
                  <a:lnTo>
                    <a:pt x="66" y="28"/>
                  </a:lnTo>
                  <a:lnTo>
                    <a:pt x="84" y="16"/>
                  </a:lnTo>
                  <a:lnTo>
                    <a:pt x="104" y="8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38" y="0"/>
                  </a:lnTo>
                  <a:lnTo>
                    <a:pt x="152" y="0"/>
                  </a:lnTo>
                  <a:lnTo>
                    <a:pt x="162" y="2"/>
                  </a:lnTo>
                  <a:lnTo>
                    <a:pt x="174" y="6"/>
                  </a:lnTo>
                  <a:lnTo>
                    <a:pt x="184" y="10"/>
                  </a:lnTo>
                  <a:lnTo>
                    <a:pt x="194" y="14"/>
                  </a:lnTo>
                  <a:lnTo>
                    <a:pt x="210" y="28"/>
                  </a:lnTo>
                  <a:lnTo>
                    <a:pt x="226" y="44"/>
                  </a:lnTo>
                  <a:lnTo>
                    <a:pt x="242" y="62"/>
                  </a:lnTo>
                  <a:lnTo>
                    <a:pt x="270" y="98"/>
                  </a:lnTo>
                  <a:lnTo>
                    <a:pt x="270" y="98"/>
                  </a:lnTo>
                  <a:close/>
                </a:path>
              </a:pathLst>
            </a:custGeom>
            <a:solidFill>
              <a:srgbClr val="456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35"/>
            <p:cNvSpPr/>
            <p:nvPr/>
          </p:nvSpPr>
          <p:spPr>
            <a:xfrm>
              <a:off x="2111040" y="3956040"/>
              <a:ext cx="129960" cy="3585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82" h="226">
                  <a:moveTo>
                    <a:pt x="64" y="0"/>
                  </a:moveTo>
                  <a:lnTo>
                    <a:pt x="64" y="0"/>
                  </a:lnTo>
                  <a:lnTo>
                    <a:pt x="72" y="54"/>
                  </a:lnTo>
                  <a:lnTo>
                    <a:pt x="80" y="112"/>
                  </a:lnTo>
                  <a:lnTo>
                    <a:pt x="82" y="140"/>
                  </a:lnTo>
                  <a:lnTo>
                    <a:pt x="80" y="170"/>
                  </a:lnTo>
                  <a:lnTo>
                    <a:pt x="78" y="198"/>
                  </a:lnTo>
                  <a:lnTo>
                    <a:pt x="70" y="226"/>
                  </a:lnTo>
                  <a:lnTo>
                    <a:pt x="70" y="226"/>
                  </a:lnTo>
                  <a:lnTo>
                    <a:pt x="60" y="224"/>
                  </a:lnTo>
                  <a:lnTo>
                    <a:pt x="52" y="222"/>
                  </a:lnTo>
                  <a:lnTo>
                    <a:pt x="46" y="218"/>
                  </a:lnTo>
                  <a:lnTo>
                    <a:pt x="40" y="212"/>
                  </a:lnTo>
                  <a:lnTo>
                    <a:pt x="30" y="202"/>
                  </a:lnTo>
                  <a:lnTo>
                    <a:pt x="24" y="188"/>
                  </a:lnTo>
                  <a:lnTo>
                    <a:pt x="14" y="156"/>
                  </a:lnTo>
                  <a:lnTo>
                    <a:pt x="8" y="142"/>
                  </a:lnTo>
                  <a:lnTo>
                    <a:pt x="2" y="128"/>
                  </a:lnTo>
                  <a:lnTo>
                    <a:pt x="2" y="128"/>
                  </a:lnTo>
                  <a:lnTo>
                    <a:pt x="0" y="108"/>
                  </a:lnTo>
                  <a:lnTo>
                    <a:pt x="2" y="88"/>
                  </a:lnTo>
                  <a:lnTo>
                    <a:pt x="6" y="70"/>
                  </a:lnTo>
                  <a:lnTo>
                    <a:pt x="14" y="52"/>
                  </a:lnTo>
                  <a:lnTo>
                    <a:pt x="24" y="36"/>
                  </a:lnTo>
                  <a:lnTo>
                    <a:pt x="36" y="22"/>
                  </a:lnTo>
                  <a:lnTo>
                    <a:pt x="50" y="1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36"/>
            <p:cNvSpPr/>
            <p:nvPr/>
          </p:nvSpPr>
          <p:spPr>
            <a:xfrm>
              <a:off x="5178240" y="3956040"/>
              <a:ext cx="88560" cy="3744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56" h="236">
                  <a:moveTo>
                    <a:pt x="54" y="154"/>
                  </a:moveTo>
                  <a:lnTo>
                    <a:pt x="28" y="236"/>
                  </a:lnTo>
                  <a:lnTo>
                    <a:pt x="28" y="236"/>
                  </a:lnTo>
                  <a:lnTo>
                    <a:pt x="16" y="180"/>
                  </a:lnTo>
                  <a:lnTo>
                    <a:pt x="10" y="150"/>
                  </a:lnTo>
                  <a:lnTo>
                    <a:pt x="6" y="120"/>
                  </a:lnTo>
                  <a:lnTo>
                    <a:pt x="2" y="90"/>
                  </a:lnTo>
                  <a:lnTo>
                    <a:pt x="0" y="60"/>
                  </a:lnTo>
                  <a:lnTo>
                    <a:pt x="2" y="3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6" y="6"/>
                  </a:lnTo>
                  <a:lnTo>
                    <a:pt x="24" y="12"/>
                  </a:lnTo>
                  <a:lnTo>
                    <a:pt x="32" y="20"/>
                  </a:lnTo>
                  <a:lnTo>
                    <a:pt x="38" y="30"/>
                  </a:lnTo>
                  <a:lnTo>
                    <a:pt x="46" y="48"/>
                  </a:lnTo>
                  <a:lnTo>
                    <a:pt x="52" y="66"/>
                  </a:lnTo>
                  <a:lnTo>
                    <a:pt x="56" y="88"/>
                  </a:lnTo>
                  <a:lnTo>
                    <a:pt x="56" y="110"/>
                  </a:lnTo>
                  <a:lnTo>
                    <a:pt x="54" y="154"/>
                  </a:lnTo>
                  <a:lnTo>
                    <a:pt x="54" y="154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10557000" y="3987720"/>
              <a:ext cx="415800" cy="75240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752400"/>
                <a:gd name="textAreaBottom" fmla="*/ 752760 h 752400"/>
              </a:gdLst>
              <a:ahLst/>
              <a:rect l="textAreaLeft" t="textAreaTop" r="textAreaRight" b="textAreaBottom"/>
              <a:pathLst>
                <a:path w="262" h="474">
                  <a:moveTo>
                    <a:pt x="260" y="274"/>
                  </a:moveTo>
                  <a:lnTo>
                    <a:pt x="260" y="274"/>
                  </a:lnTo>
                  <a:lnTo>
                    <a:pt x="262" y="306"/>
                  </a:lnTo>
                  <a:lnTo>
                    <a:pt x="260" y="336"/>
                  </a:lnTo>
                  <a:lnTo>
                    <a:pt x="254" y="364"/>
                  </a:lnTo>
                  <a:lnTo>
                    <a:pt x="244" y="390"/>
                  </a:lnTo>
                  <a:lnTo>
                    <a:pt x="232" y="416"/>
                  </a:lnTo>
                  <a:lnTo>
                    <a:pt x="214" y="438"/>
                  </a:lnTo>
                  <a:lnTo>
                    <a:pt x="192" y="458"/>
                  </a:lnTo>
                  <a:lnTo>
                    <a:pt x="168" y="474"/>
                  </a:lnTo>
                  <a:lnTo>
                    <a:pt x="168" y="474"/>
                  </a:lnTo>
                  <a:lnTo>
                    <a:pt x="140" y="454"/>
                  </a:lnTo>
                  <a:lnTo>
                    <a:pt x="118" y="430"/>
                  </a:lnTo>
                  <a:lnTo>
                    <a:pt x="98" y="406"/>
                  </a:lnTo>
                  <a:lnTo>
                    <a:pt x="84" y="378"/>
                  </a:lnTo>
                  <a:lnTo>
                    <a:pt x="70" y="350"/>
                  </a:lnTo>
                  <a:lnTo>
                    <a:pt x="60" y="320"/>
                  </a:lnTo>
                  <a:lnTo>
                    <a:pt x="52" y="290"/>
                  </a:lnTo>
                  <a:lnTo>
                    <a:pt x="46" y="258"/>
                  </a:lnTo>
                  <a:lnTo>
                    <a:pt x="38" y="192"/>
                  </a:lnTo>
                  <a:lnTo>
                    <a:pt x="28" y="126"/>
                  </a:lnTo>
                  <a:lnTo>
                    <a:pt x="24" y="94"/>
                  </a:lnTo>
                  <a:lnTo>
                    <a:pt x="18" y="62"/>
                  </a:lnTo>
                  <a:lnTo>
                    <a:pt x="10" y="3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8"/>
                  </a:lnTo>
                  <a:lnTo>
                    <a:pt x="44" y="18"/>
                  </a:lnTo>
                  <a:lnTo>
                    <a:pt x="66" y="30"/>
                  </a:lnTo>
                  <a:lnTo>
                    <a:pt x="88" y="42"/>
                  </a:lnTo>
                  <a:lnTo>
                    <a:pt x="108" y="56"/>
                  </a:lnTo>
                  <a:lnTo>
                    <a:pt x="130" y="72"/>
                  </a:lnTo>
                  <a:lnTo>
                    <a:pt x="148" y="88"/>
                  </a:lnTo>
                  <a:lnTo>
                    <a:pt x="168" y="106"/>
                  </a:lnTo>
                  <a:lnTo>
                    <a:pt x="186" y="124"/>
                  </a:lnTo>
                  <a:lnTo>
                    <a:pt x="202" y="144"/>
                  </a:lnTo>
                  <a:lnTo>
                    <a:pt x="216" y="164"/>
                  </a:lnTo>
                  <a:lnTo>
                    <a:pt x="230" y="184"/>
                  </a:lnTo>
                  <a:lnTo>
                    <a:pt x="240" y="206"/>
                  </a:lnTo>
                  <a:lnTo>
                    <a:pt x="250" y="228"/>
                  </a:lnTo>
                  <a:lnTo>
                    <a:pt x="256" y="252"/>
                  </a:lnTo>
                  <a:lnTo>
                    <a:pt x="260" y="274"/>
                  </a:lnTo>
                  <a:lnTo>
                    <a:pt x="260" y="274"/>
                  </a:lnTo>
                  <a:close/>
                </a:path>
              </a:pathLst>
            </a:custGeom>
            <a:solidFill>
              <a:srgbClr val="dbe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8274240" y="4397400"/>
              <a:ext cx="529920" cy="35244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334" h="222">
                  <a:moveTo>
                    <a:pt x="298" y="50"/>
                  </a:moveTo>
                  <a:lnTo>
                    <a:pt x="298" y="50"/>
                  </a:lnTo>
                  <a:lnTo>
                    <a:pt x="306" y="56"/>
                  </a:lnTo>
                  <a:lnTo>
                    <a:pt x="312" y="62"/>
                  </a:lnTo>
                  <a:lnTo>
                    <a:pt x="318" y="70"/>
                  </a:lnTo>
                  <a:lnTo>
                    <a:pt x="322" y="78"/>
                  </a:lnTo>
                  <a:lnTo>
                    <a:pt x="328" y="94"/>
                  </a:lnTo>
                  <a:lnTo>
                    <a:pt x="334" y="110"/>
                  </a:lnTo>
                  <a:lnTo>
                    <a:pt x="334" y="110"/>
                  </a:lnTo>
                  <a:lnTo>
                    <a:pt x="308" y="104"/>
                  </a:lnTo>
                  <a:lnTo>
                    <a:pt x="278" y="98"/>
                  </a:lnTo>
                  <a:lnTo>
                    <a:pt x="248" y="90"/>
                  </a:lnTo>
                  <a:lnTo>
                    <a:pt x="216" y="86"/>
                  </a:lnTo>
                  <a:lnTo>
                    <a:pt x="184" y="82"/>
                  </a:lnTo>
                  <a:lnTo>
                    <a:pt x="168" y="82"/>
                  </a:lnTo>
                  <a:lnTo>
                    <a:pt x="152" y="82"/>
                  </a:lnTo>
                  <a:lnTo>
                    <a:pt x="136" y="86"/>
                  </a:lnTo>
                  <a:lnTo>
                    <a:pt x="122" y="90"/>
                  </a:lnTo>
                  <a:lnTo>
                    <a:pt x="106" y="96"/>
                  </a:lnTo>
                  <a:lnTo>
                    <a:pt x="92" y="104"/>
                  </a:lnTo>
                  <a:lnTo>
                    <a:pt x="92" y="104"/>
                  </a:lnTo>
                  <a:lnTo>
                    <a:pt x="66" y="130"/>
                  </a:lnTo>
                  <a:lnTo>
                    <a:pt x="42" y="160"/>
                  </a:lnTo>
                  <a:lnTo>
                    <a:pt x="22" y="190"/>
                  </a:lnTo>
                  <a:lnTo>
                    <a:pt x="14" y="206"/>
                  </a:lnTo>
                  <a:lnTo>
                    <a:pt x="6" y="222"/>
                  </a:lnTo>
                  <a:lnTo>
                    <a:pt x="6" y="222"/>
                  </a:lnTo>
                  <a:lnTo>
                    <a:pt x="2" y="208"/>
                  </a:lnTo>
                  <a:lnTo>
                    <a:pt x="0" y="190"/>
                  </a:lnTo>
                  <a:lnTo>
                    <a:pt x="2" y="170"/>
                  </a:lnTo>
                  <a:lnTo>
                    <a:pt x="6" y="150"/>
                  </a:lnTo>
                  <a:lnTo>
                    <a:pt x="10" y="126"/>
                  </a:lnTo>
                  <a:lnTo>
                    <a:pt x="16" y="104"/>
                  </a:lnTo>
                  <a:lnTo>
                    <a:pt x="24" y="84"/>
                  </a:lnTo>
                  <a:lnTo>
                    <a:pt x="34" y="64"/>
                  </a:lnTo>
                  <a:lnTo>
                    <a:pt x="34" y="64"/>
                  </a:lnTo>
                  <a:lnTo>
                    <a:pt x="42" y="52"/>
                  </a:lnTo>
                  <a:lnTo>
                    <a:pt x="52" y="42"/>
                  </a:lnTo>
                  <a:lnTo>
                    <a:pt x="62" y="32"/>
                  </a:lnTo>
                  <a:lnTo>
                    <a:pt x="74" y="24"/>
                  </a:lnTo>
                  <a:lnTo>
                    <a:pt x="86" y="18"/>
                  </a:lnTo>
                  <a:lnTo>
                    <a:pt x="98" y="10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50" y="0"/>
                  </a:lnTo>
                  <a:lnTo>
                    <a:pt x="174" y="0"/>
                  </a:lnTo>
                  <a:lnTo>
                    <a:pt x="198" y="2"/>
                  </a:lnTo>
                  <a:lnTo>
                    <a:pt x="220" y="6"/>
                  </a:lnTo>
                  <a:lnTo>
                    <a:pt x="242" y="14"/>
                  </a:lnTo>
                  <a:lnTo>
                    <a:pt x="262" y="24"/>
                  </a:lnTo>
                  <a:lnTo>
                    <a:pt x="280" y="36"/>
                  </a:lnTo>
                  <a:lnTo>
                    <a:pt x="298" y="50"/>
                  </a:lnTo>
                  <a:lnTo>
                    <a:pt x="298" y="50"/>
                  </a:lnTo>
                  <a:close/>
                </a:path>
              </a:pathLst>
            </a:custGeom>
            <a:solidFill>
              <a:srgbClr val="456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39"/>
            <p:cNvSpPr/>
            <p:nvPr/>
          </p:nvSpPr>
          <p:spPr>
            <a:xfrm>
              <a:off x="9372600" y="4403520"/>
              <a:ext cx="444240" cy="37116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280" h="234">
                  <a:moveTo>
                    <a:pt x="264" y="58"/>
                  </a:moveTo>
                  <a:lnTo>
                    <a:pt x="264" y="58"/>
                  </a:lnTo>
                  <a:lnTo>
                    <a:pt x="272" y="100"/>
                  </a:lnTo>
                  <a:lnTo>
                    <a:pt x="276" y="122"/>
                  </a:lnTo>
                  <a:lnTo>
                    <a:pt x="280" y="146"/>
                  </a:lnTo>
                  <a:lnTo>
                    <a:pt x="280" y="168"/>
                  </a:lnTo>
                  <a:lnTo>
                    <a:pt x="278" y="192"/>
                  </a:lnTo>
                  <a:lnTo>
                    <a:pt x="274" y="212"/>
                  </a:lnTo>
                  <a:lnTo>
                    <a:pt x="268" y="224"/>
                  </a:lnTo>
                  <a:lnTo>
                    <a:pt x="264" y="234"/>
                  </a:lnTo>
                  <a:lnTo>
                    <a:pt x="264" y="234"/>
                  </a:lnTo>
                  <a:lnTo>
                    <a:pt x="234" y="190"/>
                  </a:lnTo>
                  <a:lnTo>
                    <a:pt x="218" y="166"/>
                  </a:lnTo>
                  <a:lnTo>
                    <a:pt x="200" y="144"/>
                  </a:lnTo>
                  <a:lnTo>
                    <a:pt x="180" y="122"/>
                  </a:lnTo>
                  <a:lnTo>
                    <a:pt x="158" y="106"/>
                  </a:lnTo>
                  <a:lnTo>
                    <a:pt x="148" y="98"/>
                  </a:lnTo>
                  <a:lnTo>
                    <a:pt x="134" y="92"/>
                  </a:lnTo>
                  <a:lnTo>
                    <a:pt x="122" y="88"/>
                  </a:lnTo>
                  <a:lnTo>
                    <a:pt x="108" y="84"/>
                  </a:lnTo>
                  <a:lnTo>
                    <a:pt x="108" y="84"/>
                  </a:lnTo>
                  <a:lnTo>
                    <a:pt x="80" y="84"/>
                  </a:lnTo>
                  <a:lnTo>
                    <a:pt x="52" y="84"/>
                  </a:lnTo>
                  <a:lnTo>
                    <a:pt x="38" y="88"/>
                  </a:lnTo>
                  <a:lnTo>
                    <a:pt x="24" y="92"/>
                  </a:lnTo>
                  <a:lnTo>
                    <a:pt x="12" y="9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0" y="88"/>
                  </a:lnTo>
                  <a:lnTo>
                    <a:pt x="24" y="70"/>
                  </a:lnTo>
                  <a:lnTo>
                    <a:pt x="40" y="54"/>
                  </a:lnTo>
                  <a:lnTo>
                    <a:pt x="58" y="40"/>
                  </a:lnTo>
                  <a:lnTo>
                    <a:pt x="80" y="26"/>
                  </a:lnTo>
                  <a:lnTo>
                    <a:pt x="100" y="16"/>
                  </a:lnTo>
                  <a:lnTo>
                    <a:pt x="122" y="6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62" y="4"/>
                  </a:lnTo>
                  <a:lnTo>
                    <a:pt x="180" y="6"/>
                  </a:lnTo>
                  <a:lnTo>
                    <a:pt x="198" y="8"/>
                  </a:lnTo>
                  <a:lnTo>
                    <a:pt x="214" y="12"/>
                  </a:lnTo>
                  <a:lnTo>
                    <a:pt x="230" y="16"/>
                  </a:lnTo>
                  <a:lnTo>
                    <a:pt x="238" y="20"/>
                  </a:lnTo>
                  <a:lnTo>
                    <a:pt x="244" y="26"/>
                  </a:lnTo>
                  <a:lnTo>
                    <a:pt x="250" y="32"/>
                  </a:lnTo>
                  <a:lnTo>
                    <a:pt x="256" y="38"/>
                  </a:lnTo>
                  <a:lnTo>
                    <a:pt x="260" y="48"/>
                  </a:lnTo>
                  <a:lnTo>
                    <a:pt x="264" y="58"/>
                  </a:lnTo>
                  <a:lnTo>
                    <a:pt x="264" y="58"/>
                  </a:lnTo>
                  <a:close/>
                </a:path>
              </a:pathLst>
            </a:custGeom>
            <a:solidFill>
              <a:srgbClr val="456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40"/>
            <p:cNvSpPr/>
            <p:nvPr/>
          </p:nvSpPr>
          <p:spPr>
            <a:xfrm>
              <a:off x="7324920" y="4749840"/>
              <a:ext cx="396720" cy="9111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250" h="574">
                  <a:moveTo>
                    <a:pt x="180" y="0"/>
                  </a:moveTo>
                  <a:lnTo>
                    <a:pt x="180" y="0"/>
                  </a:lnTo>
                  <a:lnTo>
                    <a:pt x="184" y="24"/>
                  </a:lnTo>
                  <a:lnTo>
                    <a:pt x="184" y="46"/>
                  </a:lnTo>
                  <a:lnTo>
                    <a:pt x="180" y="64"/>
                  </a:lnTo>
                  <a:lnTo>
                    <a:pt x="174" y="82"/>
                  </a:lnTo>
                  <a:lnTo>
                    <a:pt x="164" y="100"/>
                  </a:lnTo>
                  <a:lnTo>
                    <a:pt x="152" y="116"/>
                  </a:lnTo>
                  <a:lnTo>
                    <a:pt x="126" y="148"/>
                  </a:lnTo>
                  <a:lnTo>
                    <a:pt x="96" y="178"/>
                  </a:lnTo>
                  <a:lnTo>
                    <a:pt x="84" y="194"/>
                  </a:lnTo>
                  <a:lnTo>
                    <a:pt x="72" y="212"/>
                  </a:lnTo>
                  <a:lnTo>
                    <a:pt x="62" y="230"/>
                  </a:lnTo>
                  <a:lnTo>
                    <a:pt x="56" y="248"/>
                  </a:lnTo>
                  <a:lnTo>
                    <a:pt x="52" y="268"/>
                  </a:lnTo>
                  <a:lnTo>
                    <a:pt x="52" y="290"/>
                  </a:lnTo>
                  <a:lnTo>
                    <a:pt x="52" y="290"/>
                  </a:lnTo>
                  <a:lnTo>
                    <a:pt x="56" y="308"/>
                  </a:lnTo>
                  <a:lnTo>
                    <a:pt x="60" y="324"/>
                  </a:lnTo>
                  <a:lnTo>
                    <a:pt x="66" y="340"/>
                  </a:lnTo>
                  <a:lnTo>
                    <a:pt x="74" y="358"/>
                  </a:lnTo>
                  <a:lnTo>
                    <a:pt x="94" y="390"/>
                  </a:lnTo>
                  <a:lnTo>
                    <a:pt x="116" y="420"/>
                  </a:lnTo>
                  <a:lnTo>
                    <a:pt x="142" y="446"/>
                  </a:lnTo>
                  <a:lnTo>
                    <a:pt x="172" y="470"/>
                  </a:lnTo>
                  <a:lnTo>
                    <a:pt x="202" y="490"/>
                  </a:lnTo>
                  <a:lnTo>
                    <a:pt x="218" y="498"/>
                  </a:lnTo>
                  <a:lnTo>
                    <a:pt x="234" y="506"/>
                  </a:lnTo>
                  <a:lnTo>
                    <a:pt x="234" y="506"/>
                  </a:lnTo>
                  <a:lnTo>
                    <a:pt x="242" y="520"/>
                  </a:lnTo>
                  <a:lnTo>
                    <a:pt x="248" y="536"/>
                  </a:lnTo>
                  <a:lnTo>
                    <a:pt x="250" y="554"/>
                  </a:lnTo>
                  <a:lnTo>
                    <a:pt x="248" y="570"/>
                  </a:lnTo>
                  <a:lnTo>
                    <a:pt x="248" y="570"/>
                  </a:lnTo>
                  <a:lnTo>
                    <a:pt x="234" y="572"/>
                  </a:lnTo>
                  <a:lnTo>
                    <a:pt x="218" y="574"/>
                  </a:lnTo>
                  <a:lnTo>
                    <a:pt x="202" y="572"/>
                  </a:lnTo>
                  <a:lnTo>
                    <a:pt x="188" y="570"/>
                  </a:lnTo>
                  <a:lnTo>
                    <a:pt x="174" y="566"/>
                  </a:lnTo>
                  <a:lnTo>
                    <a:pt x="162" y="562"/>
                  </a:lnTo>
                  <a:lnTo>
                    <a:pt x="136" y="548"/>
                  </a:lnTo>
                  <a:lnTo>
                    <a:pt x="112" y="532"/>
                  </a:lnTo>
                  <a:lnTo>
                    <a:pt x="90" y="514"/>
                  </a:lnTo>
                  <a:lnTo>
                    <a:pt x="68" y="494"/>
                  </a:lnTo>
                  <a:lnTo>
                    <a:pt x="46" y="472"/>
                  </a:lnTo>
                  <a:lnTo>
                    <a:pt x="46" y="472"/>
                  </a:lnTo>
                  <a:lnTo>
                    <a:pt x="32" y="452"/>
                  </a:lnTo>
                  <a:lnTo>
                    <a:pt x="20" y="430"/>
                  </a:lnTo>
                  <a:lnTo>
                    <a:pt x="12" y="408"/>
                  </a:lnTo>
                  <a:lnTo>
                    <a:pt x="6" y="386"/>
                  </a:lnTo>
                  <a:lnTo>
                    <a:pt x="2" y="364"/>
                  </a:lnTo>
                  <a:lnTo>
                    <a:pt x="0" y="342"/>
                  </a:lnTo>
                  <a:lnTo>
                    <a:pt x="2" y="318"/>
                  </a:lnTo>
                  <a:lnTo>
                    <a:pt x="4" y="294"/>
                  </a:lnTo>
                  <a:lnTo>
                    <a:pt x="8" y="272"/>
                  </a:lnTo>
                  <a:lnTo>
                    <a:pt x="14" y="248"/>
                  </a:lnTo>
                  <a:lnTo>
                    <a:pt x="28" y="202"/>
                  </a:lnTo>
                  <a:lnTo>
                    <a:pt x="46" y="158"/>
                  </a:lnTo>
                  <a:lnTo>
                    <a:pt x="66" y="118"/>
                  </a:lnTo>
                  <a:lnTo>
                    <a:pt x="66" y="118"/>
                  </a:lnTo>
                  <a:lnTo>
                    <a:pt x="88" y="82"/>
                  </a:lnTo>
                  <a:lnTo>
                    <a:pt x="102" y="66"/>
                  </a:lnTo>
                  <a:lnTo>
                    <a:pt x="114" y="48"/>
                  </a:lnTo>
                  <a:lnTo>
                    <a:pt x="130" y="34"/>
                  </a:lnTo>
                  <a:lnTo>
                    <a:pt x="144" y="20"/>
                  </a:lnTo>
                  <a:lnTo>
                    <a:pt x="162" y="10"/>
                  </a:lnTo>
                  <a:lnTo>
                    <a:pt x="180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41"/>
            <p:cNvSpPr/>
            <p:nvPr/>
          </p:nvSpPr>
          <p:spPr>
            <a:xfrm>
              <a:off x="10493640" y="4851360"/>
              <a:ext cx="415800" cy="72072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62" h="454">
                  <a:moveTo>
                    <a:pt x="246" y="124"/>
                  </a:moveTo>
                  <a:lnTo>
                    <a:pt x="246" y="124"/>
                  </a:lnTo>
                  <a:lnTo>
                    <a:pt x="252" y="142"/>
                  </a:lnTo>
                  <a:lnTo>
                    <a:pt x="256" y="160"/>
                  </a:lnTo>
                  <a:lnTo>
                    <a:pt x="262" y="194"/>
                  </a:lnTo>
                  <a:lnTo>
                    <a:pt x="262" y="232"/>
                  </a:lnTo>
                  <a:lnTo>
                    <a:pt x="258" y="266"/>
                  </a:lnTo>
                  <a:lnTo>
                    <a:pt x="250" y="302"/>
                  </a:lnTo>
                  <a:lnTo>
                    <a:pt x="244" y="318"/>
                  </a:lnTo>
                  <a:lnTo>
                    <a:pt x="238" y="336"/>
                  </a:lnTo>
                  <a:lnTo>
                    <a:pt x="230" y="350"/>
                  </a:lnTo>
                  <a:lnTo>
                    <a:pt x="220" y="366"/>
                  </a:lnTo>
                  <a:lnTo>
                    <a:pt x="210" y="380"/>
                  </a:lnTo>
                  <a:lnTo>
                    <a:pt x="200" y="394"/>
                  </a:lnTo>
                  <a:lnTo>
                    <a:pt x="200" y="394"/>
                  </a:lnTo>
                  <a:lnTo>
                    <a:pt x="152" y="420"/>
                  </a:lnTo>
                  <a:lnTo>
                    <a:pt x="128" y="434"/>
                  </a:lnTo>
                  <a:lnTo>
                    <a:pt x="102" y="444"/>
                  </a:lnTo>
                  <a:lnTo>
                    <a:pt x="76" y="452"/>
                  </a:lnTo>
                  <a:lnTo>
                    <a:pt x="64" y="454"/>
                  </a:lnTo>
                  <a:lnTo>
                    <a:pt x="50" y="454"/>
                  </a:lnTo>
                  <a:lnTo>
                    <a:pt x="38" y="454"/>
                  </a:lnTo>
                  <a:lnTo>
                    <a:pt x="24" y="452"/>
                  </a:lnTo>
                  <a:lnTo>
                    <a:pt x="12" y="448"/>
                  </a:lnTo>
                  <a:lnTo>
                    <a:pt x="0" y="442"/>
                  </a:lnTo>
                  <a:lnTo>
                    <a:pt x="0" y="442"/>
                  </a:lnTo>
                  <a:lnTo>
                    <a:pt x="56" y="388"/>
                  </a:lnTo>
                  <a:lnTo>
                    <a:pt x="84" y="360"/>
                  </a:lnTo>
                  <a:lnTo>
                    <a:pt x="112" y="330"/>
                  </a:lnTo>
                  <a:lnTo>
                    <a:pt x="126" y="314"/>
                  </a:lnTo>
                  <a:lnTo>
                    <a:pt x="136" y="296"/>
                  </a:lnTo>
                  <a:lnTo>
                    <a:pt x="148" y="280"/>
                  </a:lnTo>
                  <a:lnTo>
                    <a:pt x="156" y="262"/>
                  </a:lnTo>
                  <a:lnTo>
                    <a:pt x="164" y="244"/>
                  </a:lnTo>
                  <a:lnTo>
                    <a:pt x="168" y="224"/>
                  </a:lnTo>
                  <a:lnTo>
                    <a:pt x="172" y="204"/>
                  </a:lnTo>
                  <a:lnTo>
                    <a:pt x="172" y="184"/>
                  </a:lnTo>
                  <a:lnTo>
                    <a:pt x="172" y="184"/>
                  </a:lnTo>
                  <a:lnTo>
                    <a:pt x="174" y="158"/>
                  </a:lnTo>
                  <a:lnTo>
                    <a:pt x="170" y="134"/>
                  </a:lnTo>
                  <a:lnTo>
                    <a:pt x="164" y="110"/>
                  </a:lnTo>
                  <a:lnTo>
                    <a:pt x="156" y="88"/>
                  </a:lnTo>
                  <a:lnTo>
                    <a:pt x="140" y="44"/>
                  </a:lnTo>
                  <a:lnTo>
                    <a:pt x="132" y="22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38" y="2"/>
                  </a:lnTo>
                  <a:lnTo>
                    <a:pt x="150" y="6"/>
                  </a:lnTo>
                  <a:lnTo>
                    <a:pt x="168" y="18"/>
                  </a:lnTo>
                  <a:lnTo>
                    <a:pt x="186" y="32"/>
                  </a:lnTo>
                  <a:lnTo>
                    <a:pt x="200" y="48"/>
                  </a:lnTo>
                  <a:lnTo>
                    <a:pt x="214" y="68"/>
                  </a:lnTo>
                  <a:lnTo>
                    <a:pt x="226" y="86"/>
                  </a:lnTo>
                  <a:lnTo>
                    <a:pt x="246" y="124"/>
                  </a:lnTo>
                  <a:lnTo>
                    <a:pt x="246" y="124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42"/>
            <p:cNvSpPr/>
            <p:nvPr/>
          </p:nvSpPr>
          <p:spPr>
            <a:xfrm>
              <a:off x="10522080" y="4965480"/>
              <a:ext cx="107640" cy="3492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68" h="220">
                  <a:moveTo>
                    <a:pt x="14" y="220"/>
                  </a:moveTo>
                  <a:lnTo>
                    <a:pt x="2" y="220"/>
                  </a:lnTo>
                  <a:lnTo>
                    <a:pt x="2" y="220"/>
                  </a:lnTo>
                  <a:lnTo>
                    <a:pt x="0" y="192"/>
                  </a:lnTo>
                  <a:lnTo>
                    <a:pt x="4" y="164"/>
                  </a:lnTo>
                  <a:lnTo>
                    <a:pt x="10" y="136"/>
                  </a:lnTo>
                  <a:lnTo>
                    <a:pt x="16" y="108"/>
                  </a:lnTo>
                  <a:lnTo>
                    <a:pt x="34" y="54"/>
                  </a:lnTo>
                  <a:lnTo>
                    <a:pt x="44" y="26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6" y="12"/>
                  </a:lnTo>
                  <a:lnTo>
                    <a:pt x="60" y="26"/>
                  </a:lnTo>
                  <a:lnTo>
                    <a:pt x="66" y="54"/>
                  </a:lnTo>
                  <a:lnTo>
                    <a:pt x="68" y="82"/>
                  </a:lnTo>
                  <a:lnTo>
                    <a:pt x="64" y="112"/>
                  </a:lnTo>
                  <a:lnTo>
                    <a:pt x="58" y="142"/>
                  </a:lnTo>
                  <a:lnTo>
                    <a:pt x="46" y="170"/>
                  </a:lnTo>
                  <a:lnTo>
                    <a:pt x="32" y="196"/>
                  </a:lnTo>
                  <a:lnTo>
                    <a:pt x="24" y="208"/>
                  </a:lnTo>
                  <a:lnTo>
                    <a:pt x="14" y="220"/>
                  </a:lnTo>
                  <a:lnTo>
                    <a:pt x="14" y="220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43"/>
            <p:cNvSpPr/>
            <p:nvPr/>
          </p:nvSpPr>
          <p:spPr>
            <a:xfrm>
              <a:off x="7531200" y="5016240"/>
              <a:ext cx="123480" cy="3204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78" h="202">
                  <a:moveTo>
                    <a:pt x="72" y="202"/>
                  </a:moveTo>
                  <a:lnTo>
                    <a:pt x="72" y="202"/>
                  </a:lnTo>
                  <a:lnTo>
                    <a:pt x="60" y="202"/>
                  </a:lnTo>
                  <a:lnTo>
                    <a:pt x="50" y="198"/>
                  </a:lnTo>
                  <a:lnTo>
                    <a:pt x="42" y="190"/>
                  </a:lnTo>
                  <a:lnTo>
                    <a:pt x="34" y="182"/>
                  </a:lnTo>
                  <a:lnTo>
                    <a:pt x="18" y="166"/>
                  </a:lnTo>
                  <a:lnTo>
                    <a:pt x="2" y="150"/>
                  </a:lnTo>
                  <a:lnTo>
                    <a:pt x="2" y="150"/>
                  </a:lnTo>
                  <a:lnTo>
                    <a:pt x="0" y="130"/>
                  </a:lnTo>
                  <a:lnTo>
                    <a:pt x="0" y="110"/>
                  </a:lnTo>
                  <a:lnTo>
                    <a:pt x="4" y="90"/>
                  </a:lnTo>
                  <a:lnTo>
                    <a:pt x="10" y="70"/>
                  </a:lnTo>
                  <a:lnTo>
                    <a:pt x="18" y="52"/>
                  </a:lnTo>
                  <a:lnTo>
                    <a:pt x="28" y="34"/>
                  </a:lnTo>
                  <a:lnTo>
                    <a:pt x="42" y="16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2" y="8"/>
                  </a:lnTo>
                  <a:lnTo>
                    <a:pt x="68" y="20"/>
                  </a:lnTo>
                  <a:lnTo>
                    <a:pt x="72" y="30"/>
                  </a:lnTo>
                  <a:lnTo>
                    <a:pt x="74" y="42"/>
                  </a:lnTo>
                  <a:lnTo>
                    <a:pt x="78" y="68"/>
                  </a:lnTo>
                  <a:lnTo>
                    <a:pt x="78" y="96"/>
                  </a:lnTo>
                  <a:lnTo>
                    <a:pt x="78" y="124"/>
                  </a:lnTo>
                  <a:lnTo>
                    <a:pt x="76" y="152"/>
                  </a:lnTo>
                  <a:lnTo>
                    <a:pt x="72" y="202"/>
                  </a:lnTo>
                  <a:lnTo>
                    <a:pt x="72" y="202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44"/>
            <p:cNvSpPr/>
            <p:nvPr/>
          </p:nvSpPr>
          <p:spPr>
            <a:xfrm>
              <a:off x="3076560" y="5073480"/>
              <a:ext cx="1380960" cy="752400"/>
            </a:xfrm>
            <a:custGeom>
              <a:avLst/>
              <a:gdLst>
                <a:gd name="textAreaLeft" fmla="*/ 0 w 1380960"/>
                <a:gd name="textAreaRight" fmla="*/ 1381320 w 1380960"/>
                <a:gd name="textAreaTop" fmla="*/ 0 h 752400"/>
                <a:gd name="textAreaBottom" fmla="*/ 752760 h 752400"/>
              </a:gdLst>
              <a:ahLst/>
              <a:rect l="textAreaLeft" t="textAreaTop" r="textAreaRight" b="textAreaBottom"/>
              <a:pathLst>
                <a:path w="870" h="474">
                  <a:moveTo>
                    <a:pt x="868" y="0"/>
                  </a:moveTo>
                  <a:lnTo>
                    <a:pt x="868" y="0"/>
                  </a:lnTo>
                  <a:lnTo>
                    <a:pt x="870" y="54"/>
                  </a:lnTo>
                  <a:lnTo>
                    <a:pt x="870" y="108"/>
                  </a:lnTo>
                  <a:lnTo>
                    <a:pt x="866" y="160"/>
                  </a:lnTo>
                  <a:lnTo>
                    <a:pt x="864" y="186"/>
                  </a:lnTo>
                  <a:lnTo>
                    <a:pt x="858" y="212"/>
                  </a:lnTo>
                  <a:lnTo>
                    <a:pt x="854" y="238"/>
                  </a:lnTo>
                  <a:lnTo>
                    <a:pt x="846" y="262"/>
                  </a:lnTo>
                  <a:lnTo>
                    <a:pt x="838" y="286"/>
                  </a:lnTo>
                  <a:lnTo>
                    <a:pt x="828" y="310"/>
                  </a:lnTo>
                  <a:lnTo>
                    <a:pt x="816" y="332"/>
                  </a:lnTo>
                  <a:lnTo>
                    <a:pt x="802" y="354"/>
                  </a:lnTo>
                  <a:lnTo>
                    <a:pt x="786" y="374"/>
                  </a:lnTo>
                  <a:lnTo>
                    <a:pt x="766" y="394"/>
                  </a:lnTo>
                  <a:lnTo>
                    <a:pt x="766" y="394"/>
                  </a:lnTo>
                  <a:lnTo>
                    <a:pt x="732" y="412"/>
                  </a:lnTo>
                  <a:lnTo>
                    <a:pt x="696" y="426"/>
                  </a:lnTo>
                  <a:lnTo>
                    <a:pt x="658" y="440"/>
                  </a:lnTo>
                  <a:lnTo>
                    <a:pt x="618" y="452"/>
                  </a:lnTo>
                  <a:lnTo>
                    <a:pt x="576" y="462"/>
                  </a:lnTo>
                  <a:lnTo>
                    <a:pt x="534" y="468"/>
                  </a:lnTo>
                  <a:lnTo>
                    <a:pt x="490" y="472"/>
                  </a:lnTo>
                  <a:lnTo>
                    <a:pt x="448" y="474"/>
                  </a:lnTo>
                  <a:lnTo>
                    <a:pt x="404" y="472"/>
                  </a:lnTo>
                  <a:lnTo>
                    <a:pt x="362" y="468"/>
                  </a:lnTo>
                  <a:lnTo>
                    <a:pt x="320" y="462"/>
                  </a:lnTo>
                  <a:lnTo>
                    <a:pt x="280" y="452"/>
                  </a:lnTo>
                  <a:lnTo>
                    <a:pt x="240" y="438"/>
                  </a:lnTo>
                  <a:lnTo>
                    <a:pt x="204" y="422"/>
                  </a:lnTo>
                  <a:lnTo>
                    <a:pt x="168" y="402"/>
                  </a:lnTo>
                  <a:lnTo>
                    <a:pt x="136" y="378"/>
                  </a:lnTo>
                  <a:lnTo>
                    <a:pt x="136" y="378"/>
                  </a:lnTo>
                  <a:lnTo>
                    <a:pt x="106" y="356"/>
                  </a:lnTo>
                  <a:lnTo>
                    <a:pt x="80" y="330"/>
                  </a:lnTo>
                  <a:lnTo>
                    <a:pt x="56" y="302"/>
                  </a:lnTo>
                  <a:lnTo>
                    <a:pt x="36" y="272"/>
                  </a:lnTo>
                  <a:lnTo>
                    <a:pt x="20" y="240"/>
                  </a:lnTo>
                  <a:lnTo>
                    <a:pt x="8" y="206"/>
                  </a:lnTo>
                  <a:lnTo>
                    <a:pt x="2" y="172"/>
                  </a:lnTo>
                  <a:lnTo>
                    <a:pt x="0" y="13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2" y="20"/>
                  </a:lnTo>
                  <a:lnTo>
                    <a:pt x="228" y="40"/>
                  </a:lnTo>
                  <a:lnTo>
                    <a:pt x="338" y="60"/>
                  </a:lnTo>
                  <a:lnTo>
                    <a:pt x="394" y="66"/>
                  </a:lnTo>
                  <a:lnTo>
                    <a:pt x="448" y="72"/>
                  </a:lnTo>
                  <a:lnTo>
                    <a:pt x="504" y="76"/>
                  </a:lnTo>
                  <a:lnTo>
                    <a:pt x="558" y="76"/>
                  </a:lnTo>
                  <a:lnTo>
                    <a:pt x="612" y="74"/>
                  </a:lnTo>
                  <a:lnTo>
                    <a:pt x="666" y="68"/>
                  </a:lnTo>
                  <a:lnTo>
                    <a:pt x="718" y="58"/>
                  </a:lnTo>
                  <a:lnTo>
                    <a:pt x="744" y="52"/>
                  </a:lnTo>
                  <a:lnTo>
                    <a:pt x="770" y="44"/>
                  </a:lnTo>
                  <a:lnTo>
                    <a:pt x="794" y="34"/>
                  </a:lnTo>
                  <a:lnTo>
                    <a:pt x="820" y="24"/>
                  </a:lnTo>
                  <a:lnTo>
                    <a:pt x="844" y="12"/>
                  </a:lnTo>
                  <a:lnTo>
                    <a:pt x="868" y="0"/>
                  </a:lnTo>
                  <a:lnTo>
                    <a:pt x="868" y="0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45"/>
            <p:cNvSpPr/>
            <p:nvPr/>
          </p:nvSpPr>
          <p:spPr>
            <a:xfrm>
              <a:off x="8480520" y="5664240"/>
              <a:ext cx="1234800" cy="841320"/>
            </a:xfrm>
            <a:custGeom>
              <a:avLst/>
              <a:gdLst>
                <a:gd name="textAreaLeft" fmla="*/ 0 w 1234800"/>
                <a:gd name="textAreaRight" fmla="*/ 1235160 w 12348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778" h="530">
                  <a:moveTo>
                    <a:pt x="778" y="88"/>
                  </a:moveTo>
                  <a:lnTo>
                    <a:pt x="778" y="88"/>
                  </a:lnTo>
                  <a:lnTo>
                    <a:pt x="774" y="112"/>
                  </a:lnTo>
                  <a:lnTo>
                    <a:pt x="770" y="138"/>
                  </a:lnTo>
                  <a:lnTo>
                    <a:pt x="768" y="190"/>
                  </a:lnTo>
                  <a:lnTo>
                    <a:pt x="766" y="244"/>
                  </a:lnTo>
                  <a:lnTo>
                    <a:pt x="764" y="270"/>
                  </a:lnTo>
                  <a:lnTo>
                    <a:pt x="760" y="296"/>
                  </a:lnTo>
                  <a:lnTo>
                    <a:pt x="756" y="322"/>
                  </a:lnTo>
                  <a:lnTo>
                    <a:pt x="748" y="346"/>
                  </a:lnTo>
                  <a:lnTo>
                    <a:pt x="740" y="368"/>
                  </a:lnTo>
                  <a:lnTo>
                    <a:pt x="728" y="388"/>
                  </a:lnTo>
                  <a:lnTo>
                    <a:pt x="714" y="408"/>
                  </a:lnTo>
                  <a:lnTo>
                    <a:pt x="696" y="424"/>
                  </a:lnTo>
                  <a:lnTo>
                    <a:pt x="674" y="440"/>
                  </a:lnTo>
                  <a:lnTo>
                    <a:pt x="646" y="452"/>
                  </a:lnTo>
                  <a:lnTo>
                    <a:pt x="646" y="452"/>
                  </a:lnTo>
                  <a:lnTo>
                    <a:pt x="622" y="468"/>
                  </a:lnTo>
                  <a:lnTo>
                    <a:pt x="596" y="482"/>
                  </a:lnTo>
                  <a:lnTo>
                    <a:pt x="568" y="494"/>
                  </a:lnTo>
                  <a:lnTo>
                    <a:pt x="538" y="504"/>
                  </a:lnTo>
                  <a:lnTo>
                    <a:pt x="508" y="514"/>
                  </a:lnTo>
                  <a:lnTo>
                    <a:pt x="478" y="520"/>
                  </a:lnTo>
                  <a:lnTo>
                    <a:pt x="446" y="526"/>
                  </a:lnTo>
                  <a:lnTo>
                    <a:pt x="414" y="528"/>
                  </a:lnTo>
                  <a:lnTo>
                    <a:pt x="382" y="530"/>
                  </a:lnTo>
                  <a:lnTo>
                    <a:pt x="350" y="530"/>
                  </a:lnTo>
                  <a:lnTo>
                    <a:pt x="318" y="526"/>
                  </a:lnTo>
                  <a:lnTo>
                    <a:pt x="288" y="522"/>
                  </a:lnTo>
                  <a:lnTo>
                    <a:pt x="258" y="514"/>
                  </a:lnTo>
                  <a:lnTo>
                    <a:pt x="228" y="504"/>
                  </a:lnTo>
                  <a:lnTo>
                    <a:pt x="200" y="492"/>
                  </a:lnTo>
                  <a:lnTo>
                    <a:pt x="174" y="478"/>
                  </a:lnTo>
                  <a:lnTo>
                    <a:pt x="174" y="478"/>
                  </a:lnTo>
                  <a:lnTo>
                    <a:pt x="152" y="458"/>
                  </a:lnTo>
                  <a:lnTo>
                    <a:pt x="132" y="436"/>
                  </a:lnTo>
                  <a:lnTo>
                    <a:pt x="112" y="412"/>
                  </a:lnTo>
                  <a:lnTo>
                    <a:pt x="94" y="388"/>
                  </a:lnTo>
                  <a:lnTo>
                    <a:pt x="78" y="364"/>
                  </a:lnTo>
                  <a:lnTo>
                    <a:pt x="62" y="340"/>
                  </a:lnTo>
                  <a:lnTo>
                    <a:pt x="48" y="314"/>
                  </a:lnTo>
                  <a:lnTo>
                    <a:pt x="36" y="286"/>
                  </a:lnTo>
                  <a:lnTo>
                    <a:pt x="26" y="260"/>
                  </a:lnTo>
                  <a:lnTo>
                    <a:pt x="18" y="232"/>
                  </a:lnTo>
                  <a:lnTo>
                    <a:pt x="10" y="204"/>
                  </a:lnTo>
                  <a:lnTo>
                    <a:pt x="6" y="174"/>
                  </a:lnTo>
                  <a:lnTo>
                    <a:pt x="2" y="146"/>
                  </a:lnTo>
                  <a:lnTo>
                    <a:pt x="0" y="116"/>
                  </a:lnTo>
                  <a:lnTo>
                    <a:pt x="0" y="86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48" y="66"/>
                  </a:lnTo>
                  <a:lnTo>
                    <a:pt x="96" y="74"/>
                  </a:lnTo>
                  <a:lnTo>
                    <a:pt x="144" y="80"/>
                  </a:lnTo>
                  <a:lnTo>
                    <a:pt x="192" y="84"/>
                  </a:lnTo>
                  <a:lnTo>
                    <a:pt x="240" y="86"/>
                  </a:lnTo>
                  <a:lnTo>
                    <a:pt x="290" y="86"/>
                  </a:lnTo>
                  <a:lnTo>
                    <a:pt x="340" y="84"/>
                  </a:lnTo>
                  <a:lnTo>
                    <a:pt x="388" y="82"/>
                  </a:lnTo>
                  <a:lnTo>
                    <a:pt x="438" y="76"/>
                  </a:lnTo>
                  <a:lnTo>
                    <a:pt x="486" y="70"/>
                  </a:lnTo>
                  <a:lnTo>
                    <a:pt x="534" y="62"/>
                  </a:lnTo>
                  <a:lnTo>
                    <a:pt x="582" y="52"/>
                  </a:lnTo>
                  <a:lnTo>
                    <a:pt x="628" y="42"/>
                  </a:lnTo>
                  <a:lnTo>
                    <a:pt x="672" y="28"/>
                  </a:lnTo>
                  <a:lnTo>
                    <a:pt x="716" y="16"/>
                  </a:lnTo>
                  <a:lnTo>
                    <a:pt x="760" y="0"/>
                  </a:lnTo>
                  <a:lnTo>
                    <a:pt x="778" y="88"/>
                  </a:lnTo>
                  <a:close/>
                </a:path>
              </a:pathLst>
            </a:custGeom>
            <a:solidFill>
              <a:srgbClr val="f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46"/>
            <p:cNvSpPr/>
            <p:nvPr/>
          </p:nvSpPr>
          <p:spPr>
            <a:xfrm>
              <a:off x="3848040" y="5680080"/>
              <a:ext cx="701640" cy="701640"/>
            </a:xfrm>
            <a:custGeom>
              <a:avLst/>
              <a:gdLst>
                <a:gd name="textAreaLeft" fmla="*/ 0 w 701640"/>
                <a:gd name="textAreaRight" fmla="*/ 702000 w 70164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442" h="442">
                  <a:moveTo>
                    <a:pt x="442" y="0"/>
                  </a:moveTo>
                  <a:lnTo>
                    <a:pt x="442" y="0"/>
                  </a:lnTo>
                  <a:lnTo>
                    <a:pt x="388" y="110"/>
                  </a:lnTo>
                  <a:lnTo>
                    <a:pt x="332" y="222"/>
                  </a:lnTo>
                  <a:lnTo>
                    <a:pt x="302" y="278"/>
                  </a:lnTo>
                  <a:lnTo>
                    <a:pt x="270" y="334"/>
                  </a:lnTo>
                  <a:lnTo>
                    <a:pt x="238" y="388"/>
                  </a:lnTo>
                  <a:lnTo>
                    <a:pt x="204" y="442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52" y="154"/>
                  </a:lnTo>
                  <a:lnTo>
                    <a:pt x="106" y="130"/>
                  </a:lnTo>
                  <a:lnTo>
                    <a:pt x="162" y="108"/>
                  </a:lnTo>
                  <a:lnTo>
                    <a:pt x="218" y="88"/>
                  </a:lnTo>
                  <a:lnTo>
                    <a:pt x="330" y="46"/>
                  </a:lnTo>
                  <a:lnTo>
                    <a:pt x="386" y="24"/>
                  </a:lnTo>
                  <a:lnTo>
                    <a:pt x="442" y="0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47"/>
            <p:cNvSpPr/>
            <p:nvPr/>
          </p:nvSpPr>
          <p:spPr>
            <a:xfrm>
              <a:off x="2778120" y="5740200"/>
              <a:ext cx="615960" cy="61596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388" h="388">
                  <a:moveTo>
                    <a:pt x="388" y="140"/>
                  </a:moveTo>
                  <a:lnTo>
                    <a:pt x="388" y="140"/>
                  </a:lnTo>
                  <a:lnTo>
                    <a:pt x="360" y="206"/>
                  </a:lnTo>
                  <a:lnTo>
                    <a:pt x="344" y="240"/>
                  </a:lnTo>
                  <a:lnTo>
                    <a:pt x="328" y="272"/>
                  </a:lnTo>
                  <a:lnTo>
                    <a:pt x="312" y="304"/>
                  </a:lnTo>
                  <a:lnTo>
                    <a:pt x="292" y="334"/>
                  </a:lnTo>
                  <a:lnTo>
                    <a:pt x="270" y="362"/>
                  </a:lnTo>
                  <a:lnTo>
                    <a:pt x="248" y="388"/>
                  </a:lnTo>
                  <a:lnTo>
                    <a:pt x="248" y="388"/>
                  </a:lnTo>
                  <a:lnTo>
                    <a:pt x="190" y="290"/>
                  </a:lnTo>
                  <a:lnTo>
                    <a:pt x="132" y="192"/>
                  </a:lnTo>
                  <a:lnTo>
                    <a:pt x="100" y="142"/>
                  </a:lnTo>
                  <a:lnTo>
                    <a:pt x="68" y="94"/>
                  </a:lnTo>
                  <a:lnTo>
                    <a:pt x="34" y="48"/>
                  </a:lnTo>
                  <a:lnTo>
                    <a:pt x="0" y="0"/>
                  </a:lnTo>
                  <a:lnTo>
                    <a:pt x="0" y="0"/>
                  </a:lnTo>
                  <a:lnTo>
                    <a:pt x="50" y="12"/>
                  </a:lnTo>
                  <a:lnTo>
                    <a:pt x="100" y="28"/>
                  </a:lnTo>
                  <a:lnTo>
                    <a:pt x="150" y="44"/>
                  </a:lnTo>
                  <a:lnTo>
                    <a:pt x="198" y="60"/>
                  </a:lnTo>
                  <a:lnTo>
                    <a:pt x="294" y="100"/>
                  </a:lnTo>
                  <a:lnTo>
                    <a:pt x="388" y="140"/>
                  </a:lnTo>
                  <a:lnTo>
                    <a:pt x="388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48"/>
            <p:cNvSpPr/>
            <p:nvPr/>
          </p:nvSpPr>
          <p:spPr>
            <a:xfrm>
              <a:off x="1238040" y="5749920"/>
              <a:ext cx="4911840" cy="3378240"/>
            </a:xfrm>
            <a:custGeom>
              <a:avLst/>
              <a:gdLst>
                <a:gd name="textAreaLeft" fmla="*/ 0 w 4911840"/>
                <a:gd name="textAreaRight" fmla="*/ 4912200 w 4911840"/>
                <a:gd name="textAreaTop" fmla="*/ 0 h 3378240"/>
                <a:gd name="textAreaBottom" fmla="*/ 3378600 h 3378240"/>
              </a:gdLst>
              <a:ahLst/>
              <a:rect l="textAreaLeft" t="textAreaTop" r="textAreaRight" b="textAreaBottom"/>
              <a:pathLst>
                <a:path w="3094" h="2128">
                  <a:moveTo>
                    <a:pt x="854" y="0"/>
                  </a:moveTo>
                  <a:lnTo>
                    <a:pt x="854" y="0"/>
                  </a:lnTo>
                  <a:lnTo>
                    <a:pt x="964" y="166"/>
                  </a:lnTo>
                  <a:lnTo>
                    <a:pt x="1016" y="250"/>
                  </a:lnTo>
                  <a:lnTo>
                    <a:pt x="1068" y="334"/>
                  </a:lnTo>
                  <a:lnTo>
                    <a:pt x="1116" y="420"/>
                  </a:lnTo>
                  <a:lnTo>
                    <a:pt x="1162" y="506"/>
                  </a:lnTo>
                  <a:lnTo>
                    <a:pt x="1206" y="594"/>
                  </a:lnTo>
                  <a:lnTo>
                    <a:pt x="1244" y="684"/>
                  </a:lnTo>
                  <a:lnTo>
                    <a:pt x="1244" y="684"/>
                  </a:lnTo>
                  <a:lnTo>
                    <a:pt x="1306" y="562"/>
                  </a:lnTo>
                  <a:lnTo>
                    <a:pt x="1370" y="440"/>
                  </a:lnTo>
                  <a:lnTo>
                    <a:pt x="1404" y="378"/>
                  </a:lnTo>
                  <a:lnTo>
                    <a:pt x="1438" y="318"/>
                  </a:lnTo>
                  <a:lnTo>
                    <a:pt x="1472" y="260"/>
                  </a:lnTo>
                  <a:lnTo>
                    <a:pt x="1510" y="200"/>
                  </a:lnTo>
                  <a:lnTo>
                    <a:pt x="1524" y="200"/>
                  </a:lnTo>
                  <a:lnTo>
                    <a:pt x="1524" y="200"/>
                  </a:lnTo>
                  <a:lnTo>
                    <a:pt x="1578" y="256"/>
                  </a:lnTo>
                  <a:lnTo>
                    <a:pt x="1628" y="312"/>
                  </a:lnTo>
                  <a:lnTo>
                    <a:pt x="1676" y="370"/>
                  </a:lnTo>
                  <a:lnTo>
                    <a:pt x="1722" y="430"/>
                  </a:lnTo>
                  <a:lnTo>
                    <a:pt x="1812" y="548"/>
                  </a:lnTo>
                  <a:lnTo>
                    <a:pt x="1900" y="670"/>
                  </a:lnTo>
                  <a:lnTo>
                    <a:pt x="1900" y="670"/>
                  </a:lnTo>
                  <a:lnTo>
                    <a:pt x="1916" y="648"/>
                  </a:lnTo>
                  <a:lnTo>
                    <a:pt x="1928" y="624"/>
                  </a:lnTo>
                  <a:lnTo>
                    <a:pt x="1952" y="578"/>
                  </a:lnTo>
                  <a:lnTo>
                    <a:pt x="1974" y="528"/>
                  </a:lnTo>
                  <a:lnTo>
                    <a:pt x="1992" y="476"/>
                  </a:lnTo>
                  <a:lnTo>
                    <a:pt x="2030" y="374"/>
                  </a:lnTo>
                  <a:lnTo>
                    <a:pt x="2050" y="324"/>
                  </a:lnTo>
                  <a:lnTo>
                    <a:pt x="2074" y="276"/>
                  </a:lnTo>
                  <a:lnTo>
                    <a:pt x="2074" y="276"/>
                  </a:lnTo>
                  <a:lnTo>
                    <a:pt x="2092" y="242"/>
                  </a:lnTo>
                  <a:lnTo>
                    <a:pt x="2108" y="210"/>
                  </a:lnTo>
                  <a:lnTo>
                    <a:pt x="2138" y="144"/>
                  </a:lnTo>
                  <a:lnTo>
                    <a:pt x="2156" y="110"/>
                  </a:lnTo>
                  <a:lnTo>
                    <a:pt x="2172" y="78"/>
                  </a:lnTo>
                  <a:lnTo>
                    <a:pt x="2192" y="46"/>
                  </a:lnTo>
                  <a:lnTo>
                    <a:pt x="2214" y="16"/>
                  </a:lnTo>
                  <a:lnTo>
                    <a:pt x="2214" y="16"/>
                  </a:lnTo>
                  <a:lnTo>
                    <a:pt x="2254" y="32"/>
                  </a:lnTo>
                  <a:lnTo>
                    <a:pt x="2294" y="52"/>
                  </a:lnTo>
                  <a:lnTo>
                    <a:pt x="2332" y="72"/>
                  </a:lnTo>
                  <a:lnTo>
                    <a:pt x="2368" y="94"/>
                  </a:lnTo>
                  <a:lnTo>
                    <a:pt x="2406" y="116"/>
                  </a:lnTo>
                  <a:lnTo>
                    <a:pt x="2442" y="142"/>
                  </a:lnTo>
                  <a:lnTo>
                    <a:pt x="2476" y="168"/>
                  </a:lnTo>
                  <a:lnTo>
                    <a:pt x="2512" y="194"/>
                  </a:lnTo>
                  <a:lnTo>
                    <a:pt x="2544" y="222"/>
                  </a:lnTo>
                  <a:lnTo>
                    <a:pt x="2578" y="252"/>
                  </a:lnTo>
                  <a:lnTo>
                    <a:pt x="2610" y="282"/>
                  </a:lnTo>
                  <a:lnTo>
                    <a:pt x="2640" y="314"/>
                  </a:lnTo>
                  <a:lnTo>
                    <a:pt x="2670" y="346"/>
                  </a:lnTo>
                  <a:lnTo>
                    <a:pt x="2700" y="378"/>
                  </a:lnTo>
                  <a:lnTo>
                    <a:pt x="2728" y="412"/>
                  </a:lnTo>
                  <a:lnTo>
                    <a:pt x="2754" y="448"/>
                  </a:lnTo>
                  <a:lnTo>
                    <a:pt x="2780" y="484"/>
                  </a:lnTo>
                  <a:lnTo>
                    <a:pt x="2806" y="520"/>
                  </a:lnTo>
                  <a:lnTo>
                    <a:pt x="2830" y="556"/>
                  </a:lnTo>
                  <a:lnTo>
                    <a:pt x="2852" y="594"/>
                  </a:lnTo>
                  <a:lnTo>
                    <a:pt x="2874" y="632"/>
                  </a:lnTo>
                  <a:lnTo>
                    <a:pt x="2894" y="670"/>
                  </a:lnTo>
                  <a:lnTo>
                    <a:pt x="2914" y="710"/>
                  </a:lnTo>
                  <a:lnTo>
                    <a:pt x="2932" y="750"/>
                  </a:lnTo>
                  <a:lnTo>
                    <a:pt x="2948" y="790"/>
                  </a:lnTo>
                  <a:lnTo>
                    <a:pt x="2964" y="830"/>
                  </a:lnTo>
                  <a:lnTo>
                    <a:pt x="2980" y="870"/>
                  </a:lnTo>
                  <a:lnTo>
                    <a:pt x="2992" y="910"/>
                  </a:lnTo>
                  <a:lnTo>
                    <a:pt x="3004" y="950"/>
                  </a:lnTo>
                  <a:lnTo>
                    <a:pt x="3014" y="990"/>
                  </a:lnTo>
                  <a:lnTo>
                    <a:pt x="3024" y="1032"/>
                  </a:lnTo>
                  <a:lnTo>
                    <a:pt x="3032" y="1072"/>
                  </a:lnTo>
                  <a:lnTo>
                    <a:pt x="3032" y="1072"/>
                  </a:lnTo>
                  <a:lnTo>
                    <a:pt x="3052" y="1198"/>
                  </a:lnTo>
                  <a:lnTo>
                    <a:pt x="3068" y="1324"/>
                  </a:lnTo>
                  <a:lnTo>
                    <a:pt x="3080" y="1452"/>
                  </a:lnTo>
                  <a:lnTo>
                    <a:pt x="3088" y="1582"/>
                  </a:lnTo>
                  <a:lnTo>
                    <a:pt x="3092" y="1712"/>
                  </a:lnTo>
                  <a:lnTo>
                    <a:pt x="3094" y="1840"/>
                  </a:lnTo>
                  <a:lnTo>
                    <a:pt x="3090" y="1968"/>
                  </a:lnTo>
                  <a:lnTo>
                    <a:pt x="3082" y="2096"/>
                  </a:lnTo>
                  <a:lnTo>
                    <a:pt x="3082" y="2096"/>
                  </a:lnTo>
                  <a:lnTo>
                    <a:pt x="2970" y="2106"/>
                  </a:lnTo>
                  <a:lnTo>
                    <a:pt x="2854" y="2114"/>
                  </a:lnTo>
                  <a:lnTo>
                    <a:pt x="2740" y="2120"/>
                  </a:lnTo>
                  <a:lnTo>
                    <a:pt x="2626" y="2124"/>
                  </a:lnTo>
                  <a:lnTo>
                    <a:pt x="2510" y="2126"/>
                  </a:lnTo>
                  <a:lnTo>
                    <a:pt x="2396" y="2128"/>
                  </a:lnTo>
                  <a:lnTo>
                    <a:pt x="2164" y="2128"/>
                  </a:lnTo>
                  <a:lnTo>
                    <a:pt x="1934" y="2124"/>
                  </a:lnTo>
                  <a:lnTo>
                    <a:pt x="1702" y="2118"/>
                  </a:lnTo>
                  <a:lnTo>
                    <a:pt x="1472" y="2110"/>
                  </a:lnTo>
                  <a:lnTo>
                    <a:pt x="1242" y="2106"/>
                  </a:lnTo>
                  <a:lnTo>
                    <a:pt x="1242" y="2106"/>
                  </a:lnTo>
                  <a:lnTo>
                    <a:pt x="1088" y="2106"/>
                  </a:lnTo>
                  <a:lnTo>
                    <a:pt x="936" y="2108"/>
                  </a:lnTo>
                  <a:lnTo>
                    <a:pt x="630" y="2114"/>
                  </a:lnTo>
                  <a:lnTo>
                    <a:pt x="478" y="2116"/>
                  </a:lnTo>
                  <a:lnTo>
                    <a:pt x="324" y="2116"/>
                  </a:lnTo>
                  <a:lnTo>
                    <a:pt x="172" y="2112"/>
                  </a:lnTo>
                  <a:lnTo>
                    <a:pt x="18" y="2106"/>
                  </a:lnTo>
                  <a:lnTo>
                    <a:pt x="0" y="2052"/>
                  </a:lnTo>
                  <a:lnTo>
                    <a:pt x="0" y="2052"/>
                  </a:lnTo>
                  <a:lnTo>
                    <a:pt x="0" y="1888"/>
                  </a:lnTo>
                  <a:lnTo>
                    <a:pt x="2" y="1724"/>
                  </a:lnTo>
                  <a:lnTo>
                    <a:pt x="8" y="1562"/>
                  </a:lnTo>
                  <a:lnTo>
                    <a:pt x="12" y="1480"/>
                  </a:lnTo>
                  <a:lnTo>
                    <a:pt x="18" y="1400"/>
                  </a:lnTo>
                  <a:lnTo>
                    <a:pt x="24" y="1318"/>
                  </a:lnTo>
                  <a:lnTo>
                    <a:pt x="32" y="1240"/>
                  </a:lnTo>
                  <a:lnTo>
                    <a:pt x="42" y="1160"/>
                  </a:lnTo>
                  <a:lnTo>
                    <a:pt x="54" y="1082"/>
                  </a:lnTo>
                  <a:lnTo>
                    <a:pt x="66" y="1004"/>
                  </a:lnTo>
                  <a:lnTo>
                    <a:pt x="82" y="926"/>
                  </a:lnTo>
                  <a:lnTo>
                    <a:pt x="100" y="852"/>
                  </a:lnTo>
                  <a:lnTo>
                    <a:pt x="118" y="776"/>
                  </a:lnTo>
                  <a:lnTo>
                    <a:pt x="118" y="776"/>
                  </a:lnTo>
                  <a:lnTo>
                    <a:pt x="142" y="714"/>
                  </a:lnTo>
                  <a:lnTo>
                    <a:pt x="170" y="654"/>
                  </a:lnTo>
                  <a:lnTo>
                    <a:pt x="200" y="594"/>
                  </a:lnTo>
                  <a:lnTo>
                    <a:pt x="236" y="536"/>
                  </a:lnTo>
                  <a:lnTo>
                    <a:pt x="276" y="480"/>
                  </a:lnTo>
                  <a:lnTo>
                    <a:pt x="318" y="426"/>
                  </a:lnTo>
                  <a:lnTo>
                    <a:pt x="362" y="372"/>
                  </a:lnTo>
                  <a:lnTo>
                    <a:pt x="410" y="322"/>
                  </a:lnTo>
                  <a:lnTo>
                    <a:pt x="460" y="272"/>
                  </a:lnTo>
                  <a:lnTo>
                    <a:pt x="512" y="226"/>
                  </a:lnTo>
                  <a:lnTo>
                    <a:pt x="566" y="182"/>
                  </a:lnTo>
                  <a:lnTo>
                    <a:pt x="622" y="140"/>
                  </a:lnTo>
                  <a:lnTo>
                    <a:pt x="678" y="102"/>
                  </a:lnTo>
                  <a:lnTo>
                    <a:pt x="736" y="64"/>
                  </a:lnTo>
                  <a:lnTo>
                    <a:pt x="794" y="32"/>
                  </a:lnTo>
                  <a:lnTo>
                    <a:pt x="854" y="0"/>
                  </a:lnTo>
                  <a:lnTo>
                    <a:pt x="854" y="0"/>
                  </a:lnTo>
                  <a:close/>
                </a:path>
              </a:pathLst>
            </a:custGeom>
            <a:solidFill>
              <a:srgbClr val="a7d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9"/>
            <p:cNvSpPr/>
            <p:nvPr/>
          </p:nvSpPr>
          <p:spPr>
            <a:xfrm>
              <a:off x="8109000" y="6407280"/>
              <a:ext cx="2117520" cy="564840"/>
            </a:xfrm>
            <a:custGeom>
              <a:avLst/>
              <a:gdLst>
                <a:gd name="textAreaLeft" fmla="*/ 0 w 2117520"/>
                <a:gd name="textAreaRight" fmla="*/ 2117880 w 211752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1334" h="356">
                  <a:moveTo>
                    <a:pt x="1334" y="28"/>
                  </a:moveTo>
                  <a:lnTo>
                    <a:pt x="1334" y="50"/>
                  </a:lnTo>
                  <a:lnTo>
                    <a:pt x="1334" y="50"/>
                  </a:lnTo>
                  <a:lnTo>
                    <a:pt x="1290" y="94"/>
                  </a:lnTo>
                  <a:lnTo>
                    <a:pt x="1246" y="136"/>
                  </a:lnTo>
                  <a:lnTo>
                    <a:pt x="1198" y="174"/>
                  </a:lnTo>
                  <a:lnTo>
                    <a:pt x="1150" y="208"/>
                  </a:lnTo>
                  <a:lnTo>
                    <a:pt x="1100" y="238"/>
                  </a:lnTo>
                  <a:lnTo>
                    <a:pt x="1048" y="266"/>
                  </a:lnTo>
                  <a:lnTo>
                    <a:pt x="994" y="290"/>
                  </a:lnTo>
                  <a:lnTo>
                    <a:pt x="940" y="310"/>
                  </a:lnTo>
                  <a:lnTo>
                    <a:pt x="884" y="326"/>
                  </a:lnTo>
                  <a:lnTo>
                    <a:pt x="828" y="338"/>
                  </a:lnTo>
                  <a:lnTo>
                    <a:pt x="770" y="348"/>
                  </a:lnTo>
                  <a:lnTo>
                    <a:pt x="712" y="354"/>
                  </a:lnTo>
                  <a:lnTo>
                    <a:pt x="652" y="356"/>
                  </a:lnTo>
                  <a:lnTo>
                    <a:pt x="592" y="354"/>
                  </a:lnTo>
                  <a:lnTo>
                    <a:pt x="530" y="348"/>
                  </a:lnTo>
                  <a:lnTo>
                    <a:pt x="468" y="338"/>
                  </a:lnTo>
                  <a:lnTo>
                    <a:pt x="468" y="338"/>
                  </a:lnTo>
                  <a:lnTo>
                    <a:pt x="400" y="320"/>
                  </a:lnTo>
                  <a:lnTo>
                    <a:pt x="330" y="300"/>
                  </a:lnTo>
                  <a:lnTo>
                    <a:pt x="296" y="290"/>
                  </a:lnTo>
                  <a:lnTo>
                    <a:pt x="262" y="276"/>
                  </a:lnTo>
                  <a:lnTo>
                    <a:pt x="228" y="262"/>
                  </a:lnTo>
                  <a:lnTo>
                    <a:pt x="194" y="248"/>
                  </a:lnTo>
                  <a:lnTo>
                    <a:pt x="164" y="230"/>
                  </a:lnTo>
                  <a:lnTo>
                    <a:pt x="134" y="210"/>
                  </a:lnTo>
                  <a:lnTo>
                    <a:pt x="106" y="188"/>
                  </a:lnTo>
                  <a:lnTo>
                    <a:pt x="80" y="164"/>
                  </a:lnTo>
                  <a:lnTo>
                    <a:pt x="56" y="138"/>
                  </a:lnTo>
                  <a:lnTo>
                    <a:pt x="34" y="108"/>
                  </a:lnTo>
                  <a:lnTo>
                    <a:pt x="16" y="7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0" y="32"/>
                  </a:lnTo>
                  <a:lnTo>
                    <a:pt x="40" y="28"/>
                  </a:lnTo>
                  <a:lnTo>
                    <a:pt x="58" y="24"/>
                  </a:lnTo>
                  <a:lnTo>
                    <a:pt x="78" y="24"/>
                  </a:lnTo>
                  <a:lnTo>
                    <a:pt x="96" y="24"/>
                  </a:lnTo>
                  <a:lnTo>
                    <a:pt x="114" y="24"/>
                  </a:lnTo>
                  <a:lnTo>
                    <a:pt x="150" y="30"/>
                  </a:lnTo>
                  <a:lnTo>
                    <a:pt x="184" y="40"/>
                  </a:lnTo>
                  <a:lnTo>
                    <a:pt x="218" y="52"/>
                  </a:lnTo>
                  <a:lnTo>
                    <a:pt x="250" y="66"/>
                  </a:lnTo>
                  <a:lnTo>
                    <a:pt x="284" y="82"/>
                  </a:lnTo>
                  <a:lnTo>
                    <a:pt x="350" y="110"/>
                  </a:lnTo>
                  <a:lnTo>
                    <a:pt x="384" y="124"/>
                  </a:lnTo>
                  <a:lnTo>
                    <a:pt x="420" y="134"/>
                  </a:lnTo>
                  <a:lnTo>
                    <a:pt x="456" y="142"/>
                  </a:lnTo>
                  <a:lnTo>
                    <a:pt x="494" y="144"/>
                  </a:lnTo>
                  <a:lnTo>
                    <a:pt x="514" y="144"/>
                  </a:lnTo>
                  <a:lnTo>
                    <a:pt x="534" y="144"/>
                  </a:lnTo>
                  <a:lnTo>
                    <a:pt x="554" y="140"/>
                  </a:lnTo>
                  <a:lnTo>
                    <a:pt x="576" y="136"/>
                  </a:lnTo>
                  <a:lnTo>
                    <a:pt x="576" y="136"/>
                  </a:lnTo>
                  <a:lnTo>
                    <a:pt x="622" y="128"/>
                  </a:lnTo>
                  <a:lnTo>
                    <a:pt x="670" y="116"/>
                  </a:lnTo>
                  <a:lnTo>
                    <a:pt x="716" y="104"/>
                  </a:lnTo>
                  <a:lnTo>
                    <a:pt x="762" y="90"/>
                  </a:lnTo>
                  <a:lnTo>
                    <a:pt x="854" y="60"/>
                  </a:lnTo>
                  <a:lnTo>
                    <a:pt x="946" y="32"/>
                  </a:lnTo>
                  <a:lnTo>
                    <a:pt x="992" y="22"/>
                  </a:lnTo>
                  <a:lnTo>
                    <a:pt x="1040" y="12"/>
                  </a:lnTo>
                  <a:lnTo>
                    <a:pt x="1086" y="4"/>
                  </a:lnTo>
                  <a:lnTo>
                    <a:pt x="1134" y="0"/>
                  </a:lnTo>
                  <a:lnTo>
                    <a:pt x="1184" y="0"/>
                  </a:lnTo>
                  <a:lnTo>
                    <a:pt x="1232" y="4"/>
                  </a:lnTo>
                  <a:lnTo>
                    <a:pt x="1258" y="8"/>
                  </a:lnTo>
                  <a:lnTo>
                    <a:pt x="1282" y="14"/>
                  </a:lnTo>
                  <a:lnTo>
                    <a:pt x="1308" y="20"/>
                  </a:lnTo>
                  <a:lnTo>
                    <a:pt x="1334" y="28"/>
                  </a:lnTo>
                  <a:lnTo>
                    <a:pt x="1334" y="28"/>
                  </a:lnTo>
                  <a:close/>
                </a:path>
              </a:pathLst>
            </a:custGeom>
            <a:solidFill>
              <a:srgbClr val="e5a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50"/>
            <p:cNvSpPr/>
            <p:nvPr/>
          </p:nvSpPr>
          <p:spPr>
            <a:xfrm>
              <a:off x="6934320" y="6680160"/>
              <a:ext cx="4302000" cy="2473200"/>
            </a:xfrm>
            <a:custGeom>
              <a:avLst/>
              <a:gdLst>
                <a:gd name="textAreaLeft" fmla="*/ 0 w 4302000"/>
                <a:gd name="textAreaRight" fmla="*/ 4302360 w 4302000"/>
                <a:gd name="textAreaTop" fmla="*/ 0 h 2473200"/>
                <a:gd name="textAreaBottom" fmla="*/ 2473560 h 2473200"/>
              </a:gdLst>
              <a:ahLst/>
              <a:rect l="textAreaLeft" t="textAreaTop" r="textAreaRight" b="textAreaBottom"/>
              <a:pathLst>
                <a:path w="2710" h="1558">
                  <a:moveTo>
                    <a:pt x="2226" y="0"/>
                  </a:moveTo>
                  <a:lnTo>
                    <a:pt x="2226" y="0"/>
                  </a:lnTo>
                  <a:lnTo>
                    <a:pt x="2262" y="38"/>
                  </a:lnTo>
                  <a:lnTo>
                    <a:pt x="2296" y="76"/>
                  </a:lnTo>
                  <a:lnTo>
                    <a:pt x="2330" y="114"/>
                  </a:lnTo>
                  <a:lnTo>
                    <a:pt x="2360" y="154"/>
                  </a:lnTo>
                  <a:lnTo>
                    <a:pt x="2390" y="194"/>
                  </a:lnTo>
                  <a:lnTo>
                    <a:pt x="2418" y="236"/>
                  </a:lnTo>
                  <a:lnTo>
                    <a:pt x="2444" y="278"/>
                  </a:lnTo>
                  <a:lnTo>
                    <a:pt x="2468" y="320"/>
                  </a:lnTo>
                  <a:lnTo>
                    <a:pt x="2492" y="364"/>
                  </a:lnTo>
                  <a:lnTo>
                    <a:pt x="2512" y="408"/>
                  </a:lnTo>
                  <a:lnTo>
                    <a:pt x="2534" y="452"/>
                  </a:lnTo>
                  <a:lnTo>
                    <a:pt x="2552" y="496"/>
                  </a:lnTo>
                  <a:lnTo>
                    <a:pt x="2570" y="542"/>
                  </a:lnTo>
                  <a:lnTo>
                    <a:pt x="2586" y="588"/>
                  </a:lnTo>
                  <a:lnTo>
                    <a:pt x="2602" y="634"/>
                  </a:lnTo>
                  <a:lnTo>
                    <a:pt x="2616" y="680"/>
                  </a:lnTo>
                  <a:lnTo>
                    <a:pt x="2628" y="728"/>
                  </a:lnTo>
                  <a:lnTo>
                    <a:pt x="2640" y="776"/>
                  </a:lnTo>
                  <a:lnTo>
                    <a:pt x="2660" y="872"/>
                  </a:lnTo>
                  <a:lnTo>
                    <a:pt x="2676" y="970"/>
                  </a:lnTo>
                  <a:lnTo>
                    <a:pt x="2690" y="1070"/>
                  </a:lnTo>
                  <a:lnTo>
                    <a:pt x="2698" y="1170"/>
                  </a:lnTo>
                  <a:lnTo>
                    <a:pt x="2706" y="1272"/>
                  </a:lnTo>
                  <a:lnTo>
                    <a:pt x="2708" y="1374"/>
                  </a:lnTo>
                  <a:lnTo>
                    <a:pt x="2710" y="1478"/>
                  </a:lnTo>
                  <a:lnTo>
                    <a:pt x="2710" y="1478"/>
                  </a:lnTo>
                  <a:lnTo>
                    <a:pt x="2376" y="1496"/>
                  </a:lnTo>
                  <a:lnTo>
                    <a:pt x="2038" y="1518"/>
                  </a:lnTo>
                  <a:lnTo>
                    <a:pt x="1700" y="1538"/>
                  </a:lnTo>
                  <a:lnTo>
                    <a:pt x="1528" y="1546"/>
                  </a:lnTo>
                  <a:lnTo>
                    <a:pt x="1358" y="1552"/>
                  </a:lnTo>
                  <a:lnTo>
                    <a:pt x="1188" y="1556"/>
                  </a:lnTo>
                  <a:lnTo>
                    <a:pt x="1018" y="1558"/>
                  </a:lnTo>
                  <a:lnTo>
                    <a:pt x="848" y="1558"/>
                  </a:lnTo>
                  <a:lnTo>
                    <a:pt x="678" y="1554"/>
                  </a:lnTo>
                  <a:lnTo>
                    <a:pt x="510" y="1546"/>
                  </a:lnTo>
                  <a:lnTo>
                    <a:pt x="344" y="1534"/>
                  </a:lnTo>
                  <a:lnTo>
                    <a:pt x="176" y="1518"/>
                  </a:lnTo>
                  <a:lnTo>
                    <a:pt x="94" y="1508"/>
                  </a:lnTo>
                  <a:lnTo>
                    <a:pt x="12" y="1498"/>
                  </a:lnTo>
                  <a:lnTo>
                    <a:pt x="0" y="1478"/>
                  </a:lnTo>
                  <a:lnTo>
                    <a:pt x="0" y="1478"/>
                  </a:lnTo>
                  <a:lnTo>
                    <a:pt x="0" y="1374"/>
                  </a:lnTo>
                  <a:lnTo>
                    <a:pt x="4" y="1270"/>
                  </a:lnTo>
                  <a:lnTo>
                    <a:pt x="8" y="1220"/>
                  </a:lnTo>
                  <a:lnTo>
                    <a:pt x="14" y="1170"/>
                  </a:lnTo>
                  <a:lnTo>
                    <a:pt x="20" y="1120"/>
                  </a:lnTo>
                  <a:lnTo>
                    <a:pt x="28" y="1072"/>
                  </a:lnTo>
                  <a:lnTo>
                    <a:pt x="36" y="1022"/>
                  </a:lnTo>
                  <a:lnTo>
                    <a:pt x="46" y="974"/>
                  </a:lnTo>
                  <a:lnTo>
                    <a:pt x="58" y="926"/>
                  </a:lnTo>
                  <a:lnTo>
                    <a:pt x="70" y="878"/>
                  </a:lnTo>
                  <a:lnTo>
                    <a:pt x="84" y="830"/>
                  </a:lnTo>
                  <a:lnTo>
                    <a:pt x="98" y="784"/>
                  </a:lnTo>
                  <a:lnTo>
                    <a:pt x="114" y="738"/>
                  </a:lnTo>
                  <a:lnTo>
                    <a:pt x="132" y="692"/>
                  </a:lnTo>
                  <a:lnTo>
                    <a:pt x="150" y="646"/>
                  </a:lnTo>
                  <a:lnTo>
                    <a:pt x="170" y="602"/>
                  </a:lnTo>
                  <a:lnTo>
                    <a:pt x="190" y="558"/>
                  </a:lnTo>
                  <a:lnTo>
                    <a:pt x="212" y="514"/>
                  </a:lnTo>
                  <a:lnTo>
                    <a:pt x="236" y="472"/>
                  </a:lnTo>
                  <a:lnTo>
                    <a:pt x="260" y="428"/>
                  </a:lnTo>
                  <a:lnTo>
                    <a:pt x="286" y="386"/>
                  </a:lnTo>
                  <a:lnTo>
                    <a:pt x="312" y="344"/>
                  </a:lnTo>
                  <a:lnTo>
                    <a:pt x="340" y="304"/>
                  </a:lnTo>
                  <a:lnTo>
                    <a:pt x="370" y="264"/>
                  </a:lnTo>
                  <a:lnTo>
                    <a:pt x="400" y="224"/>
                  </a:lnTo>
                  <a:lnTo>
                    <a:pt x="432" y="184"/>
                  </a:lnTo>
                  <a:lnTo>
                    <a:pt x="466" y="146"/>
                  </a:lnTo>
                  <a:lnTo>
                    <a:pt x="500" y="108"/>
                  </a:lnTo>
                  <a:lnTo>
                    <a:pt x="536" y="70"/>
                  </a:lnTo>
                  <a:lnTo>
                    <a:pt x="572" y="32"/>
                  </a:lnTo>
                  <a:lnTo>
                    <a:pt x="594" y="32"/>
                  </a:lnTo>
                  <a:lnTo>
                    <a:pt x="594" y="32"/>
                  </a:lnTo>
                  <a:lnTo>
                    <a:pt x="628" y="62"/>
                  </a:lnTo>
                  <a:lnTo>
                    <a:pt x="664" y="88"/>
                  </a:lnTo>
                  <a:lnTo>
                    <a:pt x="702" y="112"/>
                  </a:lnTo>
                  <a:lnTo>
                    <a:pt x="740" y="136"/>
                  </a:lnTo>
                  <a:lnTo>
                    <a:pt x="778" y="156"/>
                  </a:lnTo>
                  <a:lnTo>
                    <a:pt x="820" y="176"/>
                  </a:lnTo>
                  <a:lnTo>
                    <a:pt x="860" y="194"/>
                  </a:lnTo>
                  <a:lnTo>
                    <a:pt x="902" y="210"/>
                  </a:lnTo>
                  <a:lnTo>
                    <a:pt x="946" y="224"/>
                  </a:lnTo>
                  <a:lnTo>
                    <a:pt x="990" y="236"/>
                  </a:lnTo>
                  <a:lnTo>
                    <a:pt x="1034" y="246"/>
                  </a:lnTo>
                  <a:lnTo>
                    <a:pt x="1078" y="256"/>
                  </a:lnTo>
                  <a:lnTo>
                    <a:pt x="1124" y="262"/>
                  </a:lnTo>
                  <a:lnTo>
                    <a:pt x="1170" y="268"/>
                  </a:lnTo>
                  <a:lnTo>
                    <a:pt x="1216" y="272"/>
                  </a:lnTo>
                  <a:lnTo>
                    <a:pt x="1262" y="276"/>
                  </a:lnTo>
                  <a:lnTo>
                    <a:pt x="1308" y="276"/>
                  </a:lnTo>
                  <a:lnTo>
                    <a:pt x="1354" y="276"/>
                  </a:lnTo>
                  <a:lnTo>
                    <a:pt x="1402" y="274"/>
                  </a:lnTo>
                  <a:lnTo>
                    <a:pt x="1448" y="272"/>
                  </a:lnTo>
                  <a:lnTo>
                    <a:pt x="1494" y="266"/>
                  </a:lnTo>
                  <a:lnTo>
                    <a:pt x="1540" y="260"/>
                  </a:lnTo>
                  <a:lnTo>
                    <a:pt x="1586" y="254"/>
                  </a:lnTo>
                  <a:lnTo>
                    <a:pt x="1630" y="244"/>
                  </a:lnTo>
                  <a:lnTo>
                    <a:pt x="1674" y="234"/>
                  </a:lnTo>
                  <a:lnTo>
                    <a:pt x="1718" y="224"/>
                  </a:lnTo>
                  <a:lnTo>
                    <a:pt x="1762" y="210"/>
                  </a:lnTo>
                  <a:lnTo>
                    <a:pt x="1804" y="198"/>
                  </a:lnTo>
                  <a:lnTo>
                    <a:pt x="1846" y="182"/>
                  </a:lnTo>
                  <a:lnTo>
                    <a:pt x="1888" y="166"/>
                  </a:lnTo>
                  <a:lnTo>
                    <a:pt x="1928" y="150"/>
                  </a:lnTo>
                  <a:lnTo>
                    <a:pt x="1966" y="132"/>
                  </a:lnTo>
                  <a:lnTo>
                    <a:pt x="1966" y="132"/>
                  </a:lnTo>
                  <a:lnTo>
                    <a:pt x="2000" y="118"/>
                  </a:lnTo>
                  <a:lnTo>
                    <a:pt x="2034" y="102"/>
                  </a:lnTo>
                  <a:lnTo>
                    <a:pt x="2098" y="68"/>
                  </a:lnTo>
                  <a:lnTo>
                    <a:pt x="2160" y="32"/>
                  </a:lnTo>
                  <a:lnTo>
                    <a:pt x="2194" y="16"/>
                  </a:lnTo>
                  <a:lnTo>
                    <a:pt x="2226" y="0"/>
                  </a:lnTo>
                  <a:lnTo>
                    <a:pt x="2226" y="0"/>
                  </a:lnTo>
                  <a:close/>
                </a:path>
              </a:pathLst>
            </a:custGeom>
            <a:solidFill>
              <a:srgbClr val="e5a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51"/>
            <p:cNvSpPr/>
            <p:nvPr/>
          </p:nvSpPr>
          <p:spPr>
            <a:xfrm>
              <a:off x="2533320" y="3930480"/>
              <a:ext cx="603000" cy="333360"/>
            </a:xfrm>
            <a:custGeom>
              <a:avLst/>
              <a:gdLst>
                <a:gd name="textAreaLeft" fmla="*/ 0 w 603000"/>
                <a:gd name="textAreaRight" fmla="*/ 603360 w 6030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380" h="210">
                  <a:moveTo>
                    <a:pt x="190" y="0"/>
                  </a:moveTo>
                  <a:lnTo>
                    <a:pt x="190" y="0"/>
                  </a:lnTo>
                  <a:lnTo>
                    <a:pt x="228" y="2"/>
                  </a:lnTo>
                  <a:lnTo>
                    <a:pt x="264" y="8"/>
                  </a:lnTo>
                  <a:lnTo>
                    <a:pt x="296" y="18"/>
                  </a:lnTo>
                  <a:lnTo>
                    <a:pt x="324" y="30"/>
                  </a:lnTo>
                  <a:lnTo>
                    <a:pt x="336" y="38"/>
                  </a:lnTo>
                  <a:lnTo>
                    <a:pt x="346" y="46"/>
                  </a:lnTo>
                  <a:lnTo>
                    <a:pt x="356" y="54"/>
                  </a:lnTo>
                  <a:lnTo>
                    <a:pt x="364" y="64"/>
                  </a:lnTo>
                  <a:lnTo>
                    <a:pt x="370" y="74"/>
                  </a:lnTo>
                  <a:lnTo>
                    <a:pt x="376" y="84"/>
                  </a:lnTo>
                  <a:lnTo>
                    <a:pt x="378" y="94"/>
                  </a:lnTo>
                  <a:lnTo>
                    <a:pt x="380" y="104"/>
                  </a:lnTo>
                  <a:lnTo>
                    <a:pt x="380" y="104"/>
                  </a:lnTo>
                  <a:lnTo>
                    <a:pt x="378" y="116"/>
                  </a:lnTo>
                  <a:lnTo>
                    <a:pt x="376" y="126"/>
                  </a:lnTo>
                  <a:lnTo>
                    <a:pt x="370" y="136"/>
                  </a:lnTo>
                  <a:lnTo>
                    <a:pt x="364" y="146"/>
                  </a:lnTo>
                  <a:lnTo>
                    <a:pt x="356" y="156"/>
                  </a:lnTo>
                  <a:lnTo>
                    <a:pt x="346" y="164"/>
                  </a:lnTo>
                  <a:lnTo>
                    <a:pt x="336" y="172"/>
                  </a:lnTo>
                  <a:lnTo>
                    <a:pt x="324" y="180"/>
                  </a:lnTo>
                  <a:lnTo>
                    <a:pt x="296" y="192"/>
                  </a:lnTo>
                  <a:lnTo>
                    <a:pt x="264" y="202"/>
                  </a:lnTo>
                  <a:lnTo>
                    <a:pt x="228" y="208"/>
                  </a:lnTo>
                  <a:lnTo>
                    <a:pt x="190" y="210"/>
                  </a:lnTo>
                  <a:lnTo>
                    <a:pt x="190" y="210"/>
                  </a:lnTo>
                  <a:lnTo>
                    <a:pt x="152" y="208"/>
                  </a:lnTo>
                  <a:lnTo>
                    <a:pt x="116" y="202"/>
                  </a:lnTo>
                  <a:lnTo>
                    <a:pt x="84" y="192"/>
                  </a:lnTo>
                  <a:lnTo>
                    <a:pt x="56" y="180"/>
                  </a:lnTo>
                  <a:lnTo>
                    <a:pt x="42" y="172"/>
                  </a:lnTo>
                  <a:lnTo>
                    <a:pt x="32" y="164"/>
                  </a:lnTo>
                  <a:lnTo>
                    <a:pt x="22" y="156"/>
                  </a:lnTo>
                  <a:lnTo>
                    <a:pt x="14" y="146"/>
                  </a:lnTo>
                  <a:lnTo>
                    <a:pt x="8" y="136"/>
                  </a:lnTo>
                  <a:lnTo>
                    <a:pt x="4" y="126"/>
                  </a:lnTo>
                  <a:lnTo>
                    <a:pt x="0" y="11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94"/>
                  </a:lnTo>
                  <a:lnTo>
                    <a:pt x="4" y="84"/>
                  </a:lnTo>
                  <a:lnTo>
                    <a:pt x="8" y="74"/>
                  </a:lnTo>
                  <a:lnTo>
                    <a:pt x="14" y="64"/>
                  </a:lnTo>
                  <a:lnTo>
                    <a:pt x="22" y="54"/>
                  </a:lnTo>
                  <a:lnTo>
                    <a:pt x="32" y="46"/>
                  </a:lnTo>
                  <a:lnTo>
                    <a:pt x="42" y="38"/>
                  </a:lnTo>
                  <a:lnTo>
                    <a:pt x="56" y="30"/>
                  </a:lnTo>
                  <a:lnTo>
                    <a:pt x="84" y="18"/>
                  </a:lnTo>
                  <a:lnTo>
                    <a:pt x="116" y="8"/>
                  </a:lnTo>
                  <a:lnTo>
                    <a:pt x="152" y="2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5b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52"/>
            <p:cNvSpPr/>
            <p:nvPr/>
          </p:nvSpPr>
          <p:spPr>
            <a:xfrm>
              <a:off x="4356000" y="3974760"/>
              <a:ext cx="603000" cy="336240"/>
            </a:xfrm>
            <a:custGeom>
              <a:avLst/>
              <a:gdLst>
                <a:gd name="textAreaLeft" fmla="*/ 0 w 603000"/>
                <a:gd name="textAreaRight" fmla="*/ 603360 w 60300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380" h="212">
                  <a:moveTo>
                    <a:pt x="190" y="0"/>
                  </a:moveTo>
                  <a:lnTo>
                    <a:pt x="190" y="0"/>
                  </a:lnTo>
                  <a:lnTo>
                    <a:pt x="228" y="2"/>
                  </a:lnTo>
                  <a:lnTo>
                    <a:pt x="264" y="8"/>
                  </a:lnTo>
                  <a:lnTo>
                    <a:pt x="296" y="18"/>
                  </a:lnTo>
                  <a:lnTo>
                    <a:pt x="324" y="32"/>
                  </a:lnTo>
                  <a:lnTo>
                    <a:pt x="338" y="38"/>
                  </a:lnTo>
                  <a:lnTo>
                    <a:pt x="348" y="46"/>
                  </a:lnTo>
                  <a:lnTo>
                    <a:pt x="358" y="56"/>
                  </a:lnTo>
                  <a:lnTo>
                    <a:pt x="366" y="64"/>
                  </a:lnTo>
                  <a:lnTo>
                    <a:pt x="372" y="74"/>
                  </a:lnTo>
                  <a:lnTo>
                    <a:pt x="376" y="84"/>
                  </a:lnTo>
                  <a:lnTo>
                    <a:pt x="380" y="94"/>
                  </a:lnTo>
                  <a:lnTo>
                    <a:pt x="380" y="106"/>
                  </a:lnTo>
                  <a:lnTo>
                    <a:pt x="380" y="106"/>
                  </a:lnTo>
                  <a:lnTo>
                    <a:pt x="380" y="116"/>
                  </a:lnTo>
                  <a:lnTo>
                    <a:pt x="376" y="126"/>
                  </a:lnTo>
                  <a:lnTo>
                    <a:pt x="372" y="138"/>
                  </a:lnTo>
                  <a:lnTo>
                    <a:pt x="366" y="146"/>
                  </a:lnTo>
                  <a:lnTo>
                    <a:pt x="358" y="156"/>
                  </a:lnTo>
                  <a:lnTo>
                    <a:pt x="348" y="164"/>
                  </a:lnTo>
                  <a:lnTo>
                    <a:pt x="338" y="172"/>
                  </a:lnTo>
                  <a:lnTo>
                    <a:pt x="324" y="180"/>
                  </a:lnTo>
                  <a:lnTo>
                    <a:pt x="296" y="194"/>
                  </a:lnTo>
                  <a:lnTo>
                    <a:pt x="264" y="202"/>
                  </a:lnTo>
                  <a:lnTo>
                    <a:pt x="228" y="210"/>
                  </a:lnTo>
                  <a:lnTo>
                    <a:pt x="190" y="212"/>
                  </a:lnTo>
                  <a:lnTo>
                    <a:pt x="190" y="212"/>
                  </a:lnTo>
                  <a:lnTo>
                    <a:pt x="152" y="210"/>
                  </a:lnTo>
                  <a:lnTo>
                    <a:pt x="116" y="202"/>
                  </a:lnTo>
                  <a:lnTo>
                    <a:pt x="84" y="194"/>
                  </a:lnTo>
                  <a:lnTo>
                    <a:pt x="56" y="180"/>
                  </a:lnTo>
                  <a:lnTo>
                    <a:pt x="44" y="172"/>
                  </a:lnTo>
                  <a:lnTo>
                    <a:pt x="34" y="164"/>
                  </a:lnTo>
                  <a:lnTo>
                    <a:pt x="24" y="156"/>
                  </a:lnTo>
                  <a:lnTo>
                    <a:pt x="16" y="146"/>
                  </a:lnTo>
                  <a:lnTo>
                    <a:pt x="10" y="138"/>
                  </a:lnTo>
                  <a:lnTo>
                    <a:pt x="4" y="126"/>
                  </a:lnTo>
                  <a:lnTo>
                    <a:pt x="2" y="11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2" y="94"/>
                  </a:lnTo>
                  <a:lnTo>
                    <a:pt x="4" y="84"/>
                  </a:lnTo>
                  <a:lnTo>
                    <a:pt x="10" y="74"/>
                  </a:lnTo>
                  <a:lnTo>
                    <a:pt x="16" y="64"/>
                  </a:lnTo>
                  <a:lnTo>
                    <a:pt x="24" y="56"/>
                  </a:lnTo>
                  <a:lnTo>
                    <a:pt x="34" y="46"/>
                  </a:lnTo>
                  <a:lnTo>
                    <a:pt x="44" y="38"/>
                  </a:lnTo>
                  <a:lnTo>
                    <a:pt x="56" y="32"/>
                  </a:lnTo>
                  <a:lnTo>
                    <a:pt x="84" y="18"/>
                  </a:lnTo>
                  <a:lnTo>
                    <a:pt x="116" y="8"/>
                  </a:lnTo>
                  <a:lnTo>
                    <a:pt x="152" y="2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5b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53"/>
            <p:cNvSpPr/>
            <p:nvPr/>
          </p:nvSpPr>
          <p:spPr>
            <a:xfrm>
              <a:off x="7864560" y="4876560"/>
              <a:ext cx="603000" cy="333360"/>
            </a:xfrm>
            <a:custGeom>
              <a:avLst/>
              <a:gdLst>
                <a:gd name="textAreaLeft" fmla="*/ 0 w 603000"/>
                <a:gd name="textAreaRight" fmla="*/ 603360 w 6030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380" h="210">
                  <a:moveTo>
                    <a:pt x="190" y="0"/>
                  </a:moveTo>
                  <a:lnTo>
                    <a:pt x="190" y="0"/>
                  </a:lnTo>
                  <a:lnTo>
                    <a:pt x="228" y="2"/>
                  </a:lnTo>
                  <a:lnTo>
                    <a:pt x="264" y="8"/>
                  </a:lnTo>
                  <a:lnTo>
                    <a:pt x="296" y="18"/>
                  </a:lnTo>
                  <a:lnTo>
                    <a:pt x="324" y="30"/>
                  </a:lnTo>
                  <a:lnTo>
                    <a:pt x="336" y="38"/>
                  </a:lnTo>
                  <a:lnTo>
                    <a:pt x="348" y="46"/>
                  </a:lnTo>
                  <a:lnTo>
                    <a:pt x="356" y="54"/>
                  </a:lnTo>
                  <a:lnTo>
                    <a:pt x="364" y="64"/>
                  </a:lnTo>
                  <a:lnTo>
                    <a:pt x="370" y="74"/>
                  </a:lnTo>
                  <a:lnTo>
                    <a:pt x="376" y="84"/>
                  </a:lnTo>
                  <a:lnTo>
                    <a:pt x="378" y="94"/>
                  </a:lnTo>
                  <a:lnTo>
                    <a:pt x="380" y="104"/>
                  </a:lnTo>
                  <a:lnTo>
                    <a:pt x="380" y="104"/>
                  </a:lnTo>
                  <a:lnTo>
                    <a:pt x="378" y="116"/>
                  </a:lnTo>
                  <a:lnTo>
                    <a:pt x="376" y="126"/>
                  </a:lnTo>
                  <a:lnTo>
                    <a:pt x="370" y="136"/>
                  </a:lnTo>
                  <a:lnTo>
                    <a:pt x="364" y="146"/>
                  </a:lnTo>
                  <a:lnTo>
                    <a:pt x="356" y="156"/>
                  </a:lnTo>
                  <a:lnTo>
                    <a:pt x="348" y="164"/>
                  </a:lnTo>
                  <a:lnTo>
                    <a:pt x="336" y="172"/>
                  </a:lnTo>
                  <a:lnTo>
                    <a:pt x="324" y="180"/>
                  </a:lnTo>
                  <a:lnTo>
                    <a:pt x="296" y="192"/>
                  </a:lnTo>
                  <a:lnTo>
                    <a:pt x="264" y="202"/>
                  </a:lnTo>
                  <a:lnTo>
                    <a:pt x="228" y="208"/>
                  </a:lnTo>
                  <a:lnTo>
                    <a:pt x="190" y="210"/>
                  </a:lnTo>
                  <a:lnTo>
                    <a:pt x="190" y="210"/>
                  </a:lnTo>
                  <a:lnTo>
                    <a:pt x="152" y="208"/>
                  </a:lnTo>
                  <a:lnTo>
                    <a:pt x="116" y="202"/>
                  </a:lnTo>
                  <a:lnTo>
                    <a:pt x="84" y="192"/>
                  </a:lnTo>
                  <a:lnTo>
                    <a:pt x="56" y="180"/>
                  </a:lnTo>
                  <a:lnTo>
                    <a:pt x="42" y="172"/>
                  </a:lnTo>
                  <a:lnTo>
                    <a:pt x="32" y="164"/>
                  </a:lnTo>
                  <a:lnTo>
                    <a:pt x="22" y="156"/>
                  </a:lnTo>
                  <a:lnTo>
                    <a:pt x="14" y="146"/>
                  </a:lnTo>
                  <a:lnTo>
                    <a:pt x="8" y="136"/>
                  </a:lnTo>
                  <a:lnTo>
                    <a:pt x="4" y="126"/>
                  </a:lnTo>
                  <a:lnTo>
                    <a:pt x="0" y="11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94"/>
                  </a:lnTo>
                  <a:lnTo>
                    <a:pt x="4" y="84"/>
                  </a:lnTo>
                  <a:lnTo>
                    <a:pt x="8" y="74"/>
                  </a:lnTo>
                  <a:lnTo>
                    <a:pt x="14" y="64"/>
                  </a:lnTo>
                  <a:lnTo>
                    <a:pt x="22" y="54"/>
                  </a:lnTo>
                  <a:lnTo>
                    <a:pt x="32" y="46"/>
                  </a:lnTo>
                  <a:lnTo>
                    <a:pt x="42" y="38"/>
                  </a:lnTo>
                  <a:lnTo>
                    <a:pt x="56" y="30"/>
                  </a:lnTo>
                  <a:lnTo>
                    <a:pt x="84" y="18"/>
                  </a:lnTo>
                  <a:lnTo>
                    <a:pt x="116" y="8"/>
                  </a:lnTo>
                  <a:lnTo>
                    <a:pt x="152" y="2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5b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54"/>
            <p:cNvSpPr/>
            <p:nvPr/>
          </p:nvSpPr>
          <p:spPr>
            <a:xfrm>
              <a:off x="9664920" y="4876560"/>
              <a:ext cx="603000" cy="333360"/>
            </a:xfrm>
            <a:custGeom>
              <a:avLst/>
              <a:gdLst>
                <a:gd name="textAreaLeft" fmla="*/ 0 w 603000"/>
                <a:gd name="textAreaRight" fmla="*/ 603360 w 6030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380" h="210">
                  <a:moveTo>
                    <a:pt x="190" y="0"/>
                  </a:moveTo>
                  <a:lnTo>
                    <a:pt x="190" y="0"/>
                  </a:lnTo>
                  <a:lnTo>
                    <a:pt x="228" y="2"/>
                  </a:lnTo>
                  <a:lnTo>
                    <a:pt x="264" y="8"/>
                  </a:lnTo>
                  <a:lnTo>
                    <a:pt x="296" y="18"/>
                  </a:lnTo>
                  <a:lnTo>
                    <a:pt x="324" y="30"/>
                  </a:lnTo>
                  <a:lnTo>
                    <a:pt x="336" y="38"/>
                  </a:lnTo>
                  <a:lnTo>
                    <a:pt x="348" y="46"/>
                  </a:lnTo>
                  <a:lnTo>
                    <a:pt x="356" y="54"/>
                  </a:lnTo>
                  <a:lnTo>
                    <a:pt x="364" y="64"/>
                  </a:lnTo>
                  <a:lnTo>
                    <a:pt x="372" y="74"/>
                  </a:lnTo>
                  <a:lnTo>
                    <a:pt x="376" y="84"/>
                  </a:lnTo>
                  <a:lnTo>
                    <a:pt x="378" y="94"/>
                  </a:lnTo>
                  <a:lnTo>
                    <a:pt x="380" y="104"/>
                  </a:lnTo>
                  <a:lnTo>
                    <a:pt x="380" y="104"/>
                  </a:lnTo>
                  <a:lnTo>
                    <a:pt x="378" y="116"/>
                  </a:lnTo>
                  <a:lnTo>
                    <a:pt x="376" y="126"/>
                  </a:lnTo>
                  <a:lnTo>
                    <a:pt x="372" y="136"/>
                  </a:lnTo>
                  <a:lnTo>
                    <a:pt x="364" y="146"/>
                  </a:lnTo>
                  <a:lnTo>
                    <a:pt x="356" y="156"/>
                  </a:lnTo>
                  <a:lnTo>
                    <a:pt x="348" y="164"/>
                  </a:lnTo>
                  <a:lnTo>
                    <a:pt x="336" y="172"/>
                  </a:lnTo>
                  <a:lnTo>
                    <a:pt x="324" y="180"/>
                  </a:lnTo>
                  <a:lnTo>
                    <a:pt x="296" y="192"/>
                  </a:lnTo>
                  <a:lnTo>
                    <a:pt x="264" y="202"/>
                  </a:lnTo>
                  <a:lnTo>
                    <a:pt x="228" y="208"/>
                  </a:lnTo>
                  <a:lnTo>
                    <a:pt x="190" y="210"/>
                  </a:lnTo>
                  <a:lnTo>
                    <a:pt x="190" y="210"/>
                  </a:lnTo>
                  <a:lnTo>
                    <a:pt x="152" y="208"/>
                  </a:lnTo>
                  <a:lnTo>
                    <a:pt x="116" y="202"/>
                  </a:lnTo>
                  <a:lnTo>
                    <a:pt x="84" y="192"/>
                  </a:lnTo>
                  <a:lnTo>
                    <a:pt x="56" y="180"/>
                  </a:lnTo>
                  <a:lnTo>
                    <a:pt x="44" y="172"/>
                  </a:lnTo>
                  <a:lnTo>
                    <a:pt x="32" y="164"/>
                  </a:lnTo>
                  <a:lnTo>
                    <a:pt x="22" y="156"/>
                  </a:lnTo>
                  <a:lnTo>
                    <a:pt x="14" y="146"/>
                  </a:lnTo>
                  <a:lnTo>
                    <a:pt x="8" y="136"/>
                  </a:lnTo>
                  <a:lnTo>
                    <a:pt x="4" y="126"/>
                  </a:lnTo>
                  <a:lnTo>
                    <a:pt x="0" y="11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94"/>
                  </a:lnTo>
                  <a:lnTo>
                    <a:pt x="4" y="84"/>
                  </a:lnTo>
                  <a:lnTo>
                    <a:pt x="8" y="74"/>
                  </a:lnTo>
                  <a:lnTo>
                    <a:pt x="14" y="64"/>
                  </a:lnTo>
                  <a:lnTo>
                    <a:pt x="22" y="54"/>
                  </a:lnTo>
                  <a:lnTo>
                    <a:pt x="32" y="46"/>
                  </a:lnTo>
                  <a:lnTo>
                    <a:pt x="44" y="38"/>
                  </a:lnTo>
                  <a:lnTo>
                    <a:pt x="56" y="30"/>
                  </a:lnTo>
                  <a:lnTo>
                    <a:pt x="84" y="18"/>
                  </a:lnTo>
                  <a:lnTo>
                    <a:pt x="116" y="8"/>
                  </a:lnTo>
                  <a:lnTo>
                    <a:pt x="152" y="2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5b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テキスト ボックス 60"/>
          <p:cNvSpPr/>
          <p:nvPr/>
        </p:nvSpPr>
        <p:spPr>
          <a:xfrm>
            <a:off x="15163920" y="2747880"/>
            <a:ext cx="2342016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33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敬老の集い</a:t>
            </a:r>
            <a:endParaRPr b="0" lang="en-US" sz="3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4:19:11Z</dcterms:created>
  <dc:creator>seisaku</dc:creator>
  <dc:description/>
  <dc:language>en-US</dc:language>
  <cp:lastModifiedBy>ttec</cp:lastModifiedBy>
  <dcterms:modified xsi:type="dcterms:W3CDTF">2012-05-31T04:45:52Z</dcterms:modified>
  <cp:revision>2</cp:revision>
  <dc:subject/>
  <dc:title>スライド 1</dc:title>
</cp:coreProperties>
</file>