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05E-6EE2-44F0-AC5A-6F602F05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96217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8742240"/>
            <a:ext cx="96217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6A0-C098-41CC-9CB7-AEA4DA47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874224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BF7-3B38-449D-97CC-07B2353A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120" y="352908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440" y="352908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874224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120" y="874224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440" y="8742240"/>
            <a:ext cx="309780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E71-F164-44E7-9691-C0168715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3529080"/>
            <a:ext cx="962172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91D-E8FA-4B69-A6BB-F8CFA806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96217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E63-9CE7-467F-8ECB-9D753B31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A55-5AA2-422B-B98F-13A9387A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9F1-FB06-4BA1-8AD3-23346E08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6600"/>
            <a:ext cx="962172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5AC-0756-4AA6-9705-28A58B5C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874224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4B6-9BCF-47E8-9475-665E162A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ABB-4293-4D93-9E0B-510D569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51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8742240"/>
            <a:ext cx="962172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9CC-58C4-467D-AB46-4E58C50D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6600"/>
            <a:ext cx="962172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3529080"/>
            <a:ext cx="962172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14017680"/>
            <a:ext cx="249552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552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6C4718F2-F98F-4097-82B2-B9FFF23EB161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6"/>
          <p:cNvSpPr/>
          <p:nvPr/>
        </p:nvSpPr>
        <p:spPr>
          <a:xfrm>
            <a:off x="534960" y="330120"/>
            <a:ext cx="9618840" cy="140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14"/>
          <p:cNvSpPr/>
          <p:nvPr/>
        </p:nvSpPr>
        <p:spPr>
          <a:xfrm>
            <a:off x="534960" y="10285560"/>
            <a:ext cx="9618840" cy="409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73"/>
          <p:cNvSpPr/>
          <p:nvPr/>
        </p:nvSpPr>
        <p:spPr>
          <a:xfrm>
            <a:off x="611280" y="10604520"/>
            <a:ext cx="95425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1000" spc="-1" strike="noStrike">
                <a:solidFill>
                  <a:srgbClr val="ffff00"/>
                </a:solidFill>
                <a:latin typeface="Calibri"/>
                <a:ea typeface="HGP創英角ｺﾞｼｯｸUB"/>
              </a:rPr>
              <a:t>安全に目を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1000" spc="-1" strike="noStrike">
                <a:solidFill>
                  <a:srgbClr val="ffff00"/>
                </a:solidFill>
                <a:latin typeface="Calibri"/>
                <a:ea typeface="HGP創英角ｺﾞｼｯｸUB"/>
              </a:rPr>
              <a:t>光らせています</a:t>
            </a:r>
            <a:r>
              <a:rPr b="0" lang="en-US" sz="11000" spc="-1" strike="noStrike">
                <a:solidFill>
                  <a:srgbClr val="ffff00"/>
                </a:solidFill>
                <a:latin typeface="Calibri"/>
                <a:ea typeface="HGP創英角ｺﾞｼｯｸUB"/>
              </a:rPr>
              <a:t>!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図 10" descr="sagyou_01.png"/>
          <p:cNvPicPr/>
          <p:nvPr/>
        </p:nvPicPr>
        <p:blipFill>
          <a:blip r:embed="rId1"/>
          <a:stretch/>
        </p:blipFill>
        <p:spPr>
          <a:xfrm>
            <a:off x="1042920" y="219240"/>
            <a:ext cx="8575920" cy="1024884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15"/>
          <p:cNvSpPr/>
          <p:nvPr/>
        </p:nvSpPr>
        <p:spPr>
          <a:xfrm>
            <a:off x="8353080" y="14486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エコクリスタル建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16"/>
          <p:cNvSpPr/>
          <p:nvPr/>
        </p:nvSpPr>
        <p:spPr>
          <a:xfrm>
            <a:off x="534960" y="330120"/>
            <a:ext cx="1416240" cy="11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加算記号 17"/>
          <p:cNvSpPr/>
          <p:nvPr/>
        </p:nvSpPr>
        <p:spPr>
          <a:xfrm>
            <a:off x="565200" y="304920"/>
            <a:ext cx="1305000" cy="1171440"/>
          </a:xfrm>
          <a:custGeom>
            <a:avLst/>
            <a:gdLst/>
            <a:ahLst/>
            <a:rect l="l" t="t" r="r" b="b"/>
            <a:pathLst>
              <a:path w="1304925" h="1171575">
                <a:moveTo>
                  <a:pt x="172968" y="448010"/>
                </a:moveTo>
                <a:lnTo>
                  <a:pt x="514685" y="448010"/>
                </a:lnTo>
                <a:lnTo>
                  <a:pt x="514685" y="155292"/>
                </a:lnTo>
                <a:lnTo>
                  <a:pt x="790240" y="155292"/>
                </a:lnTo>
                <a:lnTo>
                  <a:pt x="790240" y="448010"/>
                </a:lnTo>
                <a:lnTo>
                  <a:pt x="1131957" y="448010"/>
                </a:lnTo>
                <a:lnTo>
                  <a:pt x="1131957" y="723565"/>
                </a:lnTo>
                <a:lnTo>
                  <a:pt x="790240" y="723565"/>
                </a:lnTo>
                <a:lnTo>
                  <a:pt x="790240" y="1016283"/>
                </a:lnTo>
                <a:lnTo>
                  <a:pt x="514685" y="1016283"/>
                </a:lnTo>
                <a:lnTo>
                  <a:pt x="514685" y="723565"/>
                </a:lnTo>
                <a:lnTo>
                  <a:pt x="172968" y="723565"/>
                </a:lnTo>
                <a:lnTo>
                  <a:pt x="172968" y="448010"/>
                </a:lnTo>
                <a:close/>
              </a:path>
            </a:pathLst>
          </a:custGeom>
          <a:solidFill>
            <a:srgbClr val="0091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深田 龍</cp:lastModifiedBy>
  <dcterms:modified xsi:type="dcterms:W3CDTF">2013-02-17T05:19:51Z</dcterms:modified>
  <cp:revision>7</cp:revision>
  <dc:subject/>
  <dc:title>PowerPoint プレゼンテーション</dc:title>
</cp:coreProperties>
</file>