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3206988" cy="106918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EEF8-A35D-4738-995A-1EE2D9C78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60360" y="289080"/>
            <a:ext cx="38883960" cy="2059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1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3888396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160360" y="6180840"/>
            <a:ext cx="3888396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CA1B-391D-49BA-AEF8-A405E2481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60360" y="289080"/>
            <a:ext cx="38883960" cy="2059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1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084920" y="249516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160360" y="618084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2084920" y="618084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EB23-9504-41FA-9C86-2C24D3D3F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60360" y="289080"/>
            <a:ext cx="38883960" cy="2059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1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1252044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307200" y="2495160"/>
            <a:ext cx="1252044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8454040" y="2495160"/>
            <a:ext cx="1252044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160360" y="6180840"/>
            <a:ext cx="1252044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307200" y="6180840"/>
            <a:ext cx="1252044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8454040" y="6180840"/>
            <a:ext cx="1252044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5DD6-E805-40FB-B89F-AC68B11C0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60360" y="289080"/>
            <a:ext cx="38883960" cy="2059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1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160360" y="2495160"/>
            <a:ext cx="38883960" cy="70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49"/>
              </a:spcBef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8760-55D7-4B7F-991A-FB7DD3FB3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60360" y="289080"/>
            <a:ext cx="38883960" cy="2059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1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38883960" cy="705636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70C3-35E7-4E6C-B8F5-26AA78196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60360" y="289080"/>
            <a:ext cx="38883960" cy="2059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1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18975240" cy="705636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2084920" y="2495160"/>
            <a:ext cx="18975240" cy="705636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05CC-4B3A-4B4A-B6E6-5884101D2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60360" y="289080"/>
            <a:ext cx="38883960" cy="2059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1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0D61-9C5D-4E14-8871-DCF92A385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60360" y="428400"/>
            <a:ext cx="38883960" cy="82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49"/>
              </a:spcBef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85C8-CC52-477D-B582-9C5E7B24F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60360" y="289080"/>
            <a:ext cx="38883960" cy="2059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1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2084920" y="2495160"/>
            <a:ext cx="18975240" cy="705636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160360" y="618084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FD29-F768-4631-A4C0-E6E06690B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60360" y="289080"/>
            <a:ext cx="38883960" cy="2059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1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18975240" cy="705636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2084920" y="249516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2084920" y="618084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D92B-6645-4426-BA4F-5AC0EE3B2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60360" y="289080"/>
            <a:ext cx="38883960" cy="2059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1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2084920" y="249516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160360" y="6180840"/>
            <a:ext cx="3888396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DCF5-F861-4996-9EE2-EE22B952C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60360" y="428400"/>
            <a:ext cx="38883960" cy="1780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11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160360" y="2495160"/>
            <a:ext cx="38883960" cy="705636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 fontScale="62000"/>
          </a:bodyPr>
          <a:p>
            <a:pPr marL="572400" indent="-572400">
              <a:spcBef>
                <a:spcPts val="2149"/>
              </a:spcBef>
              <a:buClr>
                <a:srgbClr val="000000"/>
              </a:buClr>
              <a:buFont typeface="Arial"/>
              <a:buChar char="•"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8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  <a:p>
            <a:pPr lvl="1" marL="1239840" indent="-476280">
              <a:spcBef>
                <a:spcPts val="2149"/>
              </a:spcBef>
              <a:buClr>
                <a:srgbClr val="000000"/>
              </a:buClr>
              <a:buFont typeface="Arial"/>
              <a:buChar char="–"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8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  <a:p>
            <a:pPr lvl="2" marL="1908360" indent="-381600">
              <a:spcBef>
                <a:spcPts val="2149"/>
              </a:spcBef>
              <a:buClr>
                <a:srgbClr val="000000"/>
              </a:buClr>
              <a:buFont typeface="Arial"/>
              <a:buChar char="•"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8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  <a:p>
            <a:pPr lvl="3" marL="2671920" indent="-381600">
              <a:spcBef>
                <a:spcPts val="2149"/>
              </a:spcBef>
              <a:buClr>
                <a:srgbClr val="000000"/>
              </a:buClr>
              <a:buFont typeface="Arial"/>
              <a:buChar char="–"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8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  <a:p>
            <a:pPr lvl="4" marL="3434760" indent="-380880">
              <a:spcBef>
                <a:spcPts val="2149"/>
              </a:spcBef>
              <a:buClr>
                <a:srgbClr val="000000"/>
              </a:buClr>
              <a:buFont typeface="Arial"/>
              <a:buChar char="»"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8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  <a:p>
            <a:pPr lvl="5" marL="3434760" indent="-380880">
              <a:spcBef>
                <a:spcPts val="2149"/>
              </a:spcBef>
              <a:buClr>
                <a:srgbClr val="000000"/>
              </a:buClr>
              <a:buFont typeface="Arial"/>
              <a:buChar char="»"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8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  <a:p>
            <a:pPr lvl="6" marL="3434760" indent="-380880">
              <a:spcBef>
                <a:spcPts val="2149"/>
              </a:spcBef>
              <a:buClr>
                <a:srgbClr val="000000"/>
              </a:buClr>
              <a:buFont typeface="Arial"/>
              <a:buChar char="»"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8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160360" y="9737640"/>
            <a:ext cx="10080360" cy="7430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Autofit/>
          </a:bodyPr>
          <a:lstStyle>
            <a:lvl1pPr indent="0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  <a:defRPr b="0" lang="en-US" sz="3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761800" y="9737640"/>
            <a:ext cx="13681080" cy="7430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Autofit/>
          </a:bodyPr>
          <a:lstStyle>
            <a:lvl1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  <a:defRPr b="0" lang="en-US" sz="3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963960" y="9737640"/>
            <a:ext cx="10080360" cy="7430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Autofit/>
          </a:bodyPr>
          <a:lstStyle>
            <a:lvl1pPr indent="0" algn="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  <a:defRPr b="0" lang="en-US" sz="3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fld id="{9497A7AA-37EF-40A1-8872-91EC82C54818}" type="slidenum">
              <a:rPr b="0" lang="en-US" sz="3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3205400" cy="106934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865080" y="1025640"/>
            <a:ext cx="41476680" cy="89186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5481720" y="1697040"/>
            <a:ext cx="32243760" cy="81979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18073800" y="4338720"/>
            <a:ext cx="521964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5T07:13:47Z</dcterms:created>
  <dc:creator>****</dc:creator>
  <dc:description/>
  <dc:language>en-US</dc:language>
  <cp:lastModifiedBy>fukase3</cp:lastModifiedBy>
  <dcterms:modified xsi:type="dcterms:W3CDTF">2009-05-26T04:24:23Z</dcterms:modified>
  <cp:revision>10</cp:revision>
  <dc:subject/>
  <dc:title>スライド 1</dc:title>
</cp:coreProperties>
</file>