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88638" cy="151241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9458-9AE6-4D5E-BC33-78FB09336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06600"/>
            <a:ext cx="962172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3529080"/>
            <a:ext cx="962172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8742240"/>
            <a:ext cx="962172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C477-7AD2-47B4-9CCE-D4538EEA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06600"/>
            <a:ext cx="962172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3529080"/>
            <a:ext cx="469512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3360" y="3529080"/>
            <a:ext cx="469512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8742240"/>
            <a:ext cx="469512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3360" y="8742240"/>
            <a:ext cx="469512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3CE4-2637-4E4C-B695-E22EF8117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06600"/>
            <a:ext cx="962172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3529080"/>
            <a:ext cx="309780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6120" y="3529080"/>
            <a:ext cx="309780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39440" y="3529080"/>
            <a:ext cx="309780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8742240"/>
            <a:ext cx="309780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6120" y="8742240"/>
            <a:ext cx="309780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39440" y="8742240"/>
            <a:ext cx="309780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A98B-B30A-49B6-B5CC-C56E1A331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606600"/>
            <a:ext cx="962172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3529080"/>
            <a:ext cx="9621720" cy="998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519B-BD24-427D-BF9D-9C0F8FB2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06600"/>
            <a:ext cx="962172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3529080"/>
            <a:ext cx="962172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6818-CCE5-4860-A6BF-F18F5B06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06600"/>
            <a:ext cx="962172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3529080"/>
            <a:ext cx="469512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3360" y="3529080"/>
            <a:ext cx="469512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5428-892E-45DB-9748-3A31C164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06600"/>
            <a:ext cx="962172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4825-4931-41D8-A200-C85E3A35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606600"/>
            <a:ext cx="9621720" cy="1167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84CB-A2FD-44C7-BC8A-42C19204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06600"/>
            <a:ext cx="962172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3529080"/>
            <a:ext cx="469512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3360" y="3529080"/>
            <a:ext cx="469512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8742240"/>
            <a:ext cx="469512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AEBC-453B-40BB-B7E0-1ADA3AEF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06600"/>
            <a:ext cx="962172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3529080"/>
            <a:ext cx="469512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3360" y="3529080"/>
            <a:ext cx="469512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3360" y="8742240"/>
            <a:ext cx="469512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C6AE-315E-4FC0-BB77-6170982F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06600"/>
            <a:ext cx="962172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3529080"/>
            <a:ext cx="469512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3360" y="3529080"/>
            <a:ext cx="469512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8742240"/>
            <a:ext cx="962172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DF0A-DEA4-481D-A5CF-4EDF58C3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6600"/>
            <a:ext cx="962172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3529080"/>
            <a:ext cx="962172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1" marL="1197000" indent="-4604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2" marL="1843200" indent="-3682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3" marL="257976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4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5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6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3520" y="14017680"/>
            <a:ext cx="2495520" cy="804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1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1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1120" y="14017680"/>
            <a:ext cx="3386160" cy="804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59720" y="14017680"/>
            <a:ext cx="2495520" cy="804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1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fld id="{B8F81C88-13C8-4E7A-AFBA-886447E6FD21}" type="slidenum">
              <a:rPr b="0" lang="ja-JP" sz="1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1" descr=""/>
          <p:cNvPicPr/>
          <p:nvPr/>
        </p:nvPicPr>
        <p:blipFill>
          <a:blip r:embed="rId1"/>
          <a:stretch/>
        </p:blipFill>
        <p:spPr>
          <a:xfrm>
            <a:off x="3141720" y="763560"/>
            <a:ext cx="4384440" cy="13289040"/>
          </a:xfrm>
          <a:prstGeom prst="rect">
            <a:avLst/>
          </a:prstGeom>
          <a:ln w="0">
            <a:noFill/>
          </a:ln>
        </p:spPr>
      </p:pic>
      <p:pic>
        <p:nvPicPr>
          <p:cNvPr id="42" name="正方形/長方形 9" descr=""/>
          <p:cNvPicPr/>
          <p:nvPr/>
        </p:nvPicPr>
        <p:blipFill>
          <a:blip r:embed="rId2"/>
          <a:stretch/>
        </p:blipFill>
        <p:spPr>
          <a:xfrm>
            <a:off x="-371520" y="8381880"/>
            <a:ext cx="11990520" cy="5334120"/>
          </a:xfrm>
          <a:prstGeom prst="rect">
            <a:avLst/>
          </a:prstGeom>
          <a:ln w="0">
            <a:noFill/>
          </a:ln>
        </p:spPr>
      </p:pic>
      <p:sp>
        <p:nvSpPr>
          <p:cNvPr id="43" name="テキスト ボックス 15"/>
          <p:cNvSpPr/>
          <p:nvPr/>
        </p:nvSpPr>
        <p:spPr>
          <a:xfrm>
            <a:off x="8353080" y="144860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エコクリスタル建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16"/>
          <p:cNvSpPr/>
          <p:nvPr/>
        </p:nvSpPr>
        <p:spPr>
          <a:xfrm>
            <a:off x="534960" y="330120"/>
            <a:ext cx="1416240" cy="11462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加算記号 17"/>
          <p:cNvSpPr/>
          <p:nvPr/>
        </p:nvSpPr>
        <p:spPr>
          <a:xfrm>
            <a:off x="565200" y="304920"/>
            <a:ext cx="1305000" cy="1171440"/>
          </a:xfrm>
          <a:custGeom>
            <a:avLst/>
            <a:gdLst/>
            <a:ahLst/>
            <a:rect l="l" t="t" r="r" b="b"/>
            <a:pathLst>
              <a:path w="1304925" h="1171575">
                <a:moveTo>
                  <a:pt x="172968" y="448010"/>
                </a:moveTo>
                <a:lnTo>
                  <a:pt x="514685" y="448010"/>
                </a:lnTo>
                <a:lnTo>
                  <a:pt x="514685" y="155292"/>
                </a:lnTo>
                <a:lnTo>
                  <a:pt x="790240" y="155292"/>
                </a:lnTo>
                <a:lnTo>
                  <a:pt x="790240" y="448010"/>
                </a:lnTo>
                <a:lnTo>
                  <a:pt x="1131957" y="448010"/>
                </a:lnTo>
                <a:lnTo>
                  <a:pt x="1131957" y="723565"/>
                </a:lnTo>
                <a:lnTo>
                  <a:pt x="790240" y="723565"/>
                </a:lnTo>
                <a:lnTo>
                  <a:pt x="790240" y="1016283"/>
                </a:lnTo>
                <a:lnTo>
                  <a:pt x="514685" y="1016283"/>
                </a:lnTo>
                <a:lnTo>
                  <a:pt x="514685" y="723565"/>
                </a:lnTo>
                <a:lnTo>
                  <a:pt x="172968" y="723565"/>
                </a:lnTo>
                <a:lnTo>
                  <a:pt x="172968" y="448010"/>
                </a:lnTo>
                <a:close/>
              </a:path>
            </a:pathLst>
          </a:custGeom>
          <a:solidFill>
            <a:srgbClr val="00910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円形吹き出し 21"/>
          <p:cNvSpPr/>
          <p:nvPr/>
        </p:nvSpPr>
        <p:spPr>
          <a:xfrm>
            <a:off x="7464600" y="1316160"/>
            <a:ext cx="2786040" cy="1931760"/>
          </a:xfrm>
          <a:prstGeom prst="wedgeEllipseCallout">
            <a:avLst>
              <a:gd name="adj1" fmla="val -86958"/>
              <a:gd name="adj2" fmla="val -6222"/>
            </a:avLst>
          </a:prstGeom>
          <a:solidFill>
            <a:srgbClr val="008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4000" spc="-1" strike="noStrike">
                <a:solidFill>
                  <a:srgbClr val="ffff00"/>
                </a:solidFill>
                <a:latin typeface="HGP創英角ｺﾞｼｯｸUB"/>
                <a:ea typeface="HGP創英角ｺﾞｼｯｸUB"/>
              </a:rPr>
              <a:t>保護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円形吹き出し 22"/>
          <p:cNvSpPr/>
          <p:nvPr/>
        </p:nvSpPr>
        <p:spPr>
          <a:xfrm>
            <a:off x="558720" y="3243240"/>
            <a:ext cx="2784600" cy="1932120"/>
          </a:xfrm>
          <a:prstGeom prst="wedgeEllipseCallout">
            <a:avLst>
              <a:gd name="adj1" fmla="val 73212"/>
              <a:gd name="adj2" fmla="val 76736"/>
            </a:avLst>
          </a:prstGeom>
          <a:solidFill>
            <a:srgbClr val="008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4000" spc="-1" strike="noStrike">
                <a:solidFill>
                  <a:srgbClr val="ffff00"/>
                </a:solidFill>
                <a:latin typeface="HGP創英角ｺﾞｼｯｸUB"/>
                <a:ea typeface="HGP創英角ｺﾞｼｯｸUB"/>
              </a:rPr>
              <a:t>作業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円形吹き出し 23"/>
          <p:cNvSpPr/>
          <p:nvPr/>
        </p:nvSpPr>
        <p:spPr>
          <a:xfrm>
            <a:off x="565200" y="6931080"/>
            <a:ext cx="2786040" cy="1933560"/>
          </a:xfrm>
          <a:prstGeom prst="wedgeEllipseCallout">
            <a:avLst>
              <a:gd name="adj1" fmla="val 86902"/>
              <a:gd name="adj2" fmla="val 34277"/>
            </a:avLst>
          </a:prstGeom>
          <a:solidFill>
            <a:srgbClr val="008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4000" spc="-1" strike="noStrike">
                <a:solidFill>
                  <a:srgbClr val="ffff00"/>
                </a:solidFill>
                <a:latin typeface="HGP創英角ｺﾞｼｯｸUB"/>
                <a:ea typeface="HGP創英角ｺﾞｼｯｸUB"/>
              </a:rPr>
              <a:t>安全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円形吹き出し 24"/>
          <p:cNvSpPr/>
          <p:nvPr/>
        </p:nvSpPr>
        <p:spPr>
          <a:xfrm>
            <a:off x="7464600" y="6649920"/>
            <a:ext cx="2784240" cy="1933560"/>
          </a:xfrm>
          <a:prstGeom prst="wedgeEllipseCallout">
            <a:avLst>
              <a:gd name="adj1" fmla="val -64509"/>
              <a:gd name="adj2" fmla="val 78125"/>
            </a:avLst>
          </a:prstGeom>
          <a:solidFill>
            <a:srgbClr val="008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4000" spc="-1" strike="noStrike">
                <a:solidFill>
                  <a:srgbClr val="ffff00"/>
                </a:solidFill>
                <a:latin typeface="HGP創英角ｺﾞｼｯｸUB"/>
                <a:ea typeface="HGP創英角ｺﾞｼｯｸUB"/>
              </a:rPr>
              <a:t>手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円形吹き出し 25"/>
          <p:cNvSpPr/>
          <p:nvPr/>
        </p:nvSpPr>
        <p:spPr>
          <a:xfrm>
            <a:off x="558720" y="12719160"/>
            <a:ext cx="2784600" cy="1931760"/>
          </a:xfrm>
          <a:prstGeom prst="wedgeEllipseCallout">
            <a:avLst>
              <a:gd name="adj1" fmla="val 68782"/>
              <a:gd name="adj2" fmla="val 1157"/>
            </a:avLst>
          </a:prstGeom>
          <a:solidFill>
            <a:srgbClr val="008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4000" spc="-1" strike="noStrike">
                <a:solidFill>
                  <a:srgbClr val="ffff00"/>
                </a:solidFill>
                <a:latin typeface="HGP創英角ｺﾞｼｯｸUB"/>
                <a:ea typeface="HGP創英角ｺﾞｼｯｸUB"/>
              </a:rPr>
              <a:t>安全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05:26:05Z</dcterms:created>
  <dc:creator>深田 龍</dc:creator>
  <dc:description/>
  <dc:language>en-US</dc:language>
  <cp:lastModifiedBy>Jean</cp:lastModifiedBy>
  <dcterms:modified xsi:type="dcterms:W3CDTF">2013-02-18T10:36:10Z</dcterms:modified>
  <cp:revision>11</cp:revision>
  <dc:subject/>
  <dc:title>PowerPoint プレゼンテーション</dc:title>
</cp:coreProperties>
</file>