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1765440" y="685440"/>
            <a:ext cx="1038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5FDD-579B-44F6-9119-4E84FDEC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927C-2D46-45D6-ACE8-17BFE84E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765440" y="685800"/>
            <a:ext cx="1038888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D98-5631-44D2-9229-ABA7DB63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E3B-A13E-40A5-9448-5DB79DB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080-3A4B-44ED-A04C-15A1C879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BC6-AD97-42A4-B469-85544DF2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5A8-F01A-4DDF-96DC-6C87DF37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D05-9BC6-4924-9DB8-E7D8535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75B-F2B3-4D67-B21C-72602E7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ABA-0CDA-4D3D-923A-E2CB3AD6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F34-B320-43D5-8BC5-7C51B6E6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816-EEC9-4AFF-BC54-F7D3392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A02-334B-4178-B333-8806977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C04-2E82-415D-BF6B-01C2865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720" y="9737640"/>
            <a:ext cx="75628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9737640"/>
            <a:ext cx="102646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0360" y="9737640"/>
            <a:ext cx="75628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F5F-68D1-4F29-86B3-84BA86530501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0" y="0"/>
            <a:ext cx="32403960" cy="10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2403960" cy="573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-92160" y="0"/>
            <a:ext cx="32645520" cy="573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2" descr="chuushajo2"/>
          <p:cNvPicPr/>
          <p:nvPr/>
        </p:nvPicPr>
        <p:blipFill>
          <a:blip r:embed="rId3"/>
          <a:stretch/>
        </p:blipFill>
        <p:spPr>
          <a:xfrm>
            <a:off x="27074880" y="522360"/>
            <a:ext cx="4753080" cy="45306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10"/>
          <p:cNvSpPr/>
          <p:nvPr/>
        </p:nvSpPr>
        <p:spPr>
          <a:xfrm>
            <a:off x="-92160" y="9091440"/>
            <a:ext cx="32553360" cy="15955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38160" y="9091440"/>
            <a:ext cx="32302440" cy="15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747720" y="809640"/>
            <a:ext cx="4280040" cy="409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>
            <a:off x="822240" y="885960"/>
            <a:ext cx="4268880" cy="4078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924200" y="1862280"/>
            <a:ext cx="2368440" cy="236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1849320" y="1785960"/>
            <a:ext cx="2379960" cy="236700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53"/>
          <p:cNvGrpSpPr/>
          <p:nvPr/>
        </p:nvGrpSpPr>
        <p:grpSpPr>
          <a:xfrm>
            <a:off x="5710320" y="1379520"/>
            <a:ext cx="2950920" cy="3191040"/>
            <a:chOff x="5710320" y="1379520"/>
            <a:chExt cx="2950920" cy="3191040"/>
          </a:xfrm>
        </p:grpSpPr>
        <p:sp>
          <p:nvSpPr>
            <p:cNvPr id="59" name="Freeform 19"/>
            <p:cNvSpPr/>
            <p:nvPr/>
          </p:nvSpPr>
          <p:spPr>
            <a:xfrm>
              <a:off x="5710320" y="1379520"/>
              <a:ext cx="2874960" cy="312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5786280" y="1455840"/>
              <a:ext cx="2874960" cy="311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54"/>
          <p:cNvGrpSpPr/>
          <p:nvPr/>
        </p:nvGrpSpPr>
        <p:grpSpPr>
          <a:xfrm>
            <a:off x="9117000" y="1279440"/>
            <a:ext cx="3381480" cy="3278160"/>
            <a:chOff x="9117000" y="1279440"/>
            <a:chExt cx="3381480" cy="3278160"/>
          </a:xfrm>
        </p:grpSpPr>
        <p:sp>
          <p:nvSpPr>
            <p:cNvPr id="62" name="Freeform 20"/>
            <p:cNvSpPr/>
            <p:nvPr/>
          </p:nvSpPr>
          <p:spPr>
            <a:xfrm>
              <a:off x="9117000" y="1279440"/>
              <a:ext cx="3305160" cy="321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9193320" y="1341360"/>
              <a:ext cx="3305160" cy="321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5"/>
          <p:cNvGrpSpPr/>
          <p:nvPr/>
        </p:nvGrpSpPr>
        <p:grpSpPr>
          <a:xfrm>
            <a:off x="12776040" y="1392120"/>
            <a:ext cx="3103560" cy="3040200"/>
            <a:chOff x="12776040" y="1392120"/>
            <a:chExt cx="3103560" cy="3040200"/>
          </a:xfrm>
        </p:grpSpPr>
        <p:sp>
          <p:nvSpPr>
            <p:cNvPr id="65" name="Freeform 21"/>
            <p:cNvSpPr/>
            <p:nvPr/>
          </p:nvSpPr>
          <p:spPr>
            <a:xfrm>
              <a:off x="12776040" y="1392120"/>
              <a:ext cx="3040200" cy="297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12852360" y="1455840"/>
              <a:ext cx="3027240" cy="297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56"/>
          <p:cNvGrpSpPr/>
          <p:nvPr/>
        </p:nvGrpSpPr>
        <p:grpSpPr>
          <a:xfrm>
            <a:off x="16132320" y="1216080"/>
            <a:ext cx="3355920" cy="3354480"/>
            <a:chOff x="16132320" y="1216080"/>
            <a:chExt cx="3355920" cy="3354480"/>
          </a:xfrm>
        </p:grpSpPr>
        <p:sp>
          <p:nvSpPr>
            <p:cNvPr id="68" name="Freeform 22"/>
            <p:cNvSpPr/>
            <p:nvPr/>
          </p:nvSpPr>
          <p:spPr>
            <a:xfrm>
              <a:off x="16132320" y="1216080"/>
              <a:ext cx="3279600" cy="327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>
              <a:off x="16208280" y="1279440"/>
              <a:ext cx="3279960" cy="329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7"/>
          <p:cNvGrpSpPr/>
          <p:nvPr/>
        </p:nvGrpSpPr>
        <p:grpSpPr>
          <a:xfrm>
            <a:off x="19703880" y="1266840"/>
            <a:ext cx="3278520" cy="3279600"/>
            <a:chOff x="19703880" y="1266840"/>
            <a:chExt cx="3278520" cy="3279600"/>
          </a:xfrm>
        </p:grpSpPr>
        <p:sp>
          <p:nvSpPr>
            <p:cNvPr id="71" name="Freeform 23"/>
            <p:cNvSpPr/>
            <p:nvPr/>
          </p:nvSpPr>
          <p:spPr>
            <a:xfrm>
              <a:off x="19703880" y="1266840"/>
              <a:ext cx="3216600" cy="320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9778760" y="1341360"/>
              <a:ext cx="3203640" cy="32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58"/>
          <p:cNvGrpSpPr/>
          <p:nvPr/>
        </p:nvGrpSpPr>
        <p:grpSpPr>
          <a:xfrm>
            <a:off x="23147280" y="1279440"/>
            <a:ext cx="3343320" cy="3316320"/>
            <a:chOff x="23147280" y="1279440"/>
            <a:chExt cx="3343320" cy="3316320"/>
          </a:xfrm>
        </p:grpSpPr>
        <p:sp>
          <p:nvSpPr>
            <p:cNvPr id="74" name="Freeform 24"/>
            <p:cNvSpPr/>
            <p:nvPr/>
          </p:nvSpPr>
          <p:spPr>
            <a:xfrm>
              <a:off x="23147280" y="1279440"/>
              <a:ext cx="3279960" cy="325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23223600" y="1341360"/>
              <a:ext cx="3267000" cy="32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31"/>
          <p:cNvSpPr/>
          <p:nvPr/>
        </p:nvSpPr>
        <p:spPr>
          <a:xfrm>
            <a:off x="9117000" y="7192800"/>
            <a:ext cx="1887480" cy="14050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2"/>
          <p:cNvSpPr/>
          <p:nvPr/>
        </p:nvSpPr>
        <p:spPr>
          <a:xfrm>
            <a:off x="11358720" y="7192800"/>
            <a:ext cx="1645920" cy="14050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3"/>
          <p:cNvSpPr/>
          <p:nvPr/>
        </p:nvSpPr>
        <p:spPr>
          <a:xfrm>
            <a:off x="13333320" y="7040520"/>
            <a:ext cx="1722600" cy="16970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4"/>
          <p:cNvSpPr/>
          <p:nvPr/>
        </p:nvSpPr>
        <p:spPr>
          <a:xfrm>
            <a:off x="15409800" y="7066080"/>
            <a:ext cx="1419120" cy="16588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5"/>
          <p:cNvSpPr/>
          <p:nvPr/>
        </p:nvSpPr>
        <p:spPr>
          <a:xfrm>
            <a:off x="17106840" y="7040520"/>
            <a:ext cx="2040120" cy="17607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6"/>
          <p:cNvSpPr/>
          <p:nvPr/>
        </p:nvSpPr>
        <p:spPr>
          <a:xfrm>
            <a:off x="19310400" y="6989760"/>
            <a:ext cx="1989000" cy="17985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7"/>
          <p:cNvSpPr/>
          <p:nvPr/>
        </p:nvSpPr>
        <p:spPr>
          <a:xfrm>
            <a:off x="21513960" y="6977160"/>
            <a:ext cx="2025360" cy="17985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961920" y="9445680"/>
            <a:ext cx="2305080" cy="836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51"/>
          <p:cNvSpPr/>
          <p:nvPr/>
        </p:nvSpPr>
        <p:spPr>
          <a:xfrm>
            <a:off x="1455840" y="9610560"/>
            <a:ext cx="442800" cy="5702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2"/>
          <p:cNvSpPr/>
          <p:nvPr/>
        </p:nvSpPr>
        <p:spPr>
          <a:xfrm>
            <a:off x="1974960" y="9610560"/>
            <a:ext cx="406440" cy="557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3"/>
          <p:cNvSpPr/>
          <p:nvPr/>
        </p:nvSpPr>
        <p:spPr>
          <a:xfrm>
            <a:off x="2481120" y="9585360"/>
            <a:ext cx="381240" cy="5824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4"/>
          <p:cNvSpPr/>
          <p:nvPr/>
        </p:nvSpPr>
        <p:spPr>
          <a:xfrm>
            <a:off x="11055240" y="9420120"/>
            <a:ext cx="2303640" cy="824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2"/>
          <p:cNvSpPr/>
          <p:nvPr/>
        </p:nvSpPr>
        <p:spPr>
          <a:xfrm>
            <a:off x="11396520" y="9559800"/>
            <a:ext cx="658800" cy="5954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3"/>
          <p:cNvSpPr/>
          <p:nvPr/>
        </p:nvSpPr>
        <p:spPr>
          <a:xfrm>
            <a:off x="12131640" y="9572760"/>
            <a:ext cx="417600" cy="5698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4"/>
          <p:cNvSpPr/>
          <p:nvPr/>
        </p:nvSpPr>
        <p:spPr>
          <a:xfrm>
            <a:off x="12638160" y="9572760"/>
            <a:ext cx="455400" cy="5698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5"/>
          <p:cNvSpPr/>
          <p:nvPr/>
        </p:nvSpPr>
        <p:spPr>
          <a:xfrm>
            <a:off x="949320" y="6254640"/>
            <a:ext cx="7826400" cy="233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6"/>
          <p:cNvSpPr/>
          <p:nvPr/>
        </p:nvSpPr>
        <p:spPr>
          <a:xfrm>
            <a:off x="2862360" y="6508800"/>
            <a:ext cx="745920" cy="74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7"/>
          <p:cNvSpPr/>
          <p:nvPr/>
        </p:nvSpPr>
        <p:spPr>
          <a:xfrm>
            <a:off x="3672000" y="6483240"/>
            <a:ext cx="8110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8"/>
          <p:cNvSpPr/>
          <p:nvPr/>
        </p:nvSpPr>
        <p:spPr>
          <a:xfrm>
            <a:off x="4521240" y="6483240"/>
            <a:ext cx="79704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9"/>
          <p:cNvSpPr/>
          <p:nvPr/>
        </p:nvSpPr>
        <p:spPr>
          <a:xfrm>
            <a:off x="5419800" y="6521400"/>
            <a:ext cx="709560" cy="73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0"/>
          <p:cNvSpPr/>
          <p:nvPr/>
        </p:nvSpPr>
        <p:spPr>
          <a:xfrm>
            <a:off x="1608120" y="7585200"/>
            <a:ext cx="696960" cy="68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1"/>
          <p:cNvSpPr/>
          <p:nvPr/>
        </p:nvSpPr>
        <p:spPr>
          <a:xfrm>
            <a:off x="2394000" y="7508880"/>
            <a:ext cx="7714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2"/>
          <p:cNvSpPr/>
          <p:nvPr/>
        </p:nvSpPr>
        <p:spPr>
          <a:xfrm>
            <a:off x="3241800" y="7508880"/>
            <a:ext cx="80964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3"/>
          <p:cNvSpPr/>
          <p:nvPr/>
        </p:nvSpPr>
        <p:spPr>
          <a:xfrm>
            <a:off x="4152960" y="7534440"/>
            <a:ext cx="646200" cy="760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4"/>
          <p:cNvSpPr/>
          <p:nvPr/>
        </p:nvSpPr>
        <p:spPr>
          <a:xfrm>
            <a:off x="4976640" y="7508880"/>
            <a:ext cx="771840" cy="77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5"/>
          <p:cNvSpPr/>
          <p:nvPr/>
        </p:nvSpPr>
        <p:spPr>
          <a:xfrm>
            <a:off x="5824440" y="7534440"/>
            <a:ext cx="735120" cy="74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6"/>
          <p:cNvSpPr/>
          <p:nvPr/>
        </p:nvSpPr>
        <p:spPr>
          <a:xfrm>
            <a:off x="6673680" y="7572240"/>
            <a:ext cx="733680" cy="69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7"/>
          <p:cNvSpPr/>
          <p:nvPr/>
        </p:nvSpPr>
        <p:spPr>
          <a:xfrm>
            <a:off x="27757440" y="3317760"/>
            <a:ext cx="695160" cy="684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8"/>
          <p:cNvSpPr/>
          <p:nvPr/>
        </p:nvSpPr>
        <p:spPr>
          <a:xfrm>
            <a:off x="28516320" y="3305160"/>
            <a:ext cx="658800" cy="696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9"/>
          <p:cNvSpPr/>
          <p:nvPr/>
        </p:nvSpPr>
        <p:spPr>
          <a:xfrm>
            <a:off x="29225880" y="3305160"/>
            <a:ext cx="684360" cy="696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0"/>
          <p:cNvSpPr/>
          <p:nvPr/>
        </p:nvSpPr>
        <p:spPr>
          <a:xfrm>
            <a:off x="29973600" y="3317760"/>
            <a:ext cx="682560" cy="684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1"/>
          <p:cNvSpPr/>
          <p:nvPr/>
        </p:nvSpPr>
        <p:spPr>
          <a:xfrm>
            <a:off x="30732480" y="3532320"/>
            <a:ext cx="417600" cy="419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2"/>
          <p:cNvSpPr/>
          <p:nvPr/>
        </p:nvSpPr>
        <p:spPr>
          <a:xfrm>
            <a:off x="27783000" y="4152960"/>
            <a:ext cx="392040" cy="380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3"/>
          <p:cNvSpPr/>
          <p:nvPr/>
        </p:nvSpPr>
        <p:spPr>
          <a:xfrm>
            <a:off x="28213200" y="4114800"/>
            <a:ext cx="468000" cy="455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94"/>
          <p:cNvSpPr/>
          <p:nvPr/>
        </p:nvSpPr>
        <p:spPr>
          <a:xfrm>
            <a:off x="28706760" y="4102200"/>
            <a:ext cx="468360" cy="468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95"/>
          <p:cNvSpPr/>
          <p:nvPr/>
        </p:nvSpPr>
        <p:spPr>
          <a:xfrm>
            <a:off x="29238480" y="4114800"/>
            <a:ext cx="328680" cy="442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6"/>
          <p:cNvSpPr/>
          <p:nvPr/>
        </p:nvSpPr>
        <p:spPr>
          <a:xfrm>
            <a:off x="29630520" y="4114800"/>
            <a:ext cx="430560" cy="442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97"/>
          <p:cNvSpPr/>
          <p:nvPr/>
        </p:nvSpPr>
        <p:spPr>
          <a:xfrm>
            <a:off x="30124440" y="4127400"/>
            <a:ext cx="404640" cy="419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8"/>
          <p:cNvSpPr/>
          <p:nvPr/>
        </p:nvSpPr>
        <p:spPr>
          <a:xfrm>
            <a:off x="30605400" y="4152960"/>
            <a:ext cx="431640" cy="39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99"/>
          <p:cNvSpPr/>
          <p:nvPr/>
        </p:nvSpPr>
        <p:spPr>
          <a:xfrm>
            <a:off x="31111920" y="4406760"/>
            <a:ext cx="152280" cy="15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15"/>
          <p:cNvSpPr/>
          <p:nvPr/>
        </p:nvSpPr>
        <p:spPr>
          <a:xfrm>
            <a:off x="9256680" y="6165720"/>
            <a:ext cx="14208120" cy="6969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16"/>
          <p:cNvSpPr/>
          <p:nvPr/>
        </p:nvSpPr>
        <p:spPr>
          <a:xfrm>
            <a:off x="12890520" y="6254640"/>
            <a:ext cx="48096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17"/>
          <p:cNvSpPr/>
          <p:nvPr/>
        </p:nvSpPr>
        <p:spPr>
          <a:xfrm>
            <a:off x="13434840" y="6280200"/>
            <a:ext cx="405000" cy="43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18"/>
          <p:cNvSpPr/>
          <p:nvPr/>
        </p:nvSpPr>
        <p:spPr>
          <a:xfrm>
            <a:off x="13916160" y="6305400"/>
            <a:ext cx="44280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19"/>
          <p:cNvSpPr/>
          <p:nvPr/>
        </p:nvSpPr>
        <p:spPr>
          <a:xfrm>
            <a:off x="14435280" y="6280200"/>
            <a:ext cx="393480" cy="43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0"/>
          <p:cNvSpPr/>
          <p:nvPr/>
        </p:nvSpPr>
        <p:spPr>
          <a:xfrm>
            <a:off x="14916240" y="6330960"/>
            <a:ext cx="44424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1"/>
          <p:cNvSpPr/>
          <p:nvPr/>
        </p:nvSpPr>
        <p:spPr>
          <a:xfrm>
            <a:off x="15435360" y="6305400"/>
            <a:ext cx="431640" cy="3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2"/>
          <p:cNvSpPr/>
          <p:nvPr/>
        </p:nvSpPr>
        <p:spPr>
          <a:xfrm>
            <a:off x="15930720" y="6292800"/>
            <a:ext cx="41724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3"/>
          <p:cNvSpPr/>
          <p:nvPr/>
        </p:nvSpPr>
        <p:spPr>
          <a:xfrm>
            <a:off x="16424280" y="6394320"/>
            <a:ext cx="27792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4"/>
          <p:cNvSpPr/>
          <p:nvPr/>
        </p:nvSpPr>
        <p:spPr>
          <a:xfrm>
            <a:off x="16791120" y="6305400"/>
            <a:ext cx="442800" cy="3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25"/>
          <p:cNvSpPr/>
          <p:nvPr/>
        </p:nvSpPr>
        <p:spPr>
          <a:xfrm>
            <a:off x="17297280" y="6292800"/>
            <a:ext cx="44316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6"/>
          <p:cNvSpPr/>
          <p:nvPr/>
        </p:nvSpPr>
        <p:spPr>
          <a:xfrm>
            <a:off x="17816400" y="6267600"/>
            <a:ext cx="44316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7"/>
          <p:cNvSpPr/>
          <p:nvPr/>
        </p:nvSpPr>
        <p:spPr>
          <a:xfrm>
            <a:off x="18310320" y="6254640"/>
            <a:ext cx="46836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28"/>
          <p:cNvSpPr/>
          <p:nvPr/>
        </p:nvSpPr>
        <p:spPr>
          <a:xfrm>
            <a:off x="18829440" y="6254640"/>
            <a:ext cx="48096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29"/>
          <p:cNvSpPr/>
          <p:nvPr/>
        </p:nvSpPr>
        <p:spPr>
          <a:xfrm>
            <a:off x="19373760" y="6305400"/>
            <a:ext cx="44316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259"/>
          <p:cNvSpPr txBox="1"/>
          <p:nvPr/>
        </p:nvSpPr>
        <p:spPr>
          <a:xfrm>
            <a:off x="3745080" y="9379080"/>
            <a:ext cx="59036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ffff"/>
                </a:solidFill>
                <a:latin typeface="ＭＳ Ｐゴシック"/>
              </a:rPr>
              <a:t>03-0000-0000</a:t>
            </a:r>
            <a:endParaRPr b="0" lang="en-US" sz="4800" spc="1" strike="noStrike">
              <a:ln w="0">
                <a:noFill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32" name="WordArt 260"/>
          <p:cNvSpPr txBox="1"/>
          <p:nvPr/>
        </p:nvSpPr>
        <p:spPr>
          <a:xfrm>
            <a:off x="13681080" y="9315360"/>
            <a:ext cx="979344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ffff"/>
                </a:solidFill>
                <a:latin typeface="ＭＳ Ｐゴシック"/>
              </a:rPr>
              <a:t>oooooooooooooo.co.jp</a:t>
            </a:r>
            <a:endParaRPr b="0" lang="en-US" sz="4800" spc="1" strike="noStrike">
              <a:ln w="0">
                <a:noFill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133" name="Picture 261" descr="C:\Documents and Settings\moosawa\My Documents\テックTTBS\クリップアート化200905\PPT納品データ\不動産\chushajo\chushajo_5.png"/>
          <p:cNvPicPr/>
          <p:nvPr/>
        </p:nvPicPr>
        <p:blipFill>
          <a:blip r:embed="rId4"/>
          <a:stretch/>
        </p:blipFill>
        <p:spPr>
          <a:xfrm>
            <a:off x="24171120" y="5997600"/>
            <a:ext cx="81075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14:10Z</dcterms:created>
  <dc:creator>NEC-PCuser</dc:creator>
  <dc:description/>
  <dc:language>en-US</dc:language>
  <cp:lastModifiedBy>moosawa</cp:lastModifiedBy>
  <dcterms:modified xsi:type="dcterms:W3CDTF">2009-05-27T03:37:23Z</dcterms:modified>
  <cp:revision>2</cp:revision>
  <dc:subject/>
  <dc:title>スライド 1</dc:title>
</cp:coreProperties>
</file>