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0D9-1A7D-41AD-BDA9-CB0D65B1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C63-F8C8-4964-96BC-FE807AC4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6EF-3470-46E3-87CB-4CE658E7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065-F164-4817-AA15-FC6895F7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942-0798-4B8C-A6C6-916A78C8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49C-5080-405F-8784-6352C031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F64-DF3B-45A3-962B-F42A51EB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19A-8D5A-4B70-B3EC-07B7E667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730520"/>
            <a:ext cx="9623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4C4-C328-47EF-9810-5F123996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07F-9FC8-4844-9F36-55E947E8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9A6-CF78-4451-8794-E6844E90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EDA-EB86-4E08-BA8B-6388B4DB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79000"/>
          </a:bodyPr>
          <a:p>
            <a:pPr marL="911520" indent="-9115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976400" indent="-7599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3041280" indent="-6080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4257720" indent="-608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0044600"/>
            <a:ext cx="338760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F7181BFD-B9DA-415B-8C86-278E80BD344C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63"/>
          <p:cNvGrpSpPr/>
          <p:nvPr/>
        </p:nvGrpSpPr>
        <p:grpSpPr>
          <a:xfrm>
            <a:off x="434880" y="36569520"/>
            <a:ext cx="9632880" cy="5908680"/>
            <a:chOff x="434880" y="36569520"/>
            <a:chExt cx="9632880" cy="5908680"/>
          </a:xfrm>
        </p:grpSpPr>
        <p:sp>
          <p:nvSpPr>
            <p:cNvPr id="42" name="Freeform 5"/>
            <p:cNvSpPr/>
            <p:nvPr/>
          </p:nvSpPr>
          <p:spPr>
            <a:xfrm>
              <a:off x="1473120" y="36569520"/>
              <a:ext cx="7559640" cy="2098800"/>
            </a:xfrm>
            <a:custGeom>
              <a:avLst/>
              <a:gdLst>
                <a:gd name="textAreaLeft" fmla="*/ 0 w 7559640"/>
                <a:gd name="textAreaRight" fmla="*/ 7560000 w 7559640"/>
                <a:gd name="textAreaTop" fmla="*/ 0 h 2098800"/>
                <a:gd name="textAreaBottom" fmla="*/ 2099160 h 2098800"/>
              </a:gdLst>
              <a:ahLst/>
              <a:rect l="textAreaLeft" t="textAreaTop" r="textAreaRight" b="textAreaBottom"/>
              <a:pathLst>
                <a:path w="4762" h="1322">
                  <a:moveTo>
                    <a:pt x="0" y="0"/>
                  </a:moveTo>
                  <a:lnTo>
                    <a:pt x="0" y="1322"/>
                  </a:lnTo>
                  <a:lnTo>
                    <a:pt x="0" y="1322"/>
                  </a:lnTo>
                  <a:lnTo>
                    <a:pt x="218" y="1322"/>
                  </a:lnTo>
                  <a:lnTo>
                    <a:pt x="218" y="272"/>
                  </a:lnTo>
                  <a:lnTo>
                    <a:pt x="4544" y="272"/>
                  </a:lnTo>
                  <a:lnTo>
                    <a:pt x="4544" y="1322"/>
                  </a:lnTo>
                  <a:lnTo>
                    <a:pt x="4544" y="1322"/>
                  </a:lnTo>
                  <a:lnTo>
                    <a:pt x="4762" y="1322"/>
                  </a:lnTo>
                  <a:lnTo>
                    <a:pt x="47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3450960" y="37210680"/>
              <a:ext cx="2251080" cy="1457280"/>
            </a:xfrm>
            <a:custGeom>
              <a:avLst/>
              <a:gdLst>
                <a:gd name="textAreaLeft" fmla="*/ 0 w 2251080"/>
                <a:gd name="textAreaRight" fmla="*/ 2251080 w 225108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1418" h="918">
                  <a:moveTo>
                    <a:pt x="918" y="0"/>
                  </a:moveTo>
                  <a:lnTo>
                    <a:pt x="0" y="918"/>
                  </a:lnTo>
                  <a:lnTo>
                    <a:pt x="0" y="918"/>
                  </a:lnTo>
                  <a:lnTo>
                    <a:pt x="500" y="918"/>
                  </a:lnTo>
                  <a:lnTo>
                    <a:pt x="1418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6406920" y="37210680"/>
              <a:ext cx="2006640" cy="1457280"/>
            </a:xfrm>
            <a:custGeom>
              <a:avLst/>
              <a:gdLst>
                <a:gd name="textAreaLeft" fmla="*/ 0 w 2006640"/>
                <a:gd name="textAreaRight" fmla="*/ 2007000 w 200664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1264" h="918">
                  <a:moveTo>
                    <a:pt x="1264" y="0"/>
                  </a:moveTo>
                  <a:lnTo>
                    <a:pt x="920" y="0"/>
                  </a:lnTo>
                  <a:lnTo>
                    <a:pt x="0" y="918"/>
                  </a:lnTo>
                  <a:lnTo>
                    <a:pt x="0" y="918"/>
                  </a:lnTo>
                  <a:lnTo>
                    <a:pt x="500" y="918"/>
                  </a:lnTo>
                  <a:lnTo>
                    <a:pt x="1264" y="156"/>
                  </a:lnTo>
                  <a:lnTo>
                    <a:pt x="1264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2095200" y="37210680"/>
              <a:ext cx="647640" cy="6508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408" h="410">
                  <a:moveTo>
                    <a:pt x="0" y="0"/>
                  </a:moveTo>
                  <a:lnTo>
                    <a:pt x="0" y="410"/>
                  </a:lnTo>
                  <a:lnTo>
                    <a:pt x="4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7886520" y="38144160"/>
              <a:ext cx="527040" cy="52380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332" h="330">
                  <a:moveTo>
                    <a:pt x="332" y="330"/>
                  </a:moveTo>
                  <a:lnTo>
                    <a:pt x="332" y="0"/>
                  </a:lnTo>
                  <a:lnTo>
                    <a:pt x="0" y="330"/>
                  </a:lnTo>
                  <a:lnTo>
                    <a:pt x="0" y="330"/>
                  </a:lnTo>
                  <a:lnTo>
                    <a:pt x="332" y="330"/>
                  </a:lnTo>
                  <a:lnTo>
                    <a:pt x="332" y="33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095200" y="37210680"/>
              <a:ext cx="2127240" cy="1457280"/>
            </a:xfrm>
            <a:custGeom>
              <a:avLst/>
              <a:gdLst>
                <a:gd name="textAreaLeft" fmla="*/ 0 w 2127240"/>
                <a:gd name="textAreaRight" fmla="*/ 2127600 w 212724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1340" h="918">
                  <a:moveTo>
                    <a:pt x="840" y="0"/>
                  </a:moveTo>
                  <a:lnTo>
                    <a:pt x="0" y="842"/>
                  </a:lnTo>
                  <a:lnTo>
                    <a:pt x="0" y="918"/>
                  </a:lnTo>
                  <a:lnTo>
                    <a:pt x="0" y="918"/>
                  </a:lnTo>
                  <a:lnTo>
                    <a:pt x="422" y="918"/>
                  </a:lnTo>
                  <a:lnTo>
                    <a:pt x="1340" y="0"/>
                  </a:lnTo>
                  <a:lnTo>
                    <a:pt x="840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4930560" y="37210680"/>
              <a:ext cx="2251080" cy="1457280"/>
            </a:xfrm>
            <a:custGeom>
              <a:avLst/>
              <a:gdLst>
                <a:gd name="textAreaLeft" fmla="*/ 0 w 2251080"/>
                <a:gd name="textAreaRight" fmla="*/ 2251080 w 225108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1418" h="918">
                  <a:moveTo>
                    <a:pt x="918" y="0"/>
                  </a:moveTo>
                  <a:lnTo>
                    <a:pt x="0" y="918"/>
                  </a:lnTo>
                  <a:lnTo>
                    <a:pt x="0" y="918"/>
                  </a:lnTo>
                  <a:lnTo>
                    <a:pt x="500" y="918"/>
                  </a:lnTo>
                  <a:lnTo>
                    <a:pt x="1418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2095200" y="37210680"/>
              <a:ext cx="1333440" cy="1336680"/>
            </a:xfrm>
            <a:custGeom>
              <a:avLst/>
              <a:gdLst>
                <a:gd name="textAreaLeft" fmla="*/ 0 w 1333440"/>
                <a:gd name="textAreaRight" fmla="*/ 1333800 w 133344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840" h="842">
                  <a:moveTo>
                    <a:pt x="408" y="0"/>
                  </a:moveTo>
                  <a:lnTo>
                    <a:pt x="0" y="410"/>
                  </a:lnTo>
                  <a:lnTo>
                    <a:pt x="0" y="842"/>
                  </a:lnTo>
                  <a:lnTo>
                    <a:pt x="840" y="0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2765160" y="37210680"/>
              <a:ext cx="2143080" cy="1457280"/>
            </a:xfrm>
            <a:custGeom>
              <a:avLst/>
              <a:gdLst>
                <a:gd name="textAreaLeft" fmla="*/ 0 w 2143080"/>
                <a:gd name="textAreaRight" fmla="*/ 2143440 w 214308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1350" h="918">
                  <a:moveTo>
                    <a:pt x="918" y="0"/>
                  </a:moveTo>
                  <a:lnTo>
                    <a:pt x="0" y="918"/>
                  </a:lnTo>
                  <a:lnTo>
                    <a:pt x="0" y="918"/>
                  </a:lnTo>
                  <a:lnTo>
                    <a:pt x="432" y="918"/>
                  </a:lnTo>
                  <a:lnTo>
                    <a:pt x="1350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4244760" y="37210680"/>
              <a:ext cx="2143080" cy="1457280"/>
            </a:xfrm>
            <a:custGeom>
              <a:avLst/>
              <a:gdLst>
                <a:gd name="textAreaLeft" fmla="*/ 0 w 2143080"/>
                <a:gd name="textAreaRight" fmla="*/ 2143440 w 214308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1350" h="918">
                  <a:moveTo>
                    <a:pt x="918" y="0"/>
                  </a:moveTo>
                  <a:lnTo>
                    <a:pt x="0" y="918"/>
                  </a:lnTo>
                  <a:lnTo>
                    <a:pt x="0" y="918"/>
                  </a:lnTo>
                  <a:lnTo>
                    <a:pt x="432" y="918"/>
                  </a:lnTo>
                  <a:lnTo>
                    <a:pt x="1350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5724360" y="37210680"/>
              <a:ext cx="2143080" cy="1457280"/>
            </a:xfrm>
            <a:custGeom>
              <a:avLst/>
              <a:gdLst>
                <a:gd name="textAreaLeft" fmla="*/ 0 w 2143080"/>
                <a:gd name="textAreaRight" fmla="*/ 2143440 w 214308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1350" h="918">
                  <a:moveTo>
                    <a:pt x="918" y="0"/>
                  </a:moveTo>
                  <a:lnTo>
                    <a:pt x="0" y="918"/>
                  </a:lnTo>
                  <a:lnTo>
                    <a:pt x="0" y="918"/>
                  </a:lnTo>
                  <a:lnTo>
                    <a:pt x="430" y="918"/>
                  </a:lnTo>
                  <a:lnTo>
                    <a:pt x="1350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7200720" y="37458360"/>
              <a:ext cx="1212840" cy="1209600"/>
            </a:xfrm>
            <a:custGeom>
              <a:avLst/>
              <a:gdLst>
                <a:gd name="textAreaLeft" fmla="*/ 0 w 1212840"/>
                <a:gd name="textAreaRight" fmla="*/ 1213200 w 1212840"/>
                <a:gd name="textAreaTop" fmla="*/ 0 h 1209600"/>
                <a:gd name="textAreaBottom" fmla="*/ 1209960 h 1209600"/>
              </a:gdLst>
              <a:ahLst/>
              <a:rect l="textAreaLeft" t="textAreaTop" r="textAreaRight" b="textAreaBottom"/>
              <a:pathLst>
                <a:path w="764" h="762">
                  <a:moveTo>
                    <a:pt x="764" y="432"/>
                  </a:moveTo>
                  <a:lnTo>
                    <a:pt x="764" y="0"/>
                  </a:lnTo>
                  <a:lnTo>
                    <a:pt x="0" y="762"/>
                  </a:lnTo>
                  <a:lnTo>
                    <a:pt x="0" y="762"/>
                  </a:lnTo>
                  <a:lnTo>
                    <a:pt x="432" y="762"/>
                  </a:lnTo>
                  <a:lnTo>
                    <a:pt x="764" y="4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2095200" y="37210680"/>
              <a:ext cx="6318360" cy="1457280"/>
            </a:xfrm>
            <a:custGeom>
              <a:avLst/>
              <a:gdLst>
                <a:gd name="textAreaLeft" fmla="*/ 0 w 6318360"/>
                <a:gd name="textAreaRight" fmla="*/ 6318720 w 631836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3980" h="918">
                  <a:moveTo>
                    <a:pt x="3636" y="0"/>
                  </a:moveTo>
                  <a:lnTo>
                    <a:pt x="3204" y="0"/>
                  </a:lnTo>
                  <a:lnTo>
                    <a:pt x="2704" y="0"/>
                  </a:lnTo>
                  <a:lnTo>
                    <a:pt x="2272" y="0"/>
                  </a:lnTo>
                  <a:lnTo>
                    <a:pt x="1772" y="0"/>
                  </a:lnTo>
                  <a:lnTo>
                    <a:pt x="1340" y="0"/>
                  </a:lnTo>
                  <a:lnTo>
                    <a:pt x="840" y="0"/>
                  </a:lnTo>
                  <a:lnTo>
                    <a:pt x="408" y="0"/>
                  </a:lnTo>
                  <a:lnTo>
                    <a:pt x="0" y="0"/>
                  </a:lnTo>
                  <a:lnTo>
                    <a:pt x="0" y="410"/>
                  </a:lnTo>
                  <a:lnTo>
                    <a:pt x="0" y="842"/>
                  </a:lnTo>
                  <a:lnTo>
                    <a:pt x="0" y="918"/>
                  </a:lnTo>
                  <a:lnTo>
                    <a:pt x="0" y="918"/>
                  </a:lnTo>
                  <a:lnTo>
                    <a:pt x="422" y="918"/>
                  </a:lnTo>
                  <a:lnTo>
                    <a:pt x="422" y="918"/>
                  </a:lnTo>
                  <a:lnTo>
                    <a:pt x="854" y="918"/>
                  </a:lnTo>
                  <a:lnTo>
                    <a:pt x="854" y="918"/>
                  </a:lnTo>
                  <a:lnTo>
                    <a:pt x="1354" y="918"/>
                  </a:lnTo>
                  <a:lnTo>
                    <a:pt x="1354" y="918"/>
                  </a:lnTo>
                  <a:lnTo>
                    <a:pt x="1786" y="918"/>
                  </a:lnTo>
                  <a:lnTo>
                    <a:pt x="1786" y="918"/>
                  </a:lnTo>
                  <a:lnTo>
                    <a:pt x="2286" y="918"/>
                  </a:lnTo>
                  <a:lnTo>
                    <a:pt x="2286" y="918"/>
                  </a:lnTo>
                  <a:lnTo>
                    <a:pt x="2716" y="918"/>
                  </a:lnTo>
                  <a:lnTo>
                    <a:pt x="2716" y="918"/>
                  </a:lnTo>
                  <a:lnTo>
                    <a:pt x="3216" y="918"/>
                  </a:lnTo>
                  <a:lnTo>
                    <a:pt x="3216" y="918"/>
                  </a:lnTo>
                  <a:lnTo>
                    <a:pt x="3648" y="918"/>
                  </a:lnTo>
                  <a:lnTo>
                    <a:pt x="3648" y="918"/>
                  </a:lnTo>
                  <a:lnTo>
                    <a:pt x="3980" y="918"/>
                  </a:lnTo>
                  <a:lnTo>
                    <a:pt x="3980" y="588"/>
                  </a:lnTo>
                  <a:lnTo>
                    <a:pt x="3980" y="156"/>
                  </a:lnTo>
                  <a:lnTo>
                    <a:pt x="3980" y="0"/>
                  </a:lnTo>
                  <a:lnTo>
                    <a:pt x="3636" y="0"/>
                  </a:lnTo>
                  <a:close/>
                </a:path>
              </a:pathLst>
            </a:custGeom>
            <a:noFill/>
            <a:ln w="31680">
              <a:solidFill>
                <a:srgbClr val="f5c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7994520" y="38890440"/>
              <a:ext cx="606240" cy="60624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382" h="382">
                  <a:moveTo>
                    <a:pt x="110" y="0"/>
                  </a:moveTo>
                  <a:lnTo>
                    <a:pt x="0" y="382"/>
                  </a:lnTo>
                  <a:lnTo>
                    <a:pt x="382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149960" y="40741560"/>
              <a:ext cx="1110960" cy="1670040"/>
            </a:xfrm>
            <a:custGeom>
              <a:avLst/>
              <a:gdLst>
                <a:gd name="textAreaLeft" fmla="*/ 0 w 1110960"/>
                <a:gd name="textAreaRight" fmla="*/ 1111320 w 111096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700" h="1052">
                  <a:moveTo>
                    <a:pt x="700" y="0"/>
                  </a:moveTo>
                  <a:lnTo>
                    <a:pt x="142" y="558"/>
                  </a:lnTo>
                  <a:lnTo>
                    <a:pt x="0" y="1052"/>
                  </a:lnTo>
                  <a:lnTo>
                    <a:pt x="558" y="492"/>
                  </a:lnTo>
                  <a:lnTo>
                    <a:pt x="700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7559640" y="42198840"/>
              <a:ext cx="282240" cy="27936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78" h="176">
                  <a:moveTo>
                    <a:pt x="126" y="176"/>
                  </a:moveTo>
                  <a:lnTo>
                    <a:pt x="178" y="0"/>
                  </a:lnTo>
                  <a:lnTo>
                    <a:pt x="0" y="176"/>
                  </a:lnTo>
                  <a:lnTo>
                    <a:pt x="126" y="176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572240" y="39284280"/>
              <a:ext cx="1110960" cy="1670040"/>
            </a:xfrm>
            <a:custGeom>
              <a:avLst/>
              <a:gdLst>
                <a:gd name="textAreaLeft" fmla="*/ 0 w 1110960"/>
                <a:gd name="textAreaRight" fmla="*/ 1111320 w 111096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700" h="1052">
                  <a:moveTo>
                    <a:pt x="700" y="0"/>
                  </a:moveTo>
                  <a:lnTo>
                    <a:pt x="142" y="558"/>
                  </a:lnTo>
                  <a:lnTo>
                    <a:pt x="0" y="1052"/>
                  </a:lnTo>
                  <a:lnTo>
                    <a:pt x="558" y="494"/>
                  </a:lnTo>
                  <a:lnTo>
                    <a:pt x="700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9016920" y="40535280"/>
              <a:ext cx="612720" cy="91728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386" h="578">
                  <a:moveTo>
                    <a:pt x="308" y="0"/>
                  </a:moveTo>
                  <a:lnTo>
                    <a:pt x="0" y="308"/>
                  </a:lnTo>
                  <a:lnTo>
                    <a:pt x="78" y="578"/>
                  </a:lnTo>
                  <a:lnTo>
                    <a:pt x="386" y="272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9248760" y="41338440"/>
              <a:ext cx="612720" cy="91728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386" h="578">
                  <a:moveTo>
                    <a:pt x="308" y="0"/>
                  </a:moveTo>
                  <a:lnTo>
                    <a:pt x="0" y="308"/>
                  </a:lnTo>
                  <a:lnTo>
                    <a:pt x="78" y="578"/>
                  </a:lnTo>
                  <a:lnTo>
                    <a:pt x="386" y="27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791560" y="38928600"/>
              <a:ext cx="374400" cy="80316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236" h="506">
                  <a:moveTo>
                    <a:pt x="0" y="506"/>
                  </a:moveTo>
                  <a:lnTo>
                    <a:pt x="236" y="272"/>
                  </a:lnTo>
                  <a:lnTo>
                    <a:pt x="156" y="0"/>
                  </a:lnTo>
                  <a:lnTo>
                    <a:pt x="142" y="14"/>
                  </a:lnTo>
                  <a:lnTo>
                    <a:pt x="0" y="506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8785080" y="39731760"/>
              <a:ext cx="612720" cy="91728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386" h="578">
                  <a:moveTo>
                    <a:pt x="78" y="578"/>
                  </a:moveTo>
                  <a:lnTo>
                    <a:pt x="386" y="272"/>
                  </a:lnTo>
                  <a:lnTo>
                    <a:pt x="308" y="0"/>
                  </a:lnTo>
                  <a:lnTo>
                    <a:pt x="0" y="308"/>
                  </a:lnTo>
                  <a:lnTo>
                    <a:pt x="78" y="578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9629640" y="42141960"/>
              <a:ext cx="438120" cy="3362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276" h="212">
                  <a:moveTo>
                    <a:pt x="276" y="212"/>
                  </a:moveTo>
                  <a:lnTo>
                    <a:pt x="214" y="0"/>
                  </a:lnTo>
                  <a:lnTo>
                    <a:pt x="0" y="212"/>
                  </a:lnTo>
                  <a:lnTo>
                    <a:pt x="276" y="212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7797600" y="38890440"/>
              <a:ext cx="1000080" cy="127944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630" h="806">
                  <a:moveTo>
                    <a:pt x="630" y="0"/>
                  </a:moveTo>
                  <a:lnTo>
                    <a:pt x="506" y="0"/>
                  </a:lnTo>
                  <a:lnTo>
                    <a:pt x="124" y="382"/>
                  </a:lnTo>
                  <a:lnTo>
                    <a:pt x="0" y="806"/>
                  </a:lnTo>
                  <a:lnTo>
                    <a:pt x="558" y="248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7375320" y="40068360"/>
              <a:ext cx="1082520" cy="1558800"/>
            </a:xfrm>
            <a:custGeom>
              <a:avLst/>
              <a:gdLst>
                <a:gd name="textAreaLeft" fmla="*/ 0 w 1082520"/>
                <a:gd name="textAreaRight" fmla="*/ 1082520 w 1082520"/>
                <a:gd name="textAreaTop" fmla="*/ 0 h 1558800"/>
                <a:gd name="textAreaBottom" fmla="*/ 1559160 h 1558800"/>
              </a:gdLst>
              <a:ahLst/>
              <a:rect l="textAreaLeft" t="textAreaTop" r="textAreaRight" b="textAreaBottom"/>
              <a:pathLst>
                <a:path w="682" h="982">
                  <a:moveTo>
                    <a:pt x="682" y="0"/>
                  </a:moveTo>
                  <a:lnTo>
                    <a:pt x="124" y="558"/>
                  </a:lnTo>
                  <a:lnTo>
                    <a:pt x="0" y="982"/>
                  </a:lnTo>
                  <a:lnTo>
                    <a:pt x="558" y="424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7130880" y="41522760"/>
              <a:ext cx="904680" cy="95544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570" h="602">
                  <a:moveTo>
                    <a:pt x="12" y="560"/>
                  </a:moveTo>
                  <a:lnTo>
                    <a:pt x="0" y="602"/>
                  </a:lnTo>
                  <a:lnTo>
                    <a:pt x="270" y="602"/>
                  </a:lnTo>
                  <a:lnTo>
                    <a:pt x="448" y="426"/>
                  </a:lnTo>
                  <a:lnTo>
                    <a:pt x="570" y="0"/>
                  </a:lnTo>
                  <a:lnTo>
                    <a:pt x="12" y="5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8718480" y="39360240"/>
              <a:ext cx="555480" cy="860400"/>
            </a:xfrm>
            <a:custGeom>
              <a:avLst/>
              <a:gdLst>
                <a:gd name="textAreaLeft" fmla="*/ 0 w 555480"/>
                <a:gd name="textAreaRight" fmla="*/ 555480 w 55548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350" h="542">
                  <a:moveTo>
                    <a:pt x="0" y="396"/>
                  </a:moveTo>
                  <a:lnTo>
                    <a:pt x="42" y="542"/>
                  </a:lnTo>
                  <a:lnTo>
                    <a:pt x="350" y="234"/>
                  </a:lnTo>
                  <a:lnTo>
                    <a:pt x="282" y="0"/>
                  </a:lnTo>
                  <a:lnTo>
                    <a:pt x="46" y="234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8908920" y="40163760"/>
              <a:ext cx="596880" cy="8604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376" h="542">
                  <a:moveTo>
                    <a:pt x="308" y="0"/>
                  </a:moveTo>
                  <a:lnTo>
                    <a:pt x="0" y="306"/>
                  </a:lnTo>
                  <a:lnTo>
                    <a:pt x="68" y="542"/>
                  </a:lnTo>
                  <a:lnTo>
                    <a:pt x="376" y="234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9140760" y="40966920"/>
              <a:ext cx="596880" cy="8604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376" h="542">
                  <a:moveTo>
                    <a:pt x="308" y="0"/>
                  </a:moveTo>
                  <a:lnTo>
                    <a:pt x="0" y="306"/>
                  </a:lnTo>
                  <a:lnTo>
                    <a:pt x="68" y="542"/>
                  </a:lnTo>
                  <a:lnTo>
                    <a:pt x="376" y="234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9372600" y="41767200"/>
              <a:ext cx="596880" cy="7110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376" h="448">
                  <a:moveTo>
                    <a:pt x="162" y="448"/>
                  </a:moveTo>
                  <a:lnTo>
                    <a:pt x="376" y="236"/>
                  </a:lnTo>
                  <a:lnTo>
                    <a:pt x="308" y="0"/>
                  </a:lnTo>
                  <a:lnTo>
                    <a:pt x="0" y="308"/>
                  </a:lnTo>
                  <a:lnTo>
                    <a:pt x="42" y="448"/>
                  </a:lnTo>
                  <a:lnTo>
                    <a:pt x="162" y="4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7127640" y="38890440"/>
              <a:ext cx="1670040" cy="3587760"/>
            </a:xfrm>
            <a:custGeom>
              <a:avLst/>
              <a:gdLst>
                <a:gd name="textAreaLeft" fmla="*/ 0 w 1670040"/>
                <a:gd name="textAreaRight" fmla="*/ 1670400 w 1670040"/>
                <a:gd name="textAreaTop" fmla="*/ 0 h 3587760"/>
                <a:gd name="textAreaBottom" fmla="*/ 3588120 h 3587760"/>
              </a:gdLst>
              <a:ahLst/>
              <a:rect l="textAreaLeft" t="textAreaTop" r="textAreaRight" b="textAreaBottom"/>
              <a:pathLst>
                <a:path w="1052" h="2260">
                  <a:moveTo>
                    <a:pt x="398" y="2260"/>
                  </a:moveTo>
                  <a:lnTo>
                    <a:pt x="1052" y="0"/>
                  </a:lnTo>
                  <a:lnTo>
                    <a:pt x="656" y="0"/>
                  </a:lnTo>
                  <a:lnTo>
                    <a:pt x="0" y="2260"/>
                  </a:lnTo>
                  <a:lnTo>
                    <a:pt x="398" y="2260"/>
                  </a:lnTo>
                  <a:close/>
                </a:path>
              </a:pathLst>
            </a:custGeom>
            <a:noFill/>
            <a:ln w="31680">
              <a:solidFill>
                <a:srgbClr val="f5c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8718480" y="38903040"/>
              <a:ext cx="1349280" cy="35751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575160"/>
                <a:gd name="textAreaBottom" fmla="*/ 3575520 h 3575160"/>
              </a:gdLst>
              <a:ahLst/>
              <a:rect l="textAreaLeft" t="textAreaTop" r="textAreaRight" b="textAreaBottom"/>
              <a:pathLst>
                <a:path w="850" h="2252">
                  <a:moveTo>
                    <a:pt x="850" y="2252"/>
                  </a:moveTo>
                  <a:lnTo>
                    <a:pt x="198" y="0"/>
                  </a:lnTo>
                  <a:lnTo>
                    <a:pt x="0" y="684"/>
                  </a:lnTo>
                  <a:lnTo>
                    <a:pt x="454" y="2252"/>
                  </a:lnTo>
                  <a:lnTo>
                    <a:pt x="850" y="2252"/>
                  </a:lnTo>
                  <a:close/>
                </a:path>
              </a:pathLst>
            </a:custGeom>
            <a:noFill/>
            <a:ln w="31680">
              <a:solidFill>
                <a:srgbClr val="f5c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1298160" y="38890440"/>
              <a:ext cx="606240" cy="60624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382" h="382">
                  <a:moveTo>
                    <a:pt x="110" y="0"/>
                  </a:moveTo>
                  <a:lnTo>
                    <a:pt x="0" y="382"/>
                  </a:lnTo>
                  <a:lnTo>
                    <a:pt x="382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453600" y="40741560"/>
              <a:ext cx="1114200" cy="1670040"/>
            </a:xfrm>
            <a:custGeom>
              <a:avLst/>
              <a:gdLst>
                <a:gd name="textAreaLeft" fmla="*/ 0 w 1114200"/>
                <a:gd name="textAreaRight" fmla="*/ 1114560 w 111420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702" h="1052">
                  <a:moveTo>
                    <a:pt x="702" y="0"/>
                  </a:moveTo>
                  <a:lnTo>
                    <a:pt x="144" y="558"/>
                  </a:lnTo>
                  <a:lnTo>
                    <a:pt x="0" y="1052"/>
                  </a:lnTo>
                  <a:lnTo>
                    <a:pt x="558" y="492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866520" y="42198840"/>
              <a:ext cx="279360" cy="2793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76" h="176">
                  <a:moveTo>
                    <a:pt x="124" y="176"/>
                  </a:moveTo>
                  <a:lnTo>
                    <a:pt x="176" y="0"/>
                  </a:lnTo>
                  <a:lnTo>
                    <a:pt x="0" y="176"/>
                  </a:lnTo>
                  <a:lnTo>
                    <a:pt x="124" y="176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9"/>
            <p:cNvSpPr/>
            <p:nvPr/>
          </p:nvSpPr>
          <p:spPr>
            <a:xfrm>
              <a:off x="875880" y="39284280"/>
              <a:ext cx="1114200" cy="1670040"/>
            </a:xfrm>
            <a:custGeom>
              <a:avLst/>
              <a:gdLst>
                <a:gd name="textAreaLeft" fmla="*/ 0 w 1114200"/>
                <a:gd name="textAreaRight" fmla="*/ 1114560 w 111420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702" h="1052">
                  <a:moveTo>
                    <a:pt x="702" y="0"/>
                  </a:moveTo>
                  <a:lnTo>
                    <a:pt x="142" y="558"/>
                  </a:lnTo>
                  <a:lnTo>
                    <a:pt x="0" y="1052"/>
                  </a:lnTo>
                  <a:lnTo>
                    <a:pt x="558" y="494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40"/>
            <p:cNvSpPr/>
            <p:nvPr/>
          </p:nvSpPr>
          <p:spPr>
            <a:xfrm>
              <a:off x="2320560" y="40535280"/>
              <a:ext cx="612720" cy="91728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386" h="578">
                  <a:moveTo>
                    <a:pt x="308" y="0"/>
                  </a:moveTo>
                  <a:lnTo>
                    <a:pt x="0" y="308"/>
                  </a:lnTo>
                  <a:lnTo>
                    <a:pt x="80" y="578"/>
                  </a:lnTo>
                  <a:lnTo>
                    <a:pt x="386" y="272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2555640" y="41338440"/>
              <a:ext cx="612720" cy="91728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386" h="578">
                  <a:moveTo>
                    <a:pt x="306" y="0"/>
                  </a:moveTo>
                  <a:lnTo>
                    <a:pt x="0" y="308"/>
                  </a:lnTo>
                  <a:lnTo>
                    <a:pt x="78" y="578"/>
                  </a:lnTo>
                  <a:lnTo>
                    <a:pt x="386" y="270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2098440" y="38928600"/>
              <a:ext cx="371160" cy="80316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234" h="506">
                  <a:moveTo>
                    <a:pt x="0" y="506"/>
                  </a:moveTo>
                  <a:lnTo>
                    <a:pt x="234" y="272"/>
                  </a:lnTo>
                  <a:lnTo>
                    <a:pt x="156" y="0"/>
                  </a:lnTo>
                  <a:lnTo>
                    <a:pt x="142" y="14"/>
                  </a:lnTo>
                  <a:lnTo>
                    <a:pt x="0" y="506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2089080" y="39731760"/>
              <a:ext cx="612720" cy="91728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386" h="578">
                  <a:moveTo>
                    <a:pt x="78" y="578"/>
                  </a:moveTo>
                  <a:lnTo>
                    <a:pt x="386" y="272"/>
                  </a:lnTo>
                  <a:lnTo>
                    <a:pt x="308" y="0"/>
                  </a:lnTo>
                  <a:lnTo>
                    <a:pt x="0" y="308"/>
                  </a:lnTo>
                  <a:lnTo>
                    <a:pt x="78" y="578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2936520" y="42141960"/>
              <a:ext cx="438120" cy="3362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276" h="212">
                  <a:moveTo>
                    <a:pt x="276" y="212"/>
                  </a:moveTo>
                  <a:lnTo>
                    <a:pt x="214" y="0"/>
                  </a:lnTo>
                  <a:lnTo>
                    <a:pt x="0" y="212"/>
                  </a:lnTo>
                  <a:lnTo>
                    <a:pt x="276" y="212"/>
                  </a:lnTo>
                  <a:close/>
                </a:path>
              </a:pathLst>
            </a:custGeom>
            <a:solidFill>
              <a:srgbClr val="f5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5"/>
            <p:cNvSpPr/>
            <p:nvPr/>
          </p:nvSpPr>
          <p:spPr>
            <a:xfrm>
              <a:off x="1101600" y="38890440"/>
              <a:ext cx="1003320" cy="127944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632" h="806">
                  <a:moveTo>
                    <a:pt x="632" y="0"/>
                  </a:moveTo>
                  <a:lnTo>
                    <a:pt x="506" y="0"/>
                  </a:lnTo>
                  <a:lnTo>
                    <a:pt x="124" y="382"/>
                  </a:lnTo>
                  <a:lnTo>
                    <a:pt x="0" y="806"/>
                  </a:lnTo>
                  <a:lnTo>
                    <a:pt x="560" y="248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6"/>
            <p:cNvSpPr/>
            <p:nvPr/>
          </p:nvSpPr>
          <p:spPr>
            <a:xfrm>
              <a:off x="682200" y="40068360"/>
              <a:ext cx="1079280" cy="155880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1558800"/>
                <a:gd name="textAreaBottom" fmla="*/ 1559160 h 1558800"/>
              </a:gdLst>
              <a:ahLst/>
              <a:rect l="textAreaLeft" t="textAreaTop" r="textAreaRight" b="textAreaBottom"/>
              <a:pathLst>
                <a:path w="680" h="982">
                  <a:moveTo>
                    <a:pt x="680" y="0"/>
                  </a:moveTo>
                  <a:lnTo>
                    <a:pt x="122" y="558"/>
                  </a:lnTo>
                  <a:lnTo>
                    <a:pt x="0" y="982"/>
                  </a:lnTo>
                  <a:lnTo>
                    <a:pt x="558" y="424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7"/>
            <p:cNvSpPr/>
            <p:nvPr/>
          </p:nvSpPr>
          <p:spPr>
            <a:xfrm>
              <a:off x="434880" y="41522760"/>
              <a:ext cx="904680" cy="95544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570" h="602">
                  <a:moveTo>
                    <a:pt x="12" y="560"/>
                  </a:moveTo>
                  <a:lnTo>
                    <a:pt x="0" y="602"/>
                  </a:lnTo>
                  <a:lnTo>
                    <a:pt x="272" y="602"/>
                  </a:lnTo>
                  <a:lnTo>
                    <a:pt x="448" y="426"/>
                  </a:lnTo>
                  <a:lnTo>
                    <a:pt x="570" y="0"/>
                  </a:lnTo>
                  <a:lnTo>
                    <a:pt x="12" y="5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8"/>
            <p:cNvSpPr/>
            <p:nvPr/>
          </p:nvSpPr>
          <p:spPr>
            <a:xfrm>
              <a:off x="2022120" y="39360240"/>
              <a:ext cx="555480" cy="860400"/>
            </a:xfrm>
            <a:custGeom>
              <a:avLst/>
              <a:gdLst>
                <a:gd name="textAreaLeft" fmla="*/ 0 w 555480"/>
                <a:gd name="textAreaRight" fmla="*/ 555480 w 55548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350" h="542">
                  <a:moveTo>
                    <a:pt x="0" y="396"/>
                  </a:moveTo>
                  <a:lnTo>
                    <a:pt x="42" y="542"/>
                  </a:lnTo>
                  <a:lnTo>
                    <a:pt x="350" y="234"/>
                  </a:lnTo>
                  <a:lnTo>
                    <a:pt x="282" y="0"/>
                  </a:lnTo>
                  <a:lnTo>
                    <a:pt x="48" y="234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9"/>
            <p:cNvSpPr/>
            <p:nvPr/>
          </p:nvSpPr>
          <p:spPr>
            <a:xfrm>
              <a:off x="2212920" y="40163760"/>
              <a:ext cx="596880" cy="8604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376" h="542">
                  <a:moveTo>
                    <a:pt x="308" y="0"/>
                  </a:moveTo>
                  <a:lnTo>
                    <a:pt x="0" y="306"/>
                  </a:lnTo>
                  <a:lnTo>
                    <a:pt x="68" y="542"/>
                  </a:lnTo>
                  <a:lnTo>
                    <a:pt x="376" y="234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50"/>
            <p:cNvSpPr/>
            <p:nvPr/>
          </p:nvSpPr>
          <p:spPr>
            <a:xfrm>
              <a:off x="2447640" y="40966920"/>
              <a:ext cx="593640" cy="86040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374" h="542">
                  <a:moveTo>
                    <a:pt x="306" y="0"/>
                  </a:moveTo>
                  <a:lnTo>
                    <a:pt x="0" y="306"/>
                  </a:lnTo>
                  <a:lnTo>
                    <a:pt x="68" y="542"/>
                  </a:lnTo>
                  <a:lnTo>
                    <a:pt x="374" y="234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2679480" y="41767200"/>
              <a:ext cx="596880" cy="7110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376" h="448">
                  <a:moveTo>
                    <a:pt x="162" y="448"/>
                  </a:moveTo>
                  <a:lnTo>
                    <a:pt x="376" y="236"/>
                  </a:lnTo>
                  <a:lnTo>
                    <a:pt x="308" y="0"/>
                  </a:lnTo>
                  <a:lnTo>
                    <a:pt x="0" y="308"/>
                  </a:lnTo>
                  <a:lnTo>
                    <a:pt x="40" y="448"/>
                  </a:lnTo>
                  <a:lnTo>
                    <a:pt x="162" y="4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2"/>
            <p:cNvSpPr/>
            <p:nvPr/>
          </p:nvSpPr>
          <p:spPr>
            <a:xfrm>
              <a:off x="434880" y="38890440"/>
              <a:ext cx="1670040" cy="3587760"/>
            </a:xfrm>
            <a:custGeom>
              <a:avLst/>
              <a:gdLst>
                <a:gd name="textAreaLeft" fmla="*/ 0 w 1670040"/>
                <a:gd name="textAreaRight" fmla="*/ 1670400 w 1670040"/>
                <a:gd name="textAreaTop" fmla="*/ 0 h 3587760"/>
                <a:gd name="textAreaBottom" fmla="*/ 3588120 h 3587760"/>
              </a:gdLst>
              <a:ahLst/>
              <a:rect l="textAreaLeft" t="textAreaTop" r="textAreaRight" b="textAreaBottom"/>
              <a:pathLst>
                <a:path w="1052" h="2260">
                  <a:moveTo>
                    <a:pt x="396" y="2260"/>
                  </a:moveTo>
                  <a:lnTo>
                    <a:pt x="1052" y="0"/>
                  </a:lnTo>
                  <a:lnTo>
                    <a:pt x="654" y="0"/>
                  </a:lnTo>
                  <a:lnTo>
                    <a:pt x="0" y="2260"/>
                  </a:lnTo>
                  <a:lnTo>
                    <a:pt x="396" y="2260"/>
                  </a:lnTo>
                  <a:close/>
                </a:path>
              </a:pathLst>
            </a:custGeom>
            <a:noFill/>
            <a:ln w="31680">
              <a:solidFill>
                <a:srgbClr val="f5c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3"/>
            <p:cNvSpPr/>
            <p:nvPr/>
          </p:nvSpPr>
          <p:spPr>
            <a:xfrm>
              <a:off x="2022120" y="38903040"/>
              <a:ext cx="1349280" cy="35751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575160"/>
                <a:gd name="textAreaBottom" fmla="*/ 3575520 h 3575160"/>
              </a:gdLst>
              <a:ahLst/>
              <a:rect l="textAreaLeft" t="textAreaTop" r="textAreaRight" b="textAreaBottom"/>
              <a:pathLst>
                <a:path w="850" h="2252">
                  <a:moveTo>
                    <a:pt x="850" y="2252"/>
                  </a:moveTo>
                  <a:lnTo>
                    <a:pt x="198" y="0"/>
                  </a:lnTo>
                  <a:lnTo>
                    <a:pt x="0" y="684"/>
                  </a:lnTo>
                  <a:lnTo>
                    <a:pt x="454" y="2252"/>
                  </a:lnTo>
                  <a:lnTo>
                    <a:pt x="850" y="2252"/>
                  </a:lnTo>
                  <a:close/>
                </a:path>
              </a:pathLst>
            </a:custGeom>
            <a:noFill/>
            <a:ln w="31680">
              <a:solidFill>
                <a:srgbClr val="f5c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グループ化 64"/>
          <p:cNvGrpSpPr/>
          <p:nvPr/>
        </p:nvGrpSpPr>
        <p:grpSpPr>
          <a:xfrm>
            <a:off x="0" y="3240"/>
            <a:ext cx="10693440" cy="2603520"/>
            <a:chOff x="0" y="3240"/>
            <a:chExt cx="10693440" cy="2603520"/>
          </a:xfrm>
        </p:grpSpPr>
        <p:sp>
          <p:nvSpPr>
            <p:cNvPr id="92" name="Freeform 54"/>
            <p:cNvSpPr/>
            <p:nvPr/>
          </p:nvSpPr>
          <p:spPr>
            <a:xfrm>
              <a:off x="0" y="3240"/>
              <a:ext cx="3470400" cy="2603520"/>
            </a:xfrm>
            <a:custGeom>
              <a:avLst/>
              <a:gdLst>
                <a:gd name="textAreaLeft" fmla="*/ 0 w 3470400"/>
                <a:gd name="textAreaRight" fmla="*/ 3470760 w 3470400"/>
                <a:gd name="textAreaTop" fmla="*/ 0 h 2603520"/>
                <a:gd name="textAreaBottom" fmla="*/ 2603880 h 2603520"/>
              </a:gdLst>
              <a:ahLst/>
              <a:rect l="textAreaLeft" t="textAreaTop" r="textAreaRight" b="textAreaBottom"/>
              <a:pathLst>
                <a:path w="2186" h="1640">
                  <a:moveTo>
                    <a:pt x="662" y="0"/>
                  </a:moveTo>
                  <a:lnTo>
                    <a:pt x="0" y="830"/>
                  </a:lnTo>
                  <a:lnTo>
                    <a:pt x="0" y="1640"/>
                  </a:lnTo>
                  <a:lnTo>
                    <a:pt x="876" y="1640"/>
                  </a:lnTo>
                  <a:lnTo>
                    <a:pt x="2186" y="0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2955960" y="3240"/>
              <a:ext cx="4498920" cy="2603520"/>
            </a:xfrm>
            <a:custGeom>
              <a:avLst/>
              <a:gdLst>
                <a:gd name="textAreaLeft" fmla="*/ 0 w 4498920"/>
                <a:gd name="textAreaRight" fmla="*/ 4499280 w 4498920"/>
                <a:gd name="textAreaTop" fmla="*/ 0 h 2603520"/>
                <a:gd name="textAreaBottom" fmla="*/ 2603880 h 2603520"/>
              </a:gdLst>
              <a:ahLst/>
              <a:rect l="textAreaLeft" t="textAreaTop" r="textAreaRight" b="textAreaBottom"/>
              <a:pathLst>
                <a:path w="2834" h="1640">
                  <a:moveTo>
                    <a:pt x="1310" y="0"/>
                  </a:moveTo>
                  <a:lnTo>
                    <a:pt x="0" y="1640"/>
                  </a:lnTo>
                  <a:lnTo>
                    <a:pt x="1524" y="1640"/>
                  </a:lnTo>
                  <a:lnTo>
                    <a:pt x="2834" y="0"/>
                  </a:lnTo>
                  <a:lnTo>
                    <a:pt x="1310" y="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6940800" y="3240"/>
              <a:ext cx="3752640" cy="2603520"/>
            </a:xfrm>
            <a:custGeom>
              <a:avLst/>
              <a:gdLst>
                <a:gd name="textAreaLeft" fmla="*/ 0 w 3752640"/>
                <a:gd name="textAreaRight" fmla="*/ 3753000 w 3752640"/>
                <a:gd name="textAreaTop" fmla="*/ 0 h 2603520"/>
                <a:gd name="textAreaBottom" fmla="*/ 2603880 h 2603520"/>
              </a:gdLst>
              <a:ahLst/>
              <a:rect l="textAreaLeft" t="textAreaTop" r="textAreaRight" b="textAreaBottom"/>
              <a:pathLst>
                <a:path w="2364" h="1640">
                  <a:moveTo>
                    <a:pt x="0" y="1640"/>
                  </a:moveTo>
                  <a:lnTo>
                    <a:pt x="1524" y="1640"/>
                  </a:lnTo>
                  <a:lnTo>
                    <a:pt x="2364" y="588"/>
                  </a:lnTo>
                  <a:lnTo>
                    <a:pt x="2364" y="0"/>
                  </a:lnTo>
                  <a:lnTo>
                    <a:pt x="1310" y="0"/>
                  </a:lnTo>
                  <a:lnTo>
                    <a:pt x="0" y="164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0" y="3240"/>
              <a:ext cx="1050840" cy="1317600"/>
            </a:xfrm>
            <a:custGeom>
              <a:avLst/>
              <a:gdLst>
                <a:gd name="textAreaLeft" fmla="*/ 0 w 1050840"/>
                <a:gd name="textAreaRight" fmla="*/ 1051200 w 1050840"/>
                <a:gd name="textAreaTop" fmla="*/ 0 h 1317600"/>
                <a:gd name="textAreaBottom" fmla="*/ 1317960 h 1317600"/>
              </a:gdLst>
              <a:ahLst/>
              <a:rect l="textAreaLeft" t="textAreaTop" r="textAreaRight" b="textAreaBottom"/>
              <a:pathLst>
                <a:path w="662" h="830">
                  <a:moveTo>
                    <a:pt x="0" y="0"/>
                  </a:moveTo>
                  <a:lnTo>
                    <a:pt x="0" y="830"/>
                  </a:lnTo>
                  <a:lnTo>
                    <a:pt x="6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8"/>
            <p:cNvSpPr/>
            <p:nvPr/>
          </p:nvSpPr>
          <p:spPr>
            <a:xfrm>
              <a:off x="1390680" y="3240"/>
              <a:ext cx="3645000" cy="2603520"/>
            </a:xfrm>
            <a:custGeom>
              <a:avLst/>
              <a:gdLst>
                <a:gd name="textAreaLeft" fmla="*/ 0 w 3645000"/>
                <a:gd name="textAreaRight" fmla="*/ 3645360 w 3645000"/>
                <a:gd name="textAreaTop" fmla="*/ 0 h 2603520"/>
                <a:gd name="textAreaBottom" fmla="*/ 2603880 h 2603520"/>
              </a:gdLst>
              <a:ahLst/>
              <a:rect l="textAreaLeft" t="textAreaTop" r="textAreaRight" b="textAreaBottom"/>
              <a:pathLst>
                <a:path w="2296" h="1640">
                  <a:moveTo>
                    <a:pt x="1310" y="0"/>
                  </a:moveTo>
                  <a:lnTo>
                    <a:pt x="0" y="1640"/>
                  </a:lnTo>
                  <a:lnTo>
                    <a:pt x="986" y="1640"/>
                  </a:lnTo>
                  <a:lnTo>
                    <a:pt x="2296" y="0"/>
                  </a:lnTo>
                  <a:lnTo>
                    <a:pt x="13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9"/>
            <p:cNvSpPr/>
            <p:nvPr/>
          </p:nvSpPr>
          <p:spPr>
            <a:xfrm>
              <a:off x="5375160" y="3240"/>
              <a:ext cx="3645000" cy="2603520"/>
            </a:xfrm>
            <a:custGeom>
              <a:avLst/>
              <a:gdLst>
                <a:gd name="textAreaLeft" fmla="*/ 0 w 3645000"/>
                <a:gd name="textAreaRight" fmla="*/ 3645360 w 3645000"/>
                <a:gd name="textAreaTop" fmla="*/ 0 h 2603520"/>
                <a:gd name="textAreaBottom" fmla="*/ 2603880 h 2603520"/>
              </a:gdLst>
              <a:ahLst/>
              <a:rect l="textAreaLeft" t="textAreaTop" r="textAreaRight" b="textAreaBottom"/>
              <a:pathLst>
                <a:path w="2296" h="1640">
                  <a:moveTo>
                    <a:pt x="1310" y="0"/>
                  </a:moveTo>
                  <a:lnTo>
                    <a:pt x="0" y="1640"/>
                  </a:lnTo>
                  <a:lnTo>
                    <a:pt x="986" y="1640"/>
                  </a:lnTo>
                  <a:lnTo>
                    <a:pt x="2296" y="0"/>
                  </a:lnTo>
                  <a:lnTo>
                    <a:pt x="13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60"/>
            <p:cNvSpPr/>
            <p:nvPr/>
          </p:nvSpPr>
          <p:spPr>
            <a:xfrm>
              <a:off x="9360000" y="936720"/>
              <a:ext cx="1333440" cy="1670040"/>
            </a:xfrm>
            <a:custGeom>
              <a:avLst/>
              <a:gdLst>
                <a:gd name="textAreaLeft" fmla="*/ 0 w 1333440"/>
                <a:gd name="textAreaRight" fmla="*/ 1333800 w 133344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840" h="1052">
                  <a:moveTo>
                    <a:pt x="840" y="1052"/>
                  </a:moveTo>
                  <a:lnTo>
                    <a:pt x="840" y="0"/>
                  </a:lnTo>
                  <a:lnTo>
                    <a:pt x="0" y="1052"/>
                  </a:lnTo>
                  <a:lnTo>
                    <a:pt x="840" y="10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グループ化 65"/>
          <p:cNvGrpSpPr/>
          <p:nvPr/>
        </p:nvGrpSpPr>
        <p:grpSpPr>
          <a:xfrm>
            <a:off x="2584440" y="2867040"/>
            <a:ext cx="5216400" cy="10163160"/>
            <a:chOff x="2584440" y="2867040"/>
            <a:chExt cx="5216400" cy="10163160"/>
          </a:xfrm>
        </p:grpSpPr>
        <p:sp>
          <p:nvSpPr>
            <p:cNvPr id="100" name="Freeform 5"/>
            <p:cNvSpPr/>
            <p:nvPr/>
          </p:nvSpPr>
          <p:spPr>
            <a:xfrm>
              <a:off x="2584440" y="2867040"/>
              <a:ext cx="5216400" cy="10163160"/>
            </a:xfrm>
            <a:custGeom>
              <a:avLst/>
              <a:gdLst>
                <a:gd name="textAreaLeft" fmla="*/ 0 w 5216400"/>
                <a:gd name="textAreaRight" fmla="*/ 5216760 w 5216400"/>
                <a:gd name="textAreaTop" fmla="*/ 0 h 10163160"/>
                <a:gd name="textAreaBottom" fmla="*/ 10163520 h 10163160"/>
              </a:gdLst>
              <a:ahLst/>
              <a:rect l="textAreaLeft" t="textAreaTop" r="textAreaRight" b="textAreaBottom"/>
              <a:pathLst>
                <a:path w="3286" h="6402">
                  <a:moveTo>
                    <a:pt x="3088" y="6142"/>
                  </a:moveTo>
                  <a:lnTo>
                    <a:pt x="3088" y="6142"/>
                  </a:lnTo>
                  <a:lnTo>
                    <a:pt x="3086" y="6144"/>
                  </a:lnTo>
                  <a:lnTo>
                    <a:pt x="3086" y="6144"/>
                  </a:lnTo>
                  <a:lnTo>
                    <a:pt x="3086" y="6144"/>
                  </a:lnTo>
                  <a:lnTo>
                    <a:pt x="3086" y="6144"/>
                  </a:lnTo>
                  <a:lnTo>
                    <a:pt x="3088" y="6142"/>
                  </a:lnTo>
                  <a:lnTo>
                    <a:pt x="3088" y="6142"/>
                  </a:lnTo>
                  <a:close/>
                  <a:moveTo>
                    <a:pt x="3260" y="2782"/>
                  </a:moveTo>
                  <a:lnTo>
                    <a:pt x="3260" y="2782"/>
                  </a:lnTo>
                  <a:lnTo>
                    <a:pt x="3244" y="2636"/>
                  </a:lnTo>
                  <a:lnTo>
                    <a:pt x="3238" y="2560"/>
                  </a:lnTo>
                  <a:lnTo>
                    <a:pt x="3234" y="2486"/>
                  </a:lnTo>
                  <a:lnTo>
                    <a:pt x="3234" y="2486"/>
                  </a:lnTo>
                  <a:lnTo>
                    <a:pt x="3230" y="2430"/>
                  </a:lnTo>
                  <a:lnTo>
                    <a:pt x="3228" y="2374"/>
                  </a:lnTo>
                  <a:lnTo>
                    <a:pt x="3228" y="2374"/>
                  </a:lnTo>
                  <a:lnTo>
                    <a:pt x="3226" y="2306"/>
                  </a:lnTo>
                  <a:lnTo>
                    <a:pt x="3222" y="2236"/>
                  </a:lnTo>
                  <a:lnTo>
                    <a:pt x="3218" y="2200"/>
                  </a:lnTo>
                  <a:lnTo>
                    <a:pt x="3212" y="2166"/>
                  </a:lnTo>
                  <a:lnTo>
                    <a:pt x="3206" y="2130"/>
                  </a:lnTo>
                  <a:lnTo>
                    <a:pt x="3198" y="2096"/>
                  </a:lnTo>
                  <a:lnTo>
                    <a:pt x="3188" y="2062"/>
                  </a:lnTo>
                  <a:lnTo>
                    <a:pt x="3174" y="2028"/>
                  </a:lnTo>
                  <a:lnTo>
                    <a:pt x="3160" y="1996"/>
                  </a:lnTo>
                  <a:lnTo>
                    <a:pt x="3142" y="1964"/>
                  </a:lnTo>
                  <a:lnTo>
                    <a:pt x="3122" y="1934"/>
                  </a:lnTo>
                  <a:lnTo>
                    <a:pt x="3098" y="1906"/>
                  </a:lnTo>
                  <a:lnTo>
                    <a:pt x="3070" y="1878"/>
                  </a:lnTo>
                  <a:lnTo>
                    <a:pt x="3038" y="1854"/>
                  </a:lnTo>
                  <a:lnTo>
                    <a:pt x="3038" y="1854"/>
                  </a:lnTo>
                  <a:lnTo>
                    <a:pt x="3040" y="1842"/>
                  </a:lnTo>
                  <a:lnTo>
                    <a:pt x="3040" y="1842"/>
                  </a:lnTo>
                  <a:lnTo>
                    <a:pt x="3044" y="1822"/>
                  </a:lnTo>
                  <a:lnTo>
                    <a:pt x="3046" y="1798"/>
                  </a:lnTo>
                  <a:lnTo>
                    <a:pt x="3044" y="1772"/>
                  </a:lnTo>
                  <a:lnTo>
                    <a:pt x="3042" y="1760"/>
                  </a:lnTo>
                  <a:lnTo>
                    <a:pt x="3038" y="1746"/>
                  </a:lnTo>
                  <a:lnTo>
                    <a:pt x="3038" y="1746"/>
                  </a:lnTo>
                  <a:lnTo>
                    <a:pt x="3034" y="1724"/>
                  </a:lnTo>
                  <a:lnTo>
                    <a:pt x="3028" y="1702"/>
                  </a:lnTo>
                  <a:lnTo>
                    <a:pt x="3022" y="1680"/>
                  </a:lnTo>
                  <a:lnTo>
                    <a:pt x="3012" y="1660"/>
                  </a:lnTo>
                  <a:lnTo>
                    <a:pt x="3002" y="1640"/>
                  </a:lnTo>
                  <a:lnTo>
                    <a:pt x="2990" y="1622"/>
                  </a:lnTo>
                  <a:lnTo>
                    <a:pt x="2976" y="1604"/>
                  </a:lnTo>
                  <a:lnTo>
                    <a:pt x="2960" y="1588"/>
                  </a:lnTo>
                  <a:lnTo>
                    <a:pt x="2960" y="1588"/>
                  </a:lnTo>
                  <a:lnTo>
                    <a:pt x="2982" y="1532"/>
                  </a:lnTo>
                  <a:lnTo>
                    <a:pt x="2998" y="1476"/>
                  </a:lnTo>
                  <a:lnTo>
                    <a:pt x="3004" y="1450"/>
                  </a:lnTo>
                  <a:lnTo>
                    <a:pt x="3008" y="1422"/>
                  </a:lnTo>
                  <a:lnTo>
                    <a:pt x="3012" y="1396"/>
                  </a:lnTo>
                  <a:lnTo>
                    <a:pt x="3014" y="1368"/>
                  </a:lnTo>
                  <a:lnTo>
                    <a:pt x="3014" y="1368"/>
                  </a:lnTo>
                  <a:lnTo>
                    <a:pt x="3014" y="1318"/>
                  </a:lnTo>
                  <a:lnTo>
                    <a:pt x="3012" y="1270"/>
                  </a:lnTo>
                  <a:lnTo>
                    <a:pt x="3008" y="1220"/>
                  </a:lnTo>
                  <a:lnTo>
                    <a:pt x="3002" y="1172"/>
                  </a:lnTo>
                  <a:lnTo>
                    <a:pt x="2994" y="1124"/>
                  </a:lnTo>
                  <a:lnTo>
                    <a:pt x="2982" y="1076"/>
                  </a:lnTo>
                  <a:lnTo>
                    <a:pt x="2970" y="1030"/>
                  </a:lnTo>
                  <a:lnTo>
                    <a:pt x="2954" y="982"/>
                  </a:lnTo>
                  <a:lnTo>
                    <a:pt x="2936" y="938"/>
                  </a:lnTo>
                  <a:lnTo>
                    <a:pt x="2916" y="892"/>
                  </a:lnTo>
                  <a:lnTo>
                    <a:pt x="2894" y="848"/>
                  </a:lnTo>
                  <a:lnTo>
                    <a:pt x="2870" y="804"/>
                  </a:lnTo>
                  <a:lnTo>
                    <a:pt x="2844" y="760"/>
                  </a:lnTo>
                  <a:lnTo>
                    <a:pt x="2816" y="718"/>
                  </a:lnTo>
                  <a:lnTo>
                    <a:pt x="2784" y="676"/>
                  </a:lnTo>
                  <a:lnTo>
                    <a:pt x="2752" y="634"/>
                  </a:lnTo>
                  <a:lnTo>
                    <a:pt x="2752" y="634"/>
                  </a:lnTo>
                  <a:lnTo>
                    <a:pt x="2722" y="600"/>
                  </a:lnTo>
                  <a:lnTo>
                    <a:pt x="2690" y="570"/>
                  </a:lnTo>
                  <a:lnTo>
                    <a:pt x="2656" y="540"/>
                  </a:lnTo>
                  <a:lnTo>
                    <a:pt x="2620" y="514"/>
                  </a:lnTo>
                  <a:lnTo>
                    <a:pt x="2582" y="490"/>
                  </a:lnTo>
                  <a:lnTo>
                    <a:pt x="2544" y="470"/>
                  </a:lnTo>
                  <a:lnTo>
                    <a:pt x="2504" y="450"/>
                  </a:lnTo>
                  <a:lnTo>
                    <a:pt x="2464" y="436"/>
                  </a:lnTo>
                  <a:lnTo>
                    <a:pt x="2420" y="422"/>
                  </a:lnTo>
                  <a:lnTo>
                    <a:pt x="2378" y="412"/>
                  </a:lnTo>
                  <a:lnTo>
                    <a:pt x="2334" y="404"/>
                  </a:lnTo>
                  <a:lnTo>
                    <a:pt x="2288" y="400"/>
                  </a:lnTo>
                  <a:lnTo>
                    <a:pt x="2242" y="398"/>
                  </a:lnTo>
                  <a:lnTo>
                    <a:pt x="2196" y="400"/>
                  </a:lnTo>
                  <a:lnTo>
                    <a:pt x="2148" y="404"/>
                  </a:lnTo>
                  <a:lnTo>
                    <a:pt x="2100" y="410"/>
                  </a:lnTo>
                  <a:lnTo>
                    <a:pt x="2100" y="410"/>
                  </a:lnTo>
                  <a:lnTo>
                    <a:pt x="2060" y="388"/>
                  </a:lnTo>
                  <a:lnTo>
                    <a:pt x="2020" y="370"/>
                  </a:lnTo>
                  <a:lnTo>
                    <a:pt x="1978" y="354"/>
                  </a:lnTo>
                  <a:lnTo>
                    <a:pt x="1934" y="342"/>
                  </a:lnTo>
                  <a:lnTo>
                    <a:pt x="1888" y="336"/>
                  </a:lnTo>
                  <a:lnTo>
                    <a:pt x="1844" y="332"/>
                  </a:lnTo>
                  <a:lnTo>
                    <a:pt x="1796" y="332"/>
                  </a:lnTo>
                  <a:lnTo>
                    <a:pt x="1748" y="336"/>
                  </a:lnTo>
                  <a:lnTo>
                    <a:pt x="1748" y="336"/>
                  </a:lnTo>
                  <a:lnTo>
                    <a:pt x="1742" y="338"/>
                  </a:lnTo>
                  <a:lnTo>
                    <a:pt x="1742" y="338"/>
                  </a:lnTo>
                  <a:lnTo>
                    <a:pt x="1712" y="346"/>
                  </a:lnTo>
                  <a:lnTo>
                    <a:pt x="1682" y="354"/>
                  </a:lnTo>
                  <a:lnTo>
                    <a:pt x="1652" y="364"/>
                  </a:lnTo>
                  <a:lnTo>
                    <a:pt x="1624" y="374"/>
                  </a:lnTo>
                  <a:lnTo>
                    <a:pt x="1568" y="400"/>
                  </a:lnTo>
                  <a:lnTo>
                    <a:pt x="1516" y="426"/>
                  </a:lnTo>
                  <a:lnTo>
                    <a:pt x="1516" y="426"/>
                  </a:lnTo>
                  <a:lnTo>
                    <a:pt x="1522" y="394"/>
                  </a:lnTo>
                  <a:lnTo>
                    <a:pt x="1522" y="394"/>
                  </a:lnTo>
                  <a:lnTo>
                    <a:pt x="1528" y="360"/>
                  </a:lnTo>
                  <a:lnTo>
                    <a:pt x="1532" y="326"/>
                  </a:lnTo>
                  <a:lnTo>
                    <a:pt x="1536" y="290"/>
                  </a:lnTo>
                  <a:lnTo>
                    <a:pt x="1536" y="254"/>
                  </a:lnTo>
                  <a:lnTo>
                    <a:pt x="1534" y="236"/>
                  </a:lnTo>
                  <a:lnTo>
                    <a:pt x="1530" y="218"/>
                  </a:lnTo>
                  <a:lnTo>
                    <a:pt x="1526" y="200"/>
                  </a:lnTo>
                  <a:lnTo>
                    <a:pt x="1522" y="180"/>
                  </a:lnTo>
                  <a:lnTo>
                    <a:pt x="1514" y="164"/>
                  </a:lnTo>
                  <a:lnTo>
                    <a:pt x="1506" y="146"/>
                  </a:lnTo>
                  <a:lnTo>
                    <a:pt x="1494" y="128"/>
                  </a:lnTo>
                  <a:lnTo>
                    <a:pt x="1482" y="110"/>
                  </a:lnTo>
                  <a:lnTo>
                    <a:pt x="1482" y="110"/>
                  </a:lnTo>
                  <a:lnTo>
                    <a:pt x="1468" y="98"/>
                  </a:lnTo>
                  <a:lnTo>
                    <a:pt x="1454" y="90"/>
                  </a:lnTo>
                  <a:lnTo>
                    <a:pt x="1438" y="84"/>
                  </a:lnTo>
                  <a:lnTo>
                    <a:pt x="1420" y="82"/>
                  </a:lnTo>
                  <a:lnTo>
                    <a:pt x="1420" y="82"/>
                  </a:lnTo>
                  <a:lnTo>
                    <a:pt x="1406" y="80"/>
                  </a:lnTo>
                  <a:lnTo>
                    <a:pt x="1406" y="80"/>
                  </a:lnTo>
                  <a:lnTo>
                    <a:pt x="1384" y="78"/>
                  </a:lnTo>
                  <a:lnTo>
                    <a:pt x="1358" y="78"/>
                  </a:lnTo>
                  <a:lnTo>
                    <a:pt x="1342" y="80"/>
                  </a:lnTo>
                  <a:lnTo>
                    <a:pt x="1328" y="84"/>
                  </a:lnTo>
                  <a:lnTo>
                    <a:pt x="1312" y="90"/>
                  </a:lnTo>
                  <a:lnTo>
                    <a:pt x="1296" y="98"/>
                  </a:lnTo>
                  <a:lnTo>
                    <a:pt x="1296" y="98"/>
                  </a:lnTo>
                  <a:lnTo>
                    <a:pt x="1272" y="108"/>
                  </a:lnTo>
                  <a:lnTo>
                    <a:pt x="1272" y="108"/>
                  </a:lnTo>
                  <a:lnTo>
                    <a:pt x="1264" y="110"/>
                  </a:lnTo>
                  <a:lnTo>
                    <a:pt x="1264" y="110"/>
                  </a:lnTo>
                  <a:lnTo>
                    <a:pt x="1206" y="92"/>
                  </a:lnTo>
                  <a:lnTo>
                    <a:pt x="1148" y="70"/>
                  </a:lnTo>
                  <a:lnTo>
                    <a:pt x="1148" y="70"/>
                  </a:lnTo>
                  <a:lnTo>
                    <a:pt x="1074" y="44"/>
                  </a:lnTo>
                  <a:lnTo>
                    <a:pt x="1036" y="30"/>
                  </a:lnTo>
                  <a:lnTo>
                    <a:pt x="998" y="20"/>
                  </a:lnTo>
                  <a:lnTo>
                    <a:pt x="958" y="10"/>
                  </a:lnTo>
                  <a:lnTo>
                    <a:pt x="918" y="4"/>
                  </a:lnTo>
                  <a:lnTo>
                    <a:pt x="876" y="0"/>
                  </a:lnTo>
                  <a:lnTo>
                    <a:pt x="832" y="0"/>
                  </a:lnTo>
                  <a:lnTo>
                    <a:pt x="832" y="0"/>
                  </a:lnTo>
                  <a:lnTo>
                    <a:pt x="828" y="0"/>
                  </a:lnTo>
                  <a:lnTo>
                    <a:pt x="828" y="0"/>
                  </a:lnTo>
                  <a:lnTo>
                    <a:pt x="788" y="6"/>
                  </a:lnTo>
                  <a:lnTo>
                    <a:pt x="746" y="12"/>
                  </a:lnTo>
                  <a:lnTo>
                    <a:pt x="706" y="22"/>
                  </a:lnTo>
                  <a:lnTo>
                    <a:pt x="666" y="34"/>
                  </a:lnTo>
                  <a:lnTo>
                    <a:pt x="626" y="48"/>
                  </a:lnTo>
                  <a:lnTo>
                    <a:pt x="586" y="64"/>
                  </a:lnTo>
                  <a:lnTo>
                    <a:pt x="546" y="84"/>
                  </a:lnTo>
                  <a:lnTo>
                    <a:pt x="506" y="104"/>
                  </a:lnTo>
                  <a:lnTo>
                    <a:pt x="466" y="126"/>
                  </a:lnTo>
                  <a:lnTo>
                    <a:pt x="428" y="152"/>
                  </a:lnTo>
                  <a:lnTo>
                    <a:pt x="390" y="178"/>
                  </a:lnTo>
                  <a:lnTo>
                    <a:pt x="352" y="208"/>
                  </a:lnTo>
                  <a:lnTo>
                    <a:pt x="314" y="238"/>
                  </a:lnTo>
                  <a:lnTo>
                    <a:pt x="276" y="272"/>
                  </a:lnTo>
                  <a:lnTo>
                    <a:pt x="240" y="306"/>
                  </a:lnTo>
                  <a:lnTo>
                    <a:pt x="204" y="342"/>
                  </a:lnTo>
                  <a:lnTo>
                    <a:pt x="204" y="342"/>
                  </a:lnTo>
                  <a:lnTo>
                    <a:pt x="180" y="370"/>
                  </a:lnTo>
                  <a:lnTo>
                    <a:pt x="156" y="398"/>
                  </a:lnTo>
                  <a:lnTo>
                    <a:pt x="136" y="428"/>
                  </a:lnTo>
                  <a:lnTo>
                    <a:pt x="118" y="458"/>
                  </a:lnTo>
                  <a:lnTo>
                    <a:pt x="102" y="490"/>
                  </a:lnTo>
                  <a:lnTo>
                    <a:pt x="88" y="522"/>
                  </a:lnTo>
                  <a:lnTo>
                    <a:pt x="74" y="554"/>
                  </a:lnTo>
                  <a:lnTo>
                    <a:pt x="64" y="588"/>
                  </a:lnTo>
                  <a:lnTo>
                    <a:pt x="54" y="620"/>
                  </a:lnTo>
                  <a:lnTo>
                    <a:pt x="46" y="654"/>
                  </a:lnTo>
                  <a:lnTo>
                    <a:pt x="32" y="722"/>
                  </a:lnTo>
                  <a:lnTo>
                    <a:pt x="20" y="790"/>
                  </a:lnTo>
                  <a:lnTo>
                    <a:pt x="10" y="856"/>
                  </a:lnTo>
                  <a:lnTo>
                    <a:pt x="4" y="896"/>
                  </a:lnTo>
                  <a:lnTo>
                    <a:pt x="4" y="896"/>
                  </a:lnTo>
                  <a:lnTo>
                    <a:pt x="4" y="908"/>
                  </a:lnTo>
                  <a:lnTo>
                    <a:pt x="4" y="942"/>
                  </a:lnTo>
                  <a:lnTo>
                    <a:pt x="4" y="942"/>
                  </a:lnTo>
                  <a:lnTo>
                    <a:pt x="4" y="982"/>
                  </a:lnTo>
                  <a:lnTo>
                    <a:pt x="2" y="1024"/>
                  </a:lnTo>
                  <a:lnTo>
                    <a:pt x="2" y="1024"/>
                  </a:lnTo>
                  <a:lnTo>
                    <a:pt x="0" y="1036"/>
                  </a:lnTo>
                  <a:lnTo>
                    <a:pt x="2" y="1048"/>
                  </a:lnTo>
                  <a:lnTo>
                    <a:pt x="2" y="1048"/>
                  </a:lnTo>
                  <a:lnTo>
                    <a:pt x="12" y="1110"/>
                  </a:lnTo>
                  <a:lnTo>
                    <a:pt x="12" y="1110"/>
                  </a:lnTo>
                  <a:lnTo>
                    <a:pt x="26" y="1182"/>
                  </a:lnTo>
                  <a:lnTo>
                    <a:pt x="32" y="1218"/>
                  </a:lnTo>
                  <a:lnTo>
                    <a:pt x="44" y="1254"/>
                  </a:lnTo>
                  <a:lnTo>
                    <a:pt x="44" y="1254"/>
                  </a:lnTo>
                  <a:lnTo>
                    <a:pt x="52" y="1292"/>
                  </a:lnTo>
                  <a:lnTo>
                    <a:pt x="64" y="1332"/>
                  </a:lnTo>
                  <a:lnTo>
                    <a:pt x="76" y="1368"/>
                  </a:lnTo>
                  <a:lnTo>
                    <a:pt x="92" y="1406"/>
                  </a:lnTo>
                  <a:lnTo>
                    <a:pt x="108" y="1442"/>
                  </a:lnTo>
                  <a:lnTo>
                    <a:pt x="126" y="1476"/>
                  </a:lnTo>
                  <a:lnTo>
                    <a:pt x="146" y="1510"/>
                  </a:lnTo>
                  <a:lnTo>
                    <a:pt x="168" y="1542"/>
                  </a:lnTo>
                  <a:lnTo>
                    <a:pt x="190" y="1572"/>
                  </a:lnTo>
                  <a:lnTo>
                    <a:pt x="214" y="1602"/>
                  </a:lnTo>
                  <a:lnTo>
                    <a:pt x="240" y="1630"/>
                  </a:lnTo>
                  <a:lnTo>
                    <a:pt x="266" y="1658"/>
                  </a:lnTo>
                  <a:lnTo>
                    <a:pt x="294" y="1682"/>
                  </a:lnTo>
                  <a:lnTo>
                    <a:pt x="324" y="1706"/>
                  </a:lnTo>
                  <a:lnTo>
                    <a:pt x="354" y="1726"/>
                  </a:lnTo>
                  <a:lnTo>
                    <a:pt x="384" y="1746"/>
                  </a:lnTo>
                  <a:lnTo>
                    <a:pt x="384" y="1746"/>
                  </a:lnTo>
                  <a:lnTo>
                    <a:pt x="386" y="1782"/>
                  </a:lnTo>
                  <a:lnTo>
                    <a:pt x="392" y="1820"/>
                  </a:lnTo>
                  <a:lnTo>
                    <a:pt x="400" y="1856"/>
                  </a:lnTo>
                  <a:lnTo>
                    <a:pt x="410" y="1890"/>
                  </a:lnTo>
                  <a:lnTo>
                    <a:pt x="424" y="1924"/>
                  </a:lnTo>
                  <a:lnTo>
                    <a:pt x="438" y="1958"/>
                  </a:lnTo>
                  <a:lnTo>
                    <a:pt x="454" y="1990"/>
                  </a:lnTo>
                  <a:lnTo>
                    <a:pt x="470" y="2022"/>
                  </a:lnTo>
                  <a:lnTo>
                    <a:pt x="470" y="2022"/>
                  </a:lnTo>
                  <a:lnTo>
                    <a:pt x="436" y="2058"/>
                  </a:lnTo>
                  <a:lnTo>
                    <a:pt x="406" y="2094"/>
                  </a:lnTo>
                  <a:lnTo>
                    <a:pt x="378" y="2132"/>
                  </a:lnTo>
                  <a:lnTo>
                    <a:pt x="350" y="2172"/>
                  </a:lnTo>
                  <a:lnTo>
                    <a:pt x="326" y="2212"/>
                  </a:lnTo>
                  <a:lnTo>
                    <a:pt x="306" y="2252"/>
                  </a:lnTo>
                  <a:lnTo>
                    <a:pt x="286" y="2294"/>
                  </a:lnTo>
                  <a:lnTo>
                    <a:pt x="270" y="2338"/>
                  </a:lnTo>
                  <a:lnTo>
                    <a:pt x="256" y="2382"/>
                  </a:lnTo>
                  <a:lnTo>
                    <a:pt x="244" y="2426"/>
                  </a:lnTo>
                  <a:lnTo>
                    <a:pt x="234" y="2472"/>
                  </a:lnTo>
                  <a:lnTo>
                    <a:pt x="228" y="2518"/>
                  </a:lnTo>
                  <a:lnTo>
                    <a:pt x="224" y="2564"/>
                  </a:lnTo>
                  <a:lnTo>
                    <a:pt x="222" y="2612"/>
                  </a:lnTo>
                  <a:lnTo>
                    <a:pt x="222" y="2660"/>
                  </a:lnTo>
                  <a:lnTo>
                    <a:pt x="226" y="2710"/>
                  </a:lnTo>
                  <a:lnTo>
                    <a:pt x="226" y="2710"/>
                  </a:lnTo>
                  <a:lnTo>
                    <a:pt x="224" y="2738"/>
                  </a:lnTo>
                  <a:lnTo>
                    <a:pt x="226" y="2764"/>
                  </a:lnTo>
                  <a:lnTo>
                    <a:pt x="228" y="2792"/>
                  </a:lnTo>
                  <a:lnTo>
                    <a:pt x="234" y="2818"/>
                  </a:lnTo>
                  <a:lnTo>
                    <a:pt x="240" y="2844"/>
                  </a:lnTo>
                  <a:lnTo>
                    <a:pt x="248" y="2870"/>
                  </a:lnTo>
                  <a:lnTo>
                    <a:pt x="258" y="2894"/>
                  </a:lnTo>
                  <a:lnTo>
                    <a:pt x="270" y="2918"/>
                  </a:lnTo>
                  <a:lnTo>
                    <a:pt x="284" y="2942"/>
                  </a:lnTo>
                  <a:lnTo>
                    <a:pt x="298" y="2964"/>
                  </a:lnTo>
                  <a:lnTo>
                    <a:pt x="314" y="2986"/>
                  </a:lnTo>
                  <a:lnTo>
                    <a:pt x="332" y="3006"/>
                  </a:lnTo>
                  <a:lnTo>
                    <a:pt x="352" y="3024"/>
                  </a:lnTo>
                  <a:lnTo>
                    <a:pt x="372" y="3042"/>
                  </a:lnTo>
                  <a:lnTo>
                    <a:pt x="396" y="3058"/>
                  </a:lnTo>
                  <a:lnTo>
                    <a:pt x="418" y="3074"/>
                  </a:lnTo>
                  <a:lnTo>
                    <a:pt x="418" y="3074"/>
                  </a:lnTo>
                  <a:lnTo>
                    <a:pt x="426" y="3078"/>
                  </a:lnTo>
                  <a:lnTo>
                    <a:pt x="426" y="3078"/>
                  </a:lnTo>
                  <a:lnTo>
                    <a:pt x="448" y="3088"/>
                  </a:lnTo>
                  <a:lnTo>
                    <a:pt x="472" y="3096"/>
                  </a:lnTo>
                  <a:lnTo>
                    <a:pt x="496" y="3102"/>
                  </a:lnTo>
                  <a:lnTo>
                    <a:pt x="518" y="3110"/>
                  </a:lnTo>
                  <a:lnTo>
                    <a:pt x="544" y="3114"/>
                  </a:lnTo>
                  <a:lnTo>
                    <a:pt x="568" y="3118"/>
                  </a:lnTo>
                  <a:lnTo>
                    <a:pt x="616" y="3122"/>
                  </a:lnTo>
                  <a:lnTo>
                    <a:pt x="666" y="3122"/>
                  </a:lnTo>
                  <a:lnTo>
                    <a:pt x="714" y="3116"/>
                  </a:lnTo>
                  <a:lnTo>
                    <a:pt x="762" y="3106"/>
                  </a:lnTo>
                  <a:lnTo>
                    <a:pt x="808" y="3092"/>
                  </a:lnTo>
                  <a:lnTo>
                    <a:pt x="808" y="3092"/>
                  </a:lnTo>
                  <a:lnTo>
                    <a:pt x="812" y="3128"/>
                  </a:lnTo>
                  <a:lnTo>
                    <a:pt x="818" y="3168"/>
                  </a:lnTo>
                  <a:lnTo>
                    <a:pt x="818" y="3168"/>
                  </a:lnTo>
                  <a:lnTo>
                    <a:pt x="820" y="3174"/>
                  </a:lnTo>
                  <a:lnTo>
                    <a:pt x="820" y="3174"/>
                  </a:lnTo>
                  <a:lnTo>
                    <a:pt x="824" y="3196"/>
                  </a:lnTo>
                  <a:lnTo>
                    <a:pt x="826" y="3222"/>
                  </a:lnTo>
                  <a:lnTo>
                    <a:pt x="826" y="3222"/>
                  </a:lnTo>
                  <a:lnTo>
                    <a:pt x="830" y="3258"/>
                  </a:lnTo>
                  <a:lnTo>
                    <a:pt x="834" y="3278"/>
                  </a:lnTo>
                  <a:lnTo>
                    <a:pt x="838" y="3298"/>
                  </a:lnTo>
                  <a:lnTo>
                    <a:pt x="844" y="3316"/>
                  </a:lnTo>
                  <a:lnTo>
                    <a:pt x="852" y="3336"/>
                  </a:lnTo>
                  <a:lnTo>
                    <a:pt x="862" y="3354"/>
                  </a:lnTo>
                  <a:lnTo>
                    <a:pt x="876" y="3372"/>
                  </a:lnTo>
                  <a:lnTo>
                    <a:pt x="876" y="3372"/>
                  </a:lnTo>
                  <a:lnTo>
                    <a:pt x="876" y="3400"/>
                  </a:lnTo>
                  <a:lnTo>
                    <a:pt x="876" y="3426"/>
                  </a:lnTo>
                  <a:lnTo>
                    <a:pt x="880" y="3480"/>
                  </a:lnTo>
                  <a:lnTo>
                    <a:pt x="890" y="3532"/>
                  </a:lnTo>
                  <a:lnTo>
                    <a:pt x="898" y="3582"/>
                  </a:lnTo>
                  <a:lnTo>
                    <a:pt x="904" y="3608"/>
                  </a:lnTo>
                  <a:lnTo>
                    <a:pt x="902" y="3694"/>
                  </a:lnTo>
                  <a:lnTo>
                    <a:pt x="902" y="3694"/>
                  </a:lnTo>
                  <a:lnTo>
                    <a:pt x="900" y="3878"/>
                  </a:lnTo>
                  <a:lnTo>
                    <a:pt x="896" y="3972"/>
                  </a:lnTo>
                  <a:lnTo>
                    <a:pt x="890" y="4064"/>
                  </a:lnTo>
                  <a:lnTo>
                    <a:pt x="890" y="4064"/>
                  </a:lnTo>
                  <a:lnTo>
                    <a:pt x="892" y="4080"/>
                  </a:lnTo>
                  <a:lnTo>
                    <a:pt x="892" y="4080"/>
                  </a:lnTo>
                  <a:lnTo>
                    <a:pt x="896" y="4120"/>
                  </a:lnTo>
                  <a:lnTo>
                    <a:pt x="898" y="4162"/>
                  </a:lnTo>
                  <a:lnTo>
                    <a:pt x="898" y="4246"/>
                  </a:lnTo>
                  <a:lnTo>
                    <a:pt x="898" y="4246"/>
                  </a:lnTo>
                  <a:lnTo>
                    <a:pt x="898" y="4292"/>
                  </a:lnTo>
                  <a:lnTo>
                    <a:pt x="898" y="4340"/>
                  </a:lnTo>
                  <a:lnTo>
                    <a:pt x="902" y="4388"/>
                  </a:lnTo>
                  <a:lnTo>
                    <a:pt x="906" y="4436"/>
                  </a:lnTo>
                  <a:lnTo>
                    <a:pt x="906" y="4436"/>
                  </a:lnTo>
                  <a:lnTo>
                    <a:pt x="906" y="4448"/>
                  </a:lnTo>
                  <a:lnTo>
                    <a:pt x="906" y="4448"/>
                  </a:lnTo>
                  <a:lnTo>
                    <a:pt x="904" y="4476"/>
                  </a:lnTo>
                  <a:lnTo>
                    <a:pt x="904" y="4494"/>
                  </a:lnTo>
                  <a:lnTo>
                    <a:pt x="908" y="4512"/>
                  </a:lnTo>
                  <a:lnTo>
                    <a:pt x="908" y="4512"/>
                  </a:lnTo>
                  <a:lnTo>
                    <a:pt x="908" y="4530"/>
                  </a:lnTo>
                  <a:lnTo>
                    <a:pt x="908" y="4546"/>
                  </a:lnTo>
                  <a:lnTo>
                    <a:pt x="912" y="4574"/>
                  </a:lnTo>
                  <a:lnTo>
                    <a:pt x="912" y="4574"/>
                  </a:lnTo>
                  <a:lnTo>
                    <a:pt x="914" y="4590"/>
                  </a:lnTo>
                  <a:lnTo>
                    <a:pt x="914" y="4590"/>
                  </a:lnTo>
                  <a:lnTo>
                    <a:pt x="912" y="4604"/>
                  </a:lnTo>
                  <a:lnTo>
                    <a:pt x="912" y="4620"/>
                  </a:lnTo>
                  <a:lnTo>
                    <a:pt x="912" y="4620"/>
                  </a:lnTo>
                  <a:lnTo>
                    <a:pt x="924" y="4680"/>
                  </a:lnTo>
                  <a:lnTo>
                    <a:pt x="930" y="4714"/>
                  </a:lnTo>
                  <a:lnTo>
                    <a:pt x="938" y="4748"/>
                  </a:lnTo>
                  <a:lnTo>
                    <a:pt x="948" y="4782"/>
                  </a:lnTo>
                  <a:lnTo>
                    <a:pt x="962" y="4816"/>
                  </a:lnTo>
                  <a:lnTo>
                    <a:pt x="978" y="4848"/>
                  </a:lnTo>
                  <a:lnTo>
                    <a:pt x="996" y="4880"/>
                  </a:lnTo>
                  <a:lnTo>
                    <a:pt x="996" y="4880"/>
                  </a:lnTo>
                  <a:lnTo>
                    <a:pt x="994" y="4906"/>
                  </a:lnTo>
                  <a:lnTo>
                    <a:pt x="994" y="4932"/>
                  </a:lnTo>
                  <a:lnTo>
                    <a:pt x="998" y="4984"/>
                  </a:lnTo>
                  <a:lnTo>
                    <a:pt x="1004" y="5034"/>
                  </a:lnTo>
                  <a:lnTo>
                    <a:pt x="1012" y="5084"/>
                  </a:lnTo>
                  <a:lnTo>
                    <a:pt x="1012" y="5084"/>
                  </a:lnTo>
                  <a:lnTo>
                    <a:pt x="1018" y="5128"/>
                  </a:lnTo>
                  <a:lnTo>
                    <a:pt x="1024" y="5168"/>
                  </a:lnTo>
                  <a:lnTo>
                    <a:pt x="1024" y="5168"/>
                  </a:lnTo>
                  <a:lnTo>
                    <a:pt x="1026" y="5178"/>
                  </a:lnTo>
                  <a:lnTo>
                    <a:pt x="1026" y="5178"/>
                  </a:lnTo>
                  <a:lnTo>
                    <a:pt x="1032" y="5216"/>
                  </a:lnTo>
                  <a:lnTo>
                    <a:pt x="1036" y="5258"/>
                  </a:lnTo>
                  <a:lnTo>
                    <a:pt x="1038" y="5300"/>
                  </a:lnTo>
                  <a:lnTo>
                    <a:pt x="1040" y="5344"/>
                  </a:lnTo>
                  <a:lnTo>
                    <a:pt x="1040" y="5344"/>
                  </a:lnTo>
                  <a:lnTo>
                    <a:pt x="1042" y="5396"/>
                  </a:lnTo>
                  <a:lnTo>
                    <a:pt x="1046" y="5448"/>
                  </a:lnTo>
                  <a:lnTo>
                    <a:pt x="1046" y="5448"/>
                  </a:lnTo>
                  <a:lnTo>
                    <a:pt x="1042" y="5462"/>
                  </a:lnTo>
                  <a:lnTo>
                    <a:pt x="1042" y="5476"/>
                  </a:lnTo>
                  <a:lnTo>
                    <a:pt x="1042" y="5488"/>
                  </a:lnTo>
                  <a:lnTo>
                    <a:pt x="1042" y="5498"/>
                  </a:lnTo>
                  <a:lnTo>
                    <a:pt x="1042" y="5498"/>
                  </a:lnTo>
                  <a:lnTo>
                    <a:pt x="1040" y="5510"/>
                  </a:lnTo>
                  <a:lnTo>
                    <a:pt x="1038" y="5524"/>
                  </a:lnTo>
                  <a:lnTo>
                    <a:pt x="1038" y="5524"/>
                  </a:lnTo>
                  <a:lnTo>
                    <a:pt x="1038" y="5532"/>
                  </a:lnTo>
                  <a:lnTo>
                    <a:pt x="1032" y="5548"/>
                  </a:lnTo>
                  <a:lnTo>
                    <a:pt x="1032" y="5548"/>
                  </a:lnTo>
                  <a:lnTo>
                    <a:pt x="1028" y="5560"/>
                  </a:lnTo>
                  <a:lnTo>
                    <a:pt x="1028" y="5560"/>
                  </a:lnTo>
                  <a:lnTo>
                    <a:pt x="996" y="5592"/>
                  </a:lnTo>
                  <a:lnTo>
                    <a:pt x="968" y="5624"/>
                  </a:lnTo>
                  <a:lnTo>
                    <a:pt x="942" y="5656"/>
                  </a:lnTo>
                  <a:lnTo>
                    <a:pt x="918" y="5690"/>
                  </a:lnTo>
                  <a:lnTo>
                    <a:pt x="898" y="5726"/>
                  </a:lnTo>
                  <a:lnTo>
                    <a:pt x="878" y="5760"/>
                  </a:lnTo>
                  <a:lnTo>
                    <a:pt x="862" y="5796"/>
                  </a:lnTo>
                  <a:lnTo>
                    <a:pt x="848" y="5832"/>
                  </a:lnTo>
                  <a:lnTo>
                    <a:pt x="838" y="5870"/>
                  </a:lnTo>
                  <a:lnTo>
                    <a:pt x="828" y="5906"/>
                  </a:lnTo>
                  <a:lnTo>
                    <a:pt x="822" y="5944"/>
                  </a:lnTo>
                  <a:lnTo>
                    <a:pt x="820" y="5980"/>
                  </a:lnTo>
                  <a:lnTo>
                    <a:pt x="818" y="6018"/>
                  </a:lnTo>
                  <a:lnTo>
                    <a:pt x="820" y="6054"/>
                  </a:lnTo>
                  <a:lnTo>
                    <a:pt x="824" y="6092"/>
                  </a:lnTo>
                  <a:lnTo>
                    <a:pt x="832" y="6130"/>
                  </a:lnTo>
                  <a:lnTo>
                    <a:pt x="832" y="6130"/>
                  </a:lnTo>
                  <a:lnTo>
                    <a:pt x="838" y="6154"/>
                  </a:lnTo>
                  <a:lnTo>
                    <a:pt x="846" y="6176"/>
                  </a:lnTo>
                  <a:lnTo>
                    <a:pt x="856" y="6198"/>
                  </a:lnTo>
                  <a:lnTo>
                    <a:pt x="868" y="6216"/>
                  </a:lnTo>
                  <a:lnTo>
                    <a:pt x="880" y="6236"/>
                  </a:lnTo>
                  <a:lnTo>
                    <a:pt x="894" y="6252"/>
                  </a:lnTo>
                  <a:lnTo>
                    <a:pt x="908" y="6268"/>
                  </a:lnTo>
                  <a:lnTo>
                    <a:pt x="924" y="6282"/>
                  </a:lnTo>
                  <a:lnTo>
                    <a:pt x="956" y="6306"/>
                  </a:lnTo>
                  <a:lnTo>
                    <a:pt x="988" y="6328"/>
                  </a:lnTo>
                  <a:lnTo>
                    <a:pt x="1018" y="6346"/>
                  </a:lnTo>
                  <a:lnTo>
                    <a:pt x="1044" y="6360"/>
                  </a:lnTo>
                  <a:lnTo>
                    <a:pt x="1044" y="6360"/>
                  </a:lnTo>
                  <a:lnTo>
                    <a:pt x="1078" y="6372"/>
                  </a:lnTo>
                  <a:lnTo>
                    <a:pt x="1112" y="6384"/>
                  </a:lnTo>
                  <a:lnTo>
                    <a:pt x="1146" y="6392"/>
                  </a:lnTo>
                  <a:lnTo>
                    <a:pt x="1182" y="6398"/>
                  </a:lnTo>
                  <a:lnTo>
                    <a:pt x="1216" y="6402"/>
                  </a:lnTo>
                  <a:lnTo>
                    <a:pt x="1254" y="6402"/>
                  </a:lnTo>
                  <a:lnTo>
                    <a:pt x="1290" y="6400"/>
                  </a:lnTo>
                  <a:lnTo>
                    <a:pt x="1326" y="6396"/>
                  </a:lnTo>
                  <a:lnTo>
                    <a:pt x="1362" y="6390"/>
                  </a:lnTo>
                  <a:lnTo>
                    <a:pt x="1398" y="6380"/>
                  </a:lnTo>
                  <a:lnTo>
                    <a:pt x="1432" y="6368"/>
                  </a:lnTo>
                  <a:lnTo>
                    <a:pt x="1466" y="6354"/>
                  </a:lnTo>
                  <a:lnTo>
                    <a:pt x="1500" y="6338"/>
                  </a:lnTo>
                  <a:lnTo>
                    <a:pt x="1530" y="6320"/>
                  </a:lnTo>
                  <a:lnTo>
                    <a:pt x="1562" y="6300"/>
                  </a:lnTo>
                  <a:lnTo>
                    <a:pt x="1590" y="6276"/>
                  </a:lnTo>
                  <a:lnTo>
                    <a:pt x="1590" y="6276"/>
                  </a:lnTo>
                  <a:lnTo>
                    <a:pt x="1610" y="6266"/>
                  </a:lnTo>
                  <a:lnTo>
                    <a:pt x="1628" y="6256"/>
                  </a:lnTo>
                  <a:lnTo>
                    <a:pt x="1644" y="6244"/>
                  </a:lnTo>
                  <a:lnTo>
                    <a:pt x="1658" y="6230"/>
                  </a:lnTo>
                  <a:lnTo>
                    <a:pt x="1686" y="6204"/>
                  </a:lnTo>
                  <a:lnTo>
                    <a:pt x="1710" y="6176"/>
                  </a:lnTo>
                  <a:lnTo>
                    <a:pt x="1710" y="6176"/>
                  </a:lnTo>
                  <a:lnTo>
                    <a:pt x="1720" y="6164"/>
                  </a:lnTo>
                  <a:lnTo>
                    <a:pt x="1720" y="6164"/>
                  </a:lnTo>
                  <a:lnTo>
                    <a:pt x="1752" y="6162"/>
                  </a:lnTo>
                  <a:lnTo>
                    <a:pt x="1782" y="6156"/>
                  </a:lnTo>
                  <a:lnTo>
                    <a:pt x="1810" y="6148"/>
                  </a:lnTo>
                  <a:lnTo>
                    <a:pt x="1836" y="6138"/>
                  </a:lnTo>
                  <a:lnTo>
                    <a:pt x="1836" y="6138"/>
                  </a:lnTo>
                  <a:lnTo>
                    <a:pt x="1864" y="6130"/>
                  </a:lnTo>
                  <a:lnTo>
                    <a:pt x="1890" y="6122"/>
                  </a:lnTo>
                  <a:lnTo>
                    <a:pt x="1890" y="6122"/>
                  </a:lnTo>
                  <a:lnTo>
                    <a:pt x="1906" y="6118"/>
                  </a:lnTo>
                  <a:lnTo>
                    <a:pt x="1922" y="6112"/>
                  </a:lnTo>
                  <a:lnTo>
                    <a:pt x="1936" y="6102"/>
                  </a:lnTo>
                  <a:lnTo>
                    <a:pt x="1950" y="6094"/>
                  </a:lnTo>
                  <a:lnTo>
                    <a:pt x="1950" y="6094"/>
                  </a:lnTo>
                  <a:lnTo>
                    <a:pt x="1956" y="6106"/>
                  </a:lnTo>
                  <a:lnTo>
                    <a:pt x="1964" y="6122"/>
                  </a:lnTo>
                  <a:lnTo>
                    <a:pt x="1974" y="6136"/>
                  </a:lnTo>
                  <a:lnTo>
                    <a:pt x="1988" y="6152"/>
                  </a:lnTo>
                  <a:lnTo>
                    <a:pt x="1988" y="6152"/>
                  </a:lnTo>
                  <a:lnTo>
                    <a:pt x="1992" y="6158"/>
                  </a:lnTo>
                  <a:lnTo>
                    <a:pt x="1992" y="6158"/>
                  </a:lnTo>
                  <a:lnTo>
                    <a:pt x="2002" y="6166"/>
                  </a:lnTo>
                  <a:lnTo>
                    <a:pt x="2012" y="6174"/>
                  </a:lnTo>
                  <a:lnTo>
                    <a:pt x="2024" y="6180"/>
                  </a:lnTo>
                  <a:lnTo>
                    <a:pt x="2038" y="6184"/>
                  </a:lnTo>
                  <a:lnTo>
                    <a:pt x="2038" y="6184"/>
                  </a:lnTo>
                  <a:lnTo>
                    <a:pt x="2100" y="6196"/>
                  </a:lnTo>
                  <a:lnTo>
                    <a:pt x="2166" y="6206"/>
                  </a:lnTo>
                  <a:lnTo>
                    <a:pt x="2198" y="6210"/>
                  </a:lnTo>
                  <a:lnTo>
                    <a:pt x="2232" y="6212"/>
                  </a:lnTo>
                  <a:lnTo>
                    <a:pt x="2264" y="6212"/>
                  </a:lnTo>
                  <a:lnTo>
                    <a:pt x="2300" y="6212"/>
                  </a:lnTo>
                  <a:lnTo>
                    <a:pt x="2300" y="6212"/>
                  </a:lnTo>
                  <a:lnTo>
                    <a:pt x="2316" y="6224"/>
                  </a:lnTo>
                  <a:lnTo>
                    <a:pt x="2332" y="6236"/>
                  </a:lnTo>
                  <a:lnTo>
                    <a:pt x="2368" y="6258"/>
                  </a:lnTo>
                  <a:lnTo>
                    <a:pt x="2408" y="6276"/>
                  </a:lnTo>
                  <a:lnTo>
                    <a:pt x="2452" y="6292"/>
                  </a:lnTo>
                  <a:lnTo>
                    <a:pt x="2498" y="6302"/>
                  </a:lnTo>
                  <a:lnTo>
                    <a:pt x="2550" y="6312"/>
                  </a:lnTo>
                  <a:lnTo>
                    <a:pt x="2604" y="6316"/>
                  </a:lnTo>
                  <a:lnTo>
                    <a:pt x="2662" y="6318"/>
                  </a:lnTo>
                  <a:lnTo>
                    <a:pt x="2662" y="6318"/>
                  </a:lnTo>
                  <a:lnTo>
                    <a:pt x="2668" y="6318"/>
                  </a:lnTo>
                  <a:lnTo>
                    <a:pt x="2668" y="6318"/>
                  </a:lnTo>
                  <a:lnTo>
                    <a:pt x="2686" y="6320"/>
                  </a:lnTo>
                  <a:lnTo>
                    <a:pt x="2702" y="6322"/>
                  </a:lnTo>
                  <a:lnTo>
                    <a:pt x="2716" y="6320"/>
                  </a:lnTo>
                  <a:lnTo>
                    <a:pt x="2730" y="6316"/>
                  </a:lnTo>
                  <a:lnTo>
                    <a:pt x="2730" y="6316"/>
                  </a:lnTo>
                  <a:lnTo>
                    <a:pt x="2756" y="6316"/>
                  </a:lnTo>
                  <a:lnTo>
                    <a:pt x="2780" y="6316"/>
                  </a:lnTo>
                  <a:lnTo>
                    <a:pt x="2806" y="6312"/>
                  </a:lnTo>
                  <a:lnTo>
                    <a:pt x="2830" y="6308"/>
                  </a:lnTo>
                  <a:lnTo>
                    <a:pt x="2854" y="6302"/>
                  </a:lnTo>
                  <a:lnTo>
                    <a:pt x="2878" y="6294"/>
                  </a:lnTo>
                  <a:lnTo>
                    <a:pt x="2902" y="6286"/>
                  </a:lnTo>
                  <a:lnTo>
                    <a:pt x="2924" y="6276"/>
                  </a:lnTo>
                  <a:lnTo>
                    <a:pt x="2948" y="6264"/>
                  </a:lnTo>
                  <a:lnTo>
                    <a:pt x="2970" y="6250"/>
                  </a:lnTo>
                  <a:lnTo>
                    <a:pt x="2990" y="6236"/>
                  </a:lnTo>
                  <a:lnTo>
                    <a:pt x="3012" y="6220"/>
                  </a:lnTo>
                  <a:lnTo>
                    <a:pt x="3030" y="6202"/>
                  </a:lnTo>
                  <a:lnTo>
                    <a:pt x="3050" y="6184"/>
                  </a:lnTo>
                  <a:lnTo>
                    <a:pt x="3068" y="6164"/>
                  </a:lnTo>
                  <a:lnTo>
                    <a:pt x="3086" y="6144"/>
                  </a:lnTo>
                  <a:lnTo>
                    <a:pt x="3086" y="6144"/>
                  </a:lnTo>
                  <a:lnTo>
                    <a:pt x="3104" y="6120"/>
                  </a:lnTo>
                  <a:lnTo>
                    <a:pt x="3120" y="6094"/>
                  </a:lnTo>
                  <a:lnTo>
                    <a:pt x="3130" y="6070"/>
                  </a:lnTo>
                  <a:lnTo>
                    <a:pt x="3138" y="6044"/>
                  </a:lnTo>
                  <a:lnTo>
                    <a:pt x="3142" y="6018"/>
                  </a:lnTo>
                  <a:lnTo>
                    <a:pt x="3144" y="5992"/>
                  </a:lnTo>
                  <a:lnTo>
                    <a:pt x="3144" y="5968"/>
                  </a:lnTo>
                  <a:lnTo>
                    <a:pt x="3142" y="5942"/>
                  </a:lnTo>
                  <a:lnTo>
                    <a:pt x="3136" y="5916"/>
                  </a:lnTo>
                  <a:lnTo>
                    <a:pt x="3130" y="5892"/>
                  </a:lnTo>
                  <a:lnTo>
                    <a:pt x="3116" y="5846"/>
                  </a:lnTo>
                  <a:lnTo>
                    <a:pt x="3096" y="5802"/>
                  </a:lnTo>
                  <a:lnTo>
                    <a:pt x="3078" y="5760"/>
                  </a:lnTo>
                  <a:lnTo>
                    <a:pt x="3068" y="5740"/>
                  </a:lnTo>
                  <a:lnTo>
                    <a:pt x="3068" y="5740"/>
                  </a:lnTo>
                  <a:lnTo>
                    <a:pt x="3060" y="5716"/>
                  </a:lnTo>
                  <a:lnTo>
                    <a:pt x="3048" y="5692"/>
                  </a:lnTo>
                  <a:lnTo>
                    <a:pt x="3036" y="5668"/>
                  </a:lnTo>
                  <a:lnTo>
                    <a:pt x="3022" y="5646"/>
                  </a:lnTo>
                  <a:lnTo>
                    <a:pt x="2994" y="5602"/>
                  </a:lnTo>
                  <a:lnTo>
                    <a:pt x="2966" y="5560"/>
                  </a:lnTo>
                  <a:lnTo>
                    <a:pt x="2966" y="5560"/>
                  </a:lnTo>
                  <a:lnTo>
                    <a:pt x="2930" y="5508"/>
                  </a:lnTo>
                  <a:lnTo>
                    <a:pt x="2914" y="5482"/>
                  </a:lnTo>
                  <a:lnTo>
                    <a:pt x="2900" y="5458"/>
                  </a:lnTo>
                  <a:lnTo>
                    <a:pt x="2888" y="5432"/>
                  </a:lnTo>
                  <a:lnTo>
                    <a:pt x="2880" y="5406"/>
                  </a:lnTo>
                  <a:lnTo>
                    <a:pt x="2874" y="5380"/>
                  </a:lnTo>
                  <a:lnTo>
                    <a:pt x="2874" y="5352"/>
                  </a:lnTo>
                  <a:lnTo>
                    <a:pt x="2874" y="5352"/>
                  </a:lnTo>
                  <a:lnTo>
                    <a:pt x="2874" y="5342"/>
                  </a:lnTo>
                  <a:lnTo>
                    <a:pt x="2872" y="5330"/>
                  </a:lnTo>
                  <a:lnTo>
                    <a:pt x="2872" y="5330"/>
                  </a:lnTo>
                  <a:lnTo>
                    <a:pt x="2864" y="5296"/>
                  </a:lnTo>
                  <a:lnTo>
                    <a:pt x="2860" y="5260"/>
                  </a:lnTo>
                  <a:lnTo>
                    <a:pt x="2856" y="5224"/>
                  </a:lnTo>
                  <a:lnTo>
                    <a:pt x="2852" y="5188"/>
                  </a:lnTo>
                  <a:lnTo>
                    <a:pt x="2850" y="5112"/>
                  </a:lnTo>
                  <a:lnTo>
                    <a:pt x="2848" y="5032"/>
                  </a:lnTo>
                  <a:lnTo>
                    <a:pt x="2848" y="5032"/>
                  </a:lnTo>
                  <a:lnTo>
                    <a:pt x="2846" y="4914"/>
                  </a:lnTo>
                  <a:lnTo>
                    <a:pt x="2844" y="4856"/>
                  </a:lnTo>
                  <a:lnTo>
                    <a:pt x="2838" y="4796"/>
                  </a:lnTo>
                  <a:lnTo>
                    <a:pt x="2838" y="4796"/>
                  </a:lnTo>
                  <a:lnTo>
                    <a:pt x="2854" y="4770"/>
                  </a:lnTo>
                  <a:lnTo>
                    <a:pt x="2868" y="4744"/>
                  </a:lnTo>
                  <a:lnTo>
                    <a:pt x="2880" y="4716"/>
                  </a:lnTo>
                  <a:lnTo>
                    <a:pt x="2890" y="4690"/>
                  </a:lnTo>
                  <a:lnTo>
                    <a:pt x="2900" y="4662"/>
                  </a:lnTo>
                  <a:lnTo>
                    <a:pt x="2906" y="4634"/>
                  </a:lnTo>
                  <a:lnTo>
                    <a:pt x="2912" y="4606"/>
                  </a:lnTo>
                  <a:lnTo>
                    <a:pt x="2916" y="4576"/>
                  </a:lnTo>
                  <a:lnTo>
                    <a:pt x="2920" y="4520"/>
                  </a:lnTo>
                  <a:lnTo>
                    <a:pt x="2922" y="4462"/>
                  </a:lnTo>
                  <a:lnTo>
                    <a:pt x="2920" y="4406"/>
                  </a:lnTo>
                  <a:lnTo>
                    <a:pt x="2918" y="4350"/>
                  </a:lnTo>
                  <a:lnTo>
                    <a:pt x="2918" y="4350"/>
                  </a:lnTo>
                  <a:lnTo>
                    <a:pt x="2914" y="4298"/>
                  </a:lnTo>
                  <a:lnTo>
                    <a:pt x="2914" y="4298"/>
                  </a:lnTo>
                  <a:lnTo>
                    <a:pt x="2930" y="4296"/>
                  </a:lnTo>
                  <a:lnTo>
                    <a:pt x="2944" y="4292"/>
                  </a:lnTo>
                  <a:lnTo>
                    <a:pt x="2956" y="4286"/>
                  </a:lnTo>
                  <a:lnTo>
                    <a:pt x="2968" y="4278"/>
                  </a:lnTo>
                  <a:lnTo>
                    <a:pt x="2988" y="4262"/>
                  </a:lnTo>
                  <a:lnTo>
                    <a:pt x="3006" y="4244"/>
                  </a:lnTo>
                  <a:lnTo>
                    <a:pt x="3020" y="4224"/>
                  </a:lnTo>
                  <a:lnTo>
                    <a:pt x="3032" y="4204"/>
                  </a:lnTo>
                  <a:lnTo>
                    <a:pt x="3048" y="4168"/>
                  </a:lnTo>
                  <a:lnTo>
                    <a:pt x="3048" y="4168"/>
                  </a:lnTo>
                  <a:lnTo>
                    <a:pt x="3060" y="4144"/>
                  </a:lnTo>
                  <a:lnTo>
                    <a:pt x="3066" y="4132"/>
                  </a:lnTo>
                  <a:lnTo>
                    <a:pt x="3072" y="4124"/>
                  </a:lnTo>
                  <a:lnTo>
                    <a:pt x="3072" y="4124"/>
                  </a:lnTo>
                  <a:lnTo>
                    <a:pt x="3082" y="4112"/>
                  </a:lnTo>
                  <a:lnTo>
                    <a:pt x="3088" y="4098"/>
                  </a:lnTo>
                  <a:lnTo>
                    <a:pt x="3088" y="4098"/>
                  </a:lnTo>
                  <a:lnTo>
                    <a:pt x="3098" y="4070"/>
                  </a:lnTo>
                  <a:lnTo>
                    <a:pt x="3108" y="4042"/>
                  </a:lnTo>
                  <a:lnTo>
                    <a:pt x="3114" y="4012"/>
                  </a:lnTo>
                  <a:lnTo>
                    <a:pt x="3120" y="3984"/>
                  </a:lnTo>
                  <a:lnTo>
                    <a:pt x="3130" y="3924"/>
                  </a:lnTo>
                  <a:lnTo>
                    <a:pt x="3134" y="3864"/>
                  </a:lnTo>
                  <a:lnTo>
                    <a:pt x="3136" y="3802"/>
                  </a:lnTo>
                  <a:lnTo>
                    <a:pt x="3134" y="3742"/>
                  </a:lnTo>
                  <a:lnTo>
                    <a:pt x="3130" y="3682"/>
                  </a:lnTo>
                  <a:lnTo>
                    <a:pt x="3124" y="3624"/>
                  </a:lnTo>
                  <a:lnTo>
                    <a:pt x="3124" y="3624"/>
                  </a:lnTo>
                  <a:lnTo>
                    <a:pt x="3140" y="3610"/>
                  </a:lnTo>
                  <a:lnTo>
                    <a:pt x="3156" y="3596"/>
                  </a:lnTo>
                  <a:lnTo>
                    <a:pt x="3182" y="3564"/>
                  </a:lnTo>
                  <a:lnTo>
                    <a:pt x="3204" y="3532"/>
                  </a:lnTo>
                  <a:lnTo>
                    <a:pt x="3224" y="3500"/>
                  </a:lnTo>
                  <a:lnTo>
                    <a:pt x="3240" y="3466"/>
                  </a:lnTo>
                  <a:lnTo>
                    <a:pt x="3252" y="3434"/>
                  </a:lnTo>
                  <a:lnTo>
                    <a:pt x="3262" y="3402"/>
                  </a:lnTo>
                  <a:lnTo>
                    <a:pt x="3272" y="3372"/>
                  </a:lnTo>
                  <a:lnTo>
                    <a:pt x="3272" y="3372"/>
                  </a:lnTo>
                  <a:lnTo>
                    <a:pt x="3274" y="3362"/>
                  </a:lnTo>
                  <a:lnTo>
                    <a:pt x="3274" y="3362"/>
                  </a:lnTo>
                  <a:lnTo>
                    <a:pt x="3282" y="3288"/>
                  </a:lnTo>
                  <a:lnTo>
                    <a:pt x="3286" y="3214"/>
                  </a:lnTo>
                  <a:lnTo>
                    <a:pt x="3286" y="3140"/>
                  </a:lnTo>
                  <a:lnTo>
                    <a:pt x="3284" y="3066"/>
                  </a:lnTo>
                  <a:lnTo>
                    <a:pt x="3280" y="2994"/>
                  </a:lnTo>
                  <a:lnTo>
                    <a:pt x="3274" y="2922"/>
                  </a:lnTo>
                  <a:lnTo>
                    <a:pt x="3260" y="2782"/>
                  </a:lnTo>
                  <a:lnTo>
                    <a:pt x="3260" y="2782"/>
                  </a:lnTo>
                  <a:close/>
                  <a:moveTo>
                    <a:pt x="906" y="4438"/>
                  </a:moveTo>
                  <a:lnTo>
                    <a:pt x="906" y="4438"/>
                  </a:lnTo>
                  <a:lnTo>
                    <a:pt x="906" y="4438"/>
                  </a:lnTo>
                  <a:lnTo>
                    <a:pt x="906" y="4438"/>
                  </a:lnTo>
                  <a:lnTo>
                    <a:pt x="908" y="4442"/>
                  </a:lnTo>
                  <a:lnTo>
                    <a:pt x="908" y="4442"/>
                  </a:lnTo>
                  <a:lnTo>
                    <a:pt x="906" y="4438"/>
                  </a:lnTo>
                  <a:lnTo>
                    <a:pt x="906" y="4438"/>
                  </a:lnTo>
                  <a:close/>
                  <a:moveTo>
                    <a:pt x="914" y="4588"/>
                  </a:moveTo>
                  <a:lnTo>
                    <a:pt x="914" y="4588"/>
                  </a:lnTo>
                  <a:lnTo>
                    <a:pt x="918" y="4578"/>
                  </a:lnTo>
                  <a:lnTo>
                    <a:pt x="918" y="4578"/>
                  </a:lnTo>
                  <a:lnTo>
                    <a:pt x="914" y="4588"/>
                  </a:lnTo>
                  <a:lnTo>
                    <a:pt x="914" y="45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"/>
            <p:cNvSpPr/>
            <p:nvPr/>
          </p:nvSpPr>
          <p:spPr>
            <a:xfrm>
              <a:off x="2711160" y="2993760"/>
              <a:ext cx="4962600" cy="9912600"/>
            </a:xfrm>
            <a:custGeom>
              <a:avLst/>
              <a:gdLst>
                <a:gd name="textAreaLeft" fmla="*/ 0 w 4962600"/>
                <a:gd name="textAreaRight" fmla="*/ 4962960 w 4962600"/>
                <a:gd name="textAreaTop" fmla="*/ 0 h 9912600"/>
                <a:gd name="textAreaBottom" fmla="*/ 9912960 h 9912600"/>
              </a:gdLst>
              <a:ahLst/>
              <a:rect l="textAreaLeft" t="textAreaTop" r="textAreaRight" b="textAreaBottom"/>
              <a:pathLst>
                <a:path w="3126" h="6244">
                  <a:moveTo>
                    <a:pt x="1174" y="110"/>
                  </a:moveTo>
                  <a:lnTo>
                    <a:pt x="1174" y="110"/>
                  </a:lnTo>
                  <a:lnTo>
                    <a:pt x="1184" y="112"/>
                  </a:lnTo>
                  <a:lnTo>
                    <a:pt x="1196" y="110"/>
                  </a:lnTo>
                  <a:lnTo>
                    <a:pt x="1214" y="104"/>
                  </a:lnTo>
                  <a:lnTo>
                    <a:pt x="1232" y="96"/>
                  </a:lnTo>
                  <a:lnTo>
                    <a:pt x="1242" y="94"/>
                  </a:lnTo>
                  <a:lnTo>
                    <a:pt x="1250" y="92"/>
                  </a:lnTo>
                  <a:lnTo>
                    <a:pt x="1250" y="92"/>
                  </a:lnTo>
                  <a:lnTo>
                    <a:pt x="1262" y="84"/>
                  </a:lnTo>
                  <a:lnTo>
                    <a:pt x="1272" y="80"/>
                  </a:lnTo>
                  <a:lnTo>
                    <a:pt x="1284" y="76"/>
                  </a:lnTo>
                  <a:lnTo>
                    <a:pt x="1294" y="76"/>
                  </a:lnTo>
                  <a:lnTo>
                    <a:pt x="1316" y="80"/>
                  </a:lnTo>
                  <a:lnTo>
                    <a:pt x="1340" y="82"/>
                  </a:lnTo>
                  <a:lnTo>
                    <a:pt x="1340" y="82"/>
                  </a:lnTo>
                  <a:lnTo>
                    <a:pt x="1352" y="98"/>
                  </a:lnTo>
                  <a:lnTo>
                    <a:pt x="1362" y="116"/>
                  </a:lnTo>
                  <a:lnTo>
                    <a:pt x="1368" y="136"/>
                  </a:lnTo>
                  <a:lnTo>
                    <a:pt x="1374" y="154"/>
                  </a:lnTo>
                  <a:lnTo>
                    <a:pt x="1376" y="174"/>
                  </a:lnTo>
                  <a:lnTo>
                    <a:pt x="1376" y="196"/>
                  </a:lnTo>
                  <a:lnTo>
                    <a:pt x="1376" y="216"/>
                  </a:lnTo>
                  <a:lnTo>
                    <a:pt x="1374" y="236"/>
                  </a:lnTo>
                  <a:lnTo>
                    <a:pt x="1366" y="280"/>
                  </a:lnTo>
                  <a:lnTo>
                    <a:pt x="1360" y="322"/>
                  </a:lnTo>
                  <a:lnTo>
                    <a:pt x="1354" y="364"/>
                  </a:lnTo>
                  <a:lnTo>
                    <a:pt x="1352" y="384"/>
                  </a:lnTo>
                  <a:lnTo>
                    <a:pt x="1350" y="404"/>
                  </a:lnTo>
                  <a:lnTo>
                    <a:pt x="1342" y="494"/>
                  </a:lnTo>
                  <a:lnTo>
                    <a:pt x="1342" y="494"/>
                  </a:lnTo>
                  <a:lnTo>
                    <a:pt x="1420" y="446"/>
                  </a:lnTo>
                  <a:lnTo>
                    <a:pt x="1460" y="424"/>
                  </a:lnTo>
                  <a:lnTo>
                    <a:pt x="1502" y="402"/>
                  </a:lnTo>
                  <a:lnTo>
                    <a:pt x="1544" y="380"/>
                  </a:lnTo>
                  <a:lnTo>
                    <a:pt x="1588" y="362"/>
                  </a:lnTo>
                  <a:lnTo>
                    <a:pt x="1634" y="348"/>
                  </a:lnTo>
                  <a:lnTo>
                    <a:pt x="1680" y="336"/>
                  </a:lnTo>
                  <a:lnTo>
                    <a:pt x="1680" y="336"/>
                  </a:lnTo>
                  <a:lnTo>
                    <a:pt x="1724" y="332"/>
                  </a:lnTo>
                  <a:lnTo>
                    <a:pt x="1766" y="332"/>
                  </a:lnTo>
                  <a:lnTo>
                    <a:pt x="1810" y="336"/>
                  </a:lnTo>
                  <a:lnTo>
                    <a:pt x="1850" y="344"/>
                  </a:lnTo>
                  <a:lnTo>
                    <a:pt x="1890" y="356"/>
                  </a:lnTo>
                  <a:lnTo>
                    <a:pt x="1930" y="372"/>
                  </a:lnTo>
                  <a:lnTo>
                    <a:pt x="1966" y="392"/>
                  </a:lnTo>
                  <a:lnTo>
                    <a:pt x="2002" y="414"/>
                  </a:lnTo>
                  <a:lnTo>
                    <a:pt x="2002" y="414"/>
                  </a:lnTo>
                  <a:lnTo>
                    <a:pt x="2046" y="406"/>
                  </a:lnTo>
                  <a:lnTo>
                    <a:pt x="2090" y="402"/>
                  </a:lnTo>
                  <a:lnTo>
                    <a:pt x="2132" y="398"/>
                  </a:lnTo>
                  <a:lnTo>
                    <a:pt x="2174" y="398"/>
                  </a:lnTo>
                  <a:lnTo>
                    <a:pt x="2216" y="400"/>
                  </a:lnTo>
                  <a:lnTo>
                    <a:pt x="2256" y="404"/>
                  </a:lnTo>
                  <a:lnTo>
                    <a:pt x="2298" y="412"/>
                  </a:lnTo>
                  <a:lnTo>
                    <a:pt x="2336" y="422"/>
                  </a:lnTo>
                  <a:lnTo>
                    <a:pt x="2376" y="436"/>
                  </a:lnTo>
                  <a:lnTo>
                    <a:pt x="2412" y="452"/>
                  </a:lnTo>
                  <a:lnTo>
                    <a:pt x="2448" y="470"/>
                  </a:lnTo>
                  <a:lnTo>
                    <a:pt x="2484" y="492"/>
                  </a:lnTo>
                  <a:lnTo>
                    <a:pt x="2518" y="516"/>
                  </a:lnTo>
                  <a:lnTo>
                    <a:pt x="2550" y="542"/>
                  </a:lnTo>
                  <a:lnTo>
                    <a:pt x="2582" y="572"/>
                  </a:lnTo>
                  <a:lnTo>
                    <a:pt x="2612" y="606"/>
                  </a:lnTo>
                  <a:lnTo>
                    <a:pt x="2612" y="606"/>
                  </a:lnTo>
                  <a:lnTo>
                    <a:pt x="2640" y="642"/>
                  </a:lnTo>
                  <a:lnTo>
                    <a:pt x="2668" y="680"/>
                  </a:lnTo>
                  <a:lnTo>
                    <a:pt x="2694" y="718"/>
                  </a:lnTo>
                  <a:lnTo>
                    <a:pt x="2718" y="756"/>
                  </a:lnTo>
                  <a:lnTo>
                    <a:pt x="2740" y="796"/>
                  </a:lnTo>
                  <a:lnTo>
                    <a:pt x="2760" y="838"/>
                  </a:lnTo>
                  <a:lnTo>
                    <a:pt x="2778" y="880"/>
                  </a:lnTo>
                  <a:lnTo>
                    <a:pt x="2796" y="922"/>
                  </a:lnTo>
                  <a:lnTo>
                    <a:pt x="2810" y="964"/>
                  </a:lnTo>
                  <a:lnTo>
                    <a:pt x="2824" y="1008"/>
                  </a:lnTo>
                  <a:lnTo>
                    <a:pt x="2834" y="1054"/>
                  </a:lnTo>
                  <a:lnTo>
                    <a:pt x="2842" y="1098"/>
                  </a:lnTo>
                  <a:lnTo>
                    <a:pt x="2850" y="1144"/>
                  </a:lnTo>
                  <a:lnTo>
                    <a:pt x="2854" y="1190"/>
                  </a:lnTo>
                  <a:lnTo>
                    <a:pt x="2856" y="1236"/>
                  </a:lnTo>
                  <a:lnTo>
                    <a:pt x="2854" y="1284"/>
                  </a:lnTo>
                  <a:lnTo>
                    <a:pt x="2854" y="1284"/>
                  </a:lnTo>
                  <a:lnTo>
                    <a:pt x="2852" y="1316"/>
                  </a:lnTo>
                  <a:lnTo>
                    <a:pt x="2846" y="1348"/>
                  </a:lnTo>
                  <a:lnTo>
                    <a:pt x="2840" y="1380"/>
                  </a:lnTo>
                  <a:lnTo>
                    <a:pt x="2830" y="1412"/>
                  </a:lnTo>
                  <a:lnTo>
                    <a:pt x="2820" y="1442"/>
                  </a:lnTo>
                  <a:lnTo>
                    <a:pt x="2808" y="1474"/>
                  </a:lnTo>
                  <a:lnTo>
                    <a:pt x="2796" y="1504"/>
                  </a:lnTo>
                  <a:lnTo>
                    <a:pt x="2780" y="1532"/>
                  </a:lnTo>
                  <a:lnTo>
                    <a:pt x="2780" y="1532"/>
                  </a:lnTo>
                  <a:lnTo>
                    <a:pt x="2802" y="1544"/>
                  </a:lnTo>
                  <a:lnTo>
                    <a:pt x="2820" y="1560"/>
                  </a:lnTo>
                  <a:lnTo>
                    <a:pt x="2836" y="1578"/>
                  </a:lnTo>
                  <a:lnTo>
                    <a:pt x="2850" y="1596"/>
                  </a:lnTo>
                  <a:lnTo>
                    <a:pt x="2862" y="1618"/>
                  </a:lnTo>
                  <a:lnTo>
                    <a:pt x="2872" y="1640"/>
                  </a:lnTo>
                  <a:lnTo>
                    <a:pt x="2878" y="1662"/>
                  </a:lnTo>
                  <a:lnTo>
                    <a:pt x="2882" y="1686"/>
                  </a:lnTo>
                  <a:lnTo>
                    <a:pt x="2882" y="1686"/>
                  </a:lnTo>
                  <a:lnTo>
                    <a:pt x="2884" y="1694"/>
                  </a:lnTo>
                  <a:lnTo>
                    <a:pt x="2886" y="1702"/>
                  </a:lnTo>
                  <a:lnTo>
                    <a:pt x="2886" y="1722"/>
                  </a:lnTo>
                  <a:lnTo>
                    <a:pt x="2884" y="1740"/>
                  </a:lnTo>
                  <a:lnTo>
                    <a:pt x="2880" y="1760"/>
                  </a:lnTo>
                  <a:lnTo>
                    <a:pt x="2878" y="1780"/>
                  </a:lnTo>
                  <a:lnTo>
                    <a:pt x="2878" y="1796"/>
                  </a:lnTo>
                  <a:lnTo>
                    <a:pt x="2880" y="1806"/>
                  </a:lnTo>
                  <a:lnTo>
                    <a:pt x="2884" y="1812"/>
                  </a:lnTo>
                  <a:lnTo>
                    <a:pt x="2888" y="1820"/>
                  </a:lnTo>
                  <a:lnTo>
                    <a:pt x="2894" y="1826"/>
                  </a:lnTo>
                  <a:lnTo>
                    <a:pt x="2894" y="1826"/>
                  </a:lnTo>
                  <a:lnTo>
                    <a:pt x="2912" y="1838"/>
                  </a:lnTo>
                  <a:lnTo>
                    <a:pt x="2930" y="1852"/>
                  </a:lnTo>
                  <a:lnTo>
                    <a:pt x="2944" y="1864"/>
                  </a:lnTo>
                  <a:lnTo>
                    <a:pt x="2958" y="1878"/>
                  </a:lnTo>
                  <a:lnTo>
                    <a:pt x="2972" y="1894"/>
                  </a:lnTo>
                  <a:lnTo>
                    <a:pt x="2984" y="1910"/>
                  </a:lnTo>
                  <a:lnTo>
                    <a:pt x="3004" y="1942"/>
                  </a:lnTo>
                  <a:lnTo>
                    <a:pt x="3022" y="1976"/>
                  </a:lnTo>
                  <a:lnTo>
                    <a:pt x="3034" y="2012"/>
                  </a:lnTo>
                  <a:lnTo>
                    <a:pt x="3046" y="2050"/>
                  </a:lnTo>
                  <a:lnTo>
                    <a:pt x="3054" y="2090"/>
                  </a:lnTo>
                  <a:lnTo>
                    <a:pt x="3060" y="2130"/>
                  </a:lnTo>
                  <a:lnTo>
                    <a:pt x="3064" y="2170"/>
                  </a:lnTo>
                  <a:lnTo>
                    <a:pt x="3068" y="2252"/>
                  </a:lnTo>
                  <a:lnTo>
                    <a:pt x="3070" y="2332"/>
                  </a:lnTo>
                  <a:lnTo>
                    <a:pt x="3074" y="2408"/>
                  </a:lnTo>
                  <a:lnTo>
                    <a:pt x="3074" y="2408"/>
                  </a:lnTo>
                  <a:lnTo>
                    <a:pt x="3082" y="2520"/>
                  </a:lnTo>
                  <a:lnTo>
                    <a:pt x="3092" y="2630"/>
                  </a:lnTo>
                  <a:lnTo>
                    <a:pt x="3114" y="2844"/>
                  </a:lnTo>
                  <a:lnTo>
                    <a:pt x="3122" y="2950"/>
                  </a:lnTo>
                  <a:lnTo>
                    <a:pt x="3126" y="3004"/>
                  </a:lnTo>
                  <a:lnTo>
                    <a:pt x="3126" y="3056"/>
                  </a:lnTo>
                  <a:lnTo>
                    <a:pt x="3126" y="3110"/>
                  </a:lnTo>
                  <a:lnTo>
                    <a:pt x="3124" y="3164"/>
                  </a:lnTo>
                  <a:lnTo>
                    <a:pt x="3120" y="3218"/>
                  </a:lnTo>
                  <a:lnTo>
                    <a:pt x="3114" y="3272"/>
                  </a:lnTo>
                  <a:lnTo>
                    <a:pt x="3114" y="3272"/>
                  </a:lnTo>
                  <a:lnTo>
                    <a:pt x="3104" y="3304"/>
                  </a:lnTo>
                  <a:lnTo>
                    <a:pt x="3094" y="3338"/>
                  </a:lnTo>
                  <a:lnTo>
                    <a:pt x="3080" y="3370"/>
                  </a:lnTo>
                  <a:lnTo>
                    <a:pt x="3064" y="3400"/>
                  </a:lnTo>
                  <a:lnTo>
                    <a:pt x="3044" y="3430"/>
                  </a:lnTo>
                  <a:lnTo>
                    <a:pt x="3022" y="3456"/>
                  </a:lnTo>
                  <a:lnTo>
                    <a:pt x="2996" y="3480"/>
                  </a:lnTo>
                  <a:lnTo>
                    <a:pt x="2982" y="3492"/>
                  </a:lnTo>
                  <a:lnTo>
                    <a:pt x="2966" y="3502"/>
                  </a:lnTo>
                  <a:lnTo>
                    <a:pt x="2960" y="3516"/>
                  </a:lnTo>
                  <a:lnTo>
                    <a:pt x="2960" y="3516"/>
                  </a:lnTo>
                  <a:lnTo>
                    <a:pt x="2968" y="3574"/>
                  </a:lnTo>
                  <a:lnTo>
                    <a:pt x="2972" y="3636"/>
                  </a:lnTo>
                  <a:lnTo>
                    <a:pt x="2976" y="3696"/>
                  </a:lnTo>
                  <a:lnTo>
                    <a:pt x="2976" y="3758"/>
                  </a:lnTo>
                  <a:lnTo>
                    <a:pt x="2972" y="3818"/>
                  </a:lnTo>
                  <a:lnTo>
                    <a:pt x="2964" y="3878"/>
                  </a:lnTo>
                  <a:lnTo>
                    <a:pt x="2960" y="3906"/>
                  </a:lnTo>
                  <a:lnTo>
                    <a:pt x="2952" y="3934"/>
                  </a:lnTo>
                  <a:lnTo>
                    <a:pt x="2944" y="3962"/>
                  </a:lnTo>
                  <a:lnTo>
                    <a:pt x="2934" y="3990"/>
                  </a:lnTo>
                  <a:lnTo>
                    <a:pt x="2934" y="3990"/>
                  </a:lnTo>
                  <a:lnTo>
                    <a:pt x="2926" y="4000"/>
                  </a:lnTo>
                  <a:lnTo>
                    <a:pt x="2918" y="4012"/>
                  </a:lnTo>
                  <a:lnTo>
                    <a:pt x="2904" y="4038"/>
                  </a:lnTo>
                  <a:lnTo>
                    <a:pt x="2892" y="4066"/>
                  </a:lnTo>
                  <a:lnTo>
                    <a:pt x="2878" y="4094"/>
                  </a:lnTo>
                  <a:lnTo>
                    <a:pt x="2870" y="4106"/>
                  </a:lnTo>
                  <a:lnTo>
                    <a:pt x="2862" y="4116"/>
                  </a:lnTo>
                  <a:lnTo>
                    <a:pt x="2852" y="4126"/>
                  </a:lnTo>
                  <a:lnTo>
                    <a:pt x="2842" y="4134"/>
                  </a:lnTo>
                  <a:lnTo>
                    <a:pt x="2830" y="4138"/>
                  </a:lnTo>
                  <a:lnTo>
                    <a:pt x="2816" y="4142"/>
                  </a:lnTo>
                  <a:lnTo>
                    <a:pt x="2802" y="4142"/>
                  </a:lnTo>
                  <a:lnTo>
                    <a:pt x="2784" y="4138"/>
                  </a:lnTo>
                  <a:lnTo>
                    <a:pt x="2754" y="4130"/>
                  </a:lnTo>
                  <a:lnTo>
                    <a:pt x="2754" y="4130"/>
                  </a:lnTo>
                  <a:lnTo>
                    <a:pt x="2754" y="4202"/>
                  </a:lnTo>
                  <a:lnTo>
                    <a:pt x="2758" y="4276"/>
                  </a:lnTo>
                  <a:lnTo>
                    <a:pt x="2762" y="4350"/>
                  </a:lnTo>
                  <a:lnTo>
                    <a:pt x="2762" y="4388"/>
                  </a:lnTo>
                  <a:lnTo>
                    <a:pt x="2762" y="4424"/>
                  </a:lnTo>
                  <a:lnTo>
                    <a:pt x="2760" y="4462"/>
                  </a:lnTo>
                  <a:lnTo>
                    <a:pt x="2756" y="4498"/>
                  </a:lnTo>
                  <a:lnTo>
                    <a:pt x="2750" y="4532"/>
                  </a:lnTo>
                  <a:lnTo>
                    <a:pt x="2742" y="4566"/>
                  </a:lnTo>
                  <a:lnTo>
                    <a:pt x="2730" y="4600"/>
                  </a:lnTo>
                  <a:lnTo>
                    <a:pt x="2716" y="4632"/>
                  </a:lnTo>
                  <a:lnTo>
                    <a:pt x="2698" y="4664"/>
                  </a:lnTo>
                  <a:lnTo>
                    <a:pt x="2674" y="4694"/>
                  </a:lnTo>
                  <a:lnTo>
                    <a:pt x="2674" y="4694"/>
                  </a:lnTo>
                  <a:lnTo>
                    <a:pt x="2680" y="4728"/>
                  </a:lnTo>
                  <a:lnTo>
                    <a:pt x="2684" y="4764"/>
                  </a:lnTo>
                  <a:lnTo>
                    <a:pt x="2688" y="4836"/>
                  </a:lnTo>
                  <a:lnTo>
                    <a:pt x="2690" y="4908"/>
                  </a:lnTo>
                  <a:lnTo>
                    <a:pt x="2690" y="4982"/>
                  </a:lnTo>
                  <a:lnTo>
                    <a:pt x="2692" y="5056"/>
                  </a:lnTo>
                  <a:lnTo>
                    <a:pt x="2694" y="5128"/>
                  </a:lnTo>
                  <a:lnTo>
                    <a:pt x="2698" y="5164"/>
                  </a:lnTo>
                  <a:lnTo>
                    <a:pt x="2702" y="5198"/>
                  </a:lnTo>
                  <a:lnTo>
                    <a:pt x="2708" y="5234"/>
                  </a:lnTo>
                  <a:lnTo>
                    <a:pt x="2714" y="5268"/>
                  </a:lnTo>
                  <a:lnTo>
                    <a:pt x="2714" y="5268"/>
                  </a:lnTo>
                  <a:lnTo>
                    <a:pt x="2714" y="5300"/>
                  </a:lnTo>
                  <a:lnTo>
                    <a:pt x="2718" y="5330"/>
                  </a:lnTo>
                  <a:lnTo>
                    <a:pt x="2726" y="5358"/>
                  </a:lnTo>
                  <a:lnTo>
                    <a:pt x="2736" y="5384"/>
                  </a:lnTo>
                  <a:lnTo>
                    <a:pt x="2748" y="5412"/>
                  </a:lnTo>
                  <a:lnTo>
                    <a:pt x="2762" y="5438"/>
                  </a:lnTo>
                  <a:lnTo>
                    <a:pt x="2776" y="5462"/>
                  </a:lnTo>
                  <a:lnTo>
                    <a:pt x="2794" y="5488"/>
                  </a:lnTo>
                  <a:lnTo>
                    <a:pt x="2828" y="5536"/>
                  </a:lnTo>
                  <a:lnTo>
                    <a:pt x="2862" y="5586"/>
                  </a:lnTo>
                  <a:lnTo>
                    <a:pt x="2878" y="5612"/>
                  </a:lnTo>
                  <a:lnTo>
                    <a:pt x="2892" y="5638"/>
                  </a:lnTo>
                  <a:lnTo>
                    <a:pt x="2906" y="5664"/>
                  </a:lnTo>
                  <a:lnTo>
                    <a:pt x="2916" y="5692"/>
                  </a:lnTo>
                  <a:lnTo>
                    <a:pt x="2916" y="5692"/>
                  </a:lnTo>
                  <a:lnTo>
                    <a:pt x="2952" y="5770"/>
                  </a:lnTo>
                  <a:lnTo>
                    <a:pt x="2968" y="5810"/>
                  </a:lnTo>
                  <a:lnTo>
                    <a:pt x="2974" y="5832"/>
                  </a:lnTo>
                  <a:lnTo>
                    <a:pt x="2980" y="5852"/>
                  </a:lnTo>
                  <a:lnTo>
                    <a:pt x="2982" y="5874"/>
                  </a:lnTo>
                  <a:lnTo>
                    <a:pt x="2984" y="5894"/>
                  </a:lnTo>
                  <a:lnTo>
                    <a:pt x="2984" y="5914"/>
                  </a:lnTo>
                  <a:lnTo>
                    <a:pt x="2982" y="5934"/>
                  </a:lnTo>
                  <a:lnTo>
                    <a:pt x="2978" y="5956"/>
                  </a:lnTo>
                  <a:lnTo>
                    <a:pt x="2970" y="5974"/>
                  </a:lnTo>
                  <a:lnTo>
                    <a:pt x="2960" y="5994"/>
                  </a:lnTo>
                  <a:lnTo>
                    <a:pt x="2944" y="6012"/>
                  </a:lnTo>
                  <a:lnTo>
                    <a:pt x="2944" y="6012"/>
                  </a:lnTo>
                  <a:lnTo>
                    <a:pt x="2932" y="6030"/>
                  </a:lnTo>
                  <a:lnTo>
                    <a:pt x="2916" y="6046"/>
                  </a:lnTo>
                  <a:lnTo>
                    <a:pt x="2900" y="6062"/>
                  </a:lnTo>
                  <a:lnTo>
                    <a:pt x="2884" y="6076"/>
                  </a:lnTo>
                  <a:lnTo>
                    <a:pt x="2866" y="6090"/>
                  </a:lnTo>
                  <a:lnTo>
                    <a:pt x="2848" y="6102"/>
                  </a:lnTo>
                  <a:lnTo>
                    <a:pt x="2830" y="6114"/>
                  </a:lnTo>
                  <a:lnTo>
                    <a:pt x="2810" y="6124"/>
                  </a:lnTo>
                  <a:lnTo>
                    <a:pt x="2790" y="6132"/>
                  </a:lnTo>
                  <a:lnTo>
                    <a:pt x="2768" y="6140"/>
                  </a:lnTo>
                  <a:lnTo>
                    <a:pt x="2746" y="6146"/>
                  </a:lnTo>
                  <a:lnTo>
                    <a:pt x="2724" y="6152"/>
                  </a:lnTo>
                  <a:lnTo>
                    <a:pt x="2702" y="6156"/>
                  </a:lnTo>
                  <a:lnTo>
                    <a:pt x="2680" y="6158"/>
                  </a:lnTo>
                  <a:lnTo>
                    <a:pt x="2656" y="6158"/>
                  </a:lnTo>
                  <a:lnTo>
                    <a:pt x="2632" y="6156"/>
                  </a:lnTo>
                  <a:lnTo>
                    <a:pt x="2632" y="6156"/>
                  </a:lnTo>
                  <a:lnTo>
                    <a:pt x="2628" y="6160"/>
                  </a:lnTo>
                  <a:lnTo>
                    <a:pt x="2622" y="6162"/>
                  </a:lnTo>
                  <a:lnTo>
                    <a:pt x="2616" y="6162"/>
                  </a:lnTo>
                  <a:lnTo>
                    <a:pt x="2610" y="6160"/>
                  </a:lnTo>
                  <a:lnTo>
                    <a:pt x="2598" y="6158"/>
                  </a:lnTo>
                  <a:lnTo>
                    <a:pt x="2590" y="6158"/>
                  </a:lnTo>
                  <a:lnTo>
                    <a:pt x="2582" y="6158"/>
                  </a:lnTo>
                  <a:lnTo>
                    <a:pt x="2582" y="6158"/>
                  </a:lnTo>
                  <a:lnTo>
                    <a:pt x="2538" y="6158"/>
                  </a:lnTo>
                  <a:lnTo>
                    <a:pt x="2492" y="6154"/>
                  </a:lnTo>
                  <a:lnTo>
                    <a:pt x="2448" y="6148"/>
                  </a:lnTo>
                  <a:lnTo>
                    <a:pt x="2402" y="6138"/>
                  </a:lnTo>
                  <a:lnTo>
                    <a:pt x="2380" y="6132"/>
                  </a:lnTo>
                  <a:lnTo>
                    <a:pt x="2360" y="6124"/>
                  </a:lnTo>
                  <a:lnTo>
                    <a:pt x="2338" y="6114"/>
                  </a:lnTo>
                  <a:lnTo>
                    <a:pt x="2318" y="6104"/>
                  </a:lnTo>
                  <a:lnTo>
                    <a:pt x="2300" y="6094"/>
                  </a:lnTo>
                  <a:lnTo>
                    <a:pt x="2282" y="6080"/>
                  </a:lnTo>
                  <a:lnTo>
                    <a:pt x="2264" y="6066"/>
                  </a:lnTo>
                  <a:lnTo>
                    <a:pt x="2248" y="6050"/>
                  </a:lnTo>
                  <a:lnTo>
                    <a:pt x="2248" y="6050"/>
                  </a:lnTo>
                  <a:lnTo>
                    <a:pt x="2212" y="6052"/>
                  </a:lnTo>
                  <a:lnTo>
                    <a:pt x="2176" y="6054"/>
                  </a:lnTo>
                  <a:lnTo>
                    <a:pt x="2142" y="6052"/>
                  </a:lnTo>
                  <a:lnTo>
                    <a:pt x="2108" y="6048"/>
                  </a:lnTo>
                  <a:lnTo>
                    <a:pt x="2074" y="6044"/>
                  </a:lnTo>
                  <a:lnTo>
                    <a:pt x="2040" y="6038"/>
                  </a:lnTo>
                  <a:lnTo>
                    <a:pt x="1974" y="6026"/>
                  </a:lnTo>
                  <a:lnTo>
                    <a:pt x="1974" y="6026"/>
                  </a:lnTo>
                  <a:lnTo>
                    <a:pt x="1960" y="6012"/>
                  </a:lnTo>
                  <a:lnTo>
                    <a:pt x="1950" y="6000"/>
                  </a:lnTo>
                  <a:lnTo>
                    <a:pt x="1946" y="5994"/>
                  </a:lnTo>
                  <a:lnTo>
                    <a:pt x="1946" y="5986"/>
                  </a:lnTo>
                  <a:lnTo>
                    <a:pt x="1948" y="5978"/>
                  </a:lnTo>
                  <a:lnTo>
                    <a:pt x="1954" y="5970"/>
                  </a:lnTo>
                  <a:lnTo>
                    <a:pt x="1954" y="5970"/>
                  </a:lnTo>
                  <a:lnTo>
                    <a:pt x="1954" y="5802"/>
                  </a:lnTo>
                  <a:lnTo>
                    <a:pt x="1952" y="5638"/>
                  </a:lnTo>
                  <a:lnTo>
                    <a:pt x="1950" y="5556"/>
                  </a:lnTo>
                  <a:lnTo>
                    <a:pt x="1946" y="5472"/>
                  </a:lnTo>
                  <a:lnTo>
                    <a:pt x="1940" y="5386"/>
                  </a:lnTo>
                  <a:lnTo>
                    <a:pt x="1934" y="5298"/>
                  </a:lnTo>
                  <a:lnTo>
                    <a:pt x="1934" y="5298"/>
                  </a:lnTo>
                  <a:lnTo>
                    <a:pt x="1934" y="5280"/>
                  </a:lnTo>
                  <a:lnTo>
                    <a:pt x="1934" y="5262"/>
                  </a:lnTo>
                  <a:lnTo>
                    <a:pt x="1932" y="5224"/>
                  </a:lnTo>
                  <a:lnTo>
                    <a:pt x="1926" y="5186"/>
                  </a:lnTo>
                  <a:lnTo>
                    <a:pt x="1920" y="5150"/>
                  </a:lnTo>
                  <a:lnTo>
                    <a:pt x="1928" y="5142"/>
                  </a:lnTo>
                  <a:lnTo>
                    <a:pt x="1928" y="5142"/>
                  </a:lnTo>
                  <a:lnTo>
                    <a:pt x="1922" y="5036"/>
                  </a:lnTo>
                  <a:lnTo>
                    <a:pt x="1914" y="4926"/>
                  </a:lnTo>
                  <a:lnTo>
                    <a:pt x="1908" y="4874"/>
                  </a:lnTo>
                  <a:lnTo>
                    <a:pt x="1900" y="4820"/>
                  </a:lnTo>
                  <a:lnTo>
                    <a:pt x="1892" y="4770"/>
                  </a:lnTo>
                  <a:lnTo>
                    <a:pt x="1880" y="4720"/>
                  </a:lnTo>
                  <a:lnTo>
                    <a:pt x="1880" y="4720"/>
                  </a:lnTo>
                  <a:lnTo>
                    <a:pt x="1874" y="4728"/>
                  </a:lnTo>
                  <a:lnTo>
                    <a:pt x="1870" y="4738"/>
                  </a:lnTo>
                  <a:lnTo>
                    <a:pt x="1860" y="4758"/>
                  </a:lnTo>
                  <a:lnTo>
                    <a:pt x="1850" y="4778"/>
                  </a:lnTo>
                  <a:lnTo>
                    <a:pt x="1844" y="4786"/>
                  </a:lnTo>
                  <a:lnTo>
                    <a:pt x="1836" y="4794"/>
                  </a:lnTo>
                  <a:lnTo>
                    <a:pt x="1828" y="4792"/>
                  </a:lnTo>
                  <a:lnTo>
                    <a:pt x="1828" y="4792"/>
                  </a:lnTo>
                  <a:lnTo>
                    <a:pt x="1820" y="4928"/>
                  </a:lnTo>
                  <a:lnTo>
                    <a:pt x="1814" y="5066"/>
                  </a:lnTo>
                  <a:lnTo>
                    <a:pt x="1808" y="5208"/>
                  </a:lnTo>
                  <a:lnTo>
                    <a:pt x="1800" y="5348"/>
                  </a:lnTo>
                  <a:lnTo>
                    <a:pt x="1800" y="5348"/>
                  </a:lnTo>
                  <a:lnTo>
                    <a:pt x="1810" y="5416"/>
                  </a:lnTo>
                  <a:lnTo>
                    <a:pt x="1814" y="5484"/>
                  </a:lnTo>
                  <a:lnTo>
                    <a:pt x="1818" y="5554"/>
                  </a:lnTo>
                  <a:lnTo>
                    <a:pt x="1822" y="5622"/>
                  </a:lnTo>
                  <a:lnTo>
                    <a:pt x="1828" y="5756"/>
                  </a:lnTo>
                  <a:lnTo>
                    <a:pt x="1834" y="5822"/>
                  </a:lnTo>
                  <a:lnTo>
                    <a:pt x="1840" y="5888"/>
                  </a:lnTo>
                  <a:lnTo>
                    <a:pt x="1840" y="5888"/>
                  </a:lnTo>
                  <a:lnTo>
                    <a:pt x="1844" y="5902"/>
                  </a:lnTo>
                  <a:lnTo>
                    <a:pt x="1842" y="5914"/>
                  </a:lnTo>
                  <a:lnTo>
                    <a:pt x="1840" y="5926"/>
                  </a:lnTo>
                  <a:lnTo>
                    <a:pt x="1834" y="5936"/>
                  </a:lnTo>
                  <a:lnTo>
                    <a:pt x="1828" y="5946"/>
                  </a:lnTo>
                  <a:lnTo>
                    <a:pt x="1818" y="5954"/>
                  </a:lnTo>
                  <a:lnTo>
                    <a:pt x="1806" y="5960"/>
                  </a:lnTo>
                  <a:lnTo>
                    <a:pt x="1794" y="5964"/>
                  </a:lnTo>
                  <a:lnTo>
                    <a:pt x="1794" y="5964"/>
                  </a:lnTo>
                  <a:lnTo>
                    <a:pt x="1770" y="5970"/>
                  </a:lnTo>
                  <a:lnTo>
                    <a:pt x="1746" y="5978"/>
                  </a:lnTo>
                  <a:lnTo>
                    <a:pt x="1700" y="5992"/>
                  </a:lnTo>
                  <a:lnTo>
                    <a:pt x="1678" y="6000"/>
                  </a:lnTo>
                  <a:lnTo>
                    <a:pt x="1654" y="6004"/>
                  </a:lnTo>
                  <a:lnTo>
                    <a:pt x="1630" y="6006"/>
                  </a:lnTo>
                  <a:lnTo>
                    <a:pt x="1604" y="6004"/>
                  </a:lnTo>
                  <a:lnTo>
                    <a:pt x="1604" y="6004"/>
                  </a:lnTo>
                  <a:lnTo>
                    <a:pt x="1574" y="6040"/>
                  </a:lnTo>
                  <a:lnTo>
                    <a:pt x="1542" y="6074"/>
                  </a:lnTo>
                  <a:lnTo>
                    <a:pt x="1526" y="6092"/>
                  </a:lnTo>
                  <a:lnTo>
                    <a:pt x="1508" y="6106"/>
                  </a:lnTo>
                  <a:lnTo>
                    <a:pt x="1488" y="6118"/>
                  </a:lnTo>
                  <a:lnTo>
                    <a:pt x="1468" y="6130"/>
                  </a:lnTo>
                  <a:lnTo>
                    <a:pt x="1468" y="6130"/>
                  </a:lnTo>
                  <a:lnTo>
                    <a:pt x="1444" y="6148"/>
                  </a:lnTo>
                  <a:lnTo>
                    <a:pt x="1420" y="6166"/>
                  </a:lnTo>
                  <a:lnTo>
                    <a:pt x="1392" y="6182"/>
                  </a:lnTo>
                  <a:lnTo>
                    <a:pt x="1366" y="6198"/>
                  </a:lnTo>
                  <a:lnTo>
                    <a:pt x="1336" y="6210"/>
                  </a:lnTo>
                  <a:lnTo>
                    <a:pt x="1308" y="6220"/>
                  </a:lnTo>
                  <a:lnTo>
                    <a:pt x="1276" y="6230"/>
                  </a:lnTo>
                  <a:lnTo>
                    <a:pt x="1246" y="6236"/>
                  </a:lnTo>
                  <a:lnTo>
                    <a:pt x="1214" y="6240"/>
                  </a:lnTo>
                  <a:lnTo>
                    <a:pt x="1184" y="6244"/>
                  </a:lnTo>
                  <a:lnTo>
                    <a:pt x="1152" y="6244"/>
                  </a:lnTo>
                  <a:lnTo>
                    <a:pt x="1120" y="6242"/>
                  </a:lnTo>
                  <a:lnTo>
                    <a:pt x="1090" y="6238"/>
                  </a:lnTo>
                  <a:lnTo>
                    <a:pt x="1060" y="6230"/>
                  </a:lnTo>
                  <a:lnTo>
                    <a:pt x="1030" y="6220"/>
                  </a:lnTo>
                  <a:lnTo>
                    <a:pt x="1002" y="6208"/>
                  </a:lnTo>
                  <a:lnTo>
                    <a:pt x="1002" y="6208"/>
                  </a:lnTo>
                  <a:lnTo>
                    <a:pt x="972" y="6194"/>
                  </a:lnTo>
                  <a:lnTo>
                    <a:pt x="944" y="6176"/>
                  </a:lnTo>
                  <a:lnTo>
                    <a:pt x="918" y="6158"/>
                  </a:lnTo>
                  <a:lnTo>
                    <a:pt x="894" y="6138"/>
                  </a:lnTo>
                  <a:lnTo>
                    <a:pt x="872" y="6116"/>
                  </a:lnTo>
                  <a:lnTo>
                    <a:pt x="862" y="6104"/>
                  </a:lnTo>
                  <a:lnTo>
                    <a:pt x="854" y="6092"/>
                  </a:lnTo>
                  <a:lnTo>
                    <a:pt x="846" y="6078"/>
                  </a:lnTo>
                  <a:lnTo>
                    <a:pt x="838" y="6062"/>
                  </a:lnTo>
                  <a:lnTo>
                    <a:pt x="834" y="6048"/>
                  </a:lnTo>
                  <a:lnTo>
                    <a:pt x="830" y="6032"/>
                  </a:lnTo>
                  <a:lnTo>
                    <a:pt x="830" y="6032"/>
                  </a:lnTo>
                  <a:lnTo>
                    <a:pt x="822" y="5996"/>
                  </a:lnTo>
                  <a:lnTo>
                    <a:pt x="818" y="5960"/>
                  </a:lnTo>
                  <a:lnTo>
                    <a:pt x="818" y="5924"/>
                  </a:lnTo>
                  <a:lnTo>
                    <a:pt x="820" y="5890"/>
                  </a:lnTo>
                  <a:lnTo>
                    <a:pt x="824" y="5854"/>
                  </a:lnTo>
                  <a:lnTo>
                    <a:pt x="830" y="5820"/>
                  </a:lnTo>
                  <a:lnTo>
                    <a:pt x="840" y="5788"/>
                  </a:lnTo>
                  <a:lnTo>
                    <a:pt x="852" y="5756"/>
                  </a:lnTo>
                  <a:lnTo>
                    <a:pt x="866" y="5724"/>
                  </a:lnTo>
                  <a:lnTo>
                    <a:pt x="882" y="5692"/>
                  </a:lnTo>
                  <a:lnTo>
                    <a:pt x="900" y="5662"/>
                  </a:lnTo>
                  <a:lnTo>
                    <a:pt x="920" y="5632"/>
                  </a:lnTo>
                  <a:lnTo>
                    <a:pt x="942" y="5604"/>
                  </a:lnTo>
                  <a:lnTo>
                    <a:pt x="966" y="5576"/>
                  </a:lnTo>
                  <a:lnTo>
                    <a:pt x="990" y="5548"/>
                  </a:lnTo>
                  <a:lnTo>
                    <a:pt x="1018" y="5522"/>
                  </a:lnTo>
                  <a:lnTo>
                    <a:pt x="1018" y="5522"/>
                  </a:lnTo>
                  <a:lnTo>
                    <a:pt x="1024" y="5502"/>
                  </a:lnTo>
                  <a:lnTo>
                    <a:pt x="1030" y="5484"/>
                  </a:lnTo>
                  <a:lnTo>
                    <a:pt x="1036" y="5464"/>
                  </a:lnTo>
                  <a:lnTo>
                    <a:pt x="1038" y="5444"/>
                  </a:lnTo>
                  <a:lnTo>
                    <a:pt x="1038" y="5444"/>
                  </a:lnTo>
                  <a:lnTo>
                    <a:pt x="1042" y="5434"/>
                  </a:lnTo>
                  <a:lnTo>
                    <a:pt x="1044" y="5426"/>
                  </a:lnTo>
                  <a:lnTo>
                    <a:pt x="1044" y="5418"/>
                  </a:lnTo>
                  <a:lnTo>
                    <a:pt x="1042" y="5412"/>
                  </a:lnTo>
                  <a:lnTo>
                    <a:pt x="1040" y="5404"/>
                  </a:lnTo>
                  <a:lnTo>
                    <a:pt x="1040" y="5396"/>
                  </a:lnTo>
                  <a:lnTo>
                    <a:pt x="1042" y="5388"/>
                  </a:lnTo>
                  <a:lnTo>
                    <a:pt x="1046" y="5380"/>
                  </a:lnTo>
                  <a:lnTo>
                    <a:pt x="1046" y="5380"/>
                  </a:lnTo>
                  <a:lnTo>
                    <a:pt x="1044" y="5344"/>
                  </a:lnTo>
                  <a:lnTo>
                    <a:pt x="1042" y="5306"/>
                  </a:lnTo>
                  <a:lnTo>
                    <a:pt x="1038" y="5228"/>
                  </a:lnTo>
                  <a:lnTo>
                    <a:pt x="1036" y="5190"/>
                  </a:lnTo>
                  <a:lnTo>
                    <a:pt x="1034" y="5152"/>
                  </a:lnTo>
                  <a:lnTo>
                    <a:pt x="1030" y="5116"/>
                  </a:lnTo>
                  <a:lnTo>
                    <a:pt x="1022" y="5080"/>
                  </a:lnTo>
                  <a:lnTo>
                    <a:pt x="1022" y="5080"/>
                  </a:lnTo>
                  <a:lnTo>
                    <a:pt x="1018" y="5042"/>
                  </a:lnTo>
                  <a:lnTo>
                    <a:pt x="1012" y="5004"/>
                  </a:lnTo>
                  <a:lnTo>
                    <a:pt x="1000" y="4928"/>
                  </a:lnTo>
                  <a:lnTo>
                    <a:pt x="996" y="4890"/>
                  </a:lnTo>
                  <a:lnTo>
                    <a:pt x="994" y="4854"/>
                  </a:lnTo>
                  <a:lnTo>
                    <a:pt x="994" y="4816"/>
                  </a:lnTo>
                  <a:lnTo>
                    <a:pt x="998" y="4778"/>
                  </a:lnTo>
                  <a:lnTo>
                    <a:pt x="998" y="4778"/>
                  </a:lnTo>
                  <a:lnTo>
                    <a:pt x="978" y="4752"/>
                  </a:lnTo>
                  <a:lnTo>
                    <a:pt x="962" y="4722"/>
                  </a:lnTo>
                  <a:lnTo>
                    <a:pt x="948" y="4692"/>
                  </a:lnTo>
                  <a:lnTo>
                    <a:pt x="938" y="4658"/>
                  </a:lnTo>
                  <a:lnTo>
                    <a:pt x="930" y="4626"/>
                  </a:lnTo>
                  <a:lnTo>
                    <a:pt x="922" y="4592"/>
                  </a:lnTo>
                  <a:lnTo>
                    <a:pt x="912" y="4528"/>
                  </a:lnTo>
                  <a:lnTo>
                    <a:pt x="912" y="4528"/>
                  </a:lnTo>
                  <a:lnTo>
                    <a:pt x="914" y="4516"/>
                  </a:lnTo>
                  <a:lnTo>
                    <a:pt x="914" y="4504"/>
                  </a:lnTo>
                  <a:lnTo>
                    <a:pt x="910" y="4478"/>
                  </a:lnTo>
                  <a:lnTo>
                    <a:pt x="908" y="4464"/>
                  </a:lnTo>
                  <a:lnTo>
                    <a:pt x="908" y="4450"/>
                  </a:lnTo>
                  <a:lnTo>
                    <a:pt x="908" y="4436"/>
                  </a:lnTo>
                  <a:lnTo>
                    <a:pt x="912" y="4424"/>
                  </a:lnTo>
                  <a:lnTo>
                    <a:pt x="912" y="4424"/>
                  </a:lnTo>
                  <a:lnTo>
                    <a:pt x="906" y="4416"/>
                  </a:lnTo>
                  <a:lnTo>
                    <a:pt x="904" y="4408"/>
                  </a:lnTo>
                  <a:lnTo>
                    <a:pt x="904" y="4398"/>
                  </a:lnTo>
                  <a:lnTo>
                    <a:pt x="904" y="4388"/>
                  </a:lnTo>
                  <a:lnTo>
                    <a:pt x="906" y="4368"/>
                  </a:lnTo>
                  <a:lnTo>
                    <a:pt x="906" y="4350"/>
                  </a:lnTo>
                  <a:lnTo>
                    <a:pt x="906" y="4350"/>
                  </a:lnTo>
                  <a:lnTo>
                    <a:pt x="900" y="4306"/>
                  </a:lnTo>
                  <a:lnTo>
                    <a:pt x="898" y="4262"/>
                  </a:lnTo>
                  <a:lnTo>
                    <a:pt x="896" y="4218"/>
                  </a:lnTo>
                  <a:lnTo>
                    <a:pt x="896" y="4172"/>
                  </a:lnTo>
                  <a:lnTo>
                    <a:pt x="896" y="4082"/>
                  </a:lnTo>
                  <a:lnTo>
                    <a:pt x="894" y="4036"/>
                  </a:lnTo>
                  <a:lnTo>
                    <a:pt x="890" y="3990"/>
                  </a:lnTo>
                  <a:lnTo>
                    <a:pt x="890" y="3990"/>
                  </a:lnTo>
                  <a:lnTo>
                    <a:pt x="896" y="3872"/>
                  </a:lnTo>
                  <a:lnTo>
                    <a:pt x="900" y="3756"/>
                  </a:lnTo>
                  <a:lnTo>
                    <a:pt x="904" y="3520"/>
                  </a:lnTo>
                  <a:lnTo>
                    <a:pt x="904" y="3520"/>
                  </a:lnTo>
                  <a:lnTo>
                    <a:pt x="890" y="3456"/>
                  </a:lnTo>
                  <a:lnTo>
                    <a:pt x="880" y="3388"/>
                  </a:lnTo>
                  <a:lnTo>
                    <a:pt x="876" y="3354"/>
                  </a:lnTo>
                  <a:lnTo>
                    <a:pt x="874" y="3322"/>
                  </a:lnTo>
                  <a:lnTo>
                    <a:pt x="876" y="3290"/>
                  </a:lnTo>
                  <a:lnTo>
                    <a:pt x="880" y="3258"/>
                  </a:lnTo>
                  <a:lnTo>
                    <a:pt x="880" y="3258"/>
                  </a:lnTo>
                  <a:lnTo>
                    <a:pt x="868" y="3252"/>
                  </a:lnTo>
                  <a:lnTo>
                    <a:pt x="860" y="3244"/>
                  </a:lnTo>
                  <a:lnTo>
                    <a:pt x="852" y="3234"/>
                  </a:lnTo>
                  <a:lnTo>
                    <a:pt x="846" y="3224"/>
                  </a:lnTo>
                  <a:lnTo>
                    <a:pt x="840" y="3214"/>
                  </a:lnTo>
                  <a:lnTo>
                    <a:pt x="836" y="3202"/>
                  </a:lnTo>
                  <a:lnTo>
                    <a:pt x="830" y="3176"/>
                  </a:lnTo>
                  <a:lnTo>
                    <a:pt x="828" y="3148"/>
                  </a:lnTo>
                  <a:lnTo>
                    <a:pt x="824" y="3122"/>
                  </a:lnTo>
                  <a:lnTo>
                    <a:pt x="822" y="3096"/>
                  </a:lnTo>
                  <a:lnTo>
                    <a:pt x="816" y="3070"/>
                  </a:lnTo>
                  <a:lnTo>
                    <a:pt x="816" y="3070"/>
                  </a:lnTo>
                  <a:lnTo>
                    <a:pt x="812" y="3048"/>
                  </a:lnTo>
                  <a:lnTo>
                    <a:pt x="810" y="3024"/>
                  </a:lnTo>
                  <a:lnTo>
                    <a:pt x="806" y="2982"/>
                  </a:lnTo>
                  <a:lnTo>
                    <a:pt x="802" y="2960"/>
                  </a:lnTo>
                  <a:lnTo>
                    <a:pt x="800" y="2938"/>
                  </a:lnTo>
                  <a:lnTo>
                    <a:pt x="794" y="2916"/>
                  </a:lnTo>
                  <a:lnTo>
                    <a:pt x="786" y="2894"/>
                  </a:lnTo>
                  <a:lnTo>
                    <a:pt x="786" y="2894"/>
                  </a:lnTo>
                  <a:lnTo>
                    <a:pt x="764" y="2908"/>
                  </a:lnTo>
                  <a:lnTo>
                    <a:pt x="742" y="2920"/>
                  </a:lnTo>
                  <a:lnTo>
                    <a:pt x="718" y="2932"/>
                  </a:lnTo>
                  <a:lnTo>
                    <a:pt x="692" y="2940"/>
                  </a:lnTo>
                  <a:lnTo>
                    <a:pt x="668" y="2948"/>
                  </a:lnTo>
                  <a:lnTo>
                    <a:pt x="642" y="2954"/>
                  </a:lnTo>
                  <a:lnTo>
                    <a:pt x="616" y="2960"/>
                  </a:lnTo>
                  <a:lnTo>
                    <a:pt x="588" y="2962"/>
                  </a:lnTo>
                  <a:lnTo>
                    <a:pt x="562" y="2964"/>
                  </a:lnTo>
                  <a:lnTo>
                    <a:pt x="536" y="2962"/>
                  </a:lnTo>
                  <a:lnTo>
                    <a:pt x="508" y="2960"/>
                  </a:lnTo>
                  <a:lnTo>
                    <a:pt x="482" y="2958"/>
                  </a:lnTo>
                  <a:lnTo>
                    <a:pt x="456" y="2952"/>
                  </a:lnTo>
                  <a:lnTo>
                    <a:pt x="430" y="2944"/>
                  </a:lnTo>
                  <a:lnTo>
                    <a:pt x="404" y="2936"/>
                  </a:lnTo>
                  <a:lnTo>
                    <a:pt x="378" y="2926"/>
                  </a:lnTo>
                  <a:lnTo>
                    <a:pt x="378" y="2926"/>
                  </a:lnTo>
                  <a:lnTo>
                    <a:pt x="360" y="2914"/>
                  </a:lnTo>
                  <a:lnTo>
                    <a:pt x="342" y="2900"/>
                  </a:lnTo>
                  <a:lnTo>
                    <a:pt x="326" y="2886"/>
                  </a:lnTo>
                  <a:lnTo>
                    <a:pt x="310" y="2870"/>
                  </a:lnTo>
                  <a:lnTo>
                    <a:pt x="296" y="2854"/>
                  </a:lnTo>
                  <a:lnTo>
                    <a:pt x="282" y="2838"/>
                  </a:lnTo>
                  <a:lnTo>
                    <a:pt x="270" y="2820"/>
                  </a:lnTo>
                  <a:lnTo>
                    <a:pt x="260" y="2800"/>
                  </a:lnTo>
                  <a:lnTo>
                    <a:pt x="250" y="2782"/>
                  </a:lnTo>
                  <a:lnTo>
                    <a:pt x="242" y="2762"/>
                  </a:lnTo>
                  <a:lnTo>
                    <a:pt x="236" y="2740"/>
                  </a:lnTo>
                  <a:lnTo>
                    <a:pt x="230" y="2718"/>
                  </a:lnTo>
                  <a:lnTo>
                    <a:pt x="226" y="2696"/>
                  </a:lnTo>
                  <a:lnTo>
                    <a:pt x="224" y="2674"/>
                  </a:lnTo>
                  <a:lnTo>
                    <a:pt x="224" y="2652"/>
                  </a:lnTo>
                  <a:lnTo>
                    <a:pt x="226" y="2628"/>
                  </a:lnTo>
                  <a:lnTo>
                    <a:pt x="226" y="2628"/>
                  </a:lnTo>
                  <a:lnTo>
                    <a:pt x="222" y="2580"/>
                  </a:lnTo>
                  <a:lnTo>
                    <a:pt x="222" y="2532"/>
                  </a:lnTo>
                  <a:lnTo>
                    <a:pt x="222" y="2484"/>
                  </a:lnTo>
                  <a:lnTo>
                    <a:pt x="228" y="2438"/>
                  </a:lnTo>
                  <a:lnTo>
                    <a:pt x="236" y="2392"/>
                  </a:lnTo>
                  <a:lnTo>
                    <a:pt x="246" y="2348"/>
                  </a:lnTo>
                  <a:lnTo>
                    <a:pt x="258" y="2304"/>
                  </a:lnTo>
                  <a:lnTo>
                    <a:pt x="274" y="2260"/>
                  </a:lnTo>
                  <a:lnTo>
                    <a:pt x="292" y="2218"/>
                  </a:lnTo>
                  <a:lnTo>
                    <a:pt x="312" y="2178"/>
                  </a:lnTo>
                  <a:lnTo>
                    <a:pt x="336" y="2138"/>
                  </a:lnTo>
                  <a:lnTo>
                    <a:pt x="362" y="2100"/>
                  </a:lnTo>
                  <a:lnTo>
                    <a:pt x="390" y="2062"/>
                  </a:lnTo>
                  <a:lnTo>
                    <a:pt x="420" y="2026"/>
                  </a:lnTo>
                  <a:lnTo>
                    <a:pt x="454" y="1990"/>
                  </a:lnTo>
                  <a:lnTo>
                    <a:pt x="490" y="1956"/>
                  </a:lnTo>
                  <a:lnTo>
                    <a:pt x="490" y="1956"/>
                  </a:lnTo>
                  <a:lnTo>
                    <a:pt x="468" y="1918"/>
                  </a:lnTo>
                  <a:lnTo>
                    <a:pt x="446" y="1880"/>
                  </a:lnTo>
                  <a:lnTo>
                    <a:pt x="428" y="1838"/>
                  </a:lnTo>
                  <a:lnTo>
                    <a:pt x="410" y="1796"/>
                  </a:lnTo>
                  <a:lnTo>
                    <a:pt x="396" y="1754"/>
                  </a:lnTo>
                  <a:lnTo>
                    <a:pt x="390" y="1732"/>
                  </a:lnTo>
                  <a:lnTo>
                    <a:pt x="388" y="1710"/>
                  </a:lnTo>
                  <a:lnTo>
                    <a:pt x="384" y="1688"/>
                  </a:lnTo>
                  <a:lnTo>
                    <a:pt x="384" y="1666"/>
                  </a:lnTo>
                  <a:lnTo>
                    <a:pt x="384" y="1642"/>
                  </a:lnTo>
                  <a:lnTo>
                    <a:pt x="386" y="1620"/>
                  </a:lnTo>
                  <a:lnTo>
                    <a:pt x="386" y="1620"/>
                  </a:lnTo>
                  <a:lnTo>
                    <a:pt x="354" y="1602"/>
                  </a:lnTo>
                  <a:lnTo>
                    <a:pt x="322" y="1584"/>
                  </a:lnTo>
                  <a:lnTo>
                    <a:pt x="290" y="1562"/>
                  </a:lnTo>
                  <a:lnTo>
                    <a:pt x="262" y="1538"/>
                  </a:lnTo>
                  <a:lnTo>
                    <a:pt x="234" y="1512"/>
                  </a:lnTo>
                  <a:lnTo>
                    <a:pt x="208" y="1486"/>
                  </a:lnTo>
                  <a:lnTo>
                    <a:pt x="182" y="1456"/>
                  </a:lnTo>
                  <a:lnTo>
                    <a:pt x="160" y="1426"/>
                  </a:lnTo>
                  <a:lnTo>
                    <a:pt x="138" y="1396"/>
                  </a:lnTo>
                  <a:lnTo>
                    <a:pt x="120" y="1362"/>
                  </a:lnTo>
                  <a:lnTo>
                    <a:pt x="102" y="1330"/>
                  </a:lnTo>
                  <a:lnTo>
                    <a:pt x="86" y="1296"/>
                  </a:lnTo>
                  <a:lnTo>
                    <a:pt x="72" y="1260"/>
                  </a:lnTo>
                  <a:lnTo>
                    <a:pt x="58" y="1224"/>
                  </a:lnTo>
                  <a:lnTo>
                    <a:pt x="48" y="1190"/>
                  </a:lnTo>
                  <a:lnTo>
                    <a:pt x="40" y="1154"/>
                  </a:lnTo>
                  <a:lnTo>
                    <a:pt x="40" y="1154"/>
                  </a:lnTo>
                  <a:lnTo>
                    <a:pt x="32" y="1130"/>
                  </a:lnTo>
                  <a:lnTo>
                    <a:pt x="26" y="1106"/>
                  </a:lnTo>
                  <a:lnTo>
                    <a:pt x="18" y="1056"/>
                  </a:lnTo>
                  <a:lnTo>
                    <a:pt x="10" y="1004"/>
                  </a:lnTo>
                  <a:lnTo>
                    <a:pt x="0" y="952"/>
                  </a:lnTo>
                  <a:lnTo>
                    <a:pt x="0" y="952"/>
                  </a:lnTo>
                  <a:lnTo>
                    <a:pt x="2" y="920"/>
                  </a:lnTo>
                  <a:lnTo>
                    <a:pt x="4" y="890"/>
                  </a:lnTo>
                  <a:lnTo>
                    <a:pt x="2" y="828"/>
                  </a:lnTo>
                  <a:lnTo>
                    <a:pt x="2" y="828"/>
                  </a:lnTo>
                  <a:lnTo>
                    <a:pt x="24" y="692"/>
                  </a:lnTo>
                  <a:lnTo>
                    <a:pt x="36" y="622"/>
                  </a:lnTo>
                  <a:lnTo>
                    <a:pt x="44" y="588"/>
                  </a:lnTo>
                  <a:lnTo>
                    <a:pt x="52" y="556"/>
                  </a:lnTo>
                  <a:lnTo>
                    <a:pt x="62" y="522"/>
                  </a:lnTo>
                  <a:lnTo>
                    <a:pt x="74" y="490"/>
                  </a:lnTo>
                  <a:lnTo>
                    <a:pt x="86" y="460"/>
                  </a:lnTo>
                  <a:lnTo>
                    <a:pt x="102" y="428"/>
                  </a:lnTo>
                  <a:lnTo>
                    <a:pt x="118" y="398"/>
                  </a:lnTo>
                  <a:lnTo>
                    <a:pt x="138" y="370"/>
                  </a:lnTo>
                  <a:lnTo>
                    <a:pt x="160" y="342"/>
                  </a:lnTo>
                  <a:lnTo>
                    <a:pt x="184" y="316"/>
                  </a:lnTo>
                  <a:lnTo>
                    <a:pt x="184" y="316"/>
                  </a:lnTo>
                  <a:lnTo>
                    <a:pt x="212" y="286"/>
                  </a:lnTo>
                  <a:lnTo>
                    <a:pt x="242" y="258"/>
                  </a:lnTo>
                  <a:lnTo>
                    <a:pt x="274" y="230"/>
                  </a:lnTo>
                  <a:lnTo>
                    <a:pt x="306" y="202"/>
                  </a:lnTo>
                  <a:lnTo>
                    <a:pt x="338" y="176"/>
                  </a:lnTo>
                  <a:lnTo>
                    <a:pt x="372" y="152"/>
                  </a:lnTo>
                  <a:lnTo>
                    <a:pt x="408" y="128"/>
                  </a:lnTo>
                  <a:lnTo>
                    <a:pt x="444" y="106"/>
                  </a:lnTo>
                  <a:lnTo>
                    <a:pt x="480" y="86"/>
                  </a:lnTo>
                  <a:lnTo>
                    <a:pt x="518" y="66"/>
                  </a:lnTo>
                  <a:lnTo>
                    <a:pt x="556" y="50"/>
                  </a:lnTo>
                  <a:lnTo>
                    <a:pt x="594" y="36"/>
                  </a:lnTo>
                  <a:lnTo>
                    <a:pt x="634" y="22"/>
                  </a:lnTo>
                  <a:lnTo>
                    <a:pt x="674" y="12"/>
                  </a:lnTo>
                  <a:lnTo>
                    <a:pt x="714" y="4"/>
                  </a:lnTo>
                  <a:lnTo>
                    <a:pt x="754" y="0"/>
                  </a:lnTo>
                  <a:lnTo>
                    <a:pt x="754" y="0"/>
                  </a:lnTo>
                  <a:lnTo>
                    <a:pt x="784" y="0"/>
                  </a:lnTo>
                  <a:lnTo>
                    <a:pt x="812" y="0"/>
                  </a:lnTo>
                  <a:lnTo>
                    <a:pt x="838" y="4"/>
                  </a:lnTo>
                  <a:lnTo>
                    <a:pt x="866" y="10"/>
                  </a:lnTo>
                  <a:lnTo>
                    <a:pt x="918" y="22"/>
                  </a:lnTo>
                  <a:lnTo>
                    <a:pt x="970" y="38"/>
                  </a:lnTo>
                  <a:lnTo>
                    <a:pt x="1072" y="76"/>
                  </a:lnTo>
                  <a:lnTo>
                    <a:pt x="1122" y="94"/>
                  </a:lnTo>
                  <a:lnTo>
                    <a:pt x="1174" y="110"/>
                  </a:lnTo>
                  <a:lnTo>
                    <a:pt x="1174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7"/>
            <p:cNvSpPr/>
            <p:nvPr/>
          </p:nvSpPr>
          <p:spPr>
            <a:xfrm>
              <a:off x="2787480" y="3079440"/>
              <a:ext cx="2028600" cy="270828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2708280"/>
                <a:gd name="textAreaBottom" fmla="*/ 2708640 h 2708280"/>
              </a:gdLst>
              <a:ahLst/>
              <a:rect l="textAreaLeft" t="textAreaTop" r="textAreaRight" b="textAreaBottom"/>
              <a:pathLst>
                <a:path w="1278" h="1706">
                  <a:moveTo>
                    <a:pt x="1144" y="130"/>
                  </a:moveTo>
                  <a:lnTo>
                    <a:pt x="1144" y="130"/>
                  </a:lnTo>
                  <a:lnTo>
                    <a:pt x="1154" y="120"/>
                  </a:lnTo>
                  <a:lnTo>
                    <a:pt x="1164" y="110"/>
                  </a:lnTo>
                  <a:lnTo>
                    <a:pt x="1178" y="100"/>
                  </a:lnTo>
                  <a:lnTo>
                    <a:pt x="1190" y="92"/>
                  </a:lnTo>
                  <a:lnTo>
                    <a:pt x="1204" y="84"/>
                  </a:lnTo>
                  <a:lnTo>
                    <a:pt x="1218" y="80"/>
                  </a:lnTo>
                  <a:lnTo>
                    <a:pt x="1234" y="78"/>
                  </a:lnTo>
                  <a:lnTo>
                    <a:pt x="1248" y="78"/>
                  </a:lnTo>
                  <a:lnTo>
                    <a:pt x="1248" y="78"/>
                  </a:lnTo>
                  <a:lnTo>
                    <a:pt x="1254" y="80"/>
                  </a:lnTo>
                  <a:lnTo>
                    <a:pt x="1260" y="82"/>
                  </a:lnTo>
                  <a:lnTo>
                    <a:pt x="1268" y="90"/>
                  </a:lnTo>
                  <a:lnTo>
                    <a:pt x="1274" y="100"/>
                  </a:lnTo>
                  <a:lnTo>
                    <a:pt x="1276" y="114"/>
                  </a:lnTo>
                  <a:lnTo>
                    <a:pt x="1278" y="140"/>
                  </a:lnTo>
                  <a:lnTo>
                    <a:pt x="1278" y="152"/>
                  </a:lnTo>
                  <a:lnTo>
                    <a:pt x="1278" y="162"/>
                  </a:lnTo>
                  <a:lnTo>
                    <a:pt x="1278" y="162"/>
                  </a:lnTo>
                  <a:lnTo>
                    <a:pt x="1264" y="304"/>
                  </a:lnTo>
                  <a:lnTo>
                    <a:pt x="1254" y="376"/>
                  </a:lnTo>
                  <a:lnTo>
                    <a:pt x="1242" y="450"/>
                  </a:lnTo>
                  <a:lnTo>
                    <a:pt x="1230" y="524"/>
                  </a:lnTo>
                  <a:lnTo>
                    <a:pt x="1214" y="596"/>
                  </a:lnTo>
                  <a:lnTo>
                    <a:pt x="1198" y="668"/>
                  </a:lnTo>
                  <a:lnTo>
                    <a:pt x="1178" y="736"/>
                  </a:lnTo>
                  <a:lnTo>
                    <a:pt x="1178" y="736"/>
                  </a:lnTo>
                  <a:lnTo>
                    <a:pt x="1152" y="828"/>
                  </a:lnTo>
                  <a:lnTo>
                    <a:pt x="1126" y="916"/>
                  </a:lnTo>
                  <a:lnTo>
                    <a:pt x="1098" y="1006"/>
                  </a:lnTo>
                  <a:lnTo>
                    <a:pt x="1068" y="1094"/>
                  </a:lnTo>
                  <a:lnTo>
                    <a:pt x="1034" y="1182"/>
                  </a:lnTo>
                  <a:lnTo>
                    <a:pt x="1000" y="1266"/>
                  </a:lnTo>
                  <a:lnTo>
                    <a:pt x="960" y="1350"/>
                  </a:lnTo>
                  <a:lnTo>
                    <a:pt x="918" y="1434"/>
                  </a:lnTo>
                  <a:lnTo>
                    <a:pt x="918" y="1434"/>
                  </a:lnTo>
                  <a:lnTo>
                    <a:pt x="902" y="1412"/>
                  </a:lnTo>
                  <a:lnTo>
                    <a:pt x="882" y="1388"/>
                  </a:lnTo>
                  <a:lnTo>
                    <a:pt x="872" y="1378"/>
                  </a:lnTo>
                  <a:lnTo>
                    <a:pt x="860" y="1368"/>
                  </a:lnTo>
                  <a:lnTo>
                    <a:pt x="846" y="1360"/>
                  </a:lnTo>
                  <a:lnTo>
                    <a:pt x="832" y="1354"/>
                  </a:lnTo>
                  <a:lnTo>
                    <a:pt x="832" y="1354"/>
                  </a:lnTo>
                  <a:lnTo>
                    <a:pt x="818" y="1354"/>
                  </a:lnTo>
                  <a:lnTo>
                    <a:pt x="806" y="1356"/>
                  </a:lnTo>
                  <a:lnTo>
                    <a:pt x="794" y="1360"/>
                  </a:lnTo>
                  <a:lnTo>
                    <a:pt x="782" y="1364"/>
                  </a:lnTo>
                  <a:lnTo>
                    <a:pt x="758" y="1378"/>
                  </a:lnTo>
                  <a:lnTo>
                    <a:pt x="736" y="1394"/>
                  </a:lnTo>
                  <a:lnTo>
                    <a:pt x="736" y="1394"/>
                  </a:lnTo>
                  <a:lnTo>
                    <a:pt x="724" y="1408"/>
                  </a:lnTo>
                  <a:lnTo>
                    <a:pt x="716" y="1422"/>
                  </a:lnTo>
                  <a:lnTo>
                    <a:pt x="708" y="1436"/>
                  </a:lnTo>
                  <a:lnTo>
                    <a:pt x="702" y="1452"/>
                  </a:lnTo>
                  <a:lnTo>
                    <a:pt x="700" y="1468"/>
                  </a:lnTo>
                  <a:lnTo>
                    <a:pt x="698" y="1484"/>
                  </a:lnTo>
                  <a:lnTo>
                    <a:pt x="696" y="1518"/>
                  </a:lnTo>
                  <a:lnTo>
                    <a:pt x="700" y="1552"/>
                  </a:lnTo>
                  <a:lnTo>
                    <a:pt x="706" y="1586"/>
                  </a:lnTo>
                  <a:lnTo>
                    <a:pt x="710" y="1620"/>
                  </a:lnTo>
                  <a:lnTo>
                    <a:pt x="714" y="1654"/>
                  </a:lnTo>
                  <a:lnTo>
                    <a:pt x="714" y="1654"/>
                  </a:lnTo>
                  <a:lnTo>
                    <a:pt x="702" y="1672"/>
                  </a:lnTo>
                  <a:lnTo>
                    <a:pt x="692" y="1680"/>
                  </a:lnTo>
                  <a:lnTo>
                    <a:pt x="684" y="1688"/>
                  </a:lnTo>
                  <a:lnTo>
                    <a:pt x="674" y="1694"/>
                  </a:lnTo>
                  <a:lnTo>
                    <a:pt x="664" y="1700"/>
                  </a:lnTo>
                  <a:lnTo>
                    <a:pt x="652" y="1704"/>
                  </a:lnTo>
                  <a:lnTo>
                    <a:pt x="640" y="1706"/>
                  </a:lnTo>
                  <a:lnTo>
                    <a:pt x="640" y="1706"/>
                  </a:lnTo>
                  <a:lnTo>
                    <a:pt x="632" y="1706"/>
                  </a:lnTo>
                  <a:lnTo>
                    <a:pt x="624" y="1704"/>
                  </a:lnTo>
                  <a:lnTo>
                    <a:pt x="620" y="1700"/>
                  </a:lnTo>
                  <a:lnTo>
                    <a:pt x="618" y="1692"/>
                  </a:lnTo>
                  <a:lnTo>
                    <a:pt x="614" y="1676"/>
                  </a:lnTo>
                  <a:lnTo>
                    <a:pt x="612" y="1662"/>
                  </a:lnTo>
                  <a:lnTo>
                    <a:pt x="612" y="1662"/>
                  </a:lnTo>
                  <a:lnTo>
                    <a:pt x="616" y="1650"/>
                  </a:lnTo>
                  <a:lnTo>
                    <a:pt x="620" y="1636"/>
                  </a:lnTo>
                  <a:lnTo>
                    <a:pt x="620" y="1622"/>
                  </a:lnTo>
                  <a:lnTo>
                    <a:pt x="620" y="1616"/>
                  </a:lnTo>
                  <a:lnTo>
                    <a:pt x="616" y="1608"/>
                  </a:lnTo>
                  <a:lnTo>
                    <a:pt x="606" y="1586"/>
                  </a:lnTo>
                  <a:lnTo>
                    <a:pt x="606" y="1586"/>
                  </a:lnTo>
                  <a:lnTo>
                    <a:pt x="584" y="1588"/>
                  </a:lnTo>
                  <a:lnTo>
                    <a:pt x="564" y="1588"/>
                  </a:lnTo>
                  <a:lnTo>
                    <a:pt x="542" y="1586"/>
                  </a:lnTo>
                  <a:lnTo>
                    <a:pt x="522" y="1582"/>
                  </a:lnTo>
                  <a:lnTo>
                    <a:pt x="482" y="1574"/>
                  </a:lnTo>
                  <a:lnTo>
                    <a:pt x="444" y="1560"/>
                  </a:lnTo>
                  <a:lnTo>
                    <a:pt x="406" y="1544"/>
                  </a:lnTo>
                  <a:lnTo>
                    <a:pt x="370" y="1526"/>
                  </a:lnTo>
                  <a:lnTo>
                    <a:pt x="296" y="1492"/>
                  </a:lnTo>
                  <a:lnTo>
                    <a:pt x="296" y="1492"/>
                  </a:lnTo>
                  <a:lnTo>
                    <a:pt x="266" y="1466"/>
                  </a:lnTo>
                  <a:lnTo>
                    <a:pt x="240" y="1438"/>
                  </a:lnTo>
                  <a:lnTo>
                    <a:pt x="214" y="1410"/>
                  </a:lnTo>
                  <a:lnTo>
                    <a:pt x="190" y="1382"/>
                  </a:lnTo>
                  <a:lnTo>
                    <a:pt x="168" y="1352"/>
                  </a:lnTo>
                  <a:lnTo>
                    <a:pt x="146" y="1320"/>
                  </a:lnTo>
                  <a:lnTo>
                    <a:pt x="128" y="1288"/>
                  </a:lnTo>
                  <a:lnTo>
                    <a:pt x="110" y="1256"/>
                  </a:lnTo>
                  <a:lnTo>
                    <a:pt x="94" y="1222"/>
                  </a:lnTo>
                  <a:lnTo>
                    <a:pt x="80" y="1188"/>
                  </a:lnTo>
                  <a:lnTo>
                    <a:pt x="66" y="1152"/>
                  </a:lnTo>
                  <a:lnTo>
                    <a:pt x="54" y="1118"/>
                  </a:lnTo>
                  <a:lnTo>
                    <a:pt x="32" y="1044"/>
                  </a:lnTo>
                  <a:lnTo>
                    <a:pt x="14" y="970"/>
                  </a:lnTo>
                  <a:lnTo>
                    <a:pt x="14" y="970"/>
                  </a:lnTo>
                  <a:lnTo>
                    <a:pt x="8" y="946"/>
                  </a:lnTo>
                  <a:lnTo>
                    <a:pt x="4" y="922"/>
                  </a:lnTo>
                  <a:lnTo>
                    <a:pt x="2" y="898"/>
                  </a:lnTo>
                  <a:lnTo>
                    <a:pt x="0" y="874"/>
                  </a:lnTo>
                  <a:lnTo>
                    <a:pt x="2" y="826"/>
                  </a:lnTo>
                  <a:lnTo>
                    <a:pt x="8" y="778"/>
                  </a:lnTo>
                  <a:lnTo>
                    <a:pt x="20" y="682"/>
                  </a:lnTo>
                  <a:lnTo>
                    <a:pt x="26" y="634"/>
                  </a:lnTo>
                  <a:lnTo>
                    <a:pt x="30" y="588"/>
                  </a:lnTo>
                  <a:lnTo>
                    <a:pt x="30" y="588"/>
                  </a:lnTo>
                  <a:lnTo>
                    <a:pt x="34" y="560"/>
                  </a:lnTo>
                  <a:lnTo>
                    <a:pt x="40" y="532"/>
                  </a:lnTo>
                  <a:lnTo>
                    <a:pt x="48" y="504"/>
                  </a:lnTo>
                  <a:lnTo>
                    <a:pt x="56" y="478"/>
                  </a:lnTo>
                  <a:lnTo>
                    <a:pt x="66" y="450"/>
                  </a:lnTo>
                  <a:lnTo>
                    <a:pt x="78" y="424"/>
                  </a:lnTo>
                  <a:lnTo>
                    <a:pt x="90" y="400"/>
                  </a:lnTo>
                  <a:lnTo>
                    <a:pt x="104" y="374"/>
                  </a:lnTo>
                  <a:lnTo>
                    <a:pt x="120" y="350"/>
                  </a:lnTo>
                  <a:lnTo>
                    <a:pt x="136" y="326"/>
                  </a:lnTo>
                  <a:lnTo>
                    <a:pt x="154" y="304"/>
                  </a:lnTo>
                  <a:lnTo>
                    <a:pt x="172" y="282"/>
                  </a:lnTo>
                  <a:lnTo>
                    <a:pt x="192" y="260"/>
                  </a:lnTo>
                  <a:lnTo>
                    <a:pt x="212" y="238"/>
                  </a:lnTo>
                  <a:lnTo>
                    <a:pt x="234" y="218"/>
                  </a:lnTo>
                  <a:lnTo>
                    <a:pt x="256" y="200"/>
                  </a:lnTo>
                  <a:lnTo>
                    <a:pt x="256" y="200"/>
                  </a:lnTo>
                  <a:lnTo>
                    <a:pt x="324" y="152"/>
                  </a:lnTo>
                  <a:lnTo>
                    <a:pt x="358" y="130"/>
                  </a:lnTo>
                  <a:lnTo>
                    <a:pt x="392" y="108"/>
                  </a:lnTo>
                  <a:lnTo>
                    <a:pt x="428" y="88"/>
                  </a:lnTo>
                  <a:lnTo>
                    <a:pt x="464" y="68"/>
                  </a:lnTo>
                  <a:lnTo>
                    <a:pt x="502" y="52"/>
                  </a:lnTo>
                  <a:lnTo>
                    <a:pt x="540" y="36"/>
                  </a:lnTo>
                  <a:lnTo>
                    <a:pt x="578" y="22"/>
                  </a:lnTo>
                  <a:lnTo>
                    <a:pt x="618" y="12"/>
                  </a:lnTo>
                  <a:lnTo>
                    <a:pt x="658" y="6"/>
                  </a:lnTo>
                  <a:lnTo>
                    <a:pt x="698" y="0"/>
                  </a:lnTo>
                  <a:lnTo>
                    <a:pt x="738" y="0"/>
                  </a:lnTo>
                  <a:lnTo>
                    <a:pt x="780" y="2"/>
                  </a:lnTo>
                  <a:lnTo>
                    <a:pt x="822" y="8"/>
                  </a:lnTo>
                  <a:lnTo>
                    <a:pt x="864" y="20"/>
                  </a:lnTo>
                  <a:lnTo>
                    <a:pt x="864" y="20"/>
                  </a:lnTo>
                  <a:lnTo>
                    <a:pt x="934" y="46"/>
                  </a:lnTo>
                  <a:lnTo>
                    <a:pt x="1004" y="72"/>
                  </a:lnTo>
                  <a:lnTo>
                    <a:pt x="1144" y="130"/>
                  </a:lnTo>
                  <a:lnTo>
                    <a:pt x="1144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8"/>
            <p:cNvSpPr/>
            <p:nvPr/>
          </p:nvSpPr>
          <p:spPr>
            <a:xfrm>
              <a:off x="4397400" y="3603600"/>
              <a:ext cx="2765520" cy="1869840"/>
            </a:xfrm>
            <a:custGeom>
              <a:avLst/>
              <a:gdLst>
                <a:gd name="textAreaLeft" fmla="*/ 0 w 2765520"/>
                <a:gd name="textAreaRight" fmla="*/ 2765880 w 2765520"/>
                <a:gd name="textAreaTop" fmla="*/ 0 h 1869840"/>
                <a:gd name="textAreaBottom" fmla="*/ 1870200 h 1869840"/>
              </a:gdLst>
              <a:ahLst/>
              <a:rect l="textAreaLeft" t="textAreaTop" r="textAreaRight" b="textAreaBottom"/>
              <a:pathLst>
                <a:path w="1742" h="1178">
                  <a:moveTo>
                    <a:pt x="914" y="98"/>
                  </a:moveTo>
                  <a:lnTo>
                    <a:pt x="914" y="98"/>
                  </a:lnTo>
                  <a:lnTo>
                    <a:pt x="970" y="86"/>
                  </a:lnTo>
                  <a:lnTo>
                    <a:pt x="1032" y="76"/>
                  </a:lnTo>
                  <a:lnTo>
                    <a:pt x="1064" y="72"/>
                  </a:lnTo>
                  <a:lnTo>
                    <a:pt x="1098" y="68"/>
                  </a:lnTo>
                  <a:lnTo>
                    <a:pt x="1128" y="68"/>
                  </a:lnTo>
                  <a:lnTo>
                    <a:pt x="1160" y="68"/>
                  </a:lnTo>
                  <a:lnTo>
                    <a:pt x="1160" y="68"/>
                  </a:lnTo>
                  <a:lnTo>
                    <a:pt x="1184" y="72"/>
                  </a:lnTo>
                  <a:lnTo>
                    <a:pt x="1208" y="76"/>
                  </a:lnTo>
                  <a:lnTo>
                    <a:pt x="1232" y="80"/>
                  </a:lnTo>
                  <a:lnTo>
                    <a:pt x="1254" y="88"/>
                  </a:lnTo>
                  <a:lnTo>
                    <a:pt x="1298" y="104"/>
                  </a:lnTo>
                  <a:lnTo>
                    <a:pt x="1340" y="124"/>
                  </a:lnTo>
                  <a:lnTo>
                    <a:pt x="1380" y="148"/>
                  </a:lnTo>
                  <a:lnTo>
                    <a:pt x="1418" y="176"/>
                  </a:lnTo>
                  <a:lnTo>
                    <a:pt x="1454" y="206"/>
                  </a:lnTo>
                  <a:lnTo>
                    <a:pt x="1486" y="238"/>
                  </a:lnTo>
                  <a:lnTo>
                    <a:pt x="1518" y="274"/>
                  </a:lnTo>
                  <a:lnTo>
                    <a:pt x="1548" y="310"/>
                  </a:lnTo>
                  <a:lnTo>
                    <a:pt x="1576" y="348"/>
                  </a:lnTo>
                  <a:lnTo>
                    <a:pt x="1602" y="388"/>
                  </a:lnTo>
                  <a:lnTo>
                    <a:pt x="1626" y="430"/>
                  </a:lnTo>
                  <a:lnTo>
                    <a:pt x="1646" y="472"/>
                  </a:lnTo>
                  <a:lnTo>
                    <a:pt x="1666" y="514"/>
                  </a:lnTo>
                  <a:lnTo>
                    <a:pt x="1684" y="556"/>
                  </a:lnTo>
                  <a:lnTo>
                    <a:pt x="1684" y="556"/>
                  </a:lnTo>
                  <a:lnTo>
                    <a:pt x="1698" y="590"/>
                  </a:lnTo>
                  <a:lnTo>
                    <a:pt x="1708" y="626"/>
                  </a:lnTo>
                  <a:lnTo>
                    <a:pt x="1718" y="662"/>
                  </a:lnTo>
                  <a:lnTo>
                    <a:pt x="1726" y="698"/>
                  </a:lnTo>
                  <a:lnTo>
                    <a:pt x="1734" y="736"/>
                  </a:lnTo>
                  <a:lnTo>
                    <a:pt x="1738" y="774"/>
                  </a:lnTo>
                  <a:lnTo>
                    <a:pt x="1742" y="810"/>
                  </a:lnTo>
                  <a:lnTo>
                    <a:pt x="1742" y="848"/>
                  </a:lnTo>
                  <a:lnTo>
                    <a:pt x="1742" y="886"/>
                  </a:lnTo>
                  <a:lnTo>
                    <a:pt x="1738" y="924"/>
                  </a:lnTo>
                  <a:lnTo>
                    <a:pt x="1734" y="960"/>
                  </a:lnTo>
                  <a:lnTo>
                    <a:pt x="1726" y="998"/>
                  </a:lnTo>
                  <a:lnTo>
                    <a:pt x="1716" y="1034"/>
                  </a:lnTo>
                  <a:lnTo>
                    <a:pt x="1702" y="1070"/>
                  </a:lnTo>
                  <a:lnTo>
                    <a:pt x="1686" y="1104"/>
                  </a:lnTo>
                  <a:lnTo>
                    <a:pt x="1668" y="1138"/>
                  </a:lnTo>
                  <a:lnTo>
                    <a:pt x="1668" y="1138"/>
                  </a:lnTo>
                  <a:lnTo>
                    <a:pt x="1664" y="1130"/>
                  </a:lnTo>
                  <a:lnTo>
                    <a:pt x="1660" y="1128"/>
                  </a:lnTo>
                  <a:lnTo>
                    <a:pt x="1654" y="1128"/>
                  </a:lnTo>
                  <a:lnTo>
                    <a:pt x="1648" y="1128"/>
                  </a:lnTo>
                  <a:lnTo>
                    <a:pt x="1634" y="1136"/>
                  </a:lnTo>
                  <a:lnTo>
                    <a:pt x="1624" y="1146"/>
                  </a:lnTo>
                  <a:lnTo>
                    <a:pt x="1624" y="1146"/>
                  </a:lnTo>
                  <a:lnTo>
                    <a:pt x="1610" y="1138"/>
                  </a:lnTo>
                  <a:lnTo>
                    <a:pt x="1596" y="1130"/>
                  </a:lnTo>
                  <a:lnTo>
                    <a:pt x="1584" y="1120"/>
                  </a:lnTo>
                  <a:lnTo>
                    <a:pt x="1574" y="1108"/>
                  </a:lnTo>
                  <a:lnTo>
                    <a:pt x="1556" y="1086"/>
                  </a:lnTo>
                  <a:lnTo>
                    <a:pt x="1540" y="1060"/>
                  </a:lnTo>
                  <a:lnTo>
                    <a:pt x="1512" y="1006"/>
                  </a:lnTo>
                  <a:lnTo>
                    <a:pt x="1498" y="982"/>
                  </a:lnTo>
                  <a:lnTo>
                    <a:pt x="1480" y="958"/>
                  </a:lnTo>
                  <a:lnTo>
                    <a:pt x="1480" y="958"/>
                  </a:lnTo>
                  <a:lnTo>
                    <a:pt x="1468" y="960"/>
                  </a:lnTo>
                  <a:lnTo>
                    <a:pt x="1454" y="966"/>
                  </a:lnTo>
                  <a:lnTo>
                    <a:pt x="1450" y="970"/>
                  </a:lnTo>
                  <a:lnTo>
                    <a:pt x="1444" y="976"/>
                  </a:lnTo>
                  <a:lnTo>
                    <a:pt x="1442" y="982"/>
                  </a:lnTo>
                  <a:lnTo>
                    <a:pt x="1440" y="990"/>
                  </a:lnTo>
                  <a:lnTo>
                    <a:pt x="1440" y="990"/>
                  </a:lnTo>
                  <a:lnTo>
                    <a:pt x="1442" y="1006"/>
                  </a:lnTo>
                  <a:lnTo>
                    <a:pt x="1448" y="1024"/>
                  </a:lnTo>
                  <a:lnTo>
                    <a:pt x="1460" y="1056"/>
                  </a:lnTo>
                  <a:lnTo>
                    <a:pt x="1460" y="1056"/>
                  </a:lnTo>
                  <a:lnTo>
                    <a:pt x="1462" y="1086"/>
                  </a:lnTo>
                  <a:lnTo>
                    <a:pt x="1466" y="1116"/>
                  </a:lnTo>
                  <a:lnTo>
                    <a:pt x="1470" y="1146"/>
                  </a:lnTo>
                  <a:lnTo>
                    <a:pt x="1472" y="1178"/>
                  </a:lnTo>
                  <a:lnTo>
                    <a:pt x="1472" y="1178"/>
                  </a:lnTo>
                  <a:lnTo>
                    <a:pt x="1438" y="1152"/>
                  </a:lnTo>
                  <a:lnTo>
                    <a:pt x="1400" y="1126"/>
                  </a:lnTo>
                  <a:lnTo>
                    <a:pt x="1362" y="1098"/>
                  </a:lnTo>
                  <a:lnTo>
                    <a:pt x="1326" y="1070"/>
                  </a:lnTo>
                  <a:lnTo>
                    <a:pt x="1310" y="1054"/>
                  </a:lnTo>
                  <a:lnTo>
                    <a:pt x="1294" y="1038"/>
                  </a:lnTo>
                  <a:lnTo>
                    <a:pt x="1280" y="1022"/>
                  </a:lnTo>
                  <a:lnTo>
                    <a:pt x="1268" y="1004"/>
                  </a:lnTo>
                  <a:lnTo>
                    <a:pt x="1258" y="984"/>
                  </a:lnTo>
                  <a:lnTo>
                    <a:pt x="1250" y="964"/>
                  </a:lnTo>
                  <a:lnTo>
                    <a:pt x="1246" y="942"/>
                  </a:lnTo>
                  <a:lnTo>
                    <a:pt x="1242" y="918"/>
                  </a:lnTo>
                  <a:lnTo>
                    <a:pt x="1242" y="918"/>
                  </a:lnTo>
                  <a:lnTo>
                    <a:pt x="1238" y="916"/>
                  </a:lnTo>
                  <a:lnTo>
                    <a:pt x="1236" y="910"/>
                  </a:lnTo>
                  <a:lnTo>
                    <a:pt x="1230" y="900"/>
                  </a:lnTo>
                  <a:lnTo>
                    <a:pt x="1228" y="896"/>
                  </a:lnTo>
                  <a:lnTo>
                    <a:pt x="1224" y="892"/>
                  </a:lnTo>
                  <a:lnTo>
                    <a:pt x="1220" y="892"/>
                  </a:lnTo>
                  <a:lnTo>
                    <a:pt x="1214" y="894"/>
                  </a:lnTo>
                  <a:lnTo>
                    <a:pt x="1214" y="894"/>
                  </a:lnTo>
                  <a:lnTo>
                    <a:pt x="1200" y="898"/>
                  </a:lnTo>
                  <a:lnTo>
                    <a:pt x="1192" y="904"/>
                  </a:lnTo>
                  <a:lnTo>
                    <a:pt x="1184" y="912"/>
                  </a:lnTo>
                  <a:lnTo>
                    <a:pt x="1180" y="922"/>
                  </a:lnTo>
                  <a:lnTo>
                    <a:pt x="1174" y="944"/>
                  </a:lnTo>
                  <a:lnTo>
                    <a:pt x="1170" y="956"/>
                  </a:lnTo>
                  <a:lnTo>
                    <a:pt x="1166" y="966"/>
                  </a:lnTo>
                  <a:lnTo>
                    <a:pt x="1166" y="966"/>
                  </a:lnTo>
                  <a:lnTo>
                    <a:pt x="1106" y="1024"/>
                  </a:lnTo>
                  <a:lnTo>
                    <a:pt x="1076" y="1052"/>
                  </a:lnTo>
                  <a:lnTo>
                    <a:pt x="1046" y="1080"/>
                  </a:lnTo>
                  <a:lnTo>
                    <a:pt x="1012" y="1104"/>
                  </a:lnTo>
                  <a:lnTo>
                    <a:pt x="978" y="1128"/>
                  </a:lnTo>
                  <a:lnTo>
                    <a:pt x="942" y="1146"/>
                  </a:lnTo>
                  <a:lnTo>
                    <a:pt x="922" y="1154"/>
                  </a:lnTo>
                  <a:lnTo>
                    <a:pt x="904" y="1162"/>
                  </a:lnTo>
                  <a:lnTo>
                    <a:pt x="896" y="1162"/>
                  </a:lnTo>
                  <a:lnTo>
                    <a:pt x="896" y="1162"/>
                  </a:lnTo>
                  <a:lnTo>
                    <a:pt x="912" y="1100"/>
                  </a:lnTo>
                  <a:lnTo>
                    <a:pt x="926" y="1036"/>
                  </a:lnTo>
                  <a:lnTo>
                    <a:pt x="932" y="1002"/>
                  </a:lnTo>
                  <a:lnTo>
                    <a:pt x="936" y="970"/>
                  </a:lnTo>
                  <a:lnTo>
                    <a:pt x="936" y="936"/>
                  </a:lnTo>
                  <a:lnTo>
                    <a:pt x="934" y="904"/>
                  </a:lnTo>
                  <a:lnTo>
                    <a:pt x="934" y="904"/>
                  </a:lnTo>
                  <a:lnTo>
                    <a:pt x="932" y="900"/>
                  </a:lnTo>
                  <a:lnTo>
                    <a:pt x="928" y="898"/>
                  </a:lnTo>
                  <a:lnTo>
                    <a:pt x="918" y="896"/>
                  </a:lnTo>
                  <a:lnTo>
                    <a:pt x="898" y="896"/>
                  </a:lnTo>
                  <a:lnTo>
                    <a:pt x="898" y="896"/>
                  </a:lnTo>
                  <a:lnTo>
                    <a:pt x="872" y="940"/>
                  </a:lnTo>
                  <a:lnTo>
                    <a:pt x="842" y="984"/>
                  </a:lnTo>
                  <a:lnTo>
                    <a:pt x="810" y="1024"/>
                  </a:lnTo>
                  <a:lnTo>
                    <a:pt x="774" y="1062"/>
                  </a:lnTo>
                  <a:lnTo>
                    <a:pt x="736" y="1098"/>
                  </a:lnTo>
                  <a:lnTo>
                    <a:pt x="716" y="1114"/>
                  </a:lnTo>
                  <a:lnTo>
                    <a:pt x="694" y="1130"/>
                  </a:lnTo>
                  <a:lnTo>
                    <a:pt x="672" y="1144"/>
                  </a:lnTo>
                  <a:lnTo>
                    <a:pt x="650" y="1156"/>
                  </a:lnTo>
                  <a:lnTo>
                    <a:pt x="628" y="1168"/>
                  </a:lnTo>
                  <a:lnTo>
                    <a:pt x="604" y="1178"/>
                  </a:lnTo>
                  <a:lnTo>
                    <a:pt x="604" y="1178"/>
                  </a:lnTo>
                  <a:lnTo>
                    <a:pt x="612" y="1142"/>
                  </a:lnTo>
                  <a:lnTo>
                    <a:pt x="616" y="1106"/>
                  </a:lnTo>
                  <a:lnTo>
                    <a:pt x="618" y="1068"/>
                  </a:lnTo>
                  <a:lnTo>
                    <a:pt x="618" y="1030"/>
                  </a:lnTo>
                  <a:lnTo>
                    <a:pt x="616" y="952"/>
                  </a:lnTo>
                  <a:lnTo>
                    <a:pt x="614" y="880"/>
                  </a:lnTo>
                  <a:lnTo>
                    <a:pt x="614" y="880"/>
                  </a:lnTo>
                  <a:lnTo>
                    <a:pt x="612" y="876"/>
                  </a:lnTo>
                  <a:lnTo>
                    <a:pt x="608" y="870"/>
                  </a:lnTo>
                  <a:lnTo>
                    <a:pt x="604" y="866"/>
                  </a:lnTo>
                  <a:lnTo>
                    <a:pt x="598" y="864"/>
                  </a:lnTo>
                  <a:lnTo>
                    <a:pt x="594" y="862"/>
                  </a:lnTo>
                  <a:lnTo>
                    <a:pt x="588" y="862"/>
                  </a:lnTo>
                  <a:lnTo>
                    <a:pt x="582" y="864"/>
                  </a:lnTo>
                  <a:lnTo>
                    <a:pt x="578" y="868"/>
                  </a:lnTo>
                  <a:lnTo>
                    <a:pt x="578" y="868"/>
                  </a:lnTo>
                  <a:lnTo>
                    <a:pt x="564" y="878"/>
                  </a:lnTo>
                  <a:lnTo>
                    <a:pt x="554" y="890"/>
                  </a:lnTo>
                  <a:lnTo>
                    <a:pt x="546" y="906"/>
                  </a:lnTo>
                  <a:lnTo>
                    <a:pt x="538" y="920"/>
                  </a:lnTo>
                  <a:lnTo>
                    <a:pt x="520" y="952"/>
                  </a:lnTo>
                  <a:lnTo>
                    <a:pt x="512" y="968"/>
                  </a:lnTo>
                  <a:lnTo>
                    <a:pt x="500" y="982"/>
                  </a:lnTo>
                  <a:lnTo>
                    <a:pt x="500" y="982"/>
                  </a:lnTo>
                  <a:lnTo>
                    <a:pt x="460" y="1030"/>
                  </a:lnTo>
                  <a:lnTo>
                    <a:pt x="440" y="1054"/>
                  </a:lnTo>
                  <a:lnTo>
                    <a:pt x="416" y="1078"/>
                  </a:lnTo>
                  <a:lnTo>
                    <a:pt x="392" y="1100"/>
                  </a:lnTo>
                  <a:lnTo>
                    <a:pt x="368" y="1120"/>
                  </a:lnTo>
                  <a:lnTo>
                    <a:pt x="340" y="1138"/>
                  </a:lnTo>
                  <a:lnTo>
                    <a:pt x="312" y="1152"/>
                  </a:lnTo>
                  <a:lnTo>
                    <a:pt x="312" y="1152"/>
                  </a:lnTo>
                  <a:lnTo>
                    <a:pt x="304" y="1110"/>
                  </a:lnTo>
                  <a:lnTo>
                    <a:pt x="298" y="1068"/>
                  </a:lnTo>
                  <a:lnTo>
                    <a:pt x="294" y="1028"/>
                  </a:lnTo>
                  <a:lnTo>
                    <a:pt x="292" y="986"/>
                  </a:lnTo>
                  <a:lnTo>
                    <a:pt x="290" y="902"/>
                  </a:lnTo>
                  <a:lnTo>
                    <a:pt x="292" y="820"/>
                  </a:lnTo>
                  <a:lnTo>
                    <a:pt x="292" y="820"/>
                  </a:lnTo>
                  <a:lnTo>
                    <a:pt x="288" y="816"/>
                  </a:lnTo>
                  <a:lnTo>
                    <a:pt x="284" y="814"/>
                  </a:lnTo>
                  <a:lnTo>
                    <a:pt x="274" y="812"/>
                  </a:lnTo>
                  <a:lnTo>
                    <a:pt x="260" y="812"/>
                  </a:lnTo>
                  <a:lnTo>
                    <a:pt x="250" y="814"/>
                  </a:lnTo>
                  <a:lnTo>
                    <a:pt x="250" y="814"/>
                  </a:lnTo>
                  <a:lnTo>
                    <a:pt x="240" y="824"/>
                  </a:lnTo>
                  <a:lnTo>
                    <a:pt x="234" y="830"/>
                  </a:lnTo>
                  <a:lnTo>
                    <a:pt x="228" y="838"/>
                  </a:lnTo>
                  <a:lnTo>
                    <a:pt x="228" y="842"/>
                  </a:lnTo>
                  <a:lnTo>
                    <a:pt x="228" y="850"/>
                  </a:lnTo>
                  <a:lnTo>
                    <a:pt x="228" y="850"/>
                  </a:lnTo>
                  <a:lnTo>
                    <a:pt x="204" y="878"/>
                  </a:lnTo>
                  <a:lnTo>
                    <a:pt x="178" y="904"/>
                  </a:lnTo>
                  <a:lnTo>
                    <a:pt x="148" y="928"/>
                  </a:lnTo>
                  <a:lnTo>
                    <a:pt x="118" y="950"/>
                  </a:lnTo>
                  <a:lnTo>
                    <a:pt x="58" y="994"/>
                  </a:lnTo>
                  <a:lnTo>
                    <a:pt x="28" y="1016"/>
                  </a:lnTo>
                  <a:lnTo>
                    <a:pt x="0" y="1040"/>
                  </a:lnTo>
                  <a:lnTo>
                    <a:pt x="0" y="1040"/>
                  </a:lnTo>
                  <a:lnTo>
                    <a:pt x="76" y="830"/>
                  </a:lnTo>
                  <a:lnTo>
                    <a:pt x="114" y="724"/>
                  </a:lnTo>
                  <a:lnTo>
                    <a:pt x="150" y="620"/>
                  </a:lnTo>
                  <a:lnTo>
                    <a:pt x="186" y="512"/>
                  </a:lnTo>
                  <a:lnTo>
                    <a:pt x="216" y="404"/>
                  </a:lnTo>
                  <a:lnTo>
                    <a:pt x="244" y="296"/>
                  </a:lnTo>
                  <a:lnTo>
                    <a:pt x="256" y="240"/>
                  </a:lnTo>
                  <a:lnTo>
                    <a:pt x="268" y="184"/>
                  </a:lnTo>
                  <a:lnTo>
                    <a:pt x="268" y="184"/>
                  </a:lnTo>
                  <a:lnTo>
                    <a:pt x="326" y="140"/>
                  </a:lnTo>
                  <a:lnTo>
                    <a:pt x="358" y="118"/>
                  </a:lnTo>
                  <a:lnTo>
                    <a:pt x="390" y="98"/>
                  </a:lnTo>
                  <a:lnTo>
                    <a:pt x="424" y="78"/>
                  </a:lnTo>
                  <a:lnTo>
                    <a:pt x="458" y="60"/>
                  </a:lnTo>
                  <a:lnTo>
                    <a:pt x="492" y="44"/>
                  </a:lnTo>
                  <a:lnTo>
                    <a:pt x="528" y="28"/>
                  </a:lnTo>
                  <a:lnTo>
                    <a:pt x="562" y="18"/>
                  </a:lnTo>
                  <a:lnTo>
                    <a:pt x="598" y="8"/>
                  </a:lnTo>
                  <a:lnTo>
                    <a:pt x="636" y="2"/>
                  </a:lnTo>
                  <a:lnTo>
                    <a:pt x="672" y="0"/>
                  </a:lnTo>
                  <a:lnTo>
                    <a:pt x="708" y="0"/>
                  </a:lnTo>
                  <a:lnTo>
                    <a:pt x="746" y="6"/>
                  </a:lnTo>
                  <a:lnTo>
                    <a:pt x="782" y="14"/>
                  </a:lnTo>
                  <a:lnTo>
                    <a:pt x="818" y="28"/>
                  </a:lnTo>
                  <a:lnTo>
                    <a:pt x="914" y="98"/>
                  </a:lnTo>
                  <a:close/>
                </a:path>
              </a:pathLst>
            </a:custGeom>
            <a:solidFill>
              <a:srgbClr val="5c2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9"/>
            <p:cNvSpPr/>
            <p:nvPr/>
          </p:nvSpPr>
          <p:spPr>
            <a:xfrm>
              <a:off x="5568840" y="3924000"/>
              <a:ext cx="485640" cy="2538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306" h="160">
                  <a:moveTo>
                    <a:pt x="300" y="44"/>
                  </a:moveTo>
                  <a:lnTo>
                    <a:pt x="300" y="44"/>
                  </a:lnTo>
                  <a:lnTo>
                    <a:pt x="280" y="54"/>
                  </a:lnTo>
                  <a:lnTo>
                    <a:pt x="262" y="66"/>
                  </a:lnTo>
                  <a:lnTo>
                    <a:pt x="226" y="94"/>
                  </a:lnTo>
                  <a:lnTo>
                    <a:pt x="226" y="94"/>
                  </a:lnTo>
                  <a:lnTo>
                    <a:pt x="234" y="100"/>
                  </a:lnTo>
                  <a:lnTo>
                    <a:pt x="242" y="106"/>
                  </a:lnTo>
                  <a:lnTo>
                    <a:pt x="248" y="112"/>
                  </a:lnTo>
                  <a:lnTo>
                    <a:pt x="252" y="118"/>
                  </a:lnTo>
                  <a:lnTo>
                    <a:pt x="258" y="134"/>
                  </a:lnTo>
                  <a:lnTo>
                    <a:pt x="260" y="150"/>
                  </a:lnTo>
                  <a:lnTo>
                    <a:pt x="260" y="150"/>
                  </a:lnTo>
                  <a:lnTo>
                    <a:pt x="252" y="156"/>
                  </a:lnTo>
                  <a:lnTo>
                    <a:pt x="244" y="160"/>
                  </a:lnTo>
                  <a:lnTo>
                    <a:pt x="236" y="160"/>
                  </a:lnTo>
                  <a:lnTo>
                    <a:pt x="230" y="160"/>
                  </a:lnTo>
                  <a:lnTo>
                    <a:pt x="222" y="160"/>
                  </a:lnTo>
                  <a:lnTo>
                    <a:pt x="216" y="156"/>
                  </a:lnTo>
                  <a:lnTo>
                    <a:pt x="202" y="148"/>
                  </a:lnTo>
                  <a:lnTo>
                    <a:pt x="188" y="138"/>
                  </a:lnTo>
                  <a:lnTo>
                    <a:pt x="174" y="130"/>
                  </a:lnTo>
                  <a:lnTo>
                    <a:pt x="166" y="128"/>
                  </a:lnTo>
                  <a:lnTo>
                    <a:pt x="160" y="126"/>
                  </a:lnTo>
                  <a:lnTo>
                    <a:pt x="152" y="124"/>
                  </a:lnTo>
                  <a:lnTo>
                    <a:pt x="144" y="126"/>
                  </a:lnTo>
                  <a:lnTo>
                    <a:pt x="144" y="126"/>
                  </a:lnTo>
                  <a:lnTo>
                    <a:pt x="134" y="126"/>
                  </a:lnTo>
                  <a:lnTo>
                    <a:pt x="122" y="128"/>
                  </a:lnTo>
                  <a:lnTo>
                    <a:pt x="102" y="134"/>
                  </a:lnTo>
                  <a:lnTo>
                    <a:pt x="90" y="136"/>
                  </a:lnTo>
                  <a:lnTo>
                    <a:pt x="82" y="136"/>
                  </a:lnTo>
                  <a:lnTo>
                    <a:pt x="72" y="132"/>
                  </a:lnTo>
                  <a:lnTo>
                    <a:pt x="64" y="126"/>
                  </a:lnTo>
                  <a:lnTo>
                    <a:pt x="64" y="126"/>
                  </a:lnTo>
                  <a:lnTo>
                    <a:pt x="64" y="118"/>
                  </a:lnTo>
                  <a:lnTo>
                    <a:pt x="66" y="112"/>
                  </a:lnTo>
                  <a:lnTo>
                    <a:pt x="68" y="108"/>
                  </a:lnTo>
                  <a:lnTo>
                    <a:pt x="74" y="102"/>
                  </a:lnTo>
                  <a:lnTo>
                    <a:pt x="84" y="96"/>
                  </a:lnTo>
                  <a:lnTo>
                    <a:pt x="94" y="88"/>
                  </a:lnTo>
                  <a:lnTo>
                    <a:pt x="94" y="88"/>
                  </a:lnTo>
                  <a:lnTo>
                    <a:pt x="84" y="82"/>
                  </a:lnTo>
                  <a:lnTo>
                    <a:pt x="72" y="76"/>
                  </a:lnTo>
                  <a:lnTo>
                    <a:pt x="48" y="66"/>
                  </a:lnTo>
                  <a:lnTo>
                    <a:pt x="22" y="5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02" y="34"/>
                  </a:lnTo>
                  <a:lnTo>
                    <a:pt x="140" y="50"/>
                  </a:lnTo>
                  <a:lnTo>
                    <a:pt x="178" y="70"/>
                  </a:lnTo>
                  <a:lnTo>
                    <a:pt x="178" y="70"/>
                  </a:lnTo>
                  <a:lnTo>
                    <a:pt x="188" y="66"/>
                  </a:lnTo>
                  <a:lnTo>
                    <a:pt x="196" y="62"/>
                  </a:lnTo>
                  <a:lnTo>
                    <a:pt x="214" y="52"/>
                  </a:lnTo>
                  <a:lnTo>
                    <a:pt x="228" y="40"/>
                  </a:lnTo>
                  <a:lnTo>
                    <a:pt x="242" y="26"/>
                  </a:lnTo>
                  <a:lnTo>
                    <a:pt x="256" y="14"/>
                  </a:lnTo>
                  <a:lnTo>
                    <a:pt x="270" y="6"/>
                  </a:lnTo>
                  <a:lnTo>
                    <a:pt x="278" y="2"/>
                  </a:lnTo>
                  <a:lnTo>
                    <a:pt x="288" y="0"/>
                  </a:lnTo>
                  <a:lnTo>
                    <a:pt x="296" y="0"/>
                  </a:lnTo>
                  <a:lnTo>
                    <a:pt x="306" y="2"/>
                  </a:lnTo>
                  <a:lnTo>
                    <a:pt x="30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0"/>
            <p:cNvSpPr/>
            <p:nvPr/>
          </p:nvSpPr>
          <p:spPr>
            <a:xfrm>
              <a:off x="4282920" y="5048280"/>
              <a:ext cx="2682720" cy="1701720"/>
            </a:xfrm>
            <a:custGeom>
              <a:avLst/>
              <a:gdLst>
                <a:gd name="textAreaLeft" fmla="*/ 0 w 2682720"/>
                <a:gd name="textAreaRight" fmla="*/ 2683080 w 2682720"/>
                <a:gd name="textAreaTop" fmla="*/ 0 h 1701720"/>
                <a:gd name="textAreaBottom" fmla="*/ 1702080 h 1701720"/>
              </a:gdLst>
              <a:ahLst/>
              <a:rect l="textAreaLeft" t="textAreaTop" r="textAreaRight" b="textAreaBottom"/>
              <a:pathLst>
                <a:path w="1690" h="1072">
                  <a:moveTo>
                    <a:pt x="324" y="302"/>
                  </a:moveTo>
                  <a:lnTo>
                    <a:pt x="324" y="302"/>
                  </a:lnTo>
                  <a:lnTo>
                    <a:pt x="328" y="308"/>
                  </a:lnTo>
                  <a:lnTo>
                    <a:pt x="332" y="312"/>
                  </a:lnTo>
                  <a:lnTo>
                    <a:pt x="342" y="316"/>
                  </a:lnTo>
                  <a:lnTo>
                    <a:pt x="352" y="318"/>
                  </a:lnTo>
                  <a:lnTo>
                    <a:pt x="360" y="316"/>
                  </a:lnTo>
                  <a:lnTo>
                    <a:pt x="360" y="316"/>
                  </a:lnTo>
                  <a:lnTo>
                    <a:pt x="384" y="304"/>
                  </a:lnTo>
                  <a:lnTo>
                    <a:pt x="404" y="294"/>
                  </a:lnTo>
                  <a:lnTo>
                    <a:pt x="424" y="280"/>
                  </a:lnTo>
                  <a:lnTo>
                    <a:pt x="444" y="266"/>
                  </a:lnTo>
                  <a:lnTo>
                    <a:pt x="482" y="238"/>
                  </a:lnTo>
                  <a:lnTo>
                    <a:pt x="516" y="204"/>
                  </a:lnTo>
                  <a:lnTo>
                    <a:pt x="548" y="170"/>
                  </a:lnTo>
                  <a:lnTo>
                    <a:pt x="578" y="134"/>
                  </a:lnTo>
                  <a:lnTo>
                    <a:pt x="636" y="58"/>
                  </a:lnTo>
                  <a:lnTo>
                    <a:pt x="636" y="58"/>
                  </a:lnTo>
                  <a:lnTo>
                    <a:pt x="640" y="90"/>
                  </a:lnTo>
                  <a:lnTo>
                    <a:pt x="640" y="124"/>
                  </a:lnTo>
                  <a:lnTo>
                    <a:pt x="640" y="158"/>
                  </a:lnTo>
                  <a:lnTo>
                    <a:pt x="636" y="194"/>
                  </a:lnTo>
                  <a:lnTo>
                    <a:pt x="628" y="262"/>
                  </a:lnTo>
                  <a:lnTo>
                    <a:pt x="618" y="326"/>
                  </a:lnTo>
                  <a:lnTo>
                    <a:pt x="630" y="336"/>
                  </a:lnTo>
                  <a:lnTo>
                    <a:pt x="630" y="336"/>
                  </a:lnTo>
                  <a:lnTo>
                    <a:pt x="654" y="330"/>
                  </a:lnTo>
                  <a:lnTo>
                    <a:pt x="678" y="322"/>
                  </a:lnTo>
                  <a:lnTo>
                    <a:pt x="702" y="312"/>
                  </a:lnTo>
                  <a:lnTo>
                    <a:pt x="724" y="302"/>
                  </a:lnTo>
                  <a:lnTo>
                    <a:pt x="766" y="276"/>
                  </a:lnTo>
                  <a:lnTo>
                    <a:pt x="808" y="248"/>
                  </a:lnTo>
                  <a:lnTo>
                    <a:pt x="846" y="216"/>
                  </a:lnTo>
                  <a:lnTo>
                    <a:pt x="884" y="182"/>
                  </a:lnTo>
                  <a:lnTo>
                    <a:pt x="918" y="144"/>
                  </a:lnTo>
                  <a:lnTo>
                    <a:pt x="952" y="104"/>
                  </a:lnTo>
                  <a:lnTo>
                    <a:pt x="952" y="104"/>
                  </a:lnTo>
                  <a:lnTo>
                    <a:pt x="950" y="126"/>
                  </a:lnTo>
                  <a:lnTo>
                    <a:pt x="946" y="148"/>
                  </a:lnTo>
                  <a:lnTo>
                    <a:pt x="934" y="188"/>
                  </a:lnTo>
                  <a:lnTo>
                    <a:pt x="920" y="228"/>
                  </a:lnTo>
                  <a:lnTo>
                    <a:pt x="908" y="268"/>
                  </a:lnTo>
                  <a:lnTo>
                    <a:pt x="908" y="268"/>
                  </a:lnTo>
                  <a:lnTo>
                    <a:pt x="902" y="272"/>
                  </a:lnTo>
                  <a:lnTo>
                    <a:pt x="896" y="276"/>
                  </a:lnTo>
                  <a:lnTo>
                    <a:pt x="894" y="282"/>
                  </a:lnTo>
                  <a:lnTo>
                    <a:pt x="892" y="288"/>
                  </a:lnTo>
                  <a:lnTo>
                    <a:pt x="892" y="302"/>
                  </a:lnTo>
                  <a:lnTo>
                    <a:pt x="890" y="316"/>
                  </a:lnTo>
                  <a:lnTo>
                    <a:pt x="890" y="316"/>
                  </a:lnTo>
                  <a:lnTo>
                    <a:pt x="892" y="320"/>
                  </a:lnTo>
                  <a:lnTo>
                    <a:pt x="896" y="324"/>
                  </a:lnTo>
                  <a:lnTo>
                    <a:pt x="904" y="330"/>
                  </a:lnTo>
                  <a:lnTo>
                    <a:pt x="914" y="332"/>
                  </a:lnTo>
                  <a:lnTo>
                    <a:pt x="924" y="334"/>
                  </a:lnTo>
                  <a:lnTo>
                    <a:pt x="924" y="334"/>
                  </a:lnTo>
                  <a:lnTo>
                    <a:pt x="950" y="324"/>
                  </a:lnTo>
                  <a:lnTo>
                    <a:pt x="976" y="314"/>
                  </a:lnTo>
                  <a:lnTo>
                    <a:pt x="1024" y="292"/>
                  </a:lnTo>
                  <a:lnTo>
                    <a:pt x="1072" y="264"/>
                  </a:lnTo>
                  <a:lnTo>
                    <a:pt x="1118" y="234"/>
                  </a:lnTo>
                  <a:lnTo>
                    <a:pt x="1160" y="200"/>
                  </a:lnTo>
                  <a:lnTo>
                    <a:pt x="1202" y="164"/>
                  </a:lnTo>
                  <a:lnTo>
                    <a:pt x="1240" y="126"/>
                  </a:lnTo>
                  <a:lnTo>
                    <a:pt x="1274" y="88"/>
                  </a:lnTo>
                  <a:lnTo>
                    <a:pt x="1274" y="88"/>
                  </a:lnTo>
                  <a:lnTo>
                    <a:pt x="1288" y="112"/>
                  </a:lnTo>
                  <a:lnTo>
                    <a:pt x="1302" y="134"/>
                  </a:lnTo>
                  <a:lnTo>
                    <a:pt x="1318" y="156"/>
                  </a:lnTo>
                  <a:lnTo>
                    <a:pt x="1334" y="176"/>
                  </a:lnTo>
                  <a:lnTo>
                    <a:pt x="1352" y="196"/>
                  </a:lnTo>
                  <a:lnTo>
                    <a:pt x="1372" y="214"/>
                  </a:lnTo>
                  <a:lnTo>
                    <a:pt x="1412" y="250"/>
                  </a:lnTo>
                  <a:lnTo>
                    <a:pt x="1454" y="282"/>
                  </a:lnTo>
                  <a:lnTo>
                    <a:pt x="1498" y="314"/>
                  </a:lnTo>
                  <a:lnTo>
                    <a:pt x="1582" y="370"/>
                  </a:lnTo>
                  <a:lnTo>
                    <a:pt x="1582" y="370"/>
                  </a:lnTo>
                  <a:lnTo>
                    <a:pt x="1592" y="370"/>
                  </a:lnTo>
                  <a:lnTo>
                    <a:pt x="1598" y="368"/>
                  </a:lnTo>
                  <a:lnTo>
                    <a:pt x="1602" y="362"/>
                  </a:lnTo>
                  <a:lnTo>
                    <a:pt x="1604" y="354"/>
                  </a:lnTo>
                  <a:lnTo>
                    <a:pt x="1606" y="348"/>
                  </a:lnTo>
                  <a:lnTo>
                    <a:pt x="1608" y="340"/>
                  </a:lnTo>
                  <a:lnTo>
                    <a:pt x="1614" y="334"/>
                  </a:lnTo>
                  <a:lnTo>
                    <a:pt x="1622" y="332"/>
                  </a:lnTo>
                  <a:lnTo>
                    <a:pt x="1622" y="332"/>
                  </a:lnTo>
                  <a:lnTo>
                    <a:pt x="1616" y="318"/>
                  </a:lnTo>
                  <a:lnTo>
                    <a:pt x="1610" y="306"/>
                  </a:lnTo>
                  <a:lnTo>
                    <a:pt x="1602" y="280"/>
                  </a:lnTo>
                  <a:lnTo>
                    <a:pt x="1592" y="228"/>
                  </a:lnTo>
                  <a:lnTo>
                    <a:pt x="1592" y="228"/>
                  </a:lnTo>
                  <a:lnTo>
                    <a:pt x="1604" y="242"/>
                  </a:lnTo>
                  <a:lnTo>
                    <a:pt x="1618" y="252"/>
                  </a:lnTo>
                  <a:lnTo>
                    <a:pt x="1648" y="272"/>
                  </a:lnTo>
                  <a:lnTo>
                    <a:pt x="1662" y="282"/>
                  </a:lnTo>
                  <a:lnTo>
                    <a:pt x="1674" y="294"/>
                  </a:lnTo>
                  <a:lnTo>
                    <a:pt x="1684" y="306"/>
                  </a:lnTo>
                  <a:lnTo>
                    <a:pt x="1688" y="314"/>
                  </a:lnTo>
                  <a:lnTo>
                    <a:pt x="1690" y="324"/>
                  </a:lnTo>
                  <a:lnTo>
                    <a:pt x="1690" y="324"/>
                  </a:lnTo>
                  <a:lnTo>
                    <a:pt x="1690" y="350"/>
                  </a:lnTo>
                  <a:lnTo>
                    <a:pt x="1688" y="376"/>
                  </a:lnTo>
                  <a:lnTo>
                    <a:pt x="1680" y="426"/>
                  </a:lnTo>
                  <a:lnTo>
                    <a:pt x="1670" y="476"/>
                  </a:lnTo>
                  <a:lnTo>
                    <a:pt x="1654" y="526"/>
                  </a:lnTo>
                  <a:lnTo>
                    <a:pt x="1634" y="572"/>
                  </a:lnTo>
                  <a:lnTo>
                    <a:pt x="1610" y="618"/>
                  </a:lnTo>
                  <a:lnTo>
                    <a:pt x="1584" y="664"/>
                  </a:lnTo>
                  <a:lnTo>
                    <a:pt x="1554" y="706"/>
                  </a:lnTo>
                  <a:lnTo>
                    <a:pt x="1522" y="746"/>
                  </a:lnTo>
                  <a:lnTo>
                    <a:pt x="1486" y="786"/>
                  </a:lnTo>
                  <a:lnTo>
                    <a:pt x="1448" y="822"/>
                  </a:lnTo>
                  <a:lnTo>
                    <a:pt x="1408" y="856"/>
                  </a:lnTo>
                  <a:lnTo>
                    <a:pt x="1366" y="888"/>
                  </a:lnTo>
                  <a:lnTo>
                    <a:pt x="1324" y="918"/>
                  </a:lnTo>
                  <a:lnTo>
                    <a:pt x="1278" y="944"/>
                  </a:lnTo>
                  <a:lnTo>
                    <a:pt x="1232" y="970"/>
                  </a:lnTo>
                  <a:lnTo>
                    <a:pt x="1232" y="970"/>
                  </a:lnTo>
                  <a:lnTo>
                    <a:pt x="1174" y="992"/>
                  </a:lnTo>
                  <a:lnTo>
                    <a:pt x="1116" y="1014"/>
                  </a:lnTo>
                  <a:lnTo>
                    <a:pt x="1058" y="1034"/>
                  </a:lnTo>
                  <a:lnTo>
                    <a:pt x="998" y="1050"/>
                  </a:lnTo>
                  <a:lnTo>
                    <a:pt x="968" y="1058"/>
                  </a:lnTo>
                  <a:lnTo>
                    <a:pt x="938" y="1062"/>
                  </a:lnTo>
                  <a:lnTo>
                    <a:pt x="906" y="1066"/>
                  </a:lnTo>
                  <a:lnTo>
                    <a:pt x="876" y="1070"/>
                  </a:lnTo>
                  <a:lnTo>
                    <a:pt x="844" y="1072"/>
                  </a:lnTo>
                  <a:lnTo>
                    <a:pt x="814" y="1070"/>
                  </a:lnTo>
                  <a:lnTo>
                    <a:pt x="782" y="1068"/>
                  </a:lnTo>
                  <a:lnTo>
                    <a:pt x="750" y="1064"/>
                  </a:lnTo>
                  <a:lnTo>
                    <a:pt x="750" y="1064"/>
                  </a:lnTo>
                  <a:lnTo>
                    <a:pt x="702" y="1058"/>
                  </a:lnTo>
                  <a:lnTo>
                    <a:pt x="652" y="1048"/>
                  </a:lnTo>
                  <a:lnTo>
                    <a:pt x="604" y="1036"/>
                  </a:lnTo>
                  <a:lnTo>
                    <a:pt x="556" y="1022"/>
                  </a:lnTo>
                  <a:lnTo>
                    <a:pt x="508" y="1006"/>
                  </a:lnTo>
                  <a:lnTo>
                    <a:pt x="460" y="988"/>
                  </a:lnTo>
                  <a:lnTo>
                    <a:pt x="414" y="966"/>
                  </a:lnTo>
                  <a:lnTo>
                    <a:pt x="370" y="944"/>
                  </a:lnTo>
                  <a:lnTo>
                    <a:pt x="328" y="916"/>
                  </a:lnTo>
                  <a:lnTo>
                    <a:pt x="286" y="888"/>
                  </a:lnTo>
                  <a:lnTo>
                    <a:pt x="248" y="856"/>
                  </a:lnTo>
                  <a:lnTo>
                    <a:pt x="212" y="822"/>
                  </a:lnTo>
                  <a:lnTo>
                    <a:pt x="178" y="786"/>
                  </a:lnTo>
                  <a:lnTo>
                    <a:pt x="148" y="746"/>
                  </a:lnTo>
                  <a:lnTo>
                    <a:pt x="120" y="702"/>
                  </a:lnTo>
                  <a:lnTo>
                    <a:pt x="96" y="656"/>
                  </a:lnTo>
                  <a:lnTo>
                    <a:pt x="96" y="656"/>
                  </a:lnTo>
                  <a:lnTo>
                    <a:pt x="64" y="592"/>
                  </a:lnTo>
                  <a:lnTo>
                    <a:pt x="48" y="560"/>
                  </a:lnTo>
                  <a:lnTo>
                    <a:pt x="34" y="526"/>
                  </a:lnTo>
                  <a:lnTo>
                    <a:pt x="22" y="492"/>
                  </a:lnTo>
                  <a:lnTo>
                    <a:pt x="14" y="456"/>
                  </a:lnTo>
                  <a:lnTo>
                    <a:pt x="12" y="438"/>
                  </a:lnTo>
                  <a:lnTo>
                    <a:pt x="10" y="420"/>
                  </a:lnTo>
                  <a:lnTo>
                    <a:pt x="10" y="400"/>
                  </a:lnTo>
                  <a:lnTo>
                    <a:pt x="12" y="382"/>
                  </a:lnTo>
                  <a:lnTo>
                    <a:pt x="12" y="382"/>
                  </a:lnTo>
                  <a:lnTo>
                    <a:pt x="6" y="366"/>
                  </a:lnTo>
                  <a:lnTo>
                    <a:pt x="2" y="352"/>
                  </a:lnTo>
                  <a:lnTo>
                    <a:pt x="2" y="336"/>
                  </a:lnTo>
                  <a:lnTo>
                    <a:pt x="2" y="318"/>
                  </a:lnTo>
                  <a:lnTo>
                    <a:pt x="4" y="286"/>
                  </a:lnTo>
                  <a:lnTo>
                    <a:pt x="2" y="270"/>
                  </a:lnTo>
                  <a:lnTo>
                    <a:pt x="0" y="254"/>
                  </a:lnTo>
                  <a:lnTo>
                    <a:pt x="0" y="254"/>
                  </a:lnTo>
                  <a:lnTo>
                    <a:pt x="4" y="246"/>
                  </a:lnTo>
                  <a:lnTo>
                    <a:pt x="6" y="238"/>
                  </a:lnTo>
                  <a:lnTo>
                    <a:pt x="16" y="226"/>
                  </a:lnTo>
                  <a:lnTo>
                    <a:pt x="26" y="218"/>
                  </a:lnTo>
                  <a:lnTo>
                    <a:pt x="40" y="210"/>
                  </a:lnTo>
                  <a:lnTo>
                    <a:pt x="68" y="196"/>
                  </a:lnTo>
                  <a:lnTo>
                    <a:pt x="82" y="188"/>
                  </a:lnTo>
                  <a:lnTo>
                    <a:pt x="94" y="178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308" y="36"/>
                  </a:lnTo>
                  <a:lnTo>
                    <a:pt x="310" y="74"/>
                  </a:lnTo>
                  <a:lnTo>
                    <a:pt x="318" y="150"/>
                  </a:lnTo>
                  <a:lnTo>
                    <a:pt x="322" y="186"/>
                  </a:lnTo>
                  <a:lnTo>
                    <a:pt x="326" y="224"/>
                  </a:lnTo>
                  <a:lnTo>
                    <a:pt x="326" y="264"/>
                  </a:lnTo>
                  <a:lnTo>
                    <a:pt x="324" y="302"/>
                  </a:lnTo>
                  <a:lnTo>
                    <a:pt x="324" y="302"/>
                  </a:lnTo>
                  <a:close/>
                </a:path>
              </a:pathLst>
            </a:custGeom>
            <a:solidFill>
              <a:srgbClr val="fb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1"/>
            <p:cNvSpPr/>
            <p:nvPr/>
          </p:nvSpPr>
          <p:spPr>
            <a:xfrm>
              <a:off x="3390840" y="5311800"/>
              <a:ext cx="822240" cy="9046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904680"/>
                <a:gd name="textAreaBottom" fmla="*/ 905040 h 904680"/>
              </a:gdLst>
              <a:ahLst/>
              <a:rect l="textAreaLeft" t="textAreaTop" r="textAreaRight" b="textAreaBottom"/>
              <a:pathLst>
                <a:path w="518" h="570">
                  <a:moveTo>
                    <a:pt x="494" y="52"/>
                  </a:moveTo>
                  <a:lnTo>
                    <a:pt x="494" y="52"/>
                  </a:lnTo>
                  <a:lnTo>
                    <a:pt x="504" y="78"/>
                  </a:lnTo>
                  <a:lnTo>
                    <a:pt x="510" y="106"/>
                  </a:lnTo>
                  <a:lnTo>
                    <a:pt x="514" y="134"/>
                  </a:lnTo>
                  <a:lnTo>
                    <a:pt x="518" y="162"/>
                  </a:lnTo>
                  <a:lnTo>
                    <a:pt x="518" y="190"/>
                  </a:lnTo>
                  <a:lnTo>
                    <a:pt x="518" y="218"/>
                  </a:lnTo>
                  <a:lnTo>
                    <a:pt x="514" y="246"/>
                  </a:lnTo>
                  <a:lnTo>
                    <a:pt x="510" y="274"/>
                  </a:lnTo>
                  <a:lnTo>
                    <a:pt x="506" y="302"/>
                  </a:lnTo>
                  <a:lnTo>
                    <a:pt x="498" y="328"/>
                  </a:lnTo>
                  <a:lnTo>
                    <a:pt x="482" y="382"/>
                  </a:lnTo>
                  <a:lnTo>
                    <a:pt x="462" y="432"/>
                  </a:lnTo>
                  <a:lnTo>
                    <a:pt x="438" y="480"/>
                  </a:lnTo>
                  <a:lnTo>
                    <a:pt x="438" y="480"/>
                  </a:lnTo>
                  <a:lnTo>
                    <a:pt x="428" y="492"/>
                  </a:lnTo>
                  <a:lnTo>
                    <a:pt x="418" y="500"/>
                  </a:lnTo>
                  <a:lnTo>
                    <a:pt x="394" y="520"/>
                  </a:lnTo>
                  <a:lnTo>
                    <a:pt x="384" y="530"/>
                  </a:lnTo>
                  <a:lnTo>
                    <a:pt x="378" y="540"/>
                  </a:lnTo>
                  <a:lnTo>
                    <a:pt x="376" y="546"/>
                  </a:lnTo>
                  <a:lnTo>
                    <a:pt x="374" y="554"/>
                  </a:lnTo>
                  <a:lnTo>
                    <a:pt x="376" y="562"/>
                  </a:lnTo>
                  <a:lnTo>
                    <a:pt x="378" y="570"/>
                  </a:lnTo>
                  <a:lnTo>
                    <a:pt x="378" y="570"/>
                  </a:lnTo>
                  <a:lnTo>
                    <a:pt x="330" y="566"/>
                  </a:lnTo>
                  <a:lnTo>
                    <a:pt x="282" y="558"/>
                  </a:lnTo>
                  <a:lnTo>
                    <a:pt x="258" y="554"/>
                  </a:lnTo>
                  <a:lnTo>
                    <a:pt x="234" y="546"/>
                  </a:lnTo>
                  <a:lnTo>
                    <a:pt x="212" y="538"/>
                  </a:lnTo>
                  <a:lnTo>
                    <a:pt x="188" y="530"/>
                  </a:lnTo>
                  <a:lnTo>
                    <a:pt x="168" y="518"/>
                  </a:lnTo>
                  <a:lnTo>
                    <a:pt x="148" y="506"/>
                  </a:lnTo>
                  <a:lnTo>
                    <a:pt x="128" y="492"/>
                  </a:lnTo>
                  <a:lnTo>
                    <a:pt x="110" y="476"/>
                  </a:lnTo>
                  <a:lnTo>
                    <a:pt x="94" y="460"/>
                  </a:lnTo>
                  <a:lnTo>
                    <a:pt x="78" y="440"/>
                  </a:lnTo>
                  <a:lnTo>
                    <a:pt x="66" y="418"/>
                  </a:lnTo>
                  <a:lnTo>
                    <a:pt x="54" y="396"/>
                  </a:lnTo>
                  <a:lnTo>
                    <a:pt x="54" y="396"/>
                  </a:lnTo>
                  <a:lnTo>
                    <a:pt x="46" y="370"/>
                  </a:lnTo>
                  <a:lnTo>
                    <a:pt x="38" y="346"/>
                  </a:lnTo>
                  <a:lnTo>
                    <a:pt x="18" y="298"/>
                  </a:lnTo>
                  <a:lnTo>
                    <a:pt x="10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0" y="208"/>
                  </a:lnTo>
                  <a:lnTo>
                    <a:pt x="2" y="194"/>
                  </a:lnTo>
                  <a:lnTo>
                    <a:pt x="2" y="194"/>
                  </a:lnTo>
                  <a:lnTo>
                    <a:pt x="22" y="198"/>
                  </a:lnTo>
                  <a:lnTo>
                    <a:pt x="42" y="204"/>
                  </a:lnTo>
                  <a:lnTo>
                    <a:pt x="82" y="216"/>
                  </a:lnTo>
                  <a:lnTo>
                    <a:pt x="102" y="222"/>
                  </a:lnTo>
                  <a:lnTo>
                    <a:pt x="122" y="226"/>
                  </a:lnTo>
                  <a:lnTo>
                    <a:pt x="144" y="230"/>
                  </a:lnTo>
                  <a:lnTo>
                    <a:pt x="166" y="232"/>
                  </a:lnTo>
                  <a:lnTo>
                    <a:pt x="166" y="232"/>
                  </a:lnTo>
                  <a:lnTo>
                    <a:pt x="176" y="240"/>
                  </a:lnTo>
                  <a:lnTo>
                    <a:pt x="182" y="252"/>
                  </a:lnTo>
                  <a:lnTo>
                    <a:pt x="184" y="264"/>
                  </a:lnTo>
                  <a:lnTo>
                    <a:pt x="186" y="278"/>
                  </a:lnTo>
                  <a:lnTo>
                    <a:pt x="192" y="304"/>
                  </a:lnTo>
                  <a:lnTo>
                    <a:pt x="196" y="318"/>
                  </a:lnTo>
                  <a:lnTo>
                    <a:pt x="202" y="330"/>
                  </a:lnTo>
                  <a:lnTo>
                    <a:pt x="202" y="330"/>
                  </a:lnTo>
                  <a:lnTo>
                    <a:pt x="220" y="344"/>
                  </a:lnTo>
                  <a:lnTo>
                    <a:pt x="230" y="352"/>
                  </a:lnTo>
                  <a:lnTo>
                    <a:pt x="240" y="356"/>
                  </a:lnTo>
                  <a:lnTo>
                    <a:pt x="250" y="360"/>
                  </a:lnTo>
                  <a:lnTo>
                    <a:pt x="262" y="362"/>
                  </a:lnTo>
                  <a:lnTo>
                    <a:pt x="272" y="360"/>
                  </a:lnTo>
                  <a:lnTo>
                    <a:pt x="284" y="356"/>
                  </a:lnTo>
                  <a:lnTo>
                    <a:pt x="284" y="356"/>
                  </a:lnTo>
                  <a:lnTo>
                    <a:pt x="310" y="338"/>
                  </a:lnTo>
                  <a:lnTo>
                    <a:pt x="336" y="318"/>
                  </a:lnTo>
                  <a:lnTo>
                    <a:pt x="358" y="298"/>
                  </a:lnTo>
                  <a:lnTo>
                    <a:pt x="380" y="276"/>
                  </a:lnTo>
                  <a:lnTo>
                    <a:pt x="380" y="276"/>
                  </a:lnTo>
                  <a:lnTo>
                    <a:pt x="382" y="262"/>
                  </a:lnTo>
                  <a:lnTo>
                    <a:pt x="384" y="246"/>
                  </a:lnTo>
                  <a:lnTo>
                    <a:pt x="384" y="218"/>
                  </a:lnTo>
                  <a:lnTo>
                    <a:pt x="380" y="188"/>
                  </a:lnTo>
                  <a:lnTo>
                    <a:pt x="376" y="158"/>
                  </a:lnTo>
                  <a:lnTo>
                    <a:pt x="372" y="128"/>
                  </a:lnTo>
                  <a:lnTo>
                    <a:pt x="370" y="98"/>
                  </a:lnTo>
                  <a:lnTo>
                    <a:pt x="372" y="68"/>
                  </a:lnTo>
                  <a:lnTo>
                    <a:pt x="374" y="54"/>
                  </a:lnTo>
                  <a:lnTo>
                    <a:pt x="378" y="38"/>
                  </a:lnTo>
                  <a:lnTo>
                    <a:pt x="378" y="38"/>
                  </a:lnTo>
                  <a:lnTo>
                    <a:pt x="380" y="32"/>
                  </a:lnTo>
                  <a:lnTo>
                    <a:pt x="384" y="26"/>
                  </a:lnTo>
                  <a:lnTo>
                    <a:pt x="394" y="18"/>
                  </a:lnTo>
                  <a:lnTo>
                    <a:pt x="408" y="10"/>
                  </a:lnTo>
                  <a:lnTo>
                    <a:pt x="420" y="0"/>
                  </a:lnTo>
                  <a:lnTo>
                    <a:pt x="420" y="0"/>
                  </a:lnTo>
                  <a:lnTo>
                    <a:pt x="432" y="0"/>
                  </a:lnTo>
                  <a:lnTo>
                    <a:pt x="444" y="2"/>
                  </a:lnTo>
                  <a:lnTo>
                    <a:pt x="454" y="8"/>
                  </a:lnTo>
                  <a:lnTo>
                    <a:pt x="464" y="14"/>
                  </a:lnTo>
                  <a:lnTo>
                    <a:pt x="472" y="22"/>
                  </a:lnTo>
                  <a:lnTo>
                    <a:pt x="480" y="32"/>
                  </a:lnTo>
                  <a:lnTo>
                    <a:pt x="494" y="52"/>
                  </a:lnTo>
                  <a:lnTo>
                    <a:pt x="494" y="52"/>
                  </a:lnTo>
                  <a:close/>
                </a:path>
              </a:pathLst>
            </a:custGeom>
            <a:solidFill>
              <a:srgbClr val="fb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2"/>
            <p:cNvSpPr/>
            <p:nvPr/>
          </p:nvSpPr>
          <p:spPr>
            <a:xfrm>
              <a:off x="6924600" y="5518080"/>
              <a:ext cx="285480" cy="5299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180" h="334">
                  <a:moveTo>
                    <a:pt x="172" y="80"/>
                  </a:moveTo>
                  <a:lnTo>
                    <a:pt x="172" y="80"/>
                  </a:lnTo>
                  <a:lnTo>
                    <a:pt x="178" y="120"/>
                  </a:lnTo>
                  <a:lnTo>
                    <a:pt x="180" y="140"/>
                  </a:lnTo>
                  <a:lnTo>
                    <a:pt x="180" y="160"/>
                  </a:lnTo>
                  <a:lnTo>
                    <a:pt x="176" y="180"/>
                  </a:lnTo>
                  <a:lnTo>
                    <a:pt x="170" y="198"/>
                  </a:lnTo>
                  <a:lnTo>
                    <a:pt x="166" y="206"/>
                  </a:lnTo>
                  <a:lnTo>
                    <a:pt x="160" y="214"/>
                  </a:lnTo>
                  <a:lnTo>
                    <a:pt x="154" y="220"/>
                  </a:lnTo>
                  <a:lnTo>
                    <a:pt x="146" y="226"/>
                  </a:lnTo>
                  <a:lnTo>
                    <a:pt x="146" y="226"/>
                  </a:lnTo>
                  <a:lnTo>
                    <a:pt x="142" y="240"/>
                  </a:lnTo>
                  <a:lnTo>
                    <a:pt x="136" y="254"/>
                  </a:lnTo>
                  <a:lnTo>
                    <a:pt x="126" y="264"/>
                  </a:lnTo>
                  <a:lnTo>
                    <a:pt x="114" y="276"/>
                  </a:lnTo>
                  <a:lnTo>
                    <a:pt x="90" y="294"/>
                  </a:lnTo>
                  <a:lnTo>
                    <a:pt x="76" y="302"/>
                  </a:lnTo>
                  <a:lnTo>
                    <a:pt x="66" y="310"/>
                  </a:lnTo>
                  <a:lnTo>
                    <a:pt x="66" y="310"/>
                  </a:lnTo>
                  <a:lnTo>
                    <a:pt x="48" y="318"/>
                  </a:lnTo>
                  <a:lnTo>
                    <a:pt x="32" y="326"/>
                  </a:lnTo>
                  <a:lnTo>
                    <a:pt x="16" y="332"/>
                  </a:lnTo>
                  <a:lnTo>
                    <a:pt x="8" y="334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14" y="294"/>
                  </a:lnTo>
                  <a:lnTo>
                    <a:pt x="28" y="252"/>
                  </a:lnTo>
                  <a:lnTo>
                    <a:pt x="42" y="212"/>
                  </a:lnTo>
                  <a:lnTo>
                    <a:pt x="52" y="170"/>
                  </a:lnTo>
                  <a:lnTo>
                    <a:pt x="62" y="130"/>
                  </a:lnTo>
                  <a:lnTo>
                    <a:pt x="70" y="88"/>
                  </a:lnTo>
                  <a:lnTo>
                    <a:pt x="76" y="48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88" y="2"/>
                  </a:lnTo>
                  <a:lnTo>
                    <a:pt x="98" y="0"/>
                  </a:lnTo>
                  <a:lnTo>
                    <a:pt x="106" y="2"/>
                  </a:lnTo>
                  <a:lnTo>
                    <a:pt x="114" y="8"/>
                  </a:lnTo>
                  <a:lnTo>
                    <a:pt x="128" y="20"/>
                  </a:lnTo>
                  <a:lnTo>
                    <a:pt x="136" y="28"/>
                  </a:lnTo>
                  <a:lnTo>
                    <a:pt x="146" y="32"/>
                  </a:lnTo>
                  <a:lnTo>
                    <a:pt x="172" y="80"/>
                  </a:lnTo>
                  <a:close/>
                </a:path>
              </a:pathLst>
            </a:custGeom>
            <a:solidFill>
              <a:srgbClr val="fb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3"/>
            <p:cNvSpPr/>
            <p:nvPr/>
          </p:nvSpPr>
          <p:spPr>
            <a:xfrm>
              <a:off x="4540320" y="5721120"/>
              <a:ext cx="745920" cy="43488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470" h="274">
                  <a:moveTo>
                    <a:pt x="72" y="82"/>
                  </a:moveTo>
                  <a:lnTo>
                    <a:pt x="72" y="82"/>
                  </a:lnTo>
                  <a:lnTo>
                    <a:pt x="92" y="110"/>
                  </a:lnTo>
                  <a:lnTo>
                    <a:pt x="114" y="136"/>
                  </a:lnTo>
                  <a:lnTo>
                    <a:pt x="140" y="160"/>
                  </a:lnTo>
                  <a:lnTo>
                    <a:pt x="166" y="182"/>
                  </a:lnTo>
                  <a:lnTo>
                    <a:pt x="180" y="190"/>
                  </a:lnTo>
                  <a:lnTo>
                    <a:pt x="194" y="198"/>
                  </a:lnTo>
                  <a:lnTo>
                    <a:pt x="208" y="206"/>
                  </a:lnTo>
                  <a:lnTo>
                    <a:pt x="224" y="212"/>
                  </a:lnTo>
                  <a:lnTo>
                    <a:pt x="240" y="216"/>
                  </a:lnTo>
                  <a:lnTo>
                    <a:pt x="256" y="218"/>
                  </a:lnTo>
                  <a:lnTo>
                    <a:pt x="274" y="220"/>
                  </a:lnTo>
                  <a:lnTo>
                    <a:pt x="292" y="220"/>
                  </a:lnTo>
                  <a:lnTo>
                    <a:pt x="292" y="220"/>
                  </a:lnTo>
                  <a:lnTo>
                    <a:pt x="304" y="218"/>
                  </a:lnTo>
                  <a:lnTo>
                    <a:pt x="314" y="216"/>
                  </a:lnTo>
                  <a:lnTo>
                    <a:pt x="326" y="212"/>
                  </a:lnTo>
                  <a:lnTo>
                    <a:pt x="336" y="208"/>
                  </a:lnTo>
                  <a:lnTo>
                    <a:pt x="354" y="196"/>
                  </a:lnTo>
                  <a:lnTo>
                    <a:pt x="372" y="182"/>
                  </a:lnTo>
                  <a:lnTo>
                    <a:pt x="386" y="164"/>
                  </a:lnTo>
                  <a:lnTo>
                    <a:pt x="400" y="146"/>
                  </a:lnTo>
                  <a:lnTo>
                    <a:pt x="424" y="106"/>
                  </a:lnTo>
                  <a:lnTo>
                    <a:pt x="424" y="106"/>
                  </a:lnTo>
                  <a:lnTo>
                    <a:pt x="434" y="98"/>
                  </a:lnTo>
                  <a:lnTo>
                    <a:pt x="442" y="90"/>
                  </a:lnTo>
                  <a:lnTo>
                    <a:pt x="446" y="86"/>
                  </a:lnTo>
                  <a:lnTo>
                    <a:pt x="452" y="84"/>
                  </a:lnTo>
                  <a:lnTo>
                    <a:pt x="458" y="82"/>
                  </a:lnTo>
                  <a:lnTo>
                    <a:pt x="466" y="84"/>
                  </a:lnTo>
                  <a:lnTo>
                    <a:pt x="466" y="84"/>
                  </a:lnTo>
                  <a:lnTo>
                    <a:pt x="470" y="94"/>
                  </a:lnTo>
                  <a:lnTo>
                    <a:pt x="470" y="104"/>
                  </a:lnTo>
                  <a:lnTo>
                    <a:pt x="470" y="114"/>
                  </a:lnTo>
                  <a:lnTo>
                    <a:pt x="466" y="124"/>
                  </a:lnTo>
                  <a:lnTo>
                    <a:pt x="462" y="134"/>
                  </a:lnTo>
                  <a:lnTo>
                    <a:pt x="458" y="144"/>
                  </a:lnTo>
                  <a:lnTo>
                    <a:pt x="444" y="162"/>
                  </a:lnTo>
                  <a:lnTo>
                    <a:pt x="428" y="180"/>
                  </a:lnTo>
                  <a:lnTo>
                    <a:pt x="412" y="198"/>
                  </a:lnTo>
                  <a:lnTo>
                    <a:pt x="396" y="216"/>
                  </a:lnTo>
                  <a:lnTo>
                    <a:pt x="382" y="232"/>
                  </a:lnTo>
                  <a:lnTo>
                    <a:pt x="382" y="232"/>
                  </a:lnTo>
                  <a:lnTo>
                    <a:pt x="372" y="242"/>
                  </a:lnTo>
                  <a:lnTo>
                    <a:pt x="360" y="252"/>
                  </a:lnTo>
                  <a:lnTo>
                    <a:pt x="350" y="258"/>
                  </a:lnTo>
                  <a:lnTo>
                    <a:pt x="336" y="264"/>
                  </a:lnTo>
                  <a:lnTo>
                    <a:pt x="324" y="268"/>
                  </a:lnTo>
                  <a:lnTo>
                    <a:pt x="310" y="270"/>
                  </a:lnTo>
                  <a:lnTo>
                    <a:pt x="284" y="274"/>
                  </a:lnTo>
                  <a:lnTo>
                    <a:pt x="254" y="272"/>
                  </a:lnTo>
                  <a:lnTo>
                    <a:pt x="226" y="268"/>
                  </a:lnTo>
                  <a:lnTo>
                    <a:pt x="200" y="262"/>
                  </a:lnTo>
                  <a:lnTo>
                    <a:pt x="174" y="254"/>
                  </a:lnTo>
                  <a:lnTo>
                    <a:pt x="174" y="254"/>
                  </a:lnTo>
                  <a:lnTo>
                    <a:pt x="144" y="232"/>
                  </a:lnTo>
                  <a:lnTo>
                    <a:pt x="116" y="210"/>
                  </a:lnTo>
                  <a:lnTo>
                    <a:pt x="88" y="184"/>
                  </a:lnTo>
                  <a:lnTo>
                    <a:pt x="64" y="158"/>
                  </a:lnTo>
                  <a:lnTo>
                    <a:pt x="42" y="128"/>
                  </a:lnTo>
                  <a:lnTo>
                    <a:pt x="24" y="98"/>
                  </a:lnTo>
                  <a:lnTo>
                    <a:pt x="10" y="66"/>
                  </a:lnTo>
                  <a:lnTo>
                    <a:pt x="4" y="4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6" y="18"/>
                  </a:lnTo>
                  <a:lnTo>
                    <a:pt x="12" y="8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2" y="4"/>
                  </a:lnTo>
                  <a:lnTo>
                    <a:pt x="36" y="10"/>
                  </a:lnTo>
                  <a:lnTo>
                    <a:pt x="40" y="16"/>
                  </a:lnTo>
                  <a:lnTo>
                    <a:pt x="48" y="34"/>
                  </a:lnTo>
                  <a:lnTo>
                    <a:pt x="56" y="52"/>
                  </a:lnTo>
                  <a:lnTo>
                    <a:pt x="64" y="70"/>
                  </a:lnTo>
                  <a:lnTo>
                    <a:pt x="72" y="82"/>
                  </a:lnTo>
                  <a:lnTo>
                    <a:pt x="7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4"/>
            <p:cNvSpPr/>
            <p:nvPr/>
          </p:nvSpPr>
          <p:spPr>
            <a:xfrm>
              <a:off x="5819760" y="5867280"/>
              <a:ext cx="777600" cy="36180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490" h="228">
                  <a:moveTo>
                    <a:pt x="82" y="90"/>
                  </a:moveTo>
                  <a:lnTo>
                    <a:pt x="82" y="90"/>
                  </a:lnTo>
                  <a:lnTo>
                    <a:pt x="98" y="112"/>
                  </a:lnTo>
                  <a:lnTo>
                    <a:pt x="118" y="130"/>
                  </a:lnTo>
                  <a:lnTo>
                    <a:pt x="140" y="146"/>
                  </a:lnTo>
                  <a:lnTo>
                    <a:pt x="166" y="158"/>
                  </a:lnTo>
                  <a:lnTo>
                    <a:pt x="192" y="166"/>
                  </a:lnTo>
                  <a:lnTo>
                    <a:pt x="220" y="172"/>
                  </a:lnTo>
                  <a:lnTo>
                    <a:pt x="248" y="172"/>
                  </a:lnTo>
                  <a:lnTo>
                    <a:pt x="262" y="170"/>
                  </a:lnTo>
                  <a:lnTo>
                    <a:pt x="278" y="168"/>
                  </a:lnTo>
                  <a:lnTo>
                    <a:pt x="278" y="168"/>
                  </a:lnTo>
                  <a:lnTo>
                    <a:pt x="300" y="162"/>
                  </a:lnTo>
                  <a:lnTo>
                    <a:pt x="324" y="156"/>
                  </a:lnTo>
                  <a:lnTo>
                    <a:pt x="348" y="146"/>
                  </a:lnTo>
                  <a:lnTo>
                    <a:pt x="370" y="134"/>
                  </a:lnTo>
                  <a:lnTo>
                    <a:pt x="390" y="120"/>
                  </a:lnTo>
                  <a:lnTo>
                    <a:pt x="408" y="102"/>
                  </a:lnTo>
                  <a:lnTo>
                    <a:pt x="416" y="92"/>
                  </a:lnTo>
                  <a:lnTo>
                    <a:pt x="422" y="80"/>
                  </a:lnTo>
                  <a:lnTo>
                    <a:pt x="426" y="68"/>
                  </a:lnTo>
                  <a:lnTo>
                    <a:pt x="430" y="56"/>
                  </a:lnTo>
                  <a:lnTo>
                    <a:pt x="430" y="56"/>
                  </a:lnTo>
                  <a:lnTo>
                    <a:pt x="440" y="44"/>
                  </a:lnTo>
                  <a:lnTo>
                    <a:pt x="446" y="38"/>
                  </a:lnTo>
                  <a:lnTo>
                    <a:pt x="452" y="32"/>
                  </a:lnTo>
                  <a:lnTo>
                    <a:pt x="460" y="28"/>
                  </a:lnTo>
                  <a:lnTo>
                    <a:pt x="468" y="26"/>
                  </a:lnTo>
                  <a:lnTo>
                    <a:pt x="476" y="26"/>
                  </a:lnTo>
                  <a:lnTo>
                    <a:pt x="484" y="30"/>
                  </a:lnTo>
                  <a:lnTo>
                    <a:pt x="484" y="30"/>
                  </a:lnTo>
                  <a:lnTo>
                    <a:pt x="488" y="38"/>
                  </a:lnTo>
                  <a:lnTo>
                    <a:pt x="490" y="46"/>
                  </a:lnTo>
                  <a:lnTo>
                    <a:pt x="490" y="54"/>
                  </a:lnTo>
                  <a:lnTo>
                    <a:pt x="490" y="62"/>
                  </a:lnTo>
                  <a:lnTo>
                    <a:pt x="484" y="76"/>
                  </a:lnTo>
                  <a:lnTo>
                    <a:pt x="474" y="90"/>
                  </a:lnTo>
                  <a:lnTo>
                    <a:pt x="450" y="118"/>
                  </a:lnTo>
                  <a:lnTo>
                    <a:pt x="440" y="130"/>
                  </a:lnTo>
                  <a:lnTo>
                    <a:pt x="430" y="144"/>
                  </a:lnTo>
                  <a:lnTo>
                    <a:pt x="430" y="144"/>
                  </a:lnTo>
                  <a:lnTo>
                    <a:pt x="408" y="164"/>
                  </a:lnTo>
                  <a:lnTo>
                    <a:pt x="384" y="182"/>
                  </a:lnTo>
                  <a:lnTo>
                    <a:pt x="356" y="198"/>
                  </a:lnTo>
                  <a:lnTo>
                    <a:pt x="328" y="210"/>
                  </a:lnTo>
                  <a:lnTo>
                    <a:pt x="298" y="220"/>
                  </a:lnTo>
                  <a:lnTo>
                    <a:pt x="268" y="226"/>
                  </a:lnTo>
                  <a:lnTo>
                    <a:pt x="236" y="228"/>
                  </a:lnTo>
                  <a:lnTo>
                    <a:pt x="204" y="226"/>
                  </a:lnTo>
                  <a:lnTo>
                    <a:pt x="204" y="226"/>
                  </a:lnTo>
                  <a:lnTo>
                    <a:pt x="180" y="224"/>
                  </a:lnTo>
                  <a:lnTo>
                    <a:pt x="160" y="218"/>
                  </a:lnTo>
                  <a:lnTo>
                    <a:pt x="140" y="210"/>
                  </a:lnTo>
                  <a:lnTo>
                    <a:pt x="120" y="200"/>
                  </a:lnTo>
                  <a:lnTo>
                    <a:pt x="102" y="190"/>
                  </a:lnTo>
                  <a:lnTo>
                    <a:pt x="86" y="178"/>
                  </a:lnTo>
                  <a:lnTo>
                    <a:pt x="52" y="14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4" y="16"/>
                  </a:lnTo>
                  <a:lnTo>
                    <a:pt x="8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40" y="6"/>
                  </a:lnTo>
                  <a:lnTo>
                    <a:pt x="44" y="10"/>
                  </a:lnTo>
                  <a:lnTo>
                    <a:pt x="52" y="20"/>
                  </a:lnTo>
                  <a:lnTo>
                    <a:pt x="58" y="34"/>
                  </a:lnTo>
                  <a:lnTo>
                    <a:pt x="66" y="64"/>
                  </a:lnTo>
                  <a:lnTo>
                    <a:pt x="72" y="78"/>
                  </a:lnTo>
                  <a:lnTo>
                    <a:pt x="82" y="90"/>
                  </a:lnTo>
                  <a:lnTo>
                    <a:pt x="82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5"/>
            <p:cNvSpPr/>
            <p:nvPr/>
          </p:nvSpPr>
          <p:spPr>
            <a:xfrm>
              <a:off x="4032000" y="5877000"/>
              <a:ext cx="3575160" cy="2705040"/>
            </a:xfrm>
            <a:custGeom>
              <a:avLst/>
              <a:gdLst>
                <a:gd name="textAreaLeft" fmla="*/ 0 w 3575160"/>
                <a:gd name="textAreaRight" fmla="*/ 3575520 w 3575160"/>
                <a:gd name="textAreaTop" fmla="*/ 0 h 2705040"/>
                <a:gd name="textAreaBottom" fmla="*/ 2705400 h 2705040"/>
              </a:gdLst>
              <a:ahLst/>
              <a:rect l="textAreaLeft" t="textAreaTop" r="textAreaRight" b="textAreaBottom"/>
              <a:pathLst>
                <a:path w="2252" h="1704">
                  <a:moveTo>
                    <a:pt x="394" y="402"/>
                  </a:moveTo>
                  <a:lnTo>
                    <a:pt x="394" y="402"/>
                  </a:lnTo>
                  <a:lnTo>
                    <a:pt x="412" y="446"/>
                  </a:lnTo>
                  <a:lnTo>
                    <a:pt x="434" y="488"/>
                  </a:lnTo>
                  <a:lnTo>
                    <a:pt x="456" y="528"/>
                  </a:lnTo>
                  <a:lnTo>
                    <a:pt x="482" y="566"/>
                  </a:lnTo>
                  <a:lnTo>
                    <a:pt x="508" y="602"/>
                  </a:lnTo>
                  <a:lnTo>
                    <a:pt x="534" y="638"/>
                  </a:lnTo>
                  <a:lnTo>
                    <a:pt x="590" y="712"/>
                  </a:lnTo>
                  <a:lnTo>
                    <a:pt x="590" y="712"/>
                  </a:lnTo>
                  <a:lnTo>
                    <a:pt x="616" y="702"/>
                  </a:lnTo>
                  <a:lnTo>
                    <a:pt x="642" y="690"/>
                  </a:lnTo>
                  <a:lnTo>
                    <a:pt x="666" y="678"/>
                  </a:lnTo>
                  <a:lnTo>
                    <a:pt x="690" y="664"/>
                  </a:lnTo>
                  <a:lnTo>
                    <a:pt x="714" y="648"/>
                  </a:lnTo>
                  <a:lnTo>
                    <a:pt x="736" y="630"/>
                  </a:lnTo>
                  <a:lnTo>
                    <a:pt x="780" y="592"/>
                  </a:lnTo>
                  <a:lnTo>
                    <a:pt x="780" y="592"/>
                  </a:lnTo>
                  <a:lnTo>
                    <a:pt x="834" y="596"/>
                  </a:lnTo>
                  <a:lnTo>
                    <a:pt x="888" y="602"/>
                  </a:lnTo>
                  <a:lnTo>
                    <a:pt x="942" y="608"/>
                  </a:lnTo>
                  <a:lnTo>
                    <a:pt x="998" y="612"/>
                  </a:lnTo>
                  <a:lnTo>
                    <a:pt x="998" y="612"/>
                  </a:lnTo>
                  <a:lnTo>
                    <a:pt x="1028" y="610"/>
                  </a:lnTo>
                  <a:lnTo>
                    <a:pt x="1058" y="606"/>
                  </a:lnTo>
                  <a:lnTo>
                    <a:pt x="1114" y="598"/>
                  </a:lnTo>
                  <a:lnTo>
                    <a:pt x="1114" y="598"/>
                  </a:lnTo>
                  <a:lnTo>
                    <a:pt x="1132" y="620"/>
                  </a:lnTo>
                  <a:lnTo>
                    <a:pt x="1152" y="642"/>
                  </a:lnTo>
                  <a:lnTo>
                    <a:pt x="1194" y="684"/>
                  </a:lnTo>
                  <a:lnTo>
                    <a:pt x="1238" y="724"/>
                  </a:lnTo>
                  <a:lnTo>
                    <a:pt x="1278" y="764"/>
                  </a:lnTo>
                  <a:lnTo>
                    <a:pt x="1278" y="764"/>
                  </a:lnTo>
                  <a:lnTo>
                    <a:pt x="1296" y="758"/>
                  </a:lnTo>
                  <a:lnTo>
                    <a:pt x="1312" y="750"/>
                  </a:lnTo>
                  <a:lnTo>
                    <a:pt x="1326" y="740"/>
                  </a:lnTo>
                  <a:lnTo>
                    <a:pt x="1342" y="730"/>
                  </a:lnTo>
                  <a:lnTo>
                    <a:pt x="1372" y="704"/>
                  </a:lnTo>
                  <a:lnTo>
                    <a:pt x="1400" y="678"/>
                  </a:lnTo>
                  <a:lnTo>
                    <a:pt x="1400" y="678"/>
                  </a:lnTo>
                  <a:lnTo>
                    <a:pt x="1434" y="642"/>
                  </a:lnTo>
                  <a:lnTo>
                    <a:pt x="1464" y="604"/>
                  </a:lnTo>
                  <a:lnTo>
                    <a:pt x="1494" y="564"/>
                  </a:lnTo>
                  <a:lnTo>
                    <a:pt x="1524" y="524"/>
                  </a:lnTo>
                  <a:lnTo>
                    <a:pt x="1578" y="444"/>
                  </a:lnTo>
                  <a:lnTo>
                    <a:pt x="1634" y="368"/>
                  </a:lnTo>
                  <a:lnTo>
                    <a:pt x="1634" y="368"/>
                  </a:lnTo>
                  <a:lnTo>
                    <a:pt x="1642" y="348"/>
                  </a:lnTo>
                  <a:lnTo>
                    <a:pt x="1656" y="328"/>
                  </a:lnTo>
                  <a:lnTo>
                    <a:pt x="1670" y="312"/>
                  </a:lnTo>
                  <a:lnTo>
                    <a:pt x="1686" y="294"/>
                  </a:lnTo>
                  <a:lnTo>
                    <a:pt x="1722" y="260"/>
                  </a:lnTo>
                  <a:lnTo>
                    <a:pt x="1736" y="242"/>
                  </a:lnTo>
                  <a:lnTo>
                    <a:pt x="1750" y="222"/>
                  </a:lnTo>
                  <a:lnTo>
                    <a:pt x="1750" y="222"/>
                  </a:lnTo>
                  <a:lnTo>
                    <a:pt x="1756" y="208"/>
                  </a:lnTo>
                  <a:lnTo>
                    <a:pt x="1764" y="194"/>
                  </a:lnTo>
                  <a:lnTo>
                    <a:pt x="1772" y="182"/>
                  </a:lnTo>
                  <a:lnTo>
                    <a:pt x="1784" y="170"/>
                  </a:lnTo>
                  <a:lnTo>
                    <a:pt x="1784" y="170"/>
                  </a:lnTo>
                  <a:lnTo>
                    <a:pt x="1802" y="170"/>
                  </a:lnTo>
                  <a:lnTo>
                    <a:pt x="1820" y="168"/>
                  </a:lnTo>
                  <a:lnTo>
                    <a:pt x="1836" y="164"/>
                  </a:lnTo>
                  <a:lnTo>
                    <a:pt x="1852" y="160"/>
                  </a:lnTo>
                  <a:lnTo>
                    <a:pt x="1866" y="154"/>
                  </a:lnTo>
                  <a:lnTo>
                    <a:pt x="1882" y="148"/>
                  </a:lnTo>
                  <a:lnTo>
                    <a:pt x="1910" y="132"/>
                  </a:lnTo>
                  <a:lnTo>
                    <a:pt x="1936" y="112"/>
                  </a:lnTo>
                  <a:lnTo>
                    <a:pt x="1962" y="90"/>
                  </a:lnTo>
                  <a:lnTo>
                    <a:pt x="2012" y="44"/>
                  </a:lnTo>
                  <a:lnTo>
                    <a:pt x="2012" y="44"/>
                  </a:lnTo>
                  <a:lnTo>
                    <a:pt x="2034" y="58"/>
                  </a:lnTo>
                  <a:lnTo>
                    <a:pt x="2056" y="74"/>
                  </a:lnTo>
                  <a:lnTo>
                    <a:pt x="2074" y="92"/>
                  </a:lnTo>
                  <a:lnTo>
                    <a:pt x="2092" y="110"/>
                  </a:lnTo>
                  <a:lnTo>
                    <a:pt x="2108" y="130"/>
                  </a:lnTo>
                  <a:lnTo>
                    <a:pt x="2122" y="152"/>
                  </a:lnTo>
                  <a:lnTo>
                    <a:pt x="2134" y="174"/>
                  </a:lnTo>
                  <a:lnTo>
                    <a:pt x="2146" y="198"/>
                  </a:lnTo>
                  <a:lnTo>
                    <a:pt x="2156" y="222"/>
                  </a:lnTo>
                  <a:lnTo>
                    <a:pt x="2164" y="246"/>
                  </a:lnTo>
                  <a:lnTo>
                    <a:pt x="2170" y="272"/>
                  </a:lnTo>
                  <a:lnTo>
                    <a:pt x="2176" y="298"/>
                  </a:lnTo>
                  <a:lnTo>
                    <a:pt x="2180" y="324"/>
                  </a:lnTo>
                  <a:lnTo>
                    <a:pt x="2182" y="350"/>
                  </a:lnTo>
                  <a:lnTo>
                    <a:pt x="2184" y="376"/>
                  </a:lnTo>
                  <a:lnTo>
                    <a:pt x="2184" y="402"/>
                  </a:lnTo>
                  <a:lnTo>
                    <a:pt x="2184" y="402"/>
                  </a:lnTo>
                  <a:lnTo>
                    <a:pt x="2194" y="484"/>
                  </a:lnTo>
                  <a:lnTo>
                    <a:pt x="2200" y="566"/>
                  </a:lnTo>
                  <a:lnTo>
                    <a:pt x="2210" y="730"/>
                  </a:lnTo>
                  <a:lnTo>
                    <a:pt x="2220" y="892"/>
                  </a:lnTo>
                  <a:lnTo>
                    <a:pt x="2228" y="974"/>
                  </a:lnTo>
                  <a:lnTo>
                    <a:pt x="2238" y="1056"/>
                  </a:lnTo>
                  <a:lnTo>
                    <a:pt x="2238" y="1056"/>
                  </a:lnTo>
                  <a:lnTo>
                    <a:pt x="2244" y="1138"/>
                  </a:lnTo>
                  <a:lnTo>
                    <a:pt x="2250" y="1222"/>
                  </a:lnTo>
                  <a:lnTo>
                    <a:pt x="2252" y="1266"/>
                  </a:lnTo>
                  <a:lnTo>
                    <a:pt x="2252" y="1310"/>
                  </a:lnTo>
                  <a:lnTo>
                    <a:pt x="2250" y="1352"/>
                  </a:lnTo>
                  <a:lnTo>
                    <a:pt x="2246" y="1394"/>
                  </a:lnTo>
                  <a:lnTo>
                    <a:pt x="2240" y="1436"/>
                  </a:lnTo>
                  <a:lnTo>
                    <a:pt x="2228" y="1476"/>
                  </a:lnTo>
                  <a:lnTo>
                    <a:pt x="2214" y="1514"/>
                  </a:lnTo>
                  <a:lnTo>
                    <a:pt x="2206" y="1532"/>
                  </a:lnTo>
                  <a:lnTo>
                    <a:pt x="2196" y="1548"/>
                  </a:lnTo>
                  <a:lnTo>
                    <a:pt x="2184" y="1566"/>
                  </a:lnTo>
                  <a:lnTo>
                    <a:pt x="2172" y="1582"/>
                  </a:lnTo>
                  <a:lnTo>
                    <a:pt x="2158" y="1596"/>
                  </a:lnTo>
                  <a:lnTo>
                    <a:pt x="2144" y="1612"/>
                  </a:lnTo>
                  <a:lnTo>
                    <a:pt x="2126" y="1624"/>
                  </a:lnTo>
                  <a:lnTo>
                    <a:pt x="2108" y="1638"/>
                  </a:lnTo>
                  <a:lnTo>
                    <a:pt x="2090" y="1650"/>
                  </a:lnTo>
                  <a:lnTo>
                    <a:pt x="2068" y="1660"/>
                  </a:lnTo>
                  <a:lnTo>
                    <a:pt x="2068" y="1660"/>
                  </a:lnTo>
                  <a:lnTo>
                    <a:pt x="2048" y="1668"/>
                  </a:lnTo>
                  <a:lnTo>
                    <a:pt x="2028" y="1674"/>
                  </a:lnTo>
                  <a:lnTo>
                    <a:pt x="2006" y="1678"/>
                  </a:lnTo>
                  <a:lnTo>
                    <a:pt x="1982" y="1680"/>
                  </a:lnTo>
                  <a:lnTo>
                    <a:pt x="1960" y="1682"/>
                  </a:lnTo>
                  <a:lnTo>
                    <a:pt x="1936" y="1682"/>
                  </a:lnTo>
                  <a:lnTo>
                    <a:pt x="1894" y="1678"/>
                  </a:lnTo>
                  <a:lnTo>
                    <a:pt x="1894" y="1678"/>
                  </a:lnTo>
                  <a:lnTo>
                    <a:pt x="1890" y="1664"/>
                  </a:lnTo>
                  <a:lnTo>
                    <a:pt x="1888" y="1650"/>
                  </a:lnTo>
                  <a:lnTo>
                    <a:pt x="1888" y="1620"/>
                  </a:lnTo>
                  <a:lnTo>
                    <a:pt x="1888" y="1590"/>
                  </a:lnTo>
                  <a:lnTo>
                    <a:pt x="1886" y="1562"/>
                  </a:lnTo>
                  <a:lnTo>
                    <a:pt x="1886" y="1562"/>
                  </a:lnTo>
                  <a:lnTo>
                    <a:pt x="1896" y="1554"/>
                  </a:lnTo>
                  <a:lnTo>
                    <a:pt x="1904" y="1544"/>
                  </a:lnTo>
                  <a:lnTo>
                    <a:pt x="1910" y="1532"/>
                  </a:lnTo>
                  <a:lnTo>
                    <a:pt x="1916" y="1520"/>
                  </a:lnTo>
                  <a:lnTo>
                    <a:pt x="1926" y="1494"/>
                  </a:lnTo>
                  <a:lnTo>
                    <a:pt x="1932" y="1466"/>
                  </a:lnTo>
                  <a:lnTo>
                    <a:pt x="1934" y="1438"/>
                  </a:lnTo>
                  <a:lnTo>
                    <a:pt x="1936" y="1408"/>
                  </a:lnTo>
                  <a:lnTo>
                    <a:pt x="1934" y="1380"/>
                  </a:lnTo>
                  <a:lnTo>
                    <a:pt x="1932" y="1356"/>
                  </a:lnTo>
                  <a:lnTo>
                    <a:pt x="1936" y="908"/>
                  </a:lnTo>
                  <a:lnTo>
                    <a:pt x="1936" y="908"/>
                  </a:lnTo>
                  <a:lnTo>
                    <a:pt x="1932" y="902"/>
                  </a:lnTo>
                  <a:lnTo>
                    <a:pt x="1930" y="898"/>
                  </a:lnTo>
                  <a:lnTo>
                    <a:pt x="1924" y="894"/>
                  </a:lnTo>
                  <a:lnTo>
                    <a:pt x="1920" y="894"/>
                  </a:lnTo>
                  <a:lnTo>
                    <a:pt x="1914" y="892"/>
                  </a:lnTo>
                  <a:lnTo>
                    <a:pt x="1908" y="894"/>
                  </a:lnTo>
                  <a:lnTo>
                    <a:pt x="1902" y="896"/>
                  </a:lnTo>
                  <a:lnTo>
                    <a:pt x="1898" y="900"/>
                  </a:lnTo>
                  <a:lnTo>
                    <a:pt x="1898" y="900"/>
                  </a:lnTo>
                  <a:lnTo>
                    <a:pt x="1890" y="910"/>
                  </a:lnTo>
                  <a:lnTo>
                    <a:pt x="1886" y="918"/>
                  </a:lnTo>
                  <a:lnTo>
                    <a:pt x="1884" y="928"/>
                  </a:lnTo>
                  <a:lnTo>
                    <a:pt x="1886" y="938"/>
                  </a:lnTo>
                  <a:lnTo>
                    <a:pt x="1892" y="956"/>
                  </a:lnTo>
                  <a:lnTo>
                    <a:pt x="1894" y="966"/>
                  </a:lnTo>
                  <a:lnTo>
                    <a:pt x="1894" y="976"/>
                  </a:lnTo>
                  <a:lnTo>
                    <a:pt x="1894" y="976"/>
                  </a:lnTo>
                  <a:lnTo>
                    <a:pt x="1894" y="1036"/>
                  </a:lnTo>
                  <a:lnTo>
                    <a:pt x="1894" y="1094"/>
                  </a:lnTo>
                  <a:lnTo>
                    <a:pt x="1890" y="1208"/>
                  </a:lnTo>
                  <a:lnTo>
                    <a:pt x="1886" y="1324"/>
                  </a:lnTo>
                  <a:lnTo>
                    <a:pt x="1886" y="1382"/>
                  </a:lnTo>
                  <a:lnTo>
                    <a:pt x="1886" y="1442"/>
                  </a:lnTo>
                  <a:lnTo>
                    <a:pt x="1886" y="1442"/>
                  </a:lnTo>
                  <a:lnTo>
                    <a:pt x="1884" y="1456"/>
                  </a:lnTo>
                  <a:lnTo>
                    <a:pt x="1880" y="1468"/>
                  </a:lnTo>
                  <a:lnTo>
                    <a:pt x="1876" y="1480"/>
                  </a:lnTo>
                  <a:lnTo>
                    <a:pt x="1870" y="1490"/>
                  </a:lnTo>
                  <a:lnTo>
                    <a:pt x="1864" y="1498"/>
                  </a:lnTo>
                  <a:lnTo>
                    <a:pt x="1856" y="1508"/>
                  </a:lnTo>
                  <a:lnTo>
                    <a:pt x="1836" y="1522"/>
                  </a:lnTo>
                  <a:lnTo>
                    <a:pt x="1814" y="1536"/>
                  </a:lnTo>
                  <a:lnTo>
                    <a:pt x="1792" y="1548"/>
                  </a:lnTo>
                  <a:lnTo>
                    <a:pt x="1770" y="1560"/>
                  </a:lnTo>
                  <a:lnTo>
                    <a:pt x="1748" y="1572"/>
                  </a:lnTo>
                  <a:lnTo>
                    <a:pt x="1748" y="1572"/>
                  </a:lnTo>
                  <a:lnTo>
                    <a:pt x="1700" y="1592"/>
                  </a:lnTo>
                  <a:lnTo>
                    <a:pt x="1652" y="1608"/>
                  </a:lnTo>
                  <a:lnTo>
                    <a:pt x="1602" y="1624"/>
                  </a:lnTo>
                  <a:lnTo>
                    <a:pt x="1552" y="1640"/>
                  </a:lnTo>
                  <a:lnTo>
                    <a:pt x="1502" y="1652"/>
                  </a:lnTo>
                  <a:lnTo>
                    <a:pt x="1450" y="1664"/>
                  </a:lnTo>
                  <a:lnTo>
                    <a:pt x="1398" y="1674"/>
                  </a:lnTo>
                  <a:lnTo>
                    <a:pt x="1346" y="1682"/>
                  </a:lnTo>
                  <a:lnTo>
                    <a:pt x="1292" y="1690"/>
                  </a:lnTo>
                  <a:lnTo>
                    <a:pt x="1240" y="1694"/>
                  </a:lnTo>
                  <a:lnTo>
                    <a:pt x="1188" y="1700"/>
                  </a:lnTo>
                  <a:lnTo>
                    <a:pt x="1134" y="1702"/>
                  </a:lnTo>
                  <a:lnTo>
                    <a:pt x="1082" y="1704"/>
                  </a:lnTo>
                  <a:lnTo>
                    <a:pt x="1030" y="1704"/>
                  </a:lnTo>
                  <a:lnTo>
                    <a:pt x="980" y="1704"/>
                  </a:lnTo>
                  <a:lnTo>
                    <a:pt x="930" y="1702"/>
                  </a:lnTo>
                  <a:lnTo>
                    <a:pt x="930" y="1702"/>
                  </a:lnTo>
                  <a:lnTo>
                    <a:pt x="800" y="1688"/>
                  </a:lnTo>
                  <a:lnTo>
                    <a:pt x="666" y="1672"/>
                  </a:lnTo>
                  <a:lnTo>
                    <a:pt x="600" y="1662"/>
                  </a:lnTo>
                  <a:lnTo>
                    <a:pt x="536" y="1648"/>
                  </a:lnTo>
                  <a:lnTo>
                    <a:pt x="472" y="1634"/>
                  </a:lnTo>
                  <a:lnTo>
                    <a:pt x="410" y="1614"/>
                  </a:lnTo>
                  <a:lnTo>
                    <a:pt x="410" y="1614"/>
                  </a:lnTo>
                  <a:lnTo>
                    <a:pt x="326" y="1560"/>
                  </a:lnTo>
                  <a:lnTo>
                    <a:pt x="244" y="1506"/>
                  </a:lnTo>
                  <a:lnTo>
                    <a:pt x="204" y="1478"/>
                  </a:lnTo>
                  <a:lnTo>
                    <a:pt x="166" y="1448"/>
                  </a:lnTo>
                  <a:lnTo>
                    <a:pt x="128" y="1416"/>
                  </a:lnTo>
                  <a:lnTo>
                    <a:pt x="92" y="1382"/>
                  </a:lnTo>
                  <a:lnTo>
                    <a:pt x="92" y="1382"/>
                  </a:lnTo>
                  <a:lnTo>
                    <a:pt x="82" y="1386"/>
                  </a:lnTo>
                  <a:lnTo>
                    <a:pt x="76" y="1384"/>
                  </a:lnTo>
                  <a:lnTo>
                    <a:pt x="70" y="1382"/>
                  </a:lnTo>
                  <a:lnTo>
                    <a:pt x="66" y="1376"/>
                  </a:lnTo>
                  <a:lnTo>
                    <a:pt x="58" y="1360"/>
                  </a:lnTo>
                  <a:lnTo>
                    <a:pt x="54" y="1352"/>
                  </a:lnTo>
                  <a:lnTo>
                    <a:pt x="50" y="1344"/>
                  </a:lnTo>
                  <a:lnTo>
                    <a:pt x="0" y="1030"/>
                  </a:lnTo>
                  <a:lnTo>
                    <a:pt x="0" y="1030"/>
                  </a:lnTo>
                  <a:lnTo>
                    <a:pt x="26" y="990"/>
                  </a:lnTo>
                  <a:lnTo>
                    <a:pt x="48" y="950"/>
                  </a:lnTo>
                  <a:lnTo>
                    <a:pt x="66" y="910"/>
                  </a:lnTo>
                  <a:lnTo>
                    <a:pt x="82" y="866"/>
                  </a:lnTo>
                  <a:lnTo>
                    <a:pt x="96" y="824"/>
                  </a:lnTo>
                  <a:lnTo>
                    <a:pt x="106" y="778"/>
                  </a:lnTo>
                  <a:lnTo>
                    <a:pt x="114" y="734"/>
                  </a:lnTo>
                  <a:lnTo>
                    <a:pt x="120" y="688"/>
                  </a:lnTo>
                  <a:lnTo>
                    <a:pt x="124" y="642"/>
                  </a:lnTo>
                  <a:lnTo>
                    <a:pt x="126" y="596"/>
                  </a:lnTo>
                  <a:lnTo>
                    <a:pt x="128" y="548"/>
                  </a:lnTo>
                  <a:lnTo>
                    <a:pt x="126" y="502"/>
                  </a:lnTo>
                  <a:lnTo>
                    <a:pt x="122" y="408"/>
                  </a:lnTo>
                  <a:lnTo>
                    <a:pt x="114" y="314"/>
                  </a:lnTo>
                  <a:lnTo>
                    <a:pt x="114" y="314"/>
                  </a:lnTo>
                  <a:lnTo>
                    <a:pt x="106" y="282"/>
                  </a:lnTo>
                  <a:lnTo>
                    <a:pt x="100" y="250"/>
                  </a:lnTo>
                  <a:lnTo>
                    <a:pt x="94" y="234"/>
                  </a:lnTo>
                  <a:lnTo>
                    <a:pt x="86" y="220"/>
                  </a:lnTo>
                  <a:lnTo>
                    <a:pt x="76" y="208"/>
                  </a:lnTo>
                  <a:lnTo>
                    <a:pt x="64" y="198"/>
                  </a:lnTo>
                  <a:lnTo>
                    <a:pt x="40" y="196"/>
                  </a:lnTo>
                  <a:lnTo>
                    <a:pt x="40" y="196"/>
                  </a:lnTo>
                  <a:lnTo>
                    <a:pt x="56" y="174"/>
                  </a:lnTo>
                  <a:lnTo>
                    <a:pt x="70" y="150"/>
                  </a:lnTo>
                  <a:lnTo>
                    <a:pt x="82" y="126"/>
                  </a:lnTo>
                  <a:lnTo>
                    <a:pt x="94" y="100"/>
                  </a:lnTo>
                  <a:lnTo>
                    <a:pt x="116" y="5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54" y="56"/>
                  </a:lnTo>
                  <a:lnTo>
                    <a:pt x="178" y="112"/>
                  </a:lnTo>
                  <a:lnTo>
                    <a:pt x="204" y="166"/>
                  </a:lnTo>
                  <a:lnTo>
                    <a:pt x="236" y="218"/>
                  </a:lnTo>
                  <a:lnTo>
                    <a:pt x="270" y="268"/>
                  </a:lnTo>
                  <a:lnTo>
                    <a:pt x="308" y="316"/>
                  </a:lnTo>
                  <a:lnTo>
                    <a:pt x="348" y="360"/>
                  </a:lnTo>
                  <a:lnTo>
                    <a:pt x="372" y="382"/>
                  </a:lnTo>
                  <a:lnTo>
                    <a:pt x="394" y="402"/>
                  </a:lnTo>
                  <a:lnTo>
                    <a:pt x="394" y="402"/>
                  </a:lnTo>
                  <a:close/>
                </a:path>
              </a:pathLst>
            </a:custGeom>
            <a:solidFill>
              <a:srgbClr val="bbd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6"/>
            <p:cNvSpPr/>
            <p:nvPr/>
          </p:nvSpPr>
          <p:spPr>
            <a:xfrm>
              <a:off x="3124080" y="6200640"/>
              <a:ext cx="1031760" cy="1431720"/>
            </a:xfrm>
            <a:custGeom>
              <a:avLst/>
              <a:gdLst>
                <a:gd name="textAreaLeft" fmla="*/ 0 w 1031760"/>
                <a:gd name="textAreaRight" fmla="*/ 1032120 w 1031760"/>
                <a:gd name="textAreaTop" fmla="*/ 0 h 1431720"/>
                <a:gd name="textAreaBottom" fmla="*/ 1432080 h 1431720"/>
              </a:gdLst>
              <a:ahLst/>
              <a:rect l="textAreaLeft" t="textAreaTop" r="textAreaRight" b="textAreaBottom"/>
              <a:pathLst>
                <a:path w="650" h="902">
                  <a:moveTo>
                    <a:pt x="502" y="68"/>
                  </a:moveTo>
                  <a:lnTo>
                    <a:pt x="502" y="68"/>
                  </a:lnTo>
                  <a:lnTo>
                    <a:pt x="518" y="70"/>
                  </a:lnTo>
                  <a:lnTo>
                    <a:pt x="534" y="68"/>
                  </a:lnTo>
                  <a:lnTo>
                    <a:pt x="568" y="64"/>
                  </a:lnTo>
                  <a:lnTo>
                    <a:pt x="584" y="62"/>
                  </a:lnTo>
                  <a:lnTo>
                    <a:pt x="598" y="64"/>
                  </a:lnTo>
                  <a:lnTo>
                    <a:pt x="606" y="66"/>
                  </a:lnTo>
                  <a:lnTo>
                    <a:pt x="612" y="70"/>
                  </a:lnTo>
                  <a:lnTo>
                    <a:pt x="618" y="76"/>
                  </a:lnTo>
                  <a:lnTo>
                    <a:pt x="622" y="82"/>
                  </a:lnTo>
                  <a:lnTo>
                    <a:pt x="640" y="196"/>
                  </a:lnTo>
                  <a:lnTo>
                    <a:pt x="636" y="204"/>
                  </a:lnTo>
                  <a:lnTo>
                    <a:pt x="636" y="204"/>
                  </a:lnTo>
                  <a:lnTo>
                    <a:pt x="642" y="242"/>
                  </a:lnTo>
                  <a:lnTo>
                    <a:pt x="646" y="280"/>
                  </a:lnTo>
                  <a:lnTo>
                    <a:pt x="648" y="318"/>
                  </a:lnTo>
                  <a:lnTo>
                    <a:pt x="650" y="356"/>
                  </a:lnTo>
                  <a:lnTo>
                    <a:pt x="650" y="396"/>
                  </a:lnTo>
                  <a:lnTo>
                    <a:pt x="650" y="434"/>
                  </a:lnTo>
                  <a:lnTo>
                    <a:pt x="646" y="474"/>
                  </a:lnTo>
                  <a:lnTo>
                    <a:pt x="642" y="512"/>
                  </a:lnTo>
                  <a:lnTo>
                    <a:pt x="636" y="550"/>
                  </a:lnTo>
                  <a:lnTo>
                    <a:pt x="628" y="588"/>
                  </a:lnTo>
                  <a:lnTo>
                    <a:pt x="618" y="626"/>
                  </a:lnTo>
                  <a:lnTo>
                    <a:pt x="606" y="664"/>
                  </a:lnTo>
                  <a:lnTo>
                    <a:pt x="592" y="700"/>
                  </a:lnTo>
                  <a:lnTo>
                    <a:pt x="576" y="736"/>
                  </a:lnTo>
                  <a:lnTo>
                    <a:pt x="558" y="770"/>
                  </a:lnTo>
                  <a:lnTo>
                    <a:pt x="538" y="804"/>
                  </a:lnTo>
                  <a:lnTo>
                    <a:pt x="538" y="804"/>
                  </a:lnTo>
                  <a:lnTo>
                    <a:pt x="518" y="820"/>
                  </a:lnTo>
                  <a:lnTo>
                    <a:pt x="498" y="834"/>
                  </a:lnTo>
                  <a:lnTo>
                    <a:pt x="476" y="848"/>
                  </a:lnTo>
                  <a:lnTo>
                    <a:pt x="454" y="860"/>
                  </a:lnTo>
                  <a:lnTo>
                    <a:pt x="432" y="870"/>
                  </a:lnTo>
                  <a:lnTo>
                    <a:pt x="410" y="880"/>
                  </a:lnTo>
                  <a:lnTo>
                    <a:pt x="386" y="886"/>
                  </a:lnTo>
                  <a:lnTo>
                    <a:pt x="362" y="892"/>
                  </a:lnTo>
                  <a:lnTo>
                    <a:pt x="338" y="898"/>
                  </a:lnTo>
                  <a:lnTo>
                    <a:pt x="316" y="900"/>
                  </a:lnTo>
                  <a:lnTo>
                    <a:pt x="292" y="902"/>
                  </a:lnTo>
                  <a:lnTo>
                    <a:pt x="268" y="900"/>
                  </a:lnTo>
                  <a:lnTo>
                    <a:pt x="244" y="898"/>
                  </a:lnTo>
                  <a:lnTo>
                    <a:pt x="220" y="892"/>
                  </a:lnTo>
                  <a:lnTo>
                    <a:pt x="196" y="886"/>
                  </a:lnTo>
                  <a:lnTo>
                    <a:pt x="172" y="876"/>
                  </a:lnTo>
                  <a:lnTo>
                    <a:pt x="172" y="876"/>
                  </a:lnTo>
                  <a:lnTo>
                    <a:pt x="156" y="870"/>
                  </a:lnTo>
                  <a:lnTo>
                    <a:pt x="140" y="860"/>
                  </a:lnTo>
                  <a:lnTo>
                    <a:pt x="110" y="842"/>
                  </a:lnTo>
                  <a:lnTo>
                    <a:pt x="84" y="818"/>
                  </a:lnTo>
                  <a:lnTo>
                    <a:pt x="62" y="792"/>
                  </a:lnTo>
                  <a:lnTo>
                    <a:pt x="42" y="764"/>
                  </a:lnTo>
                  <a:lnTo>
                    <a:pt x="26" y="732"/>
                  </a:lnTo>
                  <a:lnTo>
                    <a:pt x="20" y="716"/>
                  </a:lnTo>
                  <a:lnTo>
                    <a:pt x="14" y="700"/>
                  </a:lnTo>
                  <a:lnTo>
                    <a:pt x="10" y="684"/>
                  </a:lnTo>
                  <a:lnTo>
                    <a:pt x="8" y="666"/>
                  </a:lnTo>
                  <a:lnTo>
                    <a:pt x="8" y="666"/>
                  </a:lnTo>
                  <a:lnTo>
                    <a:pt x="2" y="620"/>
                  </a:lnTo>
                  <a:lnTo>
                    <a:pt x="0" y="574"/>
                  </a:lnTo>
                  <a:lnTo>
                    <a:pt x="0" y="526"/>
                  </a:lnTo>
                  <a:lnTo>
                    <a:pt x="2" y="480"/>
                  </a:lnTo>
                  <a:lnTo>
                    <a:pt x="6" y="434"/>
                  </a:lnTo>
                  <a:lnTo>
                    <a:pt x="14" y="388"/>
                  </a:lnTo>
                  <a:lnTo>
                    <a:pt x="24" y="342"/>
                  </a:lnTo>
                  <a:lnTo>
                    <a:pt x="36" y="298"/>
                  </a:lnTo>
                  <a:lnTo>
                    <a:pt x="52" y="256"/>
                  </a:lnTo>
                  <a:lnTo>
                    <a:pt x="70" y="214"/>
                  </a:lnTo>
                  <a:lnTo>
                    <a:pt x="90" y="174"/>
                  </a:lnTo>
                  <a:lnTo>
                    <a:pt x="114" y="134"/>
                  </a:lnTo>
                  <a:lnTo>
                    <a:pt x="142" y="98"/>
                  </a:lnTo>
                  <a:lnTo>
                    <a:pt x="172" y="62"/>
                  </a:lnTo>
                  <a:lnTo>
                    <a:pt x="204" y="30"/>
                  </a:lnTo>
                  <a:lnTo>
                    <a:pt x="240" y="0"/>
                  </a:lnTo>
                  <a:lnTo>
                    <a:pt x="240" y="0"/>
                  </a:lnTo>
                  <a:lnTo>
                    <a:pt x="274" y="6"/>
                  </a:lnTo>
                  <a:lnTo>
                    <a:pt x="308" y="14"/>
                  </a:lnTo>
                  <a:lnTo>
                    <a:pt x="340" y="26"/>
                  </a:lnTo>
                  <a:lnTo>
                    <a:pt x="372" y="36"/>
                  </a:lnTo>
                  <a:lnTo>
                    <a:pt x="404" y="48"/>
                  </a:lnTo>
                  <a:lnTo>
                    <a:pt x="436" y="58"/>
                  </a:lnTo>
                  <a:lnTo>
                    <a:pt x="468" y="66"/>
                  </a:lnTo>
                  <a:lnTo>
                    <a:pt x="502" y="68"/>
                  </a:lnTo>
                  <a:lnTo>
                    <a:pt x="502" y="68"/>
                  </a:lnTo>
                  <a:close/>
                </a:path>
              </a:pathLst>
            </a:custGeom>
            <a:solidFill>
              <a:srgbClr val="bbd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7"/>
            <p:cNvSpPr/>
            <p:nvPr/>
          </p:nvSpPr>
          <p:spPr>
            <a:xfrm>
              <a:off x="5378400" y="6226200"/>
              <a:ext cx="282240" cy="31104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78" h="196">
                  <a:moveTo>
                    <a:pt x="86" y="16"/>
                  </a:moveTo>
                  <a:lnTo>
                    <a:pt x="58" y="114"/>
                  </a:lnTo>
                  <a:lnTo>
                    <a:pt x="58" y="114"/>
                  </a:lnTo>
                  <a:lnTo>
                    <a:pt x="70" y="122"/>
                  </a:lnTo>
                  <a:lnTo>
                    <a:pt x="84" y="128"/>
                  </a:lnTo>
                  <a:lnTo>
                    <a:pt x="98" y="132"/>
                  </a:lnTo>
                  <a:lnTo>
                    <a:pt x="114" y="134"/>
                  </a:lnTo>
                  <a:lnTo>
                    <a:pt x="144" y="138"/>
                  </a:lnTo>
                  <a:lnTo>
                    <a:pt x="172" y="142"/>
                  </a:lnTo>
                  <a:lnTo>
                    <a:pt x="172" y="142"/>
                  </a:lnTo>
                  <a:lnTo>
                    <a:pt x="176" y="148"/>
                  </a:lnTo>
                  <a:lnTo>
                    <a:pt x="178" y="154"/>
                  </a:lnTo>
                  <a:lnTo>
                    <a:pt x="178" y="162"/>
                  </a:lnTo>
                  <a:lnTo>
                    <a:pt x="174" y="168"/>
                  </a:lnTo>
                  <a:lnTo>
                    <a:pt x="168" y="182"/>
                  </a:lnTo>
                  <a:lnTo>
                    <a:pt x="160" y="196"/>
                  </a:lnTo>
                  <a:lnTo>
                    <a:pt x="8" y="166"/>
                  </a:lnTo>
                  <a:lnTo>
                    <a:pt x="8" y="166"/>
                  </a:lnTo>
                  <a:lnTo>
                    <a:pt x="2" y="154"/>
                  </a:lnTo>
                  <a:lnTo>
                    <a:pt x="0" y="144"/>
                  </a:lnTo>
                  <a:lnTo>
                    <a:pt x="2" y="132"/>
                  </a:lnTo>
                  <a:lnTo>
                    <a:pt x="8" y="124"/>
                  </a:lnTo>
                  <a:lnTo>
                    <a:pt x="18" y="104"/>
                  </a:lnTo>
                  <a:lnTo>
                    <a:pt x="24" y="9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30" y="80"/>
                  </a:lnTo>
                  <a:lnTo>
                    <a:pt x="32" y="74"/>
                  </a:lnTo>
                  <a:lnTo>
                    <a:pt x="34" y="60"/>
                  </a:lnTo>
                  <a:lnTo>
                    <a:pt x="38" y="30"/>
                  </a:lnTo>
                  <a:lnTo>
                    <a:pt x="40" y="16"/>
                  </a:lnTo>
                  <a:lnTo>
                    <a:pt x="44" y="12"/>
                  </a:lnTo>
                  <a:lnTo>
                    <a:pt x="48" y="6"/>
                  </a:lnTo>
                  <a:lnTo>
                    <a:pt x="52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8" y="2"/>
                  </a:lnTo>
                  <a:lnTo>
                    <a:pt x="8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8"/>
            <p:cNvSpPr/>
            <p:nvPr/>
          </p:nvSpPr>
          <p:spPr>
            <a:xfrm>
              <a:off x="5905440" y="6588000"/>
              <a:ext cx="529920" cy="38412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4" h="242">
                  <a:moveTo>
                    <a:pt x="130" y="242"/>
                  </a:moveTo>
                  <a:lnTo>
                    <a:pt x="130" y="242"/>
                  </a:lnTo>
                  <a:lnTo>
                    <a:pt x="120" y="242"/>
                  </a:lnTo>
                  <a:lnTo>
                    <a:pt x="110" y="238"/>
                  </a:lnTo>
                  <a:lnTo>
                    <a:pt x="94" y="230"/>
                  </a:lnTo>
                  <a:lnTo>
                    <a:pt x="78" y="216"/>
                  </a:lnTo>
                  <a:lnTo>
                    <a:pt x="62" y="202"/>
                  </a:lnTo>
                  <a:lnTo>
                    <a:pt x="32" y="170"/>
                  </a:lnTo>
                  <a:lnTo>
                    <a:pt x="18" y="154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44" y="128"/>
                  </a:lnTo>
                  <a:lnTo>
                    <a:pt x="86" y="112"/>
                  </a:lnTo>
                  <a:lnTo>
                    <a:pt x="130" y="96"/>
                  </a:lnTo>
                  <a:lnTo>
                    <a:pt x="170" y="78"/>
                  </a:lnTo>
                  <a:lnTo>
                    <a:pt x="252" y="38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12" y="34"/>
                  </a:lnTo>
                  <a:lnTo>
                    <a:pt x="290" y="66"/>
                  </a:lnTo>
                  <a:lnTo>
                    <a:pt x="266" y="98"/>
                  </a:lnTo>
                  <a:lnTo>
                    <a:pt x="240" y="128"/>
                  </a:lnTo>
                  <a:lnTo>
                    <a:pt x="188" y="186"/>
                  </a:lnTo>
                  <a:lnTo>
                    <a:pt x="130" y="242"/>
                  </a:lnTo>
                  <a:lnTo>
                    <a:pt x="130" y="242"/>
                  </a:lnTo>
                  <a:close/>
                </a:path>
              </a:pathLst>
            </a:custGeom>
            <a:solidFill>
              <a:srgbClr val="bbd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9"/>
            <p:cNvSpPr/>
            <p:nvPr/>
          </p:nvSpPr>
          <p:spPr>
            <a:xfrm>
              <a:off x="4794120" y="6616800"/>
              <a:ext cx="396720" cy="2761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50" h="174">
                  <a:moveTo>
                    <a:pt x="250" y="106"/>
                  </a:moveTo>
                  <a:lnTo>
                    <a:pt x="250" y="106"/>
                  </a:lnTo>
                  <a:lnTo>
                    <a:pt x="238" y="120"/>
                  </a:lnTo>
                  <a:lnTo>
                    <a:pt x="226" y="130"/>
                  </a:lnTo>
                  <a:lnTo>
                    <a:pt x="212" y="138"/>
                  </a:lnTo>
                  <a:lnTo>
                    <a:pt x="196" y="144"/>
                  </a:lnTo>
                  <a:lnTo>
                    <a:pt x="168" y="156"/>
                  </a:lnTo>
                  <a:lnTo>
                    <a:pt x="154" y="164"/>
                  </a:lnTo>
                  <a:lnTo>
                    <a:pt x="142" y="174"/>
                  </a:lnTo>
                  <a:lnTo>
                    <a:pt x="142" y="174"/>
                  </a:lnTo>
                  <a:lnTo>
                    <a:pt x="134" y="172"/>
                  </a:lnTo>
                  <a:lnTo>
                    <a:pt x="128" y="168"/>
                  </a:lnTo>
                  <a:lnTo>
                    <a:pt x="118" y="156"/>
                  </a:lnTo>
                  <a:lnTo>
                    <a:pt x="108" y="146"/>
                  </a:lnTo>
                  <a:lnTo>
                    <a:pt x="102" y="140"/>
                  </a:lnTo>
                  <a:lnTo>
                    <a:pt x="94" y="1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8" y="16"/>
                  </a:lnTo>
                  <a:lnTo>
                    <a:pt x="58" y="32"/>
                  </a:lnTo>
                  <a:lnTo>
                    <a:pt x="90" y="46"/>
                  </a:lnTo>
                  <a:lnTo>
                    <a:pt x="122" y="58"/>
                  </a:lnTo>
                  <a:lnTo>
                    <a:pt x="186" y="82"/>
                  </a:lnTo>
                  <a:lnTo>
                    <a:pt x="250" y="106"/>
                  </a:lnTo>
                  <a:lnTo>
                    <a:pt x="250" y="106"/>
                  </a:lnTo>
                  <a:close/>
                </a:path>
              </a:pathLst>
            </a:custGeom>
            <a:solidFill>
              <a:srgbClr val="bbd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0"/>
            <p:cNvSpPr/>
            <p:nvPr/>
          </p:nvSpPr>
          <p:spPr>
            <a:xfrm>
              <a:off x="5451480" y="6858000"/>
              <a:ext cx="257040" cy="291960"/>
            </a:xfrm>
            <a:custGeom>
              <a:avLst/>
              <a:gdLst/>
              <a:ahLst/>
              <a:rect l="l" t="t" r="r" b="b"/>
              <a:pathLst>
                <a:path w="162" h="184">
                  <a:moveTo>
                    <a:pt x="150" y="38"/>
                  </a:moveTo>
                  <a:lnTo>
                    <a:pt x="150" y="38"/>
                  </a:lnTo>
                  <a:lnTo>
                    <a:pt x="156" y="50"/>
                  </a:lnTo>
                  <a:lnTo>
                    <a:pt x="160" y="62"/>
                  </a:lnTo>
                  <a:lnTo>
                    <a:pt x="162" y="76"/>
                  </a:lnTo>
                  <a:lnTo>
                    <a:pt x="160" y="88"/>
                  </a:lnTo>
                  <a:lnTo>
                    <a:pt x="158" y="100"/>
                  </a:lnTo>
                  <a:lnTo>
                    <a:pt x="156" y="114"/>
                  </a:lnTo>
                  <a:lnTo>
                    <a:pt x="146" y="140"/>
                  </a:lnTo>
                  <a:lnTo>
                    <a:pt x="146" y="140"/>
                  </a:lnTo>
                  <a:lnTo>
                    <a:pt x="132" y="154"/>
                  </a:lnTo>
                  <a:lnTo>
                    <a:pt x="116" y="170"/>
                  </a:lnTo>
                  <a:lnTo>
                    <a:pt x="108" y="176"/>
                  </a:lnTo>
                  <a:lnTo>
                    <a:pt x="100" y="180"/>
                  </a:lnTo>
                  <a:lnTo>
                    <a:pt x="88" y="184"/>
                  </a:lnTo>
                  <a:lnTo>
                    <a:pt x="78" y="184"/>
                  </a:lnTo>
                  <a:lnTo>
                    <a:pt x="78" y="184"/>
                  </a:lnTo>
                  <a:lnTo>
                    <a:pt x="54" y="176"/>
                  </a:lnTo>
                  <a:lnTo>
                    <a:pt x="42" y="172"/>
                  </a:lnTo>
                  <a:lnTo>
                    <a:pt x="30" y="164"/>
                  </a:lnTo>
                  <a:lnTo>
                    <a:pt x="20" y="156"/>
                  </a:lnTo>
                  <a:lnTo>
                    <a:pt x="12" y="148"/>
                  </a:lnTo>
                  <a:lnTo>
                    <a:pt x="6" y="136"/>
                  </a:lnTo>
                  <a:lnTo>
                    <a:pt x="4" y="124"/>
                  </a:lnTo>
                  <a:lnTo>
                    <a:pt x="4" y="124"/>
                  </a:lnTo>
                  <a:lnTo>
                    <a:pt x="6" y="112"/>
                  </a:lnTo>
                  <a:lnTo>
                    <a:pt x="8" y="100"/>
                  </a:lnTo>
                  <a:lnTo>
                    <a:pt x="6" y="9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10" y="56"/>
                  </a:lnTo>
                  <a:lnTo>
                    <a:pt x="16" y="44"/>
                  </a:lnTo>
                  <a:lnTo>
                    <a:pt x="22" y="32"/>
                  </a:lnTo>
                  <a:lnTo>
                    <a:pt x="30" y="22"/>
                  </a:lnTo>
                  <a:lnTo>
                    <a:pt x="40" y="12"/>
                  </a:lnTo>
                  <a:lnTo>
                    <a:pt x="50" y="6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78" y="0"/>
                  </a:lnTo>
                  <a:lnTo>
                    <a:pt x="92" y="0"/>
                  </a:lnTo>
                  <a:lnTo>
                    <a:pt x="102" y="4"/>
                  </a:lnTo>
                  <a:lnTo>
                    <a:pt x="112" y="8"/>
                  </a:lnTo>
                  <a:lnTo>
                    <a:pt x="130" y="24"/>
                  </a:lnTo>
                  <a:lnTo>
                    <a:pt x="150" y="38"/>
                  </a:lnTo>
                  <a:lnTo>
                    <a:pt x="15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1"/>
            <p:cNvSpPr/>
            <p:nvPr/>
          </p:nvSpPr>
          <p:spPr>
            <a:xfrm>
              <a:off x="5530680" y="6953400"/>
              <a:ext cx="91800" cy="1141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8" h="72">
                  <a:moveTo>
                    <a:pt x="56" y="32"/>
                  </a:moveTo>
                  <a:lnTo>
                    <a:pt x="56" y="32"/>
                  </a:lnTo>
                  <a:lnTo>
                    <a:pt x="58" y="38"/>
                  </a:lnTo>
                  <a:lnTo>
                    <a:pt x="58" y="44"/>
                  </a:lnTo>
                  <a:lnTo>
                    <a:pt x="56" y="50"/>
                  </a:lnTo>
                  <a:lnTo>
                    <a:pt x="54" y="56"/>
                  </a:lnTo>
                  <a:lnTo>
                    <a:pt x="44" y="6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26" y="68"/>
                  </a:lnTo>
                  <a:lnTo>
                    <a:pt x="16" y="68"/>
                  </a:lnTo>
                  <a:lnTo>
                    <a:pt x="12" y="66"/>
                  </a:lnTo>
                  <a:lnTo>
                    <a:pt x="8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8" y="8"/>
                  </a:lnTo>
                  <a:lnTo>
                    <a:pt x="14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6" y="10"/>
                  </a:lnTo>
                  <a:lnTo>
                    <a:pt x="54" y="20"/>
                  </a:lnTo>
                  <a:lnTo>
                    <a:pt x="56" y="26"/>
                  </a:lnTo>
                  <a:lnTo>
                    <a:pt x="56" y="32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bbd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2"/>
            <p:cNvSpPr/>
            <p:nvPr/>
          </p:nvSpPr>
          <p:spPr>
            <a:xfrm>
              <a:off x="4219560" y="7041960"/>
              <a:ext cx="1069920" cy="123480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1234800"/>
                <a:gd name="textAreaBottom" fmla="*/ 1235160 h 1234800"/>
              </a:gdLst>
              <a:ahLst/>
              <a:rect l="textAreaLeft" t="textAreaTop" r="textAreaRight" b="textAreaBottom"/>
              <a:pathLst>
                <a:path w="674" h="778">
                  <a:moveTo>
                    <a:pt x="138" y="16"/>
                  </a:moveTo>
                  <a:lnTo>
                    <a:pt x="138" y="16"/>
                  </a:lnTo>
                  <a:lnTo>
                    <a:pt x="262" y="56"/>
                  </a:lnTo>
                  <a:lnTo>
                    <a:pt x="324" y="74"/>
                  </a:lnTo>
                  <a:lnTo>
                    <a:pt x="390" y="92"/>
                  </a:lnTo>
                  <a:lnTo>
                    <a:pt x="456" y="106"/>
                  </a:lnTo>
                  <a:lnTo>
                    <a:pt x="488" y="110"/>
                  </a:lnTo>
                  <a:lnTo>
                    <a:pt x="522" y="116"/>
                  </a:lnTo>
                  <a:lnTo>
                    <a:pt x="556" y="118"/>
                  </a:lnTo>
                  <a:lnTo>
                    <a:pt x="590" y="120"/>
                  </a:lnTo>
                  <a:lnTo>
                    <a:pt x="624" y="120"/>
                  </a:lnTo>
                  <a:lnTo>
                    <a:pt x="658" y="118"/>
                  </a:lnTo>
                  <a:lnTo>
                    <a:pt x="658" y="118"/>
                  </a:lnTo>
                  <a:lnTo>
                    <a:pt x="660" y="154"/>
                  </a:lnTo>
                  <a:lnTo>
                    <a:pt x="662" y="188"/>
                  </a:lnTo>
                  <a:lnTo>
                    <a:pt x="666" y="222"/>
                  </a:lnTo>
                  <a:lnTo>
                    <a:pt x="668" y="238"/>
                  </a:lnTo>
                  <a:lnTo>
                    <a:pt x="674" y="256"/>
                  </a:lnTo>
                  <a:lnTo>
                    <a:pt x="674" y="256"/>
                  </a:lnTo>
                  <a:lnTo>
                    <a:pt x="666" y="274"/>
                  </a:lnTo>
                  <a:lnTo>
                    <a:pt x="656" y="292"/>
                  </a:lnTo>
                  <a:lnTo>
                    <a:pt x="644" y="308"/>
                  </a:lnTo>
                  <a:lnTo>
                    <a:pt x="628" y="322"/>
                  </a:lnTo>
                  <a:lnTo>
                    <a:pt x="628" y="322"/>
                  </a:lnTo>
                  <a:lnTo>
                    <a:pt x="634" y="346"/>
                  </a:lnTo>
                  <a:lnTo>
                    <a:pt x="638" y="370"/>
                  </a:lnTo>
                  <a:lnTo>
                    <a:pt x="644" y="420"/>
                  </a:lnTo>
                  <a:lnTo>
                    <a:pt x="646" y="468"/>
                  </a:lnTo>
                  <a:lnTo>
                    <a:pt x="644" y="518"/>
                  </a:lnTo>
                  <a:lnTo>
                    <a:pt x="640" y="568"/>
                  </a:lnTo>
                  <a:lnTo>
                    <a:pt x="636" y="616"/>
                  </a:lnTo>
                  <a:lnTo>
                    <a:pt x="626" y="712"/>
                  </a:lnTo>
                  <a:lnTo>
                    <a:pt x="626" y="712"/>
                  </a:lnTo>
                  <a:lnTo>
                    <a:pt x="618" y="726"/>
                  </a:lnTo>
                  <a:lnTo>
                    <a:pt x="610" y="736"/>
                  </a:lnTo>
                  <a:lnTo>
                    <a:pt x="600" y="746"/>
                  </a:lnTo>
                  <a:lnTo>
                    <a:pt x="588" y="754"/>
                  </a:lnTo>
                  <a:lnTo>
                    <a:pt x="574" y="762"/>
                  </a:lnTo>
                  <a:lnTo>
                    <a:pt x="560" y="766"/>
                  </a:lnTo>
                  <a:lnTo>
                    <a:pt x="546" y="770"/>
                  </a:lnTo>
                  <a:lnTo>
                    <a:pt x="532" y="774"/>
                  </a:lnTo>
                  <a:lnTo>
                    <a:pt x="500" y="776"/>
                  </a:lnTo>
                  <a:lnTo>
                    <a:pt x="468" y="778"/>
                  </a:lnTo>
                  <a:lnTo>
                    <a:pt x="408" y="778"/>
                  </a:lnTo>
                  <a:lnTo>
                    <a:pt x="408" y="778"/>
                  </a:lnTo>
                  <a:lnTo>
                    <a:pt x="362" y="772"/>
                  </a:lnTo>
                  <a:lnTo>
                    <a:pt x="314" y="762"/>
                  </a:lnTo>
                  <a:lnTo>
                    <a:pt x="268" y="750"/>
                  </a:lnTo>
                  <a:lnTo>
                    <a:pt x="224" y="736"/>
                  </a:lnTo>
                  <a:lnTo>
                    <a:pt x="180" y="720"/>
                  </a:lnTo>
                  <a:lnTo>
                    <a:pt x="136" y="704"/>
                  </a:lnTo>
                  <a:lnTo>
                    <a:pt x="92" y="684"/>
                  </a:lnTo>
                  <a:lnTo>
                    <a:pt x="48" y="664"/>
                  </a:lnTo>
                  <a:lnTo>
                    <a:pt x="48" y="664"/>
                  </a:lnTo>
                  <a:lnTo>
                    <a:pt x="42" y="650"/>
                  </a:lnTo>
                  <a:lnTo>
                    <a:pt x="36" y="636"/>
                  </a:lnTo>
                  <a:lnTo>
                    <a:pt x="30" y="606"/>
                  </a:lnTo>
                  <a:lnTo>
                    <a:pt x="24" y="574"/>
                  </a:lnTo>
                  <a:lnTo>
                    <a:pt x="22" y="542"/>
                  </a:lnTo>
                  <a:lnTo>
                    <a:pt x="22" y="510"/>
                  </a:lnTo>
                  <a:lnTo>
                    <a:pt x="24" y="478"/>
                  </a:lnTo>
                  <a:lnTo>
                    <a:pt x="24" y="414"/>
                  </a:lnTo>
                  <a:lnTo>
                    <a:pt x="24" y="414"/>
                  </a:lnTo>
                  <a:lnTo>
                    <a:pt x="26" y="362"/>
                  </a:lnTo>
                  <a:lnTo>
                    <a:pt x="24" y="310"/>
                  </a:lnTo>
                  <a:lnTo>
                    <a:pt x="22" y="284"/>
                  </a:lnTo>
                  <a:lnTo>
                    <a:pt x="16" y="260"/>
                  </a:lnTo>
                  <a:lnTo>
                    <a:pt x="10" y="234"/>
                  </a:lnTo>
                  <a:lnTo>
                    <a:pt x="0" y="208"/>
                  </a:lnTo>
                  <a:lnTo>
                    <a:pt x="0" y="208"/>
                  </a:lnTo>
                  <a:lnTo>
                    <a:pt x="6" y="148"/>
                  </a:lnTo>
                  <a:lnTo>
                    <a:pt x="8" y="118"/>
                  </a:lnTo>
                  <a:lnTo>
                    <a:pt x="12" y="88"/>
                  </a:lnTo>
                  <a:lnTo>
                    <a:pt x="20" y="62"/>
                  </a:lnTo>
                  <a:lnTo>
                    <a:pt x="26" y="48"/>
                  </a:lnTo>
                  <a:lnTo>
                    <a:pt x="34" y="36"/>
                  </a:lnTo>
                  <a:lnTo>
                    <a:pt x="42" y="26"/>
                  </a:lnTo>
                  <a:lnTo>
                    <a:pt x="52" y="16"/>
                  </a:lnTo>
                  <a:lnTo>
                    <a:pt x="64" y="6"/>
                  </a:lnTo>
                  <a:lnTo>
                    <a:pt x="78" y="0"/>
                  </a:lnTo>
                  <a:lnTo>
                    <a:pt x="138" y="10"/>
                  </a:lnTo>
                  <a:lnTo>
                    <a:pt x="1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3"/>
            <p:cNvSpPr/>
            <p:nvPr/>
          </p:nvSpPr>
          <p:spPr>
            <a:xfrm>
              <a:off x="5952960" y="7099200"/>
              <a:ext cx="1041120" cy="117144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1171440"/>
                <a:gd name="textAreaBottom" fmla="*/ 1171440 h 1171440"/>
              </a:gdLst>
              <a:ahLst/>
              <a:rect l="textAreaLeft" t="textAreaTop" r="textAreaRight" b="textAreaBottom"/>
              <a:pathLst>
                <a:path w="656" h="738">
                  <a:moveTo>
                    <a:pt x="614" y="162"/>
                  </a:moveTo>
                  <a:lnTo>
                    <a:pt x="614" y="162"/>
                  </a:lnTo>
                  <a:lnTo>
                    <a:pt x="632" y="220"/>
                  </a:lnTo>
                  <a:lnTo>
                    <a:pt x="644" y="278"/>
                  </a:lnTo>
                  <a:lnTo>
                    <a:pt x="652" y="338"/>
                  </a:lnTo>
                  <a:lnTo>
                    <a:pt x="656" y="396"/>
                  </a:lnTo>
                  <a:lnTo>
                    <a:pt x="656" y="456"/>
                  </a:lnTo>
                  <a:lnTo>
                    <a:pt x="652" y="514"/>
                  </a:lnTo>
                  <a:lnTo>
                    <a:pt x="642" y="574"/>
                  </a:lnTo>
                  <a:lnTo>
                    <a:pt x="628" y="632"/>
                  </a:lnTo>
                  <a:lnTo>
                    <a:pt x="628" y="632"/>
                  </a:lnTo>
                  <a:lnTo>
                    <a:pt x="618" y="654"/>
                  </a:lnTo>
                  <a:lnTo>
                    <a:pt x="608" y="676"/>
                  </a:lnTo>
                  <a:lnTo>
                    <a:pt x="602" y="686"/>
                  </a:lnTo>
                  <a:lnTo>
                    <a:pt x="594" y="696"/>
                  </a:lnTo>
                  <a:lnTo>
                    <a:pt x="586" y="704"/>
                  </a:lnTo>
                  <a:lnTo>
                    <a:pt x="574" y="710"/>
                  </a:lnTo>
                  <a:lnTo>
                    <a:pt x="574" y="710"/>
                  </a:lnTo>
                  <a:lnTo>
                    <a:pt x="558" y="710"/>
                  </a:lnTo>
                  <a:lnTo>
                    <a:pt x="540" y="714"/>
                  </a:lnTo>
                  <a:lnTo>
                    <a:pt x="510" y="724"/>
                  </a:lnTo>
                  <a:lnTo>
                    <a:pt x="478" y="732"/>
                  </a:lnTo>
                  <a:lnTo>
                    <a:pt x="462" y="736"/>
                  </a:lnTo>
                  <a:lnTo>
                    <a:pt x="444" y="736"/>
                  </a:lnTo>
                  <a:lnTo>
                    <a:pt x="444" y="736"/>
                  </a:lnTo>
                  <a:lnTo>
                    <a:pt x="368" y="738"/>
                  </a:lnTo>
                  <a:lnTo>
                    <a:pt x="286" y="738"/>
                  </a:lnTo>
                  <a:lnTo>
                    <a:pt x="208" y="738"/>
                  </a:lnTo>
                  <a:lnTo>
                    <a:pt x="136" y="734"/>
                  </a:lnTo>
                  <a:lnTo>
                    <a:pt x="136" y="734"/>
                  </a:lnTo>
                  <a:lnTo>
                    <a:pt x="124" y="730"/>
                  </a:lnTo>
                  <a:lnTo>
                    <a:pt x="112" y="724"/>
                  </a:lnTo>
                  <a:lnTo>
                    <a:pt x="104" y="716"/>
                  </a:lnTo>
                  <a:lnTo>
                    <a:pt x="96" y="706"/>
                  </a:lnTo>
                  <a:lnTo>
                    <a:pt x="84" y="686"/>
                  </a:lnTo>
                  <a:lnTo>
                    <a:pt x="74" y="668"/>
                  </a:lnTo>
                  <a:lnTo>
                    <a:pt x="74" y="668"/>
                  </a:lnTo>
                  <a:lnTo>
                    <a:pt x="74" y="618"/>
                  </a:lnTo>
                  <a:lnTo>
                    <a:pt x="68" y="568"/>
                  </a:lnTo>
                  <a:lnTo>
                    <a:pt x="62" y="520"/>
                  </a:lnTo>
                  <a:lnTo>
                    <a:pt x="52" y="472"/>
                  </a:lnTo>
                  <a:lnTo>
                    <a:pt x="40" y="426"/>
                  </a:lnTo>
                  <a:lnTo>
                    <a:pt x="28" y="378"/>
                  </a:lnTo>
                  <a:lnTo>
                    <a:pt x="0" y="284"/>
                  </a:lnTo>
                  <a:lnTo>
                    <a:pt x="14" y="250"/>
                  </a:lnTo>
                  <a:lnTo>
                    <a:pt x="14" y="250"/>
                  </a:lnTo>
                  <a:lnTo>
                    <a:pt x="14" y="222"/>
                  </a:lnTo>
                  <a:lnTo>
                    <a:pt x="12" y="196"/>
                  </a:lnTo>
                  <a:lnTo>
                    <a:pt x="10" y="168"/>
                  </a:lnTo>
                  <a:lnTo>
                    <a:pt x="6" y="142"/>
                  </a:lnTo>
                  <a:lnTo>
                    <a:pt x="8" y="118"/>
                  </a:lnTo>
                  <a:lnTo>
                    <a:pt x="10" y="106"/>
                  </a:lnTo>
                  <a:lnTo>
                    <a:pt x="12" y="94"/>
                  </a:lnTo>
                  <a:lnTo>
                    <a:pt x="16" y="84"/>
                  </a:lnTo>
                  <a:lnTo>
                    <a:pt x="24" y="74"/>
                  </a:lnTo>
                  <a:lnTo>
                    <a:pt x="32" y="64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106" y="56"/>
                  </a:lnTo>
                  <a:lnTo>
                    <a:pt x="168" y="54"/>
                  </a:lnTo>
                  <a:lnTo>
                    <a:pt x="230" y="50"/>
                  </a:lnTo>
                  <a:lnTo>
                    <a:pt x="292" y="44"/>
                  </a:lnTo>
                  <a:lnTo>
                    <a:pt x="352" y="36"/>
                  </a:lnTo>
                  <a:lnTo>
                    <a:pt x="414" y="26"/>
                  </a:lnTo>
                  <a:lnTo>
                    <a:pt x="474" y="14"/>
                  </a:lnTo>
                  <a:lnTo>
                    <a:pt x="534" y="0"/>
                  </a:lnTo>
                  <a:lnTo>
                    <a:pt x="534" y="0"/>
                  </a:lnTo>
                  <a:lnTo>
                    <a:pt x="552" y="0"/>
                  </a:lnTo>
                  <a:lnTo>
                    <a:pt x="566" y="2"/>
                  </a:lnTo>
                  <a:lnTo>
                    <a:pt x="578" y="6"/>
                  </a:lnTo>
                  <a:lnTo>
                    <a:pt x="586" y="12"/>
                  </a:lnTo>
                  <a:lnTo>
                    <a:pt x="594" y="20"/>
                  </a:lnTo>
                  <a:lnTo>
                    <a:pt x="598" y="30"/>
                  </a:lnTo>
                  <a:lnTo>
                    <a:pt x="600" y="42"/>
                  </a:lnTo>
                  <a:lnTo>
                    <a:pt x="602" y="54"/>
                  </a:lnTo>
                  <a:lnTo>
                    <a:pt x="604" y="82"/>
                  </a:lnTo>
                  <a:lnTo>
                    <a:pt x="604" y="110"/>
                  </a:lnTo>
                  <a:lnTo>
                    <a:pt x="606" y="138"/>
                  </a:lnTo>
                  <a:lnTo>
                    <a:pt x="610" y="150"/>
                  </a:lnTo>
                  <a:lnTo>
                    <a:pt x="614" y="162"/>
                  </a:lnTo>
                  <a:lnTo>
                    <a:pt x="614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4"/>
            <p:cNvSpPr/>
            <p:nvPr/>
          </p:nvSpPr>
          <p:spPr>
            <a:xfrm>
              <a:off x="4286160" y="7128000"/>
              <a:ext cx="914400" cy="45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6" h="288">
                  <a:moveTo>
                    <a:pt x="456" y="114"/>
                  </a:moveTo>
                  <a:lnTo>
                    <a:pt x="568" y="120"/>
                  </a:lnTo>
                  <a:lnTo>
                    <a:pt x="568" y="120"/>
                  </a:lnTo>
                  <a:lnTo>
                    <a:pt x="572" y="152"/>
                  </a:lnTo>
                  <a:lnTo>
                    <a:pt x="576" y="168"/>
                  </a:lnTo>
                  <a:lnTo>
                    <a:pt x="576" y="184"/>
                  </a:lnTo>
                  <a:lnTo>
                    <a:pt x="574" y="198"/>
                  </a:lnTo>
                  <a:lnTo>
                    <a:pt x="570" y="214"/>
                  </a:lnTo>
                  <a:lnTo>
                    <a:pt x="564" y="228"/>
                  </a:lnTo>
                  <a:lnTo>
                    <a:pt x="552" y="242"/>
                  </a:lnTo>
                  <a:lnTo>
                    <a:pt x="552" y="242"/>
                  </a:lnTo>
                  <a:lnTo>
                    <a:pt x="492" y="242"/>
                  </a:lnTo>
                  <a:lnTo>
                    <a:pt x="462" y="242"/>
                  </a:lnTo>
                  <a:lnTo>
                    <a:pt x="432" y="242"/>
                  </a:lnTo>
                  <a:lnTo>
                    <a:pt x="402" y="246"/>
                  </a:lnTo>
                  <a:lnTo>
                    <a:pt x="388" y="250"/>
                  </a:lnTo>
                  <a:lnTo>
                    <a:pt x="374" y="254"/>
                  </a:lnTo>
                  <a:lnTo>
                    <a:pt x="360" y="260"/>
                  </a:lnTo>
                  <a:lnTo>
                    <a:pt x="346" y="268"/>
                  </a:lnTo>
                  <a:lnTo>
                    <a:pt x="334" y="276"/>
                  </a:lnTo>
                  <a:lnTo>
                    <a:pt x="322" y="286"/>
                  </a:lnTo>
                  <a:lnTo>
                    <a:pt x="322" y="286"/>
                  </a:lnTo>
                  <a:lnTo>
                    <a:pt x="314" y="288"/>
                  </a:lnTo>
                  <a:lnTo>
                    <a:pt x="304" y="288"/>
                  </a:lnTo>
                  <a:lnTo>
                    <a:pt x="296" y="288"/>
                  </a:lnTo>
                  <a:lnTo>
                    <a:pt x="290" y="286"/>
                  </a:lnTo>
                  <a:lnTo>
                    <a:pt x="276" y="278"/>
                  </a:lnTo>
                  <a:lnTo>
                    <a:pt x="262" y="268"/>
                  </a:lnTo>
                  <a:lnTo>
                    <a:pt x="236" y="246"/>
                  </a:lnTo>
                  <a:lnTo>
                    <a:pt x="222" y="236"/>
                  </a:lnTo>
                  <a:lnTo>
                    <a:pt x="208" y="228"/>
                  </a:lnTo>
                  <a:lnTo>
                    <a:pt x="208" y="228"/>
                  </a:lnTo>
                  <a:lnTo>
                    <a:pt x="186" y="218"/>
                  </a:lnTo>
                  <a:lnTo>
                    <a:pt x="164" y="210"/>
                  </a:lnTo>
                  <a:lnTo>
                    <a:pt x="118" y="196"/>
                  </a:lnTo>
                  <a:lnTo>
                    <a:pt x="72" y="186"/>
                  </a:lnTo>
                  <a:lnTo>
                    <a:pt x="26" y="176"/>
                  </a:lnTo>
                  <a:lnTo>
                    <a:pt x="26" y="176"/>
                  </a:lnTo>
                  <a:lnTo>
                    <a:pt x="18" y="168"/>
                  </a:lnTo>
                  <a:lnTo>
                    <a:pt x="12" y="158"/>
                  </a:lnTo>
                  <a:lnTo>
                    <a:pt x="8" y="150"/>
                  </a:lnTo>
                  <a:lnTo>
                    <a:pt x="4" y="140"/>
                  </a:lnTo>
                  <a:lnTo>
                    <a:pt x="0" y="122"/>
                  </a:lnTo>
                  <a:lnTo>
                    <a:pt x="0" y="102"/>
                  </a:lnTo>
                  <a:lnTo>
                    <a:pt x="2" y="80"/>
                  </a:lnTo>
                  <a:lnTo>
                    <a:pt x="6" y="6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2" y="10"/>
                  </a:lnTo>
                  <a:lnTo>
                    <a:pt x="28" y="4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8" y="6"/>
                  </a:lnTo>
                  <a:lnTo>
                    <a:pt x="76" y="14"/>
                  </a:lnTo>
                  <a:lnTo>
                    <a:pt x="456" y="114"/>
                  </a:lnTo>
                  <a:close/>
                </a:path>
              </a:pathLst>
            </a:custGeom>
            <a:solidFill>
              <a:srgbClr val="bbd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25"/>
            <p:cNvSpPr/>
            <p:nvPr/>
          </p:nvSpPr>
          <p:spPr>
            <a:xfrm>
              <a:off x="6026040" y="7188120"/>
              <a:ext cx="806400" cy="38736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508" h="244">
                  <a:moveTo>
                    <a:pt x="494" y="0"/>
                  </a:moveTo>
                  <a:lnTo>
                    <a:pt x="494" y="0"/>
                  </a:lnTo>
                  <a:lnTo>
                    <a:pt x="496" y="16"/>
                  </a:lnTo>
                  <a:lnTo>
                    <a:pt x="498" y="34"/>
                  </a:lnTo>
                  <a:lnTo>
                    <a:pt x="506" y="66"/>
                  </a:lnTo>
                  <a:lnTo>
                    <a:pt x="508" y="82"/>
                  </a:lnTo>
                  <a:lnTo>
                    <a:pt x="508" y="98"/>
                  </a:lnTo>
                  <a:lnTo>
                    <a:pt x="506" y="116"/>
                  </a:lnTo>
                  <a:lnTo>
                    <a:pt x="500" y="132"/>
                  </a:lnTo>
                  <a:lnTo>
                    <a:pt x="500" y="132"/>
                  </a:lnTo>
                  <a:lnTo>
                    <a:pt x="466" y="152"/>
                  </a:lnTo>
                  <a:lnTo>
                    <a:pt x="450" y="164"/>
                  </a:lnTo>
                  <a:lnTo>
                    <a:pt x="434" y="174"/>
                  </a:lnTo>
                  <a:lnTo>
                    <a:pt x="420" y="188"/>
                  </a:lnTo>
                  <a:lnTo>
                    <a:pt x="406" y="202"/>
                  </a:lnTo>
                  <a:lnTo>
                    <a:pt x="396" y="218"/>
                  </a:lnTo>
                  <a:lnTo>
                    <a:pt x="388" y="236"/>
                  </a:lnTo>
                  <a:lnTo>
                    <a:pt x="388" y="236"/>
                  </a:lnTo>
                  <a:lnTo>
                    <a:pt x="378" y="240"/>
                  </a:lnTo>
                  <a:lnTo>
                    <a:pt x="370" y="244"/>
                  </a:lnTo>
                  <a:lnTo>
                    <a:pt x="360" y="244"/>
                  </a:lnTo>
                  <a:lnTo>
                    <a:pt x="352" y="244"/>
                  </a:lnTo>
                  <a:lnTo>
                    <a:pt x="334" y="242"/>
                  </a:lnTo>
                  <a:lnTo>
                    <a:pt x="316" y="234"/>
                  </a:lnTo>
                  <a:lnTo>
                    <a:pt x="298" y="228"/>
                  </a:lnTo>
                  <a:lnTo>
                    <a:pt x="280" y="220"/>
                  </a:lnTo>
                  <a:lnTo>
                    <a:pt x="262" y="216"/>
                  </a:lnTo>
                  <a:lnTo>
                    <a:pt x="252" y="214"/>
                  </a:lnTo>
                  <a:lnTo>
                    <a:pt x="242" y="214"/>
                  </a:lnTo>
                  <a:lnTo>
                    <a:pt x="242" y="214"/>
                  </a:lnTo>
                  <a:lnTo>
                    <a:pt x="226" y="214"/>
                  </a:lnTo>
                  <a:lnTo>
                    <a:pt x="210" y="216"/>
                  </a:lnTo>
                  <a:lnTo>
                    <a:pt x="178" y="224"/>
                  </a:lnTo>
                  <a:lnTo>
                    <a:pt x="144" y="234"/>
                  </a:lnTo>
                  <a:lnTo>
                    <a:pt x="112" y="242"/>
                  </a:lnTo>
                  <a:lnTo>
                    <a:pt x="96" y="244"/>
                  </a:lnTo>
                  <a:lnTo>
                    <a:pt x="80" y="244"/>
                  </a:lnTo>
                  <a:lnTo>
                    <a:pt x="66" y="242"/>
                  </a:lnTo>
                  <a:lnTo>
                    <a:pt x="52" y="238"/>
                  </a:lnTo>
                  <a:lnTo>
                    <a:pt x="40" y="232"/>
                  </a:lnTo>
                  <a:lnTo>
                    <a:pt x="28" y="222"/>
                  </a:lnTo>
                  <a:lnTo>
                    <a:pt x="16" y="208"/>
                  </a:lnTo>
                  <a:lnTo>
                    <a:pt x="6" y="190"/>
                  </a:lnTo>
                  <a:lnTo>
                    <a:pt x="6" y="190"/>
                  </a:lnTo>
                  <a:lnTo>
                    <a:pt x="2" y="174"/>
                  </a:lnTo>
                  <a:lnTo>
                    <a:pt x="0" y="158"/>
                  </a:lnTo>
                  <a:lnTo>
                    <a:pt x="0" y="144"/>
                  </a:lnTo>
                  <a:lnTo>
                    <a:pt x="2" y="128"/>
                  </a:lnTo>
                  <a:lnTo>
                    <a:pt x="6" y="98"/>
                  </a:lnTo>
                  <a:lnTo>
                    <a:pt x="8" y="80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26" y="52"/>
                  </a:lnTo>
                  <a:lnTo>
                    <a:pt x="246" y="36"/>
                  </a:lnTo>
                  <a:lnTo>
                    <a:pt x="366" y="20"/>
                  </a:lnTo>
                  <a:lnTo>
                    <a:pt x="480" y="0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bbd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6"/>
            <p:cNvSpPr/>
            <p:nvPr/>
          </p:nvSpPr>
          <p:spPr>
            <a:xfrm>
              <a:off x="5483160" y="7372440"/>
              <a:ext cx="225360" cy="2919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142" h="184">
                  <a:moveTo>
                    <a:pt x="138" y="42"/>
                  </a:moveTo>
                  <a:lnTo>
                    <a:pt x="138" y="42"/>
                  </a:lnTo>
                  <a:lnTo>
                    <a:pt x="140" y="58"/>
                  </a:lnTo>
                  <a:lnTo>
                    <a:pt x="142" y="72"/>
                  </a:lnTo>
                  <a:lnTo>
                    <a:pt x="140" y="88"/>
                  </a:lnTo>
                  <a:lnTo>
                    <a:pt x="138" y="102"/>
                  </a:lnTo>
                  <a:lnTo>
                    <a:pt x="134" y="118"/>
                  </a:lnTo>
                  <a:lnTo>
                    <a:pt x="128" y="132"/>
                  </a:lnTo>
                  <a:lnTo>
                    <a:pt x="120" y="144"/>
                  </a:lnTo>
                  <a:lnTo>
                    <a:pt x="110" y="156"/>
                  </a:lnTo>
                  <a:lnTo>
                    <a:pt x="110" y="156"/>
                  </a:lnTo>
                  <a:lnTo>
                    <a:pt x="98" y="168"/>
                  </a:lnTo>
                  <a:lnTo>
                    <a:pt x="84" y="176"/>
                  </a:lnTo>
                  <a:lnTo>
                    <a:pt x="70" y="182"/>
                  </a:lnTo>
                  <a:lnTo>
                    <a:pt x="54" y="184"/>
                  </a:lnTo>
                  <a:lnTo>
                    <a:pt x="54" y="184"/>
                  </a:lnTo>
                  <a:lnTo>
                    <a:pt x="42" y="174"/>
                  </a:lnTo>
                  <a:lnTo>
                    <a:pt x="32" y="162"/>
                  </a:lnTo>
                  <a:lnTo>
                    <a:pt x="24" y="152"/>
                  </a:lnTo>
                  <a:lnTo>
                    <a:pt x="16" y="140"/>
                  </a:lnTo>
                  <a:lnTo>
                    <a:pt x="10" y="126"/>
                  </a:lnTo>
                  <a:lnTo>
                    <a:pt x="6" y="11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4" y="72"/>
                  </a:lnTo>
                  <a:lnTo>
                    <a:pt x="8" y="56"/>
                  </a:lnTo>
                  <a:lnTo>
                    <a:pt x="12" y="42"/>
                  </a:lnTo>
                  <a:lnTo>
                    <a:pt x="18" y="28"/>
                  </a:lnTo>
                  <a:lnTo>
                    <a:pt x="24" y="16"/>
                  </a:lnTo>
                  <a:lnTo>
                    <a:pt x="32" y="6"/>
                  </a:lnTo>
                  <a:lnTo>
                    <a:pt x="38" y="4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4" y="0"/>
                  </a:lnTo>
                  <a:lnTo>
                    <a:pt x="86" y="4"/>
                  </a:lnTo>
                  <a:lnTo>
                    <a:pt x="96" y="8"/>
                  </a:lnTo>
                  <a:lnTo>
                    <a:pt x="104" y="14"/>
                  </a:lnTo>
                  <a:lnTo>
                    <a:pt x="120" y="30"/>
                  </a:lnTo>
                  <a:lnTo>
                    <a:pt x="138" y="42"/>
                  </a:lnTo>
                  <a:lnTo>
                    <a:pt x="13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7"/>
            <p:cNvSpPr/>
            <p:nvPr/>
          </p:nvSpPr>
          <p:spPr>
            <a:xfrm>
              <a:off x="6664320" y="7448400"/>
              <a:ext cx="260280" cy="7268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164" h="458">
                  <a:moveTo>
                    <a:pt x="134" y="410"/>
                  </a:moveTo>
                  <a:lnTo>
                    <a:pt x="134" y="410"/>
                  </a:lnTo>
                  <a:lnTo>
                    <a:pt x="120" y="422"/>
                  </a:lnTo>
                  <a:lnTo>
                    <a:pt x="106" y="430"/>
                  </a:lnTo>
                  <a:lnTo>
                    <a:pt x="88" y="438"/>
                  </a:lnTo>
                  <a:lnTo>
                    <a:pt x="72" y="444"/>
                  </a:lnTo>
                  <a:lnTo>
                    <a:pt x="34" y="452"/>
                  </a:lnTo>
                  <a:lnTo>
                    <a:pt x="0" y="458"/>
                  </a:lnTo>
                  <a:lnTo>
                    <a:pt x="0" y="458"/>
                  </a:lnTo>
                  <a:lnTo>
                    <a:pt x="8" y="420"/>
                  </a:lnTo>
                  <a:lnTo>
                    <a:pt x="12" y="378"/>
                  </a:lnTo>
                  <a:lnTo>
                    <a:pt x="14" y="334"/>
                  </a:lnTo>
                  <a:lnTo>
                    <a:pt x="14" y="290"/>
                  </a:lnTo>
                  <a:lnTo>
                    <a:pt x="12" y="246"/>
                  </a:lnTo>
                  <a:lnTo>
                    <a:pt x="8" y="20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30" y="90"/>
                  </a:lnTo>
                  <a:lnTo>
                    <a:pt x="60" y="56"/>
                  </a:lnTo>
                  <a:lnTo>
                    <a:pt x="76" y="40"/>
                  </a:lnTo>
                  <a:lnTo>
                    <a:pt x="94" y="26"/>
                  </a:lnTo>
                  <a:lnTo>
                    <a:pt x="114" y="12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42" y="26"/>
                  </a:lnTo>
                  <a:lnTo>
                    <a:pt x="148" y="52"/>
                  </a:lnTo>
                  <a:lnTo>
                    <a:pt x="154" y="76"/>
                  </a:lnTo>
                  <a:lnTo>
                    <a:pt x="158" y="102"/>
                  </a:lnTo>
                  <a:lnTo>
                    <a:pt x="162" y="154"/>
                  </a:lnTo>
                  <a:lnTo>
                    <a:pt x="164" y="206"/>
                  </a:lnTo>
                  <a:lnTo>
                    <a:pt x="160" y="258"/>
                  </a:lnTo>
                  <a:lnTo>
                    <a:pt x="154" y="310"/>
                  </a:lnTo>
                  <a:lnTo>
                    <a:pt x="146" y="360"/>
                  </a:lnTo>
                  <a:lnTo>
                    <a:pt x="134" y="410"/>
                  </a:lnTo>
                  <a:lnTo>
                    <a:pt x="134" y="410"/>
                  </a:lnTo>
                  <a:close/>
                </a:path>
              </a:pathLst>
            </a:custGeom>
            <a:solidFill>
              <a:srgbClr val="bbd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28"/>
            <p:cNvSpPr/>
            <p:nvPr/>
          </p:nvSpPr>
          <p:spPr>
            <a:xfrm>
              <a:off x="5553000" y="7470720"/>
              <a:ext cx="82440" cy="107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2" h="68">
                  <a:moveTo>
                    <a:pt x="50" y="26"/>
                  </a:moveTo>
                  <a:lnTo>
                    <a:pt x="50" y="26"/>
                  </a:lnTo>
                  <a:lnTo>
                    <a:pt x="52" y="34"/>
                  </a:lnTo>
                  <a:lnTo>
                    <a:pt x="52" y="40"/>
                  </a:lnTo>
                  <a:lnTo>
                    <a:pt x="50" y="44"/>
                  </a:lnTo>
                  <a:lnTo>
                    <a:pt x="48" y="50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24" y="68"/>
                  </a:lnTo>
                  <a:lnTo>
                    <a:pt x="20" y="68"/>
                  </a:lnTo>
                  <a:lnTo>
                    <a:pt x="12" y="62"/>
                  </a:lnTo>
                  <a:lnTo>
                    <a:pt x="6" y="5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2"/>
                  </a:lnTo>
                  <a:lnTo>
                    <a:pt x="46" y="4"/>
                  </a:lnTo>
                  <a:lnTo>
                    <a:pt x="50" y="10"/>
                  </a:lnTo>
                  <a:lnTo>
                    <a:pt x="52" y="16"/>
                  </a:lnTo>
                  <a:lnTo>
                    <a:pt x="50" y="26"/>
                  </a:lnTo>
                  <a:lnTo>
                    <a:pt x="50" y="26"/>
                  </a:lnTo>
                  <a:close/>
                </a:path>
              </a:pathLst>
            </a:custGeom>
            <a:solidFill>
              <a:srgbClr val="bbd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29"/>
            <p:cNvSpPr/>
            <p:nvPr/>
          </p:nvSpPr>
          <p:spPr>
            <a:xfrm>
              <a:off x="4324320" y="7489800"/>
              <a:ext cx="330120" cy="6508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208" h="410">
                  <a:moveTo>
                    <a:pt x="202" y="80"/>
                  </a:moveTo>
                  <a:lnTo>
                    <a:pt x="202" y="80"/>
                  </a:lnTo>
                  <a:lnTo>
                    <a:pt x="198" y="82"/>
                  </a:lnTo>
                  <a:lnTo>
                    <a:pt x="196" y="86"/>
                  </a:lnTo>
                  <a:lnTo>
                    <a:pt x="198" y="90"/>
                  </a:lnTo>
                  <a:lnTo>
                    <a:pt x="200" y="92"/>
                  </a:lnTo>
                  <a:lnTo>
                    <a:pt x="202" y="98"/>
                  </a:lnTo>
                  <a:lnTo>
                    <a:pt x="202" y="102"/>
                  </a:lnTo>
                  <a:lnTo>
                    <a:pt x="200" y="106"/>
                  </a:lnTo>
                  <a:lnTo>
                    <a:pt x="200" y="106"/>
                  </a:lnTo>
                  <a:lnTo>
                    <a:pt x="196" y="126"/>
                  </a:lnTo>
                  <a:lnTo>
                    <a:pt x="192" y="146"/>
                  </a:lnTo>
                  <a:lnTo>
                    <a:pt x="190" y="184"/>
                  </a:lnTo>
                  <a:lnTo>
                    <a:pt x="192" y="222"/>
                  </a:lnTo>
                  <a:lnTo>
                    <a:pt x="196" y="260"/>
                  </a:lnTo>
                  <a:lnTo>
                    <a:pt x="204" y="334"/>
                  </a:lnTo>
                  <a:lnTo>
                    <a:pt x="208" y="372"/>
                  </a:lnTo>
                  <a:lnTo>
                    <a:pt x="208" y="410"/>
                  </a:lnTo>
                  <a:lnTo>
                    <a:pt x="208" y="410"/>
                  </a:lnTo>
                  <a:lnTo>
                    <a:pt x="162" y="396"/>
                  </a:lnTo>
                  <a:lnTo>
                    <a:pt x="118" y="380"/>
                  </a:lnTo>
                  <a:lnTo>
                    <a:pt x="74" y="364"/>
                  </a:lnTo>
                  <a:lnTo>
                    <a:pt x="30" y="344"/>
                  </a:lnTo>
                  <a:lnTo>
                    <a:pt x="30" y="344"/>
                  </a:lnTo>
                  <a:lnTo>
                    <a:pt x="22" y="330"/>
                  </a:lnTo>
                  <a:lnTo>
                    <a:pt x="16" y="314"/>
                  </a:lnTo>
                  <a:lnTo>
                    <a:pt x="12" y="296"/>
                  </a:lnTo>
                  <a:lnTo>
                    <a:pt x="8" y="280"/>
                  </a:lnTo>
                  <a:lnTo>
                    <a:pt x="2" y="244"/>
                  </a:lnTo>
                  <a:lnTo>
                    <a:pt x="0" y="206"/>
                  </a:lnTo>
                  <a:lnTo>
                    <a:pt x="0" y="168"/>
                  </a:lnTo>
                  <a:lnTo>
                    <a:pt x="2" y="132"/>
                  </a:lnTo>
                  <a:lnTo>
                    <a:pt x="4" y="6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2" y="6"/>
                  </a:lnTo>
                  <a:lnTo>
                    <a:pt x="58" y="10"/>
                  </a:lnTo>
                  <a:lnTo>
                    <a:pt x="86" y="18"/>
                  </a:lnTo>
                  <a:lnTo>
                    <a:pt x="112" y="26"/>
                  </a:lnTo>
                  <a:lnTo>
                    <a:pt x="136" y="36"/>
                  </a:lnTo>
                  <a:lnTo>
                    <a:pt x="160" y="48"/>
                  </a:lnTo>
                  <a:lnTo>
                    <a:pt x="182" y="64"/>
                  </a:lnTo>
                  <a:lnTo>
                    <a:pt x="202" y="80"/>
                  </a:lnTo>
                  <a:lnTo>
                    <a:pt x="202" y="80"/>
                  </a:lnTo>
                  <a:close/>
                </a:path>
              </a:pathLst>
            </a:custGeom>
            <a:solidFill>
              <a:srgbClr val="bbd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0"/>
            <p:cNvSpPr/>
            <p:nvPr/>
          </p:nvSpPr>
          <p:spPr>
            <a:xfrm>
              <a:off x="4854600" y="7585200"/>
              <a:ext cx="320400" cy="6062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02" h="382">
                  <a:moveTo>
                    <a:pt x="186" y="6"/>
                  </a:moveTo>
                  <a:lnTo>
                    <a:pt x="186" y="6"/>
                  </a:lnTo>
                  <a:lnTo>
                    <a:pt x="194" y="40"/>
                  </a:lnTo>
                  <a:lnTo>
                    <a:pt x="198" y="68"/>
                  </a:lnTo>
                  <a:lnTo>
                    <a:pt x="202" y="98"/>
                  </a:lnTo>
                  <a:lnTo>
                    <a:pt x="202" y="126"/>
                  </a:lnTo>
                  <a:lnTo>
                    <a:pt x="198" y="184"/>
                  </a:lnTo>
                  <a:lnTo>
                    <a:pt x="196" y="250"/>
                  </a:lnTo>
                  <a:lnTo>
                    <a:pt x="196" y="250"/>
                  </a:lnTo>
                  <a:lnTo>
                    <a:pt x="192" y="268"/>
                  </a:lnTo>
                  <a:lnTo>
                    <a:pt x="190" y="286"/>
                  </a:lnTo>
                  <a:lnTo>
                    <a:pt x="190" y="306"/>
                  </a:lnTo>
                  <a:lnTo>
                    <a:pt x="188" y="326"/>
                  </a:lnTo>
                  <a:lnTo>
                    <a:pt x="184" y="342"/>
                  </a:lnTo>
                  <a:lnTo>
                    <a:pt x="180" y="350"/>
                  </a:lnTo>
                  <a:lnTo>
                    <a:pt x="176" y="358"/>
                  </a:lnTo>
                  <a:lnTo>
                    <a:pt x="170" y="364"/>
                  </a:lnTo>
                  <a:lnTo>
                    <a:pt x="162" y="368"/>
                  </a:lnTo>
                  <a:lnTo>
                    <a:pt x="154" y="372"/>
                  </a:lnTo>
                  <a:lnTo>
                    <a:pt x="144" y="374"/>
                  </a:lnTo>
                  <a:lnTo>
                    <a:pt x="144" y="374"/>
                  </a:lnTo>
                  <a:lnTo>
                    <a:pt x="126" y="378"/>
                  </a:lnTo>
                  <a:lnTo>
                    <a:pt x="108" y="380"/>
                  </a:lnTo>
                  <a:lnTo>
                    <a:pt x="90" y="382"/>
                  </a:lnTo>
                  <a:lnTo>
                    <a:pt x="74" y="382"/>
                  </a:lnTo>
                  <a:lnTo>
                    <a:pt x="38" y="378"/>
                  </a:lnTo>
                  <a:lnTo>
                    <a:pt x="0" y="374"/>
                  </a:lnTo>
                  <a:lnTo>
                    <a:pt x="0" y="374"/>
                  </a:lnTo>
                  <a:lnTo>
                    <a:pt x="10" y="282"/>
                  </a:lnTo>
                  <a:lnTo>
                    <a:pt x="22" y="188"/>
                  </a:lnTo>
                  <a:lnTo>
                    <a:pt x="28" y="142"/>
                  </a:lnTo>
                  <a:lnTo>
                    <a:pt x="32" y="96"/>
                  </a:lnTo>
                  <a:lnTo>
                    <a:pt x="34" y="5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42" y="6"/>
                  </a:lnTo>
                  <a:lnTo>
                    <a:pt x="52" y="2"/>
                  </a:lnTo>
                  <a:lnTo>
                    <a:pt x="70" y="0"/>
                  </a:lnTo>
                  <a:lnTo>
                    <a:pt x="90" y="2"/>
                  </a:lnTo>
                  <a:lnTo>
                    <a:pt x="110" y="6"/>
                  </a:lnTo>
                  <a:lnTo>
                    <a:pt x="128" y="8"/>
                  </a:lnTo>
                  <a:lnTo>
                    <a:pt x="148" y="12"/>
                  </a:lnTo>
                  <a:lnTo>
                    <a:pt x="168" y="12"/>
                  </a:lnTo>
                  <a:lnTo>
                    <a:pt x="176" y="10"/>
                  </a:lnTo>
                  <a:lnTo>
                    <a:pt x="186" y="6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bbd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1"/>
            <p:cNvSpPr/>
            <p:nvPr/>
          </p:nvSpPr>
          <p:spPr>
            <a:xfrm>
              <a:off x="6067440" y="7610400"/>
              <a:ext cx="380880" cy="5778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240" h="364">
                  <a:moveTo>
                    <a:pt x="228" y="2"/>
                  </a:moveTo>
                  <a:lnTo>
                    <a:pt x="228" y="2"/>
                  </a:lnTo>
                  <a:lnTo>
                    <a:pt x="236" y="46"/>
                  </a:lnTo>
                  <a:lnTo>
                    <a:pt x="240" y="90"/>
                  </a:lnTo>
                  <a:lnTo>
                    <a:pt x="240" y="136"/>
                  </a:lnTo>
                  <a:lnTo>
                    <a:pt x="240" y="180"/>
                  </a:lnTo>
                  <a:lnTo>
                    <a:pt x="236" y="270"/>
                  </a:lnTo>
                  <a:lnTo>
                    <a:pt x="236" y="312"/>
                  </a:lnTo>
                  <a:lnTo>
                    <a:pt x="236" y="356"/>
                  </a:lnTo>
                  <a:lnTo>
                    <a:pt x="236" y="356"/>
                  </a:lnTo>
                  <a:lnTo>
                    <a:pt x="218" y="362"/>
                  </a:lnTo>
                  <a:lnTo>
                    <a:pt x="200" y="364"/>
                  </a:lnTo>
                  <a:lnTo>
                    <a:pt x="180" y="364"/>
                  </a:lnTo>
                  <a:lnTo>
                    <a:pt x="162" y="362"/>
                  </a:lnTo>
                  <a:lnTo>
                    <a:pt x="122" y="356"/>
                  </a:lnTo>
                  <a:lnTo>
                    <a:pt x="104" y="352"/>
                  </a:lnTo>
                  <a:lnTo>
                    <a:pt x="86" y="350"/>
                  </a:lnTo>
                  <a:lnTo>
                    <a:pt x="86" y="350"/>
                  </a:lnTo>
                  <a:lnTo>
                    <a:pt x="80" y="348"/>
                  </a:lnTo>
                  <a:lnTo>
                    <a:pt x="72" y="344"/>
                  </a:lnTo>
                  <a:lnTo>
                    <a:pt x="68" y="338"/>
                  </a:lnTo>
                  <a:lnTo>
                    <a:pt x="66" y="332"/>
                  </a:lnTo>
                  <a:lnTo>
                    <a:pt x="60" y="318"/>
                  </a:lnTo>
                  <a:lnTo>
                    <a:pt x="56" y="304"/>
                  </a:lnTo>
                  <a:lnTo>
                    <a:pt x="56" y="304"/>
                  </a:lnTo>
                  <a:lnTo>
                    <a:pt x="50" y="266"/>
                  </a:lnTo>
                  <a:lnTo>
                    <a:pt x="42" y="230"/>
                  </a:lnTo>
                  <a:lnTo>
                    <a:pt x="28" y="160"/>
                  </a:lnTo>
                  <a:lnTo>
                    <a:pt x="12" y="90"/>
                  </a:lnTo>
                  <a:lnTo>
                    <a:pt x="6" y="5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4" y="22"/>
                  </a:lnTo>
                  <a:lnTo>
                    <a:pt x="28" y="26"/>
                  </a:lnTo>
                  <a:lnTo>
                    <a:pt x="42" y="28"/>
                  </a:lnTo>
                  <a:lnTo>
                    <a:pt x="56" y="28"/>
                  </a:lnTo>
                  <a:lnTo>
                    <a:pt x="84" y="24"/>
                  </a:lnTo>
                  <a:lnTo>
                    <a:pt x="112" y="18"/>
                  </a:lnTo>
                  <a:lnTo>
                    <a:pt x="140" y="10"/>
                  </a:lnTo>
                  <a:lnTo>
                    <a:pt x="168" y="4"/>
                  </a:lnTo>
                  <a:lnTo>
                    <a:pt x="198" y="0"/>
                  </a:lnTo>
                  <a:lnTo>
                    <a:pt x="212" y="0"/>
                  </a:lnTo>
                  <a:lnTo>
                    <a:pt x="228" y="2"/>
                  </a:lnTo>
                  <a:lnTo>
                    <a:pt x="228" y="2"/>
                  </a:lnTo>
                  <a:close/>
                </a:path>
              </a:pathLst>
            </a:custGeom>
            <a:solidFill>
              <a:srgbClr val="bbd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2"/>
            <p:cNvSpPr/>
            <p:nvPr/>
          </p:nvSpPr>
          <p:spPr>
            <a:xfrm>
              <a:off x="4705200" y="7645320"/>
              <a:ext cx="120600" cy="527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76" h="332">
                  <a:moveTo>
                    <a:pt x="70" y="0"/>
                  </a:moveTo>
                  <a:lnTo>
                    <a:pt x="70" y="0"/>
                  </a:lnTo>
                  <a:lnTo>
                    <a:pt x="74" y="40"/>
                  </a:lnTo>
                  <a:lnTo>
                    <a:pt x="76" y="82"/>
                  </a:lnTo>
                  <a:lnTo>
                    <a:pt x="74" y="124"/>
                  </a:lnTo>
                  <a:lnTo>
                    <a:pt x="70" y="166"/>
                  </a:lnTo>
                  <a:lnTo>
                    <a:pt x="60" y="248"/>
                  </a:lnTo>
                  <a:lnTo>
                    <a:pt x="48" y="326"/>
                  </a:lnTo>
                  <a:lnTo>
                    <a:pt x="48" y="326"/>
                  </a:lnTo>
                  <a:lnTo>
                    <a:pt x="44" y="328"/>
                  </a:lnTo>
                  <a:lnTo>
                    <a:pt x="42" y="330"/>
                  </a:lnTo>
                  <a:lnTo>
                    <a:pt x="34" y="332"/>
                  </a:lnTo>
                  <a:lnTo>
                    <a:pt x="26" y="330"/>
                  </a:lnTo>
                  <a:lnTo>
                    <a:pt x="20" y="328"/>
                  </a:lnTo>
                  <a:lnTo>
                    <a:pt x="20" y="328"/>
                  </a:lnTo>
                  <a:lnTo>
                    <a:pt x="20" y="292"/>
                  </a:lnTo>
                  <a:lnTo>
                    <a:pt x="18" y="254"/>
                  </a:lnTo>
                  <a:lnTo>
                    <a:pt x="8" y="176"/>
                  </a:lnTo>
                  <a:lnTo>
                    <a:pt x="4" y="138"/>
                  </a:lnTo>
                  <a:lnTo>
                    <a:pt x="0" y="98"/>
                  </a:lnTo>
                  <a:lnTo>
                    <a:pt x="0" y="5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2" y="16"/>
                  </a:lnTo>
                  <a:lnTo>
                    <a:pt x="38" y="14"/>
                  </a:lnTo>
                  <a:lnTo>
                    <a:pt x="56" y="8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bbd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33"/>
            <p:cNvSpPr/>
            <p:nvPr/>
          </p:nvSpPr>
          <p:spPr>
            <a:xfrm>
              <a:off x="6512040" y="7645320"/>
              <a:ext cx="95040" cy="539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60" h="340">
                  <a:moveTo>
                    <a:pt x="58" y="118"/>
                  </a:moveTo>
                  <a:lnTo>
                    <a:pt x="58" y="118"/>
                  </a:lnTo>
                  <a:lnTo>
                    <a:pt x="60" y="172"/>
                  </a:lnTo>
                  <a:lnTo>
                    <a:pt x="60" y="228"/>
                  </a:lnTo>
                  <a:lnTo>
                    <a:pt x="58" y="256"/>
                  </a:lnTo>
                  <a:lnTo>
                    <a:pt x="56" y="284"/>
                  </a:lnTo>
                  <a:lnTo>
                    <a:pt x="50" y="312"/>
                  </a:lnTo>
                  <a:lnTo>
                    <a:pt x="42" y="336"/>
                  </a:lnTo>
                  <a:lnTo>
                    <a:pt x="42" y="336"/>
                  </a:lnTo>
                  <a:lnTo>
                    <a:pt x="34" y="338"/>
                  </a:lnTo>
                  <a:lnTo>
                    <a:pt x="26" y="338"/>
                  </a:lnTo>
                  <a:lnTo>
                    <a:pt x="18" y="338"/>
                  </a:lnTo>
                  <a:lnTo>
                    <a:pt x="8" y="340"/>
                  </a:lnTo>
                  <a:lnTo>
                    <a:pt x="8" y="340"/>
                  </a:lnTo>
                  <a:lnTo>
                    <a:pt x="10" y="254"/>
                  </a:lnTo>
                  <a:lnTo>
                    <a:pt x="8" y="170"/>
                  </a:lnTo>
                  <a:lnTo>
                    <a:pt x="6" y="8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0" y="2"/>
                  </a:lnTo>
                  <a:lnTo>
                    <a:pt x="28" y="6"/>
                  </a:lnTo>
                  <a:lnTo>
                    <a:pt x="34" y="10"/>
                  </a:lnTo>
                  <a:lnTo>
                    <a:pt x="40" y="18"/>
                  </a:lnTo>
                  <a:lnTo>
                    <a:pt x="42" y="24"/>
                  </a:lnTo>
                  <a:lnTo>
                    <a:pt x="48" y="42"/>
                  </a:lnTo>
                  <a:lnTo>
                    <a:pt x="50" y="62"/>
                  </a:lnTo>
                  <a:lnTo>
                    <a:pt x="50" y="82"/>
                  </a:lnTo>
                  <a:lnTo>
                    <a:pt x="54" y="100"/>
                  </a:lnTo>
                  <a:lnTo>
                    <a:pt x="58" y="118"/>
                  </a:lnTo>
                  <a:lnTo>
                    <a:pt x="58" y="118"/>
                  </a:lnTo>
                  <a:close/>
                </a:path>
              </a:pathLst>
            </a:custGeom>
            <a:solidFill>
              <a:srgbClr val="bbd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4"/>
            <p:cNvSpPr/>
            <p:nvPr/>
          </p:nvSpPr>
          <p:spPr>
            <a:xfrm>
              <a:off x="5499000" y="7915320"/>
              <a:ext cx="231480" cy="2728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46" h="172">
                  <a:moveTo>
                    <a:pt x="146" y="68"/>
                  </a:moveTo>
                  <a:lnTo>
                    <a:pt x="146" y="68"/>
                  </a:lnTo>
                  <a:lnTo>
                    <a:pt x="144" y="86"/>
                  </a:lnTo>
                  <a:lnTo>
                    <a:pt x="142" y="102"/>
                  </a:lnTo>
                  <a:lnTo>
                    <a:pt x="138" y="116"/>
                  </a:lnTo>
                  <a:lnTo>
                    <a:pt x="132" y="130"/>
                  </a:lnTo>
                  <a:lnTo>
                    <a:pt x="124" y="142"/>
                  </a:lnTo>
                  <a:lnTo>
                    <a:pt x="114" y="154"/>
                  </a:lnTo>
                  <a:lnTo>
                    <a:pt x="100" y="164"/>
                  </a:lnTo>
                  <a:lnTo>
                    <a:pt x="84" y="172"/>
                  </a:lnTo>
                  <a:lnTo>
                    <a:pt x="84" y="172"/>
                  </a:lnTo>
                  <a:lnTo>
                    <a:pt x="74" y="172"/>
                  </a:lnTo>
                  <a:lnTo>
                    <a:pt x="64" y="172"/>
                  </a:lnTo>
                  <a:lnTo>
                    <a:pt x="44" y="166"/>
                  </a:lnTo>
                  <a:lnTo>
                    <a:pt x="26" y="156"/>
                  </a:lnTo>
                  <a:lnTo>
                    <a:pt x="10" y="146"/>
                  </a:lnTo>
                  <a:lnTo>
                    <a:pt x="10" y="146"/>
                  </a:lnTo>
                  <a:lnTo>
                    <a:pt x="6" y="112"/>
                  </a:lnTo>
                  <a:lnTo>
                    <a:pt x="0" y="80"/>
                  </a:lnTo>
                  <a:lnTo>
                    <a:pt x="0" y="64"/>
                  </a:lnTo>
                  <a:lnTo>
                    <a:pt x="4" y="50"/>
                  </a:lnTo>
                  <a:lnTo>
                    <a:pt x="8" y="34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6" y="14"/>
                  </a:lnTo>
                  <a:lnTo>
                    <a:pt x="36" y="8"/>
                  </a:lnTo>
                  <a:lnTo>
                    <a:pt x="46" y="4"/>
                  </a:lnTo>
                  <a:lnTo>
                    <a:pt x="56" y="2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88" y="0"/>
                  </a:lnTo>
                  <a:lnTo>
                    <a:pt x="98" y="4"/>
                  </a:lnTo>
                  <a:lnTo>
                    <a:pt x="108" y="6"/>
                  </a:lnTo>
                  <a:lnTo>
                    <a:pt x="118" y="12"/>
                  </a:lnTo>
                  <a:lnTo>
                    <a:pt x="126" y="18"/>
                  </a:lnTo>
                  <a:lnTo>
                    <a:pt x="132" y="26"/>
                  </a:lnTo>
                  <a:lnTo>
                    <a:pt x="138" y="34"/>
                  </a:lnTo>
                  <a:lnTo>
                    <a:pt x="142" y="44"/>
                  </a:lnTo>
                  <a:lnTo>
                    <a:pt x="146" y="56"/>
                  </a:lnTo>
                  <a:lnTo>
                    <a:pt x="146" y="68"/>
                  </a:lnTo>
                  <a:lnTo>
                    <a:pt x="14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35"/>
            <p:cNvSpPr/>
            <p:nvPr/>
          </p:nvSpPr>
          <p:spPr>
            <a:xfrm>
              <a:off x="5568840" y="7997760"/>
              <a:ext cx="88560" cy="1047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6" h="66">
                  <a:moveTo>
                    <a:pt x="56" y="32"/>
                  </a:moveTo>
                  <a:lnTo>
                    <a:pt x="56" y="32"/>
                  </a:lnTo>
                  <a:lnTo>
                    <a:pt x="56" y="44"/>
                  </a:lnTo>
                  <a:lnTo>
                    <a:pt x="54" y="54"/>
                  </a:lnTo>
                  <a:lnTo>
                    <a:pt x="50" y="62"/>
                  </a:lnTo>
                  <a:lnTo>
                    <a:pt x="46" y="64"/>
                  </a:lnTo>
                  <a:lnTo>
                    <a:pt x="40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6" y="22"/>
                  </a:lnTo>
                  <a:lnTo>
                    <a:pt x="10" y="16"/>
                  </a:lnTo>
                  <a:lnTo>
                    <a:pt x="14" y="10"/>
                  </a:lnTo>
                  <a:lnTo>
                    <a:pt x="20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6" y="12"/>
                  </a:lnTo>
                  <a:lnTo>
                    <a:pt x="54" y="20"/>
                  </a:lnTo>
                  <a:lnTo>
                    <a:pt x="56" y="26"/>
                  </a:lnTo>
                  <a:lnTo>
                    <a:pt x="56" y="32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bbd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36"/>
            <p:cNvSpPr/>
            <p:nvPr/>
          </p:nvSpPr>
          <p:spPr>
            <a:xfrm>
              <a:off x="4171680" y="8213760"/>
              <a:ext cx="136440" cy="187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6" h="118">
                  <a:moveTo>
                    <a:pt x="84" y="112"/>
                  </a:moveTo>
                  <a:lnTo>
                    <a:pt x="84" y="112"/>
                  </a:lnTo>
                  <a:lnTo>
                    <a:pt x="76" y="116"/>
                  </a:lnTo>
                  <a:lnTo>
                    <a:pt x="68" y="118"/>
                  </a:lnTo>
                  <a:lnTo>
                    <a:pt x="62" y="116"/>
                  </a:lnTo>
                  <a:lnTo>
                    <a:pt x="56" y="114"/>
                  </a:lnTo>
                  <a:lnTo>
                    <a:pt x="42" y="110"/>
                  </a:lnTo>
                  <a:lnTo>
                    <a:pt x="36" y="108"/>
                  </a:lnTo>
                  <a:lnTo>
                    <a:pt x="28" y="108"/>
                  </a:lnTo>
                  <a:lnTo>
                    <a:pt x="28" y="108"/>
                  </a:lnTo>
                  <a:lnTo>
                    <a:pt x="20" y="98"/>
                  </a:lnTo>
                  <a:lnTo>
                    <a:pt x="14" y="86"/>
                  </a:lnTo>
                  <a:lnTo>
                    <a:pt x="8" y="72"/>
                  </a:lnTo>
                  <a:lnTo>
                    <a:pt x="4" y="58"/>
                  </a:lnTo>
                  <a:lnTo>
                    <a:pt x="2" y="44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16" y="12"/>
                  </a:lnTo>
                  <a:lnTo>
                    <a:pt x="32" y="22"/>
                  </a:lnTo>
                  <a:lnTo>
                    <a:pt x="46" y="34"/>
                  </a:lnTo>
                  <a:lnTo>
                    <a:pt x="60" y="44"/>
                  </a:lnTo>
                  <a:lnTo>
                    <a:pt x="72" y="56"/>
                  </a:lnTo>
                  <a:lnTo>
                    <a:pt x="78" y="64"/>
                  </a:lnTo>
                  <a:lnTo>
                    <a:pt x="82" y="72"/>
                  </a:lnTo>
                  <a:lnTo>
                    <a:pt x="84" y="80"/>
                  </a:lnTo>
                  <a:lnTo>
                    <a:pt x="86" y="90"/>
                  </a:lnTo>
                  <a:lnTo>
                    <a:pt x="86" y="100"/>
                  </a:lnTo>
                  <a:lnTo>
                    <a:pt x="84" y="112"/>
                  </a:lnTo>
                  <a:lnTo>
                    <a:pt x="84" y="112"/>
                  </a:lnTo>
                  <a:close/>
                </a:path>
              </a:pathLst>
            </a:custGeom>
            <a:solidFill>
              <a:srgbClr val="c66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7"/>
            <p:cNvSpPr/>
            <p:nvPr/>
          </p:nvSpPr>
          <p:spPr>
            <a:xfrm>
              <a:off x="4194000" y="8359920"/>
              <a:ext cx="2822400" cy="2406600"/>
            </a:xfrm>
            <a:custGeom>
              <a:avLst/>
              <a:gdLst>
                <a:gd name="textAreaLeft" fmla="*/ 0 w 2822400"/>
                <a:gd name="textAreaRight" fmla="*/ 2822760 w 2822400"/>
                <a:gd name="textAreaTop" fmla="*/ 0 h 2406600"/>
                <a:gd name="textAreaBottom" fmla="*/ 2406960 h 2406600"/>
              </a:gdLst>
              <a:ahLst/>
              <a:rect l="textAreaLeft" t="textAreaTop" r="textAreaRight" b="textAreaBottom"/>
              <a:pathLst>
                <a:path w="1778" h="1516">
                  <a:moveTo>
                    <a:pt x="366" y="124"/>
                  </a:moveTo>
                  <a:lnTo>
                    <a:pt x="366" y="124"/>
                  </a:lnTo>
                  <a:lnTo>
                    <a:pt x="368" y="142"/>
                  </a:lnTo>
                  <a:lnTo>
                    <a:pt x="370" y="158"/>
                  </a:lnTo>
                  <a:lnTo>
                    <a:pt x="372" y="192"/>
                  </a:lnTo>
                  <a:lnTo>
                    <a:pt x="376" y="228"/>
                  </a:lnTo>
                  <a:lnTo>
                    <a:pt x="380" y="246"/>
                  </a:lnTo>
                  <a:lnTo>
                    <a:pt x="384" y="262"/>
                  </a:lnTo>
                  <a:lnTo>
                    <a:pt x="384" y="262"/>
                  </a:lnTo>
                  <a:lnTo>
                    <a:pt x="424" y="284"/>
                  </a:lnTo>
                  <a:lnTo>
                    <a:pt x="444" y="294"/>
                  </a:lnTo>
                  <a:lnTo>
                    <a:pt x="466" y="302"/>
                  </a:lnTo>
                  <a:lnTo>
                    <a:pt x="488" y="306"/>
                  </a:lnTo>
                  <a:lnTo>
                    <a:pt x="512" y="306"/>
                  </a:lnTo>
                  <a:lnTo>
                    <a:pt x="522" y="306"/>
                  </a:lnTo>
                  <a:lnTo>
                    <a:pt x="534" y="302"/>
                  </a:lnTo>
                  <a:lnTo>
                    <a:pt x="544" y="298"/>
                  </a:lnTo>
                  <a:lnTo>
                    <a:pt x="554" y="292"/>
                  </a:lnTo>
                  <a:lnTo>
                    <a:pt x="554" y="292"/>
                  </a:lnTo>
                  <a:lnTo>
                    <a:pt x="564" y="278"/>
                  </a:lnTo>
                  <a:lnTo>
                    <a:pt x="570" y="262"/>
                  </a:lnTo>
                  <a:lnTo>
                    <a:pt x="570" y="248"/>
                  </a:lnTo>
                  <a:lnTo>
                    <a:pt x="568" y="234"/>
                  </a:lnTo>
                  <a:lnTo>
                    <a:pt x="564" y="204"/>
                  </a:lnTo>
                  <a:lnTo>
                    <a:pt x="562" y="188"/>
                  </a:lnTo>
                  <a:lnTo>
                    <a:pt x="566" y="170"/>
                  </a:lnTo>
                  <a:lnTo>
                    <a:pt x="566" y="170"/>
                  </a:lnTo>
                  <a:lnTo>
                    <a:pt x="612" y="174"/>
                  </a:lnTo>
                  <a:lnTo>
                    <a:pt x="660" y="178"/>
                  </a:lnTo>
                  <a:lnTo>
                    <a:pt x="708" y="184"/>
                  </a:lnTo>
                  <a:lnTo>
                    <a:pt x="730" y="186"/>
                  </a:lnTo>
                  <a:lnTo>
                    <a:pt x="754" y="192"/>
                  </a:lnTo>
                  <a:lnTo>
                    <a:pt x="754" y="192"/>
                  </a:lnTo>
                  <a:lnTo>
                    <a:pt x="750" y="216"/>
                  </a:lnTo>
                  <a:lnTo>
                    <a:pt x="752" y="242"/>
                  </a:lnTo>
                  <a:lnTo>
                    <a:pt x="754" y="254"/>
                  </a:lnTo>
                  <a:lnTo>
                    <a:pt x="758" y="266"/>
                  </a:lnTo>
                  <a:lnTo>
                    <a:pt x="762" y="278"/>
                  </a:lnTo>
                  <a:lnTo>
                    <a:pt x="768" y="290"/>
                  </a:lnTo>
                  <a:lnTo>
                    <a:pt x="768" y="290"/>
                  </a:lnTo>
                  <a:lnTo>
                    <a:pt x="800" y="292"/>
                  </a:lnTo>
                  <a:lnTo>
                    <a:pt x="832" y="292"/>
                  </a:lnTo>
                  <a:lnTo>
                    <a:pt x="864" y="292"/>
                  </a:lnTo>
                  <a:lnTo>
                    <a:pt x="896" y="290"/>
                  </a:lnTo>
                  <a:lnTo>
                    <a:pt x="962" y="282"/>
                  </a:lnTo>
                  <a:lnTo>
                    <a:pt x="1028" y="270"/>
                  </a:lnTo>
                  <a:lnTo>
                    <a:pt x="1028" y="270"/>
                  </a:lnTo>
                  <a:lnTo>
                    <a:pt x="1034" y="262"/>
                  </a:lnTo>
                  <a:lnTo>
                    <a:pt x="1040" y="254"/>
                  </a:lnTo>
                  <a:lnTo>
                    <a:pt x="1046" y="234"/>
                  </a:lnTo>
                  <a:lnTo>
                    <a:pt x="1052" y="216"/>
                  </a:lnTo>
                  <a:lnTo>
                    <a:pt x="1056" y="208"/>
                  </a:lnTo>
                  <a:lnTo>
                    <a:pt x="1060" y="200"/>
                  </a:lnTo>
                  <a:lnTo>
                    <a:pt x="1236" y="178"/>
                  </a:lnTo>
                  <a:lnTo>
                    <a:pt x="1236" y="178"/>
                  </a:lnTo>
                  <a:lnTo>
                    <a:pt x="1240" y="186"/>
                  </a:lnTo>
                  <a:lnTo>
                    <a:pt x="1240" y="194"/>
                  </a:lnTo>
                  <a:lnTo>
                    <a:pt x="1240" y="204"/>
                  </a:lnTo>
                  <a:lnTo>
                    <a:pt x="1238" y="212"/>
                  </a:lnTo>
                  <a:lnTo>
                    <a:pt x="1232" y="230"/>
                  </a:lnTo>
                  <a:lnTo>
                    <a:pt x="1224" y="246"/>
                  </a:lnTo>
                  <a:lnTo>
                    <a:pt x="1220" y="262"/>
                  </a:lnTo>
                  <a:lnTo>
                    <a:pt x="1220" y="268"/>
                  </a:lnTo>
                  <a:lnTo>
                    <a:pt x="1222" y="274"/>
                  </a:lnTo>
                  <a:lnTo>
                    <a:pt x="1226" y="280"/>
                  </a:lnTo>
                  <a:lnTo>
                    <a:pt x="1232" y="284"/>
                  </a:lnTo>
                  <a:lnTo>
                    <a:pt x="1242" y="288"/>
                  </a:lnTo>
                  <a:lnTo>
                    <a:pt x="1256" y="292"/>
                  </a:lnTo>
                  <a:lnTo>
                    <a:pt x="1256" y="292"/>
                  </a:lnTo>
                  <a:lnTo>
                    <a:pt x="1290" y="284"/>
                  </a:lnTo>
                  <a:lnTo>
                    <a:pt x="1324" y="276"/>
                  </a:lnTo>
                  <a:lnTo>
                    <a:pt x="1340" y="274"/>
                  </a:lnTo>
                  <a:lnTo>
                    <a:pt x="1358" y="272"/>
                  </a:lnTo>
                  <a:lnTo>
                    <a:pt x="1376" y="274"/>
                  </a:lnTo>
                  <a:lnTo>
                    <a:pt x="1394" y="276"/>
                  </a:lnTo>
                  <a:lnTo>
                    <a:pt x="1394" y="276"/>
                  </a:lnTo>
                  <a:lnTo>
                    <a:pt x="1412" y="270"/>
                  </a:lnTo>
                  <a:lnTo>
                    <a:pt x="1422" y="266"/>
                  </a:lnTo>
                  <a:lnTo>
                    <a:pt x="1430" y="262"/>
                  </a:lnTo>
                  <a:lnTo>
                    <a:pt x="1436" y="256"/>
                  </a:lnTo>
                  <a:lnTo>
                    <a:pt x="1442" y="248"/>
                  </a:lnTo>
                  <a:lnTo>
                    <a:pt x="1446" y="240"/>
                  </a:lnTo>
                  <a:lnTo>
                    <a:pt x="1446" y="230"/>
                  </a:lnTo>
                  <a:lnTo>
                    <a:pt x="1446" y="230"/>
                  </a:lnTo>
                  <a:lnTo>
                    <a:pt x="1454" y="220"/>
                  </a:lnTo>
                  <a:lnTo>
                    <a:pt x="1458" y="206"/>
                  </a:lnTo>
                  <a:lnTo>
                    <a:pt x="1458" y="194"/>
                  </a:lnTo>
                  <a:lnTo>
                    <a:pt x="1460" y="180"/>
                  </a:lnTo>
                  <a:lnTo>
                    <a:pt x="1462" y="154"/>
                  </a:lnTo>
                  <a:lnTo>
                    <a:pt x="1466" y="142"/>
                  </a:lnTo>
                  <a:lnTo>
                    <a:pt x="1470" y="130"/>
                  </a:lnTo>
                  <a:lnTo>
                    <a:pt x="1598" y="90"/>
                  </a:lnTo>
                  <a:lnTo>
                    <a:pt x="1598" y="90"/>
                  </a:lnTo>
                  <a:lnTo>
                    <a:pt x="1602" y="96"/>
                  </a:lnTo>
                  <a:lnTo>
                    <a:pt x="1606" y="104"/>
                  </a:lnTo>
                  <a:lnTo>
                    <a:pt x="1608" y="110"/>
                  </a:lnTo>
                  <a:lnTo>
                    <a:pt x="1610" y="118"/>
                  </a:lnTo>
                  <a:lnTo>
                    <a:pt x="1608" y="132"/>
                  </a:lnTo>
                  <a:lnTo>
                    <a:pt x="1606" y="146"/>
                  </a:lnTo>
                  <a:lnTo>
                    <a:pt x="1606" y="160"/>
                  </a:lnTo>
                  <a:lnTo>
                    <a:pt x="1608" y="174"/>
                  </a:lnTo>
                  <a:lnTo>
                    <a:pt x="1610" y="178"/>
                  </a:lnTo>
                  <a:lnTo>
                    <a:pt x="1616" y="184"/>
                  </a:lnTo>
                  <a:lnTo>
                    <a:pt x="1622" y="188"/>
                  </a:lnTo>
                  <a:lnTo>
                    <a:pt x="1630" y="192"/>
                  </a:lnTo>
                  <a:lnTo>
                    <a:pt x="1630" y="192"/>
                  </a:lnTo>
                  <a:lnTo>
                    <a:pt x="1644" y="190"/>
                  </a:lnTo>
                  <a:lnTo>
                    <a:pt x="1658" y="188"/>
                  </a:lnTo>
                  <a:lnTo>
                    <a:pt x="1670" y="184"/>
                  </a:lnTo>
                  <a:lnTo>
                    <a:pt x="1682" y="178"/>
                  </a:lnTo>
                  <a:lnTo>
                    <a:pt x="1706" y="166"/>
                  </a:lnTo>
                  <a:lnTo>
                    <a:pt x="1718" y="160"/>
                  </a:lnTo>
                  <a:lnTo>
                    <a:pt x="1730" y="156"/>
                  </a:lnTo>
                  <a:lnTo>
                    <a:pt x="1730" y="156"/>
                  </a:lnTo>
                  <a:lnTo>
                    <a:pt x="1730" y="196"/>
                  </a:lnTo>
                  <a:lnTo>
                    <a:pt x="1732" y="234"/>
                  </a:lnTo>
                  <a:lnTo>
                    <a:pt x="1738" y="308"/>
                  </a:lnTo>
                  <a:lnTo>
                    <a:pt x="1740" y="346"/>
                  </a:lnTo>
                  <a:lnTo>
                    <a:pt x="1742" y="382"/>
                  </a:lnTo>
                  <a:lnTo>
                    <a:pt x="1738" y="420"/>
                  </a:lnTo>
                  <a:lnTo>
                    <a:pt x="1732" y="456"/>
                  </a:lnTo>
                  <a:lnTo>
                    <a:pt x="1732" y="456"/>
                  </a:lnTo>
                  <a:lnTo>
                    <a:pt x="1738" y="536"/>
                  </a:lnTo>
                  <a:lnTo>
                    <a:pt x="1746" y="614"/>
                  </a:lnTo>
                  <a:lnTo>
                    <a:pt x="1764" y="770"/>
                  </a:lnTo>
                  <a:lnTo>
                    <a:pt x="1772" y="848"/>
                  </a:lnTo>
                  <a:lnTo>
                    <a:pt x="1778" y="926"/>
                  </a:lnTo>
                  <a:lnTo>
                    <a:pt x="1778" y="966"/>
                  </a:lnTo>
                  <a:lnTo>
                    <a:pt x="1778" y="1004"/>
                  </a:lnTo>
                  <a:lnTo>
                    <a:pt x="1776" y="1044"/>
                  </a:lnTo>
                  <a:lnTo>
                    <a:pt x="1772" y="1084"/>
                  </a:lnTo>
                  <a:lnTo>
                    <a:pt x="1772" y="1084"/>
                  </a:lnTo>
                  <a:lnTo>
                    <a:pt x="1772" y="1114"/>
                  </a:lnTo>
                  <a:lnTo>
                    <a:pt x="1768" y="1146"/>
                  </a:lnTo>
                  <a:lnTo>
                    <a:pt x="1760" y="1178"/>
                  </a:lnTo>
                  <a:lnTo>
                    <a:pt x="1748" y="1210"/>
                  </a:lnTo>
                  <a:lnTo>
                    <a:pt x="1734" y="1242"/>
                  </a:lnTo>
                  <a:lnTo>
                    <a:pt x="1714" y="1270"/>
                  </a:lnTo>
                  <a:lnTo>
                    <a:pt x="1704" y="1284"/>
                  </a:lnTo>
                  <a:lnTo>
                    <a:pt x="1692" y="1296"/>
                  </a:lnTo>
                  <a:lnTo>
                    <a:pt x="1680" y="1306"/>
                  </a:lnTo>
                  <a:lnTo>
                    <a:pt x="1666" y="1316"/>
                  </a:lnTo>
                  <a:lnTo>
                    <a:pt x="1666" y="1316"/>
                  </a:lnTo>
                  <a:lnTo>
                    <a:pt x="1650" y="1332"/>
                  </a:lnTo>
                  <a:lnTo>
                    <a:pt x="1632" y="1346"/>
                  </a:lnTo>
                  <a:lnTo>
                    <a:pt x="1614" y="1358"/>
                  </a:lnTo>
                  <a:lnTo>
                    <a:pt x="1594" y="1368"/>
                  </a:lnTo>
                  <a:lnTo>
                    <a:pt x="1554" y="1388"/>
                  </a:lnTo>
                  <a:lnTo>
                    <a:pt x="1510" y="1402"/>
                  </a:lnTo>
                  <a:lnTo>
                    <a:pt x="1466" y="1416"/>
                  </a:lnTo>
                  <a:lnTo>
                    <a:pt x="1422" y="1426"/>
                  </a:lnTo>
                  <a:lnTo>
                    <a:pt x="1334" y="1448"/>
                  </a:lnTo>
                  <a:lnTo>
                    <a:pt x="1334" y="1448"/>
                  </a:lnTo>
                  <a:lnTo>
                    <a:pt x="1256" y="1452"/>
                  </a:lnTo>
                  <a:lnTo>
                    <a:pt x="1216" y="1452"/>
                  </a:lnTo>
                  <a:lnTo>
                    <a:pt x="1178" y="1448"/>
                  </a:lnTo>
                  <a:lnTo>
                    <a:pt x="1142" y="1442"/>
                  </a:lnTo>
                  <a:lnTo>
                    <a:pt x="1124" y="1436"/>
                  </a:lnTo>
                  <a:lnTo>
                    <a:pt x="1108" y="1430"/>
                  </a:lnTo>
                  <a:lnTo>
                    <a:pt x="1090" y="1424"/>
                  </a:lnTo>
                  <a:lnTo>
                    <a:pt x="1074" y="1414"/>
                  </a:lnTo>
                  <a:lnTo>
                    <a:pt x="1060" y="1404"/>
                  </a:lnTo>
                  <a:lnTo>
                    <a:pt x="1044" y="1394"/>
                  </a:lnTo>
                  <a:lnTo>
                    <a:pt x="1044" y="1394"/>
                  </a:lnTo>
                  <a:lnTo>
                    <a:pt x="1032" y="1386"/>
                  </a:lnTo>
                  <a:lnTo>
                    <a:pt x="1024" y="1378"/>
                  </a:lnTo>
                  <a:lnTo>
                    <a:pt x="1018" y="1368"/>
                  </a:lnTo>
                  <a:lnTo>
                    <a:pt x="1012" y="1358"/>
                  </a:lnTo>
                  <a:lnTo>
                    <a:pt x="1002" y="1336"/>
                  </a:lnTo>
                  <a:lnTo>
                    <a:pt x="996" y="1326"/>
                  </a:lnTo>
                  <a:lnTo>
                    <a:pt x="986" y="1316"/>
                  </a:lnTo>
                  <a:lnTo>
                    <a:pt x="986" y="1316"/>
                  </a:lnTo>
                  <a:lnTo>
                    <a:pt x="978" y="1292"/>
                  </a:lnTo>
                  <a:lnTo>
                    <a:pt x="972" y="1266"/>
                  </a:lnTo>
                  <a:lnTo>
                    <a:pt x="966" y="1238"/>
                  </a:lnTo>
                  <a:lnTo>
                    <a:pt x="960" y="1210"/>
                  </a:lnTo>
                  <a:lnTo>
                    <a:pt x="954" y="1154"/>
                  </a:lnTo>
                  <a:lnTo>
                    <a:pt x="952" y="1096"/>
                  </a:lnTo>
                  <a:lnTo>
                    <a:pt x="952" y="1036"/>
                  </a:lnTo>
                  <a:lnTo>
                    <a:pt x="952" y="978"/>
                  </a:lnTo>
                  <a:lnTo>
                    <a:pt x="952" y="864"/>
                  </a:lnTo>
                  <a:lnTo>
                    <a:pt x="952" y="864"/>
                  </a:lnTo>
                  <a:lnTo>
                    <a:pt x="950" y="832"/>
                  </a:lnTo>
                  <a:lnTo>
                    <a:pt x="950" y="798"/>
                  </a:lnTo>
                  <a:lnTo>
                    <a:pt x="952" y="782"/>
                  </a:lnTo>
                  <a:lnTo>
                    <a:pt x="954" y="766"/>
                  </a:lnTo>
                  <a:lnTo>
                    <a:pt x="960" y="750"/>
                  </a:lnTo>
                  <a:lnTo>
                    <a:pt x="968" y="736"/>
                  </a:lnTo>
                  <a:lnTo>
                    <a:pt x="968" y="736"/>
                  </a:lnTo>
                  <a:lnTo>
                    <a:pt x="988" y="724"/>
                  </a:lnTo>
                  <a:lnTo>
                    <a:pt x="1010" y="714"/>
                  </a:lnTo>
                  <a:lnTo>
                    <a:pt x="1054" y="694"/>
                  </a:lnTo>
                  <a:lnTo>
                    <a:pt x="1100" y="676"/>
                  </a:lnTo>
                  <a:lnTo>
                    <a:pt x="1146" y="660"/>
                  </a:lnTo>
                  <a:lnTo>
                    <a:pt x="1146" y="660"/>
                  </a:lnTo>
                  <a:lnTo>
                    <a:pt x="1148" y="654"/>
                  </a:lnTo>
                  <a:lnTo>
                    <a:pt x="1150" y="650"/>
                  </a:lnTo>
                  <a:lnTo>
                    <a:pt x="1150" y="638"/>
                  </a:lnTo>
                  <a:lnTo>
                    <a:pt x="1146" y="626"/>
                  </a:lnTo>
                  <a:lnTo>
                    <a:pt x="1142" y="614"/>
                  </a:lnTo>
                  <a:lnTo>
                    <a:pt x="1142" y="614"/>
                  </a:lnTo>
                  <a:lnTo>
                    <a:pt x="1136" y="608"/>
                  </a:lnTo>
                  <a:lnTo>
                    <a:pt x="1130" y="606"/>
                  </a:lnTo>
                  <a:lnTo>
                    <a:pt x="1124" y="608"/>
                  </a:lnTo>
                  <a:lnTo>
                    <a:pt x="1118" y="610"/>
                  </a:lnTo>
                  <a:lnTo>
                    <a:pt x="1106" y="620"/>
                  </a:lnTo>
                  <a:lnTo>
                    <a:pt x="1100" y="622"/>
                  </a:lnTo>
                  <a:lnTo>
                    <a:pt x="1094" y="622"/>
                  </a:lnTo>
                  <a:lnTo>
                    <a:pt x="1094" y="622"/>
                  </a:lnTo>
                  <a:lnTo>
                    <a:pt x="1056" y="636"/>
                  </a:lnTo>
                  <a:lnTo>
                    <a:pt x="1018" y="650"/>
                  </a:lnTo>
                  <a:lnTo>
                    <a:pt x="998" y="660"/>
                  </a:lnTo>
                  <a:lnTo>
                    <a:pt x="980" y="668"/>
                  </a:lnTo>
                  <a:lnTo>
                    <a:pt x="962" y="680"/>
                  </a:lnTo>
                  <a:lnTo>
                    <a:pt x="946" y="694"/>
                  </a:lnTo>
                  <a:lnTo>
                    <a:pt x="946" y="694"/>
                  </a:lnTo>
                  <a:lnTo>
                    <a:pt x="892" y="680"/>
                  </a:lnTo>
                  <a:lnTo>
                    <a:pt x="836" y="666"/>
                  </a:lnTo>
                  <a:lnTo>
                    <a:pt x="778" y="650"/>
                  </a:lnTo>
                  <a:lnTo>
                    <a:pt x="724" y="636"/>
                  </a:lnTo>
                  <a:lnTo>
                    <a:pt x="724" y="636"/>
                  </a:lnTo>
                  <a:lnTo>
                    <a:pt x="708" y="642"/>
                  </a:lnTo>
                  <a:lnTo>
                    <a:pt x="702" y="646"/>
                  </a:lnTo>
                  <a:lnTo>
                    <a:pt x="698" y="650"/>
                  </a:lnTo>
                  <a:lnTo>
                    <a:pt x="698" y="654"/>
                  </a:lnTo>
                  <a:lnTo>
                    <a:pt x="698" y="654"/>
                  </a:lnTo>
                  <a:lnTo>
                    <a:pt x="698" y="662"/>
                  </a:lnTo>
                  <a:lnTo>
                    <a:pt x="700" y="668"/>
                  </a:lnTo>
                  <a:lnTo>
                    <a:pt x="704" y="674"/>
                  </a:lnTo>
                  <a:lnTo>
                    <a:pt x="706" y="678"/>
                  </a:lnTo>
                  <a:lnTo>
                    <a:pt x="718" y="684"/>
                  </a:lnTo>
                  <a:lnTo>
                    <a:pt x="730" y="686"/>
                  </a:lnTo>
                  <a:lnTo>
                    <a:pt x="758" y="690"/>
                  </a:lnTo>
                  <a:lnTo>
                    <a:pt x="772" y="694"/>
                  </a:lnTo>
                  <a:lnTo>
                    <a:pt x="784" y="696"/>
                  </a:lnTo>
                  <a:lnTo>
                    <a:pt x="784" y="696"/>
                  </a:lnTo>
                  <a:lnTo>
                    <a:pt x="816" y="710"/>
                  </a:lnTo>
                  <a:lnTo>
                    <a:pt x="844" y="722"/>
                  </a:lnTo>
                  <a:lnTo>
                    <a:pt x="898" y="750"/>
                  </a:lnTo>
                  <a:lnTo>
                    <a:pt x="898" y="750"/>
                  </a:lnTo>
                  <a:lnTo>
                    <a:pt x="898" y="766"/>
                  </a:lnTo>
                  <a:lnTo>
                    <a:pt x="898" y="782"/>
                  </a:lnTo>
                  <a:lnTo>
                    <a:pt x="902" y="812"/>
                  </a:lnTo>
                  <a:lnTo>
                    <a:pt x="904" y="826"/>
                  </a:lnTo>
                  <a:lnTo>
                    <a:pt x="906" y="840"/>
                  </a:lnTo>
                  <a:lnTo>
                    <a:pt x="904" y="856"/>
                  </a:lnTo>
                  <a:lnTo>
                    <a:pt x="902" y="872"/>
                  </a:lnTo>
                  <a:lnTo>
                    <a:pt x="902" y="872"/>
                  </a:lnTo>
                  <a:lnTo>
                    <a:pt x="900" y="908"/>
                  </a:lnTo>
                  <a:lnTo>
                    <a:pt x="900" y="948"/>
                  </a:lnTo>
                  <a:lnTo>
                    <a:pt x="902" y="988"/>
                  </a:lnTo>
                  <a:lnTo>
                    <a:pt x="906" y="1030"/>
                  </a:lnTo>
                  <a:lnTo>
                    <a:pt x="914" y="1116"/>
                  </a:lnTo>
                  <a:lnTo>
                    <a:pt x="916" y="1160"/>
                  </a:lnTo>
                  <a:lnTo>
                    <a:pt x="916" y="1202"/>
                  </a:lnTo>
                  <a:lnTo>
                    <a:pt x="914" y="1244"/>
                  </a:lnTo>
                  <a:lnTo>
                    <a:pt x="908" y="1284"/>
                  </a:lnTo>
                  <a:lnTo>
                    <a:pt x="904" y="1304"/>
                  </a:lnTo>
                  <a:lnTo>
                    <a:pt x="898" y="1322"/>
                  </a:lnTo>
                  <a:lnTo>
                    <a:pt x="892" y="1340"/>
                  </a:lnTo>
                  <a:lnTo>
                    <a:pt x="884" y="1358"/>
                  </a:lnTo>
                  <a:lnTo>
                    <a:pt x="874" y="1374"/>
                  </a:lnTo>
                  <a:lnTo>
                    <a:pt x="862" y="1390"/>
                  </a:lnTo>
                  <a:lnTo>
                    <a:pt x="850" y="1406"/>
                  </a:lnTo>
                  <a:lnTo>
                    <a:pt x="836" y="1420"/>
                  </a:lnTo>
                  <a:lnTo>
                    <a:pt x="820" y="1434"/>
                  </a:lnTo>
                  <a:lnTo>
                    <a:pt x="802" y="1446"/>
                  </a:lnTo>
                  <a:lnTo>
                    <a:pt x="782" y="1458"/>
                  </a:lnTo>
                  <a:lnTo>
                    <a:pt x="762" y="1468"/>
                  </a:lnTo>
                  <a:lnTo>
                    <a:pt x="762" y="1468"/>
                  </a:lnTo>
                  <a:lnTo>
                    <a:pt x="706" y="1478"/>
                  </a:lnTo>
                  <a:lnTo>
                    <a:pt x="650" y="1492"/>
                  </a:lnTo>
                  <a:lnTo>
                    <a:pt x="594" y="1504"/>
                  </a:lnTo>
                  <a:lnTo>
                    <a:pt x="538" y="1512"/>
                  </a:lnTo>
                  <a:lnTo>
                    <a:pt x="510" y="1516"/>
                  </a:lnTo>
                  <a:lnTo>
                    <a:pt x="482" y="1516"/>
                  </a:lnTo>
                  <a:lnTo>
                    <a:pt x="454" y="1516"/>
                  </a:lnTo>
                  <a:lnTo>
                    <a:pt x="428" y="1514"/>
                  </a:lnTo>
                  <a:lnTo>
                    <a:pt x="400" y="1510"/>
                  </a:lnTo>
                  <a:lnTo>
                    <a:pt x="372" y="1504"/>
                  </a:lnTo>
                  <a:lnTo>
                    <a:pt x="346" y="1496"/>
                  </a:lnTo>
                  <a:lnTo>
                    <a:pt x="318" y="1484"/>
                  </a:lnTo>
                  <a:lnTo>
                    <a:pt x="318" y="1484"/>
                  </a:lnTo>
                  <a:lnTo>
                    <a:pt x="276" y="1466"/>
                  </a:lnTo>
                  <a:lnTo>
                    <a:pt x="234" y="1446"/>
                  </a:lnTo>
                  <a:lnTo>
                    <a:pt x="192" y="1424"/>
                  </a:lnTo>
                  <a:lnTo>
                    <a:pt x="172" y="1412"/>
                  </a:lnTo>
                  <a:lnTo>
                    <a:pt x="152" y="1398"/>
                  </a:lnTo>
                  <a:lnTo>
                    <a:pt x="134" y="1384"/>
                  </a:lnTo>
                  <a:lnTo>
                    <a:pt x="116" y="1370"/>
                  </a:lnTo>
                  <a:lnTo>
                    <a:pt x="100" y="1354"/>
                  </a:lnTo>
                  <a:lnTo>
                    <a:pt x="86" y="1336"/>
                  </a:lnTo>
                  <a:lnTo>
                    <a:pt x="72" y="1318"/>
                  </a:lnTo>
                  <a:lnTo>
                    <a:pt x="62" y="1298"/>
                  </a:lnTo>
                  <a:lnTo>
                    <a:pt x="52" y="1276"/>
                  </a:lnTo>
                  <a:lnTo>
                    <a:pt x="46" y="1254"/>
                  </a:lnTo>
                  <a:lnTo>
                    <a:pt x="46" y="1254"/>
                  </a:lnTo>
                  <a:lnTo>
                    <a:pt x="32" y="1136"/>
                  </a:lnTo>
                  <a:lnTo>
                    <a:pt x="20" y="1012"/>
                  </a:lnTo>
                  <a:lnTo>
                    <a:pt x="14" y="950"/>
                  </a:lnTo>
                  <a:lnTo>
                    <a:pt x="10" y="886"/>
                  </a:lnTo>
                  <a:lnTo>
                    <a:pt x="8" y="820"/>
                  </a:lnTo>
                  <a:lnTo>
                    <a:pt x="8" y="756"/>
                  </a:lnTo>
                  <a:lnTo>
                    <a:pt x="8" y="756"/>
                  </a:lnTo>
                  <a:lnTo>
                    <a:pt x="8" y="670"/>
                  </a:lnTo>
                  <a:lnTo>
                    <a:pt x="8" y="586"/>
                  </a:lnTo>
                  <a:lnTo>
                    <a:pt x="10" y="422"/>
                  </a:lnTo>
                  <a:lnTo>
                    <a:pt x="12" y="260"/>
                  </a:lnTo>
                  <a:lnTo>
                    <a:pt x="10" y="178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2" y="90"/>
                  </a:lnTo>
                  <a:lnTo>
                    <a:pt x="0" y="84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8" y="68"/>
                  </a:lnTo>
                  <a:lnTo>
                    <a:pt x="16" y="68"/>
                  </a:lnTo>
                  <a:lnTo>
                    <a:pt x="32" y="70"/>
                  </a:lnTo>
                  <a:lnTo>
                    <a:pt x="48" y="76"/>
                  </a:lnTo>
                  <a:lnTo>
                    <a:pt x="64" y="84"/>
                  </a:lnTo>
                  <a:lnTo>
                    <a:pt x="78" y="88"/>
                  </a:lnTo>
                  <a:lnTo>
                    <a:pt x="86" y="88"/>
                  </a:lnTo>
                  <a:lnTo>
                    <a:pt x="92" y="88"/>
                  </a:lnTo>
                  <a:lnTo>
                    <a:pt x="98" y="84"/>
                  </a:lnTo>
                  <a:lnTo>
                    <a:pt x="104" y="80"/>
                  </a:lnTo>
                  <a:lnTo>
                    <a:pt x="108" y="72"/>
                  </a:lnTo>
                  <a:lnTo>
                    <a:pt x="112" y="62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48" y="18"/>
                  </a:lnTo>
                  <a:lnTo>
                    <a:pt x="178" y="38"/>
                  </a:lnTo>
                  <a:lnTo>
                    <a:pt x="238" y="76"/>
                  </a:lnTo>
                  <a:lnTo>
                    <a:pt x="266" y="94"/>
                  </a:lnTo>
                  <a:lnTo>
                    <a:pt x="298" y="110"/>
                  </a:lnTo>
                  <a:lnTo>
                    <a:pt x="314" y="116"/>
                  </a:lnTo>
                  <a:lnTo>
                    <a:pt x="332" y="120"/>
                  </a:lnTo>
                  <a:lnTo>
                    <a:pt x="348" y="124"/>
                  </a:lnTo>
                  <a:lnTo>
                    <a:pt x="366" y="124"/>
                  </a:lnTo>
                  <a:lnTo>
                    <a:pt x="366" y="124"/>
                  </a:lnTo>
                  <a:close/>
                </a:path>
              </a:pathLst>
            </a:custGeom>
            <a:solidFill>
              <a:srgbClr val="bbd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38"/>
            <p:cNvSpPr/>
            <p:nvPr/>
          </p:nvSpPr>
          <p:spPr>
            <a:xfrm>
              <a:off x="6813720" y="8385120"/>
              <a:ext cx="149040" cy="168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94" h="106">
                  <a:moveTo>
                    <a:pt x="94" y="0"/>
                  </a:moveTo>
                  <a:lnTo>
                    <a:pt x="94" y="0"/>
                  </a:lnTo>
                  <a:lnTo>
                    <a:pt x="94" y="10"/>
                  </a:lnTo>
                  <a:lnTo>
                    <a:pt x="94" y="20"/>
                  </a:lnTo>
                  <a:lnTo>
                    <a:pt x="92" y="38"/>
                  </a:lnTo>
                  <a:lnTo>
                    <a:pt x="88" y="58"/>
                  </a:lnTo>
                  <a:lnTo>
                    <a:pt x="86" y="78"/>
                  </a:lnTo>
                  <a:lnTo>
                    <a:pt x="86" y="78"/>
                  </a:lnTo>
                  <a:lnTo>
                    <a:pt x="68" y="90"/>
                  </a:lnTo>
                  <a:lnTo>
                    <a:pt x="50" y="98"/>
                  </a:lnTo>
                  <a:lnTo>
                    <a:pt x="30" y="104"/>
                  </a:lnTo>
                  <a:lnTo>
                    <a:pt x="8" y="10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46" y="26"/>
                  </a:lnTo>
                  <a:lnTo>
                    <a:pt x="70" y="12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66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39"/>
            <p:cNvSpPr/>
            <p:nvPr/>
          </p:nvSpPr>
          <p:spPr>
            <a:xfrm>
              <a:off x="4857840" y="8591400"/>
              <a:ext cx="158400" cy="161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00" h="102">
                  <a:moveTo>
                    <a:pt x="96" y="32"/>
                  </a:moveTo>
                  <a:lnTo>
                    <a:pt x="100" y="100"/>
                  </a:lnTo>
                  <a:lnTo>
                    <a:pt x="100" y="100"/>
                  </a:lnTo>
                  <a:lnTo>
                    <a:pt x="86" y="102"/>
                  </a:lnTo>
                  <a:lnTo>
                    <a:pt x="74" y="102"/>
                  </a:lnTo>
                  <a:lnTo>
                    <a:pt x="62" y="100"/>
                  </a:lnTo>
                  <a:lnTo>
                    <a:pt x="52" y="98"/>
                  </a:lnTo>
                  <a:lnTo>
                    <a:pt x="30" y="90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6" y="70"/>
                  </a:lnTo>
                  <a:lnTo>
                    <a:pt x="2" y="60"/>
                  </a:lnTo>
                  <a:lnTo>
                    <a:pt x="0" y="38"/>
                  </a:lnTo>
                  <a:lnTo>
                    <a:pt x="2" y="18"/>
                  </a:lnTo>
                  <a:lnTo>
                    <a:pt x="4" y="0"/>
                  </a:lnTo>
                  <a:lnTo>
                    <a:pt x="4" y="0"/>
                  </a:lnTo>
                  <a:lnTo>
                    <a:pt x="32" y="2"/>
                  </a:lnTo>
                  <a:lnTo>
                    <a:pt x="58" y="6"/>
                  </a:lnTo>
                  <a:lnTo>
                    <a:pt x="70" y="8"/>
                  </a:lnTo>
                  <a:lnTo>
                    <a:pt x="82" y="14"/>
                  </a:lnTo>
                  <a:lnTo>
                    <a:pt x="90" y="22"/>
                  </a:lnTo>
                  <a:lnTo>
                    <a:pt x="96" y="32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c66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0"/>
            <p:cNvSpPr/>
            <p:nvPr/>
          </p:nvSpPr>
          <p:spPr>
            <a:xfrm>
              <a:off x="6226200" y="8594640"/>
              <a:ext cx="218880" cy="123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38" h="78">
                  <a:moveTo>
                    <a:pt x="138" y="0"/>
                  </a:moveTo>
                  <a:lnTo>
                    <a:pt x="138" y="0"/>
                  </a:lnTo>
                  <a:lnTo>
                    <a:pt x="134" y="6"/>
                  </a:lnTo>
                  <a:lnTo>
                    <a:pt x="130" y="12"/>
                  </a:lnTo>
                  <a:lnTo>
                    <a:pt x="130" y="24"/>
                  </a:lnTo>
                  <a:lnTo>
                    <a:pt x="130" y="38"/>
                  </a:lnTo>
                  <a:lnTo>
                    <a:pt x="130" y="44"/>
                  </a:lnTo>
                  <a:lnTo>
                    <a:pt x="128" y="52"/>
                  </a:lnTo>
                  <a:lnTo>
                    <a:pt x="128" y="52"/>
                  </a:lnTo>
                  <a:lnTo>
                    <a:pt x="114" y="58"/>
                  </a:lnTo>
                  <a:lnTo>
                    <a:pt x="98" y="64"/>
                  </a:lnTo>
                  <a:lnTo>
                    <a:pt x="84" y="70"/>
                  </a:lnTo>
                  <a:lnTo>
                    <a:pt x="66" y="74"/>
                  </a:lnTo>
                  <a:lnTo>
                    <a:pt x="34" y="78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2" y="54"/>
                  </a:lnTo>
                  <a:lnTo>
                    <a:pt x="2" y="40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34" y="18"/>
                  </a:lnTo>
                  <a:lnTo>
                    <a:pt x="68" y="12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c66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1"/>
            <p:cNvSpPr/>
            <p:nvPr/>
          </p:nvSpPr>
          <p:spPr>
            <a:xfrm>
              <a:off x="7029360" y="8613720"/>
              <a:ext cx="320400" cy="87300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873000"/>
                <a:gd name="textAreaBottom" fmla="*/ 873360 h 873000"/>
              </a:gdLst>
              <a:ahLst/>
              <a:rect l="textAreaLeft" t="textAreaTop" r="textAreaRight" b="textAreaBottom"/>
              <a:pathLst>
                <a:path w="202" h="550">
                  <a:moveTo>
                    <a:pt x="202" y="24"/>
                  </a:moveTo>
                  <a:lnTo>
                    <a:pt x="202" y="24"/>
                  </a:lnTo>
                  <a:lnTo>
                    <a:pt x="200" y="94"/>
                  </a:lnTo>
                  <a:lnTo>
                    <a:pt x="202" y="166"/>
                  </a:lnTo>
                  <a:lnTo>
                    <a:pt x="202" y="236"/>
                  </a:lnTo>
                  <a:lnTo>
                    <a:pt x="202" y="272"/>
                  </a:lnTo>
                  <a:lnTo>
                    <a:pt x="200" y="306"/>
                  </a:lnTo>
                  <a:lnTo>
                    <a:pt x="196" y="340"/>
                  </a:lnTo>
                  <a:lnTo>
                    <a:pt x="190" y="374"/>
                  </a:lnTo>
                  <a:lnTo>
                    <a:pt x="182" y="406"/>
                  </a:lnTo>
                  <a:lnTo>
                    <a:pt x="172" y="438"/>
                  </a:lnTo>
                  <a:lnTo>
                    <a:pt x="158" y="468"/>
                  </a:lnTo>
                  <a:lnTo>
                    <a:pt x="140" y="498"/>
                  </a:lnTo>
                  <a:lnTo>
                    <a:pt x="120" y="524"/>
                  </a:lnTo>
                  <a:lnTo>
                    <a:pt x="96" y="550"/>
                  </a:lnTo>
                  <a:lnTo>
                    <a:pt x="96" y="550"/>
                  </a:lnTo>
                  <a:lnTo>
                    <a:pt x="74" y="550"/>
                  </a:lnTo>
                  <a:lnTo>
                    <a:pt x="52" y="548"/>
                  </a:lnTo>
                  <a:lnTo>
                    <a:pt x="44" y="546"/>
                  </a:lnTo>
                  <a:lnTo>
                    <a:pt x="36" y="540"/>
                  </a:lnTo>
                  <a:lnTo>
                    <a:pt x="30" y="534"/>
                  </a:lnTo>
                  <a:lnTo>
                    <a:pt x="26" y="524"/>
                  </a:lnTo>
                  <a:lnTo>
                    <a:pt x="26" y="524"/>
                  </a:lnTo>
                  <a:lnTo>
                    <a:pt x="24" y="498"/>
                  </a:lnTo>
                  <a:lnTo>
                    <a:pt x="20" y="474"/>
                  </a:lnTo>
                  <a:lnTo>
                    <a:pt x="18" y="450"/>
                  </a:lnTo>
                  <a:lnTo>
                    <a:pt x="18" y="438"/>
                  </a:lnTo>
                  <a:lnTo>
                    <a:pt x="18" y="428"/>
                  </a:lnTo>
                  <a:lnTo>
                    <a:pt x="18" y="428"/>
                  </a:lnTo>
                  <a:lnTo>
                    <a:pt x="26" y="430"/>
                  </a:lnTo>
                  <a:lnTo>
                    <a:pt x="32" y="430"/>
                  </a:lnTo>
                  <a:lnTo>
                    <a:pt x="44" y="426"/>
                  </a:lnTo>
                  <a:lnTo>
                    <a:pt x="56" y="420"/>
                  </a:lnTo>
                  <a:lnTo>
                    <a:pt x="68" y="410"/>
                  </a:lnTo>
                  <a:lnTo>
                    <a:pt x="78" y="398"/>
                  </a:lnTo>
                  <a:lnTo>
                    <a:pt x="88" y="386"/>
                  </a:lnTo>
                  <a:lnTo>
                    <a:pt x="106" y="362"/>
                  </a:lnTo>
                  <a:lnTo>
                    <a:pt x="106" y="362"/>
                  </a:lnTo>
                  <a:lnTo>
                    <a:pt x="120" y="330"/>
                  </a:lnTo>
                  <a:lnTo>
                    <a:pt x="132" y="298"/>
                  </a:lnTo>
                  <a:lnTo>
                    <a:pt x="140" y="266"/>
                  </a:lnTo>
                  <a:lnTo>
                    <a:pt x="148" y="232"/>
                  </a:lnTo>
                  <a:lnTo>
                    <a:pt x="164" y="166"/>
                  </a:lnTo>
                  <a:lnTo>
                    <a:pt x="172" y="132"/>
                  </a:lnTo>
                  <a:lnTo>
                    <a:pt x="182" y="100"/>
                  </a:lnTo>
                  <a:lnTo>
                    <a:pt x="182" y="100"/>
                  </a:lnTo>
                  <a:lnTo>
                    <a:pt x="180" y="94"/>
                  </a:lnTo>
                  <a:lnTo>
                    <a:pt x="176" y="90"/>
                  </a:lnTo>
                  <a:lnTo>
                    <a:pt x="172" y="88"/>
                  </a:lnTo>
                  <a:lnTo>
                    <a:pt x="166" y="86"/>
                  </a:lnTo>
                  <a:lnTo>
                    <a:pt x="154" y="84"/>
                  </a:lnTo>
                  <a:lnTo>
                    <a:pt x="142" y="86"/>
                  </a:lnTo>
                  <a:lnTo>
                    <a:pt x="142" y="86"/>
                  </a:lnTo>
                  <a:lnTo>
                    <a:pt x="132" y="100"/>
                  </a:lnTo>
                  <a:lnTo>
                    <a:pt x="124" y="114"/>
                  </a:lnTo>
                  <a:lnTo>
                    <a:pt x="120" y="130"/>
                  </a:lnTo>
                  <a:lnTo>
                    <a:pt x="116" y="148"/>
                  </a:lnTo>
                  <a:lnTo>
                    <a:pt x="112" y="182"/>
                  </a:lnTo>
                  <a:lnTo>
                    <a:pt x="108" y="198"/>
                  </a:lnTo>
                  <a:lnTo>
                    <a:pt x="104" y="214"/>
                  </a:lnTo>
                  <a:lnTo>
                    <a:pt x="104" y="214"/>
                  </a:lnTo>
                  <a:lnTo>
                    <a:pt x="90" y="262"/>
                  </a:lnTo>
                  <a:lnTo>
                    <a:pt x="84" y="288"/>
                  </a:lnTo>
                  <a:lnTo>
                    <a:pt x="76" y="312"/>
                  </a:lnTo>
                  <a:lnTo>
                    <a:pt x="64" y="336"/>
                  </a:lnTo>
                  <a:lnTo>
                    <a:pt x="50" y="358"/>
                  </a:lnTo>
                  <a:lnTo>
                    <a:pt x="34" y="378"/>
                  </a:lnTo>
                  <a:lnTo>
                    <a:pt x="14" y="396"/>
                  </a:lnTo>
                  <a:lnTo>
                    <a:pt x="14" y="396"/>
                  </a:lnTo>
                  <a:lnTo>
                    <a:pt x="8" y="340"/>
                  </a:lnTo>
                  <a:lnTo>
                    <a:pt x="6" y="282"/>
                  </a:lnTo>
                  <a:lnTo>
                    <a:pt x="6" y="224"/>
                  </a:lnTo>
                  <a:lnTo>
                    <a:pt x="8" y="196"/>
                  </a:lnTo>
                  <a:lnTo>
                    <a:pt x="10" y="166"/>
                  </a:lnTo>
                  <a:lnTo>
                    <a:pt x="10" y="166"/>
                  </a:lnTo>
                  <a:lnTo>
                    <a:pt x="6" y="148"/>
                  </a:lnTo>
                  <a:lnTo>
                    <a:pt x="4" y="130"/>
                  </a:lnTo>
                  <a:lnTo>
                    <a:pt x="4" y="92"/>
                  </a:lnTo>
                  <a:lnTo>
                    <a:pt x="4" y="52"/>
                  </a:lnTo>
                  <a:lnTo>
                    <a:pt x="2" y="3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14"/>
                  </a:lnTo>
                  <a:lnTo>
                    <a:pt x="46" y="16"/>
                  </a:lnTo>
                  <a:lnTo>
                    <a:pt x="94" y="12"/>
                  </a:lnTo>
                  <a:lnTo>
                    <a:pt x="142" y="8"/>
                  </a:lnTo>
                  <a:lnTo>
                    <a:pt x="190" y="0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b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2"/>
            <p:cNvSpPr/>
            <p:nvPr/>
          </p:nvSpPr>
          <p:spPr>
            <a:xfrm>
              <a:off x="5460840" y="8667720"/>
              <a:ext cx="323640" cy="666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04" h="42">
                  <a:moveTo>
                    <a:pt x="204" y="10"/>
                  </a:moveTo>
                  <a:lnTo>
                    <a:pt x="204" y="18"/>
                  </a:lnTo>
                  <a:lnTo>
                    <a:pt x="204" y="18"/>
                  </a:lnTo>
                  <a:lnTo>
                    <a:pt x="182" y="26"/>
                  </a:lnTo>
                  <a:lnTo>
                    <a:pt x="158" y="30"/>
                  </a:lnTo>
                  <a:lnTo>
                    <a:pt x="136" y="34"/>
                  </a:lnTo>
                  <a:lnTo>
                    <a:pt x="112" y="38"/>
                  </a:lnTo>
                  <a:lnTo>
                    <a:pt x="62" y="4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6" y="32"/>
                  </a:lnTo>
                  <a:lnTo>
                    <a:pt x="2" y="2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58" y="0"/>
                  </a:lnTo>
                  <a:lnTo>
                    <a:pt x="108" y="2"/>
                  </a:lnTo>
                  <a:lnTo>
                    <a:pt x="154" y="4"/>
                  </a:lnTo>
                  <a:lnTo>
                    <a:pt x="204" y="10"/>
                  </a:lnTo>
                  <a:lnTo>
                    <a:pt x="204" y="10"/>
                  </a:lnTo>
                  <a:close/>
                </a:path>
              </a:pathLst>
            </a:cu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43"/>
            <p:cNvSpPr/>
            <p:nvPr/>
          </p:nvSpPr>
          <p:spPr>
            <a:xfrm>
              <a:off x="5807160" y="10525320"/>
              <a:ext cx="1565280" cy="216828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2168280"/>
                <a:gd name="textAreaBottom" fmla="*/ 2168640 h 2168280"/>
              </a:gdLst>
              <a:ahLst/>
              <a:rect l="textAreaLeft" t="textAreaTop" r="textAreaRight" b="textAreaBottom"/>
              <a:pathLst>
                <a:path w="986" h="1366">
                  <a:moveTo>
                    <a:pt x="688" y="16"/>
                  </a:moveTo>
                  <a:lnTo>
                    <a:pt x="688" y="16"/>
                  </a:lnTo>
                  <a:lnTo>
                    <a:pt x="692" y="102"/>
                  </a:lnTo>
                  <a:lnTo>
                    <a:pt x="694" y="186"/>
                  </a:lnTo>
                  <a:lnTo>
                    <a:pt x="698" y="348"/>
                  </a:lnTo>
                  <a:lnTo>
                    <a:pt x="700" y="428"/>
                  </a:lnTo>
                  <a:lnTo>
                    <a:pt x="706" y="506"/>
                  </a:lnTo>
                  <a:lnTo>
                    <a:pt x="714" y="584"/>
                  </a:lnTo>
                  <a:lnTo>
                    <a:pt x="728" y="662"/>
                  </a:lnTo>
                  <a:lnTo>
                    <a:pt x="728" y="662"/>
                  </a:lnTo>
                  <a:lnTo>
                    <a:pt x="766" y="716"/>
                  </a:lnTo>
                  <a:lnTo>
                    <a:pt x="802" y="770"/>
                  </a:lnTo>
                  <a:lnTo>
                    <a:pt x="836" y="824"/>
                  </a:lnTo>
                  <a:lnTo>
                    <a:pt x="870" y="882"/>
                  </a:lnTo>
                  <a:lnTo>
                    <a:pt x="900" y="940"/>
                  </a:lnTo>
                  <a:lnTo>
                    <a:pt x="930" y="998"/>
                  </a:lnTo>
                  <a:lnTo>
                    <a:pt x="956" y="1058"/>
                  </a:lnTo>
                  <a:lnTo>
                    <a:pt x="982" y="1120"/>
                  </a:lnTo>
                  <a:lnTo>
                    <a:pt x="982" y="1120"/>
                  </a:lnTo>
                  <a:lnTo>
                    <a:pt x="986" y="1146"/>
                  </a:lnTo>
                  <a:lnTo>
                    <a:pt x="984" y="1170"/>
                  </a:lnTo>
                  <a:lnTo>
                    <a:pt x="980" y="1194"/>
                  </a:lnTo>
                  <a:lnTo>
                    <a:pt x="972" y="1218"/>
                  </a:lnTo>
                  <a:lnTo>
                    <a:pt x="960" y="1240"/>
                  </a:lnTo>
                  <a:lnTo>
                    <a:pt x="944" y="1260"/>
                  </a:lnTo>
                  <a:lnTo>
                    <a:pt x="926" y="1278"/>
                  </a:lnTo>
                  <a:lnTo>
                    <a:pt x="904" y="1296"/>
                  </a:lnTo>
                  <a:lnTo>
                    <a:pt x="904" y="1296"/>
                  </a:lnTo>
                  <a:lnTo>
                    <a:pt x="882" y="1312"/>
                  </a:lnTo>
                  <a:lnTo>
                    <a:pt x="858" y="1324"/>
                  </a:lnTo>
                  <a:lnTo>
                    <a:pt x="832" y="1336"/>
                  </a:lnTo>
                  <a:lnTo>
                    <a:pt x="806" y="1346"/>
                  </a:lnTo>
                  <a:lnTo>
                    <a:pt x="778" y="1354"/>
                  </a:lnTo>
                  <a:lnTo>
                    <a:pt x="750" y="1358"/>
                  </a:lnTo>
                  <a:lnTo>
                    <a:pt x="722" y="1364"/>
                  </a:lnTo>
                  <a:lnTo>
                    <a:pt x="692" y="1366"/>
                  </a:lnTo>
                  <a:lnTo>
                    <a:pt x="664" y="1366"/>
                  </a:lnTo>
                  <a:lnTo>
                    <a:pt x="634" y="1366"/>
                  </a:lnTo>
                  <a:lnTo>
                    <a:pt x="576" y="1364"/>
                  </a:lnTo>
                  <a:lnTo>
                    <a:pt x="520" y="1358"/>
                  </a:lnTo>
                  <a:lnTo>
                    <a:pt x="468" y="1350"/>
                  </a:lnTo>
                  <a:lnTo>
                    <a:pt x="468" y="1350"/>
                  </a:lnTo>
                  <a:lnTo>
                    <a:pt x="452" y="1342"/>
                  </a:lnTo>
                  <a:lnTo>
                    <a:pt x="438" y="1336"/>
                  </a:lnTo>
                  <a:lnTo>
                    <a:pt x="406" y="1322"/>
                  </a:lnTo>
                  <a:lnTo>
                    <a:pt x="390" y="1314"/>
                  </a:lnTo>
                  <a:lnTo>
                    <a:pt x="376" y="1306"/>
                  </a:lnTo>
                  <a:lnTo>
                    <a:pt x="362" y="1296"/>
                  </a:lnTo>
                  <a:lnTo>
                    <a:pt x="348" y="1284"/>
                  </a:lnTo>
                  <a:lnTo>
                    <a:pt x="348" y="1284"/>
                  </a:lnTo>
                  <a:lnTo>
                    <a:pt x="338" y="1284"/>
                  </a:lnTo>
                  <a:lnTo>
                    <a:pt x="328" y="1280"/>
                  </a:lnTo>
                  <a:lnTo>
                    <a:pt x="322" y="1272"/>
                  </a:lnTo>
                  <a:lnTo>
                    <a:pt x="316" y="1262"/>
                  </a:lnTo>
                  <a:lnTo>
                    <a:pt x="310" y="1242"/>
                  </a:lnTo>
                  <a:lnTo>
                    <a:pt x="304" y="1220"/>
                  </a:lnTo>
                  <a:lnTo>
                    <a:pt x="304" y="1220"/>
                  </a:lnTo>
                  <a:lnTo>
                    <a:pt x="296" y="1202"/>
                  </a:lnTo>
                  <a:lnTo>
                    <a:pt x="286" y="1182"/>
                  </a:lnTo>
                  <a:lnTo>
                    <a:pt x="266" y="1146"/>
                  </a:lnTo>
                  <a:lnTo>
                    <a:pt x="256" y="1128"/>
                  </a:lnTo>
                  <a:lnTo>
                    <a:pt x="246" y="1110"/>
                  </a:lnTo>
                  <a:lnTo>
                    <a:pt x="240" y="1090"/>
                  </a:lnTo>
                  <a:lnTo>
                    <a:pt x="236" y="1070"/>
                  </a:lnTo>
                  <a:lnTo>
                    <a:pt x="236" y="1070"/>
                  </a:lnTo>
                  <a:lnTo>
                    <a:pt x="226" y="1058"/>
                  </a:lnTo>
                  <a:lnTo>
                    <a:pt x="214" y="1050"/>
                  </a:lnTo>
                  <a:lnTo>
                    <a:pt x="208" y="1046"/>
                  </a:lnTo>
                  <a:lnTo>
                    <a:pt x="202" y="1046"/>
                  </a:lnTo>
                  <a:lnTo>
                    <a:pt x="196" y="1046"/>
                  </a:lnTo>
                  <a:lnTo>
                    <a:pt x="190" y="1048"/>
                  </a:lnTo>
                  <a:lnTo>
                    <a:pt x="190" y="1048"/>
                  </a:lnTo>
                  <a:lnTo>
                    <a:pt x="182" y="1054"/>
                  </a:lnTo>
                  <a:lnTo>
                    <a:pt x="176" y="1062"/>
                  </a:lnTo>
                  <a:lnTo>
                    <a:pt x="172" y="1070"/>
                  </a:lnTo>
                  <a:lnTo>
                    <a:pt x="170" y="1078"/>
                  </a:lnTo>
                  <a:lnTo>
                    <a:pt x="170" y="1086"/>
                  </a:lnTo>
                  <a:lnTo>
                    <a:pt x="172" y="1094"/>
                  </a:lnTo>
                  <a:lnTo>
                    <a:pt x="178" y="1102"/>
                  </a:lnTo>
                  <a:lnTo>
                    <a:pt x="184" y="1108"/>
                  </a:lnTo>
                  <a:lnTo>
                    <a:pt x="208" y="1136"/>
                  </a:lnTo>
                  <a:lnTo>
                    <a:pt x="256" y="1252"/>
                  </a:lnTo>
                  <a:lnTo>
                    <a:pt x="256" y="1252"/>
                  </a:lnTo>
                  <a:lnTo>
                    <a:pt x="232" y="1254"/>
                  </a:lnTo>
                  <a:lnTo>
                    <a:pt x="206" y="1256"/>
                  </a:lnTo>
                  <a:lnTo>
                    <a:pt x="182" y="1254"/>
                  </a:lnTo>
                  <a:lnTo>
                    <a:pt x="156" y="1252"/>
                  </a:lnTo>
                  <a:lnTo>
                    <a:pt x="130" y="1248"/>
                  </a:lnTo>
                  <a:lnTo>
                    <a:pt x="106" y="1242"/>
                  </a:lnTo>
                  <a:lnTo>
                    <a:pt x="58" y="1228"/>
                  </a:lnTo>
                  <a:lnTo>
                    <a:pt x="46" y="1192"/>
                  </a:lnTo>
                  <a:lnTo>
                    <a:pt x="46" y="1192"/>
                  </a:lnTo>
                  <a:lnTo>
                    <a:pt x="48" y="1056"/>
                  </a:lnTo>
                  <a:lnTo>
                    <a:pt x="46" y="924"/>
                  </a:lnTo>
                  <a:lnTo>
                    <a:pt x="44" y="792"/>
                  </a:lnTo>
                  <a:lnTo>
                    <a:pt x="40" y="724"/>
                  </a:lnTo>
                  <a:lnTo>
                    <a:pt x="36" y="654"/>
                  </a:lnTo>
                  <a:lnTo>
                    <a:pt x="36" y="654"/>
                  </a:lnTo>
                  <a:lnTo>
                    <a:pt x="32" y="584"/>
                  </a:lnTo>
                  <a:lnTo>
                    <a:pt x="30" y="512"/>
                  </a:lnTo>
                  <a:lnTo>
                    <a:pt x="26" y="368"/>
                  </a:lnTo>
                  <a:lnTo>
                    <a:pt x="24" y="294"/>
                  </a:lnTo>
                  <a:lnTo>
                    <a:pt x="20" y="222"/>
                  </a:lnTo>
                  <a:lnTo>
                    <a:pt x="12" y="148"/>
                  </a:lnTo>
                  <a:lnTo>
                    <a:pt x="6" y="11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6" y="86"/>
                  </a:lnTo>
                  <a:lnTo>
                    <a:pt x="32" y="98"/>
                  </a:lnTo>
                  <a:lnTo>
                    <a:pt x="68" y="114"/>
                  </a:lnTo>
                  <a:lnTo>
                    <a:pt x="102" y="128"/>
                  </a:lnTo>
                  <a:lnTo>
                    <a:pt x="138" y="138"/>
                  </a:lnTo>
                  <a:lnTo>
                    <a:pt x="176" y="142"/>
                  </a:lnTo>
                  <a:lnTo>
                    <a:pt x="214" y="144"/>
                  </a:lnTo>
                  <a:lnTo>
                    <a:pt x="252" y="142"/>
                  </a:lnTo>
                  <a:lnTo>
                    <a:pt x="290" y="138"/>
                  </a:lnTo>
                  <a:lnTo>
                    <a:pt x="328" y="132"/>
                  </a:lnTo>
                  <a:lnTo>
                    <a:pt x="366" y="124"/>
                  </a:lnTo>
                  <a:lnTo>
                    <a:pt x="404" y="116"/>
                  </a:lnTo>
                  <a:lnTo>
                    <a:pt x="442" y="104"/>
                  </a:lnTo>
                  <a:lnTo>
                    <a:pt x="516" y="82"/>
                  </a:lnTo>
                  <a:lnTo>
                    <a:pt x="588" y="58"/>
                  </a:lnTo>
                  <a:lnTo>
                    <a:pt x="588" y="58"/>
                  </a:lnTo>
                  <a:lnTo>
                    <a:pt x="610" y="48"/>
                  </a:lnTo>
                  <a:lnTo>
                    <a:pt x="634" y="34"/>
                  </a:lnTo>
                  <a:lnTo>
                    <a:pt x="680" y="0"/>
                  </a:lnTo>
                  <a:lnTo>
                    <a:pt x="688" y="16"/>
                  </a:lnTo>
                  <a:close/>
                </a:path>
              </a:pathLst>
            </a:custGeom>
            <a:solidFill>
              <a:srgbClr val="552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44"/>
            <p:cNvSpPr/>
            <p:nvPr/>
          </p:nvSpPr>
          <p:spPr>
            <a:xfrm>
              <a:off x="4073400" y="10658520"/>
              <a:ext cx="1476360" cy="215892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2158920"/>
                <a:gd name="textAreaBottom" fmla="*/ 2159280 h 2158920"/>
              </a:gdLst>
              <a:ahLst/>
              <a:rect l="textAreaLeft" t="textAreaTop" r="textAreaRight" b="textAreaBottom"/>
              <a:pathLst>
                <a:path w="930" h="1360">
                  <a:moveTo>
                    <a:pt x="630" y="122"/>
                  </a:moveTo>
                  <a:lnTo>
                    <a:pt x="630" y="122"/>
                  </a:lnTo>
                  <a:lnTo>
                    <a:pt x="668" y="114"/>
                  </a:lnTo>
                  <a:lnTo>
                    <a:pt x="704" y="106"/>
                  </a:lnTo>
                  <a:lnTo>
                    <a:pt x="776" y="94"/>
                  </a:lnTo>
                  <a:lnTo>
                    <a:pt x="810" y="84"/>
                  </a:lnTo>
                  <a:lnTo>
                    <a:pt x="846" y="74"/>
                  </a:lnTo>
                  <a:lnTo>
                    <a:pt x="878" y="58"/>
                  </a:lnTo>
                  <a:lnTo>
                    <a:pt x="896" y="48"/>
                  </a:lnTo>
                  <a:lnTo>
                    <a:pt x="912" y="38"/>
                  </a:lnTo>
                  <a:lnTo>
                    <a:pt x="912" y="38"/>
                  </a:lnTo>
                  <a:lnTo>
                    <a:pt x="914" y="42"/>
                  </a:lnTo>
                  <a:lnTo>
                    <a:pt x="916" y="48"/>
                  </a:lnTo>
                  <a:lnTo>
                    <a:pt x="916" y="62"/>
                  </a:lnTo>
                  <a:lnTo>
                    <a:pt x="912" y="78"/>
                  </a:lnTo>
                  <a:lnTo>
                    <a:pt x="912" y="94"/>
                  </a:lnTo>
                  <a:lnTo>
                    <a:pt x="912" y="94"/>
                  </a:lnTo>
                  <a:lnTo>
                    <a:pt x="912" y="156"/>
                  </a:lnTo>
                  <a:lnTo>
                    <a:pt x="910" y="220"/>
                  </a:lnTo>
                  <a:lnTo>
                    <a:pt x="902" y="346"/>
                  </a:lnTo>
                  <a:lnTo>
                    <a:pt x="898" y="410"/>
                  </a:lnTo>
                  <a:lnTo>
                    <a:pt x="896" y="474"/>
                  </a:lnTo>
                  <a:lnTo>
                    <a:pt x="898" y="538"/>
                  </a:lnTo>
                  <a:lnTo>
                    <a:pt x="900" y="570"/>
                  </a:lnTo>
                  <a:lnTo>
                    <a:pt x="904" y="602"/>
                  </a:lnTo>
                  <a:lnTo>
                    <a:pt x="904" y="602"/>
                  </a:lnTo>
                  <a:lnTo>
                    <a:pt x="914" y="722"/>
                  </a:lnTo>
                  <a:lnTo>
                    <a:pt x="926" y="846"/>
                  </a:lnTo>
                  <a:lnTo>
                    <a:pt x="930" y="906"/>
                  </a:lnTo>
                  <a:lnTo>
                    <a:pt x="930" y="968"/>
                  </a:lnTo>
                  <a:lnTo>
                    <a:pt x="930" y="1028"/>
                  </a:lnTo>
                  <a:lnTo>
                    <a:pt x="924" y="1086"/>
                  </a:lnTo>
                  <a:lnTo>
                    <a:pt x="924" y="1086"/>
                  </a:lnTo>
                  <a:lnTo>
                    <a:pt x="890" y="1100"/>
                  </a:lnTo>
                  <a:lnTo>
                    <a:pt x="854" y="1114"/>
                  </a:lnTo>
                  <a:lnTo>
                    <a:pt x="816" y="1124"/>
                  </a:lnTo>
                  <a:lnTo>
                    <a:pt x="796" y="1128"/>
                  </a:lnTo>
                  <a:lnTo>
                    <a:pt x="776" y="1128"/>
                  </a:lnTo>
                  <a:lnTo>
                    <a:pt x="776" y="1128"/>
                  </a:lnTo>
                  <a:lnTo>
                    <a:pt x="784" y="1106"/>
                  </a:lnTo>
                  <a:lnTo>
                    <a:pt x="796" y="1078"/>
                  </a:lnTo>
                  <a:lnTo>
                    <a:pt x="802" y="1066"/>
                  </a:lnTo>
                  <a:lnTo>
                    <a:pt x="812" y="1054"/>
                  </a:lnTo>
                  <a:lnTo>
                    <a:pt x="822" y="1046"/>
                  </a:lnTo>
                  <a:lnTo>
                    <a:pt x="834" y="1038"/>
                  </a:lnTo>
                  <a:lnTo>
                    <a:pt x="834" y="1038"/>
                  </a:lnTo>
                  <a:lnTo>
                    <a:pt x="828" y="1026"/>
                  </a:lnTo>
                  <a:lnTo>
                    <a:pt x="820" y="1012"/>
                  </a:lnTo>
                  <a:lnTo>
                    <a:pt x="806" y="988"/>
                  </a:lnTo>
                  <a:lnTo>
                    <a:pt x="806" y="988"/>
                  </a:lnTo>
                  <a:lnTo>
                    <a:pt x="790" y="1000"/>
                  </a:lnTo>
                  <a:lnTo>
                    <a:pt x="776" y="1012"/>
                  </a:lnTo>
                  <a:lnTo>
                    <a:pt x="766" y="1028"/>
                  </a:lnTo>
                  <a:lnTo>
                    <a:pt x="756" y="1044"/>
                  </a:lnTo>
                  <a:lnTo>
                    <a:pt x="738" y="1080"/>
                  </a:lnTo>
                  <a:lnTo>
                    <a:pt x="724" y="1114"/>
                  </a:lnTo>
                  <a:lnTo>
                    <a:pt x="724" y="1114"/>
                  </a:lnTo>
                  <a:lnTo>
                    <a:pt x="722" y="1128"/>
                  </a:lnTo>
                  <a:lnTo>
                    <a:pt x="718" y="1140"/>
                  </a:lnTo>
                  <a:lnTo>
                    <a:pt x="712" y="1152"/>
                  </a:lnTo>
                  <a:lnTo>
                    <a:pt x="704" y="1164"/>
                  </a:lnTo>
                  <a:lnTo>
                    <a:pt x="696" y="1172"/>
                  </a:lnTo>
                  <a:lnTo>
                    <a:pt x="686" y="1182"/>
                  </a:lnTo>
                  <a:lnTo>
                    <a:pt x="664" y="1196"/>
                  </a:lnTo>
                  <a:lnTo>
                    <a:pt x="664" y="1196"/>
                  </a:lnTo>
                  <a:lnTo>
                    <a:pt x="642" y="1218"/>
                  </a:lnTo>
                  <a:lnTo>
                    <a:pt x="620" y="1240"/>
                  </a:lnTo>
                  <a:lnTo>
                    <a:pt x="596" y="1260"/>
                  </a:lnTo>
                  <a:lnTo>
                    <a:pt x="570" y="1278"/>
                  </a:lnTo>
                  <a:lnTo>
                    <a:pt x="542" y="1296"/>
                  </a:lnTo>
                  <a:lnTo>
                    <a:pt x="516" y="1310"/>
                  </a:lnTo>
                  <a:lnTo>
                    <a:pt x="486" y="1324"/>
                  </a:lnTo>
                  <a:lnTo>
                    <a:pt x="458" y="1336"/>
                  </a:lnTo>
                  <a:lnTo>
                    <a:pt x="428" y="1344"/>
                  </a:lnTo>
                  <a:lnTo>
                    <a:pt x="398" y="1352"/>
                  </a:lnTo>
                  <a:lnTo>
                    <a:pt x="366" y="1356"/>
                  </a:lnTo>
                  <a:lnTo>
                    <a:pt x="334" y="1360"/>
                  </a:lnTo>
                  <a:lnTo>
                    <a:pt x="304" y="1360"/>
                  </a:lnTo>
                  <a:lnTo>
                    <a:pt x="272" y="1358"/>
                  </a:lnTo>
                  <a:lnTo>
                    <a:pt x="240" y="1354"/>
                  </a:lnTo>
                  <a:lnTo>
                    <a:pt x="206" y="1346"/>
                  </a:lnTo>
                  <a:lnTo>
                    <a:pt x="206" y="1346"/>
                  </a:lnTo>
                  <a:lnTo>
                    <a:pt x="188" y="1340"/>
                  </a:lnTo>
                  <a:lnTo>
                    <a:pt x="168" y="1334"/>
                  </a:lnTo>
                  <a:lnTo>
                    <a:pt x="150" y="1326"/>
                  </a:lnTo>
                  <a:lnTo>
                    <a:pt x="132" y="1316"/>
                  </a:lnTo>
                  <a:lnTo>
                    <a:pt x="116" y="1306"/>
                  </a:lnTo>
                  <a:lnTo>
                    <a:pt x="98" y="1294"/>
                  </a:lnTo>
                  <a:lnTo>
                    <a:pt x="84" y="1280"/>
                  </a:lnTo>
                  <a:lnTo>
                    <a:pt x="68" y="1266"/>
                  </a:lnTo>
                  <a:lnTo>
                    <a:pt x="56" y="1252"/>
                  </a:lnTo>
                  <a:lnTo>
                    <a:pt x="44" y="1236"/>
                  </a:lnTo>
                  <a:lnTo>
                    <a:pt x="32" y="1220"/>
                  </a:lnTo>
                  <a:lnTo>
                    <a:pt x="22" y="1202"/>
                  </a:lnTo>
                  <a:lnTo>
                    <a:pt x="14" y="1184"/>
                  </a:lnTo>
                  <a:lnTo>
                    <a:pt x="8" y="1164"/>
                  </a:lnTo>
                  <a:lnTo>
                    <a:pt x="4" y="1144"/>
                  </a:lnTo>
                  <a:lnTo>
                    <a:pt x="0" y="1124"/>
                  </a:lnTo>
                  <a:lnTo>
                    <a:pt x="0" y="1124"/>
                  </a:lnTo>
                  <a:lnTo>
                    <a:pt x="0" y="1096"/>
                  </a:lnTo>
                  <a:lnTo>
                    <a:pt x="2" y="1068"/>
                  </a:lnTo>
                  <a:lnTo>
                    <a:pt x="6" y="1042"/>
                  </a:lnTo>
                  <a:lnTo>
                    <a:pt x="12" y="1014"/>
                  </a:lnTo>
                  <a:lnTo>
                    <a:pt x="20" y="988"/>
                  </a:lnTo>
                  <a:lnTo>
                    <a:pt x="28" y="960"/>
                  </a:lnTo>
                  <a:lnTo>
                    <a:pt x="38" y="934"/>
                  </a:lnTo>
                  <a:lnTo>
                    <a:pt x="50" y="908"/>
                  </a:lnTo>
                  <a:lnTo>
                    <a:pt x="64" y="882"/>
                  </a:lnTo>
                  <a:lnTo>
                    <a:pt x="78" y="858"/>
                  </a:lnTo>
                  <a:lnTo>
                    <a:pt x="94" y="834"/>
                  </a:lnTo>
                  <a:lnTo>
                    <a:pt x="112" y="810"/>
                  </a:lnTo>
                  <a:lnTo>
                    <a:pt x="130" y="786"/>
                  </a:lnTo>
                  <a:lnTo>
                    <a:pt x="150" y="764"/>
                  </a:lnTo>
                  <a:lnTo>
                    <a:pt x="172" y="744"/>
                  </a:lnTo>
                  <a:lnTo>
                    <a:pt x="194" y="724"/>
                  </a:lnTo>
                  <a:lnTo>
                    <a:pt x="194" y="724"/>
                  </a:lnTo>
                  <a:lnTo>
                    <a:pt x="202" y="716"/>
                  </a:lnTo>
                  <a:lnTo>
                    <a:pt x="210" y="708"/>
                  </a:lnTo>
                  <a:lnTo>
                    <a:pt x="214" y="700"/>
                  </a:lnTo>
                  <a:lnTo>
                    <a:pt x="220" y="690"/>
                  </a:lnTo>
                  <a:lnTo>
                    <a:pt x="224" y="672"/>
                  </a:lnTo>
                  <a:lnTo>
                    <a:pt x="228" y="654"/>
                  </a:lnTo>
                  <a:lnTo>
                    <a:pt x="230" y="612"/>
                  </a:lnTo>
                  <a:lnTo>
                    <a:pt x="232" y="592"/>
                  </a:lnTo>
                  <a:lnTo>
                    <a:pt x="236" y="570"/>
                  </a:lnTo>
                  <a:lnTo>
                    <a:pt x="236" y="570"/>
                  </a:lnTo>
                  <a:lnTo>
                    <a:pt x="232" y="524"/>
                  </a:lnTo>
                  <a:lnTo>
                    <a:pt x="230" y="476"/>
                  </a:lnTo>
                  <a:lnTo>
                    <a:pt x="228" y="384"/>
                  </a:lnTo>
                  <a:lnTo>
                    <a:pt x="226" y="338"/>
                  </a:lnTo>
                  <a:lnTo>
                    <a:pt x="220" y="292"/>
                  </a:lnTo>
                  <a:lnTo>
                    <a:pt x="212" y="244"/>
                  </a:lnTo>
                  <a:lnTo>
                    <a:pt x="206" y="222"/>
                  </a:lnTo>
                  <a:lnTo>
                    <a:pt x="198" y="196"/>
                  </a:lnTo>
                  <a:lnTo>
                    <a:pt x="198" y="196"/>
                  </a:lnTo>
                  <a:lnTo>
                    <a:pt x="194" y="150"/>
                  </a:lnTo>
                  <a:lnTo>
                    <a:pt x="188" y="98"/>
                  </a:lnTo>
                  <a:lnTo>
                    <a:pt x="182" y="48"/>
                  </a:lnTo>
                  <a:lnTo>
                    <a:pt x="182" y="24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234" y="30"/>
                  </a:lnTo>
                  <a:lnTo>
                    <a:pt x="286" y="56"/>
                  </a:lnTo>
                  <a:lnTo>
                    <a:pt x="340" y="80"/>
                  </a:lnTo>
                  <a:lnTo>
                    <a:pt x="396" y="100"/>
                  </a:lnTo>
                  <a:lnTo>
                    <a:pt x="424" y="108"/>
                  </a:lnTo>
                  <a:lnTo>
                    <a:pt x="452" y="116"/>
                  </a:lnTo>
                  <a:lnTo>
                    <a:pt x="482" y="122"/>
                  </a:lnTo>
                  <a:lnTo>
                    <a:pt x="512" y="124"/>
                  </a:lnTo>
                  <a:lnTo>
                    <a:pt x="540" y="128"/>
                  </a:lnTo>
                  <a:lnTo>
                    <a:pt x="570" y="128"/>
                  </a:lnTo>
                  <a:lnTo>
                    <a:pt x="600" y="126"/>
                  </a:lnTo>
                  <a:lnTo>
                    <a:pt x="630" y="122"/>
                  </a:lnTo>
                  <a:lnTo>
                    <a:pt x="630" y="122"/>
                  </a:lnTo>
                  <a:close/>
                </a:path>
              </a:pathLst>
            </a:custGeom>
            <a:solidFill>
              <a:srgbClr val="552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45"/>
            <p:cNvSpPr/>
            <p:nvPr/>
          </p:nvSpPr>
          <p:spPr>
            <a:xfrm>
              <a:off x="3698640" y="3994200"/>
              <a:ext cx="660240" cy="34920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16" h="220">
                  <a:moveTo>
                    <a:pt x="384" y="220"/>
                  </a:moveTo>
                  <a:lnTo>
                    <a:pt x="0" y="118"/>
                  </a:lnTo>
                  <a:lnTo>
                    <a:pt x="32" y="0"/>
                  </a:lnTo>
                  <a:lnTo>
                    <a:pt x="416" y="104"/>
                  </a:lnTo>
                  <a:lnTo>
                    <a:pt x="384" y="220"/>
                  </a:lnTo>
                  <a:close/>
                </a:path>
              </a:pathLst>
            </a:custGeom>
            <a:solidFill>
              <a:srgbClr val="00a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46"/>
            <p:cNvSpPr/>
            <p:nvPr/>
          </p:nvSpPr>
          <p:spPr>
            <a:xfrm>
              <a:off x="3854160" y="3838320"/>
              <a:ext cx="349200" cy="660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220" h="416">
                  <a:moveTo>
                    <a:pt x="0" y="386"/>
                  </a:moveTo>
                  <a:lnTo>
                    <a:pt x="104" y="0"/>
                  </a:lnTo>
                  <a:lnTo>
                    <a:pt x="220" y="32"/>
                  </a:lnTo>
                  <a:lnTo>
                    <a:pt x="118" y="416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00a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グループ化 108"/>
          <p:cNvGrpSpPr/>
          <p:nvPr/>
        </p:nvGrpSpPr>
        <p:grpSpPr>
          <a:xfrm>
            <a:off x="4270320" y="13128480"/>
            <a:ext cx="2158920" cy="29499120"/>
            <a:chOff x="4270320" y="13128480"/>
            <a:chExt cx="2158920" cy="29499120"/>
          </a:xfrm>
        </p:grpSpPr>
        <p:sp>
          <p:nvSpPr>
            <p:cNvPr id="143" name="Freeform 5"/>
            <p:cNvSpPr/>
            <p:nvPr/>
          </p:nvSpPr>
          <p:spPr>
            <a:xfrm>
              <a:off x="4520880" y="13128480"/>
              <a:ext cx="1800360" cy="1825560"/>
            </a:xfrm>
            <a:custGeom>
              <a:avLst/>
              <a:gdLst>
                <a:gd name="textAreaLeft" fmla="*/ 0 w 1800360"/>
                <a:gd name="textAreaRight" fmla="*/ 1800720 w 1800360"/>
                <a:gd name="textAreaTop" fmla="*/ 0 h 1825560"/>
                <a:gd name="textAreaBottom" fmla="*/ 1825920 h 1825560"/>
              </a:gdLst>
              <a:ahLst/>
              <a:rect l="textAreaLeft" t="textAreaTop" r="textAreaRight" b="textAreaBottom"/>
              <a:pathLst>
                <a:path w="1134" h="1150">
                  <a:moveTo>
                    <a:pt x="378" y="634"/>
                  </a:moveTo>
                  <a:lnTo>
                    <a:pt x="378" y="634"/>
                  </a:lnTo>
                  <a:lnTo>
                    <a:pt x="348" y="658"/>
                  </a:lnTo>
                  <a:lnTo>
                    <a:pt x="322" y="680"/>
                  </a:lnTo>
                  <a:lnTo>
                    <a:pt x="302" y="702"/>
                  </a:lnTo>
                  <a:lnTo>
                    <a:pt x="284" y="724"/>
                  </a:lnTo>
                  <a:lnTo>
                    <a:pt x="270" y="746"/>
                  </a:lnTo>
                  <a:lnTo>
                    <a:pt x="260" y="766"/>
                  </a:lnTo>
                  <a:lnTo>
                    <a:pt x="254" y="786"/>
                  </a:lnTo>
                  <a:lnTo>
                    <a:pt x="252" y="806"/>
                  </a:lnTo>
                  <a:lnTo>
                    <a:pt x="252" y="806"/>
                  </a:lnTo>
                  <a:lnTo>
                    <a:pt x="252" y="818"/>
                  </a:lnTo>
                  <a:lnTo>
                    <a:pt x="256" y="830"/>
                  </a:lnTo>
                  <a:lnTo>
                    <a:pt x="262" y="842"/>
                  </a:lnTo>
                  <a:lnTo>
                    <a:pt x="270" y="852"/>
                  </a:lnTo>
                  <a:lnTo>
                    <a:pt x="280" y="862"/>
                  </a:lnTo>
                  <a:lnTo>
                    <a:pt x="292" y="870"/>
                  </a:lnTo>
                  <a:lnTo>
                    <a:pt x="306" y="878"/>
                  </a:lnTo>
                  <a:lnTo>
                    <a:pt x="324" y="886"/>
                  </a:lnTo>
                  <a:lnTo>
                    <a:pt x="344" y="892"/>
                  </a:lnTo>
                  <a:lnTo>
                    <a:pt x="366" y="896"/>
                  </a:lnTo>
                  <a:lnTo>
                    <a:pt x="418" y="904"/>
                  </a:lnTo>
                  <a:lnTo>
                    <a:pt x="480" y="908"/>
                  </a:lnTo>
                  <a:lnTo>
                    <a:pt x="554" y="910"/>
                  </a:lnTo>
                  <a:lnTo>
                    <a:pt x="554" y="910"/>
                  </a:lnTo>
                  <a:lnTo>
                    <a:pt x="618" y="908"/>
                  </a:lnTo>
                  <a:lnTo>
                    <a:pt x="682" y="906"/>
                  </a:lnTo>
                  <a:lnTo>
                    <a:pt x="746" y="900"/>
                  </a:lnTo>
                  <a:lnTo>
                    <a:pt x="810" y="892"/>
                  </a:lnTo>
                  <a:lnTo>
                    <a:pt x="870" y="882"/>
                  </a:lnTo>
                  <a:lnTo>
                    <a:pt x="924" y="872"/>
                  </a:lnTo>
                  <a:lnTo>
                    <a:pt x="972" y="860"/>
                  </a:lnTo>
                  <a:lnTo>
                    <a:pt x="1010" y="846"/>
                  </a:lnTo>
                  <a:lnTo>
                    <a:pt x="1028" y="1114"/>
                  </a:lnTo>
                  <a:lnTo>
                    <a:pt x="1028" y="1114"/>
                  </a:lnTo>
                  <a:lnTo>
                    <a:pt x="982" y="1116"/>
                  </a:lnTo>
                  <a:lnTo>
                    <a:pt x="890" y="1128"/>
                  </a:lnTo>
                  <a:lnTo>
                    <a:pt x="890" y="1128"/>
                  </a:lnTo>
                  <a:lnTo>
                    <a:pt x="802" y="1138"/>
                  </a:lnTo>
                  <a:lnTo>
                    <a:pt x="714" y="1144"/>
                  </a:lnTo>
                  <a:lnTo>
                    <a:pt x="628" y="1148"/>
                  </a:lnTo>
                  <a:lnTo>
                    <a:pt x="542" y="1150"/>
                  </a:lnTo>
                  <a:lnTo>
                    <a:pt x="542" y="1150"/>
                  </a:lnTo>
                  <a:lnTo>
                    <a:pt x="484" y="1150"/>
                  </a:lnTo>
                  <a:lnTo>
                    <a:pt x="432" y="1148"/>
                  </a:lnTo>
                  <a:lnTo>
                    <a:pt x="382" y="1144"/>
                  </a:lnTo>
                  <a:lnTo>
                    <a:pt x="338" y="1138"/>
                  </a:lnTo>
                  <a:lnTo>
                    <a:pt x="296" y="1132"/>
                  </a:lnTo>
                  <a:lnTo>
                    <a:pt x="256" y="1122"/>
                  </a:lnTo>
                  <a:lnTo>
                    <a:pt x="220" y="1112"/>
                  </a:lnTo>
                  <a:lnTo>
                    <a:pt x="188" y="1100"/>
                  </a:lnTo>
                  <a:lnTo>
                    <a:pt x="188" y="1100"/>
                  </a:lnTo>
                  <a:lnTo>
                    <a:pt x="164" y="1090"/>
                  </a:lnTo>
                  <a:lnTo>
                    <a:pt x="144" y="1080"/>
                  </a:lnTo>
                  <a:lnTo>
                    <a:pt x="124" y="1068"/>
                  </a:lnTo>
                  <a:lnTo>
                    <a:pt x="106" y="1056"/>
                  </a:lnTo>
                  <a:lnTo>
                    <a:pt x="90" y="1042"/>
                  </a:lnTo>
                  <a:lnTo>
                    <a:pt x="74" y="1028"/>
                  </a:lnTo>
                  <a:lnTo>
                    <a:pt x="60" y="1014"/>
                  </a:lnTo>
                  <a:lnTo>
                    <a:pt x="48" y="998"/>
                  </a:lnTo>
                  <a:lnTo>
                    <a:pt x="36" y="982"/>
                  </a:lnTo>
                  <a:lnTo>
                    <a:pt x="26" y="966"/>
                  </a:lnTo>
                  <a:lnTo>
                    <a:pt x="18" y="948"/>
                  </a:lnTo>
                  <a:lnTo>
                    <a:pt x="12" y="930"/>
                  </a:lnTo>
                  <a:lnTo>
                    <a:pt x="8" y="910"/>
                  </a:lnTo>
                  <a:lnTo>
                    <a:pt x="4" y="890"/>
                  </a:lnTo>
                  <a:lnTo>
                    <a:pt x="2" y="868"/>
                  </a:lnTo>
                  <a:lnTo>
                    <a:pt x="0" y="848"/>
                  </a:lnTo>
                  <a:lnTo>
                    <a:pt x="0" y="848"/>
                  </a:lnTo>
                  <a:lnTo>
                    <a:pt x="2" y="824"/>
                  </a:lnTo>
                  <a:lnTo>
                    <a:pt x="4" y="802"/>
                  </a:lnTo>
                  <a:lnTo>
                    <a:pt x="8" y="780"/>
                  </a:lnTo>
                  <a:lnTo>
                    <a:pt x="12" y="758"/>
                  </a:lnTo>
                  <a:lnTo>
                    <a:pt x="20" y="736"/>
                  </a:lnTo>
                  <a:lnTo>
                    <a:pt x="28" y="716"/>
                  </a:lnTo>
                  <a:lnTo>
                    <a:pt x="38" y="694"/>
                  </a:lnTo>
                  <a:lnTo>
                    <a:pt x="48" y="674"/>
                  </a:lnTo>
                  <a:lnTo>
                    <a:pt x="62" y="654"/>
                  </a:lnTo>
                  <a:lnTo>
                    <a:pt x="76" y="634"/>
                  </a:lnTo>
                  <a:lnTo>
                    <a:pt x="92" y="612"/>
                  </a:lnTo>
                  <a:lnTo>
                    <a:pt x="110" y="592"/>
                  </a:lnTo>
                  <a:lnTo>
                    <a:pt x="152" y="552"/>
                  </a:lnTo>
                  <a:lnTo>
                    <a:pt x="200" y="512"/>
                  </a:lnTo>
                  <a:lnTo>
                    <a:pt x="378" y="634"/>
                  </a:lnTo>
                  <a:close/>
                  <a:moveTo>
                    <a:pt x="92" y="0"/>
                  </a:moveTo>
                  <a:lnTo>
                    <a:pt x="92" y="0"/>
                  </a:lnTo>
                  <a:lnTo>
                    <a:pt x="130" y="8"/>
                  </a:lnTo>
                  <a:lnTo>
                    <a:pt x="174" y="16"/>
                  </a:lnTo>
                  <a:lnTo>
                    <a:pt x="226" y="22"/>
                  </a:lnTo>
                  <a:lnTo>
                    <a:pt x="282" y="28"/>
                  </a:lnTo>
                  <a:lnTo>
                    <a:pt x="344" y="32"/>
                  </a:lnTo>
                  <a:lnTo>
                    <a:pt x="410" y="36"/>
                  </a:lnTo>
                  <a:lnTo>
                    <a:pt x="480" y="38"/>
                  </a:lnTo>
                  <a:lnTo>
                    <a:pt x="554" y="38"/>
                  </a:lnTo>
                  <a:lnTo>
                    <a:pt x="554" y="38"/>
                  </a:lnTo>
                  <a:lnTo>
                    <a:pt x="682" y="36"/>
                  </a:lnTo>
                  <a:lnTo>
                    <a:pt x="790" y="32"/>
                  </a:lnTo>
                  <a:lnTo>
                    <a:pt x="836" y="28"/>
                  </a:lnTo>
                  <a:lnTo>
                    <a:pt x="876" y="24"/>
                  </a:lnTo>
                  <a:lnTo>
                    <a:pt x="912" y="18"/>
                  </a:lnTo>
                  <a:lnTo>
                    <a:pt x="942" y="14"/>
                  </a:lnTo>
                  <a:lnTo>
                    <a:pt x="948" y="226"/>
                  </a:lnTo>
                  <a:lnTo>
                    <a:pt x="948" y="226"/>
                  </a:lnTo>
                  <a:lnTo>
                    <a:pt x="912" y="246"/>
                  </a:lnTo>
                  <a:lnTo>
                    <a:pt x="868" y="270"/>
                  </a:lnTo>
                  <a:lnTo>
                    <a:pt x="768" y="330"/>
                  </a:lnTo>
                  <a:lnTo>
                    <a:pt x="662" y="402"/>
                  </a:lnTo>
                  <a:lnTo>
                    <a:pt x="610" y="438"/>
                  </a:lnTo>
                  <a:lnTo>
                    <a:pt x="560" y="474"/>
                  </a:lnTo>
                  <a:lnTo>
                    <a:pt x="388" y="354"/>
                  </a:lnTo>
                  <a:lnTo>
                    <a:pt x="388" y="354"/>
                  </a:lnTo>
                  <a:lnTo>
                    <a:pt x="434" y="324"/>
                  </a:lnTo>
                  <a:lnTo>
                    <a:pt x="498" y="286"/>
                  </a:lnTo>
                  <a:lnTo>
                    <a:pt x="498" y="286"/>
                  </a:lnTo>
                  <a:lnTo>
                    <a:pt x="516" y="274"/>
                  </a:lnTo>
                  <a:lnTo>
                    <a:pt x="532" y="266"/>
                  </a:lnTo>
                  <a:lnTo>
                    <a:pt x="532" y="266"/>
                  </a:lnTo>
                  <a:lnTo>
                    <a:pt x="554" y="254"/>
                  </a:lnTo>
                  <a:lnTo>
                    <a:pt x="554" y="254"/>
                  </a:lnTo>
                  <a:lnTo>
                    <a:pt x="498" y="258"/>
                  </a:lnTo>
                  <a:lnTo>
                    <a:pt x="440" y="258"/>
                  </a:lnTo>
                  <a:lnTo>
                    <a:pt x="440" y="258"/>
                  </a:lnTo>
                  <a:lnTo>
                    <a:pt x="366" y="258"/>
                  </a:lnTo>
                  <a:lnTo>
                    <a:pt x="296" y="254"/>
                  </a:lnTo>
                  <a:lnTo>
                    <a:pt x="218" y="250"/>
                  </a:lnTo>
                  <a:lnTo>
                    <a:pt x="126" y="242"/>
                  </a:lnTo>
                  <a:lnTo>
                    <a:pt x="126" y="242"/>
                  </a:lnTo>
                  <a:lnTo>
                    <a:pt x="78" y="238"/>
                  </a:lnTo>
                  <a:lnTo>
                    <a:pt x="92" y="0"/>
                  </a:lnTo>
                  <a:close/>
                  <a:moveTo>
                    <a:pt x="852" y="342"/>
                  </a:moveTo>
                  <a:lnTo>
                    <a:pt x="852" y="342"/>
                  </a:lnTo>
                  <a:lnTo>
                    <a:pt x="888" y="382"/>
                  </a:lnTo>
                  <a:lnTo>
                    <a:pt x="918" y="422"/>
                  </a:lnTo>
                  <a:lnTo>
                    <a:pt x="948" y="468"/>
                  </a:lnTo>
                  <a:lnTo>
                    <a:pt x="974" y="518"/>
                  </a:lnTo>
                  <a:lnTo>
                    <a:pt x="848" y="590"/>
                  </a:lnTo>
                  <a:lnTo>
                    <a:pt x="848" y="590"/>
                  </a:lnTo>
                  <a:lnTo>
                    <a:pt x="820" y="538"/>
                  </a:lnTo>
                  <a:lnTo>
                    <a:pt x="792" y="494"/>
                  </a:lnTo>
                  <a:lnTo>
                    <a:pt x="762" y="452"/>
                  </a:lnTo>
                  <a:lnTo>
                    <a:pt x="726" y="410"/>
                  </a:lnTo>
                  <a:lnTo>
                    <a:pt x="852" y="342"/>
                  </a:lnTo>
                  <a:close/>
                  <a:moveTo>
                    <a:pt x="1012" y="254"/>
                  </a:moveTo>
                  <a:lnTo>
                    <a:pt x="1012" y="254"/>
                  </a:lnTo>
                  <a:lnTo>
                    <a:pt x="1048" y="296"/>
                  </a:lnTo>
                  <a:lnTo>
                    <a:pt x="1078" y="334"/>
                  </a:lnTo>
                  <a:lnTo>
                    <a:pt x="1106" y="376"/>
                  </a:lnTo>
                  <a:lnTo>
                    <a:pt x="1134" y="424"/>
                  </a:lnTo>
                  <a:lnTo>
                    <a:pt x="1010" y="494"/>
                  </a:lnTo>
                  <a:lnTo>
                    <a:pt x="1010" y="494"/>
                  </a:lnTo>
                  <a:lnTo>
                    <a:pt x="986" y="448"/>
                  </a:lnTo>
                  <a:lnTo>
                    <a:pt x="958" y="406"/>
                  </a:lnTo>
                  <a:lnTo>
                    <a:pt x="926" y="364"/>
                  </a:lnTo>
                  <a:lnTo>
                    <a:pt x="890" y="322"/>
                  </a:lnTo>
                  <a:lnTo>
                    <a:pt x="1012" y="2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6"/>
            <p:cNvSpPr/>
            <p:nvPr/>
          </p:nvSpPr>
          <p:spPr>
            <a:xfrm>
              <a:off x="4270320" y="15207840"/>
              <a:ext cx="2158920" cy="207324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073240"/>
                <a:gd name="textAreaBottom" fmla="*/ 2073600 h 2073240"/>
              </a:gdLst>
              <a:ahLst/>
              <a:rect l="textAreaLeft" t="textAreaTop" r="textAreaRight" b="textAreaBottom"/>
              <a:pathLst>
                <a:path w="1360" h="1306">
                  <a:moveTo>
                    <a:pt x="382" y="988"/>
                  </a:moveTo>
                  <a:lnTo>
                    <a:pt x="382" y="988"/>
                  </a:lnTo>
                  <a:lnTo>
                    <a:pt x="402" y="1012"/>
                  </a:lnTo>
                  <a:lnTo>
                    <a:pt x="420" y="1028"/>
                  </a:lnTo>
                  <a:lnTo>
                    <a:pt x="438" y="1042"/>
                  </a:lnTo>
                  <a:lnTo>
                    <a:pt x="458" y="1052"/>
                  </a:lnTo>
                  <a:lnTo>
                    <a:pt x="458" y="1052"/>
                  </a:lnTo>
                  <a:lnTo>
                    <a:pt x="478" y="1060"/>
                  </a:lnTo>
                  <a:lnTo>
                    <a:pt x="502" y="1068"/>
                  </a:lnTo>
                  <a:lnTo>
                    <a:pt x="530" y="1074"/>
                  </a:lnTo>
                  <a:lnTo>
                    <a:pt x="560" y="1078"/>
                  </a:lnTo>
                  <a:lnTo>
                    <a:pt x="596" y="1082"/>
                  </a:lnTo>
                  <a:lnTo>
                    <a:pt x="636" y="1084"/>
                  </a:lnTo>
                  <a:lnTo>
                    <a:pt x="732" y="1086"/>
                  </a:lnTo>
                  <a:lnTo>
                    <a:pt x="732" y="1086"/>
                  </a:lnTo>
                  <a:lnTo>
                    <a:pt x="934" y="1084"/>
                  </a:lnTo>
                  <a:lnTo>
                    <a:pt x="1100" y="1080"/>
                  </a:lnTo>
                  <a:lnTo>
                    <a:pt x="1172" y="1076"/>
                  </a:lnTo>
                  <a:lnTo>
                    <a:pt x="1238" y="1070"/>
                  </a:lnTo>
                  <a:lnTo>
                    <a:pt x="1300" y="1064"/>
                  </a:lnTo>
                  <a:lnTo>
                    <a:pt x="1360" y="1056"/>
                  </a:lnTo>
                  <a:lnTo>
                    <a:pt x="1360" y="1056"/>
                  </a:lnTo>
                  <a:lnTo>
                    <a:pt x="1342" y="1114"/>
                  </a:lnTo>
                  <a:lnTo>
                    <a:pt x="1328" y="1164"/>
                  </a:lnTo>
                  <a:lnTo>
                    <a:pt x="1318" y="1218"/>
                  </a:lnTo>
                  <a:lnTo>
                    <a:pt x="1308" y="1284"/>
                  </a:lnTo>
                  <a:lnTo>
                    <a:pt x="1308" y="1284"/>
                  </a:lnTo>
                  <a:lnTo>
                    <a:pt x="1216" y="1286"/>
                  </a:lnTo>
                  <a:lnTo>
                    <a:pt x="1098" y="1290"/>
                  </a:lnTo>
                  <a:lnTo>
                    <a:pt x="832" y="1292"/>
                  </a:lnTo>
                  <a:lnTo>
                    <a:pt x="832" y="1292"/>
                  </a:lnTo>
                  <a:lnTo>
                    <a:pt x="670" y="1290"/>
                  </a:lnTo>
                  <a:lnTo>
                    <a:pt x="608" y="1288"/>
                  </a:lnTo>
                  <a:lnTo>
                    <a:pt x="558" y="1284"/>
                  </a:lnTo>
                  <a:lnTo>
                    <a:pt x="516" y="1280"/>
                  </a:lnTo>
                  <a:lnTo>
                    <a:pt x="480" y="1274"/>
                  </a:lnTo>
                  <a:lnTo>
                    <a:pt x="448" y="1268"/>
                  </a:lnTo>
                  <a:lnTo>
                    <a:pt x="420" y="1258"/>
                  </a:lnTo>
                  <a:lnTo>
                    <a:pt x="420" y="1258"/>
                  </a:lnTo>
                  <a:lnTo>
                    <a:pt x="402" y="1252"/>
                  </a:lnTo>
                  <a:lnTo>
                    <a:pt x="382" y="1242"/>
                  </a:lnTo>
                  <a:lnTo>
                    <a:pt x="364" y="1232"/>
                  </a:lnTo>
                  <a:lnTo>
                    <a:pt x="348" y="1222"/>
                  </a:lnTo>
                  <a:lnTo>
                    <a:pt x="330" y="1208"/>
                  </a:lnTo>
                  <a:lnTo>
                    <a:pt x="314" y="1194"/>
                  </a:lnTo>
                  <a:lnTo>
                    <a:pt x="278" y="1160"/>
                  </a:lnTo>
                  <a:lnTo>
                    <a:pt x="278" y="1160"/>
                  </a:lnTo>
                  <a:lnTo>
                    <a:pt x="238" y="1196"/>
                  </a:lnTo>
                  <a:lnTo>
                    <a:pt x="200" y="1226"/>
                  </a:lnTo>
                  <a:lnTo>
                    <a:pt x="162" y="1254"/>
                  </a:lnTo>
                  <a:lnTo>
                    <a:pt x="120" y="1282"/>
                  </a:lnTo>
                  <a:lnTo>
                    <a:pt x="120" y="1282"/>
                  </a:lnTo>
                  <a:lnTo>
                    <a:pt x="108" y="1292"/>
                  </a:lnTo>
                  <a:lnTo>
                    <a:pt x="88" y="1306"/>
                  </a:lnTo>
                  <a:lnTo>
                    <a:pt x="0" y="1080"/>
                  </a:lnTo>
                  <a:lnTo>
                    <a:pt x="0" y="1080"/>
                  </a:lnTo>
                  <a:lnTo>
                    <a:pt x="40" y="1060"/>
                  </a:lnTo>
                  <a:lnTo>
                    <a:pt x="82" y="1038"/>
                  </a:lnTo>
                  <a:lnTo>
                    <a:pt x="126" y="1010"/>
                  </a:lnTo>
                  <a:lnTo>
                    <a:pt x="176" y="972"/>
                  </a:lnTo>
                  <a:lnTo>
                    <a:pt x="176" y="710"/>
                  </a:lnTo>
                  <a:lnTo>
                    <a:pt x="116" y="710"/>
                  </a:lnTo>
                  <a:lnTo>
                    <a:pt x="116" y="710"/>
                  </a:lnTo>
                  <a:lnTo>
                    <a:pt x="74" y="712"/>
                  </a:lnTo>
                  <a:lnTo>
                    <a:pt x="28" y="718"/>
                  </a:lnTo>
                  <a:lnTo>
                    <a:pt x="28" y="508"/>
                  </a:lnTo>
                  <a:lnTo>
                    <a:pt x="28" y="508"/>
                  </a:lnTo>
                  <a:lnTo>
                    <a:pt x="82" y="512"/>
                  </a:lnTo>
                  <a:lnTo>
                    <a:pt x="144" y="514"/>
                  </a:lnTo>
                  <a:lnTo>
                    <a:pt x="280" y="514"/>
                  </a:lnTo>
                  <a:lnTo>
                    <a:pt x="280" y="514"/>
                  </a:lnTo>
                  <a:lnTo>
                    <a:pt x="342" y="512"/>
                  </a:lnTo>
                  <a:lnTo>
                    <a:pt x="386" y="510"/>
                  </a:lnTo>
                  <a:lnTo>
                    <a:pt x="386" y="510"/>
                  </a:lnTo>
                  <a:lnTo>
                    <a:pt x="384" y="534"/>
                  </a:lnTo>
                  <a:lnTo>
                    <a:pt x="382" y="558"/>
                  </a:lnTo>
                  <a:lnTo>
                    <a:pt x="382" y="636"/>
                  </a:lnTo>
                  <a:lnTo>
                    <a:pt x="382" y="816"/>
                  </a:lnTo>
                  <a:lnTo>
                    <a:pt x="382" y="816"/>
                  </a:lnTo>
                  <a:lnTo>
                    <a:pt x="426" y="790"/>
                  </a:lnTo>
                  <a:lnTo>
                    <a:pt x="464" y="764"/>
                  </a:lnTo>
                  <a:lnTo>
                    <a:pt x="502" y="736"/>
                  </a:lnTo>
                  <a:lnTo>
                    <a:pt x="540" y="702"/>
                  </a:lnTo>
                  <a:lnTo>
                    <a:pt x="540" y="702"/>
                  </a:lnTo>
                  <a:lnTo>
                    <a:pt x="574" y="672"/>
                  </a:lnTo>
                  <a:lnTo>
                    <a:pt x="602" y="642"/>
                  </a:lnTo>
                  <a:lnTo>
                    <a:pt x="628" y="614"/>
                  </a:lnTo>
                  <a:lnTo>
                    <a:pt x="656" y="578"/>
                  </a:lnTo>
                  <a:lnTo>
                    <a:pt x="510" y="578"/>
                  </a:lnTo>
                  <a:lnTo>
                    <a:pt x="510" y="578"/>
                  </a:lnTo>
                  <a:lnTo>
                    <a:pt x="462" y="580"/>
                  </a:lnTo>
                  <a:lnTo>
                    <a:pt x="416" y="584"/>
                  </a:lnTo>
                  <a:lnTo>
                    <a:pt x="416" y="382"/>
                  </a:lnTo>
                  <a:lnTo>
                    <a:pt x="416" y="382"/>
                  </a:lnTo>
                  <a:lnTo>
                    <a:pt x="460" y="386"/>
                  </a:lnTo>
                  <a:lnTo>
                    <a:pt x="512" y="388"/>
                  </a:lnTo>
                  <a:lnTo>
                    <a:pt x="748" y="388"/>
                  </a:lnTo>
                  <a:lnTo>
                    <a:pt x="748" y="78"/>
                  </a:lnTo>
                  <a:lnTo>
                    <a:pt x="748" y="78"/>
                  </a:lnTo>
                  <a:lnTo>
                    <a:pt x="748" y="34"/>
                  </a:lnTo>
                  <a:lnTo>
                    <a:pt x="744" y="0"/>
                  </a:lnTo>
                  <a:lnTo>
                    <a:pt x="964" y="0"/>
                  </a:lnTo>
                  <a:lnTo>
                    <a:pt x="964" y="0"/>
                  </a:lnTo>
                  <a:lnTo>
                    <a:pt x="960" y="38"/>
                  </a:lnTo>
                  <a:lnTo>
                    <a:pt x="960" y="80"/>
                  </a:lnTo>
                  <a:lnTo>
                    <a:pt x="960" y="388"/>
                  </a:lnTo>
                  <a:lnTo>
                    <a:pt x="1172" y="388"/>
                  </a:lnTo>
                  <a:lnTo>
                    <a:pt x="1172" y="388"/>
                  </a:lnTo>
                  <a:lnTo>
                    <a:pt x="1252" y="386"/>
                  </a:lnTo>
                  <a:lnTo>
                    <a:pt x="1286" y="384"/>
                  </a:lnTo>
                  <a:lnTo>
                    <a:pt x="1322" y="380"/>
                  </a:lnTo>
                  <a:lnTo>
                    <a:pt x="1322" y="584"/>
                  </a:lnTo>
                  <a:lnTo>
                    <a:pt x="1322" y="584"/>
                  </a:lnTo>
                  <a:lnTo>
                    <a:pt x="1244" y="580"/>
                  </a:lnTo>
                  <a:lnTo>
                    <a:pt x="1172" y="578"/>
                  </a:lnTo>
                  <a:lnTo>
                    <a:pt x="1042" y="578"/>
                  </a:lnTo>
                  <a:lnTo>
                    <a:pt x="1042" y="578"/>
                  </a:lnTo>
                  <a:lnTo>
                    <a:pt x="1090" y="632"/>
                  </a:lnTo>
                  <a:lnTo>
                    <a:pt x="1136" y="674"/>
                  </a:lnTo>
                  <a:lnTo>
                    <a:pt x="1136" y="674"/>
                  </a:lnTo>
                  <a:lnTo>
                    <a:pt x="1188" y="718"/>
                  </a:lnTo>
                  <a:lnTo>
                    <a:pt x="1236" y="752"/>
                  </a:lnTo>
                  <a:lnTo>
                    <a:pt x="1286" y="784"/>
                  </a:lnTo>
                  <a:lnTo>
                    <a:pt x="1346" y="816"/>
                  </a:lnTo>
                  <a:lnTo>
                    <a:pt x="1346" y="816"/>
                  </a:lnTo>
                  <a:lnTo>
                    <a:pt x="1314" y="868"/>
                  </a:lnTo>
                  <a:lnTo>
                    <a:pt x="1288" y="918"/>
                  </a:lnTo>
                  <a:lnTo>
                    <a:pt x="1264" y="966"/>
                  </a:lnTo>
                  <a:lnTo>
                    <a:pt x="1244" y="1016"/>
                  </a:lnTo>
                  <a:lnTo>
                    <a:pt x="1244" y="1016"/>
                  </a:lnTo>
                  <a:lnTo>
                    <a:pt x="1198" y="988"/>
                  </a:lnTo>
                  <a:lnTo>
                    <a:pt x="1156" y="958"/>
                  </a:lnTo>
                  <a:lnTo>
                    <a:pt x="1118" y="930"/>
                  </a:lnTo>
                  <a:lnTo>
                    <a:pt x="1084" y="900"/>
                  </a:lnTo>
                  <a:lnTo>
                    <a:pt x="1050" y="868"/>
                  </a:lnTo>
                  <a:lnTo>
                    <a:pt x="1018" y="834"/>
                  </a:lnTo>
                  <a:lnTo>
                    <a:pt x="988" y="796"/>
                  </a:lnTo>
                  <a:lnTo>
                    <a:pt x="956" y="756"/>
                  </a:lnTo>
                  <a:lnTo>
                    <a:pt x="956" y="756"/>
                  </a:lnTo>
                  <a:lnTo>
                    <a:pt x="960" y="792"/>
                  </a:lnTo>
                  <a:lnTo>
                    <a:pt x="960" y="826"/>
                  </a:lnTo>
                  <a:lnTo>
                    <a:pt x="960" y="932"/>
                  </a:lnTo>
                  <a:lnTo>
                    <a:pt x="960" y="932"/>
                  </a:lnTo>
                  <a:lnTo>
                    <a:pt x="960" y="1000"/>
                  </a:lnTo>
                  <a:lnTo>
                    <a:pt x="964" y="1048"/>
                  </a:lnTo>
                  <a:lnTo>
                    <a:pt x="744" y="1048"/>
                  </a:lnTo>
                  <a:lnTo>
                    <a:pt x="744" y="1048"/>
                  </a:lnTo>
                  <a:lnTo>
                    <a:pt x="748" y="994"/>
                  </a:lnTo>
                  <a:lnTo>
                    <a:pt x="748" y="926"/>
                  </a:lnTo>
                  <a:lnTo>
                    <a:pt x="748" y="824"/>
                  </a:lnTo>
                  <a:lnTo>
                    <a:pt x="748" y="824"/>
                  </a:lnTo>
                  <a:lnTo>
                    <a:pt x="750" y="784"/>
                  </a:lnTo>
                  <a:lnTo>
                    <a:pt x="752" y="756"/>
                  </a:lnTo>
                  <a:lnTo>
                    <a:pt x="752" y="756"/>
                  </a:lnTo>
                  <a:lnTo>
                    <a:pt x="722" y="796"/>
                  </a:lnTo>
                  <a:lnTo>
                    <a:pt x="692" y="832"/>
                  </a:lnTo>
                  <a:lnTo>
                    <a:pt x="664" y="864"/>
                  </a:lnTo>
                  <a:lnTo>
                    <a:pt x="634" y="896"/>
                  </a:lnTo>
                  <a:lnTo>
                    <a:pt x="602" y="924"/>
                  </a:lnTo>
                  <a:lnTo>
                    <a:pt x="568" y="950"/>
                  </a:lnTo>
                  <a:lnTo>
                    <a:pt x="530" y="978"/>
                  </a:lnTo>
                  <a:lnTo>
                    <a:pt x="490" y="1006"/>
                  </a:lnTo>
                  <a:lnTo>
                    <a:pt x="490" y="1006"/>
                  </a:lnTo>
                  <a:lnTo>
                    <a:pt x="464" y="960"/>
                  </a:lnTo>
                  <a:lnTo>
                    <a:pt x="438" y="920"/>
                  </a:lnTo>
                  <a:lnTo>
                    <a:pt x="412" y="886"/>
                  </a:lnTo>
                  <a:lnTo>
                    <a:pt x="382" y="848"/>
                  </a:lnTo>
                  <a:lnTo>
                    <a:pt x="382" y="988"/>
                  </a:lnTo>
                  <a:close/>
                  <a:moveTo>
                    <a:pt x="176" y="0"/>
                  </a:moveTo>
                  <a:lnTo>
                    <a:pt x="176" y="0"/>
                  </a:lnTo>
                  <a:lnTo>
                    <a:pt x="248" y="64"/>
                  </a:lnTo>
                  <a:lnTo>
                    <a:pt x="310" y="122"/>
                  </a:lnTo>
                  <a:lnTo>
                    <a:pt x="368" y="186"/>
                  </a:lnTo>
                  <a:lnTo>
                    <a:pt x="430" y="256"/>
                  </a:lnTo>
                  <a:lnTo>
                    <a:pt x="270" y="416"/>
                  </a:lnTo>
                  <a:lnTo>
                    <a:pt x="270" y="416"/>
                  </a:lnTo>
                  <a:lnTo>
                    <a:pt x="204" y="334"/>
                  </a:lnTo>
                  <a:lnTo>
                    <a:pt x="174" y="298"/>
                  </a:lnTo>
                  <a:lnTo>
                    <a:pt x="144" y="268"/>
                  </a:lnTo>
                  <a:lnTo>
                    <a:pt x="116" y="238"/>
                  </a:lnTo>
                  <a:lnTo>
                    <a:pt x="84" y="208"/>
                  </a:lnTo>
                  <a:lnTo>
                    <a:pt x="14" y="148"/>
                  </a:lnTo>
                  <a:lnTo>
                    <a:pt x="176" y="0"/>
                  </a:lnTo>
                  <a:close/>
                  <a:moveTo>
                    <a:pt x="586" y="18"/>
                  </a:moveTo>
                  <a:lnTo>
                    <a:pt x="586" y="18"/>
                  </a:lnTo>
                  <a:lnTo>
                    <a:pt x="632" y="82"/>
                  </a:lnTo>
                  <a:lnTo>
                    <a:pt x="670" y="144"/>
                  </a:lnTo>
                  <a:lnTo>
                    <a:pt x="708" y="210"/>
                  </a:lnTo>
                  <a:lnTo>
                    <a:pt x="748" y="286"/>
                  </a:lnTo>
                  <a:lnTo>
                    <a:pt x="556" y="384"/>
                  </a:lnTo>
                  <a:lnTo>
                    <a:pt x="556" y="384"/>
                  </a:lnTo>
                  <a:lnTo>
                    <a:pt x="522" y="308"/>
                  </a:lnTo>
                  <a:lnTo>
                    <a:pt x="506" y="274"/>
                  </a:lnTo>
                  <a:lnTo>
                    <a:pt x="488" y="242"/>
                  </a:lnTo>
                  <a:lnTo>
                    <a:pt x="450" y="180"/>
                  </a:lnTo>
                  <a:lnTo>
                    <a:pt x="400" y="106"/>
                  </a:lnTo>
                  <a:lnTo>
                    <a:pt x="586" y="18"/>
                  </a:lnTo>
                  <a:close/>
                  <a:moveTo>
                    <a:pt x="1312" y="106"/>
                  </a:moveTo>
                  <a:lnTo>
                    <a:pt x="1312" y="106"/>
                  </a:lnTo>
                  <a:lnTo>
                    <a:pt x="1268" y="192"/>
                  </a:lnTo>
                  <a:lnTo>
                    <a:pt x="1230" y="260"/>
                  </a:lnTo>
                  <a:lnTo>
                    <a:pt x="1190" y="322"/>
                  </a:lnTo>
                  <a:lnTo>
                    <a:pt x="1144" y="384"/>
                  </a:lnTo>
                  <a:lnTo>
                    <a:pt x="964" y="282"/>
                  </a:lnTo>
                  <a:lnTo>
                    <a:pt x="964" y="282"/>
                  </a:lnTo>
                  <a:lnTo>
                    <a:pt x="990" y="250"/>
                  </a:lnTo>
                  <a:lnTo>
                    <a:pt x="1012" y="218"/>
                  </a:lnTo>
                  <a:lnTo>
                    <a:pt x="1032" y="188"/>
                  </a:lnTo>
                  <a:lnTo>
                    <a:pt x="1050" y="156"/>
                  </a:lnTo>
                  <a:lnTo>
                    <a:pt x="1066" y="126"/>
                  </a:lnTo>
                  <a:lnTo>
                    <a:pt x="1084" y="92"/>
                  </a:lnTo>
                  <a:lnTo>
                    <a:pt x="1116" y="18"/>
                  </a:lnTo>
                  <a:lnTo>
                    <a:pt x="1312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7"/>
            <p:cNvSpPr/>
            <p:nvPr/>
          </p:nvSpPr>
          <p:spPr>
            <a:xfrm>
              <a:off x="4286160" y="17405280"/>
              <a:ext cx="2117880" cy="2079360"/>
            </a:xfrm>
            <a:custGeom>
              <a:avLst/>
              <a:gdLst>
                <a:gd name="textAreaLeft" fmla="*/ 0 w 2117880"/>
                <a:gd name="textAreaRight" fmla="*/ 2118240 w 2117880"/>
                <a:gd name="textAreaTop" fmla="*/ 0 h 2079360"/>
                <a:gd name="textAreaBottom" fmla="*/ 2079720 h 2079360"/>
              </a:gdLst>
              <a:ahLst/>
              <a:rect l="textAreaLeft" t="textAreaTop" r="textAreaRight" b="textAreaBottom"/>
              <a:pathLst>
                <a:path w="1334" h="1310">
                  <a:moveTo>
                    <a:pt x="678" y="692"/>
                  </a:moveTo>
                  <a:lnTo>
                    <a:pt x="678" y="692"/>
                  </a:lnTo>
                  <a:lnTo>
                    <a:pt x="748" y="646"/>
                  </a:lnTo>
                  <a:lnTo>
                    <a:pt x="772" y="630"/>
                  </a:lnTo>
                  <a:lnTo>
                    <a:pt x="802" y="606"/>
                  </a:lnTo>
                  <a:lnTo>
                    <a:pt x="802" y="606"/>
                  </a:lnTo>
                  <a:lnTo>
                    <a:pt x="786" y="572"/>
                  </a:lnTo>
                  <a:lnTo>
                    <a:pt x="772" y="538"/>
                  </a:lnTo>
                  <a:lnTo>
                    <a:pt x="760" y="502"/>
                  </a:lnTo>
                  <a:lnTo>
                    <a:pt x="748" y="464"/>
                  </a:lnTo>
                  <a:lnTo>
                    <a:pt x="738" y="426"/>
                  </a:lnTo>
                  <a:lnTo>
                    <a:pt x="728" y="386"/>
                  </a:lnTo>
                  <a:lnTo>
                    <a:pt x="720" y="342"/>
                  </a:lnTo>
                  <a:lnTo>
                    <a:pt x="712" y="296"/>
                  </a:lnTo>
                  <a:lnTo>
                    <a:pt x="216" y="296"/>
                  </a:lnTo>
                  <a:lnTo>
                    <a:pt x="216" y="296"/>
                  </a:lnTo>
                  <a:lnTo>
                    <a:pt x="118" y="298"/>
                  </a:lnTo>
                  <a:lnTo>
                    <a:pt x="36" y="304"/>
                  </a:lnTo>
                  <a:lnTo>
                    <a:pt x="36" y="106"/>
                  </a:lnTo>
                  <a:lnTo>
                    <a:pt x="36" y="106"/>
                  </a:lnTo>
                  <a:lnTo>
                    <a:pt x="72" y="108"/>
                  </a:lnTo>
                  <a:lnTo>
                    <a:pt x="114" y="112"/>
                  </a:lnTo>
                  <a:lnTo>
                    <a:pt x="216" y="114"/>
                  </a:lnTo>
                  <a:lnTo>
                    <a:pt x="694" y="114"/>
                  </a:lnTo>
                  <a:lnTo>
                    <a:pt x="694" y="114"/>
                  </a:lnTo>
                  <a:lnTo>
                    <a:pt x="692" y="102"/>
                  </a:lnTo>
                  <a:lnTo>
                    <a:pt x="692" y="82"/>
                  </a:lnTo>
                  <a:lnTo>
                    <a:pt x="692" y="82"/>
                  </a:lnTo>
                  <a:lnTo>
                    <a:pt x="686" y="8"/>
                  </a:lnTo>
                  <a:lnTo>
                    <a:pt x="904" y="8"/>
                  </a:lnTo>
                  <a:lnTo>
                    <a:pt x="904" y="8"/>
                  </a:lnTo>
                  <a:lnTo>
                    <a:pt x="902" y="36"/>
                  </a:lnTo>
                  <a:lnTo>
                    <a:pt x="902" y="58"/>
                  </a:lnTo>
                  <a:lnTo>
                    <a:pt x="902" y="58"/>
                  </a:lnTo>
                  <a:lnTo>
                    <a:pt x="904" y="114"/>
                  </a:lnTo>
                  <a:lnTo>
                    <a:pt x="1010" y="114"/>
                  </a:lnTo>
                  <a:lnTo>
                    <a:pt x="1010" y="114"/>
                  </a:lnTo>
                  <a:lnTo>
                    <a:pt x="988" y="76"/>
                  </a:lnTo>
                  <a:lnTo>
                    <a:pt x="962" y="38"/>
                  </a:lnTo>
                  <a:lnTo>
                    <a:pt x="1130" y="0"/>
                  </a:lnTo>
                  <a:lnTo>
                    <a:pt x="1130" y="0"/>
                  </a:lnTo>
                  <a:lnTo>
                    <a:pt x="1168" y="56"/>
                  </a:lnTo>
                  <a:lnTo>
                    <a:pt x="1200" y="114"/>
                  </a:lnTo>
                  <a:lnTo>
                    <a:pt x="1200" y="114"/>
                  </a:lnTo>
                  <a:lnTo>
                    <a:pt x="1260" y="110"/>
                  </a:lnTo>
                  <a:lnTo>
                    <a:pt x="1306" y="106"/>
                  </a:lnTo>
                  <a:lnTo>
                    <a:pt x="1306" y="304"/>
                  </a:lnTo>
                  <a:lnTo>
                    <a:pt x="1306" y="304"/>
                  </a:lnTo>
                  <a:lnTo>
                    <a:pt x="1268" y="302"/>
                  </a:lnTo>
                  <a:lnTo>
                    <a:pt x="1226" y="298"/>
                  </a:lnTo>
                  <a:lnTo>
                    <a:pt x="1122" y="296"/>
                  </a:lnTo>
                  <a:lnTo>
                    <a:pt x="916" y="296"/>
                  </a:lnTo>
                  <a:lnTo>
                    <a:pt x="916" y="296"/>
                  </a:lnTo>
                  <a:lnTo>
                    <a:pt x="924" y="344"/>
                  </a:lnTo>
                  <a:lnTo>
                    <a:pt x="932" y="384"/>
                  </a:lnTo>
                  <a:lnTo>
                    <a:pt x="942" y="422"/>
                  </a:lnTo>
                  <a:lnTo>
                    <a:pt x="952" y="458"/>
                  </a:lnTo>
                  <a:lnTo>
                    <a:pt x="952" y="458"/>
                  </a:lnTo>
                  <a:lnTo>
                    <a:pt x="984" y="416"/>
                  </a:lnTo>
                  <a:lnTo>
                    <a:pt x="1010" y="378"/>
                  </a:lnTo>
                  <a:lnTo>
                    <a:pt x="1030" y="344"/>
                  </a:lnTo>
                  <a:lnTo>
                    <a:pt x="1044" y="310"/>
                  </a:lnTo>
                  <a:lnTo>
                    <a:pt x="1228" y="396"/>
                  </a:lnTo>
                  <a:lnTo>
                    <a:pt x="1228" y="396"/>
                  </a:lnTo>
                  <a:lnTo>
                    <a:pt x="1208" y="422"/>
                  </a:lnTo>
                  <a:lnTo>
                    <a:pt x="1182" y="460"/>
                  </a:lnTo>
                  <a:lnTo>
                    <a:pt x="1182" y="460"/>
                  </a:lnTo>
                  <a:lnTo>
                    <a:pt x="1152" y="506"/>
                  </a:lnTo>
                  <a:lnTo>
                    <a:pt x="1118" y="548"/>
                  </a:lnTo>
                  <a:lnTo>
                    <a:pt x="1086" y="590"/>
                  </a:lnTo>
                  <a:lnTo>
                    <a:pt x="1052" y="630"/>
                  </a:lnTo>
                  <a:lnTo>
                    <a:pt x="1052" y="630"/>
                  </a:lnTo>
                  <a:lnTo>
                    <a:pt x="1074" y="652"/>
                  </a:lnTo>
                  <a:lnTo>
                    <a:pt x="1092" y="668"/>
                  </a:lnTo>
                  <a:lnTo>
                    <a:pt x="1112" y="682"/>
                  </a:lnTo>
                  <a:lnTo>
                    <a:pt x="1134" y="694"/>
                  </a:lnTo>
                  <a:lnTo>
                    <a:pt x="1134" y="694"/>
                  </a:lnTo>
                  <a:lnTo>
                    <a:pt x="1148" y="668"/>
                  </a:lnTo>
                  <a:lnTo>
                    <a:pt x="1160" y="638"/>
                  </a:lnTo>
                  <a:lnTo>
                    <a:pt x="1170" y="600"/>
                  </a:lnTo>
                  <a:lnTo>
                    <a:pt x="1180" y="552"/>
                  </a:lnTo>
                  <a:lnTo>
                    <a:pt x="1180" y="552"/>
                  </a:lnTo>
                  <a:lnTo>
                    <a:pt x="1222" y="586"/>
                  </a:lnTo>
                  <a:lnTo>
                    <a:pt x="1256" y="612"/>
                  </a:lnTo>
                  <a:lnTo>
                    <a:pt x="1292" y="634"/>
                  </a:lnTo>
                  <a:lnTo>
                    <a:pt x="1334" y="660"/>
                  </a:lnTo>
                  <a:lnTo>
                    <a:pt x="1334" y="660"/>
                  </a:lnTo>
                  <a:lnTo>
                    <a:pt x="1318" y="716"/>
                  </a:lnTo>
                  <a:lnTo>
                    <a:pt x="1302" y="764"/>
                  </a:lnTo>
                  <a:lnTo>
                    <a:pt x="1292" y="784"/>
                  </a:lnTo>
                  <a:lnTo>
                    <a:pt x="1284" y="804"/>
                  </a:lnTo>
                  <a:lnTo>
                    <a:pt x="1274" y="822"/>
                  </a:lnTo>
                  <a:lnTo>
                    <a:pt x="1264" y="836"/>
                  </a:lnTo>
                  <a:lnTo>
                    <a:pt x="1252" y="850"/>
                  </a:lnTo>
                  <a:lnTo>
                    <a:pt x="1240" y="864"/>
                  </a:lnTo>
                  <a:lnTo>
                    <a:pt x="1228" y="874"/>
                  </a:lnTo>
                  <a:lnTo>
                    <a:pt x="1216" y="882"/>
                  </a:lnTo>
                  <a:lnTo>
                    <a:pt x="1202" y="890"/>
                  </a:lnTo>
                  <a:lnTo>
                    <a:pt x="1188" y="896"/>
                  </a:lnTo>
                  <a:lnTo>
                    <a:pt x="1174" y="902"/>
                  </a:lnTo>
                  <a:lnTo>
                    <a:pt x="1158" y="904"/>
                  </a:lnTo>
                  <a:lnTo>
                    <a:pt x="1158" y="904"/>
                  </a:lnTo>
                  <a:lnTo>
                    <a:pt x="1210" y="976"/>
                  </a:lnTo>
                  <a:lnTo>
                    <a:pt x="1252" y="1040"/>
                  </a:lnTo>
                  <a:lnTo>
                    <a:pt x="1272" y="1072"/>
                  </a:lnTo>
                  <a:lnTo>
                    <a:pt x="1290" y="1104"/>
                  </a:lnTo>
                  <a:lnTo>
                    <a:pt x="1324" y="1174"/>
                  </a:lnTo>
                  <a:lnTo>
                    <a:pt x="1134" y="1286"/>
                  </a:lnTo>
                  <a:lnTo>
                    <a:pt x="1134" y="1286"/>
                  </a:lnTo>
                  <a:lnTo>
                    <a:pt x="1108" y="1224"/>
                  </a:lnTo>
                  <a:lnTo>
                    <a:pt x="1086" y="1174"/>
                  </a:lnTo>
                  <a:lnTo>
                    <a:pt x="1064" y="1128"/>
                  </a:lnTo>
                  <a:lnTo>
                    <a:pt x="1038" y="1080"/>
                  </a:lnTo>
                  <a:lnTo>
                    <a:pt x="1038" y="1080"/>
                  </a:lnTo>
                  <a:lnTo>
                    <a:pt x="1034" y="1122"/>
                  </a:lnTo>
                  <a:lnTo>
                    <a:pt x="1028" y="1158"/>
                  </a:lnTo>
                  <a:lnTo>
                    <a:pt x="1022" y="1188"/>
                  </a:lnTo>
                  <a:lnTo>
                    <a:pt x="1014" y="1214"/>
                  </a:lnTo>
                  <a:lnTo>
                    <a:pt x="1004" y="1234"/>
                  </a:lnTo>
                  <a:lnTo>
                    <a:pt x="992" y="1252"/>
                  </a:lnTo>
                  <a:lnTo>
                    <a:pt x="978" y="1266"/>
                  </a:lnTo>
                  <a:lnTo>
                    <a:pt x="962" y="1278"/>
                  </a:lnTo>
                  <a:lnTo>
                    <a:pt x="962" y="1278"/>
                  </a:lnTo>
                  <a:lnTo>
                    <a:pt x="946" y="1286"/>
                  </a:lnTo>
                  <a:lnTo>
                    <a:pt x="926" y="1294"/>
                  </a:lnTo>
                  <a:lnTo>
                    <a:pt x="900" y="1300"/>
                  </a:lnTo>
                  <a:lnTo>
                    <a:pt x="870" y="1304"/>
                  </a:lnTo>
                  <a:lnTo>
                    <a:pt x="834" y="1306"/>
                  </a:lnTo>
                  <a:lnTo>
                    <a:pt x="792" y="1308"/>
                  </a:lnTo>
                  <a:lnTo>
                    <a:pt x="686" y="1310"/>
                  </a:lnTo>
                  <a:lnTo>
                    <a:pt x="686" y="1310"/>
                  </a:lnTo>
                  <a:lnTo>
                    <a:pt x="576" y="1310"/>
                  </a:lnTo>
                  <a:lnTo>
                    <a:pt x="492" y="1304"/>
                  </a:lnTo>
                  <a:lnTo>
                    <a:pt x="460" y="1302"/>
                  </a:lnTo>
                  <a:lnTo>
                    <a:pt x="432" y="1298"/>
                  </a:lnTo>
                  <a:lnTo>
                    <a:pt x="412" y="1292"/>
                  </a:lnTo>
                  <a:lnTo>
                    <a:pt x="394" y="1286"/>
                  </a:lnTo>
                  <a:lnTo>
                    <a:pt x="394" y="1286"/>
                  </a:lnTo>
                  <a:lnTo>
                    <a:pt x="382" y="1280"/>
                  </a:lnTo>
                  <a:lnTo>
                    <a:pt x="372" y="1272"/>
                  </a:lnTo>
                  <a:lnTo>
                    <a:pt x="364" y="1262"/>
                  </a:lnTo>
                  <a:lnTo>
                    <a:pt x="358" y="1252"/>
                  </a:lnTo>
                  <a:lnTo>
                    <a:pt x="352" y="1240"/>
                  </a:lnTo>
                  <a:lnTo>
                    <a:pt x="348" y="1226"/>
                  </a:lnTo>
                  <a:lnTo>
                    <a:pt x="346" y="1208"/>
                  </a:lnTo>
                  <a:lnTo>
                    <a:pt x="346" y="1190"/>
                  </a:lnTo>
                  <a:lnTo>
                    <a:pt x="346" y="1028"/>
                  </a:lnTo>
                  <a:lnTo>
                    <a:pt x="346" y="1028"/>
                  </a:lnTo>
                  <a:lnTo>
                    <a:pt x="346" y="998"/>
                  </a:lnTo>
                  <a:lnTo>
                    <a:pt x="346" y="998"/>
                  </a:lnTo>
                  <a:lnTo>
                    <a:pt x="324" y="1046"/>
                  </a:lnTo>
                  <a:lnTo>
                    <a:pt x="304" y="1088"/>
                  </a:lnTo>
                  <a:lnTo>
                    <a:pt x="284" y="1128"/>
                  </a:lnTo>
                  <a:lnTo>
                    <a:pt x="264" y="1162"/>
                  </a:lnTo>
                  <a:lnTo>
                    <a:pt x="244" y="1196"/>
                  </a:lnTo>
                  <a:lnTo>
                    <a:pt x="222" y="1228"/>
                  </a:lnTo>
                  <a:lnTo>
                    <a:pt x="198" y="1260"/>
                  </a:lnTo>
                  <a:lnTo>
                    <a:pt x="170" y="1294"/>
                  </a:lnTo>
                  <a:lnTo>
                    <a:pt x="0" y="1160"/>
                  </a:lnTo>
                  <a:lnTo>
                    <a:pt x="0" y="1160"/>
                  </a:lnTo>
                  <a:lnTo>
                    <a:pt x="30" y="1128"/>
                  </a:lnTo>
                  <a:lnTo>
                    <a:pt x="56" y="1098"/>
                  </a:lnTo>
                  <a:lnTo>
                    <a:pt x="80" y="1068"/>
                  </a:lnTo>
                  <a:lnTo>
                    <a:pt x="102" y="1038"/>
                  </a:lnTo>
                  <a:lnTo>
                    <a:pt x="122" y="1006"/>
                  </a:lnTo>
                  <a:lnTo>
                    <a:pt x="140" y="974"/>
                  </a:lnTo>
                  <a:lnTo>
                    <a:pt x="158" y="938"/>
                  </a:lnTo>
                  <a:lnTo>
                    <a:pt x="176" y="900"/>
                  </a:lnTo>
                  <a:lnTo>
                    <a:pt x="344" y="992"/>
                  </a:lnTo>
                  <a:lnTo>
                    <a:pt x="344" y="992"/>
                  </a:lnTo>
                  <a:lnTo>
                    <a:pt x="342" y="958"/>
                  </a:lnTo>
                  <a:lnTo>
                    <a:pt x="338" y="928"/>
                  </a:lnTo>
                  <a:lnTo>
                    <a:pt x="554" y="928"/>
                  </a:lnTo>
                  <a:lnTo>
                    <a:pt x="554" y="928"/>
                  </a:lnTo>
                  <a:lnTo>
                    <a:pt x="548" y="962"/>
                  </a:lnTo>
                  <a:lnTo>
                    <a:pt x="548" y="996"/>
                  </a:lnTo>
                  <a:lnTo>
                    <a:pt x="548" y="1098"/>
                  </a:lnTo>
                  <a:lnTo>
                    <a:pt x="548" y="1098"/>
                  </a:lnTo>
                  <a:lnTo>
                    <a:pt x="548" y="1106"/>
                  </a:lnTo>
                  <a:lnTo>
                    <a:pt x="552" y="1114"/>
                  </a:lnTo>
                  <a:lnTo>
                    <a:pt x="560" y="1118"/>
                  </a:lnTo>
                  <a:lnTo>
                    <a:pt x="570" y="1124"/>
                  </a:lnTo>
                  <a:lnTo>
                    <a:pt x="586" y="1126"/>
                  </a:lnTo>
                  <a:lnTo>
                    <a:pt x="608" y="1128"/>
                  </a:lnTo>
                  <a:lnTo>
                    <a:pt x="670" y="1130"/>
                  </a:lnTo>
                  <a:lnTo>
                    <a:pt x="670" y="1130"/>
                  </a:lnTo>
                  <a:lnTo>
                    <a:pt x="742" y="1128"/>
                  </a:lnTo>
                  <a:lnTo>
                    <a:pt x="768" y="1126"/>
                  </a:lnTo>
                  <a:lnTo>
                    <a:pt x="790" y="1122"/>
                  </a:lnTo>
                  <a:lnTo>
                    <a:pt x="806" y="1118"/>
                  </a:lnTo>
                  <a:lnTo>
                    <a:pt x="818" y="1112"/>
                  </a:lnTo>
                  <a:lnTo>
                    <a:pt x="826" y="1104"/>
                  </a:lnTo>
                  <a:lnTo>
                    <a:pt x="830" y="1094"/>
                  </a:lnTo>
                  <a:lnTo>
                    <a:pt x="830" y="1094"/>
                  </a:lnTo>
                  <a:lnTo>
                    <a:pt x="834" y="1080"/>
                  </a:lnTo>
                  <a:lnTo>
                    <a:pt x="836" y="1060"/>
                  </a:lnTo>
                  <a:lnTo>
                    <a:pt x="838" y="996"/>
                  </a:lnTo>
                  <a:lnTo>
                    <a:pt x="838" y="996"/>
                  </a:lnTo>
                  <a:lnTo>
                    <a:pt x="886" y="1016"/>
                  </a:lnTo>
                  <a:lnTo>
                    <a:pt x="932" y="1030"/>
                  </a:lnTo>
                  <a:lnTo>
                    <a:pt x="976" y="1042"/>
                  </a:lnTo>
                  <a:lnTo>
                    <a:pt x="1020" y="1048"/>
                  </a:lnTo>
                  <a:lnTo>
                    <a:pt x="1020" y="1048"/>
                  </a:lnTo>
                  <a:lnTo>
                    <a:pt x="998" y="1014"/>
                  </a:lnTo>
                  <a:lnTo>
                    <a:pt x="968" y="974"/>
                  </a:lnTo>
                  <a:lnTo>
                    <a:pt x="1102" y="902"/>
                  </a:lnTo>
                  <a:lnTo>
                    <a:pt x="1102" y="902"/>
                  </a:lnTo>
                  <a:lnTo>
                    <a:pt x="1078" y="894"/>
                  </a:lnTo>
                  <a:lnTo>
                    <a:pt x="1052" y="884"/>
                  </a:lnTo>
                  <a:lnTo>
                    <a:pt x="1028" y="872"/>
                  </a:lnTo>
                  <a:lnTo>
                    <a:pt x="1004" y="858"/>
                  </a:lnTo>
                  <a:lnTo>
                    <a:pt x="980" y="840"/>
                  </a:lnTo>
                  <a:lnTo>
                    <a:pt x="956" y="818"/>
                  </a:lnTo>
                  <a:lnTo>
                    <a:pt x="932" y="796"/>
                  </a:lnTo>
                  <a:lnTo>
                    <a:pt x="908" y="770"/>
                  </a:lnTo>
                  <a:lnTo>
                    <a:pt x="908" y="770"/>
                  </a:lnTo>
                  <a:lnTo>
                    <a:pt x="880" y="794"/>
                  </a:lnTo>
                  <a:lnTo>
                    <a:pt x="854" y="814"/>
                  </a:lnTo>
                  <a:lnTo>
                    <a:pt x="824" y="834"/>
                  </a:lnTo>
                  <a:lnTo>
                    <a:pt x="786" y="860"/>
                  </a:lnTo>
                  <a:lnTo>
                    <a:pt x="786" y="860"/>
                  </a:lnTo>
                  <a:lnTo>
                    <a:pt x="762" y="818"/>
                  </a:lnTo>
                  <a:lnTo>
                    <a:pt x="734" y="780"/>
                  </a:lnTo>
                  <a:lnTo>
                    <a:pt x="706" y="744"/>
                  </a:lnTo>
                  <a:lnTo>
                    <a:pt x="676" y="714"/>
                  </a:lnTo>
                  <a:lnTo>
                    <a:pt x="672" y="832"/>
                  </a:lnTo>
                  <a:lnTo>
                    <a:pt x="672" y="832"/>
                  </a:lnTo>
                  <a:lnTo>
                    <a:pt x="526" y="856"/>
                  </a:lnTo>
                  <a:lnTo>
                    <a:pt x="414" y="872"/>
                  </a:lnTo>
                  <a:lnTo>
                    <a:pt x="298" y="884"/>
                  </a:lnTo>
                  <a:lnTo>
                    <a:pt x="150" y="900"/>
                  </a:lnTo>
                  <a:lnTo>
                    <a:pt x="150" y="900"/>
                  </a:lnTo>
                  <a:lnTo>
                    <a:pt x="50" y="912"/>
                  </a:lnTo>
                  <a:lnTo>
                    <a:pt x="28" y="716"/>
                  </a:lnTo>
                  <a:lnTo>
                    <a:pt x="28" y="716"/>
                  </a:lnTo>
                  <a:lnTo>
                    <a:pt x="56" y="718"/>
                  </a:lnTo>
                  <a:lnTo>
                    <a:pt x="56" y="718"/>
                  </a:lnTo>
                  <a:lnTo>
                    <a:pt x="108" y="716"/>
                  </a:lnTo>
                  <a:lnTo>
                    <a:pt x="176" y="712"/>
                  </a:lnTo>
                  <a:lnTo>
                    <a:pt x="346" y="700"/>
                  </a:lnTo>
                  <a:lnTo>
                    <a:pt x="526" y="684"/>
                  </a:lnTo>
                  <a:lnTo>
                    <a:pt x="608" y="674"/>
                  </a:lnTo>
                  <a:lnTo>
                    <a:pt x="678" y="666"/>
                  </a:lnTo>
                  <a:lnTo>
                    <a:pt x="678" y="692"/>
                  </a:lnTo>
                  <a:close/>
                  <a:moveTo>
                    <a:pt x="110" y="426"/>
                  </a:moveTo>
                  <a:lnTo>
                    <a:pt x="110" y="426"/>
                  </a:lnTo>
                  <a:lnTo>
                    <a:pt x="108" y="378"/>
                  </a:lnTo>
                  <a:lnTo>
                    <a:pt x="104" y="334"/>
                  </a:lnTo>
                  <a:lnTo>
                    <a:pt x="104" y="334"/>
                  </a:lnTo>
                  <a:lnTo>
                    <a:pt x="160" y="338"/>
                  </a:lnTo>
                  <a:lnTo>
                    <a:pt x="234" y="338"/>
                  </a:lnTo>
                  <a:lnTo>
                    <a:pt x="540" y="338"/>
                  </a:lnTo>
                  <a:lnTo>
                    <a:pt x="540" y="338"/>
                  </a:lnTo>
                  <a:lnTo>
                    <a:pt x="606" y="338"/>
                  </a:lnTo>
                  <a:lnTo>
                    <a:pt x="662" y="334"/>
                  </a:lnTo>
                  <a:lnTo>
                    <a:pt x="662" y="334"/>
                  </a:lnTo>
                  <a:lnTo>
                    <a:pt x="658" y="376"/>
                  </a:lnTo>
                  <a:lnTo>
                    <a:pt x="658" y="426"/>
                  </a:lnTo>
                  <a:lnTo>
                    <a:pt x="658" y="572"/>
                  </a:lnTo>
                  <a:lnTo>
                    <a:pt x="658" y="572"/>
                  </a:lnTo>
                  <a:lnTo>
                    <a:pt x="658" y="628"/>
                  </a:lnTo>
                  <a:lnTo>
                    <a:pt x="660" y="660"/>
                  </a:lnTo>
                  <a:lnTo>
                    <a:pt x="660" y="660"/>
                  </a:lnTo>
                  <a:lnTo>
                    <a:pt x="616" y="660"/>
                  </a:lnTo>
                  <a:lnTo>
                    <a:pt x="536" y="660"/>
                  </a:lnTo>
                  <a:lnTo>
                    <a:pt x="232" y="660"/>
                  </a:lnTo>
                  <a:lnTo>
                    <a:pt x="232" y="660"/>
                  </a:lnTo>
                  <a:lnTo>
                    <a:pt x="162" y="660"/>
                  </a:lnTo>
                  <a:lnTo>
                    <a:pt x="104" y="664"/>
                  </a:lnTo>
                  <a:lnTo>
                    <a:pt x="104" y="664"/>
                  </a:lnTo>
                  <a:lnTo>
                    <a:pt x="108" y="620"/>
                  </a:lnTo>
                  <a:lnTo>
                    <a:pt x="110" y="572"/>
                  </a:lnTo>
                  <a:lnTo>
                    <a:pt x="110" y="426"/>
                  </a:lnTo>
                  <a:close/>
                  <a:moveTo>
                    <a:pt x="300" y="530"/>
                  </a:moveTo>
                  <a:lnTo>
                    <a:pt x="470" y="530"/>
                  </a:lnTo>
                  <a:lnTo>
                    <a:pt x="470" y="466"/>
                  </a:lnTo>
                  <a:lnTo>
                    <a:pt x="300" y="466"/>
                  </a:lnTo>
                  <a:lnTo>
                    <a:pt x="300" y="530"/>
                  </a:lnTo>
                  <a:close/>
                  <a:moveTo>
                    <a:pt x="696" y="1088"/>
                  </a:moveTo>
                  <a:lnTo>
                    <a:pt x="696" y="1088"/>
                  </a:lnTo>
                  <a:lnTo>
                    <a:pt x="656" y="1034"/>
                  </a:lnTo>
                  <a:lnTo>
                    <a:pt x="624" y="992"/>
                  </a:lnTo>
                  <a:lnTo>
                    <a:pt x="592" y="958"/>
                  </a:lnTo>
                  <a:lnTo>
                    <a:pt x="556" y="926"/>
                  </a:lnTo>
                  <a:lnTo>
                    <a:pt x="716" y="830"/>
                  </a:lnTo>
                  <a:lnTo>
                    <a:pt x="716" y="830"/>
                  </a:lnTo>
                  <a:lnTo>
                    <a:pt x="760" y="864"/>
                  </a:lnTo>
                  <a:lnTo>
                    <a:pt x="796" y="896"/>
                  </a:lnTo>
                  <a:lnTo>
                    <a:pt x="828" y="928"/>
                  </a:lnTo>
                  <a:lnTo>
                    <a:pt x="868" y="970"/>
                  </a:lnTo>
                  <a:lnTo>
                    <a:pt x="696" y="10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8"/>
            <p:cNvSpPr/>
            <p:nvPr/>
          </p:nvSpPr>
          <p:spPr>
            <a:xfrm>
              <a:off x="4365360" y="19646640"/>
              <a:ext cx="1949400" cy="2019240"/>
            </a:xfrm>
            <a:custGeom>
              <a:avLst/>
              <a:gdLst>
                <a:gd name="textAreaLeft" fmla="*/ 0 w 1949400"/>
                <a:gd name="textAreaRight" fmla="*/ 1949760 w 1949400"/>
                <a:gd name="textAreaTop" fmla="*/ 0 h 2019240"/>
                <a:gd name="textAreaBottom" fmla="*/ 2019240 h 2019240"/>
              </a:gdLst>
              <a:ahLst/>
              <a:rect l="textAreaLeft" t="textAreaTop" r="textAreaRight" b="textAreaBottom"/>
              <a:pathLst>
                <a:path w="1228" h="1272">
                  <a:moveTo>
                    <a:pt x="50" y="136"/>
                  </a:moveTo>
                  <a:lnTo>
                    <a:pt x="50" y="136"/>
                  </a:lnTo>
                  <a:lnTo>
                    <a:pt x="74" y="140"/>
                  </a:lnTo>
                  <a:lnTo>
                    <a:pt x="100" y="144"/>
                  </a:lnTo>
                  <a:lnTo>
                    <a:pt x="162" y="150"/>
                  </a:lnTo>
                  <a:lnTo>
                    <a:pt x="240" y="154"/>
                  </a:lnTo>
                  <a:lnTo>
                    <a:pt x="338" y="156"/>
                  </a:lnTo>
                  <a:lnTo>
                    <a:pt x="338" y="156"/>
                  </a:lnTo>
                  <a:lnTo>
                    <a:pt x="378" y="156"/>
                  </a:lnTo>
                  <a:lnTo>
                    <a:pt x="378" y="156"/>
                  </a:lnTo>
                  <a:lnTo>
                    <a:pt x="396" y="110"/>
                  </a:lnTo>
                  <a:lnTo>
                    <a:pt x="408" y="72"/>
                  </a:lnTo>
                  <a:lnTo>
                    <a:pt x="416" y="36"/>
                  </a:lnTo>
                  <a:lnTo>
                    <a:pt x="420" y="0"/>
                  </a:lnTo>
                  <a:lnTo>
                    <a:pt x="676" y="20"/>
                  </a:lnTo>
                  <a:lnTo>
                    <a:pt x="676" y="20"/>
                  </a:lnTo>
                  <a:lnTo>
                    <a:pt x="664" y="44"/>
                  </a:lnTo>
                  <a:lnTo>
                    <a:pt x="646" y="86"/>
                  </a:lnTo>
                  <a:lnTo>
                    <a:pt x="646" y="86"/>
                  </a:lnTo>
                  <a:lnTo>
                    <a:pt x="626" y="132"/>
                  </a:lnTo>
                  <a:lnTo>
                    <a:pt x="618" y="152"/>
                  </a:lnTo>
                  <a:lnTo>
                    <a:pt x="618" y="152"/>
                  </a:lnTo>
                  <a:lnTo>
                    <a:pt x="704" y="146"/>
                  </a:lnTo>
                  <a:lnTo>
                    <a:pt x="704" y="146"/>
                  </a:lnTo>
                  <a:lnTo>
                    <a:pt x="806" y="138"/>
                  </a:lnTo>
                  <a:lnTo>
                    <a:pt x="904" y="128"/>
                  </a:lnTo>
                  <a:lnTo>
                    <a:pt x="990" y="116"/>
                  </a:lnTo>
                  <a:lnTo>
                    <a:pt x="1026" y="108"/>
                  </a:lnTo>
                  <a:lnTo>
                    <a:pt x="1058" y="100"/>
                  </a:lnTo>
                  <a:lnTo>
                    <a:pt x="1066" y="322"/>
                  </a:lnTo>
                  <a:lnTo>
                    <a:pt x="1066" y="322"/>
                  </a:lnTo>
                  <a:lnTo>
                    <a:pt x="940" y="336"/>
                  </a:lnTo>
                  <a:lnTo>
                    <a:pt x="940" y="336"/>
                  </a:lnTo>
                  <a:lnTo>
                    <a:pt x="854" y="342"/>
                  </a:lnTo>
                  <a:lnTo>
                    <a:pt x="748" y="350"/>
                  </a:lnTo>
                  <a:lnTo>
                    <a:pt x="636" y="354"/>
                  </a:lnTo>
                  <a:lnTo>
                    <a:pt x="524" y="360"/>
                  </a:lnTo>
                  <a:lnTo>
                    <a:pt x="524" y="360"/>
                  </a:lnTo>
                  <a:lnTo>
                    <a:pt x="494" y="410"/>
                  </a:lnTo>
                  <a:lnTo>
                    <a:pt x="478" y="434"/>
                  </a:lnTo>
                  <a:lnTo>
                    <a:pt x="458" y="462"/>
                  </a:lnTo>
                  <a:lnTo>
                    <a:pt x="458" y="462"/>
                  </a:lnTo>
                  <a:lnTo>
                    <a:pt x="502" y="444"/>
                  </a:lnTo>
                  <a:lnTo>
                    <a:pt x="524" y="436"/>
                  </a:lnTo>
                  <a:lnTo>
                    <a:pt x="546" y="430"/>
                  </a:lnTo>
                  <a:lnTo>
                    <a:pt x="568" y="426"/>
                  </a:lnTo>
                  <a:lnTo>
                    <a:pt x="590" y="424"/>
                  </a:lnTo>
                  <a:lnTo>
                    <a:pt x="612" y="422"/>
                  </a:lnTo>
                  <a:lnTo>
                    <a:pt x="634" y="420"/>
                  </a:lnTo>
                  <a:lnTo>
                    <a:pt x="634" y="420"/>
                  </a:lnTo>
                  <a:lnTo>
                    <a:pt x="676" y="422"/>
                  </a:lnTo>
                  <a:lnTo>
                    <a:pt x="694" y="426"/>
                  </a:lnTo>
                  <a:lnTo>
                    <a:pt x="712" y="428"/>
                  </a:lnTo>
                  <a:lnTo>
                    <a:pt x="730" y="434"/>
                  </a:lnTo>
                  <a:lnTo>
                    <a:pt x="746" y="440"/>
                  </a:lnTo>
                  <a:lnTo>
                    <a:pt x="760" y="446"/>
                  </a:lnTo>
                  <a:lnTo>
                    <a:pt x="774" y="454"/>
                  </a:lnTo>
                  <a:lnTo>
                    <a:pt x="786" y="464"/>
                  </a:lnTo>
                  <a:lnTo>
                    <a:pt x="798" y="474"/>
                  </a:lnTo>
                  <a:lnTo>
                    <a:pt x="810" y="484"/>
                  </a:lnTo>
                  <a:lnTo>
                    <a:pt x="818" y="496"/>
                  </a:lnTo>
                  <a:lnTo>
                    <a:pt x="828" y="510"/>
                  </a:lnTo>
                  <a:lnTo>
                    <a:pt x="836" y="524"/>
                  </a:lnTo>
                  <a:lnTo>
                    <a:pt x="842" y="540"/>
                  </a:lnTo>
                  <a:lnTo>
                    <a:pt x="848" y="556"/>
                  </a:lnTo>
                  <a:lnTo>
                    <a:pt x="848" y="556"/>
                  </a:lnTo>
                  <a:lnTo>
                    <a:pt x="946" y="522"/>
                  </a:lnTo>
                  <a:lnTo>
                    <a:pt x="946" y="522"/>
                  </a:lnTo>
                  <a:lnTo>
                    <a:pt x="1032" y="494"/>
                  </a:lnTo>
                  <a:lnTo>
                    <a:pt x="1032" y="494"/>
                  </a:lnTo>
                  <a:lnTo>
                    <a:pt x="1110" y="468"/>
                  </a:lnTo>
                  <a:lnTo>
                    <a:pt x="1128" y="460"/>
                  </a:lnTo>
                  <a:lnTo>
                    <a:pt x="1144" y="452"/>
                  </a:lnTo>
                  <a:lnTo>
                    <a:pt x="1228" y="672"/>
                  </a:lnTo>
                  <a:lnTo>
                    <a:pt x="1228" y="672"/>
                  </a:lnTo>
                  <a:lnTo>
                    <a:pt x="1198" y="678"/>
                  </a:lnTo>
                  <a:lnTo>
                    <a:pt x="1162" y="686"/>
                  </a:lnTo>
                  <a:lnTo>
                    <a:pt x="1074" y="706"/>
                  </a:lnTo>
                  <a:lnTo>
                    <a:pt x="974" y="734"/>
                  </a:lnTo>
                  <a:lnTo>
                    <a:pt x="872" y="768"/>
                  </a:lnTo>
                  <a:lnTo>
                    <a:pt x="872" y="768"/>
                  </a:lnTo>
                  <a:lnTo>
                    <a:pt x="874" y="810"/>
                  </a:lnTo>
                  <a:lnTo>
                    <a:pt x="874" y="868"/>
                  </a:lnTo>
                  <a:lnTo>
                    <a:pt x="874" y="868"/>
                  </a:lnTo>
                  <a:lnTo>
                    <a:pt x="876" y="938"/>
                  </a:lnTo>
                  <a:lnTo>
                    <a:pt x="880" y="988"/>
                  </a:lnTo>
                  <a:lnTo>
                    <a:pt x="652" y="996"/>
                  </a:lnTo>
                  <a:lnTo>
                    <a:pt x="652" y="996"/>
                  </a:lnTo>
                  <a:lnTo>
                    <a:pt x="656" y="976"/>
                  </a:lnTo>
                  <a:lnTo>
                    <a:pt x="656" y="944"/>
                  </a:lnTo>
                  <a:lnTo>
                    <a:pt x="660" y="848"/>
                  </a:lnTo>
                  <a:lnTo>
                    <a:pt x="646" y="852"/>
                  </a:lnTo>
                  <a:lnTo>
                    <a:pt x="646" y="852"/>
                  </a:lnTo>
                  <a:lnTo>
                    <a:pt x="608" y="872"/>
                  </a:lnTo>
                  <a:lnTo>
                    <a:pt x="584" y="886"/>
                  </a:lnTo>
                  <a:lnTo>
                    <a:pt x="566" y="898"/>
                  </a:lnTo>
                  <a:lnTo>
                    <a:pt x="550" y="912"/>
                  </a:lnTo>
                  <a:lnTo>
                    <a:pt x="550" y="912"/>
                  </a:lnTo>
                  <a:lnTo>
                    <a:pt x="534" y="928"/>
                  </a:lnTo>
                  <a:lnTo>
                    <a:pt x="522" y="946"/>
                  </a:lnTo>
                  <a:lnTo>
                    <a:pt x="516" y="964"/>
                  </a:lnTo>
                  <a:lnTo>
                    <a:pt x="512" y="982"/>
                  </a:lnTo>
                  <a:lnTo>
                    <a:pt x="512" y="982"/>
                  </a:lnTo>
                  <a:lnTo>
                    <a:pt x="514" y="992"/>
                  </a:lnTo>
                  <a:lnTo>
                    <a:pt x="516" y="1002"/>
                  </a:lnTo>
                  <a:lnTo>
                    <a:pt x="518" y="1010"/>
                  </a:lnTo>
                  <a:lnTo>
                    <a:pt x="524" y="1016"/>
                  </a:lnTo>
                  <a:lnTo>
                    <a:pt x="530" y="1024"/>
                  </a:lnTo>
                  <a:lnTo>
                    <a:pt x="536" y="1030"/>
                  </a:lnTo>
                  <a:lnTo>
                    <a:pt x="546" y="1034"/>
                  </a:lnTo>
                  <a:lnTo>
                    <a:pt x="556" y="1040"/>
                  </a:lnTo>
                  <a:lnTo>
                    <a:pt x="582" y="1048"/>
                  </a:lnTo>
                  <a:lnTo>
                    <a:pt x="614" y="1052"/>
                  </a:lnTo>
                  <a:lnTo>
                    <a:pt x="652" y="1056"/>
                  </a:lnTo>
                  <a:lnTo>
                    <a:pt x="700" y="1056"/>
                  </a:lnTo>
                  <a:lnTo>
                    <a:pt x="700" y="1056"/>
                  </a:lnTo>
                  <a:lnTo>
                    <a:pt x="762" y="1056"/>
                  </a:lnTo>
                  <a:lnTo>
                    <a:pt x="824" y="1052"/>
                  </a:lnTo>
                  <a:lnTo>
                    <a:pt x="884" y="1046"/>
                  </a:lnTo>
                  <a:lnTo>
                    <a:pt x="942" y="1038"/>
                  </a:lnTo>
                  <a:lnTo>
                    <a:pt x="998" y="1028"/>
                  </a:lnTo>
                  <a:lnTo>
                    <a:pt x="1050" y="1016"/>
                  </a:lnTo>
                  <a:lnTo>
                    <a:pt x="1100" y="1002"/>
                  </a:lnTo>
                  <a:lnTo>
                    <a:pt x="1146" y="986"/>
                  </a:lnTo>
                  <a:lnTo>
                    <a:pt x="1162" y="1238"/>
                  </a:lnTo>
                  <a:lnTo>
                    <a:pt x="1162" y="1238"/>
                  </a:lnTo>
                  <a:lnTo>
                    <a:pt x="1116" y="1240"/>
                  </a:lnTo>
                  <a:lnTo>
                    <a:pt x="1038" y="1250"/>
                  </a:lnTo>
                  <a:lnTo>
                    <a:pt x="1038" y="1250"/>
                  </a:lnTo>
                  <a:lnTo>
                    <a:pt x="954" y="1260"/>
                  </a:lnTo>
                  <a:lnTo>
                    <a:pt x="868" y="1266"/>
                  </a:lnTo>
                  <a:lnTo>
                    <a:pt x="784" y="1270"/>
                  </a:lnTo>
                  <a:lnTo>
                    <a:pt x="702" y="1272"/>
                  </a:lnTo>
                  <a:lnTo>
                    <a:pt x="702" y="1272"/>
                  </a:lnTo>
                  <a:lnTo>
                    <a:pt x="644" y="1270"/>
                  </a:lnTo>
                  <a:lnTo>
                    <a:pt x="594" y="1268"/>
                  </a:lnTo>
                  <a:lnTo>
                    <a:pt x="546" y="1262"/>
                  </a:lnTo>
                  <a:lnTo>
                    <a:pt x="504" y="1256"/>
                  </a:lnTo>
                  <a:lnTo>
                    <a:pt x="466" y="1248"/>
                  </a:lnTo>
                  <a:lnTo>
                    <a:pt x="430" y="1236"/>
                  </a:lnTo>
                  <a:lnTo>
                    <a:pt x="398" y="1222"/>
                  </a:lnTo>
                  <a:lnTo>
                    <a:pt x="370" y="1208"/>
                  </a:lnTo>
                  <a:lnTo>
                    <a:pt x="370" y="1208"/>
                  </a:lnTo>
                  <a:lnTo>
                    <a:pt x="344" y="1190"/>
                  </a:lnTo>
                  <a:lnTo>
                    <a:pt x="322" y="1172"/>
                  </a:lnTo>
                  <a:lnTo>
                    <a:pt x="304" y="1148"/>
                  </a:lnTo>
                  <a:lnTo>
                    <a:pt x="288" y="1124"/>
                  </a:lnTo>
                  <a:lnTo>
                    <a:pt x="276" y="1098"/>
                  </a:lnTo>
                  <a:lnTo>
                    <a:pt x="266" y="1070"/>
                  </a:lnTo>
                  <a:lnTo>
                    <a:pt x="260" y="1040"/>
                  </a:lnTo>
                  <a:lnTo>
                    <a:pt x="260" y="1010"/>
                  </a:lnTo>
                  <a:lnTo>
                    <a:pt x="260" y="1010"/>
                  </a:lnTo>
                  <a:lnTo>
                    <a:pt x="260" y="986"/>
                  </a:lnTo>
                  <a:lnTo>
                    <a:pt x="264" y="962"/>
                  </a:lnTo>
                  <a:lnTo>
                    <a:pt x="268" y="940"/>
                  </a:lnTo>
                  <a:lnTo>
                    <a:pt x="276" y="918"/>
                  </a:lnTo>
                  <a:lnTo>
                    <a:pt x="284" y="896"/>
                  </a:lnTo>
                  <a:lnTo>
                    <a:pt x="296" y="876"/>
                  </a:lnTo>
                  <a:lnTo>
                    <a:pt x="310" y="854"/>
                  </a:lnTo>
                  <a:lnTo>
                    <a:pt x="328" y="834"/>
                  </a:lnTo>
                  <a:lnTo>
                    <a:pt x="328" y="834"/>
                  </a:lnTo>
                  <a:lnTo>
                    <a:pt x="348" y="812"/>
                  </a:lnTo>
                  <a:lnTo>
                    <a:pt x="368" y="790"/>
                  </a:lnTo>
                  <a:lnTo>
                    <a:pt x="390" y="772"/>
                  </a:lnTo>
                  <a:lnTo>
                    <a:pt x="414" y="752"/>
                  </a:lnTo>
                  <a:lnTo>
                    <a:pt x="440" y="734"/>
                  </a:lnTo>
                  <a:lnTo>
                    <a:pt x="468" y="718"/>
                  </a:lnTo>
                  <a:lnTo>
                    <a:pt x="496" y="700"/>
                  </a:lnTo>
                  <a:lnTo>
                    <a:pt x="528" y="684"/>
                  </a:lnTo>
                  <a:lnTo>
                    <a:pt x="528" y="684"/>
                  </a:lnTo>
                  <a:lnTo>
                    <a:pt x="572" y="664"/>
                  </a:lnTo>
                  <a:lnTo>
                    <a:pt x="632" y="636"/>
                  </a:lnTo>
                  <a:lnTo>
                    <a:pt x="632" y="636"/>
                  </a:lnTo>
                  <a:lnTo>
                    <a:pt x="622" y="622"/>
                  </a:lnTo>
                  <a:lnTo>
                    <a:pt x="616" y="616"/>
                  </a:lnTo>
                  <a:lnTo>
                    <a:pt x="608" y="610"/>
                  </a:lnTo>
                  <a:lnTo>
                    <a:pt x="602" y="606"/>
                  </a:lnTo>
                  <a:lnTo>
                    <a:pt x="594" y="604"/>
                  </a:lnTo>
                  <a:lnTo>
                    <a:pt x="576" y="602"/>
                  </a:lnTo>
                  <a:lnTo>
                    <a:pt x="576" y="602"/>
                  </a:lnTo>
                  <a:lnTo>
                    <a:pt x="548" y="604"/>
                  </a:lnTo>
                  <a:lnTo>
                    <a:pt x="518" y="610"/>
                  </a:lnTo>
                  <a:lnTo>
                    <a:pt x="486" y="622"/>
                  </a:lnTo>
                  <a:lnTo>
                    <a:pt x="454" y="636"/>
                  </a:lnTo>
                  <a:lnTo>
                    <a:pt x="418" y="656"/>
                  </a:lnTo>
                  <a:lnTo>
                    <a:pt x="384" y="678"/>
                  </a:lnTo>
                  <a:lnTo>
                    <a:pt x="348" y="706"/>
                  </a:lnTo>
                  <a:lnTo>
                    <a:pt x="310" y="736"/>
                  </a:lnTo>
                  <a:lnTo>
                    <a:pt x="310" y="736"/>
                  </a:lnTo>
                  <a:lnTo>
                    <a:pt x="270" y="772"/>
                  </a:lnTo>
                  <a:lnTo>
                    <a:pt x="236" y="806"/>
                  </a:lnTo>
                  <a:lnTo>
                    <a:pt x="206" y="840"/>
                  </a:lnTo>
                  <a:lnTo>
                    <a:pt x="176" y="876"/>
                  </a:lnTo>
                  <a:lnTo>
                    <a:pt x="0" y="700"/>
                  </a:lnTo>
                  <a:lnTo>
                    <a:pt x="0" y="700"/>
                  </a:lnTo>
                  <a:lnTo>
                    <a:pt x="36" y="672"/>
                  </a:lnTo>
                  <a:lnTo>
                    <a:pt x="74" y="636"/>
                  </a:lnTo>
                  <a:lnTo>
                    <a:pt x="112" y="596"/>
                  </a:lnTo>
                  <a:lnTo>
                    <a:pt x="148" y="556"/>
                  </a:lnTo>
                  <a:lnTo>
                    <a:pt x="148" y="556"/>
                  </a:lnTo>
                  <a:lnTo>
                    <a:pt x="174" y="520"/>
                  </a:lnTo>
                  <a:lnTo>
                    <a:pt x="204" y="478"/>
                  </a:lnTo>
                  <a:lnTo>
                    <a:pt x="254" y="404"/>
                  </a:lnTo>
                  <a:lnTo>
                    <a:pt x="254" y="404"/>
                  </a:lnTo>
                  <a:lnTo>
                    <a:pt x="282" y="360"/>
                  </a:lnTo>
                  <a:lnTo>
                    <a:pt x="282" y="360"/>
                  </a:lnTo>
                  <a:lnTo>
                    <a:pt x="236" y="360"/>
                  </a:lnTo>
                  <a:lnTo>
                    <a:pt x="236" y="360"/>
                  </a:lnTo>
                  <a:lnTo>
                    <a:pt x="116" y="358"/>
                  </a:lnTo>
                  <a:lnTo>
                    <a:pt x="116" y="358"/>
                  </a:lnTo>
                  <a:lnTo>
                    <a:pt x="92" y="356"/>
                  </a:lnTo>
                  <a:lnTo>
                    <a:pt x="68" y="356"/>
                  </a:lnTo>
                  <a:lnTo>
                    <a:pt x="68" y="356"/>
                  </a:lnTo>
                  <a:lnTo>
                    <a:pt x="46" y="356"/>
                  </a:lnTo>
                  <a:lnTo>
                    <a:pt x="5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"/>
            <p:cNvSpPr/>
            <p:nvPr/>
          </p:nvSpPr>
          <p:spPr>
            <a:xfrm>
              <a:off x="4330440" y="21885120"/>
              <a:ext cx="2067120" cy="1987560"/>
            </a:xfrm>
            <a:custGeom>
              <a:avLst/>
              <a:gdLst>
                <a:gd name="textAreaLeft" fmla="*/ 0 w 2067120"/>
                <a:gd name="textAreaRight" fmla="*/ 2067120 w 2067120"/>
                <a:gd name="textAreaTop" fmla="*/ 0 h 1987560"/>
                <a:gd name="textAreaBottom" fmla="*/ 1987920 h 1987560"/>
              </a:gdLst>
              <a:ahLst/>
              <a:rect l="textAreaLeft" t="textAreaTop" r="textAreaRight" b="textAreaBottom"/>
              <a:pathLst>
                <a:path w="1302" h="1252">
                  <a:moveTo>
                    <a:pt x="822" y="392"/>
                  </a:moveTo>
                  <a:lnTo>
                    <a:pt x="822" y="392"/>
                  </a:lnTo>
                  <a:lnTo>
                    <a:pt x="798" y="394"/>
                  </a:lnTo>
                  <a:lnTo>
                    <a:pt x="770" y="400"/>
                  </a:lnTo>
                  <a:lnTo>
                    <a:pt x="770" y="400"/>
                  </a:lnTo>
                  <a:lnTo>
                    <a:pt x="670" y="416"/>
                  </a:lnTo>
                  <a:lnTo>
                    <a:pt x="558" y="428"/>
                  </a:lnTo>
                  <a:lnTo>
                    <a:pt x="558" y="550"/>
                  </a:lnTo>
                  <a:lnTo>
                    <a:pt x="558" y="550"/>
                  </a:lnTo>
                  <a:lnTo>
                    <a:pt x="614" y="540"/>
                  </a:lnTo>
                  <a:lnTo>
                    <a:pt x="664" y="532"/>
                  </a:lnTo>
                  <a:lnTo>
                    <a:pt x="710" y="528"/>
                  </a:lnTo>
                  <a:lnTo>
                    <a:pt x="762" y="526"/>
                  </a:lnTo>
                  <a:lnTo>
                    <a:pt x="762" y="526"/>
                  </a:lnTo>
                  <a:lnTo>
                    <a:pt x="824" y="530"/>
                  </a:lnTo>
                  <a:lnTo>
                    <a:pt x="882" y="536"/>
                  </a:lnTo>
                  <a:lnTo>
                    <a:pt x="936" y="546"/>
                  </a:lnTo>
                  <a:lnTo>
                    <a:pt x="962" y="552"/>
                  </a:lnTo>
                  <a:lnTo>
                    <a:pt x="986" y="560"/>
                  </a:lnTo>
                  <a:lnTo>
                    <a:pt x="1010" y="568"/>
                  </a:lnTo>
                  <a:lnTo>
                    <a:pt x="1032" y="576"/>
                  </a:lnTo>
                  <a:lnTo>
                    <a:pt x="1054" y="588"/>
                  </a:lnTo>
                  <a:lnTo>
                    <a:pt x="1074" y="598"/>
                  </a:lnTo>
                  <a:lnTo>
                    <a:pt x="1092" y="612"/>
                  </a:lnTo>
                  <a:lnTo>
                    <a:pt x="1110" y="624"/>
                  </a:lnTo>
                  <a:lnTo>
                    <a:pt x="1128" y="638"/>
                  </a:lnTo>
                  <a:lnTo>
                    <a:pt x="1144" y="654"/>
                  </a:lnTo>
                  <a:lnTo>
                    <a:pt x="1144" y="654"/>
                  </a:lnTo>
                  <a:lnTo>
                    <a:pt x="1164" y="678"/>
                  </a:lnTo>
                  <a:lnTo>
                    <a:pt x="1184" y="706"/>
                  </a:lnTo>
                  <a:lnTo>
                    <a:pt x="1200" y="734"/>
                  </a:lnTo>
                  <a:lnTo>
                    <a:pt x="1214" y="764"/>
                  </a:lnTo>
                  <a:lnTo>
                    <a:pt x="1224" y="796"/>
                  </a:lnTo>
                  <a:lnTo>
                    <a:pt x="1232" y="830"/>
                  </a:lnTo>
                  <a:lnTo>
                    <a:pt x="1236" y="866"/>
                  </a:lnTo>
                  <a:lnTo>
                    <a:pt x="1238" y="900"/>
                  </a:lnTo>
                  <a:lnTo>
                    <a:pt x="1238" y="900"/>
                  </a:lnTo>
                  <a:lnTo>
                    <a:pt x="1236" y="938"/>
                  </a:lnTo>
                  <a:lnTo>
                    <a:pt x="1232" y="972"/>
                  </a:lnTo>
                  <a:lnTo>
                    <a:pt x="1222" y="1006"/>
                  </a:lnTo>
                  <a:lnTo>
                    <a:pt x="1212" y="1038"/>
                  </a:lnTo>
                  <a:lnTo>
                    <a:pt x="1198" y="1068"/>
                  </a:lnTo>
                  <a:lnTo>
                    <a:pt x="1180" y="1096"/>
                  </a:lnTo>
                  <a:lnTo>
                    <a:pt x="1160" y="1122"/>
                  </a:lnTo>
                  <a:lnTo>
                    <a:pt x="1138" y="1146"/>
                  </a:lnTo>
                  <a:lnTo>
                    <a:pt x="1114" y="1168"/>
                  </a:lnTo>
                  <a:lnTo>
                    <a:pt x="1088" y="1188"/>
                  </a:lnTo>
                  <a:lnTo>
                    <a:pt x="1060" y="1206"/>
                  </a:lnTo>
                  <a:lnTo>
                    <a:pt x="1028" y="1220"/>
                  </a:lnTo>
                  <a:lnTo>
                    <a:pt x="996" y="1230"/>
                  </a:lnTo>
                  <a:lnTo>
                    <a:pt x="962" y="1238"/>
                  </a:lnTo>
                  <a:lnTo>
                    <a:pt x="928" y="1244"/>
                  </a:lnTo>
                  <a:lnTo>
                    <a:pt x="890" y="1246"/>
                  </a:lnTo>
                  <a:lnTo>
                    <a:pt x="890" y="1246"/>
                  </a:lnTo>
                  <a:lnTo>
                    <a:pt x="860" y="1244"/>
                  </a:lnTo>
                  <a:lnTo>
                    <a:pt x="830" y="1240"/>
                  </a:lnTo>
                  <a:lnTo>
                    <a:pt x="802" y="1234"/>
                  </a:lnTo>
                  <a:lnTo>
                    <a:pt x="774" y="1224"/>
                  </a:lnTo>
                  <a:lnTo>
                    <a:pt x="750" y="1212"/>
                  </a:lnTo>
                  <a:lnTo>
                    <a:pt x="728" y="1198"/>
                  </a:lnTo>
                  <a:lnTo>
                    <a:pt x="708" y="1182"/>
                  </a:lnTo>
                  <a:lnTo>
                    <a:pt x="690" y="1162"/>
                  </a:lnTo>
                  <a:lnTo>
                    <a:pt x="672" y="1142"/>
                  </a:lnTo>
                  <a:lnTo>
                    <a:pt x="658" y="1118"/>
                  </a:lnTo>
                  <a:lnTo>
                    <a:pt x="646" y="1092"/>
                  </a:lnTo>
                  <a:lnTo>
                    <a:pt x="636" y="1064"/>
                  </a:lnTo>
                  <a:lnTo>
                    <a:pt x="628" y="1032"/>
                  </a:lnTo>
                  <a:lnTo>
                    <a:pt x="622" y="1000"/>
                  </a:lnTo>
                  <a:lnTo>
                    <a:pt x="618" y="966"/>
                  </a:lnTo>
                  <a:lnTo>
                    <a:pt x="618" y="928"/>
                  </a:lnTo>
                  <a:lnTo>
                    <a:pt x="618" y="928"/>
                  </a:lnTo>
                  <a:lnTo>
                    <a:pt x="618" y="894"/>
                  </a:lnTo>
                  <a:lnTo>
                    <a:pt x="618" y="894"/>
                  </a:lnTo>
                  <a:lnTo>
                    <a:pt x="682" y="874"/>
                  </a:lnTo>
                  <a:lnTo>
                    <a:pt x="732" y="856"/>
                  </a:lnTo>
                  <a:lnTo>
                    <a:pt x="778" y="836"/>
                  </a:lnTo>
                  <a:lnTo>
                    <a:pt x="830" y="808"/>
                  </a:lnTo>
                  <a:lnTo>
                    <a:pt x="830" y="808"/>
                  </a:lnTo>
                  <a:lnTo>
                    <a:pt x="828" y="846"/>
                  </a:lnTo>
                  <a:lnTo>
                    <a:pt x="826" y="882"/>
                  </a:lnTo>
                  <a:lnTo>
                    <a:pt x="826" y="882"/>
                  </a:lnTo>
                  <a:lnTo>
                    <a:pt x="828" y="912"/>
                  </a:lnTo>
                  <a:lnTo>
                    <a:pt x="828" y="936"/>
                  </a:lnTo>
                  <a:lnTo>
                    <a:pt x="832" y="954"/>
                  </a:lnTo>
                  <a:lnTo>
                    <a:pt x="838" y="970"/>
                  </a:lnTo>
                  <a:lnTo>
                    <a:pt x="838" y="970"/>
                  </a:lnTo>
                  <a:lnTo>
                    <a:pt x="842" y="980"/>
                  </a:lnTo>
                  <a:lnTo>
                    <a:pt x="848" y="988"/>
                  </a:lnTo>
                  <a:lnTo>
                    <a:pt x="854" y="994"/>
                  </a:lnTo>
                  <a:lnTo>
                    <a:pt x="862" y="1000"/>
                  </a:lnTo>
                  <a:lnTo>
                    <a:pt x="870" y="1006"/>
                  </a:lnTo>
                  <a:lnTo>
                    <a:pt x="880" y="1010"/>
                  </a:lnTo>
                  <a:lnTo>
                    <a:pt x="888" y="1012"/>
                  </a:lnTo>
                  <a:lnTo>
                    <a:pt x="900" y="1012"/>
                  </a:lnTo>
                  <a:lnTo>
                    <a:pt x="900" y="1012"/>
                  </a:lnTo>
                  <a:lnTo>
                    <a:pt x="920" y="1010"/>
                  </a:lnTo>
                  <a:lnTo>
                    <a:pt x="940" y="1004"/>
                  </a:lnTo>
                  <a:lnTo>
                    <a:pt x="958" y="994"/>
                  </a:lnTo>
                  <a:lnTo>
                    <a:pt x="972" y="980"/>
                  </a:lnTo>
                  <a:lnTo>
                    <a:pt x="984" y="962"/>
                  </a:lnTo>
                  <a:lnTo>
                    <a:pt x="992" y="942"/>
                  </a:lnTo>
                  <a:lnTo>
                    <a:pt x="998" y="918"/>
                  </a:lnTo>
                  <a:lnTo>
                    <a:pt x="1000" y="892"/>
                  </a:lnTo>
                  <a:lnTo>
                    <a:pt x="1000" y="892"/>
                  </a:lnTo>
                  <a:lnTo>
                    <a:pt x="998" y="874"/>
                  </a:lnTo>
                  <a:lnTo>
                    <a:pt x="994" y="858"/>
                  </a:lnTo>
                  <a:lnTo>
                    <a:pt x="990" y="840"/>
                  </a:lnTo>
                  <a:lnTo>
                    <a:pt x="982" y="824"/>
                  </a:lnTo>
                  <a:lnTo>
                    <a:pt x="972" y="808"/>
                  </a:lnTo>
                  <a:lnTo>
                    <a:pt x="960" y="794"/>
                  </a:lnTo>
                  <a:lnTo>
                    <a:pt x="946" y="782"/>
                  </a:lnTo>
                  <a:lnTo>
                    <a:pt x="932" y="770"/>
                  </a:lnTo>
                  <a:lnTo>
                    <a:pt x="932" y="770"/>
                  </a:lnTo>
                  <a:lnTo>
                    <a:pt x="916" y="762"/>
                  </a:lnTo>
                  <a:lnTo>
                    <a:pt x="900" y="754"/>
                  </a:lnTo>
                  <a:lnTo>
                    <a:pt x="882" y="748"/>
                  </a:lnTo>
                  <a:lnTo>
                    <a:pt x="862" y="742"/>
                  </a:lnTo>
                  <a:lnTo>
                    <a:pt x="840" y="738"/>
                  </a:lnTo>
                  <a:lnTo>
                    <a:pt x="816" y="736"/>
                  </a:lnTo>
                  <a:lnTo>
                    <a:pt x="792" y="734"/>
                  </a:lnTo>
                  <a:lnTo>
                    <a:pt x="766" y="734"/>
                  </a:lnTo>
                  <a:lnTo>
                    <a:pt x="766" y="734"/>
                  </a:lnTo>
                  <a:lnTo>
                    <a:pt x="716" y="734"/>
                  </a:lnTo>
                  <a:lnTo>
                    <a:pt x="666" y="740"/>
                  </a:lnTo>
                  <a:lnTo>
                    <a:pt x="616" y="748"/>
                  </a:lnTo>
                  <a:lnTo>
                    <a:pt x="560" y="762"/>
                  </a:lnTo>
                  <a:lnTo>
                    <a:pt x="562" y="1008"/>
                  </a:lnTo>
                  <a:lnTo>
                    <a:pt x="562" y="1044"/>
                  </a:lnTo>
                  <a:lnTo>
                    <a:pt x="562" y="1044"/>
                  </a:lnTo>
                  <a:lnTo>
                    <a:pt x="560" y="1100"/>
                  </a:lnTo>
                  <a:lnTo>
                    <a:pt x="558" y="1120"/>
                  </a:lnTo>
                  <a:lnTo>
                    <a:pt x="556" y="1138"/>
                  </a:lnTo>
                  <a:lnTo>
                    <a:pt x="552" y="1154"/>
                  </a:lnTo>
                  <a:lnTo>
                    <a:pt x="548" y="1166"/>
                  </a:lnTo>
                  <a:lnTo>
                    <a:pt x="542" y="1178"/>
                  </a:lnTo>
                  <a:lnTo>
                    <a:pt x="534" y="1190"/>
                  </a:lnTo>
                  <a:lnTo>
                    <a:pt x="534" y="1190"/>
                  </a:lnTo>
                  <a:lnTo>
                    <a:pt x="524" y="1204"/>
                  </a:lnTo>
                  <a:lnTo>
                    <a:pt x="510" y="1216"/>
                  </a:lnTo>
                  <a:lnTo>
                    <a:pt x="494" y="1226"/>
                  </a:lnTo>
                  <a:lnTo>
                    <a:pt x="478" y="1236"/>
                  </a:lnTo>
                  <a:lnTo>
                    <a:pt x="458" y="1242"/>
                  </a:lnTo>
                  <a:lnTo>
                    <a:pt x="438" y="1246"/>
                  </a:lnTo>
                  <a:lnTo>
                    <a:pt x="416" y="1250"/>
                  </a:lnTo>
                  <a:lnTo>
                    <a:pt x="392" y="1252"/>
                  </a:lnTo>
                  <a:lnTo>
                    <a:pt x="392" y="1252"/>
                  </a:lnTo>
                  <a:lnTo>
                    <a:pt x="354" y="1250"/>
                  </a:lnTo>
                  <a:lnTo>
                    <a:pt x="314" y="1244"/>
                  </a:lnTo>
                  <a:lnTo>
                    <a:pt x="272" y="1234"/>
                  </a:lnTo>
                  <a:lnTo>
                    <a:pt x="234" y="1222"/>
                  </a:lnTo>
                  <a:lnTo>
                    <a:pt x="194" y="1206"/>
                  </a:lnTo>
                  <a:lnTo>
                    <a:pt x="158" y="1186"/>
                  </a:lnTo>
                  <a:lnTo>
                    <a:pt x="122" y="1164"/>
                  </a:lnTo>
                  <a:lnTo>
                    <a:pt x="92" y="1140"/>
                  </a:lnTo>
                  <a:lnTo>
                    <a:pt x="92" y="1140"/>
                  </a:lnTo>
                  <a:lnTo>
                    <a:pt x="70" y="1122"/>
                  </a:lnTo>
                  <a:lnTo>
                    <a:pt x="52" y="1102"/>
                  </a:lnTo>
                  <a:lnTo>
                    <a:pt x="38" y="1080"/>
                  </a:lnTo>
                  <a:lnTo>
                    <a:pt x="24" y="1056"/>
                  </a:lnTo>
                  <a:lnTo>
                    <a:pt x="14" y="1034"/>
                  </a:lnTo>
                  <a:lnTo>
                    <a:pt x="6" y="1010"/>
                  </a:lnTo>
                  <a:lnTo>
                    <a:pt x="2" y="984"/>
                  </a:lnTo>
                  <a:lnTo>
                    <a:pt x="0" y="960"/>
                  </a:lnTo>
                  <a:lnTo>
                    <a:pt x="0" y="960"/>
                  </a:lnTo>
                  <a:lnTo>
                    <a:pt x="2" y="930"/>
                  </a:lnTo>
                  <a:lnTo>
                    <a:pt x="10" y="902"/>
                  </a:lnTo>
                  <a:lnTo>
                    <a:pt x="20" y="872"/>
                  </a:lnTo>
                  <a:lnTo>
                    <a:pt x="34" y="844"/>
                  </a:lnTo>
                  <a:lnTo>
                    <a:pt x="52" y="814"/>
                  </a:lnTo>
                  <a:lnTo>
                    <a:pt x="74" y="784"/>
                  </a:lnTo>
                  <a:lnTo>
                    <a:pt x="100" y="756"/>
                  </a:lnTo>
                  <a:lnTo>
                    <a:pt x="130" y="728"/>
                  </a:lnTo>
                  <a:lnTo>
                    <a:pt x="130" y="728"/>
                  </a:lnTo>
                  <a:lnTo>
                    <a:pt x="152" y="710"/>
                  </a:lnTo>
                  <a:lnTo>
                    <a:pt x="174" y="694"/>
                  </a:lnTo>
                  <a:lnTo>
                    <a:pt x="196" y="678"/>
                  </a:lnTo>
                  <a:lnTo>
                    <a:pt x="220" y="662"/>
                  </a:lnTo>
                  <a:lnTo>
                    <a:pt x="274" y="634"/>
                  </a:lnTo>
                  <a:lnTo>
                    <a:pt x="338" y="604"/>
                  </a:lnTo>
                  <a:lnTo>
                    <a:pt x="338" y="440"/>
                  </a:lnTo>
                  <a:lnTo>
                    <a:pt x="232" y="442"/>
                  </a:lnTo>
                  <a:lnTo>
                    <a:pt x="96" y="440"/>
                  </a:lnTo>
                  <a:lnTo>
                    <a:pt x="96" y="440"/>
                  </a:lnTo>
                  <a:lnTo>
                    <a:pt x="68" y="440"/>
                  </a:lnTo>
                  <a:lnTo>
                    <a:pt x="64" y="222"/>
                  </a:lnTo>
                  <a:lnTo>
                    <a:pt x="64" y="222"/>
                  </a:lnTo>
                  <a:lnTo>
                    <a:pt x="100" y="226"/>
                  </a:lnTo>
                  <a:lnTo>
                    <a:pt x="144" y="230"/>
                  </a:lnTo>
                  <a:lnTo>
                    <a:pt x="194" y="234"/>
                  </a:lnTo>
                  <a:lnTo>
                    <a:pt x="256" y="234"/>
                  </a:lnTo>
                  <a:lnTo>
                    <a:pt x="256" y="234"/>
                  </a:lnTo>
                  <a:lnTo>
                    <a:pt x="308" y="234"/>
                  </a:lnTo>
                  <a:lnTo>
                    <a:pt x="308" y="234"/>
                  </a:lnTo>
                  <a:lnTo>
                    <a:pt x="336" y="232"/>
                  </a:lnTo>
                  <a:lnTo>
                    <a:pt x="336" y="188"/>
                  </a:lnTo>
                  <a:lnTo>
                    <a:pt x="336" y="188"/>
                  </a:lnTo>
                  <a:lnTo>
                    <a:pt x="336" y="122"/>
                  </a:lnTo>
                  <a:lnTo>
                    <a:pt x="336" y="74"/>
                  </a:lnTo>
                  <a:lnTo>
                    <a:pt x="332" y="36"/>
                  </a:lnTo>
                  <a:lnTo>
                    <a:pt x="328" y="0"/>
                  </a:lnTo>
                  <a:lnTo>
                    <a:pt x="568" y="0"/>
                  </a:lnTo>
                  <a:lnTo>
                    <a:pt x="568" y="0"/>
                  </a:lnTo>
                  <a:lnTo>
                    <a:pt x="564" y="36"/>
                  </a:lnTo>
                  <a:lnTo>
                    <a:pt x="562" y="72"/>
                  </a:lnTo>
                  <a:lnTo>
                    <a:pt x="560" y="114"/>
                  </a:lnTo>
                  <a:lnTo>
                    <a:pt x="560" y="174"/>
                  </a:lnTo>
                  <a:lnTo>
                    <a:pt x="560" y="218"/>
                  </a:lnTo>
                  <a:lnTo>
                    <a:pt x="560" y="218"/>
                  </a:lnTo>
                  <a:lnTo>
                    <a:pt x="630" y="210"/>
                  </a:lnTo>
                  <a:lnTo>
                    <a:pt x="696" y="200"/>
                  </a:lnTo>
                  <a:lnTo>
                    <a:pt x="758" y="186"/>
                  </a:lnTo>
                  <a:lnTo>
                    <a:pt x="816" y="172"/>
                  </a:lnTo>
                  <a:lnTo>
                    <a:pt x="822" y="392"/>
                  </a:lnTo>
                  <a:close/>
                  <a:moveTo>
                    <a:pt x="338" y="834"/>
                  </a:moveTo>
                  <a:lnTo>
                    <a:pt x="338" y="834"/>
                  </a:lnTo>
                  <a:lnTo>
                    <a:pt x="314" y="846"/>
                  </a:lnTo>
                  <a:lnTo>
                    <a:pt x="292" y="860"/>
                  </a:lnTo>
                  <a:lnTo>
                    <a:pt x="272" y="876"/>
                  </a:lnTo>
                  <a:lnTo>
                    <a:pt x="256" y="892"/>
                  </a:lnTo>
                  <a:lnTo>
                    <a:pt x="242" y="910"/>
                  </a:lnTo>
                  <a:lnTo>
                    <a:pt x="232" y="926"/>
                  </a:lnTo>
                  <a:lnTo>
                    <a:pt x="224" y="942"/>
                  </a:lnTo>
                  <a:lnTo>
                    <a:pt x="222" y="958"/>
                  </a:lnTo>
                  <a:lnTo>
                    <a:pt x="222" y="958"/>
                  </a:lnTo>
                  <a:lnTo>
                    <a:pt x="224" y="970"/>
                  </a:lnTo>
                  <a:lnTo>
                    <a:pt x="230" y="982"/>
                  </a:lnTo>
                  <a:lnTo>
                    <a:pt x="240" y="992"/>
                  </a:lnTo>
                  <a:lnTo>
                    <a:pt x="254" y="1002"/>
                  </a:lnTo>
                  <a:lnTo>
                    <a:pt x="254" y="1002"/>
                  </a:lnTo>
                  <a:lnTo>
                    <a:pt x="268" y="1012"/>
                  </a:lnTo>
                  <a:lnTo>
                    <a:pt x="286" y="1018"/>
                  </a:lnTo>
                  <a:lnTo>
                    <a:pt x="302" y="1024"/>
                  </a:lnTo>
                  <a:lnTo>
                    <a:pt x="316" y="1026"/>
                  </a:lnTo>
                  <a:lnTo>
                    <a:pt x="316" y="1026"/>
                  </a:lnTo>
                  <a:lnTo>
                    <a:pt x="322" y="1024"/>
                  </a:lnTo>
                  <a:lnTo>
                    <a:pt x="328" y="1022"/>
                  </a:lnTo>
                  <a:lnTo>
                    <a:pt x="330" y="1020"/>
                  </a:lnTo>
                  <a:lnTo>
                    <a:pt x="334" y="1014"/>
                  </a:lnTo>
                  <a:lnTo>
                    <a:pt x="336" y="1008"/>
                  </a:lnTo>
                  <a:lnTo>
                    <a:pt x="338" y="998"/>
                  </a:lnTo>
                  <a:lnTo>
                    <a:pt x="338" y="970"/>
                  </a:lnTo>
                  <a:lnTo>
                    <a:pt x="338" y="834"/>
                  </a:lnTo>
                  <a:close/>
                  <a:moveTo>
                    <a:pt x="1118" y="526"/>
                  </a:moveTo>
                  <a:lnTo>
                    <a:pt x="1118" y="526"/>
                  </a:lnTo>
                  <a:lnTo>
                    <a:pt x="1090" y="482"/>
                  </a:lnTo>
                  <a:lnTo>
                    <a:pt x="1062" y="438"/>
                  </a:lnTo>
                  <a:lnTo>
                    <a:pt x="1032" y="398"/>
                  </a:lnTo>
                  <a:lnTo>
                    <a:pt x="1000" y="358"/>
                  </a:lnTo>
                  <a:lnTo>
                    <a:pt x="966" y="318"/>
                  </a:lnTo>
                  <a:lnTo>
                    <a:pt x="928" y="278"/>
                  </a:lnTo>
                  <a:lnTo>
                    <a:pt x="888" y="240"/>
                  </a:lnTo>
                  <a:lnTo>
                    <a:pt x="844" y="200"/>
                  </a:lnTo>
                  <a:lnTo>
                    <a:pt x="1028" y="74"/>
                  </a:lnTo>
                  <a:lnTo>
                    <a:pt x="1028" y="74"/>
                  </a:lnTo>
                  <a:lnTo>
                    <a:pt x="1070" y="112"/>
                  </a:lnTo>
                  <a:lnTo>
                    <a:pt x="1110" y="148"/>
                  </a:lnTo>
                  <a:lnTo>
                    <a:pt x="1148" y="184"/>
                  </a:lnTo>
                  <a:lnTo>
                    <a:pt x="1184" y="222"/>
                  </a:lnTo>
                  <a:lnTo>
                    <a:pt x="1216" y="260"/>
                  </a:lnTo>
                  <a:lnTo>
                    <a:pt x="1246" y="300"/>
                  </a:lnTo>
                  <a:lnTo>
                    <a:pt x="1276" y="342"/>
                  </a:lnTo>
                  <a:lnTo>
                    <a:pt x="1302" y="384"/>
                  </a:lnTo>
                  <a:lnTo>
                    <a:pt x="1118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"/>
            <p:cNvSpPr/>
            <p:nvPr/>
          </p:nvSpPr>
          <p:spPr>
            <a:xfrm>
              <a:off x="4292280" y="24094800"/>
              <a:ext cx="2130480" cy="198756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987560"/>
                <a:gd name="textAreaBottom" fmla="*/ 1987920 h 1987560"/>
              </a:gdLst>
              <a:ahLst/>
              <a:rect l="textAreaLeft" t="textAreaTop" r="textAreaRight" b="textAreaBottom"/>
              <a:pathLst>
                <a:path w="1342" h="1252">
                  <a:moveTo>
                    <a:pt x="24" y="322"/>
                  </a:moveTo>
                  <a:lnTo>
                    <a:pt x="24" y="322"/>
                  </a:lnTo>
                  <a:lnTo>
                    <a:pt x="36" y="322"/>
                  </a:lnTo>
                  <a:lnTo>
                    <a:pt x="36" y="322"/>
                  </a:lnTo>
                  <a:lnTo>
                    <a:pt x="84" y="320"/>
                  </a:lnTo>
                  <a:lnTo>
                    <a:pt x="154" y="316"/>
                  </a:lnTo>
                  <a:lnTo>
                    <a:pt x="230" y="308"/>
                  </a:lnTo>
                  <a:lnTo>
                    <a:pt x="306" y="300"/>
                  </a:lnTo>
                  <a:lnTo>
                    <a:pt x="306" y="300"/>
                  </a:lnTo>
                  <a:lnTo>
                    <a:pt x="320" y="202"/>
                  </a:lnTo>
                  <a:lnTo>
                    <a:pt x="330" y="124"/>
                  </a:lnTo>
                  <a:lnTo>
                    <a:pt x="336" y="66"/>
                  </a:lnTo>
                  <a:lnTo>
                    <a:pt x="338" y="24"/>
                  </a:lnTo>
                  <a:lnTo>
                    <a:pt x="338" y="24"/>
                  </a:lnTo>
                  <a:lnTo>
                    <a:pt x="338" y="0"/>
                  </a:lnTo>
                  <a:lnTo>
                    <a:pt x="590" y="24"/>
                  </a:lnTo>
                  <a:lnTo>
                    <a:pt x="590" y="24"/>
                  </a:lnTo>
                  <a:lnTo>
                    <a:pt x="580" y="58"/>
                  </a:lnTo>
                  <a:lnTo>
                    <a:pt x="568" y="134"/>
                  </a:lnTo>
                  <a:lnTo>
                    <a:pt x="568" y="134"/>
                  </a:lnTo>
                  <a:lnTo>
                    <a:pt x="540" y="284"/>
                  </a:lnTo>
                  <a:lnTo>
                    <a:pt x="540" y="284"/>
                  </a:lnTo>
                  <a:lnTo>
                    <a:pt x="572" y="282"/>
                  </a:lnTo>
                  <a:lnTo>
                    <a:pt x="600" y="280"/>
                  </a:lnTo>
                  <a:lnTo>
                    <a:pt x="600" y="280"/>
                  </a:lnTo>
                  <a:lnTo>
                    <a:pt x="632" y="282"/>
                  </a:lnTo>
                  <a:lnTo>
                    <a:pt x="662" y="284"/>
                  </a:lnTo>
                  <a:lnTo>
                    <a:pt x="688" y="288"/>
                  </a:lnTo>
                  <a:lnTo>
                    <a:pt x="714" y="294"/>
                  </a:lnTo>
                  <a:lnTo>
                    <a:pt x="738" y="302"/>
                  </a:lnTo>
                  <a:lnTo>
                    <a:pt x="760" y="312"/>
                  </a:lnTo>
                  <a:lnTo>
                    <a:pt x="780" y="324"/>
                  </a:lnTo>
                  <a:lnTo>
                    <a:pt x="798" y="336"/>
                  </a:lnTo>
                  <a:lnTo>
                    <a:pt x="798" y="336"/>
                  </a:lnTo>
                  <a:lnTo>
                    <a:pt x="812" y="348"/>
                  </a:lnTo>
                  <a:lnTo>
                    <a:pt x="824" y="360"/>
                  </a:lnTo>
                  <a:lnTo>
                    <a:pt x="834" y="372"/>
                  </a:lnTo>
                  <a:lnTo>
                    <a:pt x="844" y="386"/>
                  </a:lnTo>
                  <a:lnTo>
                    <a:pt x="854" y="400"/>
                  </a:lnTo>
                  <a:lnTo>
                    <a:pt x="862" y="414"/>
                  </a:lnTo>
                  <a:lnTo>
                    <a:pt x="868" y="432"/>
                  </a:lnTo>
                  <a:lnTo>
                    <a:pt x="876" y="448"/>
                  </a:lnTo>
                  <a:lnTo>
                    <a:pt x="886" y="488"/>
                  </a:lnTo>
                  <a:lnTo>
                    <a:pt x="892" y="530"/>
                  </a:lnTo>
                  <a:lnTo>
                    <a:pt x="896" y="580"/>
                  </a:lnTo>
                  <a:lnTo>
                    <a:pt x="898" y="636"/>
                  </a:lnTo>
                  <a:lnTo>
                    <a:pt x="898" y="636"/>
                  </a:lnTo>
                  <a:lnTo>
                    <a:pt x="896" y="716"/>
                  </a:lnTo>
                  <a:lnTo>
                    <a:pt x="892" y="792"/>
                  </a:lnTo>
                  <a:lnTo>
                    <a:pt x="884" y="864"/>
                  </a:lnTo>
                  <a:lnTo>
                    <a:pt x="874" y="930"/>
                  </a:lnTo>
                  <a:lnTo>
                    <a:pt x="862" y="990"/>
                  </a:lnTo>
                  <a:lnTo>
                    <a:pt x="848" y="1044"/>
                  </a:lnTo>
                  <a:lnTo>
                    <a:pt x="830" y="1092"/>
                  </a:lnTo>
                  <a:lnTo>
                    <a:pt x="820" y="1112"/>
                  </a:lnTo>
                  <a:lnTo>
                    <a:pt x="810" y="1132"/>
                  </a:lnTo>
                  <a:lnTo>
                    <a:pt x="810" y="1132"/>
                  </a:lnTo>
                  <a:lnTo>
                    <a:pt x="802" y="1144"/>
                  </a:lnTo>
                  <a:lnTo>
                    <a:pt x="792" y="1156"/>
                  </a:lnTo>
                  <a:lnTo>
                    <a:pt x="772" y="1180"/>
                  </a:lnTo>
                  <a:lnTo>
                    <a:pt x="746" y="1200"/>
                  </a:lnTo>
                  <a:lnTo>
                    <a:pt x="720" y="1216"/>
                  </a:lnTo>
                  <a:lnTo>
                    <a:pt x="720" y="1216"/>
                  </a:lnTo>
                  <a:lnTo>
                    <a:pt x="698" y="1224"/>
                  </a:lnTo>
                  <a:lnTo>
                    <a:pt x="672" y="1230"/>
                  </a:lnTo>
                  <a:lnTo>
                    <a:pt x="644" y="1234"/>
                  </a:lnTo>
                  <a:lnTo>
                    <a:pt x="612" y="1234"/>
                  </a:lnTo>
                  <a:lnTo>
                    <a:pt x="612" y="1234"/>
                  </a:lnTo>
                  <a:lnTo>
                    <a:pt x="564" y="1232"/>
                  </a:lnTo>
                  <a:lnTo>
                    <a:pt x="512" y="1226"/>
                  </a:lnTo>
                  <a:lnTo>
                    <a:pt x="456" y="1214"/>
                  </a:lnTo>
                  <a:lnTo>
                    <a:pt x="390" y="1198"/>
                  </a:lnTo>
                  <a:lnTo>
                    <a:pt x="390" y="1198"/>
                  </a:lnTo>
                  <a:lnTo>
                    <a:pt x="394" y="1152"/>
                  </a:lnTo>
                  <a:lnTo>
                    <a:pt x="394" y="1116"/>
                  </a:lnTo>
                  <a:lnTo>
                    <a:pt x="394" y="1116"/>
                  </a:lnTo>
                  <a:lnTo>
                    <a:pt x="394" y="1074"/>
                  </a:lnTo>
                  <a:lnTo>
                    <a:pt x="390" y="1036"/>
                  </a:lnTo>
                  <a:lnTo>
                    <a:pt x="384" y="996"/>
                  </a:lnTo>
                  <a:lnTo>
                    <a:pt x="374" y="950"/>
                  </a:lnTo>
                  <a:lnTo>
                    <a:pt x="374" y="950"/>
                  </a:lnTo>
                  <a:lnTo>
                    <a:pt x="432" y="970"/>
                  </a:lnTo>
                  <a:lnTo>
                    <a:pt x="484" y="986"/>
                  </a:lnTo>
                  <a:lnTo>
                    <a:pt x="528" y="996"/>
                  </a:lnTo>
                  <a:lnTo>
                    <a:pt x="548" y="1000"/>
                  </a:lnTo>
                  <a:lnTo>
                    <a:pt x="564" y="1000"/>
                  </a:lnTo>
                  <a:lnTo>
                    <a:pt x="564" y="1000"/>
                  </a:lnTo>
                  <a:lnTo>
                    <a:pt x="574" y="1000"/>
                  </a:lnTo>
                  <a:lnTo>
                    <a:pt x="584" y="996"/>
                  </a:lnTo>
                  <a:lnTo>
                    <a:pt x="594" y="992"/>
                  </a:lnTo>
                  <a:lnTo>
                    <a:pt x="602" y="986"/>
                  </a:lnTo>
                  <a:lnTo>
                    <a:pt x="608" y="978"/>
                  </a:lnTo>
                  <a:lnTo>
                    <a:pt x="616" y="966"/>
                  </a:lnTo>
                  <a:lnTo>
                    <a:pt x="622" y="954"/>
                  </a:lnTo>
                  <a:lnTo>
                    <a:pt x="628" y="938"/>
                  </a:lnTo>
                  <a:lnTo>
                    <a:pt x="628" y="938"/>
                  </a:lnTo>
                  <a:lnTo>
                    <a:pt x="634" y="910"/>
                  </a:lnTo>
                  <a:lnTo>
                    <a:pt x="642" y="878"/>
                  </a:lnTo>
                  <a:lnTo>
                    <a:pt x="648" y="840"/>
                  </a:lnTo>
                  <a:lnTo>
                    <a:pt x="654" y="800"/>
                  </a:lnTo>
                  <a:lnTo>
                    <a:pt x="662" y="712"/>
                  </a:lnTo>
                  <a:lnTo>
                    <a:pt x="664" y="670"/>
                  </a:lnTo>
                  <a:lnTo>
                    <a:pt x="664" y="628"/>
                  </a:lnTo>
                  <a:lnTo>
                    <a:pt x="664" y="628"/>
                  </a:lnTo>
                  <a:lnTo>
                    <a:pt x="664" y="588"/>
                  </a:lnTo>
                  <a:lnTo>
                    <a:pt x="658" y="556"/>
                  </a:lnTo>
                  <a:lnTo>
                    <a:pt x="654" y="544"/>
                  </a:lnTo>
                  <a:lnTo>
                    <a:pt x="650" y="532"/>
                  </a:lnTo>
                  <a:lnTo>
                    <a:pt x="644" y="522"/>
                  </a:lnTo>
                  <a:lnTo>
                    <a:pt x="638" y="514"/>
                  </a:lnTo>
                  <a:lnTo>
                    <a:pt x="638" y="514"/>
                  </a:lnTo>
                  <a:lnTo>
                    <a:pt x="632" y="508"/>
                  </a:lnTo>
                  <a:lnTo>
                    <a:pt x="626" y="504"/>
                  </a:lnTo>
                  <a:lnTo>
                    <a:pt x="618" y="500"/>
                  </a:lnTo>
                  <a:lnTo>
                    <a:pt x="610" y="496"/>
                  </a:lnTo>
                  <a:lnTo>
                    <a:pt x="586" y="492"/>
                  </a:lnTo>
                  <a:lnTo>
                    <a:pt x="554" y="492"/>
                  </a:lnTo>
                  <a:lnTo>
                    <a:pt x="554" y="492"/>
                  </a:lnTo>
                  <a:lnTo>
                    <a:pt x="534" y="492"/>
                  </a:lnTo>
                  <a:lnTo>
                    <a:pt x="498" y="494"/>
                  </a:lnTo>
                  <a:lnTo>
                    <a:pt x="498" y="494"/>
                  </a:lnTo>
                  <a:lnTo>
                    <a:pt x="480" y="580"/>
                  </a:lnTo>
                  <a:lnTo>
                    <a:pt x="456" y="664"/>
                  </a:lnTo>
                  <a:lnTo>
                    <a:pt x="430" y="750"/>
                  </a:lnTo>
                  <a:lnTo>
                    <a:pt x="400" y="842"/>
                  </a:lnTo>
                  <a:lnTo>
                    <a:pt x="400" y="842"/>
                  </a:lnTo>
                  <a:lnTo>
                    <a:pt x="370" y="928"/>
                  </a:lnTo>
                  <a:lnTo>
                    <a:pt x="340" y="1004"/>
                  </a:lnTo>
                  <a:lnTo>
                    <a:pt x="302" y="1090"/>
                  </a:lnTo>
                  <a:lnTo>
                    <a:pt x="252" y="1202"/>
                  </a:lnTo>
                  <a:lnTo>
                    <a:pt x="252" y="1202"/>
                  </a:lnTo>
                  <a:lnTo>
                    <a:pt x="230" y="1252"/>
                  </a:lnTo>
                  <a:lnTo>
                    <a:pt x="0" y="1130"/>
                  </a:lnTo>
                  <a:lnTo>
                    <a:pt x="0" y="1130"/>
                  </a:lnTo>
                  <a:lnTo>
                    <a:pt x="16" y="1106"/>
                  </a:lnTo>
                  <a:lnTo>
                    <a:pt x="34" y="1078"/>
                  </a:lnTo>
                  <a:lnTo>
                    <a:pt x="70" y="1014"/>
                  </a:lnTo>
                  <a:lnTo>
                    <a:pt x="106" y="940"/>
                  </a:lnTo>
                  <a:lnTo>
                    <a:pt x="144" y="860"/>
                  </a:lnTo>
                  <a:lnTo>
                    <a:pt x="178" y="774"/>
                  </a:lnTo>
                  <a:lnTo>
                    <a:pt x="210" y="686"/>
                  </a:lnTo>
                  <a:lnTo>
                    <a:pt x="238" y="598"/>
                  </a:lnTo>
                  <a:lnTo>
                    <a:pt x="262" y="514"/>
                  </a:lnTo>
                  <a:lnTo>
                    <a:pt x="262" y="514"/>
                  </a:lnTo>
                  <a:lnTo>
                    <a:pt x="192" y="524"/>
                  </a:lnTo>
                  <a:lnTo>
                    <a:pt x="134" y="532"/>
                  </a:lnTo>
                  <a:lnTo>
                    <a:pt x="84" y="542"/>
                  </a:lnTo>
                  <a:lnTo>
                    <a:pt x="44" y="552"/>
                  </a:lnTo>
                  <a:lnTo>
                    <a:pt x="24" y="322"/>
                  </a:lnTo>
                  <a:close/>
                  <a:moveTo>
                    <a:pt x="1058" y="172"/>
                  </a:moveTo>
                  <a:lnTo>
                    <a:pt x="1058" y="172"/>
                  </a:lnTo>
                  <a:lnTo>
                    <a:pt x="1108" y="240"/>
                  </a:lnTo>
                  <a:lnTo>
                    <a:pt x="1154" y="306"/>
                  </a:lnTo>
                  <a:lnTo>
                    <a:pt x="1196" y="376"/>
                  </a:lnTo>
                  <a:lnTo>
                    <a:pt x="1232" y="448"/>
                  </a:lnTo>
                  <a:lnTo>
                    <a:pt x="1266" y="524"/>
                  </a:lnTo>
                  <a:lnTo>
                    <a:pt x="1294" y="602"/>
                  </a:lnTo>
                  <a:lnTo>
                    <a:pt x="1320" y="682"/>
                  </a:lnTo>
                  <a:lnTo>
                    <a:pt x="1342" y="768"/>
                  </a:lnTo>
                  <a:lnTo>
                    <a:pt x="1114" y="878"/>
                  </a:lnTo>
                  <a:lnTo>
                    <a:pt x="1114" y="878"/>
                  </a:lnTo>
                  <a:lnTo>
                    <a:pt x="1096" y="784"/>
                  </a:lnTo>
                  <a:lnTo>
                    <a:pt x="1084" y="740"/>
                  </a:lnTo>
                  <a:lnTo>
                    <a:pt x="1072" y="696"/>
                  </a:lnTo>
                  <a:lnTo>
                    <a:pt x="1060" y="654"/>
                  </a:lnTo>
                  <a:lnTo>
                    <a:pt x="1046" y="612"/>
                  </a:lnTo>
                  <a:lnTo>
                    <a:pt x="1030" y="572"/>
                  </a:lnTo>
                  <a:lnTo>
                    <a:pt x="1014" y="534"/>
                  </a:lnTo>
                  <a:lnTo>
                    <a:pt x="998" y="496"/>
                  </a:lnTo>
                  <a:lnTo>
                    <a:pt x="980" y="460"/>
                  </a:lnTo>
                  <a:lnTo>
                    <a:pt x="962" y="426"/>
                  </a:lnTo>
                  <a:lnTo>
                    <a:pt x="942" y="392"/>
                  </a:lnTo>
                  <a:lnTo>
                    <a:pt x="922" y="358"/>
                  </a:lnTo>
                  <a:lnTo>
                    <a:pt x="900" y="328"/>
                  </a:lnTo>
                  <a:lnTo>
                    <a:pt x="876" y="296"/>
                  </a:lnTo>
                  <a:lnTo>
                    <a:pt x="854" y="268"/>
                  </a:lnTo>
                  <a:lnTo>
                    <a:pt x="1058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"/>
            <p:cNvSpPr/>
            <p:nvPr/>
          </p:nvSpPr>
          <p:spPr>
            <a:xfrm>
              <a:off x="4454280" y="26343000"/>
              <a:ext cx="1889280" cy="2016000"/>
            </a:xfrm>
            <a:custGeom>
              <a:avLst/>
              <a:gdLst>
                <a:gd name="textAreaLeft" fmla="*/ 0 w 1889280"/>
                <a:gd name="textAreaRight" fmla="*/ 1889640 w 1889280"/>
                <a:gd name="textAreaTop" fmla="*/ 0 h 2016000"/>
                <a:gd name="textAreaBottom" fmla="*/ 2016000 h 2016000"/>
              </a:gdLst>
              <a:ahLst/>
              <a:rect l="textAreaLeft" t="textAreaTop" r="textAreaRight" b="textAreaBottom"/>
              <a:pathLst>
                <a:path w="1190" h="1270">
                  <a:moveTo>
                    <a:pt x="314" y="36"/>
                  </a:moveTo>
                  <a:lnTo>
                    <a:pt x="314" y="36"/>
                  </a:lnTo>
                  <a:lnTo>
                    <a:pt x="300" y="82"/>
                  </a:lnTo>
                  <a:lnTo>
                    <a:pt x="290" y="128"/>
                  </a:lnTo>
                  <a:lnTo>
                    <a:pt x="268" y="224"/>
                  </a:lnTo>
                  <a:lnTo>
                    <a:pt x="252" y="326"/>
                  </a:lnTo>
                  <a:lnTo>
                    <a:pt x="240" y="432"/>
                  </a:lnTo>
                  <a:lnTo>
                    <a:pt x="240" y="432"/>
                  </a:lnTo>
                  <a:lnTo>
                    <a:pt x="232" y="500"/>
                  </a:lnTo>
                  <a:lnTo>
                    <a:pt x="228" y="576"/>
                  </a:lnTo>
                  <a:lnTo>
                    <a:pt x="226" y="660"/>
                  </a:lnTo>
                  <a:lnTo>
                    <a:pt x="226" y="754"/>
                  </a:lnTo>
                  <a:lnTo>
                    <a:pt x="226" y="754"/>
                  </a:lnTo>
                  <a:lnTo>
                    <a:pt x="226" y="806"/>
                  </a:lnTo>
                  <a:lnTo>
                    <a:pt x="226" y="806"/>
                  </a:lnTo>
                  <a:lnTo>
                    <a:pt x="242" y="760"/>
                  </a:lnTo>
                  <a:lnTo>
                    <a:pt x="258" y="718"/>
                  </a:lnTo>
                  <a:lnTo>
                    <a:pt x="276" y="676"/>
                  </a:lnTo>
                  <a:lnTo>
                    <a:pt x="298" y="634"/>
                  </a:lnTo>
                  <a:lnTo>
                    <a:pt x="462" y="714"/>
                  </a:lnTo>
                  <a:lnTo>
                    <a:pt x="462" y="714"/>
                  </a:lnTo>
                  <a:lnTo>
                    <a:pt x="428" y="772"/>
                  </a:lnTo>
                  <a:lnTo>
                    <a:pt x="396" y="834"/>
                  </a:lnTo>
                  <a:lnTo>
                    <a:pt x="368" y="898"/>
                  </a:lnTo>
                  <a:lnTo>
                    <a:pt x="342" y="962"/>
                  </a:lnTo>
                  <a:lnTo>
                    <a:pt x="320" y="1026"/>
                  </a:lnTo>
                  <a:lnTo>
                    <a:pt x="302" y="1086"/>
                  </a:lnTo>
                  <a:lnTo>
                    <a:pt x="290" y="1142"/>
                  </a:lnTo>
                  <a:lnTo>
                    <a:pt x="286" y="1166"/>
                  </a:lnTo>
                  <a:lnTo>
                    <a:pt x="284" y="1190"/>
                  </a:lnTo>
                  <a:lnTo>
                    <a:pt x="60" y="1198"/>
                  </a:lnTo>
                  <a:lnTo>
                    <a:pt x="60" y="1198"/>
                  </a:lnTo>
                  <a:lnTo>
                    <a:pt x="54" y="1162"/>
                  </a:lnTo>
                  <a:lnTo>
                    <a:pt x="40" y="1088"/>
                  </a:lnTo>
                  <a:lnTo>
                    <a:pt x="40" y="1088"/>
                  </a:lnTo>
                  <a:lnTo>
                    <a:pt x="30" y="1038"/>
                  </a:lnTo>
                  <a:lnTo>
                    <a:pt x="24" y="984"/>
                  </a:lnTo>
                  <a:lnTo>
                    <a:pt x="16" y="930"/>
                  </a:lnTo>
                  <a:lnTo>
                    <a:pt x="10" y="872"/>
                  </a:lnTo>
                  <a:lnTo>
                    <a:pt x="6" y="816"/>
                  </a:lnTo>
                  <a:lnTo>
                    <a:pt x="4" y="758"/>
                  </a:lnTo>
                  <a:lnTo>
                    <a:pt x="2" y="702"/>
                  </a:lnTo>
                  <a:lnTo>
                    <a:pt x="0" y="646"/>
                  </a:lnTo>
                  <a:lnTo>
                    <a:pt x="0" y="646"/>
                  </a:lnTo>
                  <a:lnTo>
                    <a:pt x="2" y="542"/>
                  </a:lnTo>
                  <a:lnTo>
                    <a:pt x="4" y="494"/>
                  </a:lnTo>
                  <a:lnTo>
                    <a:pt x="8" y="442"/>
                  </a:lnTo>
                  <a:lnTo>
                    <a:pt x="24" y="314"/>
                  </a:lnTo>
                  <a:lnTo>
                    <a:pt x="48" y="128"/>
                  </a:lnTo>
                  <a:lnTo>
                    <a:pt x="48" y="128"/>
                  </a:lnTo>
                  <a:lnTo>
                    <a:pt x="54" y="66"/>
                  </a:lnTo>
                  <a:lnTo>
                    <a:pt x="56" y="16"/>
                  </a:lnTo>
                  <a:lnTo>
                    <a:pt x="314" y="36"/>
                  </a:lnTo>
                  <a:close/>
                  <a:moveTo>
                    <a:pt x="374" y="280"/>
                  </a:moveTo>
                  <a:lnTo>
                    <a:pt x="374" y="280"/>
                  </a:lnTo>
                  <a:lnTo>
                    <a:pt x="428" y="288"/>
                  </a:lnTo>
                  <a:lnTo>
                    <a:pt x="488" y="294"/>
                  </a:lnTo>
                  <a:lnTo>
                    <a:pt x="552" y="298"/>
                  </a:lnTo>
                  <a:lnTo>
                    <a:pt x="624" y="298"/>
                  </a:lnTo>
                  <a:lnTo>
                    <a:pt x="624" y="298"/>
                  </a:lnTo>
                  <a:lnTo>
                    <a:pt x="692" y="298"/>
                  </a:lnTo>
                  <a:lnTo>
                    <a:pt x="752" y="294"/>
                  </a:lnTo>
                  <a:lnTo>
                    <a:pt x="752" y="294"/>
                  </a:lnTo>
                  <a:lnTo>
                    <a:pt x="746" y="154"/>
                  </a:lnTo>
                  <a:lnTo>
                    <a:pt x="742" y="78"/>
                  </a:lnTo>
                  <a:lnTo>
                    <a:pt x="736" y="36"/>
                  </a:lnTo>
                  <a:lnTo>
                    <a:pt x="730" y="2"/>
                  </a:lnTo>
                  <a:lnTo>
                    <a:pt x="978" y="0"/>
                  </a:lnTo>
                  <a:lnTo>
                    <a:pt x="978" y="0"/>
                  </a:lnTo>
                  <a:lnTo>
                    <a:pt x="976" y="30"/>
                  </a:lnTo>
                  <a:lnTo>
                    <a:pt x="974" y="54"/>
                  </a:lnTo>
                  <a:lnTo>
                    <a:pt x="974" y="54"/>
                  </a:lnTo>
                  <a:lnTo>
                    <a:pt x="976" y="80"/>
                  </a:lnTo>
                  <a:lnTo>
                    <a:pt x="976" y="80"/>
                  </a:lnTo>
                  <a:lnTo>
                    <a:pt x="982" y="272"/>
                  </a:lnTo>
                  <a:lnTo>
                    <a:pt x="982" y="272"/>
                  </a:lnTo>
                  <a:lnTo>
                    <a:pt x="1038" y="264"/>
                  </a:lnTo>
                  <a:lnTo>
                    <a:pt x="1088" y="252"/>
                  </a:lnTo>
                  <a:lnTo>
                    <a:pt x="1134" y="240"/>
                  </a:lnTo>
                  <a:lnTo>
                    <a:pt x="1176" y="224"/>
                  </a:lnTo>
                  <a:lnTo>
                    <a:pt x="1190" y="458"/>
                  </a:lnTo>
                  <a:lnTo>
                    <a:pt x="1190" y="458"/>
                  </a:lnTo>
                  <a:lnTo>
                    <a:pt x="1158" y="462"/>
                  </a:lnTo>
                  <a:lnTo>
                    <a:pt x="1108" y="470"/>
                  </a:lnTo>
                  <a:lnTo>
                    <a:pt x="1108" y="470"/>
                  </a:lnTo>
                  <a:lnTo>
                    <a:pt x="1054" y="480"/>
                  </a:lnTo>
                  <a:lnTo>
                    <a:pt x="988" y="488"/>
                  </a:lnTo>
                  <a:lnTo>
                    <a:pt x="988" y="488"/>
                  </a:lnTo>
                  <a:lnTo>
                    <a:pt x="990" y="602"/>
                  </a:lnTo>
                  <a:lnTo>
                    <a:pt x="990" y="602"/>
                  </a:lnTo>
                  <a:lnTo>
                    <a:pt x="988" y="666"/>
                  </a:lnTo>
                  <a:lnTo>
                    <a:pt x="984" y="728"/>
                  </a:lnTo>
                  <a:lnTo>
                    <a:pt x="978" y="786"/>
                  </a:lnTo>
                  <a:lnTo>
                    <a:pt x="970" y="840"/>
                  </a:lnTo>
                  <a:lnTo>
                    <a:pt x="958" y="890"/>
                  </a:lnTo>
                  <a:lnTo>
                    <a:pt x="944" y="936"/>
                  </a:lnTo>
                  <a:lnTo>
                    <a:pt x="926" y="978"/>
                  </a:lnTo>
                  <a:lnTo>
                    <a:pt x="908" y="1014"/>
                  </a:lnTo>
                  <a:lnTo>
                    <a:pt x="908" y="1014"/>
                  </a:lnTo>
                  <a:lnTo>
                    <a:pt x="884" y="1052"/>
                  </a:lnTo>
                  <a:lnTo>
                    <a:pt x="858" y="1088"/>
                  </a:lnTo>
                  <a:lnTo>
                    <a:pt x="832" y="1120"/>
                  </a:lnTo>
                  <a:lnTo>
                    <a:pt x="802" y="1152"/>
                  </a:lnTo>
                  <a:lnTo>
                    <a:pt x="766" y="1182"/>
                  </a:lnTo>
                  <a:lnTo>
                    <a:pt x="728" y="1210"/>
                  </a:lnTo>
                  <a:lnTo>
                    <a:pt x="684" y="1240"/>
                  </a:lnTo>
                  <a:lnTo>
                    <a:pt x="634" y="1270"/>
                  </a:lnTo>
                  <a:lnTo>
                    <a:pt x="634" y="1270"/>
                  </a:lnTo>
                  <a:lnTo>
                    <a:pt x="588" y="1214"/>
                  </a:lnTo>
                  <a:lnTo>
                    <a:pt x="566" y="1192"/>
                  </a:lnTo>
                  <a:lnTo>
                    <a:pt x="544" y="1170"/>
                  </a:lnTo>
                  <a:lnTo>
                    <a:pt x="522" y="1148"/>
                  </a:lnTo>
                  <a:lnTo>
                    <a:pt x="498" y="1128"/>
                  </a:lnTo>
                  <a:lnTo>
                    <a:pt x="442" y="1084"/>
                  </a:lnTo>
                  <a:lnTo>
                    <a:pt x="442" y="1084"/>
                  </a:lnTo>
                  <a:lnTo>
                    <a:pt x="494" y="1060"/>
                  </a:lnTo>
                  <a:lnTo>
                    <a:pt x="542" y="1034"/>
                  </a:lnTo>
                  <a:lnTo>
                    <a:pt x="584" y="1004"/>
                  </a:lnTo>
                  <a:lnTo>
                    <a:pt x="622" y="974"/>
                  </a:lnTo>
                  <a:lnTo>
                    <a:pt x="654" y="942"/>
                  </a:lnTo>
                  <a:lnTo>
                    <a:pt x="668" y="926"/>
                  </a:lnTo>
                  <a:lnTo>
                    <a:pt x="680" y="910"/>
                  </a:lnTo>
                  <a:lnTo>
                    <a:pt x="692" y="892"/>
                  </a:lnTo>
                  <a:lnTo>
                    <a:pt x="704" y="874"/>
                  </a:lnTo>
                  <a:lnTo>
                    <a:pt x="712" y="856"/>
                  </a:lnTo>
                  <a:lnTo>
                    <a:pt x="720" y="838"/>
                  </a:lnTo>
                  <a:lnTo>
                    <a:pt x="720" y="838"/>
                  </a:lnTo>
                  <a:lnTo>
                    <a:pt x="730" y="812"/>
                  </a:lnTo>
                  <a:lnTo>
                    <a:pt x="738" y="784"/>
                  </a:lnTo>
                  <a:lnTo>
                    <a:pt x="744" y="752"/>
                  </a:lnTo>
                  <a:lnTo>
                    <a:pt x="748" y="718"/>
                  </a:lnTo>
                  <a:lnTo>
                    <a:pt x="752" y="678"/>
                  </a:lnTo>
                  <a:lnTo>
                    <a:pt x="754" y="632"/>
                  </a:lnTo>
                  <a:lnTo>
                    <a:pt x="756" y="524"/>
                  </a:lnTo>
                  <a:lnTo>
                    <a:pt x="756" y="524"/>
                  </a:lnTo>
                  <a:lnTo>
                    <a:pt x="756" y="508"/>
                  </a:lnTo>
                  <a:lnTo>
                    <a:pt x="756" y="508"/>
                  </a:lnTo>
                  <a:lnTo>
                    <a:pt x="684" y="512"/>
                  </a:lnTo>
                  <a:lnTo>
                    <a:pt x="608" y="514"/>
                  </a:lnTo>
                  <a:lnTo>
                    <a:pt x="608" y="514"/>
                  </a:lnTo>
                  <a:lnTo>
                    <a:pt x="532" y="512"/>
                  </a:lnTo>
                  <a:lnTo>
                    <a:pt x="462" y="510"/>
                  </a:lnTo>
                  <a:lnTo>
                    <a:pt x="462" y="510"/>
                  </a:lnTo>
                  <a:lnTo>
                    <a:pt x="416" y="506"/>
                  </a:lnTo>
                  <a:lnTo>
                    <a:pt x="372" y="506"/>
                  </a:lnTo>
                  <a:lnTo>
                    <a:pt x="374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2"/>
            <p:cNvSpPr/>
            <p:nvPr/>
          </p:nvSpPr>
          <p:spPr>
            <a:xfrm>
              <a:off x="4622760" y="28578240"/>
              <a:ext cx="1657440" cy="1933560"/>
            </a:xfrm>
            <a:custGeom>
              <a:avLst/>
              <a:gdLst>
                <a:gd name="textAreaLeft" fmla="*/ 0 w 1657440"/>
                <a:gd name="textAreaRight" fmla="*/ 1657800 w 1657440"/>
                <a:gd name="textAreaTop" fmla="*/ 0 h 1933560"/>
                <a:gd name="textAreaBottom" fmla="*/ 1933920 h 1933560"/>
              </a:gdLst>
              <a:ahLst/>
              <a:rect l="textAreaLeft" t="textAreaTop" r="textAreaRight" b="textAreaBottom"/>
              <a:pathLst>
                <a:path w="1044" h="1218">
                  <a:moveTo>
                    <a:pt x="280" y="4"/>
                  </a:moveTo>
                  <a:lnTo>
                    <a:pt x="280" y="4"/>
                  </a:lnTo>
                  <a:lnTo>
                    <a:pt x="274" y="50"/>
                  </a:lnTo>
                  <a:lnTo>
                    <a:pt x="268" y="116"/>
                  </a:lnTo>
                  <a:lnTo>
                    <a:pt x="262" y="200"/>
                  </a:lnTo>
                  <a:lnTo>
                    <a:pt x="258" y="296"/>
                  </a:lnTo>
                  <a:lnTo>
                    <a:pt x="250" y="504"/>
                  </a:lnTo>
                  <a:lnTo>
                    <a:pt x="248" y="604"/>
                  </a:lnTo>
                  <a:lnTo>
                    <a:pt x="248" y="698"/>
                  </a:lnTo>
                  <a:lnTo>
                    <a:pt x="248" y="698"/>
                  </a:lnTo>
                  <a:lnTo>
                    <a:pt x="248" y="786"/>
                  </a:lnTo>
                  <a:lnTo>
                    <a:pt x="250" y="818"/>
                  </a:lnTo>
                  <a:lnTo>
                    <a:pt x="254" y="846"/>
                  </a:lnTo>
                  <a:lnTo>
                    <a:pt x="258" y="868"/>
                  </a:lnTo>
                  <a:lnTo>
                    <a:pt x="262" y="886"/>
                  </a:lnTo>
                  <a:lnTo>
                    <a:pt x="268" y="902"/>
                  </a:lnTo>
                  <a:lnTo>
                    <a:pt x="276" y="916"/>
                  </a:lnTo>
                  <a:lnTo>
                    <a:pt x="276" y="916"/>
                  </a:lnTo>
                  <a:lnTo>
                    <a:pt x="288" y="932"/>
                  </a:lnTo>
                  <a:lnTo>
                    <a:pt x="302" y="944"/>
                  </a:lnTo>
                  <a:lnTo>
                    <a:pt x="320" y="956"/>
                  </a:lnTo>
                  <a:lnTo>
                    <a:pt x="340" y="966"/>
                  </a:lnTo>
                  <a:lnTo>
                    <a:pt x="362" y="974"/>
                  </a:lnTo>
                  <a:lnTo>
                    <a:pt x="386" y="978"/>
                  </a:lnTo>
                  <a:lnTo>
                    <a:pt x="412" y="982"/>
                  </a:lnTo>
                  <a:lnTo>
                    <a:pt x="440" y="984"/>
                  </a:lnTo>
                  <a:lnTo>
                    <a:pt x="440" y="984"/>
                  </a:lnTo>
                  <a:lnTo>
                    <a:pt x="466" y="982"/>
                  </a:lnTo>
                  <a:lnTo>
                    <a:pt x="492" y="980"/>
                  </a:lnTo>
                  <a:lnTo>
                    <a:pt x="518" y="974"/>
                  </a:lnTo>
                  <a:lnTo>
                    <a:pt x="542" y="968"/>
                  </a:lnTo>
                  <a:lnTo>
                    <a:pt x="564" y="960"/>
                  </a:lnTo>
                  <a:lnTo>
                    <a:pt x="588" y="948"/>
                  </a:lnTo>
                  <a:lnTo>
                    <a:pt x="608" y="936"/>
                  </a:lnTo>
                  <a:lnTo>
                    <a:pt x="628" y="922"/>
                  </a:lnTo>
                  <a:lnTo>
                    <a:pt x="648" y="906"/>
                  </a:lnTo>
                  <a:lnTo>
                    <a:pt x="666" y="888"/>
                  </a:lnTo>
                  <a:lnTo>
                    <a:pt x="682" y="870"/>
                  </a:lnTo>
                  <a:lnTo>
                    <a:pt x="698" y="848"/>
                  </a:lnTo>
                  <a:lnTo>
                    <a:pt x="714" y="826"/>
                  </a:lnTo>
                  <a:lnTo>
                    <a:pt x="726" y="800"/>
                  </a:lnTo>
                  <a:lnTo>
                    <a:pt x="740" y="776"/>
                  </a:lnTo>
                  <a:lnTo>
                    <a:pt x="750" y="748"/>
                  </a:lnTo>
                  <a:lnTo>
                    <a:pt x="750" y="748"/>
                  </a:lnTo>
                  <a:lnTo>
                    <a:pt x="768" y="690"/>
                  </a:lnTo>
                  <a:lnTo>
                    <a:pt x="784" y="632"/>
                  </a:lnTo>
                  <a:lnTo>
                    <a:pt x="796" y="568"/>
                  </a:lnTo>
                  <a:lnTo>
                    <a:pt x="806" y="496"/>
                  </a:lnTo>
                  <a:lnTo>
                    <a:pt x="806" y="496"/>
                  </a:lnTo>
                  <a:lnTo>
                    <a:pt x="874" y="546"/>
                  </a:lnTo>
                  <a:lnTo>
                    <a:pt x="904" y="568"/>
                  </a:lnTo>
                  <a:lnTo>
                    <a:pt x="930" y="586"/>
                  </a:lnTo>
                  <a:lnTo>
                    <a:pt x="956" y="600"/>
                  </a:lnTo>
                  <a:lnTo>
                    <a:pt x="984" y="614"/>
                  </a:lnTo>
                  <a:lnTo>
                    <a:pt x="1012" y="628"/>
                  </a:lnTo>
                  <a:lnTo>
                    <a:pt x="1044" y="642"/>
                  </a:lnTo>
                  <a:lnTo>
                    <a:pt x="1044" y="642"/>
                  </a:lnTo>
                  <a:lnTo>
                    <a:pt x="1024" y="716"/>
                  </a:lnTo>
                  <a:lnTo>
                    <a:pt x="1006" y="780"/>
                  </a:lnTo>
                  <a:lnTo>
                    <a:pt x="986" y="836"/>
                  </a:lnTo>
                  <a:lnTo>
                    <a:pt x="966" y="886"/>
                  </a:lnTo>
                  <a:lnTo>
                    <a:pt x="944" y="930"/>
                  </a:lnTo>
                  <a:lnTo>
                    <a:pt x="920" y="970"/>
                  </a:lnTo>
                  <a:lnTo>
                    <a:pt x="896" y="1004"/>
                  </a:lnTo>
                  <a:lnTo>
                    <a:pt x="868" y="1038"/>
                  </a:lnTo>
                  <a:lnTo>
                    <a:pt x="868" y="1038"/>
                  </a:lnTo>
                  <a:lnTo>
                    <a:pt x="848" y="1060"/>
                  </a:lnTo>
                  <a:lnTo>
                    <a:pt x="826" y="1080"/>
                  </a:lnTo>
                  <a:lnTo>
                    <a:pt x="802" y="1098"/>
                  </a:lnTo>
                  <a:lnTo>
                    <a:pt x="780" y="1116"/>
                  </a:lnTo>
                  <a:lnTo>
                    <a:pt x="754" y="1132"/>
                  </a:lnTo>
                  <a:lnTo>
                    <a:pt x="730" y="1148"/>
                  </a:lnTo>
                  <a:lnTo>
                    <a:pt x="704" y="1160"/>
                  </a:lnTo>
                  <a:lnTo>
                    <a:pt x="676" y="1172"/>
                  </a:lnTo>
                  <a:lnTo>
                    <a:pt x="648" y="1184"/>
                  </a:lnTo>
                  <a:lnTo>
                    <a:pt x="620" y="1192"/>
                  </a:lnTo>
                  <a:lnTo>
                    <a:pt x="590" y="1200"/>
                  </a:lnTo>
                  <a:lnTo>
                    <a:pt x="560" y="1206"/>
                  </a:lnTo>
                  <a:lnTo>
                    <a:pt x="530" y="1212"/>
                  </a:lnTo>
                  <a:lnTo>
                    <a:pt x="498" y="1214"/>
                  </a:lnTo>
                  <a:lnTo>
                    <a:pt x="464" y="1218"/>
                  </a:lnTo>
                  <a:lnTo>
                    <a:pt x="430" y="1218"/>
                  </a:lnTo>
                  <a:lnTo>
                    <a:pt x="430" y="1218"/>
                  </a:lnTo>
                  <a:lnTo>
                    <a:pt x="378" y="1216"/>
                  </a:lnTo>
                  <a:lnTo>
                    <a:pt x="330" y="1212"/>
                  </a:lnTo>
                  <a:lnTo>
                    <a:pt x="286" y="1202"/>
                  </a:lnTo>
                  <a:lnTo>
                    <a:pt x="244" y="1192"/>
                  </a:lnTo>
                  <a:lnTo>
                    <a:pt x="204" y="1176"/>
                  </a:lnTo>
                  <a:lnTo>
                    <a:pt x="170" y="1158"/>
                  </a:lnTo>
                  <a:lnTo>
                    <a:pt x="136" y="1136"/>
                  </a:lnTo>
                  <a:lnTo>
                    <a:pt x="106" y="1112"/>
                  </a:lnTo>
                  <a:lnTo>
                    <a:pt x="106" y="1112"/>
                  </a:lnTo>
                  <a:lnTo>
                    <a:pt x="80" y="1082"/>
                  </a:lnTo>
                  <a:lnTo>
                    <a:pt x="68" y="1066"/>
                  </a:lnTo>
                  <a:lnTo>
                    <a:pt x="56" y="1050"/>
                  </a:lnTo>
                  <a:lnTo>
                    <a:pt x="46" y="1034"/>
                  </a:lnTo>
                  <a:lnTo>
                    <a:pt x="38" y="1016"/>
                  </a:lnTo>
                  <a:lnTo>
                    <a:pt x="30" y="996"/>
                  </a:lnTo>
                  <a:lnTo>
                    <a:pt x="24" y="976"/>
                  </a:lnTo>
                  <a:lnTo>
                    <a:pt x="18" y="954"/>
                  </a:lnTo>
                  <a:lnTo>
                    <a:pt x="14" y="930"/>
                  </a:lnTo>
                  <a:lnTo>
                    <a:pt x="6" y="878"/>
                  </a:lnTo>
                  <a:lnTo>
                    <a:pt x="2" y="818"/>
                  </a:lnTo>
                  <a:lnTo>
                    <a:pt x="0" y="750"/>
                  </a:lnTo>
                  <a:lnTo>
                    <a:pt x="0" y="750"/>
                  </a:lnTo>
                  <a:lnTo>
                    <a:pt x="8" y="434"/>
                  </a:lnTo>
                  <a:lnTo>
                    <a:pt x="8" y="434"/>
                  </a:lnTo>
                  <a:lnTo>
                    <a:pt x="12" y="238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2" y="52"/>
                  </a:lnTo>
                  <a:lnTo>
                    <a:pt x="6" y="0"/>
                  </a:lnTo>
                  <a:lnTo>
                    <a:pt x="28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3"/>
            <p:cNvSpPr/>
            <p:nvPr/>
          </p:nvSpPr>
          <p:spPr>
            <a:xfrm>
              <a:off x="4375080" y="30886560"/>
              <a:ext cx="1908360" cy="1825560"/>
            </a:xfrm>
            <a:custGeom>
              <a:avLst/>
              <a:gdLst>
                <a:gd name="textAreaLeft" fmla="*/ 0 w 1908360"/>
                <a:gd name="textAreaRight" fmla="*/ 1908720 w 1908360"/>
                <a:gd name="textAreaTop" fmla="*/ 0 h 1825560"/>
                <a:gd name="textAreaBottom" fmla="*/ 1825920 h 1825560"/>
              </a:gdLst>
              <a:ahLst/>
              <a:rect l="textAreaLeft" t="textAreaTop" r="textAreaRight" b="textAreaBottom"/>
              <a:pathLst>
                <a:path w="1202" h="1150">
                  <a:moveTo>
                    <a:pt x="0" y="56"/>
                  </a:moveTo>
                  <a:lnTo>
                    <a:pt x="0" y="56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128" y="56"/>
                  </a:lnTo>
                  <a:lnTo>
                    <a:pt x="290" y="46"/>
                  </a:lnTo>
                  <a:lnTo>
                    <a:pt x="290" y="46"/>
                  </a:lnTo>
                  <a:lnTo>
                    <a:pt x="440" y="36"/>
                  </a:lnTo>
                  <a:lnTo>
                    <a:pt x="586" y="28"/>
                  </a:lnTo>
                  <a:lnTo>
                    <a:pt x="770" y="20"/>
                  </a:lnTo>
                  <a:lnTo>
                    <a:pt x="1036" y="10"/>
                  </a:lnTo>
                  <a:lnTo>
                    <a:pt x="1036" y="10"/>
                  </a:lnTo>
                  <a:lnTo>
                    <a:pt x="1146" y="6"/>
                  </a:lnTo>
                  <a:lnTo>
                    <a:pt x="1170" y="4"/>
                  </a:lnTo>
                  <a:lnTo>
                    <a:pt x="1190" y="0"/>
                  </a:lnTo>
                  <a:lnTo>
                    <a:pt x="1202" y="252"/>
                  </a:lnTo>
                  <a:lnTo>
                    <a:pt x="1202" y="252"/>
                  </a:lnTo>
                  <a:lnTo>
                    <a:pt x="1180" y="250"/>
                  </a:lnTo>
                  <a:lnTo>
                    <a:pt x="1162" y="250"/>
                  </a:lnTo>
                  <a:lnTo>
                    <a:pt x="1162" y="250"/>
                  </a:lnTo>
                  <a:lnTo>
                    <a:pt x="1124" y="252"/>
                  </a:lnTo>
                  <a:lnTo>
                    <a:pt x="1086" y="256"/>
                  </a:lnTo>
                  <a:lnTo>
                    <a:pt x="1044" y="264"/>
                  </a:lnTo>
                  <a:lnTo>
                    <a:pt x="1002" y="276"/>
                  </a:lnTo>
                  <a:lnTo>
                    <a:pt x="960" y="290"/>
                  </a:lnTo>
                  <a:lnTo>
                    <a:pt x="920" y="306"/>
                  </a:lnTo>
                  <a:lnTo>
                    <a:pt x="880" y="326"/>
                  </a:lnTo>
                  <a:lnTo>
                    <a:pt x="844" y="346"/>
                  </a:lnTo>
                  <a:lnTo>
                    <a:pt x="844" y="346"/>
                  </a:lnTo>
                  <a:lnTo>
                    <a:pt x="818" y="364"/>
                  </a:lnTo>
                  <a:lnTo>
                    <a:pt x="794" y="380"/>
                  </a:lnTo>
                  <a:lnTo>
                    <a:pt x="770" y="398"/>
                  </a:lnTo>
                  <a:lnTo>
                    <a:pt x="750" y="416"/>
                  </a:lnTo>
                  <a:lnTo>
                    <a:pt x="730" y="436"/>
                  </a:lnTo>
                  <a:lnTo>
                    <a:pt x="712" y="454"/>
                  </a:lnTo>
                  <a:lnTo>
                    <a:pt x="694" y="474"/>
                  </a:lnTo>
                  <a:lnTo>
                    <a:pt x="680" y="496"/>
                  </a:lnTo>
                  <a:lnTo>
                    <a:pt x="666" y="516"/>
                  </a:lnTo>
                  <a:lnTo>
                    <a:pt x="654" y="536"/>
                  </a:lnTo>
                  <a:lnTo>
                    <a:pt x="644" y="558"/>
                  </a:lnTo>
                  <a:lnTo>
                    <a:pt x="636" y="580"/>
                  </a:lnTo>
                  <a:lnTo>
                    <a:pt x="630" y="600"/>
                  </a:lnTo>
                  <a:lnTo>
                    <a:pt x="626" y="622"/>
                  </a:lnTo>
                  <a:lnTo>
                    <a:pt x="622" y="644"/>
                  </a:lnTo>
                  <a:lnTo>
                    <a:pt x="622" y="666"/>
                  </a:lnTo>
                  <a:lnTo>
                    <a:pt x="622" y="666"/>
                  </a:lnTo>
                  <a:lnTo>
                    <a:pt x="624" y="694"/>
                  </a:lnTo>
                  <a:lnTo>
                    <a:pt x="628" y="720"/>
                  </a:lnTo>
                  <a:lnTo>
                    <a:pt x="638" y="744"/>
                  </a:lnTo>
                  <a:lnTo>
                    <a:pt x="650" y="766"/>
                  </a:lnTo>
                  <a:lnTo>
                    <a:pt x="666" y="786"/>
                  </a:lnTo>
                  <a:lnTo>
                    <a:pt x="686" y="806"/>
                  </a:lnTo>
                  <a:lnTo>
                    <a:pt x="710" y="822"/>
                  </a:lnTo>
                  <a:lnTo>
                    <a:pt x="738" y="836"/>
                  </a:lnTo>
                  <a:lnTo>
                    <a:pt x="738" y="836"/>
                  </a:lnTo>
                  <a:lnTo>
                    <a:pt x="762" y="846"/>
                  </a:lnTo>
                  <a:lnTo>
                    <a:pt x="792" y="856"/>
                  </a:lnTo>
                  <a:lnTo>
                    <a:pt x="824" y="864"/>
                  </a:lnTo>
                  <a:lnTo>
                    <a:pt x="860" y="872"/>
                  </a:lnTo>
                  <a:lnTo>
                    <a:pt x="896" y="878"/>
                  </a:lnTo>
                  <a:lnTo>
                    <a:pt x="934" y="882"/>
                  </a:lnTo>
                  <a:lnTo>
                    <a:pt x="970" y="886"/>
                  </a:lnTo>
                  <a:lnTo>
                    <a:pt x="1004" y="886"/>
                  </a:lnTo>
                  <a:lnTo>
                    <a:pt x="1004" y="886"/>
                  </a:lnTo>
                  <a:lnTo>
                    <a:pt x="1024" y="886"/>
                  </a:lnTo>
                  <a:lnTo>
                    <a:pt x="1046" y="884"/>
                  </a:lnTo>
                  <a:lnTo>
                    <a:pt x="1014" y="1150"/>
                  </a:lnTo>
                  <a:lnTo>
                    <a:pt x="1014" y="1150"/>
                  </a:lnTo>
                  <a:lnTo>
                    <a:pt x="992" y="1146"/>
                  </a:lnTo>
                  <a:lnTo>
                    <a:pt x="964" y="1144"/>
                  </a:lnTo>
                  <a:lnTo>
                    <a:pt x="964" y="1144"/>
                  </a:lnTo>
                  <a:lnTo>
                    <a:pt x="906" y="1138"/>
                  </a:lnTo>
                  <a:lnTo>
                    <a:pt x="854" y="1130"/>
                  </a:lnTo>
                  <a:lnTo>
                    <a:pt x="806" y="1122"/>
                  </a:lnTo>
                  <a:lnTo>
                    <a:pt x="760" y="1114"/>
                  </a:lnTo>
                  <a:lnTo>
                    <a:pt x="720" y="1104"/>
                  </a:lnTo>
                  <a:lnTo>
                    <a:pt x="680" y="1092"/>
                  </a:lnTo>
                  <a:lnTo>
                    <a:pt x="644" y="1080"/>
                  </a:lnTo>
                  <a:lnTo>
                    <a:pt x="610" y="1066"/>
                  </a:lnTo>
                  <a:lnTo>
                    <a:pt x="610" y="1066"/>
                  </a:lnTo>
                  <a:lnTo>
                    <a:pt x="580" y="1050"/>
                  </a:lnTo>
                  <a:lnTo>
                    <a:pt x="552" y="1034"/>
                  </a:lnTo>
                  <a:lnTo>
                    <a:pt x="526" y="1016"/>
                  </a:lnTo>
                  <a:lnTo>
                    <a:pt x="502" y="998"/>
                  </a:lnTo>
                  <a:lnTo>
                    <a:pt x="480" y="978"/>
                  </a:lnTo>
                  <a:lnTo>
                    <a:pt x="458" y="958"/>
                  </a:lnTo>
                  <a:lnTo>
                    <a:pt x="440" y="936"/>
                  </a:lnTo>
                  <a:lnTo>
                    <a:pt x="424" y="912"/>
                  </a:lnTo>
                  <a:lnTo>
                    <a:pt x="408" y="888"/>
                  </a:lnTo>
                  <a:lnTo>
                    <a:pt x="396" y="862"/>
                  </a:lnTo>
                  <a:lnTo>
                    <a:pt x="386" y="834"/>
                  </a:lnTo>
                  <a:lnTo>
                    <a:pt x="376" y="806"/>
                  </a:lnTo>
                  <a:lnTo>
                    <a:pt x="370" y="778"/>
                  </a:lnTo>
                  <a:lnTo>
                    <a:pt x="364" y="748"/>
                  </a:lnTo>
                  <a:lnTo>
                    <a:pt x="362" y="716"/>
                  </a:lnTo>
                  <a:lnTo>
                    <a:pt x="360" y="684"/>
                  </a:lnTo>
                  <a:lnTo>
                    <a:pt x="360" y="684"/>
                  </a:lnTo>
                  <a:lnTo>
                    <a:pt x="362" y="640"/>
                  </a:lnTo>
                  <a:lnTo>
                    <a:pt x="368" y="598"/>
                  </a:lnTo>
                  <a:lnTo>
                    <a:pt x="376" y="558"/>
                  </a:lnTo>
                  <a:lnTo>
                    <a:pt x="390" y="518"/>
                  </a:lnTo>
                  <a:lnTo>
                    <a:pt x="406" y="478"/>
                  </a:lnTo>
                  <a:lnTo>
                    <a:pt x="426" y="440"/>
                  </a:lnTo>
                  <a:lnTo>
                    <a:pt x="452" y="404"/>
                  </a:lnTo>
                  <a:lnTo>
                    <a:pt x="480" y="368"/>
                  </a:lnTo>
                  <a:lnTo>
                    <a:pt x="480" y="368"/>
                  </a:lnTo>
                  <a:lnTo>
                    <a:pt x="506" y="336"/>
                  </a:lnTo>
                  <a:lnTo>
                    <a:pt x="536" y="310"/>
                  </a:lnTo>
                  <a:lnTo>
                    <a:pt x="572" y="280"/>
                  </a:lnTo>
                  <a:lnTo>
                    <a:pt x="616" y="250"/>
                  </a:lnTo>
                  <a:lnTo>
                    <a:pt x="134" y="292"/>
                  </a:lnTo>
                  <a:lnTo>
                    <a:pt x="134" y="292"/>
                  </a:lnTo>
                  <a:lnTo>
                    <a:pt x="72" y="300"/>
                  </a:lnTo>
                  <a:lnTo>
                    <a:pt x="14" y="31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4"/>
            <p:cNvSpPr/>
            <p:nvPr/>
          </p:nvSpPr>
          <p:spPr>
            <a:xfrm>
              <a:off x="4330440" y="32959800"/>
              <a:ext cx="2067120" cy="1984320"/>
            </a:xfrm>
            <a:custGeom>
              <a:avLst/>
              <a:gdLst>
                <a:gd name="textAreaLeft" fmla="*/ 0 w 2067120"/>
                <a:gd name="textAreaRight" fmla="*/ 2067120 w 2067120"/>
                <a:gd name="textAreaTop" fmla="*/ 0 h 1984320"/>
                <a:gd name="textAreaBottom" fmla="*/ 1984680 h 1984320"/>
              </a:gdLst>
              <a:ahLst/>
              <a:rect l="textAreaLeft" t="textAreaTop" r="textAreaRight" b="textAreaBottom"/>
              <a:pathLst>
                <a:path w="1302" h="1250">
                  <a:moveTo>
                    <a:pt x="822" y="392"/>
                  </a:moveTo>
                  <a:lnTo>
                    <a:pt x="822" y="392"/>
                  </a:lnTo>
                  <a:lnTo>
                    <a:pt x="798" y="394"/>
                  </a:lnTo>
                  <a:lnTo>
                    <a:pt x="770" y="400"/>
                  </a:lnTo>
                  <a:lnTo>
                    <a:pt x="770" y="400"/>
                  </a:lnTo>
                  <a:lnTo>
                    <a:pt x="670" y="414"/>
                  </a:lnTo>
                  <a:lnTo>
                    <a:pt x="558" y="428"/>
                  </a:lnTo>
                  <a:lnTo>
                    <a:pt x="558" y="550"/>
                  </a:lnTo>
                  <a:lnTo>
                    <a:pt x="558" y="550"/>
                  </a:lnTo>
                  <a:lnTo>
                    <a:pt x="614" y="540"/>
                  </a:lnTo>
                  <a:lnTo>
                    <a:pt x="664" y="532"/>
                  </a:lnTo>
                  <a:lnTo>
                    <a:pt x="710" y="528"/>
                  </a:lnTo>
                  <a:lnTo>
                    <a:pt x="762" y="526"/>
                  </a:lnTo>
                  <a:lnTo>
                    <a:pt x="762" y="526"/>
                  </a:lnTo>
                  <a:lnTo>
                    <a:pt x="824" y="528"/>
                  </a:lnTo>
                  <a:lnTo>
                    <a:pt x="882" y="534"/>
                  </a:lnTo>
                  <a:lnTo>
                    <a:pt x="936" y="544"/>
                  </a:lnTo>
                  <a:lnTo>
                    <a:pt x="962" y="552"/>
                  </a:lnTo>
                  <a:lnTo>
                    <a:pt x="986" y="558"/>
                  </a:lnTo>
                  <a:lnTo>
                    <a:pt x="1010" y="568"/>
                  </a:lnTo>
                  <a:lnTo>
                    <a:pt x="1032" y="576"/>
                  </a:lnTo>
                  <a:lnTo>
                    <a:pt x="1054" y="588"/>
                  </a:lnTo>
                  <a:lnTo>
                    <a:pt x="1074" y="598"/>
                  </a:lnTo>
                  <a:lnTo>
                    <a:pt x="1092" y="610"/>
                  </a:lnTo>
                  <a:lnTo>
                    <a:pt x="1110" y="624"/>
                  </a:lnTo>
                  <a:lnTo>
                    <a:pt x="1128" y="638"/>
                  </a:lnTo>
                  <a:lnTo>
                    <a:pt x="1144" y="654"/>
                  </a:lnTo>
                  <a:lnTo>
                    <a:pt x="1144" y="654"/>
                  </a:lnTo>
                  <a:lnTo>
                    <a:pt x="1164" y="678"/>
                  </a:lnTo>
                  <a:lnTo>
                    <a:pt x="1184" y="706"/>
                  </a:lnTo>
                  <a:lnTo>
                    <a:pt x="1200" y="734"/>
                  </a:lnTo>
                  <a:lnTo>
                    <a:pt x="1214" y="764"/>
                  </a:lnTo>
                  <a:lnTo>
                    <a:pt x="1224" y="796"/>
                  </a:lnTo>
                  <a:lnTo>
                    <a:pt x="1232" y="830"/>
                  </a:lnTo>
                  <a:lnTo>
                    <a:pt x="1236" y="866"/>
                  </a:lnTo>
                  <a:lnTo>
                    <a:pt x="1238" y="900"/>
                  </a:lnTo>
                  <a:lnTo>
                    <a:pt x="1238" y="900"/>
                  </a:lnTo>
                  <a:lnTo>
                    <a:pt x="1236" y="936"/>
                  </a:lnTo>
                  <a:lnTo>
                    <a:pt x="1232" y="972"/>
                  </a:lnTo>
                  <a:lnTo>
                    <a:pt x="1222" y="1006"/>
                  </a:lnTo>
                  <a:lnTo>
                    <a:pt x="1212" y="1038"/>
                  </a:lnTo>
                  <a:lnTo>
                    <a:pt x="1198" y="1068"/>
                  </a:lnTo>
                  <a:lnTo>
                    <a:pt x="1180" y="1096"/>
                  </a:lnTo>
                  <a:lnTo>
                    <a:pt x="1160" y="1122"/>
                  </a:lnTo>
                  <a:lnTo>
                    <a:pt x="1138" y="1146"/>
                  </a:lnTo>
                  <a:lnTo>
                    <a:pt x="1114" y="1168"/>
                  </a:lnTo>
                  <a:lnTo>
                    <a:pt x="1088" y="1188"/>
                  </a:lnTo>
                  <a:lnTo>
                    <a:pt x="1060" y="1204"/>
                  </a:lnTo>
                  <a:lnTo>
                    <a:pt x="1028" y="1220"/>
                  </a:lnTo>
                  <a:lnTo>
                    <a:pt x="996" y="1230"/>
                  </a:lnTo>
                  <a:lnTo>
                    <a:pt x="962" y="1238"/>
                  </a:lnTo>
                  <a:lnTo>
                    <a:pt x="928" y="1244"/>
                  </a:lnTo>
                  <a:lnTo>
                    <a:pt x="890" y="1246"/>
                  </a:lnTo>
                  <a:lnTo>
                    <a:pt x="890" y="1246"/>
                  </a:lnTo>
                  <a:lnTo>
                    <a:pt x="860" y="1244"/>
                  </a:lnTo>
                  <a:lnTo>
                    <a:pt x="830" y="1240"/>
                  </a:lnTo>
                  <a:lnTo>
                    <a:pt x="802" y="1234"/>
                  </a:lnTo>
                  <a:lnTo>
                    <a:pt x="774" y="1224"/>
                  </a:lnTo>
                  <a:lnTo>
                    <a:pt x="750" y="1212"/>
                  </a:lnTo>
                  <a:lnTo>
                    <a:pt x="728" y="1198"/>
                  </a:lnTo>
                  <a:lnTo>
                    <a:pt x="708" y="1182"/>
                  </a:lnTo>
                  <a:lnTo>
                    <a:pt x="690" y="1162"/>
                  </a:lnTo>
                  <a:lnTo>
                    <a:pt x="672" y="1140"/>
                  </a:lnTo>
                  <a:lnTo>
                    <a:pt x="658" y="1118"/>
                  </a:lnTo>
                  <a:lnTo>
                    <a:pt x="646" y="1092"/>
                  </a:lnTo>
                  <a:lnTo>
                    <a:pt x="636" y="1062"/>
                  </a:lnTo>
                  <a:lnTo>
                    <a:pt x="628" y="1032"/>
                  </a:lnTo>
                  <a:lnTo>
                    <a:pt x="622" y="1000"/>
                  </a:lnTo>
                  <a:lnTo>
                    <a:pt x="618" y="966"/>
                  </a:lnTo>
                  <a:lnTo>
                    <a:pt x="618" y="928"/>
                  </a:lnTo>
                  <a:lnTo>
                    <a:pt x="618" y="928"/>
                  </a:lnTo>
                  <a:lnTo>
                    <a:pt x="618" y="894"/>
                  </a:lnTo>
                  <a:lnTo>
                    <a:pt x="618" y="894"/>
                  </a:lnTo>
                  <a:lnTo>
                    <a:pt x="682" y="874"/>
                  </a:lnTo>
                  <a:lnTo>
                    <a:pt x="732" y="856"/>
                  </a:lnTo>
                  <a:lnTo>
                    <a:pt x="778" y="836"/>
                  </a:lnTo>
                  <a:lnTo>
                    <a:pt x="830" y="808"/>
                  </a:lnTo>
                  <a:lnTo>
                    <a:pt x="830" y="808"/>
                  </a:lnTo>
                  <a:lnTo>
                    <a:pt x="828" y="846"/>
                  </a:lnTo>
                  <a:lnTo>
                    <a:pt x="826" y="882"/>
                  </a:lnTo>
                  <a:lnTo>
                    <a:pt x="826" y="882"/>
                  </a:lnTo>
                  <a:lnTo>
                    <a:pt x="828" y="912"/>
                  </a:lnTo>
                  <a:lnTo>
                    <a:pt x="828" y="934"/>
                  </a:lnTo>
                  <a:lnTo>
                    <a:pt x="832" y="954"/>
                  </a:lnTo>
                  <a:lnTo>
                    <a:pt x="838" y="970"/>
                  </a:lnTo>
                  <a:lnTo>
                    <a:pt x="838" y="970"/>
                  </a:lnTo>
                  <a:lnTo>
                    <a:pt x="842" y="980"/>
                  </a:lnTo>
                  <a:lnTo>
                    <a:pt x="848" y="988"/>
                  </a:lnTo>
                  <a:lnTo>
                    <a:pt x="854" y="994"/>
                  </a:lnTo>
                  <a:lnTo>
                    <a:pt x="862" y="1000"/>
                  </a:lnTo>
                  <a:lnTo>
                    <a:pt x="870" y="1006"/>
                  </a:lnTo>
                  <a:lnTo>
                    <a:pt x="880" y="1010"/>
                  </a:lnTo>
                  <a:lnTo>
                    <a:pt x="888" y="1012"/>
                  </a:lnTo>
                  <a:lnTo>
                    <a:pt x="900" y="1012"/>
                  </a:lnTo>
                  <a:lnTo>
                    <a:pt x="900" y="1012"/>
                  </a:lnTo>
                  <a:lnTo>
                    <a:pt x="920" y="1010"/>
                  </a:lnTo>
                  <a:lnTo>
                    <a:pt x="940" y="1004"/>
                  </a:lnTo>
                  <a:lnTo>
                    <a:pt x="958" y="994"/>
                  </a:lnTo>
                  <a:lnTo>
                    <a:pt x="972" y="978"/>
                  </a:lnTo>
                  <a:lnTo>
                    <a:pt x="984" y="962"/>
                  </a:lnTo>
                  <a:lnTo>
                    <a:pt x="992" y="942"/>
                  </a:lnTo>
                  <a:lnTo>
                    <a:pt x="998" y="918"/>
                  </a:lnTo>
                  <a:lnTo>
                    <a:pt x="1000" y="892"/>
                  </a:lnTo>
                  <a:lnTo>
                    <a:pt x="1000" y="892"/>
                  </a:lnTo>
                  <a:lnTo>
                    <a:pt x="998" y="874"/>
                  </a:lnTo>
                  <a:lnTo>
                    <a:pt x="994" y="858"/>
                  </a:lnTo>
                  <a:lnTo>
                    <a:pt x="990" y="840"/>
                  </a:lnTo>
                  <a:lnTo>
                    <a:pt x="982" y="824"/>
                  </a:lnTo>
                  <a:lnTo>
                    <a:pt x="972" y="808"/>
                  </a:lnTo>
                  <a:lnTo>
                    <a:pt x="960" y="794"/>
                  </a:lnTo>
                  <a:lnTo>
                    <a:pt x="946" y="782"/>
                  </a:lnTo>
                  <a:lnTo>
                    <a:pt x="932" y="770"/>
                  </a:lnTo>
                  <a:lnTo>
                    <a:pt x="932" y="770"/>
                  </a:lnTo>
                  <a:lnTo>
                    <a:pt x="916" y="762"/>
                  </a:lnTo>
                  <a:lnTo>
                    <a:pt x="900" y="754"/>
                  </a:lnTo>
                  <a:lnTo>
                    <a:pt x="882" y="748"/>
                  </a:lnTo>
                  <a:lnTo>
                    <a:pt x="862" y="742"/>
                  </a:lnTo>
                  <a:lnTo>
                    <a:pt x="840" y="738"/>
                  </a:lnTo>
                  <a:lnTo>
                    <a:pt x="816" y="736"/>
                  </a:lnTo>
                  <a:lnTo>
                    <a:pt x="792" y="734"/>
                  </a:lnTo>
                  <a:lnTo>
                    <a:pt x="766" y="734"/>
                  </a:lnTo>
                  <a:lnTo>
                    <a:pt x="766" y="734"/>
                  </a:lnTo>
                  <a:lnTo>
                    <a:pt x="716" y="734"/>
                  </a:lnTo>
                  <a:lnTo>
                    <a:pt x="666" y="740"/>
                  </a:lnTo>
                  <a:lnTo>
                    <a:pt x="616" y="748"/>
                  </a:lnTo>
                  <a:lnTo>
                    <a:pt x="560" y="762"/>
                  </a:lnTo>
                  <a:lnTo>
                    <a:pt x="562" y="1008"/>
                  </a:lnTo>
                  <a:lnTo>
                    <a:pt x="562" y="1044"/>
                  </a:lnTo>
                  <a:lnTo>
                    <a:pt x="562" y="1044"/>
                  </a:lnTo>
                  <a:lnTo>
                    <a:pt x="560" y="1098"/>
                  </a:lnTo>
                  <a:lnTo>
                    <a:pt x="558" y="1120"/>
                  </a:lnTo>
                  <a:lnTo>
                    <a:pt x="556" y="1138"/>
                  </a:lnTo>
                  <a:lnTo>
                    <a:pt x="552" y="1154"/>
                  </a:lnTo>
                  <a:lnTo>
                    <a:pt x="548" y="1166"/>
                  </a:lnTo>
                  <a:lnTo>
                    <a:pt x="542" y="1178"/>
                  </a:lnTo>
                  <a:lnTo>
                    <a:pt x="534" y="1190"/>
                  </a:lnTo>
                  <a:lnTo>
                    <a:pt x="534" y="1190"/>
                  </a:lnTo>
                  <a:lnTo>
                    <a:pt x="524" y="1204"/>
                  </a:lnTo>
                  <a:lnTo>
                    <a:pt x="510" y="1216"/>
                  </a:lnTo>
                  <a:lnTo>
                    <a:pt x="494" y="1226"/>
                  </a:lnTo>
                  <a:lnTo>
                    <a:pt x="478" y="1234"/>
                  </a:lnTo>
                  <a:lnTo>
                    <a:pt x="458" y="1242"/>
                  </a:lnTo>
                  <a:lnTo>
                    <a:pt x="438" y="1246"/>
                  </a:lnTo>
                  <a:lnTo>
                    <a:pt x="416" y="1250"/>
                  </a:lnTo>
                  <a:lnTo>
                    <a:pt x="392" y="1250"/>
                  </a:lnTo>
                  <a:lnTo>
                    <a:pt x="392" y="1250"/>
                  </a:lnTo>
                  <a:lnTo>
                    <a:pt x="354" y="1248"/>
                  </a:lnTo>
                  <a:lnTo>
                    <a:pt x="314" y="1244"/>
                  </a:lnTo>
                  <a:lnTo>
                    <a:pt x="272" y="1234"/>
                  </a:lnTo>
                  <a:lnTo>
                    <a:pt x="234" y="1220"/>
                  </a:lnTo>
                  <a:lnTo>
                    <a:pt x="194" y="1204"/>
                  </a:lnTo>
                  <a:lnTo>
                    <a:pt x="158" y="1186"/>
                  </a:lnTo>
                  <a:lnTo>
                    <a:pt x="122" y="1164"/>
                  </a:lnTo>
                  <a:lnTo>
                    <a:pt x="92" y="1140"/>
                  </a:lnTo>
                  <a:lnTo>
                    <a:pt x="92" y="1140"/>
                  </a:lnTo>
                  <a:lnTo>
                    <a:pt x="70" y="1122"/>
                  </a:lnTo>
                  <a:lnTo>
                    <a:pt x="52" y="1102"/>
                  </a:lnTo>
                  <a:lnTo>
                    <a:pt x="38" y="1080"/>
                  </a:lnTo>
                  <a:lnTo>
                    <a:pt x="24" y="1056"/>
                  </a:lnTo>
                  <a:lnTo>
                    <a:pt x="14" y="1034"/>
                  </a:lnTo>
                  <a:lnTo>
                    <a:pt x="6" y="1010"/>
                  </a:lnTo>
                  <a:lnTo>
                    <a:pt x="2" y="984"/>
                  </a:lnTo>
                  <a:lnTo>
                    <a:pt x="0" y="960"/>
                  </a:lnTo>
                  <a:lnTo>
                    <a:pt x="0" y="960"/>
                  </a:lnTo>
                  <a:lnTo>
                    <a:pt x="2" y="930"/>
                  </a:lnTo>
                  <a:lnTo>
                    <a:pt x="10" y="902"/>
                  </a:lnTo>
                  <a:lnTo>
                    <a:pt x="20" y="872"/>
                  </a:lnTo>
                  <a:lnTo>
                    <a:pt x="34" y="842"/>
                  </a:lnTo>
                  <a:lnTo>
                    <a:pt x="52" y="814"/>
                  </a:lnTo>
                  <a:lnTo>
                    <a:pt x="74" y="784"/>
                  </a:lnTo>
                  <a:lnTo>
                    <a:pt x="100" y="756"/>
                  </a:lnTo>
                  <a:lnTo>
                    <a:pt x="130" y="728"/>
                  </a:lnTo>
                  <a:lnTo>
                    <a:pt x="130" y="728"/>
                  </a:lnTo>
                  <a:lnTo>
                    <a:pt x="152" y="710"/>
                  </a:lnTo>
                  <a:lnTo>
                    <a:pt x="174" y="694"/>
                  </a:lnTo>
                  <a:lnTo>
                    <a:pt x="196" y="678"/>
                  </a:lnTo>
                  <a:lnTo>
                    <a:pt x="220" y="662"/>
                  </a:lnTo>
                  <a:lnTo>
                    <a:pt x="274" y="634"/>
                  </a:lnTo>
                  <a:lnTo>
                    <a:pt x="338" y="604"/>
                  </a:lnTo>
                  <a:lnTo>
                    <a:pt x="338" y="438"/>
                  </a:lnTo>
                  <a:lnTo>
                    <a:pt x="232" y="442"/>
                  </a:lnTo>
                  <a:lnTo>
                    <a:pt x="96" y="438"/>
                  </a:lnTo>
                  <a:lnTo>
                    <a:pt x="96" y="438"/>
                  </a:lnTo>
                  <a:lnTo>
                    <a:pt x="68" y="440"/>
                  </a:lnTo>
                  <a:lnTo>
                    <a:pt x="64" y="222"/>
                  </a:lnTo>
                  <a:lnTo>
                    <a:pt x="64" y="222"/>
                  </a:lnTo>
                  <a:lnTo>
                    <a:pt x="100" y="226"/>
                  </a:lnTo>
                  <a:lnTo>
                    <a:pt x="144" y="230"/>
                  </a:lnTo>
                  <a:lnTo>
                    <a:pt x="194" y="234"/>
                  </a:lnTo>
                  <a:lnTo>
                    <a:pt x="256" y="234"/>
                  </a:lnTo>
                  <a:lnTo>
                    <a:pt x="256" y="234"/>
                  </a:lnTo>
                  <a:lnTo>
                    <a:pt x="308" y="234"/>
                  </a:lnTo>
                  <a:lnTo>
                    <a:pt x="308" y="234"/>
                  </a:lnTo>
                  <a:lnTo>
                    <a:pt x="336" y="232"/>
                  </a:lnTo>
                  <a:lnTo>
                    <a:pt x="336" y="188"/>
                  </a:lnTo>
                  <a:lnTo>
                    <a:pt x="336" y="188"/>
                  </a:lnTo>
                  <a:lnTo>
                    <a:pt x="336" y="122"/>
                  </a:lnTo>
                  <a:lnTo>
                    <a:pt x="336" y="74"/>
                  </a:lnTo>
                  <a:lnTo>
                    <a:pt x="332" y="36"/>
                  </a:lnTo>
                  <a:lnTo>
                    <a:pt x="328" y="0"/>
                  </a:lnTo>
                  <a:lnTo>
                    <a:pt x="568" y="0"/>
                  </a:lnTo>
                  <a:lnTo>
                    <a:pt x="568" y="0"/>
                  </a:lnTo>
                  <a:lnTo>
                    <a:pt x="564" y="34"/>
                  </a:lnTo>
                  <a:lnTo>
                    <a:pt x="562" y="70"/>
                  </a:lnTo>
                  <a:lnTo>
                    <a:pt x="560" y="114"/>
                  </a:lnTo>
                  <a:lnTo>
                    <a:pt x="560" y="174"/>
                  </a:lnTo>
                  <a:lnTo>
                    <a:pt x="560" y="218"/>
                  </a:lnTo>
                  <a:lnTo>
                    <a:pt x="560" y="218"/>
                  </a:lnTo>
                  <a:lnTo>
                    <a:pt x="630" y="210"/>
                  </a:lnTo>
                  <a:lnTo>
                    <a:pt x="696" y="198"/>
                  </a:lnTo>
                  <a:lnTo>
                    <a:pt x="758" y="186"/>
                  </a:lnTo>
                  <a:lnTo>
                    <a:pt x="816" y="172"/>
                  </a:lnTo>
                  <a:lnTo>
                    <a:pt x="822" y="392"/>
                  </a:lnTo>
                  <a:close/>
                  <a:moveTo>
                    <a:pt x="338" y="834"/>
                  </a:moveTo>
                  <a:lnTo>
                    <a:pt x="338" y="834"/>
                  </a:lnTo>
                  <a:lnTo>
                    <a:pt x="314" y="846"/>
                  </a:lnTo>
                  <a:lnTo>
                    <a:pt x="292" y="860"/>
                  </a:lnTo>
                  <a:lnTo>
                    <a:pt x="272" y="876"/>
                  </a:lnTo>
                  <a:lnTo>
                    <a:pt x="256" y="892"/>
                  </a:lnTo>
                  <a:lnTo>
                    <a:pt x="242" y="910"/>
                  </a:lnTo>
                  <a:lnTo>
                    <a:pt x="232" y="926"/>
                  </a:lnTo>
                  <a:lnTo>
                    <a:pt x="224" y="942"/>
                  </a:lnTo>
                  <a:lnTo>
                    <a:pt x="222" y="958"/>
                  </a:lnTo>
                  <a:lnTo>
                    <a:pt x="222" y="958"/>
                  </a:lnTo>
                  <a:lnTo>
                    <a:pt x="224" y="970"/>
                  </a:lnTo>
                  <a:lnTo>
                    <a:pt x="230" y="982"/>
                  </a:lnTo>
                  <a:lnTo>
                    <a:pt x="240" y="992"/>
                  </a:lnTo>
                  <a:lnTo>
                    <a:pt x="254" y="1002"/>
                  </a:lnTo>
                  <a:lnTo>
                    <a:pt x="254" y="1002"/>
                  </a:lnTo>
                  <a:lnTo>
                    <a:pt x="268" y="1012"/>
                  </a:lnTo>
                  <a:lnTo>
                    <a:pt x="286" y="1018"/>
                  </a:lnTo>
                  <a:lnTo>
                    <a:pt x="302" y="1024"/>
                  </a:lnTo>
                  <a:lnTo>
                    <a:pt x="316" y="1024"/>
                  </a:lnTo>
                  <a:lnTo>
                    <a:pt x="316" y="1024"/>
                  </a:lnTo>
                  <a:lnTo>
                    <a:pt x="322" y="1024"/>
                  </a:lnTo>
                  <a:lnTo>
                    <a:pt x="328" y="1022"/>
                  </a:lnTo>
                  <a:lnTo>
                    <a:pt x="330" y="1020"/>
                  </a:lnTo>
                  <a:lnTo>
                    <a:pt x="334" y="1014"/>
                  </a:lnTo>
                  <a:lnTo>
                    <a:pt x="336" y="1006"/>
                  </a:lnTo>
                  <a:lnTo>
                    <a:pt x="338" y="998"/>
                  </a:lnTo>
                  <a:lnTo>
                    <a:pt x="338" y="970"/>
                  </a:lnTo>
                  <a:lnTo>
                    <a:pt x="338" y="834"/>
                  </a:lnTo>
                  <a:close/>
                  <a:moveTo>
                    <a:pt x="1118" y="526"/>
                  </a:moveTo>
                  <a:lnTo>
                    <a:pt x="1118" y="526"/>
                  </a:lnTo>
                  <a:lnTo>
                    <a:pt x="1090" y="482"/>
                  </a:lnTo>
                  <a:lnTo>
                    <a:pt x="1062" y="438"/>
                  </a:lnTo>
                  <a:lnTo>
                    <a:pt x="1032" y="398"/>
                  </a:lnTo>
                  <a:lnTo>
                    <a:pt x="1000" y="358"/>
                  </a:lnTo>
                  <a:lnTo>
                    <a:pt x="966" y="318"/>
                  </a:lnTo>
                  <a:lnTo>
                    <a:pt x="928" y="278"/>
                  </a:lnTo>
                  <a:lnTo>
                    <a:pt x="888" y="240"/>
                  </a:lnTo>
                  <a:lnTo>
                    <a:pt x="844" y="198"/>
                  </a:lnTo>
                  <a:lnTo>
                    <a:pt x="1028" y="74"/>
                  </a:lnTo>
                  <a:lnTo>
                    <a:pt x="1028" y="74"/>
                  </a:lnTo>
                  <a:lnTo>
                    <a:pt x="1070" y="110"/>
                  </a:lnTo>
                  <a:lnTo>
                    <a:pt x="1110" y="148"/>
                  </a:lnTo>
                  <a:lnTo>
                    <a:pt x="1148" y="184"/>
                  </a:lnTo>
                  <a:lnTo>
                    <a:pt x="1184" y="222"/>
                  </a:lnTo>
                  <a:lnTo>
                    <a:pt x="1216" y="260"/>
                  </a:lnTo>
                  <a:lnTo>
                    <a:pt x="1246" y="300"/>
                  </a:lnTo>
                  <a:lnTo>
                    <a:pt x="1276" y="340"/>
                  </a:lnTo>
                  <a:lnTo>
                    <a:pt x="1302" y="384"/>
                  </a:lnTo>
                  <a:lnTo>
                    <a:pt x="1118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5"/>
            <p:cNvSpPr/>
            <p:nvPr/>
          </p:nvSpPr>
          <p:spPr>
            <a:xfrm>
              <a:off x="4616280" y="35185320"/>
              <a:ext cx="1504800" cy="201600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16000"/>
                <a:gd name="textAreaBottom" fmla="*/ 2016000 h 2016000"/>
              </a:gdLst>
              <a:ahLst/>
              <a:rect l="textAreaLeft" t="textAreaTop" r="textAreaRight" b="textAreaBottom"/>
              <a:pathLst>
                <a:path w="948" h="1270">
                  <a:moveTo>
                    <a:pt x="284" y="10"/>
                  </a:moveTo>
                  <a:lnTo>
                    <a:pt x="284" y="10"/>
                  </a:lnTo>
                  <a:lnTo>
                    <a:pt x="270" y="62"/>
                  </a:lnTo>
                  <a:lnTo>
                    <a:pt x="256" y="126"/>
                  </a:lnTo>
                  <a:lnTo>
                    <a:pt x="242" y="208"/>
                  </a:lnTo>
                  <a:lnTo>
                    <a:pt x="226" y="310"/>
                  </a:lnTo>
                  <a:lnTo>
                    <a:pt x="226" y="310"/>
                  </a:lnTo>
                  <a:lnTo>
                    <a:pt x="244" y="280"/>
                  </a:lnTo>
                  <a:lnTo>
                    <a:pt x="262" y="252"/>
                  </a:lnTo>
                  <a:lnTo>
                    <a:pt x="280" y="226"/>
                  </a:lnTo>
                  <a:lnTo>
                    <a:pt x="298" y="202"/>
                  </a:lnTo>
                  <a:lnTo>
                    <a:pt x="318" y="180"/>
                  </a:lnTo>
                  <a:lnTo>
                    <a:pt x="338" y="162"/>
                  </a:lnTo>
                  <a:lnTo>
                    <a:pt x="360" y="144"/>
                  </a:lnTo>
                  <a:lnTo>
                    <a:pt x="382" y="128"/>
                  </a:lnTo>
                  <a:lnTo>
                    <a:pt x="404" y="114"/>
                  </a:lnTo>
                  <a:lnTo>
                    <a:pt x="426" y="102"/>
                  </a:lnTo>
                  <a:lnTo>
                    <a:pt x="450" y="92"/>
                  </a:lnTo>
                  <a:lnTo>
                    <a:pt x="474" y="82"/>
                  </a:lnTo>
                  <a:lnTo>
                    <a:pt x="500" y="76"/>
                  </a:lnTo>
                  <a:lnTo>
                    <a:pt x="526" y="72"/>
                  </a:lnTo>
                  <a:lnTo>
                    <a:pt x="552" y="68"/>
                  </a:lnTo>
                  <a:lnTo>
                    <a:pt x="580" y="68"/>
                  </a:lnTo>
                  <a:lnTo>
                    <a:pt x="580" y="68"/>
                  </a:lnTo>
                  <a:lnTo>
                    <a:pt x="614" y="70"/>
                  </a:lnTo>
                  <a:lnTo>
                    <a:pt x="650" y="76"/>
                  </a:lnTo>
                  <a:lnTo>
                    <a:pt x="684" y="88"/>
                  </a:lnTo>
                  <a:lnTo>
                    <a:pt x="718" y="102"/>
                  </a:lnTo>
                  <a:lnTo>
                    <a:pt x="748" y="120"/>
                  </a:lnTo>
                  <a:lnTo>
                    <a:pt x="778" y="142"/>
                  </a:lnTo>
                  <a:lnTo>
                    <a:pt x="806" y="166"/>
                  </a:lnTo>
                  <a:lnTo>
                    <a:pt x="832" y="194"/>
                  </a:lnTo>
                  <a:lnTo>
                    <a:pt x="832" y="194"/>
                  </a:lnTo>
                  <a:lnTo>
                    <a:pt x="860" y="232"/>
                  </a:lnTo>
                  <a:lnTo>
                    <a:pt x="884" y="274"/>
                  </a:lnTo>
                  <a:lnTo>
                    <a:pt x="904" y="318"/>
                  </a:lnTo>
                  <a:lnTo>
                    <a:pt x="920" y="364"/>
                  </a:lnTo>
                  <a:lnTo>
                    <a:pt x="932" y="414"/>
                  </a:lnTo>
                  <a:lnTo>
                    <a:pt x="940" y="468"/>
                  </a:lnTo>
                  <a:lnTo>
                    <a:pt x="946" y="524"/>
                  </a:lnTo>
                  <a:lnTo>
                    <a:pt x="948" y="582"/>
                  </a:lnTo>
                  <a:lnTo>
                    <a:pt x="948" y="582"/>
                  </a:lnTo>
                  <a:lnTo>
                    <a:pt x="948" y="624"/>
                  </a:lnTo>
                  <a:lnTo>
                    <a:pt x="944" y="666"/>
                  </a:lnTo>
                  <a:lnTo>
                    <a:pt x="940" y="706"/>
                  </a:lnTo>
                  <a:lnTo>
                    <a:pt x="934" y="744"/>
                  </a:lnTo>
                  <a:lnTo>
                    <a:pt x="928" y="780"/>
                  </a:lnTo>
                  <a:lnTo>
                    <a:pt x="918" y="816"/>
                  </a:lnTo>
                  <a:lnTo>
                    <a:pt x="906" y="850"/>
                  </a:lnTo>
                  <a:lnTo>
                    <a:pt x="894" y="882"/>
                  </a:lnTo>
                  <a:lnTo>
                    <a:pt x="880" y="914"/>
                  </a:lnTo>
                  <a:lnTo>
                    <a:pt x="864" y="944"/>
                  </a:lnTo>
                  <a:lnTo>
                    <a:pt x="846" y="972"/>
                  </a:lnTo>
                  <a:lnTo>
                    <a:pt x="828" y="998"/>
                  </a:lnTo>
                  <a:lnTo>
                    <a:pt x="806" y="1024"/>
                  </a:lnTo>
                  <a:lnTo>
                    <a:pt x="784" y="1048"/>
                  </a:lnTo>
                  <a:lnTo>
                    <a:pt x="760" y="1072"/>
                  </a:lnTo>
                  <a:lnTo>
                    <a:pt x="734" y="1094"/>
                  </a:lnTo>
                  <a:lnTo>
                    <a:pt x="734" y="1094"/>
                  </a:lnTo>
                  <a:lnTo>
                    <a:pt x="704" y="1116"/>
                  </a:lnTo>
                  <a:lnTo>
                    <a:pt x="668" y="1138"/>
                  </a:lnTo>
                  <a:lnTo>
                    <a:pt x="632" y="1158"/>
                  </a:lnTo>
                  <a:lnTo>
                    <a:pt x="594" y="1178"/>
                  </a:lnTo>
                  <a:lnTo>
                    <a:pt x="552" y="1196"/>
                  </a:lnTo>
                  <a:lnTo>
                    <a:pt x="508" y="1212"/>
                  </a:lnTo>
                  <a:lnTo>
                    <a:pt x="464" y="1226"/>
                  </a:lnTo>
                  <a:lnTo>
                    <a:pt x="416" y="1238"/>
                  </a:lnTo>
                  <a:lnTo>
                    <a:pt x="416" y="1238"/>
                  </a:lnTo>
                  <a:lnTo>
                    <a:pt x="382" y="1248"/>
                  </a:lnTo>
                  <a:lnTo>
                    <a:pt x="346" y="1254"/>
                  </a:lnTo>
                  <a:lnTo>
                    <a:pt x="252" y="1270"/>
                  </a:lnTo>
                  <a:lnTo>
                    <a:pt x="252" y="1270"/>
                  </a:lnTo>
                  <a:lnTo>
                    <a:pt x="228" y="1202"/>
                  </a:lnTo>
                  <a:lnTo>
                    <a:pt x="218" y="1174"/>
                  </a:lnTo>
                  <a:lnTo>
                    <a:pt x="206" y="1148"/>
                  </a:lnTo>
                  <a:lnTo>
                    <a:pt x="192" y="1122"/>
                  </a:lnTo>
                  <a:lnTo>
                    <a:pt x="178" y="1094"/>
                  </a:lnTo>
                  <a:lnTo>
                    <a:pt x="140" y="1032"/>
                  </a:lnTo>
                  <a:lnTo>
                    <a:pt x="140" y="1032"/>
                  </a:lnTo>
                  <a:lnTo>
                    <a:pt x="212" y="1026"/>
                  </a:lnTo>
                  <a:lnTo>
                    <a:pt x="280" y="1018"/>
                  </a:lnTo>
                  <a:lnTo>
                    <a:pt x="340" y="1006"/>
                  </a:lnTo>
                  <a:lnTo>
                    <a:pt x="396" y="994"/>
                  </a:lnTo>
                  <a:lnTo>
                    <a:pt x="448" y="976"/>
                  </a:lnTo>
                  <a:lnTo>
                    <a:pt x="494" y="956"/>
                  </a:lnTo>
                  <a:lnTo>
                    <a:pt x="516" y="946"/>
                  </a:lnTo>
                  <a:lnTo>
                    <a:pt x="536" y="934"/>
                  </a:lnTo>
                  <a:lnTo>
                    <a:pt x="554" y="922"/>
                  </a:lnTo>
                  <a:lnTo>
                    <a:pt x="572" y="908"/>
                  </a:lnTo>
                  <a:lnTo>
                    <a:pt x="588" y="894"/>
                  </a:lnTo>
                  <a:lnTo>
                    <a:pt x="602" y="878"/>
                  </a:lnTo>
                  <a:lnTo>
                    <a:pt x="618" y="862"/>
                  </a:lnTo>
                  <a:lnTo>
                    <a:pt x="630" y="846"/>
                  </a:lnTo>
                  <a:lnTo>
                    <a:pt x="642" y="828"/>
                  </a:lnTo>
                  <a:lnTo>
                    <a:pt x="652" y="810"/>
                  </a:lnTo>
                  <a:lnTo>
                    <a:pt x="662" y="792"/>
                  </a:lnTo>
                  <a:lnTo>
                    <a:pt x="670" y="770"/>
                  </a:lnTo>
                  <a:lnTo>
                    <a:pt x="678" y="750"/>
                  </a:lnTo>
                  <a:lnTo>
                    <a:pt x="684" y="728"/>
                  </a:lnTo>
                  <a:lnTo>
                    <a:pt x="694" y="680"/>
                  </a:lnTo>
                  <a:lnTo>
                    <a:pt x="700" y="630"/>
                  </a:lnTo>
                  <a:lnTo>
                    <a:pt x="702" y="576"/>
                  </a:lnTo>
                  <a:lnTo>
                    <a:pt x="702" y="576"/>
                  </a:lnTo>
                  <a:lnTo>
                    <a:pt x="702" y="544"/>
                  </a:lnTo>
                  <a:lnTo>
                    <a:pt x="700" y="514"/>
                  </a:lnTo>
                  <a:lnTo>
                    <a:pt x="696" y="486"/>
                  </a:lnTo>
                  <a:lnTo>
                    <a:pt x="692" y="460"/>
                  </a:lnTo>
                  <a:lnTo>
                    <a:pt x="686" y="436"/>
                  </a:lnTo>
                  <a:lnTo>
                    <a:pt x="680" y="414"/>
                  </a:lnTo>
                  <a:lnTo>
                    <a:pt x="672" y="394"/>
                  </a:lnTo>
                  <a:lnTo>
                    <a:pt x="662" y="376"/>
                  </a:lnTo>
                  <a:lnTo>
                    <a:pt x="652" y="358"/>
                  </a:lnTo>
                  <a:lnTo>
                    <a:pt x="640" y="344"/>
                  </a:lnTo>
                  <a:lnTo>
                    <a:pt x="628" y="332"/>
                  </a:lnTo>
                  <a:lnTo>
                    <a:pt x="614" y="322"/>
                  </a:lnTo>
                  <a:lnTo>
                    <a:pt x="598" y="316"/>
                  </a:lnTo>
                  <a:lnTo>
                    <a:pt x="582" y="310"/>
                  </a:lnTo>
                  <a:lnTo>
                    <a:pt x="566" y="306"/>
                  </a:lnTo>
                  <a:lnTo>
                    <a:pt x="548" y="306"/>
                  </a:lnTo>
                  <a:lnTo>
                    <a:pt x="548" y="306"/>
                  </a:lnTo>
                  <a:lnTo>
                    <a:pt x="528" y="306"/>
                  </a:lnTo>
                  <a:lnTo>
                    <a:pt x="510" y="310"/>
                  </a:lnTo>
                  <a:lnTo>
                    <a:pt x="490" y="316"/>
                  </a:lnTo>
                  <a:lnTo>
                    <a:pt x="472" y="324"/>
                  </a:lnTo>
                  <a:lnTo>
                    <a:pt x="454" y="336"/>
                  </a:lnTo>
                  <a:lnTo>
                    <a:pt x="434" y="350"/>
                  </a:lnTo>
                  <a:lnTo>
                    <a:pt x="416" y="366"/>
                  </a:lnTo>
                  <a:lnTo>
                    <a:pt x="396" y="386"/>
                  </a:lnTo>
                  <a:lnTo>
                    <a:pt x="396" y="386"/>
                  </a:lnTo>
                  <a:lnTo>
                    <a:pt x="366" y="420"/>
                  </a:lnTo>
                  <a:lnTo>
                    <a:pt x="340" y="456"/>
                  </a:lnTo>
                  <a:lnTo>
                    <a:pt x="316" y="496"/>
                  </a:lnTo>
                  <a:lnTo>
                    <a:pt x="294" y="536"/>
                  </a:lnTo>
                  <a:lnTo>
                    <a:pt x="276" y="578"/>
                  </a:lnTo>
                  <a:lnTo>
                    <a:pt x="262" y="620"/>
                  </a:lnTo>
                  <a:lnTo>
                    <a:pt x="250" y="664"/>
                  </a:lnTo>
                  <a:lnTo>
                    <a:pt x="242" y="710"/>
                  </a:lnTo>
                  <a:lnTo>
                    <a:pt x="242" y="710"/>
                  </a:lnTo>
                  <a:lnTo>
                    <a:pt x="238" y="754"/>
                  </a:lnTo>
                  <a:lnTo>
                    <a:pt x="236" y="824"/>
                  </a:lnTo>
                  <a:lnTo>
                    <a:pt x="2" y="826"/>
                  </a:lnTo>
                  <a:lnTo>
                    <a:pt x="2" y="826"/>
                  </a:lnTo>
                  <a:lnTo>
                    <a:pt x="4" y="814"/>
                  </a:lnTo>
                  <a:lnTo>
                    <a:pt x="4" y="804"/>
                  </a:lnTo>
                  <a:lnTo>
                    <a:pt x="4" y="804"/>
                  </a:lnTo>
                  <a:lnTo>
                    <a:pt x="4" y="776"/>
                  </a:lnTo>
                  <a:lnTo>
                    <a:pt x="4" y="776"/>
                  </a:lnTo>
                  <a:lnTo>
                    <a:pt x="0" y="680"/>
                  </a:lnTo>
                  <a:lnTo>
                    <a:pt x="0" y="598"/>
                  </a:lnTo>
                  <a:lnTo>
                    <a:pt x="0" y="598"/>
                  </a:lnTo>
                  <a:lnTo>
                    <a:pt x="2" y="472"/>
                  </a:lnTo>
                  <a:lnTo>
                    <a:pt x="6" y="348"/>
                  </a:lnTo>
                  <a:lnTo>
                    <a:pt x="16" y="220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36" y="44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0"/>
                  </a:lnTo>
                  <a:lnTo>
                    <a:pt x="28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4460760" y="37401480"/>
              <a:ext cx="1819440" cy="1971360"/>
            </a:xfrm>
            <a:custGeom>
              <a:avLst/>
              <a:gdLst>
                <a:gd name="textAreaLeft" fmla="*/ 0 w 1819440"/>
                <a:gd name="textAreaRight" fmla="*/ 1819800 w 1819440"/>
                <a:gd name="textAreaTop" fmla="*/ 0 h 1971360"/>
                <a:gd name="textAreaBottom" fmla="*/ 1971360 h 1971360"/>
              </a:gdLst>
              <a:ahLst/>
              <a:rect l="textAreaLeft" t="textAreaTop" r="textAreaRight" b="textAreaBottom"/>
              <a:pathLst>
                <a:path w="1146" h="1242">
                  <a:moveTo>
                    <a:pt x="4" y="124"/>
                  </a:moveTo>
                  <a:lnTo>
                    <a:pt x="4" y="124"/>
                  </a:lnTo>
                  <a:lnTo>
                    <a:pt x="38" y="132"/>
                  </a:lnTo>
                  <a:lnTo>
                    <a:pt x="76" y="138"/>
                  </a:lnTo>
                  <a:lnTo>
                    <a:pt x="120" y="142"/>
                  </a:lnTo>
                  <a:lnTo>
                    <a:pt x="170" y="146"/>
                  </a:lnTo>
                  <a:lnTo>
                    <a:pt x="280" y="152"/>
                  </a:lnTo>
                  <a:lnTo>
                    <a:pt x="406" y="154"/>
                  </a:lnTo>
                  <a:lnTo>
                    <a:pt x="406" y="154"/>
                  </a:lnTo>
                  <a:lnTo>
                    <a:pt x="482" y="152"/>
                  </a:lnTo>
                  <a:lnTo>
                    <a:pt x="482" y="152"/>
                  </a:lnTo>
                  <a:lnTo>
                    <a:pt x="480" y="54"/>
                  </a:lnTo>
                  <a:lnTo>
                    <a:pt x="478" y="26"/>
                  </a:lnTo>
                  <a:lnTo>
                    <a:pt x="474" y="0"/>
                  </a:lnTo>
                  <a:lnTo>
                    <a:pt x="720" y="0"/>
                  </a:lnTo>
                  <a:lnTo>
                    <a:pt x="720" y="0"/>
                  </a:lnTo>
                  <a:lnTo>
                    <a:pt x="716" y="24"/>
                  </a:lnTo>
                  <a:lnTo>
                    <a:pt x="712" y="50"/>
                  </a:lnTo>
                  <a:lnTo>
                    <a:pt x="708" y="146"/>
                  </a:lnTo>
                  <a:lnTo>
                    <a:pt x="708" y="146"/>
                  </a:lnTo>
                  <a:lnTo>
                    <a:pt x="838" y="136"/>
                  </a:lnTo>
                  <a:lnTo>
                    <a:pt x="946" y="124"/>
                  </a:lnTo>
                  <a:lnTo>
                    <a:pt x="992" y="118"/>
                  </a:lnTo>
                  <a:lnTo>
                    <a:pt x="1034" y="112"/>
                  </a:lnTo>
                  <a:lnTo>
                    <a:pt x="1072" y="104"/>
                  </a:lnTo>
                  <a:lnTo>
                    <a:pt x="1104" y="96"/>
                  </a:lnTo>
                  <a:lnTo>
                    <a:pt x="1112" y="310"/>
                  </a:lnTo>
                  <a:lnTo>
                    <a:pt x="1112" y="310"/>
                  </a:lnTo>
                  <a:lnTo>
                    <a:pt x="1062" y="314"/>
                  </a:lnTo>
                  <a:lnTo>
                    <a:pt x="988" y="322"/>
                  </a:lnTo>
                  <a:lnTo>
                    <a:pt x="988" y="322"/>
                  </a:lnTo>
                  <a:lnTo>
                    <a:pt x="920" y="330"/>
                  </a:lnTo>
                  <a:lnTo>
                    <a:pt x="854" y="338"/>
                  </a:lnTo>
                  <a:lnTo>
                    <a:pt x="784" y="342"/>
                  </a:lnTo>
                  <a:lnTo>
                    <a:pt x="708" y="346"/>
                  </a:lnTo>
                  <a:lnTo>
                    <a:pt x="708" y="346"/>
                  </a:lnTo>
                  <a:lnTo>
                    <a:pt x="708" y="434"/>
                  </a:lnTo>
                  <a:lnTo>
                    <a:pt x="708" y="434"/>
                  </a:lnTo>
                  <a:lnTo>
                    <a:pt x="818" y="426"/>
                  </a:lnTo>
                  <a:lnTo>
                    <a:pt x="912" y="418"/>
                  </a:lnTo>
                  <a:lnTo>
                    <a:pt x="994" y="406"/>
                  </a:lnTo>
                  <a:lnTo>
                    <a:pt x="1068" y="392"/>
                  </a:lnTo>
                  <a:lnTo>
                    <a:pt x="1074" y="606"/>
                  </a:lnTo>
                  <a:lnTo>
                    <a:pt x="1074" y="606"/>
                  </a:lnTo>
                  <a:lnTo>
                    <a:pt x="1040" y="608"/>
                  </a:lnTo>
                  <a:lnTo>
                    <a:pt x="984" y="612"/>
                  </a:lnTo>
                  <a:lnTo>
                    <a:pt x="984" y="612"/>
                  </a:lnTo>
                  <a:lnTo>
                    <a:pt x="852" y="624"/>
                  </a:lnTo>
                  <a:lnTo>
                    <a:pt x="778" y="628"/>
                  </a:lnTo>
                  <a:lnTo>
                    <a:pt x="712" y="632"/>
                  </a:lnTo>
                  <a:lnTo>
                    <a:pt x="712" y="632"/>
                  </a:lnTo>
                  <a:lnTo>
                    <a:pt x="716" y="754"/>
                  </a:lnTo>
                  <a:lnTo>
                    <a:pt x="716" y="754"/>
                  </a:lnTo>
                  <a:lnTo>
                    <a:pt x="766" y="770"/>
                  </a:lnTo>
                  <a:lnTo>
                    <a:pt x="810" y="786"/>
                  </a:lnTo>
                  <a:lnTo>
                    <a:pt x="856" y="804"/>
                  </a:lnTo>
                  <a:lnTo>
                    <a:pt x="906" y="830"/>
                  </a:lnTo>
                  <a:lnTo>
                    <a:pt x="906" y="830"/>
                  </a:lnTo>
                  <a:lnTo>
                    <a:pt x="952" y="854"/>
                  </a:lnTo>
                  <a:lnTo>
                    <a:pt x="990" y="876"/>
                  </a:lnTo>
                  <a:lnTo>
                    <a:pt x="1032" y="904"/>
                  </a:lnTo>
                  <a:lnTo>
                    <a:pt x="1094" y="946"/>
                  </a:lnTo>
                  <a:lnTo>
                    <a:pt x="1094" y="946"/>
                  </a:lnTo>
                  <a:lnTo>
                    <a:pt x="1146" y="980"/>
                  </a:lnTo>
                  <a:lnTo>
                    <a:pt x="1014" y="1204"/>
                  </a:lnTo>
                  <a:lnTo>
                    <a:pt x="1014" y="1204"/>
                  </a:lnTo>
                  <a:lnTo>
                    <a:pt x="970" y="1160"/>
                  </a:lnTo>
                  <a:lnTo>
                    <a:pt x="918" y="1114"/>
                  </a:lnTo>
                  <a:lnTo>
                    <a:pt x="918" y="1114"/>
                  </a:lnTo>
                  <a:lnTo>
                    <a:pt x="870" y="1076"/>
                  </a:lnTo>
                  <a:lnTo>
                    <a:pt x="820" y="1042"/>
                  </a:lnTo>
                  <a:lnTo>
                    <a:pt x="794" y="1026"/>
                  </a:lnTo>
                  <a:lnTo>
                    <a:pt x="770" y="1012"/>
                  </a:lnTo>
                  <a:lnTo>
                    <a:pt x="746" y="1000"/>
                  </a:lnTo>
                  <a:lnTo>
                    <a:pt x="720" y="990"/>
                  </a:lnTo>
                  <a:lnTo>
                    <a:pt x="720" y="990"/>
                  </a:lnTo>
                  <a:lnTo>
                    <a:pt x="718" y="1034"/>
                  </a:lnTo>
                  <a:lnTo>
                    <a:pt x="716" y="1054"/>
                  </a:lnTo>
                  <a:lnTo>
                    <a:pt x="712" y="1072"/>
                  </a:lnTo>
                  <a:lnTo>
                    <a:pt x="708" y="1088"/>
                  </a:lnTo>
                  <a:lnTo>
                    <a:pt x="702" y="1104"/>
                  </a:lnTo>
                  <a:lnTo>
                    <a:pt x="696" y="1118"/>
                  </a:lnTo>
                  <a:lnTo>
                    <a:pt x="688" y="1132"/>
                  </a:lnTo>
                  <a:lnTo>
                    <a:pt x="688" y="1132"/>
                  </a:lnTo>
                  <a:lnTo>
                    <a:pt x="678" y="1144"/>
                  </a:lnTo>
                  <a:lnTo>
                    <a:pt x="668" y="1156"/>
                  </a:lnTo>
                  <a:lnTo>
                    <a:pt x="656" y="1168"/>
                  </a:lnTo>
                  <a:lnTo>
                    <a:pt x="642" y="1178"/>
                  </a:lnTo>
                  <a:lnTo>
                    <a:pt x="626" y="1188"/>
                  </a:lnTo>
                  <a:lnTo>
                    <a:pt x="610" y="1198"/>
                  </a:lnTo>
                  <a:lnTo>
                    <a:pt x="594" y="1206"/>
                  </a:lnTo>
                  <a:lnTo>
                    <a:pt x="574" y="1214"/>
                  </a:lnTo>
                  <a:lnTo>
                    <a:pt x="534" y="1226"/>
                  </a:lnTo>
                  <a:lnTo>
                    <a:pt x="488" y="1234"/>
                  </a:lnTo>
                  <a:lnTo>
                    <a:pt x="438" y="1240"/>
                  </a:lnTo>
                  <a:lnTo>
                    <a:pt x="384" y="1242"/>
                  </a:lnTo>
                  <a:lnTo>
                    <a:pt x="384" y="1242"/>
                  </a:lnTo>
                  <a:lnTo>
                    <a:pt x="342" y="1240"/>
                  </a:lnTo>
                  <a:lnTo>
                    <a:pt x="302" y="1238"/>
                  </a:lnTo>
                  <a:lnTo>
                    <a:pt x="266" y="1232"/>
                  </a:lnTo>
                  <a:lnTo>
                    <a:pt x="230" y="1224"/>
                  </a:lnTo>
                  <a:lnTo>
                    <a:pt x="198" y="1216"/>
                  </a:lnTo>
                  <a:lnTo>
                    <a:pt x="170" y="1204"/>
                  </a:lnTo>
                  <a:lnTo>
                    <a:pt x="142" y="1190"/>
                  </a:lnTo>
                  <a:lnTo>
                    <a:pt x="118" y="1174"/>
                  </a:lnTo>
                  <a:lnTo>
                    <a:pt x="96" y="1158"/>
                  </a:lnTo>
                  <a:lnTo>
                    <a:pt x="78" y="1138"/>
                  </a:lnTo>
                  <a:lnTo>
                    <a:pt x="62" y="1118"/>
                  </a:lnTo>
                  <a:lnTo>
                    <a:pt x="48" y="1094"/>
                  </a:lnTo>
                  <a:lnTo>
                    <a:pt x="38" y="1070"/>
                  </a:lnTo>
                  <a:lnTo>
                    <a:pt x="30" y="1044"/>
                  </a:lnTo>
                  <a:lnTo>
                    <a:pt x="26" y="1016"/>
                  </a:lnTo>
                  <a:lnTo>
                    <a:pt x="24" y="986"/>
                  </a:lnTo>
                  <a:lnTo>
                    <a:pt x="24" y="986"/>
                  </a:lnTo>
                  <a:lnTo>
                    <a:pt x="26" y="968"/>
                  </a:lnTo>
                  <a:lnTo>
                    <a:pt x="28" y="950"/>
                  </a:lnTo>
                  <a:lnTo>
                    <a:pt x="32" y="932"/>
                  </a:lnTo>
                  <a:lnTo>
                    <a:pt x="36" y="914"/>
                  </a:lnTo>
                  <a:lnTo>
                    <a:pt x="42" y="898"/>
                  </a:lnTo>
                  <a:lnTo>
                    <a:pt x="50" y="880"/>
                  </a:lnTo>
                  <a:lnTo>
                    <a:pt x="60" y="866"/>
                  </a:lnTo>
                  <a:lnTo>
                    <a:pt x="70" y="850"/>
                  </a:lnTo>
                  <a:lnTo>
                    <a:pt x="82" y="836"/>
                  </a:lnTo>
                  <a:lnTo>
                    <a:pt x="96" y="822"/>
                  </a:lnTo>
                  <a:lnTo>
                    <a:pt x="110" y="810"/>
                  </a:lnTo>
                  <a:lnTo>
                    <a:pt x="126" y="798"/>
                  </a:lnTo>
                  <a:lnTo>
                    <a:pt x="142" y="786"/>
                  </a:lnTo>
                  <a:lnTo>
                    <a:pt x="160" y="776"/>
                  </a:lnTo>
                  <a:lnTo>
                    <a:pt x="180" y="768"/>
                  </a:lnTo>
                  <a:lnTo>
                    <a:pt x="200" y="760"/>
                  </a:lnTo>
                  <a:lnTo>
                    <a:pt x="200" y="760"/>
                  </a:lnTo>
                  <a:lnTo>
                    <a:pt x="226" y="750"/>
                  </a:lnTo>
                  <a:lnTo>
                    <a:pt x="252" y="742"/>
                  </a:lnTo>
                  <a:lnTo>
                    <a:pt x="282" y="736"/>
                  </a:lnTo>
                  <a:lnTo>
                    <a:pt x="312" y="730"/>
                  </a:lnTo>
                  <a:lnTo>
                    <a:pt x="344" y="726"/>
                  </a:lnTo>
                  <a:lnTo>
                    <a:pt x="378" y="724"/>
                  </a:lnTo>
                  <a:lnTo>
                    <a:pt x="412" y="722"/>
                  </a:lnTo>
                  <a:lnTo>
                    <a:pt x="448" y="722"/>
                  </a:lnTo>
                  <a:lnTo>
                    <a:pt x="448" y="722"/>
                  </a:lnTo>
                  <a:lnTo>
                    <a:pt x="492" y="722"/>
                  </a:lnTo>
                  <a:lnTo>
                    <a:pt x="492" y="722"/>
                  </a:lnTo>
                  <a:lnTo>
                    <a:pt x="490" y="640"/>
                  </a:lnTo>
                  <a:lnTo>
                    <a:pt x="490" y="640"/>
                  </a:lnTo>
                  <a:lnTo>
                    <a:pt x="382" y="640"/>
                  </a:lnTo>
                  <a:lnTo>
                    <a:pt x="382" y="640"/>
                  </a:lnTo>
                  <a:lnTo>
                    <a:pt x="268" y="640"/>
                  </a:lnTo>
                  <a:lnTo>
                    <a:pt x="158" y="634"/>
                  </a:lnTo>
                  <a:lnTo>
                    <a:pt x="158" y="634"/>
                  </a:lnTo>
                  <a:lnTo>
                    <a:pt x="94" y="632"/>
                  </a:lnTo>
                  <a:lnTo>
                    <a:pt x="46" y="630"/>
                  </a:lnTo>
                  <a:lnTo>
                    <a:pt x="50" y="422"/>
                  </a:lnTo>
                  <a:lnTo>
                    <a:pt x="50" y="422"/>
                  </a:lnTo>
                  <a:lnTo>
                    <a:pt x="76" y="428"/>
                  </a:lnTo>
                  <a:lnTo>
                    <a:pt x="110" y="432"/>
                  </a:lnTo>
                  <a:lnTo>
                    <a:pt x="190" y="438"/>
                  </a:lnTo>
                  <a:lnTo>
                    <a:pt x="288" y="444"/>
                  </a:lnTo>
                  <a:lnTo>
                    <a:pt x="392" y="446"/>
                  </a:lnTo>
                  <a:lnTo>
                    <a:pt x="392" y="446"/>
                  </a:lnTo>
                  <a:lnTo>
                    <a:pt x="486" y="444"/>
                  </a:lnTo>
                  <a:lnTo>
                    <a:pt x="486" y="444"/>
                  </a:lnTo>
                  <a:lnTo>
                    <a:pt x="486" y="422"/>
                  </a:lnTo>
                  <a:lnTo>
                    <a:pt x="486" y="422"/>
                  </a:lnTo>
                  <a:lnTo>
                    <a:pt x="486" y="386"/>
                  </a:lnTo>
                  <a:lnTo>
                    <a:pt x="486" y="386"/>
                  </a:lnTo>
                  <a:lnTo>
                    <a:pt x="486" y="354"/>
                  </a:lnTo>
                  <a:lnTo>
                    <a:pt x="486" y="354"/>
                  </a:lnTo>
                  <a:lnTo>
                    <a:pt x="426" y="354"/>
                  </a:lnTo>
                  <a:lnTo>
                    <a:pt x="426" y="354"/>
                  </a:lnTo>
                  <a:lnTo>
                    <a:pt x="328" y="352"/>
                  </a:lnTo>
                  <a:lnTo>
                    <a:pt x="166" y="346"/>
                  </a:lnTo>
                  <a:lnTo>
                    <a:pt x="166" y="346"/>
                  </a:lnTo>
                  <a:lnTo>
                    <a:pt x="62" y="342"/>
                  </a:lnTo>
                  <a:lnTo>
                    <a:pt x="62" y="342"/>
                  </a:lnTo>
                  <a:lnTo>
                    <a:pt x="24" y="340"/>
                  </a:lnTo>
                  <a:lnTo>
                    <a:pt x="24" y="340"/>
                  </a:lnTo>
                  <a:lnTo>
                    <a:pt x="0" y="340"/>
                  </a:lnTo>
                  <a:lnTo>
                    <a:pt x="4" y="124"/>
                  </a:lnTo>
                  <a:close/>
                  <a:moveTo>
                    <a:pt x="406" y="920"/>
                  </a:moveTo>
                  <a:lnTo>
                    <a:pt x="406" y="920"/>
                  </a:lnTo>
                  <a:lnTo>
                    <a:pt x="376" y="920"/>
                  </a:lnTo>
                  <a:lnTo>
                    <a:pt x="350" y="924"/>
                  </a:lnTo>
                  <a:lnTo>
                    <a:pt x="328" y="930"/>
                  </a:lnTo>
                  <a:lnTo>
                    <a:pt x="308" y="936"/>
                  </a:lnTo>
                  <a:lnTo>
                    <a:pt x="292" y="946"/>
                  </a:lnTo>
                  <a:lnTo>
                    <a:pt x="282" y="958"/>
                  </a:lnTo>
                  <a:lnTo>
                    <a:pt x="276" y="972"/>
                  </a:lnTo>
                  <a:lnTo>
                    <a:pt x="272" y="986"/>
                  </a:lnTo>
                  <a:lnTo>
                    <a:pt x="272" y="986"/>
                  </a:lnTo>
                  <a:lnTo>
                    <a:pt x="274" y="998"/>
                  </a:lnTo>
                  <a:lnTo>
                    <a:pt x="280" y="1010"/>
                  </a:lnTo>
                  <a:lnTo>
                    <a:pt x="288" y="1020"/>
                  </a:lnTo>
                  <a:lnTo>
                    <a:pt x="302" y="1028"/>
                  </a:lnTo>
                  <a:lnTo>
                    <a:pt x="316" y="1034"/>
                  </a:lnTo>
                  <a:lnTo>
                    <a:pt x="336" y="1038"/>
                  </a:lnTo>
                  <a:lnTo>
                    <a:pt x="358" y="1042"/>
                  </a:lnTo>
                  <a:lnTo>
                    <a:pt x="382" y="1042"/>
                  </a:lnTo>
                  <a:lnTo>
                    <a:pt x="382" y="1042"/>
                  </a:lnTo>
                  <a:lnTo>
                    <a:pt x="408" y="1042"/>
                  </a:lnTo>
                  <a:lnTo>
                    <a:pt x="432" y="1038"/>
                  </a:lnTo>
                  <a:lnTo>
                    <a:pt x="452" y="1030"/>
                  </a:lnTo>
                  <a:lnTo>
                    <a:pt x="466" y="1022"/>
                  </a:lnTo>
                  <a:lnTo>
                    <a:pt x="478" y="1008"/>
                  </a:lnTo>
                  <a:lnTo>
                    <a:pt x="486" y="994"/>
                  </a:lnTo>
                  <a:lnTo>
                    <a:pt x="492" y="974"/>
                  </a:lnTo>
                  <a:lnTo>
                    <a:pt x="494" y="954"/>
                  </a:lnTo>
                  <a:lnTo>
                    <a:pt x="494" y="954"/>
                  </a:lnTo>
                  <a:lnTo>
                    <a:pt x="492" y="930"/>
                  </a:lnTo>
                  <a:lnTo>
                    <a:pt x="492" y="930"/>
                  </a:lnTo>
                  <a:lnTo>
                    <a:pt x="470" y="924"/>
                  </a:lnTo>
                  <a:lnTo>
                    <a:pt x="448" y="922"/>
                  </a:lnTo>
                  <a:lnTo>
                    <a:pt x="430" y="920"/>
                  </a:lnTo>
                  <a:lnTo>
                    <a:pt x="406" y="920"/>
                  </a:lnTo>
                  <a:lnTo>
                    <a:pt x="406" y="9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7"/>
            <p:cNvSpPr/>
            <p:nvPr/>
          </p:nvSpPr>
          <p:spPr>
            <a:xfrm>
              <a:off x="4356000" y="39595680"/>
              <a:ext cx="1984320" cy="2057400"/>
            </a:xfrm>
            <a:custGeom>
              <a:avLst/>
              <a:gdLst>
                <a:gd name="textAreaLeft" fmla="*/ 0 w 1984320"/>
                <a:gd name="textAreaRight" fmla="*/ 1984680 w 198432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250" h="1296">
                  <a:moveTo>
                    <a:pt x="0" y="158"/>
                  </a:moveTo>
                  <a:lnTo>
                    <a:pt x="0" y="158"/>
                  </a:lnTo>
                  <a:lnTo>
                    <a:pt x="42" y="162"/>
                  </a:lnTo>
                  <a:lnTo>
                    <a:pt x="86" y="162"/>
                  </a:lnTo>
                  <a:lnTo>
                    <a:pt x="86" y="162"/>
                  </a:lnTo>
                  <a:lnTo>
                    <a:pt x="322" y="158"/>
                  </a:lnTo>
                  <a:lnTo>
                    <a:pt x="628" y="148"/>
                  </a:lnTo>
                  <a:lnTo>
                    <a:pt x="628" y="148"/>
                  </a:lnTo>
                  <a:lnTo>
                    <a:pt x="624" y="56"/>
                  </a:lnTo>
                  <a:lnTo>
                    <a:pt x="622" y="28"/>
                  </a:lnTo>
                  <a:lnTo>
                    <a:pt x="618" y="0"/>
                  </a:lnTo>
                  <a:lnTo>
                    <a:pt x="864" y="0"/>
                  </a:lnTo>
                  <a:lnTo>
                    <a:pt x="864" y="0"/>
                  </a:lnTo>
                  <a:lnTo>
                    <a:pt x="860" y="60"/>
                  </a:lnTo>
                  <a:lnTo>
                    <a:pt x="858" y="144"/>
                  </a:lnTo>
                  <a:lnTo>
                    <a:pt x="858" y="144"/>
                  </a:lnTo>
                  <a:lnTo>
                    <a:pt x="1120" y="140"/>
                  </a:lnTo>
                  <a:lnTo>
                    <a:pt x="1196" y="136"/>
                  </a:lnTo>
                  <a:lnTo>
                    <a:pt x="1248" y="134"/>
                  </a:lnTo>
                  <a:lnTo>
                    <a:pt x="1250" y="362"/>
                  </a:lnTo>
                  <a:lnTo>
                    <a:pt x="1250" y="362"/>
                  </a:lnTo>
                  <a:lnTo>
                    <a:pt x="1206" y="358"/>
                  </a:lnTo>
                  <a:lnTo>
                    <a:pt x="1162" y="356"/>
                  </a:lnTo>
                  <a:lnTo>
                    <a:pt x="998" y="356"/>
                  </a:lnTo>
                  <a:lnTo>
                    <a:pt x="998" y="356"/>
                  </a:lnTo>
                  <a:lnTo>
                    <a:pt x="922" y="356"/>
                  </a:lnTo>
                  <a:lnTo>
                    <a:pt x="860" y="356"/>
                  </a:lnTo>
                  <a:lnTo>
                    <a:pt x="860" y="532"/>
                  </a:lnTo>
                  <a:lnTo>
                    <a:pt x="860" y="532"/>
                  </a:lnTo>
                  <a:lnTo>
                    <a:pt x="860" y="562"/>
                  </a:lnTo>
                  <a:lnTo>
                    <a:pt x="860" y="562"/>
                  </a:lnTo>
                  <a:lnTo>
                    <a:pt x="874" y="590"/>
                  </a:lnTo>
                  <a:lnTo>
                    <a:pt x="886" y="618"/>
                  </a:lnTo>
                  <a:lnTo>
                    <a:pt x="894" y="644"/>
                  </a:lnTo>
                  <a:lnTo>
                    <a:pt x="902" y="672"/>
                  </a:lnTo>
                  <a:lnTo>
                    <a:pt x="908" y="700"/>
                  </a:lnTo>
                  <a:lnTo>
                    <a:pt x="912" y="730"/>
                  </a:lnTo>
                  <a:lnTo>
                    <a:pt x="914" y="762"/>
                  </a:lnTo>
                  <a:lnTo>
                    <a:pt x="916" y="796"/>
                  </a:lnTo>
                  <a:lnTo>
                    <a:pt x="916" y="796"/>
                  </a:lnTo>
                  <a:lnTo>
                    <a:pt x="914" y="826"/>
                  </a:lnTo>
                  <a:lnTo>
                    <a:pt x="912" y="854"/>
                  </a:lnTo>
                  <a:lnTo>
                    <a:pt x="906" y="882"/>
                  </a:lnTo>
                  <a:lnTo>
                    <a:pt x="900" y="910"/>
                  </a:lnTo>
                  <a:lnTo>
                    <a:pt x="892" y="936"/>
                  </a:lnTo>
                  <a:lnTo>
                    <a:pt x="882" y="962"/>
                  </a:lnTo>
                  <a:lnTo>
                    <a:pt x="870" y="988"/>
                  </a:lnTo>
                  <a:lnTo>
                    <a:pt x="856" y="1012"/>
                  </a:lnTo>
                  <a:lnTo>
                    <a:pt x="840" y="1036"/>
                  </a:lnTo>
                  <a:lnTo>
                    <a:pt x="824" y="1060"/>
                  </a:lnTo>
                  <a:lnTo>
                    <a:pt x="804" y="1082"/>
                  </a:lnTo>
                  <a:lnTo>
                    <a:pt x="784" y="1104"/>
                  </a:lnTo>
                  <a:lnTo>
                    <a:pt x="762" y="1126"/>
                  </a:lnTo>
                  <a:lnTo>
                    <a:pt x="738" y="1146"/>
                  </a:lnTo>
                  <a:lnTo>
                    <a:pt x="712" y="1164"/>
                  </a:lnTo>
                  <a:lnTo>
                    <a:pt x="684" y="1182"/>
                  </a:lnTo>
                  <a:lnTo>
                    <a:pt x="684" y="1182"/>
                  </a:lnTo>
                  <a:lnTo>
                    <a:pt x="658" y="1198"/>
                  </a:lnTo>
                  <a:lnTo>
                    <a:pt x="630" y="1212"/>
                  </a:lnTo>
                  <a:lnTo>
                    <a:pt x="602" y="1226"/>
                  </a:lnTo>
                  <a:lnTo>
                    <a:pt x="568" y="1240"/>
                  </a:lnTo>
                  <a:lnTo>
                    <a:pt x="494" y="1268"/>
                  </a:lnTo>
                  <a:lnTo>
                    <a:pt x="404" y="1296"/>
                  </a:lnTo>
                  <a:lnTo>
                    <a:pt x="404" y="1296"/>
                  </a:lnTo>
                  <a:lnTo>
                    <a:pt x="390" y="1260"/>
                  </a:lnTo>
                  <a:lnTo>
                    <a:pt x="376" y="1230"/>
                  </a:lnTo>
                  <a:lnTo>
                    <a:pt x="362" y="1200"/>
                  </a:lnTo>
                  <a:lnTo>
                    <a:pt x="348" y="1174"/>
                  </a:lnTo>
                  <a:lnTo>
                    <a:pt x="332" y="1150"/>
                  </a:lnTo>
                  <a:lnTo>
                    <a:pt x="314" y="1124"/>
                  </a:lnTo>
                  <a:lnTo>
                    <a:pt x="294" y="1100"/>
                  </a:lnTo>
                  <a:lnTo>
                    <a:pt x="272" y="1074"/>
                  </a:lnTo>
                  <a:lnTo>
                    <a:pt x="272" y="1074"/>
                  </a:lnTo>
                  <a:lnTo>
                    <a:pt x="322" y="1068"/>
                  </a:lnTo>
                  <a:lnTo>
                    <a:pt x="366" y="1058"/>
                  </a:lnTo>
                  <a:lnTo>
                    <a:pt x="408" y="1050"/>
                  </a:lnTo>
                  <a:lnTo>
                    <a:pt x="444" y="1040"/>
                  </a:lnTo>
                  <a:lnTo>
                    <a:pt x="476" y="1030"/>
                  </a:lnTo>
                  <a:lnTo>
                    <a:pt x="506" y="1018"/>
                  </a:lnTo>
                  <a:lnTo>
                    <a:pt x="534" y="1004"/>
                  </a:lnTo>
                  <a:lnTo>
                    <a:pt x="560" y="990"/>
                  </a:lnTo>
                  <a:lnTo>
                    <a:pt x="560" y="990"/>
                  </a:lnTo>
                  <a:lnTo>
                    <a:pt x="578" y="978"/>
                  </a:lnTo>
                  <a:lnTo>
                    <a:pt x="594" y="966"/>
                  </a:lnTo>
                  <a:lnTo>
                    <a:pt x="608" y="954"/>
                  </a:lnTo>
                  <a:lnTo>
                    <a:pt x="622" y="942"/>
                  </a:lnTo>
                  <a:lnTo>
                    <a:pt x="634" y="928"/>
                  </a:lnTo>
                  <a:lnTo>
                    <a:pt x="644" y="914"/>
                  </a:lnTo>
                  <a:lnTo>
                    <a:pt x="654" y="898"/>
                  </a:lnTo>
                  <a:lnTo>
                    <a:pt x="662" y="880"/>
                  </a:lnTo>
                  <a:lnTo>
                    <a:pt x="662" y="880"/>
                  </a:lnTo>
                  <a:lnTo>
                    <a:pt x="642" y="896"/>
                  </a:lnTo>
                  <a:lnTo>
                    <a:pt x="620" y="910"/>
                  </a:lnTo>
                  <a:lnTo>
                    <a:pt x="600" y="922"/>
                  </a:lnTo>
                  <a:lnTo>
                    <a:pt x="578" y="930"/>
                  </a:lnTo>
                  <a:lnTo>
                    <a:pt x="554" y="938"/>
                  </a:lnTo>
                  <a:lnTo>
                    <a:pt x="530" y="942"/>
                  </a:lnTo>
                  <a:lnTo>
                    <a:pt x="504" y="944"/>
                  </a:lnTo>
                  <a:lnTo>
                    <a:pt x="476" y="946"/>
                  </a:lnTo>
                  <a:lnTo>
                    <a:pt x="476" y="946"/>
                  </a:lnTo>
                  <a:lnTo>
                    <a:pt x="446" y="944"/>
                  </a:lnTo>
                  <a:lnTo>
                    <a:pt x="418" y="940"/>
                  </a:lnTo>
                  <a:lnTo>
                    <a:pt x="390" y="934"/>
                  </a:lnTo>
                  <a:lnTo>
                    <a:pt x="364" y="926"/>
                  </a:lnTo>
                  <a:lnTo>
                    <a:pt x="340" y="916"/>
                  </a:lnTo>
                  <a:lnTo>
                    <a:pt x="318" y="904"/>
                  </a:lnTo>
                  <a:lnTo>
                    <a:pt x="296" y="890"/>
                  </a:lnTo>
                  <a:lnTo>
                    <a:pt x="276" y="874"/>
                  </a:lnTo>
                  <a:lnTo>
                    <a:pt x="260" y="856"/>
                  </a:lnTo>
                  <a:lnTo>
                    <a:pt x="244" y="836"/>
                  </a:lnTo>
                  <a:lnTo>
                    <a:pt x="230" y="816"/>
                  </a:lnTo>
                  <a:lnTo>
                    <a:pt x="220" y="792"/>
                  </a:lnTo>
                  <a:lnTo>
                    <a:pt x="212" y="768"/>
                  </a:lnTo>
                  <a:lnTo>
                    <a:pt x="204" y="744"/>
                  </a:lnTo>
                  <a:lnTo>
                    <a:pt x="200" y="718"/>
                  </a:lnTo>
                  <a:lnTo>
                    <a:pt x="200" y="690"/>
                  </a:lnTo>
                  <a:lnTo>
                    <a:pt x="200" y="690"/>
                  </a:lnTo>
                  <a:lnTo>
                    <a:pt x="200" y="660"/>
                  </a:lnTo>
                  <a:lnTo>
                    <a:pt x="206" y="632"/>
                  </a:lnTo>
                  <a:lnTo>
                    <a:pt x="212" y="606"/>
                  </a:lnTo>
                  <a:lnTo>
                    <a:pt x="222" y="580"/>
                  </a:lnTo>
                  <a:lnTo>
                    <a:pt x="236" y="558"/>
                  </a:lnTo>
                  <a:lnTo>
                    <a:pt x="252" y="536"/>
                  </a:lnTo>
                  <a:lnTo>
                    <a:pt x="268" y="514"/>
                  </a:lnTo>
                  <a:lnTo>
                    <a:pt x="290" y="496"/>
                  </a:lnTo>
                  <a:lnTo>
                    <a:pt x="312" y="480"/>
                  </a:lnTo>
                  <a:lnTo>
                    <a:pt x="336" y="464"/>
                  </a:lnTo>
                  <a:lnTo>
                    <a:pt x="362" y="452"/>
                  </a:lnTo>
                  <a:lnTo>
                    <a:pt x="392" y="442"/>
                  </a:lnTo>
                  <a:lnTo>
                    <a:pt x="422" y="434"/>
                  </a:lnTo>
                  <a:lnTo>
                    <a:pt x="454" y="428"/>
                  </a:lnTo>
                  <a:lnTo>
                    <a:pt x="488" y="424"/>
                  </a:lnTo>
                  <a:lnTo>
                    <a:pt x="524" y="422"/>
                  </a:lnTo>
                  <a:lnTo>
                    <a:pt x="524" y="422"/>
                  </a:lnTo>
                  <a:lnTo>
                    <a:pt x="554" y="422"/>
                  </a:lnTo>
                  <a:lnTo>
                    <a:pt x="582" y="426"/>
                  </a:lnTo>
                  <a:lnTo>
                    <a:pt x="608" y="430"/>
                  </a:lnTo>
                  <a:lnTo>
                    <a:pt x="632" y="438"/>
                  </a:lnTo>
                  <a:lnTo>
                    <a:pt x="632" y="438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76"/>
                  </a:lnTo>
                  <a:lnTo>
                    <a:pt x="630" y="360"/>
                  </a:lnTo>
                  <a:lnTo>
                    <a:pt x="630" y="360"/>
                  </a:lnTo>
                  <a:lnTo>
                    <a:pt x="426" y="368"/>
                  </a:lnTo>
                  <a:lnTo>
                    <a:pt x="250" y="376"/>
                  </a:lnTo>
                  <a:lnTo>
                    <a:pt x="110" y="386"/>
                  </a:lnTo>
                  <a:lnTo>
                    <a:pt x="52" y="392"/>
                  </a:lnTo>
                  <a:lnTo>
                    <a:pt x="6" y="396"/>
                  </a:lnTo>
                  <a:lnTo>
                    <a:pt x="0" y="158"/>
                  </a:lnTo>
                  <a:close/>
                  <a:moveTo>
                    <a:pt x="434" y="678"/>
                  </a:moveTo>
                  <a:lnTo>
                    <a:pt x="434" y="678"/>
                  </a:lnTo>
                  <a:lnTo>
                    <a:pt x="436" y="694"/>
                  </a:lnTo>
                  <a:lnTo>
                    <a:pt x="440" y="708"/>
                  </a:lnTo>
                  <a:lnTo>
                    <a:pt x="448" y="722"/>
                  </a:lnTo>
                  <a:lnTo>
                    <a:pt x="460" y="732"/>
                  </a:lnTo>
                  <a:lnTo>
                    <a:pt x="474" y="742"/>
                  </a:lnTo>
                  <a:lnTo>
                    <a:pt x="490" y="748"/>
                  </a:lnTo>
                  <a:lnTo>
                    <a:pt x="506" y="752"/>
                  </a:lnTo>
                  <a:lnTo>
                    <a:pt x="526" y="754"/>
                  </a:lnTo>
                  <a:lnTo>
                    <a:pt x="526" y="754"/>
                  </a:lnTo>
                  <a:lnTo>
                    <a:pt x="548" y="752"/>
                  </a:lnTo>
                  <a:lnTo>
                    <a:pt x="568" y="748"/>
                  </a:lnTo>
                  <a:lnTo>
                    <a:pt x="586" y="740"/>
                  </a:lnTo>
                  <a:lnTo>
                    <a:pt x="602" y="730"/>
                  </a:lnTo>
                  <a:lnTo>
                    <a:pt x="614" y="718"/>
                  </a:lnTo>
                  <a:lnTo>
                    <a:pt x="624" y="704"/>
                  </a:lnTo>
                  <a:lnTo>
                    <a:pt x="630" y="688"/>
                  </a:lnTo>
                  <a:lnTo>
                    <a:pt x="632" y="670"/>
                  </a:lnTo>
                  <a:lnTo>
                    <a:pt x="632" y="670"/>
                  </a:lnTo>
                  <a:lnTo>
                    <a:pt x="630" y="654"/>
                  </a:lnTo>
                  <a:lnTo>
                    <a:pt x="626" y="640"/>
                  </a:lnTo>
                  <a:lnTo>
                    <a:pt x="618" y="628"/>
                  </a:lnTo>
                  <a:lnTo>
                    <a:pt x="606" y="618"/>
                  </a:lnTo>
                  <a:lnTo>
                    <a:pt x="594" y="610"/>
                  </a:lnTo>
                  <a:lnTo>
                    <a:pt x="578" y="604"/>
                  </a:lnTo>
                  <a:lnTo>
                    <a:pt x="560" y="600"/>
                  </a:lnTo>
                  <a:lnTo>
                    <a:pt x="540" y="598"/>
                  </a:lnTo>
                  <a:lnTo>
                    <a:pt x="540" y="598"/>
                  </a:lnTo>
                  <a:lnTo>
                    <a:pt x="518" y="600"/>
                  </a:lnTo>
                  <a:lnTo>
                    <a:pt x="498" y="604"/>
                  </a:lnTo>
                  <a:lnTo>
                    <a:pt x="480" y="610"/>
                  </a:lnTo>
                  <a:lnTo>
                    <a:pt x="464" y="620"/>
                  </a:lnTo>
                  <a:lnTo>
                    <a:pt x="452" y="632"/>
                  </a:lnTo>
                  <a:lnTo>
                    <a:pt x="442" y="646"/>
                  </a:lnTo>
                  <a:lnTo>
                    <a:pt x="436" y="662"/>
                  </a:lnTo>
                  <a:lnTo>
                    <a:pt x="434" y="678"/>
                  </a:lnTo>
                  <a:lnTo>
                    <a:pt x="434" y="6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8"/>
            <p:cNvSpPr/>
            <p:nvPr/>
          </p:nvSpPr>
          <p:spPr>
            <a:xfrm>
              <a:off x="5546520" y="41786280"/>
              <a:ext cx="841320" cy="84132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530" h="530">
                  <a:moveTo>
                    <a:pt x="530" y="266"/>
                  </a:moveTo>
                  <a:lnTo>
                    <a:pt x="530" y="266"/>
                  </a:lnTo>
                  <a:lnTo>
                    <a:pt x="530" y="292"/>
                  </a:lnTo>
                  <a:lnTo>
                    <a:pt x="526" y="320"/>
                  </a:lnTo>
                  <a:lnTo>
                    <a:pt x="518" y="344"/>
                  </a:lnTo>
                  <a:lnTo>
                    <a:pt x="510" y="368"/>
                  </a:lnTo>
                  <a:lnTo>
                    <a:pt x="498" y="392"/>
                  </a:lnTo>
                  <a:lnTo>
                    <a:pt x="486" y="414"/>
                  </a:lnTo>
                  <a:lnTo>
                    <a:pt x="470" y="434"/>
                  </a:lnTo>
                  <a:lnTo>
                    <a:pt x="454" y="454"/>
                  </a:lnTo>
                  <a:lnTo>
                    <a:pt x="434" y="470"/>
                  </a:lnTo>
                  <a:lnTo>
                    <a:pt x="414" y="486"/>
                  </a:lnTo>
                  <a:lnTo>
                    <a:pt x="392" y="498"/>
                  </a:lnTo>
                  <a:lnTo>
                    <a:pt x="368" y="510"/>
                  </a:lnTo>
                  <a:lnTo>
                    <a:pt x="344" y="518"/>
                  </a:lnTo>
                  <a:lnTo>
                    <a:pt x="320" y="526"/>
                  </a:lnTo>
                  <a:lnTo>
                    <a:pt x="292" y="530"/>
                  </a:lnTo>
                  <a:lnTo>
                    <a:pt x="266" y="530"/>
                  </a:lnTo>
                  <a:lnTo>
                    <a:pt x="266" y="530"/>
                  </a:lnTo>
                  <a:lnTo>
                    <a:pt x="238" y="530"/>
                  </a:lnTo>
                  <a:lnTo>
                    <a:pt x="212" y="526"/>
                  </a:lnTo>
                  <a:lnTo>
                    <a:pt x="188" y="518"/>
                  </a:lnTo>
                  <a:lnTo>
                    <a:pt x="162" y="510"/>
                  </a:lnTo>
                  <a:lnTo>
                    <a:pt x="140" y="498"/>
                  </a:lnTo>
                  <a:lnTo>
                    <a:pt x="118" y="486"/>
                  </a:lnTo>
                  <a:lnTo>
                    <a:pt x="98" y="470"/>
                  </a:lnTo>
                  <a:lnTo>
                    <a:pt x="78" y="452"/>
                  </a:lnTo>
                  <a:lnTo>
                    <a:pt x="62" y="434"/>
                  </a:lnTo>
                  <a:lnTo>
                    <a:pt x="46" y="414"/>
                  </a:lnTo>
                  <a:lnTo>
                    <a:pt x="32" y="392"/>
                  </a:lnTo>
                  <a:lnTo>
                    <a:pt x="22" y="368"/>
                  </a:lnTo>
                  <a:lnTo>
                    <a:pt x="12" y="344"/>
                  </a:lnTo>
                  <a:lnTo>
                    <a:pt x="6" y="318"/>
                  </a:lnTo>
                  <a:lnTo>
                    <a:pt x="2" y="292"/>
                  </a:lnTo>
                  <a:lnTo>
                    <a:pt x="0" y="266"/>
                  </a:lnTo>
                  <a:lnTo>
                    <a:pt x="0" y="266"/>
                  </a:lnTo>
                  <a:lnTo>
                    <a:pt x="2" y="238"/>
                  </a:lnTo>
                  <a:lnTo>
                    <a:pt x="6" y="212"/>
                  </a:lnTo>
                  <a:lnTo>
                    <a:pt x="12" y="186"/>
                  </a:lnTo>
                  <a:lnTo>
                    <a:pt x="22" y="162"/>
                  </a:lnTo>
                  <a:lnTo>
                    <a:pt x="32" y="140"/>
                  </a:lnTo>
                  <a:lnTo>
                    <a:pt x="46" y="118"/>
                  </a:lnTo>
                  <a:lnTo>
                    <a:pt x="62" y="96"/>
                  </a:lnTo>
                  <a:lnTo>
                    <a:pt x="78" y="78"/>
                  </a:lnTo>
                  <a:lnTo>
                    <a:pt x="96" y="62"/>
                  </a:lnTo>
                  <a:lnTo>
                    <a:pt x="118" y="46"/>
                  </a:lnTo>
                  <a:lnTo>
                    <a:pt x="140" y="32"/>
                  </a:lnTo>
                  <a:lnTo>
                    <a:pt x="162" y="22"/>
                  </a:lnTo>
                  <a:lnTo>
                    <a:pt x="186" y="12"/>
                  </a:lnTo>
                  <a:lnTo>
                    <a:pt x="212" y="6"/>
                  </a:lnTo>
                  <a:lnTo>
                    <a:pt x="238" y="2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92" y="2"/>
                  </a:lnTo>
                  <a:lnTo>
                    <a:pt x="320" y="6"/>
                  </a:lnTo>
                  <a:lnTo>
                    <a:pt x="344" y="12"/>
                  </a:lnTo>
                  <a:lnTo>
                    <a:pt x="368" y="22"/>
                  </a:lnTo>
                  <a:lnTo>
                    <a:pt x="392" y="32"/>
                  </a:lnTo>
                  <a:lnTo>
                    <a:pt x="414" y="46"/>
                  </a:lnTo>
                  <a:lnTo>
                    <a:pt x="434" y="62"/>
                  </a:lnTo>
                  <a:lnTo>
                    <a:pt x="454" y="78"/>
                  </a:lnTo>
                  <a:lnTo>
                    <a:pt x="470" y="96"/>
                  </a:lnTo>
                  <a:lnTo>
                    <a:pt x="486" y="118"/>
                  </a:lnTo>
                  <a:lnTo>
                    <a:pt x="498" y="140"/>
                  </a:lnTo>
                  <a:lnTo>
                    <a:pt x="510" y="162"/>
                  </a:lnTo>
                  <a:lnTo>
                    <a:pt x="518" y="186"/>
                  </a:lnTo>
                  <a:lnTo>
                    <a:pt x="526" y="212"/>
                  </a:lnTo>
                  <a:lnTo>
                    <a:pt x="530" y="238"/>
                  </a:lnTo>
                  <a:lnTo>
                    <a:pt x="530" y="266"/>
                  </a:lnTo>
                  <a:lnTo>
                    <a:pt x="530" y="266"/>
                  </a:lnTo>
                  <a:close/>
                  <a:moveTo>
                    <a:pt x="144" y="266"/>
                  </a:moveTo>
                  <a:lnTo>
                    <a:pt x="144" y="266"/>
                  </a:lnTo>
                  <a:lnTo>
                    <a:pt x="144" y="278"/>
                  </a:lnTo>
                  <a:lnTo>
                    <a:pt x="146" y="290"/>
                  </a:lnTo>
                  <a:lnTo>
                    <a:pt x="154" y="312"/>
                  </a:lnTo>
                  <a:lnTo>
                    <a:pt x="164" y="334"/>
                  </a:lnTo>
                  <a:lnTo>
                    <a:pt x="180" y="352"/>
                  </a:lnTo>
                  <a:lnTo>
                    <a:pt x="198" y="366"/>
                  </a:lnTo>
                  <a:lnTo>
                    <a:pt x="218" y="378"/>
                  </a:lnTo>
                  <a:lnTo>
                    <a:pt x="242" y="384"/>
                  </a:lnTo>
                  <a:lnTo>
                    <a:pt x="254" y="386"/>
                  </a:lnTo>
                  <a:lnTo>
                    <a:pt x="266" y="386"/>
                  </a:lnTo>
                  <a:lnTo>
                    <a:pt x="266" y="386"/>
                  </a:lnTo>
                  <a:lnTo>
                    <a:pt x="278" y="386"/>
                  </a:lnTo>
                  <a:lnTo>
                    <a:pt x="290" y="384"/>
                  </a:lnTo>
                  <a:lnTo>
                    <a:pt x="312" y="378"/>
                  </a:lnTo>
                  <a:lnTo>
                    <a:pt x="334" y="366"/>
                  </a:lnTo>
                  <a:lnTo>
                    <a:pt x="352" y="352"/>
                  </a:lnTo>
                  <a:lnTo>
                    <a:pt x="366" y="334"/>
                  </a:lnTo>
                  <a:lnTo>
                    <a:pt x="378" y="312"/>
                  </a:lnTo>
                  <a:lnTo>
                    <a:pt x="384" y="290"/>
                  </a:lnTo>
                  <a:lnTo>
                    <a:pt x="386" y="278"/>
                  </a:lnTo>
                  <a:lnTo>
                    <a:pt x="386" y="266"/>
                  </a:lnTo>
                  <a:lnTo>
                    <a:pt x="386" y="266"/>
                  </a:lnTo>
                  <a:lnTo>
                    <a:pt x="386" y="254"/>
                  </a:lnTo>
                  <a:lnTo>
                    <a:pt x="384" y="242"/>
                  </a:lnTo>
                  <a:lnTo>
                    <a:pt x="378" y="218"/>
                  </a:lnTo>
                  <a:lnTo>
                    <a:pt x="366" y="198"/>
                  </a:lnTo>
                  <a:lnTo>
                    <a:pt x="352" y="180"/>
                  </a:lnTo>
                  <a:lnTo>
                    <a:pt x="334" y="164"/>
                  </a:lnTo>
                  <a:lnTo>
                    <a:pt x="312" y="154"/>
                  </a:lnTo>
                  <a:lnTo>
                    <a:pt x="290" y="146"/>
                  </a:lnTo>
                  <a:lnTo>
                    <a:pt x="278" y="144"/>
                  </a:lnTo>
                  <a:lnTo>
                    <a:pt x="266" y="144"/>
                  </a:lnTo>
                  <a:lnTo>
                    <a:pt x="266" y="144"/>
                  </a:lnTo>
                  <a:lnTo>
                    <a:pt x="254" y="144"/>
                  </a:lnTo>
                  <a:lnTo>
                    <a:pt x="242" y="146"/>
                  </a:lnTo>
                  <a:lnTo>
                    <a:pt x="218" y="154"/>
                  </a:lnTo>
                  <a:lnTo>
                    <a:pt x="198" y="164"/>
                  </a:lnTo>
                  <a:lnTo>
                    <a:pt x="180" y="180"/>
                  </a:lnTo>
                  <a:lnTo>
                    <a:pt x="164" y="198"/>
                  </a:lnTo>
                  <a:lnTo>
                    <a:pt x="154" y="218"/>
                  </a:lnTo>
                  <a:lnTo>
                    <a:pt x="146" y="242"/>
                  </a:lnTo>
                  <a:lnTo>
                    <a:pt x="144" y="254"/>
                  </a:lnTo>
                  <a:lnTo>
                    <a:pt x="144" y="266"/>
                  </a:lnTo>
                  <a:lnTo>
                    <a:pt x="144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グループ化 123"/>
          <p:cNvGrpSpPr/>
          <p:nvPr/>
        </p:nvGrpSpPr>
        <p:grpSpPr>
          <a:xfrm>
            <a:off x="2330280" y="7816680"/>
            <a:ext cx="6375600" cy="2187720"/>
            <a:chOff x="2330280" y="7816680"/>
            <a:chExt cx="6375600" cy="2187720"/>
          </a:xfrm>
        </p:grpSpPr>
        <p:sp>
          <p:nvSpPr>
            <p:cNvPr id="158" name="Freeform 19"/>
            <p:cNvSpPr/>
            <p:nvPr/>
          </p:nvSpPr>
          <p:spPr>
            <a:xfrm>
              <a:off x="2330280" y="7816680"/>
              <a:ext cx="6375600" cy="2187720"/>
            </a:xfrm>
            <a:custGeom>
              <a:avLst/>
              <a:gdLst>
                <a:gd name="textAreaLeft" fmla="*/ 0 w 6375600"/>
                <a:gd name="textAreaRight" fmla="*/ 6375960 w 6375600"/>
                <a:gd name="textAreaTop" fmla="*/ 0 h 2187720"/>
                <a:gd name="textAreaBottom" fmla="*/ 2188080 h 2187720"/>
              </a:gdLst>
              <a:ahLst/>
              <a:rect l="textAreaLeft" t="textAreaTop" r="textAreaRight" b="textAreaBottom"/>
              <a:pathLst>
                <a:path w="4016" h="1378">
                  <a:moveTo>
                    <a:pt x="2650" y="742"/>
                  </a:moveTo>
                  <a:lnTo>
                    <a:pt x="2650" y="742"/>
                  </a:lnTo>
                  <a:lnTo>
                    <a:pt x="2630" y="746"/>
                  </a:lnTo>
                  <a:lnTo>
                    <a:pt x="2598" y="748"/>
                  </a:lnTo>
                  <a:lnTo>
                    <a:pt x="2598" y="748"/>
                  </a:lnTo>
                  <a:lnTo>
                    <a:pt x="2600" y="682"/>
                  </a:lnTo>
                  <a:lnTo>
                    <a:pt x="2602" y="642"/>
                  </a:lnTo>
                  <a:lnTo>
                    <a:pt x="2602" y="642"/>
                  </a:lnTo>
                  <a:lnTo>
                    <a:pt x="2602" y="630"/>
                  </a:lnTo>
                  <a:lnTo>
                    <a:pt x="2600" y="616"/>
                  </a:lnTo>
                  <a:lnTo>
                    <a:pt x="2594" y="606"/>
                  </a:lnTo>
                  <a:lnTo>
                    <a:pt x="2586" y="596"/>
                  </a:lnTo>
                  <a:lnTo>
                    <a:pt x="2586" y="596"/>
                  </a:lnTo>
                  <a:lnTo>
                    <a:pt x="2580" y="590"/>
                  </a:lnTo>
                  <a:lnTo>
                    <a:pt x="2574" y="586"/>
                  </a:lnTo>
                  <a:lnTo>
                    <a:pt x="2574" y="586"/>
                  </a:lnTo>
                  <a:lnTo>
                    <a:pt x="2570" y="546"/>
                  </a:lnTo>
                  <a:lnTo>
                    <a:pt x="2570" y="500"/>
                  </a:lnTo>
                  <a:lnTo>
                    <a:pt x="2570" y="410"/>
                  </a:lnTo>
                  <a:lnTo>
                    <a:pt x="2570" y="410"/>
                  </a:lnTo>
                  <a:lnTo>
                    <a:pt x="2570" y="364"/>
                  </a:lnTo>
                  <a:lnTo>
                    <a:pt x="2574" y="328"/>
                  </a:lnTo>
                  <a:lnTo>
                    <a:pt x="2574" y="328"/>
                  </a:lnTo>
                  <a:lnTo>
                    <a:pt x="2638" y="334"/>
                  </a:lnTo>
                  <a:lnTo>
                    <a:pt x="2638" y="334"/>
                  </a:lnTo>
                  <a:lnTo>
                    <a:pt x="2650" y="334"/>
                  </a:lnTo>
                  <a:lnTo>
                    <a:pt x="2662" y="330"/>
                  </a:lnTo>
                  <a:lnTo>
                    <a:pt x="2672" y="326"/>
                  </a:lnTo>
                  <a:lnTo>
                    <a:pt x="2682" y="320"/>
                  </a:lnTo>
                  <a:lnTo>
                    <a:pt x="2682" y="320"/>
                  </a:lnTo>
                  <a:lnTo>
                    <a:pt x="2690" y="310"/>
                  </a:lnTo>
                  <a:lnTo>
                    <a:pt x="2696" y="300"/>
                  </a:lnTo>
                  <a:lnTo>
                    <a:pt x="2700" y="288"/>
                  </a:lnTo>
                  <a:lnTo>
                    <a:pt x="2702" y="276"/>
                  </a:lnTo>
                  <a:lnTo>
                    <a:pt x="2702" y="142"/>
                  </a:lnTo>
                  <a:lnTo>
                    <a:pt x="2702" y="142"/>
                  </a:lnTo>
                  <a:lnTo>
                    <a:pt x="2700" y="130"/>
                  </a:lnTo>
                  <a:lnTo>
                    <a:pt x="2696" y="118"/>
                  </a:lnTo>
                  <a:lnTo>
                    <a:pt x="2690" y="108"/>
                  </a:lnTo>
                  <a:lnTo>
                    <a:pt x="2682" y="98"/>
                  </a:lnTo>
                  <a:lnTo>
                    <a:pt x="2682" y="98"/>
                  </a:lnTo>
                  <a:lnTo>
                    <a:pt x="2672" y="92"/>
                  </a:lnTo>
                  <a:lnTo>
                    <a:pt x="2662" y="86"/>
                  </a:lnTo>
                  <a:lnTo>
                    <a:pt x="2650" y="84"/>
                  </a:lnTo>
                  <a:lnTo>
                    <a:pt x="2638" y="84"/>
                  </a:lnTo>
                  <a:lnTo>
                    <a:pt x="2638" y="84"/>
                  </a:lnTo>
                  <a:lnTo>
                    <a:pt x="2608" y="88"/>
                  </a:lnTo>
                  <a:lnTo>
                    <a:pt x="2574" y="90"/>
                  </a:lnTo>
                  <a:lnTo>
                    <a:pt x="2532" y="92"/>
                  </a:lnTo>
                  <a:lnTo>
                    <a:pt x="2478" y="92"/>
                  </a:lnTo>
                  <a:lnTo>
                    <a:pt x="2156" y="92"/>
                  </a:lnTo>
                  <a:lnTo>
                    <a:pt x="2156" y="92"/>
                  </a:lnTo>
                  <a:lnTo>
                    <a:pt x="2160" y="70"/>
                  </a:lnTo>
                  <a:lnTo>
                    <a:pt x="2160" y="70"/>
                  </a:lnTo>
                  <a:lnTo>
                    <a:pt x="2162" y="58"/>
                  </a:lnTo>
                  <a:lnTo>
                    <a:pt x="2160" y="44"/>
                  </a:lnTo>
                  <a:lnTo>
                    <a:pt x="2156" y="32"/>
                  </a:lnTo>
                  <a:lnTo>
                    <a:pt x="2150" y="22"/>
                  </a:lnTo>
                  <a:lnTo>
                    <a:pt x="2150" y="22"/>
                  </a:lnTo>
                  <a:lnTo>
                    <a:pt x="2140" y="12"/>
                  </a:lnTo>
                  <a:lnTo>
                    <a:pt x="2130" y="6"/>
                  </a:lnTo>
                  <a:lnTo>
                    <a:pt x="2118" y="2"/>
                  </a:lnTo>
                  <a:lnTo>
                    <a:pt x="2104" y="0"/>
                  </a:lnTo>
                  <a:lnTo>
                    <a:pt x="1940" y="0"/>
                  </a:lnTo>
                  <a:lnTo>
                    <a:pt x="1940" y="0"/>
                  </a:lnTo>
                  <a:lnTo>
                    <a:pt x="1928" y="2"/>
                  </a:lnTo>
                  <a:lnTo>
                    <a:pt x="1916" y="6"/>
                  </a:lnTo>
                  <a:lnTo>
                    <a:pt x="1906" y="12"/>
                  </a:lnTo>
                  <a:lnTo>
                    <a:pt x="1896" y="20"/>
                  </a:lnTo>
                  <a:lnTo>
                    <a:pt x="1896" y="20"/>
                  </a:lnTo>
                  <a:lnTo>
                    <a:pt x="1890" y="32"/>
                  </a:lnTo>
                  <a:lnTo>
                    <a:pt x="1886" y="42"/>
                  </a:lnTo>
                  <a:lnTo>
                    <a:pt x="1884" y="56"/>
                  </a:lnTo>
                  <a:lnTo>
                    <a:pt x="1884" y="68"/>
                  </a:lnTo>
                  <a:lnTo>
                    <a:pt x="1884" y="68"/>
                  </a:lnTo>
                  <a:lnTo>
                    <a:pt x="1888" y="92"/>
                  </a:lnTo>
                  <a:lnTo>
                    <a:pt x="1584" y="92"/>
                  </a:lnTo>
                  <a:lnTo>
                    <a:pt x="1584" y="92"/>
                  </a:lnTo>
                  <a:lnTo>
                    <a:pt x="1494" y="90"/>
                  </a:lnTo>
                  <a:lnTo>
                    <a:pt x="1458" y="88"/>
                  </a:lnTo>
                  <a:lnTo>
                    <a:pt x="1424" y="84"/>
                  </a:lnTo>
                  <a:lnTo>
                    <a:pt x="1424" y="84"/>
                  </a:lnTo>
                  <a:lnTo>
                    <a:pt x="1412" y="84"/>
                  </a:lnTo>
                  <a:lnTo>
                    <a:pt x="1400" y="86"/>
                  </a:lnTo>
                  <a:lnTo>
                    <a:pt x="1390" y="92"/>
                  </a:lnTo>
                  <a:lnTo>
                    <a:pt x="1380" y="98"/>
                  </a:lnTo>
                  <a:lnTo>
                    <a:pt x="1380" y="98"/>
                  </a:lnTo>
                  <a:lnTo>
                    <a:pt x="1372" y="108"/>
                  </a:lnTo>
                  <a:lnTo>
                    <a:pt x="1364" y="118"/>
                  </a:lnTo>
                  <a:lnTo>
                    <a:pt x="1362" y="130"/>
                  </a:lnTo>
                  <a:lnTo>
                    <a:pt x="1360" y="142"/>
                  </a:lnTo>
                  <a:lnTo>
                    <a:pt x="1360" y="276"/>
                  </a:lnTo>
                  <a:lnTo>
                    <a:pt x="1360" y="276"/>
                  </a:lnTo>
                  <a:lnTo>
                    <a:pt x="1362" y="288"/>
                  </a:lnTo>
                  <a:lnTo>
                    <a:pt x="1364" y="300"/>
                  </a:lnTo>
                  <a:lnTo>
                    <a:pt x="1370" y="310"/>
                  </a:lnTo>
                  <a:lnTo>
                    <a:pt x="1380" y="320"/>
                  </a:lnTo>
                  <a:lnTo>
                    <a:pt x="1380" y="320"/>
                  </a:lnTo>
                  <a:lnTo>
                    <a:pt x="1388" y="326"/>
                  </a:lnTo>
                  <a:lnTo>
                    <a:pt x="1400" y="330"/>
                  </a:lnTo>
                  <a:lnTo>
                    <a:pt x="1412" y="334"/>
                  </a:lnTo>
                  <a:lnTo>
                    <a:pt x="1424" y="334"/>
                  </a:lnTo>
                  <a:lnTo>
                    <a:pt x="1424" y="334"/>
                  </a:lnTo>
                  <a:lnTo>
                    <a:pt x="1490" y="328"/>
                  </a:lnTo>
                  <a:lnTo>
                    <a:pt x="1490" y="328"/>
                  </a:lnTo>
                  <a:lnTo>
                    <a:pt x="1492" y="366"/>
                  </a:lnTo>
                  <a:lnTo>
                    <a:pt x="1494" y="410"/>
                  </a:lnTo>
                  <a:lnTo>
                    <a:pt x="1494" y="500"/>
                  </a:lnTo>
                  <a:lnTo>
                    <a:pt x="1494" y="500"/>
                  </a:lnTo>
                  <a:lnTo>
                    <a:pt x="1492" y="540"/>
                  </a:lnTo>
                  <a:lnTo>
                    <a:pt x="1490" y="578"/>
                  </a:lnTo>
                  <a:lnTo>
                    <a:pt x="1490" y="578"/>
                  </a:lnTo>
                  <a:lnTo>
                    <a:pt x="1476" y="582"/>
                  </a:lnTo>
                  <a:lnTo>
                    <a:pt x="1464" y="590"/>
                  </a:lnTo>
                  <a:lnTo>
                    <a:pt x="1464" y="590"/>
                  </a:lnTo>
                  <a:lnTo>
                    <a:pt x="1456" y="600"/>
                  </a:lnTo>
                  <a:lnTo>
                    <a:pt x="1450" y="610"/>
                  </a:lnTo>
                  <a:lnTo>
                    <a:pt x="1446" y="622"/>
                  </a:lnTo>
                  <a:lnTo>
                    <a:pt x="1444" y="634"/>
                  </a:lnTo>
                  <a:lnTo>
                    <a:pt x="1444" y="746"/>
                  </a:lnTo>
                  <a:lnTo>
                    <a:pt x="1444" y="746"/>
                  </a:lnTo>
                  <a:lnTo>
                    <a:pt x="1418" y="742"/>
                  </a:lnTo>
                  <a:lnTo>
                    <a:pt x="1418" y="742"/>
                  </a:lnTo>
                  <a:lnTo>
                    <a:pt x="1406" y="742"/>
                  </a:lnTo>
                  <a:lnTo>
                    <a:pt x="1394" y="744"/>
                  </a:lnTo>
                  <a:lnTo>
                    <a:pt x="1382" y="748"/>
                  </a:lnTo>
                  <a:lnTo>
                    <a:pt x="1372" y="756"/>
                  </a:lnTo>
                  <a:lnTo>
                    <a:pt x="1372" y="756"/>
                  </a:lnTo>
                  <a:lnTo>
                    <a:pt x="1364" y="764"/>
                  </a:lnTo>
                  <a:lnTo>
                    <a:pt x="1356" y="776"/>
                  </a:lnTo>
                  <a:lnTo>
                    <a:pt x="1354" y="788"/>
                  </a:lnTo>
                  <a:lnTo>
                    <a:pt x="1352" y="800"/>
                  </a:lnTo>
                  <a:lnTo>
                    <a:pt x="1352" y="928"/>
                  </a:lnTo>
                  <a:lnTo>
                    <a:pt x="1352" y="928"/>
                  </a:lnTo>
                  <a:lnTo>
                    <a:pt x="1354" y="940"/>
                  </a:lnTo>
                  <a:lnTo>
                    <a:pt x="1356" y="952"/>
                  </a:lnTo>
                  <a:lnTo>
                    <a:pt x="1364" y="964"/>
                  </a:lnTo>
                  <a:lnTo>
                    <a:pt x="1372" y="972"/>
                  </a:lnTo>
                  <a:lnTo>
                    <a:pt x="1372" y="972"/>
                  </a:lnTo>
                  <a:lnTo>
                    <a:pt x="1382" y="980"/>
                  </a:lnTo>
                  <a:lnTo>
                    <a:pt x="1394" y="984"/>
                  </a:lnTo>
                  <a:lnTo>
                    <a:pt x="1406" y="986"/>
                  </a:lnTo>
                  <a:lnTo>
                    <a:pt x="1418" y="986"/>
                  </a:lnTo>
                  <a:lnTo>
                    <a:pt x="1418" y="986"/>
                  </a:lnTo>
                  <a:lnTo>
                    <a:pt x="1438" y="982"/>
                  </a:lnTo>
                  <a:lnTo>
                    <a:pt x="1438" y="1102"/>
                  </a:lnTo>
                  <a:lnTo>
                    <a:pt x="1438" y="1102"/>
                  </a:lnTo>
                  <a:lnTo>
                    <a:pt x="1438" y="1114"/>
                  </a:lnTo>
                  <a:lnTo>
                    <a:pt x="1442" y="1124"/>
                  </a:lnTo>
                  <a:lnTo>
                    <a:pt x="1448" y="1136"/>
                  </a:lnTo>
                  <a:lnTo>
                    <a:pt x="1456" y="1144"/>
                  </a:lnTo>
                  <a:lnTo>
                    <a:pt x="1456" y="1144"/>
                  </a:lnTo>
                  <a:lnTo>
                    <a:pt x="1466" y="1152"/>
                  </a:lnTo>
                  <a:lnTo>
                    <a:pt x="1478" y="1156"/>
                  </a:lnTo>
                  <a:lnTo>
                    <a:pt x="1490" y="1158"/>
                  </a:lnTo>
                  <a:lnTo>
                    <a:pt x="1502" y="1158"/>
                  </a:lnTo>
                  <a:lnTo>
                    <a:pt x="1502" y="1158"/>
                  </a:lnTo>
                  <a:lnTo>
                    <a:pt x="1528" y="1156"/>
                  </a:lnTo>
                  <a:lnTo>
                    <a:pt x="1556" y="1154"/>
                  </a:lnTo>
                  <a:lnTo>
                    <a:pt x="1630" y="1152"/>
                  </a:lnTo>
                  <a:lnTo>
                    <a:pt x="1672" y="1152"/>
                  </a:lnTo>
                  <a:lnTo>
                    <a:pt x="1672" y="1152"/>
                  </a:lnTo>
                  <a:lnTo>
                    <a:pt x="1668" y="1164"/>
                  </a:lnTo>
                  <a:lnTo>
                    <a:pt x="1666" y="1178"/>
                  </a:lnTo>
                  <a:lnTo>
                    <a:pt x="1668" y="1190"/>
                  </a:lnTo>
                  <a:lnTo>
                    <a:pt x="1672" y="1204"/>
                  </a:lnTo>
                  <a:lnTo>
                    <a:pt x="1672" y="1204"/>
                  </a:lnTo>
                  <a:lnTo>
                    <a:pt x="1686" y="1234"/>
                  </a:lnTo>
                  <a:lnTo>
                    <a:pt x="1696" y="1262"/>
                  </a:lnTo>
                  <a:lnTo>
                    <a:pt x="1702" y="1290"/>
                  </a:lnTo>
                  <a:lnTo>
                    <a:pt x="1708" y="1322"/>
                  </a:lnTo>
                  <a:lnTo>
                    <a:pt x="1708" y="1322"/>
                  </a:lnTo>
                  <a:lnTo>
                    <a:pt x="1710" y="1332"/>
                  </a:lnTo>
                  <a:lnTo>
                    <a:pt x="1714" y="1340"/>
                  </a:lnTo>
                  <a:lnTo>
                    <a:pt x="1720" y="1348"/>
                  </a:lnTo>
                  <a:lnTo>
                    <a:pt x="1726" y="1356"/>
                  </a:lnTo>
                  <a:lnTo>
                    <a:pt x="1734" y="1362"/>
                  </a:lnTo>
                  <a:lnTo>
                    <a:pt x="1742" y="1366"/>
                  </a:lnTo>
                  <a:lnTo>
                    <a:pt x="1752" y="1370"/>
                  </a:lnTo>
                  <a:lnTo>
                    <a:pt x="1762" y="1370"/>
                  </a:lnTo>
                  <a:lnTo>
                    <a:pt x="1762" y="1370"/>
                  </a:lnTo>
                  <a:lnTo>
                    <a:pt x="1824" y="1374"/>
                  </a:lnTo>
                  <a:lnTo>
                    <a:pt x="1896" y="1376"/>
                  </a:lnTo>
                  <a:lnTo>
                    <a:pt x="1896" y="1376"/>
                  </a:lnTo>
                  <a:lnTo>
                    <a:pt x="1956" y="1374"/>
                  </a:lnTo>
                  <a:lnTo>
                    <a:pt x="1984" y="1372"/>
                  </a:lnTo>
                  <a:lnTo>
                    <a:pt x="2010" y="1368"/>
                  </a:lnTo>
                  <a:lnTo>
                    <a:pt x="2032" y="1364"/>
                  </a:lnTo>
                  <a:lnTo>
                    <a:pt x="2054" y="1358"/>
                  </a:lnTo>
                  <a:lnTo>
                    <a:pt x="2072" y="1348"/>
                  </a:lnTo>
                  <a:lnTo>
                    <a:pt x="2090" y="1338"/>
                  </a:lnTo>
                  <a:lnTo>
                    <a:pt x="2104" y="1326"/>
                  </a:lnTo>
                  <a:lnTo>
                    <a:pt x="2118" y="1312"/>
                  </a:lnTo>
                  <a:lnTo>
                    <a:pt x="2128" y="1296"/>
                  </a:lnTo>
                  <a:lnTo>
                    <a:pt x="2138" y="1276"/>
                  </a:lnTo>
                  <a:lnTo>
                    <a:pt x="2144" y="1254"/>
                  </a:lnTo>
                  <a:lnTo>
                    <a:pt x="2148" y="1230"/>
                  </a:lnTo>
                  <a:lnTo>
                    <a:pt x="2152" y="1202"/>
                  </a:lnTo>
                  <a:lnTo>
                    <a:pt x="2152" y="1170"/>
                  </a:lnTo>
                  <a:lnTo>
                    <a:pt x="2152" y="1152"/>
                  </a:lnTo>
                  <a:lnTo>
                    <a:pt x="2338" y="1152"/>
                  </a:lnTo>
                  <a:lnTo>
                    <a:pt x="2338" y="1152"/>
                  </a:lnTo>
                  <a:lnTo>
                    <a:pt x="2340" y="1162"/>
                  </a:lnTo>
                  <a:lnTo>
                    <a:pt x="2344" y="1172"/>
                  </a:lnTo>
                  <a:lnTo>
                    <a:pt x="2350" y="1182"/>
                  </a:lnTo>
                  <a:lnTo>
                    <a:pt x="2356" y="1190"/>
                  </a:lnTo>
                  <a:lnTo>
                    <a:pt x="2366" y="1196"/>
                  </a:lnTo>
                  <a:lnTo>
                    <a:pt x="2374" y="1200"/>
                  </a:lnTo>
                  <a:lnTo>
                    <a:pt x="2384" y="1204"/>
                  </a:lnTo>
                  <a:lnTo>
                    <a:pt x="2396" y="1204"/>
                  </a:lnTo>
                  <a:lnTo>
                    <a:pt x="2548" y="1204"/>
                  </a:lnTo>
                  <a:lnTo>
                    <a:pt x="2548" y="1204"/>
                  </a:lnTo>
                  <a:lnTo>
                    <a:pt x="2560" y="1204"/>
                  </a:lnTo>
                  <a:lnTo>
                    <a:pt x="2572" y="1200"/>
                  </a:lnTo>
                  <a:lnTo>
                    <a:pt x="2582" y="1194"/>
                  </a:lnTo>
                  <a:lnTo>
                    <a:pt x="2592" y="1186"/>
                  </a:lnTo>
                  <a:lnTo>
                    <a:pt x="2592" y="1186"/>
                  </a:lnTo>
                  <a:lnTo>
                    <a:pt x="2598" y="1176"/>
                  </a:lnTo>
                  <a:lnTo>
                    <a:pt x="2604" y="1164"/>
                  </a:lnTo>
                  <a:lnTo>
                    <a:pt x="2606" y="1152"/>
                  </a:lnTo>
                  <a:lnTo>
                    <a:pt x="2604" y="1140"/>
                  </a:lnTo>
                  <a:lnTo>
                    <a:pt x="2604" y="1140"/>
                  </a:lnTo>
                  <a:lnTo>
                    <a:pt x="2602" y="1114"/>
                  </a:lnTo>
                  <a:lnTo>
                    <a:pt x="2600" y="1084"/>
                  </a:lnTo>
                  <a:lnTo>
                    <a:pt x="2598" y="1000"/>
                  </a:lnTo>
                  <a:lnTo>
                    <a:pt x="2598" y="980"/>
                  </a:lnTo>
                  <a:lnTo>
                    <a:pt x="2598" y="980"/>
                  </a:lnTo>
                  <a:lnTo>
                    <a:pt x="2626" y="982"/>
                  </a:lnTo>
                  <a:lnTo>
                    <a:pt x="2652" y="986"/>
                  </a:lnTo>
                  <a:lnTo>
                    <a:pt x="2652" y="986"/>
                  </a:lnTo>
                  <a:lnTo>
                    <a:pt x="2664" y="986"/>
                  </a:lnTo>
                  <a:lnTo>
                    <a:pt x="2676" y="984"/>
                  </a:lnTo>
                  <a:lnTo>
                    <a:pt x="2688" y="978"/>
                  </a:lnTo>
                  <a:lnTo>
                    <a:pt x="2698" y="972"/>
                  </a:lnTo>
                  <a:lnTo>
                    <a:pt x="2698" y="972"/>
                  </a:lnTo>
                  <a:lnTo>
                    <a:pt x="2706" y="962"/>
                  </a:lnTo>
                  <a:lnTo>
                    <a:pt x="2712" y="952"/>
                  </a:lnTo>
                  <a:lnTo>
                    <a:pt x="2716" y="940"/>
                  </a:lnTo>
                  <a:lnTo>
                    <a:pt x="2716" y="928"/>
                  </a:lnTo>
                  <a:lnTo>
                    <a:pt x="2716" y="800"/>
                  </a:lnTo>
                  <a:lnTo>
                    <a:pt x="2716" y="800"/>
                  </a:lnTo>
                  <a:lnTo>
                    <a:pt x="2716" y="788"/>
                  </a:lnTo>
                  <a:lnTo>
                    <a:pt x="2712" y="776"/>
                  </a:lnTo>
                  <a:lnTo>
                    <a:pt x="2706" y="766"/>
                  </a:lnTo>
                  <a:lnTo>
                    <a:pt x="2696" y="756"/>
                  </a:lnTo>
                  <a:lnTo>
                    <a:pt x="2696" y="756"/>
                  </a:lnTo>
                  <a:lnTo>
                    <a:pt x="2686" y="748"/>
                  </a:lnTo>
                  <a:lnTo>
                    <a:pt x="2676" y="744"/>
                  </a:lnTo>
                  <a:lnTo>
                    <a:pt x="2664" y="742"/>
                  </a:lnTo>
                  <a:lnTo>
                    <a:pt x="2650" y="742"/>
                  </a:lnTo>
                  <a:lnTo>
                    <a:pt x="2650" y="742"/>
                  </a:lnTo>
                  <a:close/>
                  <a:moveTo>
                    <a:pt x="1288" y="990"/>
                  </a:moveTo>
                  <a:lnTo>
                    <a:pt x="1288" y="990"/>
                  </a:lnTo>
                  <a:lnTo>
                    <a:pt x="1248" y="994"/>
                  </a:lnTo>
                  <a:lnTo>
                    <a:pt x="1208" y="996"/>
                  </a:lnTo>
                  <a:lnTo>
                    <a:pt x="1162" y="998"/>
                  </a:lnTo>
                  <a:lnTo>
                    <a:pt x="1110" y="998"/>
                  </a:lnTo>
                  <a:lnTo>
                    <a:pt x="804" y="998"/>
                  </a:lnTo>
                  <a:lnTo>
                    <a:pt x="804" y="386"/>
                  </a:lnTo>
                  <a:lnTo>
                    <a:pt x="1044" y="386"/>
                  </a:lnTo>
                  <a:lnTo>
                    <a:pt x="1044" y="386"/>
                  </a:lnTo>
                  <a:lnTo>
                    <a:pt x="1094" y="388"/>
                  </a:lnTo>
                  <a:lnTo>
                    <a:pt x="1138" y="388"/>
                  </a:lnTo>
                  <a:lnTo>
                    <a:pt x="1214" y="394"/>
                  </a:lnTo>
                  <a:lnTo>
                    <a:pt x="1214" y="394"/>
                  </a:lnTo>
                  <a:lnTo>
                    <a:pt x="1226" y="394"/>
                  </a:lnTo>
                  <a:lnTo>
                    <a:pt x="1236" y="392"/>
                  </a:lnTo>
                  <a:lnTo>
                    <a:pt x="1248" y="386"/>
                  </a:lnTo>
                  <a:lnTo>
                    <a:pt x="1258" y="380"/>
                  </a:lnTo>
                  <a:lnTo>
                    <a:pt x="1258" y="380"/>
                  </a:lnTo>
                  <a:lnTo>
                    <a:pt x="1266" y="370"/>
                  </a:lnTo>
                  <a:lnTo>
                    <a:pt x="1272" y="360"/>
                  </a:lnTo>
                  <a:lnTo>
                    <a:pt x="1274" y="350"/>
                  </a:lnTo>
                  <a:lnTo>
                    <a:pt x="1276" y="338"/>
                  </a:lnTo>
                  <a:lnTo>
                    <a:pt x="1276" y="178"/>
                  </a:lnTo>
                  <a:lnTo>
                    <a:pt x="1276" y="178"/>
                  </a:lnTo>
                  <a:lnTo>
                    <a:pt x="1274" y="166"/>
                  </a:lnTo>
                  <a:lnTo>
                    <a:pt x="1272" y="154"/>
                  </a:lnTo>
                  <a:lnTo>
                    <a:pt x="1266" y="144"/>
                  </a:lnTo>
                  <a:lnTo>
                    <a:pt x="1258" y="134"/>
                  </a:lnTo>
                  <a:lnTo>
                    <a:pt x="1258" y="134"/>
                  </a:lnTo>
                  <a:lnTo>
                    <a:pt x="1248" y="128"/>
                  </a:lnTo>
                  <a:lnTo>
                    <a:pt x="1236" y="122"/>
                  </a:lnTo>
                  <a:lnTo>
                    <a:pt x="1224" y="120"/>
                  </a:lnTo>
                  <a:lnTo>
                    <a:pt x="1212" y="120"/>
                  </a:lnTo>
                  <a:lnTo>
                    <a:pt x="1212" y="120"/>
                  </a:lnTo>
                  <a:lnTo>
                    <a:pt x="1140" y="126"/>
                  </a:lnTo>
                  <a:lnTo>
                    <a:pt x="1096" y="128"/>
                  </a:lnTo>
                  <a:lnTo>
                    <a:pt x="1044" y="128"/>
                  </a:lnTo>
                  <a:lnTo>
                    <a:pt x="312" y="128"/>
                  </a:lnTo>
                  <a:lnTo>
                    <a:pt x="312" y="128"/>
                  </a:lnTo>
                  <a:lnTo>
                    <a:pt x="256" y="128"/>
                  </a:lnTo>
                  <a:lnTo>
                    <a:pt x="212" y="126"/>
                  </a:lnTo>
                  <a:lnTo>
                    <a:pt x="174" y="124"/>
                  </a:lnTo>
                  <a:lnTo>
                    <a:pt x="142" y="120"/>
                  </a:lnTo>
                  <a:lnTo>
                    <a:pt x="142" y="120"/>
                  </a:lnTo>
                  <a:lnTo>
                    <a:pt x="130" y="120"/>
                  </a:lnTo>
                  <a:lnTo>
                    <a:pt x="118" y="122"/>
                  </a:lnTo>
                  <a:lnTo>
                    <a:pt x="108" y="128"/>
                  </a:lnTo>
                  <a:lnTo>
                    <a:pt x="98" y="134"/>
                  </a:lnTo>
                  <a:lnTo>
                    <a:pt x="98" y="134"/>
                  </a:lnTo>
                  <a:lnTo>
                    <a:pt x="90" y="144"/>
                  </a:lnTo>
                  <a:lnTo>
                    <a:pt x="84" y="154"/>
                  </a:lnTo>
                  <a:lnTo>
                    <a:pt x="80" y="164"/>
                  </a:lnTo>
                  <a:lnTo>
                    <a:pt x="78" y="17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0" y="350"/>
                  </a:lnTo>
                  <a:lnTo>
                    <a:pt x="84" y="360"/>
                  </a:lnTo>
                  <a:lnTo>
                    <a:pt x="90" y="372"/>
                  </a:lnTo>
                  <a:lnTo>
                    <a:pt x="98" y="380"/>
                  </a:lnTo>
                  <a:lnTo>
                    <a:pt x="98" y="380"/>
                  </a:lnTo>
                  <a:lnTo>
                    <a:pt x="106" y="388"/>
                  </a:lnTo>
                  <a:lnTo>
                    <a:pt x="118" y="392"/>
                  </a:lnTo>
                  <a:lnTo>
                    <a:pt x="130" y="394"/>
                  </a:lnTo>
                  <a:lnTo>
                    <a:pt x="142" y="394"/>
                  </a:lnTo>
                  <a:lnTo>
                    <a:pt x="142" y="394"/>
                  </a:lnTo>
                  <a:lnTo>
                    <a:pt x="214" y="388"/>
                  </a:lnTo>
                  <a:lnTo>
                    <a:pt x="258" y="388"/>
                  </a:lnTo>
                  <a:lnTo>
                    <a:pt x="310" y="386"/>
                  </a:lnTo>
                  <a:lnTo>
                    <a:pt x="528" y="386"/>
                  </a:lnTo>
                  <a:lnTo>
                    <a:pt x="528" y="998"/>
                  </a:lnTo>
                  <a:lnTo>
                    <a:pt x="246" y="998"/>
                  </a:lnTo>
                  <a:lnTo>
                    <a:pt x="246" y="998"/>
                  </a:lnTo>
                  <a:lnTo>
                    <a:pt x="192" y="998"/>
                  </a:lnTo>
                  <a:lnTo>
                    <a:pt x="146" y="996"/>
                  </a:lnTo>
                  <a:lnTo>
                    <a:pt x="106" y="994"/>
                  </a:lnTo>
                  <a:lnTo>
                    <a:pt x="66" y="990"/>
                  </a:lnTo>
                  <a:lnTo>
                    <a:pt x="66" y="990"/>
                  </a:lnTo>
                  <a:lnTo>
                    <a:pt x="52" y="990"/>
                  </a:lnTo>
                  <a:lnTo>
                    <a:pt x="42" y="992"/>
                  </a:lnTo>
                  <a:lnTo>
                    <a:pt x="30" y="996"/>
                  </a:lnTo>
                  <a:lnTo>
                    <a:pt x="20" y="1004"/>
                  </a:lnTo>
                  <a:lnTo>
                    <a:pt x="20" y="1004"/>
                  </a:lnTo>
                  <a:lnTo>
                    <a:pt x="12" y="1012"/>
                  </a:lnTo>
                  <a:lnTo>
                    <a:pt x="6" y="1024"/>
                  </a:lnTo>
                  <a:lnTo>
                    <a:pt x="2" y="1034"/>
                  </a:lnTo>
                  <a:lnTo>
                    <a:pt x="0" y="1046"/>
                  </a:lnTo>
                  <a:lnTo>
                    <a:pt x="0" y="1212"/>
                  </a:lnTo>
                  <a:lnTo>
                    <a:pt x="0" y="1212"/>
                  </a:lnTo>
                  <a:lnTo>
                    <a:pt x="2" y="1224"/>
                  </a:lnTo>
                  <a:lnTo>
                    <a:pt x="6" y="1234"/>
                  </a:lnTo>
                  <a:lnTo>
                    <a:pt x="12" y="1246"/>
                  </a:lnTo>
                  <a:lnTo>
                    <a:pt x="20" y="1254"/>
                  </a:lnTo>
                  <a:lnTo>
                    <a:pt x="20" y="1254"/>
                  </a:lnTo>
                  <a:lnTo>
                    <a:pt x="30" y="1262"/>
                  </a:lnTo>
                  <a:lnTo>
                    <a:pt x="40" y="1266"/>
                  </a:lnTo>
                  <a:lnTo>
                    <a:pt x="52" y="1268"/>
                  </a:lnTo>
                  <a:lnTo>
                    <a:pt x="64" y="1268"/>
                  </a:lnTo>
                  <a:lnTo>
                    <a:pt x="64" y="1268"/>
                  </a:lnTo>
                  <a:lnTo>
                    <a:pt x="106" y="1264"/>
                  </a:lnTo>
                  <a:lnTo>
                    <a:pt x="148" y="1262"/>
                  </a:lnTo>
                  <a:lnTo>
                    <a:pt x="192" y="1260"/>
                  </a:lnTo>
                  <a:lnTo>
                    <a:pt x="242" y="1260"/>
                  </a:lnTo>
                  <a:lnTo>
                    <a:pt x="1110" y="1260"/>
                  </a:lnTo>
                  <a:lnTo>
                    <a:pt x="1110" y="1260"/>
                  </a:lnTo>
                  <a:lnTo>
                    <a:pt x="1162" y="1260"/>
                  </a:lnTo>
                  <a:lnTo>
                    <a:pt x="1210" y="1262"/>
                  </a:lnTo>
                  <a:lnTo>
                    <a:pt x="1252" y="1264"/>
                  </a:lnTo>
                  <a:lnTo>
                    <a:pt x="1288" y="1268"/>
                  </a:lnTo>
                  <a:lnTo>
                    <a:pt x="1288" y="1268"/>
                  </a:lnTo>
                  <a:lnTo>
                    <a:pt x="1300" y="1268"/>
                  </a:lnTo>
                  <a:lnTo>
                    <a:pt x="1312" y="1266"/>
                  </a:lnTo>
                  <a:lnTo>
                    <a:pt x="1322" y="1262"/>
                  </a:lnTo>
                  <a:lnTo>
                    <a:pt x="1332" y="1254"/>
                  </a:lnTo>
                  <a:lnTo>
                    <a:pt x="1332" y="1254"/>
                  </a:lnTo>
                  <a:lnTo>
                    <a:pt x="1342" y="1246"/>
                  </a:lnTo>
                  <a:lnTo>
                    <a:pt x="1348" y="1236"/>
                  </a:lnTo>
                  <a:lnTo>
                    <a:pt x="1350" y="1224"/>
                  </a:lnTo>
                  <a:lnTo>
                    <a:pt x="1352" y="1212"/>
                  </a:lnTo>
                  <a:lnTo>
                    <a:pt x="1352" y="1046"/>
                  </a:lnTo>
                  <a:lnTo>
                    <a:pt x="1352" y="1046"/>
                  </a:lnTo>
                  <a:lnTo>
                    <a:pt x="1352" y="1034"/>
                  </a:lnTo>
                  <a:lnTo>
                    <a:pt x="1348" y="1024"/>
                  </a:lnTo>
                  <a:lnTo>
                    <a:pt x="1342" y="1012"/>
                  </a:lnTo>
                  <a:lnTo>
                    <a:pt x="1332" y="1004"/>
                  </a:lnTo>
                  <a:lnTo>
                    <a:pt x="1332" y="1004"/>
                  </a:lnTo>
                  <a:lnTo>
                    <a:pt x="1322" y="996"/>
                  </a:lnTo>
                  <a:lnTo>
                    <a:pt x="1312" y="992"/>
                  </a:lnTo>
                  <a:lnTo>
                    <a:pt x="1300" y="990"/>
                  </a:lnTo>
                  <a:lnTo>
                    <a:pt x="1288" y="990"/>
                  </a:lnTo>
                  <a:lnTo>
                    <a:pt x="1288" y="990"/>
                  </a:lnTo>
                  <a:close/>
                  <a:moveTo>
                    <a:pt x="4016" y="950"/>
                  </a:moveTo>
                  <a:lnTo>
                    <a:pt x="4016" y="950"/>
                  </a:lnTo>
                  <a:lnTo>
                    <a:pt x="4012" y="924"/>
                  </a:lnTo>
                  <a:lnTo>
                    <a:pt x="4010" y="896"/>
                  </a:lnTo>
                  <a:lnTo>
                    <a:pt x="4010" y="822"/>
                  </a:lnTo>
                  <a:lnTo>
                    <a:pt x="4010" y="406"/>
                  </a:lnTo>
                  <a:lnTo>
                    <a:pt x="4010" y="406"/>
                  </a:lnTo>
                  <a:lnTo>
                    <a:pt x="4010" y="344"/>
                  </a:lnTo>
                  <a:lnTo>
                    <a:pt x="4014" y="294"/>
                  </a:lnTo>
                  <a:lnTo>
                    <a:pt x="4014" y="294"/>
                  </a:lnTo>
                  <a:lnTo>
                    <a:pt x="4014" y="280"/>
                  </a:lnTo>
                  <a:lnTo>
                    <a:pt x="4012" y="268"/>
                  </a:lnTo>
                  <a:lnTo>
                    <a:pt x="4006" y="256"/>
                  </a:lnTo>
                  <a:lnTo>
                    <a:pt x="3998" y="246"/>
                  </a:lnTo>
                  <a:lnTo>
                    <a:pt x="3998" y="246"/>
                  </a:lnTo>
                  <a:lnTo>
                    <a:pt x="3988" y="238"/>
                  </a:lnTo>
                  <a:lnTo>
                    <a:pt x="3976" y="232"/>
                  </a:lnTo>
                  <a:lnTo>
                    <a:pt x="3964" y="230"/>
                  </a:lnTo>
                  <a:lnTo>
                    <a:pt x="3950" y="230"/>
                  </a:lnTo>
                  <a:lnTo>
                    <a:pt x="3950" y="230"/>
                  </a:lnTo>
                  <a:lnTo>
                    <a:pt x="3900" y="234"/>
                  </a:lnTo>
                  <a:lnTo>
                    <a:pt x="3834" y="236"/>
                  </a:lnTo>
                  <a:lnTo>
                    <a:pt x="3518" y="236"/>
                  </a:lnTo>
                  <a:lnTo>
                    <a:pt x="3518" y="204"/>
                  </a:lnTo>
                  <a:lnTo>
                    <a:pt x="3518" y="204"/>
                  </a:lnTo>
                  <a:lnTo>
                    <a:pt x="3520" y="162"/>
                  </a:lnTo>
                  <a:lnTo>
                    <a:pt x="3520" y="128"/>
                  </a:lnTo>
                  <a:lnTo>
                    <a:pt x="3526" y="68"/>
                  </a:lnTo>
                  <a:lnTo>
                    <a:pt x="3526" y="68"/>
                  </a:lnTo>
                  <a:lnTo>
                    <a:pt x="3526" y="56"/>
                  </a:lnTo>
                  <a:lnTo>
                    <a:pt x="3524" y="44"/>
                  </a:lnTo>
                  <a:lnTo>
                    <a:pt x="3520" y="34"/>
                  </a:lnTo>
                  <a:lnTo>
                    <a:pt x="3512" y="24"/>
                  </a:lnTo>
                  <a:lnTo>
                    <a:pt x="3512" y="24"/>
                  </a:lnTo>
                  <a:lnTo>
                    <a:pt x="3504" y="16"/>
                  </a:lnTo>
                  <a:lnTo>
                    <a:pt x="3494" y="10"/>
                  </a:lnTo>
                  <a:lnTo>
                    <a:pt x="3482" y="6"/>
                  </a:lnTo>
                  <a:lnTo>
                    <a:pt x="3470" y="4"/>
                  </a:lnTo>
                  <a:lnTo>
                    <a:pt x="3298" y="4"/>
                  </a:lnTo>
                  <a:lnTo>
                    <a:pt x="3298" y="4"/>
                  </a:lnTo>
                  <a:lnTo>
                    <a:pt x="3286" y="6"/>
                  </a:lnTo>
                  <a:lnTo>
                    <a:pt x="3274" y="10"/>
                  </a:lnTo>
                  <a:lnTo>
                    <a:pt x="3264" y="16"/>
                  </a:lnTo>
                  <a:lnTo>
                    <a:pt x="3254" y="24"/>
                  </a:lnTo>
                  <a:lnTo>
                    <a:pt x="3254" y="24"/>
                  </a:lnTo>
                  <a:lnTo>
                    <a:pt x="3248" y="34"/>
                  </a:lnTo>
                  <a:lnTo>
                    <a:pt x="3244" y="46"/>
                  </a:lnTo>
                  <a:lnTo>
                    <a:pt x="3242" y="58"/>
                  </a:lnTo>
                  <a:lnTo>
                    <a:pt x="3242" y="70"/>
                  </a:lnTo>
                  <a:lnTo>
                    <a:pt x="3242" y="70"/>
                  </a:lnTo>
                  <a:lnTo>
                    <a:pt x="3246" y="98"/>
                  </a:lnTo>
                  <a:lnTo>
                    <a:pt x="3248" y="128"/>
                  </a:lnTo>
                  <a:lnTo>
                    <a:pt x="3250" y="210"/>
                  </a:lnTo>
                  <a:lnTo>
                    <a:pt x="3250" y="236"/>
                  </a:lnTo>
                  <a:lnTo>
                    <a:pt x="2948" y="236"/>
                  </a:lnTo>
                  <a:lnTo>
                    <a:pt x="2948" y="236"/>
                  </a:lnTo>
                  <a:lnTo>
                    <a:pt x="2886" y="234"/>
                  </a:lnTo>
                  <a:lnTo>
                    <a:pt x="2832" y="230"/>
                  </a:lnTo>
                  <a:lnTo>
                    <a:pt x="2832" y="230"/>
                  </a:lnTo>
                  <a:lnTo>
                    <a:pt x="2820" y="230"/>
                  </a:lnTo>
                  <a:lnTo>
                    <a:pt x="2808" y="232"/>
                  </a:lnTo>
                  <a:lnTo>
                    <a:pt x="2796" y="238"/>
                  </a:lnTo>
                  <a:lnTo>
                    <a:pt x="2786" y="246"/>
                  </a:lnTo>
                  <a:lnTo>
                    <a:pt x="2786" y="246"/>
                  </a:lnTo>
                  <a:lnTo>
                    <a:pt x="2778" y="256"/>
                  </a:lnTo>
                  <a:lnTo>
                    <a:pt x="2772" y="268"/>
                  </a:lnTo>
                  <a:lnTo>
                    <a:pt x="2770" y="280"/>
                  </a:lnTo>
                  <a:lnTo>
                    <a:pt x="2770" y="292"/>
                  </a:lnTo>
                  <a:lnTo>
                    <a:pt x="2770" y="292"/>
                  </a:lnTo>
                  <a:lnTo>
                    <a:pt x="2774" y="346"/>
                  </a:lnTo>
                  <a:lnTo>
                    <a:pt x="2774" y="406"/>
                  </a:lnTo>
                  <a:lnTo>
                    <a:pt x="2774" y="822"/>
                  </a:lnTo>
                  <a:lnTo>
                    <a:pt x="2774" y="822"/>
                  </a:lnTo>
                  <a:lnTo>
                    <a:pt x="2774" y="892"/>
                  </a:lnTo>
                  <a:lnTo>
                    <a:pt x="2768" y="950"/>
                  </a:lnTo>
                  <a:lnTo>
                    <a:pt x="2768" y="950"/>
                  </a:lnTo>
                  <a:lnTo>
                    <a:pt x="2768" y="962"/>
                  </a:lnTo>
                  <a:lnTo>
                    <a:pt x="2770" y="974"/>
                  </a:lnTo>
                  <a:lnTo>
                    <a:pt x="2776" y="986"/>
                  </a:lnTo>
                  <a:lnTo>
                    <a:pt x="2782" y="996"/>
                  </a:lnTo>
                  <a:lnTo>
                    <a:pt x="2782" y="996"/>
                  </a:lnTo>
                  <a:lnTo>
                    <a:pt x="2792" y="1004"/>
                  </a:lnTo>
                  <a:lnTo>
                    <a:pt x="2802" y="1010"/>
                  </a:lnTo>
                  <a:lnTo>
                    <a:pt x="2814" y="1014"/>
                  </a:lnTo>
                  <a:lnTo>
                    <a:pt x="2826" y="1014"/>
                  </a:lnTo>
                  <a:lnTo>
                    <a:pt x="2986" y="1014"/>
                  </a:lnTo>
                  <a:lnTo>
                    <a:pt x="2986" y="1014"/>
                  </a:lnTo>
                  <a:lnTo>
                    <a:pt x="2998" y="1014"/>
                  </a:lnTo>
                  <a:lnTo>
                    <a:pt x="3008" y="1010"/>
                  </a:lnTo>
                  <a:lnTo>
                    <a:pt x="3018" y="1004"/>
                  </a:lnTo>
                  <a:lnTo>
                    <a:pt x="3026" y="998"/>
                  </a:lnTo>
                  <a:lnTo>
                    <a:pt x="3034" y="990"/>
                  </a:lnTo>
                  <a:lnTo>
                    <a:pt x="3038" y="980"/>
                  </a:lnTo>
                  <a:lnTo>
                    <a:pt x="3042" y="968"/>
                  </a:lnTo>
                  <a:lnTo>
                    <a:pt x="3044" y="958"/>
                  </a:lnTo>
                  <a:lnTo>
                    <a:pt x="3044" y="932"/>
                  </a:lnTo>
                  <a:lnTo>
                    <a:pt x="3250" y="932"/>
                  </a:lnTo>
                  <a:lnTo>
                    <a:pt x="3250" y="1152"/>
                  </a:lnTo>
                  <a:lnTo>
                    <a:pt x="3250" y="1152"/>
                  </a:lnTo>
                  <a:lnTo>
                    <a:pt x="3248" y="1200"/>
                  </a:lnTo>
                  <a:lnTo>
                    <a:pt x="3248" y="1240"/>
                  </a:lnTo>
                  <a:lnTo>
                    <a:pt x="3244" y="1276"/>
                  </a:lnTo>
                  <a:lnTo>
                    <a:pt x="3240" y="1312"/>
                  </a:lnTo>
                  <a:lnTo>
                    <a:pt x="3240" y="1312"/>
                  </a:lnTo>
                  <a:lnTo>
                    <a:pt x="3240" y="1324"/>
                  </a:lnTo>
                  <a:lnTo>
                    <a:pt x="3242" y="1336"/>
                  </a:lnTo>
                  <a:lnTo>
                    <a:pt x="3246" y="1348"/>
                  </a:lnTo>
                  <a:lnTo>
                    <a:pt x="3254" y="1358"/>
                  </a:lnTo>
                  <a:lnTo>
                    <a:pt x="3254" y="1358"/>
                  </a:lnTo>
                  <a:lnTo>
                    <a:pt x="3262" y="1366"/>
                  </a:lnTo>
                  <a:lnTo>
                    <a:pt x="3274" y="1372"/>
                  </a:lnTo>
                  <a:lnTo>
                    <a:pt x="3284" y="1376"/>
                  </a:lnTo>
                  <a:lnTo>
                    <a:pt x="3296" y="1378"/>
                  </a:lnTo>
                  <a:lnTo>
                    <a:pt x="3470" y="1378"/>
                  </a:lnTo>
                  <a:lnTo>
                    <a:pt x="3470" y="1378"/>
                  </a:lnTo>
                  <a:lnTo>
                    <a:pt x="3484" y="1376"/>
                  </a:lnTo>
                  <a:lnTo>
                    <a:pt x="3494" y="1372"/>
                  </a:lnTo>
                  <a:lnTo>
                    <a:pt x="3506" y="1366"/>
                  </a:lnTo>
                  <a:lnTo>
                    <a:pt x="3514" y="1358"/>
                  </a:lnTo>
                  <a:lnTo>
                    <a:pt x="3514" y="1358"/>
                  </a:lnTo>
                  <a:lnTo>
                    <a:pt x="3522" y="1348"/>
                  </a:lnTo>
                  <a:lnTo>
                    <a:pt x="3526" y="1336"/>
                  </a:lnTo>
                  <a:lnTo>
                    <a:pt x="3528" y="1324"/>
                  </a:lnTo>
                  <a:lnTo>
                    <a:pt x="3528" y="1312"/>
                  </a:lnTo>
                  <a:lnTo>
                    <a:pt x="3528" y="1312"/>
                  </a:lnTo>
                  <a:lnTo>
                    <a:pt x="3524" y="1282"/>
                  </a:lnTo>
                  <a:lnTo>
                    <a:pt x="3520" y="1248"/>
                  </a:lnTo>
                  <a:lnTo>
                    <a:pt x="3520" y="1206"/>
                  </a:lnTo>
                  <a:lnTo>
                    <a:pt x="3518" y="1152"/>
                  </a:lnTo>
                  <a:lnTo>
                    <a:pt x="3518" y="932"/>
                  </a:lnTo>
                  <a:lnTo>
                    <a:pt x="3742" y="932"/>
                  </a:lnTo>
                  <a:lnTo>
                    <a:pt x="3742" y="958"/>
                  </a:lnTo>
                  <a:lnTo>
                    <a:pt x="3742" y="958"/>
                  </a:lnTo>
                  <a:lnTo>
                    <a:pt x="3742" y="968"/>
                  </a:lnTo>
                  <a:lnTo>
                    <a:pt x="3746" y="980"/>
                  </a:lnTo>
                  <a:lnTo>
                    <a:pt x="3750" y="990"/>
                  </a:lnTo>
                  <a:lnTo>
                    <a:pt x="3758" y="998"/>
                  </a:lnTo>
                  <a:lnTo>
                    <a:pt x="3766" y="1004"/>
                  </a:lnTo>
                  <a:lnTo>
                    <a:pt x="3776" y="1010"/>
                  </a:lnTo>
                  <a:lnTo>
                    <a:pt x="3786" y="1014"/>
                  </a:lnTo>
                  <a:lnTo>
                    <a:pt x="3798" y="1014"/>
                  </a:lnTo>
                  <a:lnTo>
                    <a:pt x="3958" y="1014"/>
                  </a:lnTo>
                  <a:lnTo>
                    <a:pt x="3958" y="1014"/>
                  </a:lnTo>
                  <a:lnTo>
                    <a:pt x="3972" y="1014"/>
                  </a:lnTo>
                  <a:lnTo>
                    <a:pt x="3982" y="1010"/>
                  </a:lnTo>
                  <a:lnTo>
                    <a:pt x="3994" y="1004"/>
                  </a:lnTo>
                  <a:lnTo>
                    <a:pt x="4002" y="994"/>
                  </a:lnTo>
                  <a:lnTo>
                    <a:pt x="4002" y="994"/>
                  </a:lnTo>
                  <a:lnTo>
                    <a:pt x="4010" y="984"/>
                  </a:lnTo>
                  <a:lnTo>
                    <a:pt x="4014" y="974"/>
                  </a:lnTo>
                  <a:lnTo>
                    <a:pt x="4016" y="962"/>
                  </a:lnTo>
                  <a:lnTo>
                    <a:pt x="4016" y="950"/>
                  </a:lnTo>
                  <a:lnTo>
                    <a:pt x="4016" y="950"/>
                  </a:lnTo>
                  <a:close/>
                  <a:moveTo>
                    <a:pt x="3250" y="674"/>
                  </a:moveTo>
                  <a:lnTo>
                    <a:pt x="3044" y="674"/>
                  </a:lnTo>
                  <a:lnTo>
                    <a:pt x="3044" y="494"/>
                  </a:lnTo>
                  <a:lnTo>
                    <a:pt x="3250" y="494"/>
                  </a:lnTo>
                  <a:lnTo>
                    <a:pt x="3250" y="674"/>
                  </a:lnTo>
                  <a:close/>
                  <a:moveTo>
                    <a:pt x="3742" y="674"/>
                  </a:moveTo>
                  <a:lnTo>
                    <a:pt x="3518" y="674"/>
                  </a:lnTo>
                  <a:lnTo>
                    <a:pt x="3518" y="494"/>
                  </a:lnTo>
                  <a:lnTo>
                    <a:pt x="3742" y="494"/>
                  </a:lnTo>
                  <a:lnTo>
                    <a:pt x="3742" y="6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0"/>
            <p:cNvSpPr/>
            <p:nvPr/>
          </p:nvSpPr>
          <p:spPr>
            <a:xfrm>
              <a:off x="2422080" y="8099280"/>
              <a:ext cx="1962000" cy="1641600"/>
            </a:xfrm>
            <a:custGeom>
              <a:avLst/>
              <a:gdLst>
                <a:gd name="textAreaLeft" fmla="*/ 0 w 1962000"/>
                <a:gd name="textAreaRight" fmla="*/ 1962360 w 1962000"/>
                <a:gd name="textAreaTop" fmla="*/ 0 h 1641600"/>
                <a:gd name="textAreaBottom" fmla="*/ 1641960 h 1641600"/>
              </a:gdLst>
              <a:ahLst/>
              <a:rect l="textAreaLeft" t="textAreaTop" r="textAreaRight" b="textAreaBottom"/>
              <a:pathLst>
                <a:path w="1236" h="1034">
                  <a:moveTo>
                    <a:pt x="252" y="152"/>
                  </a:moveTo>
                  <a:lnTo>
                    <a:pt x="252" y="152"/>
                  </a:lnTo>
                  <a:lnTo>
                    <a:pt x="158" y="154"/>
                  </a:lnTo>
                  <a:lnTo>
                    <a:pt x="78" y="16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114" y="2"/>
                  </a:lnTo>
                  <a:lnTo>
                    <a:pt x="152" y="6"/>
                  </a:lnTo>
                  <a:lnTo>
                    <a:pt x="198" y="6"/>
                  </a:lnTo>
                  <a:lnTo>
                    <a:pt x="254" y="8"/>
                  </a:lnTo>
                  <a:lnTo>
                    <a:pt x="986" y="8"/>
                  </a:lnTo>
                  <a:lnTo>
                    <a:pt x="986" y="8"/>
                  </a:lnTo>
                  <a:lnTo>
                    <a:pt x="1040" y="6"/>
                  </a:lnTo>
                  <a:lnTo>
                    <a:pt x="1084" y="6"/>
                  </a:lnTo>
                  <a:lnTo>
                    <a:pt x="1122" y="2"/>
                  </a:lnTo>
                  <a:lnTo>
                    <a:pt x="1160" y="0"/>
                  </a:lnTo>
                  <a:lnTo>
                    <a:pt x="1160" y="160"/>
                  </a:lnTo>
                  <a:lnTo>
                    <a:pt x="1160" y="160"/>
                  </a:lnTo>
                  <a:lnTo>
                    <a:pt x="1080" y="154"/>
                  </a:lnTo>
                  <a:lnTo>
                    <a:pt x="986" y="152"/>
                  </a:lnTo>
                  <a:lnTo>
                    <a:pt x="688" y="152"/>
                  </a:lnTo>
                  <a:lnTo>
                    <a:pt x="688" y="878"/>
                  </a:lnTo>
                  <a:lnTo>
                    <a:pt x="1052" y="878"/>
                  </a:lnTo>
                  <a:lnTo>
                    <a:pt x="1052" y="878"/>
                  </a:lnTo>
                  <a:lnTo>
                    <a:pt x="1106" y="878"/>
                  </a:lnTo>
                  <a:lnTo>
                    <a:pt x="1154" y="876"/>
                  </a:lnTo>
                  <a:lnTo>
                    <a:pt x="1196" y="874"/>
                  </a:lnTo>
                  <a:lnTo>
                    <a:pt x="1236" y="868"/>
                  </a:lnTo>
                  <a:lnTo>
                    <a:pt x="1236" y="1034"/>
                  </a:lnTo>
                  <a:lnTo>
                    <a:pt x="1236" y="1034"/>
                  </a:lnTo>
                  <a:lnTo>
                    <a:pt x="1198" y="1028"/>
                  </a:lnTo>
                  <a:lnTo>
                    <a:pt x="1154" y="1026"/>
                  </a:lnTo>
                  <a:lnTo>
                    <a:pt x="1104" y="1024"/>
                  </a:lnTo>
                  <a:lnTo>
                    <a:pt x="1052" y="1024"/>
                  </a:lnTo>
                  <a:lnTo>
                    <a:pt x="184" y="1024"/>
                  </a:lnTo>
                  <a:lnTo>
                    <a:pt x="184" y="1024"/>
                  </a:lnTo>
                  <a:lnTo>
                    <a:pt x="134" y="1024"/>
                  </a:lnTo>
                  <a:lnTo>
                    <a:pt x="88" y="1026"/>
                  </a:lnTo>
                  <a:lnTo>
                    <a:pt x="44" y="1028"/>
                  </a:lnTo>
                  <a:lnTo>
                    <a:pt x="0" y="1034"/>
                  </a:lnTo>
                  <a:lnTo>
                    <a:pt x="0" y="868"/>
                  </a:lnTo>
                  <a:lnTo>
                    <a:pt x="0" y="868"/>
                  </a:lnTo>
                  <a:lnTo>
                    <a:pt x="42" y="874"/>
                  </a:lnTo>
                  <a:lnTo>
                    <a:pt x="84" y="876"/>
                  </a:lnTo>
                  <a:lnTo>
                    <a:pt x="132" y="878"/>
                  </a:lnTo>
                  <a:lnTo>
                    <a:pt x="188" y="878"/>
                  </a:lnTo>
                  <a:lnTo>
                    <a:pt x="528" y="878"/>
                  </a:lnTo>
                  <a:lnTo>
                    <a:pt x="528" y="152"/>
                  </a:lnTo>
                  <a:lnTo>
                    <a:pt x="252" y="15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21"/>
            <p:cNvSpPr/>
            <p:nvPr/>
          </p:nvSpPr>
          <p:spPr>
            <a:xfrm>
              <a:off x="4568760" y="7908480"/>
              <a:ext cx="1984320" cy="2000520"/>
            </a:xfrm>
            <a:custGeom>
              <a:avLst/>
              <a:gdLst>
                <a:gd name="textAreaLeft" fmla="*/ 0 w 1984320"/>
                <a:gd name="textAreaRight" fmla="*/ 1984680 w 1984320"/>
                <a:gd name="textAreaTop" fmla="*/ 0 h 2000520"/>
                <a:gd name="textAreaBottom" fmla="*/ 2000880 h 2000520"/>
              </a:gdLst>
              <a:ahLst/>
              <a:rect l="textAreaLeft" t="textAreaTop" r="textAreaRight" b="textAreaBottom"/>
              <a:pathLst>
                <a:path w="1250" h="1260">
                  <a:moveTo>
                    <a:pt x="538" y="688"/>
                  </a:moveTo>
                  <a:lnTo>
                    <a:pt x="216" y="688"/>
                  </a:lnTo>
                  <a:lnTo>
                    <a:pt x="216" y="688"/>
                  </a:lnTo>
                  <a:lnTo>
                    <a:pt x="150" y="690"/>
                  </a:lnTo>
                  <a:lnTo>
                    <a:pt x="92" y="694"/>
                  </a:lnTo>
                  <a:lnTo>
                    <a:pt x="92" y="576"/>
                  </a:lnTo>
                  <a:lnTo>
                    <a:pt x="92" y="576"/>
                  </a:lnTo>
                  <a:lnTo>
                    <a:pt x="146" y="580"/>
                  </a:lnTo>
                  <a:lnTo>
                    <a:pt x="220" y="582"/>
                  </a:lnTo>
                  <a:lnTo>
                    <a:pt x="538" y="582"/>
                  </a:lnTo>
                  <a:lnTo>
                    <a:pt x="538" y="530"/>
                  </a:lnTo>
                  <a:lnTo>
                    <a:pt x="250" y="530"/>
                  </a:lnTo>
                  <a:lnTo>
                    <a:pt x="250" y="530"/>
                  </a:lnTo>
                  <a:lnTo>
                    <a:pt x="186" y="530"/>
                  </a:lnTo>
                  <a:lnTo>
                    <a:pt x="136" y="534"/>
                  </a:lnTo>
                  <a:lnTo>
                    <a:pt x="136" y="534"/>
                  </a:lnTo>
                  <a:lnTo>
                    <a:pt x="140" y="490"/>
                  </a:lnTo>
                  <a:lnTo>
                    <a:pt x="140" y="442"/>
                  </a:lnTo>
                  <a:lnTo>
                    <a:pt x="140" y="352"/>
                  </a:lnTo>
                  <a:lnTo>
                    <a:pt x="140" y="352"/>
                  </a:lnTo>
                  <a:lnTo>
                    <a:pt x="140" y="304"/>
                  </a:lnTo>
                  <a:lnTo>
                    <a:pt x="136" y="258"/>
                  </a:lnTo>
                  <a:lnTo>
                    <a:pt x="136" y="258"/>
                  </a:lnTo>
                  <a:lnTo>
                    <a:pt x="188" y="260"/>
                  </a:lnTo>
                  <a:lnTo>
                    <a:pt x="252" y="262"/>
                  </a:lnTo>
                  <a:lnTo>
                    <a:pt x="538" y="262"/>
                  </a:lnTo>
                  <a:lnTo>
                    <a:pt x="538" y="210"/>
                  </a:lnTo>
                  <a:lnTo>
                    <a:pt x="166" y="210"/>
                  </a:lnTo>
                  <a:lnTo>
                    <a:pt x="166" y="210"/>
                  </a:lnTo>
                  <a:lnTo>
                    <a:pt x="80" y="212"/>
                  </a:lnTo>
                  <a:lnTo>
                    <a:pt x="8" y="218"/>
                  </a:lnTo>
                  <a:lnTo>
                    <a:pt x="8" y="84"/>
                  </a:lnTo>
                  <a:lnTo>
                    <a:pt x="8" y="84"/>
                  </a:lnTo>
                  <a:lnTo>
                    <a:pt x="40" y="88"/>
                  </a:lnTo>
                  <a:lnTo>
                    <a:pt x="78" y="90"/>
                  </a:lnTo>
                  <a:lnTo>
                    <a:pt x="120" y="92"/>
                  </a:lnTo>
                  <a:lnTo>
                    <a:pt x="174" y="92"/>
                  </a:lnTo>
                  <a:lnTo>
                    <a:pt x="538" y="92"/>
                  </a:lnTo>
                  <a:lnTo>
                    <a:pt x="538" y="92"/>
                  </a:lnTo>
                  <a:lnTo>
                    <a:pt x="536" y="38"/>
                  </a:lnTo>
                  <a:lnTo>
                    <a:pt x="530" y="0"/>
                  </a:lnTo>
                  <a:lnTo>
                    <a:pt x="694" y="0"/>
                  </a:lnTo>
                  <a:lnTo>
                    <a:pt x="694" y="0"/>
                  </a:lnTo>
                  <a:lnTo>
                    <a:pt x="690" y="20"/>
                  </a:lnTo>
                  <a:lnTo>
                    <a:pt x="688" y="38"/>
                  </a:lnTo>
                  <a:lnTo>
                    <a:pt x="686" y="92"/>
                  </a:lnTo>
                  <a:lnTo>
                    <a:pt x="1068" y="92"/>
                  </a:lnTo>
                  <a:lnTo>
                    <a:pt x="1068" y="92"/>
                  </a:lnTo>
                  <a:lnTo>
                    <a:pt x="1120" y="92"/>
                  </a:lnTo>
                  <a:lnTo>
                    <a:pt x="1164" y="90"/>
                  </a:lnTo>
                  <a:lnTo>
                    <a:pt x="1202" y="88"/>
                  </a:lnTo>
                  <a:lnTo>
                    <a:pt x="1234" y="84"/>
                  </a:lnTo>
                  <a:lnTo>
                    <a:pt x="1234" y="218"/>
                  </a:lnTo>
                  <a:lnTo>
                    <a:pt x="1234" y="218"/>
                  </a:lnTo>
                  <a:lnTo>
                    <a:pt x="1200" y="214"/>
                  </a:lnTo>
                  <a:lnTo>
                    <a:pt x="1162" y="212"/>
                  </a:lnTo>
                  <a:lnTo>
                    <a:pt x="1076" y="210"/>
                  </a:lnTo>
                  <a:lnTo>
                    <a:pt x="686" y="210"/>
                  </a:lnTo>
                  <a:lnTo>
                    <a:pt x="686" y="262"/>
                  </a:lnTo>
                  <a:lnTo>
                    <a:pt x="992" y="262"/>
                  </a:lnTo>
                  <a:lnTo>
                    <a:pt x="992" y="262"/>
                  </a:lnTo>
                  <a:lnTo>
                    <a:pt x="1056" y="260"/>
                  </a:lnTo>
                  <a:lnTo>
                    <a:pt x="1106" y="258"/>
                  </a:lnTo>
                  <a:lnTo>
                    <a:pt x="1106" y="258"/>
                  </a:lnTo>
                  <a:lnTo>
                    <a:pt x="1104" y="300"/>
                  </a:lnTo>
                  <a:lnTo>
                    <a:pt x="1102" y="352"/>
                  </a:lnTo>
                  <a:lnTo>
                    <a:pt x="1102" y="442"/>
                  </a:lnTo>
                  <a:lnTo>
                    <a:pt x="1102" y="442"/>
                  </a:lnTo>
                  <a:lnTo>
                    <a:pt x="1104" y="492"/>
                  </a:lnTo>
                  <a:lnTo>
                    <a:pt x="1106" y="534"/>
                  </a:lnTo>
                  <a:lnTo>
                    <a:pt x="1106" y="534"/>
                  </a:lnTo>
                  <a:lnTo>
                    <a:pt x="1058" y="530"/>
                  </a:lnTo>
                  <a:lnTo>
                    <a:pt x="998" y="530"/>
                  </a:lnTo>
                  <a:lnTo>
                    <a:pt x="686" y="530"/>
                  </a:lnTo>
                  <a:lnTo>
                    <a:pt x="686" y="582"/>
                  </a:lnTo>
                  <a:lnTo>
                    <a:pt x="990" y="582"/>
                  </a:lnTo>
                  <a:lnTo>
                    <a:pt x="990" y="582"/>
                  </a:lnTo>
                  <a:lnTo>
                    <a:pt x="1078" y="580"/>
                  </a:lnTo>
                  <a:lnTo>
                    <a:pt x="1136" y="578"/>
                  </a:lnTo>
                  <a:lnTo>
                    <a:pt x="1136" y="578"/>
                  </a:lnTo>
                  <a:lnTo>
                    <a:pt x="1132" y="600"/>
                  </a:lnTo>
                  <a:lnTo>
                    <a:pt x="1132" y="626"/>
                  </a:lnTo>
                  <a:lnTo>
                    <a:pt x="1132" y="700"/>
                  </a:lnTo>
                  <a:lnTo>
                    <a:pt x="1132" y="748"/>
                  </a:lnTo>
                  <a:lnTo>
                    <a:pt x="1132" y="748"/>
                  </a:lnTo>
                  <a:lnTo>
                    <a:pt x="1202" y="746"/>
                  </a:lnTo>
                  <a:lnTo>
                    <a:pt x="1250" y="742"/>
                  </a:lnTo>
                  <a:lnTo>
                    <a:pt x="1250" y="870"/>
                  </a:lnTo>
                  <a:lnTo>
                    <a:pt x="1250" y="870"/>
                  </a:lnTo>
                  <a:lnTo>
                    <a:pt x="1200" y="866"/>
                  </a:lnTo>
                  <a:lnTo>
                    <a:pt x="1170" y="864"/>
                  </a:lnTo>
                  <a:lnTo>
                    <a:pt x="1132" y="864"/>
                  </a:lnTo>
                  <a:lnTo>
                    <a:pt x="1132" y="942"/>
                  </a:lnTo>
                  <a:lnTo>
                    <a:pt x="1132" y="942"/>
                  </a:lnTo>
                  <a:lnTo>
                    <a:pt x="1132" y="1028"/>
                  </a:lnTo>
                  <a:lnTo>
                    <a:pt x="1134" y="1060"/>
                  </a:lnTo>
                  <a:lnTo>
                    <a:pt x="1138" y="1090"/>
                  </a:lnTo>
                  <a:lnTo>
                    <a:pt x="986" y="1090"/>
                  </a:lnTo>
                  <a:lnTo>
                    <a:pt x="986" y="1036"/>
                  </a:lnTo>
                  <a:lnTo>
                    <a:pt x="686" y="1036"/>
                  </a:lnTo>
                  <a:lnTo>
                    <a:pt x="686" y="1112"/>
                  </a:lnTo>
                  <a:lnTo>
                    <a:pt x="686" y="1112"/>
                  </a:lnTo>
                  <a:lnTo>
                    <a:pt x="684" y="1154"/>
                  </a:lnTo>
                  <a:lnTo>
                    <a:pt x="682" y="1172"/>
                  </a:lnTo>
                  <a:lnTo>
                    <a:pt x="678" y="1188"/>
                  </a:lnTo>
                  <a:lnTo>
                    <a:pt x="672" y="1202"/>
                  </a:lnTo>
                  <a:lnTo>
                    <a:pt x="666" y="1214"/>
                  </a:lnTo>
                  <a:lnTo>
                    <a:pt x="658" y="1224"/>
                  </a:lnTo>
                  <a:lnTo>
                    <a:pt x="648" y="1232"/>
                  </a:lnTo>
                  <a:lnTo>
                    <a:pt x="636" y="1240"/>
                  </a:lnTo>
                  <a:lnTo>
                    <a:pt x="622" y="1246"/>
                  </a:lnTo>
                  <a:lnTo>
                    <a:pt x="606" y="1250"/>
                  </a:lnTo>
                  <a:lnTo>
                    <a:pt x="586" y="1254"/>
                  </a:lnTo>
                  <a:lnTo>
                    <a:pt x="566" y="1258"/>
                  </a:lnTo>
                  <a:lnTo>
                    <a:pt x="542" y="1260"/>
                  </a:lnTo>
                  <a:lnTo>
                    <a:pt x="486" y="1260"/>
                  </a:lnTo>
                  <a:lnTo>
                    <a:pt x="486" y="1260"/>
                  </a:lnTo>
                  <a:lnTo>
                    <a:pt x="424" y="1258"/>
                  </a:lnTo>
                  <a:lnTo>
                    <a:pt x="356" y="1256"/>
                  </a:lnTo>
                  <a:lnTo>
                    <a:pt x="356" y="1256"/>
                  </a:lnTo>
                  <a:lnTo>
                    <a:pt x="348" y="1218"/>
                  </a:lnTo>
                  <a:lnTo>
                    <a:pt x="340" y="1188"/>
                  </a:lnTo>
                  <a:lnTo>
                    <a:pt x="330" y="1156"/>
                  </a:lnTo>
                  <a:lnTo>
                    <a:pt x="314" y="1120"/>
                  </a:lnTo>
                  <a:lnTo>
                    <a:pt x="314" y="1120"/>
                  </a:lnTo>
                  <a:lnTo>
                    <a:pt x="408" y="1130"/>
                  </a:lnTo>
                  <a:lnTo>
                    <a:pt x="448" y="1132"/>
                  </a:lnTo>
                  <a:lnTo>
                    <a:pt x="486" y="1132"/>
                  </a:lnTo>
                  <a:lnTo>
                    <a:pt x="486" y="1132"/>
                  </a:lnTo>
                  <a:lnTo>
                    <a:pt x="512" y="1132"/>
                  </a:lnTo>
                  <a:lnTo>
                    <a:pt x="520" y="1130"/>
                  </a:lnTo>
                  <a:lnTo>
                    <a:pt x="528" y="1126"/>
                  </a:lnTo>
                  <a:lnTo>
                    <a:pt x="534" y="1122"/>
                  </a:lnTo>
                  <a:lnTo>
                    <a:pt x="536" y="1116"/>
                  </a:lnTo>
                  <a:lnTo>
                    <a:pt x="538" y="1110"/>
                  </a:lnTo>
                  <a:lnTo>
                    <a:pt x="538" y="1102"/>
                  </a:lnTo>
                  <a:lnTo>
                    <a:pt x="538" y="1036"/>
                  </a:lnTo>
                  <a:lnTo>
                    <a:pt x="220" y="1036"/>
                  </a:lnTo>
                  <a:lnTo>
                    <a:pt x="220" y="1036"/>
                  </a:lnTo>
                  <a:lnTo>
                    <a:pt x="144" y="1038"/>
                  </a:lnTo>
                  <a:lnTo>
                    <a:pt x="114" y="1040"/>
                  </a:lnTo>
                  <a:lnTo>
                    <a:pt x="84" y="1044"/>
                  </a:lnTo>
                  <a:lnTo>
                    <a:pt x="84" y="916"/>
                  </a:lnTo>
                  <a:lnTo>
                    <a:pt x="84" y="916"/>
                  </a:lnTo>
                  <a:lnTo>
                    <a:pt x="138" y="922"/>
                  </a:lnTo>
                  <a:lnTo>
                    <a:pt x="214" y="922"/>
                  </a:lnTo>
                  <a:lnTo>
                    <a:pt x="538" y="922"/>
                  </a:lnTo>
                  <a:lnTo>
                    <a:pt x="538" y="864"/>
                  </a:lnTo>
                  <a:lnTo>
                    <a:pt x="148" y="864"/>
                  </a:lnTo>
                  <a:lnTo>
                    <a:pt x="148" y="864"/>
                  </a:lnTo>
                  <a:lnTo>
                    <a:pt x="58" y="866"/>
                  </a:lnTo>
                  <a:lnTo>
                    <a:pt x="26" y="868"/>
                  </a:lnTo>
                  <a:lnTo>
                    <a:pt x="0" y="870"/>
                  </a:lnTo>
                  <a:lnTo>
                    <a:pt x="0" y="742"/>
                  </a:lnTo>
                  <a:lnTo>
                    <a:pt x="0" y="742"/>
                  </a:lnTo>
                  <a:lnTo>
                    <a:pt x="26" y="744"/>
                  </a:lnTo>
                  <a:lnTo>
                    <a:pt x="56" y="746"/>
                  </a:lnTo>
                  <a:lnTo>
                    <a:pt x="146" y="748"/>
                  </a:lnTo>
                  <a:lnTo>
                    <a:pt x="538" y="748"/>
                  </a:lnTo>
                  <a:lnTo>
                    <a:pt x="538" y="688"/>
                  </a:lnTo>
                  <a:close/>
                  <a:moveTo>
                    <a:pt x="284" y="368"/>
                  </a:moveTo>
                  <a:lnTo>
                    <a:pt x="284" y="424"/>
                  </a:lnTo>
                  <a:lnTo>
                    <a:pt x="538" y="424"/>
                  </a:lnTo>
                  <a:lnTo>
                    <a:pt x="538" y="368"/>
                  </a:lnTo>
                  <a:lnTo>
                    <a:pt x="284" y="368"/>
                  </a:lnTo>
                  <a:close/>
                  <a:moveTo>
                    <a:pt x="686" y="424"/>
                  </a:moveTo>
                  <a:lnTo>
                    <a:pt x="958" y="424"/>
                  </a:lnTo>
                  <a:lnTo>
                    <a:pt x="958" y="368"/>
                  </a:lnTo>
                  <a:lnTo>
                    <a:pt x="686" y="368"/>
                  </a:lnTo>
                  <a:lnTo>
                    <a:pt x="686" y="424"/>
                  </a:lnTo>
                  <a:close/>
                  <a:moveTo>
                    <a:pt x="986" y="748"/>
                  </a:moveTo>
                  <a:lnTo>
                    <a:pt x="986" y="688"/>
                  </a:lnTo>
                  <a:lnTo>
                    <a:pt x="686" y="688"/>
                  </a:lnTo>
                  <a:lnTo>
                    <a:pt x="686" y="748"/>
                  </a:lnTo>
                  <a:lnTo>
                    <a:pt x="986" y="748"/>
                  </a:lnTo>
                  <a:close/>
                  <a:moveTo>
                    <a:pt x="686" y="922"/>
                  </a:moveTo>
                  <a:lnTo>
                    <a:pt x="986" y="922"/>
                  </a:lnTo>
                  <a:lnTo>
                    <a:pt x="986" y="864"/>
                  </a:lnTo>
                  <a:lnTo>
                    <a:pt x="686" y="864"/>
                  </a:lnTo>
                  <a:lnTo>
                    <a:pt x="686" y="92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22"/>
            <p:cNvSpPr/>
            <p:nvPr/>
          </p:nvSpPr>
          <p:spPr>
            <a:xfrm>
              <a:off x="6816600" y="7914960"/>
              <a:ext cx="1797120" cy="1997280"/>
            </a:xfrm>
            <a:custGeom>
              <a:avLst/>
              <a:gdLst>
                <a:gd name="textAreaLeft" fmla="*/ 0 w 1797120"/>
                <a:gd name="textAreaRight" fmla="*/ 1797480 w 179712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1132" h="1258">
                  <a:moveTo>
                    <a:pt x="480" y="148"/>
                  </a:moveTo>
                  <a:lnTo>
                    <a:pt x="480" y="148"/>
                  </a:lnTo>
                  <a:lnTo>
                    <a:pt x="478" y="64"/>
                  </a:lnTo>
                  <a:lnTo>
                    <a:pt x="476" y="32"/>
                  </a:lnTo>
                  <a:lnTo>
                    <a:pt x="472" y="0"/>
                  </a:lnTo>
                  <a:lnTo>
                    <a:pt x="644" y="0"/>
                  </a:lnTo>
                  <a:lnTo>
                    <a:pt x="644" y="0"/>
                  </a:lnTo>
                  <a:lnTo>
                    <a:pt x="640" y="30"/>
                  </a:lnTo>
                  <a:lnTo>
                    <a:pt x="638" y="62"/>
                  </a:lnTo>
                  <a:lnTo>
                    <a:pt x="636" y="98"/>
                  </a:lnTo>
                  <a:lnTo>
                    <a:pt x="636" y="142"/>
                  </a:lnTo>
                  <a:lnTo>
                    <a:pt x="636" y="230"/>
                  </a:lnTo>
                  <a:lnTo>
                    <a:pt x="1008" y="230"/>
                  </a:lnTo>
                  <a:lnTo>
                    <a:pt x="1008" y="230"/>
                  </a:lnTo>
                  <a:lnTo>
                    <a:pt x="1078" y="230"/>
                  </a:lnTo>
                  <a:lnTo>
                    <a:pt x="1132" y="226"/>
                  </a:lnTo>
                  <a:lnTo>
                    <a:pt x="1132" y="226"/>
                  </a:lnTo>
                  <a:lnTo>
                    <a:pt x="1128" y="280"/>
                  </a:lnTo>
                  <a:lnTo>
                    <a:pt x="1126" y="344"/>
                  </a:lnTo>
                  <a:lnTo>
                    <a:pt x="1126" y="760"/>
                  </a:lnTo>
                  <a:lnTo>
                    <a:pt x="1126" y="760"/>
                  </a:lnTo>
                  <a:lnTo>
                    <a:pt x="1128" y="836"/>
                  </a:lnTo>
                  <a:lnTo>
                    <a:pt x="1130" y="866"/>
                  </a:lnTo>
                  <a:lnTo>
                    <a:pt x="1132" y="896"/>
                  </a:lnTo>
                  <a:lnTo>
                    <a:pt x="972" y="896"/>
                  </a:lnTo>
                  <a:lnTo>
                    <a:pt x="972" y="814"/>
                  </a:lnTo>
                  <a:lnTo>
                    <a:pt x="636" y="814"/>
                  </a:lnTo>
                  <a:lnTo>
                    <a:pt x="636" y="1090"/>
                  </a:lnTo>
                  <a:lnTo>
                    <a:pt x="636" y="1090"/>
                  </a:lnTo>
                  <a:lnTo>
                    <a:pt x="636" y="1144"/>
                  </a:lnTo>
                  <a:lnTo>
                    <a:pt x="638" y="1186"/>
                  </a:lnTo>
                  <a:lnTo>
                    <a:pt x="640" y="1224"/>
                  </a:lnTo>
                  <a:lnTo>
                    <a:pt x="644" y="1258"/>
                  </a:lnTo>
                  <a:lnTo>
                    <a:pt x="470" y="1258"/>
                  </a:lnTo>
                  <a:lnTo>
                    <a:pt x="470" y="1258"/>
                  </a:lnTo>
                  <a:lnTo>
                    <a:pt x="476" y="1222"/>
                  </a:lnTo>
                  <a:lnTo>
                    <a:pt x="478" y="1184"/>
                  </a:lnTo>
                  <a:lnTo>
                    <a:pt x="480" y="1140"/>
                  </a:lnTo>
                  <a:lnTo>
                    <a:pt x="480" y="1090"/>
                  </a:lnTo>
                  <a:lnTo>
                    <a:pt x="480" y="814"/>
                  </a:lnTo>
                  <a:lnTo>
                    <a:pt x="160" y="814"/>
                  </a:lnTo>
                  <a:lnTo>
                    <a:pt x="160" y="896"/>
                  </a:lnTo>
                  <a:lnTo>
                    <a:pt x="0" y="896"/>
                  </a:lnTo>
                  <a:lnTo>
                    <a:pt x="0" y="896"/>
                  </a:lnTo>
                  <a:lnTo>
                    <a:pt x="2" y="864"/>
                  </a:lnTo>
                  <a:lnTo>
                    <a:pt x="4" y="832"/>
                  </a:lnTo>
                  <a:lnTo>
                    <a:pt x="6" y="760"/>
                  </a:lnTo>
                  <a:lnTo>
                    <a:pt x="6" y="344"/>
                  </a:lnTo>
                  <a:lnTo>
                    <a:pt x="6" y="344"/>
                  </a:lnTo>
                  <a:lnTo>
                    <a:pt x="4" y="282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56" y="230"/>
                  </a:lnTo>
                  <a:lnTo>
                    <a:pt x="122" y="230"/>
                  </a:lnTo>
                  <a:lnTo>
                    <a:pt x="480" y="230"/>
                  </a:lnTo>
                  <a:lnTo>
                    <a:pt x="480" y="148"/>
                  </a:lnTo>
                  <a:close/>
                  <a:moveTo>
                    <a:pt x="160" y="374"/>
                  </a:moveTo>
                  <a:lnTo>
                    <a:pt x="160" y="670"/>
                  </a:lnTo>
                  <a:lnTo>
                    <a:pt x="480" y="670"/>
                  </a:lnTo>
                  <a:lnTo>
                    <a:pt x="480" y="374"/>
                  </a:lnTo>
                  <a:lnTo>
                    <a:pt x="160" y="374"/>
                  </a:lnTo>
                  <a:close/>
                  <a:moveTo>
                    <a:pt x="972" y="670"/>
                  </a:moveTo>
                  <a:lnTo>
                    <a:pt x="972" y="374"/>
                  </a:lnTo>
                  <a:lnTo>
                    <a:pt x="636" y="374"/>
                  </a:lnTo>
                  <a:lnTo>
                    <a:pt x="636" y="670"/>
                  </a:lnTo>
                  <a:lnTo>
                    <a:pt x="972" y="67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05:09:52Z</dcterms:created>
  <dc:creator>seisaku</dc:creator>
  <dc:description/>
  <dc:language>en-US</dc:language>
  <cp:lastModifiedBy>seisaku</cp:lastModifiedBy>
  <dcterms:modified xsi:type="dcterms:W3CDTF">2012-05-14T05:13:12Z</dcterms:modified>
  <cp:revision>1</cp:revision>
  <dc:subject/>
  <dc:title>スライド 1</dc:title>
</cp:coreProperties>
</file>