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688638" cy="3240722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0A164-3129-4E9B-918D-DB7B19AF4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4600" y="1297080"/>
            <a:ext cx="9618840" cy="540216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4600" y="7561080"/>
            <a:ext cx="9618840" cy="102013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4600" y="18731880"/>
            <a:ext cx="9618840" cy="102013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80AEE-DB4B-4370-8F8B-33D527F62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4600" y="1297080"/>
            <a:ext cx="9618840" cy="540216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4600" y="7561080"/>
            <a:ext cx="4693680" cy="102013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63360" y="7561080"/>
            <a:ext cx="4693680" cy="102013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4600" y="18731880"/>
            <a:ext cx="4693680" cy="102013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63360" y="18731880"/>
            <a:ext cx="4693680" cy="102013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DFF3E-5CE0-4283-8E06-52B16CCB6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4600" y="1297080"/>
            <a:ext cx="9618840" cy="540216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4600" y="7561080"/>
            <a:ext cx="3097080" cy="102013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86840" y="7561080"/>
            <a:ext cx="3097080" cy="102013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039080" y="7561080"/>
            <a:ext cx="3097080" cy="102013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4600" y="18731880"/>
            <a:ext cx="3097080" cy="102013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86840" y="18731880"/>
            <a:ext cx="3097080" cy="102013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039080" y="18731880"/>
            <a:ext cx="3097080" cy="102013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D43B1-6D11-4532-B7D1-526DBC8D4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4600" y="1297080"/>
            <a:ext cx="9618840" cy="540216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4600" y="7561080"/>
            <a:ext cx="9618840" cy="2138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01"/>
              </a:spcBef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CF8F1-54A8-4ABA-AAE8-ECADEB5B2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4600" y="1297080"/>
            <a:ext cx="9618840" cy="540216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4600" y="7561080"/>
            <a:ext cx="9618840" cy="213865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9EBD4-5FDE-4662-BE44-60C5D8F5D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4600" y="1297080"/>
            <a:ext cx="9618840" cy="540216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4600" y="7561080"/>
            <a:ext cx="4693680" cy="213865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63360" y="7561080"/>
            <a:ext cx="4693680" cy="213865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E49C8-E4C9-4957-A071-2984B8A88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4600" y="1297080"/>
            <a:ext cx="9618840" cy="540216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D1935-0EFB-4EF9-A095-B3D5F4816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4600" y="1297080"/>
            <a:ext cx="9618840" cy="2504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01"/>
              </a:spcBef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160D0-EDE1-4A87-9E66-4A03F18EB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4600" y="1297080"/>
            <a:ext cx="9618840" cy="540216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4600" y="7561080"/>
            <a:ext cx="4693680" cy="102013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63360" y="7561080"/>
            <a:ext cx="4693680" cy="213865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4600" y="18731880"/>
            <a:ext cx="4693680" cy="102013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E37AC-33FD-4B4A-9344-221F19BFC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4600" y="1297080"/>
            <a:ext cx="9618840" cy="540216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4600" y="7561080"/>
            <a:ext cx="4693680" cy="213865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63360" y="7561080"/>
            <a:ext cx="4693680" cy="102013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63360" y="18731880"/>
            <a:ext cx="4693680" cy="102013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BA79F-A17C-4730-AAD3-3099B8C68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4600" y="1297080"/>
            <a:ext cx="9618840" cy="540216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4600" y="7561080"/>
            <a:ext cx="4693680" cy="102013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63360" y="7561080"/>
            <a:ext cx="4693680" cy="102013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4600" y="18731880"/>
            <a:ext cx="9618840" cy="102013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72234-D699-420F-AACE-F9CABD6F7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4600" y="1297080"/>
            <a:ext cx="9618840" cy="540216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71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4600" y="7561080"/>
            <a:ext cx="9618840" cy="213865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marL="552600" indent="-552600"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  <a:p>
            <a:pPr lvl="1" marL="1197000" indent="-460440">
              <a:spcBef>
                <a:spcPts val="1301"/>
              </a:spcBef>
              <a:buClr>
                <a:srgbClr val="000000"/>
              </a:buClr>
              <a:buFont typeface="Arial"/>
              <a:buChar char="–"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  <a:p>
            <a:pPr lvl="2" marL="1843200" indent="-368280"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  <a:p>
            <a:pPr lvl="3" marL="2579760" indent="-368280">
              <a:spcBef>
                <a:spcPts val="1301"/>
              </a:spcBef>
              <a:buClr>
                <a:srgbClr val="000000"/>
              </a:buClr>
              <a:buFont typeface="Arial"/>
              <a:buChar char="–"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  <a:p>
            <a:pPr lvl="4" marL="3317760" indent="-368280">
              <a:spcBef>
                <a:spcPts val="1301"/>
              </a:spcBef>
              <a:buClr>
                <a:srgbClr val="000000"/>
              </a:buClr>
              <a:buFont typeface="Arial"/>
              <a:buChar char="»"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  <a:p>
            <a:pPr lvl="5" marL="3317760" indent="-368280">
              <a:spcBef>
                <a:spcPts val="1301"/>
              </a:spcBef>
              <a:buClr>
                <a:srgbClr val="000000"/>
              </a:buClr>
              <a:buFont typeface="Arial"/>
              <a:buChar char="»"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  <a:p>
            <a:pPr lvl="6" marL="3317760" indent="-368280">
              <a:spcBef>
                <a:spcPts val="1301"/>
              </a:spcBef>
              <a:buClr>
                <a:srgbClr val="000000"/>
              </a:buClr>
              <a:buFont typeface="Arial"/>
              <a:buChar char="»"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34960" y="30035160"/>
            <a:ext cx="2494080" cy="17254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lstStyle>
            <a:lvl1pPr indent="0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  <a:defRPr b="0" lang="ja-JP" sz="1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ja-JP" sz="19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51120" y="30035160"/>
            <a:ext cx="3386160" cy="17254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659720" y="30035160"/>
            <a:ext cx="2494080" cy="17254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lstStyle>
            <a:lvl1pPr indent="0" algn="r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  <a:defRPr b="0" lang="ja-JP" sz="1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fld id="{6A362B6B-89AB-47DA-8F5B-EEB21AD5FE2F}" type="slidenum">
              <a:rPr b="0" lang="ja-JP" sz="1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角丸四角形 2"/>
          <p:cNvSpPr/>
          <p:nvPr/>
        </p:nvSpPr>
        <p:spPr>
          <a:xfrm>
            <a:off x="584280" y="635040"/>
            <a:ext cx="9512280" cy="31127760"/>
          </a:xfrm>
          <a:custGeom>
            <a:avLst/>
            <a:gdLst>
              <a:gd name="textAreaLeft" fmla="*/ 464040 w 9512280"/>
              <a:gd name="textAreaRight" fmla="*/ 9048240 w 9512280"/>
              <a:gd name="textAreaTop" fmla="*/ 464040 h 31127760"/>
              <a:gd name="textAreaBottom" fmla="*/ 30663720 h 31127760"/>
            </a:gdLst>
            <a:ahLst/>
            <a:rect l="textAreaLeft" t="textAreaTop" r="textAreaRight" b="textAreaBottom"/>
            <a:pathLst>
              <a:path w="21600" h="70681">
                <a:moveTo>
                  <a:pt x="3600" y="0"/>
                </a:moveTo>
                <a:arcTo wR="3600" hR="3600" stAng="16200000" swAng="-5400000"/>
                <a:lnTo>
                  <a:pt x="0" y="67081"/>
                </a:lnTo>
                <a:arcTo wR="3600" hR="3600" stAng="10800000" swAng="-5400000"/>
                <a:lnTo>
                  <a:pt x="18000" y="7068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図 4" descr=""/>
          <p:cNvPicPr/>
          <p:nvPr/>
        </p:nvPicPr>
        <p:blipFill>
          <a:blip r:embed="rId1"/>
          <a:stretch/>
        </p:blipFill>
        <p:spPr>
          <a:xfrm>
            <a:off x="2857680" y="8809200"/>
            <a:ext cx="4952880" cy="21640680"/>
          </a:xfrm>
          <a:prstGeom prst="rect">
            <a:avLst/>
          </a:prstGeom>
          <a:ln w="0">
            <a:noFill/>
          </a:ln>
        </p:spPr>
      </p:pic>
      <p:pic>
        <p:nvPicPr>
          <p:cNvPr id="43" name="図 6" descr=""/>
          <p:cNvPicPr/>
          <p:nvPr/>
        </p:nvPicPr>
        <p:blipFill>
          <a:blip r:embed="rId2"/>
          <a:stretch/>
        </p:blipFill>
        <p:spPr>
          <a:xfrm>
            <a:off x="1422360" y="5243400"/>
            <a:ext cx="7836120" cy="2743200"/>
          </a:xfrm>
          <a:prstGeom prst="rect">
            <a:avLst/>
          </a:prstGeom>
          <a:ln w="0">
            <a:noFill/>
          </a:ln>
        </p:spPr>
      </p:pic>
      <p:pic>
        <p:nvPicPr>
          <p:cNvPr id="44" name="図 9" descr=""/>
          <p:cNvPicPr/>
          <p:nvPr/>
        </p:nvPicPr>
        <p:blipFill>
          <a:blip r:embed="rId3"/>
          <a:stretch/>
        </p:blipFill>
        <p:spPr>
          <a:xfrm>
            <a:off x="3949560" y="4483080"/>
            <a:ext cx="4077000" cy="2247840"/>
          </a:xfrm>
          <a:prstGeom prst="rect">
            <a:avLst/>
          </a:prstGeom>
          <a:ln w="0">
            <a:noFill/>
          </a:ln>
        </p:spPr>
      </p:pic>
      <p:pic>
        <p:nvPicPr>
          <p:cNvPr id="45" name="図 7" descr=""/>
          <p:cNvPicPr/>
          <p:nvPr/>
        </p:nvPicPr>
        <p:blipFill>
          <a:blip r:embed="rId4"/>
          <a:stretch/>
        </p:blipFill>
        <p:spPr>
          <a:xfrm>
            <a:off x="3949560" y="1757520"/>
            <a:ext cx="2565720" cy="51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4T05:26:05Z</dcterms:created>
  <dc:creator>深田 龍</dc:creator>
  <dc:description/>
  <dc:language>en-US</dc:language>
  <cp:lastModifiedBy>株式会社ジーン macpro2</cp:lastModifiedBy>
  <cp:lastPrinted>2013-02-18T10:07:46Z</cp:lastPrinted>
  <dcterms:modified xsi:type="dcterms:W3CDTF">2013-02-18T11:13:50Z</dcterms:modified>
  <cp:revision>19</cp:revision>
  <dc:subject/>
  <dc:title>PowerPoint プレゼンテーション</dc:title>
</cp:coreProperties>
</file>