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1512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1F30-A8E1-4E5A-8919-C3330B96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3529080"/>
            <a:ext cx="96235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8742240"/>
            <a:ext cx="96235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32CD-AD55-4C30-918E-1AF31B67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3529080"/>
            <a:ext cx="469620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3529080"/>
            <a:ext cx="469620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8742240"/>
            <a:ext cx="469620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8742240"/>
            <a:ext cx="469620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320-0A7A-4D98-9F08-C2A693EA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3529080"/>
            <a:ext cx="30985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3529080"/>
            <a:ext cx="30985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3529080"/>
            <a:ext cx="30985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8742240"/>
            <a:ext cx="30985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8742240"/>
            <a:ext cx="30985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8742240"/>
            <a:ext cx="30985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212A-F676-44E0-A4C9-E836D44A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3529080"/>
            <a:ext cx="9623520" cy="998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51D-A938-4852-99C4-16726FF6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3529080"/>
            <a:ext cx="962352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BD6-D203-4625-877C-1AD2B718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3529080"/>
            <a:ext cx="469620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3529080"/>
            <a:ext cx="469620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513-5849-4CD7-BF9F-C7FB16BE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140D-378F-4986-B187-D1415B8F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604440"/>
            <a:ext cx="9623520" cy="116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1B4C-D1CF-4B3B-A91F-A670865F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3529080"/>
            <a:ext cx="469620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3529080"/>
            <a:ext cx="469620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8742240"/>
            <a:ext cx="469620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0CF0-17EA-418C-86B4-867A055D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3529080"/>
            <a:ext cx="469620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3529080"/>
            <a:ext cx="469620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8742240"/>
            <a:ext cx="469620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9F86-3037-4F24-BE55-20A22135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3529080"/>
            <a:ext cx="469620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3529080"/>
            <a:ext cx="469620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8742240"/>
            <a:ext cx="96235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426-DAB8-48CC-96A7-54E994A1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3529080"/>
            <a:ext cx="962352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14015520"/>
            <a:ext cx="2495520" cy="8067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1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14015520"/>
            <a:ext cx="3387600" cy="8067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14015520"/>
            <a:ext cx="2495520" cy="8067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AAD5B395-B598-46DB-ACC8-B52F783C71FA}" type="slidenum">
              <a:rPr b="0" lang="ja-JP" sz="1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6"/>
          <p:cNvSpPr/>
          <p:nvPr/>
        </p:nvSpPr>
        <p:spPr>
          <a:xfrm>
            <a:off x="365040" y="314280"/>
            <a:ext cx="9950400" cy="14551200"/>
          </a:xfrm>
          <a:custGeom>
            <a:avLst/>
            <a:gdLst>
              <a:gd name="textAreaLeft" fmla="*/ 485640 w 9950400"/>
              <a:gd name="textAreaRight" fmla="*/ 9464760 w 9950400"/>
              <a:gd name="textAreaTop" fmla="*/ 485640 h 14551200"/>
              <a:gd name="textAreaBottom" fmla="*/ 14065560 h 14551200"/>
            </a:gdLst>
            <a:ahLst/>
            <a:rect l="textAreaLeft" t="textAreaTop" r="textAreaRight" b="textAreaBottom"/>
            <a:pathLst>
              <a:path w="21600" h="31587">
                <a:moveTo>
                  <a:pt x="3600" y="0"/>
                </a:moveTo>
                <a:arcTo wR="3600" hR="3600" stAng="16200000" swAng="-5400000"/>
                <a:lnTo>
                  <a:pt x="0" y="27987"/>
                </a:lnTo>
                <a:arcTo wR="3600" hR="3600" stAng="10800000" swAng="-5400000"/>
                <a:lnTo>
                  <a:pt x="18000" y="315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図 6" descr=""/>
          <p:cNvPicPr/>
          <p:nvPr/>
        </p:nvPicPr>
        <p:blipFill>
          <a:blip r:embed="rId1"/>
          <a:stretch/>
        </p:blipFill>
        <p:spPr>
          <a:xfrm>
            <a:off x="800280" y="7427880"/>
            <a:ext cx="5524200" cy="2236680"/>
          </a:xfrm>
          <a:prstGeom prst="rect">
            <a:avLst/>
          </a:prstGeom>
          <a:ln w="0">
            <a:noFill/>
          </a:ln>
        </p:spPr>
      </p:pic>
      <p:pic>
        <p:nvPicPr>
          <p:cNvPr id="43" name="図 9" descr=""/>
          <p:cNvPicPr/>
          <p:nvPr/>
        </p:nvPicPr>
        <p:blipFill>
          <a:blip r:embed="rId2"/>
          <a:stretch/>
        </p:blipFill>
        <p:spPr>
          <a:xfrm>
            <a:off x="2273400" y="6202440"/>
            <a:ext cx="4076640" cy="2247840"/>
          </a:xfrm>
          <a:prstGeom prst="rect">
            <a:avLst/>
          </a:prstGeom>
          <a:ln w="0">
            <a:noFill/>
          </a:ln>
        </p:spPr>
      </p:pic>
      <p:pic>
        <p:nvPicPr>
          <p:cNvPr id="44" name="図 12" descr="名称未設定-4.gif"/>
          <p:cNvPicPr/>
          <p:nvPr/>
        </p:nvPicPr>
        <p:blipFill>
          <a:blip r:embed="rId3"/>
          <a:stretch/>
        </p:blipFill>
        <p:spPr>
          <a:xfrm>
            <a:off x="190440" y="887400"/>
            <a:ext cx="10426680" cy="13552560"/>
          </a:xfrm>
          <a:prstGeom prst="rect">
            <a:avLst/>
          </a:prstGeom>
          <a:ln w="0">
            <a:noFill/>
          </a:ln>
        </p:spPr>
      </p:pic>
      <p:pic>
        <p:nvPicPr>
          <p:cNvPr id="45" name="図 7" descr=""/>
          <p:cNvPicPr/>
          <p:nvPr/>
        </p:nvPicPr>
        <p:blipFill>
          <a:blip r:embed="rId4"/>
          <a:stretch/>
        </p:blipFill>
        <p:spPr>
          <a:xfrm>
            <a:off x="2336760" y="4322880"/>
            <a:ext cx="20908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5:26:05Z</dcterms:created>
  <dc:creator>深田 龍</dc:creator>
  <dc:description/>
  <dc:language>en-US</dc:language>
  <cp:lastModifiedBy>tec</cp:lastModifiedBy>
  <cp:lastPrinted>2013-02-18T10:07:46Z</cp:lastPrinted>
  <dcterms:modified xsi:type="dcterms:W3CDTF">2013-03-22T04:56:44Z</dcterms:modified>
  <cp:revision>22</cp:revision>
  <dc:subject/>
  <dc:title>PowerPoint プレゼンテーション</dc:title>
</cp:coreProperties>
</file>