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2404050" cy="106918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5B89-C8E0-482D-A29C-9F4867683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F491-F8ED-4C4E-881D-B0ECC2B5C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6075-A25B-43E6-AA3A-CF01E10DA2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4804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340800" y="249516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2036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4804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340800" y="6180840"/>
            <a:ext cx="939024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7E39-B06A-4011-8F59-C339E43E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49"/>
              </a:spcBef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82FC-118C-4294-BE86-3F9E788D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2C12-957A-4778-BA69-E8A6967C5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5987-B3CC-401F-9CBC-781E91D86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E491-BA99-47FB-8EAB-2778C4E5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20360" y="428400"/>
            <a:ext cx="29162520" cy="82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49"/>
              </a:spcBef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86A4-8774-4F5A-A2F7-3970CE267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72E-A872-47BE-A3DF-D2267AA1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563600" y="618084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0DCC-8A83-461E-9EBE-2CBC1B6A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20360" y="289080"/>
            <a:ext cx="29162520" cy="2059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2036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563600" y="2495160"/>
            <a:ext cx="1423116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20360" y="6180840"/>
            <a:ext cx="29162520" cy="33656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/>
          </a:bodyPr>
          <a:p>
            <a:pPr indent="0">
              <a:spcBef>
                <a:spcPts val="2149"/>
              </a:spcBef>
              <a:buNone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701C-9D57-4034-8C6A-5D4C7BD1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20360" y="428400"/>
            <a:ext cx="29162520" cy="178092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ctr">
            <a:noAutofit/>
          </a:bodyPr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119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620360" y="2495160"/>
            <a:ext cx="29162520" cy="705636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rmAutofit fontScale="62000"/>
          </a:bodyPr>
          <a:p>
            <a:pPr marL="572400" indent="-5724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1" marL="1239840" indent="-47628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2" marL="1908360" indent="-381600">
              <a:spcBef>
                <a:spcPts val="2149"/>
              </a:spcBef>
              <a:buClr>
                <a:srgbClr val="000000"/>
              </a:buClr>
              <a:buFont typeface="Arial"/>
              <a:buChar char="•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3" marL="2671920" indent="-381600">
              <a:spcBef>
                <a:spcPts val="2149"/>
              </a:spcBef>
              <a:buClr>
                <a:srgbClr val="000000"/>
              </a:buClr>
              <a:buFont typeface="Arial"/>
              <a:buChar char="–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4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5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  <a:p>
            <a:pPr lvl="6" marL="3434760" indent="-380880">
              <a:spcBef>
                <a:spcPts val="2149"/>
              </a:spcBef>
              <a:buClr>
                <a:srgbClr val="000000"/>
              </a:buClr>
              <a:buFont typeface="Arial"/>
              <a:buChar char="»"/>
              <a:tabLst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8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8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20360" y="9737640"/>
            <a:ext cx="755964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070720" y="9737640"/>
            <a:ext cx="1026180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3223240" y="9737640"/>
            <a:ext cx="7559640" cy="743040"/>
          </a:xfrm>
          <a:prstGeom prst="rect">
            <a:avLst/>
          </a:prstGeom>
          <a:noFill/>
          <a:ln w="0">
            <a:noFill/>
          </a:ln>
        </p:spPr>
        <p:txBody>
          <a:bodyPr lIns="246240" rIns="246240" tIns="123120" bIns="123120" anchor="t">
            <a:noAutofit/>
          </a:bodyPr>
          <a:lstStyle>
            <a:lvl1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  <a:defRPr b="0" lang="en-US" sz="3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2462040"/>
                <a:tab algn="l" pos="4924440"/>
                <a:tab algn="l" pos="7386480"/>
                <a:tab algn="l" pos="9848880"/>
              </a:tabLst>
            </a:pPr>
            <a:fld id="{A2785352-941C-4584-B235-1CB3C122DFCC}" type="slidenum">
              <a:rPr b="0" lang="en-US" sz="3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2403960" cy="1069488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081080" y="1601640"/>
            <a:ext cx="7043760" cy="705672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785080" y="882720"/>
            <a:ext cx="22034520" cy="3043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2385800" y="3546360"/>
            <a:ext cx="11785320" cy="4660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10153800" y="8370720"/>
            <a:ext cx="17402040" cy="15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07:13:47Z</dcterms:created>
  <dc:creator>****</dc:creator>
  <dc:description/>
  <dc:language>en-US</dc:language>
  <cp:lastModifiedBy>fukase3</cp:lastModifiedBy>
  <dcterms:modified xsi:type="dcterms:W3CDTF">2009-05-26T04:17:03Z</dcterms:modified>
  <cp:revision>12</cp:revision>
  <dc:subject/>
  <dc:title>スライド 1</dc:title>
</cp:coreProperties>
</file>