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43206988" cy="106918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-3497400" y="685440"/>
            <a:ext cx="138528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r>
              <a:rPr b="0" lang="en-US" sz="119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243EE-074D-4A5F-9F6F-201C776AED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69923-C124-4ECF-BC27-265D16CFD5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-3497400" y="685800"/>
            <a:ext cx="138528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D8BCD-47C3-4D39-B330-0B671C9E1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158560" y="289080"/>
            <a:ext cx="38887560" cy="205992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ctr">
            <a:noAutofit/>
          </a:bodyPr>
          <a:p>
            <a:pPr indent="0" algn="ctr">
              <a:buNone/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1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158560" y="2495520"/>
            <a:ext cx="38887560" cy="336672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74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158560" y="6182640"/>
            <a:ext cx="38887560" cy="336672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74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AADA0-0BC3-4EE2-866A-6E4667C34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158560" y="289080"/>
            <a:ext cx="38887560" cy="205992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ctr">
            <a:noAutofit/>
          </a:bodyPr>
          <a:p>
            <a:pPr indent="0" algn="ctr">
              <a:buNone/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1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158560" y="2495520"/>
            <a:ext cx="18977040" cy="336672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74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2084920" y="2495520"/>
            <a:ext cx="18977040" cy="336672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74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158560" y="6182640"/>
            <a:ext cx="18977040" cy="336672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74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2084920" y="6182640"/>
            <a:ext cx="18977040" cy="336672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74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69ED2-7064-4BA5-8092-6ACDB31B5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158560" y="289080"/>
            <a:ext cx="38887560" cy="205992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ctr">
            <a:noAutofit/>
          </a:bodyPr>
          <a:p>
            <a:pPr indent="0" algn="ctr">
              <a:buNone/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1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158560" y="2495520"/>
            <a:ext cx="12521520" cy="336672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74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306480" y="2495520"/>
            <a:ext cx="12521520" cy="336672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74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8454400" y="2495520"/>
            <a:ext cx="12521520" cy="336672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74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158560" y="6182640"/>
            <a:ext cx="12521520" cy="336672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74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306480" y="6182640"/>
            <a:ext cx="12521520" cy="336672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74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8454400" y="6182640"/>
            <a:ext cx="12521520" cy="336672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74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FD32A-6CC2-48CD-B951-AAD8C881A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158560" y="289080"/>
            <a:ext cx="38887560" cy="205992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ctr">
            <a:noAutofit/>
          </a:bodyPr>
          <a:p>
            <a:pPr indent="0" algn="ctr">
              <a:buNone/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1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158560" y="2495520"/>
            <a:ext cx="38887560" cy="705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74"/>
              </a:spcBef>
              <a:buNone/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D217B-CF05-448A-8D4A-44844126E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158560" y="289080"/>
            <a:ext cx="38887560" cy="205992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ctr">
            <a:noAutofit/>
          </a:bodyPr>
          <a:p>
            <a:pPr indent="0" algn="ctr">
              <a:buNone/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1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158560" y="2495520"/>
            <a:ext cx="38887560" cy="705816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74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7BC25-83D0-442F-B31C-89CD5F788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158560" y="289080"/>
            <a:ext cx="38887560" cy="205992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ctr">
            <a:noAutofit/>
          </a:bodyPr>
          <a:p>
            <a:pPr indent="0" algn="ctr">
              <a:buNone/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1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158560" y="2495520"/>
            <a:ext cx="18977040" cy="705816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74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2084920" y="2495520"/>
            <a:ext cx="18977040" cy="705816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74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5229F-FE77-43FE-ACBD-33BFD52BF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158560" y="289080"/>
            <a:ext cx="38887560" cy="205992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ctr">
            <a:noAutofit/>
          </a:bodyPr>
          <a:p>
            <a:pPr indent="0" algn="ctr">
              <a:buNone/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1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F585F-F668-4310-B24E-D9C36D633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158560" y="428400"/>
            <a:ext cx="38887560" cy="82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74"/>
              </a:spcBef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3391B-CC33-4DB3-9C51-AC6C2F0B2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158560" y="289080"/>
            <a:ext cx="38887560" cy="205992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ctr">
            <a:noAutofit/>
          </a:bodyPr>
          <a:p>
            <a:pPr indent="0" algn="ctr">
              <a:buNone/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1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158560" y="2495520"/>
            <a:ext cx="18977040" cy="336672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74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2084920" y="2495520"/>
            <a:ext cx="18977040" cy="705816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74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158560" y="6182640"/>
            <a:ext cx="18977040" cy="336672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74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25F65-AA0B-4BA8-AF7F-9F91E50A4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158560" y="289080"/>
            <a:ext cx="38887560" cy="205992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ctr">
            <a:noAutofit/>
          </a:bodyPr>
          <a:p>
            <a:pPr indent="0" algn="ctr">
              <a:buNone/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1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158560" y="2495520"/>
            <a:ext cx="18977040" cy="705816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74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2084920" y="2495520"/>
            <a:ext cx="18977040" cy="336672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74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2084920" y="6182640"/>
            <a:ext cx="18977040" cy="336672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74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F0C09-C9E3-47F5-8C05-6CCC410AB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158560" y="289080"/>
            <a:ext cx="38887560" cy="205992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ctr">
            <a:noAutofit/>
          </a:bodyPr>
          <a:p>
            <a:pPr indent="0" algn="ctr">
              <a:buNone/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1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158560" y="2495520"/>
            <a:ext cx="18977040" cy="336672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74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2084920" y="2495520"/>
            <a:ext cx="18977040" cy="336672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74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158560" y="6182640"/>
            <a:ext cx="38887560" cy="336672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74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81ECA-4176-4AFF-A739-B71F9F8F8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158560" y="428400"/>
            <a:ext cx="38887560" cy="178092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ctr">
            <a:noAutofit/>
          </a:bodyPr>
          <a:p>
            <a:pPr indent="0" algn="ctr">
              <a:buNone/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r>
              <a:rPr b="0" lang="en-US" sz="11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158560" y="2495520"/>
            <a:ext cx="38887560" cy="705816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 fontScale="62000"/>
          </a:bodyPr>
          <a:p>
            <a:pPr marL="571680" indent="-571680">
              <a:spcBef>
                <a:spcPts val="2174"/>
              </a:spcBef>
              <a:buClr>
                <a:srgbClr val="000000"/>
              </a:buClr>
              <a:buFont typeface="Arial"/>
              <a:buChar char="•"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r>
              <a:rPr b="0" lang="en-US" sz="8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8700" spc="-1" strike="noStrike">
              <a:solidFill>
                <a:srgbClr val="000000"/>
              </a:solidFill>
              <a:latin typeface="Arial"/>
            </a:endParaRPr>
          </a:p>
          <a:p>
            <a:pPr lvl="1" marL="1239840" indent="-477000">
              <a:spcBef>
                <a:spcPts val="2174"/>
              </a:spcBef>
              <a:buClr>
                <a:srgbClr val="000000"/>
              </a:buClr>
              <a:buFont typeface="Arial"/>
              <a:buChar char="–"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r>
              <a:rPr b="0" lang="en-US" sz="8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8700" spc="-1" strike="noStrike">
              <a:solidFill>
                <a:srgbClr val="000000"/>
              </a:solidFill>
              <a:latin typeface="Arial"/>
            </a:endParaRPr>
          </a:p>
          <a:p>
            <a:pPr lvl="2" marL="1908360" indent="-381600">
              <a:spcBef>
                <a:spcPts val="2174"/>
              </a:spcBef>
              <a:buClr>
                <a:srgbClr val="000000"/>
              </a:buClr>
              <a:buFont typeface="Arial"/>
              <a:buChar char="•"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r>
              <a:rPr b="0" lang="en-US" sz="8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8700" spc="-1" strike="noStrike">
              <a:solidFill>
                <a:srgbClr val="000000"/>
              </a:solidFill>
              <a:latin typeface="Arial"/>
            </a:endParaRPr>
          </a:p>
          <a:p>
            <a:pPr lvl="3" marL="2671200" indent="-379800">
              <a:spcBef>
                <a:spcPts val="2174"/>
              </a:spcBef>
              <a:buClr>
                <a:srgbClr val="000000"/>
              </a:buClr>
              <a:buFont typeface="Arial"/>
              <a:buChar char="–"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r>
              <a:rPr b="0" lang="en-US" sz="8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8700" spc="-1" strike="noStrike">
              <a:solidFill>
                <a:srgbClr val="000000"/>
              </a:solidFill>
              <a:latin typeface="Arial"/>
            </a:endParaRPr>
          </a:p>
          <a:p>
            <a:pPr lvl="4" marL="3434760" indent="-380880">
              <a:spcBef>
                <a:spcPts val="2174"/>
              </a:spcBef>
              <a:buClr>
                <a:srgbClr val="000000"/>
              </a:buClr>
              <a:buFont typeface="Arial"/>
              <a:buChar char="»"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r>
              <a:rPr b="0" lang="en-US" sz="8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8700" spc="-1" strike="noStrike">
              <a:solidFill>
                <a:srgbClr val="000000"/>
              </a:solidFill>
              <a:latin typeface="Arial"/>
            </a:endParaRPr>
          </a:p>
          <a:p>
            <a:pPr lvl="5" marL="3434760" indent="-380880">
              <a:spcBef>
                <a:spcPts val="2174"/>
              </a:spcBef>
              <a:buClr>
                <a:srgbClr val="000000"/>
              </a:buClr>
              <a:buFont typeface="Arial"/>
              <a:buChar char="»"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r>
              <a:rPr b="0" lang="en-US" sz="8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8700" spc="-1" strike="noStrike">
              <a:solidFill>
                <a:srgbClr val="000000"/>
              </a:solidFill>
              <a:latin typeface="Arial"/>
            </a:endParaRPr>
          </a:p>
          <a:p>
            <a:pPr lvl="6" marL="3434760" indent="-380880">
              <a:spcBef>
                <a:spcPts val="2174"/>
              </a:spcBef>
              <a:buClr>
                <a:srgbClr val="000000"/>
              </a:buClr>
              <a:buFont typeface="Arial"/>
              <a:buChar char="»"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r>
              <a:rPr b="0" lang="en-US" sz="8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8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158560" y="9739080"/>
            <a:ext cx="10083960" cy="74124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761800" y="9739080"/>
            <a:ext cx="13681080" cy="74124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962160" y="9739080"/>
            <a:ext cx="10083960" cy="74124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3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D1496-A4C8-4EB4-99A5-BA792AA01C51}" type="slidenum">
              <a:rPr b="0" lang="en-US" sz="3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5"/>
          <p:cNvSpPr/>
          <p:nvPr/>
        </p:nvSpPr>
        <p:spPr>
          <a:xfrm>
            <a:off x="-42840" y="-87480"/>
            <a:ext cx="43324560" cy="108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Freeform 7"/>
          <p:cNvSpPr/>
          <p:nvPr/>
        </p:nvSpPr>
        <p:spPr>
          <a:xfrm>
            <a:off x="1282680" y="1293840"/>
            <a:ext cx="7264440" cy="80503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Freeform 8"/>
          <p:cNvSpPr/>
          <p:nvPr/>
        </p:nvSpPr>
        <p:spPr>
          <a:xfrm>
            <a:off x="1133640" y="2905200"/>
            <a:ext cx="7564320" cy="668484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9"/>
          <p:cNvSpPr/>
          <p:nvPr/>
        </p:nvSpPr>
        <p:spPr>
          <a:xfrm>
            <a:off x="76320" y="44280"/>
            <a:ext cx="43084800" cy="10577520"/>
          </a:xfrm>
          <a:prstGeom prst="pie">
            <a:avLst/>
          </a:prstGeom>
          <a:noFill/>
          <a:ln w="1666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Freeform 10"/>
          <p:cNvSpPr/>
          <p:nvPr/>
        </p:nvSpPr>
        <p:spPr>
          <a:xfrm>
            <a:off x="717480" y="666720"/>
            <a:ext cx="8396280" cy="930420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Freeform 11"/>
          <p:cNvSpPr/>
          <p:nvPr/>
        </p:nvSpPr>
        <p:spPr>
          <a:xfrm>
            <a:off x="3911760" y="1695600"/>
            <a:ext cx="920520" cy="101592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Freeform 12"/>
          <p:cNvSpPr/>
          <p:nvPr/>
        </p:nvSpPr>
        <p:spPr>
          <a:xfrm>
            <a:off x="5143680" y="1690560"/>
            <a:ext cx="817560" cy="100188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Freeform 13"/>
          <p:cNvSpPr/>
          <p:nvPr/>
        </p:nvSpPr>
        <p:spPr>
          <a:xfrm>
            <a:off x="1508040" y="3681360"/>
            <a:ext cx="2449440" cy="387828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Freeform 14"/>
          <p:cNvSpPr/>
          <p:nvPr/>
        </p:nvSpPr>
        <p:spPr>
          <a:xfrm>
            <a:off x="4525920" y="3681360"/>
            <a:ext cx="3460680" cy="395136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Freeform 15"/>
          <p:cNvSpPr/>
          <p:nvPr/>
        </p:nvSpPr>
        <p:spPr>
          <a:xfrm>
            <a:off x="3603600" y="8115480"/>
            <a:ext cx="596880" cy="11649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Freeform 16"/>
          <p:cNvSpPr/>
          <p:nvPr/>
        </p:nvSpPr>
        <p:spPr>
          <a:xfrm>
            <a:off x="4245120" y="8308800"/>
            <a:ext cx="938160" cy="9716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Freeform 17"/>
          <p:cNvSpPr/>
          <p:nvPr/>
        </p:nvSpPr>
        <p:spPr>
          <a:xfrm>
            <a:off x="5237280" y="8094600"/>
            <a:ext cx="514080" cy="12081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Freeform 18"/>
          <p:cNvSpPr/>
          <p:nvPr/>
        </p:nvSpPr>
        <p:spPr>
          <a:xfrm>
            <a:off x="5816520" y="8115480"/>
            <a:ext cx="603360" cy="11649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Freeform 19"/>
          <p:cNvSpPr/>
          <p:nvPr/>
        </p:nvSpPr>
        <p:spPr>
          <a:xfrm>
            <a:off x="10107720" y="1047600"/>
            <a:ext cx="4991040" cy="55375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Freeform 20"/>
          <p:cNvSpPr/>
          <p:nvPr/>
        </p:nvSpPr>
        <p:spPr>
          <a:xfrm>
            <a:off x="15811560" y="1028880"/>
            <a:ext cx="4456080" cy="54352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Freeform 21"/>
          <p:cNvSpPr/>
          <p:nvPr/>
        </p:nvSpPr>
        <p:spPr>
          <a:xfrm>
            <a:off x="20940840" y="1012680"/>
            <a:ext cx="5029200" cy="54928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Freeform 22"/>
          <p:cNvSpPr/>
          <p:nvPr/>
        </p:nvSpPr>
        <p:spPr>
          <a:xfrm>
            <a:off x="26295480" y="990720"/>
            <a:ext cx="5045040" cy="55148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Freeform 23"/>
          <p:cNvSpPr/>
          <p:nvPr/>
        </p:nvSpPr>
        <p:spPr>
          <a:xfrm>
            <a:off x="31677120" y="1022400"/>
            <a:ext cx="5062320" cy="55116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Freeform 24"/>
          <p:cNvSpPr/>
          <p:nvPr/>
        </p:nvSpPr>
        <p:spPr>
          <a:xfrm>
            <a:off x="37168200" y="1054080"/>
            <a:ext cx="4811760" cy="5437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Freeform 25"/>
          <p:cNvSpPr/>
          <p:nvPr/>
        </p:nvSpPr>
        <p:spPr>
          <a:xfrm>
            <a:off x="10029960" y="7105680"/>
            <a:ext cx="1309680" cy="242892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Freeform 26"/>
          <p:cNvSpPr/>
          <p:nvPr/>
        </p:nvSpPr>
        <p:spPr>
          <a:xfrm>
            <a:off x="11622240" y="7508880"/>
            <a:ext cx="1233360" cy="206208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7"/>
          <p:cNvSpPr/>
          <p:nvPr/>
        </p:nvSpPr>
        <p:spPr>
          <a:xfrm>
            <a:off x="13141440" y="7105680"/>
            <a:ext cx="565200" cy="2428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28"/>
          <p:cNvSpPr/>
          <p:nvPr/>
        </p:nvSpPr>
        <p:spPr>
          <a:xfrm>
            <a:off x="13997160" y="7105680"/>
            <a:ext cx="564840" cy="2428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Freeform 29"/>
          <p:cNvSpPr/>
          <p:nvPr/>
        </p:nvSpPr>
        <p:spPr>
          <a:xfrm>
            <a:off x="15395400" y="7508880"/>
            <a:ext cx="1200240" cy="206208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Freeform 30"/>
          <p:cNvSpPr/>
          <p:nvPr/>
        </p:nvSpPr>
        <p:spPr>
          <a:xfrm>
            <a:off x="16841880" y="7508880"/>
            <a:ext cx="1258920" cy="230976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Freeform 31"/>
          <p:cNvSpPr/>
          <p:nvPr/>
        </p:nvSpPr>
        <p:spPr>
          <a:xfrm>
            <a:off x="18361080" y="7508880"/>
            <a:ext cx="1254240" cy="206208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Freeform 32"/>
          <p:cNvSpPr/>
          <p:nvPr/>
        </p:nvSpPr>
        <p:spPr>
          <a:xfrm>
            <a:off x="19875600" y="7508880"/>
            <a:ext cx="1253880" cy="206208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Freeform 33"/>
          <p:cNvSpPr/>
          <p:nvPr/>
        </p:nvSpPr>
        <p:spPr>
          <a:xfrm>
            <a:off x="21386880" y="7105680"/>
            <a:ext cx="1262160" cy="246528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Freeform 34"/>
          <p:cNvSpPr/>
          <p:nvPr/>
        </p:nvSpPr>
        <p:spPr>
          <a:xfrm>
            <a:off x="23526720" y="7508880"/>
            <a:ext cx="873000" cy="202572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Freeform 35"/>
          <p:cNvSpPr/>
          <p:nvPr/>
        </p:nvSpPr>
        <p:spPr>
          <a:xfrm>
            <a:off x="24601320" y="7508880"/>
            <a:ext cx="1254240" cy="206208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Freeform 36"/>
          <p:cNvSpPr/>
          <p:nvPr/>
        </p:nvSpPr>
        <p:spPr>
          <a:xfrm>
            <a:off x="26088840" y="7508880"/>
            <a:ext cx="1198800" cy="206208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Freeform 37"/>
          <p:cNvSpPr/>
          <p:nvPr/>
        </p:nvSpPr>
        <p:spPr>
          <a:xfrm>
            <a:off x="27441360" y="7280280"/>
            <a:ext cx="841680" cy="225432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Freeform 38"/>
          <p:cNvSpPr/>
          <p:nvPr/>
        </p:nvSpPr>
        <p:spPr>
          <a:xfrm>
            <a:off x="28474920" y="7508880"/>
            <a:ext cx="868320" cy="202572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Freeform 39"/>
          <p:cNvSpPr/>
          <p:nvPr/>
        </p:nvSpPr>
        <p:spPr>
          <a:xfrm>
            <a:off x="29565720" y="7105680"/>
            <a:ext cx="561960" cy="242892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Freeform 40"/>
          <p:cNvSpPr/>
          <p:nvPr/>
        </p:nvSpPr>
        <p:spPr>
          <a:xfrm>
            <a:off x="30403800" y="7508880"/>
            <a:ext cx="1220760" cy="206208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Freeform 41"/>
          <p:cNvSpPr/>
          <p:nvPr/>
        </p:nvSpPr>
        <p:spPr>
          <a:xfrm>
            <a:off x="31795920" y="7280280"/>
            <a:ext cx="839880" cy="225432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Freeform 42"/>
          <p:cNvSpPr/>
          <p:nvPr/>
        </p:nvSpPr>
        <p:spPr>
          <a:xfrm>
            <a:off x="32829480" y="7105680"/>
            <a:ext cx="565200" cy="242892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Freeform 43"/>
          <p:cNvSpPr/>
          <p:nvPr/>
        </p:nvSpPr>
        <p:spPr>
          <a:xfrm>
            <a:off x="33670800" y="7508880"/>
            <a:ext cx="1254240" cy="206208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Freeform 44"/>
          <p:cNvSpPr/>
          <p:nvPr/>
        </p:nvSpPr>
        <p:spPr>
          <a:xfrm>
            <a:off x="35197920" y="7508880"/>
            <a:ext cx="1258920" cy="202572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4T10:05:23Z</dcterms:created>
  <dc:creator>NEC-PCuser</dc:creator>
  <dc:description/>
  <dc:language>en-US</dc:language>
  <cp:lastModifiedBy>moosawa</cp:lastModifiedBy>
  <dcterms:modified xsi:type="dcterms:W3CDTF">2009-05-15T10:05:44Z</dcterms:modified>
  <cp:revision>4</cp:revision>
  <dc:subject/>
  <dc:title>スライド 1</dc:title>
</cp:coreProperties>
</file>