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8CB-ECEE-4A58-BF67-664AEFEB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878-4064-4197-98C1-E9D69648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454-FD5E-4CA8-A43F-2BFE3DB1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306-69E0-4EF5-9D9C-D06162A2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7D8-FACA-4C32-8D27-166C5776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9F7-49F0-4ED6-BBDD-F369CC42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790-2AF5-4C0C-B5AD-4E0BE08E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A3B-08FE-478F-93AE-4618D81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17F-64B8-41ED-A112-51C76F5B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127-756B-42BD-B222-B40393C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70D-D832-4C74-B913-1C553150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6A7-788A-49AD-B163-3031BAE8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AB591495-243E-4D48-86A3-1766B0B31B0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4120" y="11782440"/>
            <a:ext cx="439560" cy="739800"/>
          </a:xfrm>
          <a:custGeom>
            <a:avLst/>
            <a:gdLst/>
            <a:ahLst/>
            <a:rect l="l" t="t" r="r" b="b"/>
            <a:pathLst>
              <a:path w="277" h="466">
                <a:moveTo>
                  <a:pt x="148" y="42"/>
                </a:moveTo>
                <a:lnTo>
                  <a:pt x="148" y="42"/>
                </a:lnTo>
                <a:lnTo>
                  <a:pt x="133" y="42"/>
                </a:lnTo>
                <a:lnTo>
                  <a:pt x="121" y="46"/>
                </a:lnTo>
                <a:lnTo>
                  <a:pt x="109" y="50"/>
                </a:lnTo>
                <a:lnTo>
                  <a:pt x="98" y="58"/>
                </a:lnTo>
                <a:lnTo>
                  <a:pt x="98" y="58"/>
                </a:lnTo>
                <a:lnTo>
                  <a:pt x="90" y="70"/>
                </a:lnTo>
                <a:lnTo>
                  <a:pt x="86" y="77"/>
                </a:lnTo>
                <a:lnTo>
                  <a:pt x="82" y="89"/>
                </a:lnTo>
                <a:lnTo>
                  <a:pt x="78" y="101"/>
                </a:lnTo>
                <a:lnTo>
                  <a:pt x="78" y="101"/>
                </a:lnTo>
                <a:lnTo>
                  <a:pt x="82" y="120"/>
                </a:lnTo>
                <a:lnTo>
                  <a:pt x="94" y="140"/>
                </a:lnTo>
                <a:lnTo>
                  <a:pt x="94" y="140"/>
                </a:lnTo>
                <a:lnTo>
                  <a:pt x="109" y="155"/>
                </a:lnTo>
                <a:lnTo>
                  <a:pt x="133" y="167"/>
                </a:lnTo>
                <a:lnTo>
                  <a:pt x="133" y="167"/>
                </a:lnTo>
                <a:lnTo>
                  <a:pt x="179" y="190"/>
                </a:lnTo>
                <a:lnTo>
                  <a:pt x="179" y="190"/>
                </a:lnTo>
                <a:lnTo>
                  <a:pt x="203" y="202"/>
                </a:lnTo>
                <a:lnTo>
                  <a:pt x="226" y="217"/>
                </a:lnTo>
                <a:lnTo>
                  <a:pt x="226" y="217"/>
                </a:lnTo>
                <a:lnTo>
                  <a:pt x="245" y="237"/>
                </a:lnTo>
                <a:lnTo>
                  <a:pt x="265" y="260"/>
                </a:lnTo>
                <a:lnTo>
                  <a:pt x="265" y="260"/>
                </a:lnTo>
                <a:lnTo>
                  <a:pt x="273" y="287"/>
                </a:lnTo>
                <a:lnTo>
                  <a:pt x="277" y="318"/>
                </a:lnTo>
                <a:lnTo>
                  <a:pt x="277" y="318"/>
                </a:lnTo>
                <a:lnTo>
                  <a:pt x="277" y="353"/>
                </a:lnTo>
                <a:lnTo>
                  <a:pt x="265" y="381"/>
                </a:lnTo>
                <a:lnTo>
                  <a:pt x="265" y="381"/>
                </a:lnTo>
                <a:lnTo>
                  <a:pt x="249" y="404"/>
                </a:lnTo>
                <a:lnTo>
                  <a:pt x="230" y="427"/>
                </a:lnTo>
                <a:lnTo>
                  <a:pt x="230" y="427"/>
                </a:lnTo>
                <a:lnTo>
                  <a:pt x="207" y="443"/>
                </a:lnTo>
                <a:lnTo>
                  <a:pt x="175" y="455"/>
                </a:lnTo>
                <a:lnTo>
                  <a:pt x="175" y="455"/>
                </a:lnTo>
                <a:lnTo>
                  <a:pt x="144" y="462"/>
                </a:lnTo>
                <a:lnTo>
                  <a:pt x="105" y="466"/>
                </a:lnTo>
                <a:lnTo>
                  <a:pt x="105" y="466"/>
                </a:lnTo>
                <a:lnTo>
                  <a:pt x="70" y="462"/>
                </a:lnTo>
                <a:lnTo>
                  <a:pt x="43" y="458"/>
                </a:lnTo>
                <a:lnTo>
                  <a:pt x="43" y="458"/>
                </a:lnTo>
                <a:lnTo>
                  <a:pt x="16" y="451"/>
                </a:lnTo>
                <a:lnTo>
                  <a:pt x="0" y="439"/>
                </a:lnTo>
                <a:lnTo>
                  <a:pt x="0" y="439"/>
                </a:lnTo>
                <a:lnTo>
                  <a:pt x="12" y="396"/>
                </a:lnTo>
                <a:lnTo>
                  <a:pt x="12" y="396"/>
                </a:lnTo>
                <a:lnTo>
                  <a:pt x="20" y="357"/>
                </a:lnTo>
                <a:lnTo>
                  <a:pt x="32" y="357"/>
                </a:lnTo>
                <a:lnTo>
                  <a:pt x="32" y="357"/>
                </a:lnTo>
                <a:lnTo>
                  <a:pt x="35" y="369"/>
                </a:lnTo>
                <a:lnTo>
                  <a:pt x="39" y="385"/>
                </a:lnTo>
                <a:lnTo>
                  <a:pt x="39" y="385"/>
                </a:lnTo>
                <a:lnTo>
                  <a:pt x="51" y="396"/>
                </a:lnTo>
                <a:lnTo>
                  <a:pt x="59" y="408"/>
                </a:lnTo>
                <a:lnTo>
                  <a:pt x="59" y="408"/>
                </a:lnTo>
                <a:lnTo>
                  <a:pt x="70" y="416"/>
                </a:lnTo>
                <a:lnTo>
                  <a:pt x="86" y="420"/>
                </a:lnTo>
                <a:lnTo>
                  <a:pt x="86" y="420"/>
                </a:lnTo>
                <a:lnTo>
                  <a:pt x="102" y="427"/>
                </a:lnTo>
                <a:lnTo>
                  <a:pt x="121" y="427"/>
                </a:lnTo>
                <a:lnTo>
                  <a:pt x="121" y="427"/>
                </a:lnTo>
                <a:lnTo>
                  <a:pt x="140" y="427"/>
                </a:lnTo>
                <a:lnTo>
                  <a:pt x="156" y="423"/>
                </a:lnTo>
                <a:lnTo>
                  <a:pt x="168" y="416"/>
                </a:lnTo>
                <a:lnTo>
                  <a:pt x="179" y="408"/>
                </a:lnTo>
                <a:lnTo>
                  <a:pt x="179" y="408"/>
                </a:lnTo>
                <a:lnTo>
                  <a:pt x="187" y="396"/>
                </a:lnTo>
                <a:lnTo>
                  <a:pt x="191" y="385"/>
                </a:lnTo>
                <a:lnTo>
                  <a:pt x="195" y="373"/>
                </a:lnTo>
                <a:lnTo>
                  <a:pt x="199" y="361"/>
                </a:lnTo>
                <a:lnTo>
                  <a:pt x="199" y="361"/>
                </a:lnTo>
                <a:lnTo>
                  <a:pt x="195" y="338"/>
                </a:lnTo>
                <a:lnTo>
                  <a:pt x="183" y="318"/>
                </a:lnTo>
                <a:lnTo>
                  <a:pt x="183" y="318"/>
                </a:lnTo>
                <a:lnTo>
                  <a:pt x="168" y="307"/>
                </a:lnTo>
                <a:lnTo>
                  <a:pt x="148" y="291"/>
                </a:lnTo>
                <a:lnTo>
                  <a:pt x="148" y="291"/>
                </a:lnTo>
                <a:lnTo>
                  <a:pt x="102" y="268"/>
                </a:lnTo>
                <a:lnTo>
                  <a:pt x="102" y="268"/>
                </a:lnTo>
                <a:lnTo>
                  <a:pt x="74" y="256"/>
                </a:lnTo>
                <a:lnTo>
                  <a:pt x="55" y="241"/>
                </a:lnTo>
                <a:lnTo>
                  <a:pt x="55" y="241"/>
                </a:lnTo>
                <a:lnTo>
                  <a:pt x="35" y="221"/>
                </a:lnTo>
                <a:lnTo>
                  <a:pt x="16" y="202"/>
                </a:lnTo>
                <a:lnTo>
                  <a:pt x="16" y="202"/>
                </a:lnTo>
                <a:lnTo>
                  <a:pt x="8" y="175"/>
                </a:lnTo>
                <a:lnTo>
                  <a:pt x="4" y="140"/>
                </a:lnTo>
                <a:lnTo>
                  <a:pt x="4" y="140"/>
                </a:lnTo>
                <a:lnTo>
                  <a:pt x="4" y="109"/>
                </a:lnTo>
                <a:lnTo>
                  <a:pt x="16" y="81"/>
                </a:lnTo>
                <a:lnTo>
                  <a:pt x="16" y="81"/>
                </a:lnTo>
                <a:lnTo>
                  <a:pt x="28" y="54"/>
                </a:lnTo>
                <a:lnTo>
                  <a:pt x="47" y="35"/>
                </a:lnTo>
                <a:lnTo>
                  <a:pt x="47" y="35"/>
                </a:lnTo>
                <a:lnTo>
                  <a:pt x="70" y="19"/>
                </a:lnTo>
                <a:lnTo>
                  <a:pt x="94" y="7"/>
                </a:lnTo>
                <a:lnTo>
                  <a:pt x="94" y="7"/>
                </a:lnTo>
                <a:lnTo>
                  <a:pt x="121" y="4"/>
                </a:lnTo>
                <a:lnTo>
                  <a:pt x="152" y="0"/>
                </a:lnTo>
                <a:lnTo>
                  <a:pt x="152" y="0"/>
                </a:lnTo>
                <a:lnTo>
                  <a:pt x="183" y="4"/>
                </a:lnTo>
                <a:lnTo>
                  <a:pt x="210" y="7"/>
                </a:lnTo>
                <a:lnTo>
                  <a:pt x="210" y="7"/>
                </a:lnTo>
                <a:lnTo>
                  <a:pt x="238" y="19"/>
                </a:lnTo>
                <a:lnTo>
                  <a:pt x="257" y="31"/>
                </a:lnTo>
                <a:lnTo>
                  <a:pt x="257" y="31"/>
                </a:lnTo>
                <a:lnTo>
                  <a:pt x="249" y="62"/>
                </a:lnTo>
                <a:lnTo>
                  <a:pt x="249" y="62"/>
                </a:lnTo>
                <a:lnTo>
                  <a:pt x="238" y="97"/>
                </a:lnTo>
                <a:lnTo>
                  <a:pt x="226" y="97"/>
                </a:lnTo>
                <a:lnTo>
                  <a:pt x="226" y="97"/>
                </a:lnTo>
                <a:lnTo>
                  <a:pt x="214" y="74"/>
                </a:lnTo>
                <a:lnTo>
                  <a:pt x="195" y="54"/>
                </a:lnTo>
                <a:lnTo>
                  <a:pt x="175" y="46"/>
                </a:lnTo>
                <a:lnTo>
                  <a:pt x="148" y="42"/>
                </a:lnTo>
                <a:lnTo>
                  <a:pt x="148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9360" y="11793600"/>
            <a:ext cx="846360" cy="716040"/>
          </a:xfrm>
          <a:custGeom>
            <a:avLst/>
            <a:gdLst/>
            <a:ahLst/>
            <a:rect l="l" t="t" r="r" b="b"/>
            <a:pathLst>
              <a:path w="533" h="451">
                <a:moveTo>
                  <a:pt x="70" y="304"/>
                </a:moveTo>
                <a:lnTo>
                  <a:pt x="70" y="304"/>
                </a:lnTo>
                <a:lnTo>
                  <a:pt x="58" y="451"/>
                </a:lnTo>
                <a:lnTo>
                  <a:pt x="58" y="451"/>
                </a:lnTo>
                <a:lnTo>
                  <a:pt x="43" y="448"/>
                </a:lnTo>
                <a:lnTo>
                  <a:pt x="43" y="448"/>
                </a:lnTo>
                <a:lnTo>
                  <a:pt x="27" y="448"/>
                </a:lnTo>
                <a:lnTo>
                  <a:pt x="27" y="448"/>
                </a:lnTo>
                <a:lnTo>
                  <a:pt x="12" y="448"/>
                </a:lnTo>
                <a:lnTo>
                  <a:pt x="12" y="448"/>
                </a:lnTo>
                <a:lnTo>
                  <a:pt x="0" y="451"/>
                </a:lnTo>
                <a:lnTo>
                  <a:pt x="0" y="451"/>
                </a:lnTo>
                <a:lnTo>
                  <a:pt x="35" y="226"/>
                </a:lnTo>
                <a:lnTo>
                  <a:pt x="35" y="226"/>
                </a:lnTo>
                <a:lnTo>
                  <a:pt x="66" y="0"/>
                </a:lnTo>
                <a:lnTo>
                  <a:pt x="66" y="0"/>
                </a:lnTo>
                <a:lnTo>
                  <a:pt x="78" y="4"/>
                </a:lnTo>
                <a:lnTo>
                  <a:pt x="78" y="4"/>
                </a:lnTo>
                <a:lnTo>
                  <a:pt x="93" y="4"/>
                </a:lnTo>
                <a:lnTo>
                  <a:pt x="93" y="4"/>
                </a:lnTo>
                <a:lnTo>
                  <a:pt x="105" y="4"/>
                </a:lnTo>
                <a:lnTo>
                  <a:pt x="105" y="4"/>
                </a:lnTo>
                <a:lnTo>
                  <a:pt x="117" y="0"/>
                </a:lnTo>
                <a:lnTo>
                  <a:pt x="117" y="0"/>
                </a:lnTo>
                <a:lnTo>
                  <a:pt x="155" y="82"/>
                </a:lnTo>
                <a:lnTo>
                  <a:pt x="155" y="82"/>
                </a:lnTo>
                <a:lnTo>
                  <a:pt x="194" y="164"/>
                </a:lnTo>
                <a:lnTo>
                  <a:pt x="194" y="164"/>
                </a:lnTo>
                <a:lnTo>
                  <a:pt x="233" y="241"/>
                </a:lnTo>
                <a:lnTo>
                  <a:pt x="233" y="241"/>
                </a:lnTo>
                <a:lnTo>
                  <a:pt x="268" y="315"/>
                </a:lnTo>
                <a:lnTo>
                  <a:pt x="268" y="315"/>
                </a:lnTo>
                <a:lnTo>
                  <a:pt x="346" y="160"/>
                </a:lnTo>
                <a:lnTo>
                  <a:pt x="346" y="160"/>
                </a:lnTo>
                <a:lnTo>
                  <a:pt x="420" y="0"/>
                </a:lnTo>
                <a:lnTo>
                  <a:pt x="420" y="0"/>
                </a:lnTo>
                <a:lnTo>
                  <a:pt x="451" y="4"/>
                </a:lnTo>
                <a:lnTo>
                  <a:pt x="451" y="4"/>
                </a:lnTo>
                <a:lnTo>
                  <a:pt x="478" y="0"/>
                </a:lnTo>
                <a:lnTo>
                  <a:pt x="478" y="0"/>
                </a:lnTo>
                <a:lnTo>
                  <a:pt x="490" y="121"/>
                </a:lnTo>
                <a:lnTo>
                  <a:pt x="490" y="121"/>
                </a:lnTo>
                <a:lnTo>
                  <a:pt x="505" y="249"/>
                </a:lnTo>
                <a:lnTo>
                  <a:pt x="505" y="249"/>
                </a:lnTo>
                <a:lnTo>
                  <a:pt x="521" y="366"/>
                </a:lnTo>
                <a:lnTo>
                  <a:pt x="521" y="366"/>
                </a:lnTo>
                <a:lnTo>
                  <a:pt x="533" y="451"/>
                </a:lnTo>
                <a:lnTo>
                  <a:pt x="533" y="451"/>
                </a:lnTo>
                <a:lnTo>
                  <a:pt x="505" y="448"/>
                </a:lnTo>
                <a:lnTo>
                  <a:pt x="505" y="448"/>
                </a:lnTo>
                <a:lnTo>
                  <a:pt x="482" y="448"/>
                </a:lnTo>
                <a:lnTo>
                  <a:pt x="482" y="448"/>
                </a:lnTo>
                <a:lnTo>
                  <a:pt x="455" y="448"/>
                </a:lnTo>
                <a:lnTo>
                  <a:pt x="455" y="448"/>
                </a:lnTo>
                <a:lnTo>
                  <a:pt x="428" y="451"/>
                </a:lnTo>
                <a:lnTo>
                  <a:pt x="428" y="451"/>
                </a:lnTo>
                <a:lnTo>
                  <a:pt x="416" y="304"/>
                </a:lnTo>
                <a:lnTo>
                  <a:pt x="416" y="304"/>
                </a:lnTo>
                <a:lnTo>
                  <a:pt x="400" y="148"/>
                </a:lnTo>
                <a:lnTo>
                  <a:pt x="400" y="148"/>
                </a:lnTo>
                <a:lnTo>
                  <a:pt x="400" y="148"/>
                </a:lnTo>
                <a:lnTo>
                  <a:pt x="327" y="300"/>
                </a:lnTo>
                <a:lnTo>
                  <a:pt x="327" y="300"/>
                </a:lnTo>
                <a:lnTo>
                  <a:pt x="253" y="451"/>
                </a:lnTo>
                <a:lnTo>
                  <a:pt x="253" y="451"/>
                </a:lnTo>
                <a:lnTo>
                  <a:pt x="249" y="448"/>
                </a:lnTo>
                <a:lnTo>
                  <a:pt x="249" y="448"/>
                </a:lnTo>
                <a:lnTo>
                  <a:pt x="241" y="448"/>
                </a:lnTo>
                <a:lnTo>
                  <a:pt x="241" y="448"/>
                </a:lnTo>
                <a:lnTo>
                  <a:pt x="237" y="448"/>
                </a:lnTo>
                <a:lnTo>
                  <a:pt x="237" y="448"/>
                </a:lnTo>
                <a:lnTo>
                  <a:pt x="229" y="451"/>
                </a:lnTo>
                <a:lnTo>
                  <a:pt x="229" y="451"/>
                </a:lnTo>
                <a:lnTo>
                  <a:pt x="159" y="304"/>
                </a:lnTo>
                <a:lnTo>
                  <a:pt x="159" y="304"/>
                </a:lnTo>
                <a:lnTo>
                  <a:pt x="85" y="156"/>
                </a:lnTo>
                <a:lnTo>
                  <a:pt x="85" y="156"/>
                </a:lnTo>
                <a:lnTo>
                  <a:pt x="85" y="156"/>
                </a:lnTo>
                <a:lnTo>
                  <a:pt x="78" y="230"/>
                </a:lnTo>
                <a:lnTo>
                  <a:pt x="70" y="304"/>
                </a:lnTo>
                <a:lnTo>
                  <a:pt x="70" y="3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04920" y="11782440"/>
            <a:ext cx="790560" cy="739800"/>
          </a:xfrm>
          <a:custGeom>
            <a:avLst/>
            <a:gdLst/>
            <a:ahLst/>
            <a:rect l="l" t="t" r="r" b="b"/>
            <a:pathLst>
              <a:path w="498" h="466">
                <a:moveTo>
                  <a:pt x="16" y="144"/>
                </a:moveTo>
                <a:lnTo>
                  <a:pt x="16" y="144"/>
                </a:lnTo>
                <a:lnTo>
                  <a:pt x="39" y="105"/>
                </a:lnTo>
                <a:lnTo>
                  <a:pt x="66" y="70"/>
                </a:lnTo>
                <a:lnTo>
                  <a:pt x="66" y="70"/>
                </a:lnTo>
                <a:lnTo>
                  <a:pt x="86" y="54"/>
                </a:lnTo>
                <a:lnTo>
                  <a:pt x="105" y="39"/>
                </a:lnTo>
                <a:lnTo>
                  <a:pt x="148" y="19"/>
                </a:lnTo>
                <a:lnTo>
                  <a:pt x="148" y="19"/>
                </a:lnTo>
                <a:lnTo>
                  <a:pt x="171" y="11"/>
                </a:lnTo>
                <a:lnTo>
                  <a:pt x="195" y="4"/>
                </a:lnTo>
                <a:lnTo>
                  <a:pt x="222" y="0"/>
                </a:lnTo>
                <a:lnTo>
                  <a:pt x="249" y="0"/>
                </a:lnTo>
                <a:lnTo>
                  <a:pt x="249" y="0"/>
                </a:lnTo>
                <a:lnTo>
                  <a:pt x="300" y="4"/>
                </a:lnTo>
                <a:lnTo>
                  <a:pt x="346" y="15"/>
                </a:lnTo>
                <a:lnTo>
                  <a:pt x="346" y="15"/>
                </a:lnTo>
                <a:lnTo>
                  <a:pt x="389" y="31"/>
                </a:lnTo>
                <a:lnTo>
                  <a:pt x="424" y="58"/>
                </a:lnTo>
                <a:lnTo>
                  <a:pt x="424" y="58"/>
                </a:lnTo>
                <a:lnTo>
                  <a:pt x="440" y="74"/>
                </a:lnTo>
                <a:lnTo>
                  <a:pt x="455" y="89"/>
                </a:lnTo>
                <a:lnTo>
                  <a:pt x="467" y="109"/>
                </a:lnTo>
                <a:lnTo>
                  <a:pt x="478" y="132"/>
                </a:lnTo>
                <a:lnTo>
                  <a:pt x="478" y="132"/>
                </a:lnTo>
                <a:lnTo>
                  <a:pt x="486" y="155"/>
                </a:lnTo>
                <a:lnTo>
                  <a:pt x="490" y="179"/>
                </a:lnTo>
                <a:lnTo>
                  <a:pt x="494" y="206"/>
                </a:lnTo>
                <a:lnTo>
                  <a:pt x="498" y="233"/>
                </a:lnTo>
                <a:lnTo>
                  <a:pt x="498" y="233"/>
                </a:lnTo>
                <a:lnTo>
                  <a:pt x="494" y="256"/>
                </a:lnTo>
                <a:lnTo>
                  <a:pt x="494" y="280"/>
                </a:lnTo>
                <a:lnTo>
                  <a:pt x="486" y="303"/>
                </a:lnTo>
                <a:lnTo>
                  <a:pt x="478" y="326"/>
                </a:lnTo>
                <a:lnTo>
                  <a:pt x="478" y="326"/>
                </a:lnTo>
                <a:lnTo>
                  <a:pt x="455" y="365"/>
                </a:lnTo>
                <a:lnTo>
                  <a:pt x="428" y="400"/>
                </a:lnTo>
                <a:lnTo>
                  <a:pt x="428" y="400"/>
                </a:lnTo>
                <a:lnTo>
                  <a:pt x="408" y="416"/>
                </a:lnTo>
                <a:lnTo>
                  <a:pt x="389" y="427"/>
                </a:lnTo>
                <a:lnTo>
                  <a:pt x="346" y="447"/>
                </a:lnTo>
                <a:lnTo>
                  <a:pt x="346" y="447"/>
                </a:lnTo>
                <a:lnTo>
                  <a:pt x="323" y="455"/>
                </a:lnTo>
                <a:lnTo>
                  <a:pt x="300" y="462"/>
                </a:lnTo>
                <a:lnTo>
                  <a:pt x="249" y="466"/>
                </a:lnTo>
                <a:lnTo>
                  <a:pt x="249" y="466"/>
                </a:lnTo>
                <a:lnTo>
                  <a:pt x="198" y="462"/>
                </a:lnTo>
                <a:lnTo>
                  <a:pt x="152" y="455"/>
                </a:lnTo>
                <a:lnTo>
                  <a:pt x="152" y="455"/>
                </a:lnTo>
                <a:lnTo>
                  <a:pt x="129" y="447"/>
                </a:lnTo>
                <a:lnTo>
                  <a:pt x="109" y="435"/>
                </a:lnTo>
                <a:lnTo>
                  <a:pt x="90" y="423"/>
                </a:lnTo>
                <a:lnTo>
                  <a:pt x="70" y="412"/>
                </a:lnTo>
                <a:lnTo>
                  <a:pt x="70" y="412"/>
                </a:lnTo>
                <a:lnTo>
                  <a:pt x="55" y="396"/>
                </a:lnTo>
                <a:lnTo>
                  <a:pt x="43" y="381"/>
                </a:lnTo>
                <a:lnTo>
                  <a:pt x="27" y="361"/>
                </a:lnTo>
                <a:lnTo>
                  <a:pt x="20" y="338"/>
                </a:lnTo>
                <a:lnTo>
                  <a:pt x="20" y="338"/>
                </a:lnTo>
                <a:lnTo>
                  <a:pt x="12" y="315"/>
                </a:lnTo>
                <a:lnTo>
                  <a:pt x="4" y="291"/>
                </a:lnTo>
                <a:lnTo>
                  <a:pt x="0" y="264"/>
                </a:lnTo>
                <a:lnTo>
                  <a:pt x="0" y="233"/>
                </a:lnTo>
                <a:lnTo>
                  <a:pt x="0" y="233"/>
                </a:lnTo>
                <a:lnTo>
                  <a:pt x="4" y="186"/>
                </a:lnTo>
                <a:lnTo>
                  <a:pt x="8" y="163"/>
                </a:lnTo>
                <a:lnTo>
                  <a:pt x="16" y="144"/>
                </a:lnTo>
                <a:lnTo>
                  <a:pt x="16" y="144"/>
                </a:lnTo>
                <a:close/>
                <a:moveTo>
                  <a:pt x="381" y="144"/>
                </a:moveTo>
                <a:lnTo>
                  <a:pt x="381" y="144"/>
                </a:lnTo>
                <a:lnTo>
                  <a:pt x="366" y="112"/>
                </a:lnTo>
                <a:lnTo>
                  <a:pt x="350" y="85"/>
                </a:lnTo>
                <a:lnTo>
                  <a:pt x="350" y="85"/>
                </a:lnTo>
                <a:lnTo>
                  <a:pt x="331" y="66"/>
                </a:lnTo>
                <a:lnTo>
                  <a:pt x="303" y="50"/>
                </a:lnTo>
                <a:lnTo>
                  <a:pt x="303" y="50"/>
                </a:lnTo>
                <a:lnTo>
                  <a:pt x="276" y="39"/>
                </a:lnTo>
                <a:lnTo>
                  <a:pt x="249" y="39"/>
                </a:lnTo>
                <a:lnTo>
                  <a:pt x="249" y="39"/>
                </a:lnTo>
                <a:lnTo>
                  <a:pt x="218" y="42"/>
                </a:lnTo>
                <a:lnTo>
                  <a:pt x="187" y="54"/>
                </a:lnTo>
                <a:lnTo>
                  <a:pt x="187" y="54"/>
                </a:lnTo>
                <a:lnTo>
                  <a:pt x="164" y="74"/>
                </a:lnTo>
                <a:lnTo>
                  <a:pt x="144" y="97"/>
                </a:lnTo>
                <a:lnTo>
                  <a:pt x="144" y="97"/>
                </a:lnTo>
                <a:lnTo>
                  <a:pt x="129" y="128"/>
                </a:lnTo>
                <a:lnTo>
                  <a:pt x="117" y="159"/>
                </a:lnTo>
                <a:lnTo>
                  <a:pt x="117" y="159"/>
                </a:lnTo>
                <a:lnTo>
                  <a:pt x="109" y="198"/>
                </a:lnTo>
                <a:lnTo>
                  <a:pt x="105" y="241"/>
                </a:lnTo>
                <a:lnTo>
                  <a:pt x="105" y="241"/>
                </a:lnTo>
                <a:lnTo>
                  <a:pt x="109" y="287"/>
                </a:lnTo>
                <a:lnTo>
                  <a:pt x="117" y="326"/>
                </a:lnTo>
                <a:lnTo>
                  <a:pt x="117" y="326"/>
                </a:lnTo>
                <a:lnTo>
                  <a:pt x="129" y="361"/>
                </a:lnTo>
                <a:lnTo>
                  <a:pt x="148" y="385"/>
                </a:lnTo>
                <a:lnTo>
                  <a:pt x="148" y="385"/>
                </a:lnTo>
                <a:lnTo>
                  <a:pt x="167" y="404"/>
                </a:lnTo>
                <a:lnTo>
                  <a:pt x="191" y="416"/>
                </a:lnTo>
                <a:lnTo>
                  <a:pt x="191" y="416"/>
                </a:lnTo>
                <a:lnTo>
                  <a:pt x="218" y="423"/>
                </a:lnTo>
                <a:lnTo>
                  <a:pt x="241" y="427"/>
                </a:lnTo>
                <a:lnTo>
                  <a:pt x="241" y="427"/>
                </a:lnTo>
                <a:lnTo>
                  <a:pt x="272" y="423"/>
                </a:lnTo>
                <a:lnTo>
                  <a:pt x="300" y="416"/>
                </a:lnTo>
                <a:lnTo>
                  <a:pt x="300" y="416"/>
                </a:lnTo>
                <a:lnTo>
                  <a:pt x="323" y="400"/>
                </a:lnTo>
                <a:lnTo>
                  <a:pt x="346" y="377"/>
                </a:lnTo>
                <a:lnTo>
                  <a:pt x="346" y="377"/>
                </a:lnTo>
                <a:lnTo>
                  <a:pt x="366" y="350"/>
                </a:lnTo>
                <a:lnTo>
                  <a:pt x="377" y="311"/>
                </a:lnTo>
                <a:lnTo>
                  <a:pt x="377" y="311"/>
                </a:lnTo>
                <a:lnTo>
                  <a:pt x="385" y="268"/>
                </a:lnTo>
                <a:lnTo>
                  <a:pt x="389" y="217"/>
                </a:lnTo>
                <a:lnTo>
                  <a:pt x="389" y="217"/>
                </a:lnTo>
                <a:lnTo>
                  <a:pt x="389" y="179"/>
                </a:lnTo>
                <a:lnTo>
                  <a:pt x="381" y="144"/>
                </a:lnTo>
                <a:lnTo>
                  <a:pt x="38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06720" y="11793600"/>
            <a:ext cx="568440" cy="716040"/>
          </a:xfrm>
          <a:custGeom>
            <a:avLst/>
            <a:gdLst/>
            <a:ahLst/>
            <a:rect l="l" t="t" r="r" b="b"/>
            <a:pathLst>
              <a:path w="358" h="451">
                <a:moveTo>
                  <a:pt x="105" y="370"/>
                </a:moveTo>
                <a:lnTo>
                  <a:pt x="105" y="370"/>
                </a:lnTo>
                <a:lnTo>
                  <a:pt x="109" y="451"/>
                </a:lnTo>
                <a:lnTo>
                  <a:pt x="109" y="451"/>
                </a:lnTo>
                <a:lnTo>
                  <a:pt x="85" y="448"/>
                </a:lnTo>
                <a:lnTo>
                  <a:pt x="85" y="448"/>
                </a:lnTo>
                <a:lnTo>
                  <a:pt x="54" y="448"/>
                </a:lnTo>
                <a:lnTo>
                  <a:pt x="54" y="448"/>
                </a:lnTo>
                <a:lnTo>
                  <a:pt x="27" y="448"/>
                </a:lnTo>
                <a:lnTo>
                  <a:pt x="27" y="448"/>
                </a:lnTo>
                <a:lnTo>
                  <a:pt x="0" y="451"/>
                </a:lnTo>
                <a:lnTo>
                  <a:pt x="0" y="451"/>
                </a:lnTo>
                <a:lnTo>
                  <a:pt x="8" y="366"/>
                </a:lnTo>
                <a:lnTo>
                  <a:pt x="8" y="366"/>
                </a:lnTo>
                <a:lnTo>
                  <a:pt x="8" y="273"/>
                </a:lnTo>
                <a:lnTo>
                  <a:pt x="8" y="183"/>
                </a:lnTo>
                <a:lnTo>
                  <a:pt x="8" y="183"/>
                </a:lnTo>
                <a:lnTo>
                  <a:pt x="8" y="86"/>
                </a:lnTo>
                <a:lnTo>
                  <a:pt x="8" y="86"/>
                </a:lnTo>
                <a:lnTo>
                  <a:pt x="0" y="0"/>
                </a:lnTo>
                <a:lnTo>
                  <a:pt x="0" y="0"/>
                </a:lnTo>
                <a:lnTo>
                  <a:pt x="27" y="4"/>
                </a:lnTo>
                <a:lnTo>
                  <a:pt x="27" y="4"/>
                </a:lnTo>
                <a:lnTo>
                  <a:pt x="54" y="4"/>
                </a:lnTo>
                <a:lnTo>
                  <a:pt x="54" y="4"/>
                </a:lnTo>
                <a:lnTo>
                  <a:pt x="85" y="4"/>
                </a:lnTo>
                <a:lnTo>
                  <a:pt x="85" y="4"/>
                </a:lnTo>
                <a:lnTo>
                  <a:pt x="109" y="0"/>
                </a:lnTo>
                <a:lnTo>
                  <a:pt x="109" y="0"/>
                </a:lnTo>
                <a:lnTo>
                  <a:pt x="105" y="59"/>
                </a:lnTo>
                <a:lnTo>
                  <a:pt x="105" y="59"/>
                </a:lnTo>
                <a:lnTo>
                  <a:pt x="105" y="148"/>
                </a:lnTo>
                <a:lnTo>
                  <a:pt x="105" y="210"/>
                </a:lnTo>
                <a:lnTo>
                  <a:pt x="105" y="210"/>
                </a:lnTo>
                <a:lnTo>
                  <a:pt x="152" y="152"/>
                </a:lnTo>
                <a:lnTo>
                  <a:pt x="152" y="152"/>
                </a:lnTo>
                <a:lnTo>
                  <a:pt x="202" y="94"/>
                </a:lnTo>
                <a:lnTo>
                  <a:pt x="202" y="94"/>
                </a:lnTo>
                <a:lnTo>
                  <a:pt x="245" y="39"/>
                </a:lnTo>
                <a:lnTo>
                  <a:pt x="245" y="39"/>
                </a:lnTo>
                <a:lnTo>
                  <a:pt x="272" y="0"/>
                </a:lnTo>
                <a:lnTo>
                  <a:pt x="272" y="0"/>
                </a:lnTo>
                <a:lnTo>
                  <a:pt x="288" y="4"/>
                </a:lnTo>
                <a:lnTo>
                  <a:pt x="288" y="4"/>
                </a:lnTo>
                <a:lnTo>
                  <a:pt x="307" y="4"/>
                </a:lnTo>
                <a:lnTo>
                  <a:pt x="307" y="4"/>
                </a:lnTo>
                <a:lnTo>
                  <a:pt x="327" y="4"/>
                </a:lnTo>
                <a:lnTo>
                  <a:pt x="327" y="4"/>
                </a:lnTo>
                <a:lnTo>
                  <a:pt x="346" y="0"/>
                </a:lnTo>
                <a:lnTo>
                  <a:pt x="346" y="0"/>
                </a:lnTo>
                <a:lnTo>
                  <a:pt x="311" y="39"/>
                </a:lnTo>
                <a:lnTo>
                  <a:pt x="311" y="39"/>
                </a:lnTo>
                <a:lnTo>
                  <a:pt x="264" y="90"/>
                </a:lnTo>
                <a:lnTo>
                  <a:pt x="264" y="90"/>
                </a:lnTo>
                <a:lnTo>
                  <a:pt x="214" y="148"/>
                </a:lnTo>
                <a:lnTo>
                  <a:pt x="214" y="148"/>
                </a:lnTo>
                <a:lnTo>
                  <a:pt x="179" y="191"/>
                </a:lnTo>
                <a:lnTo>
                  <a:pt x="179" y="191"/>
                </a:lnTo>
                <a:lnTo>
                  <a:pt x="225" y="261"/>
                </a:lnTo>
                <a:lnTo>
                  <a:pt x="225" y="261"/>
                </a:lnTo>
                <a:lnTo>
                  <a:pt x="276" y="335"/>
                </a:lnTo>
                <a:lnTo>
                  <a:pt x="276" y="335"/>
                </a:lnTo>
                <a:lnTo>
                  <a:pt x="323" y="405"/>
                </a:lnTo>
                <a:lnTo>
                  <a:pt x="323" y="405"/>
                </a:lnTo>
                <a:lnTo>
                  <a:pt x="358" y="451"/>
                </a:lnTo>
                <a:lnTo>
                  <a:pt x="358" y="451"/>
                </a:lnTo>
                <a:lnTo>
                  <a:pt x="323" y="448"/>
                </a:lnTo>
                <a:lnTo>
                  <a:pt x="323" y="448"/>
                </a:lnTo>
                <a:lnTo>
                  <a:pt x="292" y="448"/>
                </a:lnTo>
                <a:lnTo>
                  <a:pt x="292" y="448"/>
                </a:lnTo>
                <a:lnTo>
                  <a:pt x="264" y="448"/>
                </a:lnTo>
                <a:lnTo>
                  <a:pt x="264" y="448"/>
                </a:lnTo>
                <a:lnTo>
                  <a:pt x="237" y="451"/>
                </a:lnTo>
                <a:lnTo>
                  <a:pt x="237" y="451"/>
                </a:lnTo>
                <a:lnTo>
                  <a:pt x="171" y="350"/>
                </a:lnTo>
                <a:lnTo>
                  <a:pt x="171" y="350"/>
                </a:lnTo>
                <a:lnTo>
                  <a:pt x="105" y="245"/>
                </a:lnTo>
                <a:lnTo>
                  <a:pt x="105" y="245"/>
                </a:lnTo>
                <a:lnTo>
                  <a:pt x="105" y="245"/>
                </a:lnTo>
                <a:lnTo>
                  <a:pt x="105" y="370"/>
                </a:lnTo>
                <a:lnTo>
                  <a:pt x="105" y="3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60840" y="11793600"/>
            <a:ext cx="172800" cy="716040"/>
          </a:xfrm>
          <a:custGeom>
            <a:avLst/>
            <a:gdLst/>
            <a:ahLst/>
            <a:rect l="l" t="t" r="r" b="b"/>
            <a:pathLst>
              <a:path w="109" h="451">
                <a:moveTo>
                  <a:pt x="4" y="86"/>
                </a:moveTo>
                <a:lnTo>
                  <a:pt x="4" y="86"/>
                </a:lnTo>
                <a:lnTo>
                  <a:pt x="0" y="0"/>
                </a:lnTo>
                <a:lnTo>
                  <a:pt x="0" y="0"/>
                </a:lnTo>
                <a:lnTo>
                  <a:pt x="23" y="4"/>
                </a:lnTo>
                <a:lnTo>
                  <a:pt x="23" y="4"/>
                </a:lnTo>
                <a:lnTo>
                  <a:pt x="54" y="4"/>
                </a:lnTo>
                <a:lnTo>
                  <a:pt x="54" y="4"/>
                </a:lnTo>
                <a:lnTo>
                  <a:pt x="86" y="4"/>
                </a:lnTo>
                <a:lnTo>
                  <a:pt x="86" y="4"/>
                </a:lnTo>
                <a:lnTo>
                  <a:pt x="109" y="0"/>
                </a:lnTo>
                <a:lnTo>
                  <a:pt x="109" y="0"/>
                </a:lnTo>
                <a:lnTo>
                  <a:pt x="105" y="86"/>
                </a:lnTo>
                <a:lnTo>
                  <a:pt x="105" y="86"/>
                </a:lnTo>
                <a:lnTo>
                  <a:pt x="101" y="183"/>
                </a:lnTo>
                <a:lnTo>
                  <a:pt x="101" y="273"/>
                </a:lnTo>
                <a:lnTo>
                  <a:pt x="101" y="273"/>
                </a:lnTo>
                <a:lnTo>
                  <a:pt x="105" y="366"/>
                </a:lnTo>
                <a:lnTo>
                  <a:pt x="105" y="366"/>
                </a:lnTo>
                <a:lnTo>
                  <a:pt x="109" y="451"/>
                </a:lnTo>
                <a:lnTo>
                  <a:pt x="109" y="451"/>
                </a:lnTo>
                <a:lnTo>
                  <a:pt x="86" y="448"/>
                </a:lnTo>
                <a:lnTo>
                  <a:pt x="86" y="448"/>
                </a:lnTo>
                <a:lnTo>
                  <a:pt x="54" y="448"/>
                </a:lnTo>
                <a:lnTo>
                  <a:pt x="54" y="448"/>
                </a:lnTo>
                <a:lnTo>
                  <a:pt x="23" y="448"/>
                </a:lnTo>
                <a:lnTo>
                  <a:pt x="23" y="448"/>
                </a:lnTo>
                <a:lnTo>
                  <a:pt x="0" y="451"/>
                </a:lnTo>
                <a:lnTo>
                  <a:pt x="0" y="451"/>
                </a:lnTo>
                <a:lnTo>
                  <a:pt x="4" y="366"/>
                </a:lnTo>
                <a:lnTo>
                  <a:pt x="4" y="366"/>
                </a:lnTo>
                <a:lnTo>
                  <a:pt x="4" y="273"/>
                </a:lnTo>
                <a:lnTo>
                  <a:pt x="4" y="183"/>
                </a:lnTo>
                <a:lnTo>
                  <a:pt x="4" y="183"/>
                </a:lnTo>
                <a:lnTo>
                  <a:pt x="4" y="86"/>
                </a:lnTo>
                <a:lnTo>
                  <a:pt x="4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06800" y="11793600"/>
            <a:ext cx="647640" cy="716040"/>
          </a:xfrm>
          <a:custGeom>
            <a:avLst/>
            <a:gdLst/>
            <a:ahLst/>
            <a:rect l="l" t="t" r="r" b="b"/>
            <a:pathLst>
              <a:path w="408" h="451">
                <a:moveTo>
                  <a:pt x="11" y="55"/>
                </a:moveTo>
                <a:lnTo>
                  <a:pt x="11" y="55"/>
                </a:lnTo>
                <a:lnTo>
                  <a:pt x="11" y="0"/>
                </a:lnTo>
                <a:lnTo>
                  <a:pt x="11" y="0"/>
                </a:lnTo>
                <a:lnTo>
                  <a:pt x="39" y="4"/>
                </a:lnTo>
                <a:lnTo>
                  <a:pt x="39" y="4"/>
                </a:lnTo>
                <a:lnTo>
                  <a:pt x="70" y="0"/>
                </a:lnTo>
                <a:lnTo>
                  <a:pt x="70" y="0"/>
                </a:lnTo>
                <a:lnTo>
                  <a:pt x="210" y="156"/>
                </a:lnTo>
                <a:lnTo>
                  <a:pt x="210" y="156"/>
                </a:lnTo>
                <a:lnTo>
                  <a:pt x="354" y="311"/>
                </a:lnTo>
                <a:lnTo>
                  <a:pt x="354" y="257"/>
                </a:lnTo>
                <a:lnTo>
                  <a:pt x="354" y="191"/>
                </a:lnTo>
                <a:lnTo>
                  <a:pt x="354" y="191"/>
                </a:lnTo>
                <a:lnTo>
                  <a:pt x="354" y="129"/>
                </a:lnTo>
                <a:lnTo>
                  <a:pt x="354" y="129"/>
                </a:lnTo>
                <a:lnTo>
                  <a:pt x="350" y="74"/>
                </a:lnTo>
                <a:lnTo>
                  <a:pt x="350" y="74"/>
                </a:lnTo>
                <a:lnTo>
                  <a:pt x="350" y="28"/>
                </a:lnTo>
                <a:lnTo>
                  <a:pt x="350" y="28"/>
                </a:lnTo>
                <a:lnTo>
                  <a:pt x="350" y="0"/>
                </a:lnTo>
                <a:lnTo>
                  <a:pt x="350" y="0"/>
                </a:lnTo>
                <a:lnTo>
                  <a:pt x="377" y="4"/>
                </a:lnTo>
                <a:lnTo>
                  <a:pt x="377" y="4"/>
                </a:lnTo>
                <a:lnTo>
                  <a:pt x="408" y="0"/>
                </a:lnTo>
                <a:lnTo>
                  <a:pt x="408" y="0"/>
                </a:lnTo>
                <a:lnTo>
                  <a:pt x="400" y="109"/>
                </a:lnTo>
                <a:lnTo>
                  <a:pt x="400" y="109"/>
                </a:lnTo>
                <a:lnTo>
                  <a:pt x="396" y="199"/>
                </a:lnTo>
                <a:lnTo>
                  <a:pt x="396" y="199"/>
                </a:lnTo>
                <a:lnTo>
                  <a:pt x="396" y="284"/>
                </a:lnTo>
                <a:lnTo>
                  <a:pt x="396" y="284"/>
                </a:lnTo>
                <a:lnTo>
                  <a:pt x="396" y="374"/>
                </a:lnTo>
                <a:lnTo>
                  <a:pt x="396" y="451"/>
                </a:lnTo>
                <a:lnTo>
                  <a:pt x="396" y="451"/>
                </a:lnTo>
                <a:lnTo>
                  <a:pt x="369" y="448"/>
                </a:lnTo>
                <a:lnTo>
                  <a:pt x="369" y="448"/>
                </a:lnTo>
                <a:lnTo>
                  <a:pt x="342" y="451"/>
                </a:lnTo>
                <a:lnTo>
                  <a:pt x="342" y="451"/>
                </a:lnTo>
                <a:lnTo>
                  <a:pt x="206" y="292"/>
                </a:lnTo>
                <a:lnTo>
                  <a:pt x="58" y="137"/>
                </a:lnTo>
                <a:lnTo>
                  <a:pt x="58" y="137"/>
                </a:lnTo>
                <a:lnTo>
                  <a:pt x="58" y="172"/>
                </a:lnTo>
                <a:lnTo>
                  <a:pt x="58" y="172"/>
                </a:lnTo>
                <a:lnTo>
                  <a:pt x="58" y="210"/>
                </a:lnTo>
                <a:lnTo>
                  <a:pt x="58" y="288"/>
                </a:lnTo>
                <a:lnTo>
                  <a:pt x="58" y="288"/>
                </a:lnTo>
                <a:lnTo>
                  <a:pt x="58" y="354"/>
                </a:lnTo>
                <a:lnTo>
                  <a:pt x="58" y="354"/>
                </a:lnTo>
                <a:lnTo>
                  <a:pt x="58" y="401"/>
                </a:lnTo>
                <a:lnTo>
                  <a:pt x="58" y="401"/>
                </a:lnTo>
                <a:lnTo>
                  <a:pt x="58" y="432"/>
                </a:lnTo>
                <a:lnTo>
                  <a:pt x="58" y="432"/>
                </a:lnTo>
                <a:lnTo>
                  <a:pt x="62" y="451"/>
                </a:lnTo>
                <a:lnTo>
                  <a:pt x="62" y="451"/>
                </a:lnTo>
                <a:lnTo>
                  <a:pt x="46" y="448"/>
                </a:lnTo>
                <a:lnTo>
                  <a:pt x="46" y="448"/>
                </a:lnTo>
                <a:lnTo>
                  <a:pt x="31" y="448"/>
                </a:lnTo>
                <a:lnTo>
                  <a:pt x="31" y="448"/>
                </a:lnTo>
                <a:lnTo>
                  <a:pt x="0" y="451"/>
                </a:lnTo>
                <a:lnTo>
                  <a:pt x="0" y="451"/>
                </a:lnTo>
                <a:lnTo>
                  <a:pt x="4" y="413"/>
                </a:lnTo>
                <a:lnTo>
                  <a:pt x="4" y="413"/>
                </a:lnTo>
                <a:lnTo>
                  <a:pt x="8" y="335"/>
                </a:lnTo>
                <a:lnTo>
                  <a:pt x="8" y="335"/>
                </a:lnTo>
                <a:lnTo>
                  <a:pt x="11" y="234"/>
                </a:lnTo>
                <a:lnTo>
                  <a:pt x="11" y="234"/>
                </a:lnTo>
                <a:lnTo>
                  <a:pt x="11" y="133"/>
                </a:lnTo>
                <a:lnTo>
                  <a:pt x="11" y="133"/>
                </a:lnTo>
                <a:lnTo>
                  <a:pt x="11" y="55"/>
                </a:lnTo>
                <a:lnTo>
                  <a:pt x="11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4760" y="11782440"/>
            <a:ext cx="690480" cy="739800"/>
          </a:xfrm>
          <a:custGeom>
            <a:avLst/>
            <a:gdLst/>
            <a:ahLst/>
            <a:rect l="l" t="t" r="r" b="b"/>
            <a:pathLst>
              <a:path w="435" h="466">
                <a:moveTo>
                  <a:pt x="350" y="58"/>
                </a:moveTo>
                <a:lnTo>
                  <a:pt x="350" y="58"/>
                </a:lnTo>
                <a:lnTo>
                  <a:pt x="330" y="50"/>
                </a:lnTo>
                <a:lnTo>
                  <a:pt x="315" y="46"/>
                </a:lnTo>
                <a:lnTo>
                  <a:pt x="295" y="42"/>
                </a:lnTo>
                <a:lnTo>
                  <a:pt x="272" y="42"/>
                </a:lnTo>
                <a:lnTo>
                  <a:pt x="272" y="42"/>
                </a:lnTo>
                <a:lnTo>
                  <a:pt x="241" y="42"/>
                </a:lnTo>
                <a:lnTo>
                  <a:pt x="214" y="54"/>
                </a:lnTo>
                <a:lnTo>
                  <a:pt x="214" y="54"/>
                </a:lnTo>
                <a:lnTo>
                  <a:pt x="182" y="70"/>
                </a:lnTo>
                <a:lnTo>
                  <a:pt x="159" y="93"/>
                </a:lnTo>
                <a:lnTo>
                  <a:pt x="159" y="93"/>
                </a:lnTo>
                <a:lnTo>
                  <a:pt x="140" y="120"/>
                </a:lnTo>
                <a:lnTo>
                  <a:pt x="120" y="155"/>
                </a:lnTo>
                <a:lnTo>
                  <a:pt x="120" y="155"/>
                </a:lnTo>
                <a:lnTo>
                  <a:pt x="112" y="198"/>
                </a:lnTo>
                <a:lnTo>
                  <a:pt x="109" y="245"/>
                </a:lnTo>
                <a:lnTo>
                  <a:pt x="109" y="245"/>
                </a:lnTo>
                <a:lnTo>
                  <a:pt x="112" y="283"/>
                </a:lnTo>
                <a:lnTo>
                  <a:pt x="120" y="318"/>
                </a:lnTo>
                <a:lnTo>
                  <a:pt x="120" y="318"/>
                </a:lnTo>
                <a:lnTo>
                  <a:pt x="132" y="350"/>
                </a:lnTo>
                <a:lnTo>
                  <a:pt x="151" y="377"/>
                </a:lnTo>
                <a:lnTo>
                  <a:pt x="151" y="377"/>
                </a:lnTo>
                <a:lnTo>
                  <a:pt x="171" y="396"/>
                </a:lnTo>
                <a:lnTo>
                  <a:pt x="198" y="412"/>
                </a:lnTo>
                <a:lnTo>
                  <a:pt x="198" y="412"/>
                </a:lnTo>
                <a:lnTo>
                  <a:pt x="229" y="423"/>
                </a:lnTo>
                <a:lnTo>
                  <a:pt x="268" y="427"/>
                </a:lnTo>
                <a:lnTo>
                  <a:pt x="268" y="427"/>
                </a:lnTo>
                <a:lnTo>
                  <a:pt x="284" y="427"/>
                </a:lnTo>
                <a:lnTo>
                  <a:pt x="284" y="427"/>
                </a:lnTo>
                <a:lnTo>
                  <a:pt x="307" y="423"/>
                </a:lnTo>
                <a:lnTo>
                  <a:pt x="307" y="423"/>
                </a:lnTo>
                <a:lnTo>
                  <a:pt x="326" y="420"/>
                </a:lnTo>
                <a:lnTo>
                  <a:pt x="326" y="420"/>
                </a:lnTo>
                <a:lnTo>
                  <a:pt x="338" y="416"/>
                </a:lnTo>
                <a:lnTo>
                  <a:pt x="338" y="416"/>
                </a:lnTo>
                <a:lnTo>
                  <a:pt x="338" y="396"/>
                </a:lnTo>
                <a:lnTo>
                  <a:pt x="338" y="396"/>
                </a:lnTo>
                <a:lnTo>
                  <a:pt x="338" y="369"/>
                </a:lnTo>
                <a:lnTo>
                  <a:pt x="338" y="369"/>
                </a:lnTo>
                <a:lnTo>
                  <a:pt x="338" y="291"/>
                </a:lnTo>
                <a:lnTo>
                  <a:pt x="338" y="291"/>
                </a:lnTo>
                <a:lnTo>
                  <a:pt x="334" y="256"/>
                </a:lnTo>
                <a:lnTo>
                  <a:pt x="334" y="256"/>
                </a:lnTo>
                <a:lnTo>
                  <a:pt x="354" y="260"/>
                </a:lnTo>
                <a:lnTo>
                  <a:pt x="354" y="260"/>
                </a:lnTo>
                <a:lnTo>
                  <a:pt x="385" y="260"/>
                </a:lnTo>
                <a:lnTo>
                  <a:pt x="385" y="260"/>
                </a:lnTo>
                <a:lnTo>
                  <a:pt x="420" y="260"/>
                </a:lnTo>
                <a:lnTo>
                  <a:pt x="420" y="260"/>
                </a:lnTo>
                <a:lnTo>
                  <a:pt x="435" y="256"/>
                </a:lnTo>
                <a:lnTo>
                  <a:pt x="435" y="256"/>
                </a:lnTo>
                <a:lnTo>
                  <a:pt x="435" y="276"/>
                </a:lnTo>
                <a:lnTo>
                  <a:pt x="435" y="276"/>
                </a:lnTo>
                <a:lnTo>
                  <a:pt x="431" y="303"/>
                </a:lnTo>
                <a:lnTo>
                  <a:pt x="431" y="303"/>
                </a:lnTo>
                <a:lnTo>
                  <a:pt x="431" y="334"/>
                </a:lnTo>
                <a:lnTo>
                  <a:pt x="431" y="334"/>
                </a:lnTo>
                <a:lnTo>
                  <a:pt x="431" y="369"/>
                </a:lnTo>
                <a:lnTo>
                  <a:pt x="431" y="388"/>
                </a:lnTo>
                <a:lnTo>
                  <a:pt x="431" y="388"/>
                </a:lnTo>
                <a:lnTo>
                  <a:pt x="431" y="420"/>
                </a:lnTo>
                <a:lnTo>
                  <a:pt x="431" y="420"/>
                </a:lnTo>
                <a:lnTo>
                  <a:pt x="431" y="439"/>
                </a:lnTo>
                <a:lnTo>
                  <a:pt x="431" y="439"/>
                </a:lnTo>
                <a:lnTo>
                  <a:pt x="389" y="451"/>
                </a:lnTo>
                <a:lnTo>
                  <a:pt x="346" y="458"/>
                </a:lnTo>
                <a:lnTo>
                  <a:pt x="346" y="458"/>
                </a:lnTo>
                <a:lnTo>
                  <a:pt x="303" y="462"/>
                </a:lnTo>
                <a:lnTo>
                  <a:pt x="260" y="466"/>
                </a:lnTo>
                <a:lnTo>
                  <a:pt x="260" y="466"/>
                </a:lnTo>
                <a:lnTo>
                  <a:pt x="206" y="462"/>
                </a:lnTo>
                <a:lnTo>
                  <a:pt x="155" y="451"/>
                </a:lnTo>
                <a:lnTo>
                  <a:pt x="155" y="451"/>
                </a:lnTo>
                <a:lnTo>
                  <a:pt x="112" y="431"/>
                </a:lnTo>
                <a:lnTo>
                  <a:pt x="74" y="408"/>
                </a:lnTo>
                <a:lnTo>
                  <a:pt x="74" y="408"/>
                </a:lnTo>
                <a:lnTo>
                  <a:pt x="58" y="392"/>
                </a:lnTo>
                <a:lnTo>
                  <a:pt x="42" y="377"/>
                </a:lnTo>
                <a:lnTo>
                  <a:pt x="31" y="357"/>
                </a:lnTo>
                <a:lnTo>
                  <a:pt x="19" y="338"/>
                </a:lnTo>
                <a:lnTo>
                  <a:pt x="19" y="338"/>
                </a:lnTo>
                <a:lnTo>
                  <a:pt x="11" y="318"/>
                </a:lnTo>
                <a:lnTo>
                  <a:pt x="7" y="295"/>
                </a:lnTo>
                <a:lnTo>
                  <a:pt x="4" y="272"/>
                </a:lnTo>
                <a:lnTo>
                  <a:pt x="0" y="248"/>
                </a:lnTo>
                <a:lnTo>
                  <a:pt x="0" y="248"/>
                </a:lnTo>
                <a:lnTo>
                  <a:pt x="4" y="217"/>
                </a:lnTo>
                <a:lnTo>
                  <a:pt x="7" y="190"/>
                </a:lnTo>
                <a:lnTo>
                  <a:pt x="11" y="163"/>
                </a:lnTo>
                <a:lnTo>
                  <a:pt x="23" y="140"/>
                </a:lnTo>
                <a:lnTo>
                  <a:pt x="23" y="140"/>
                </a:lnTo>
                <a:lnTo>
                  <a:pt x="31" y="116"/>
                </a:lnTo>
                <a:lnTo>
                  <a:pt x="46" y="97"/>
                </a:lnTo>
                <a:lnTo>
                  <a:pt x="62" y="77"/>
                </a:lnTo>
                <a:lnTo>
                  <a:pt x="77" y="62"/>
                </a:lnTo>
                <a:lnTo>
                  <a:pt x="77" y="62"/>
                </a:lnTo>
                <a:lnTo>
                  <a:pt x="97" y="46"/>
                </a:lnTo>
                <a:lnTo>
                  <a:pt x="116" y="35"/>
                </a:lnTo>
                <a:lnTo>
                  <a:pt x="140" y="23"/>
                </a:lnTo>
                <a:lnTo>
                  <a:pt x="163" y="15"/>
                </a:lnTo>
                <a:lnTo>
                  <a:pt x="163" y="15"/>
                </a:lnTo>
                <a:lnTo>
                  <a:pt x="214" y="4"/>
                </a:lnTo>
                <a:lnTo>
                  <a:pt x="272" y="0"/>
                </a:lnTo>
                <a:lnTo>
                  <a:pt x="272" y="0"/>
                </a:lnTo>
                <a:lnTo>
                  <a:pt x="319" y="4"/>
                </a:lnTo>
                <a:lnTo>
                  <a:pt x="357" y="11"/>
                </a:lnTo>
                <a:lnTo>
                  <a:pt x="357" y="11"/>
                </a:lnTo>
                <a:lnTo>
                  <a:pt x="392" y="23"/>
                </a:lnTo>
                <a:lnTo>
                  <a:pt x="427" y="39"/>
                </a:lnTo>
                <a:lnTo>
                  <a:pt x="427" y="39"/>
                </a:lnTo>
                <a:lnTo>
                  <a:pt x="416" y="74"/>
                </a:lnTo>
                <a:lnTo>
                  <a:pt x="416" y="74"/>
                </a:lnTo>
                <a:lnTo>
                  <a:pt x="408" y="105"/>
                </a:lnTo>
                <a:lnTo>
                  <a:pt x="400" y="105"/>
                </a:lnTo>
                <a:lnTo>
                  <a:pt x="400" y="105"/>
                </a:lnTo>
                <a:lnTo>
                  <a:pt x="377" y="81"/>
                </a:lnTo>
                <a:lnTo>
                  <a:pt x="350" y="58"/>
                </a:lnTo>
                <a:lnTo>
                  <a:pt x="35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13360" y="11793600"/>
            <a:ext cx="482760" cy="716040"/>
          </a:xfrm>
          <a:custGeom>
            <a:avLst/>
            <a:gdLst/>
            <a:ahLst/>
            <a:rect l="l" t="t" r="r" b="b"/>
            <a:pathLst>
              <a:path w="304" h="451">
                <a:moveTo>
                  <a:pt x="4" y="86"/>
                </a:moveTo>
                <a:lnTo>
                  <a:pt x="4" y="86"/>
                </a:lnTo>
                <a:lnTo>
                  <a:pt x="0" y="0"/>
                </a:lnTo>
                <a:lnTo>
                  <a:pt x="0" y="0"/>
                </a:lnTo>
                <a:lnTo>
                  <a:pt x="27" y="4"/>
                </a:lnTo>
                <a:lnTo>
                  <a:pt x="27" y="4"/>
                </a:lnTo>
                <a:lnTo>
                  <a:pt x="55" y="4"/>
                </a:lnTo>
                <a:lnTo>
                  <a:pt x="55" y="4"/>
                </a:lnTo>
                <a:lnTo>
                  <a:pt x="101" y="4"/>
                </a:lnTo>
                <a:lnTo>
                  <a:pt x="101" y="4"/>
                </a:lnTo>
                <a:lnTo>
                  <a:pt x="152" y="0"/>
                </a:lnTo>
                <a:lnTo>
                  <a:pt x="152" y="0"/>
                </a:lnTo>
                <a:lnTo>
                  <a:pt x="191" y="4"/>
                </a:lnTo>
                <a:lnTo>
                  <a:pt x="222" y="8"/>
                </a:lnTo>
                <a:lnTo>
                  <a:pt x="222" y="8"/>
                </a:lnTo>
                <a:lnTo>
                  <a:pt x="245" y="16"/>
                </a:lnTo>
                <a:lnTo>
                  <a:pt x="265" y="28"/>
                </a:lnTo>
                <a:lnTo>
                  <a:pt x="265" y="28"/>
                </a:lnTo>
                <a:lnTo>
                  <a:pt x="284" y="47"/>
                </a:lnTo>
                <a:lnTo>
                  <a:pt x="296" y="67"/>
                </a:lnTo>
                <a:lnTo>
                  <a:pt x="296" y="67"/>
                </a:lnTo>
                <a:lnTo>
                  <a:pt x="304" y="90"/>
                </a:lnTo>
                <a:lnTo>
                  <a:pt x="304" y="117"/>
                </a:lnTo>
                <a:lnTo>
                  <a:pt x="304" y="117"/>
                </a:lnTo>
                <a:lnTo>
                  <a:pt x="304" y="152"/>
                </a:lnTo>
                <a:lnTo>
                  <a:pt x="292" y="179"/>
                </a:lnTo>
                <a:lnTo>
                  <a:pt x="292" y="179"/>
                </a:lnTo>
                <a:lnTo>
                  <a:pt x="276" y="206"/>
                </a:lnTo>
                <a:lnTo>
                  <a:pt x="257" y="226"/>
                </a:lnTo>
                <a:lnTo>
                  <a:pt x="257" y="226"/>
                </a:lnTo>
                <a:lnTo>
                  <a:pt x="234" y="238"/>
                </a:lnTo>
                <a:lnTo>
                  <a:pt x="206" y="249"/>
                </a:lnTo>
                <a:lnTo>
                  <a:pt x="206" y="249"/>
                </a:lnTo>
                <a:lnTo>
                  <a:pt x="171" y="253"/>
                </a:lnTo>
                <a:lnTo>
                  <a:pt x="136" y="257"/>
                </a:lnTo>
                <a:lnTo>
                  <a:pt x="105" y="257"/>
                </a:lnTo>
                <a:lnTo>
                  <a:pt x="105" y="257"/>
                </a:lnTo>
                <a:lnTo>
                  <a:pt x="105" y="354"/>
                </a:lnTo>
                <a:lnTo>
                  <a:pt x="105" y="354"/>
                </a:lnTo>
                <a:lnTo>
                  <a:pt x="109" y="451"/>
                </a:lnTo>
                <a:lnTo>
                  <a:pt x="109" y="451"/>
                </a:lnTo>
                <a:lnTo>
                  <a:pt x="86" y="448"/>
                </a:lnTo>
                <a:lnTo>
                  <a:pt x="86" y="448"/>
                </a:lnTo>
                <a:lnTo>
                  <a:pt x="55" y="448"/>
                </a:lnTo>
                <a:lnTo>
                  <a:pt x="55" y="448"/>
                </a:lnTo>
                <a:lnTo>
                  <a:pt x="27" y="448"/>
                </a:lnTo>
                <a:lnTo>
                  <a:pt x="27" y="448"/>
                </a:lnTo>
                <a:lnTo>
                  <a:pt x="0" y="451"/>
                </a:lnTo>
                <a:lnTo>
                  <a:pt x="0" y="451"/>
                </a:lnTo>
                <a:lnTo>
                  <a:pt x="4" y="366"/>
                </a:lnTo>
                <a:lnTo>
                  <a:pt x="4" y="366"/>
                </a:lnTo>
                <a:lnTo>
                  <a:pt x="8" y="273"/>
                </a:lnTo>
                <a:lnTo>
                  <a:pt x="8" y="183"/>
                </a:lnTo>
                <a:lnTo>
                  <a:pt x="8" y="183"/>
                </a:lnTo>
                <a:lnTo>
                  <a:pt x="4" y="86"/>
                </a:lnTo>
                <a:lnTo>
                  <a:pt x="4" y="86"/>
                </a:lnTo>
                <a:close/>
                <a:moveTo>
                  <a:pt x="195" y="86"/>
                </a:moveTo>
                <a:lnTo>
                  <a:pt x="195" y="86"/>
                </a:lnTo>
                <a:lnTo>
                  <a:pt x="191" y="70"/>
                </a:lnTo>
                <a:lnTo>
                  <a:pt x="183" y="59"/>
                </a:lnTo>
                <a:lnTo>
                  <a:pt x="183" y="59"/>
                </a:lnTo>
                <a:lnTo>
                  <a:pt x="171" y="51"/>
                </a:lnTo>
                <a:lnTo>
                  <a:pt x="160" y="43"/>
                </a:lnTo>
                <a:lnTo>
                  <a:pt x="160" y="43"/>
                </a:lnTo>
                <a:lnTo>
                  <a:pt x="144" y="39"/>
                </a:lnTo>
                <a:lnTo>
                  <a:pt x="132" y="39"/>
                </a:lnTo>
                <a:lnTo>
                  <a:pt x="117" y="39"/>
                </a:lnTo>
                <a:lnTo>
                  <a:pt x="117" y="39"/>
                </a:lnTo>
                <a:lnTo>
                  <a:pt x="109" y="39"/>
                </a:lnTo>
                <a:lnTo>
                  <a:pt x="109" y="39"/>
                </a:lnTo>
                <a:lnTo>
                  <a:pt x="105" y="39"/>
                </a:lnTo>
                <a:lnTo>
                  <a:pt x="105" y="39"/>
                </a:lnTo>
                <a:lnTo>
                  <a:pt x="105" y="133"/>
                </a:lnTo>
                <a:lnTo>
                  <a:pt x="105" y="133"/>
                </a:lnTo>
                <a:lnTo>
                  <a:pt x="105" y="222"/>
                </a:lnTo>
                <a:lnTo>
                  <a:pt x="105" y="222"/>
                </a:lnTo>
                <a:lnTo>
                  <a:pt x="136" y="222"/>
                </a:lnTo>
                <a:lnTo>
                  <a:pt x="136" y="222"/>
                </a:lnTo>
                <a:lnTo>
                  <a:pt x="156" y="214"/>
                </a:lnTo>
                <a:lnTo>
                  <a:pt x="167" y="206"/>
                </a:lnTo>
                <a:lnTo>
                  <a:pt x="167" y="206"/>
                </a:lnTo>
                <a:lnTo>
                  <a:pt x="183" y="195"/>
                </a:lnTo>
                <a:lnTo>
                  <a:pt x="195" y="179"/>
                </a:lnTo>
                <a:lnTo>
                  <a:pt x="195" y="179"/>
                </a:lnTo>
                <a:lnTo>
                  <a:pt x="199" y="156"/>
                </a:lnTo>
                <a:lnTo>
                  <a:pt x="202" y="129"/>
                </a:lnTo>
                <a:lnTo>
                  <a:pt x="202" y="129"/>
                </a:lnTo>
                <a:lnTo>
                  <a:pt x="202" y="105"/>
                </a:lnTo>
                <a:lnTo>
                  <a:pt x="195" y="86"/>
                </a:lnTo>
                <a:lnTo>
                  <a:pt x="195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07000" y="11793600"/>
            <a:ext cx="400320" cy="716040"/>
          </a:xfrm>
          <a:custGeom>
            <a:avLst/>
            <a:gdLst/>
            <a:ahLst/>
            <a:rect l="l" t="t" r="r" b="b"/>
            <a:pathLst>
              <a:path w="252" h="451">
                <a:moveTo>
                  <a:pt x="3" y="86"/>
                </a:moveTo>
                <a:lnTo>
                  <a:pt x="3" y="86"/>
                </a:lnTo>
                <a:lnTo>
                  <a:pt x="0" y="0"/>
                </a:lnTo>
                <a:lnTo>
                  <a:pt x="0" y="0"/>
                </a:lnTo>
                <a:lnTo>
                  <a:pt x="23" y="4"/>
                </a:lnTo>
                <a:lnTo>
                  <a:pt x="23" y="4"/>
                </a:lnTo>
                <a:lnTo>
                  <a:pt x="54" y="4"/>
                </a:lnTo>
                <a:lnTo>
                  <a:pt x="54" y="4"/>
                </a:lnTo>
                <a:lnTo>
                  <a:pt x="81" y="4"/>
                </a:lnTo>
                <a:lnTo>
                  <a:pt x="81" y="4"/>
                </a:lnTo>
                <a:lnTo>
                  <a:pt x="108" y="0"/>
                </a:lnTo>
                <a:lnTo>
                  <a:pt x="108" y="0"/>
                </a:lnTo>
                <a:lnTo>
                  <a:pt x="105" y="86"/>
                </a:lnTo>
                <a:lnTo>
                  <a:pt x="105" y="86"/>
                </a:lnTo>
                <a:lnTo>
                  <a:pt x="101" y="183"/>
                </a:lnTo>
                <a:lnTo>
                  <a:pt x="101" y="273"/>
                </a:lnTo>
                <a:lnTo>
                  <a:pt x="101" y="273"/>
                </a:lnTo>
                <a:lnTo>
                  <a:pt x="101" y="343"/>
                </a:lnTo>
                <a:lnTo>
                  <a:pt x="101" y="343"/>
                </a:lnTo>
                <a:lnTo>
                  <a:pt x="105" y="405"/>
                </a:lnTo>
                <a:lnTo>
                  <a:pt x="105" y="405"/>
                </a:lnTo>
                <a:lnTo>
                  <a:pt x="178" y="401"/>
                </a:lnTo>
                <a:lnTo>
                  <a:pt x="178" y="401"/>
                </a:lnTo>
                <a:lnTo>
                  <a:pt x="252" y="393"/>
                </a:lnTo>
                <a:lnTo>
                  <a:pt x="252" y="393"/>
                </a:lnTo>
                <a:lnTo>
                  <a:pt x="252" y="409"/>
                </a:lnTo>
                <a:lnTo>
                  <a:pt x="252" y="409"/>
                </a:lnTo>
                <a:lnTo>
                  <a:pt x="248" y="424"/>
                </a:lnTo>
                <a:lnTo>
                  <a:pt x="248" y="424"/>
                </a:lnTo>
                <a:lnTo>
                  <a:pt x="252" y="440"/>
                </a:lnTo>
                <a:lnTo>
                  <a:pt x="252" y="440"/>
                </a:lnTo>
                <a:lnTo>
                  <a:pt x="252" y="451"/>
                </a:lnTo>
                <a:lnTo>
                  <a:pt x="252" y="451"/>
                </a:lnTo>
                <a:lnTo>
                  <a:pt x="210" y="448"/>
                </a:lnTo>
                <a:lnTo>
                  <a:pt x="210" y="448"/>
                </a:lnTo>
                <a:lnTo>
                  <a:pt x="140" y="448"/>
                </a:lnTo>
                <a:lnTo>
                  <a:pt x="140" y="448"/>
                </a:lnTo>
                <a:lnTo>
                  <a:pt x="73" y="448"/>
                </a:lnTo>
                <a:lnTo>
                  <a:pt x="73" y="448"/>
                </a:lnTo>
                <a:lnTo>
                  <a:pt x="35" y="448"/>
                </a:lnTo>
                <a:lnTo>
                  <a:pt x="35" y="448"/>
                </a:lnTo>
                <a:lnTo>
                  <a:pt x="11" y="448"/>
                </a:lnTo>
                <a:lnTo>
                  <a:pt x="11" y="448"/>
                </a:lnTo>
                <a:lnTo>
                  <a:pt x="0" y="451"/>
                </a:lnTo>
                <a:lnTo>
                  <a:pt x="0" y="451"/>
                </a:lnTo>
                <a:lnTo>
                  <a:pt x="3" y="366"/>
                </a:lnTo>
                <a:lnTo>
                  <a:pt x="3" y="366"/>
                </a:lnTo>
                <a:lnTo>
                  <a:pt x="7" y="273"/>
                </a:lnTo>
                <a:lnTo>
                  <a:pt x="7" y="183"/>
                </a:lnTo>
                <a:lnTo>
                  <a:pt x="7" y="183"/>
                </a:lnTo>
                <a:lnTo>
                  <a:pt x="3" y="86"/>
                </a:lnTo>
                <a:lnTo>
                  <a:pt x="3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62760" y="11788920"/>
            <a:ext cx="660240" cy="720720"/>
          </a:xfrm>
          <a:custGeom>
            <a:avLst/>
            <a:gdLst/>
            <a:ahLst/>
            <a:rect l="l" t="t" r="r" b="b"/>
            <a:pathLst>
              <a:path w="416" h="454">
                <a:moveTo>
                  <a:pt x="416" y="454"/>
                </a:moveTo>
                <a:lnTo>
                  <a:pt x="416" y="454"/>
                </a:lnTo>
                <a:lnTo>
                  <a:pt x="385" y="451"/>
                </a:lnTo>
                <a:lnTo>
                  <a:pt x="385" y="451"/>
                </a:lnTo>
                <a:lnTo>
                  <a:pt x="358" y="451"/>
                </a:lnTo>
                <a:lnTo>
                  <a:pt x="358" y="451"/>
                </a:lnTo>
                <a:lnTo>
                  <a:pt x="331" y="451"/>
                </a:lnTo>
                <a:lnTo>
                  <a:pt x="331" y="451"/>
                </a:lnTo>
                <a:lnTo>
                  <a:pt x="304" y="454"/>
                </a:lnTo>
                <a:lnTo>
                  <a:pt x="304" y="454"/>
                </a:lnTo>
                <a:lnTo>
                  <a:pt x="280" y="388"/>
                </a:lnTo>
                <a:lnTo>
                  <a:pt x="280" y="388"/>
                </a:lnTo>
                <a:lnTo>
                  <a:pt x="257" y="322"/>
                </a:lnTo>
                <a:lnTo>
                  <a:pt x="257" y="322"/>
                </a:lnTo>
                <a:lnTo>
                  <a:pt x="218" y="322"/>
                </a:lnTo>
                <a:lnTo>
                  <a:pt x="218" y="322"/>
                </a:lnTo>
                <a:lnTo>
                  <a:pt x="175" y="322"/>
                </a:lnTo>
                <a:lnTo>
                  <a:pt x="175" y="322"/>
                </a:lnTo>
                <a:lnTo>
                  <a:pt x="140" y="322"/>
                </a:lnTo>
                <a:lnTo>
                  <a:pt x="140" y="322"/>
                </a:lnTo>
                <a:lnTo>
                  <a:pt x="105" y="322"/>
                </a:lnTo>
                <a:lnTo>
                  <a:pt x="105" y="322"/>
                </a:lnTo>
                <a:lnTo>
                  <a:pt x="82" y="388"/>
                </a:lnTo>
                <a:lnTo>
                  <a:pt x="82" y="388"/>
                </a:lnTo>
                <a:lnTo>
                  <a:pt x="63" y="454"/>
                </a:lnTo>
                <a:lnTo>
                  <a:pt x="63" y="454"/>
                </a:lnTo>
                <a:lnTo>
                  <a:pt x="47" y="451"/>
                </a:lnTo>
                <a:lnTo>
                  <a:pt x="47" y="451"/>
                </a:lnTo>
                <a:lnTo>
                  <a:pt x="31" y="451"/>
                </a:lnTo>
                <a:lnTo>
                  <a:pt x="31" y="451"/>
                </a:lnTo>
                <a:lnTo>
                  <a:pt x="16" y="451"/>
                </a:lnTo>
                <a:lnTo>
                  <a:pt x="16" y="451"/>
                </a:lnTo>
                <a:lnTo>
                  <a:pt x="0" y="454"/>
                </a:lnTo>
                <a:lnTo>
                  <a:pt x="0" y="454"/>
                </a:lnTo>
                <a:lnTo>
                  <a:pt x="20" y="408"/>
                </a:lnTo>
                <a:lnTo>
                  <a:pt x="20" y="408"/>
                </a:lnTo>
                <a:lnTo>
                  <a:pt x="51" y="338"/>
                </a:lnTo>
                <a:lnTo>
                  <a:pt x="51" y="338"/>
                </a:lnTo>
                <a:lnTo>
                  <a:pt x="82" y="256"/>
                </a:lnTo>
                <a:lnTo>
                  <a:pt x="82" y="256"/>
                </a:lnTo>
                <a:lnTo>
                  <a:pt x="117" y="171"/>
                </a:lnTo>
                <a:lnTo>
                  <a:pt x="117" y="171"/>
                </a:lnTo>
                <a:lnTo>
                  <a:pt x="152" y="81"/>
                </a:lnTo>
                <a:lnTo>
                  <a:pt x="152" y="81"/>
                </a:lnTo>
                <a:lnTo>
                  <a:pt x="187" y="0"/>
                </a:lnTo>
                <a:lnTo>
                  <a:pt x="187" y="0"/>
                </a:lnTo>
                <a:lnTo>
                  <a:pt x="199" y="3"/>
                </a:lnTo>
                <a:lnTo>
                  <a:pt x="199" y="3"/>
                </a:lnTo>
                <a:lnTo>
                  <a:pt x="210" y="3"/>
                </a:lnTo>
                <a:lnTo>
                  <a:pt x="210" y="3"/>
                </a:lnTo>
                <a:lnTo>
                  <a:pt x="222" y="3"/>
                </a:lnTo>
                <a:lnTo>
                  <a:pt x="222" y="3"/>
                </a:lnTo>
                <a:lnTo>
                  <a:pt x="234" y="0"/>
                </a:lnTo>
                <a:lnTo>
                  <a:pt x="234" y="0"/>
                </a:lnTo>
                <a:lnTo>
                  <a:pt x="280" y="120"/>
                </a:lnTo>
                <a:lnTo>
                  <a:pt x="280" y="120"/>
                </a:lnTo>
                <a:lnTo>
                  <a:pt x="327" y="244"/>
                </a:lnTo>
                <a:lnTo>
                  <a:pt x="327" y="244"/>
                </a:lnTo>
                <a:lnTo>
                  <a:pt x="374" y="361"/>
                </a:lnTo>
                <a:lnTo>
                  <a:pt x="374" y="361"/>
                </a:lnTo>
                <a:lnTo>
                  <a:pt x="416" y="454"/>
                </a:lnTo>
                <a:lnTo>
                  <a:pt x="416" y="454"/>
                </a:lnTo>
                <a:close/>
                <a:moveTo>
                  <a:pt x="187" y="128"/>
                </a:moveTo>
                <a:lnTo>
                  <a:pt x="187" y="128"/>
                </a:lnTo>
                <a:lnTo>
                  <a:pt x="152" y="206"/>
                </a:lnTo>
                <a:lnTo>
                  <a:pt x="152" y="206"/>
                </a:lnTo>
                <a:lnTo>
                  <a:pt x="125" y="283"/>
                </a:lnTo>
                <a:lnTo>
                  <a:pt x="245" y="283"/>
                </a:lnTo>
                <a:lnTo>
                  <a:pt x="245" y="283"/>
                </a:lnTo>
                <a:lnTo>
                  <a:pt x="214" y="206"/>
                </a:lnTo>
                <a:lnTo>
                  <a:pt x="214" y="206"/>
                </a:lnTo>
                <a:lnTo>
                  <a:pt x="187" y="128"/>
                </a:lnTo>
                <a:lnTo>
                  <a:pt x="187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48560" y="11782440"/>
            <a:ext cx="623880" cy="739800"/>
          </a:xfrm>
          <a:custGeom>
            <a:avLst/>
            <a:gdLst/>
            <a:ahLst/>
            <a:rect l="l" t="t" r="r" b="b"/>
            <a:pathLst>
              <a:path w="393" h="466">
                <a:moveTo>
                  <a:pt x="381" y="412"/>
                </a:moveTo>
                <a:lnTo>
                  <a:pt x="381" y="412"/>
                </a:lnTo>
                <a:lnTo>
                  <a:pt x="377" y="439"/>
                </a:lnTo>
                <a:lnTo>
                  <a:pt x="377" y="439"/>
                </a:lnTo>
                <a:lnTo>
                  <a:pt x="346" y="451"/>
                </a:lnTo>
                <a:lnTo>
                  <a:pt x="315" y="458"/>
                </a:lnTo>
                <a:lnTo>
                  <a:pt x="280" y="462"/>
                </a:lnTo>
                <a:lnTo>
                  <a:pt x="241" y="466"/>
                </a:lnTo>
                <a:lnTo>
                  <a:pt x="241" y="466"/>
                </a:lnTo>
                <a:lnTo>
                  <a:pt x="187" y="462"/>
                </a:lnTo>
                <a:lnTo>
                  <a:pt x="140" y="451"/>
                </a:lnTo>
                <a:lnTo>
                  <a:pt x="140" y="451"/>
                </a:lnTo>
                <a:lnTo>
                  <a:pt x="101" y="431"/>
                </a:lnTo>
                <a:lnTo>
                  <a:pt x="82" y="420"/>
                </a:lnTo>
                <a:lnTo>
                  <a:pt x="66" y="404"/>
                </a:lnTo>
                <a:lnTo>
                  <a:pt x="66" y="404"/>
                </a:lnTo>
                <a:lnTo>
                  <a:pt x="39" y="373"/>
                </a:lnTo>
                <a:lnTo>
                  <a:pt x="19" y="334"/>
                </a:lnTo>
                <a:lnTo>
                  <a:pt x="19" y="334"/>
                </a:lnTo>
                <a:lnTo>
                  <a:pt x="4" y="295"/>
                </a:lnTo>
                <a:lnTo>
                  <a:pt x="0" y="248"/>
                </a:lnTo>
                <a:lnTo>
                  <a:pt x="0" y="248"/>
                </a:lnTo>
                <a:lnTo>
                  <a:pt x="4" y="217"/>
                </a:lnTo>
                <a:lnTo>
                  <a:pt x="8" y="186"/>
                </a:lnTo>
                <a:lnTo>
                  <a:pt x="12" y="159"/>
                </a:lnTo>
                <a:lnTo>
                  <a:pt x="23" y="136"/>
                </a:lnTo>
                <a:lnTo>
                  <a:pt x="23" y="136"/>
                </a:lnTo>
                <a:lnTo>
                  <a:pt x="35" y="112"/>
                </a:lnTo>
                <a:lnTo>
                  <a:pt x="47" y="93"/>
                </a:lnTo>
                <a:lnTo>
                  <a:pt x="62" y="74"/>
                </a:lnTo>
                <a:lnTo>
                  <a:pt x="78" y="58"/>
                </a:lnTo>
                <a:lnTo>
                  <a:pt x="78" y="58"/>
                </a:lnTo>
                <a:lnTo>
                  <a:pt x="97" y="42"/>
                </a:lnTo>
                <a:lnTo>
                  <a:pt x="117" y="31"/>
                </a:lnTo>
                <a:lnTo>
                  <a:pt x="140" y="23"/>
                </a:lnTo>
                <a:lnTo>
                  <a:pt x="163" y="15"/>
                </a:lnTo>
                <a:lnTo>
                  <a:pt x="163" y="15"/>
                </a:lnTo>
                <a:lnTo>
                  <a:pt x="210" y="4"/>
                </a:lnTo>
                <a:lnTo>
                  <a:pt x="260" y="0"/>
                </a:lnTo>
                <a:lnTo>
                  <a:pt x="260" y="0"/>
                </a:lnTo>
                <a:lnTo>
                  <a:pt x="295" y="4"/>
                </a:lnTo>
                <a:lnTo>
                  <a:pt x="295" y="4"/>
                </a:lnTo>
                <a:lnTo>
                  <a:pt x="334" y="11"/>
                </a:lnTo>
                <a:lnTo>
                  <a:pt x="334" y="11"/>
                </a:lnTo>
                <a:lnTo>
                  <a:pt x="365" y="19"/>
                </a:lnTo>
                <a:lnTo>
                  <a:pt x="365" y="19"/>
                </a:lnTo>
                <a:lnTo>
                  <a:pt x="393" y="31"/>
                </a:lnTo>
                <a:lnTo>
                  <a:pt x="393" y="31"/>
                </a:lnTo>
                <a:lnTo>
                  <a:pt x="385" y="66"/>
                </a:lnTo>
                <a:lnTo>
                  <a:pt x="385" y="66"/>
                </a:lnTo>
                <a:lnTo>
                  <a:pt x="377" y="101"/>
                </a:lnTo>
                <a:lnTo>
                  <a:pt x="369" y="101"/>
                </a:lnTo>
                <a:lnTo>
                  <a:pt x="369" y="101"/>
                </a:lnTo>
                <a:lnTo>
                  <a:pt x="346" y="74"/>
                </a:lnTo>
                <a:lnTo>
                  <a:pt x="319" y="54"/>
                </a:lnTo>
                <a:lnTo>
                  <a:pt x="319" y="54"/>
                </a:lnTo>
                <a:lnTo>
                  <a:pt x="292" y="46"/>
                </a:lnTo>
                <a:lnTo>
                  <a:pt x="257" y="42"/>
                </a:lnTo>
                <a:lnTo>
                  <a:pt x="257" y="42"/>
                </a:lnTo>
                <a:lnTo>
                  <a:pt x="229" y="42"/>
                </a:lnTo>
                <a:lnTo>
                  <a:pt x="206" y="54"/>
                </a:lnTo>
                <a:lnTo>
                  <a:pt x="206" y="54"/>
                </a:lnTo>
                <a:lnTo>
                  <a:pt x="179" y="66"/>
                </a:lnTo>
                <a:lnTo>
                  <a:pt x="155" y="89"/>
                </a:lnTo>
                <a:lnTo>
                  <a:pt x="155" y="89"/>
                </a:lnTo>
                <a:lnTo>
                  <a:pt x="136" y="116"/>
                </a:lnTo>
                <a:lnTo>
                  <a:pt x="120" y="151"/>
                </a:lnTo>
                <a:lnTo>
                  <a:pt x="120" y="151"/>
                </a:lnTo>
                <a:lnTo>
                  <a:pt x="113" y="190"/>
                </a:lnTo>
                <a:lnTo>
                  <a:pt x="109" y="241"/>
                </a:lnTo>
                <a:lnTo>
                  <a:pt x="109" y="241"/>
                </a:lnTo>
                <a:lnTo>
                  <a:pt x="113" y="287"/>
                </a:lnTo>
                <a:lnTo>
                  <a:pt x="120" y="326"/>
                </a:lnTo>
                <a:lnTo>
                  <a:pt x="120" y="326"/>
                </a:lnTo>
                <a:lnTo>
                  <a:pt x="136" y="357"/>
                </a:lnTo>
                <a:lnTo>
                  <a:pt x="159" y="385"/>
                </a:lnTo>
                <a:lnTo>
                  <a:pt x="159" y="385"/>
                </a:lnTo>
                <a:lnTo>
                  <a:pt x="183" y="404"/>
                </a:lnTo>
                <a:lnTo>
                  <a:pt x="206" y="416"/>
                </a:lnTo>
                <a:lnTo>
                  <a:pt x="206" y="416"/>
                </a:lnTo>
                <a:lnTo>
                  <a:pt x="233" y="423"/>
                </a:lnTo>
                <a:lnTo>
                  <a:pt x="264" y="427"/>
                </a:lnTo>
                <a:lnTo>
                  <a:pt x="264" y="427"/>
                </a:lnTo>
                <a:lnTo>
                  <a:pt x="295" y="423"/>
                </a:lnTo>
                <a:lnTo>
                  <a:pt x="295" y="423"/>
                </a:lnTo>
                <a:lnTo>
                  <a:pt x="327" y="412"/>
                </a:lnTo>
                <a:lnTo>
                  <a:pt x="327" y="412"/>
                </a:lnTo>
                <a:lnTo>
                  <a:pt x="358" y="396"/>
                </a:lnTo>
                <a:lnTo>
                  <a:pt x="358" y="396"/>
                </a:lnTo>
                <a:lnTo>
                  <a:pt x="381" y="377"/>
                </a:lnTo>
                <a:lnTo>
                  <a:pt x="389" y="385"/>
                </a:lnTo>
                <a:lnTo>
                  <a:pt x="389" y="385"/>
                </a:lnTo>
                <a:lnTo>
                  <a:pt x="381" y="412"/>
                </a:lnTo>
                <a:lnTo>
                  <a:pt x="381" y="4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3680" y="11793600"/>
            <a:ext cx="399960" cy="716040"/>
          </a:xfrm>
          <a:custGeom>
            <a:avLst/>
            <a:gdLst/>
            <a:ahLst/>
            <a:rect l="l" t="t" r="r" b="b"/>
            <a:pathLst>
              <a:path w="252" h="451">
                <a:moveTo>
                  <a:pt x="3" y="86"/>
                </a:moveTo>
                <a:lnTo>
                  <a:pt x="3" y="86"/>
                </a:lnTo>
                <a:lnTo>
                  <a:pt x="0" y="0"/>
                </a:lnTo>
                <a:lnTo>
                  <a:pt x="0" y="0"/>
                </a:lnTo>
                <a:lnTo>
                  <a:pt x="58" y="4"/>
                </a:lnTo>
                <a:lnTo>
                  <a:pt x="58" y="4"/>
                </a:lnTo>
                <a:lnTo>
                  <a:pt x="116" y="4"/>
                </a:lnTo>
                <a:lnTo>
                  <a:pt x="116" y="4"/>
                </a:lnTo>
                <a:lnTo>
                  <a:pt x="202" y="4"/>
                </a:lnTo>
                <a:lnTo>
                  <a:pt x="202" y="4"/>
                </a:lnTo>
                <a:lnTo>
                  <a:pt x="252" y="0"/>
                </a:lnTo>
                <a:lnTo>
                  <a:pt x="252" y="0"/>
                </a:lnTo>
                <a:lnTo>
                  <a:pt x="252" y="28"/>
                </a:lnTo>
                <a:lnTo>
                  <a:pt x="252" y="28"/>
                </a:lnTo>
                <a:lnTo>
                  <a:pt x="252" y="47"/>
                </a:lnTo>
                <a:lnTo>
                  <a:pt x="252" y="47"/>
                </a:lnTo>
                <a:lnTo>
                  <a:pt x="252" y="59"/>
                </a:lnTo>
                <a:lnTo>
                  <a:pt x="252" y="59"/>
                </a:lnTo>
                <a:lnTo>
                  <a:pt x="213" y="55"/>
                </a:lnTo>
                <a:lnTo>
                  <a:pt x="213" y="55"/>
                </a:lnTo>
                <a:lnTo>
                  <a:pt x="167" y="55"/>
                </a:lnTo>
                <a:lnTo>
                  <a:pt x="167" y="55"/>
                </a:lnTo>
                <a:lnTo>
                  <a:pt x="128" y="51"/>
                </a:lnTo>
                <a:lnTo>
                  <a:pt x="128" y="51"/>
                </a:lnTo>
                <a:lnTo>
                  <a:pt x="105" y="51"/>
                </a:lnTo>
                <a:lnTo>
                  <a:pt x="105" y="51"/>
                </a:lnTo>
                <a:lnTo>
                  <a:pt x="105" y="121"/>
                </a:lnTo>
                <a:lnTo>
                  <a:pt x="105" y="121"/>
                </a:lnTo>
                <a:lnTo>
                  <a:pt x="101" y="195"/>
                </a:lnTo>
                <a:lnTo>
                  <a:pt x="101" y="195"/>
                </a:lnTo>
                <a:lnTo>
                  <a:pt x="178" y="191"/>
                </a:lnTo>
                <a:lnTo>
                  <a:pt x="178" y="191"/>
                </a:lnTo>
                <a:lnTo>
                  <a:pt x="252" y="187"/>
                </a:lnTo>
                <a:lnTo>
                  <a:pt x="252" y="187"/>
                </a:lnTo>
                <a:lnTo>
                  <a:pt x="248" y="206"/>
                </a:lnTo>
                <a:lnTo>
                  <a:pt x="248" y="206"/>
                </a:lnTo>
                <a:lnTo>
                  <a:pt x="248" y="218"/>
                </a:lnTo>
                <a:lnTo>
                  <a:pt x="248" y="218"/>
                </a:lnTo>
                <a:lnTo>
                  <a:pt x="248" y="230"/>
                </a:lnTo>
                <a:lnTo>
                  <a:pt x="248" y="230"/>
                </a:lnTo>
                <a:lnTo>
                  <a:pt x="252" y="245"/>
                </a:lnTo>
                <a:lnTo>
                  <a:pt x="252" y="245"/>
                </a:lnTo>
                <a:lnTo>
                  <a:pt x="178" y="241"/>
                </a:lnTo>
                <a:lnTo>
                  <a:pt x="101" y="238"/>
                </a:lnTo>
                <a:lnTo>
                  <a:pt x="101" y="238"/>
                </a:lnTo>
                <a:lnTo>
                  <a:pt x="101" y="280"/>
                </a:lnTo>
                <a:lnTo>
                  <a:pt x="101" y="280"/>
                </a:lnTo>
                <a:lnTo>
                  <a:pt x="101" y="323"/>
                </a:lnTo>
                <a:lnTo>
                  <a:pt x="101" y="323"/>
                </a:lnTo>
                <a:lnTo>
                  <a:pt x="105" y="405"/>
                </a:lnTo>
                <a:lnTo>
                  <a:pt x="105" y="405"/>
                </a:lnTo>
                <a:lnTo>
                  <a:pt x="178" y="401"/>
                </a:lnTo>
                <a:lnTo>
                  <a:pt x="178" y="401"/>
                </a:lnTo>
                <a:lnTo>
                  <a:pt x="252" y="393"/>
                </a:lnTo>
                <a:lnTo>
                  <a:pt x="252" y="393"/>
                </a:lnTo>
                <a:lnTo>
                  <a:pt x="252" y="409"/>
                </a:lnTo>
                <a:lnTo>
                  <a:pt x="252" y="409"/>
                </a:lnTo>
                <a:lnTo>
                  <a:pt x="252" y="424"/>
                </a:lnTo>
                <a:lnTo>
                  <a:pt x="252" y="424"/>
                </a:lnTo>
                <a:lnTo>
                  <a:pt x="252" y="440"/>
                </a:lnTo>
                <a:lnTo>
                  <a:pt x="252" y="440"/>
                </a:lnTo>
                <a:lnTo>
                  <a:pt x="252" y="451"/>
                </a:lnTo>
                <a:lnTo>
                  <a:pt x="252" y="451"/>
                </a:lnTo>
                <a:lnTo>
                  <a:pt x="210" y="448"/>
                </a:lnTo>
                <a:lnTo>
                  <a:pt x="210" y="448"/>
                </a:lnTo>
                <a:lnTo>
                  <a:pt x="140" y="448"/>
                </a:lnTo>
                <a:lnTo>
                  <a:pt x="140" y="448"/>
                </a:lnTo>
                <a:lnTo>
                  <a:pt x="73" y="448"/>
                </a:lnTo>
                <a:lnTo>
                  <a:pt x="73" y="448"/>
                </a:lnTo>
                <a:lnTo>
                  <a:pt x="35" y="448"/>
                </a:lnTo>
                <a:lnTo>
                  <a:pt x="35" y="448"/>
                </a:lnTo>
                <a:lnTo>
                  <a:pt x="15" y="448"/>
                </a:lnTo>
                <a:lnTo>
                  <a:pt x="15" y="448"/>
                </a:lnTo>
                <a:lnTo>
                  <a:pt x="0" y="451"/>
                </a:lnTo>
                <a:lnTo>
                  <a:pt x="0" y="451"/>
                </a:lnTo>
                <a:lnTo>
                  <a:pt x="3" y="366"/>
                </a:lnTo>
                <a:lnTo>
                  <a:pt x="3" y="366"/>
                </a:lnTo>
                <a:lnTo>
                  <a:pt x="3" y="273"/>
                </a:lnTo>
                <a:lnTo>
                  <a:pt x="3" y="183"/>
                </a:lnTo>
                <a:lnTo>
                  <a:pt x="3" y="183"/>
                </a:lnTo>
                <a:lnTo>
                  <a:pt x="3" y="86"/>
                </a:lnTo>
                <a:lnTo>
                  <a:pt x="3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2960" y="11393640"/>
            <a:ext cx="814716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560" y="8677440"/>
            <a:ext cx="2568600" cy="2369880"/>
          </a:xfrm>
          <a:custGeom>
            <a:avLst/>
            <a:gdLst/>
            <a:ahLst/>
            <a:rect l="l" t="t" r="r" b="b"/>
            <a:pathLst>
              <a:path w="1618" h="1493">
                <a:moveTo>
                  <a:pt x="1035" y="836"/>
                </a:moveTo>
                <a:lnTo>
                  <a:pt x="1035" y="836"/>
                </a:lnTo>
                <a:lnTo>
                  <a:pt x="1043" y="836"/>
                </a:lnTo>
                <a:lnTo>
                  <a:pt x="1054" y="840"/>
                </a:lnTo>
                <a:lnTo>
                  <a:pt x="1062" y="848"/>
                </a:lnTo>
                <a:lnTo>
                  <a:pt x="1062" y="859"/>
                </a:lnTo>
                <a:lnTo>
                  <a:pt x="1062" y="859"/>
                </a:lnTo>
                <a:lnTo>
                  <a:pt x="1058" y="875"/>
                </a:lnTo>
                <a:lnTo>
                  <a:pt x="1050" y="883"/>
                </a:lnTo>
                <a:lnTo>
                  <a:pt x="1031" y="894"/>
                </a:lnTo>
                <a:lnTo>
                  <a:pt x="1004" y="906"/>
                </a:lnTo>
                <a:lnTo>
                  <a:pt x="1004" y="906"/>
                </a:lnTo>
                <a:lnTo>
                  <a:pt x="996" y="956"/>
                </a:lnTo>
                <a:lnTo>
                  <a:pt x="984" y="999"/>
                </a:lnTo>
                <a:lnTo>
                  <a:pt x="1307" y="999"/>
                </a:lnTo>
                <a:lnTo>
                  <a:pt x="1389" y="894"/>
                </a:lnTo>
                <a:lnTo>
                  <a:pt x="1389" y="894"/>
                </a:lnTo>
                <a:lnTo>
                  <a:pt x="1404" y="875"/>
                </a:lnTo>
                <a:lnTo>
                  <a:pt x="1412" y="871"/>
                </a:lnTo>
                <a:lnTo>
                  <a:pt x="1420" y="871"/>
                </a:lnTo>
                <a:lnTo>
                  <a:pt x="1420" y="871"/>
                </a:lnTo>
                <a:lnTo>
                  <a:pt x="1427" y="871"/>
                </a:lnTo>
                <a:lnTo>
                  <a:pt x="1435" y="875"/>
                </a:lnTo>
                <a:lnTo>
                  <a:pt x="1455" y="886"/>
                </a:lnTo>
                <a:lnTo>
                  <a:pt x="1587" y="995"/>
                </a:lnTo>
                <a:lnTo>
                  <a:pt x="1587" y="995"/>
                </a:lnTo>
                <a:lnTo>
                  <a:pt x="1599" y="1007"/>
                </a:lnTo>
                <a:lnTo>
                  <a:pt x="1602" y="1015"/>
                </a:lnTo>
                <a:lnTo>
                  <a:pt x="1602" y="1022"/>
                </a:lnTo>
                <a:lnTo>
                  <a:pt x="1602" y="1022"/>
                </a:lnTo>
                <a:lnTo>
                  <a:pt x="1602" y="1030"/>
                </a:lnTo>
                <a:lnTo>
                  <a:pt x="1595" y="1038"/>
                </a:lnTo>
                <a:lnTo>
                  <a:pt x="1575" y="1038"/>
                </a:lnTo>
                <a:lnTo>
                  <a:pt x="1000" y="1038"/>
                </a:lnTo>
                <a:lnTo>
                  <a:pt x="1000" y="1038"/>
                </a:lnTo>
                <a:lnTo>
                  <a:pt x="1019" y="1065"/>
                </a:lnTo>
                <a:lnTo>
                  <a:pt x="1043" y="1089"/>
                </a:lnTo>
                <a:lnTo>
                  <a:pt x="1074" y="1112"/>
                </a:lnTo>
                <a:lnTo>
                  <a:pt x="1101" y="1135"/>
                </a:lnTo>
                <a:lnTo>
                  <a:pt x="1171" y="1178"/>
                </a:lnTo>
                <a:lnTo>
                  <a:pt x="1249" y="1217"/>
                </a:lnTo>
                <a:lnTo>
                  <a:pt x="1334" y="1252"/>
                </a:lnTo>
                <a:lnTo>
                  <a:pt x="1427" y="1279"/>
                </a:lnTo>
                <a:lnTo>
                  <a:pt x="1521" y="1302"/>
                </a:lnTo>
                <a:lnTo>
                  <a:pt x="1618" y="1314"/>
                </a:lnTo>
                <a:lnTo>
                  <a:pt x="1618" y="1322"/>
                </a:lnTo>
                <a:lnTo>
                  <a:pt x="1618" y="1322"/>
                </a:lnTo>
                <a:lnTo>
                  <a:pt x="1591" y="1337"/>
                </a:lnTo>
                <a:lnTo>
                  <a:pt x="1560" y="1353"/>
                </a:lnTo>
                <a:lnTo>
                  <a:pt x="1536" y="1369"/>
                </a:lnTo>
                <a:lnTo>
                  <a:pt x="1509" y="1392"/>
                </a:lnTo>
                <a:lnTo>
                  <a:pt x="1490" y="1411"/>
                </a:lnTo>
                <a:lnTo>
                  <a:pt x="1470" y="1439"/>
                </a:lnTo>
                <a:lnTo>
                  <a:pt x="1455" y="1466"/>
                </a:lnTo>
                <a:lnTo>
                  <a:pt x="1443" y="1493"/>
                </a:lnTo>
                <a:lnTo>
                  <a:pt x="1443" y="1493"/>
                </a:lnTo>
                <a:lnTo>
                  <a:pt x="1392" y="1477"/>
                </a:lnTo>
                <a:lnTo>
                  <a:pt x="1346" y="1462"/>
                </a:lnTo>
                <a:lnTo>
                  <a:pt x="1303" y="1439"/>
                </a:lnTo>
                <a:lnTo>
                  <a:pt x="1260" y="1411"/>
                </a:lnTo>
                <a:lnTo>
                  <a:pt x="1221" y="1384"/>
                </a:lnTo>
                <a:lnTo>
                  <a:pt x="1182" y="1357"/>
                </a:lnTo>
                <a:lnTo>
                  <a:pt x="1151" y="1326"/>
                </a:lnTo>
                <a:lnTo>
                  <a:pt x="1116" y="1291"/>
                </a:lnTo>
                <a:lnTo>
                  <a:pt x="1062" y="1225"/>
                </a:lnTo>
                <a:lnTo>
                  <a:pt x="1019" y="1162"/>
                </a:lnTo>
                <a:lnTo>
                  <a:pt x="984" y="1104"/>
                </a:lnTo>
                <a:lnTo>
                  <a:pt x="965" y="1054"/>
                </a:lnTo>
                <a:lnTo>
                  <a:pt x="965" y="1054"/>
                </a:lnTo>
                <a:lnTo>
                  <a:pt x="949" y="1096"/>
                </a:lnTo>
                <a:lnTo>
                  <a:pt x="930" y="1135"/>
                </a:lnTo>
                <a:lnTo>
                  <a:pt x="906" y="1170"/>
                </a:lnTo>
                <a:lnTo>
                  <a:pt x="883" y="1205"/>
                </a:lnTo>
                <a:lnTo>
                  <a:pt x="860" y="1236"/>
                </a:lnTo>
                <a:lnTo>
                  <a:pt x="833" y="1264"/>
                </a:lnTo>
                <a:lnTo>
                  <a:pt x="801" y="1287"/>
                </a:lnTo>
                <a:lnTo>
                  <a:pt x="774" y="1314"/>
                </a:lnTo>
                <a:lnTo>
                  <a:pt x="774" y="1314"/>
                </a:lnTo>
                <a:lnTo>
                  <a:pt x="720" y="1349"/>
                </a:lnTo>
                <a:lnTo>
                  <a:pt x="661" y="1380"/>
                </a:lnTo>
                <a:lnTo>
                  <a:pt x="603" y="1407"/>
                </a:lnTo>
                <a:lnTo>
                  <a:pt x="541" y="1427"/>
                </a:lnTo>
                <a:lnTo>
                  <a:pt x="475" y="1446"/>
                </a:lnTo>
                <a:lnTo>
                  <a:pt x="409" y="1462"/>
                </a:lnTo>
                <a:lnTo>
                  <a:pt x="335" y="1474"/>
                </a:lnTo>
                <a:lnTo>
                  <a:pt x="261" y="1481"/>
                </a:lnTo>
                <a:lnTo>
                  <a:pt x="261" y="1466"/>
                </a:lnTo>
                <a:lnTo>
                  <a:pt x="261" y="1466"/>
                </a:lnTo>
                <a:lnTo>
                  <a:pt x="346" y="1442"/>
                </a:lnTo>
                <a:lnTo>
                  <a:pt x="428" y="1407"/>
                </a:lnTo>
                <a:lnTo>
                  <a:pt x="471" y="1388"/>
                </a:lnTo>
                <a:lnTo>
                  <a:pt x="510" y="1365"/>
                </a:lnTo>
                <a:lnTo>
                  <a:pt x="545" y="1341"/>
                </a:lnTo>
                <a:lnTo>
                  <a:pt x="580" y="1318"/>
                </a:lnTo>
                <a:lnTo>
                  <a:pt x="615" y="1287"/>
                </a:lnTo>
                <a:lnTo>
                  <a:pt x="646" y="1260"/>
                </a:lnTo>
                <a:lnTo>
                  <a:pt x="677" y="1229"/>
                </a:lnTo>
                <a:lnTo>
                  <a:pt x="704" y="1194"/>
                </a:lnTo>
                <a:lnTo>
                  <a:pt x="728" y="1159"/>
                </a:lnTo>
                <a:lnTo>
                  <a:pt x="751" y="1120"/>
                </a:lnTo>
                <a:lnTo>
                  <a:pt x="770" y="1081"/>
                </a:lnTo>
                <a:lnTo>
                  <a:pt x="786" y="1038"/>
                </a:lnTo>
                <a:lnTo>
                  <a:pt x="568" y="1038"/>
                </a:lnTo>
                <a:lnTo>
                  <a:pt x="568" y="1038"/>
                </a:lnTo>
                <a:lnTo>
                  <a:pt x="448" y="1042"/>
                </a:lnTo>
                <a:lnTo>
                  <a:pt x="409" y="1046"/>
                </a:lnTo>
                <a:lnTo>
                  <a:pt x="374" y="1050"/>
                </a:lnTo>
                <a:lnTo>
                  <a:pt x="343" y="991"/>
                </a:lnTo>
                <a:lnTo>
                  <a:pt x="343" y="991"/>
                </a:lnTo>
                <a:lnTo>
                  <a:pt x="506" y="999"/>
                </a:lnTo>
                <a:lnTo>
                  <a:pt x="599" y="999"/>
                </a:lnTo>
                <a:lnTo>
                  <a:pt x="798" y="999"/>
                </a:lnTo>
                <a:lnTo>
                  <a:pt x="798" y="999"/>
                </a:lnTo>
                <a:lnTo>
                  <a:pt x="809" y="953"/>
                </a:lnTo>
                <a:lnTo>
                  <a:pt x="809" y="921"/>
                </a:lnTo>
                <a:lnTo>
                  <a:pt x="813" y="883"/>
                </a:lnTo>
                <a:lnTo>
                  <a:pt x="813" y="883"/>
                </a:lnTo>
                <a:lnTo>
                  <a:pt x="813" y="848"/>
                </a:lnTo>
                <a:lnTo>
                  <a:pt x="809" y="820"/>
                </a:lnTo>
                <a:lnTo>
                  <a:pt x="798" y="774"/>
                </a:lnTo>
                <a:lnTo>
                  <a:pt x="852" y="789"/>
                </a:lnTo>
                <a:lnTo>
                  <a:pt x="852" y="789"/>
                </a:lnTo>
                <a:lnTo>
                  <a:pt x="891" y="754"/>
                </a:lnTo>
                <a:lnTo>
                  <a:pt x="926" y="723"/>
                </a:lnTo>
                <a:lnTo>
                  <a:pt x="953" y="688"/>
                </a:lnTo>
                <a:lnTo>
                  <a:pt x="976" y="653"/>
                </a:lnTo>
                <a:lnTo>
                  <a:pt x="1008" y="595"/>
                </a:lnTo>
                <a:lnTo>
                  <a:pt x="1027" y="552"/>
                </a:lnTo>
                <a:lnTo>
                  <a:pt x="1027" y="552"/>
                </a:lnTo>
                <a:lnTo>
                  <a:pt x="922" y="614"/>
                </a:lnTo>
                <a:lnTo>
                  <a:pt x="809" y="676"/>
                </a:lnTo>
                <a:lnTo>
                  <a:pt x="689" y="739"/>
                </a:lnTo>
                <a:lnTo>
                  <a:pt x="576" y="793"/>
                </a:lnTo>
                <a:lnTo>
                  <a:pt x="576" y="793"/>
                </a:lnTo>
                <a:lnTo>
                  <a:pt x="568" y="816"/>
                </a:lnTo>
                <a:lnTo>
                  <a:pt x="560" y="828"/>
                </a:lnTo>
                <a:lnTo>
                  <a:pt x="553" y="836"/>
                </a:lnTo>
                <a:lnTo>
                  <a:pt x="545" y="840"/>
                </a:lnTo>
                <a:lnTo>
                  <a:pt x="545" y="840"/>
                </a:lnTo>
                <a:lnTo>
                  <a:pt x="537" y="836"/>
                </a:lnTo>
                <a:lnTo>
                  <a:pt x="529" y="832"/>
                </a:lnTo>
                <a:lnTo>
                  <a:pt x="514" y="813"/>
                </a:lnTo>
                <a:lnTo>
                  <a:pt x="444" y="684"/>
                </a:lnTo>
                <a:lnTo>
                  <a:pt x="444" y="684"/>
                </a:lnTo>
                <a:lnTo>
                  <a:pt x="444" y="836"/>
                </a:lnTo>
                <a:lnTo>
                  <a:pt x="444" y="890"/>
                </a:lnTo>
                <a:lnTo>
                  <a:pt x="444" y="890"/>
                </a:lnTo>
                <a:lnTo>
                  <a:pt x="440" y="902"/>
                </a:lnTo>
                <a:lnTo>
                  <a:pt x="436" y="918"/>
                </a:lnTo>
                <a:lnTo>
                  <a:pt x="428" y="929"/>
                </a:lnTo>
                <a:lnTo>
                  <a:pt x="416" y="941"/>
                </a:lnTo>
                <a:lnTo>
                  <a:pt x="405" y="949"/>
                </a:lnTo>
                <a:lnTo>
                  <a:pt x="389" y="953"/>
                </a:lnTo>
                <a:lnTo>
                  <a:pt x="370" y="956"/>
                </a:lnTo>
                <a:lnTo>
                  <a:pt x="350" y="960"/>
                </a:lnTo>
                <a:lnTo>
                  <a:pt x="350" y="960"/>
                </a:lnTo>
                <a:lnTo>
                  <a:pt x="327" y="956"/>
                </a:lnTo>
                <a:lnTo>
                  <a:pt x="308" y="953"/>
                </a:lnTo>
                <a:lnTo>
                  <a:pt x="296" y="941"/>
                </a:lnTo>
                <a:lnTo>
                  <a:pt x="288" y="929"/>
                </a:lnTo>
                <a:lnTo>
                  <a:pt x="280" y="918"/>
                </a:lnTo>
                <a:lnTo>
                  <a:pt x="280" y="902"/>
                </a:lnTo>
                <a:lnTo>
                  <a:pt x="280" y="875"/>
                </a:lnTo>
                <a:lnTo>
                  <a:pt x="172" y="875"/>
                </a:lnTo>
                <a:lnTo>
                  <a:pt x="172" y="875"/>
                </a:lnTo>
                <a:lnTo>
                  <a:pt x="172" y="999"/>
                </a:lnTo>
                <a:lnTo>
                  <a:pt x="172" y="1089"/>
                </a:lnTo>
                <a:lnTo>
                  <a:pt x="172" y="1089"/>
                </a:lnTo>
                <a:lnTo>
                  <a:pt x="172" y="1100"/>
                </a:lnTo>
                <a:lnTo>
                  <a:pt x="168" y="1112"/>
                </a:lnTo>
                <a:lnTo>
                  <a:pt x="160" y="1124"/>
                </a:lnTo>
                <a:lnTo>
                  <a:pt x="148" y="1131"/>
                </a:lnTo>
                <a:lnTo>
                  <a:pt x="137" y="1139"/>
                </a:lnTo>
                <a:lnTo>
                  <a:pt x="121" y="1147"/>
                </a:lnTo>
                <a:lnTo>
                  <a:pt x="105" y="1151"/>
                </a:lnTo>
                <a:lnTo>
                  <a:pt x="82" y="1155"/>
                </a:lnTo>
                <a:lnTo>
                  <a:pt x="82" y="1155"/>
                </a:lnTo>
                <a:lnTo>
                  <a:pt x="59" y="1151"/>
                </a:lnTo>
                <a:lnTo>
                  <a:pt x="43" y="1147"/>
                </a:lnTo>
                <a:lnTo>
                  <a:pt x="28" y="1139"/>
                </a:lnTo>
                <a:lnTo>
                  <a:pt x="20" y="1131"/>
                </a:lnTo>
                <a:lnTo>
                  <a:pt x="12" y="1124"/>
                </a:lnTo>
                <a:lnTo>
                  <a:pt x="12" y="1112"/>
                </a:lnTo>
                <a:lnTo>
                  <a:pt x="8" y="1092"/>
                </a:lnTo>
                <a:lnTo>
                  <a:pt x="8" y="1092"/>
                </a:lnTo>
                <a:lnTo>
                  <a:pt x="16" y="976"/>
                </a:lnTo>
                <a:lnTo>
                  <a:pt x="16" y="976"/>
                </a:lnTo>
                <a:lnTo>
                  <a:pt x="16" y="478"/>
                </a:lnTo>
                <a:lnTo>
                  <a:pt x="16" y="478"/>
                </a:lnTo>
                <a:lnTo>
                  <a:pt x="16" y="323"/>
                </a:lnTo>
                <a:lnTo>
                  <a:pt x="16" y="229"/>
                </a:lnTo>
                <a:lnTo>
                  <a:pt x="8" y="175"/>
                </a:lnTo>
                <a:lnTo>
                  <a:pt x="0" y="124"/>
                </a:lnTo>
                <a:lnTo>
                  <a:pt x="195" y="194"/>
                </a:lnTo>
                <a:lnTo>
                  <a:pt x="280" y="194"/>
                </a:lnTo>
                <a:lnTo>
                  <a:pt x="327" y="152"/>
                </a:lnTo>
                <a:lnTo>
                  <a:pt x="327" y="152"/>
                </a:lnTo>
                <a:lnTo>
                  <a:pt x="343" y="140"/>
                </a:lnTo>
                <a:lnTo>
                  <a:pt x="350" y="136"/>
                </a:lnTo>
                <a:lnTo>
                  <a:pt x="362" y="132"/>
                </a:lnTo>
                <a:lnTo>
                  <a:pt x="362" y="132"/>
                </a:lnTo>
                <a:lnTo>
                  <a:pt x="370" y="136"/>
                </a:lnTo>
                <a:lnTo>
                  <a:pt x="378" y="140"/>
                </a:lnTo>
                <a:lnTo>
                  <a:pt x="393" y="152"/>
                </a:lnTo>
                <a:lnTo>
                  <a:pt x="475" y="225"/>
                </a:lnTo>
                <a:lnTo>
                  <a:pt x="475" y="225"/>
                </a:lnTo>
                <a:lnTo>
                  <a:pt x="490" y="245"/>
                </a:lnTo>
                <a:lnTo>
                  <a:pt x="494" y="253"/>
                </a:lnTo>
                <a:lnTo>
                  <a:pt x="498" y="264"/>
                </a:lnTo>
                <a:lnTo>
                  <a:pt x="498" y="264"/>
                </a:lnTo>
                <a:lnTo>
                  <a:pt x="494" y="268"/>
                </a:lnTo>
                <a:lnTo>
                  <a:pt x="490" y="276"/>
                </a:lnTo>
                <a:lnTo>
                  <a:pt x="475" y="292"/>
                </a:lnTo>
                <a:lnTo>
                  <a:pt x="440" y="315"/>
                </a:lnTo>
                <a:lnTo>
                  <a:pt x="440" y="315"/>
                </a:lnTo>
                <a:lnTo>
                  <a:pt x="440" y="478"/>
                </a:lnTo>
                <a:lnTo>
                  <a:pt x="444" y="649"/>
                </a:lnTo>
                <a:lnTo>
                  <a:pt x="444" y="649"/>
                </a:lnTo>
                <a:lnTo>
                  <a:pt x="486" y="645"/>
                </a:lnTo>
                <a:lnTo>
                  <a:pt x="525" y="641"/>
                </a:lnTo>
                <a:lnTo>
                  <a:pt x="626" y="622"/>
                </a:lnTo>
                <a:lnTo>
                  <a:pt x="626" y="451"/>
                </a:lnTo>
                <a:lnTo>
                  <a:pt x="626" y="451"/>
                </a:lnTo>
                <a:lnTo>
                  <a:pt x="556" y="451"/>
                </a:lnTo>
                <a:lnTo>
                  <a:pt x="490" y="459"/>
                </a:lnTo>
                <a:lnTo>
                  <a:pt x="459" y="404"/>
                </a:lnTo>
                <a:lnTo>
                  <a:pt x="459" y="404"/>
                </a:lnTo>
                <a:lnTo>
                  <a:pt x="533" y="408"/>
                </a:lnTo>
                <a:lnTo>
                  <a:pt x="626" y="412"/>
                </a:lnTo>
                <a:lnTo>
                  <a:pt x="626" y="412"/>
                </a:lnTo>
                <a:lnTo>
                  <a:pt x="623" y="237"/>
                </a:lnTo>
                <a:lnTo>
                  <a:pt x="623" y="237"/>
                </a:lnTo>
                <a:lnTo>
                  <a:pt x="553" y="237"/>
                </a:lnTo>
                <a:lnTo>
                  <a:pt x="494" y="245"/>
                </a:lnTo>
                <a:lnTo>
                  <a:pt x="463" y="190"/>
                </a:lnTo>
                <a:lnTo>
                  <a:pt x="463" y="190"/>
                </a:lnTo>
                <a:lnTo>
                  <a:pt x="545" y="194"/>
                </a:lnTo>
                <a:lnTo>
                  <a:pt x="623" y="198"/>
                </a:lnTo>
                <a:lnTo>
                  <a:pt x="623" y="198"/>
                </a:lnTo>
                <a:lnTo>
                  <a:pt x="619" y="140"/>
                </a:lnTo>
                <a:lnTo>
                  <a:pt x="615" y="97"/>
                </a:lnTo>
                <a:lnTo>
                  <a:pt x="603" y="50"/>
                </a:lnTo>
                <a:lnTo>
                  <a:pt x="584" y="0"/>
                </a:lnTo>
                <a:lnTo>
                  <a:pt x="801" y="35"/>
                </a:lnTo>
                <a:lnTo>
                  <a:pt x="801" y="35"/>
                </a:lnTo>
                <a:lnTo>
                  <a:pt x="821" y="43"/>
                </a:lnTo>
                <a:lnTo>
                  <a:pt x="829" y="47"/>
                </a:lnTo>
                <a:lnTo>
                  <a:pt x="829" y="58"/>
                </a:lnTo>
                <a:lnTo>
                  <a:pt x="829" y="58"/>
                </a:lnTo>
                <a:lnTo>
                  <a:pt x="825" y="70"/>
                </a:lnTo>
                <a:lnTo>
                  <a:pt x="817" y="82"/>
                </a:lnTo>
                <a:lnTo>
                  <a:pt x="782" y="105"/>
                </a:lnTo>
                <a:lnTo>
                  <a:pt x="782" y="198"/>
                </a:lnTo>
                <a:lnTo>
                  <a:pt x="801" y="198"/>
                </a:lnTo>
                <a:lnTo>
                  <a:pt x="844" y="128"/>
                </a:lnTo>
                <a:lnTo>
                  <a:pt x="844" y="128"/>
                </a:lnTo>
                <a:lnTo>
                  <a:pt x="856" y="117"/>
                </a:lnTo>
                <a:lnTo>
                  <a:pt x="864" y="109"/>
                </a:lnTo>
                <a:lnTo>
                  <a:pt x="871" y="109"/>
                </a:lnTo>
                <a:lnTo>
                  <a:pt x="871" y="109"/>
                </a:lnTo>
                <a:lnTo>
                  <a:pt x="891" y="113"/>
                </a:lnTo>
                <a:lnTo>
                  <a:pt x="906" y="124"/>
                </a:lnTo>
                <a:lnTo>
                  <a:pt x="988" y="194"/>
                </a:lnTo>
                <a:lnTo>
                  <a:pt x="988" y="194"/>
                </a:lnTo>
                <a:lnTo>
                  <a:pt x="1000" y="206"/>
                </a:lnTo>
                <a:lnTo>
                  <a:pt x="1004" y="214"/>
                </a:lnTo>
                <a:lnTo>
                  <a:pt x="1004" y="218"/>
                </a:lnTo>
                <a:lnTo>
                  <a:pt x="1004" y="218"/>
                </a:lnTo>
                <a:lnTo>
                  <a:pt x="1004" y="229"/>
                </a:lnTo>
                <a:lnTo>
                  <a:pt x="996" y="233"/>
                </a:lnTo>
                <a:lnTo>
                  <a:pt x="976" y="237"/>
                </a:lnTo>
                <a:lnTo>
                  <a:pt x="782" y="237"/>
                </a:lnTo>
                <a:lnTo>
                  <a:pt x="782" y="237"/>
                </a:lnTo>
                <a:lnTo>
                  <a:pt x="782" y="412"/>
                </a:lnTo>
                <a:lnTo>
                  <a:pt x="794" y="412"/>
                </a:lnTo>
                <a:lnTo>
                  <a:pt x="840" y="338"/>
                </a:lnTo>
                <a:lnTo>
                  <a:pt x="840" y="338"/>
                </a:lnTo>
                <a:lnTo>
                  <a:pt x="852" y="323"/>
                </a:lnTo>
                <a:lnTo>
                  <a:pt x="860" y="319"/>
                </a:lnTo>
                <a:lnTo>
                  <a:pt x="868" y="315"/>
                </a:lnTo>
                <a:lnTo>
                  <a:pt x="868" y="315"/>
                </a:lnTo>
                <a:lnTo>
                  <a:pt x="875" y="315"/>
                </a:lnTo>
                <a:lnTo>
                  <a:pt x="883" y="319"/>
                </a:lnTo>
                <a:lnTo>
                  <a:pt x="899" y="334"/>
                </a:lnTo>
                <a:lnTo>
                  <a:pt x="976" y="404"/>
                </a:lnTo>
                <a:lnTo>
                  <a:pt x="976" y="404"/>
                </a:lnTo>
                <a:lnTo>
                  <a:pt x="988" y="420"/>
                </a:lnTo>
                <a:lnTo>
                  <a:pt x="992" y="428"/>
                </a:lnTo>
                <a:lnTo>
                  <a:pt x="996" y="435"/>
                </a:lnTo>
                <a:lnTo>
                  <a:pt x="996" y="435"/>
                </a:lnTo>
                <a:lnTo>
                  <a:pt x="992" y="443"/>
                </a:lnTo>
                <a:lnTo>
                  <a:pt x="984" y="447"/>
                </a:lnTo>
                <a:lnTo>
                  <a:pt x="965" y="451"/>
                </a:lnTo>
                <a:lnTo>
                  <a:pt x="782" y="451"/>
                </a:lnTo>
                <a:lnTo>
                  <a:pt x="782" y="587"/>
                </a:lnTo>
                <a:lnTo>
                  <a:pt x="782" y="587"/>
                </a:lnTo>
                <a:lnTo>
                  <a:pt x="1039" y="525"/>
                </a:lnTo>
                <a:lnTo>
                  <a:pt x="1039" y="525"/>
                </a:lnTo>
                <a:lnTo>
                  <a:pt x="1058" y="474"/>
                </a:lnTo>
                <a:lnTo>
                  <a:pt x="1070" y="424"/>
                </a:lnTo>
                <a:lnTo>
                  <a:pt x="1089" y="334"/>
                </a:lnTo>
                <a:lnTo>
                  <a:pt x="1097" y="260"/>
                </a:lnTo>
                <a:lnTo>
                  <a:pt x="1101" y="210"/>
                </a:lnTo>
                <a:lnTo>
                  <a:pt x="1101" y="210"/>
                </a:lnTo>
                <a:lnTo>
                  <a:pt x="1066" y="214"/>
                </a:lnTo>
                <a:lnTo>
                  <a:pt x="1039" y="218"/>
                </a:lnTo>
                <a:lnTo>
                  <a:pt x="1008" y="159"/>
                </a:lnTo>
                <a:lnTo>
                  <a:pt x="1008" y="159"/>
                </a:lnTo>
                <a:lnTo>
                  <a:pt x="1140" y="167"/>
                </a:lnTo>
                <a:lnTo>
                  <a:pt x="1225" y="167"/>
                </a:lnTo>
                <a:lnTo>
                  <a:pt x="1357" y="167"/>
                </a:lnTo>
                <a:lnTo>
                  <a:pt x="1404" y="120"/>
                </a:lnTo>
                <a:lnTo>
                  <a:pt x="1404" y="120"/>
                </a:lnTo>
                <a:lnTo>
                  <a:pt x="1420" y="105"/>
                </a:lnTo>
                <a:lnTo>
                  <a:pt x="1427" y="101"/>
                </a:lnTo>
                <a:lnTo>
                  <a:pt x="1435" y="97"/>
                </a:lnTo>
                <a:lnTo>
                  <a:pt x="1435" y="97"/>
                </a:lnTo>
                <a:lnTo>
                  <a:pt x="1443" y="101"/>
                </a:lnTo>
                <a:lnTo>
                  <a:pt x="1451" y="105"/>
                </a:lnTo>
                <a:lnTo>
                  <a:pt x="1470" y="117"/>
                </a:lnTo>
                <a:lnTo>
                  <a:pt x="1567" y="190"/>
                </a:lnTo>
                <a:lnTo>
                  <a:pt x="1567" y="190"/>
                </a:lnTo>
                <a:lnTo>
                  <a:pt x="1587" y="210"/>
                </a:lnTo>
                <a:lnTo>
                  <a:pt x="1591" y="218"/>
                </a:lnTo>
                <a:lnTo>
                  <a:pt x="1595" y="225"/>
                </a:lnTo>
                <a:lnTo>
                  <a:pt x="1595" y="225"/>
                </a:lnTo>
                <a:lnTo>
                  <a:pt x="1591" y="241"/>
                </a:lnTo>
                <a:lnTo>
                  <a:pt x="1583" y="253"/>
                </a:lnTo>
                <a:lnTo>
                  <a:pt x="1564" y="264"/>
                </a:lnTo>
                <a:lnTo>
                  <a:pt x="1532" y="284"/>
                </a:lnTo>
                <a:lnTo>
                  <a:pt x="1532" y="284"/>
                </a:lnTo>
                <a:lnTo>
                  <a:pt x="1529" y="369"/>
                </a:lnTo>
                <a:lnTo>
                  <a:pt x="1521" y="474"/>
                </a:lnTo>
                <a:lnTo>
                  <a:pt x="1509" y="575"/>
                </a:lnTo>
                <a:lnTo>
                  <a:pt x="1497" y="618"/>
                </a:lnTo>
                <a:lnTo>
                  <a:pt x="1490" y="657"/>
                </a:lnTo>
                <a:lnTo>
                  <a:pt x="1490" y="657"/>
                </a:lnTo>
                <a:lnTo>
                  <a:pt x="1470" y="700"/>
                </a:lnTo>
                <a:lnTo>
                  <a:pt x="1455" y="723"/>
                </a:lnTo>
                <a:lnTo>
                  <a:pt x="1435" y="746"/>
                </a:lnTo>
                <a:lnTo>
                  <a:pt x="1408" y="770"/>
                </a:lnTo>
                <a:lnTo>
                  <a:pt x="1373" y="789"/>
                </a:lnTo>
                <a:lnTo>
                  <a:pt x="1330" y="805"/>
                </a:lnTo>
                <a:lnTo>
                  <a:pt x="1276" y="816"/>
                </a:lnTo>
                <a:lnTo>
                  <a:pt x="1276" y="816"/>
                </a:lnTo>
                <a:lnTo>
                  <a:pt x="1264" y="781"/>
                </a:lnTo>
                <a:lnTo>
                  <a:pt x="1252" y="758"/>
                </a:lnTo>
                <a:lnTo>
                  <a:pt x="1241" y="731"/>
                </a:lnTo>
                <a:lnTo>
                  <a:pt x="1221" y="704"/>
                </a:lnTo>
                <a:lnTo>
                  <a:pt x="1198" y="676"/>
                </a:lnTo>
                <a:lnTo>
                  <a:pt x="1167" y="649"/>
                </a:lnTo>
                <a:lnTo>
                  <a:pt x="1124" y="622"/>
                </a:lnTo>
                <a:lnTo>
                  <a:pt x="1124" y="622"/>
                </a:lnTo>
                <a:lnTo>
                  <a:pt x="1081" y="669"/>
                </a:lnTo>
                <a:lnTo>
                  <a:pt x="1058" y="692"/>
                </a:lnTo>
                <a:lnTo>
                  <a:pt x="1031" y="711"/>
                </a:lnTo>
                <a:lnTo>
                  <a:pt x="1000" y="735"/>
                </a:lnTo>
                <a:lnTo>
                  <a:pt x="965" y="754"/>
                </a:lnTo>
                <a:lnTo>
                  <a:pt x="926" y="778"/>
                </a:lnTo>
                <a:lnTo>
                  <a:pt x="879" y="793"/>
                </a:lnTo>
                <a:lnTo>
                  <a:pt x="1035" y="836"/>
                </a:lnTo>
                <a:close/>
                <a:moveTo>
                  <a:pt x="280" y="836"/>
                </a:moveTo>
                <a:lnTo>
                  <a:pt x="280" y="233"/>
                </a:lnTo>
                <a:lnTo>
                  <a:pt x="172" y="233"/>
                </a:lnTo>
                <a:lnTo>
                  <a:pt x="172" y="836"/>
                </a:lnTo>
                <a:lnTo>
                  <a:pt x="280" y="836"/>
                </a:lnTo>
                <a:close/>
                <a:moveTo>
                  <a:pt x="1264" y="206"/>
                </a:moveTo>
                <a:lnTo>
                  <a:pt x="1264" y="206"/>
                </a:lnTo>
                <a:lnTo>
                  <a:pt x="1256" y="284"/>
                </a:lnTo>
                <a:lnTo>
                  <a:pt x="1249" y="334"/>
                </a:lnTo>
                <a:lnTo>
                  <a:pt x="1237" y="385"/>
                </a:lnTo>
                <a:lnTo>
                  <a:pt x="1217" y="443"/>
                </a:lnTo>
                <a:lnTo>
                  <a:pt x="1198" y="498"/>
                </a:lnTo>
                <a:lnTo>
                  <a:pt x="1171" y="556"/>
                </a:lnTo>
                <a:lnTo>
                  <a:pt x="1136" y="606"/>
                </a:lnTo>
                <a:lnTo>
                  <a:pt x="1136" y="606"/>
                </a:lnTo>
                <a:lnTo>
                  <a:pt x="1202" y="618"/>
                </a:lnTo>
                <a:lnTo>
                  <a:pt x="1268" y="622"/>
                </a:lnTo>
                <a:lnTo>
                  <a:pt x="1268" y="622"/>
                </a:lnTo>
                <a:lnTo>
                  <a:pt x="1280" y="622"/>
                </a:lnTo>
                <a:lnTo>
                  <a:pt x="1299" y="618"/>
                </a:lnTo>
                <a:lnTo>
                  <a:pt x="1307" y="610"/>
                </a:lnTo>
                <a:lnTo>
                  <a:pt x="1315" y="603"/>
                </a:lnTo>
                <a:lnTo>
                  <a:pt x="1322" y="595"/>
                </a:lnTo>
                <a:lnTo>
                  <a:pt x="1326" y="579"/>
                </a:lnTo>
                <a:lnTo>
                  <a:pt x="1326" y="579"/>
                </a:lnTo>
                <a:lnTo>
                  <a:pt x="1342" y="529"/>
                </a:lnTo>
                <a:lnTo>
                  <a:pt x="1350" y="474"/>
                </a:lnTo>
                <a:lnTo>
                  <a:pt x="1361" y="358"/>
                </a:lnTo>
                <a:lnTo>
                  <a:pt x="1365" y="260"/>
                </a:lnTo>
                <a:lnTo>
                  <a:pt x="1369" y="206"/>
                </a:lnTo>
                <a:lnTo>
                  <a:pt x="1264" y="2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89400" y="8677440"/>
            <a:ext cx="2622600" cy="2363760"/>
          </a:xfrm>
          <a:custGeom>
            <a:avLst/>
            <a:gdLst/>
            <a:ahLst/>
            <a:rect l="l" t="t" r="r" b="b"/>
            <a:pathLst>
              <a:path w="1652" h="1489">
                <a:moveTo>
                  <a:pt x="140" y="369"/>
                </a:moveTo>
                <a:lnTo>
                  <a:pt x="140" y="369"/>
                </a:lnTo>
                <a:lnTo>
                  <a:pt x="163" y="412"/>
                </a:lnTo>
                <a:lnTo>
                  <a:pt x="179" y="451"/>
                </a:lnTo>
                <a:lnTo>
                  <a:pt x="190" y="486"/>
                </a:lnTo>
                <a:lnTo>
                  <a:pt x="198" y="521"/>
                </a:lnTo>
                <a:lnTo>
                  <a:pt x="206" y="575"/>
                </a:lnTo>
                <a:lnTo>
                  <a:pt x="206" y="603"/>
                </a:lnTo>
                <a:lnTo>
                  <a:pt x="206" y="603"/>
                </a:lnTo>
                <a:lnTo>
                  <a:pt x="206" y="638"/>
                </a:lnTo>
                <a:lnTo>
                  <a:pt x="198" y="669"/>
                </a:lnTo>
                <a:lnTo>
                  <a:pt x="190" y="696"/>
                </a:lnTo>
                <a:lnTo>
                  <a:pt x="175" y="719"/>
                </a:lnTo>
                <a:lnTo>
                  <a:pt x="155" y="739"/>
                </a:lnTo>
                <a:lnTo>
                  <a:pt x="136" y="754"/>
                </a:lnTo>
                <a:lnTo>
                  <a:pt x="113" y="762"/>
                </a:lnTo>
                <a:lnTo>
                  <a:pt x="86" y="766"/>
                </a:lnTo>
                <a:lnTo>
                  <a:pt x="86" y="766"/>
                </a:lnTo>
                <a:lnTo>
                  <a:pt x="66" y="766"/>
                </a:lnTo>
                <a:lnTo>
                  <a:pt x="51" y="762"/>
                </a:lnTo>
                <a:lnTo>
                  <a:pt x="35" y="754"/>
                </a:lnTo>
                <a:lnTo>
                  <a:pt x="23" y="746"/>
                </a:lnTo>
                <a:lnTo>
                  <a:pt x="12" y="735"/>
                </a:lnTo>
                <a:lnTo>
                  <a:pt x="4" y="723"/>
                </a:lnTo>
                <a:lnTo>
                  <a:pt x="0" y="708"/>
                </a:lnTo>
                <a:lnTo>
                  <a:pt x="0" y="692"/>
                </a:lnTo>
                <a:lnTo>
                  <a:pt x="0" y="692"/>
                </a:lnTo>
                <a:lnTo>
                  <a:pt x="0" y="669"/>
                </a:lnTo>
                <a:lnTo>
                  <a:pt x="8" y="645"/>
                </a:lnTo>
                <a:lnTo>
                  <a:pt x="27" y="614"/>
                </a:lnTo>
                <a:lnTo>
                  <a:pt x="62" y="564"/>
                </a:lnTo>
                <a:lnTo>
                  <a:pt x="62" y="564"/>
                </a:lnTo>
                <a:lnTo>
                  <a:pt x="74" y="544"/>
                </a:lnTo>
                <a:lnTo>
                  <a:pt x="93" y="501"/>
                </a:lnTo>
                <a:lnTo>
                  <a:pt x="105" y="474"/>
                </a:lnTo>
                <a:lnTo>
                  <a:pt x="117" y="443"/>
                </a:lnTo>
                <a:lnTo>
                  <a:pt x="124" y="408"/>
                </a:lnTo>
                <a:lnTo>
                  <a:pt x="128" y="369"/>
                </a:lnTo>
                <a:lnTo>
                  <a:pt x="140" y="369"/>
                </a:lnTo>
                <a:close/>
                <a:moveTo>
                  <a:pt x="871" y="377"/>
                </a:moveTo>
                <a:lnTo>
                  <a:pt x="871" y="167"/>
                </a:lnTo>
                <a:lnTo>
                  <a:pt x="770" y="167"/>
                </a:lnTo>
                <a:lnTo>
                  <a:pt x="770" y="167"/>
                </a:lnTo>
                <a:lnTo>
                  <a:pt x="649" y="171"/>
                </a:lnTo>
                <a:lnTo>
                  <a:pt x="610" y="175"/>
                </a:lnTo>
                <a:lnTo>
                  <a:pt x="575" y="179"/>
                </a:lnTo>
                <a:lnTo>
                  <a:pt x="548" y="117"/>
                </a:lnTo>
                <a:lnTo>
                  <a:pt x="548" y="117"/>
                </a:lnTo>
                <a:lnTo>
                  <a:pt x="634" y="124"/>
                </a:lnTo>
                <a:lnTo>
                  <a:pt x="712" y="128"/>
                </a:lnTo>
                <a:lnTo>
                  <a:pt x="805" y="128"/>
                </a:lnTo>
                <a:lnTo>
                  <a:pt x="1338" y="128"/>
                </a:lnTo>
                <a:lnTo>
                  <a:pt x="1411" y="31"/>
                </a:lnTo>
                <a:lnTo>
                  <a:pt x="1411" y="31"/>
                </a:lnTo>
                <a:lnTo>
                  <a:pt x="1427" y="19"/>
                </a:lnTo>
                <a:lnTo>
                  <a:pt x="1431" y="15"/>
                </a:lnTo>
                <a:lnTo>
                  <a:pt x="1439" y="12"/>
                </a:lnTo>
                <a:lnTo>
                  <a:pt x="1439" y="12"/>
                </a:lnTo>
                <a:lnTo>
                  <a:pt x="1454" y="15"/>
                </a:lnTo>
                <a:lnTo>
                  <a:pt x="1474" y="27"/>
                </a:lnTo>
                <a:lnTo>
                  <a:pt x="1606" y="124"/>
                </a:lnTo>
                <a:lnTo>
                  <a:pt x="1606" y="124"/>
                </a:lnTo>
                <a:lnTo>
                  <a:pt x="1617" y="136"/>
                </a:lnTo>
                <a:lnTo>
                  <a:pt x="1621" y="144"/>
                </a:lnTo>
                <a:lnTo>
                  <a:pt x="1621" y="148"/>
                </a:lnTo>
                <a:lnTo>
                  <a:pt x="1621" y="148"/>
                </a:lnTo>
                <a:lnTo>
                  <a:pt x="1617" y="159"/>
                </a:lnTo>
                <a:lnTo>
                  <a:pt x="1610" y="163"/>
                </a:lnTo>
                <a:lnTo>
                  <a:pt x="1594" y="167"/>
                </a:lnTo>
                <a:lnTo>
                  <a:pt x="1271" y="167"/>
                </a:lnTo>
                <a:lnTo>
                  <a:pt x="1271" y="377"/>
                </a:lnTo>
                <a:lnTo>
                  <a:pt x="1361" y="377"/>
                </a:lnTo>
                <a:lnTo>
                  <a:pt x="1411" y="319"/>
                </a:lnTo>
                <a:lnTo>
                  <a:pt x="1411" y="319"/>
                </a:lnTo>
                <a:lnTo>
                  <a:pt x="1427" y="307"/>
                </a:lnTo>
                <a:lnTo>
                  <a:pt x="1435" y="303"/>
                </a:lnTo>
                <a:lnTo>
                  <a:pt x="1443" y="303"/>
                </a:lnTo>
                <a:lnTo>
                  <a:pt x="1443" y="303"/>
                </a:lnTo>
                <a:lnTo>
                  <a:pt x="1458" y="307"/>
                </a:lnTo>
                <a:lnTo>
                  <a:pt x="1478" y="319"/>
                </a:lnTo>
                <a:lnTo>
                  <a:pt x="1571" y="389"/>
                </a:lnTo>
                <a:lnTo>
                  <a:pt x="1571" y="389"/>
                </a:lnTo>
                <a:lnTo>
                  <a:pt x="1586" y="404"/>
                </a:lnTo>
                <a:lnTo>
                  <a:pt x="1590" y="412"/>
                </a:lnTo>
                <a:lnTo>
                  <a:pt x="1590" y="420"/>
                </a:lnTo>
                <a:lnTo>
                  <a:pt x="1590" y="420"/>
                </a:lnTo>
                <a:lnTo>
                  <a:pt x="1590" y="431"/>
                </a:lnTo>
                <a:lnTo>
                  <a:pt x="1579" y="443"/>
                </a:lnTo>
                <a:lnTo>
                  <a:pt x="1540" y="474"/>
                </a:lnTo>
                <a:lnTo>
                  <a:pt x="1540" y="474"/>
                </a:lnTo>
                <a:lnTo>
                  <a:pt x="1540" y="735"/>
                </a:lnTo>
                <a:lnTo>
                  <a:pt x="1540" y="735"/>
                </a:lnTo>
                <a:lnTo>
                  <a:pt x="1544" y="820"/>
                </a:lnTo>
                <a:lnTo>
                  <a:pt x="1544" y="820"/>
                </a:lnTo>
                <a:lnTo>
                  <a:pt x="1544" y="848"/>
                </a:lnTo>
                <a:lnTo>
                  <a:pt x="1540" y="859"/>
                </a:lnTo>
                <a:lnTo>
                  <a:pt x="1532" y="875"/>
                </a:lnTo>
                <a:lnTo>
                  <a:pt x="1516" y="886"/>
                </a:lnTo>
                <a:lnTo>
                  <a:pt x="1497" y="898"/>
                </a:lnTo>
                <a:lnTo>
                  <a:pt x="1470" y="906"/>
                </a:lnTo>
                <a:lnTo>
                  <a:pt x="1431" y="910"/>
                </a:lnTo>
                <a:lnTo>
                  <a:pt x="1431" y="910"/>
                </a:lnTo>
                <a:lnTo>
                  <a:pt x="1411" y="910"/>
                </a:lnTo>
                <a:lnTo>
                  <a:pt x="1392" y="906"/>
                </a:lnTo>
                <a:lnTo>
                  <a:pt x="1384" y="898"/>
                </a:lnTo>
                <a:lnTo>
                  <a:pt x="1376" y="890"/>
                </a:lnTo>
                <a:lnTo>
                  <a:pt x="1369" y="879"/>
                </a:lnTo>
                <a:lnTo>
                  <a:pt x="1369" y="867"/>
                </a:lnTo>
                <a:lnTo>
                  <a:pt x="1365" y="828"/>
                </a:lnTo>
                <a:lnTo>
                  <a:pt x="1365" y="820"/>
                </a:lnTo>
                <a:lnTo>
                  <a:pt x="1042" y="820"/>
                </a:lnTo>
                <a:lnTo>
                  <a:pt x="1166" y="848"/>
                </a:lnTo>
                <a:lnTo>
                  <a:pt x="1166" y="848"/>
                </a:lnTo>
                <a:lnTo>
                  <a:pt x="1190" y="855"/>
                </a:lnTo>
                <a:lnTo>
                  <a:pt x="1198" y="863"/>
                </a:lnTo>
                <a:lnTo>
                  <a:pt x="1198" y="871"/>
                </a:lnTo>
                <a:lnTo>
                  <a:pt x="1198" y="871"/>
                </a:lnTo>
                <a:lnTo>
                  <a:pt x="1194" y="883"/>
                </a:lnTo>
                <a:lnTo>
                  <a:pt x="1182" y="894"/>
                </a:lnTo>
                <a:lnTo>
                  <a:pt x="1151" y="921"/>
                </a:lnTo>
                <a:lnTo>
                  <a:pt x="1151" y="921"/>
                </a:lnTo>
                <a:lnTo>
                  <a:pt x="1151" y="1085"/>
                </a:lnTo>
                <a:lnTo>
                  <a:pt x="1330" y="1085"/>
                </a:lnTo>
                <a:lnTo>
                  <a:pt x="1388" y="1007"/>
                </a:lnTo>
                <a:lnTo>
                  <a:pt x="1388" y="1007"/>
                </a:lnTo>
                <a:lnTo>
                  <a:pt x="1400" y="991"/>
                </a:lnTo>
                <a:lnTo>
                  <a:pt x="1408" y="988"/>
                </a:lnTo>
                <a:lnTo>
                  <a:pt x="1411" y="988"/>
                </a:lnTo>
                <a:lnTo>
                  <a:pt x="1411" y="988"/>
                </a:lnTo>
                <a:lnTo>
                  <a:pt x="1423" y="988"/>
                </a:lnTo>
                <a:lnTo>
                  <a:pt x="1431" y="991"/>
                </a:lnTo>
                <a:lnTo>
                  <a:pt x="1446" y="1003"/>
                </a:lnTo>
                <a:lnTo>
                  <a:pt x="1555" y="1081"/>
                </a:lnTo>
                <a:lnTo>
                  <a:pt x="1555" y="1081"/>
                </a:lnTo>
                <a:lnTo>
                  <a:pt x="1567" y="1092"/>
                </a:lnTo>
                <a:lnTo>
                  <a:pt x="1571" y="1100"/>
                </a:lnTo>
                <a:lnTo>
                  <a:pt x="1575" y="1104"/>
                </a:lnTo>
                <a:lnTo>
                  <a:pt x="1575" y="1104"/>
                </a:lnTo>
                <a:lnTo>
                  <a:pt x="1571" y="1116"/>
                </a:lnTo>
                <a:lnTo>
                  <a:pt x="1563" y="1120"/>
                </a:lnTo>
                <a:lnTo>
                  <a:pt x="1555" y="1124"/>
                </a:lnTo>
                <a:lnTo>
                  <a:pt x="1548" y="1124"/>
                </a:lnTo>
                <a:lnTo>
                  <a:pt x="1151" y="1124"/>
                </a:lnTo>
                <a:lnTo>
                  <a:pt x="1151" y="1400"/>
                </a:lnTo>
                <a:lnTo>
                  <a:pt x="1376" y="1400"/>
                </a:lnTo>
                <a:lnTo>
                  <a:pt x="1458" y="1306"/>
                </a:lnTo>
                <a:lnTo>
                  <a:pt x="1458" y="1306"/>
                </a:lnTo>
                <a:lnTo>
                  <a:pt x="1470" y="1291"/>
                </a:lnTo>
                <a:lnTo>
                  <a:pt x="1478" y="1287"/>
                </a:lnTo>
                <a:lnTo>
                  <a:pt x="1485" y="1283"/>
                </a:lnTo>
                <a:lnTo>
                  <a:pt x="1485" y="1283"/>
                </a:lnTo>
                <a:lnTo>
                  <a:pt x="1493" y="1287"/>
                </a:lnTo>
                <a:lnTo>
                  <a:pt x="1501" y="1291"/>
                </a:lnTo>
                <a:lnTo>
                  <a:pt x="1520" y="1302"/>
                </a:lnTo>
                <a:lnTo>
                  <a:pt x="1633" y="1396"/>
                </a:lnTo>
                <a:lnTo>
                  <a:pt x="1633" y="1396"/>
                </a:lnTo>
                <a:lnTo>
                  <a:pt x="1649" y="1407"/>
                </a:lnTo>
                <a:lnTo>
                  <a:pt x="1652" y="1411"/>
                </a:lnTo>
                <a:lnTo>
                  <a:pt x="1652" y="1419"/>
                </a:lnTo>
                <a:lnTo>
                  <a:pt x="1652" y="1419"/>
                </a:lnTo>
                <a:lnTo>
                  <a:pt x="1649" y="1427"/>
                </a:lnTo>
                <a:lnTo>
                  <a:pt x="1645" y="1435"/>
                </a:lnTo>
                <a:lnTo>
                  <a:pt x="1637" y="1439"/>
                </a:lnTo>
                <a:lnTo>
                  <a:pt x="1625" y="1439"/>
                </a:lnTo>
                <a:lnTo>
                  <a:pt x="665" y="1439"/>
                </a:lnTo>
                <a:lnTo>
                  <a:pt x="665" y="1439"/>
                </a:lnTo>
                <a:lnTo>
                  <a:pt x="540" y="1439"/>
                </a:lnTo>
                <a:lnTo>
                  <a:pt x="502" y="1442"/>
                </a:lnTo>
                <a:lnTo>
                  <a:pt x="470" y="1450"/>
                </a:lnTo>
                <a:lnTo>
                  <a:pt x="439" y="1388"/>
                </a:lnTo>
                <a:lnTo>
                  <a:pt x="439" y="1388"/>
                </a:lnTo>
                <a:lnTo>
                  <a:pt x="603" y="1396"/>
                </a:lnTo>
                <a:lnTo>
                  <a:pt x="696" y="1400"/>
                </a:lnTo>
                <a:lnTo>
                  <a:pt x="972" y="1400"/>
                </a:lnTo>
                <a:lnTo>
                  <a:pt x="972" y="1124"/>
                </a:lnTo>
                <a:lnTo>
                  <a:pt x="824" y="1124"/>
                </a:lnTo>
                <a:lnTo>
                  <a:pt x="824" y="1124"/>
                </a:lnTo>
                <a:lnTo>
                  <a:pt x="708" y="1127"/>
                </a:lnTo>
                <a:lnTo>
                  <a:pt x="638" y="1131"/>
                </a:lnTo>
                <a:lnTo>
                  <a:pt x="638" y="1131"/>
                </a:lnTo>
                <a:lnTo>
                  <a:pt x="645" y="1159"/>
                </a:lnTo>
                <a:lnTo>
                  <a:pt x="649" y="1190"/>
                </a:lnTo>
                <a:lnTo>
                  <a:pt x="649" y="1190"/>
                </a:lnTo>
                <a:lnTo>
                  <a:pt x="645" y="1209"/>
                </a:lnTo>
                <a:lnTo>
                  <a:pt x="638" y="1229"/>
                </a:lnTo>
                <a:lnTo>
                  <a:pt x="630" y="1244"/>
                </a:lnTo>
                <a:lnTo>
                  <a:pt x="618" y="1256"/>
                </a:lnTo>
                <a:lnTo>
                  <a:pt x="603" y="1264"/>
                </a:lnTo>
                <a:lnTo>
                  <a:pt x="587" y="1271"/>
                </a:lnTo>
                <a:lnTo>
                  <a:pt x="572" y="1275"/>
                </a:lnTo>
                <a:lnTo>
                  <a:pt x="556" y="1275"/>
                </a:lnTo>
                <a:lnTo>
                  <a:pt x="556" y="1275"/>
                </a:lnTo>
                <a:lnTo>
                  <a:pt x="533" y="1271"/>
                </a:lnTo>
                <a:lnTo>
                  <a:pt x="513" y="1267"/>
                </a:lnTo>
                <a:lnTo>
                  <a:pt x="498" y="1256"/>
                </a:lnTo>
                <a:lnTo>
                  <a:pt x="486" y="1240"/>
                </a:lnTo>
                <a:lnTo>
                  <a:pt x="474" y="1221"/>
                </a:lnTo>
                <a:lnTo>
                  <a:pt x="467" y="1194"/>
                </a:lnTo>
                <a:lnTo>
                  <a:pt x="447" y="1120"/>
                </a:lnTo>
                <a:lnTo>
                  <a:pt x="447" y="1120"/>
                </a:lnTo>
                <a:lnTo>
                  <a:pt x="435" y="1081"/>
                </a:lnTo>
                <a:lnTo>
                  <a:pt x="424" y="1046"/>
                </a:lnTo>
                <a:lnTo>
                  <a:pt x="404" y="1007"/>
                </a:lnTo>
                <a:lnTo>
                  <a:pt x="385" y="976"/>
                </a:lnTo>
                <a:lnTo>
                  <a:pt x="385" y="976"/>
                </a:lnTo>
                <a:lnTo>
                  <a:pt x="377" y="1019"/>
                </a:lnTo>
                <a:lnTo>
                  <a:pt x="365" y="1069"/>
                </a:lnTo>
                <a:lnTo>
                  <a:pt x="365" y="1069"/>
                </a:lnTo>
                <a:lnTo>
                  <a:pt x="338" y="1131"/>
                </a:lnTo>
                <a:lnTo>
                  <a:pt x="303" y="1190"/>
                </a:lnTo>
                <a:lnTo>
                  <a:pt x="268" y="1248"/>
                </a:lnTo>
                <a:lnTo>
                  <a:pt x="225" y="1302"/>
                </a:lnTo>
                <a:lnTo>
                  <a:pt x="179" y="1353"/>
                </a:lnTo>
                <a:lnTo>
                  <a:pt x="124" y="1400"/>
                </a:lnTo>
                <a:lnTo>
                  <a:pt x="70" y="1446"/>
                </a:lnTo>
                <a:lnTo>
                  <a:pt x="16" y="1489"/>
                </a:lnTo>
                <a:lnTo>
                  <a:pt x="4" y="1477"/>
                </a:lnTo>
                <a:lnTo>
                  <a:pt x="4" y="1477"/>
                </a:lnTo>
                <a:lnTo>
                  <a:pt x="39" y="1439"/>
                </a:lnTo>
                <a:lnTo>
                  <a:pt x="74" y="1400"/>
                </a:lnTo>
                <a:lnTo>
                  <a:pt x="101" y="1357"/>
                </a:lnTo>
                <a:lnTo>
                  <a:pt x="128" y="1310"/>
                </a:lnTo>
                <a:lnTo>
                  <a:pt x="152" y="1260"/>
                </a:lnTo>
                <a:lnTo>
                  <a:pt x="171" y="1209"/>
                </a:lnTo>
                <a:lnTo>
                  <a:pt x="190" y="1155"/>
                </a:lnTo>
                <a:lnTo>
                  <a:pt x="206" y="1092"/>
                </a:lnTo>
                <a:lnTo>
                  <a:pt x="222" y="1030"/>
                </a:lnTo>
                <a:lnTo>
                  <a:pt x="233" y="964"/>
                </a:lnTo>
                <a:lnTo>
                  <a:pt x="241" y="894"/>
                </a:lnTo>
                <a:lnTo>
                  <a:pt x="249" y="816"/>
                </a:lnTo>
                <a:lnTo>
                  <a:pt x="260" y="653"/>
                </a:lnTo>
                <a:lnTo>
                  <a:pt x="260" y="470"/>
                </a:lnTo>
                <a:lnTo>
                  <a:pt x="260" y="470"/>
                </a:lnTo>
                <a:lnTo>
                  <a:pt x="260" y="354"/>
                </a:lnTo>
                <a:lnTo>
                  <a:pt x="257" y="233"/>
                </a:lnTo>
                <a:lnTo>
                  <a:pt x="245" y="113"/>
                </a:lnTo>
                <a:lnTo>
                  <a:pt x="237" y="54"/>
                </a:lnTo>
                <a:lnTo>
                  <a:pt x="225" y="0"/>
                </a:lnTo>
                <a:lnTo>
                  <a:pt x="459" y="47"/>
                </a:lnTo>
                <a:lnTo>
                  <a:pt x="459" y="47"/>
                </a:lnTo>
                <a:lnTo>
                  <a:pt x="470" y="50"/>
                </a:lnTo>
                <a:lnTo>
                  <a:pt x="482" y="58"/>
                </a:lnTo>
                <a:lnTo>
                  <a:pt x="494" y="66"/>
                </a:lnTo>
                <a:lnTo>
                  <a:pt x="498" y="78"/>
                </a:lnTo>
                <a:lnTo>
                  <a:pt x="498" y="78"/>
                </a:lnTo>
                <a:lnTo>
                  <a:pt x="494" y="85"/>
                </a:lnTo>
                <a:lnTo>
                  <a:pt x="490" y="89"/>
                </a:lnTo>
                <a:lnTo>
                  <a:pt x="478" y="105"/>
                </a:lnTo>
                <a:lnTo>
                  <a:pt x="455" y="117"/>
                </a:lnTo>
                <a:lnTo>
                  <a:pt x="432" y="128"/>
                </a:lnTo>
                <a:lnTo>
                  <a:pt x="432" y="128"/>
                </a:lnTo>
                <a:lnTo>
                  <a:pt x="432" y="237"/>
                </a:lnTo>
                <a:lnTo>
                  <a:pt x="432" y="346"/>
                </a:lnTo>
                <a:lnTo>
                  <a:pt x="424" y="544"/>
                </a:lnTo>
                <a:lnTo>
                  <a:pt x="424" y="544"/>
                </a:lnTo>
                <a:lnTo>
                  <a:pt x="459" y="478"/>
                </a:lnTo>
                <a:lnTo>
                  <a:pt x="482" y="424"/>
                </a:lnTo>
                <a:lnTo>
                  <a:pt x="498" y="369"/>
                </a:lnTo>
                <a:lnTo>
                  <a:pt x="513" y="307"/>
                </a:lnTo>
                <a:lnTo>
                  <a:pt x="622" y="420"/>
                </a:lnTo>
                <a:lnTo>
                  <a:pt x="622" y="420"/>
                </a:lnTo>
                <a:lnTo>
                  <a:pt x="618" y="373"/>
                </a:lnTo>
                <a:lnTo>
                  <a:pt x="614" y="319"/>
                </a:lnTo>
                <a:lnTo>
                  <a:pt x="785" y="377"/>
                </a:lnTo>
                <a:lnTo>
                  <a:pt x="871" y="377"/>
                </a:lnTo>
                <a:close/>
                <a:moveTo>
                  <a:pt x="782" y="820"/>
                </a:moveTo>
                <a:lnTo>
                  <a:pt x="782" y="820"/>
                </a:lnTo>
                <a:lnTo>
                  <a:pt x="782" y="851"/>
                </a:lnTo>
                <a:lnTo>
                  <a:pt x="782" y="871"/>
                </a:lnTo>
                <a:lnTo>
                  <a:pt x="774" y="886"/>
                </a:lnTo>
                <a:lnTo>
                  <a:pt x="762" y="902"/>
                </a:lnTo>
                <a:lnTo>
                  <a:pt x="743" y="914"/>
                </a:lnTo>
                <a:lnTo>
                  <a:pt x="712" y="921"/>
                </a:lnTo>
                <a:lnTo>
                  <a:pt x="677" y="925"/>
                </a:lnTo>
                <a:lnTo>
                  <a:pt x="677" y="925"/>
                </a:lnTo>
                <a:lnTo>
                  <a:pt x="657" y="921"/>
                </a:lnTo>
                <a:lnTo>
                  <a:pt x="642" y="918"/>
                </a:lnTo>
                <a:lnTo>
                  <a:pt x="630" y="914"/>
                </a:lnTo>
                <a:lnTo>
                  <a:pt x="622" y="906"/>
                </a:lnTo>
                <a:lnTo>
                  <a:pt x="618" y="898"/>
                </a:lnTo>
                <a:lnTo>
                  <a:pt x="614" y="886"/>
                </a:lnTo>
                <a:lnTo>
                  <a:pt x="614" y="867"/>
                </a:lnTo>
                <a:lnTo>
                  <a:pt x="614" y="867"/>
                </a:lnTo>
                <a:lnTo>
                  <a:pt x="618" y="750"/>
                </a:lnTo>
                <a:lnTo>
                  <a:pt x="622" y="630"/>
                </a:lnTo>
                <a:lnTo>
                  <a:pt x="622" y="630"/>
                </a:lnTo>
                <a:lnTo>
                  <a:pt x="622" y="490"/>
                </a:lnTo>
                <a:lnTo>
                  <a:pt x="610" y="486"/>
                </a:lnTo>
                <a:lnTo>
                  <a:pt x="610" y="486"/>
                </a:lnTo>
                <a:lnTo>
                  <a:pt x="521" y="540"/>
                </a:lnTo>
                <a:lnTo>
                  <a:pt x="420" y="599"/>
                </a:lnTo>
                <a:lnTo>
                  <a:pt x="420" y="599"/>
                </a:lnTo>
                <a:lnTo>
                  <a:pt x="412" y="727"/>
                </a:lnTo>
                <a:lnTo>
                  <a:pt x="404" y="820"/>
                </a:lnTo>
                <a:lnTo>
                  <a:pt x="393" y="937"/>
                </a:lnTo>
                <a:lnTo>
                  <a:pt x="393" y="937"/>
                </a:lnTo>
                <a:lnTo>
                  <a:pt x="459" y="968"/>
                </a:lnTo>
                <a:lnTo>
                  <a:pt x="513" y="999"/>
                </a:lnTo>
                <a:lnTo>
                  <a:pt x="564" y="1038"/>
                </a:lnTo>
                <a:lnTo>
                  <a:pt x="603" y="1077"/>
                </a:lnTo>
                <a:lnTo>
                  <a:pt x="603" y="1077"/>
                </a:lnTo>
                <a:lnTo>
                  <a:pt x="700" y="1081"/>
                </a:lnTo>
                <a:lnTo>
                  <a:pt x="859" y="1085"/>
                </a:lnTo>
                <a:lnTo>
                  <a:pt x="972" y="1085"/>
                </a:lnTo>
                <a:lnTo>
                  <a:pt x="972" y="1085"/>
                </a:lnTo>
                <a:lnTo>
                  <a:pt x="968" y="910"/>
                </a:lnTo>
                <a:lnTo>
                  <a:pt x="964" y="863"/>
                </a:lnTo>
                <a:lnTo>
                  <a:pt x="960" y="820"/>
                </a:lnTo>
                <a:lnTo>
                  <a:pt x="782" y="820"/>
                </a:lnTo>
                <a:close/>
                <a:moveTo>
                  <a:pt x="782" y="416"/>
                </a:moveTo>
                <a:lnTo>
                  <a:pt x="782" y="781"/>
                </a:lnTo>
                <a:lnTo>
                  <a:pt x="871" y="781"/>
                </a:lnTo>
                <a:lnTo>
                  <a:pt x="871" y="416"/>
                </a:lnTo>
                <a:lnTo>
                  <a:pt x="782" y="416"/>
                </a:lnTo>
                <a:close/>
                <a:moveTo>
                  <a:pt x="1120" y="377"/>
                </a:moveTo>
                <a:lnTo>
                  <a:pt x="1120" y="167"/>
                </a:lnTo>
                <a:lnTo>
                  <a:pt x="1023" y="167"/>
                </a:lnTo>
                <a:lnTo>
                  <a:pt x="1023" y="377"/>
                </a:lnTo>
                <a:lnTo>
                  <a:pt x="1120" y="377"/>
                </a:lnTo>
                <a:close/>
                <a:moveTo>
                  <a:pt x="1023" y="416"/>
                </a:moveTo>
                <a:lnTo>
                  <a:pt x="1023" y="781"/>
                </a:lnTo>
                <a:lnTo>
                  <a:pt x="1120" y="781"/>
                </a:lnTo>
                <a:lnTo>
                  <a:pt x="1120" y="416"/>
                </a:lnTo>
                <a:lnTo>
                  <a:pt x="1023" y="416"/>
                </a:lnTo>
                <a:close/>
                <a:moveTo>
                  <a:pt x="1365" y="781"/>
                </a:moveTo>
                <a:lnTo>
                  <a:pt x="1365" y="416"/>
                </a:lnTo>
                <a:lnTo>
                  <a:pt x="1271" y="416"/>
                </a:lnTo>
                <a:lnTo>
                  <a:pt x="1271" y="781"/>
                </a:lnTo>
                <a:lnTo>
                  <a:pt x="1365" y="7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3640" y="8658360"/>
            <a:ext cx="2671920" cy="2401920"/>
          </a:xfrm>
          <a:custGeom>
            <a:avLst/>
            <a:gdLst/>
            <a:ahLst/>
            <a:rect l="l" t="t" r="r" b="b"/>
            <a:pathLst>
              <a:path w="1683" h="1513">
                <a:moveTo>
                  <a:pt x="556" y="443"/>
                </a:moveTo>
                <a:lnTo>
                  <a:pt x="606" y="377"/>
                </a:lnTo>
                <a:lnTo>
                  <a:pt x="606" y="377"/>
                </a:lnTo>
                <a:lnTo>
                  <a:pt x="622" y="362"/>
                </a:lnTo>
                <a:lnTo>
                  <a:pt x="629" y="358"/>
                </a:lnTo>
                <a:lnTo>
                  <a:pt x="637" y="358"/>
                </a:lnTo>
                <a:lnTo>
                  <a:pt x="637" y="358"/>
                </a:lnTo>
                <a:lnTo>
                  <a:pt x="657" y="362"/>
                </a:lnTo>
                <a:lnTo>
                  <a:pt x="676" y="370"/>
                </a:lnTo>
                <a:lnTo>
                  <a:pt x="777" y="447"/>
                </a:lnTo>
                <a:lnTo>
                  <a:pt x="777" y="447"/>
                </a:lnTo>
                <a:lnTo>
                  <a:pt x="793" y="459"/>
                </a:lnTo>
                <a:lnTo>
                  <a:pt x="797" y="467"/>
                </a:lnTo>
                <a:lnTo>
                  <a:pt x="797" y="475"/>
                </a:lnTo>
                <a:lnTo>
                  <a:pt x="797" y="475"/>
                </a:lnTo>
                <a:lnTo>
                  <a:pt x="797" y="482"/>
                </a:lnTo>
                <a:lnTo>
                  <a:pt x="793" y="490"/>
                </a:lnTo>
                <a:lnTo>
                  <a:pt x="781" y="502"/>
                </a:lnTo>
                <a:lnTo>
                  <a:pt x="742" y="529"/>
                </a:lnTo>
                <a:lnTo>
                  <a:pt x="742" y="529"/>
                </a:lnTo>
                <a:lnTo>
                  <a:pt x="742" y="731"/>
                </a:lnTo>
                <a:lnTo>
                  <a:pt x="746" y="887"/>
                </a:lnTo>
                <a:lnTo>
                  <a:pt x="746" y="887"/>
                </a:lnTo>
                <a:lnTo>
                  <a:pt x="742" y="902"/>
                </a:lnTo>
                <a:lnTo>
                  <a:pt x="738" y="918"/>
                </a:lnTo>
                <a:lnTo>
                  <a:pt x="727" y="933"/>
                </a:lnTo>
                <a:lnTo>
                  <a:pt x="711" y="945"/>
                </a:lnTo>
                <a:lnTo>
                  <a:pt x="696" y="953"/>
                </a:lnTo>
                <a:lnTo>
                  <a:pt x="676" y="961"/>
                </a:lnTo>
                <a:lnTo>
                  <a:pt x="653" y="965"/>
                </a:lnTo>
                <a:lnTo>
                  <a:pt x="629" y="965"/>
                </a:lnTo>
                <a:lnTo>
                  <a:pt x="629" y="965"/>
                </a:lnTo>
                <a:lnTo>
                  <a:pt x="610" y="965"/>
                </a:lnTo>
                <a:lnTo>
                  <a:pt x="594" y="961"/>
                </a:lnTo>
                <a:lnTo>
                  <a:pt x="583" y="953"/>
                </a:lnTo>
                <a:lnTo>
                  <a:pt x="575" y="941"/>
                </a:lnTo>
                <a:lnTo>
                  <a:pt x="571" y="930"/>
                </a:lnTo>
                <a:lnTo>
                  <a:pt x="567" y="918"/>
                </a:lnTo>
                <a:lnTo>
                  <a:pt x="571" y="891"/>
                </a:lnTo>
                <a:lnTo>
                  <a:pt x="326" y="891"/>
                </a:lnTo>
                <a:lnTo>
                  <a:pt x="326" y="891"/>
                </a:lnTo>
                <a:lnTo>
                  <a:pt x="318" y="972"/>
                </a:lnTo>
                <a:lnTo>
                  <a:pt x="299" y="1054"/>
                </a:lnTo>
                <a:lnTo>
                  <a:pt x="272" y="1136"/>
                </a:lnTo>
                <a:lnTo>
                  <a:pt x="237" y="1213"/>
                </a:lnTo>
                <a:lnTo>
                  <a:pt x="194" y="1291"/>
                </a:lnTo>
                <a:lnTo>
                  <a:pt x="171" y="1330"/>
                </a:lnTo>
                <a:lnTo>
                  <a:pt x="143" y="1369"/>
                </a:lnTo>
                <a:lnTo>
                  <a:pt x="112" y="1404"/>
                </a:lnTo>
                <a:lnTo>
                  <a:pt x="81" y="1435"/>
                </a:lnTo>
                <a:lnTo>
                  <a:pt x="46" y="1470"/>
                </a:lnTo>
                <a:lnTo>
                  <a:pt x="11" y="1501"/>
                </a:lnTo>
                <a:lnTo>
                  <a:pt x="0" y="1493"/>
                </a:lnTo>
                <a:lnTo>
                  <a:pt x="0" y="1493"/>
                </a:lnTo>
                <a:lnTo>
                  <a:pt x="19" y="1454"/>
                </a:lnTo>
                <a:lnTo>
                  <a:pt x="38" y="1416"/>
                </a:lnTo>
                <a:lnTo>
                  <a:pt x="73" y="1330"/>
                </a:lnTo>
                <a:lnTo>
                  <a:pt x="101" y="1237"/>
                </a:lnTo>
                <a:lnTo>
                  <a:pt x="124" y="1139"/>
                </a:lnTo>
                <a:lnTo>
                  <a:pt x="140" y="1038"/>
                </a:lnTo>
                <a:lnTo>
                  <a:pt x="151" y="933"/>
                </a:lnTo>
                <a:lnTo>
                  <a:pt x="155" y="825"/>
                </a:lnTo>
                <a:lnTo>
                  <a:pt x="159" y="716"/>
                </a:lnTo>
                <a:lnTo>
                  <a:pt x="159" y="716"/>
                </a:lnTo>
                <a:lnTo>
                  <a:pt x="159" y="661"/>
                </a:lnTo>
                <a:lnTo>
                  <a:pt x="155" y="568"/>
                </a:lnTo>
                <a:lnTo>
                  <a:pt x="147" y="459"/>
                </a:lnTo>
                <a:lnTo>
                  <a:pt x="140" y="401"/>
                </a:lnTo>
                <a:lnTo>
                  <a:pt x="128" y="346"/>
                </a:lnTo>
                <a:lnTo>
                  <a:pt x="353" y="443"/>
                </a:lnTo>
                <a:lnTo>
                  <a:pt x="556" y="443"/>
                </a:lnTo>
                <a:close/>
                <a:moveTo>
                  <a:pt x="548" y="148"/>
                </a:moveTo>
                <a:lnTo>
                  <a:pt x="626" y="55"/>
                </a:lnTo>
                <a:lnTo>
                  <a:pt x="626" y="55"/>
                </a:lnTo>
                <a:lnTo>
                  <a:pt x="637" y="39"/>
                </a:lnTo>
                <a:lnTo>
                  <a:pt x="645" y="35"/>
                </a:lnTo>
                <a:lnTo>
                  <a:pt x="653" y="35"/>
                </a:lnTo>
                <a:lnTo>
                  <a:pt x="653" y="35"/>
                </a:lnTo>
                <a:lnTo>
                  <a:pt x="661" y="35"/>
                </a:lnTo>
                <a:lnTo>
                  <a:pt x="672" y="39"/>
                </a:lnTo>
                <a:lnTo>
                  <a:pt x="688" y="51"/>
                </a:lnTo>
                <a:lnTo>
                  <a:pt x="797" y="148"/>
                </a:lnTo>
                <a:lnTo>
                  <a:pt x="797" y="148"/>
                </a:lnTo>
                <a:lnTo>
                  <a:pt x="812" y="160"/>
                </a:lnTo>
                <a:lnTo>
                  <a:pt x="816" y="164"/>
                </a:lnTo>
                <a:lnTo>
                  <a:pt x="816" y="171"/>
                </a:lnTo>
                <a:lnTo>
                  <a:pt x="816" y="171"/>
                </a:lnTo>
                <a:lnTo>
                  <a:pt x="812" y="179"/>
                </a:lnTo>
                <a:lnTo>
                  <a:pt x="808" y="187"/>
                </a:lnTo>
                <a:lnTo>
                  <a:pt x="797" y="187"/>
                </a:lnTo>
                <a:lnTo>
                  <a:pt x="789" y="191"/>
                </a:lnTo>
                <a:lnTo>
                  <a:pt x="276" y="191"/>
                </a:lnTo>
                <a:lnTo>
                  <a:pt x="276" y="191"/>
                </a:lnTo>
                <a:lnTo>
                  <a:pt x="151" y="191"/>
                </a:lnTo>
                <a:lnTo>
                  <a:pt x="112" y="195"/>
                </a:lnTo>
                <a:lnTo>
                  <a:pt x="77" y="199"/>
                </a:lnTo>
                <a:lnTo>
                  <a:pt x="50" y="140"/>
                </a:lnTo>
                <a:lnTo>
                  <a:pt x="50" y="140"/>
                </a:lnTo>
                <a:lnTo>
                  <a:pt x="136" y="144"/>
                </a:lnTo>
                <a:lnTo>
                  <a:pt x="213" y="148"/>
                </a:lnTo>
                <a:lnTo>
                  <a:pt x="307" y="148"/>
                </a:lnTo>
                <a:lnTo>
                  <a:pt x="548" y="148"/>
                </a:lnTo>
                <a:close/>
                <a:moveTo>
                  <a:pt x="326" y="482"/>
                </a:moveTo>
                <a:lnTo>
                  <a:pt x="326" y="852"/>
                </a:lnTo>
                <a:lnTo>
                  <a:pt x="571" y="852"/>
                </a:lnTo>
                <a:lnTo>
                  <a:pt x="571" y="482"/>
                </a:lnTo>
                <a:lnTo>
                  <a:pt x="326" y="482"/>
                </a:lnTo>
                <a:close/>
                <a:moveTo>
                  <a:pt x="1069" y="580"/>
                </a:moveTo>
                <a:lnTo>
                  <a:pt x="1399" y="580"/>
                </a:lnTo>
                <a:lnTo>
                  <a:pt x="1473" y="471"/>
                </a:lnTo>
                <a:lnTo>
                  <a:pt x="1473" y="471"/>
                </a:lnTo>
                <a:lnTo>
                  <a:pt x="1485" y="459"/>
                </a:lnTo>
                <a:lnTo>
                  <a:pt x="1493" y="455"/>
                </a:lnTo>
                <a:lnTo>
                  <a:pt x="1500" y="451"/>
                </a:lnTo>
                <a:lnTo>
                  <a:pt x="1500" y="451"/>
                </a:lnTo>
                <a:lnTo>
                  <a:pt x="1508" y="455"/>
                </a:lnTo>
                <a:lnTo>
                  <a:pt x="1520" y="459"/>
                </a:lnTo>
                <a:lnTo>
                  <a:pt x="1535" y="467"/>
                </a:lnTo>
                <a:lnTo>
                  <a:pt x="1664" y="580"/>
                </a:lnTo>
                <a:lnTo>
                  <a:pt x="1664" y="580"/>
                </a:lnTo>
                <a:lnTo>
                  <a:pt x="1679" y="587"/>
                </a:lnTo>
                <a:lnTo>
                  <a:pt x="1683" y="595"/>
                </a:lnTo>
                <a:lnTo>
                  <a:pt x="1683" y="603"/>
                </a:lnTo>
                <a:lnTo>
                  <a:pt x="1683" y="603"/>
                </a:lnTo>
                <a:lnTo>
                  <a:pt x="1679" y="611"/>
                </a:lnTo>
                <a:lnTo>
                  <a:pt x="1672" y="618"/>
                </a:lnTo>
                <a:lnTo>
                  <a:pt x="1656" y="618"/>
                </a:lnTo>
                <a:lnTo>
                  <a:pt x="1415" y="618"/>
                </a:lnTo>
                <a:lnTo>
                  <a:pt x="1415" y="618"/>
                </a:lnTo>
                <a:lnTo>
                  <a:pt x="1415" y="918"/>
                </a:lnTo>
                <a:lnTo>
                  <a:pt x="1423" y="1217"/>
                </a:lnTo>
                <a:lnTo>
                  <a:pt x="1423" y="1217"/>
                </a:lnTo>
                <a:lnTo>
                  <a:pt x="1427" y="1427"/>
                </a:lnTo>
                <a:lnTo>
                  <a:pt x="1427" y="1427"/>
                </a:lnTo>
                <a:lnTo>
                  <a:pt x="1423" y="1451"/>
                </a:lnTo>
                <a:lnTo>
                  <a:pt x="1415" y="1466"/>
                </a:lnTo>
                <a:lnTo>
                  <a:pt x="1399" y="1482"/>
                </a:lnTo>
                <a:lnTo>
                  <a:pt x="1384" y="1493"/>
                </a:lnTo>
                <a:lnTo>
                  <a:pt x="1360" y="1505"/>
                </a:lnTo>
                <a:lnTo>
                  <a:pt x="1337" y="1509"/>
                </a:lnTo>
                <a:lnTo>
                  <a:pt x="1314" y="1513"/>
                </a:lnTo>
                <a:lnTo>
                  <a:pt x="1291" y="1513"/>
                </a:lnTo>
                <a:lnTo>
                  <a:pt x="1291" y="1513"/>
                </a:lnTo>
                <a:lnTo>
                  <a:pt x="1271" y="1513"/>
                </a:lnTo>
                <a:lnTo>
                  <a:pt x="1252" y="1509"/>
                </a:lnTo>
                <a:lnTo>
                  <a:pt x="1240" y="1501"/>
                </a:lnTo>
                <a:lnTo>
                  <a:pt x="1232" y="1489"/>
                </a:lnTo>
                <a:lnTo>
                  <a:pt x="1228" y="1482"/>
                </a:lnTo>
                <a:lnTo>
                  <a:pt x="1228" y="1470"/>
                </a:lnTo>
                <a:lnTo>
                  <a:pt x="1224" y="1451"/>
                </a:lnTo>
                <a:lnTo>
                  <a:pt x="1224" y="1451"/>
                </a:lnTo>
                <a:lnTo>
                  <a:pt x="1232" y="1307"/>
                </a:lnTo>
                <a:lnTo>
                  <a:pt x="1232" y="1307"/>
                </a:lnTo>
                <a:lnTo>
                  <a:pt x="1240" y="965"/>
                </a:lnTo>
                <a:lnTo>
                  <a:pt x="1240" y="782"/>
                </a:lnTo>
                <a:lnTo>
                  <a:pt x="1240" y="618"/>
                </a:lnTo>
                <a:lnTo>
                  <a:pt x="1069" y="618"/>
                </a:lnTo>
                <a:lnTo>
                  <a:pt x="1069" y="618"/>
                </a:lnTo>
                <a:lnTo>
                  <a:pt x="1065" y="712"/>
                </a:lnTo>
                <a:lnTo>
                  <a:pt x="1053" y="797"/>
                </a:lnTo>
                <a:lnTo>
                  <a:pt x="1038" y="879"/>
                </a:lnTo>
                <a:lnTo>
                  <a:pt x="1014" y="957"/>
                </a:lnTo>
                <a:lnTo>
                  <a:pt x="983" y="1034"/>
                </a:lnTo>
                <a:lnTo>
                  <a:pt x="968" y="1073"/>
                </a:lnTo>
                <a:lnTo>
                  <a:pt x="944" y="1108"/>
                </a:lnTo>
                <a:lnTo>
                  <a:pt x="921" y="1143"/>
                </a:lnTo>
                <a:lnTo>
                  <a:pt x="894" y="1178"/>
                </a:lnTo>
                <a:lnTo>
                  <a:pt x="867" y="1217"/>
                </a:lnTo>
                <a:lnTo>
                  <a:pt x="836" y="1252"/>
                </a:lnTo>
                <a:lnTo>
                  <a:pt x="836" y="1252"/>
                </a:lnTo>
                <a:lnTo>
                  <a:pt x="777" y="1307"/>
                </a:lnTo>
                <a:lnTo>
                  <a:pt x="723" y="1349"/>
                </a:lnTo>
                <a:lnTo>
                  <a:pt x="672" y="1384"/>
                </a:lnTo>
                <a:lnTo>
                  <a:pt x="622" y="1416"/>
                </a:lnTo>
                <a:lnTo>
                  <a:pt x="579" y="1439"/>
                </a:lnTo>
                <a:lnTo>
                  <a:pt x="536" y="1454"/>
                </a:lnTo>
                <a:lnTo>
                  <a:pt x="478" y="1474"/>
                </a:lnTo>
                <a:lnTo>
                  <a:pt x="474" y="1466"/>
                </a:lnTo>
                <a:lnTo>
                  <a:pt x="474" y="1466"/>
                </a:lnTo>
                <a:lnTo>
                  <a:pt x="521" y="1431"/>
                </a:lnTo>
                <a:lnTo>
                  <a:pt x="583" y="1381"/>
                </a:lnTo>
                <a:lnTo>
                  <a:pt x="618" y="1346"/>
                </a:lnTo>
                <a:lnTo>
                  <a:pt x="657" y="1307"/>
                </a:lnTo>
                <a:lnTo>
                  <a:pt x="692" y="1260"/>
                </a:lnTo>
                <a:lnTo>
                  <a:pt x="731" y="1206"/>
                </a:lnTo>
                <a:lnTo>
                  <a:pt x="731" y="1206"/>
                </a:lnTo>
                <a:lnTo>
                  <a:pt x="769" y="1139"/>
                </a:lnTo>
                <a:lnTo>
                  <a:pt x="804" y="1073"/>
                </a:lnTo>
                <a:lnTo>
                  <a:pt x="832" y="1003"/>
                </a:lnTo>
                <a:lnTo>
                  <a:pt x="855" y="930"/>
                </a:lnTo>
                <a:lnTo>
                  <a:pt x="871" y="844"/>
                </a:lnTo>
                <a:lnTo>
                  <a:pt x="882" y="747"/>
                </a:lnTo>
                <a:lnTo>
                  <a:pt x="886" y="634"/>
                </a:lnTo>
                <a:lnTo>
                  <a:pt x="890" y="502"/>
                </a:lnTo>
                <a:lnTo>
                  <a:pt x="890" y="502"/>
                </a:lnTo>
                <a:lnTo>
                  <a:pt x="886" y="374"/>
                </a:lnTo>
                <a:lnTo>
                  <a:pt x="882" y="272"/>
                </a:lnTo>
                <a:lnTo>
                  <a:pt x="871" y="191"/>
                </a:lnTo>
                <a:lnTo>
                  <a:pt x="859" y="129"/>
                </a:lnTo>
                <a:lnTo>
                  <a:pt x="1061" y="210"/>
                </a:lnTo>
                <a:lnTo>
                  <a:pt x="1061" y="210"/>
                </a:lnTo>
                <a:lnTo>
                  <a:pt x="1158" y="171"/>
                </a:lnTo>
                <a:lnTo>
                  <a:pt x="1209" y="144"/>
                </a:lnTo>
                <a:lnTo>
                  <a:pt x="1256" y="121"/>
                </a:lnTo>
                <a:lnTo>
                  <a:pt x="1298" y="94"/>
                </a:lnTo>
                <a:lnTo>
                  <a:pt x="1341" y="66"/>
                </a:lnTo>
                <a:lnTo>
                  <a:pt x="1376" y="35"/>
                </a:lnTo>
                <a:lnTo>
                  <a:pt x="1411" y="0"/>
                </a:lnTo>
                <a:lnTo>
                  <a:pt x="1582" y="132"/>
                </a:lnTo>
                <a:lnTo>
                  <a:pt x="1582" y="132"/>
                </a:lnTo>
                <a:lnTo>
                  <a:pt x="1594" y="140"/>
                </a:lnTo>
                <a:lnTo>
                  <a:pt x="1598" y="148"/>
                </a:lnTo>
                <a:lnTo>
                  <a:pt x="1602" y="160"/>
                </a:lnTo>
                <a:lnTo>
                  <a:pt x="1602" y="160"/>
                </a:lnTo>
                <a:lnTo>
                  <a:pt x="1598" y="164"/>
                </a:lnTo>
                <a:lnTo>
                  <a:pt x="1594" y="171"/>
                </a:lnTo>
                <a:lnTo>
                  <a:pt x="1586" y="179"/>
                </a:lnTo>
                <a:lnTo>
                  <a:pt x="1570" y="183"/>
                </a:lnTo>
                <a:lnTo>
                  <a:pt x="1570" y="183"/>
                </a:lnTo>
                <a:lnTo>
                  <a:pt x="1543" y="179"/>
                </a:lnTo>
                <a:lnTo>
                  <a:pt x="1512" y="175"/>
                </a:lnTo>
                <a:lnTo>
                  <a:pt x="1512" y="175"/>
                </a:lnTo>
                <a:lnTo>
                  <a:pt x="1407" y="199"/>
                </a:lnTo>
                <a:lnTo>
                  <a:pt x="1294" y="222"/>
                </a:lnTo>
                <a:lnTo>
                  <a:pt x="1178" y="241"/>
                </a:lnTo>
                <a:lnTo>
                  <a:pt x="1069" y="253"/>
                </a:lnTo>
                <a:lnTo>
                  <a:pt x="1069" y="5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52440"/>
            <a:ext cx="7850160" cy="78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12:11Z</dcterms:created>
  <dc:creator>NEC-PCuser</dc:creator>
  <dc:description/>
  <dc:language>en-US</dc:language>
  <cp:lastModifiedBy>NEC-PCuser</cp:lastModifiedBy>
  <dcterms:modified xsi:type="dcterms:W3CDTF">2009-05-14T10:13:33Z</dcterms:modified>
  <cp:revision>1</cp:revision>
  <dc:subject/>
  <dc:title>スライド 1</dc:title>
</cp:coreProperties>
</file>