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43206988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-3497400" y="685440"/>
            <a:ext cx="13852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222A-0073-4B59-B813-42E138FE9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974B-09BD-475C-96A6-0FEEBD6A9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-3497400" y="685800"/>
            <a:ext cx="138528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FAD6-3FB2-4846-80E3-D99C35021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289080"/>
            <a:ext cx="388839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D04D-AEE6-4841-B481-C9BF7FA7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289080"/>
            <a:ext cx="388839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B0A0-7811-4398-BE76-420D406B1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289080"/>
            <a:ext cx="388839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2BB1-6BA6-461B-BD09-1585EFE7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289080"/>
            <a:ext cx="388839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49"/>
              </a:spcBef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B85D-21F2-4373-948D-76BE94C2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289080"/>
            <a:ext cx="388839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60EB-0ED1-4AF9-9868-7FC35AF4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289080"/>
            <a:ext cx="388839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43B1-DB1D-4EE7-8354-F8F9EE51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289080"/>
            <a:ext cx="388839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6EB7-2483-4DC5-84D7-6BC72168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49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D65B-E6C2-4912-AEDE-75FA695B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289080"/>
            <a:ext cx="388839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126C-D2F2-481C-A7C3-1800F2FB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289080"/>
            <a:ext cx="388839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2572-6E1F-408D-A1CC-0A7670AF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289080"/>
            <a:ext cx="388839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1F4C-D23D-4949-A94D-B933B5E0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62000"/>
          </a:bodyPr>
          <a:p>
            <a:pPr marL="572400" indent="-57240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1" marL="1239840" indent="-47628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2" marL="1908360" indent="-38160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3" marL="2671920" indent="-38160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4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5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6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737640"/>
            <a:ext cx="10080360" cy="7430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737640"/>
            <a:ext cx="13681080" cy="7430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737640"/>
            <a:ext cx="10080360" cy="7430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E72D-4CD5-4B64-BFE0-86B7746F6D3C}" type="slidenum">
              <a:rPr b="0" lang="en-US" sz="3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5"/>
          <p:cNvSpPr/>
          <p:nvPr/>
        </p:nvSpPr>
        <p:spPr>
          <a:xfrm>
            <a:off x="0" y="-42840"/>
            <a:ext cx="43173720" cy="108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19080" y="-34920"/>
            <a:ext cx="43135560" cy="10858320"/>
          </a:xfrm>
          <a:prstGeom prst="rect">
            <a:avLst/>
          </a:prstGeom>
          <a:ln w="0">
            <a:noFill/>
          </a:ln>
        </p:spPr>
      </p:pic>
      <p:sp>
        <p:nvSpPr>
          <p:cNvPr id="50" name="Freeform 8"/>
          <p:cNvSpPr/>
          <p:nvPr/>
        </p:nvSpPr>
        <p:spPr>
          <a:xfrm>
            <a:off x="38160" y="-4680"/>
            <a:ext cx="43097400" cy="10807560"/>
          </a:xfrm>
          <a:custGeom>
            <a:avLst/>
            <a:gdLst>
              <a:gd name="textAreaLeft" fmla="*/ 0 w 43097400"/>
              <a:gd name="textAreaRight" fmla="*/ 43097760 w 43097400"/>
              <a:gd name="textAreaTop" fmla="*/ 0 h 10807560"/>
              <a:gd name="textAreaBottom" fmla="*/ 10807920 h 10807560"/>
            </a:gdLst>
            <a:ahLst/>
            <a:rect l="textAreaLeft" t="textAreaTop" r="textAreaRight" b="textAreaBottom"/>
            <a:pathLst>
              <a:path w="20376" h="5045">
                <a:moveTo>
                  <a:pt x="20376" y="4789"/>
                </a:moveTo>
                <a:lnTo>
                  <a:pt x="20376" y="4789"/>
                </a:lnTo>
                <a:lnTo>
                  <a:pt x="20372" y="4838"/>
                </a:lnTo>
                <a:lnTo>
                  <a:pt x="20358" y="4888"/>
                </a:lnTo>
                <a:lnTo>
                  <a:pt x="20336" y="4928"/>
                </a:lnTo>
                <a:lnTo>
                  <a:pt x="20304" y="4969"/>
                </a:lnTo>
                <a:lnTo>
                  <a:pt x="20264" y="5000"/>
                </a:lnTo>
                <a:lnTo>
                  <a:pt x="20223" y="5023"/>
                </a:lnTo>
                <a:lnTo>
                  <a:pt x="20174" y="5036"/>
                </a:lnTo>
                <a:lnTo>
                  <a:pt x="20124" y="5045"/>
                </a:lnTo>
                <a:lnTo>
                  <a:pt x="256" y="5045"/>
                </a:lnTo>
                <a:lnTo>
                  <a:pt x="202" y="5036"/>
                </a:lnTo>
                <a:lnTo>
                  <a:pt x="157" y="5023"/>
                </a:lnTo>
                <a:lnTo>
                  <a:pt x="112" y="5000"/>
                </a:lnTo>
                <a:lnTo>
                  <a:pt x="72" y="4969"/>
                </a:lnTo>
                <a:lnTo>
                  <a:pt x="45" y="4928"/>
                </a:lnTo>
                <a:lnTo>
                  <a:pt x="18" y="4888"/>
                </a:lnTo>
                <a:lnTo>
                  <a:pt x="4" y="4838"/>
                </a:lnTo>
                <a:lnTo>
                  <a:pt x="0" y="4789"/>
                </a:lnTo>
                <a:lnTo>
                  <a:pt x="0" y="256"/>
                </a:lnTo>
                <a:lnTo>
                  <a:pt x="4" y="202"/>
                </a:lnTo>
                <a:lnTo>
                  <a:pt x="18" y="157"/>
                </a:lnTo>
                <a:lnTo>
                  <a:pt x="45" y="112"/>
                </a:lnTo>
                <a:lnTo>
                  <a:pt x="72" y="76"/>
                </a:lnTo>
                <a:lnTo>
                  <a:pt x="112" y="45"/>
                </a:lnTo>
                <a:lnTo>
                  <a:pt x="157" y="18"/>
                </a:lnTo>
                <a:lnTo>
                  <a:pt x="202" y="4"/>
                </a:lnTo>
                <a:lnTo>
                  <a:pt x="256" y="0"/>
                </a:lnTo>
                <a:lnTo>
                  <a:pt x="20124" y="0"/>
                </a:lnTo>
                <a:lnTo>
                  <a:pt x="20174" y="4"/>
                </a:lnTo>
                <a:lnTo>
                  <a:pt x="20223" y="18"/>
                </a:lnTo>
                <a:lnTo>
                  <a:pt x="20264" y="45"/>
                </a:lnTo>
                <a:lnTo>
                  <a:pt x="20304" y="76"/>
                </a:lnTo>
                <a:lnTo>
                  <a:pt x="20336" y="112"/>
                </a:lnTo>
                <a:lnTo>
                  <a:pt x="20358" y="157"/>
                </a:lnTo>
                <a:lnTo>
                  <a:pt x="20372" y="202"/>
                </a:lnTo>
                <a:lnTo>
                  <a:pt x="20376" y="256"/>
                </a:lnTo>
                <a:lnTo>
                  <a:pt x="20376" y="4789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9"/>
          <p:cNvSpPr/>
          <p:nvPr/>
        </p:nvSpPr>
        <p:spPr>
          <a:xfrm>
            <a:off x="236520" y="196920"/>
            <a:ext cx="42700680" cy="10395000"/>
          </a:xfrm>
          <a:custGeom>
            <a:avLst/>
            <a:gdLst>
              <a:gd name="textAreaLeft" fmla="*/ 0 w 42700680"/>
              <a:gd name="textAreaRight" fmla="*/ 42701040 w 42700680"/>
              <a:gd name="textAreaTop" fmla="*/ 0 h 10395000"/>
              <a:gd name="textAreaBottom" fmla="*/ 10395360 h 10395000"/>
            </a:gdLst>
            <a:ahLst/>
            <a:rect l="textAreaLeft" t="textAreaTop" r="textAreaRight" b="textAreaBottom"/>
            <a:pathLst>
              <a:path w="20188" h="4852">
                <a:moveTo>
                  <a:pt x="20188" y="4601"/>
                </a:moveTo>
                <a:lnTo>
                  <a:pt x="20188" y="4601"/>
                </a:lnTo>
                <a:lnTo>
                  <a:pt x="20183" y="4650"/>
                </a:lnTo>
                <a:lnTo>
                  <a:pt x="20170" y="4699"/>
                </a:lnTo>
                <a:lnTo>
                  <a:pt x="20143" y="4740"/>
                </a:lnTo>
                <a:lnTo>
                  <a:pt x="20111" y="4780"/>
                </a:lnTo>
                <a:lnTo>
                  <a:pt x="20075" y="4812"/>
                </a:lnTo>
                <a:lnTo>
                  <a:pt x="20030" y="4834"/>
                </a:lnTo>
                <a:lnTo>
                  <a:pt x="19985" y="4848"/>
                </a:lnTo>
                <a:lnTo>
                  <a:pt x="19932" y="4852"/>
                </a:lnTo>
                <a:lnTo>
                  <a:pt x="256" y="4852"/>
                </a:lnTo>
                <a:lnTo>
                  <a:pt x="203" y="4848"/>
                </a:lnTo>
                <a:lnTo>
                  <a:pt x="158" y="4834"/>
                </a:lnTo>
                <a:lnTo>
                  <a:pt x="113" y="4812"/>
                </a:lnTo>
                <a:lnTo>
                  <a:pt x="77" y="4780"/>
                </a:lnTo>
                <a:lnTo>
                  <a:pt x="45" y="4740"/>
                </a:lnTo>
                <a:lnTo>
                  <a:pt x="23" y="4699"/>
                </a:lnTo>
                <a:lnTo>
                  <a:pt x="5" y="4650"/>
                </a:lnTo>
                <a:lnTo>
                  <a:pt x="0" y="4601"/>
                </a:lnTo>
                <a:lnTo>
                  <a:pt x="0" y="256"/>
                </a:lnTo>
                <a:lnTo>
                  <a:pt x="5" y="207"/>
                </a:lnTo>
                <a:lnTo>
                  <a:pt x="23" y="158"/>
                </a:lnTo>
                <a:lnTo>
                  <a:pt x="45" y="113"/>
                </a:lnTo>
                <a:lnTo>
                  <a:pt x="77" y="77"/>
                </a:lnTo>
                <a:lnTo>
                  <a:pt x="113" y="45"/>
                </a:lnTo>
                <a:lnTo>
                  <a:pt x="158" y="23"/>
                </a:lnTo>
                <a:lnTo>
                  <a:pt x="203" y="5"/>
                </a:lnTo>
                <a:lnTo>
                  <a:pt x="256" y="0"/>
                </a:lnTo>
                <a:lnTo>
                  <a:pt x="19932" y="0"/>
                </a:lnTo>
                <a:lnTo>
                  <a:pt x="19985" y="5"/>
                </a:lnTo>
                <a:lnTo>
                  <a:pt x="20030" y="23"/>
                </a:lnTo>
                <a:lnTo>
                  <a:pt x="20075" y="45"/>
                </a:lnTo>
                <a:lnTo>
                  <a:pt x="20111" y="77"/>
                </a:lnTo>
                <a:lnTo>
                  <a:pt x="20143" y="113"/>
                </a:lnTo>
                <a:lnTo>
                  <a:pt x="20170" y="158"/>
                </a:lnTo>
                <a:lnTo>
                  <a:pt x="20183" y="207"/>
                </a:lnTo>
                <a:lnTo>
                  <a:pt x="20188" y="256"/>
                </a:lnTo>
                <a:lnTo>
                  <a:pt x="20188" y="460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0"/>
          <p:cNvSpPr/>
          <p:nvPr/>
        </p:nvSpPr>
        <p:spPr>
          <a:xfrm>
            <a:off x="11309400" y="1238400"/>
            <a:ext cx="4922640" cy="5032080"/>
          </a:xfrm>
          <a:custGeom>
            <a:avLst/>
            <a:gdLst>
              <a:gd name="textAreaLeft" fmla="*/ 0 w 4922640"/>
              <a:gd name="textAreaRight" fmla="*/ 4923000 w 4922640"/>
              <a:gd name="textAreaTop" fmla="*/ 0 h 5032080"/>
              <a:gd name="textAreaBottom" fmla="*/ 5032440 h 5032080"/>
            </a:gdLst>
            <a:ahLst/>
            <a:rect l="textAreaLeft" t="textAreaTop" r="textAreaRight" b="textAreaBottom"/>
            <a:pathLst>
              <a:path w="2327" h="2349">
                <a:moveTo>
                  <a:pt x="2201" y="193"/>
                </a:moveTo>
                <a:lnTo>
                  <a:pt x="2201" y="494"/>
                </a:lnTo>
                <a:lnTo>
                  <a:pt x="1348" y="494"/>
                </a:lnTo>
                <a:lnTo>
                  <a:pt x="1348" y="584"/>
                </a:lnTo>
                <a:lnTo>
                  <a:pt x="2049" y="584"/>
                </a:lnTo>
                <a:lnTo>
                  <a:pt x="2049" y="1554"/>
                </a:lnTo>
                <a:lnTo>
                  <a:pt x="1348" y="1554"/>
                </a:lnTo>
                <a:lnTo>
                  <a:pt x="1348" y="1653"/>
                </a:lnTo>
                <a:lnTo>
                  <a:pt x="2327" y="1653"/>
                </a:lnTo>
                <a:lnTo>
                  <a:pt x="2327" y="1967"/>
                </a:lnTo>
                <a:lnTo>
                  <a:pt x="1348" y="1967"/>
                </a:lnTo>
                <a:lnTo>
                  <a:pt x="1348" y="2349"/>
                </a:lnTo>
                <a:lnTo>
                  <a:pt x="966" y="2349"/>
                </a:lnTo>
                <a:lnTo>
                  <a:pt x="966" y="1967"/>
                </a:lnTo>
                <a:lnTo>
                  <a:pt x="0" y="1967"/>
                </a:lnTo>
                <a:lnTo>
                  <a:pt x="0" y="1653"/>
                </a:lnTo>
                <a:lnTo>
                  <a:pt x="966" y="1653"/>
                </a:lnTo>
                <a:lnTo>
                  <a:pt x="966" y="1554"/>
                </a:lnTo>
                <a:lnTo>
                  <a:pt x="265" y="1554"/>
                </a:lnTo>
                <a:lnTo>
                  <a:pt x="265" y="584"/>
                </a:lnTo>
                <a:lnTo>
                  <a:pt x="966" y="584"/>
                </a:lnTo>
                <a:lnTo>
                  <a:pt x="966" y="494"/>
                </a:lnTo>
                <a:lnTo>
                  <a:pt x="99" y="494"/>
                </a:lnTo>
                <a:lnTo>
                  <a:pt x="99" y="193"/>
                </a:lnTo>
                <a:lnTo>
                  <a:pt x="966" y="193"/>
                </a:lnTo>
                <a:lnTo>
                  <a:pt x="966" y="0"/>
                </a:lnTo>
                <a:lnTo>
                  <a:pt x="1352" y="17"/>
                </a:lnTo>
                <a:lnTo>
                  <a:pt x="1370" y="22"/>
                </a:lnTo>
                <a:lnTo>
                  <a:pt x="1388" y="35"/>
                </a:lnTo>
                <a:lnTo>
                  <a:pt x="1397" y="44"/>
                </a:lnTo>
                <a:lnTo>
                  <a:pt x="1402" y="58"/>
                </a:lnTo>
                <a:lnTo>
                  <a:pt x="1397" y="71"/>
                </a:lnTo>
                <a:lnTo>
                  <a:pt x="1393" y="80"/>
                </a:lnTo>
                <a:lnTo>
                  <a:pt x="1348" y="112"/>
                </a:lnTo>
                <a:lnTo>
                  <a:pt x="1348" y="193"/>
                </a:lnTo>
                <a:lnTo>
                  <a:pt x="2201" y="193"/>
                </a:lnTo>
                <a:close/>
                <a:moveTo>
                  <a:pt x="966" y="952"/>
                </a:moveTo>
                <a:lnTo>
                  <a:pt x="966" y="858"/>
                </a:lnTo>
                <a:lnTo>
                  <a:pt x="647" y="858"/>
                </a:lnTo>
                <a:lnTo>
                  <a:pt x="647" y="952"/>
                </a:lnTo>
                <a:lnTo>
                  <a:pt x="966" y="952"/>
                </a:lnTo>
                <a:close/>
                <a:moveTo>
                  <a:pt x="647" y="1177"/>
                </a:moveTo>
                <a:lnTo>
                  <a:pt x="647" y="1266"/>
                </a:lnTo>
                <a:lnTo>
                  <a:pt x="966" y="1266"/>
                </a:lnTo>
                <a:lnTo>
                  <a:pt x="966" y="1177"/>
                </a:lnTo>
                <a:lnTo>
                  <a:pt x="647" y="1177"/>
                </a:lnTo>
                <a:close/>
                <a:moveTo>
                  <a:pt x="1671" y="952"/>
                </a:moveTo>
                <a:lnTo>
                  <a:pt x="1671" y="858"/>
                </a:lnTo>
                <a:lnTo>
                  <a:pt x="1348" y="858"/>
                </a:lnTo>
                <a:lnTo>
                  <a:pt x="1348" y="952"/>
                </a:lnTo>
                <a:lnTo>
                  <a:pt x="1671" y="952"/>
                </a:lnTo>
                <a:close/>
                <a:moveTo>
                  <a:pt x="1348" y="1177"/>
                </a:moveTo>
                <a:lnTo>
                  <a:pt x="1348" y="1266"/>
                </a:lnTo>
                <a:lnTo>
                  <a:pt x="1671" y="1266"/>
                </a:lnTo>
                <a:lnTo>
                  <a:pt x="1671" y="1177"/>
                </a:lnTo>
                <a:lnTo>
                  <a:pt x="1348" y="11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1"/>
          <p:cNvSpPr/>
          <p:nvPr/>
        </p:nvSpPr>
        <p:spPr>
          <a:xfrm>
            <a:off x="16678440" y="1238400"/>
            <a:ext cx="4905360" cy="5062320"/>
          </a:xfrm>
          <a:custGeom>
            <a:avLst/>
            <a:gdLst>
              <a:gd name="textAreaLeft" fmla="*/ 0 w 4905360"/>
              <a:gd name="textAreaRight" fmla="*/ 4905720 w 4905360"/>
              <a:gd name="textAreaTop" fmla="*/ 0 h 5062320"/>
              <a:gd name="textAreaBottom" fmla="*/ 5062680 h 5062320"/>
            </a:gdLst>
            <a:ahLst/>
            <a:rect l="textAreaLeft" t="textAreaTop" r="textAreaRight" b="textAreaBottom"/>
            <a:pathLst>
              <a:path w="2319" h="2363">
                <a:moveTo>
                  <a:pt x="2319" y="152"/>
                </a:moveTo>
                <a:lnTo>
                  <a:pt x="2319" y="440"/>
                </a:lnTo>
                <a:lnTo>
                  <a:pt x="0" y="440"/>
                </a:lnTo>
                <a:lnTo>
                  <a:pt x="0" y="152"/>
                </a:lnTo>
                <a:lnTo>
                  <a:pt x="962" y="152"/>
                </a:lnTo>
                <a:lnTo>
                  <a:pt x="962" y="0"/>
                </a:lnTo>
                <a:lnTo>
                  <a:pt x="1357" y="0"/>
                </a:lnTo>
                <a:lnTo>
                  <a:pt x="1371" y="4"/>
                </a:lnTo>
                <a:lnTo>
                  <a:pt x="1380" y="8"/>
                </a:lnTo>
                <a:lnTo>
                  <a:pt x="1389" y="17"/>
                </a:lnTo>
                <a:lnTo>
                  <a:pt x="1389" y="31"/>
                </a:lnTo>
                <a:lnTo>
                  <a:pt x="1389" y="44"/>
                </a:lnTo>
                <a:lnTo>
                  <a:pt x="1384" y="49"/>
                </a:lnTo>
                <a:lnTo>
                  <a:pt x="1375" y="58"/>
                </a:lnTo>
                <a:lnTo>
                  <a:pt x="1362" y="67"/>
                </a:lnTo>
                <a:lnTo>
                  <a:pt x="1357" y="76"/>
                </a:lnTo>
                <a:lnTo>
                  <a:pt x="1357" y="152"/>
                </a:lnTo>
                <a:lnTo>
                  <a:pt x="2319" y="152"/>
                </a:lnTo>
                <a:close/>
                <a:moveTo>
                  <a:pt x="975" y="2044"/>
                </a:moveTo>
                <a:lnTo>
                  <a:pt x="975" y="2160"/>
                </a:lnTo>
                <a:lnTo>
                  <a:pt x="634" y="2160"/>
                </a:lnTo>
                <a:lnTo>
                  <a:pt x="634" y="1487"/>
                </a:lnTo>
                <a:lnTo>
                  <a:pt x="1703" y="1487"/>
                </a:lnTo>
                <a:lnTo>
                  <a:pt x="1703" y="1999"/>
                </a:lnTo>
                <a:lnTo>
                  <a:pt x="1762" y="2012"/>
                </a:lnTo>
                <a:lnTo>
                  <a:pt x="1807" y="2017"/>
                </a:lnTo>
                <a:lnTo>
                  <a:pt x="1834" y="2012"/>
                </a:lnTo>
                <a:lnTo>
                  <a:pt x="1851" y="1999"/>
                </a:lnTo>
                <a:lnTo>
                  <a:pt x="1865" y="1976"/>
                </a:lnTo>
                <a:lnTo>
                  <a:pt x="1869" y="1945"/>
                </a:lnTo>
                <a:lnTo>
                  <a:pt x="1869" y="1424"/>
                </a:lnTo>
                <a:lnTo>
                  <a:pt x="468" y="1424"/>
                </a:lnTo>
                <a:lnTo>
                  <a:pt x="468" y="2345"/>
                </a:lnTo>
                <a:lnTo>
                  <a:pt x="99" y="2345"/>
                </a:lnTo>
                <a:lnTo>
                  <a:pt x="99" y="1150"/>
                </a:lnTo>
                <a:lnTo>
                  <a:pt x="2224" y="1150"/>
                </a:lnTo>
                <a:lnTo>
                  <a:pt x="2224" y="2053"/>
                </a:lnTo>
                <a:lnTo>
                  <a:pt x="2224" y="2097"/>
                </a:lnTo>
                <a:lnTo>
                  <a:pt x="2220" y="2138"/>
                </a:lnTo>
                <a:lnTo>
                  <a:pt x="2211" y="2174"/>
                </a:lnTo>
                <a:lnTo>
                  <a:pt x="2202" y="2205"/>
                </a:lnTo>
                <a:lnTo>
                  <a:pt x="2184" y="2232"/>
                </a:lnTo>
                <a:lnTo>
                  <a:pt x="2166" y="2259"/>
                </a:lnTo>
                <a:lnTo>
                  <a:pt x="2144" y="2277"/>
                </a:lnTo>
                <a:lnTo>
                  <a:pt x="2117" y="2295"/>
                </a:lnTo>
                <a:lnTo>
                  <a:pt x="2090" y="2313"/>
                </a:lnTo>
                <a:lnTo>
                  <a:pt x="2058" y="2327"/>
                </a:lnTo>
                <a:lnTo>
                  <a:pt x="2022" y="2336"/>
                </a:lnTo>
                <a:lnTo>
                  <a:pt x="1982" y="2345"/>
                </a:lnTo>
                <a:lnTo>
                  <a:pt x="1892" y="2358"/>
                </a:lnTo>
                <a:lnTo>
                  <a:pt x="1789" y="2363"/>
                </a:lnTo>
                <a:lnTo>
                  <a:pt x="1775" y="2304"/>
                </a:lnTo>
                <a:lnTo>
                  <a:pt x="1753" y="2228"/>
                </a:lnTo>
                <a:lnTo>
                  <a:pt x="1735" y="2183"/>
                </a:lnTo>
                <a:lnTo>
                  <a:pt x="1712" y="2138"/>
                </a:lnTo>
                <a:lnTo>
                  <a:pt x="1690" y="2093"/>
                </a:lnTo>
                <a:lnTo>
                  <a:pt x="1658" y="2044"/>
                </a:lnTo>
                <a:lnTo>
                  <a:pt x="975" y="2044"/>
                </a:lnTo>
                <a:close/>
                <a:moveTo>
                  <a:pt x="1851" y="512"/>
                </a:moveTo>
                <a:lnTo>
                  <a:pt x="1851" y="1082"/>
                </a:lnTo>
                <a:lnTo>
                  <a:pt x="472" y="1082"/>
                </a:lnTo>
                <a:lnTo>
                  <a:pt x="472" y="512"/>
                </a:lnTo>
                <a:lnTo>
                  <a:pt x="1851" y="512"/>
                </a:lnTo>
                <a:close/>
                <a:moveTo>
                  <a:pt x="818" y="745"/>
                </a:moveTo>
                <a:lnTo>
                  <a:pt x="818" y="835"/>
                </a:lnTo>
                <a:lnTo>
                  <a:pt x="1506" y="835"/>
                </a:lnTo>
                <a:lnTo>
                  <a:pt x="1506" y="745"/>
                </a:lnTo>
                <a:lnTo>
                  <a:pt x="818" y="745"/>
                </a:lnTo>
                <a:close/>
                <a:moveTo>
                  <a:pt x="975" y="1720"/>
                </a:moveTo>
                <a:lnTo>
                  <a:pt x="975" y="1796"/>
                </a:lnTo>
                <a:lnTo>
                  <a:pt x="1357" y="1796"/>
                </a:lnTo>
                <a:lnTo>
                  <a:pt x="1357" y="1720"/>
                </a:lnTo>
                <a:lnTo>
                  <a:pt x="975" y="17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2"/>
          <p:cNvSpPr/>
          <p:nvPr/>
        </p:nvSpPr>
        <p:spPr>
          <a:xfrm>
            <a:off x="21915360" y="1284120"/>
            <a:ext cx="5046840" cy="5005440"/>
          </a:xfrm>
          <a:custGeom>
            <a:avLst/>
            <a:gdLst>
              <a:gd name="textAreaLeft" fmla="*/ 0 w 5046840"/>
              <a:gd name="textAreaRight" fmla="*/ 5047200 w 5046840"/>
              <a:gd name="textAreaTop" fmla="*/ 0 h 5005440"/>
              <a:gd name="textAreaBottom" fmla="*/ 5005440 h 5005440"/>
            </a:gdLst>
            <a:ahLst/>
            <a:rect l="textAreaLeft" t="textAreaTop" r="textAreaRight" b="textAreaBottom"/>
            <a:pathLst>
              <a:path w="2386" h="2336">
                <a:moveTo>
                  <a:pt x="611" y="283"/>
                </a:moveTo>
                <a:lnTo>
                  <a:pt x="611" y="18"/>
                </a:lnTo>
                <a:lnTo>
                  <a:pt x="948" y="31"/>
                </a:lnTo>
                <a:lnTo>
                  <a:pt x="971" y="31"/>
                </a:lnTo>
                <a:lnTo>
                  <a:pt x="988" y="36"/>
                </a:lnTo>
                <a:lnTo>
                  <a:pt x="997" y="45"/>
                </a:lnTo>
                <a:lnTo>
                  <a:pt x="1002" y="58"/>
                </a:lnTo>
                <a:lnTo>
                  <a:pt x="997" y="76"/>
                </a:lnTo>
                <a:lnTo>
                  <a:pt x="988" y="85"/>
                </a:lnTo>
                <a:lnTo>
                  <a:pt x="971" y="99"/>
                </a:lnTo>
                <a:lnTo>
                  <a:pt x="948" y="112"/>
                </a:lnTo>
                <a:lnTo>
                  <a:pt x="948" y="283"/>
                </a:lnTo>
                <a:lnTo>
                  <a:pt x="1388" y="283"/>
                </a:lnTo>
                <a:lnTo>
                  <a:pt x="1388" y="615"/>
                </a:lnTo>
                <a:lnTo>
                  <a:pt x="948" y="615"/>
                </a:lnTo>
                <a:lnTo>
                  <a:pt x="948" y="768"/>
                </a:lnTo>
                <a:lnTo>
                  <a:pt x="1451" y="768"/>
                </a:lnTo>
                <a:lnTo>
                  <a:pt x="1451" y="1101"/>
                </a:lnTo>
                <a:lnTo>
                  <a:pt x="948" y="1101"/>
                </a:lnTo>
                <a:lnTo>
                  <a:pt x="948" y="1204"/>
                </a:lnTo>
                <a:lnTo>
                  <a:pt x="1406" y="1204"/>
                </a:lnTo>
                <a:lnTo>
                  <a:pt x="1406" y="1995"/>
                </a:lnTo>
                <a:lnTo>
                  <a:pt x="1402" y="2031"/>
                </a:lnTo>
                <a:lnTo>
                  <a:pt x="1397" y="2058"/>
                </a:lnTo>
                <a:lnTo>
                  <a:pt x="1384" y="2084"/>
                </a:lnTo>
                <a:lnTo>
                  <a:pt x="1366" y="2107"/>
                </a:lnTo>
                <a:lnTo>
                  <a:pt x="1343" y="2125"/>
                </a:lnTo>
                <a:lnTo>
                  <a:pt x="1316" y="2138"/>
                </a:lnTo>
                <a:lnTo>
                  <a:pt x="1290" y="2152"/>
                </a:lnTo>
                <a:lnTo>
                  <a:pt x="1263" y="2161"/>
                </a:lnTo>
                <a:lnTo>
                  <a:pt x="1200" y="2174"/>
                </a:lnTo>
                <a:lnTo>
                  <a:pt x="1141" y="2179"/>
                </a:lnTo>
                <a:lnTo>
                  <a:pt x="1087" y="2183"/>
                </a:lnTo>
                <a:lnTo>
                  <a:pt x="1047" y="2179"/>
                </a:lnTo>
                <a:lnTo>
                  <a:pt x="1038" y="2120"/>
                </a:lnTo>
                <a:lnTo>
                  <a:pt x="1020" y="2062"/>
                </a:lnTo>
                <a:lnTo>
                  <a:pt x="988" y="1999"/>
                </a:lnTo>
                <a:lnTo>
                  <a:pt x="948" y="1927"/>
                </a:lnTo>
                <a:lnTo>
                  <a:pt x="948" y="2327"/>
                </a:lnTo>
                <a:lnTo>
                  <a:pt x="611" y="2327"/>
                </a:lnTo>
                <a:lnTo>
                  <a:pt x="611" y="1545"/>
                </a:lnTo>
                <a:lnTo>
                  <a:pt x="512" y="1545"/>
                </a:lnTo>
                <a:lnTo>
                  <a:pt x="512" y="2206"/>
                </a:lnTo>
                <a:lnTo>
                  <a:pt x="157" y="2206"/>
                </a:lnTo>
                <a:lnTo>
                  <a:pt x="157" y="1204"/>
                </a:lnTo>
                <a:lnTo>
                  <a:pt x="611" y="1204"/>
                </a:lnTo>
                <a:lnTo>
                  <a:pt x="611" y="1101"/>
                </a:lnTo>
                <a:lnTo>
                  <a:pt x="54" y="1101"/>
                </a:lnTo>
                <a:lnTo>
                  <a:pt x="54" y="768"/>
                </a:lnTo>
                <a:lnTo>
                  <a:pt x="611" y="768"/>
                </a:lnTo>
                <a:lnTo>
                  <a:pt x="611" y="615"/>
                </a:lnTo>
                <a:lnTo>
                  <a:pt x="377" y="615"/>
                </a:lnTo>
                <a:lnTo>
                  <a:pt x="315" y="741"/>
                </a:lnTo>
                <a:lnTo>
                  <a:pt x="193" y="687"/>
                </a:lnTo>
                <a:lnTo>
                  <a:pt x="94" y="656"/>
                </a:lnTo>
                <a:lnTo>
                  <a:pt x="45" y="642"/>
                </a:lnTo>
                <a:lnTo>
                  <a:pt x="0" y="633"/>
                </a:lnTo>
                <a:lnTo>
                  <a:pt x="40" y="579"/>
                </a:lnTo>
                <a:lnTo>
                  <a:pt x="76" y="517"/>
                </a:lnTo>
                <a:lnTo>
                  <a:pt x="108" y="445"/>
                </a:lnTo>
                <a:lnTo>
                  <a:pt x="144" y="373"/>
                </a:lnTo>
                <a:lnTo>
                  <a:pt x="171" y="296"/>
                </a:lnTo>
                <a:lnTo>
                  <a:pt x="193" y="225"/>
                </a:lnTo>
                <a:lnTo>
                  <a:pt x="216" y="157"/>
                </a:lnTo>
                <a:lnTo>
                  <a:pt x="229" y="94"/>
                </a:lnTo>
                <a:lnTo>
                  <a:pt x="548" y="153"/>
                </a:lnTo>
                <a:lnTo>
                  <a:pt x="566" y="157"/>
                </a:lnTo>
                <a:lnTo>
                  <a:pt x="580" y="166"/>
                </a:lnTo>
                <a:lnTo>
                  <a:pt x="584" y="175"/>
                </a:lnTo>
                <a:lnTo>
                  <a:pt x="589" y="189"/>
                </a:lnTo>
                <a:lnTo>
                  <a:pt x="584" y="202"/>
                </a:lnTo>
                <a:lnTo>
                  <a:pt x="580" y="211"/>
                </a:lnTo>
                <a:lnTo>
                  <a:pt x="566" y="225"/>
                </a:lnTo>
                <a:lnTo>
                  <a:pt x="544" y="234"/>
                </a:lnTo>
                <a:lnTo>
                  <a:pt x="521" y="243"/>
                </a:lnTo>
                <a:lnTo>
                  <a:pt x="517" y="261"/>
                </a:lnTo>
                <a:lnTo>
                  <a:pt x="508" y="283"/>
                </a:lnTo>
                <a:lnTo>
                  <a:pt x="611" y="283"/>
                </a:lnTo>
                <a:close/>
                <a:moveTo>
                  <a:pt x="948" y="1842"/>
                </a:moveTo>
                <a:lnTo>
                  <a:pt x="948" y="1842"/>
                </a:lnTo>
                <a:lnTo>
                  <a:pt x="984" y="1851"/>
                </a:lnTo>
                <a:lnTo>
                  <a:pt x="1011" y="1851"/>
                </a:lnTo>
                <a:lnTo>
                  <a:pt x="1029" y="1846"/>
                </a:lnTo>
                <a:lnTo>
                  <a:pt x="1047" y="1837"/>
                </a:lnTo>
                <a:lnTo>
                  <a:pt x="1056" y="1828"/>
                </a:lnTo>
                <a:lnTo>
                  <a:pt x="1065" y="1815"/>
                </a:lnTo>
                <a:lnTo>
                  <a:pt x="1074" y="1788"/>
                </a:lnTo>
                <a:lnTo>
                  <a:pt x="1074" y="1770"/>
                </a:lnTo>
                <a:lnTo>
                  <a:pt x="1074" y="1545"/>
                </a:lnTo>
                <a:lnTo>
                  <a:pt x="948" y="1545"/>
                </a:lnTo>
                <a:lnTo>
                  <a:pt x="948" y="1842"/>
                </a:lnTo>
                <a:close/>
                <a:moveTo>
                  <a:pt x="1865" y="310"/>
                </a:moveTo>
                <a:lnTo>
                  <a:pt x="1865" y="310"/>
                </a:lnTo>
                <a:lnTo>
                  <a:pt x="1887" y="314"/>
                </a:lnTo>
                <a:lnTo>
                  <a:pt x="1905" y="319"/>
                </a:lnTo>
                <a:lnTo>
                  <a:pt x="1914" y="328"/>
                </a:lnTo>
                <a:lnTo>
                  <a:pt x="1919" y="341"/>
                </a:lnTo>
                <a:lnTo>
                  <a:pt x="1919" y="350"/>
                </a:lnTo>
                <a:lnTo>
                  <a:pt x="1910" y="359"/>
                </a:lnTo>
                <a:lnTo>
                  <a:pt x="1865" y="391"/>
                </a:lnTo>
                <a:lnTo>
                  <a:pt x="1865" y="1783"/>
                </a:lnTo>
                <a:lnTo>
                  <a:pt x="1505" y="1783"/>
                </a:lnTo>
                <a:lnTo>
                  <a:pt x="1505" y="283"/>
                </a:lnTo>
                <a:lnTo>
                  <a:pt x="1865" y="310"/>
                </a:lnTo>
                <a:close/>
                <a:moveTo>
                  <a:pt x="2327" y="13"/>
                </a:moveTo>
                <a:lnTo>
                  <a:pt x="2327" y="13"/>
                </a:lnTo>
                <a:lnTo>
                  <a:pt x="2341" y="18"/>
                </a:lnTo>
                <a:lnTo>
                  <a:pt x="2363" y="22"/>
                </a:lnTo>
                <a:lnTo>
                  <a:pt x="2377" y="31"/>
                </a:lnTo>
                <a:lnTo>
                  <a:pt x="2386" y="40"/>
                </a:lnTo>
                <a:lnTo>
                  <a:pt x="2386" y="49"/>
                </a:lnTo>
                <a:lnTo>
                  <a:pt x="2381" y="67"/>
                </a:lnTo>
                <a:lnTo>
                  <a:pt x="2368" y="81"/>
                </a:lnTo>
                <a:lnTo>
                  <a:pt x="2350" y="94"/>
                </a:lnTo>
                <a:lnTo>
                  <a:pt x="2327" y="108"/>
                </a:lnTo>
                <a:lnTo>
                  <a:pt x="2327" y="1999"/>
                </a:lnTo>
                <a:lnTo>
                  <a:pt x="2323" y="2075"/>
                </a:lnTo>
                <a:lnTo>
                  <a:pt x="2309" y="2138"/>
                </a:lnTo>
                <a:lnTo>
                  <a:pt x="2287" y="2188"/>
                </a:lnTo>
                <a:lnTo>
                  <a:pt x="2265" y="2228"/>
                </a:lnTo>
                <a:lnTo>
                  <a:pt x="2233" y="2255"/>
                </a:lnTo>
                <a:lnTo>
                  <a:pt x="2206" y="2273"/>
                </a:lnTo>
                <a:lnTo>
                  <a:pt x="2175" y="2291"/>
                </a:lnTo>
                <a:lnTo>
                  <a:pt x="2148" y="2300"/>
                </a:lnTo>
                <a:lnTo>
                  <a:pt x="2080" y="2318"/>
                </a:lnTo>
                <a:lnTo>
                  <a:pt x="1990" y="2327"/>
                </a:lnTo>
                <a:lnTo>
                  <a:pt x="1896" y="2336"/>
                </a:lnTo>
                <a:lnTo>
                  <a:pt x="1851" y="2336"/>
                </a:lnTo>
                <a:lnTo>
                  <a:pt x="1815" y="2332"/>
                </a:lnTo>
                <a:lnTo>
                  <a:pt x="1802" y="2264"/>
                </a:lnTo>
                <a:lnTo>
                  <a:pt x="1779" y="2192"/>
                </a:lnTo>
                <a:lnTo>
                  <a:pt x="1739" y="2102"/>
                </a:lnTo>
                <a:lnTo>
                  <a:pt x="1671" y="1977"/>
                </a:lnTo>
                <a:lnTo>
                  <a:pt x="1851" y="1990"/>
                </a:lnTo>
                <a:lnTo>
                  <a:pt x="1905" y="1986"/>
                </a:lnTo>
                <a:lnTo>
                  <a:pt x="1923" y="1981"/>
                </a:lnTo>
                <a:lnTo>
                  <a:pt x="1941" y="1972"/>
                </a:lnTo>
                <a:lnTo>
                  <a:pt x="1950" y="1959"/>
                </a:lnTo>
                <a:lnTo>
                  <a:pt x="1959" y="1941"/>
                </a:lnTo>
                <a:lnTo>
                  <a:pt x="1963" y="1923"/>
                </a:lnTo>
                <a:lnTo>
                  <a:pt x="1963" y="1896"/>
                </a:lnTo>
                <a:lnTo>
                  <a:pt x="1963" y="0"/>
                </a:lnTo>
                <a:lnTo>
                  <a:pt x="2327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3"/>
          <p:cNvSpPr/>
          <p:nvPr/>
        </p:nvSpPr>
        <p:spPr>
          <a:xfrm>
            <a:off x="27503280" y="1409760"/>
            <a:ext cx="5046840" cy="4860720"/>
          </a:xfrm>
          <a:custGeom>
            <a:avLst/>
            <a:gdLst>
              <a:gd name="textAreaLeft" fmla="*/ 0 w 5046840"/>
              <a:gd name="textAreaRight" fmla="*/ 5047200 w 5046840"/>
              <a:gd name="textAreaTop" fmla="*/ 0 h 4860720"/>
              <a:gd name="textAreaBottom" fmla="*/ 4860720 h 4860720"/>
            </a:gdLst>
            <a:ahLst/>
            <a:rect l="textAreaLeft" t="textAreaTop" r="textAreaRight" b="textAreaBottom"/>
            <a:pathLst>
              <a:path w="2386" h="2269">
                <a:moveTo>
                  <a:pt x="2300" y="1294"/>
                </a:moveTo>
                <a:lnTo>
                  <a:pt x="2300" y="1294"/>
                </a:lnTo>
                <a:lnTo>
                  <a:pt x="2309" y="1308"/>
                </a:lnTo>
                <a:lnTo>
                  <a:pt x="2314" y="1321"/>
                </a:lnTo>
                <a:lnTo>
                  <a:pt x="2314" y="1335"/>
                </a:lnTo>
                <a:lnTo>
                  <a:pt x="2309" y="1348"/>
                </a:lnTo>
                <a:lnTo>
                  <a:pt x="2300" y="1353"/>
                </a:lnTo>
                <a:lnTo>
                  <a:pt x="2291" y="1357"/>
                </a:lnTo>
                <a:lnTo>
                  <a:pt x="2282" y="1357"/>
                </a:lnTo>
                <a:lnTo>
                  <a:pt x="2260" y="1357"/>
                </a:lnTo>
                <a:lnTo>
                  <a:pt x="2237" y="1357"/>
                </a:lnTo>
                <a:lnTo>
                  <a:pt x="2197" y="1402"/>
                </a:lnTo>
                <a:lnTo>
                  <a:pt x="2139" y="1456"/>
                </a:lnTo>
                <a:lnTo>
                  <a:pt x="2053" y="1532"/>
                </a:lnTo>
                <a:lnTo>
                  <a:pt x="1941" y="1618"/>
                </a:lnTo>
                <a:lnTo>
                  <a:pt x="1990" y="1672"/>
                </a:lnTo>
                <a:lnTo>
                  <a:pt x="2044" y="1716"/>
                </a:lnTo>
                <a:lnTo>
                  <a:pt x="2152" y="1806"/>
                </a:lnTo>
                <a:lnTo>
                  <a:pt x="2264" y="1883"/>
                </a:lnTo>
                <a:lnTo>
                  <a:pt x="2386" y="1959"/>
                </a:lnTo>
                <a:lnTo>
                  <a:pt x="2305" y="2022"/>
                </a:lnTo>
                <a:lnTo>
                  <a:pt x="2237" y="2080"/>
                </a:lnTo>
                <a:lnTo>
                  <a:pt x="2179" y="2143"/>
                </a:lnTo>
                <a:lnTo>
                  <a:pt x="2107" y="2224"/>
                </a:lnTo>
                <a:lnTo>
                  <a:pt x="2031" y="2175"/>
                </a:lnTo>
                <a:lnTo>
                  <a:pt x="1954" y="2121"/>
                </a:lnTo>
                <a:lnTo>
                  <a:pt x="1883" y="2067"/>
                </a:lnTo>
                <a:lnTo>
                  <a:pt x="1811" y="2004"/>
                </a:lnTo>
                <a:lnTo>
                  <a:pt x="1739" y="1946"/>
                </a:lnTo>
                <a:lnTo>
                  <a:pt x="1676" y="1878"/>
                </a:lnTo>
                <a:lnTo>
                  <a:pt x="1617" y="1811"/>
                </a:lnTo>
                <a:lnTo>
                  <a:pt x="1559" y="1743"/>
                </a:lnTo>
                <a:lnTo>
                  <a:pt x="1559" y="1802"/>
                </a:lnTo>
                <a:lnTo>
                  <a:pt x="1564" y="1851"/>
                </a:lnTo>
                <a:lnTo>
                  <a:pt x="1573" y="1950"/>
                </a:lnTo>
                <a:lnTo>
                  <a:pt x="1330" y="2031"/>
                </a:lnTo>
                <a:lnTo>
                  <a:pt x="1078" y="2107"/>
                </a:lnTo>
                <a:lnTo>
                  <a:pt x="872" y="2170"/>
                </a:lnTo>
                <a:lnTo>
                  <a:pt x="759" y="2197"/>
                </a:lnTo>
                <a:lnTo>
                  <a:pt x="750" y="2238"/>
                </a:lnTo>
                <a:lnTo>
                  <a:pt x="746" y="2256"/>
                </a:lnTo>
                <a:lnTo>
                  <a:pt x="737" y="2265"/>
                </a:lnTo>
                <a:lnTo>
                  <a:pt x="723" y="2269"/>
                </a:lnTo>
                <a:lnTo>
                  <a:pt x="710" y="2265"/>
                </a:lnTo>
                <a:lnTo>
                  <a:pt x="701" y="2256"/>
                </a:lnTo>
                <a:lnTo>
                  <a:pt x="692" y="2242"/>
                </a:lnTo>
                <a:lnTo>
                  <a:pt x="687" y="2229"/>
                </a:lnTo>
                <a:lnTo>
                  <a:pt x="575" y="1887"/>
                </a:lnTo>
                <a:lnTo>
                  <a:pt x="921" y="1797"/>
                </a:lnTo>
                <a:lnTo>
                  <a:pt x="921" y="144"/>
                </a:lnTo>
                <a:lnTo>
                  <a:pt x="890" y="216"/>
                </a:lnTo>
                <a:lnTo>
                  <a:pt x="665" y="773"/>
                </a:lnTo>
                <a:lnTo>
                  <a:pt x="755" y="921"/>
                </a:lnTo>
                <a:lnTo>
                  <a:pt x="795" y="989"/>
                </a:lnTo>
                <a:lnTo>
                  <a:pt x="827" y="1061"/>
                </a:lnTo>
                <a:lnTo>
                  <a:pt x="854" y="1132"/>
                </a:lnTo>
                <a:lnTo>
                  <a:pt x="876" y="1204"/>
                </a:lnTo>
                <a:lnTo>
                  <a:pt x="890" y="1281"/>
                </a:lnTo>
                <a:lnTo>
                  <a:pt x="894" y="1366"/>
                </a:lnTo>
                <a:lnTo>
                  <a:pt x="890" y="1411"/>
                </a:lnTo>
                <a:lnTo>
                  <a:pt x="885" y="1460"/>
                </a:lnTo>
                <a:lnTo>
                  <a:pt x="876" y="1501"/>
                </a:lnTo>
                <a:lnTo>
                  <a:pt x="863" y="1541"/>
                </a:lnTo>
                <a:lnTo>
                  <a:pt x="845" y="1577"/>
                </a:lnTo>
                <a:lnTo>
                  <a:pt x="822" y="1613"/>
                </a:lnTo>
                <a:lnTo>
                  <a:pt x="795" y="1645"/>
                </a:lnTo>
                <a:lnTo>
                  <a:pt x="768" y="1672"/>
                </a:lnTo>
                <a:lnTo>
                  <a:pt x="737" y="1694"/>
                </a:lnTo>
                <a:lnTo>
                  <a:pt x="701" y="1716"/>
                </a:lnTo>
                <a:lnTo>
                  <a:pt x="660" y="1734"/>
                </a:lnTo>
                <a:lnTo>
                  <a:pt x="620" y="1752"/>
                </a:lnTo>
                <a:lnTo>
                  <a:pt x="575" y="1761"/>
                </a:lnTo>
                <a:lnTo>
                  <a:pt x="526" y="1770"/>
                </a:lnTo>
                <a:lnTo>
                  <a:pt x="476" y="1779"/>
                </a:lnTo>
                <a:lnTo>
                  <a:pt x="422" y="1779"/>
                </a:lnTo>
                <a:lnTo>
                  <a:pt x="409" y="1716"/>
                </a:lnTo>
                <a:lnTo>
                  <a:pt x="395" y="1667"/>
                </a:lnTo>
                <a:lnTo>
                  <a:pt x="377" y="1627"/>
                </a:lnTo>
                <a:lnTo>
                  <a:pt x="350" y="1586"/>
                </a:lnTo>
                <a:lnTo>
                  <a:pt x="350" y="2251"/>
                </a:lnTo>
                <a:lnTo>
                  <a:pt x="0" y="2251"/>
                </a:lnTo>
                <a:lnTo>
                  <a:pt x="0" y="0"/>
                </a:lnTo>
                <a:lnTo>
                  <a:pt x="791" y="0"/>
                </a:lnTo>
                <a:lnTo>
                  <a:pt x="921" y="117"/>
                </a:lnTo>
                <a:lnTo>
                  <a:pt x="921" y="0"/>
                </a:lnTo>
                <a:lnTo>
                  <a:pt x="2215" y="0"/>
                </a:lnTo>
                <a:lnTo>
                  <a:pt x="2215" y="1119"/>
                </a:lnTo>
                <a:lnTo>
                  <a:pt x="2085" y="1119"/>
                </a:lnTo>
                <a:lnTo>
                  <a:pt x="2300" y="1294"/>
                </a:lnTo>
                <a:close/>
                <a:moveTo>
                  <a:pt x="350" y="319"/>
                </a:moveTo>
                <a:lnTo>
                  <a:pt x="350" y="715"/>
                </a:lnTo>
                <a:lnTo>
                  <a:pt x="377" y="670"/>
                </a:lnTo>
                <a:lnTo>
                  <a:pt x="409" y="598"/>
                </a:lnTo>
                <a:lnTo>
                  <a:pt x="449" y="486"/>
                </a:lnTo>
                <a:lnTo>
                  <a:pt x="499" y="319"/>
                </a:lnTo>
                <a:lnTo>
                  <a:pt x="350" y="319"/>
                </a:lnTo>
                <a:close/>
                <a:moveTo>
                  <a:pt x="350" y="1424"/>
                </a:moveTo>
                <a:lnTo>
                  <a:pt x="350" y="1424"/>
                </a:lnTo>
                <a:lnTo>
                  <a:pt x="377" y="1424"/>
                </a:lnTo>
                <a:lnTo>
                  <a:pt x="404" y="1429"/>
                </a:lnTo>
                <a:lnTo>
                  <a:pt x="449" y="1424"/>
                </a:lnTo>
                <a:lnTo>
                  <a:pt x="476" y="1415"/>
                </a:lnTo>
                <a:lnTo>
                  <a:pt x="499" y="1402"/>
                </a:lnTo>
                <a:lnTo>
                  <a:pt x="517" y="1384"/>
                </a:lnTo>
                <a:lnTo>
                  <a:pt x="526" y="1366"/>
                </a:lnTo>
                <a:lnTo>
                  <a:pt x="530" y="1348"/>
                </a:lnTo>
                <a:lnTo>
                  <a:pt x="530" y="1312"/>
                </a:lnTo>
                <a:lnTo>
                  <a:pt x="526" y="1258"/>
                </a:lnTo>
                <a:lnTo>
                  <a:pt x="517" y="1200"/>
                </a:lnTo>
                <a:lnTo>
                  <a:pt x="499" y="1141"/>
                </a:lnTo>
                <a:lnTo>
                  <a:pt x="476" y="1083"/>
                </a:lnTo>
                <a:lnTo>
                  <a:pt x="449" y="1025"/>
                </a:lnTo>
                <a:lnTo>
                  <a:pt x="418" y="971"/>
                </a:lnTo>
                <a:lnTo>
                  <a:pt x="386" y="926"/>
                </a:lnTo>
                <a:lnTo>
                  <a:pt x="350" y="885"/>
                </a:lnTo>
                <a:lnTo>
                  <a:pt x="350" y="1424"/>
                </a:lnTo>
                <a:close/>
                <a:moveTo>
                  <a:pt x="1285" y="441"/>
                </a:moveTo>
                <a:lnTo>
                  <a:pt x="1847" y="441"/>
                </a:lnTo>
                <a:lnTo>
                  <a:pt x="1847" y="310"/>
                </a:lnTo>
                <a:lnTo>
                  <a:pt x="1285" y="310"/>
                </a:lnTo>
                <a:lnTo>
                  <a:pt x="1285" y="441"/>
                </a:lnTo>
                <a:close/>
                <a:moveTo>
                  <a:pt x="1847" y="688"/>
                </a:moveTo>
                <a:lnTo>
                  <a:pt x="1285" y="688"/>
                </a:lnTo>
                <a:lnTo>
                  <a:pt x="1285" y="818"/>
                </a:lnTo>
                <a:lnTo>
                  <a:pt x="1847" y="818"/>
                </a:lnTo>
                <a:lnTo>
                  <a:pt x="1847" y="688"/>
                </a:lnTo>
                <a:close/>
                <a:moveTo>
                  <a:pt x="1285" y="1119"/>
                </a:moveTo>
                <a:lnTo>
                  <a:pt x="1285" y="1699"/>
                </a:lnTo>
                <a:lnTo>
                  <a:pt x="1492" y="1636"/>
                </a:lnTo>
                <a:lnTo>
                  <a:pt x="1442" y="1541"/>
                </a:lnTo>
                <a:lnTo>
                  <a:pt x="1388" y="1424"/>
                </a:lnTo>
                <a:lnTo>
                  <a:pt x="1361" y="1357"/>
                </a:lnTo>
                <a:lnTo>
                  <a:pt x="1339" y="1281"/>
                </a:lnTo>
                <a:lnTo>
                  <a:pt x="1316" y="1204"/>
                </a:lnTo>
                <a:lnTo>
                  <a:pt x="1298" y="1119"/>
                </a:lnTo>
                <a:lnTo>
                  <a:pt x="1285" y="1119"/>
                </a:lnTo>
                <a:close/>
                <a:moveTo>
                  <a:pt x="1631" y="1119"/>
                </a:moveTo>
                <a:lnTo>
                  <a:pt x="1631" y="1119"/>
                </a:lnTo>
                <a:lnTo>
                  <a:pt x="1653" y="1182"/>
                </a:lnTo>
                <a:lnTo>
                  <a:pt x="1676" y="1240"/>
                </a:lnTo>
                <a:lnTo>
                  <a:pt x="1707" y="1303"/>
                </a:lnTo>
                <a:lnTo>
                  <a:pt x="1739" y="1362"/>
                </a:lnTo>
                <a:lnTo>
                  <a:pt x="1797" y="1308"/>
                </a:lnTo>
                <a:lnTo>
                  <a:pt x="1851" y="1249"/>
                </a:lnTo>
                <a:lnTo>
                  <a:pt x="1909" y="1186"/>
                </a:lnTo>
                <a:lnTo>
                  <a:pt x="1963" y="1119"/>
                </a:lnTo>
                <a:lnTo>
                  <a:pt x="1631" y="1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4"/>
          <p:cNvSpPr/>
          <p:nvPr/>
        </p:nvSpPr>
        <p:spPr>
          <a:xfrm>
            <a:off x="32919840" y="1274760"/>
            <a:ext cx="4658040" cy="4995720"/>
          </a:xfrm>
          <a:custGeom>
            <a:avLst/>
            <a:gdLst>
              <a:gd name="textAreaLeft" fmla="*/ 0 w 4658040"/>
              <a:gd name="textAreaRight" fmla="*/ 4658400 w 4658040"/>
              <a:gd name="textAreaTop" fmla="*/ 0 h 4995720"/>
              <a:gd name="textAreaBottom" fmla="*/ 4996080 h 4995720"/>
            </a:gdLst>
            <a:ahLst/>
            <a:rect l="textAreaLeft" t="textAreaTop" r="textAreaRight" b="textAreaBottom"/>
            <a:pathLst>
              <a:path w="2202" h="2332">
                <a:moveTo>
                  <a:pt x="238" y="387"/>
                </a:moveTo>
                <a:lnTo>
                  <a:pt x="238" y="387"/>
                </a:lnTo>
                <a:lnTo>
                  <a:pt x="297" y="396"/>
                </a:lnTo>
                <a:lnTo>
                  <a:pt x="368" y="409"/>
                </a:lnTo>
                <a:lnTo>
                  <a:pt x="463" y="418"/>
                </a:lnTo>
                <a:lnTo>
                  <a:pt x="575" y="418"/>
                </a:lnTo>
                <a:lnTo>
                  <a:pt x="741" y="414"/>
                </a:lnTo>
                <a:lnTo>
                  <a:pt x="768" y="301"/>
                </a:lnTo>
                <a:lnTo>
                  <a:pt x="795" y="198"/>
                </a:lnTo>
                <a:lnTo>
                  <a:pt x="858" y="0"/>
                </a:lnTo>
                <a:lnTo>
                  <a:pt x="1254" y="122"/>
                </a:lnTo>
                <a:lnTo>
                  <a:pt x="1267" y="126"/>
                </a:lnTo>
                <a:lnTo>
                  <a:pt x="1281" y="135"/>
                </a:lnTo>
                <a:lnTo>
                  <a:pt x="1289" y="144"/>
                </a:lnTo>
                <a:lnTo>
                  <a:pt x="1294" y="158"/>
                </a:lnTo>
                <a:lnTo>
                  <a:pt x="1294" y="167"/>
                </a:lnTo>
                <a:lnTo>
                  <a:pt x="1289" y="171"/>
                </a:lnTo>
                <a:lnTo>
                  <a:pt x="1276" y="185"/>
                </a:lnTo>
                <a:lnTo>
                  <a:pt x="1258" y="189"/>
                </a:lnTo>
                <a:lnTo>
                  <a:pt x="1240" y="194"/>
                </a:lnTo>
                <a:lnTo>
                  <a:pt x="1213" y="252"/>
                </a:lnTo>
                <a:lnTo>
                  <a:pt x="1168" y="360"/>
                </a:lnTo>
                <a:lnTo>
                  <a:pt x="1375" y="319"/>
                </a:lnTo>
                <a:lnTo>
                  <a:pt x="1537" y="279"/>
                </a:lnTo>
                <a:lnTo>
                  <a:pt x="1667" y="239"/>
                </a:lnTo>
                <a:lnTo>
                  <a:pt x="1779" y="198"/>
                </a:lnTo>
                <a:lnTo>
                  <a:pt x="1838" y="553"/>
                </a:lnTo>
                <a:lnTo>
                  <a:pt x="1716" y="589"/>
                </a:lnTo>
                <a:lnTo>
                  <a:pt x="1608" y="616"/>
                </a:lnTo>
                <a:lnTo>
                  <a:pt x="1505" y="643"/>
                </a:lnTo>
                <a:lnTo>
                  <a:pt x="1411" y="661"/>
                </a:lnTo>
                <a:lnTo>
                  <a:pt x="1231" y="692"/>
                </a:lnTo>
                <a:lnTo>
                  <a:pt x="1060" y="719"/>
                </a:lnTo>
                <a:lnTo>
                  <a:pt x="1047" y="782"/>
                </a:lnTo>
                <a:lnTo>
                  <a:pt x="1033" y="841"/>
                </a:lnTo>
                <a:lnTo>
                  <a:pt x="1132" y="823"/>
                </a:lnTo>
                <a:lnTo>
                  <a:pt x="1204" y="818"/>
                </a:lnTo>
                <a:lnTo>
                  <a:pt x="1294" y="814"/>
                </a:lnTo>
                <a:lnTo>
                  <a:pt x="1375" y="818"/>
                </a:lnTo>
                <a:lnTo>
                  <a:pt x="1451" y="823"/>
                </a:lnTo>
                <a:lnTo>
                  <a:pt x="1532" y="836"/>
                </a:lnTo>
                <a:lnTo>
                  <a:pt x="1608" y="854"/>
                </a:lnTo>
                <a:lnTo>
                  <a:pt x="1689" y="877"/>
                </a:lnTo>
                <a:lnTo>
                  <a:pt x="1761" y="903"/>
                </a:lnTo>
                <a:lnTo>
                  <a:pt x="1833" y="935"/>
                </a:lnTo>
                <a:lnTo>
                  <a:pt x="1901" y="975"/>
                </a:lnTo>
                <a:lnTo>
                  <a:pt x="1968" y="1020"/>
                </a:lnTo>
                <a:lnTo>
                  <a:pt x="2022" y="1070"/>
                </a:lnTo>
                <a:lnTo>
                  <a:pt x="2076" y="1128"/>
                </a:lnTo>
                <a:lnTo>
                  <a:pt x="2116" y="1191"/>
                </a:lnTo>
                <a:lnTo>
                  <a:pt x="2134" y="1227"/>
                </a:lnTo>
                <a:lnTo>
                  <a:pt x="2152" y="1263"/>
                </a:lnTo>
                <a:lnTo>
                  <a:pt x="2166" y="1299"/>
                </a:lnTo>
                <a:lnTo>
                  <a:pt x="2179" y="1339"/>
                </a:lnTo>
                <a:lnTo>
                  <a:pt x="2188" y="1380"/>
                </a:lnTo>
                <a:lnTo>
                  <a:pt x="2197" y="1420"/>
                </a:lnTo>
                <a:lnTo>
                  <a:pt x="2202" y="1465"/>
                </a:lnTo>
                <a:lnTo>
                  <a:pt x="2202" y="1510"/>
                </a:lnTo>
                <a:lnTo>
                  <a:pt x="2197" y="1595"/>
                </a:lnTo>
                <a:lnTo>
                  <a:pt x="2184" y="1676"/>
                </a:lnTo>
                <a:lnTo>
                  <a:pt x="2166" y="1748"/>
                </a:lnTo>
                <a:lnTo>
                  <a:pt x="2134" y="1820"/>
                </a:lnTo>
                <a:lnTo>
                  <a:pt x="2098" y="1883"/>
                </a:lnTo>
                <a:lnTo>
                  <a:pt x="2058" y="1941"/>
                </a:lnTo>
                <a:lnTo>
                  <a:pt x="2008" y="2000"/>
                </a:lnTo>
                <a:lnTo>
                  <a:pt x="1954" y="2049"/>
                </a:lnTo>
                <a:lnTo>
                  <a:pt x="1892" y="2098"/>
                </a:lnTo>
                <a:lnTo>
                  <a:pt x="1824" y="2143"/>
                </a:lnTo>
                <a:lnTo>
                  <a:pt x="1752" y="2184"/>
                </a:lnTo>
                <a:lnTo>
                  <a:pt x="1676" y="2220"/>
                </a:lnTo>
                <a:lnTo>
                  <a:pt x="1595" y="2251"/>
                </a:lnTo>
                <a:lnTo>
                  <a:pt x="1510" y="2283"/>
                </a:lnTo>
                <a:lnTo>
                  <a:pt x="1420" y="2310"/>
                </a:lnTo>
                <a:lnTo>
                  <a:pt x="1325" y="2332"/>
                </a:lnTo>
                <a:lnTo>
                  <a:pt x="1294" y="2274"/>
                </a:lnTo>
                <a:lnTo>
                  <a:pt x="1254" y="2206"/>
                </a:lnTo>
                <a:lnTo>
                  <a:pt x="1195" y="2130"/>
                </a:lnTo>
                <a:lnTo>
                  <a:pt x="1110" y="2027"/>
                </a:lnTo>
                <a:lnTo>
                  <a:pt x="1240" y="1995"/>
                </a:lnTo>
                <a:lnTo>
                  <a:pt x="1303" y="1977"/>
                </a:lnTo>
                <a:lnTo>
                  <a:pt x="1366" y="1955"/>
                </a:lnTo>
                <a:lnTo>
                  <a:pt x="1429" y="1932"/>
                </a:lnTo>
                <a:lnTo>
                  <a:pt x="1492" y="1901"/>
                </a:lnTo>
                <a:lnTo>
                  <a:pt x="1546" y="1869"/>
                </a:lnTo>
                <a:lnTo>
                  <a:pt x="1604" y="1829"/>
                </a:lnTo>
                <a:lnTo>
                  <a:pt x="1644" y="1788"/>
                </a:lnTo>
                <a:lnTo>
                  <a:pt x="1680" y="1753"/>
                </a:lnTo>
                <a:lnTo>
                  <a:pt x="1712" y="1712"/>
                </a:lnTo>
                <a:lnTo>
                  <a:pt x="1734" y="1672"/>
                </a:lnTo>
                <a:lnTo>
                  <a:pt x="1748" y="1636"/>
                </a:lnTo>
                <a:lnTo>
                  <a:pt x="1761" y="1595"/>
                </a:lnTo>
                <a:lnTo>
                  <a:pt x="1766" y="1559"/>
                </a:lnTo>
                <a:lnTo>
                  <a:pt x="1766" y="1523"/>
                </a:lnTo>
                <a:lnTo>
                  <a:pt x="1766" y="1470"/>
                </a:lnTo>
                <a:lnTo>
                  <a:pt x="1757" y="1434"/>
                </a:lnTo>
                <a:lnTo>
                  <a:pt x="1743" y="1384"/>
                </a:lnTo>
                <a:lnTo>
                  <a:pt x="1716" y="1339"/>
                </a:lnTo>
                <a:lnTo>
                  <a:pt x="1698" y="1312"/>
                </a:lnTo>
                <a:lnTo>
                  <a:pt x="1680" y="1290"/>
                </a:lnTo>
                <a:lnTo>
                  <a:pt x="1653" y="1267"/>
                </a:lnTo>
                <a:lnTo>
                  <a:pt x="1626" y="1249"/>
                </a:lnTo>
                <a:lnTo>
                  <a:pt x="1595" y="1227"/>
                </a:lnTo>
                <a:lnTo>
                  <a:pt x="1559" y="1213"/>
                </a:lnTo>
                <a:lnTo>
                  <a:pt x="1519" y="1285"/>
                </a:lnTo>
                <a:lnTo>
                  <a:pt x="1474" y="1362"/>
                </a:lnTo>
                <a:lnTo>
                  <a:pt x="1420" y="1447"/>
                </a:lnTo>
                <a:lnTo>
                  <a:pt x="1366" y="1532"/>
                </a:lnTo>
                <a:lnTo>
                  <a:pt x="1303" y="1613"/>
                </a:lnTo>
                <a:lnTo>
                  <a:pt x="1236" y="1699"/>
                </a:lnTo>
                <a:lnTo>
                  <a:pt x="1168" y="1775"/>
                </a:lnTo>
                <a:lnTo>
                  <a:pt x="1101" y="1851"/>
                </a:lnTo>
                <a:lnTo>
                  <a:pt x="1137" y="1964"/>
                </a:lnTo>
                <a:lnTo>
                  <a:pt x="984" y="2054"/>
                </a:lnTo>
                <a:lnTo>
                  <a:pt x="858" y="2134"/>
                </a:lnTo>
                <a:lnTo>
                  <a:pt x="813" y="2161"/>
                </a:lnTo>
                <a:lnTo>
                  <a:pt x="791" y="2121"/>
                </a:lnTo>
                <a:lnTo>
                  <a:pt x="777" y="2094"/>
                </a:lnTo>
                <a:lnTo>
                  <a:pt x="701" y="2134"/>
                </a:lnTo>
                <a:lnTo>
                  <a:pt x="634" y="2166"/>
                </a:lnTo>
                <a:lnTo>
                  <a:pt x="566" y="2193"/>
                </a:lnTo>
                <a:lnTo>
                  <a:pt x="508" y="2206"/>
                </a:lnTo>
                <a:lnTo>
                  <a:pt x="458" y="2220"/>
                </a:lnTo>
                <a:lnTo>
                  <a:pt x="409" y="2224"/>
                </a:lnTo>
                <a:lnTo>
                  <a:pt x="341" y="2229"/>
                </a:lnTo>
                <a:lnTo>
                  <a:pt x="301" y="2229"/>
                </a:lnTo>
                <a:lnTo>
                  <a:pt x="261" y="2224"/>
                </a:lnTo>
                <a:lnTo>
                  <a:pt x="225" y="2215"/>
                </a:lnTo>
                <a:lnTo>
                  <a:pt x="189" y="2202"/>
                </a:lnTo>
                <a:lnTo>
                  <a:pt x="153" y="2184"/>
                </a:lnTo>
                <a:lnTo>
                  <a:pt x="121" y="2166"/>
                </a:lnTo>
                <a:lnTo>
                  <a:pt x="94" y="2139"/>
                </a:lnTo>
                <a:lnTo>
                  <a:pt x="72" y="2107"/>
                </a:lnTo>
                <a:lnTo>
                  <a:pt x="49" y="2067"/>
                </a:lnTo>
                <a:lnTo>
                  <a:pt x="31" y="2031"/>
                </a:lnTo>
                <a:lnTo>
                  <a:pt x="18" y="1991"/>
                </a:lnTo>
                <a:lnTo>
                  <a:pt x="9" y="1955"/>
                </a:lnTo>
                <a:lnTo>
                  <a:pt x="0" y="1887"/>
                </a:lnTo>
                <a:lnTo>
                  <a:pt x="0" y="1842"/>
                </a:lnTo>
                <a:lnTo>
                  <a:pt x="4" y="1762"/>
                </a:lnTo>
                <a:lnTo>
                  <a:pt x="9" y="1712"/>
                </a:lnTo>
                <a:lnTo>
                  <a:pt x="22" y="1658"/>
                </a:lnTo>
                <a:lnTo>
                  <a:pt x="36" y="1604"/>
                </a:lnTo>
                <a:lnTo>
                  <a:pt x="54" y="1546"/>
                </a:lnTo>
                <a:lnTo>
                  <a:pt x="81" y="1487"/>
                </a:lnTo>
                <a:lnTo>
                  <a:pt x="112" y="1429"/>
                </a:lnTo>
                <a:lnTo>
                  <a:pt x="153" y="1366"/>
                </a:lnTo>
                <a:lnTo>
                  <a:pt x="198" y="1308"/>
                </a:lnTo>
                <a:lnTo>
                  <a:pt x="252" y="1245"/>
                </a:lnTo>
                <a:lnTo>
                  <a:pt x="310" y="1182"/>
                </a:lnTo>
                <a:lnTo>
                  <a:pt x="382" y="1124"/>
                </a:lnTo>
                <a:lnTo>
                  <a:pt x="463" y="1070"/>
                </a:lnTo>
                <a:lnTo>
                  <a:pt x="553" y="1011"/>
                </a:lnTo>
                <a:lnTo>
                  <a:pt x="656" y="962"/>
                </a:lnTo>
                <a:lnTo>
                  <a:pt x="669" y="827"/>
                </a:lnTo>
                <a:lnTo>
                  <a:pt x="678" y="751"/>
                </a:lnTo>
                <a:lnTo>
                  <a:pt x="508" y="760"/>
                </a:lnTo>
                <a:lnTo>
                  <a:pt x="364" y="755"/>
                </a:lnTo>
                <a:lnTo>
                  <a:pt x="297" y="746"/>
                </a:lnTo>
                <a:lnTo>
                  <a:pt x="225" y="737"/>
                </a:lnTo>
                <a:lnTo>
                  <a:pt x="238" y="387"/>
                </a:lnTo>
                <a:close/>
                <a:moveTo>
                  <a:pt x="651" y="1375"/>
                </a:moveTo>
                <a:lnTo>
                  <a:pt x="651" y="1375"/>
                </a:lnTo>
                <a:lnTo>
                  <a:pt x="607" y="1416"/>
                </a:lnTo>
                <a:lnTo>
                  <a:pt x="566" y="1461"/>
                </a:lnTo>
                <a:lnTo>
                  <a:pt x="521" y="1510"/>
                </a:lnTo>
                <a:lnTo>
                  <a:pt x="485" y="1559"/>
                </a:lnTo>
                <a:lnTo>
                  <a:pt x="454" y="1618"/>
                </a:lnTo>
                <a:lnTo>
                  <a:pt x="427" y="1676"/>
                </a:lnTo>
                <a:lnTo>
                  <a:pt x="413" y="1735"/>
                </a:lnTo>
                <a:lnTo>
                  <a:pt x="409" y="1766"/>
                </a:lnTo>
                <a:lnTo>
                  <a:pt x="404" y="1793"/>
                </a:lnTo>
                <a:lnTo>
                  <a:pt x="404" y="1815"/>
                </a:lnTo>
                <a:lnTo>
                  <a:pt x="409" y="1833"/>
                </a:lnTo>
                <a:lnTo>
                  <a:pt x="413" y="1847"/>
                </a:lnTo>
                <a:lnTo>
                  <a:pt x="422" y="1856"/>
                </a:lnTo>
                <a:lnTo>
                  <a:pt x="431" y="1865"/>
                </a:lnTo>
                <a:lnTo>
                  <a:pt x="440" y="1869"/>
                </a:lnTo>
                <a:lnTo>
                  <a:pt x="458" y="1869"/>
                </a:lnTo>
                <a:lnTo>
                  <a:pt x="485" y="1869"/>
                </a:lnTo>
                <a:lnTo>
                  <a:pt x="512" y="1860"/>
                </a:lnTo>
                <a:lnTo>
                  <a:pt x="575" y="1838"/>
                </a:lnTo>
                <a:lnTo>
                  <a:pt x="634" y="1806"/>
                </a:lnTo>
                <a:lnTo>
                  <a:pt x="692" y="1766"/>
                </a:lnTo>
                <a:lnTo>
                  <a:pt x="683" y="1721"/>
                </a:lnTo>
                <a:lnTo>
                  <a:pt x="674" y="1640"/>
                </a:lnTo>
                <a:lnTo>
                  <a:pt x="660" y="1528"/>
                </a:lnTo>
                <a:lnTo>
                  <a:pt x="651" y="1375"/>
                </a:lnTo>
                <a:close/>
                <a:moveTo>
                  <a:pt x="1015" y="1420"/>
                </a:moveTo>
                <a:lnTo>
                  <a:pt x="1015" y="1420"/>
                </a:lnTo>
                <a:lnTo>
                  <a:pt x="1069" y="1339"/>
                </a:lnTo>
                <a:lnTo>
                  <a:pt x="1114" y="1267"/>
                </a:lnTo>
                <a:lnTo>
                  <a:pt x="1146" y="1213"/>
                </a:lnTo>
                <a:lnTo>
                  <a:pt x="1173" y="1164"/>
                </a:lnTo>
                <a:lnTo>
                  <a:pt x="1105" y="1173"/>
                </a:lnTo>
                <a:lnTo>
                  <a:pt x="1060" y="1182"/>
                </a:lnTo>
                <a:lnTo>
                  <a:pt x="1002" y="1200"/>
                </a:lnTo>
                <a:lnTo>
                  <a:pt x="1002" y="1303"/>
                </a:lnTo>
                <a:lnTo>
                  <a:pt x="1006" y="1362"/>
                </a:lnTo>
                <a:lnTo>
                  <a:pt x="1015" y="14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5"/>
          <p:cNvSpPr/>
          <p:nvPr/>
        </p:nvSpPr>
        <p:spPr>
          <a:xfrm>
            <a:off x="38145960" y="1303200"/>
            <a:ext cx="3651480" cy="4986360"/>
          </a:xfrm>
          <a:custGeom>
            <a:avLst/>
            <a:gdLst>
              <a:gd name="textAreaLeft" fmla="*/ 0 w 3651480"/>
              <a:gd name="textAreaRight" fmla="*/ 3651840 w 3651480"/>
              <a:gd name="textAreaTop" fmla="*/ 0 h 4986360"/>
              <a:gd name="textAreaBottom" fmla="*/ 4986720 h 4986360"/>
            </a:gdLst>
            <a:ahLst/>
            <a:rect l="textAreaLeft" t="textAreaTop" r="textAreaRight" b="textAreaBottom"/>
            <a:pathLst>
              <a:path w="1726" h="2327">
                <a:moveTo>
                  <a:pt x="490" y="103"/>
                </a:moveTo>
                <a:lnTo>
                  <a:pt x="490" y="103"/>
                </a:lnTo>
                <a:lnTo>
                  <a:pt x="508" y="112"/>
                </a:lnTo>
                <a:lnTo>
                  <a:pt x="526" y="117"/>
                </a:lnTo>
                <a:lnTo>
                  <a:pt x="535" y="130"/>
                </a:lnTo>
                <a:lnTo>
                  <a:pt x="539" y="144"/>
                </a:lnTo>
                <a:lnTo>
                  <a:pt x="539" y="157"/>
                </a:lnTo>
                <a:lnTo>
                  <a:pt x="535" y="166"/>
                </a:lnTo>
                <a:lnTo>
                  <a:pt x="503" y="193"/>
                </a:lnTo>
                <a:lnTo>
                  <a:pt x="472" y="283"/>
                </a:lnTo>
                <a:lnTo>
                  <a:pt x="454" y="350"/>
                </a:lnTo>
                <a:lnTo>
                  <a:pt x="436" y="427"/>
                </a:lnTo>
                <a:lnTo>
                  <a:pt x="418" y="517"/>
                </a:lnTo>
                <a:lnTo>
                  <a:pt x="405" y="620"/>
                </a:lnTo>
                <a:lnTo>
                  <a:pt x="396" y="732"/>
                </a:lnTo>
                <a:lnTo>
                  <a:pt x="391" y="854"/>
                </a:lnTo>
                <a:lnTo>
                  <a:pt x="396" y="916"/>
                </a:lnTo>
                <a:lnTo>
                  <a:pt x="400" y="975"/>
                </a:lnTo>
                <a:lnTo>
                  <a:pt x="405" y="1020"/>
                </a:lnTo>
                <a:lnTo>
                  <a:pt x="414" y="1065"/>
                </a:lnTo>
                <a:lnTo>
                  <a:pt x="440" y="1024"/>
                </a:lnTo>
                <a:lnTo>
                  <a:pt x="463" y="979"/>
                </a:lnTo>
                <a:lnTo>
                  <a:pt x="548" y="791"/>
                </a:lnTo>
                <a:lnTo>
                  <a:pt x="625" y="858"/>
                </a:lnTo>
                <a:lnTo>
                  <a:pt x="688" y="912"/>
                </a:lnTo>
                <a:lnTo>
                  <a:pt x="800" y="1002"/>
                </a:lnTo>
                <a:lnTo>
                  <a:pt x="755" y="1074"/>
                </a:lnTo>
                <a:lnTo>
                  <a:pt x="710" y="1150"/>
                </a:lnTo>
                <a:lnTo>
                  <a:pt x="670" y="1226"/>
                </a:lnTo>
                <a:lnTo>
                  <a:pt x="634" y="1303"/>
                </a:lnTo>
                <a:lnTo>
                  <a:pt x="598" y="1384"/>
                </a:lnTo>
                <a:lnTo>
                  <a:pt x="571" y="1464"/>
                </a:lnTo>
                <a:lnTo>
                  <a:pt x="548" y="1550"/>
                </a:lnTo>
                <a:lnTo>
                  <a:pt x="530" y="1635"/>
                </a:lnTo>
                <a:lnTo>
                  <a:pt x="180" y="1680"/>
                </a:lnTo>
                <a:lnTo>
                  <a:pt x="139" y="1568"/>
                </a:lnTo>
                <a:lnTo>
                  <a:pt x="104" y="1451"/>
                </a:lnTo>
                <a:lnTo>
                  <a:pt x="72" y="1339"/>
                </a:lnTo>
                <a:lnTo>
                  <a:pt x="50" y="1217"/>
                </a:lnTo>
                <a:lnTo>
                  <a:pt x="27" y="1101"/>
                </a:lnTo>
                <a:lnTo>
                  <a:pt x="14" y="984"/>
                </a:lnTo>
                <a:lnTo>
                  <a:pt x="5" y="863"/>
                </a:lnTo>
                <a:lnTo>
                  <a:pt x="0" y="741"/>
                </a:lnTo>
                <a:lnTo>
                  <a:pt x="5" y="597"/>
                </a:lnTo>
                <a:lnTo>
                  <a:pt x="23" y="454"/>
                </a:lnTo>
                <a:lnTo>
                  <a:pt x="45" y="296"/>
                </a:lnTo>
                <a:lnTo>
                  <a:pt x="86" y="117"/>
                </a:lnTo>
                <a:lnTo>
                  <a:pt x="99" y="54"/>
                </a:lnTo>
                <a:lnTo>
                  <a:pt x="104" y="18"/>
                </a:lnTo>
                <a:lnTo>
                  <a:pt x="490" y="103"/>
                </a:lnTo>
                <a:close/>
                <a:moveTo>
                  <a:pt x="1654" y="13"/>
                </a:moveTo>
                <a:lnTo>
                  <a:pt x="1654" y="13"/>
                </a:lnTo>
                <a:lnTo>
                  <a:pt x="1672" y="13"/>
                </a:lnTo>
                <a:lnTo>
                  <a:pt x="1690" y="18"/>
                </a:lnTo>
                <a:lnTo>
                  <a:pt x="1703" y="27"/>
                </a:lnTo>
                <a:lnTo>
                  <a:pt x="1708" y="36"/>
                </a:lnTo>
                <a:lnTo>
                  <a:pt x="1708" y="45"/>
                </a:lnTo>
                <a:lnTo>
                  <a:pt x="1703" y="63"/>
                </a:lnTo>
                <a:lnTo>
                  <a:pt x="1694" y="72"/>
                </a:lnTo>
                <a:lnTo>
                  <a:pt x="1681" y="81"/>
                </a:lnTo>
                <a:lnTo>
                  <a:pt x="1667" y="85"/>
                </a:lnTo>
                <a:lnTo>
                  <a:pt x="1672" y="108"/>
                </a:lnTo>
                <a:lnTo>
                  <a:pt x="1717" y="687"/>
                </a:lnTo>
                <a:lnTo>
                  <a:pt x="1726" y="822"/>
                </a:lnTo>
                <a:lnTo>
                  <a:pt x="1726" y="925"/>
                </a:lnTo>
                <a:lnTo>
                  <a:pt x="1726" y="1060"/>
                </a:lnTo>
                <a:lnTo>
                  <a:pt x="1721" y="1141"/>
                </a:lnTo>
                <a:lnTo>
                  <a:pt x="1712" y="1222"/>
                </a:lnTo>
                <a:lnTo>
                  <a:pt x="1699" y="1312"/>
                </a:lnTo>
                <a:lnTo>
                  <a:pt x="1681" y="1402"/>
                </a:lnTo>
                <a:lnTo>
                  <a:pt x="1658" y="1496"/>
                </a:lnTo>
                <a:lnTo>
                  <a:pt x="1627" y="1590"/>
                </a:lnTo>
                <a:lnTo>
                  <a:pt x="1582" y="1689"/>
                </a:lnTo>
                <a:lnTo>
                  <a:pt x="1532" y="1783"/>
                </a:lnTo>
                <a:lnTo>
                  <a:pt x="1469" y="1882"/>
                </a:lnTo>
                <a:lnTo>
                  <a:pt x="1433" y="1927"/>
                </a:lnTo>
                <a:lnTo>
                  <a:pt x="1398" y="1977"/>
                </a:lnTo>
                <a:lnTo>
                  <a:pt x="1353" y="2022"/>
                </a:lnTo>
                <a:lnTo>
                  <a:pt x="1308" y="2071"/>
                </a:lnTo>
                <a:lnTo>
                  <a:pt x="1263" y="2116"/>
                </a:lnTo>
                <a:lnTo>
                  <a:pt x="1209" y="2161"/>
                </a:lnTo>
                <a:lnTo>
                  <a:pt x="1150" y="2206"/>
                </a:lnTo>
                <a:lnTo>
                  <a:pt x="1092" y="2246"/>
                </a:lnTo>
                <a:lnTo>
                  <a:pt x="1029" y="2287"/>
                </a:lnTo>
                <a:lnTo>
                  <a:pt x="962" y="2327"/>
                </a:lnTo>
                <a:lnTo>
                  <a:pt x="903" y="2260"/>
                </a:lnTo>
                <a:lnTo>
                  <a:pt x="854" y="2201"/>
                </a:lnTo>
                <a:lnTo>
                  <a:pt x="804" y="2152"/>
                </a:lnTo>
                <a:lnTo>
                  <a:pt x="759" y="2116"/>
                </a:lnTo>
                <a:lnTo>
                  <a:pt x="719" y="2084"/>
                </a:lnTo>
                <a:lnTo>
                  <a:pt x="683" y="2062"/>
                </a:lnTo>
                <a:lnTo>
                  <a:pt x="629" y="2035"/>
                </a:lnTo>
                <a:lnTo>
                  <a:pt x="742" y="1977"/>
                </a:lnTo>
                <a:lnTo>
                  <a:pt x="840" y="1914"/>
                </a:lnTo>
                <a:lnTo>
                  <a:pt x="926" y="1846"/>
                </a:lnTo>
                <a:lnTo>
                  <a:pt x="1002" y="1779"/>
                </a:lnTo>
                <a:lnTo>
                  <a:pt x="1065" y="1707"/>
                </a:lnTo>
                <a:lnTo>
                  <a:pt x="1119" y="1635"/>
                </a:lnTo>
                <a:lnTo>
                  <a:pt x="1164" y="1563"/>
                </a:lnTo>
                <a:lnTo>
                  <a:pt x="1200" y="1487"/>
                </a:lnTo>
                <a:lnTo>
                  <a:pt x="1231" y="1411"/>
                </a:lnTo>
                <a:lnTo>
                  <a:pt x="1254" y="1334"/>
                </a:lnTo>
                <a:lnTo>
                  <a:pt x="1272" y="1258"/>
                </a:lnTo>
                <a:lnTo>
                  <a:pt x="1285" y="1181"/>
                </a:lnTo>
                <a:lnTo>
                  <a:pt x="1294" y="1105"/>
                </a:lnTo>
                <a:lnTo>
                  <a:pt x="1299" y="1029"/>
                </a:lnTo>
                <a:lnTo>
                  <a:pt x="1299" y="876"/>
                </a:lnTo>
                <a:lnTo>
                  <a:pt x="1299" y="786"/>
                </a:lnTo>
                <a:lnTo>
                  <a:pt x="1294" y="678"/>
                </a:lnTo>
                <a:lnTo>
                  <a:pt x="1285" y="562"/>
                </a:lnTo>
                <a:lnTo>
                  <a:pt x="1276" y="440"/>
                </a:lnTo>
                <a:lnTo>
                  <a:pt x="1258" y="319"/>
                </a:lnTo>
                <a:lnTo>
                  <a:pt x="1245" y="202"/>
                </a:lnTo>
                <a:lnTo>
                  <a:pt x="1222" y="94"/>
                </a:lnTo>
                <a:lnTo>
                  <a:pt x="1200" y="0"/>
                </a:lnTo>
                <a:lnTo>
                  <a:pt x="1654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4" descr=""/>
          <p:cNvPicPr/>
          <p:nvPr/>
        </p:nvPicPr>
        <p:blipFill>
          <a:blip r:embed="rId2"/>
          <a:stretch/>
        </p:blipFill>
        <p:spPr>
          <a:xfrm>
            <a:off x="685800" y="485640"/>
            <a:ext cx="9720360" cy="9847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5" descr=""/>
          <p:cNvPicPr/>
          <p:nvPr/>
        </p:nvPicPr>
        <p:blipFill>
          <a:blip r:embed="rId3"/>
          <a:stretch/>
        </p:blipFill>
        <p:spPr>
          <a:xfrm>
            <a:off x="941400" y="744480"/>
            <a:ext cx="9209160" cy="9328320"/>
          </a:xfrm>
          <a:prstGeom prst="rect">
            <a:avLst/>
          </a:prstGeom>
          <a:ln w="0">
            <a:noFill/>
          </a:ln>
        </p:spPr>
      </p:pic>
      <p:sp>
        <p:nvSpPr>
          <p:cNvPr id="60" name="Freeform 26"/>
          <p:cNvSpPr/>
          <p:nvPr/>
        </p:nvSpPr>
        <p:spPr>
          <a:xfrm>
            <a:off x="1055520" y="1620720"/>
            <a:ext cx="8942400" cy="2629080"/>
          </a:xfrm>
          <a:custGeom>
            <a:avLst/>
            <a:gdLst>
              <a:gd name="textAreaLeft" fmla="*/ 0 w 8942400"/>
              <a:gd name="textAreaRight" fmla="*/ 8942760 w 8942400"/>
              <a:gd name="textAreaTop" fmla="*/ 0 h 2629080"/>
              <a:gd name="textAreaBottom" fmla="*/ 2629440 h 2629080"/>
            </a:gdLst>
            <a:ahLst/>
            <a:rect l="textAreaLeft" t="textAreaTop" r="textAreaRight" b="textAreaBottom"/>
            <a:pathLst>
              <a:path w="4228" h="1227">
                <a:moveTo>
                  <a:pt x="4196" y="1182"/>
                </a:moveTo>
                <a:lnTo>
                  <a:pt x="4196" y="1182"/>
                </a:lnTo>
                <a:lnTo>
                  <a:pt x="4223" y="1200"/>
                </a:lnTo>
                <a:lnTo>
                  <a:pt x="4228" y="1209"/>
                </a:lnTo>
                <a:lnTo>
                  <a:pt x="4228" y="1213"/>
                </a:lnTo>
                <a:lnTo>
                  <a:pt x="4223" y="1218"/>
                </a:lnTo>
                <a:lnTo>
                  <a:pt x="4219" y="1222"/>
                </a:lnTo>
                <a:lnTo>
                  <a:pt x="4192" y="1227"/>
                </a:lnTo>
                <a:lnTo>
                  <a:pt x="40" y="1227"/>
                </a:lnTo>
                <a:lnTo>
                  <a:pt x="13" y="1222"/>
                </a:lnTo>
                <a:lnTo>
                  <a:pt x="4" y="1218"/>
                </a:lnTo>
                <a:lnTo>
                  <a:pt x="0" y="1213"/>
                </a:lnTo>
                <a:lnTo>
                  <a:pt x="4" y="1209"/>
                </a:lnTo>
                <a:lnTo>
                  <a:pt x="9" y="1200"/>
                </a:lnTo>
                <a:lnTo>
                  <a:pt x="31" y="1182"/>
                </a:lnTo>
                <a:lnTo>
                  <a:pt x="2044" y="18"/>
                </a:lnTo>
                <a:lnTo>
                  <a:pt x="2062" y="14"/>
                </a:lnTo>
                <a:lnTo>
                  <a:pt x="2080" y="5"/>
                </a:lnTo>
                <a:lnTo>
                  <a:pt x="2120" y="0"/>
                </a:lnTo>
                <a:lnTo>
                  <a:pt x="2161" y="5"/>
                </a:lnTo>
                <a:lnTo>
                  <a:pt x="2179" y="14"/>
                </a:lnTo>
                <a:lnTo>
                  <a:pt x="2197" y="18"/>
                </a:lnTo>
                <a:lnTo>
                  <a:pt x="4196" y="11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7"/>
          <p:cNvSpPr/>
          <p:nvPr/>
        </p:nvSpPr>
        <p:spPr>
          <a:xfrm>
            <a:off x="2336760" y="4046400"/>
            <a:ext cx="6388200" cy="5842080"/>
          </a:xfrm>
          <a:custGeom>
            <a:avLst/>
            <a:gdLst>
              <a:gd name="textAreaLeft" fmla="*/ 0 w 6388200"/>
              <a:gd name="textAreaRight" fmla="*/ 6388560 w 6388200"/>
              <a:gd name="textAreaTop" fmla="*/ 0 h 5842080"/>
              <a:gd name="textAreaBottom" fmla="*/ 5842440 h 5842080"/>
            </a:gdLst>
            <a:ahLst/>
            <a:rect l="textAreaLeft" t="textAreaTop" r="textAreaRight" b="textAreaBottom"/>
            <a:pathLst>
              <a:path w="3020" h="2727">
                <a:moveTo>
                  <a:pt x="3020" y="2624"/>
                </a:moveTo>
                <a:lnTo>
                  <a:pt x="3020" y="2624"/>
                </a:lnTo>
                <a:lnTo>
                  <a:pt x="3015" y="2646"/>
                </a:lnTo>
                <a:lnTo>
                  <a:pt x="3011" y="2664"/>
                </a:lnTo>
                <a:lnTo>
                  <a:pt x="3002" y="2682"/>
                </a:lnTo>
                <a:lnTo>
                  <a:pt x="2993" y="2696"/>
                </a:lnTo>
                <a:lnTo>
                  <a:pt x="2979" y="2709"/>
                </a:lnTo>
                <a:lnTo>
                  <a:pt x="2966" y="2718"/>
                </a:lnTo>
                <a:lnTo>
                  <a:pt x="2948" y="2723"/>
                </a:lnTo>
                <a:lnTo>
                  <a:pt x="2934" y="2727"/>
                </a:lnTo>
                <a:lnTo>
                  <a:pt x="86" y="2727"/>
                </a:lnTo>
                <a:lnTo>
                  <a:pt x="68" y="2723"/>
                </a:lnTo>
                <a:lnTo>
                  <a:pt x="50" y="2718"/>
                </a:lnTo>
                <a:lnTo>
                  <a:pt x="36" y="2709"/>
                </a:lnTo>
                <a:lnTo>
                  <a:pt x="23" y="2696"/>
                </a:lnTo>
                <a:lnTo>
                  <a:pt x="14" y="2682"/>
                </a:lnTo>
                <a:lnTo>
                  <a:pt x="5" y="2664"/>
                </a:lnTo>
                <a:lnTo>
                  <a:pt x="0" y="2646"/>
                </a:lnTo>
                <a:lnTo>
                  <a:pt x="0" y="2624"/>
                </a:lnTo>
                <a:lnTo>
                  <a:pt x="0" y="104"/>
                </a:lnTo>
                <a:lnTo>
                  <a:pt x="0" y="86"/>
                </a:lnTo>
                <a:lnTo>
                  <a:pt x="5" y="63"/>
                </a:lnTo>
                <a:lnTo>
                  <a:pt x="14" y="45"/>
                </a:lnTo>
                <a:lnTo>
                  <a:pt x="23" y="32"/>
                </a:lnTo>
                <a:lnTo>
                  <a:pt x="36" y="18"/>
                </a:lnTo>
                <a:lnTo>
                  <a:pt x="50" y="9"/>
                </a:lnTo>
                <a:lnTo>
                  <a:pt x="68" y="5"/>
                </a:lnTo>
                <a:lnTo>
                  <a:pt x="86" y="0"/>
                </a:lnTo>
                <a:lnTo>
                  <a:pt x="2934" y="0"/>
                </a:lnTo>
                <a:lnTo>
                  <a:pt x="2948" y="5"/>
                </a:lnTo>
                <a:lnTo>
                  <a:pt x="2966" y="9"/>
                </a:lnTo>
                <a:lnTo>
                  <a:pt x="2979" y="18"/>
                </a:lnTo>
                <a:lnTo>
                  <a:pt x="2993" y="32"/>
                </a:lnTo>
                <a:lnTo>
                  <a:pt x="3002" y="45"/>
                </a:lnTo>
                <a:lnTo>
                  <a:pt x="3011" y="63"/>
                </a:lnTo>
                <a:lnTo>
                  <a:pt x="3015" y="86"/>
                </a:lnTo>
                <a:lnTo>
                  <a:pt x="3020" y="104"/>
                </a:lnTo>
                <a:lnTo>
                  <a:pt x="3020" y="26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8"/>
          <p:cNvSpPr/>
          <p:nvPr/>
        </p:nvSpPr>
        <p:spPr>
          <a:xfrm>
            <a:off x="1006560" y="1428840"/>
            <a:ext cx="8934480" cy="2628720"/>
          </a:xfrm>
          <a:custGeom>
            <a:avLst/>
            <a:gdLst>
              <a:gd name="textAreaLeft" fmla="*/ 0 w 8934480"/>
              <a:gd name="textAreaRight" fmla="*/ 8934840 w 8934480"/>
              <a:gd name="textAreaTop" fmla="*/ 0 h 2628720"/>
              <a:gd name="textAreaBottom" fmla="*/ 2629080 h 2628720"/>
            </a:gdLst>
            <a:ahLst/>
            <a:rect l="textAreaLeft" t="textAreaTop" r="textAreaRight" b="textAreaBottom"/>
            <a:pathLst>
              <a:path w="4224" h="1227">
                <a:moveTo>
                  <a:pt x="4197" y="1182"/>
                </a:moveTo>
                <a:lnTo>
                  <a:pt x="4197" y="1182"/>
                </a:lnTo>
                <a:lnTo>
                  <a:pt x="4219" y="1200"/>
                </a:lnTo>
                <a:lnTo>
                  <a:pt x="4224" y="1209"/>
                </a:lnTo>
                <a:lnTo>
                  <a:pt x="4224" y="1213"/>
                </a:lnTo>
                <a:lnTo>
                  <a:pt x="4219" y="1218"/>
                </a:lnTo>
                <a:lnTo>
                  <a:pt x="4215" y="1222"/>
                </a:lnTo>
                <a:lnTo>
                  <a:pt x="4188" y="1227"/>
                </a:lnTo>
                <a:lnTo>
                  <a:pt x="36" y="1227"/>
                </a:lnTo>
                <a:lnTo>
                  <a:pt x="9" y="1222"/>
                </a:lnTo>
                <a:lnTo>
                  <a:pt x="0" y="1218"/>
                </a:lnTo>
                <a:lnTo>
                  <a:pt x="0" y="1213"/>
                </a:lnTo>
                <a:lnTo>
                  <a:pt x="0" y="1209"/>
                </a:lnTo>
                <a:lnTo>
                  <a:pt x="5" y="1200"/>
                </a:lnTo>
                <a:lnTo>
                  <a:pt x="27" y="1182"/>
                </a:lnTo>
                <a:lnTo>
                  <a:pt x="2040" y="18"/>
                </a:lnTo>
                <a:lnTo>
                  <a:pt x="2058" y="14"/>
                </a:lnTo>
                <a:lnTo>
                  <a:pt x="2076" y="5"/>
                </a:lnTo>
                <a:lnTo>
                  <a:pt x="2116" y="0"/>
                </a:lnTo>
                <a:lnTo>
                  <a:pt x="2157" y="5"/>
                </a:lnTo>
                <a:lnTo>
                  <a:pt x="2179" y="14"/>
                </a:lnTo>
                <a:lnTo>
                  <a:pt x="2193" y="18"/>
                </a:lnTo>
                <a:lnTo>
                  <a:pt x="4197" y="11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9"/>
          <p:cNvSpPr/>
          <p:nvPr/>
        </p:nvSpPr>
        <p:spPr>
          <a:xfrm>
            <a:off x="2279520" y="3852720"/>
            <a:ext cx="6388200" cy="5843880"/>
          </a:xfrm>
          <a:custGeom>
            <a:avLst/>
            <a:gdLst>
              <a:gd name="textAreaLeft" fmla="*/ 0 w 6388200"/>
              <a:gd name="textAreaRight" fmla="*/ 6388560 w 6388200"/>
              <a:gd name="textAreaTop" fmla="*/ 0 h 5843880"/>
              <a:gd name="textAreaBottom" fmla="*/ 5844240 h 5843880"/>
            </a:gdLst>
            <a:ahLst/>
            <a:rect l="textAreaLeft" t="textAreaTop" r="textAreaRight" b="textAreaBottom"/>
            <a:pathLst>
              <a:path w="3020" h="2727">
                <a:moveTo>
                  <a:pt x="3020" y="2624"/>
                </a:moveTo>
                <a:lnTo>
                  <a:pt x="3020" y="2624"/>
                </a:lnTo>
                <a:lnTo>
                  <a:pt x="3015" y="2647"/>
                </a:lnTo>
                <a:lnTo>
                  <a:pt x="3011" y="2664"/>
                </a:lnTo>
                <a:lnTo>
                  <a:pt x="3006" y="2682"/>
                </a:lnTo>
                <a:lnTo>
                  <a:pt x="2993" y="2696"/>
                </a:lnTo>
                <a:lnTo>
                  <a:pt x="2979" y="2709"/>
                </a:lnTo>
                <a:lnTo>
                  <a:pt x="2966" y="2718"/>
                </a:lnTo>
                <a:lnTo>
                  <a:pt x="2952" y="2723"/>
                </a:lnTo>
                <a:lnTo>
                  <a:pt x="2934" y="2727"/>
                </a:lnTo>
                <a:lnTo>
                  <a:pt x="86" y="2727"/>
                </a:lnTo>
                <a:lnTo>
                  <a:pt x="68" y="2723"/>
                </a:lnTo>
                <a:lnTo>
                  <a:pt x="54" y="2718"/>
                </a:lnTo>
                <a:lnTo>
                  <a:pt x="36" y="2709"/>
                </a:lnTo>
                <a:lnTo>
                  <a:pt x="27" y="2696"/>
                </a:lnTo>
                <a:lnTo>
                  <a:pt x="14" y="2682"/>
                </a:lnTo>
                <a:lnTo>
                  <a:pt x="5" y="2664"/>
                </a:lnTo>
                <a:lnTo>
                  <a:pt x="0" y="2647"/>
                </a:lnTo>
                <a:lnTo>
                  <a:pt x="0" y="2624"/>
                </a:lnTo>
                <a:lnTo>
                  <a:pt x="0" y="104"/>
                </a:lnTo>
                <a:lnTo>
                  <a:pt x="0" y="86"/>
                </a:lnTo>
                <a:lnTo>
                  <a:pt x="5" y="63"/>
                </a:lnTo>
                <a:lnTo>
                  <a:pt x="14" y="45"/>
                </a:lnTo>
                <a:lnTo>
                  <a:pt x="27" y="32"/>
                </a:lnTo>
                <a:lnTo>
                  <a:pt x="36" y="18"/>
                </a:lnTo>
                <a:lnTo>
                  <a:pt x="54" y="9"/>
                </a:lnTo>
                <a:lnTo>
                  <a:pt x="68" y="5"/>
                </a:lnTo>
                <a:lnTo>
                  <a:pt x="86" y="0"/>
                </a:lnTo>
                <a:lnTo>
                  <a:pt x="2934" y="0"/>
                </a:lnTo>
                <a:lnTo>
                  <a:pt x="2952" y="5"/>
                </a:lnTo>
                <a:lnTo>
                  <a:pt x="2966" y="9"/>
                </a:lnTo>
                <a:lnTo>
                  <a:pt x="2979" y="18"/>
                </a:lnTo>
                <a:lnTo>
                  <a:pt x="2993" y="32"/>
                </a:lnTo>
                <a:lnTo>
                  <a:pt x="3006" y="45"/>
                </a:lnTo>
                <a:lnTo>
                  <a:pt x="3011" y="63"/>
                </a:lnTo>
                <a:lnTo>
                  <a:pt x="3015" y="86"/>
                </a:lnTo>
                <a:lnTo>
                  <a:pt x="3020" y="104"/>
                </a:lnTo>
                <a:lnTo>
                  <a:pt x="3020" y="26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33"/>
          <p:cNvSpPr/>
          <p:nvPr/>
        </p:nvSpPr>
        <p:spPr>
          <a:xfrm>
            <a:off x="6719760" y="6337440"/>
            <a:ext cx="1633680" cy="1601640"/>
          </a:xfrm>
          <a:custGeom>
            <a:avLst/>
            <a:gdLst>
              <a:gd name="textAreaLeft" fmla="*/ 0 w 1633680"/>
              <a:gd name="textAreaRight" fmla="*/ 1634040 w 1633680"/>
              <a:gd name="textAreaTop" fmla="*/ 0 h 1601640"/>
              <a:gd name="textAreaBottom" fmla="*/ 1602000 h 1601640"/>
            </a:gdLst>
            <a:ahLst/>
            <a:rect l="textAreaLeft" t="textAreaTop" r="textAreaRight" b="textAreaBottom"/>
            <a:pathLst>
              <a:path w="808" h="782">
                <a:moveTo>
                  <a:pt x="143" y="27"/>
                </a:moveTo>
                <a:lnTo>
                  <a:pt x="143" y="139"/>
                </a:lnTo>
                <a:lnTo>
                  <a:pt x="161" y="103"/>
                </a:lnTo>
                <a:lnTo>
                  <a:pt x="175" y="77"/>
                </a:lnTo>
                <a:lnTo>
                  <a:pt x="197" y="50"/>
                </a:lnTo>
                <a:lnTo>
                  <a:pt x="215" y="32"/>
                </a:lnTo>
                <a:lnTo>
                  <a:pt x="238" y="18"/>
                </a:lnTo>
                <a:lnTo>
                  <a:pt x="260" y="9"/>
                </a:lnTo>
                <a:lnTo>
                  <a:pt x="287" y="5"/>
                </a:lnTo>
                <a:lnTo>
                  <a:pt x="310" y="0"/>
                </a:lnTo>
                <a:lnTo>
                  <a:pt x="346" y="5"/>
                </a:lnTo>
                <a:lnTo>
                  <a:pt x="377" y="18"/>
                </a:lnTo>
                <a:lnTo>
                  <a:pt x="404" y="32"/>
                </a:lnTo>
                <a:lnTo>
                  <a:pt x="422" y="54"/>
                </a:lnTo>
                <a:lnTo>
                  <a:pt x="435" y="77"/>
                </a:lnTo>
                <a:lnTo>
                  <a:pt x="444" y="99"/>
                </a:lnTo>
                <a:lnTo>
                  <a:pt x="458" y="135"/>
                </a:lnTo>
                <a:lnTo>
                  <a:pt x="480" y="94"/>
                </a:lnTo>
                <a:lnTo>
                  <a:pt x="494" y="72"/>
                </a:lnTo>
                <a:lnTo>
                  <a:pt x="512" y="50"/>
                </a:lnTo>
                <a:lnTo>
                  <a:pt x="530" y="32"/>
                </a:lnTo>
                <a:lnTo>
                  <a:pt x="557" y="14"/>
                </a:lnTo>
                <a:lnTo>
                  <a:pt x="588" y="5"/>
                </a:lnTo>
                <a:lnTo>
                  <a:pt x="629" y="0"/>
                </a:lnTo>
                <a:lnTo>
                  <a:pt x="665" y="5"/>
                </a:lnTo>
                <a:lnTo>
                  <a:pt x="701" y="18"/>
                </a:lnTo>
                <a:lnTo>
                  <a:pt x="732" y="41"/>
                </a:lnTo>
                <a:lnTo>
                  <a:pt x="759" y="72"/>
                </a:lnTo>
                <a:lnTo>
                  <a:pt x="777" y="108"/>
                </a:lnTo>
                <a:lnTo>
                  <a:pt x="795" y="157"/>
                </a:lnTo>
                <a:lnTo>
                  <a:pt x="804" y="211"/>
                </a:lnTo>
                <a:lnTo>
                  <a:pt x="808" y="274"/>
                </a:lnTo>
                <a:lnTo>
                  <a:pt x="808" y="782"/>
                </a:lnTo>
                <a:lnTo>
                  <a:pt x="651" y="782"/>
                </a:lnTo>
                <a:lnTo>
                  <a:pt x="651" y="306"/>
                </a:lnTo>
                <a:lnTo>
                  <a:pt x="651" y="279"/>
                </a:lnTo>
                <a:lnTo>
                  <a:pt x="647" y="256"/>
                </a:lnTo>
                <a:lnTo>
                  <a:pt x="638" y="234"/>
                </a:lnTo>
                <a:lnTo>
                  <a:pt x="629" y="216"/>
                </a:lnTo>
                <a:lnTo>
                  <a:pt x="615" y="198"/>
                </a:lnTo>
                <a:lnTo>
                  <a:pt x="597" y="184"/>
                </a:lnTo>
                <a:lnTo>
                  <a:pt x="570" y="180"/>
                </a:lnTo>
                <a:lnTo>
                  <a:pt x="543" y="184"/>
                </a:lnTo>
                <a:lnTo>
                  <a:pt x="525" y="198"/>
                </a:lnTo>
                <a:lnTo>
                  <a:pt x="507" y="216"/>
                </a:lnTo>
                <a:lnTo>
                  <a:pt x="498" y="238"/>
                </a:lnTo>
                <a:lnTo>
                  <a:pt x="489" y="265"/>
                </a:lnTo>
                <a:lnTo>
                  <a:pt x="485" y="288"/>
                </a:lnTo>
                <a:lnTo>
                  <a:pt x="480" y="328"/>
                </a:lnTo>
                <a:lnTo>
                  <a:pt x="480" y="782"/>
                </a:lnTo>
                <a:lnTo>
                  <a:pt x="323" y="782"/>
                </a:lnTo>
                <a:lnTo>
                  <a:pt x="323" y="306"/>
                </a:lnTo>
                <a:lnTo>
                  <a:pt x="323" y="274"/>
                </a:lnTo>
                <a:lnTo>
                  <a:pt x="319" y="252"/>
                </a:lnTo>
                <a:lnTo>
                  <a:pt x="310" y="225"/>
                </a:lnTo>
                <a:lnTo>
                  <a:pt x="301" y="202"/>
                </a:lnTo>
                <a:lnTo>
                  <a:pt x="287" y="189"/>
                </a:lnTo>
                <a:lnTo>
                  <a:pt x="269" y="184"/>
                </a:lnTo>
                <a:lnTo>
                  <a:pt x="247" y="180"/>
                </a:lnTo>
                <a:lnTo>
                  <a:pt x="220" y="184"/>
                </a:lnTo>
                <a:lnTo>
                  <a:pt x="197" y="198"/>
                </a:lnTo>
                <a:lnTo>
                  <a:pt x="184" y="216"/>
                </a:lnTo>
                <a:lnTo>
                  <a:pt x="170" y="243"/>
                </a:lnTo>
                <a:lnTo>
                  <a:pt x="161" y="265"/>
                </a:lnTo>
                <a:lnTo>
                  <a:pt x="157" y="292"/>
                </a:lnTo>
                <a:lnTo>
                  <a:pt x="157" y="337"/>
                </a:lnTo>
                <a:lnTo>
                  <a:pt x="157" y="782"/>
                </a:lnTo>
                <a:lnTo>
                  <a:pt x="0" y="782"/>
                </a:lnTo>
                <a:lnTo>
                  <a:pt x="0" y="27"/>
                </a:lnTo>
                <a:lnTo>
                  <a:pt x="143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4"/>
          <p:cNvSpPr/>
          <p:nvPr/>
        </p:nvSpPr>
        <p:spPr>
          <a:xfrm>
            <a:off x="979560" y="1141560"/>
            <a:ext cx="9121680" cy="1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6"/>
          <p:cNvSpPr/>
          <p:nvPr/>
        </p:nvSpPr>
        <p:spPr>
          <a:xfrm>
            <a:off x="17551440" y="7462800"/>
            <a:ext cx="2271600" cy="2340000"/>
          </a:xfrm>
          <a:custGeom>
            <a:avLst/>
            <a:gdLst>
              <a:gd name="textAreaLeft" fmla="*/ 0 w 2271600"/>
              <a:gd name="textAreaRight" fmla="*/ 2271960 w 2271600"/>
              <a:gd name="textAreaTop" fmla="*/ 0 h 2340000"/>
              <a:gd name="textAreaBottom" fmla="*/ 2340360 h 2340000"/>
            </a:gdLst>
            <a:ahLst/>
            <a:rect l="textAreaLeft" t="textAreaTop" r="textAreaRight" b="textAreaBottom"/>
            <a:pathLst>
              <a:path w="1074" h="1092">
                <a:moveTo>
                  <a:pt x="1074" y="72"/>
                </a:moveTo>
                <a:lnTo>
                  <a:pt x="1074" y="202"/>
                </a:lnTo>
                <a:lnTo>
                  <a:pt x="0" y="202"/>
                </a:lnTo>
                <a:lnTo>
                  <a:pt x="0" y="72"/>
                </a:lnTo>
                <a:lnTo>
                  <a:pt x="445" y="72"/>
                </a:lnTo>
                <a:lnTo>
                  <a:pt x="445" y="0"/>
                </a:lnTo>
                <a:lnTo>
                  <a:pt x="629" y="0"/>
                </a:lnTo>
                <a:lnTo>
                  <a:pt x="638" y="5"/>
                </a:lnTo>
                <a:lnTo>
                  <a:pt x="643" y="14"/>
                </a:lnTo>
                <a:lnTo>
                  <a:pt x="643" y="23"/>
                </a:lnTo>
                <a:lnTo>
                  <a:pt x="638" y="27"/>
                </a:lnTo>
                <a:lnTo>
                  <a:pt x="629" y="32"/>
                </a:lnTo>
                <a:lnTo>
                  <a:pt x="629" y="36"/>
                </a:lnTo>
                <a:lnTo>
                  <a:pt x="629" y="72"/>
                </a:lnTo>
                <a:lnTo>
                  <a:pt x="1074" y="72"/>
                </a:lnTo>
                <a:close/>
                <a:moveTo>
                  <a:pt x="454" y="948"/>
                </a:moveTo>
                <a:lnTo>
                  <a:pt x="454" y="997"/>
                </a:lnTo>
                <a:lnTo>
                  <a:pt x="297" y="997"/>
                </a:lnTo>
                <a:lnTo>
                  <a:pt x="297" y="687"/>
                </a:lnTo>
                <a:lnTo>
                  <a:pt x="791" y="687"/>
                </a:lnTo>
                <a:lnTo>
                  <a:pt x="791" y="926"/>
                </a:lnTo>
                <a:lnTo>
                  <a:pt x="836" y="930"/>
                </a:lnTo>
                <a:lnTo>
                  <a:pt x="849" y="930"/>
                </a:lnTo>
                <a:lnTo>
                  <a:pt x="858" y="926"/>
                </a:lnTo>
                <a:lnTo>
                  <a:pt x="863" y="912"/>
                </a:lnTo>
                <a:lnTo>
                  <a:pt x="867" y="899"/>
                </a:lnTo>
                <a:lnTo>
                  <a:pt x="867" y="656"/>
                </a:lnTo>
                <a:lnTo>
                  <a:pt x="216" y="656"/>
                </a:lnTo>
                <a:lnTo>
                  <a:pt x="216" y="1083"/>
                </a:lnTo>
                <a:lnTo>
                  <a:pt x="50" y="1083"/>
                </a:lnTo>
                <a:lnTo>
                  <a:pt x="50" y="530"/>
                </a:lnTo>
                <a:lnTo>
                  <a:pt x="1029" y="530"/>
                </a:lnTo>
                <a:lnTo>
                  <a:pt x="1029" y="948"/>
                </a:lnTo>
                <a:lnTo>
                  <a:pt x="1029" y="988"/>
                </a:lnTo>
                <a:lnTo>
                  <a:pt x="1020" y="1020"/>
                </a:lnTo>
                <a:lnTo>
                  <a:pt x="1002" y="1042"/>
                </a:lnTo>
                <a:lnTo>
                  <a:pt x="980" y="1060"/>
                </a:lnTo>
                <a:lnTo>
                  <a:pt x="953" y="1074"/>
                </a:lnTo>
                <a:lnTo>
                  <a:pt x="917" y="1083"/>
                </a:lnTo>
                <a:lnTo>
                  <a:pt x="876" y="1092"/>
                </a:lnTo>
                <a:lnTo>
                  <a:pt x="827" y="1092"/>
                </a:lnTo>
                <a:lnTo>
                  <a:pt x="809" y="1029"/>
                </a:lnTo>
                <a:lnTo>
                  <a:pt x="791" y="988"/>
                </a:lnTo>
                <a:lnTo>
                  <a:pt x="769" y="948"/>
                </a:lnTo>
                <a:lnTo>
                  <a:pt x="454" y="948"/>
                </a:lnTo>
                <a:close/>
                <a:moveTo>
                  <a:pt x="858" y="238"/>
                </a:moveTo>
                <a:lnTo>
                  <a:pt x="858" y="499"/>
                </a:lnTo>
                <a:lnTo>
                  <a:pt x="220" y="499"/>
                </a:lnTo>
                <a:lnTo>
                  <a:pt x="220" y="238"/>
                </a:lnTo>
                <a:lnTo>
                  <a:pt x="858" y="238"/>
                </a:lnTo>
                <a:close/>
                <a:moveTo>
                  <a:pt x="378" y="346"/>
                </a:moveTo>
                <a:lnTo>
                  <a:pt x="378" y="386"/>
                </a:lnTo>
                <a:lnTo>
                  <a:pt x="697" y="386"/>
                </a:lnTo>
                <a:lnTo>
                  <a:pt x="697" y="346"/>
                </a:lnTo>
                <a:lnTo>
                  <a:pt x="378" y="346"/>
                </a:lnTo>
                <a:close/>
                <a:moveTo>
                  <a:pt x="454" y="795"/>
                </a:moveTo>
                <a:lnTo>
                  <a:pt x="454" y="831"/>
                </a:lnTo>
                <a:lnTo>
                  <a:pt x="629" y="831"/>
                </a:lnTo>
                <a:lnTo>
                  <a:pt x="629" y="795"/>
                </a:lnTo>
                <a:lnTo>
                  <a:pt x="454" y="79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7"/>
          <p:cNvSpPr/>
          <p:nvPr/>
        </p:nvSpPr>
        <p:spPr>
          <a:xfrm>
            <a:off x="20297880" y="7493040"/>
            <a:ext cx="1976400" cy="2271600"/>
          </a:xfrm>
          <a:custGeom>
            <a:avLst/>
            <a:gdLst>
              <a:gd name="textAreaLeft" fmla="*/ 0 w 1976400"/>
              <a:gd name="textAreaRight" fmla="*/ 1976760 w 1976400"/>
              <a:gd name="textAreaTop" fmla="*/ 0 h 2271600"/>
              <a:gd name="textAreaBottom" fmla="*/ 2271960 h 2271600"/>
            </a:gdLst>
            <a:ahLst/>
            <a:rect l="textAreaLeft" t="textAreaTop" r="textAreaRight" b="textAreaBottom"/>
            <a:pathLst>
              <a:path w="934" h="1060">
                <a:moveTo>
                  <a:pt x="305" y="45"/>
                </a:moveTo>
                <a:lnTo>
                  <a:pt x="512" y="0"/>
                </a:lnTo>
                <a:lnTo>
                  <a:pt x="525" y="58"/>
                </a:lnTo>
                <a:lnTo>
                  <a:pt x="539" y="103"/>
                </a:lnTo>
                <a:lnTo>
                  <a:pt x="566" y="184"/>
                </a:lnTo>
                <a:lnTo>
                  <a:pt x="633" y="157"/>
                </a:lnTo>
                <a:lnTo>
                  <a:pt x="696" y="125"/>
                </a:lnTo>
                <a:lnTo>
                  <a:pt x="759" y="89"/>
                </a:lnTo>
                <a:lnTo>
                  <a:pt x="817" y="49"/>
                </a:lnTo>
                <a:lnTo>
                  <a:pt x="880" y="121"/>
                </a:lnTo>
                <a:lnTo>
                  <a:pt x="934" y="188"/>
                </a:lnTo>
                <a:lnTo>
                  <a:pt x="867" y="229"/>
                </a:lnTo>
                <a:lnTo>
                  <a:pt x="795" y="269"/>
                </a:lnTo>
                <a:lnTo>
                  <a:pt x="642" y="337"/>
                </a:lnTo>
                <a:lnTo>
                  <a:pt x="701" y="431"/>
                </a:lnTo>
                <a:lnTo>
                  <a:pt x="773" y="521"/>
                </a:lnTo>
                <a:lnTo>
                  <a:pt x="840" y="602"/>
                </a:lnTo>
                <a:lnTo>
                  <a:pt x="876" y="638"/>
                </a:lnTo>
                <a:lnTo>
                  <a:pt x="903" y="660"/>
                </a:lnTo>
                <a:lnTo>
                  <a:pt x="782" y="763"/>
                </a:lnTo>
                <a:lnTo>
                  <a:pt x="746" y="741"/>
                </a:lnTo>
                <a:lnTo>
                  <a:pt x="710" y="723"/>
                </a:lnTo>
                <a:lnTo>
                  <a:pt x="669" y="709"/>
                </a:lnTo>
                <a:lnTo>
                  <a:pt x="629" y="696"/>
                </a:lnTo>
                <a:lnTo>
                  <a:pt x="584" y="687"/>
                </a:lnTo>
                <a:lnTo>
                  <a:pt x="543" y="682"/>
                </a:lnTo>
                <a:lnTo>
                  <a:pt x="471" y="673"/>
                </a:lnTo>
                <a:lnTo>
                  <a:pt x="431" y="678"/>
                </a:lnTo>
                <a:lnTo>
                  <a:pt x="391" y="682"/>
                </a:lnTo>
                <a:lnTo>
                  <a:pt x="355" y="691"/>
                </a:lnTo>
                <a:lnTo>
                  <a:pt x="323" y="705"/>
                </a:lnTo>
                <a:lnTo>
                  <a:pt x="305" y="718"/>
                </a:lnTo>
                <a:lnTo>
                  <a:pt x="287" y="732"/>
                </a:lnTo>
                <a:lnTo>
                  <a:pt x="278" y="754"/>
                </a:lnTo>
                <a:lnTo>
                  <a:pt x="274" y="772"/>
                </a:lnTo>
                <a:lnTo>
                  <a:pt x="278" y="790"/>
                </a:lnTo>
                <a:lnTo>
                  <a:pt x="283" y="804"/>
                </a:lnTo>
                <a:lnTo>
                  <a:pt x="296" y="826"/>
                </a:lnTo>
                <a:lnTo>
                  <a:pt x="323" y="849"/>
                </a:lnTo>
                <a:lnTo>
                  <a:pt x="355" y="867"/>
                </a:lnTo>
                <a:lnTo>
                  <a:pt x="395" y="880"/>
                </a:lnTo>
                <a:lnTo>
                  <a:pt x="436" y="889"/>
                </a:lnTo>
                <a:lnTo>
                  <a:pt x="476" y="894"/>
                </a:lnTo>
                <a:lnTo>
                  <a:pt x="516" y="894"/>
                </a:lnTo>
                <a:lnTo>
                  <a:pt x="588" y="894"/>
                </a:lnTo>
                <a:lnTo>
                  <a:pt x="660" y="880"/>
                </a:lnTo>
                <a:lnTo>
                  <a:pt x="728" y="858"/>
                </a:lnTo>
                <a:lnTo>
                  <a:pt x="795" y="835"/>
                </a:lnTo>
                <a:lnTo>
                  <a:pt x="799" y="885"/>
                </a:lnTo>
                <a:lnTo>
                  <a:pt x="808" y="934"/>
                </a:lnTo>
                <a:lnTo>
                  <a:pt x="831" y="1019"/>
                </a:lnTo>
                <a:lnTo>
                  <a:pt x="755" y="1037"/>
                </a:lnTo>
                <a:lnTo>
                  <a:pt x="678" y="1051"/>
                </a:lnTo>
                <a:lnTo>
                  <a:pt x="602" y="1060"/>
                </a:lnTo>
                <a:lnTo>
                  <a:pt x="525" y="1060"/>
                </a:lnTo>
                <a:lnTo>
                  <a:pt x="476" y="1060"/>
                </a:lnTo>
                <a:lnTo>
                  <a:pt x="427" y="1055"/>
                </a:lnTo>
                <a:lnTo>
                  <a:pt x="382" y="1046"/>
                </a:lnTo>
                <a:lnTo>
                  <a:pt x="341" y="1042"/>
                </a:lnTo>
                <a:lnTo>
                  <a:pt x="301" y="1028"/>
                </a:lnTo>
                <a:lnTo>
                  <a:pt x="260" y="1015"/>
                </a:lnTo>
                <a:lnTo>
                  <a:pt x="229" y="1001"/>
                </a:lnTo>
                <a:lnTo>
                  <a:pt x="197" y="983"/>
                </a:lnTo>
                <a:lnTo>
                  <a:pt x="170" y="965"/>
                </a:lnTo>
                <a:lnTo>
                  <a:pt x="143" y="943"/>
                </a:lnTo>
                <a:lnTo>
                  <a:pt x="121" y="921"/>
                </a:lnTo>
                <a:lnTo>
                  <a:pt x="108" y="898"/>
                </a:lnTo>
                <a:lnTo>
                  <a:pt x="94" y="871"/>
                </a:lnTo>
                <a:lnTo>
                  <a:pt x="81" y="844"/>
                </a:lnTo>
                <a:lnTo>
                  <a:pt x="76" y="817"/>
                </a:lnTo>
                <a:lnTo>
                  <a:pt x="76" y="786"/>
                </a:lnTo>
                <a:lnTo>
                  <a:pt x="76" y="750"/>
                </a:lnTo>
                <a:lnTo>
                  <a:pt x="90" y="714"/>
                </a:lnTo>
                <a:lnTo>
                  <a:pt x="103" y="682"/>
                </a:lnTo>
                <a:lnTo>
                  <a:pt x="126" y="651"/>
                </a:lnTo>
                <a:lnTo>
                  <a:pt x="148" y="624"/>
                </a:lnTo>
                <a:lnTo>
                  <a:pt x="175" y="602"/>
                </a:lnTo>
                <a:lnTo>
                  <a:pt x="206" y="584"/>
                </a:lnTo>
                <a:lnTo>
                  <a:pt x="238" y="566"/>
                </a:lnTo>
                <a:lnTo>
                  <a:pt x="287" y="548"/>
                </a:lnTo>
                <a:lnTo>
                  <a:pt x="341" y="534"/>
                </a:lnTo>
                <a:lnTo>
                  <a:pt x="395" y="530"/>
                </a:lnTo>
                <a:lnTo>
                  <a:pt x="454" y="530"/>
                </a:lnTo>
                <a:lnTo>
                  <a:pt x="485" y="530"/>
                </a:lnTo>
                <a:lnTo>
                  <a:pt x="512" y="534"/>
                </a:lnTo>
                <a:lnTo>
                  <a:pt x="552" y="543"/>
                </a:lnTo>
                <a:lnTo>
                  <a:pt x="521" y="489"/>
                </a:lnTo>
                <a:lnTo>
                  <a:pt x="467" y="399"/>
                </a:lnTo>
                <a:lnTo>
                  <a:pt x="404" y="417"/>
                </a:lnTo>
                <a:lnTo>
                  <a:pt x="337" y="435"/>
                </a:lnTo>
                <a:lnTo>
                  <a:pt x="220" y="453"/>
                </a:lnTo>
                <a:lnTo>
                  <a:pt x="126" y="467"/>
                </a:lnTo>
                <a:lnTo>
                  <a:pt x="63" y="476"/>
                </a:lnTo>
                <a:lnTo>
                  <a:pt x="0" y="292"/>
                </a:lnTo>
                <a:lnTo>
                  <a:pt x="117" y="283"/>
                </a:lnTo>
                <a:lnTo>
                  <a:pt x="224" y="274"/>
                </a:lnTo>
                <a:lnTo>
                  <a:pt x="314" y="256"/>
                </a:lnTo>
                <a:lnTo>
                  <a:pt x="395" y="242"/>
                </a:lnTo>
                <a:lnTo>
                  <a:pt x="314" y="63"/>
                </a:lnTo>
                <a:lnTo>
                  <a:pt x="305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1"/>
          <p:cNvSpPr/>
          <p:nvPr/>
        </p:nvSpPr>
        <p:spPr>
          <a:xfrm>
            <a:off x="28974960" y="7896240"/>
            <a:ext cx="2347920" cy="1703520"/>
          </a:xfrm>
          <a:custGeom>
            <a:avLst/>
            <a:gdLst>
              <a:gd name="textAreaLeft" fmla="*/ 0 w 2347920"/>
              <a:gd name="textAreaRight" fmla="*/ 2348280 w 2347920"/>
              <a:gd name="textAreaTop" fmla="*/ 0 h 1703520"/>
              <a:gd name="textAreaBottom" fmla="*/ 1703880 h 1703520"/>
            </a:gdLst>
            <a:ahLst/>
            <a:rect l="textAreaLeft" t="textAreaTop" r="textAreaRight" b="textAreaBottom"/>
            <a:pathLst>
              <a:path w="1110" h="795">
                <a:moveTo>
                  <a:pt x="197" y="27"/>
                </a:moveTo>
                <a:lnTo>
                  <a:pt x="202" y="140"/>
                </a:lnTo>
                <a:lnTo>
                  <a:pt x="220" y="104"/>
                </a:lnTo>
                <a:lnTo>
                  <a:pt x="247" y="77"/>
                </a:lnTo>
                <a:lnTo>
                  <a:pt x="274" y="50"/>
                </a:lnTo>
                <a:lnTo>
                  <a:pt x="301" y="32"/>
                </a:lnTo>
                <a:lnTo>
                  <a:pt x="332" y="18"/>
                </a:lnTo>
                <a:lnTo>
                  <a:pt x="364" y="9"/>
                </a:lnTo>
                <a:lnTo>
                  <a:pt x="395" y="0"/>
                </a:lnTo>
                <a:lnTo>
                  <a:pt x="427" y="0"/>
                </a:lnTo>
                <a:lnTo>
                  <a:pt x="481" y="5"/>
                </a:lnTo>
                <a:lnTo>
                  <a:pt x="521" y="14"/>
                </a:lnTo>
                <a:lnTo>
                  <a:pt x="552" y="32"/>
                </a:lnTo>
                <a:lnTo>
                  <a:pt x="579" y="54"/>
                </a:lnTo>
                <a:lnTo>
                  <a:pt x="602" y="77"/>
                </a:lnTo>
                <a:lnTo>
                  <a:pt x="615" y="99"/>
                </a:lnTo>
                <a:lnTo>
                  <a:pt x="633" y="140"/>
                </a:lnTo>
                <a:lnTo>
                  <a:pt x="660" y="99"/>
                </a:lnTo>
                <a:lnTo>
                  <a:pt x="678" y="72"/>
                </a:lnTo>
                <a:lnTo>
                  <a:pt x="701" y="50"/>
                </a:lnTo>
                <a:lnTo>
                  <a:pt x="732" y="32"/>
                </a:lnTo>
                <a:lnTo>
                  <a:pt x="768" y="14"/>
                </a:lnTo>
                <a:lnTo>
                  <a:pt x="813" y="5"/>
                </a:lnTo>
                <a:lnTo>
                  <a:pt x="862" y="0"/>
                </a:lnTo>
                <a:lnTo>
                  <a:pt x="916" y="5"/>
                </a:lnTo>
                <a:lnTo>
                  <a:pt x="966" y="18"/>
                </a:lnTo>
                <a:lnTo>
                  <a:pt x="1006" y="41"/>
                </a:lnTo>
                <a:lnTo>
                  <a:pt x="1042" y="72"/>
                </a:lnTo>
                <a:lnTo>
                  <a:pt x="1056" y="90"/>
                </a:lnTo>
                <a:lnTo>
                  <a:pt x="1069" y="108"/>
                </a:lnTo>
                <a:lnTo>
                  <a:pt x="1092" y="158"/>
                </a:lnTo>
                <a:lnTo>
                  <a:pt x="1105" y="211"/>
                </a:lnTo>
                <a:lnTo>
                  <a:pt x="1110" y="279"/>
                </a:lnTo>
                <a:lnTo>
                  <a:pt x="1110" y="795"/>
                </a:lnTo>
                <a:lnTo>
                  <a:pt x="898" y="795"/>
                </a:lnTo>
                <a:lnTo>
                  <a:pt x="898" y="310"/>
                </a:lnTo>
                <a:lnTo>
                  <a:pt x="894" y="279"/>
                </a:lnTo>
                <a:lnTo>
                  <a:pt x="889" y="261"/>
                </a:lnTo>
                <a:lnTo>
                  <a:pt x="880" y="238"/>
                </a:lnTo>
                <a:lnTo>
                  <a:pt x="867" y="216"/>
                </a:lnTo>
                <a:lnTo>
                  <a:pt x="849" y="198"/>
                </a:lnTo>
                <a:lnTo>
                  <a:pt x="822" y="189"/>
                </a:lnTo>
                <a:lnTo>
                  <a:pt x="786" y="180"/>
                </a:lnTo>
                <a:lnTo>
                  <a:pt x="750" y="189"/>
                </a:lnTo>
                <a:lnTo>
                  <a:pt x="723" y="198"/>
                </a:lnTo>
                <a:lnTo>
                  <a:pt x="701" y="220"/>
                </a:lnTo>
                <a:lnTo>
                  <a:pt x="683" y="243"/>
                </a:lnTo>
                <a:lnTo>
                  <a:pt x="674" y="265"/>
                </a:lnTo>
                <a:lnTo>
                  <a:pt x="669" y="292"/>
                </a:lnTo>
                <a:lnTo>
                  <a:pt x="665" y="333"/>
                </a:lnTo>
                <a:lnTo>
                  <a:pt x="665" y="795"/>
                </a:lnTo>
                <a:lnTo>
                  <a:pt x="449" y="795"/>
                </a:lnTo>
                <a:lnTo>
                  <a:pt x="449" y="306"/>
                </a:lnTo>
                <a:lnTo>
                  <a:pt x="445" y="274"/>
                </a:lnTo>
                <a:lnTo>
                  <a:pt x="440" y="256"/>
                </a:lnTo>
                <a:lnTo>
                  <a:pt x="431" y="229"/>
                </a:lnTo>
                <a:lnTo>
                  <a:pt x="413" y="207"/>
                </a:lnTo>
                <a:lnTo>
                  <a:pt x="395" y="193"/>
                </a:lnTo>
                <a:lnTo>
                  <a:pt x="368" y="184"/>
                </a:lnTo>
                <a:lnTo>
                  <a:pt x="341" y="180"/>
                </a:lnTo>
                <a:lnTo>
                  <a:pt x="323" y="184"/>
                </a:lnTo>
                <a:lnTo>
                  <a:pt x="305" y="189"/>
                </a:lnTo>
                <a:lnTo>
                  <a:pt x="274" y="202"/>
                </a:lnTo>
                <a:lnTo>
                  <a:pt x="251" y="220"/>
                </a:lnTo>
                <a:lnTo>
                  <a:pt x="238" y="243"/>
                </a:lnTo>
                <a:lnTo>
                  <a:pt x="224" y="270"/>
                </a:lnTo>
                <a:lnTo>
                  <a:pt x="220" y="297"/>
                </a:lnTo>
                <a:lnTo>
                  <a:pt x="215" y="337"/>
                </a:lnTo>
                <a:lnTo>
                  <a:pt x="215" y="795"/>
                </a:lnTo>
                <a:lnTo>
                  <a:pt x="0" y="795"/>
                </a:lnTo>
                <a:lnTo>
                  <a:pt x="0" y="27"/>
                </a:lnTo>
                <a:lnTo>
                  <a:pt x="197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2"/>
          <p:cNvSpPr/>
          <p:nvPr/>
        </p:nvSpPr>
        <p:spPr>
          <a:xfrm>
            <a:off x="31940640" y="7483320"/>
            <a:ext cx="2012760" cy="2262240"/>
          </a:xfrm>
          <a:custGeom>
            <a:avLst/>
            <a:gdLst>
              <a:gd name="textAreaLeft" fmla="*/ 0 w 2012760"/>
              <a:gd name="textAreaRight" fmla="*/ 2013120 w 2012760"/>
              <a:gd name="textAreaTop" fmla="*/ 0 h 2262240"/>
              <a:gd name="textAreaBottom" fmla="*/ 2262600 h 2262240"/>
            </a:gdLst>
            <a:ahLst/>
            <a:rect l="textAreaLeft" t="textAreaTop" r="textAreaRight" b="textAreaBottom"/>
            <a:pathLst>
              <a:path w="952" h="1056">
                <a:moveTo>
                  <a:pt x="566" y="41"/>
                </a:moveTo>
                <a:lnTo>
                  <a:pt x="566" y="41"/>
                </a:lnTo>
                <a:lnTo>
                  <a:pt x="579" y="41"/>
                </a:lnTo>
                <a:lnTo>
                  <a:pt x="584" y="45"/>
                </a:lnTo>
                <a:lnTo>
                  <a:pt x="584" y="54"/>
                </a:lnTo>
                <a:lnTo>
                  <a:pt x="584" y="59"/>
                </a:lnTo>
                <a:lnTo>
                  <a:pt x="579" y="68"/>
                </a:lnTo>
                <a:lnTo>
                  <a:pt x="566" y="72"/>
                </a:lnTo>
                <a:lnTo>
                  <a:pt x="561" y="144"/>
                </a:lnTo>
                <a:lnTo>
                  <a:pt x="835" y="148"/>
                </a:lnTo>
                <a:lnTo>
                  <a:pt x="880" y="148"/>
                </a:lnTo>
                <a:lnTo>
                  <a:pt x="880" y="319"/>
                </a:lnTo>
                <a:lnTo>
                  <a:pt x="763" y="310"/>
                </a:lnTo>
                <a:lnTo>
                  <a:pt x="669" y="310"/>
                </a:lnTo>
                <a:lnTo>
                  <a:pt x="552" y="310"/>
                </a:lnTo>
                <a:lnTo>
                  <a:pt x="552" y="319"/>
                </a:lnTo>
                <a:lnTo>
                  <a:pt x="552" y="431"/>
                </a:lnTo>
                <a:lnTo>
                  <a:pt x="714" y="413"/>
                </a:lnTo>
                <a:lnTo>
                  <a:pt x="790" y="400"/>
                </a:lnTo>
                <a:lnTo>
                  <a:pt x="853" y="382"/>
                </a:lnTo>
                <a:lnTo>
                  <a:pt x="853" y="557"/>
                </a:lnTo>
                <a:lnTo>
                  <a:pt x="808" y="566"/>
                </a:lnTo>
                <a:lnTo>
                  <a:pt x="754" y="575"/>
                </a:lnTo>
                <a:lnTo>
                  <a:pt x="674" y="584"/>
                </a:lnTo>
                <a:lnTo>
                  <a:pt x="557" y="598"/>
                </a:lnTo>
                <a:lnTo>
                  <a:pt x="561" y="701"/>
                </a:lnTo>
                <a:lnTo>
                  <a:pt x="620" y="714"/>
                </a:lnTo>
                <a:lnTo>
                  <a:pt x="678" y="728"/>
                </a:lnTo>
                <a:lnTo>
                  <a:pt x="736" y="750"/>
                </a:lnTo>
                <a:lnTo>
                  <a:pt x="795" y="773"/>
                </a:lnTo>
                <a:lnTo>
                  <a:pt x="894" y="822"/>
                </a:lnTo>
                <a:lnTo>
                  <a:pt x="952" y="858"/>
                </a:lnTo>
                <a:lnTo>
                  <a:pt x="898" y="912"/>
                </a:lnTo>
                <a:lnTo>
                  <a:pt x="822" y="1002"/>
                </a:lnTo>
                <a:lnTo>
                  <a:pt x="772" y="962"/>
                </a:lnTo>
                <a:lnTo>
                  <a:pt x="710" y="921"/>
                </a:lnTo>
                <a:lnTo>
                  <a:pt x="638" y="885"/>
                </a:lnTo>
                <a:lnTo>
                  <a:pt x="570" y="854"/>
                </a:lnTo>
                <a:lnTo>
                  <a:pt x="570" y="881"/>
                </a:lnTo>
                <a:lnTo>
                  <a:pt x="570" y="917"/>
                </a:lnTo>
                <a:lnTo>
                  <a:pt x="557" y="953"/>
                </a:lnTo>
                <a:lnTo>
                  <a:pt x="548" y="970"/>
                </a:lnTo>
                <a:lnTo>
                  <a:pt x="539" y="988"/>
                </a:lnTo>
                <a:lnTo>
                  <a:pt x="516" y="1006"/>
                </a:lnTo>
                <a:lnTo>
                  <a:pt x="489" y="1024"/>
                </a:lnTo>
                <a:lnTo>
                  <a:pt x="462" y="1033"/>
                </a:lnTo>
                <a:lnTo>
                  <a:pt x="435" y="1042"/>
                </a:lnTo>
                <a:lnTo>
                  <a:pt x="377" y="1051"/>
                </a:lnTo>
                <a:lnTo>
                  <a:pt x="323" y="1056"/>
                </a:lnTo>
                <a:lnTo>
                  <a:pt x="260" y="1051"/>
                </a:lnTo>
                <a:lnTo>
                  <a:pt x="197" y="1038"/>
                </a:lnTo>
                <a:lnTo>
                  <a:pt x="143" y="1024"/>
                </a:lnTo>
                <a:lnTo>
                  <a:pt x="98" y="997"/>
                </a:lnTo>
                <a:lnTo>
                  <a:pt x="63" y="970"/>
                </a:lnTo>
                <a:lnTo>
                  <a:pt x="36" y="939"/>
                </a:lnTo>
                <a:lnTo>
                  <a:pt x="22" y="921"/>
                </a:lnTo>
                <a:lnTo>
                  <a:pt x="18" y="903"/>
                </a:lnTo>
                <a:lnTo>
                  <a:pt x="13" y="885"/>
                </a:lnTo>
                <a:lnTo>
                  <a:pt x="9" y="863"/>
                </a:lnTo>
                <a:lnTo>
                  <a:pt x="13" y="840"/>
                </a:lnTo>
                <a:lnTo>
                  <a:pt x="18" y="818"/>
                </a:lnTo>
                <a:lnTo>
                  <a:pt x="27" y="795"/>
                </a:lnTo>
                <a:lnTo>
                  <a:pt x="40" y="777"/>
                </a:lnTo>
                <a:lnTo>
                  <a:pt x="54" y="759"/>
                </a:lnTo>
                <a:lnTo>
                  <a:pt x="76" y="746"/>
                </a:lnTo>
                <a:lnTo>
                  <a:pt x="94" y="732"/>
                </a:lnTo>
                <a:lnTo>
                  <a:pt x="121" y="719"/>
                </a:lnTo>
                <a:lnTo>
                  <a:pt x="175" y="701"/>
                </a:lnTo>
                <a:lnTo>
                  <a:pt x="233" y="687"/>
                </a:lnTo>
                <a:lnTo>
                  <a:pt x="301" y="678"/>
                </a:lnTo>
                <a:lnTo>
                  <a:pt x="373" y="678"/>
                </a:lnTo>
                <a:lnTo>
                  <a:pt x="373" y="607"/>
                </a:lnTo>
                <a:lnTo>
                  <a:pt x="292" y="607"/>
                </a:lnTo>
                <a:lnTo>
                  <a:pt x="238" y="607"/>
                </a:lnTo>
                <a:lnTo>
                  <a:pt x="179" y="598"/>
                </a:lnTo>
                <a:lnTo>
                  <a:pt x="130" y="584"/>
                </a:lnTo>
                <a:lnTo>
                  <a:pt x="107" y="575"/>
                </a:lnTo>
                <a:lnTo>
                  <a:pt x="85" y="566"/>
                </a:lnTo>
                <a:lnTo>
                  <a:pt x="67" y="553"/>
                </a:lnTo>
                <a:lnTo>
                  <a:pt x="58" y="535"/>
                </a:lnTo>
                <a:lnTo>
                  <a:pt x="49" y="517"/>
                </a:lnTo>
                <a:lnTo>
                  <a:pt x="45" y="494"/>
                </a:lnTo>
                <a:lnTo>
                  <a:pt x="49" y="467"/>
                </a:lnTo>
                <a:lnTo>
                  <a:pt x="63" y="436"/>
                </a:lnTo>
                <a:lnTo>
                  <a:pt x="89" y="400"/>
                </a:lnTo>
                <a:lnTo>
                  <a:pt x="125" y="355"/>
                </a:lnTo>
                <a:lnTo>
                  <a:pt x="256" y="382"/>
                </a:lnTo>
                <a:lnTo>
                  <a:pt x="233" y="413"/>
                </a:lnTo>
                <a:lnTo>
                  <a:pt x="233" y="427"/>
                </a:lnTo>
                <a:lnTo>
                  <a:pt x="233" y="431"/>
                </a:lnTo>
                <a:lnTo>
                  <a:pt x="238" y="436"/>
                </a:lnTo>
                <a:lnTo>
                  <a:pt x="256" y="445"/>
                </a:lnTo>
                <a:lnTo>
                  <a:pt x="287" y="449"/>
                </a:lnTo>
                <a:lnTo>
                  <a:pt x="368" y="445"/>
                </a:lnTo>
                <a:lnTo>
                  <a:pt x="368" y="319"/>
                </a:lnTo>
                <a:lnTo>
                  <a:pt x="260" y="324"/>
                </a:lnTo>
                <a:lnTo>
                  <a:pt x="166" y="333"/>
                </a:lnTo>
                <a:lnTo>
                  <a:pt x="0" y="351"/>
                </a:lnTo>
                <a:lnTo>
                  <a:pt x="0" y="166"/>
                </a:lnTo>
                <a:lnTo>
                  <a:pt x="134" y="157"/>
                </a:lnTo>
                <a:lnTo>
                  <a:pt x="238" y="148"/>
                </a:lnTo>
                <a:lnTo>
                  <a:pt x="368" y="144"/>
                </a:lnTo>
                <a:lnTo>
                  <a:pt x="364" y="76"/>
                </a:lnTo>
                <a:lnTo>
                  <a:pt x="359" y="0"/>
                </a:lnTo>
                <a:lnTo>
                  <a:pt x="566" y="41"/>
                </a:lnTo>
                <a:close/>
                <a:moveTo>
                  <a:pt x="323" y="813"/>
                </a:moveTo>
                <a:lnTo>
                  <a:pt x="323" y="813"/>
                </a:lnTo>
                <a:lnTo>
                  <a:pt x="301" y="813"/>
                </a:lnTo>
                <a:lnTo>
                  <a:pt x="260" y="818"/>
                </a:lnTo>
                <a:lnTo>
                  <a:pt x="238" y="822"/>
                </a:lnTo>
                <a:lnTo>
                  <a:pt x="220" y="831"/>
                </a:lnTo>
                <a:lnTo>
                  <a:pt x="206" y="845"/>
                </a:lnTo>
                <a:lnTo>
                  <a:pt x="206" y="849"/>
                </a:lnTo>
                <a:lnTo>
                  <a:pt x="202" y="858"/>
                </a:lnTo>
                <a:lnTo>
                  <a:pt x="206" y="872"/>
                </a:lnTo>
                <a:lnTo>
                  <a:pt x="215" y="881"/>
                </a:lnTo>
                <a:lnTo>
                  <a:pt x="224" y="890"/>
                </a:lnTo>
                <a:lnTo>
                  <a:pt x="238" y="894"/>
                </a:lnTo>
                <a:lnTo>
                  <a:pt x="269" y="903"/>
                </a:lnTo>
                <a:lnTo>
                  <a:pt x="287" y="903"/>
                </a:lnTo>
                <a:lnTo>
                  <a:pt x="328" y="899"/>
                </a:lnTo>
                <a:lnTo>
                  <a:pt x="341" y="894"/>
                </a:lnTo>
                <a:lnTo>
                  <a:pt x="355" y="885"/>
                </a:lnTo>
                <a:lnTo>
                  <a:pt x="364" y="872"/>
                </a:lnTo>
                <a:lnTo>
                  <a:pt x="373" y="858"/>
                </a:lnTo>
                <a:lnTo>
                  <a:pt x="377" y="840"/>
                </a:lnTo>
                <a:lnTo>
                  <a:pt x="373" y="818"/>
                </a:lnTo>
                <a:lnTo>
                  <a:pt x="355" y="813"/>
                </a:lnTo>
                <a:lnTo>
                  <a:pt x="323" y="8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3"/>
          <p:cNvSpPr/>
          <p:nvPr/>
        </p:nvSpPr>
        <p:spPr>
          <a:xfrm>
            <a:off x="34437600" y="7532640"/>
            <a:ext cx="2214720" cy="2270160"/>
          </a:xfrm>
          <a:custGeom>
            <a:avLst/>
            <a:gdLst>
              <a:gd name="textAreaLeft" fmla="*/ 0 w 2214720"/>
              <a:gd name="textAreaRight" fmla="*/ 2215080 w 22147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1047" h="1060">
                <a:moveTo>
                  <a:pt x="1025" y="193"/>
                </a:moveTo>
                <a:lnTo>
                  <a:pt x="1025" y="193"/>
                </a:lnTo>
                <a:lnTo>
                  <a:pt x="980" y="193"/>
                </a:lnTo>
                <a:lnTo>
                  <a:pt x="939" y="197"/>
                </a:lnTo>
                <a:lnTo>
                  <a:pt x="899" y="206"/>
                </a:lnTo>
                <a:lnTo>
                  <a:pt x="858" y="215"/>
                </a:lnTo>
                <a:lnTo>
                  <a:pt x="823" y="229"/>
                </a:lnTo>
                <a:lnTo>
                  <a:pt x="787" y="247"/>
                </a:lnTo>
                <a:lnTo>
                  <a:pt x="751" y="269"/>
                </a:lnTo>
                <a:lnTo>
                  <a:pt x="710" y="292"/>
                </a:lnTo>
                <a:lnTo>
                  <a:pt x="652" y="341"/>
                </a:lnTo>
                <a:lnTo>
                  <a:pt x="598" y="386"/>
                </a:lnTo>
                <a:lnTo>
                  <a:pt x="562" y="435"/>
                </a:lnTo>
                <a:lnTo>
                  <a:pt x="530" y="485"/>
                </a:lnTo>
                <a:lnTo>
                  <a:pt x="508" y="530"/>
                </a:lnTo>
                <a:lnTo>
                  <a:pt x="495" y="570"/>
                </a:lnTo>
                <a:lnTo>
                  <a:pt x="486" y="606"/>
                </a:lnTo>
                <a:lnTo>
                  <a:pt x="481" y="638"/>
                </a:lnTo>
                <a:lnTo>
                  <a:pt x="486" y="664"/>
                </a:lnTo>
                <a:lnTo>
                  <a:pt x="490" y="687"/>
                </a:lnTo>
                <a:lnTo>
                  <a:pt x="499" y="709"/>
                </a:lnTo>
                <a:lnTo>
                  <a:pt x="513" y="727"/>
                </a:lnTo>
                <a:lnTo>
                  <a:pt x="526" y="745"/>
                </a:lnTo>
                <a:lnTo>
                  <a:pt x="544" y="763"/>
                </a:lnTo>
                <a:lnTo>
                  <a:pt x="589" y="790"/>
                </a:lnTo>
                <a:lnTo>
                  <a:pt x="638" y="813"/>
                </a:lnTo>
                <a:lnTo>
                  <a:pt x="697" y="831"/>
                </a:lnTo>
                <a:lnTo>
                  <a:pt x="755" y="840"/>
                </a:lnTo>
                <a:lnTo>
                  <a:pt x="814" y="844"/>
                </a:lnTo>
                <a:lnTo>
                  <a:pt x="769" y="947"/>
                </a:lnTo>
                <a:lnTo>
                  <a:pt x="746" y="1006"/>
                </a:lnTo>
                <a:lnTo>
                  <a:pt x="728" y="1060"/>
                </a:lnTo>
                <a:lnTo>
                  <a:pt x="679" y="1046"/>
                </a:lnTo>
                <a:lnTo>
                  <a:pt x="616" y="1024"/>
                </a:lnTo>
                <a:lnTo>
                  <a:pt x="544" y="992"/>
                </a:lnTo>
                <a:lnTo>
                  <a:pt x="508" y="974"/>
                </a:lnTo>
                <a:lnTo>
                  <a:pt x="472" y="952"/>
                </a:lnTo>
                <a:lnTo>
                  <a:pt x="436" y="930"/>
                </a:lnTo>
                <a:lnTo>
                  <a:pt x="405" y="898"/>
                </a:lnTo>
                <a:lnTo>
                  <a:pt x="373" y="867"/>
                </a:lnTo>
                <a:lnTo>
                  <a:pt x="346" y="835"/>
                </a:lnTo>
                <a:lnTo>
                  <a:pt x="328" y="795"/>
                </a:lnTo>
                <a:lnTo>
                  <a:pt x="310" y="754"/>
                </a:lnTo>
                <a:lnTo>
                  <a:pt x="297" y="709"/>
                </a:lnTo>
                <a:lnTo>
                  <a:pt x="297" y="655"/>
                </a:lnTo>
                <a:lnTo>
                  <a:pt x="297" y="620"/>
                </a:lnTo>
                <a:lnTo>
                  <a:pt x="301" y="579"/>
                </a:lnTo>
                <a:lnTo>
                  <a:pt x="310" y="543"/>
                </a:lnTo>
                <a:lnTo>
                  <a:pt x="319" y="512"/>
                </a:lnTo>
                <a:lnTo>
                  <a:pt x="346" y="449"/>
                </a:lnTo>
                <a:lnTo>
                  <a:pt x="382" y="390"/>
                </a:lnTo>
                <a:lnTo>
                  <a:pt x="414" y="346"/>
                </a:lnTo>
                <a:lnTo>
                  <a:pt x="450" y="305"/>
                </a:lnTo>
                <a:lnTo>
                  <a:pt x="481" y="278"/>
                </a:lnTo>
                <a:lnTo>
                  <a:pt x="504" y="260"/>
                </a:lnTo>
                <a:lnTo>
                  <a:pt x="432" y="265"/>
                </a:lnTo>
                <a:lnTo>
                  <a:pt x="355" y="274"/>
                </a:lnTo>
                <a:lnTo>
                  <a:pt x="229" y="292"/>
                </a:lnTo>
                <a:lnTo>
                  <a:pt x="27" y="328"/>
                </a:lnTo>
                <a:lnTo>
                  <a:pt x="0" y="112"/>
                </a:lnTo>
                <a:lnTo>
                  <a:pt x="131" y="107"/>
                </a:lnTo>
                <a:lnTo>
                  <a:pt x="265" y="103"/>
                </a:lnTo>
                <a:lnTo>
                  <a:pt x="418" y="94"/>
                </a:lnTo>
                <a:lnTo>
                  <a:pt x="616" y="71"/>
                </a:lnTo>
                <a:lnTo>
                  <a:pt x="764" y="49"/>
                </a:lnTo>
                <a:lnTo>
                  <a:pt x="881" y="27"/>
                </a:lnTo>
                <a:lnTo>
                  <a:pt x="989" y="0"/>
                </a:lnTo>
                <a:lnTo>
                  <a:pt x="1025" y="193"/>
                </a:lnTo>
                <a:close/>
                <a:moveTo>
                  <a:pt x="832" y="377"/>
                </a:moveTo>
                <a:lnTo>
                  <a:pt x="832" y="377"/>
                </a:lnTo>
                <a:lnTo>
                  <a:pt x="890" y="431"/>
                </a:lnTo>
                <a:lnTo>
                  <a:pt x="948" y="489"/>
                </a:lnTo>
                <a:lnTo>
                  <a:pt x="908" y="534"/>
                </a:lnTo>
                <a:lnTo>
                  <a:pt x="872" y="579"/>
                </a:lnTo>
                <a:lnTo>
                  <a:pt x="809" y="512"/>
                </a:lnTo>
                <a:lnTo>
                  <a:pt x="760" y="462"/>
                </a:lnTo>
                <a:lnTo>
                  <a:pt x="832" y="377"/>
                </a:lnTo>
                <a:close/>
                <a:moveTo>
                  <a:pt x="926" y="265"/>
                </a:moveTo>
                <a:lnTo>
                  <a:pt x="926" y="265"/>
                </a:lnTo>
                <a:lnTo>
                  <a:pt x="993" y="319"/>
                </a:lnTo>
                <a:lnTo>
                  <a:pt x="1047" y="372"/>
                </a:lnTo>
                <a:lnTo>
                  <a:pt x="975" y="462"/>
                </a:lnTo>
                <a:lnTo>
                  <a:pt x="917" y="399"/>
                </a:lnTo>
                <a:lnTo>
                  <a:pt x="858" y="346"/>
                </a:lnTo>
                <a:lnTo>
                  <a:pt x="926" y="2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30"/>
          <p:cNvSpPr/>
          <p:nvPr/>
        </p:nvSpPr>
        <p:spPr>
          <a:xfrm>
            <a:off x="22842000" y="5749920"/>
            <a:ext cx="56260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000000"/>
                </a:solidFill>
                <a:latin typeface="ＭＳ Ｐゴシック"/>
                <a:ea typeface="Aharoni"/>
              </a:rPr>
              <a:t>4.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32"/>
          <p:cNvSpPr/>
          <p:nvPr/>
        </p:nvSpPr>
        <p:spPr>
          <a:xfrm>
            <a:off x="2130120" y="4575240"/>
            <a:ext cx="4716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0" spc="-1" strike="noStrike">
                <a:solidFill>
                  <a:srgbClr val="000000"/>
                </a:solidFill>
                <a:latin typeface="ＭＳ Ｐゴシック"/>
                <a:ea typeface="Aharoni"/>
              </a:rPr>
              <a:t>4.2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0:03:53Z</dcterms:created>
  <dc:creator>NEC-PCuser</dc:creator>
  <dc:description/>
  <dc:language>en-US</dc:language>
  <cp:lastModifiedBy>tec</cp:lastModifiedBy>
  <dcterms:modified xsi:type="dcterms:W3CDTF">2015-03-24T02:01:02Z</dcterms:modified>
  <cp:revision>4</cp:revision>
  <dc:subject/>
  <dc:title>スライド 1</dc:title>
</cp:coreProperties>
</file>