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E5F-FC1C-4578-8549-9E0B0077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203-D9B7-4184-A4CC-4E2FB061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0BA-0C38-4C61-B4A7-C7B6C4F8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28D-5E74-42F4-9BC1-A98652B2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16C-53C4-499B-BDE8-F2DE8ED8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4A3-3A65-4FC3-890A-EBAFA9AE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91E-2146-4CC4-B20E-AF781D7F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7AA-18B3-4320-9D25-1057769A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AD0-ADA1-4FF2-8D33-41CF977B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B20-C0E0-4630-96FF-65CCAE8C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691-9B42-4D46-BA72-9C089D20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E95-EC2B-444D-B9E1-0A4C288C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8329034F-7C78-4890-8509-1FEA9CA69F81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61"/>
          <p:cNvGrpSpPr/>
          <p:nvPr/>
        </p:nvGrpSpPr>
        <p:grpSpPr>
          <a:xfrm>
            <a:off x="762120" y="13898520"/>
            <a:ext cx="9093240" cy="9093240"/>
            <a:chOff x="762120" y="13898520"/>
            <a:chExt cx="9093240" cy="9093240"/>
          </a:xfrm>
        </p:grpSpPr>
        <p:sp>
          <p:nvSpPr>
            <p:cNvPr id="42" name="Freeform 5"/>
            <p:cNvSpPr/>
            <p:nvPr/>
          </p:nvSpPr>
          <p:spPr>
            <a:xfrm>
              <a:off x="762120" y="13898520"/>
              <a:ext cx="9093240" cy="909324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9093240"/>
                <a:gd name="textAreaBottom" fmla="*/ 9093600 h 9093240"/>
              </a:gdLst>
              <a:ahLst/>
              <a:rect l="textAreaLeft" t="textAreaTop" r="textAreaRight" b="textAreaBottom"/>
              <a:pathLst>
                <a:path w="5728" h="5728">
                  <a:moveTo>
                    <a:pt x="5728" y="2864"/>
                  </a:moveTo>
                  <a:lnTo>
                    <a:pt x="5728" y="2864"/>
                  </a:lnTo>
                  <a:lnTo>
                    <a:pt x="5728" y="2938"/>
                  </a:lnTo>
                  <a:lnTo>
                    <a:pt x="5724" y="3010"/>
                  </a:lnTo>
                  <a:lnTo>
                    <a:pt x="5720" y="3084"/>
                  </a:lnTo>
                  <a:lnTo>
                    <a:pt x="5714" y="3156"/>
                  </a:lnTo>
                  <a:lnTo>
                    <a:pt x="5704" y="3228"/>
                  </a:lnTo>
                  <a:lnTo>
                    <a:pt x="5694" y="3300"/>
                  </a:lnTo>
                  <a:lnTo>
                    <a:pt x="5684" y="3370"/>
                  </a:lnTo>
                  <a:lnTo>
                    <a:pt x="5670" y="3440"/>
                  </a:lnTo>
                  <a:lnTo>
                    <a:pt x="5654" y="3510"/>
                  </a:lnTo>
                  <a:lnTo>
                    <a:pt x="5638" y="3578"/>
                  </a:lnTo>
                  <a:lnTo>
                    <a:pt x="5620" y="3648"/>
                  </a:lnTo>
                  <a:lnTo>
                    <a:pt x="5600" y="3714"/>
                  </a:lnTo>
                  <a:lnTo>
                    <a:pt x="5578" y="3782"/>
                  </a:lnTo>
                  <a:lnTo>
                    <a:pt x="5554" y="3848"/>
                  </a:lnTo>
                  <a:lnTo>
                    <a:pt x="5530" y="3914"/>
                  </a:lnTo>
                  <a:lnTo>
                    <a:pt x="5502" y="3978"/>
                  </a:lnTo>
                  <a:lnTo>
                    <a:pt x="5474" y="4042"/>
                  </a:lnTo>
                  <a:lnTo>
                    <a:pt x="5446" y="4104"/>
                  </a:lnTo>
                  <a:lnTo>
                    <a:pt x="5414" y="4168"/>
                  </a:lnTo>
                  <a:lnTo>
                    <a:pt x="5382" y="4228"/>
                  </a:lnTo>
                  <a:lnTo>
                    <a:pt x="5348" y="4288"/>
                  </a:lnTo>
                  <a:lnTo>
                    <a:pt x="5314" y="4348"/>
                  </a:lnTo>
                  <a:lnTo>
                    <a:pt x="5276" y="4406"/>
                  </a:lnTo>
                  <a:lnTo>
                    <a:pt x="5238" y="4464"/>
                  </a:lnTo>
                  <a:lnTo>
                    <a:pt x="5200" y="4522"/>
                  </a:lnTo>
                  <a:lnTo>
                    <a:pt x="5158" y="4576"/>
                  </a:lnTo>
                  <a:lnTo>
                    <a:pt x="5118" y="4632"/>
                  </a:lnTo>
                  <a:lnTo>
                    <a:pt x="5074" y="4684"/>
                  </a:lnTo>
                  <a:lnTo>
                    <a:pt x="5030" y="4738"/>
                  </a:lnTo>
                  <a:lnTo>
                    <a:pt x="4984" y="4788"/>
                  </a:lnTo>
                  <a:lnTo>
                    <a:pt x="4938" y="4840"/>
                  </a:lnTo>
                  <a:lnTo>
                    <a:pt x="4890" y="4888"/>
                  </a:lnTo>
                  <a:lnTo>
                    <a:pt x="4840" y="4936"/>
                  </a:lnTo>
                  <a:lnTo>
                    <a:pt x="4790" y="4984"/>
                  </a:lnTo>
                  <a:lnTo>
                    <a:pt x="4738" y="5028"/>
                  </a:lnTo>
                  <a:lnTo>
                    <a:pt x="4686" y="5074"/>
                  </a:lnTo>
                  <a:lnTo>
                    <a:pt x="4632" y="5116"/>
                  </a:lnTo>
                  <a:lnTo>
                    <a:pt x="4578" y="5158"/>
                  </a:lnTo>
                  <a:lnTo>
                    <a:pt x="4522" y="5198"/>
                  </a:lnTo>
                  <a:lnTo>
                    <a:pt x="4466" y="5238"/>
                  </a:lnTo>
                  <a:lnTo>
                    <a:pt x="4408" y="5276"/>
                  </a:lnTo>
                  <a:lnTo>
                    <a:pt x="4350" y="5312"/>
                  </a:lnTo>
                  <a:lnTo>
                    <a:pt x="4290" y="5348"/>
                  </a:lnTo>
                  <a:lnTo>
                    <a:pt x="4230" y="5382"/>
                  </a:lnTo>
                  <a:lnTo>
                    <a:pt x="4168" y="5414"/>
                  </a:lnTo>
                  <a:lnTo>
                    <a:pt x="4106" y="5444"/>
                  </a:lnTo>
                  <a:lnTo>
                    <a:pt x="4042" y="5474"/>
                  </a:lnTo>
                  <a:lnTo>
                    <a:pt x="3978" y="5502"/>
                  </a:lnTo>
                  <a:lnTo>
                    <a:pt x="3914" y="5528"/>
                  </a:lnTo>
                  <a:lnTo>
                    <a:pt x="3848" y="5554"/>
                  </a:lnTo>
                  <a:lnTo>
                    <a:pt x="3782" y="5576"/>
                  </a:lnTo>
                  <a:lnTo>
                    <a:pt x="3716" y="5598"/>
                  </a:lnTo>
                  <a:lnTo>
                    <a:pt x="3648" y="5618"/>
                  </a:lnTo>
                  <a:lnTo>
                    <a:pt x="3580" y="5638"/>
                  </a:lnTo>
                  <a:lnTo>
                    <a:pt x="3510" y="5654"/>
                  </a:lnTo>
                  <a:lnTo>
                    <a:pt x="3442" y="5670"/>
                  </a:lnTo>
                  <a:lnTo>
                    <a:pt x="3370" y="5682"/>
                  </a:lnTo>
                  <a:lnTo>
                    <a:pt x="3300" y="5694"/>
                  </a:lnTo>
                  <a:lnTo>
                    <a:pt x="3228" y="5704"/>
                  </a:lnTo>
                  <a:lnTo>
                    <a:pt x="3156" y="5712"/>
                  </a:lnTo>
                  <a:lnTo>
                    <a:pt x="3084" y="5718"/>
                  </a:lnTo>
                  <a:lnTo>
                    <a:pt x="3012" y="5724"/>
                  </a:lnTo>
                  <a:lnTo>
                    <a:pt x="2938" y="5726"/>
                  </a:lnTo>
                  <a:lnTo>
                    <a:pt x="2864" y="5728"/>
                  </a:lnTo>
                  <a:lnTo>
                    <a:pt x="2864" y="5728"/>
                  </a:lnTo>
                  <a:lnTo>
                    <a:pt x="2790" y="5726"/>
                  </a:lnTo>
                  <a:lnTo>
                    <a:pt x="2716" y="5724"/>
                  </a:lnTo>
                  <a:lnTo>
                    <a:pt x="2644" y="5718"/>
                  </a:lnTo>
                  <a:lnTo>
                    <a:pt x="2572" y="5712"/>
                  </a:lnTo>
                  <a:lnTo>
                    <a:pt x="2500" y="5704"/>
                  </a:lnTo>
                  <a:lnTo>
                    <a:pt x="2428" y="5694"/>
                  </a:lnTo>
                  <a:lnTo>
                    <a:pt x="2358" y="5682"/>
                  </a:lnTo>
                  <a:lnTo>
                    <a:pt x="2286" y="5670"/>
                  </a:lnTo>
                  <a:lnTo>
                    <a:pt x="2218" y="5654"/>
                  </a:lnTo>
                  <a:lnTo>
                    <a:pt x="2148" y="5638"/>
                  </a:lnTo>
                  <a:lnTo>
                    <a:pt x="2080" y="5618"/>
                  </a:lnTo>
                  <a:lnTo>
                    <a:pt x="2012" y="5598"/>
                  </a:lnTo>
                  <a:lnTo>
                    <a:pt x="1946" y="5576"/>
                  </a:lnTo>
                  <a:lnTo>
                    <a:pt x="1880" y="5554"/>
                  </a:lnTo>
                  <a:lnTo>
                    <a:pt x="1814" y="5528"/>
                  </a:lnTo>
                  <a:lnTo>
                    <a:pt x="1750" y="5502"/>
                  </a:lnTo>
                  <a:lnTo>
                    <a:pt x="1686" y="5474"/>
                  </a:lnTo>
                  <a:lnTo>
                    <a:pt x="1622" y="5444"/>
                  </a:lnTo>
                  <a:lnTo>
                    <a:pt x="1560" y="5414"/>
                  </a:lnTo>
                  <a:lnTo>
                    <a:pt x="1498" y="5382"/>
                  </a:lnTo>
                  <a:lnTo>
                    <a:pt x="1438" y="5348"/>
                  </a:lnTo>
                  <a:lnTo>
                    <a:pt x="1378" y="5312"/>
                  </a:lnTo>
                  <a:lnTo>
                    <a:pt x="1320" y="5276"/>
                  </a:lnTo>
                  <a:lnTo>
                    <a:pt x="1262" y="5238"/>
                  </a:lnTo>
                  <a:lnTo>
                    <a:pt x="1206" y="5198"/>
                  </a:lnTo>
                  <a:lnTo>
                    <a:pt x="1150" y="5158"/>
                  </a:lnTo>
                  <a:lnTo>
                    <a:pt x="1096" y="5116"/>
                  </a:lnTo>
                  <a:lnTo>
                    <a:pt x="1042" y="5074"/>
                  </a:lnTo>
                  <a:lnTo>
                    <a:pt x="990" y="5028"/>
                  </a:lnTo>
                  <a:lnTo>
                    <a:pt x="938" y="4984"/>
                  </a:lnTo>
                  <a:lnTo>
                    <a:pt x="888" y="4936"/>
                  </a:lnTo>
                  <a:lnTo>
                    <a:pt x="838" y="4888"/>
                  </a:lnTo>
                  <a:lnTo>
                    <a:pt x="790" y="4840"/>
                  </a:lnTo>
                  <a:lnTo>
                    <a:pt x="744" y="4788"/>
                  </a:lnTo>
                  <a:lnTo>
                    <a:pt x="698" y="4738"/>
                  </a:lnTo>
                  <a:lnTo>
                    <a:pt x="654" y="4684"/>
                  </a:lnTo>
                  <a:lnTo>
                    <a:pt x="610" y="4632"/>
                  </a:lnTo>
                  <a:lnTo>
                    <a:pt x="570" y="4576"/>
                  </a:lnTo>
                  <a:lnTo>
                    <a:pt x="528" y="4522"/>
                  </a:lnTo>
                  <a:lnTo>
                    <a:pt x="490" y="4464"/>
                  </a:lnTo>
                  <a:lnTo>
                    <a:pt x="452" y="4406"/>
                  </a:lnTo>
                  <a:lnTo>
                    <a:pt x="414" y="4348"/>
                  </a:lnTo>
                  <a:lnTo>
                    <a:pt x="380" y="4288"/>
                  </a:lnTo>
                  <a:lnTo>
                    <a:pt x="346" y="4228"/>
                  </a:lnTo>
                  <a:lnTo>
                    <a:pt x="314" y="4168"/>
                  </a:lnTo>
                  <a:lnTo>
                    <a:pt x="282" y="4104"/>
                  </a:lnTo>
                  <a:lnTo>
                    <a:pt x="254" y="4042"/>
                  </a:lnTo>
                  <a:lnTo>
                    <a:pt x="226" y="3978"/>
                  </a:lnTo>
                  <a:lnTo>
                    <a:pt x="198" y="3914"/>
                  </a:lnTo>
                  <a:lnTo>
                    <a:pt x="174" y="3848"/>
                  </a:lnTo>
                  <a:lnTo>
                    <a:pt x="150" y="3782"/>
                  </a:lnTo>
                  <a:lnTo>
                    <a:pt x="128" y="3714"/>
                  </a:lnTo>
                  <a:lnTo>
                    <a:pt x="108" y="3648"/>
                  </a:lnTo>
                  <a:lnTo>
                    <a:pt x="90" y="3578"/>
                  </a:lnTo>
                  <a:lnTo>
                    <a:pt x="74" y="3510"/>
                  </a:lnTo>
                  <a:lnTo>
                    <a:pt x="58" y="3440"/>
                  </a:lnTo>
                  <a:lnTo>
                    <a:pt x="44" y="3370"/>
                  </a:lnTo>
                  <a:lnTo>
                    <a:pt x="34" y="3300"/>
                  </a:lnTo>
                  <a:lnTo>
                    <a:pt x="24" y="3228"/>
                  </a:lnTo>
                  <a:lnTo>
                    <a:pt x="14" y="3156"/>
                  </a:lnTo>
                  <a:lnTo>
                    <a:pt x="8" y="3084"/>
                  </a:lnTo>
                  <a:lnTo>
                    <a:pt x="4" y="3010"/>
                  </a:lnTo>
                  <a:lnTo>
                    <a:pt x="0" y="2938"/>
                  </a:lnTo>
                  <a:lnTo>
                    <a:pt x="0" y="2864"/>
                  </a:lnTo>
                  <a:lnTo>
                    <a:pt x="0" y="2864"/>
                  </a:lnTo>
                  <a:lnTo>
                    <a:pt x="0" y="2790"/>
                  </a:lnTo>
                  <a:lnTo>
                    <a:pt x="4" y="2716"/>
                  </a:lnTo>
                  <a:lnTo>
                    <a:pt x="8" y="2642"/>
                  </a:lnTo>
                  <a:lnTo>
                    <a:pt x="14" y="2570"/>
                  </a:lnTo>
                  <a:lnTo>
                    <a:pt x="24" y="2498"/>
                  </a:lnTo>
                  <a:lnTo>
                    <a:pt x="34" y="2428"/>
                  </a:lnTo>
                  <a:lnTo>
                    <a:pt x="44" y="2356"/>
                  </a:lnTo>
                  <a:lnTo>
                    <a:pt x="58" y="2286"/>
                  </a:lnTo>
                  <a:lnTo>
                    <a:pt x="74" y="2216"/>
                  </a:lnTo>
                  <a:lnTo>
                    <a:pt x="90" y="2148"/>
                  </a:lnTo>
                  <a:lnTo>
                    <a:pt x="108" y="2080"/>
                  </a:lnTo>
                  <a:lnTo>
                    <a:pt x="128" y="2012"/>
                  </a:lnTo>
                  <a:lnTo>
                    <a:pt x="150" y="1944"/>
                  </a:lnTo>
                  <a:lnTo>
                    <a:pt x="174" y="1878"/>
                  </a:lnTo>
                  <a:lnTo>
                    <a:pt x="198" y="1814"/>
                  </a:lnTo>
                  <a:lnTo>
                    <a:pt x="226" y="1748"/>
                  </a:lnTo>
                  <a:lnTo>
                    <a:pt x="254" y="1684"/>
                  </a:lnTo>
                  <a:lnTo>
                    <a:pt x="282" y="1622"/>
                  </a:lnTo>
                  <a:lnTo>
                    <a:pt x="314" y="1560"/>
                  </a:lnTo>
                  <a:lnTo>
                    <a:pt x="346" y="1498"/>
                  </a:lnTo>
                  <a:lnTo>
                    <a:pt x="380" y="1438"/>
                  </a:lnTo>
                  <a:lnTo>
                    <a:pt x="414" y="1378"/>
                  </a:lnTo>
                  <a:lnTo>
                    <a:pt x="452" y="1320"/>
                  </a:lnTo>
                  <a:lnTo>
                    <a:pt x="490" y="1262"/>
                  </a:lnTo>
                  <a:lnTo>
                    <a:pt x="528" y="1206"/>
                  </a:lnTo>
                  <a:lnTo>
                    <a:pt x="570" y="1150"/>
                  </a:lnTo>
                  <a:lnTo>
                    <a:pt x="610" y="1096"/>
                  </a:lnTo>
                  <a:lnTo>
                    <a:pt x="654" y="1042"/>
                  </a:lnTo>
                  <a:lnTo>
                    <a:pt x="698" y="988"/>
                  </a:lnTo>
                  <a:lnTo>
                    <a:pt x="744" y="938"/>
                  </a:lnTo>
                  <a:lnTo>
                    <a:pt x="790" y="888"/>
                  </a:lnTo>
                  <a:lnTo>
                    <a:pt x="838" y="838"/>
                  </a:lnTo>
                  <a:lnTo>
                    <a:pt x="888" y="790"/>
                  </a:lnTo>
                  <a:lnTo>
                    <a:pt x="938" y="744"/>
                  </a:lnTo>
                  <a:lnTo>
                    <a:pt x="990" y="698"/>
                  </a:lnTo>
                  <a:lnTo>
                    <a:pt x="1042" y="654"/>
                  </a:lnTo>
                  <a:lnTo>
                    <a:pt x="1096" y="610"/>
                  </a:lnTo>
                  <a:lnTo>
                    <a:pt x="1150" y="568"/>
                  </a:lnTo>
                  <a:lnTo>
                    <a:pt x="1206" y="528"/>
                  </a:lnTo>
                  <a:lnTo>
                    <a:pt x="1262" y="488"/>
                  </a:lnTo>
                  <a:lnTo>
                    <a:pt x="1320" y="450"/>
                  </a:lnTo>
                  <a:lnTo>
                    <a:pt x="1378" y="414"/>
                  </a:lnTo>
                  <a:lnTo>
                    <a:pt x="1438" y="378"/>
                  </a:lnTo>
                  <a:lnTo>
                    <a:pt x="1498" y="344"/>
                  </a:lnTo>
                  <a:lnTo>
                    <a:pt x="1560" y="312"/>
                  </a:lnTo>
                  <a:lnTo>
                    <a:pt x="1622" y="282"/>
                  </a:lnTo>
                  <a:lnTo>
                    <a:pt x="1686" y="252"/>
                  </a:lnTo>
                  <a:lnTo>
                    <a:pt x="1750" y="224"/>
                  </a:lnTo>
                  <a:lnTo>
                    <a:pt x="1814" y="198"/>
                  </a:lnTo>
                  <a:lnTo>
                    <a:pt x="1880" y="174"/>
                  </a:lnTo>
                  <a:lnTo>
                    <a:pt x="1946" y="150"/>
                  </a:lnTo>
                  <a:lnTo>
                    <a:pt x="2012" y="128"/>
                  </a:lnTo>
                  <a:lnTo>
                    <a:pt x="2080" y="108"/>
                  </a:lnTo>
                  <a:lnTo>
                    <a:pt x="2148" y="90"/>
                  </a:lnTo>
                  <a:lnTo>
                    <a:pt x="2218" y="72"/>
                  </a:lnTo>
                  <a:lnTo>
                    <a:pt x="2286" y="58"/>
                  </a:lnTo>
                  <a:lnTo>
                    <a:pt x="2358" y="44"/>
                  </a:lnTo>
                  <a:lnTo>
                    <a:pt x="2428" y="32"/>
                  </a:lnTo>
                  <a:lnTo>
                    <a:pt x="2500" y="22"/>
                  </a:lnTo>
                  <a:lnTo>
                    <a:pt x="2572" y="14"/>
                  </a:lnTo>
                  <a:lnTo>
                    <a:pt x="2644" y="8"/>
                  </a:lnTo>
                  <a:lnTo>
                    <a:pt x="2716" y="2"/>
                  </a:lnTo>
                  <a:lnTo>
                    <a:pt x="2790" y="0"/>
                  </a:lnTo>
                  <a:lnTo>
                    <a:pt x="2864" y="0"/>
                  </a:lnTo>
                  <a:lnTo>
                    <a:pt x="2864" y="0"/>
                  </a:lnTo>
                  <a:lnTo>
                    <a:pt x="2938" y="0"/>
                  </a:lnTo>
                  <a:lnTo>
                    <a:pt x="3012" y="2"/>
                  </a:lnTo>
                  <a:lnTo>
                    <a:pt x="3084" y="8"/>
                  </a:lnTo>
                  <a:lnTo>
                    <a:pt x="3156" y="14"/>
                  </a:lnTo>
                  <a:lnTo>
                    <a:pt x="3228" y="22"/>
                  </a:lnTo>
                  <a:lnTo>
                    <a:pt x="3300" y="32"/>
                  </a:lnTo>
                  <a:lnTo>
                    <a:pt x="3370" y="44"/>
                  </a:lnTo>
                  <a:lnTo>
                    <a:pt x="3442" y="58"/>
                  </a:lnTo>
                  <a:lnTo>
                    <a:pt x="3510" y="72"/>
                  </a:lnTo>
                  <a:lnTo>
                    <a:pt x="3580" y="90"/>
                  </a:lnTo>
                  <a:lnTo>
                    <a:pt x="3648" y="108"/>
                  </a:lnTo>
                  <a:lnTo>
                    <a:pt x="3716" y="128"/>
                  </a:lnTo>
                  <a:lnTo>
                    <a:pt x="3782" y="150"/>
                  </a:lnTo>
                  <a:lnTo>
                    <a:pt x="3848" y="174"/>
                  </a:lnTo>
                  <a:lnTo>
                    <a:pt x="3914" y="198"/>
                  </a:lnTo>
                  <a:lnTo>
                    <a:pt x="3978" y="224"/>
                  </a:lnTo>
                  <a:lnTo>
                    <a:pt x="4042" y="252"/>
                  </a:lnTo>
                  <a:lnTo>
                    <a:pt x="4106" y="282"/>
                  </a:lnTo>
                  <a:lnTo>
                    <a:pt x="4168" y="312"/>
                  </a:lnTo>
                  <a:lnTo>
                    <a:pt x="4230" y="344"/>
                  </a:lnTo>
                  <a:lnTo>
                    <a:pt x="4290" y="378"/>
                  </a:lnTo>
                  <a:lnTo>
                    <a:pt x="4350" y="414"/>
                  </a:lnTo>
                  <a:lnTo>
                    <a:pt x="4408" y="450"/>
                  </a:lnTo>
                  <a:lnTo>
                    <a:pt x="4466" y="488"/>
                  </a:lnTo>
                  <a:lnTo>
                    <a:pt x="4522" y="528"/>
                  </a:lnTo>
                  <a:lnTo>
                    <a:pt x="4578" y="568"/>
                  </a:lnTo>
                  <a:lnTo>
                    <a:pt x="4632" y="610"/>
                  </a:lnTo>
                  <a:lnTo>
                    <a:pt x="4686" y="654"/>
                  </a:lnTo>
                  <a:lnTo>
                    <a:pt x="4738" y="698"/>
                  </a:lnTo>
                  <a:lnTo>
                    <a:pt x="4790" y="744"/>
                  </a:lnTo>
                  <a:lnTo>
                    <a:pt x="4840" y="790"/>
                  </a:lnTo>
                  <a:lnTo>
                    <a:pt x="4890" y="838"/>
                  </a:lnTo>
                  <a:lnTo>
                    <a:pt x="4938" y="888"/>
                  </a:lnTo>
                  <a:lnTo>
                    <a:pt x="4984" y="938"/>
                  </a:lnTo>
                  <a:lnTo>
                    <a:pt x="5030" y="988"/>
                  </a:lnTo>
                  <a:lnTo>
                    <a:pt x="5074" y="1042"/>
                  </a:lnTo>
                  <a:lnTo>
                    <a:pt x="5118" y="1096"/>
                  </a:lnTo>
                  <a:lnTo>
                    <a:pt x="5158" y="1150"/>
                  </a:lnTo>
                  <a:lnTo>
                    <a:pt x="5200" y="1206"/>
                  </a:lnTo>
                  <a:lnTo>
                    <a:pt x="5238" y="1262"/>
                  </a:lnTo>
                  <a:lnTo>
                    <a:pt x="5276" y="1320"/>
                  </a:lnTo>
                  <a:lnTo>
                    <a:pt x="5314" y="1378"/>
                  </a:lnTo>
                  <a:lnTo>
                    <a:pt x="5348" y="1438"/>
                  </a:lnTo>
                  <a:lnTo>
                    <a:pt x="5382" y="1498"/>
                  </a:lnTo>
                  <a:lnTo>
                    <a:pt x="5414" y="1560"/>
                  </a:lnTo>
                  <a:lnTo>
                    <a:pt x="5446" y="1622"/>
                  </a:lnTo>
                  <a:lnTo>
                    <a:pt x="5474" y="1684"/>
                  </a:lnTo>
                  <a:lnTo>
                    <a:pt x="5502" y="1748"/>
                  </a:lnTo>
                  <a:lnTo>
                    <a:pt x="5530" y="1814"/>
                  </a:lnTo>
                  <a:lnTo>
                    <a:pt x="5554" y="1878"/>
                  </a:lnTo>
                  <a:lnTo>
                    <a:pt x="5578" y="1944"/>
                  </a:lnTo>
                  <a:lnTo>
                    <a:pt x="5600" y="2012"/>
                  </a:lnTo>
                  <a:lnTo>
                    <a:pt x="5620" y="2080"/>
                  </a:lnTo>
                  <a:lnTo>
                    <a:pt x="5638" y="2148"/>
                  </a:lnTo>
                  <a:lnTo>
                    <a:pt x="5654" y="2216"/>
                  </a:lnTo>
                  <a:lnTo>
                    <a:pt x="5670" y="2286"/>
                  </a:lnTo>
                  <a:lnTo>
                    <a:pt x="5684" y="2356"/>
                  </a:lnTo>
                  <a:lnTo>
                    <a:pt x="5694" y="2428"/>
                  </a:lnTo>
                  <a:lnTo>
                    <a:pt x="5704" y="2498"/>
                  </a:lnTo>
                  <a:lnTo>
                    <a:pt x="5714" y="2570"/>
                  </a:lnTo>
                  <a:lnTo>
                    <a:pt x="5720" y="2642"/>
                  </a:lnTo>
                  <a:lnTo>
                    <a:pt x="5724" y="2716"/>
                  </a:lnTo>
                  <a:lnTo>
                    <a:pt x="5728" y="2790"/>
                  </a:lnTo>
                  <a:lnTo>
                    <a:pt x="5728" y="2864"/>
                  </a:lnTo>
                  <a:lnTo>
                    <a:pt x="5728" y="2864"/>
                  </a:lnTo>
                  <a:close/>
                </a:path>
              </a:pathLst>
            </a:custGeom>
            <a:noFill/>
            <a:ln w="898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Line 6"/>
            <p:cNvSpPr/>
            <p:nvPr/>
          </p:nvSpPr>
          <p:spPr>
            <a:xfrm flipV="1">
              <a:off x="1803240" y="14926680"/>
              <a:ext cx="6724800" cy="6712200"/>
            </a:xfrm>
            <a:prstGeom prst="line">
              <a:avLst/>
            </a:prstGeom>
            <a:ln w="89856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Rectangle 7"/>
          <p:cNvSpPr/>
          <p:nvPr/>
        </p:nvSpPr>
        <p:spPr>
          <a:xfrm>
            <a:off x="0" y="17640"/>
            <a:ext cx="10693440" cy="2517480"/>
          </a:xfrm>
          <a:prstGeom prst="rect">
            <a:avLst/>
          </a:prstGeom>
          <a:solidFill>
            <a:srgbClr val="1d2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40670280"/>
            <a:ext cx="10693440" cy="2517480"/>
          </a:xfrm>
          <a:prstGeom prst="rect">
            <a:avLst/>
          </a:prstGeom>
          <a:solidFill>
            <a:srgbClr val="1d2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グループ化 60"/>
          <p:cNvGrpSpPr/>
          <p:nvPr/>
        </p:nvGrpSpPr>
        <p:grpSpPr>
          <a:xfrm>
            <a:off x="434880" y="34069320"/>
            <a:ext cx="9632880" cy="5908680"/>
            <a:chOff x="434880" y="34069320"/>
            <a:chExt cx="9632880" cy="5908680"/>
          </a:xfrm>
        </p:grpSpPr>
        <p:sp>
          <p:nvSpPr>
            <p:cNvPr id="47" name="Freeform 9"/>
            <p:cNvSpPr/>
            <p:nvPr/>
          </p:nvSpPr>
          <p:spPr>
            <a:xfrm>
              <a:off x="1473120" y="34069320"/>
              <a:ext cx="7559640" cy="2098800"/>
            </a:xfrm>
            <a:custGeom>
              <a:avLst/>
              <a:gdLst>
                <a:gd name="textAreaLeft" fmla="*/ 0 w 7559640"/>
                <a:gd name="textAreaRight" fmla="*/ 7560000 w 7559640"/>
                <a:gd name="textAreaTop" fmla="*/ 0 h 2098800"/>
                <a:gd name="textAreaBottom" fmla="*/ 2099160 h 2098800"/>
              </a:gdLst>
              <a:ahLst/>
              <a:rect l="textAreaLeft" t="textAreaTop" r="textAreaRight" b="textAreaBottom"/>
              <a:pathLst>
                <a:path w="4762" h="1322">
                  <a:moveTo>
                    <a:pt x="0" y="0"/>
                  </a:moveTo>
                  <a:lnTo>
                    <a:pt x="0" y="1322"/>
                  </a:lnTo>
                  <a:lnTo>
                    <a:pt x="0" y="1322"/>
                  </a:lnTo>
                  <a:lnTo>
                    <a:pt x="218" y="1322"/>
                  </a:lnTo>
                  <a:lnTo>
                    <a:pt x="218" y="270"/>
                  </a:lnTo>
                  <a:lnTo>
                    <a:pt x="4544" y="270"/>
                  </a:lnTo>
                  <a:lnTo>
                    <a:pt x="4544" y="1322"/>
                  </a:lnTo>
                  <a:lnTo>
                    <a:pt x="4544" y="1322"/>
                  </a:lnTo>
                  <a:lnTo>
                    <a:pt x="4762" y="1322"/>
                  </a:lnTo>
                  <a:lnTo>
                    <a:pt x="47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3450960" y="34710480"/>
              <a:ext cx="2251080" cy="1457280"/>
            </a:xfrm>
            <a:custGeom>
              <a:avLst/>
              <a:gdLst>
                <a:gd name="textAreaLeft" fmla="*/ 0 w 2251080"/>
                <a:gd name="textAreaRight" fmla="*/ 2251080 w 225108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418" h="918">
                  <a:moveTo>
                    <a:pt x="918" y="0"/>
                  </a:moveTo>
                  <a:lnTo>
                    <a:pt x="0" y="918"/>
                  </a:lnTo>
                  <a:lnTo>
                    <a:pt x="0" y="918"/>
                  </a:lnTo>
                  <a:lnTo>
                    <a:pt x="500" y="918"/>
                  </a:lnTo>
                  <a:lnTo>
                    <a:pt x="1418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6406920" y="34710480"/>
              <a:ext cx="2006640" cy="1457280"/>
            </a:xfrm>
            <a:custGeom>
              <a:avLst/>
              <a:gdLst>
                <a:gd name="textAreaLeft" fmla="*/ 0 w 2006640"/>
                <a:gd name="textAreaRight" fmla="*/ 2007000 w 200664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264" h="918">
                  <a:moveTo>
                    <a:pt x="1264" y="0"/>
                  </a:moveTo>
                  <a:lnTo>
                    <a:pt x="920" y="0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500" y="918"/>
                  </a:lnTo>
                  <a:lnTo>
                    <a:pt x="1264" y="156"/>
                  </a:lnTo>
                  <a:lnTo>
                    <a:pt x="1264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2095200" y="34710480"/>
              <a:ext cx="647640" cy="6508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408" h="410">
                  <a:moveTo>
                    <a:pt x="0" y="0"/>
                  </a:moveTo>
                  <a:lnTo>
                    <a:pt x="0" y="410"/>
                  </a:lnTo>
                  <a:lnTo>
                    <a:pt x="4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7886520" y="35643960"/>
              <a:ext cx="527040" cy="5238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32" h="330">
                  <a:moveTo>
                    <a:pt x="332" y="330"/>
                  </a:moveTo>
                  <a:lnTo>
                    <a:pt x="332" y="0"/>
                  </a:lnTo>
                  <a:lnTo>
                    <a:pt x="0" y="330"/>
                  </a:lnTo>
                  <a:lnTo>
                    <a:pt x="0" y="330"/>
                  </a:lnTo>
                  <a:lnTo>
                    <a:pt x="332" y="330"/>
                  </a:lnTo>
                  <a:lnTo>
                    <a:pt x="332" y="33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2095200" y="34710480"/>
              <a:ext cx="2127240" cy="1457280"/>
            </a:xfrm>
            <a:custGeom>
              <a:avLst/>
              <a:gdLst>
                <a:gd name="textAreaLeft" fmla="*/ 0 w 2127240"/>
                <a:gd name="textAreaRight" fmla="*/ 2127600 w 212724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340" h="918">
                  <a:moveTo>
                    <a:pt x="840" y="0"/>
                  </a:moveTo>
                  <a:lnTo>
                    <a:pt x="0" y="842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422" y="918"/>
                  </a:lnTo>
                  <a:lnTo>
                    <a:pt x="1340" y="0"/>
                  </a:lnTo>
                  <a:lnTo>
                    <a:pt x="84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4930560" y="34710480"/>
              <a:ext cx="2251080" cy="1457280"/>
            </a:xfrm>
            <a:custGeom>
              <a:avLst/>
              <a:gdLst>
                <a:gd name="textAreaLeft" fmla="*/ 0 w 2251080"/>
                <a:gd name="textAreaRight" fmla="*/ 2251080 w 225108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418" h="918">
                  <a:moveTo>
                    <a:pt x="918" y="0"/>
                  </a:moveTo>
                  <a:lnTo>
                    <a:pt x="0" y="918"/>
                  </a:lnTo>
                  <a:lnTo>
                    <a:pt x="0" y="918"/>
                  </a:lnTo>
                  <a:lnTo>
                    <a:pt x="500" y="918"/>
                  </a:lnTo>
                  <a:lnTo>
                    <a:pt x="1418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2095200" y="34710480"/>
              <a:ext cx="1333440" cy="133668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840" h="842">
                  <a:moveTo>
                    <a:pt x="408" y="0"/>
                  </a:moveTo>
                  <a:lnTo>
                    <a:pt x="0" y="410"/>
                  </a:lnTo>
                  <a:lnTo>
                    <a:pt x="0" y="842"/>
                  </a:lnTo>
                  <a:lnTo>
                    <a:pt x="840" y="0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2765160" y="34710480"/>
              <a:ext cx="2143080" cy="145728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350" h="918">
                  <a:moveTo>
                    <a:pt x="918" y="0"/>
                  </a:moveTo>
                  <a:lnTo>
                    <a:pt x="0" y="918"/>
                  </a:lnTo>
                  <a:lnTo>
                    <a:pt x="0" y="918"/>
                  </a:lnTo>
                  <a:lnTo>
                    <a:pt x="432" y="918"/>
                  </a:lnTo>
                  <a:lnTo>
                    <a:pt x="1350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244760" y="34710480"/>
              <a:ext cx="2143080" cy="145728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350" h="918">
                  <a:moveTo>
                    <a:pt x="918" y="0"/>
                  </a:moveTo>
                  <a:lnTo>
                    <a:pt x="0" y="918"/>
                  </a:lnTo>
                  <a:lnTo>
                    <a:pt x="0" y="918"/>
                  </a:lnTo>
                  <a:lnTo>
                    <a:pt x="432" y="918"/>
                  </a:lnTo>
                  <a:lnTo>
                    <a:pt x="1350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5724360" y="34710480"/>
              <a:ext cx="2143080" cy="145728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350" h="918">
                  <a:moveTo>
                    <a:pt x="918" y="0"/>
                  </a:moveTo>
                  <a:lnTo>
                    <a:pt x="0" y="918"/>
                  </a:lnTo>
                  <a:lnTo>
                    <a:pt x="0" y="918"/>
                  </a:lnTo>
                  <a:lnTo>
                    <a:pt x="430" y="918"/>
                  </a:lnTo>
                  <a:lnTo>
                    <a:pt x="1350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7200720" y="34958160"/>
              <a:ext cx="1212840" cy="120960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1209600"/>
                <a:gd name="textAreaBottom" fmla="*/ 1209960 h 1209600"/>
              </a:gdLst>
              <a:ahLst/>
              <a:rect l="textAreaLeft" t="textAreaTop" r="textAreaRight" b="textAreaBottom"/>
              <a:pathLst>
                <a:path w="764" h="762">
                  <a:moveTo>
                    <a:pt x="764" y="432"/>
                  </a:moveTo>
                  <a:lnTo>
                    <a:pt x="764" y="0"/>
                  </a:lnTo>
                  <a:lnTo>
                    <a:pt x="0" y="762"/>
                  </a:lnTo>
                  <a:lnTo>
                    <a:pt x="0" y="762"/>
                  </a:lnTo>
                  <a:lnTo>
                    <a:pt x="432" y="762"/>
                  </a:lnTo>
                  <a:lnTo>
                    <a:pt x="764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2095200" y="34710480"/>
              <a:ext cx="6318360" cy="1457280"/>
            </a:xfrm>
            <a:custGeom>
              <a:avLst/>
              <a:gdLst>
                <a:gd name="textAreaLeft" fmla="*/ 0 w 6318360"/>
                <a:gd name="textAreaRight" fmla="*/ 6318720 w 631836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3980" h="918">
                  <a:moveTo>
                    <a:pt x="3636" y="0"/>
                  </a:moveTo>
                  <a:lnTo>
                    <a:pt x="3204" y="0"/>
                  </a:lnTo>
                  <a:lnTo>
                    <a:pt x="2704" y="0"/>
                  </a:lnTo>
                  <a:lnTo>
                    <a:pt x="2272" y="0"/>
                  </a:lnTo>
                  <a:lnTo>
                    <a:pt x="1772" y="0"/>
                  </a:lnTo>
                  <a:lnTo>
                    <a:pt x="1340" y="0"/>
                  </a:lnTo>
                  <a:lnTo>
                    <a:pt x="840" y="0"/>
                  </a:lnTo>
                  <a:lnTo>
                    <a:pt x="408" y="0"/>
                  </a:lnTo>
                  <a:lnTo>
                    <a:pt x="0" y="0"/>
                  </a:lnTo>
                  <a:lnTo>
                    <a:pt x="0" y="410"/>
                  </a:lnTo>
                  <a:lnTo>
                    <a:pt x="0" y="842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422" y="918"/>
                  </a:lnTo>
                  <a:lnTo>
                    <a:pt x="422" y="918"/>
                  </a:lnTo>
                  <a:lnTo>
                    <a:pt x="854" y="918"/>
                  </a:lnTo>
                  <a:lnTo>
                    <a:pt x="854" y="918"/>
                  </a:lnTo>
                  <a:lnTo>
                    <a:pt x="1354" y="918"/>
                  </a:lnTo>
                  <a:lnTo>
                    <a:pt x="1354" y="918"/>
                  </a:lnTo>
                  <a:lnTo>
                    <a:pt x="1786" y="918"/>
                  </a:lnTo>
                  <a:lnTo>
                    <a:pt x="1786" y="918"/>
                  </a:lnTo>
                  <a:lnTo>
                    <a:pt x="2286" y="918"/>
                  </a:lnTo>
                  <a:lnTo>
                    <a:pt x="2286" y="918"/>
                  </a:lnTo>
                  <a:lnTo>
                    <a:pt x="2716" y="918"/>
                  </a:lnTo>
                  <a:lnTo>
                    <a:pt x="2716" y="918"/>
                  </a:lnTo>
                  <a:lnTo>
                    <a:pt x="3216" y="918"/>
                  </a:lnTo>
                  <a:lnTo>
                    <a:pt x="3216" y="918"/>
                  </a:lnTo>
                  <a:lnTo>
                    <a:pt x="3648" y="918"/>
                  </a:lnTo>
                  <a:lnTo>
                    <a:pt x="3648" y="918"/>
                  </a:lnTo>
                  <a:lnTo>
                    <a:pt x="3980" y="918"/>
                  </a:lnTo>
                  <a:lnTo>
                    <a:pt x="3980" y="588"/>
                  </a:lnTo>
                  <a:lnTo>
                    <a:pt x="3980" y="156"/>
                  </a:lnTo>
                  <a:lnTo>
                    <a:pt x="3980" y="0"/>
                  </a:lnTo>
                  <a:lnTo>
                    <a:pt x="3636" y="0"/>
                  </a:lnTo>
                  <a:close/>
                </a:path>
              </a:pathLst>
            </a:custGeom>
            <a:noFill/>
            <a:ln w="31680">
              <a:solidFill>
                <a:srgbClr val="f5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7994520" y="36390240"/>
              <a:ext cx="606240" cy="60624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82" h="382">
                  <a:moveTo>
                    <a:pt x="110" y="0"/>
                  </a:moveTo>
                  <a:lnTo>
                    <a:pt x="0" y="382"/>
                  </a:lnTo>
                  <a:lnTo>
                    <a:pt x="382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7149960" y="38241360"/>
              <a:ext cx="1110960" cy="167004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700" h="1052">
                  <a:moveTo>
                    <a:pt x="700" y="0"/>
                  </a:moveTo>
                  <a:lnTo>
                    <a:pt x="142" y="558"/>
                  </a:lnTo>
                  <a:lnTo>
                    <a:pt x="0" y="1052"/>
                  </a:lnTo>
                  <a:lnTo>
                    <a:pt x="558" y="492"/>
                  </a:lnTo>
                  <a:lnTo>
                    <a:pt x="70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7559640" y="39698640"/>
              <a:ext cx="282240" cy="2793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8" h="176">
                  <a:moveTo>
                    <a:pt x="126" y="176"/>
                  </a:moveTo>
                  <a:lnTo>
                    <a:pt x="178" y="0"/>
                  </a:lnTo>
                  <a:lnTo>
                    <a:pt x="0" y="176"/>
                  </a:lnTo>
                  <a:lnTo>
                    <a:pt x="126" y="176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7572240" y="36784080"/>
              <a:ext cx="1110960" cy="167004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700" h="1052">
                  <a:moveTo>
                    <a:pt x="700" y="0"/>
                  </a:moveTo>
                  <a:lnTo>
                    <a:pt x="142" y="558"/>
                  </a:lnTo>
                  <a:lnTo>
                    <a:pt x="0" y="1052"/>
                  </a:lnTo>
                  <a:lnTo>
                    <a:pt x="558" y="492"/>
                  </a:lnTo>
                  <a:lnTo>
                    <a:pt x="70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9016920" y="3803508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308" y="0"/>
                  </a:moveTo>
                  <a:lnTo>
                    <a:pt x="0" y="308"/>
                  </a:lnTo>
                  <a:lnTo>
                    <a:pt x="78" y="578"/>
                  </a:lnTo>
                  <a:lnTo>
                    <a:pt x="386" y="27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9248760" y="3883824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308" y="0"/>
                  </a:moveTo>
                  <a:lnTo>
                    <a:pt x="0" y="308"/>
                  </a:lnTo>
                  <a:lnTo>
                    <a:pt x="78" y="578"/>
                  </a:lnTo>
                  <a:lnTo>
                    <a:pt x="386" y="27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8791560" y="36428400"/>
              <a:ext cx="374400" cy="80316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236" h="506">
                  <a:moveTo>
                    <a:pt x="0" y="506"/>
                  </a:moveTo>
                  <a:lnTo>
                    <a:pt x="236" y="272"/>
                  </a:lnTo>
                  <a:lnTo>
                    <a:pt x="156" y="0"/>
                  </a:lnTo>
                  <a:lnTo>
                    <a:pt x="142" y="14"/>
                  </a:lnTo>
                  <a:lnTo>
                    <a:pt x="0" y="506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8785080" y="3723156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78" y="578"/>
                  </a:moveTo>
                  <a:lnTo>
                    <a:pt x="386" y="272"/>
                  </a:lnTo>
                  <a:lnTo>
                    <a:pt x="308" y="0"/>
                  </a:lnTo>
                  <a:lnTo>
                    <a:pt x="0" y="308"/>
                  </a:lnTo>
                  <a:lnTo>
                    <a:pt x="78" y="578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9629640" y="39641760"/>
              <a:ext cx="438120" cy="3362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76" h="212">
                  <a:moveTo>
                    <a:pt x="276" y="212"/>
                  </a:moveTo>
                  <a:lnTo>
                    <a:pt x="214" y="0"/>
                  </a:lnTo>
                  <a:lnTo>
                    <a:pt x="0" y="212"/>
                  </a:lnTo>
                  <a:lnTo>
                    <a:pt x="276" y="212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7797600" y="36390240"/>
              <a:ext cx="1000080" cy="127944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630" h="806">
                  <a:moveTo>
                    <a:pt x="630" y="0"/>
                  </a:moveTo>
                  <a:lnTo>
                    <a:pt x="506" y="0"/>
                  </a:lnTo>
                  <a:lnTo>
                    <a:pt x="124" y="382"/>
                  </a:lnTo>
                  <a:lnTo>
                    <a:pt x="0" y="806"/>
                  </a:lnTo>
                  <a:lnTo>
                    <a:pt x="558" y="248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7375320" y="37564920"/>
              <a:ext cx="1082520" cy="1562040"/>
            </a:xfrm>
            <a:custGeom>
              <a:avLst/>
              <a:gdLst>
                <a:gd name="textAreaLeft" fmla="*/ 0 w 1082520"/>
                <a:gd name="textAreaRight" fmla="*/ 1082520 w 10825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682" h="984">
                  <a:moveTo>
                    <a:pt x="682" y="0"/>
                  </a:moveTo>
                  <a:lnTo>
                    <a:pt x="124" y="560"/>
                  </a:lnTo>
                  <a:lnTo>
                    <a:pt x="0" y="984"/>
                  </a:lnTo>
                  <a:lnTo>
                    <a:pt x="558" y="426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7130880" y="39022560"/>
              <a:ext cx="904680" cy="95544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570" h="602">
                  <a:moveTo>
                    <a:pt x="12" y="560"/>
                  </a:moveTo>
                  <a:lnTo>
                    <a:pt x="0" y="602"/>
                  </a:lnTo>
                  <a:lnTo>
                    <a:pt x="270" y="602"/>
                  </a:lnTo>
                  <a:lnTo>
                    <a:pt x="448" y="426"/>
                  </a:lnTo>
                  <a:lnTo>
                    <a:pt x="570" y="0"/>
                  </a:lnTo>
                  <a:lnTo>
                    <a:pt x="12" y="5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8718480" y="36860040"/>
              <a:ext cx="555480" cy="86040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350" h="542">
                  <a:moveTo>
                    <a:pt x="0" y="396"/>
                  </a:moveTo>
                  <a:lnTo>
                    <a:pt x="42" y="542"/>
                  </a:lnTo>
                  <a:lnTo>
                    <a:pt x="350" y="234"/>
                  </a:lnTo>
                  <a:lnTo>
                    <a:pt x="282" y="0"/>
                  </a:lnTo>
                  <a:lnTo>
                    <a:pt x="46" y="234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8908920" y="37663560"/>
              <a:ext cx="596880" cy="8604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376" h="542">
                  <a:moveTo>
                    <a:pt x="308" y="0"/>
                  </a:moveTo>
                  <a:lnTo>
                    <a:pt x="0" y="306"/>
                  </a:lnTo>
                  <a:lnTo>
                    <a:pt x="68" y="542"/>
                  </a:lnTo>
                  <a:lnTo>
                    <a:pt x="376" y="234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9140760" y="38463480"/>
              <a:ext cx="596880" cy="86364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76" h="544">
                  <a:moveTo>
                    <a:pt x="308" y="0"/>
                  </a:moveTo>
                  <a:lnTo>
                    <a:pt x="0" y="308"/>
                  </a:lnTo>
                  <a:lnTo>
                    <a:pt x="68" y="544"/>
                  </a:lnTo>
                  <a:lnTo>
                    <a:pt x="376" y="236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9372600" y="39267000"/>
              <a:ext cx="596880" cy="711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376" h="448">
                  <a:moveTo>
                    <a:pt x="162" y="448"/>
                  </a:moveTo>
                  <a:lnTo>
                    <a:pt x="376" y="236"/>
                  </a:lnTo>
                  <a:lnTo>
                    <a:pt x="308" y="0"/>
                  </a:lnTo>
                  <a:lnTo>
                    <a:pt x="0" y="308"/>
                  </a:lnTo>
                  <a:lnTo>
                    <a:pt x="42" y="448"/>
                  </a:lnTo>
                  <a:lnTo>
                    <a:pt x="162" y="4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7127640" y="36390240"/>
              <a:ext cx="1670040" cy="358776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3587760"/>
                <a:gd name="textAreaBottom" fmla="*/ 3588120 h 3587760"/>
              </a:gdLst>
              <a:ahLst/>
              <a:rect l="textAreaLeft" t="textAreaTop" r="textAreaRight" b="textAreaBottom"/>
              <a:pathLst>
                <a:path w="1052" h="2260">
                  <a:moveTo>
                    <a:pt x="398" y="2260"/>
                  </a:moveTo>
                  <a:lnTo>
                    <a:pt x="1052" y="0"/>
                  </a:lnTo>
                  <a:lnTo>
                    <a:pt x="656" y="0"/>
                  </a:lnTo>
                  <a:lnTo>
                    <a:pt x="0" y="2260"/>
                  </a:lnTo>
                  <a:lnTo>
                    <a:pt x="398" y="2260"/>
                  </a:lnTo>
                  <a:close/>
                </a:path>
              </a:pathLst>
            </a:custGeom>
            <a:noFill/>
            <a:ln w="31680">
              <a:solidFill>
                <a:srgbClr val="f5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8718480" y="36399600"/>
              <a:ext cx="1349280" cy="357840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578400"/>
                <a:gd name="textAreaBottom" fmla="*/ 3578760 h 3578400"/>
              </a:gdLst>
              <a:ahLst/>
              <a:rect l="textAreaLeft" t="textAreaTop" r="textAreaRight" b="textAreaBottom"/>
              <a:pathLst>
                <a:path w="850" h="2254">
                  <a:moveTo>
                    <a:pt x="850" y="2254"/>
                  </a:moveTo>
                  <a:lnTo>
                    <a:pt x="198" y="0"/>
                  </a:lnTo>
                  <a:lnTo>
                    <a:pt x="0" y="686"/>
                  </a:lnTo>
                  <a:lnTo>
                    <a:pt x="454" y="2254"/>
                  </a:lnTo>
                  <a:lnTo>
                    <a:pt x="850" y="2254"/>
                  </a:lnTo>
                  <a:close/>
                </a:path>
              </a:pathLst>
            </a:custGeom>
            <a:noFill/>
            <a:ln w="31680">
              <a:solidFill>
                <a:srgbClr val="f5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298160" y="36390240"/>
              <a:ext cx="606240" cy="60624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82" h="382">
                  <a:moveTo>
                    <a:pt x="110" y="0"/>
                  </a:moveTo>
                  <a:lnTo>
                    <a:pt x="0" y="382"/>
                  </a:lnTo>
                  <a:lnTo>
                    <a:pt x="382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453600" y="38241360"/>
              <a:ext cx="1114200" cy="167004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702" h="1052">
                  <a:moveTo>
                    <a:pt x="702" y="0"/>
                  </a:moveTo>
                  <a:lnTo>
                    <a:pt x="144" y="558"/>
                  </a:lnTo>
                  <a:lnTo>
                    <a:pt x="0" y="1052"/>
                  </a:lnTo>
                  <a:lnTo>
                    <a:pt x="558" y="492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866520" y="39698640"/>
              <a:ext cx="279360" cy="2793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6" h="176">
                  <a:moveTo>
                    <a:pt x="124" y="176"/>
                  </a:moveTo>
                  <a:lnTo>
                    <a:pt x="176" y="0"/>
                  </a:lnTo>
                  <a:lnTo>
                    <a:pt x="0" y="176"/>
                  </a:lnTo>
                  <a:lnTo>
                    <a:pt x="124" y="176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875880" y="36784080"/>
              <a:ext cx="1114200" cy="167004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702" h="1052">
                  <a:moveTo>
                    <a:pt x="702" y="0"/>
                  </a:moveTo>
                  <a:lnTo>
                    <a:pt x="142" y="558"/>
                  </a:lnTo>
                  <a:lnTo>
                    <a:pt x="0" y="1052"/>
                  </a:lnTo>
                  <a:lnTo>
                    <a:pt x="558" y="492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2320560" y="3803508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308" y="0"/>
                  </a:moveTo>
                  <a:lnTo>
                    <a:pt x="0" y="308"/>
                  </a:lnTo>
                  <a:lnTo>
                    <a:pt x="80" y="578"/>
                  </a:lnTo>
                  <a:lnTo>
                    <a:pt x="386" y="27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2555640" y="3883824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306" y="0"/>
                  </a:moveTo>
                  <a:lnTo>
                    <a:pt x="0" y="308"/>
                  </a:lnTo>
                  <a:lnTo>
                    <a:pt x="78" y="578"/>
                  </a:lnTo>
                  <a:lnTo>
                    <a:pt x="386" y="27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2098440" y="36428400"/>
              <a:ext cx="371160" cy="8031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234" h="506">
                  <a:moveTo>
                    <a:pt x="0" y="506"/>
                  </a:moveTo>
                  <a:lnTo>
                    <a:pt x="234" y="272"/>
                  </a:lnTo>
                  <a:lnTo>
                    <a:pt x="156" y="0"/>
                  </a:lnTo>
                  <a:lnTo>
                    <a:pt x="142" y="14"/>
                  </a:lnTo>
                  <a:lnTo>
                    <a:pt x="0" y="506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2089080" y="3723156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78" y="578"/>
                  </a:moveTo>
                  <a:lnTo>
                    <a:pt x="386" y="272"/>
                  </a:lnTo>
                  <a:lnTo>
                    <a:pt x="308" y="0"/>
                  </a:lnTo>
                  <a:lnTo>
                    <a:pt x="0" y="308"/>
                  </a:lnTo>
                  <a:lnTo>
                    <a:pt x="78" y="578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2936520" y="39641760"/>
              <a:ext cx="438120" cy="3362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76" h="212">
                  <a:moveTo>
                    <a:pt x="276" y="212"/>
                  </a:moveTo>
                  <a:lnTo>
                    <a:pt x="214" y="0"/>
                  </a:lnTo>
                  <a:lnTo>
                    <a:pt x="0" y="212"/>
                  </a:lnTo>
                  <a:lnTo>
                    <a:pt x="276" y="212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1101600" y="36390240"/>
              <a:ext cx="1003320" cy="127944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632" h="806">
                  <a:moveTo>
                    <a:pt x="632" y="0"/>
                  </a:moveTo>
                  <a:lnTo>
                    <a:pt x="506" y="0"/>
                  </a:lnTo>
                  <a:lnTo>
                    <a:pt x="124" y="382"/>
                  </a:lnTo>
                  <a:lnTo>
                    <a:pt x="0" y="806"/>
                  </a:lnTo>
                  <a:lnTo>
                    <a:pt x="560" y="248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682200" y="37564920"/>
              <a:ext cx="1079280" cy="156204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680" h="984">
                  <a:moveTo>
                    <a:pt x="680" y="0"/>
                  </a:moveTo>
                  <a:lnTo>
                    <a:pt x="122" y="560"/>
                  </a:lnTo>
                  <a:lnTo>
                    <a:pt x="0" y="984"/>
                  </a:lnTo>
                  <a:lnTo>
                    <a:pt x="558" y="426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434880" y="39022560"/>
              <a:ext cx="904680" cy="95544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570" h="602">
                  <a:moveTo>
                    <a:pt x="12" y="560"/>
                  </a:moveTo>
                  <a:lnTo>
                    <a:pt x="0" y="602"/>
                  </a:lnTo>
                  <a:lnTo>
                    <a:pt x="272" y="602"/>
                  </a:lnTo>
                  <a:lnTo>
                    <a:pt x="448" y="426"/>
                  </a:lnTo>
                  <a:lnTo>
                    <a:pt x="570" y="0"/>
                  </a:lnTo>
                  <a:lnTo>
                    <a:pt x="12" y="5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2022120" y="36860040"/>
              <a:ext cx="555480" cy="86040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350" h="542">
                  <a:moveTo>
                    <a:pt x="0" y="396"/>
                  </a:moveTo>
                  <a:lnTo>
                    <a:pt x="42" y="542"/>
                  </a:lnTo>
                  <a:lnTo>
                    <a:pt x="350" y="234"/>
                  </a:lnTo>
                  <a:lnTo>
                    <a:pt x="282" y="0"/>
                  </a:lnTo>
                  <a:lnTo>
                    <a:pt x="48" y="234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2212920" y="37663560"/>
              <a:ext cx="596880" cy="8604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376" h="542">
                  <a:moveTo>
                    <a:pt x="308" y="0"/>
                  </a:moveTo>
                  <a:lnTo>
                    <a:pt x="0" y="306"/>
                  </a:lnTo>
                  <a:lnTo>
                    <a:pt x="68" y="542"/>
                  </a:lnTo>
                  <a:lnTo>
                    <a:pt x="376" y="234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2447640" y="38463480"/>
              <a:ext cx="593640" cy="86364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74" h="544">
                  <a:moveTo>
                    <a:pt x="306" y="0"/>
                  </a:moveTo>
                  <a:lnTo>
                    <a:pt x="0" y="308"/>
                  </a:lnTo>
                  <a:lnTo>
                    <a:pt x="68" y="544"/>
                  </a:lnTo>
                  <a:lnTo>
                    <a:pt x="374" y="236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2679480" y="39267000"/>
              <a:ext cx="596880" cy="711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376" h="448">
                  <a:moveTo>
                    <a:pt x="162" y="448"/>
                  </a:moveTo>
                  <a:lnTo>
                    <a:pt x="376" y="236"/>
                  </a:lnTo>
                  <a:lnTo>
                    <a:pt x="308" y="0"/>
                  </a:lnTo>
                  <a:lnTo>
                    <a:pt x="0" y="308"/>
                  </a:lnTo>
                  <a:lnTo>
                    <a:pt x="40" y="448"/>
                  </a:lnTo>
                  <a:lnTo>
                    <a:pt x="162" y="4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434880" y="36390240"/>
              <a:ext cx="1670040" cy="358776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3587760"/>
                <a:gd name="textAreaBottom" fmla="*/ 3588120 h 3587760"/>
              </a:gdLst>
              <a:ahLst/>
              <a:rect l="textAreaLeft" t="textAreaTop" r="textAreaRight" b="textAreaBottom"/>
              <a:pathLst>
                <a:path w="1052" h="2260">
                  <a:moveTo>
                    <a:pt x="396" y="2260"/>
                  </a:moveTo>
                  <a:lnTo>
                    <a:pt x="1052" y="0"/>
                  </a:lnTo>
                  <a:lnTo>
                    <a:pt x="654" y="0"/>
                  </a:lnTo>
                  <a:lnTo>
                    <a:pt x="0" y="2260"/>
                  </a:lnTo>
                  <a:lnTo>
                    <a:pt x="396" y="2260"/>
                  </a:lnTo>
                  <a:close/>
                </a:path>
              </a:pathLst>
            </a:custGeom>
            <a:noFill/>
            <a:ln w="31680">
              <a:solidFill>
                <a:srgbClr val="f5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2022120" y="36399600"/>
              <a:ext cx="1349280" cy="357840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578400"/>
                <a:gd name="textAreaBottom" fmla="*/ 3578760 h 3578400"/>
              </a:gdLst>
              <a:ahLst/>
              <a:rect l="textAreaLeft" t="textAreaTop" r="textAreaRight" b="textAreaBottom"/>
              <a:pathLst>
                <a:path w="850" h="2254">
                  <a:moveTo>
                    <a:pt x="850" y="2254"/>
                  </a:moveTo>
                  <a:lnTo>
                    <a:pt x="198" y="0"/>
                  </a:lnTo>
                  <a:lnTo>
                    <a:pt x="0" y="686"/>
                  </a:lnTo>
                  <a:lnTo>
                    <a:pt x="454" y="2254"/>
                  </a:lnTo>
                  <a:lnTo>
                    <a:pt x="850" y="2254"/>
                  </a:lnTo>
                  <a:close/>
                </a:path>
              </a:pathLst>
            </a:custGeom>
            <a:noFill/>
            <a:ln w="31680">
              <a:solidFill>
                <a:srgbClr val="f5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グループ化 62"/>
          <p:cNvGrpSpPr/>
          <p:nvPr/>
        </p:nvGrpSpPr>
        <p:grpSpPr>
          <a:xfrm>
            <a:off x="8255160" y="3343320"/>
            <a:ext cx="1660320" cy="9966240"/>
            <a:chOff x="8255160" y="3343320"/>
            <a:chExt cx="1660320" cy="9966240"/>
          </a:xfrm>
        </p:grpSpPr>
        <p:sp>
          <p:nvSpPr>
            <p:cNvPr id="97" name="Freeform 7"/>
            <p:cNvSpPr/>
            <p:nvPr/>
          </p:nvSpPr>
          <p:spPr>
            <a:xfrm>
              <a:off x="8258040" y="3343320"/>
              <a:ext cx="1650960" cy="144432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040" h="910">
                  <a:moveTo>
                    <a:pt x="214" y="174"/>
                  </a:moveTo>
                  <a:lnTo>
                    <a:pt x="214" y="174"/>
                  </a:lnTo>
                  <a:lnTo>
                    <a:pt x="128" y="176"/>
                  </a:lnTo>
                  <a:lnTo>
                    <a:pt x="92" y="178"/>
                  </a:lnTo>
                  <a:lnTo>
                    <a:pt x="54" y="18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86" y="2"/>
                  </a:lnTo>
                  <a:lnTo>
                    <a:pt x="122" y="4"/>
                  </a:lnTo>
                  <a:lnTo>
                    <a:pt x="216" y="6"/>
                  </a:lnTo>
                  <a:lnTo>
                    <a:pt x="826" y="6"/>
                  </a:lnTo>
                  <a:lnTo>
                    <a:pt x="826" y="6"/>
                  </a:lnTo>
                  <a:lnTo>
                    <a:pt x="916" y="6"/>
                  </a:lnTo>
                  <a:lnTo>
                    <a:pt x="950" y="4"/>
                  </a:lnTo>
                  <a:lnTo>
                    <a:pt x="986" y="0"/>
                  </a:lnTo>
                  <a:lnTo>
                    <a:pt x="986" y="182"/>
                  </a:lnTo>
                  <a:lnTo>
                    <a:pt x="986" y="182"/>
                  </a:lnTo>
                  <a:lnTo>
                    <a:pt x="948" y="178"/>
                  </a:lnTo>
                  <a:lnTo>
                    <a:pt x="912" y="176"/>
                  </a:lnTo>
                  <a:lnTo>
                    <a:pt x="828" y="174"/>
                  </a:lnTo>
                  <a:lnTo>
                    <a:pt x="604" y="174"/>
                  </a:lnTo>
                  <a:lnTo>
                    <a:pt x="604" y="732"/>
                  </a:lnTo>
                  <a:lnTo>
                    <a:pt x="868" y="732"/>
                  </a:lnTo>
                  <a:lnTo>
                    <a:pt x="868" y="732"/>
                  </a:lnTo>
                  <a:lnTo>
                    <a:pt x="960" y="730"/>
                  </a:lnTo>
                  <a:lnTo>
                    <a:pt x="1000" y="728"/>
                  </a:lnTo>
                  <a:lnTo>
                    <a:pt x="1040" y="724"/>
                  </a:lnTo>
                  <a:lnTo>
                    <a:pt x="1040" y="910"/>
                  </a:lnTo>
                  <a:lnTo>
                    <a:pt x="1040" y="910"/>
                  </a:lnTo>
                  <a:lnTo>
                    <a:pt x="1002" y="906"/>
                  </a:lnTo>
                  <a:lnTo>
                    <a:pt x="960" y="904"/>
                  </a:lnTo>
                  <a:lnTo>
                    <a:pt x="866" y="902"/>
                  </a:lnTo>
                  <a:lnTo>
                    <a:pt x="172" y="902"/>
                  </a:lnTo>
                  <a:lnTo>
                    <a:pt x="172" y="902"/>
                  </a:lnTo>
                  <a:lnTo>
                    <a:pt x="82" y="904"/>
                  </a:lnTo>
                  <a:lnTo>
                    <a:pt x="0" y="910"/>
                  </a:lnTo>
                  <a:lnTo>
                    <a:pt x="0" y="724"/>
                  </a:lnTo>
                  <a:lnTo>
                    <a:pt x="0" y="724"/>
                  </a:lnTo>
                  <a:lnTo>
                    <a:pt x="80" y="730"/>
                  </a:lnTo>
                  <a:lnTo>
                    <a:pt x="174" y="732"/>
                  </a:lnTo>
                  <a:lnTo>
                    <a:pt x="420" y="732"/>
                  </a:lnTo>
                  <a:lnTo>
                    <a:pt x="420" y="174"/>
                  </a:lnTo>
                  <a:lnTo>
                    <a:pt x="214" y="174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8255160" y="4914720"/>
              <a:ext cx="1660320" cy="1679400"/>
            </a:xfrm>
            <a:custGeom>
              <a:avLst/>
              <a:gdLst>
                <a:gd name="textAreaLeft" fmla="*/ 0 w 1660320"/>
                <a:gd name="textAreaRight" fmla="*/ 1660680 w 1660320"/>
                <a:gd name="textAreaTop" fmla="*/ 0 h 1679400"/>
                <a:gd name="textAreaBottom" fmla="*/ 1679760 h 1679400"/>
              </a:gdLst>
              <a:ahLst/>
              <a:rect l="textAreaLeft" t="textAreaTop" r="textAreaRight" b="textAreaBottom"/>
              <a:pathLst>
                <a:path w="1046" h="1058">
                  <a:moveTo>
                    <a:pt x="436" y="580"/>
                  </a:moveTo>
                  <a:lnTo>
                    <a:pt x="168" y="580"/>
                  </a:lnTo>
                  <a:lnTo>
                    <a:pt x="168" y="580"/>
                  </a:lnTo>
                  <a:lnTo>
                    <a:pt x="114" y="580"/>
                  </a:lnTo>
                  <a:lnTo>
                    <a:pt x="66" y="584"/>
                  </a:lnTo>
                  <a:lnTo>
                    <a:pt x="66" y="470"/>
                  </a:lnTo>
                  <a:lnTo>
                    <a:pt x="66" y="470"/>
                  </a:lnTo>
                  <a:lnTo>
                    <a:pt x="110" y="474"/>
                  </a:lnTo>
                  <a:lnTo>
                    <a:pt x="170" y="474"/>
                  </a:lnTo>
                  <a:lnTo>
                    <a:pt x="436" y="474"/>
                  </a:lnTo>
                  <a:lnTo>
                    <a:pt x="436" y="444"/>
                  </a:lnTo>
                  <a:lnTo>
                    <a:pt x="194" y="444"/>
                  </a:lnTo>
                  <a:lnTo>
                    <a:pt x="194" y="444"/>
                  </a:lnTo>
                  <a:lnTo>
                    <a:pt x="140" y="444"/>
                  </a:lnTo>
                  <a:lnTo>
                    <a:pt x="96" y="446"/>
                  </a:lnTo>
                  <a:lnTo>
                    <a:pt x="96" y="446"/>
                  </a:lnTo>
                  <a:lnTo>
                    <a:pt x="100" y="412"/>
                  </a:lnTo>
                  <a:lnTo>
                    <a:pt x="100" y="370"/>
                  </a:lnTo>
                  <a:lnTo>
                    <a:pt x="100" y="296"/>
                  </a:lnTo>
                  <a:lnTo>
                    <a:pt x="100" y="296"/>
                  </a:lnTo>
                  <a:lnTo>
                    <a:pt x="100" y="254"/>
                  </a:lnTo>
                  <a:lnTo>
                    <a:pt x="96" y="216"/>
                  </a:lnTo>
                  <a:lnTo>
                    <a:pt x="96" y="216"/>
                  </a:lnTo>
                  <a:lnTo>
                    <a:pt x="142" y="218"/>
                  </a:lnTo>
                  <a:lnTo>
                    <a:pt x="198" y="220"/>
                  </a:lnTo>
                  <a:lnTo>
                    <a:pt x="436" y="220"/>
                  </a:lnTo>
                  <a:lnTo>
                    <a:pt x="436" y="186"/>
                  </a:lnTo>
                  <a:lnTo>
                    <a:pt x="142" y="186"/>
                  </a:lnTo>
                  <a:lnTo>
                    <a:pt x="142" y="186"/>
                  </a:lnTo>
                  <a:lnTo>
                    <a:pt x="68" y="188"/>
                  </a:lnTo>
                  <a:lnTo>
                    <a:pt x="6" y="192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70" y="56"/>
                  </a:lnTo>
                  <a:lnTo>
                    <a:pt x="152" y="56"/>
                  </a:lnTo>
                  <a:lnTo>
                    <a:pt x="436" y="56"/>
                  </a:lnTo>
                  <a:lnTo>
                    <a:pt x="436" y="56"/>
                  </a:lnTo>
                  <a:lnTo>
                    <a:pt x="434" y="26"/>
                  </a:lnTo>
                  <a:lnTo>
                    <a:pt x="430" y="0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602" y="28"/>
                  </a:lnTo>
                  <a:lnTo>
                    <a:pt x="600" y="56"/>
                  </a:lnTo>
                  <a:lnTo>
                    <a:pt x="890" y="56"/>
                  </a:lnTo>
                  <a:lnTo>
                    <a:pt x="890" y="56"/>
                  </a:lnTo>
                  <a:lnTo>
                    <a:pt x="972" y="56"/>
                  </a:lnTo>
                  <a:lnTo>
                    <a:pt x="1036" y="50"/>
                  </a:lnTo>
                  <a:lnTo>
                    <a:pt x="1036" y="192"/>
                  </a:lnTo>
                  <a:lnTo>
                    <a:pt x="1036" y="192"/>
                  </a:lnTo>
                  <a:lnTo>
                    <a:pt x="974" y="188"/>
                  </a:lnTo>
                  <a:lnTo>
                    <a:pt x="902" y="186"/>
                  </a:lnTo>
                  <a:lnTo>
                    <a:pt x="600" y="186"/>
                  </a:lnTo>
                  <a:lnTo>
                    <a:pt x="600" y="220"/>
                  </a:lnTo>
                  <a:lnTo>
                    <a:pt x="848" y="220"/>
                  </a:lnTo>
                  <a:lnTo>
                    <a:pt x="848" y="220"/>
                  </a:lnTo>
                  <a:lnTo>
                    <a:pt x="904" y="218"/>
                  </a:lnTo>
                  <a:lnTo>
                    <a:pt x="944" y="216"/>
                  </a:lnTo>
                  <a:lnTo>
                    <a:pt x="944" y="216"/>
                  </a:lnTo>
                  <a:lnTo>
                    <a:pt x="942" y="252"/>
                  </a:lnTo>
                  <a:lnTo>
                    <a:pt x="942" y="296"/>
                  </a:lnTo>
                  <a:lnTo>
                    <a:pt x="942" y="370"/>
                  </a:lnTo>
                  <a:lnTo>
                    <a:pt x="942" y="370"/>
                  </a:lnTo>
                  <a:lnTo>
                    <a:pt x="942" y="412"/>
                  </a:lnTo>
                  <a:lnTo>
                    <a:pt x="944" y="446"/>
                  </a:lnTo>
                  <a:lnTo>
                    <a:pt x="944" y="446"/>
                  </a:lnTo>
                  <a:lnTo>
                    <a:pt x="904" y="444"/>
                  </a:lnTo>
                  <a:lnTo>
                    <a:pt x="856" y="444"/>
                  </a:lnTo>
                  <a:lnTo>
                    <a:pt x="600" y="444"/>
                  </a:lnTo>
                  <a:lnTo>
                    <a:pt x="600" y="474"/>
                  </a:lnTo>
                  <a:lnTo>
                    <a:pt x="858" y="474"/>
                  </a:lnTo>
                  <a:lnTo>
                    <a:pt x="858" y="474"/>
                  </a:lnTo>
                  <a:lnTo>
                    <a:pt x="930" y="474"/>
                  </a:lnTo>
                  <a:lnTo>
                    <a:pt x="972" y="472"/>
                  </a:lnTo>
                  <a:lnTo>
                    <a:pt x="972" y="472"/>
                  </a:lnTo>
                  <a:lnTo>
                    <a:pt x="968" y="512"/>
                  </a:lnTo>
                  <a:lnTo>
                    <a:pt x="968" y="574"/>
                  </a:lnTo>
                  <a:lnTo>
                    <a:pt x="968" y="610"/>
                  </a:lnTo>
                  <a:lnTo>
                    <a:pt x="968" y="610"/>
                  </a:lnTo>
                  <a:lnTo>
                    <a:pt x="1016" y="608"/>
                  </a:lnTo>
                  <a:lnTo>
                    <a:pt x="1032" y="606"/>
                  </a:lnTo>
                  <a:lnTo>
                    <a:pt x="1046" y="602"/>
                  </a:lnTo>
                  <a:lnTo>
                    <a:pt x="1046" y="740"/>
                  </a:lnTo>
                  <a:lnTo>
                    <a:pt x="1046" y="740"/>
                  </a:lnTo>
                  <a:lnTo>
                    <a:pt x="1014" y="736"/>
                  </a:lnTo>
                  <a:lnTo>
                    <a:pt x="968" y="734"/>
                  </a:lnTo>
                  <a:lnTo>
                    <a:pt x="968" y="788"/>
                  </a:lnTo>
                  <a:lnTo>
                    <a:pt x="968" y="788"/>
                  </a:lnTo>
                  <a:lnTo>
                    <a:pt x="970" y="858"/>
                  </a:lnTo>
                  <a:lnTo>
                    <a:pt x="974" y="914"/>
                  </a:lnTo>
                  <a:lnTo>
                    <a:pt x="804" y="914"/>
                  </a:lnTo>
                  <a:lnTo>
                    <a:pt x="804" y="870"/>
                  </a:lnTo>
                  <a:lnTo>
                    <a:pt x="600" y="870"/>
                  </a:lnTo>
                  <a:lnTo>
                    <a:pt x="600" y="912"/>
                  </a:lnTo>
                  <a:lnTo>
                    <a:pt x="600" y="912"/>
                  </a:lnTo>
                  <a:lnTo>
                    <a:pt x="598" y="954"/>
                  </a:lnTo>
                  <a:lnTo>
                    <a:pt x="596" y="972"/>
                  </a:lnTo>
                  <a:lnTo>
                    <a:pt x="592" y="988"/>
                  </a:lnTo>
                  <a:lnTo>
                    <a:pt x="588" y="1000"/>
                  </a:lnTo>
                  <a:lnTo>
                    <a:pt x="582" y="1012"/>
                  </a:lnTo>
                  <a:lnTo>
                    <a:pt x="574" y="1022"/>
                  </a:lnTo>
                  <a:lnTo>
                    <a:pt x="564" y="1032"/>
                  </a:lnTo>
                  <a:lnTo>
                    <a:pt x="552" y="1038"/>
                  </a:lnTo>
                  <a:lnTo>
                    <a:pt x="538" y="1044"/>
                  </a:lnTo>
                  <a:lnTo>
                    <a:pt x="522" y="1048"/>
                  </a:lnTo>
                  <a:lnTo>
                    <a:pt x="504" y="1052"/>
                  </a:lnTo>
                  <a:lnTo>
                    <a:pt x="460" y="1056"/>
                  </a:lnTo>
                  <a:lnTo>
                    <a:pt x="402" y="1058"/>
                  </a:lnTo>
                  <a:lnTo>
                    <a:pt x="402" y="1058"/>
                  </a:lnTo>
                  <a:lnTo>
                    <a:pt x="356" y="1056"/>
                  </a:lnTo>
                  <a:lnTo>
                    <a:pt x="298" y="1054"/>
                  </a:lnTo>
                  <a:lnTo>
                    <a:pt x="298" y="1054"/>
                  </a:lnTo>
                  <a:lnTo>
                    <a:pt x="292" y="1018"/>
                  </a:lnTo>
                  <a:lnTo>
                    <a:pt x="284" y="986"/>
                  </a:lnTo>
                  <a:lnTo>
                    <a:pt x="272" y="952"/>
                  </a:lnTo>
                  <a:lnTo>
                    <a:pt x="256" y="912"/>
                  </a:lnTo>
                  <a:lnTo>
                    <a:pt x="256" y="912"/>
                  </a:lnTo>
                  <a:lnTo>
                    <a:pt x="332" y="920"/>
                  </a:lnTo>
                  <a:lnTo>
                    <a:pt x="394" y="922"/>
                  </a:lnTo>
                  <a:lnTo>
                    <a:pt x="394" y="922"/>
                  </a:lnTo>
                  <a:lnTo>
                    <a:pt x="416" y="920"/>
                  </a:lnTo>
                  <a:lnTo>
                    <a:pt x="424" y="920"/>
                  </a:lnTo>
                  <a:lnTo>
                    <a:pt x="428" y="918"/>
                  </a:lnTo>
                  <a:lnTo>
                    <a:pt x="432" y="914"/>
                  </a:lnTo>
                  <a:lnTo>
                    <a:pt x="434" y="910"/>
                  </a:lnTo>
                  <a:lnTo>
                    <a:pt x="436" y="898"/>
                  </a:lnTo>
                  <a:lnTo>
                    <a:pt x="436" y="870"/>
                  </a:lnTo>
                  <a:lnTo>
                    <a:pt x="176" y="870"/>
                  </a:lnTo>
                  <a:lnTo>
                    <a:pt x="176" y="870"/>
                  </a:lnTo>
                  <a:lnTo>
                    <a:pt x="116" y="872"/>
                  </a:lnTo>
                  <a:lnTo>
                    <a:pt x="64" y="874"/>
                  </a:lnTo>
                  <a:lnTo>
                    <a:pt x="64" y="760"/>
                  </a:lnTo>
                  <a:lnTo>
                    <a:pt x="64" y="760"/>
                  </a:lnTo>
                  <a:lnTo>
                    <a:pt x="108" y="762"/>
                  </a:lnTo>
                  <a:lnTo>
                    <a:pt x="170" y="762"/>
                  </a:lnTo>
                  <a:lnTo>
                    <a:pt x="436" y="762"/>
                  </a:lnTo>
                  <a:lnTo>
                    <a:pt x="436" y="728"/>
                  </a:lnTo>
                  <a:lnTo>
                    <a:pt x="124" y="728"/>
                  </a:lnTo>
                  <a:lnTo>
                    <a:pt x="124" y="728"/>
                  </a:lnTo>
                  <a:lnTo>
                    <a:pt x="48" y="730"/>
                  </a:lnTo>
                  <a:lnTo>
                    <a:pt x="24" y="732"/>
                  </a:lnTo>
                  <a:lnTo>
                    <a:pt x="0" y="734"/>
                  </a:lnTo>
                  <a:lnTo>
                    <a:pt x="0" y="608"/>
                  </a:lnTo>
                  <a:lnTo>
                    <a:pt x="0" y="608"/>
                  </a:lnTo>
                  <a:lnTo>
                    <a:pt x="22" y="610"/>
                  </a:lnTo>
                  <a:lnTo>
                    <a:pt x="48" y="612"/>
                  </a:lnTo>
                  <a:lnTo>
                    <a:pt x="122" y="614"/>
                  </a:lnTo>
                  <a:lnTo>
                    <a:pt x="436" y="614"/>
                  </a:lnTo>
                  <a:lnTo>
                    <a:pt x="436" y="580"/>
                  </a:lnTo>
                  <a:close/>
                  <a:moveTo>
                    <a:pt x="262" y="314"/>
                  </a:moveTo>
                  <a:lnTo>
                    <a:pt x="262" y="348"/>
                  </a:lnTo>
                  <a:lnTo>
                    <a:pt x="436" y="348"/>
                  </a:lnTo>
                  <a:lnTo>
                    <a:pt x="436" y="314"/>
                  </a:lnTo>
                  <a:lnTo>
                    <a:pt x="262" y="314"/>
                  </a:lnTo>
                  <a:close/>
                  <a:moveTo>
                    <a:pt x="600" y="348"/>
                  </a:moveTo>
                  <a:lnTo>
                    <a:pt x="780" y="348"/>
                  </a:lnTo>
                  <a:lnTo>
                    <a:pt x="780" y="314"/>
                  </a:lnTo>
                  <a:lnTo>
                    <a:pt x="600" y="314"/>
                  </a:lnTo>
                  <a:lnTo>
                    <a:pt x="600" y="348"/>
                  </a:lnTo>
                  <a:close/>
                  <a:moveTo>
                    <a:pt x="804" y="614"/>
                  </a:moveTo>
                  <a:lnTo>
                    <a:pt x="804" y="580"/>
                  </a:lnTo>
                  <a:lnTo>
                    <a:pt x="600" y="580"/>
                  </a:lnTo>
                  <a:lnTo>
                    <a:pt x="600" y="614"/>
                  </a:lnTo>
                  <a:lnTo>
                    <a:pt x="804" y="614"/>
                  </a:lnTo>
                  <a:close/>
                  <a:moveTo>
                    <a:pt x="600" y="762"/>
                  </a:moveTo>
                  <a:lnTo>
                    <a:pt x="804" y="762"/>
                  </a:lnTo>
                  <a:lnTo>
                    <a:pt x="804" y="728"/>
                  </a:lnTo>
                  <a:lnTo>
                    <a:pt x="600" y="728"/>
                  </a:lnTo>
                  <a:lnTo>
                    <a:pt x="600" y="762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8308800" y="6603840"/>
              <a:ext cx="1552680" cy="1676160"/>
            </a:xfrm>
            <a:custGeom>
              <a:avLst/>
              <a:gdLst>
                <a:gd name="textAreaLeft" fmla="*/ 0 w 1552680"/>
                <a:gd name="textAreaRight" fmla="*/ 1553040 w 155268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978" h="1056">
                  <a:moveTo>
                    <a:pt x="396" y="126"/>
                  </a:moveTo>
                  <a:lnTo>
                    <a:pt x="396" y="126"/>
                  </a:lnTo>
                  <a:lnTo>
                    <a:pt x="394" y="54"/>
                  </a:lnTo>
                  <a:lnTo>
                    <a:pt x="392" y="28"/>
                  </a:lnTo>
                  <a:lnTo>
                    <a:pt x="388" y="0"/>
                  </a:lnTo>
                  <a:lnTo>
                    <a:pt x="580" y="0"/>
                  </a:lnTo>
                  <a:lnTo>
                    <a:pt x="580" y="0"/>
                  </a:lnTo>
                  <a:lnTo>
                    <a:pt x="576" y="26"/>
                  </a:lnTo>
                  <a:lnTo>
                    <a:pt x="574" y="52"/>
                  </a:lnTo>
                  <a:lnTo>
                    <a:pt x="572" y="118"/>
                  </a:lnTo>
                  <a:lnTo>
                    <a:pt x="572" y="172"/>
                  </a:lnTo>
                  <a:lnTo>
                    <a:pt x="860" y="172"/>
                  </a:lnTo>
                  <a:lnTo>
                    <a:pt x="860" y="172"/>
                  </a:lnTo>
                  <a:lnTo>
                    <a:pt x="928" y="170"/>
                  </a:lnTo>
                  <a:lnTo>
                    <a:pt x="976" y="166"/>
                  </a:lnTo>
                  <a:lnTo>
                    <a:pt x="976" y="166"/>
                  </a:lnTo>
                  <a:lnTo>
                    <a:pt x="974" y="214"/>
                  </a:lnTo>
                  <a:lnTo>
                    <a:pt x="972" y="274"/>
                  </a:lnTo>
                  <a:lnTo>
                    <a:pt x="972" y="644"/>
                  </a:lnTo>
                  <a:lnTo>
                    <a:pt x="972" y="644"/>
                  </a:lnTo>
                  <a:lnTo>
                    <a:pt x="974" y="716"/>
                  </a:lnTo>
                  <a:lnTo>
                    <a:pt x="976" y="742"/>
                  </a:lnTo>
                  <a:lnTo>
                    <a:pt x="978" y="768"/>
                  </a:lnTo>
                  <a:lnTo>
                    <a:pt x="798" y="768"/>
                  </a:lnTo>
                  <a:lnTo>
                    <a:pt x="798" y="708"/>
                  </a:lnTo>
                  <a:lnTo>
                    <a:pt x="572" y="708"/>
                  </a:lnTo>
                  <a:lnTo>
                    <a:pt x="572" y="906"/>
                  </a:lnTo>
                  <a:lnTo>
                    <a:pt x="572" y="906"/>
                  </a:lnTo>
                  <a:lnTo>
                    <a:pt x="574" y="992"/>
                  </a:lnTo>
                  <a:lnTo>
                    <a:pt x="576" y="1026"/>
                  </a:lnTo>
                  <a:lnTo>
                    <a:pt x="580" y="1056"/>
                  </a:lnTo>
                  <a:lnTo>
                    <a:pt x="388" y="1056"/>
                  </a:lnTo>
                  <a:lnTo>
                    <a:pt x="388" y="1056"/>
                  </a:lnTo>
                  <a:lnTo>
                    <a:pt x="392" y="1022"/>
                  </a:lnTo>
                  <a:lnTo>
                    <a:pt x="394" y="988"/>
                  </a:lnTo>
                  <a:lnTo>
                    <a:pt x="396" y="906"/>
                  </a:lnTo>
                  <a:lnTo>
                    <a:pt x="396" y="708"/>
                  </a:lnTo>
                  <a:lnTo>
                    <a:pt x="180" y="708"/>
                  </a:lnTo>
                  <a:lnTo>
                    <a:pt x="180" y="768"/>
                  </a:lnTo>
                  <a:lnTo>
                    <a:pt x="0" y="768"/>
                  </a:lnTo>
                  <a:lnTo>
                    <a:pt x="0" y="768"/>
                  </a:lnTo>
                  <a:lnTo>
                    <a:pt x="2" y="742"/>
                  </a:lnTo>
                  <a:lnTo>
                    <a:pt x="4" y="714"/>
                  </a:lnTo>
                  <a:lnTo>
                    <a:pt x="6" y="644"/>
                  </a:lnTo>
                  <a:lnTo>
                    <a:pt x="6" y="274"/>
                  </a:lnTo>
                  <a:lnTo>
                    <a:pt x="6" y="274"/>
                  </a:lnTo>
                  <a:lnTo>
                    <a:pt x="4" y="214"/>
                  </a:lnTo>
                  <a:lnTo>
                    <a:pt x="2" y="166"/>
                  </a:lnTo>
                  <a:lnTo>
                    <a:pt x="2" y="166"/>
                  </a:lnTo>
                  <a:lnTo>
                    <a:pt x="54" y="170"/>
                  </a:lnTo>
                  <a:lnTo>
                    <a:pt x="118" y="172"/>
                  </a:lnTo>
                  <a:lnTo>
                    <a:pt x="396" y="172"/>
                  </a:lnTo>
                  <a:lnTo>
                    <a:pt x="396" y="126"/>
                  </a:lnTo>
                  <a:close/>
                  <a:moveTo>
                    <a:pt x="180" y="334"/>
                  </a:moveTo>
                  <a:lnTo>
                    <a:pt x="180" y="546"/>
                  </a:lnTo>
                  <a:lnTo>
                    <a:pt x="396" y="546"/>
                  </a:lnTo>
                  <a:lnTo>
                    <a:pt x="396" y="334"/>
                  </a:lnTo>
                  <a:lnTo>
                    <a:pt x="180" y="334"/>
                  </a:lnTo>
                  <a:close/>
                  <a:moveTo>
                    <a:pt x="798" y="546"/>
                  </a:moveTo>
                  <a:lnTo>
                    <a:pt x="798" y="334"/>
                  </a:lnTo>
                  <a:lnTo>
                    <a:pt x="572" y="334"/>
                  </a:lnTo>
                  <a:lnTo>
                    <a:pt x="572" y="546"/>
                  </a:lnTo>
                  <a:lnTo>
                    <a:pt x="798" y="546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8359920" y="8366040"/>
              <a:ext cx="1485720" cy="153324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533240"/>
                <a:gd name="textAreaBottom" fmla="*/ 1533600 h 1533240"/>
              </a:gdLst>
              <a:ahLst/>
              <a:rect l="textAreaLeft" t="textAreaTop" r="textAreaRight" b="textAreaBottom"/>
              <a:pathLst>
                <a:path w="936" h="966">
                  <a:moveTo>
                    <a:pt x="268" y="18"/>
                  </a:moveTo>
                  <a:lnTo>
                    <a:pt x="268" y="18"/>
                  </a:lnTo>
                  <a:lnTo>
                    <a:pt x="252" y="70"/>
                  </a:lnTo>
                  <a:lnTo>
                    <a:pt x="236" y="128"/>
                  </a:lnTo>
                  <a:lnTo>
                    <a:pt x="224" y="192"/>
                  </a:lnTo>
                  <a:lnTo>
                    <a:pt x="212" y="260"/>
                  </a:lnTo>
                  <a:lnTo>
                    <a:pt x="200" y="332"/>
                  </a:lnTo>
                  <a:lnTo>
                    <a:pt x="192" y="406"/>
                  </a:lnTo>
                  <a:lnTo>
                    <a:pt x="186" y="482"/>
                  </a:lnTo>
                  <a:lnTo>
                    <a:pt x="182" y="558"/>
                  </a:lnTo>
                  <a:lnTo>
                    <a:pt x="268" y="588"/>
                  </a:lnTo>
                  <a:lnTo>
                    <a:pt x="268" y="588"/>
                  </a:lnTo>
                  <a:lnTo>
                    <a:pt x="258" y="626"/>
                  </a:lnTo>
                  <a:lnTo>
                    <a:pt x="250" y="664"/>
                  </a:lnTo>
                  <a:lnTo>
                    <a:pt x="242" y="702"/>
                  </a:lnTo>
                  <a:lnTo>
                    <a:pt x="236" y="740"/>
                  </a:lnTo>
                  <a:lnTo>
                    <a:pt x="230" y="780"/>
                  </a:lnTo>
                  <a:lnTo>
                    <a:pt x="228" y="820"/>
                  </a:lnTo>
                  <a:lnTo>
                    <a:pt x="226" y="860"/>
                  </a:lnTo>
                  <a:lnTo>
                    <a:pt x="224" y="902"/>
                  </a:lnTo>
                  <a:lnTo>
                    <a:pt x="224" y="902"/>
                  </a:lnTo>
                  <a:lnTo>
                    <a:pt x="226" y="928"/>
                  </a:lnTo>
                  <a:lnTo>
                    <a:pt x="228" y="956"/>
                  </a:lnTo>
                  <a:lnTo>
                    <a:pt x="36" y="966"/>
                  </a:lnTo>
                  <a:lnTo>
                    <a:pt x="36" y="966"/>
                  </a:lnTo>
                  <a:lnTo>
                    <a:pt x="34" y="938"/>
                  </a:lnTo>
                  <a:lnTo>
                    <a:pt x="30" y="906"/>
                  </a:lnTo>
                  <a:lnTo>
                    <a:pt x="30" y="906"/>
                  </a:lnTo>
                  <a:lnTo>
                    <a:pt x="16" y="802"/>
                  </a:lnTo>
                  <a:lnTo>
                    <a:pt x="8" y="712"/>
                  </a:lnTo>
                  <a:lnTo>
                    <a:pt x="2" y="630"/>
                  </a:lnTo>
                  <a:lnTo>
                    <a:pt x="0" y="552"/>
                  </a:lnTo>
                  <a:lnTo>
                    <a:pt x="0" y="552"/>
                  </a:lnTo>
                  <a:lnTo>
                    <a:pt x="2" y="504"/>
                  </a:lnTo>
                  <a:lnTo>
                    <a:pt x="4" y="452"/>
                  </a:lnTo>
                  <a:lnTo>
                    <a:pt x="6" y="402"/>
                  </a:lnTo>
                  <a:lnTo>
                    <a:pt x="10" y="348"/>
                  </a:lnTo>
                  <a:lnTo>
                    <a:pt x="24" y="238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56" y="44"/>
                  </a:lnTo>
                  <a:lnTo>
                    <a:pt x="60" y="0"/>
                  </a:lnTo>
                  <a:lnTo>
                    <a:pt x="268" y="18"/>
                  </a:lnTo>
                  <a:close/>
                  <a:moveTo>
                    <a:pt x="576" y="508"/>
                  </a:moveTo>
                  <a:lnTo>
                    <a:pt x="576" y="508"/>
                  </a:lnTo>
                  <a:lnTo>
                    <a:pt x="542" y="554"/>
                  </a:lnTo>
                  <a:lnTo>
                    <a:pt x="530" y="574"/>
                  </a:lnTo>
                  <a:lnTo>
                    <a:pt x="520" y="594"/>
                  </a:lnTo>
                  <a:lnTo>
                    <a:pt x="512" y="612"/>
                  </a:lnTo>
                  <a:lnTo>
                    <a:pt x="506" y="630"/>
                  </a:lnTo>
                  <a:lnTo>
                    <a:pt x="502" y="646"/>
                  </a:lnTo>
                  <a:lnTo>
                    <a:pt x="502" y="662"/>
                  </a:lnTo>
                  <a:lnTo>
                    <a:pt x="502" y="662"/>
                  </a:lnTo>
                  <a:lnTo>
                    <a:pt x="502" y="672"/>
                  </a:lnTo>
                  <a:lnTo>
                    <a:pt x="504" y="680"/>
                  </a:lnTo>
                  <a:lnTo>
                    <a:pt x="506" y="688"/>
                  </a:lnTo>
                  <a:lnTo>
                    <a:pt x="510" y="696"/>
                  </a:lnTo>
                  <a:lnTo>
                    <a:pt x="516" y="702"/>
                  </a:lnTo>
                  <a:lnTo>
                    <a:pt x="522" y="710"/>
                  </a:lnTo>
                  <a:lnTo>
                    <a:pt x="538" y="720"/>
                  </a:lnTo>
                  <a:lnTo>
                    <a:pt x="558" y="730"/>
                  </a:lnTo>
                  <a:lnTo>
                    <a:pt x="584" y="736"/>
                  </a:lnTo>
                  <a:lnTo>
                    <a:pt x="614" y="740"/>
                  </a:lnTo>
                  <a:lnTo>
                    <a:pt x="646" y="742"/>
                  </a:lnTo>
                  <a:lnTo>
                    <a:pt x="646" y="742"/>
                  </a:lnTo>
                  <a:lnTo>
                    <a:pt x="684" y="740"/>
                  </a:lnTo>
                  <a:lnTo>
                    <a:pt x="720" y="738"/>
                  </a:lnTo>
                  <a:lnTo>
                    <a:pt x="756" y="734"/>
                  </a:lnTo>
                  <a:lnTo>
                    <a:pt x="792" y="730"/>
                  </a:lnTo>
                  <a:lnTo>
                    <a:pt x="826" y="724"/>
                  </a:lnTo>
                  <a:lnTo>
                    <a:pt x="860" y="716"/>
                  </a:lnTo>
                  <a:lnTo>
                    <a:pt x="894" y="706"/>
                  </a:lnTo>
                  <a:lnTo>
                    <a:pt x="926" y="696"/>
                  </a:lnTo>
                  <a:lnTo>
                    <a:pt x="936" y="894"/>
                  </a:lnTo>
                  <a:lnTo>
                    <a:pt x="936" y="894"/>
                  </a:lnTo>
                  <a:lnTo>
                    <a:pt x="842" y="906"/>
                  </a:lnTo>
                  <a:lnTo>
                    <a:pt x="842" y="906"/>
                  </a:lnTo>
                  <a:lnTo>
                    <a:pt x="794" y="914"/>
                  </a:lnTo>
                  <a:lnTo>
                    <a:pt x="746" y="918"/>
                  </a:lnTo>
                  <a:lnTo>
                    <a:pt x="696" y="920"/>
                  </a:lnTo>
                  <a:lnTo>
                    <a:pt x="648" y="922"/>
                  </a:lnTo>
                  <a:lnTo>
                    <a:pt x="648" y="922"/>
                  </a:lnTo>
                  <a:lnTo>
                    <a:pt x="610" y="920"/>
                  </a:lnTo>
                  <a:lnTo>
                    <a:pt x="576" y="918"/>
                  </a:lnTo>
                  <a:lnTo>
                    <a:pt x="544" y="916"/>
                  </a:lnTo>
                  <a:lnTo>
                    <a:pt x="514" y="910"/>
                  </a:lnTo>
                  <a:lnTo>
                    <a:pt x="488" y="904"/>
                  </a:lnTo>
                  <a:lnTo>
                    <a:pt x="462" y="896"/>
                  </a:lnTo>
                  <a:lnTo>
                    <a:pt x="438" y="886"/>
                  </a:lnTo>
                  <a:lnTo>
                    <a:pt x="416" y="874"/>
                  </a:lnTo>
                  <a:lnTo>
                    <a:pt x="416" y="874"/>
                  </a:lnTo>
                  <a:lnTo>
                    <a:pt x="394" y="860"/>
                  </a:lnTo>
                  <a:lnTo>
                    <a:pt x="374" y="842"/>
                  </a:lnTo>
                  <a:lnTo>
                    <a:pt x="356" y="822"/>
                  </a:lnTo>
                  <a:lnTo>
                    <a:pt x="342" y="800"/>
                  </a:lnTo>
                  <a:lnTo>
                    <a:pt x="330" y="776"/>
                  </a:lnTo>
                  <a:lnTo>
                    <a:pt x="320" y="750"/>
                  </a:lnTo>
                  <a:lnTo>
                    <a:pt x="314" y="724"/>
                  </a:lnTo>
                  <a:lnTo>
                    <a:pt x="314" y="696"/>
                  </a:lnTo>
                  <a:lnTo>
                    <a:pt x="314" y="696"/>
                  </a:lnTo>
                  <a:lnTo>
                    <a:pt x="314" y="676"/>
                  </a:lnTo>
                  <a:lnTo>
                    <a:pt x="316" y="654"/>
                  </a:lnTo>
                  <a:lnTo>
                    <a:pt x="320" y="632"/>
                  </a:lnTo>
                  <a:lnTo>
                    <a:pt x="326" y="610"/>
                  </a:lnTo>
                  <a:lnTo>
                    <a:pt x="334" y="588"/>
                  </a:lnTo>
                  <a:lnTo>
                    <a:pt x="344" y="566"/>
                  </a:lnTo>
                  <a:lnTo>
                    <a:pt x="354" y="544"/>
                  </a:lnTo>
                  <a:lnTo>
                    <a:pt x="366" y="522"/>
                  </a:lnTo>
                  <a:lnTo>
                    <a:pt x="366" y="522"/>
                  </a:lnTo>
                  <a:lnTo>
                    <a:pt x="388" y="488"/>
                  </a:lnTo>
                  <a:lnTo>
                    <a:pt x="420" y="442"/>
                  </a:lnTo>
                  <a:lnTo>
                    <a:pt x="576" y="508"/>
                  </a:lnTo>
                  <a:close/>
                  <a:moveTo>
                    <a:pt x="356" y="102"/>
                  </a:moveTo>
                  <a:lnTo>
                    <a:pt x="356" y="102"/>
                  </a:lnTo>
                  <a:lnTo>
                    <a:pt x="398" y="110"/>
                  </a:lnTo>
                  <a:lnTo>
                    <a:pt x="444" y="116"/>
                  </a:lnTo>
                  <a:lnTo>
                    <a:pt x="496" y="118"/>
                  </a:lnTo>
                  <a:lnTo>
                    <a:pt x="556" y="120"/>
                  </a:lnTo>
                  <a:lnTo>
                    <a:pt x="556" y="120"/>
                  </a:lnTo>
                  <a:lnTo>
                    <a:pt x="660" y="118"/>
                  </a:lnTo>
                  <a:lnTo>
                    <a:pt x="750" y="112"/>
                  </a:lnTo>
                  <a:lnTo>
                    <a:pt x="790" y="108"/>
                  </a:lnTo>
                  <a:lnTo>
                    <a:pt x="828" y="104"/>
                  </a:lnTo>
                  <a:lnTo>
                    <a:pt x="860" y="98"/>
                  </a:lnTo>
                  <a:lnTo>
                    <a:pt x="890" y="92"/>
                  </a:lnTo>
                  <a:lnTo>
                    <a:pt x="898" y="284"/>
                  </a:lnTo>
                  <a:lnTo>
                    <a:pt x="898" y="284"/>
                  </a:lnTo>
                  <a:lnTo>
                    <a:pt x="876" y="284"/>
                  </a:lnTo>
                  <a:lnTo>
                    <a:pt x="814" y="290"/>
                  </a:lnTo>
                  <a:lnTo>
                    <a:pt x="814" y="290"/>
                  </a:lnTo>
                  <a:lnTo>
                    <a:pt x="756" y="296"/>
                  </a:lnTo>
                  <a:lnTo>
                    <a:pt x="696" y="300"/>
                  </a:lnTo>
                  <a:lnTo>
                    <a:pt x="638" y="302"/>
                  </a:lnTo>
                  <a:lnTo>
                    <a:pt x="578" y="304"/>
                  </a:lnTo>
                  <a:lnTo>
                    <a:pt x="578" y="304"/>
                  </a:lnTo>
                  <a:lnTo>
                    <a:pt x="482" y="302"/>
                  </a:lnTo>
                  <a:lnTo>
                    <a:pt x="436" y="298"/>
                  </a:lnTo>
                  <a:lnTo>
                    <a:pt x="386" y="294"/>
                  </a:lnTo>
                  <a:lnTo>
                    <a:pt x="386" y="294"/>
                  </a:lnTo>
                  <a:lnTo>
                    <a:pt x="354" y="292"/>
                  </a:lnTo>
                  <a:lnTo>
                    <a:pt x="356" y="102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8280360" y="10217160"/>
              <a:ext cx="1571760" cy="1320480"/>
            </a:xfrm>
            <a:custGeom>
              <a:avLst/>
              <a:gdLst>
                <a:gd name="textAreaLeft" fmla="*/ 0 w 1571760"/>
                <a:gd name="textAreaRight" fmla="*/ 1572120 w 1571760"/>
                <a:gd name="textAreaTop" fmla="*/ 0 h 1320480"/>
                <a:gd name="textAreaBottom" fmla="*/ 1320840 h 1320480"/>
              </a:gdLst>
              <a:ahLst/>
              <a:rect l="textAreaLeft" t="textAreaTop" r="textAreaRight" b="textAreaBottom"/>
              <a:pathLst>
                <a:path w="990" h="832">
                  <a:moveTo>
                    <a:pt x="0" y="84"/>
                  </a:moveTo>
                  <a:lnTo>
                    <a:pt x="0" y="84"/>
                  </a:lnTo>
                  <a:lnTo>
                    <a:pt x="30" y="82"/>
                  </a:lnTo>
                  <a:lnTo>
                    <a:pt x="62" y="76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294" y="30"/>
                  </a:lnTo>
                  <a:lnTo>
                    <a:pt x="352" y="20"/>
                  </a:lnTo>
                  <a:lnTo>
                    <a:pt x="404" y="12"/>
                  </a:lnTo>
                  <a:lnTo>
                    <a:pt x="450" y="6"/>
                  </a:lnTo>
                  <a:lnTo>
                    <a:pt x="492" y="2"/>
                  </a:lnTo>
                  <a:lnTo>
                    <a:pt x="534" y="0"/>
                  </a:lnTo>
                  <a:lnTo>
                    <a:pt x="574" y="0"/>
                  </a:lnTo>
                  <a:lnTo>
                    <a:pt x="574" y="0"/>
                  </a:lnTo>
                  <a:lnTo>
                    <a:pt x="618" y="0"/>
                  </a:lnTo>
                  <a:lnTo>
                    <a:pt x="658" y="4"/>
                  </a:lnTo>
                  <a:lnTo>
                    <a:pt x="696" y="10"/>
                  </a:lnTo>
                  <a:lnTo>
                    <a:pt x="732" y="18"/>
                  </a:lnTo>
                  <a:lnTo>
                    <a:pt x="766" y="28"/>
                  </a:lnTo>
                  <a:lnTo>
                    <a:pt x="798" y="40"/>
                  </a:lnTo>
                  <a:lnTo>
                    <a:pt x="826" y="54"/>
                  </a:lnTo>
                  <a:lnTo>
                    <a:pt x="852" y="70"/>
                  </a:lnTo>
                  <a:lnTo>
                    <a:pt x="852" y="70"/>
                  </a:lnTo>
                  <a:lnTo>
                    <a:pt x="868" y="82"/>
                  </a:lnTo>
                  <a:lnTo>
                    <a:pt x="884" y="96"/>
                  </a:lnTo>
                  <a:lnTo>
                    <a:pt x="898" y="108"/>
                  </a:lnTo>
                  <a:lnTo>
                    <a:pt x="910" y="124"/>
                  </a:lnTo>
                  <a:lnTo>
                    <a:pt x="924" y="138"/>
                  </a:lnTo>
                  <a:lnTo>
                    <a:pt x="934" y="154"/>
                  </a:lnTo>
                  <a:lnTo>
                    <a:pt x="944" y="172"/>
                  </a:lnTo>
                  <a:lnTo>
                    <a:pt x="954" y="188"/>
                  </a:lnTo>
                  <a:lnTo>
                    <a:pt x="970" y="226"/>
                  </a:lnTo>
                  <a:lnTo>
                    <a:pt x="982" y="264"/>
                  </a:lnTo>
                  <a:lnTo>
                    <a:pt x="988" y="306"/>
                  </a:lnTo>
                  <a:lnTo>
                    <a:pt x="990" y="348"/>
                  </a:lnTo>
                  <a:lnTo>
                    <a:pt x="990" y="348"/>
                  </a:lnTo>
                  <a:lnTo>
                    <a:pt x="990" y="378"/>
                  </a:lnTo>
                  <a:lnTo>
                    <a:pt x="986" y="408"/>
                  </a:lnTo>
                  <a:lnTo>
                    <a:pt x="980" y="438"/>
                  </a:lnTo>
                  <a:lnTo>
                    <a:pt x="972" y="466"/>
                  </a:lnTo>
                  <a:lnTo>
                    <a:pt x="962" y="494"/>
                  </a:lnTo>
                  <a:lnTo>
                    <a:pt x="952" y="522"/>
                  </a:lnTo>
                  <a:lnTo>
                    <a:pt x="938" y="548"/>
                  </a:lnTo>
                  <a:lnTo>
                    <a:pt x="922" y="574"/>
                  </a:lnTo>
                  <a:lnTo>
                    <a:pt x="904" y="598"/>
                  </a:lnTo>
                  <a:lnTo>
                    <a:pt x="884" y="620"/>
                  </a:lnTo>
                  <a:lnTo>
                    <a:pt x="862" y="642"/>
                  </a:lnTo>
                  <a:lnTo>
                    <a:pt x="840" y="664"/>
                  </a:lnTo>
                  <a:lnTo>
                    <a:pt x="814" y="684"/>
                  </a:lnTo>
                  <a:lnTo>
                    <a:pt x="788" y="702"/>
                  </a:lnTo>
                  <a:lnTo>
                    <a:pt x="758" y="718"/>
                  </a:lnTo>
                  <a:lnTo>
                    <a:pt x="728" y="734"/>
                  </a:lnTo>
                  <a:lnTo>
                    <a:pt x="728" y="734"/>
                  </a:lnTo>
                  <a:lnTo>
                    <a:pt x="686" y="754"/>
                  </a:lnTo>
                  <a:lnTo>
                    <a:pt x="642" y="770"/>
                  </a:lnTo>
                  <a:lnTo>
                    <a:pt x="598" y="784"/>
                  </a:lnTo>
                  <a:lnTo>
                    <a:pt x="550" y="796"/>
                  </a:lnTo>
                  <a:lnTo>
                    <a:pt x="498" y="808"/>
                  </a:lnTo>
                  <a:lnTo>
                    <a:pt x="442" y="816"/>
                  </a:lnTo>
                  <a:lnTo>
                    <a:pt x="378" y="824"/>
                  </a:lnTo>
                  <a:lnTo>
                    <a:pt x="308" y="832"/>
                  </a:lnTo>
                  <a:lnTo>
                    <a:pt x="308" y="832"/>
                  </a:lnTo>
                  <a:lnTo>
                    <a:pt x="290" y="768"/>
                  </a:lnTo>
                  <a:lnTo>
                    <a:pt x="274" y="722"/>
                  </a:lnTo>
                  <a:lnTo>
                    <a:pt x="256" y="680"/>
                  </a:lnTo>
                  <a:lnTo>
                    <a:pt x="228" y="630"/>
                  </a:lnTo>
                  <a:lnTo>
                    <a:pt x="228" y="630"/>
                  </a:lnTo>
                  <a:lnTo>
                    <a:pt x="324" y="626"/>
                  </a:lnTo>
                  <a:lnTo>
                    <a:pt x="368" y="624"/>
                  </a:lnTo>
                  <a:lnTo>
                    <a:pt x="408" y="618"/>
                  </a:lnTo>
                  <a:lnTo>
                    <a:pt x="446" y="614"/>
                  </a:lnTo>
                  <a:lnTo>
                    <a:pt x="482" y="606"/>
                  </a:lnTo>
                  <a:lnTo>
                    <a:pt x="516" y="598"/>
                  </a:lnTo>
                  <a:lnTo>
                    <a:pt x="548" y="590"/>
                  </a:lnTo>
                  <a:lnTo>
                    <a:pt x="548" y="590"/>
                  </a:lnTo>
                  <a:lnTo>
                    <a:pt x="580" y="580"/>
                  </a:lnTo>
                  <a:lnTo>
                    <a:pt x="610" y="568"/>
                  </a:lnTo>
                  <a:lnTo>
                    <a:pt x="636" y="554"/>
                  </a:lnTo>
                  <a:lnTo>
                    <a:pt x="662" y="540"/>
                  </a:lnTo>
                  <a:lnTo>
                    <a:pt x="684" y="522"/>
                  </a:lnTo>
                  <a:lnTo>
                    <a:pt x="706" y="506"/>
                  </a:lnTo>
                  <a:lnTo>
                    <a:pt x="724" y="486"/>
                  </a:lnTo>
                  <a:lnTo>
                    <a:pt x="740" y="464"/>
                  </a:lnTo>
                  <a:lnTo>
                    <a:pt x="740" y="464"/>
                  </a:lnTo>
                  <a:lnTo>
                    <a:pt x="756" y="438"/>
                  </a:lnTo>
                  <a:lnTo>
                    <a:pt x="762" y="426"/>
                  </a:lnTo>
                  <a:lnTo>
                    <a:pt x="768" y="412"/>
                  </a:lnTo>
                  <a:lnTo>
                    <a:pt x="772" y="398"/>
                  </a:lnTo>
                  <a:lnTo>
                    <a:pt x="774" y="384"/>
                  </a:lnTo>
                  <a:lnTo>
                    <a:pt x="776" y="352"/>
                  </a:lnTo>
                  <a:lnTo>
                    <a:pt x="776" y="352"/>
                  </a:lnTo>
                  <a:lnTo>
                    <a:pt x="776" y="336"/>
                  </a:lnTo>
                  <a:lnTo>
                    <a:pt x="774" y="320"/>
                  </a:lnTo>
                  <a:lnTo>
                    <a:pt x="770" y="306"/>
                  </a:lnTo>
                  <a:lnTo>
                    <a:pt x="766" y="292"/>
                  </a:lnTo>
                  <a:lnTo>
                    <a:pt x="760" y="278"/>
                  </a:lnTo>
                  <a:lnTo>
                    <a:pt x="754" y="266"/>
                  </a:lnTo>
                  <a:lnTo>
                    <a:pt x="744" y="254"/>
                  </a:lnTo>
                  <a:lnTo>
                    <a:pt x="734" y="244"/>
                  </a:lnTo>
                  <a:lnTo>
                    <a:pt x="734" y="244"/>
                  </a:lnTo>
                  <a:lnTo>
                    <a:pt x="720" y="230"/>
                  </a:lnTo>
                  <a:lnTo>
                    <a:pt x="704" y="220"/>
                  </a:lnTo>
                  <a:lnTo>
                    <a:pt x="688" y="210"/>
                  </a:lnTo>
                  <a:lnTo>
                    <a:pt x="668" y="204"/>
                  </a:lnTo>
                  <a:lnTo>
                    <a:pt x="646" y="198"/>
                  </a:lnTo>
                  <a:lnTo>
                    <a:pt x="624" y="194"/>
                  </a:lnTo>
                  <a:lnTo>
                    <a:pt x="598" y="190"/>
                  </a:lnTo>
                  <a:lnTo>
                    <a:pt x="570" y="190"/>
                  </a:lnTo>
                  <a:lnTo>
                    <a:pt x="570" y="190"/>
                  </a:lnTo>
                  <a:lnTo>
                    <a:pt x="524" y="192"/>
                  </a:lnTo>
                  <a:lnTo>
                    <a:pt x="476" y="194"/>
                  </a:lnTo>
                  <a:lnTo>
                    <a:pt x="428" y="200"/>
                  </a:lnTo>
                  <a:lnTo>
                    <a:pt x="376" y="210"/>
                  </a:lnTo>
                  <a:lnTo>
                    <a:pt x="320" y="220"/>
                  </a:lnTo>
                  <a:lnTo>
                    <a:pt x="264" y="234"/>
                  </a:lnTo>
                  <a:lnTo>
                    <a:pt x="202" y="250"/>
                  </a:lnTo>
                  <a:lnTo>
                    <a:pt x="138" y="270"/>
                  </a:lnTo>
                  <a:lnTo>
                    <a:pt x="138" y="270"/>
                  </a:lnTo>
                  <a:lnTo>
                    <a:pt x="84" y="288"/>
                  </a:lnTo>
                  <a:lnTo>
                    <a:pt x="42" y="30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8400960" y="11696760"/>
              <a:ext cx="1400040" cy="1612800"/>
            </a:xfrm>
            <a:custGeom>
              <a:avLst/>
              <a:gdLst>
                <a:gd name="textAreaLeft" fmla="*/ 0 w 1400040"/>
                <a:gd name="textAreaRight" fmla="*/ 1400400 w 140004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882" h="1016">
                  <a:moveTo>
                    <a:pt x="8" y="138"/>
                  </a:moveTo>
                  <a:lnTo>
                    <a:pt x="8" y="138"/>
                  </a:lnTo>
                  <a:lnTo>
                    <a:pt x="68" y="142"/>
                  </a:lnTo>
                  <a:lnTo>
                    <a:pt x="136" y="142"/>
                  </a:lnTo>
                  <a:lnTo>
                    <a:pt x="136" y="142"/>
                  </a:lnTo>
                  <a:lnTo>
                    <a:pt x="242" y="140"/>
                  </a:lnTo>
                  <a:lnTo>
                    <a:pt x="336" y="136"/>
                  </a:lnTo>
                  <a:lnTo>
                    <a:pt x="336" y="136"/>
                  </a:lnTo>
                  <a:lnTo>
                    <a:pt x="308" y="64"/>
                  </a:lnTo>
                  <a:lnTo>
                    <a:pt x="290" y="24"/>
                  </a:lnTo>
                  <a:lnTo>
                    <a:pt x="486" y="0"/>
                  </a:lnTo>
                  <a:lnTo>
                    <a:pt x="486" y="0"/>
                  </a:lnTo>
                  <a:lnTo>
                    <a:pt x="490" y="26"/>
                  </a:lnTo>
                  <a:lnTo>
                    <a:pt x="496" y="50"/>
                  </a:lnTo>
                  <a:lnTo>
                    <a:pt x="506" y="80"/>
                  </a:lnTo>
                  <a:lnTo>
                    <a:pt x="520" y="116"/>
                  </a:lnTo>
                  <a:lnTo>
                    <a:pt x="520" y="116"/>
                  </a:lnTo>
                  <a:lnTo>
                    <a:pt x="604" y="104"/>
                  </a:lnTo>
                  <a:lnTo>
                    <a:pt x="688" y="88"/>
                  </a:lnTo>
                  <a:lnTo>
                    <a:pt x="764" y="70"/>
                  </a:lnTo>
                  <a:lnTo>
                    <a:pt x="824" y="54"/>
                  </a:lnTo>
                  <a:lnTo>
                    <a:pt x="840" y="216"/>
                  </a:lnTo>
                  <a:lnTo>
                    <a:pt x="840" y="216"/>
                  </a:lnTo>
                  <a:lnTo>
                    <a:pt x="756" y="234"/>
                  </a:lnTo>
                  <a:lnTo>
                    <a:pt x="756" y="234"/>
                  </a:lnTo>
                  <a:lnTo>
                    <a:pt x="684" y="248"/>
                  </a:lnTo>
                  <a:lnTo>
                    <a:pt x="578" y="266"/>
                  </a:lnTo>
                  <a:lnTo>
                    <a:pt x="578" y="266"/>
                  </a:lnTo>
                  <a:lnTo>
                    <a:pt x="592" y="300"/>
                  </a:lnTo>
                  <a:lnTo>
                    <a:pt x="604" y="324"/>
                  </a:lnTo>
                  <a:lnTo>
                    <a:pt x="604" y="324"/>
                  </a:lnTo>
                  <a:lnTo>
                    <a:pt x="704" y="306"/>
                  </a:lnTo>
                  <a:lnTo>
                    <a:pt x="774" y="292"/>
                  </a:lnTo>
                  <a:lnTo>
                    <a:pt x="824" y="278"/>
                  </a:lnTo>
                  <a:lnTo>
                    <a:pt x="866" y="264"/>
                  </a:lnTo>
                  <a:lnTo>
                    <a:pt x="882" y="430"/>
                  </a:lnTo>
                  <a:lnTo>
                    <a:pt x="882" y="430"/>
                  </a:lnTo>
                  <a:lnTo>
                    <a:pt x="846" y="436"/>
                  </a:lnTo>
                  <a:lnTo>
                    <a:pt x="744" y="456"/>
                  </a:lnTo>
                  <a:lnTo>
                    <a:pt x="744" y="456"/>
                  </a:lnTo>
                  <a:lnTo>
                    <a:pt x="676" y="468"/>
                  </a:lnTo>
                  <a:lnTo>
                    <a:pt x="676" y="468"/>
                  </a:lnTo>
                  <a:lnTo>
                    <a:pt x="710" y="524"/>
                  </a:lnTo>
                  <a:lnTo>
                    <a:pt x="740" y="572"/>
                  </a:lnTo>
                  <a:lnTo>
                    <a:pt x="776" y="620"/>
                  </a:lnTo>
                  <a:lnTo>
                    <a:pt x="820" y="674"/>
                  </a:lnTo>
                  <a:lnTo>
                    <a:pt x="656" y="760"/>
                  </a:lnTo>
                  <a:lnTo>
                    <a:pt x="656" y="760"/>
                  </a:lnTo>
                  <a:lnTo>
                    <a:pt x="630" y="748"/>
                  </a:lnTo>
                  <a:lnTo>
                    <a:pt x="604" y="738"/>
                  </a:lnTo>
                  <a:lnTo>
                    <a:pt x="578" y="730"/>
                  </a:lnTo>
                  <a:lnTo>
                    <a:pt x="550" y="722"/>
                  </a:lnTo>
                  <a:lnTo>
                    <a:pt x="520" y="718"/>
                  </a:lnTo>
                  <a:lnTo>
                    <a:pt x="488" y="714"/>
                  </a:lnTo>
                  <a:lnTo>
                    <a:pt x="456" y="712"/>
                  </a:lnTo>
                  <a:lnTo>
                    <a:pt x="420" y="710"/>
                  </a:lnTo>
                  <a:lnTo>
                    <a:pt x="420" y="710"/>
                  </a:lnTo>
                  <a:lnTo>
                    <a:pt x="376" y="712"/>
                  </a:lnTo>
                  <a:lnTo>
                    <a:pt x="338" y="716"/>
                  </a:lnTo>
                  <a:lnTo>
                    <a:pt x="304" y="722"/>
                  </a:lnTo>
                  <a:lnTo>
                    <a:pt x="278" y="730"/>
                  </a:lnTo>
                  <a:lnTo>
                    <a:pt x="256" y="740"/>
                  </a:lnTo>
                  <a:lnTo>
                    <a:pt x="248" y="746"/>
                  </a:lnTo>
                  <a:lnTo>
                    <a:pt x="240" y="752"/>
                  </a:lnTo>
                  <a:lnTo>
                    <a:pt x="234" y="760"/>
                  </a:lnTo>
                  <a:lnTo>
                    <a:pt x="230" y="766"/>
                  </a:lnTo>
                  <a:lnTo>
                    <a:pt x="228" y="774"/>
                  </a:lnTo>
                  <a:lnTo>
                    <a:pt x="228" y="784"/>
                  </a:lnTo>
                  <a:lnTo>
                    <a:pt x="228" y="784"/>
                  </a:lnTo>
                  <a:lnTo>
                    <a:pt x="228" y="792"/>
                  </a:lnTo>
                  <a:lnTo>
                    <a:pt x="230" y="798"/>
                  </a:lnTo>
                  <a:lnTo>
                    <a:pt x="234" y="804"/>
                  </a:lnTo>
                  <a:lnTo>
                    <a:pt x="238" y="810"/>
                  </a:lnTo>
                  <a:lnTo>
                    <a:pt x="244" y="816"/>
                  </a:lnTo>
                  <a:lnTo>
                    <a:pt x="252" y="822"/>
                  </a:lnTo>
                  <a:lnTo>
                    <a:pt x="272" y="830"/>
                  </a:lnTo>
                  <a:lnTo>
                    <a:pt x="296" y="836"/>
                  </a:lnTo>
                  <a:lnTo>
                    <a:pt x="326" y="842"/>
                  </a:lnTo>
                  <a:lnTo>
                    <a:pt x="364" y="844"/>
                  </a:lnTo>
                  <a:lnTo>
                    <a:pt x="404" y="846"/>
                  </a:lnTo>
                  <a:lnTo>
                    <a:pt x="404" y="846"/>
                  </a:lnTo>
                  <a:lnTo>
                    <a:pt x="454" y="844"/>
                  </a:lnTo>
                  <a:lnTo>
                    <a:pt x="502" y="840"/>
                  </a:lnTo>
                  <a:lnTo>
                    <a:pt x="550" y="834"/>
                  </a:lnTo>
                  <a:lnTo>
                    <a:pt x="598" y="826"/>
                  </a:lnTo>
                  <a:lnTo>
                    <a:pt x="642" y="816"/>
                  </a:lnTo>
                  <a:lnTo>
                    <a:pt x="686" y="804"/>
                  </a:lnTo>
                  <a:lnTo>
                    <a:pt x="726" y="790"/>
                  </a:lnTo>
                  <a:lnTo>
                    <a:pt x="760" y="776"/>
                  </a:lnTo>
                  <a:lnTo>
                    <a:pt x="786" y="964"/>
                  </a:lnTo>
                  <a:lnTo>
                    <a:pt x="786" y="964"/>
                  </a:lnTo>
                  <a:lnTo>
                    <a:pt x="760" y="970"/>
                  </a:lnTo>
                  <a:lnTo>
                    <a:pt x="708" y="980"/>
                  </a:lnTo>
                  <a:lnTo>
                    <a:pt x="708" y="980"/>
                  </a:lnTo>
                  <a:lnTo>
                    <a:pt x="628" y="996"/>
                  </a:lnTo>
                  <a:lnTo>
                    <a:pt x="550" y="1006"/>
                  </a:lnTo>
                  <a:lnTo>
                    <a:pt x="472" y="1014"/>
                  </a:lnTo>
                  <a:lnTo>
                    <a:pt x="394" y="1016"/>
                  </a:lnTo>
                  <a:lnTo>
                    <a:pt x="394" y="1016"/>
                  </a:lnTo>
                  <a:lnTo>
                    <a:pt x="334" y="1014"/>
                  </a:lnTo>
                  <a:lnTo>
                    <a:pt x="278" y="1008"/>
                  </a:lnTo>
                  <a:lnTo>
                    <a:pt x="226" y="1000"/>
                  </a:lnTo>
                  <a:lnTo>
                    <a:pt x="182" y="988"/>
                  </a:lnTo>
                  <a:lnTo>
                    <a:pt x="162" y="982"/>
                  </a:lnTo>
                  <a:lnTo>
                    <a:pt x="142" y="974"/>
                  </a:lnTo>
                  <a:lnTo>
                    <a:pt x="124" y="964"/>
                  </a:lnTo>
                  <a:lnTo>
                    <a:pt x="108" y="956"/>
                  </a:lnTo>
                  <a:lnTo>
                    <a:pt x="92" y="944"/>
                  </a:lnTo>
                  <a:lnTo>
                    <a:pt x="78" y="934"/>
                  </a:lnTo>
                  <a:lnTo>
                    <a:pt x="66" y="922"/>
                  </a:lnTo>
                  <a:lnTo>
                    <a:pt x="56" y="908"/>
                  </a:lnTo>
                  <a:lnTo>
                    <a:pt x="56" y="908"/>
                  </a:lnTo>
                  <a:lnTo>
                    <a:pt x="46" y="896"/>
                  </a:lnTo>
                  <a:lnTo>
                    <a:pt x="38" y="882"/>
                  </a:lnTo>
                  <a:lnTo>
                    <a:pt x="30" y="866"/>
                  </a:lnTo>
                  <a:lnTo>
                    <a:pt x="24" y="852"/>
                  </a:lnTo>
                  <a:lnTo>
                    <a:pt x="20" y="836"/>
                  </a:lnTo>
                  <a:lnTo>
                    <a:pt x="16" y="818"/>
                  </a:lnTo>
                  <a:lnTo>
                    <a:pt x="14" y="802"/>
                  </a:lnTo>
                  <a:lnTo>
                    <a:pt x="14" y="786"/>
                  </a:lnTo>
                  <a:lnTo>
                    <a:pt x="14" y="786"/>
                  </a:lnTo>
                  <a:lnTo>
                    <a:pt x="16" y="756"/>
                  </a:lnTo>
                  <a:lnTo>
                    <a:pt x="24" y="728"/>
                  </a:lnTo>
                  <a:lnTo>
                    <a:pt x="34" y="702"/>
                  </a:lnTo>
                  <a:lnTo>
                    <a:pt x="50" y="676"/>
                  </a:lnTo>
                  <a:lnTo>
                    <a:pt x="70" y="654"/>
                  </a:lnTo>
                  <a:lnTo>
                    <a:pt x="92" y="634"/>
                  </a:lnTo>
                  <a:lnTo>
                    <a:pt x="118" y="616"/>
                  </a:lnTo>
                  <a:lnTo>
                    <a:pt x="148" y="600"/>
                  </a:lnTo>
                  <a:lnTo>
                    <a:pt x="148" y="600"/>
                  </a:lnTo>
                  <a:lnTo>
                    <a:pt x="172" y="592"/>
                  </a:lnTo>
                  <a:lnTo>
                    <a:pt x="198" y="582"/>
                  </a:lnTo>
                  <a:lnTo>
                    <a:pt x="226" y="576"/>
                  </a:lnTo>
                  <a:lnTo>
                    <a:pt x="256" y="570"/>
                  </a:lnTo>
                  <a:lnTo>
                    <a:pt x="286" y="566"/>
                  </a:lnTo>
                  <a:lnTo>
                    <a:pt x="318" y="562"/>
                  </a:lnTo>
                  <a:lnTo>
                    <a:pt x="352" y="560"/>
                  </a:lnTo>
                  <a:lnTo>
                    <a:pt x="386" y="560"/>
                  </a:lnTo>
                  <a:lnTo>
                    <a:pt x="386" y="560"/>
                  </a:lnTo>
                  <a:lnTo>
                    <a:pt x="428" y="560"/>
                  </a:lnTo>
                  <a:lnTo>
                    <a:pt x="468" y="562"/>
                  </a:lnTo>
                  <a:lnTo>
                    <a:pt x="504" y="566"/>
                  </a:lnTo>
                  <a:lnTo>
                    <a:pt x="542" y="572"/>
                  </a:lnTo>
                  <a:lnTo>
                    <a:pt x="542" y="572"/>
                  </a:lnTo>
                  <a:lnTo>
                    <a:pt x="520" y="540"/>
                  </a:lnTo>
                  <a:lnTo>
                    <a:pt x="490" y="494"/>
                  </a:lnTo>
                  <a:lnTo>
                    <a:pt x="490" y="494"/>
                  </a:lnTo>
                  <a:lnTo>
                    <a:pt x="412" y="502"/>
                  </a:lnTo>
                  <a:lnTo>
                    <a:pt x="322" y="508"/>
                  </a:lnTo>
                  <a:lnTo>
                    <a:pt x="220" y="514"/>
                  </a:lnTo>
                  <a:lnTo>
                    <a:pt x="104" y="518"/>
                  </a:lnTo>
                  <a:lnTo>
                    <a:pt x="104" y="518"/>
                  </a:lnTo>
                  <a:lnTo>
                    <a:pt x="40" y="520"/>
                  </a:lnTo>
                  <a:lnTo>
                    <a:pt x="8" y="524"/>
                  </a:lnTo>
                  <a:lnTo>
                    <a:pt x="0" y="358"/>
                  </a:lnTo>
                  <a:lnTo>
                    <a:pt x="0" y="358"/>
                  </a:lnTo>
                  <a:lnTo>
                    <a:pt x="46" y="362"/>
                  </a:lnTo>
                  <a:lnTo>
                    <a:pt x="114" y="362"/>
                  </a:lnTo>
                  <a:lnTo>
                    <a:pt x="114" y="362"/>
                  </a:lnTo>
                  <a:lnTo>
                    <a:pt x="196" y="362"/>
                  </a:lnTo>
                  <a:lnTo>
                    <a:pt x="274" y="358"/>
                  </a:lnTo>
                  <a:lnTo>
                    <a:pt x="350" y="354"/>
                  </a:lnTo>
                  <a:lnTo>
                    <a:pt x="420" y="346"/>
                  </a:lnTo>
                  <a:lnTo>
                    <a:pt x="420" y="346"/>
                  </a:lnTo>
                  <a:lnTo>
                    <a:pt x="394" y="288"/>
                  </a:lnTo>
                  <a:lnTo>
                    <a:pt x="394" y="288"/>
                  </a:lnTo>
                  <a:lnTo>
                    <a:pt x="328" y="294"/>
                  </a:lnTo>
                  <a:lnTo>
                    <a:pt x="264" y="298"/>
                  </a:lnTo>
                  <a:lnTo>
                    <a:pt x="194" y="300"/>
                  </a:lnTo>
                  <a:lnTo>
                    <a:pt x="102" y="300"/>
                  </a:lnTo>
                  <a:lnTo>
                    <a:pt x="102" y="300"/>
                  </a:lnTo>
                  <a:lnTo>
                    <a:pt x="18" y="302"/>
                  </a:lnTo>
                  <a:lnTo>
                    <a:pt x="8" y="138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グループ化 69"/>
          <p:cNvGrpSpPr/>
          <p:nvPr/>
        </p:nvGrpSpPr>
        <p:grpSpPr>
          <a:xfrm>
            <a:off x="812880" y="30457800"/>
            <a:ext cx="1717560" cy="9115560"/>
            <a:chOff x="812880" y="30457800"/>
            <a:chExt cx="1717560" cy="9115560"/>
          </a:xfrm>
        </p:grpSpPr>
        <p:sp>
          <p:nvSpPr>
            <p:cNvPr id="104" name="Freeform 13"/>
            <p:cNvSpPr/>
            <p:nvPr/>
          </p:nvSpPr>
          <p:spPr>
            <a:xfrm>
              <a:off x="901440" y="30457800"/>
              <a:ext cx="1536840" cy="1647720"/>
            </a:xfrm>
            <a:custGeom>
              <a:avLst/>
              <a:gdLst>
                <a:gd name="textAreaLeft" fmla="*/ 0 w 1536840"/>
                <a:gd name="textAreaRight" fmla="*/ 1537200 w 153684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968" h="1038">
                  <a:moveTo>
                    <a:pt x="388" y="120"/>
                  </a:moveTo>
                  <a:lnTo>
                    <a:pt x="388" y="120"/>
                  </a:lnTo>
                  <a:lnTo>
                    <a:pt x="386" y="50"/>
                  </a:lnTo>
                  <a:lnTo>
                    <a:pt x="384" y="24"/>
                  </a:lnTo>
                  <a:lnTo>
                    <a:pt x="382" y="0"/>
                  </a:lnTo>
                  <a:lnTo>
                    <a:pt x="572" y="0"/>
                  </a:lnTo>
                  <a:lnTo>
                    <a:pt x="572" y="0"/>
                  </a:lnTo>
                  <a:lnTo>
                    <a:pt x="570" y="26"/>
                  </a:lnTo>
                  <a:lnTo>
                    <a:pt x="568" y="52"/>
                  </a:lnTo>
                  <a:lnTo>
                    <a:pt x="566" y="120"/>
                  </a:lnTo>
                  <a:lnTo>
                    <a:pt x="566" y="330"/>
                  </a:lnTo>
                  <a:lnTo>
                    <a:pt x="754" y="330"/>
                  </a:lnTo>
                  <a:lnTo>
                    <a:pt x="754" y="174"/>
                  </a:lnTo>
                  <a:lnTo>
                    <a:pt x="754" y="174"/>
                  </a:lnTo>
                  <a:lnTo>
                    <a:pt x="752" y="124"/>
                  </a:lnTo>
                  <a:lnTo>
                    <a:pt x="748" y="80"/>
                  </a:lnTo>
                  <a:lnTo>
                    <a:pt x="932" y="80"/>
                  </a:lnTo>
                  <a:lnTo>
                    <a:pt x="932" y="80"/>
                  </a:lnTo>
                  <a:lnTo>
                    <a:pt x="926" y="130"/>
                  </a:lnTo>
                  <a:lnTo>
                    <a:pt x="926" y="188"/>
                  </a:lnTo>
                  <a:lnTo>
                    <a:pt x="926" y="410"/>
                  </a:lnTo>
                  <a:lnTo>
                    <a:pt x="926" y="410"/>
                  </a:lnTo>
                  <a:lnTo>
                    <a:pt x="926" y="458"/>
                  </a:lnTo>
                  <a:lnTo>
                    <a:pt x="930" y="496"/>
                  </a:lnTo>
                  <a:lnTo>
                    <a:pt x="930" y="496"/>
                  </a:lnTo>
                  <a:lnTo>
                    <a:pt x="890" y="492"/>
                  </a:lnTo>
                  <a:lnTo>
                    <a:pt x="842" y="492"/>
                  </a:lnTo>
                  <a:lnTo>
                    <a:pt x="566" y="492"/>
                  </a:lnTo>
                  <a:lnTo>
                    <a:pt x="566" y="824"/>
                  </a:lnTo>
                  <a:lnTo>
                    <a:pt x="790" y="824"/>
                  </a:lnTo>
                  <a:lnTo>
                    <a:pt x="790" y="662"/>
                  </a:lnTo>
                  <a:lnTo>
                    <a:pt x="790" y="662"/>
                  </a:lnTo>
                  <a:lnTo>
                    <a:pt x="788" y="610"/>
                  </a:lnTo>
                  <a:lnTo>
                    <a:pt x="784" y="566"/>
                  </a:lnTo>
                  <a:lnTo>
                    <a:pt x="968" y="566"/>
                  </a:lnTo>
                  <a:lnTo>
                    <a:pt x="968" y="566"/>
                  </a:lnTo>
                  <a:lnTo>
                    <a:pt x="964" y="618"/>
                  </a:lnTo>
                  <a:lnTo>
                    <a:pt x="962" y="680"/>
                  </a:lnTo>
                  <a:lnTo>
                    <a:pt x="962" y="910"/>
                  </a:lnTo>
                  <a:lnTo>
                    <a:pt x="962" y="910"/>
                  </a:lnTo>
                  <a:lnTo>
                    <a:pt x="964" y="986"/>
                  </a:lnTo>
                  <a:lnTo>
                    <a:pt x="966" y="1014"/>
                  </a:lnTo>
                  <a:lnTo>
                    <a:pt x="968" y="1038"/>
                  </a:lnTo>
                  <a:lnTo>
                    <a:pt x="790" y="1038"/>
                  </a:lnTo>
                  <a:lnTo>
                    <a:pt x="790" y="990"/>
                  </a:lnTo>
                  <a:lnTo>
                    <a:pt x="180" y="990"/>
                  </a:lnTo>
                  <a:lnTo>
                    <a:pt x="180" y="1038"/>
                  </a:lnTo>
                  <a:lnTo>
                    <a:pt x="0" y="1038"/>
                  </a:lnTo>
                  <a:lnTo>
                    <a:pt x="0" y="1038"/>
                  </a:lnTo>
                  <a:lnTo>
                    <a:pt x="6" y="980"/>
                  </a:lnTo>
                  <a:lnTo>
                    <a:pt x="8" y="910"/>
                  </a:lnTo>
                  <a:lnTo>
                    <a:pt x="8" y="682"/>
                  </a:lnTo>
                  <a:lnTo>
                    <a:pt x="8" y="682"/>
                  </a:lnTo>
                  <a:lnTo>
                    <a:pt x="6" y="618"/>
                  </a:lnTo>
                  <a:lnTo>
                    <a:pt x="2" y="566"/>
                  </a:lnTo>
                  <a:lnTo>
                    <a:pt x="184" y="566"/>
                  </a:lnTo>
                  <a:lnTo>
                    <a:pt x="184" y="566"/>
                  </a:lnTo>
                  <a:lnTo>
                    <a:pt x="180" y="608"/>
                  </a:lnTo>
                  <a:lnTo>
                    <a:pt x="180" y="664"/>
                  </a:lnTo>
                  <a:lnTo>
                    <a:pt x="180" y="824"/>
                  </a:lnTo>
                  <a:lnTo>
                    <a:pt x="388" y="824"/>
                  </a:lnTo>
                  <a:lnTo>
                    <a:pt x="388" y="492"/>
                  </a:lnTo>
                  <a:lnTo>
                    <a:pt x="132" y="492"/>
                  </a:lnTo>
                  <a:lnTo>
                    <a:pt x="132" y="492"/>
                  </a:lnTo>
                  <a:lnTo>
                    <a:pt x="80" y="492"/>
                  </a:lnTo>
                  <a:lnTo>
                    <a:pt x="40" y="496"/>
                  </a:lnTo>
                  <a:lnTo>
                    <a:pt x="40" y="496"/>
                  </a:lnTo>
                  <a:lnTo>
                    <a:pt x="44" y="456"/>
                  </a:lnTo>
                  <a:lnTo>
                    <a:pt x="44" y="410"/>
                  </a:lnTo>
                  <a:lnTo>
                    <a:pt x="44" y="188"/>
                  </a:lnTo>
                  <a:lnTo>
                    <a:pt x="44" y="188"/>
                  </a:lnTo>
                  <a:lnTo>
                    <a:pt x="42" y="136"/>
                  </a:lnTo>
                  <a:lnTo>
                    <a:pt x="38" y="80"/>
                  </a:lnTo>
                  <a:lnTo>
                    <a:pt x="222" y="80"/>
                  </a:lnTo>
                  <a:lnTo>
                    <a:pt x="222" y="80"/>
                  </a:lnTo>
                  <a:lnTo>
                    <a:pt x="218" y="120"/>
                  </a:lnTo>
                  <a:lnTo>
                    <a:pt x="216" y="176"/>
                  </a:lnTo>
                  <a:lnTo>
                    <a:pt x="216" y="330"/>
                  </a:lnTo>
                  <a:lnTo>
                    <a:pt x="388" y="330"/>
                  </a:lnTo>
                  <a:lnTo>
                    <a:pt x="388" y="120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>
              <a:off x="812880" y="32133960"/>
              <a:ext cx="1717560" cy="16761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82" h="1056">
                  <a:moveTo>
                    <a:pt x="668" y="458"/>
                  </a:moveTo>
                  <a:lnTo>
                    <a:pt x="668" y="458"/>
                  </a:lnTo>
                  <a:lnTo>
                    <a:pt x="692" y="418"/>
                  </a:lnTo>
                  <a:lnTo>
                    <a:pt x="712" y="372"/>
                  </a:lnTo>
                  <a:lnTo>
                    <a:pt x="734" y="322"/>
                  </a:lnTo>
                  <a:lnTo>
                    <a:pt x="752" y="268"/>
                  </a:lnTo>
                  <a:lnTo>
                    <a:pt x="922" y="306"/>
                  </a:lnTo>
                  <a:lnTo>
                    <a:pt x="922" y="306"/>
                  </a:lnTo>
                  <a:lnTo>
                    <a:pt x="906" y="348"/>
                  </a:lnTo>
                  <a:lnTo>
                    <a:pt x="888" y="388"/>
                  </a:lnTo>
                  <a:lnTo>
                    <a:pt x="870" y="424"/>
                  </a:lnTo>
                  <a:lnTo>
                    <a:pt x="850" y="458"/>
                  </a:lnTo>
                  <a:lnTo>
                    <a:pt x="920" y="458"/>
                  </a:lnTo>
                  <a:lnTo>
                    <a:pt x="920" y="458"/>
                  </a:lnTo>
                  <a:lnTo>
                    <a:pt x="1000" y="458"/>
                  </a:lnTo>
                  <a:lnTo>
                    <a:pt x="1028" y="456"/>
                  </a:lnTo>
                  <a:lnTo>
                    <a:pt x="1054" y="454"/>
                  </a:lnTo>
                  <a:lnTo>
                    <a:pt x="1054" y="624"/>
                  </a:lnTo>
                  <a:lnTo>
                    <a:pt x="1054" y="624"/>
                  </a:lnTo>
                  <a:lnTo>
                    <a:pt x="990" y="618"/>
                  </a:lnTo>
                  <a:lnTo>
                    <a:pt x="910" y="616"/>
                  </a:lnTo>
                  <a:lnTo>
                    <a:pt x="710" y="616"/>
                  </a:lnTo>
                  <a:lnTo>
                    <a:pt x="710" y="616"/>
                  </a:lnTo>
                  <a:lnTo>
                    <a:pt x="744" y="658"/>
                  </a:lnTo>
                  <a:lnTo>
                    <a:pt x="782" y="694"/>
                  </a:lnTo>
                  <a:lnTo>
                    <a:pt x="822" y="730"/>
                  </a:lnTo>
                  <a:lnTo>
                    <a:pt x="866" y="760"/>
                  </a:lnTo>
                  <a:lnTo>
                    <a:pt x="912" y="790"/>
                  </a:lnTo>
                  <a:lnTo>
                    <a:pt x="964" y="818"/>
                  </a:lnTo>
                  <a:lnTo>
                    <a:pt x="1020" y="842"/>
                  </a:lnTo>
                  <a:lnTo>
                    <a:pt x="1082" y="866"/>
                  </a:lnTo>
                  <a:lnTo>
                    <a:pt x="1082" y="866"/>
                  </a:lnTo>
                  <a:lnTo>
                    <a:pt x="1052" y="908"/>
                  </a:lnTo>
                  <a:lnTo>
                    <a:pt x="1026" y="946"/>
                  </a:lnTo>
                  <a:lnTo>
                    <a:pt x="1004" y="986"/>
                  </a:lnTo>
                  <a:lnTo>
                    <a:pt x="980" y="1034"/>
                  </a:lnTo>
                  <a:lnTo>
                    <a:pt x="980" y="1034"/>
                  </a:lnTo>
                  <a:lnTo>
                    <a:pt x="912" y="998"/>
                  </a:lnTo>
                  <a:lnTo>
                    <a:pt x="854" y="962"/>
                  </a:lnTo>
                  <a:lnTo>
                    <a:pt x="804" y="926"/>
                  </a:lnTo>
                  <a:lnTo>
                    <a:pt x="756" y="886"/>
                  </a:lnTo>
                  <a:lnTo>
                    <a:pt x="756" y="886"/>
                  </a:lnTo>
                  <a:lnTo>
                    <a:pt x="714" y="850"/>
                  </a:lnTo>
                  <a:lnTo>
                    <a:pt x="680" y="814"/>
                  </a:lnTo>
                  <a:lnTo>
                    <a:pt x="648" y="774"/>
                  </a:lnTo>
                  <a:lnTo>
                    <a:pt x="614" y="730"/>
                  </a:lnTo>
                  <a:lnTo>
                    <a:pt x="614" y="730"/>
                  </a:lnTo>
                  <a:lnTo>
                    <a:pt x="616" y="758"/>
                  </a:lnTo>
                  <a:lnTo>
                    <a:pt x="616" y="758"/>
                  </a:lnTo>
                  <a:lnTo>
                    <a:pt x="618" y="820"/>
                  </a:lnTo>
                  <a:lnTo>
                    <a:pt x="618" y="936"/>
                  </a:lnTo>
                  <a:lnTo>
                    <a:pt x="618" y="936"/>
                  </a:lnTo>
                  <a:lnTo>
                    <a:pt x="620" y="996"/>
                  </a:lnTo>
                  <a:lnTo>
                    <a:pt x="626" y="1056"/>
                  </a:lnTo>
                  <a:lnTo>
                    <a:pt x="436" y="1056"/>
                  </a:lnTo>
                  <a:lnTo>
                    <a:pt x="436" y="1056"/>
                  </a:lnTo>
                  <a:lnTo>
                    <a:pt x="442" y="1000"/>
                  </a:lnTo>
                  <a:lnTo>
                    <a:pt x="444" y="936"/>
                  </a:lnTo>
                  <a:lnTo>
                    <a:pt x="444" y="822"/>
                  </a:lnTo>
                  <a:lnTo>
                    <a:pt x="444" y="822"/>
                  </a:lnTo>
                  <a:lnTo>
                    <a:pt x="444" y="782"/>
                  </a:lnTo>
                  <a:lnTo>
                    <a:pt x="446" y="730"/>
                  </a:lnTo>
                  <a:lnTo>
                    <a:pt x="446" y="730"/>
                  </a:lnTo>
                  <a:lnTo>
                    <a:pt x="414" y="776"/>
                  </a:lnTo>
                  <a:lnTo>
                    <a:pt x="382" y="818"/>
                  </a:lnTo>
                  <a:lnTo>
                    <a:pt x="346" y="858"/>
                  </a:lnTo>
                  <a:lnTo>
                    <a:pt x="306" y="894"/>
                  </a:lnTo>
                  <a:lnTo>
                    <a:pt x="262" y="930"/>
                  </a:lnTo>
                  <a:lnTo>
                    <a:pt x="216" y="964"/>
                  </a:lnTo>
                  <a:lnTo>
                    <a:pt x="164" y="998"/>
                  </a:lnTo>
                  <a:lnTo>
                    <a:pt x="104" y="1030"/>
                  </a:lnTo>
                  <a:lnTo>
                    <a:pt x="104" y="1030"/>
                  </a:lnTo>
                  <a:lnTo>
                    <a:pt x="82" y="984"/>
                  </a:lnTo>
                  <a:lnTo>
                    <a:pt x="58" y="944"/>
                  </a:lnTo>
                  <a:lnTo>
                    <a:pt x="32" y="906"/>
                  </a:lnTo>
                  <a:lnTo>
                    <a:pt x="0" y="866"/>
                  </a:lnTo>
                  <a:lnTo>
                    <a:pt x="0" y="866"/>
                  </a:lnTo>
                  <a:lnTo>
                    <a:pt x="48" y="846"/>
                  </a:lnTo>
                  <a:lnTo>
                    <a:pt x="96" y="822"/>
                  </a:lnTo>
                  <a:lnTo>
                    <a:pt x="142" y="794"/>
                  </a:lnTo>
                  <a:lnTo>
                    <a:pt x="188" y="764"/>
                  </a:lnTo>
                  <a:lnTo>
                    <a:pt x="188" y="764"/>
                  </a:lnTo>
                  <a:lnTo>
                    <a:pt x="234" y="732"/>
                  </a:lnTo>
                  <a:lnTo>
                    <a:pt x="274" y="698"/>
                  </a:lnTo>
                  <a:lnTo>
                    <a:pt x="310" y="660"/>
                  </a:lnTo>
                  <a:lnTo>
                    <a:pt x="346" y="616"/>
                  </a:lnTo>
                  <a:lnTo>
                    <a:pt x="168" y="616"/>
                  </a:lnTo>
                  <a:lnTo>
                    <a:pt x="168" y="616"/>
                  </a:lnTo>
                  <a:lnTo>
                    <a:pt x="90" y="618"/>
                  </a:lnTo>
                  <a:lnTo>
                    <a:pt x="28" y="624"/>
                  </a:lnTo>
                  <a:lnTo>
                    <a:pt x="28" y="454"/>
                  </a:lnTo>
                  <a:lnTo>
                    <a:pt x="28" y="454"/>
                  </a:lnTo>
                  <a:lnTo>
                    <a:pt x="54" y="456"/>
                  </a:lnTo>
                  <a:lnTo>
                    <a:pt x="84" y="458"/>
                  </a:lnTo>
                  <a:lnTo>
                    <a:pt x="166" y="458"/>
                  </a:lnTo>
                  <a:lnTo>
                    <a:pt x="212" y="458"/>
                  </a:lnTo>
                  <a:lnTo>
                    <a:pt x="212" y="458"/>
                  </a:lnTo>
                  <a:lnTo>
                    <a:pt x="198" y="418"/>
                  </a:lnTo>
                  <a:lnTo>
                    <a:pt x="186" y="384"/>
                  </a:lnTo>
                  <a:lnTo>
                    <a:pt x="170" y="350"/>
                  </a:lnTo>
                  <a:lnTo>
                    <a:pt x="148" y="310"/>
                  </a:lnTo>
                  <a:lnTo>
                    <a:pt x="312" y="268"/>
                  </a:lnTo>
                  <a:lnTo>
                    <a:pt x="312" y="268"/>
                  </a:lnTo>
                  <a:lnTo>
                    <a:pt x="334" y="312"/>
                  </a:lnTo>
                  <a:lnTo>
                    <a:pt x="352" y="352"/>
                  </a:lnTo>
                  <a:lnTo>
                    <a:pt x="366" y="390"/>
                  </a:lnTo>
                  <a:lnTo>
                    <a:pt x="380" y="428"/>
                  </a:lnTo>
                  <a:lnTo>
                    <a:pt x="258" y="458"/>
                  </a:lnTo>
                  <a:lnTo>
                    <a:pt x="444" y="458"/>
                  </a:lnTo>
                  <a:lnTo>
                    <a:pt x="444" y="266"/>
                  </a:lnTo>
                  <a:lnTo>
                    <a:pt x="204" y="266"/>
                  </a:lnTo>
                  <a:lnTo>
                    <a:pt x="204" y="266"/>
                  </a:lnTo>
                  <a:lnTo>
                    <a:pt x="130" y="266"/>
                  </a:lnTo>
                  <a:lnTo>
                    <a:pt x="74" y="270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136" y="104"/>
                  </a:lnTo>
                  <a:lnTo>
                    <a:pt x="214" y="106"/>
                  </a:lnTo>
                  <a:lnTo>
                    <a:pt x="444" y="106"/>
                  </a:lnTo>
                  <a:lnTo>
                    <a:pt x="444" y="80"/>
                  </a:lnTo>
                  <a:lnTo>
                    <a:pt x="444" y="80"/>
                  </a:lnTo>
                  <a:lnTo>
                    <a:pt x="442" y="38"/>
                  </a:lnTo>
                  <a:lnTo>
                    <a:pt x="438" y="0"/>
                  </a:lnTo>
                  <a:lnTo>
                    <a:pt x="622" y="0"/>
                  </a:lnTo>
                  <a:lnTo>
                    <a:pt x="622" y="0"/>
                  </a:lnTo>
                  <a:lnTo>
                    <a:pt x="618" y="38"/>
                  </a:lnTo>
                  <a:lnTo>
                    <a:pt x="618" y="82"/>
                  </a:lnTo>
                  <a:lnTo>
                    <a:pt x="618" y="106"/>
                  </a:lnTo>
                  <a:lnTo>
                    <a:pt x="866" y="106"/>
                  </a:lnTo>
                  <a:lnTo>
                    <a:pt x="866" y="106"/>
                  </a:lnTo>
                  <a:lnTo>
                    <a:pt x="948" y="104"/>
                  </a:lnTo>
                  <a:lnTo>
                    <a:pt x="1008" y="100"/>
                  </a:lnTo>
                  <a:lnTo>
                    <a:pt x="1008" y="270"/>
                  </a:lnTo>
                  <a:lnTo>
                    <a:pt x="1008" y="270"/>
                  </a:lnTo>
                  <a:lnTo>
                    <a:pt x="982" y="268"/>
                  </a:lnTo>
                  <a:lnTo>
                    <a:pt x="954" y="266"/>
                  </a:lnTo>
                  <a:lnTo>
                    <a:pt x="878" y="266"/>
                  </a:lnTo>
                  <a:lnTo>
                    <a:pt x="618" y="266"/>
                  </a:lnTo>
                  <a:lnTo>
                    <a:pt x="618" y="458"/>
                  </a:lnTo>
                  <a:lnTo>
                    <a:pt x="668" y="458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>
              <a:off x="961920" y="33864480"/>
              <a:ext cx="1460520" cy="1584360"/>
            </a:xfrm>
            <a:custGeom>
              <a:avLst/>
              <a:gdLst>
                <a:gd name="textAreaLeft" fmla="*/ 0 w 1460520"/>
                <a:gd name="textAreaRight" fmla="*/ 1460520 w 146052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920" h="998">
                  <a:moveTo>
                    <a:pt x="2" y="100"/>
                  </a:moveTo>
                  <a:lnTo>
                    <a:pt x="2" y="100"/>
                  </a:lnTo>
                  <a:lnTo>
                    <a:pt x="28" y="106"/>
                  </a:lnTo>
                  <a:lnTo>
                    <a:pt x="60" y="110"/>
                  </a:lnTo>
                  <a:lnTo>
                    <a:pt x="136" y="118"/>
                  </a:lnTo>
                  <a:lnTo>
                    <a:pt x="224" y="122"/>
                  </a:lnTo>
                  <a:lnTo>
                    <a:pt x="324" y="124"/>
                  </a:lnTo>
                  <a:lnTo>
                    <a:pt x="324" y="124"/>
                  </a:lnTo>
                  <a:lnTo>
                    <a:pt x="386" y="122"/>
                  </a:lnTo>
                  <a:lnTo>
                    <a:pt x="386" y="122"/>
                  </a:lnTo>
                  <a:lnTo>
                    <a:pt x="384" y="44"/>
                  </a:lnTo>
                  <a:lnTo>
                    <a:pt x="382" y="22"/>
                  </a:lnTo>
                  <a:lnTo>
                    <a:pt x="380" y="0"/>
                  </a:lnTo>
                  <a:lnTo>
                    <a:pt x="576" y="0"/>
                  </a:lnTo>
                  <a:lnTo>
                    <a:pt x="576" y="0"/>
                  </a:lnTo>
                  <a:lnTo>
                    <a:pt x="574" y="20"/>
                  </a:lnTo>
                  <a:lnTo>
                    <a:pt x="572" y="40"/>
                  </a:lnTo>
                  <a:lnTo>
                    <a:pt x="568" y="118"/>
                  </a:lnTo>
                  <a:lnTo>
                    <a:pt x="568" y="118"/>
                  </a:lnTo>
                  <a:lnTo>
                    <a:pt x="670" y="110"/>
                  </a:lnTo>
                  <a:lnTo>
                    <a:pt x="758" y="100"/>
                  </a:lnTo>
                  <a:lnTo>
                    <a:pt x="830" y="90"/>
                  </a:lnTo>
                  <a:lnTo>
                    <a:pt x="860" y="84"/>
                  </a:lnTo>
                  <a:lnTo>
                    <a:pt x="886" y="78"/>
                  </a:lnTo>
                  <a:lnTo>
                    <a:pt x="892" y="250"/>
                  </a:lnTo>
                  <a:lnTo>
                    <a:pt x="892" y="250"/>
                  </a:lnTo>
                  <a:lnTo>
                    <a:pt x="852" y="252"/>
                  </a:lnTo>
                  <a:lnTo>
                    <a:pt x="792" y="260"/>
                  </a:lnTo>
                  <a:lnTo>
                    <a:pt x="792" y="260"/>
                  </a:lnTo>
                  <a:lnTo>
                    <a:pt x="738" y="266"/>
                  </a:lnTo>
                  <a:lnTo>
                    <a:pt x="684" y="272"/>
                  </a:lnTo>
                  <a:lnTo>
                    <a:pt x="628" y="276"/>
                  </a:lnTo>
                  <a:lnTo>
                    <a:pt x="568" y="278"/>
                  </a:lnTo>
                  <a:lnTo>
                    <a:pt x="568" y="278"/>
                  </a:lnTo>
                  <a:lnTo>
                    <a:pt x="568" y="348"/>
                  </a:lnTo>
                  <a:lnTo>
                    <a:pt x="568" y="348"/>
                  </a:lnTo>
                  <a:lnTo>
                    <a:pt x="656" y="344"/>
                  </a:lnTo>
                  <a:lnTo>
                    <a:pt x="730" y="336"/>
                  </a:lnTo>
                  <a:lnTo>
                    <a:pt x="796" y="326"/>
                  </a:lnTo>
                  <a:lnTo>
                    <a:pt x="856" y="316"/>
                  </a:lnTo>
                  <a:lnTo>
                    <a:pt x="860" y="486"/>
                  </a:lnTo>
                  <a:lnTo>
                    <a:pt x="860" y="486"/>
                  </a:lnTo>
                  <a:lnTo>
                    <a:pt x="790" y="492"/>
                  </a:lnTo>
                  <a:lnTo>
                    <a:pt x="790" y="492"/>
                  </a:lnTo>
                  <a:lnTo>
                    <a:pt x="684" y="502"/>
                  </a:lnTo>
                  <a:lnTo>
                    <a:pt x="570" y="508"/>
                  </a:lnTo>
                  <a:lnTo>
                    <a:pt x="570" y="508"/>
                  </a:lnTo>
                  <a:lnTo>
                    <a:pt x="574" y="606"/>
                  </a:lnTo>
                  <a:lnTo>
                    <a:pt x="574" y="606"/>
                  </a:lnTo>
                  <a:lnTo>
                    <a:pt x="614" y="618"/>
                  </a:lnTo>
                  <a:lnTo>
                    <a:pt x="650" y="630"/>
                  </a:lnTo>
                  <a:lnTo>
                    <a:pt x="686" y="646"/>
                  </a:lnTo>
                  <a:lnTo>
                    <a:pt x="726" y="668"/>
                  </a:lnTo>
                  <a:lnTo>
                    <a:pt x="726" y="668"/>
                  </a:lnTo>
                  <a:lnTo>
                    <a:pt x="762" y="686"/>
                  </a:lnTo>
                  <a:lnTo>
                    <a:pt x="794" y="704"/>
                  </a:lnTo>
                  <a:lnTo>
                    <a:pt x="828" y="726"/>
                  </a:lnTo>
                  <a:lnTo>
                    <a:pt x="876" y="760"/>
                  </a:lnTo>
                  <a:lnTo>
                    <a:pt x="876" y="760"/>
                  </a:lnTo>
                  <a:lnTo>
                    <a:pt x="920" y="786"/>
                  </a:lnTo>
                  <a:lnTo>
                    <a:pt x="812" y="968"/>
                  </a:lnTo>
                  <a:lnTo>
                    <a:pt x="812" y="968"/>
                  </a:lnTo>
                  <a:lnTo>
                    <a:pt x="778" y="932"/>
                  </a:lnTo>
                  <a:lnTo>
                    <a:pt x="736" y="896"/>
                  </a:lnTo>
                  <a:lnTo>
                    <a:pt x="736" y="896"/>
                  </a:lnTo>
                  <a:lnTo>
                    <a:pt x="696" y="864"/>
                  </a:lnTo>
                  <a:lnTo>
                    <a:pt x="656" y="836"/>
                  </a:lnTo>
                  <a:lnTo>
                    <a:pt x="616" y="814"/>
                  </a:lnTo>
                  <a:lnTo>
                    <a:pt x="578" y="796"/>
                  </a:lnTo>
                  <a:lnTo>
                    <a:pt x="578" y="796"/>
                  </a:lnTo>
                  <a:lnTo>
                    <a:pt x="576" y="830"/>
                  </a:lnTo>
                  <a:lnTo>
                    <a:pt x="572" y="860"/>
                  </a:lnTo>
                  <a:lnTo>
                    <a:pt x="562" y="886"/>
                  </a:lnTo>
                  <a:lnTo>
                    <a:pt x="550" y="908"/>
                  </a:lnTo>
                  <a:lnTo>
                    <a:pt x="550" y="908"/>
                  </a:lnTo>
                  <a:lnTo>
                    <a:pt x="544" y="920"/>
                  </a:lnTo>
                  <a:lnTo>
                    <a:pt x="534" y="930"/>
                  </a:lnTo>
                  <a:lnTo>
                    <a:pt x="514" y="946"/>
                  </a:lnTo>
                  <a:lnTo>
                    <a:pt x="490" y="962"/>
                  </a:lnTo>
                  <a:lnTo>
                    <a:pt x="460" y="974"/>
                  </a:lnTo>
                  <a:lnTo>
                    <a:pt x="428" y="984"/>
                  </a:lnTo>
                  <a:lnTo>
                    <a:pt x="390" y="992"/>
                  </a:lnTo>
                  <a:lnTo>
                    <a:pt x="350" y="996"/>
                  </a:lnTo>
                  <a:lnTo>
                    <a:pt x="306" y="998"/>
                  </a:lnTo>
                  <a:lnTo>
                    <a:pt x="306" y="998"/>
                  </a:lnTo>
                  <a:lnTo>
                    <a:pt x="274" y="996"/>
                  </a:lnTo>
                  <a:lnTo>
                    <a:pt x="242" y="994"/>
                  </a:lnTo>
                  <a:lnTo>
                    <a:pt x="212" y="990"/>
                  </a:lnTo>
                  <a:lnTo>
                    <a:pt x="184" y="984"/>
                  </a:lnTo>
                  <a:lnTo>
                    <a:pt x="158" y="976"/>
                  </a:lnTo>
                  <a:lnTo>
                    <a:pt x="134" y="966"/>
                  </a:lnTo>
                  <a:lnTo>
                    <a:pt x="114" y="956"/>
                  </a:lnTo>
                  <a:lnTo>
                    <a:pt x="94" y="944"/>
                  </a:lnTo>
                  <a:lnTo>
                    <a:pt x="76" y="930"/>
                  </a:lnTo>
                  <a:lnTo>
                    <a:pt x="62" y="914"/>
                  </a:lnTo>
                  <a:lnTo>
                    <a:pt x="48" y="898"/>
                  </a:lnTo>
                  <a:lnTo>
                    <a:pt x="38" y="880"/>
                  </a:lnTo>
                  <a:lnTo>
                    <a:pt x="30" y="860"/>
                  </a:lnTo>
                  <a:lnTo>
                    <a:pt x="24" y="838"/>
                  </a:lnTo>
                  <a:lnTo>
                    <a:pt x="20" y="816"/>
                  </a:lnTo>
                  <a:lnTo>
                    <a:pt x="18" y="792"/>
                  </a:lnTo>
                  <a:lnTo>
                    <a:pt x="18" y="792"/>
                  </a:lnTo>
                  <a:lnTo>
                    <a:pt x="20" y="778"/>
                  </a:lnTo>
                  <a:lnTo>
                    <a:pt x="22" y="762"/>
                  </a:lnTo>
                  <a:lnTo>
                    <a:pt x="24" y="748"/>
                  </a:lnTo>
                  <a:lnTo>
                    <a:pt x="28" y="734"/>
                  </a:lnTo>
                  <a:lnTo>
                    <a:pt x="34" y="720"/>
                  </a:lnTo>
                  <a:lnTo>
                    <a:pt x="40" y="708"/>
                  </a:lnTo>
                  <a:lnTo>
                    <a:pt x="56" y="684"/>
                  </a:lnTo>
                  <a:lnTo>
                    <a:pt x="76" y="660"/>
                  </a:lnTo>
                  <a:lnTo>
                    <a:pt x="100" y="642"/>
                  </a:lnTo>
                  <a:lnTo>
                    <a:pt x="128" y="624"/>
                  </a:lnTo>
                  <a:lnTo>
                    <a:pt x="160" y="610"/>
                  </a:lnTo>
                  <a:lnTo>
                    <a:pt x="160" y="610"/>
                  </a:lnTo>
                  <a:lnTo>
                    <a:pt x="180" y="602"/>
                  </a:lnTo>
                  <a:lnTo>
                    <a:pt x="202" y="596"/>
                  </a:lnTo>
                  <a:lnTo>
                    <a:pt x="250" y="588"/>
                  </a:lnTo>
                  <a:lnTo>
                    <a:pt x="302" y="582"/>
                  </a:lnTo>
                  <a:lnTo>
                    <a:pt x="360" y="580"/>
                  </a:lnTo>
                  <a:lnTo>
                    <a:pt x="360" y="580"/>
                  </a:lnTo>
                  <a:lnTo>
                    <a:pt x="394" y="580"/>
                  </a:lnTo>
                  <a:lnTo>
                    <a:pt x="394" y="580"/>
                  </a:lnTo>
                  <a:lnTo>
                    <a:pt x="392" y="514"/>
                  </a:lnTo>
                  <a:lnTo>
                    <a:pt x="392" y="514"/>
                  </a:lnTo>
                  <a:lnTo>
                    <a:pt x="306" y="514"/>
                  </a:lnTo>
                  <a:lnTo>
                    <a:pt x="306" y="514"/>
                  </a:lnTo>
                  <a:lnTo>
                    <a:pt x="214" y="514"/>
                  </a:lnTo>
                  <a:lnTo>
                    <a:pt x="126" y="510"/>
                  </a:lnTo>
                  <a:lnTo>
                    <a:pt x="126" y="510"/>
                  </a:lnTo>
                  <a:lnTo>
                    <a:pt x="74" y="508"/>
                  </a:lnTo>
                  <a:lnTo>
                    <a:pt x="36" y="506"/>
                  </a:lnTo>
                  <a:lnTo>
                    <a:pt x="38" y="340"/>
                  </a:lnTo>
                  <a:lnTo>
                    <a:pt x="38" y="340"/>
                  </a:lnTo>
                  <a:lnTo>
                    <a:pt x="86" y="348"/>
                  </a:lnTo>
                  <a:lnTo>
                    <a:pt x="152" y="352"/>
                  </a:lnTo>
                  <a:lnTo>
                    <a:pt x="230" y="356"/>
                  </a:lnTo>
                  <a:lnTo>
                    <a:pt x="314" y="358"/>
                  </a:lnTo>
                  <a:lnTo>
                    <a:pt x="314" y="358"/>
                  </a:lnTo>
                  <a:lnTo>
                    <a:pt x="390" y="356"/>
                  </a:lnTo>
                  <a:lnTo>
                    <a:pt x="390" y="356"/>
                  </a:lnTo>
                  <a:lnTo>
                    <a:pt x="390" y="340"/>
                  </a:lnTo>
                  <a:lnTo>
                    <a:pt x="390" y="340"/>
                  </a:lnTo>
                  <a:lnTo>
                    <a:pt x="388" y="310"/>
                  </a:lnTo>
                  <a:lnTo>
                    <a:pt x="388" y="310"/>
                  </a:lnTo>
                  <a:lnTo>
                    <a:pt x="388" y="284"/>
                  </a:lnTo>
                  <a:lnTo>
                    <a:pt x="388" y="284"/>
                  </a:lnTo>
                  <a:lnTo>
                    <a:pt x="342" y="286"/>
                  </a:lnTo>
                  <a:lnTo>
                    <a:pt x="342" y="286"/>
                  </a:lnTo>
                  <a:lnTo>
                    <a:pt x="262" y="284"/>
                  </a:lnTo>
                  <a:lnTo>
                    <a:pt x="132" y="278"/>
                  </a:lnTo>
                  <a:lnTo>
                    <a:pt x="132" y="278"/>
                  </a:lnTo>
                  <a:lnTo>
                    <a:pt x="48" y="276"/>
                  </a:lnTo>
                  <a:lnTo>
                    <a:pt x="48" y="276"/>
                  </a:lnTo>
                  <a:lnTo>
                    <a:pt x="18" y="274"/>
                  </a:lnTo>
                  <a:lnTo>
                    <a:pt x="18" y="274"/>
                  </a:lnTo>
                  <a:lnTo>
                    <a:pt x="0" y="274"/>
                  </a:lnTo>
                  <a:lnTo>
                    <a:pt x="2" y="100"/>
                  </a:lnTo>
                  <a:close/>
                  <a:moveTo>
                    <a:pt x="326" y="738"/>
                  </a:moveTo>
                  <a:lnTo>
                    <a:pt x="326" y="738"/>
                  </a:lnTo>
                  <a:lnTo>
                    <a:pt x="302" y="740"/>
                  </a:lnTo>
                  <a:lnTo>
                    <a:pt x="280" y="742"/>
                  </a:lnTo>
                  <a:lnTo>
                    <a:pt x="262" y="746"/>
                  </a:lnTo>
                  <a:lnTo>
                    <a:pt x="246" y="752"/>
                  </a:lnTo>
                  <a:lnTo>
                    <a:pt x="234" y="760"/>
                  </a:lnTo>
                  <a:lnTo>
                    <a:pt x="226" y="770"/>
                  </a:lnTo>
                  <a:lnTo>
                    <a:pt x="220" y="780"/>
                  </a:lnTo>
                  <a:lnTo>
                    <a:pt x="218" y="792"/>
                  </a:lnTo>
                  <a:lnTo>
                    <a:pt x="218" y="792"/>
                  </a:lnTo>
                  <a:lnTo>
                    <a:pt x="220" y="802"/>
                  </a:lnTo>
                  <a:lnTo>
                    <a:pt x="224" y="812"/>
                  </a:lnTo>
                  <a:lnTo>
                    <a:pt x="230" y="818"/>
                  </a:lnTo>
                  <a:lnTo>
                    <a:pt x="240" y="826"/>
                  </a:lnTo>
                  <a:lnTo>
                    <a:pt x="254" y="830"/>
                  </a:lnTo>
                  <a:lnTo>
                    <a:pt x="268" y="834"/>
                  </a:lnTo>
                  <a:lnTo>
                    <a:pt x="286" y="836"/>
                  </a:lnTo>
                  <a:lnTo>
                    <a:pt x="306" y="838"/>
                  </a:lnTo>
                  <a:lnTo>
                    <a:pt x="306" y="838"/>
                  </a:lnTo>
                  <a:lnTo>
                    <a:pt x="328" y="836"/>
                  </a:lnTo>
                  <a:lnTo>
                    <a:pt x="346" y="834"/>
                  </a:lnTo>
                  <a:lnTo>
                    <a:pt x="362" y="828"/>
                  </a:lnTo>
                  <a:lnTo>
                    <a:pt x="374" y="820"/>
                  </a:lnTo>
                  <a:lnTo>
                    <a:pt x="384" y="810"/>
                  </a:lnTo>
                  <a:lnTo>
                    <a:pt x="390" y="798"/>
                  </a:lnTo>
                  <a:lnTo>
                    <a:pt x="394" y="784"/>
                  </a:lnTo>
                  <a:lnTo>
                    <a:pt x="394" y="766"/>
                  </a:lnTo>
                  <a:lnTo>
                    <a:pt x="394" y="766"/>
                  </a:lnTo>
                  <a:lnTo>
                    <a:pt x="394" y="746"/>
                  </a:lnTo>
                  <a:lnTo>
                    <a:pt x="394" y="746"/>
                  </a:lnTo>
                  <a:lnTo>
                    <a:pt x="376" y="742"/>
                  </a:lnTo>
                  <a:lnTo>
                    <a:pt x="360" y="740"/>
                  </a:lnTo>
                  <a:lnTo>
                    <a:pt x="326" y="738"/>
                  </a:lnTo>
                  <a:lnTo>
                    <a:pt x="326" y="738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6"/>
            <p:cNvSpPr/>
            <p:nvPr/>
          </p:nvSpPr>
          <p:spPr>
            <a:xfrm>
              <a:off x="828720" y="35566560"/>
              <a:ext cx="1673280" cy="1546200"/>
            </a:xfrm>
            <a:custGeom>
              <a:avLst/>
              <a:gdLst>
                <a:gd name="textAreaLeft" fmla="*/ 0 w 1673280"/>
                <a:gd name="textAreaRight" fmla="*/ 1673640 w 1673280"/>
                <a:gd name="textAreaTop" fmla="*/ 0 h 1546200"/>
                <a:gd name="textAreaBottom" fmla="*/ 1546560 h 1546200"/>
              </a:gdLst>
              <a:ahLst/>
              <a:rect l="textAreaLeft" t="textAreaTop" r="textAreaRight" b="textAreaBottom"/>
              <a:pathLst>
                <a:path w="1054" h="974">
                  <a:moveTo>
                    <a:pt x="400" y="12"/>
                  </a:moveTo>
                  <a:lnTo>
                    <a:pt x="400" y="12"/>
                  </a:lnTo>
                  <a:lnTo>
                    <a:pt x="394" y="50"/>
                  </a:lnTo>
                  <a:lnTo>
                    <a:pt x="392" y="92"/>
                  </a:lnTo>
                  <a:lnTo>
                    <a:pt x="390" y="146"/>
                  </a:lnTo>
                  <a:lnTo>
                    <a:pt x="388" y="216"/>
                  </a:lnTo>
                  <a:lnTo>
                    <a:pt x="388" y="216"/>
                  </a:lnTo>
                  <a:lnTo>
                    <a:pt x="672" y="204"/>
                  </a:lnTo>
                  <a:lnTo>
                    <a:pt x="672" y="204"/>
                  </a:lnTo>
                  <a:lnTo>
                    <a:pt x="672" y="190"/>
                  </a:lnTo>
                  <a:lnTo>
                    <a:pt x="672" y="190"/>
                  </a:lnTo>
                  <a:lnTo>
                    <a:pt x="672" y="138"/>
                  </a:lnTo>
                  <a:lnTo>
                    <a:pt x="670" y="84"/>
                  </a:lnTo>
                  <a:lnTo>
                    <a:pt x="668" y="36"/>
                  </a:lnTo>
                  <a:lnTo>
                    <a:pt x="664" y="0"/>
                  </a:lnTo>
                  <a:lnTo>
                    <a:pt x="856" y="0"/>
                  </a:lnTo>
                  <a:lnTo>
                    <a:pt x="856" y="0"/>
                  </a:lnTo>
                  <a:lnTo>
                    <a:pt x="852" y="44"/>
                  </a:lnTo>
                  <a:lnTo>
                    <a:pt x="850" y="104"/>
                  </a:lnTo>
                  <a:lnTo>
                    <a:pt x="850" y="178"/>
                  </a:lnTo>
                  <a:lnTo>
                    <a:pt x="850" y="178"/>
                  </a:lnTo>
                  <a:lnTo>
                    <a:pt x="850" y="196"/>
                  </a:lnTo>
                  <a:lnTo>
                    <a:pt x="850" y="196"/>
                  </a:lnTo>
                  <a:lnTo>
                    <a:pt x="1000" y="190"/>
                  </a:lnTo>
                  <a:lnTo>
                    <a:pt x="1030" y="188"/>
                  </a:lnTo>
                  <a:lnTo>
                    <a:pt x="1054" y="186"/>
                  </a:lnTo>
                  <a:lnTo>
                    <a:pt x="1054" y="376"/>
                  </a:lnTo>
                  <a:lnTo>
                    <a:pt x="1054" y="376"/>
                  </a:lnTo>
                  <a:lnTo>
                    <a:pt x="1006" y="374"/>
                  </a:lnTo>
                  <a:lnTo>
                    <a:pt x="960" y="372"/>
                  </a:lnTo>
                  <a:lnTo>
                    <a:pt x="960" y="372"/>
                  </a:lnTo>
                  <a:lnTo>
                    <a:pt x="850" y="374"/>
                  </a:lnTo>
                  <a:lnTo>
                    <a:pt x="850" y="374"/>
                  </a:lnTo>
                  <a:lnTo>
                    <a:pt x="850" y="432"/>
                  </a:lnTo>
                  <a:lnTo>
                    <a:pt x="848" y="480"/>
                  </a:lnTo>
                  <a:lnTo>
                    <a:pt x="844" y="522"/>
                  </a:lnTo>
                  <a:lnTo>
                    <a:pt x="840" y="558"/>
                  </a:lnTo>
                  <a:lnTo>
                    <a:pt x="832" y="586"/>
                  </a:lnTo>
                  <a:lnTo>
                    <a:pt x="822" y="612"/>
                  </a:lnTo>
                  <a:lnTo>
                    <a:pt x="810" y="634"/>
                  </a:lnTo>
                  <a:lnTo>
                    <a:pt x="796" y="652"/>
                  </a:lnTo>
                  <a:lnTo>
                    <a:pt x="796" y="652"/>
                  </a:lnTo>
                  <a:lnTo>
                    <a:pt x="784" y="664"/>
                  </a:lnTo>
                  <a:lnTo>
                    <a:pt x="772" y="672"/>
                  </a:lnTo>
                  <a:lnTo>
                    <a:pt x="758" y="680"/>
                  </a:lnTo>
                  <a:lnTo>
                    <a:pt x="742" y="686"/>
                  </a:lnTo>
                  <a:lnTo>
                    <a:pt x="724" y="692"/>
                  </a:lnTo>
                  <a:lnTo>
                    <a:pt x="704" y="696"/>
                  </a:lnTo>
                  <a:lnTo>
                    <a:pt x="684" y="698"/>
                  </a:lnTo>
                  <a:lnTo>
                    <a:pt x="660" y="698"/>
                  </a:lnTo>
                  <a:lnTo>
                    <a:pt x="660" y="698"/>
                  </a:lnTo>
                  <a:lnTo>
                    <a:pt x="622" y="696"/>
                  </a:lnTo>
                  <a:lnTo>
                    <a:pt x="580" y="690"/>
                  </a:lnTo>
                  <a:lnTo>
                    <a:pt x="536" y="678"/>
                  </a:lnTo>
                  <a:lnTo>
                    <a:pt x="490" y="664"/>
                  </a:lnTo>
                  <a:lnTo>
                    <a:pt x="490" y="664"/>
                  </a:lnTo>
                  <a:lnTo>
                    <a:pt x="490" y="636"/>
                  </a:lnTo>
                  <a:lnTo>
                    <a:pt x="490" y="636"/>
                  </a:lnTo>
                  <a:lnTo>
                    <a:pt x="490" y="596"/>
                  </a:lnTo>
                  <a:lnTo>
                    <a:pt x="488" y="558"/>
                  </a:lnTo>
                  <a:lnTo>
                    <a:pt x="484" y="522"/>
                  </a:lnTo>
                  <a:lnTo>
                    <a:pt x="476" y="480"/>
                  </a:lnTo>
                  <a:lnTo>
                    <a:pt x="476" y="480"/>
                  </a:lnTo>
                  <a:lnTo>
                    <a:pt x="518" y="500"/>
                  </a:lnTo>
                  <a:lnTo>
                    <a:pt x="560" y="512"/>
                  </a:lnTo>
                  <a:lnTo>
                    <a:pt x="596" y="522"/>
                  </a:lnTo>
                  <a:lnTo>
                    <a:pt x="612" y="524"/>
                  </a:lnTo>
                  <a:lnTo>
                    <a:pt x="628" y="524"/>
                  </a:lnTo>
                  <a:lnTo>
                    <a:pt x="628" y="524"/>
                  </a:lnTo>
                  <a:lnTo>
                    <a:pt x="640" y="524"/>
                  </a:lnTo>
                  <a:lnTo>
                    <a:pt x="650" y="520"/>
                  </a:lnTo>
                  <a:lnTo>
                    <a:pt x="658" y="512"/>
                  </a:lnTo>
                  <a:lnTo>
                    <a:pt x="662" y="498"/>
                  </a:lnTo>
                  <a:lnTo>
                    <a:pt x="668" y="480"/>
                  </a:lnTo>
                  <a:lnTo>
                    <a:pt x="670" y="454"/>
                  </a:lnTo>
                  <a:lnTo>
                    <a:pt x="672" y="376"/>
                  </a:lnTo>
                  <a:lnTo>
                    <a:pt x="672" y="376"/>
                  </a:lnTo>
                  <a:lnTo>
                    <a:pt x="524" y="382"/>
                  </a:lnTo>
                  <a:lnTo>
                    <a:pt x="386" y="390"/>
                  </a:lnTo>
                  <a:lnTo>
                    <a:pt x="386" y="390"/>
                  </a:lnTo>
                  <a:lnTo>
                    <a:pt x="386" y="538"/>
                  </a:lnTo>
                  <a:lnTo>
                    <a:pt x="388" y="632"/>
                  </a:lnTo>
                  <a:lnTo>
                    <a:pt x="390" y="688"/>
                  </a:lnTo>
                  <a:lnTo>
                    <a:pt x="392" y="704"/>
                  </a:lnTo>
                  <a:lnTo>
                    <a:pt x="394" y="718"/>
                  </a:lnTo>
                  <a:lnTo>
                    <a:pt x="394" y="718"/>
                  </a:lnTo>
                  <a:lnTo>
                    <a:pt x="402" y="738"/>
                  </a:lnTo>
                  <a:lnTo>
                    <a:pt x="406" y="746"/>
                  </a:lnTo>
                  <a:lnTo>
                    <a:pt x="412" y="754"/>
                  </a:lnTo>
                  <a:lnTo>
                    <a:pt x="420" y="762"/>
                  </a:lnTo>
                  <a:lnTo>
                    <a:pt x="428" y="768"/>
                  </a:lnTo>
                  <a:lnTo>
                    <a:pt x="436" y="772"/>
                  </a:lnTo>
                  <a:lnTo>
                    <a:pt x="448" y="778"/>
                  </a:lnTo>
                  <a:lnTo>
                    <a:pt x="474" y="784"/>
                  </a:lnTo>
                  <a:lnTo>
                    <a:pt x="506" y="788"/>
                  </a:lnTo>
                  <a:lnTo>
                    <a:pt x="548" y="792"/>
                  </a:lnTo>
                  <a:lnTo>
                    <a:pt x="596" y="792"/>
                  </a:lnTo>
                  <a:lnTo>
                    <a:pt x="596" y="792"/>
                  </a:lnTo>
                  <a:lnTo>
                    <a:pt x="648" y="792"/>
                  </a:lnTo>
                  <a:lnTo>
                    <a:pt x="698" y="788"/>
                  </a:lnTo>
                  <a:lnTo>
                    <a:pt x="746" y="784"/>
                  </a:lnTo>
                  <a:lnTo>
                    <a:pt x="792" y="778"/>
                  </a:lnTo>
                  <a:lnTo>
                    <a:pt x="836" y="772"/>
                  </a:lnTo>
                  <a:lnTo>
                    <a:pt x="878" y="764"/>
                  </a:lnTo>
                  <a:lnTo>
                    <a:pt x="914" y="754"/>
                  </a:lnTo>
                  <a:lnTo>
                    <a:pt x="948" y="742"/>
                  </a:lnTo>
                  <a:lnTo>
                    <a:pt x="960" y="948"/>
                  </a:lnTo>
                  <a:lnTo>
                    <a:pt x="960" y="948"/>
                  </a:lnTo>
                  <a:lnTo>
                    <a:pt x="910" y="952"/>
                  </a:lnTo>
                  <a:lnTo>
                    <a:pt x="848" y="960"/>
                  </a:lnTo>
                  <a:lnTo>
                    <a:pt x="848" y="960"/>
                  </a:lnTo>
                  <a:lnTo>
                    <a:pt x="776" y="966"/>
                  </a:lnTo>
                  <a:lnTo>
                    <a:pt x="710" y="972"/>
                  </a:lnTo>
                  <a:lnTo>
                    <a:pt x="650" y="974"/>
                  </a:lnTo>
                  <a:lnTo>
                    <a:pt x="588" y="974"/>
                  </a:lnTo>
                  <a:lnTo>
                    <a:pt x="588" y="974"/>
                  </a:lnTo>
                  <a:lnTo>
                    <a:pt x="512" y="974"/>
                  </a:lnTo>
                  <a:lnTo>
                    <a:pt x="448" y="968"/>
                  </a:lnTo>
                  <a:lnTo>
                    <a:pt x="418" y="964"/>
                  </a:lnTo>
                  <a:lnTo>
                    <a:pt x="394" y="958"/>
                  </a:lnTo>
                  <a:lnTo>
                    <a:pt x="370" y="954"/>
                  </a:lnTo>
                  <a:lnTo>
                    <a:pt x="352" y="946"/>
                  </a:lnTo>
                  <a:lnTo>
                    <a:pt x="352" y="946"/>
                  </a:lnTo>
                  <a:lnTo>
                    <a:pt x="322" y="934"/>
                  </a:lnTo>
                  <a:lnTo>
                    <a:pt x="296" y="918"/>
                  </a:lnTo>
                  <a:lnTo>
                    <a:pt x="274" y="900"/>
                  </a:lnTo>
                  <a:lnTo>
                    <a:pt x="256" y="880"/>
                  </a:lnTo>
                  <a:lnTo>
                    <a:pt x="240" y="856"/>
                  </a:lnTo>
                  <a:lnTo>
                    <a:pt x="228" y="828"/>
                  </a:lnTo>
                  <a:lnTo>
                    <a:pt x="218" y="796"/>
                  </a:lnTo>
                  <a:lnTo>
                    <a:pt x="212" y="760"/>
                  </a:lnTo>
                  <a:lnTo>
                    <a:pt x="212" y="760"/>
                  </a:lnTo>
                  <a:lnTo>
                    <a:pt x="206" y="718"/>
                  </a:lnTo>
                  <a:lnTo>
                    <a:pt x="204" y="656"/>
                  </a:lnTo>
                  <a:lnTo>
                    <a:pt x="202" y="574"/>
                  </a:lnTo>
                  <a:lnTo>
                    <a:pt x="202" y="466"/>
                  </a:lnTo>
                  <a:lnTo>
                    <a:pt x="202" y="466"/>
                  </a:lnTo>
                  <a:lnTo>
                    <a:pt x="202" y="398"/>
                  </a:lnTo>
                  <a:lnTo>
                    <a:pt x="202" y="398"/>
                  </a:lnTo>
                  <a:lnTo>
                    <a:pt x="90" y="406"/>
                  </a:lnTo>
                  <a:lnTo>
                    <a:pt x="50" y="410"/>
                  </a:lnTo>
                  <a:lnTo>
                    <a:pt x="10" y="414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20" y="230"/>
                  </a:lnTo>
                  <a:lnTo>
                    <a:pt x="38" y="230"/>
                  </a:lnTo>
                  <a:lnTo>
                    <a:pt x="38" y="230"/>
                  </a:lnTo>
                  <a:lnTo>
                    <a:pt x="202" y="224"/>
                  </a:lnTo>
                  <a:lnTo>
                    <a:pt x="202" y="224"/>
                  </a:lnTo>
                  <a:lnTo>
                    <a:pt x="202" y="190"/>
                  </a:lnTo>
                  <a:lnTo>
                    <a:pt x="202" y="190"/>
                  </a:lnTo>
                  <a:lnTo>
                    <a:pt x="200" y="128"/>
                  </a:lnTo>
                  <a:lnTo>
                    <a:pt x="200" y="82"/>
                  </a:lnTo>
                  <a:lnTo>
                    <a:pt x="196" y="48"/>
                  </a:lnTo>
                  <a:lnTo>
                    <a:pt x="192" y="12"/>
                  </a:lnTo>
                  <a:lnTo>
                    <a:pt x="400" y="12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7"/>
            <p:cNvSpPr/>
            <p:nvPr/>
          </p:nvSpPr>
          <p:spPr>
            <a:xfrm>
              <a:off x="831600" y="37227240"/>
              <a:ext cx="1679760" cy="1609560"/>
            </a:xfrm>
            <a:custGeom>
              <a:avLst/>
              <a:gdLst>
                <a:gd name="textAreaLeft" fmla="*/ 0 w 1679760"/>
                <a:gd name="textAreaRight" fmla="*/ 1680120 w 167976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1058" h="1014">
                  <a:moveTo>
                    <a:pt x="546" y="46"/>
                  </a:moveTo>
                  <a:lnTo>
                    <a:pt x="546" y="46"/>
                  </a:lnTo>
                  <a:lnTo>
                    <a:pt x="528" y="84"/>
                  </a:lnTo>
                  <a:lnTo>
                    <a:pt x="500" y="146"/>
                  </a:lnTo>
                  <a:lnTo>
                    <a:pt x="454" y="264"/>
                  </a:lnTo>
                  <a:lnTo>
                    <a:pt x="376" y="464"/>
                  </a:lnTo>
                  <a:lnTo>
                    <a:pt x="376" y="464"/>
                  </a:lnTo>
                  <a:lnTo>
                    <a:pt x="392" y="452"/>
                  </a:lnTo>
                  <a:lnTo>
                    <a:pt x="408" y="442"/>
                  </a:lnTo>
                  <a:lnTo>
                    <a:pt x="426" y="434"/>
                  </a:lnTo>
                  <a:lnTo>
                    <a:pt x="442" y="428"/>
                  </a:lnTo>
                  <a:lnTo>
                    <a:pt x="460" y="422"/>
                  </a:lnTo>
                  <a:lnTo>
                    <a:pt x="478" y="418"/>
                  </a:lnTo>
                  <a:lnTo>
                    <a:pt x="496" y="416"/>
                  </a:lnTo>
                  <a:lnTo>
                    <a:pt x="514" y="414"/>
                  </a:lnTo>
                  <a:lnTo>
                    <a:pt x="514" y="414"/>
                  </a:lnTo>
                  <a:lnTo>
                    <a:pt x="540" y="416"/>
                  </a:lnTo>
                  <a:lnTo>
                    <a:pt x="566" y="422"/>
                  </a:lnTo>
                  <a:lnTo>
                    <a:pt x="588" y="432"/>
                  </a:lnTo>
                  <a:lnTo>
                    <a:pt x="610" y="444"/>
                  </a:lnTo>
                  <a:lnTo>
                    <a:pt x="628" y="460"/>
                  </a:lnTo>
                  <a:lnTo>
                    <a:pt x="642" y="478"/>
                  </a:lnTo>
                  <a:lnTo>
                    <a:pt x="654" y="498"/>
                  </a:lnTo>
                  <a:lnTo>
                    <a:pt x="662" y="522"/>
                  </a:lnTo>
                  <a:lnTo>
                    <a:pt x="662" y="522"/>
                  </a:lnTo>
                  <a:lnTo>
                    <a:pt x="670" y="550"/>
                  </a:lnTo>
                  <a:lnTo>
                    <a:pt x="672" y="580"/>
                  </a:lnTo>
                  <a:lnTo>
                    <a:pt x="674" y="628"/>
                  </a:lnTo>
                  <a:lnTo>
                    <a:pt x="676" y="710"/>
                  </a:lnTo>
                  <a:lnTo>
                    <a:pt x="676" y="710"/>
                  </a:lnTo>
                  <a:lnTo>
                    <a:pt x="678" y="738"/>
                  </a:lnTo>
                  <a:lnTo>
                    <a:pt x="680" y="760"/>
                  </a:lnTo>
                  <a:lnTo>
                    <a:pt x="682" y="778"/>
                  </a:lnTo>
                  <a:lnTo>
                    <a:pt x="688" y="792"/>
                  </a:lnTo>
                  <a:lnTo>
                    <a:pt x="696" y="802"/>
                  </a:lnTo>
                  <a:lnTo>
                    <a:pt x="704" y="808"/>
                  </a:lnTo>
                  <a:lnTo>
                    <a:pt x="716" y="812"/>
                  </a:lnTo>
                  <a:lnTo>
                    <a:pt x="730" y="814"/>
                  </a:lnTo>
                  <a:lnTo>
                    <a:pt x="730" y="814"/>
                  </a:lnTo>
                  <a:lnTo>
                    <a:pt x="746" y="812"/>
                  </a:lnTo>
                  <a:lnTo>
                    <a:pt x="762" y="808"/>
                  </a:lnTo>
                  <a:lnTo>
                    <a:pt x="776" y="802"/>
                  </a:lnTo>
                  <a:lnTo>
                    <a:pt x="788" y="792"/>
                  </a:lnTo>
                  <a:lnTo>
                    <a:pt x="802" y="778"/>
                  </a:lnTo>
                  <a:lnTo>
                    <a:pt x="812" y="764"/>
                  </a:lnTo>
                  <a:lnTo>
                    <a:pt x="824" y="744"/>
                  </a:lnTo>
                  <a:lnTo>
                    <a:pt x="834" y="722"/>
                  </a:lnTo>
                  <a:lnTo>
                    <a:pt x="834" y="722"/>
                  </a:lnTo>
                  <a:lnTo>
                    <a:pt x="852" y="676"/>
                  </a:lnTo>
                  <a:lnTo>
                    <a:pt x="866" y="626"/>
                  </a:lnTo>
                  <a:lnTo>
                    <a:pt x="874" y="572"/>
                  </a:lnTo>
                  <a:lnTo>
                    <a:pt x="880" y="516"/>
                  </a:lnTo>
                  <a:lnTo>
                    <a:pt x="880" y="516"/>
                  </a:lnTo>
                  <a:lnTo>
                    <a:pt x="924" y="552"/>
                  </a:lnTo>
                  <a:lnTo>
                    <a:pt x="964" y="580"/>
                  </a:lnTo>
                  <a:lnTo>
                    <a:pt x="1006" y="604"/>
                  </a:lnTo>
                  <a:lnTo>
                    <a:pt x="1058" y="628"/>
                  </a:lnTo>
                  <a:lnTo>
                    <a:pt x="1058" y="628"/>
                  </a:lnTo>
                  <a:lnTo>
                    <a:pt x="1050" y="670"/>
                  </a:lnTo>
                  <a:lnTo>
                    <a:pt x="1040" y="708"/>
                  </a:lnTo>
                  <a:lnTo>
                    <a:pt x="1030" y="744"/>
                  </a:lnTo>
                  <a:lnTo>
                    <a:pt x="1018" y="776"/>
                  </a:lnTo>
                  <a:lnTo>
                    <a:pt x="1006" y="806"/>
                  </a:lnTo>
                  <a:lnTo>
                    <a:pt x="992" y="834"/>
                  </a:lnTo>
                  <a:lnTo>
                    <a:pt x="976" y="862"/>
                  </a:lnTo>
                  <a:lnTo>
                    <a:pt x="958" y="886"/>
                  </a:lnTo>
                  <a:lnTo>
                    <a:pt x="958" y="886"/>
                  </a:lnTo>
                  <a:lnTo>
                    <a:pt x="934" y="914"/>
                  </a:lnTo>
                  <a:lnTo>
                    <a:pt x="908" y="938"/>
                  </a:lnTo>
                  <a:lnTo>
                    <a:pt x="880" y="958"/>
                  </a:lnTo>
                  <a:lnTo>
                    <a:pt x="850" y="976"/>
                  </a:lnTo>
                  <a:lnTo>
                    <a:pt x="816" y="988"/>
                  </a:lnTo>
                  <a:lnTo>
                    <a:pt x="782" y="998"/>
                  </a:lnTo>
                  <a:lnTo>
                    <a:pt x="746" y="1004"/>
                  </a:lnTo>
                  <a:lnTo>
                    <a:pt x="708" y="1006"/>
                  </a:lnTo>
                  <a:lnTo>
                    <a:pt x="708" y="1006"/>
                  </a:lnTo>
                  <a:lnTo>
                    <a:pt x="682" y="1006"/>
                  </a:lnTo>
                  <a:lnTo>
                    <a:pt x="658" y="1002"/>
                  </a:lnTo>
                  <a:lnTo>
                    <a:pt x="634" y="998"/>
                  </a:lnTo>
                  <a:lnTo>
                    <a:pt x="612" y="992"/>
                  </a:lnTo>
                  <a:lnTo>
                    <a:pt x="594" y="984"/>
                  </a:lnTo>
                  <a:lnTo>
                    <a:pt x="576" y="974"/>
                  </a:lnTo>
                  <a:lnTo>
                    <a:pt x="558" y="962"/>
                  </a:lnTo>
                  <a:lnTo>
                    <a:pt x="544" y="948"/>
                  </a:lnTo>
                  <a:lnTo>
                    <a:pt x="544" y="948"/>
                  </a:lnTo>
                  <a:lnTo>
                    <a:pt x="530" y="932"/>
                  </a:lnTo>
                  <a:lnTo>
                    <a:pt x="520" y="916"/>
                  </a:lnTo>
                  <a:lnTo>
                    <a:pt x="510" y="900"/>
                  </a:lnTo>
                  <a:lnTo>
                    <a:pt x="504" y="880"/>
                  </a:lnTo>
                  <a:lnTo>
                    <a:pt x="498" y="858"/>
                  </a:lnTo>
                  <a:lnTo>
                    <a:pt x="494" y="836"/>
                  </a:lnTo>
                  <a:lnTo>
                    <a:pt x="492" y="810"/>
                  </a:lnTo>
                  <a:lnTo>
                    <a:pt x="490" y="782"/>
                  </a:lnTo>
                  <a:lnTo>
                    <a:pt x="490" y="782"/>
                  </a:lnTo>
                  <a:lnTo>
                    <a:pt x="492" y="702"/>
                  </a:lnTo>
                  <a:lnTo>
                    <a:pt x="492" y="702"/>
                  </a:lnTo>
                  <a:lnTo>
                    <a:pt x="492" y="682"/>
                  </a:lnTo>
                  <a:lnTo>
                    <a:pt x="492" y="682"/>
                  </a:lnTo>
                  <a:lnTo>
                    <a:pt x="490" y="664"/>
                  </a:lnTo>
                  <a:lnTo>
                    <a:pt x="490" y="648"/>
                  </a:lnTo>
                  <a:lnTo>
                    <a:pt x="486" y="636"/>
                  </a:lnTo>
                  <a:lnTo>
                    <a:pt x="482" y="626"/>
                  </a:lnTo>
                  <a:lnTo>
                    <a:pt x="474" y="618"/>
                  </a:lnTo>
                  <a:lnTo>
                    <a:pt x="466" y="614"/>
                  </a:lnTo>
                  <a:lnTo>
                    <a:pt x="456" y="610"/>
                  </a:lnTo>
                  <a:lnTo>
                    <a:pt x="444" y="610"/>
                  </a:lnTo>
                  <a:lnTo>
                    <a:pt x="444" y="610"/>
                  </a:lnTo>
                  <a:lnTo>
                    <a:pt x="426" y="612"/>
                  </a:lnTo>
                  <a:lnTo>
                    <a:pt x="406" y="620"/>
                  </a:lnTo>
                  <a:lnTo>
                    <a:pt x="386" y="632"/>
                  </a:lnTo>
                  <a:lnTo>
                    <a:pt x="368" y="648"/>
                  </a:lnTo>
                  <a:lnTo>
                    <a:pt x="348" y="668"/>
                  </a:lnTo>
                  <a:lnTo>
                    <a:pt x="330" y="694"/>
                  </a:lnTo>
                  <a:lnTo>
                    <a:pt x="312" y="722"/>
                  </a:lnTo>
                  <a:lnTo>
                    <a:pt x="296" y="756"/>
                  </a:lnTo>
                  <a:lnTo>
                    <a:pt x="296" y="756"/>
                  </a:lnTo>
                  <a:lnTo>
                    <a:pt x="270" y="816"/>
                  </a:lnTo>
                  <a:lnTo>
                    <a:pt x="246" y="884"/>
                  </a:lnTo>
                  <a:lnTo>
                    <a:pt x="224" y="952"/>
                  </a:lnTo>
                  <a:lnTo>
                    <a:pt x="208" y="1014"/>
                  </a:lnTo>
                  <a:lnTo>
                    <a:pt x="0" y="952"/>
                  </a:lnTo>
                  <a:lnTo>
                    <a:pt x="0" y="952"/>
                  </a:lnTo>
                  <a:lnTo>
                    <a:pt x="14" y="924"/>
                  </a:lnTo>
                  <a:lnTo>
                    <a:pt x="28" y="890"/>
                  </a:lnTo>
                  <a:lnTo>
                    <a:pt x="90" y="712"/>
                  </a:lnTo>
                  <a:lnTo>
                    <a:pt x="90" y="712"/>
                  </a:lnTo>
                  <a:lnTo>
                    <a:pt x="208" y="374"/>
                  </a:lnTo>
                  <a:lnTo>
                    <a:pt x="208" y="374"/>
                  </a:lnTo>
                  <a:lnTo>
                    <a:pt x="262" y="212"/>
                  </a:lnTo>
                  <a:lnTo>
                    <a:pt x="298" y="106"/>
                  </a:lnTo>
                  <a:lnTo>
                    <a:pt x="318" y="42"/>
                  </a:lnTo>
                  <a:lnTo>
                    <a:pt x="326" y="0"/>
                  </a:lnTo>
                  <a:lnTo>
                    <a:pt x="546" y="46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8"/>
            <p:cNvSpPr/>
            <p:nvPr/>
          </p:nvSpPr>
          <p:spPr>
            <a:xfrm>
              <a:off x="1832040" y="38897280"/>
              <a:ext cx="676080" cy="67608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426" h="426">
                  <a:moveTo>
                    <a:pt x="426" y="214"/>
                  </a:moveTo>
                  <a:lnTo>
                    <a:pt x="426" y="214"/>
                  </a:lnTo>
                  <a:lnTo>
                    <a:pt x="424" y="234"/>
                  </a:lnTo>
                  <a:lnTo>
                    <a:pt x="422" y="256"/>
                  </a:lnTo>
                  <a:lnTo>
                    <a:pt x="416" y="276"/>
                  </a:lnTo>
                  <a:lnTo>
                    <a:pt x="410" y="296"/>
                  </a:lnTo>
                  <a:lnTo>
                    <a:pt x="400" y="314"/>
                  </a:lnTo>
                  <a:lnTo>
                    <a:pt x="390" y="332"/>
                  </a:lnTo>
                  <a:lnTo>
                    <a:pt x="378" y="348"/>
                  </a:lnTo>
                  <a:lnTo>
                    <a:pt x="364" y="364"/>
                  </a:lnTo>
                  <a:lnTo>
                    <a:pt x="348" y="378"/>
                  </a:lnTo>
                  <a:lnTo>
                    <a:pt x="332" y="390"/>
                  </a:lnTo>
                  <a:lnTo>
                    <a:pt x="314" y="400"/>
                  </a:lnTo>
                  <a:lnTo>
                    <a:pt x="296" y="410"/>
                  </a:lnTo>
                  <a:lnTo>
                    <a:pt x="276" y="416"/>
                  </a:lnTo>
                  <a:lnTo>
                    <a:pt x="256" y="422"/>
                  </a:lnTo>
                  <a:lnTo>
                    <a:pt x="236" y="424"/>
                  </a:lnTo>
                  <a:lnTo>
                    <a:pt x="214" y="426"/>
                  </a:lnTo>
                  <a:lnTo>
                    <a:pt x="214" y="426"/>
                  </a:lnTo>
                  <a:lnTo>
                    <a:pt x="192" y="424"/>
                  </a:lnTo>
                  <a:lnTo>
                    <a:pt x="170" y="422"/>
                  </a:lnTo>
                  <a:lnTo>
                    <a:pt x="150" y="416"/>
                  </a:lnTo>
                  <a:lnTo>
                    <a:pt x="130" y="408"/>
                  </a:lnTo>
                  <a:lnTo>
                    <a:pt x="112" y="400"/>
                  </a:lnTo>
                  <a:lnTo>
                    <a:pt x="94" y="390"/>
                  </a:lnTo>
                  <a:lnTo>
                    <a:pt x="78" y="376"/>
                  </a:lnTo>
                  <a:lnTo>
                    <a:pt x="64" y="364"/>
                  </a:lnTo>
                  <a:lnTo>
                    <a:pt x="50" y="348"/>
                  </a:lnTo>
                  <a:lnTo>
                    <a:pt x="38" y="332"/>
                  </a:lnTo>
                  <a:lnTo>
                    <a:pt x="26" y="314"/>
                  </a:lnTo>
                  <a:lnTo>
                    <a:pt x="18" y="296"/>
                  </a:lnTo>
                  <a:lnTo>
                    <a:pt x="10" y="276"/>
                  </a:lnTo>
                  <a:lnTo>
                    <a:pt x="4" y="256"/>
                  </a:lnTo>
                  <a:lnTo>
                    <a:pt x="2" y="234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192"/>
                  </a:lnTo>
                  <a:lnTo>
                    <a:pt x="4" y="170"/>
                  </a:lnTo>
                  <a:lnTo>
                    <a:pt x="10" y="150"/>
                  </a:lnTo>
                  <a:lnTo>
                    <a:pt x="18" y="130"/>
                  </a:lnTo>
                  <a:lnTo>
                    <a:pt x="26" y="112"/>
                  </a:lnTo>
                  <a:lnTo>
                    <a:pt x="36" y="94"/>
                  </a:lnTo>
                  <a:lnTo>
                    <a:pt x="50" y="78"/>
                  </a:lnTo>
                  <a:lnTo>
                    <a:pt x="62" y="62"/>
                  </a:lnTo>
                  <a:lnTo>
                    <a:pt x="78" y="48"/>
                  </a:lnTo>
                  <a:lnTo>
                    <a:pt x="94" y="36"/>
                  </a:lnTo>
                  <a:lnTo>
                    <a:pt x="112" y="26"/>
                  </a:lnTo>
                  <a:lnTo>
                    <a:pt x="130" y="16"/>
                  </a:lnTo>
                  <a:lnTo>
                    <a:pt x="150" y="10"/>
                  </a:lnTo>
                  <a:lnTo>
                    <a:pt x="170" y="4"/>
                  </a:lnTo>
                  <a:lnTo>
                    <a:pt x="192" y="2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6" y="2"/>
                  </a:lnTo>
                  <a:lnTo>
                    <a:pt x="256" y="4"/>
                  </a:lnTo>
                  <a:lnTo>
                    <a:pt x="276" y="10"/>
                  </a:lnTo>
                  <a:lnTo>
                    <a:pt x="296" y="16"/>
                  </a:lnTo>
                  <a:lnTo>
                    <a:pt x="314" y="26"/>
                  </a:lnTo>
                  <a:lnTo>
                    <a:pt x="332" y="36"/>
                  </a:lnTo>
                  <a:lnTo>
                    <a:pt x="348" y="48"/>
                  </a:lnTo>
                  <a:lnTo>
                    <a:pt x="364" y="62"/>
                  </a:lnTo>
                  <a:lnTo>
                    <a:pt x="378" y="78"/>
                  </a:lnTo>
                  <a:lnTo>
                    <a:pt x="390" y="94"/>
                  </a:lnTo>
                  <a:lnTo>
                    <a:pt x="400" y="112"/>
                  </a:lnTo>
                  <a:lnTo>
                    <a:pt x="410" y="130"/>
                  </a:lnTo>
                  <a:lnTo>
                    <a:pt x="416" y="150"/>
                  </a:lnTo>
                  <a:lnTo>
                    <a:pt x="422" y="170"/>
                  </a:lnTo>
                  <a:lnTo>
                    <a:pt x="424" y="192"/>
                  </a:lnTo>
                  <a:lnTo>
                    <a:pt x="426" y="214"/>
                  </a:lnTo>
                  <a:lnTo>
                    <a:pt x="426" y="214"/>
                  </a:lnTo>
                  <a:close/>
                  <a:moveTo>
                    <a:pt x="116" y="214"/>
                  </a:moveTo>
                  <a:lnTo>
                    <a:pt x="116" y="214"/>
                  </a:lnTo>
                  <a:lnTo>
                    <a:pt x="118" y="232"/>
                  </a:lnTo>
                  <a:lnTo>
                    <a:pt x="124" y="250"/>
                  </a:lnTo>
                  <a:lnTo>
                    <a:pt x="132" y="268"/>
                  </a:lnTo>
                  <a:lnTo>
                    <a:pt x="144" y="282"/>
                  </a:lnTo>
                  <a:lnTo>
                    <a:pt x="158" y="294"/>
                  </a:lnTo>
                  <a:lnTo>
                    <a:pt x="176" y="302"/>
                  </a:lnTo>
                  <a:lnTo>
                    <a:pt x="194" y="308"/>
                  </a:lnTo>
                  <a:lnTo>
                    <a:pt x="214" y="310"/>
                  </a:lnTo>
                  <a:lnTo>
                    <a:pt x="214" y="310"/>
                  </a:lnTo>
                  <a:lnTo>
                    <a:pt x="232" y="308"/>
                  </a:lnTo>
                  <a:lnTo>
                    <a:pt x="252" y="302"/>
                  </a:lnTo>
                  <a:lnTo>
                    <a:pt x="268" y="294"/>
                  </a:lnTo>
                  <a:lnTo>
                    <a:pt x="282" y="282"/>
                  </a:lnTo>
                  <a:lnTo>
                    <a:pt x="294" y="268"/>
                  </a:lnTo>
                  <a:lnTo>
                    <a:pt x="304" y="250"/>
                  </a:lnTo>
                  <a:lnTo>
                    <a:pt x="308" y="232"/>
                  </a:lnTo>
                  <a:lnTo>
                    <a:pt x="310" y="214"/>
                  </a:lnTo>
                  <a:lnTo>
                    <a:pt x="310" y="214"/>
                  </a:lnTo>
                  <a:lnTo>
                    <a:pt x="308" y="194"/>
                  </a:lnTo>
                  <a:lnTo>
                    <a:pt x="304" y="176"/>
                  </a:lnTo>
                  <a:lnTo>
                    <a:pt x="294" y="158"/>
                  </a:lnTo>
                  <a:lnTo>
                    <a:pt x="282" y="144"/>
                  </a:lnTo>
                  <a:lnTo>
                    <a:pt x="268" y="132"/>
                  </a:lnTo>
                  <a:lnTo>
                    <a:pt x="252" y="124"/>
                  </a:lnTo>
                  <a:lnTo>
                    <a:pt x="232" y="118"/>
                  </a:lnTo>
                  <a:lnTo>
                    <a:pt x="214" y="116"/>
                  </a:lnTo>
                  <a:lnTo>
                    <a:pt x="214" y="116"/>
                  </a:lnTo>
                  <a:lnTo>
                    <a:pt x="194" y="118"/>
                  </a:lnTo>
                  <a:lnTo>
                    <a:pt x="176" y="124"/>
                  </a:lnTo>
                  <a:lnTo>
                    <a:pt x="158" y="132"/>
                  </a:lnTo>
                  <a:lnTo>
                    <a:pt x="144" y="144"/>
                  </a:lnTo>
                  <a:lnTo>
                    <a:pt x="132" y="158"/>
                  </a:lnTo>
                  <a:lnTo>
                    <a:pt x="124" y="176"/>
                  </a:lnTo>
                  <a:lnTo>
                    <a:pt x="118" y="194"/>
                  </a:lnTo>
                  <a:lnTo>
                    <a:pt x="116" y="214"/>
                  </a:lnTo>
                  <a:lnTo>
                    <a:pt x="116" y="214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グループ化 76"/>
          <p:cNvGrpSpPr/>
          <p:nvPr/>
        </p:nvGrpSpPr>
        <p:grpSpPr>
          <a:xfrm>
            <a:off x="657360" y="41262480"/>
            <a:ext cx="9480240" cy="1409400"/>
            <a:chOff x="657360" y="41262480"/>
            <a:chExt cx="9480240" cy="1409400"/>
          </a:xfrm>
        </p:grpSpPr>
        <p:sp>
          <p:nvSpPr>
            <p:cNvPr id="111" name="Freeform 19"/>
            <p:cNvSpPr/>
            <p:nvPr/>
          </p:nvSpPr>
          <p:spPr>
            <a:xfrm>
              <a:off x="657360" y="41284440"/>
              <a:ext cx="612720" cy="1365120"/>
            </a:xfrm>
            <a:custGeom>
              <a:avLst/>
              <a:gdLst/>
              <a:ahLst/>
              <a:rect l="l" t="t" r="r" b="b"/>
              <a:pathLst>
                <a:path w="386" h="860">
                  <a:moveTo>
                    <a:pt x="0" y="0"/>
                  </a:moveTo>
                  <a:lnTo>
                    <a:pt x="192" y="0"/>
                  </a:lnTo>
                  <a:lnTo>
                    <a:pt x="192" y="0"/>
                  </a:lnTo>
                  <a:lnTo>
                    <a:pt x="220" y="2"/>
                  </a:lnTo>
                  <a:lnTo>
                    <a:pt x="244" y="8"/>
                  </a:lnTo>
                  <a:lnTo>
                    <a:pt x="266" y="18"/>
                  </a:lnTo>
                  <a:lnTo>
                    <a:pt x="276" y="24"/>
                  </a:lnTo>
                  <a:lnTo>
                    <a:pt x="284" y="32"/>
                  </a:lnTo>
                  <a:lnTo>
                    <a:pt x="284" y="32"/>
                  </a:lnTo>
                  <a:lnTo>
                    <a:pt x="302" y="50"/>
                  </a:lnTo>
                  <a:lnTo>
                    <a:pt x="316" y="70"/>
                  </a:lnTo>
                  <a:lnTo>
                    <a:pt x="330" y="94"/>
                  </a:lnTo>
                  <a:lnTo>
                    <a:pt x="342" y="122"/>
                  </a:lnTo>
                  <a:lnTo>
                    <a:pt x="342" y="122"/>
                  </a:lnTo>
                  <a:lnTo>
                    <a:pt x="354" y="154"/>
                  </a:lnTo>
                  <a:lnTo>
                    <a:pt x="362" y="186"/>
                  </a:lnTo>
                  <a:lnTo>
                    <a:pt x="370" y="222"/>
                  </a:lnTo>
                  <a:lnTo>
                    <a:pt x="376" y="260"/>
                  </a:lnTo>
                  <a:lnTo>
                    <a:pt x="376" y="260"/>
                  </a:lnTo>
                  <a:lnTo>
                    <a:pt x="380" y="300"/>
                  </a:lnTo>
                  <a:lnTo>
                    <a:pt x="384" y="342"/>
                  </a:lnTo>
                  <a:lnTo>
                    <a:pt x="386" y="384"/>
                  </a:lnTo>
                  <a:lnTo>
                    <a:pt x="386" y="426"/>
                  </a:lnTo>
                  <a:lnTo>
                    <a:pt x="386" y="426"/>
                  </a:lnTo>
                  <a:lnTo>
                    <a:pt x="386" y="492"/>
                  </a:lnTo>
                  <a:lnTo>
                    <a:pt x="382" y="550"/>
                  </a:lnTo>
                  <a:lnTo>
                    <a:pt x="378" y="598"/>
                  </a:lnTo>
                  <a:lnTo>
                    <a:pt x="372" y="640"/>
                  </a:lnTo>
                  <a:lnTo>
                    <a:pt x="372" y="640"/>
                  </a:lnTo>
                  <a:lnTo>
                    <a:pt x="362" y="676"/>
                  </a:lnTo>
                  <a:lnTo>
                    <a:pt x="352" y="710"/>
                  </a:lnTo>
                  <a:lnTo>
                    <a:pt x="342" y="740"/>
                  </a:lnTo>
                  <a:lnTo>
                    <a:pt x="328" y="768"/>
                  </a:lnTo>
                  <a:lnTo>
                    <a:pt x="328" y="768"/>
                  </a:lnTo>
                  <a:lnTo>
                    <a:pt x="314" y="792"/>
                  </a:lnTo>
                  <a:lnTo>
                    <a:pt x="300" y="810"/>
                  </a:lnTo>
                  <a:lnTo>
                    <a:pt x="286" y="826"/>
                  </a:lnTo>
                  <a:lnTo>
                    <a:pt x="270" y="836"/>
                  </a:lnTo>
                  <a:lnTo>
                    <a:pt x="270" y="836"/>
                  </a:lnTo>
                  <a:lnTo>
                    <a:pt x="250" y="846"/>
                  </a:lnTo>
                  <a:lnTo>
                    <a:pt x="230" y="854"/>
                  </a:lnTo>
                  <a:lnTo>
                    <a:pt x="210" y="858"/>
                  </a:lnTo>
                  <a:lnTo>
                    <a:pt x="192" y="860"/>
                  </a:lnTo>
                  <a:lnTo>
                    <a:pt x="0" y="860"/>
                  </a:lnTo>
                  <a:lnTo>
                    <a:pt x="0" y="0"/>
                  </a:lnTo>
                  <a:close/>
                  <a:moveTo>
                    <a:pt x="130" y="194"/>
                  </a:moveTo>
                  <a:lnTo>
                    <a:pt x="130" y="664"/>
                  </a:lnTo>
                  <a:lnTo>
                    <a:pt x="162" y="664"/>
                  </a:lnTo>
                  <a:lnTo>
                    <a:pt x="162" y="664"/>
                  </a:lnTo>
                  <a:lnTo>
                    <a:pt x="180" y="662"/>
                  </a:lnTo>
                  <a:lnTo>
                    <a:pt x="196" y="660"/>
                  </a:lnTo>
                  <a:lnTo>
                    <a:pt x="210" y="654"/>
                  </a:lnTo>
                  <a:lnTo>
                    <a:pt x="220" y="646"/>
                  </a:lnTo>
                  <a:lnTo>
                    <a:pt x="220" y="646"/>
                  </a:lnTo>
                  <a:lnTo>
                    <a:pt x="228" y="634"/>
                  </a:lnTo>
                  <a:lnTo>
                    <a:pt x="234" y="620"/>
                  </a:lnTo>
                  <a:lnTo>
                    <a:pt x="240" y="602"/>
                  </a:lnTo>
                  <a:lnTo>
                    <a:pt x="246" y="582"/>
                  </a:lnTo>
                  <a:lnTo>
                    <a:pt x="246" y="582"/>
                  </a:lnTo>
                  <a:lnTo>
                    <a:pt x="250" y="554"/>
                  </a:lnTo>
                  <a:lnTo>
                    <a:pt x="254" y="520"/>
                  </a:lnTo>
                  <a:lnTo>
                    <a:pt x="256" y="480"/>
                  </a:lnTo>
                  <a:lnTo>
                    <a:pt x="256" y="432"/>
                  </a:lnTo>
                  <a:lnTo>
                    <a:pt x="256" y="432"/>
                  </a:lnTo>
                  <a:lnTo>
                    <a:pt x="254" y="370"/>
                  </a:lnTo>
                  <a:lnTo>
                    <a:pt x="250" y="318"/>
                  </a:lnTo>
                  <a:lnTo>
                    <a:pt x="244" y="276"/>
                  </a:lnTo>
                  <a:lnTo>
                    <a:pt x="240" y="260"/>
                  </a:lnTo>
                  <a:lnTo>
                    <a:pt x="234" y="246"/>
                  </a:lnTo>
                  <a:lnTo>
                    <a:pt x="234" y="246"/>
                  </a:lnTo>
                  <a:lnTo>
                    <a:pt x="228" y="234"/>
                  </a:lnTo>
                  <a:lnTo>
                    <a:pt x="222" y="224"/>
                  </a:lnTo>
                  <a:lnTo>
                    <a:pt x="214" y="214"/>
                  </a:lnTo>
                  <a:lnTo>
                    <a:pt x="206" y="208"/>
                  </a:lnTo>
                  <a:lnTo>
                    <a:pt x="196" y="202"/>
                  </a:lnTo>
                  <a:lnTo>
                    <a:pt x="186" y="198"/>
                  </a:lnTo>
                  <a:lnTo>
                    <a:pt x="174" y="196"/>
                  </a:lnTo>
                  <a:lnTo>
                    <a:pt x="162" y="194"/>
                  </a:lnTo>
                  <a:lnTo>
                    <a:pt x="13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1352520" y="41262480"/>
              <a:ext cx="691920" cy="1409400"/>
            </a:xfrm>
            <a:custGeom>
              <a:avLst/>
              <a:gdLst>
                <a:gd name="textAreaLeft" fmla="*/ 0 w 691920"/>
                <a:gd name="textAreaRight" fmla="*/ 691920 w 69192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436" h="888">
                  <a:moveTo>
                    <a:pt x="0" y="444"/>
                  </a:moveTo>
                  <a:lnTo>
                    <a:pt x="0" y="444"/>
                  </a:lnTo>
                  <a:lnTo>
                    <a:pt x="2" y="394"/>
                  </a:lnTo>
                  <a:lnTo>
                    <a:pt x="4" y="344"/>
                  </a:lnTo>
                  <a:lnTo>
                    <a:pt x="8" y="300"/>
                  </a:lnTo>
                  <a:lnTo>
                    <a:pt x="14" y="258"/>
                  </a:lnTo>
                  <a:lnTo>
                    <a:pt x="22" y="218"/>
                  </a:lnTo>
                  <a:lnTo>
                    <a:pt x="32" y="182"/>
                  </a:lnTo>
                  <a:lnTo>
                    <a:pt x="44" y="148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72" y="90"/>
                  </a:lnTo>
                  <a:lnTo>
                    <a:pt x="88" y="66"/>
                  </a:lnTo>
                  <a:lnTo>
                    <a:pt x="106" y="46"/>
                  </a:lnTo>
                  <a:lnTo>
                    <a:pt x="126" y="28"/>
                  </a:lnTo>
                  <a:lnTo>
                    <a:pt x="146" y="16"/>
                  </a:lnTo>
                  <a:lnTo>
                    <a:pt x="168" y="6"/>
                  </a:lnTo>
                  <a:lnTo>
                    <a:pt x="192" y="2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42" y="2"/>
                  </a:lnTo>
                  <a:lnTo>
                    <a:pt x="266" y="6"/>
                  </a:lnTo>
                  <a:lnTo>
                    <a:pt x="288" y="16"/>
                  </a:lnTo>
                  <a:lnTo>
                    <a:pt x="310" y="28"/>
                  </a:lnTo>
                  <a:lnTo>
                    <a:pt x="330" y="44"/>
                  </a:lnTo>
                  <a:lnTo>
                    <a:pt x="348" y="64"/>
                  </a:lnTo>
                  <a:lnTo>
                    <a:pt x="364" y="88"/>
                  </a:lnTo>
                  <a:lnTo>
                    <a:pt x="378" y="114"/>
                  </a:lnTo>
                  <a:lnTo>
                    <a:pt x="378" y="114"/>
                  </a:lnTo>
                  <a:lnTo>
                    <a:pt x="392" y="144"/>
                  </a:lnTo>
                  <a:lnTo>
                    <a:pt x="404" y="178"/>
                  </a:lnTo>
                  <a:lnTo>
                    <a:pt x="414" y="214"/>
                  </a:lnTo>
                  <a:lnTo>
                    <a:pt x="422" y="252"/>
                  </a:lnTo>
                  <a:lnTo>
                    <a:pt x="428" y="294"/>
                  </a:lnTo>
                  <a:lnTo>
                    <a:pt x="432" y="340"/>
                  </a:lnTo>
                  <a:lnTo>
                    <a:pt x="434" y="386"/>
                  </a:lnTo>
                  <a:lnTo>
                    <a:pt x="436" y="438"/>
                  </a:lnTo>
                  <a:lnTo>
                    <a:pt x="436" y="438"/>
                  </a:lnTo>
                  <a:lnTo>
                    <a:pt x="434" y="510"/>
                  </a:lnTo>
                  <a:lnTo>
                    <a:pt x="430" y="574"/>
                  </a:lnTo>
                  <a:lnTo>
                    <a:pt x="422" y="632"/>
                  </a:lnTo>
                  <a:lnTo>
                    <a:pt x="410" y="684"/>
                  </a:lnTo>
                  <a:lnTo>
                    <a:pt x="410" y="684"/>
                  </a:lnTo>
                  <a:lnTo>
                    <a:pt x="396" y="730"/>
                  </a:lnTo>
                  <a:lnTo>
                    <a:pt x="380" y="770"/>
                  </a:lnTo>
                  <a:lnTo>
                    <a:pt x="370" y="788"/>
                  </a:lnTo>
                  <a:lnTo>
                    <a:pt x="360" y="804"/>
                  </a:lnTo>
                  <a:lnTo>
                    <a:pt x="350" y="820"/>
                  </a:lnTo>
                  <a:lnTo>
                    <a:pt x="338" y="834"/>
                  </a:lnTo>
                  <a:lnTo>
                    <a:pt x="338" y="834"/>
                  </a:lnTo>
                  <a:lnTo>
                    <a:pt x="326" y="846"/>
                  </a:lnTo>
                  <a:lnTo>
                    <a:pt x="314" y="858"/>
                  </a:lnTo>
                  <a:lnTo>
                    <a:pt x="300" y="866"/>
                  </a:lnTo>
                  <a:lnTo>
                    <a:pt x="286" y="874"/>
                  </a:lnTo>
                  <a:lnTo>
                    <a:pt x="272" y="880"/>
                  </a:lnTo>
                  <a:lnTo>
                    <a:pt x="256" y="884"/>
                  </a:lnTo>
                  <a:lnTo>
                    <a:pt x="240" y="888"/>
                  </a:lnTo>
                  <a:lnTo>
                    <a:pt x="222" y="888"/>
                  </a:lnTo>
                  <a:lnTo>
                    <a:pt x="222" y="888"/>
                  </a:lnTo>
                  <a:lnTo>
                    <a:pt x="204" y="888"/>
                  </a:lnTo>
                  <a:lnTo>
                    <a:pt x="188" y="884"/>
                  </a:lnTo>
                  <a:lnTo>
                    <a:pt x="172" y="882"/>
                  </a:lnTo>
                  <a:lnTo>
                    <a:pt x="158" y="876"/>
                  </a:lnTo>
                  <a:lnTo>
                    <a:pt x="142" y="870"/>
                  </a:lnTo>
                  <a:lnTo>
                    <a:pt x="130" y="862"/>
                  </a:lnTo>
                  <a:lnTo>
                    <a:pt x="116" y="852"/>
                  </a:lnTo>
                  <a:lnTo>
                    <a:pt x="104" y="842"/>
                  </a:lnTo>
                  <a:lnTo>
                    <a:pt x="104" y="842"/>
                  </a:lnTo>
                  <a:lnTo>
                    <a:pt x="94" y="830"/>
                  </a:lnTo>
                  <a:lnTo>
                    <a:pt x="82" y="816"/>
                  </a:lnTo>
                  <a:lnTo>
                    <a:pt x="72" y="800"/>
                  </a:lnTo>
                  <a:lnTo>
                    <a:pt x="62" y="782"/>
                  </a:lnTo>
                  <a:lnTo>
                    <a:pt x="44" y="742"/>
                  </a:lnTo>
                  <a:lnTo>
                    <a:pt x="30" y="696"/>
                  </a:lnTo>
                  <a:lnTo>
                    <a:pt x="30" y="696"/>
                  </a:lnTo>
                  <a:lnTo>
                    <a:pt x="22" y="670"/>
                  </a:lnTo>
                  <a:lnTo>
                    <a:pt x="16" y="642"/>
                  </a:lnTo>
                  <a:lnTo>
                    <a:pt x="8" y="582"/>
                  </a:lnTo>
                  <a:lnTo>
                    <a:pt x="2" y="516"/>
                  </a:lnTo>
                  <a:lnTo>
                    <a:pt x="0" y="444"/>
                  </a:lnTo>
                  <a:lnTo>
                    <a:pt x="0" y="444"/>
                  </a:lnTo>
                  <a:close/>
                  <a:moveTo>
                    <a:pt x="130" y="446"/>
                  </a:moveTo>
                  <a:lnTo>
                    <a:pt x="130" y="446"/>
                  </a:lnTo>
                  <a:lnTo>
                    <a:pt x="132" y="506"/>
                  </a:lnTo>
                  <a:lnTo>
                    <a:pt x="136" y="558"/>
                  </a:lnTo>
                  <a:lnTo>
                    <a:pt x="144" y="600"/>
                  </a:lnTo>
                  <a:lnTo>
                    <a:pt x="148" y="618"/>
                  </a:lnTo>
                  <a:lnTo>
                    <a:pt x="154" y="632"/>
                  </a:lnTo>
                  <a:lnTo>
                    <a:pt x="154" y="632"/>
                  </a:lnTo>
                  <a:lnTo>
                    <a:pt x="160" y="646"/>
                  </a:lnTo>
                  <a:lnTo>
                    <a:pt x="166" y="658"/>
                  </a:lnTo>
                  <a:lnTo>
                    <a:pt x="174" y="668"/>
                  </a:lnTo>
                  <a:lnTo>
                    <a:pt x="182" y="676"/>
                  </a:lnTo>
                  <a:lnTo>
                    <a:pt x="190" y="682"/>
                  </a:lnTo>
                  <a:lnTo>
                    <a:pt x="198" y="686"/>
                  </a:lnTo>
                  <a:lnTo>
                    <a:pt x="208" y="688"/>
                  </a:lnTo>
                  <a:lnTo>
                    <a:pt x="218" y="690"/>
                  </a:lnTo>
                  <a:lnTo>
                    <a:pt x="218" y="690"/>
                  </a:lnTo>
                  <a:lnTo>
                    <a:pt x="228" y="688"/>
                  </a:lnTo>
                  <a:lnTo>
                    <a:pt x="238" y="686"/>
                  </a:lnTo>
                  <a:lnTo>
                    <a:pt x="246" y="682"/>
                  </a:lnTo>
                  <a:lnTo>
                    <a:pt x="254" y="676"/>
                  </a:lnTo>
                  <a:lnTo>
                    <a:pt x="262" y="668"/>
                  </a:lnTo>
                  <a:lnTo>
                    <a:pt x="270" y="658"/>
                  </a:lnTo>
                  <a:lnTo>
                    <a:pt x="276" y="646"/>
                  </a:lnTo>
                  <a:lnTo>
                    <a:pt x="282" y="634"/>
                  </a:lnTo>
                  <a:lnTo>
                    <a:pt x="282" y="634"/>
                  </a:lnTo>
                  <a:lnTo>
                    <a:pt x="288" y="618"/>
                  </a:lnTo>
                  <a:lnTo>
                    <a:pt x="292" y="600"/>
                  </a:lnTo>
                  <a:lnTo>
                    <a:pt x="300" y="556"/>
                  </a:lnTo>
                  <a:lnTo>
                    <a:pt x="304" y="500"/>
                  </a:lnTo>
                  <a:lnTo>
                    <a:pt x="306" y="434"/>
                  </a:lnTo>
                  <a:lnTo>
                    <a:pt x="306" y="434"/>
                  </a:lnTo>
                  <a:lnTo>
                    <a:pt x="304" y="378"/>
                  </a:lnTo>
                  <a:lnTo>
                    <a:pt x="300" y="328"/>
                  </a:lnTo>
                  <a:lnTo>
                    <a:pt x="292" y="288"/>
                  </a:lnTo>
                  <a:lnTo>
                    <a:pt x="288" y="272"/>
                  </a:lnTo>
                  <a:lnTo>
                    <a:pt x="282" y="256"/>
                  </a:lnTo>
                  <a:lnTo>
                    <a:pt x="282" y="256"/>
                  </a:lnTo>
                  <a:lnTo>
                    <a:pt x="276" y="244"/>
                  </a:lnTo>
                  <a:lnTo>
                    <a:pt x="268" y="232"/>
                  </a:lnTo>
                  <a:lnTo>
                    <a:pt x="262" y="222"/>
                  </a:lnTo>
                  <a:lnTo>
                    <a:pt x="254" y="214"/>
                  </a:lnTo>
                  <a:lnTo>
                    <a:pt x="246" y="208"/>
                  </a:lnTo>
                  <a:lnTo>
                    <a:pt x="236" y="204"/>
                  </a:lnTo>
                  <a:lnTo>
                    <a:pt x="226" y="202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8" y="202"/>
                  </a:lnTo>
                  <a:lnTo>
                    <a:pt x="198" y="204"/>
                  </a:lnTo>
                  <a:lnTo>
                    <a:pt x="190" y="208"/>
                  </a:lnTo>
                  <a:lnTo>
                    <a:pt x="182" y="214"/>
                  </a:lnTo>
                  <a:lnTo>
                    <a:pt x="174" y="222"/>
                  </a:lnTo>
                  <a:lnTo>
                    <a:pt x="166" y="232"/>
                  </a:lnTo>
                  <a:lnTo>
                    <a:pt x="160" y="244"/>
                  </a:lnTo>
                  <a:lnTo>
                    <a:pt x="154" y="258"/>
                  </a:lnTo>
                  <a:lnTo>
                    <a:pt x="154" y="258"/>
                  </a:lnTo>
                  <a:lnTo>
                    <a:pt x="148" y="272"/>
                  </a:lnTo>
                  <a:lnTo>
                    <a:pt x="144" y="290"/>
                  </a:lnTo>
                  <a:lnTo>
                    <a:pt x="136" y="332"/>
                  </a:lnTo>
                  <a:lnTo>
                    <a:pt x="132" y="384"/>
                  </a:lnTo>
                  <a:lnTo>
                    <a:pt x="130" y="446"/>
                  </a:lnTo>
                  <a:lnTo>
                    <a:pt x="130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2467080" y="41284440"/>
              <a:ext cx="637920" cy="13651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402" h="860">
                  <a:moveTo>
                    <a:pt x="0" y="0"/>
                  </a:moveTo>
                  <a:lnTo>
                    <a:pt x="120" y="0"/>
                  </a:lnTo>
                  <a:lnTo>
                    <a:pt x="278" y="476"/>
                  </a:lnTo>
                  <a:lnTo>
                    <a:pt x="278" y="0"/>
                  </a:lnTo>
                  <a:lnTo>
                    <a:pt x="402" y="0"/>
                  </a:lnTo>
                  <a:lnTo>
                    <a:pt x="402" y="860"/>
                  </a:lnTo>
                  <a:lnTo>
                    <a:pt x="278" y="860"/>
                  </a:lnTo>
                  <a:lnTo>
                    <a:pt x="122" y="388"/>
                  </a:lnTo>
                  <a:lnTo>
                    <a:pt x="122" y="860"/>
                  </a:lnTo>
                  <a:lnTo>
                    <a:pt x="0" y="8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3216240" y="41262480"/>
              <a:ext cx="688680" cy="140940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434" h="888">
                  <a:moveTo>
                    <a:pt x="0" y="444"/>
                  </a:moveTo>
                  <a:lnTo>
                    <a:pt x="0" y="444"/>
                  </a:lnTo>
                  <a:lnTo>
                    <a:pt x="0" y="394"/>
                  </a:lnTo>
                  <a:lnTo>
                    <a:pt x="2" y="344"/>
                  </a:lnTo>
                  <a:lnTo>
                    <a:pt x="8" y="300"/>
                  </a:lnTo>
                  <a:lnTo>
                    <a:pt x="14" y="258"/>
                  </a:lnTo>
                  <a:lnTo>
                    <a:pt x="22" y="218"/>
                  </a:lnTo>
                  <a:lnTo>
                    <a:pt x="32" y="182"/>
                  </a:lnTo>
                  <a:lnTo>
                    <a:pt x="44" y="148"/>
                  </a:lnTo>
                  <a:lnTo>
                    <a:pt x="56" y="116"/>
                  </a:lnTo>
                  <a:lnTo>
                    <a:pt x="56" y="116"/>
                  </a:lnTo>
                  <a:lnTo>
                    <a:pt x="72" y="90"/>
                  </a:lnTo>
                  <a:lnTo>
                    <a:pt x="88" y="66"/>
                  </a:lnTo>
                  <a:lnTo>
                    <a:pt x="106" y="46"/>
                  </a:lnTo>
                  <a:lnTo>
                    <a:pt x="124" y="28"/>
                  </a:lnTo>
                  <a:lnTo>
                    <a:pt x="146" y="16"/>
                  </a:lnTo>
                  <a:lnTo>
                    <a:pt x="168" y="6"/>
                  </a:lnTo>
                  <a:lnTo>
                    <a:pt x="192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42" y="2"/>
                  </a:lnTo>
                  <a:lnTo>
                    <a:pt x="266" y="6"/>
                  </a:lnTo>
                  <a:lnTo>
                    <a:pt x="288" y="16"/>
                  </a:lnTo>
                  <a:lnTo>
                    <a:pt x="308" y="28"/>
                  </a:lnTo>
                  <a:lnTo>
                    <a:pt x="328" y="44"/>
                  </a:lnTo>
                  <a:lnTo>
                    <a:pt x="346" y="64"/>
                  </a:lnTo>
                  <a:lnTo>
                    <a:pt x="362" y="88"/>
                  </a:lnTo>
                  <a:lnTo>
                    <a:pt x="378" y="114"/>
                  </a:lnTo>
                  <a:lnTo>
                    <a:pt x="378" y="114"/>
                  </a:lnTo>
                  <a:lnTo>
                    <a:pt x="390" y="144"/>
                  </a:lnTo>
                  <a:lnTo>
                    <a:pt x="402" y="178"/>
                  </a:lnTo>
                  <a:lnTo>
                    <a:pt x="412" y="214"/>
                  </a:lnTo>
                  <a:lnTo>
                    <a:pt x="420" y="252"/>
                  </a:lnTo>
                  <a:lnTo>
                    <a:pt x="426" y="294"/>
                  </a:lnTo>
                  <a:lnTo>
                    <a:pt x="430" y="340"/>
                  </a:lnTo>
                  <a:lnTo>
                    <a:pt x="434" y="386"/>
                  </a:lnTo>
                  <a:lnTo>
                    <a:pt x="434" y="438"/>
                  </a:lnTo>
                  <a:lnTo>
                    <a:pt x="434" y="438"/>
                  </a:lnTo>
                  <a:lnTo>
                    <a:pt x="432" y="510"/>
                  </a:lnTo>
                  <a:lnTo>
                    <a:pt x="428" y="574"/>
                  </a:lnTo>
                  <a:lnTo>
                    <a:pt x="420" y="632"/>
                  </a:lnTo>
                  <a:lnTo>
                    <a:pt x="410" y="684"/>
                  </a:lnTo>
                  <a:lnTo>
                    <a:pt x="410" y="684"/>
                  </a:lnTo>
                  <a:lnTo>
                    <a:pt x="396" y="730"/>
                  </a:lnTo>
                  <a:lnTo>
                    <a:pt x="380" y="770"/>
                  </a:lnTo>
                  <a:lnTo>
                    <a:pt x="370" y="788"/>
                  </a:lnTo>
                  <a:lnTo>
                    <a:pt x="360" y="804"/>
                  </a:lnTo>
                  <a:lnTo>
                    <a:pt x="350" y="820"/>
                  </a:lnTo>
                  <a:lnTo>
                    <a:pt x="338" y="834"/>
                  </a:lnTo>
                  <a:lnTo>
                    <a:pt x="338" y="834"/>
                  </a:lnTo>
                  <a:lnTo>
                    <a:pt x="326" y="846"/>
                  </a:lnTo>
                  <a:lnTo>
                    <a:pt x="312" y="858"/>
                  </a:lnTo>
                  <a:lnTo>
                    <a:pt x="300" y="866"/>
                  </a:lnTo>
                  <a:lnTo>
                    <a:pt x="286" y="874"/>
                  </a:lnTo>
                  <a:lnTo>
                    <a:pt x="270" y="880"/>
                  </a:lnTo>
                  <a:lnTo>
                    <a:pt x="254" y="884"/>
                  </a:lnTo>
                  <a:lnTo>
                    <a:pt x="238" y="888"/>
                  </a:lnTo>
                  <a:lnTo>
                    <a:pt x="222" y="888"/>
                  </a:lnTo>
                  <a:lnTo>
                    <a:pt x="222" y="888"/>
                  </a:lnTo>
                  <a:lnTo>
                    <a:pt x="204" y="888"/>
                  </a:lnTo>
                  <a:lnTo>
                    <a:pt x="188" y="884"/>
                  </a:lnTo>
                  <a:lnTo>
                    <a:pt x="172" y="882"/>
                  </a:lnTo>
                  <a:lnTo>
                    <a:pt x="156" y="876"/>
                  </a:lnTo>
                  <a:lnTo>
                    <a:pt x="142" y="870"/>
                  </a:lnTo>
                  <a:lnTo>
                    <a:pt x="128" y="862"/>
                  </a:lnTo>
                  <a:lnTo>
                    <a:pt x="116" y="852"/>
                  </a:lnTo>
                  <a:lnTo>
                    <a:pt x="104" y="842"/>
                  </a:lnTo>
                  <a:lnTo>
                    <a:pt x="104" y="842"/>
                  </a:lnTo>
                  <a:lnTo>
                    <a:pt x="92" y="830"/>
                  </a:lnTo>
                  <a:lnTo>
                    <a:pt x="82" y="816"/>
                  </a:lnTo>
                  <a:lnTo>
                    <a:pt x="72" y="800"/>
                  </a:lnTo>
                  <a:lnTo>
                    <a:pt x="62" y="782"/>
                  </a:lnTo>
                  <a:lnTo>
                    <a:pt x="44" y="742"/>
                  </a:lnTo>
                  <a:lnTo>
                    <a:pt x="28" y="696"/>
                  </a:lnTo>
                  <a:lnTo>
                    <a:pt x="28" y="696"/>
                  </a:lnTo>
                  <a:lnTo>
                    <a:pt x="22" y="670"/>
                  </a:lnTo>
                  <a:lnTo>
                    <a:pt x="16" y="642"/>
                  </a:lnTo>
                  <a:lnTo>
                    <a:pt x="6" y="582"/>
                  </a:lnTo>
                  <a:lnTo>
                    <a:pt x="0" y="516"/>
                  </a:lnTo>
                  <a:lnTo>
                    <a:pt x="0" y="444"/>
                  </a:lnTo>
                  <a:lnTo>
                    <a:pt x="0" y="444"/>
                  </a:lnTo>
                  <a:close/>
                  <a:moveTo>
                    <a:pt x="128" y="446"/>
                  </a:moveTo>
                  <a:lnTo>
                    <a:pt x="128" y="446"/>
                  </a:lnTo>
                  <a:lnTo>
                    <a:pt x="130" y="506"/>
                  </a:lnTo>
                  <a:lnTo>
                    <a:pt x="134" y="558"/>
                  </a:lnTo>
                  <a:lnTo>
                    <a:pt x="142" y="600"/>
                  </a:lnTo>
                  <a:lnTo>
                    <a:pt x="146" y="618"/>
                  </a:lnTo>
                  <a:lnTo>
                    <a:pt x="152" y="632"/>
                  </a:lnTo>
                  <a:lnTo>
                    <a:pt x="152" y="632"/>
                  </a:lnTo>
                  <a:lnTo>
                    <a:pt x="158" y="646"/>
                  </a:lnTo>
                  <a:lnTo>
                    <a:pt x="166" y="658"/>
                  </a:lnTo>
                  <a:lnTo>
                    <a:pt x="172" y="668"/>
                  </a:lnTo>
                  <a:lnTo>
                    <a:pt x="180" y="676"/>
                  </a:lnTo>
                  <a:lnTo>
                    <a:pt x="188" y="682"/>
                  </a:lnTo>
                  <a:lnTo>
                    <a:pt x="198" y="686"/>
                  </a:lnTo>
                  <a:lnTo>
                    <a:pt x="206" y="688"/>
                  </a:lnTo>
                  <a:lnTo>
                    <a:pt x="216" y="690"/>
                  </a:lnTo>
                  <a:lnTo>
                    <a:pt x="216" y="690"/>
                  </a:lnTo>
                  <a:lnTo>
                    <a:pt x="226" y="688"/>
                  </a:lnTo>
                  <a:lnTo>
                    <a:pt x="236" y="686"/>
                  </a:lnTo>
                  <a:lnTo>
                    <a:pt x="246" y="682"/>
                  </a:lnTo>
                  <a:lnTo>
                    <a:pt x="254" y="676"/>
                  </a:lnTo>
                  <a:lnTo>
                    <a:pt x="262" y="668"/>
                  </a:lnTo>
                  <a:lnTo>
                    <a:pt x="268" y="658"/>
                  </a:lnTo>
                  <a:lnTo>
                    <a:pt x="276" y="646"/>
                  </a:lnTo>
                  <a:lnTo>
                    <a:pt x="282" y="634"/>
                  </a:lnTo>
                  <a:lnTo>
                    <a:pt x="282" y="634"/>
                  </a:lnTo>
                  <a:lnTo>
                    <a:pt x="286" y="618"/>
                  </a:lnTo>
                  <a:lnTo>
                    <a:pt x="292" y="600"/>
                  </a:lnTo>
                  <a:lnTo>
                    <a:pt x="298" y="556"/>
                  </a:lnTo>
                  <a:lnTo>
                    <a:pt x="304" y="500"/>
                  </a:lnTo>
                  <a:lnTo>
                    <a:pt x="304" y="434"/>
                  </a:lnTo>
                  <a:lnTo>
                    <a:pt x="304" y="434"/>
                  </a:lnTo>
                  <a:lnTo>
                    <a:pt x="302" y="378"/>
                  </a:lnTo>
                  <a:lnTo>
                    <a:pt x="298" y="328"/>
                  </a:lnTo>
                  <a:lnTo>
                    <a:pt x="292" y="288"/>
                  </a:lnTo>
                  <a:lnTo>
                    <a:pt x="286" y="272"/>
                  </a:lnTo>
                  <a:lnTo>
                    <a:pt x="280" y="256"/>
                  </a:lnTo>
                  <a:lnTo>
                    <a:pt x="280" y="256"/>
                  </a:lnTo>
                  <a:lnTo>
                    <a:pt x="274" y="244"/>
                  </a:lnTo>
                  <a:lnTo>
                    <a:pt x="268" y="232"/>
                  </a:lnTo>
                  <a:lnTo>
                    <a:pt x="260" y="222"/>
                  </a:lnTo>
                  <a:lnTo>
                    <a:pt x="252" y="214"/>
                  </a:lnTo>
                  <a:lnTo>
                    <a:pt x="244" y="208"/>
                  </a:lnTo>
                  <a:lnTo>
                    <a:pt x="236" y="204"/>
                  </a:lnTo>
                  <a:lnTo>
                    <a:pt x="226" y="202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6" y="202"/>
                  </a:lnTo>
                  <a:lnTo>
                    <a:pt x="198" y="204"/>
                  </a:lnTo>
                  <a:lnTo>
                    <a:pt x="188" y="208"/>
                  </a:lnTo>
                  <a:lnTo>
                    <a:pt x="180" y="214"/>
                  </a:lnTo>
                  <a:lnTo>
                    <a:pt x="172" y="222"/>
                  </a:lnTo>
                  <a:lnTo>
                    <a:pt x="166" y="232"/>
                  </a:lnTo>
                  <a:lnTo>
                    <a:pt x="158" y="244"/>
                  </a:lnTo>
                  <a:lnTo>
                    <a:pt x="152" y="258"/>
                  </a:lnTo>
                  <a:lnTo>
                    <a:pt x="152" y="258"/>
                  </a:lnTo>
                  <a:lnTo>
                    <a:pt x="148" y="272"/>
                  </a:lnTo>
                  <a:lnTo>
                    <a:pt x="142" y="290"/>
                  </a:lnTo>
                  <a:lnTo>
                    <a:pt x="134" y="332"/>
                  </a:lnTo>
                  <a:lnTo>
                    <a:pt x="130" y="384"/>
                  </a:lnTo>
                  <a:lnTo>
                    <a:pt x="128" y="446"/>
                  </a:lnTo>
                  <a:lnTo>
                    <a:pt x="128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3"/>
            <p:cNvSpPr/>
            <p:nvPr/>
          </p:nvSpPr>
          <p:spPr>
            <a:xfrm>
              <a:off x="3968640" y="41284440"/>
              <a:ext cx="628560" cy="13651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396" h="860">
                  <a:moveTo>
                    <a:pt x="0" y="0"/>
                  </a:moveTo>
                  <a:lnTo>
                    <a:pt x="396" y="0"/>
                  </a:lnTo>
                  <a:lnTo>
                    <a:pt x="396" y="212"/>
                  </a:lnTo>
                  <a:lnTo>
                    <a:pt x="262" y="212"/>
                  </a:lnTo>
                  <a:lnTo>
                    <a:pt x="262" y="860"/>
                  </a:lnTo>
                  <a:lnTo>
                    <a:pt x="132" y="860"/>
                  </a:lnTo>
                  <a:lnTo>
                    <a:pt x="132" y="212"/>
                  </a:lnTo>
                  <a:lnTo>
                    <a:pt x="0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4"/>
            <p:cNvSpPr/>
            <p:nvPr/>
          </p:nvSpPr>
          <p:spPr>
            <a:xfrm>
              <a:off x="4952880" y="41284440"/>
              <a:ext cx="625320" cy="1365120"/>
            </a:xfrm>
            <a:custGeom>
              <a:avLst/>
              <a:gdLst/>
              <a:ahLst/>
              <a:rect l="l" t="t" r="r" b="b"/>
              <a:pathLst>
                <a:path w="394" h="860">
                  <a:moveTo>
                    <a:pt x="0" y="0"/>
                  </a:moveTo>
                  <a:lnTo>
                    <a:pt x="394" y="0"/>
                  </a:lnTo>
                  <a:lnTo>
                    <a:pt x="394" y="212"/>
                  </a:lnTo>
                  <a:lnTo>
                    <a:pt x="262" y="212"/>
                  </a:lnTo>
                  <a:lnTo>
                    <a:pt x="262" y="860"/>
                  </a:lnTo>
                  <a:lnTo>
                    <a:pt x="132" y="860"/>
                  </a:lnTo>
                  <a:lnTo>
                    <a:pt x="132" y="212"/>
                  </a:lnTo>
                  <a:lnTo>
                    <a:pt x="0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5"/>
            <p:cNvSpPr/>
            <p:nvPr/>
          </p:nvSpPr>
          <p:spPr>
            <a:xfrm>
              <a:off x="5673600" y="41284440"/>
              <a:ext cx="637920" cy="13651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402" h="860">
                  <a:moveTo>
                    <a:pt x="0" y="0"/>
                  </a:moveTo>
                  <a:lnTo>
                    <a:pt x="130" y="0"/>
                  </a:lnTo>
                  <a:lnTo>
                    <a:pt x="130" y="300"/>
                  </a:lnTo>
                  <a:lnTo>
                    <a:pt x="272" y="300"/>
                  </a:lnTo>
                  <a:lnTo>
                    <a:pt x="272" y="0"/>
                  </a:lnTo>
                  <a:lnTo>
                    <a:pt x="402" y="0"/>
                  </a:lnTo>
                  <a:lnTo>
                    <a:pt x="402" y="860"/>
                  </a:lnTo>
                  <a:lnTo>
                    <a:pt x="272" y="860"/>
                  </a:lnTo>
                  <a:lnTo>
                    <a:pt x="272" y="512"/>
                  </a:lnTo>
                  <a:lnTo>
                    <a:pt x="130" y="512"/>
                  </a:lnTo>
                  <a:lnTo>
                    <a:pt x="130" y="860"/>
                  </a:lnTo>
                  <a:lnTo>
                    <a:pt x="0" y="8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6"/>
            <p:cNvSpPr/>
            <p:nvPr/>
          </p:nvSpPr>
          <p:spPr>
            <a:xfrm>
              <a:off x="6451560" y="41284440"/>
              <a:ext cx="653760" cy="1365120"/>
            </a:xfrm>
            <a:custGeom>
              <a:avLst/>
              <a:gdLst/>
              <a:ahLst/>
              <a:rect l="l" t="t" r="r" b="b"/>
              <a:pathLst>
                <a:path w="412" h="860">
                  <a:moveTo>
                    <a:pt x="0" y="860"/>
                  </a:moveTo>
                  <a:lnTo>
                    <a:pt x="0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44" y="2"/>
                  </a:lnTo>
                  <a:lnTo>
                    <a:pt x="268" y="6"/>
                  </a:lnTo>
                  <a:lnTo>
                    <a:pt x="290" y="12"/>
                  </a:lnTo>
                  <a:lnTo>
                    <a:pt x="308" y="22"/>
                  </a:lnTo>
                  <a:lnTo>
                    <a:pt x="308" y="22"/>
                  </a:lnTo>
                  <a:lnTo>
                    <a:pt x="322" y="34"/>
                  </a:lnTo>
                  <a:lnTo>
                    <a:pt x="336" y="52"/>
                  </a:lnTo>
                  <a:lnTo>
                    <a:pt x="348" y="74"/>
                  </a:lnTo>
                  <a:lnTo>
                    <a:pt x="358" y="100"/>
                  </a:lnTo>
                  <a:lnTo>
                    <a:pt x="358" y="100"/>
                  </a:lnTo>
                  <a:lnTo>
                    <a:pt x="368" y="130"/>
                  </a:lnTo>
                  <a:lnTo>
                    <a:pt x="374" y="162"/>
                  </a:lnTo>
                  <a:lnTo>
                    <a:pt x="378" y="200"/>
                  </a:lnTo>
                  <a:lnTo>
                    <a:pt x="378" y="238"/>
                  </a:lnTo>
                  <a:lnTo>
                    <a:pt x="378" y="238"/>
                  </a:lnTo>
                  <a:lnTo>
                    <a:pt x="378" y="274"/>
                  </a:lnTo>
                  <a:lnTo>
                    <a:pt x="374" y="306"/>
                  </a:lnTo>
                  <a:lnTo>
                    <a:pt x="370" y="334"/>
                  </a:lnTo>
                  <a:lnTo>
                    <a:pt x="364" y="362"/>
                  </a:lnTo>
                  <a:lnTo>
                    <a:pt x="364" y="362"/>
                  </a:lnTo>
                  <a:lnTo>
                    <a:pt x="356" y="386"/>
                  </a:lnTo>
                  <a:lnTo>
                    <a:pt x="346" y="408"/>
                  </a:lnTo>
                  <a:lnTo>
                    <a:pt x="334" y="428"/>
                  </a:lnTo>
                  <a:lnTo>
                    <a:pt x="322" y="446"/>
                  </a:lnTo>
                  <a:lnTo>
                    <a:pt x="322" y="446"/>
                  </a:lnTo>
                  <a:lnTo>
                    <a:pt x="314" y="456"/>
                  </a:lnTo>
                  <a:lnTo>
                    <a:pt x="302" y="464"/>
                  </a:lnTo>
                  <a:lnTo>
                    <a:pt x="290" y="472"/>
                  </a:lnTo>
                  <a:lnTo>
                    <a:pt x="276" y="480"/>
                  </a:lnTo>
                  <a:lnTo>
                    <a:pt x="276" y="480"/>
                  </a:lnTo>
                  <a:lnTo>
                    <a:pt x="296" y="496"/>
                  </a:lnTo>
                  <a:lnTo>
                    <a:pt x="310" y="512"/>
                  </a:lnTo>
                  <a:lnTo>
                    <a:pt x="310" y="512"/>
                  </a:lnTo>
                  <a:lnTo>
                    <a:pt x="320" y="528"/>
                  </a:lnTo>
                  <a:lnTo>
                    <a:pt x="332" y="556"/>
                  </a:lnTo>
                  <a:lnTo>
                    <a:pt x="332" y="556"/>
                  </a:lnTo>
                  <a:lnTo>
                    <a:pt x="342" y="588"/>
                  </a:lnTo>
                  <a:lnTo>
                    <a:pt x="350" y="610"/>
                  </a:lnTo>
                  <a:lnTo>
                    <a:pt x="412" y="860"/>
                  </a:lnTo>
                  <a:lnTo>
                    <a:pt x="266" y="860"/>
                  </a:lnTo>
                  <a:lnTo>
                    <a:pt x="196" y="596"/>
                  </a:lnTo>
                  <a:lnTo>
                    <a:pt x="196" y="596"/>
                  </a:lnTo>
                  <a:lnTo>
                    <a:pt x="184" y="554"/>
                  </a:lnTo>
                  <a:lnTo>
                    <a:pt x="178" y="540"/>
                  </a:lnTo>
                  <a:lnTo>
                    <a:pt x="174" y="530"/>
                  </a:lnTo>
                  <a:lnTo>
                    <a:pt x="174" y="530"/>
                  </a:lnTo>
                  <a:lnTo>
                    <a:pt x="166" y="522"/>
                  </a:lnTo>
                  <a:lnTo>
                    <a:pt x="158" y="516"/>
                  </a:lnTo>
                  <a:lnTo>
                    <a:pt x="150" y="512"/>
                  </a:lnTo>
                  <a:lnTo>
                    <a:pt x="142" y="510"/>
                  </a:lnTo>
                  <a:lnTo>
                    <a:pt x="130" y="510"/>
                  </a:lnTo>
                  <a:lnTo>
                    <a:pt x="130" y="860"/>
                  </a:lnTo>
                  <a:lnTo>
                    <a:pt x="0" y="860"/>
                  </a:lnTo>
                  <a:close/>
                  <a:moveTo>
                    <a:pt x="130" y="348"/>
                  </a:moveTo>
                  <a:lnTo>
                    <a:pt x="184" y="348"/>
                  </a:lnTo>
                  <a:lnTo>
                    <a:pt x="184" y="348"/>
                  </a:lnTo>
                  <a:lnTo>
                    <a:pt x="198" y="346"/>
                  </a:lnTo>
                  <a:lnTo>
                    <a:pt x="218" y="336"/>
                  </a:lnTo>
                  <a:lnTo>
                    <a:pt x="218" y="336"/>
                  </a:lnTo>
                  <a:lnTo>
                    <a:pt x="224" y="332"/>
                  </a:lnTo>
                  <a:lnTo>
                    <a:pt x="230" y="328"/>
                  </a:lnTo>
                  <a:lnTo>
                    <a:pt x="236" y="320"/>
                  </a:lnTo>
                  <a:lnTo>
                    <a:pt x="240" y="310"/>
                  </a:lnTo>
                  <a:lnTo>
                    <a:pt x="240" y="310"/>
                  </a:lnTo>
                  <a:lnTo>
                    <a:pt x="246" y="286"/>
                  </a:lnTo>
                  <a:lnTo>
                    <a:pt x="248" y="260"/>
                  </a:lnTo>
                  <a:lnTo>
                    <a:pt x="248" y="260"/>
                  </a:lnTo>
                  <a:lnTo>
                    <a:pt x="248" y="240"/>
                  </a:lnTo>
                  <a:lnTo>
                    <a:pt x="244" y="224"/>
                  </a:lnTo>
                  <a:lnTo>
                    <a:pt x="240" y="208"/>
                  </a:lnTo>
                  <a:lnTo>
                    <a:pt x="236" y="196"/>
                  </a:lnTo>
                  <a:lnTo>
                    <a:pt x="236" y="196"/>
                  </a:lnTo>
                  <a:lnTo>
                    <a:pt x="228" y="186"/>
                  </a:lnTo>
                  <a:lnTo>
                    <a:pt x="216" y="180"/>
                  </a:lnTo>
                  <a:lnTo>
                    <a:pt x="204" y="176"/>
                  </a:lnTo>
                  <a:lnTo>
                    <a:pt x="186" y="174"/>
                  </a:lnTo>
                  <a:lnTo>
                    <a:pt x="130" y="174"/>
                  </a:lnTo>
                  <a:lnTo>
                    <a:pt x="130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7"/>
            <p:cNvSpPr/>
            <p:nvPr/>
          </p:nvSpPr>
          <p:spPr>
            <a:xfrm>
              <a:off x="7147080" y="41262480"/>
              <a:ext cx="688680" cy="140940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434" h="888">
                  <a:moveTo>
                    <a:pt x="0" y="444"/>
                  </a:moveTo>
                  <a:lnTo>
                    <a:pt x="0" y="444"/>
                  </a:lnTo>
                  <a:lnTo>
                    <a:pt x="0" y="394"/>
                  </a:lnTo>
                  <a:lnTo>
                    <a:pt x="4" y="344"/>
                  </a:lnTo>
                  <a:lnTo>
                    <a:pt x="8" y="300"/>
                  </a:lnTo>
                  <a:lnTo>
                    <a:pt x="14" y="258"/>
                  </a:lnTo>
                  <a:lnTo>
                    <a:pt x="22" y="218"/>
                  </a:lnTo>
                  <a:lnTo>
                    <a:pt x="32" y="182"/>
                  </a:lnTo>
                  <a:lnTo>
                    <a:pt x="44" y="148"/>
                  </a:lnTo>
                  <a:lnTo>
                    <a:pt x="56" y="116"/>
                  </a:lnTo>
                  <a:lnTo>
                    <a:pt x="56" y="116"/>
                  </a:lnTo>
                  <a:lnTo>
                    <a:pt x="72" y="90"/>
                  </a:lnTo>
                  <a:lnTo>
                    <a:pt x="88" y="66"/>
                  </a:lnTo>
                  <a:lnTo>
                    <a:pt x="106" y="46"/>
                  </a:lnTo>
                  <a:lnTo>
                    <a:pt x="126" y="28"/>
                  </a:lnTo>
                  <a:lnTo>
                    <a:pt x="146" y="16"/>
                  </a:lnTo>
                  <a:lnTo>
                    <a:pt x="168" y="6"/>
                  </a:lnTo>
                  <a:lnTo>
                    <a:pt x="192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42" y="2"/>
                  </a:lnTo>
                  <a:lnTo>
                    <a:pt x="266" y="6"/>
                  </a:lnTo>
                  <a:lnTo>
                    <a:pt x="288" y="16"/>
                  </a:lnTo>
                  <a:lnTo>
                    <a:pt x="310" y="28"/>
                  </a:lnTo>
                  <a:lnTo>
                    <a:pt x="328" y="44"/>
                  </a:lnTo>
                  <a:lnTo>
                    <a:pt x="346" y="64"/>
                  </a:lnTo>
                  <a:lnTo>
                    <a:pt x="364" y="88"/>
                  </a:lnTo>
                  <a:lnTo>
                    <a:pt x="378" y="114"/>
                  </a:lnTo>
                  <a:lnTo>
                    <a:pt x="378" y="114"/>
                  </a:lnTo>
                  <a:lnTo>
                    <a:pt x="392" y="144"/>
                  </a:lnTo>
                  <a:lnTo>
                    <a:pt x="402" y="178"/>
                  </a:lnTo>
                  <a:lnTo>
                    <a:pt x="412" y="214"/>
                  </a:lnTo>
                  <a:lnTo>
                    <a:pt x="420" y="252"/>
                  </a:lnTo>
                  <a:lnTo>
                    <a:pt x="426" y="294"/>
                  </a:lnTo>
                  <a:lnTo>
                    <a:pt x="432" y="340"/>
                  </a:lnTo>
                  <a:lnTo>
                    <a:pt x="434" y="386"/>
                  </a:lnTo>
                  <a:lnTo>
                    <a:pt x="434" y="438"/>
                  </a:lnTo>
                  <a:lnTo>
                    <a:pt x="434" y="438"/>
                  </a:lnTo>
                  <a:lnTo>
                    <a:pt x="434" y="510"/>
                  </a:lnTo>
                  <a:lnTo>
                    <a:pt x="428" y="574"/>
                  </a:lnTo>
                  <a:lnTo>
                    <a:pt x="420" y="632"/>
                  </a:lnTo>
                  <a:lnTo>
                    <a:pt x="410" y="684"/>
                  </a:lnTo>
                  <a:lnTo>
                    <a:pt x="410" y="684"/>
                  </a:lnTo>
                  <a:lnTo>
                    <a:pt x="396" y="730"/>
                  </a:lnTo>
                  <a:lnTo>
                    <a:pt x="380" y="770"/>
                  </a:lnTo>
                  <a:lnTo>
                    <a:pt x="370" y="788"/>
                  </a:lnTo>
                  <a:lnTo>
                    <a:pt x="360" y="804"/>
                  </a:lnTo>
                  <a:lnTo>
                    <a:pt x="350" y="820"/>
                  </a:lnTo>
                  <a:lnTo>
                    <a:pt x="338" y="834"/>
                  </a:lnTo>
                  <a:lnTo>
                    <a:pt x="338" y="834"/>
                  </a:lnTo>
                  <a:lnTo>
                    <a:pt x="326" y="846"/>
                  </a:lnTo>
                  <a:lnTo>
                    <a:pt x="314" y="858"/>
                  </a:lnTo>
                  <a:lnTo>
                    <a:pt x="300" y="866"/>
                  </a:lnTo>
                  <a:lnTo>
                    <a:pt x="286" y="874"/>
                  </a:lnTo>
                  <a:lnTo>
                    <a:pt x="270" y="880"/>
                  </a:lnTo>
                  <a:lnTo>
                    <a:pt x="256" y="884"/>
                  </a:lnTo>
                  <a:lnTo>
                    <a:pt x="238" y="888"/>
                  </a:lnTo>
                  <a:lnTo>
                    <a:pt x="222" y="888"/>
                  </a:lnTo>
                  <a:lnTo>
                    <a:pt x="222" y="888"/>
                  </a:lnTo>
                  <a:lnTo>
                    <a:pt x="204" y="888"/>
                  </a:lnTo>
                  <a:lnTo>
                    <a:pt x="188" y="884"/>
                  </a:lnTo>
                  <a:lnTo>
                    <a:pt x="172" y="882"/>
                  </a:lnTo>
                  <a:lnTo>
                    <a:pt x="156" y="876"/>
                  </a:lnTo>
                  <a:lnTo>
                    <a:pt x="142" y="870"/>
                  </a:lnTo>
                  <a:lnTo>
                    <a:pt x="128" y="862"/>
                  </a:lnTo>
                  <a:lnTo>
                    <a:pt x="116" y="852"/>
                  </a:lnTo>
                  <a:lnTo>
                    <a:pt x="104" y="842"/>
                  </a:lnTo>
                  <a:lnTo>
                    <a:pt x="104" y="842"/>
                  </a:lnTo>
                  <a:lnTo>
                    <a:pt x="92" y="830"/>
                  </a:lnTo>
                  <a:lnTo>
                    <a:pt x="82" y="816"/>
                  </a:lnTo>
                  <a:lnTo>
                    <a:pt x="72" y="800"/>
                  </a:lnTo>
                  <a:lnTo>
                    <a:pt x="62" y="782"/>
                  </a:lnTo>
                  <a:lnTo>
                    <a:pt x="44" y="742"/>
                  </a:lnTo>
                  <a:lnTo>
                    <a:pt x="28" y="696"/>
                  </a:lnTo>
                  <a:lnTo>
                    <a:pt x="28" y="696"/>
                  </a:lnTo>
                  <a:lnTo>
                    <a:pt x="22" y="670"/>
                  </a:lnTo>
                  <a:lnTo>
                    <a:pt x="16" y="642"/>
                  </a:lnTo>
                  <a:lnTo>
                    <a:pt x="6" y="582"/>
                  </a:lnTo>
                  <a:lnTo>
                    <a:pt x="2" y="516"/>
                  </a:lnTo>
                  <a:lnTo>
                    <a:pt x="0" y="444"/>
                  </a:lnTo>
                  <a:lnTo>
                    <a:pt x="0" y="444"/>
                  </a:lnTo>
                  <a:close/>
                  <a:moveTo>
                    <a:pt x="130" y="446"/>
                  </a:moveTo>
                  <a:lnTo>
                    <a:pt x="130" y="446"/>
                  </a:lnTo>
                  <a:lnTo>
                    <a:pt x="130" y="506"/>
                  </a:lnTo>
                  <a:lnTo>
                    <a:pt x="136" y="558"/>
                  </a:lnTo>
                  <a:lnTo>
                    <a:pt x="142" y="600"/>
                  </a:lnTo>
                  <a:lnTo>
                    <a:pt x="148" y="618"/>
                  </a:lnTo>
                  <a:lnTo>
                    <a:pt x="154" y="632"/>
                  </a:lnTo>
                  <a:lnTo>
                    <a:pt x="154" y="632"/>
                  </a:lnTo>
                  <a:lnTo>
                    <a:pt x="160" y="646"/>
                  </a:lnTo>
                  <a:lnTo>
                    <a:pt x="166" y="658"/>
                  </a:lnTo>
                  <a:lnTo>
                    <a:pt x="174" y="668"/>
                  </a:lnTo>
                  <a:lnTo>
                    <a:pt x="180" y="676"/>
                  </a:lnTo>
                  <a:lnTo>
                    <a:pt x="190" y="682"/>
                  </a:lnTo>
                  <a:lnTo>
                    <a:pt x="198" y="686"/>
                  </a:lnTo>
                  <a:lnTo>
                    <a:pt x="208" y="688"/>
                  </a:lnTo>
                  <a:lnTo>
                    <a:pt x="218" y="690"/>
                  </a:lnTo>
                  <a:lnTo>
                    <a:pt x="218" y="690"/>
                  </a:lnTo>
                  <a:lnTo>
                    <a:pt x="228" y="688"/>
                  </a:lnTo>
                  <a:lnTo>
                    <a:pt x="238" y="686"/>
                  </a:lnTo>
                  <a:lnTo>
                    <a:pt x="246" y="682"/>
                  </a:lnTo>
                  <a:lnTo>
                    <a:pt x="254" y="676"/>
                  </a:lnTo>
                  <a:lnTo>
                    <a:pt x="262" y="668"/>
                  </a:lnTo>
                  <a:lnTo>
                    <a:pt x="270" y="658"/>
                  </a:lnTo>
                  <a:lnTo>
                    <a:pt x="276" y="646"/>
                  </a:lnTo>
                  <a:lnTo>
                    <a:pt x="282" y="634"/>
                  </a:lnTo>
                  <a:lnTo>
                    <a:pt x="282" y="634"/>
                  </a:lnTo>
                  <a:lnTo>
                    <a:pt x="288" y="618"/>
                  </a:lnTo>
                  <a:lnTo>
                    <a:pt x="292" y="600"/>
                  </a:lnTo>
                  <a:lnTo>
                    <a:pt x="300" y="556"/>
                  </a:lnTo>
                  <a:lnTo>
                    <a:pt x="304" y="500"/>
                  </a:lnTo>
                  <a:lnTo>
                    <a:pt x="306" y="434"/>
                  </a:lnTo>
                  <a:lnTo>
                    <a:pt x="306" y="434"/>
                  </a:lnTo>
                  <a:lnTo>
                    <a:pt x="304" y="378"/>
                  </a:lnTo>
                  <a:lnTo>
                    <a:pt x="300" y="328"/>
                  </a:lnTo>
                  <a:lnTo>
                    <a:pt x="292" y="288"/>
                  </a:lnTo>
                  <a:lnTo>
                    <a:pt x="286" y="272"/>
                  </a:lnTo>
                  <a:lnTo>
                    <a:pt x="282" y="256"/>
                  </a:lnTo>
                  <a:lnTo>
                    <a:pt x="282" y="256"/>
                  </a:lnTo>
                  <a:lnTo>
                    <a:pt x="274" y="244"/>
                  </a:lnTo>
                  <a:lnTo>
                    <a:pt x="268" y="232"/>
                  </a:lnTo>
                  <a:lnTo>
                    <a:pt x="260" y="222"/>
                  </a:lnTo>
                  <a:lnTo>
                    <a:pt x="252" y="214"/>
                  </a:lnTo>
                  <a:lnTo>
                    <a:pt x="244" y="208"/>
                  </a:lnTo>
                  <a:lnTo>
                    <a:pt x="236" y="204"/>
                  </a:lnTo>
                  <a:lnTo>
                    <a:pt x="226" y="202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6" y="202"/>
                  </a:lnTo>
                  <a:lnTo>
                    <a:pt x="198" y="204"/>
                  </a:lnTo>
                  <a:lnTo>
                    <a:pt x="188" y="208"/>
                  </a:lnTo>
                  <a:lnTo>
                    <a:pt x="180" y="214"/>
                  </a:lnTo>
                  <a:lnTo>
                    <a:pt x="174" y="222"/>
                  </a:lnTo>
                  <a:lnTo>
                    <a:pt x="166" y="232"/>
                  </a:lnTo>
                  <a:lnTo>
                    <a:pt x="160" y="244"/>
                  </a:lnTo>
                  <a:lnTo>
                    <a:pt x="154" y="258"/>
                  </a:lnTo>
                  <a:lnTo>
                    <a:pt x="154" y="258"/>
                  </a:lnTo>
                  <a:lnTo>
                    <a:pt x="148" y="272"/>
                  </a:lnTo>
                  <a:lnTo>
                    <a:pt x="142" y="290"/>
                  </a:lnTo>
                  <a:lnTo>
                    <a:pt x="136" y="332"/>
                  </a:lnTo>
                  <a:lnTo>
                    <a:pt x="130" y="384"/>
                  </a:lnTo>
                  <a:lnTo>
                    <a:pt x="130" y="446"/>
                  </a:lnTo>
                  <a:lnTo>
                    <a:pt x="130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8"/>
            <p:cNvSpPr/>
            <p:nvPr/>
          </p:nvSpPr>
          <p:spPr>
            <a:xfrm>
              <a:off x="7947000" y="41284440"/>
              <a:ext cx="641160" cy="13874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404" h="874">
                  <a:moveTo>
                    <a:pt x="274" y="0"/>
                  </a:moveTo>
                  <a:lnTo>
                    <a:pt x="404" y="0"/>
                  </a:lnTo>
                  <a:lnTo>
                    <a:pt x="404" y="512"/>
                  </a:lnTo>
                  <a:lnTo>
                    <a:pt x="404" y="512"/>
                  </a:lnTo>
                  <a:lnTo>
                    <a:pt x="402" y="550"/>
                  </a:lnTo>
                  <a:lnTo>
                    <a:pt x="400" y="586"/>
                  </a:lnTo>
                  <a:lnTo>
                    <a:pt x="396" y="622"/>
                  </a:lnTo>
                  <a:lnTo>
                    <a:pt x="392" y="656"/>
                  </a:lnTo>
                  <a:lnTo>
                    <a:pt x="392" y="656"/>
                  </a:lnTo>
                  <a:lnTo>
                    <a:pt x="386" y="688"/>
                  </a:lnTo>
                  <a:lnTo>
                    <a:pt x="376" y="720"/>
                  </a:lnTo>
                  <a:lnTo>
                    <a:pt x="366" y="748"/>
                  </a:lnTo>
                  <a:lnTo>
                    <a:pt x="356" y="774"/>
                  </a:lnTo>
                  <a:lnTo>
                    <a:pt x="356" y="774"/>
                  </a:lnTo>
                  <a:lnTo>
                    <a:pt x="342" y="798"/>
                  </a:lnTo>
                  <a:lnTo>
                    <a:pt x="330" y="818"/>
                  </a:lnTo>
                  <a:lnTo>
                    <a:pt x="316" y="834"/>
                  </a:lnTo>
                  <a:lnTo>
                    <a:pt x="304" y="846"/>
                  </a:lnTo>
                  <a:lnTo>
                    <a:pt x="304" y="846"/>
                  </a:lnTo>
                  <a:lnTo>
                    <a:pt x="284" y="858"/>
                  </a:lnTo>
                  <a:lnTo>
                    <a:pt x="262" y="866"/>
                  </a:lnTo>
                  <a:lnTo>
                    <a:pt x="238" y="872"/>
                  </a:lnTo>
                  <a:lnTo>
                    <a:pt x="212" y="874"/>
                  </a:lnTo>
                  <a:lnTo>
                    <a:pt x="212" y="874"/>
                  </a:lnTo>
                  <a:lnTo>
                    <a:pt x="180" y="872"/>
                  </a:lnTo>
                  <a:lnTo>
                    <a:pt x="146" y="866"/>
                  </a:lnTo>
                  <a:lnTo>
                    <a:pt x="146" y="866"/>
                  </a:lnTo>
                  <a:lnTo>
                    <a:pt x="128" y="860"/>
                  </a:lnTo>
                  <a:lnTo>
                    <a:pt x="112" y="852"/>
                  </a:lnTo>
                  <a:lnTo>
                    <a:pt x="98" y="842"/>
                  </a:lnTo>
                  <a:lnTo>
                    <a:pt x="86" y="830"/>
                  </a:lnTo>
                  <a:lnTo>
                    <a:pt x="86" y="830"/>
                  </a:lnTo>
                  <a:lnTo>
                    <a:pt x="74" y="816"/>
                  </a:lnTo>
                  <a:lnTo>
                    <a:pt x="62" y="798"/>
                  </a:lnTo>
                  <a:lnTo>
                    <a:pt x="50" y="778"/>
                  </a:lnTo>
                  <a:lnTo>
                    <a:pt x="40" y="756"/>
                  </a:lnTo>
                  <a:lnTo>
                    <a:pt x="40" y="756"/>
                  </a:lnTo>
                  <a:lnTo>
                    <a:pt x="32" y="732"/>
                  </a:lnTo>
                  <a:lnTo>
                    <a:pt x="24" y="708"/>
                  </a:lnTo>
                  <a:lnTo>
                    <a:pt x="18" y="682"/>
                  </a:lnTo>
                  <a:lnTo>
                    <a:pt x="12" y="658"/>
                  </a:lnTo>
                  <a:lnTo>
                    <a:pt x="12" y="658"/>
                  </a:lnTo>
                  <a:lnTo>
                    <a:pt x="8" y="618"/>
                  </a:lnTo>
                  <a:lnTo>
                    <a:pt x="4" y="580"/>
                  </a:lnTo>
                  <a:lnTo>
                    <a:pt x="2" y="544"/>
                  </a:lnTo>
                  <a:lnTo>
                    <a:pt x="0" y="512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30" y="524"/>
                  </a:lnTo>
                  <a:lnTo>
                    <a:pt x="130" y="524"/>
                  </a:lnTo>
                  <a:lnTo>
                    <a:pt x="132" y="558"/>
                  </a:lnTo>
                  <a:lnTo>
                    <a:pt x="136" y="586"/>
                  </a:lnTo>
                  <a:lnTo>
                    <a:pt x="142" y="612"/>
                  </a:lnTo>
                  <a:lnTo>
                    <a:pt x="150" y="634"/>
                  </a:lnTo>
                  <a:lnTo>
                    <a:pt x="150" y="634"/>
                  </a:lnTo>
                  <a:lnTo>
                    <a:pt x="160" y="652"/>
                  </a:lnTo>
                  <a:lnTo>
                    <a:pt x="172" y="664"/>
                  </a:lnTo>
                  <a:lnTo>
                    <a:pt x="180" y="668"/>
                  </a:lnTo>
                  <a:lnTo>
                    <a:pt x="186" y="672"/>
                  </a:lnTo>
                  <a:lnTo>
                    <a:pt x="194" y="672"/>
                  </a:lnTo>
                  <a:lnTo>
                    <a:pt x="202" y="674"/>
                  </a:lnTo>
                  <a:lnTo>
                    <a:pt x="202" y="674"/>
                  </a:lnTo>
                  <a:lnTo>
                    <a:pt x="210" y="672"/>
                  </a:lnTo>
                  <a:lnTo>
                    <a:pt x="218" y="672"/>
                  </a:lnTo>
                  <a:lnTo>
                    <a:pt x="226" y="668"/>
                  </a:lnTo>
                  <a:lnTo>
                    <a:pt x="232" y="664"/>
                  </a:lnTo>
                  <a:lnTo>
                    <a:pt x="244" y="652"/>
                  </a:lnTo>
                  <a:lnTo>
                    <a:pt x="254" y="634"/>
                  </a:lnTo>
                  <a:lnTo>
                    <a:pt x="254" y="634"/>
                  </a:lnTo>
                  <a:lnTo>
                    <a:pt x="264" y="614"/>
                  </a:lnTo>
                  <a:lnTo>
                    <a:pt x="270" y="588"/>
                  </a:lnTo>
                  <a:lnTo>
                    <a:pt x="272" y="558"/>
                  </a:lnTo>
                  <a:lnTo>
                    <a:pt x="274" y="524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9"/>
            <p:cNvSpPr/>
            <p:nvPr/>
          </p:nvSpPr>
          <p:spPr>
            <a:xfrm>
              <a:off x="8699400" y="41262480"/>
              <a:ext cx="676080" cy="140940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426" h="888">
                  <a:moveTo>
                    <a:pt x="226" y="562"/>
                  </a:moveTo>
                  <a:lnTo>
                    <a:pt x="226" y="384"/>
                  </a:lnTo>
                  <a:lnTo>
                    <a:pt x="426" y="384"/>
                  </a:lnTo>
                  <a:lnTo>
                    <a:pt x="426" y="750"/>
                  </a:lnTo>
                  <a:lnTo>
                    <a:pt x="426" y="750"/>
                  </a:lnTo>
                  <a:lnTo>
                    <a:pt x="398" y="786"/>
                  </a:lnTo>
                  <a:lnTo>
                    <a:pt x="372" y="818"/>
                  </a:lnTo>
                  <a:lnTo>
                    <a:pt x="348" y="842"/>
                  </a:lnTo>
                  <a:lnTo>
                    <a:pt x="326" y="858"/>
                  </a:lnTo>
                  <a:lnTo>
                    <a:pt x="326" y="858"/>
                  </a:lnTo>
                  <a:lnTo>
                    <a:pt x="302" y="872"/>
                  </a:lnTo>
                  <a:lnTo>
                    <a:pt x="276" y="880"/>
                  </a:lnTo>
                  <a:lnTo>
                    <a:pt x="250" y="886"/>
                  </a:lnTo>
                  <a:lnTo>
                    <a:pt x="220" y="888"/>
                  </a:lnTo>
                  <a:lnTo>
                    <a:pt x="220" y="888"/>
                  </a:lnTo>
                  <a:lnTo>
                    <a:pt x="202" y="888"/>
                  </a:lnTo>
                  <a:lnTo>
                    <a:pt x="184" y="884"/>
                  </a:lnTo>
                  <a:lnTo>
                    <a:pt x="168" y="880"/>
                  </a:lnTo>
                  <a:lnTo>
                    <a:pt x="152" y="874"/>
                  </a:lnTo>
                  <a:lnTo>
                    <a:pt x="138" y="868"/>
                  </a:lnTo>
                  <a:lnTo>
                    <a:pt x="124" y="858"/>
                  </a:lnTo>
                  <a:lnTo>
                    <a:pt x="110" y="848"/>
                  </a:lnTo>
                  <a:lnTo>
                    <a:pt x="98" y="836"/>
                  </a:lnTo>
                  <a:lnTo>
                    <a:pt x="98" y="836"/>
                  </a:lnTo>
                  <a:lnTo>
                    <a:pt x="86" y="822"/>
                  </a:lnTo>
                  <a:lnTo>
                    <a:pt x="76" y="806"/>
                  </a:lnTo>
                  <a:lnTo>
                    <a:pt x="66" y="790"/>
                  </a:lnTo>
                  <a:lnTo>
                    <a:pt x="56" y="770"/>
                  </a:lnTo>
                  <a:lnTo>
                    <a:pt x="48" y="750"/>
                  </a:lnTo>
                  <a:lnTo>
                    <a:pt x="40" y="728"/>
                  </a:lnTo>
                  <a:lnTo>
                    <a:pt x="26" y="680"/>
                  </a:lnTo>
                  <a:lnTo>
                    <a:pt x="26" y="680"/>
                  </a:lnTo>
                  <a:lnTo>
                    <a:pt x="14" y="626"/>
                  </a:lnTo>
                  <a:lnTo>
                    <a:pt x="6" y="570"/>
                  </a:lnTo>
                  <a:lnTo>
                    <a:pt x="0" y="508"/>
                  </a:lnTo>
                  <a:lnTo>
                    <a:pt x="0" y="444"/>
                  </a:lnTo>
                  <a:lnTo>
                    <a:pt x="0" y="444"/>
                  </a:lnTo>
                  <a:lnTo>
                    <a:pt x="2" y="376"/>
                  </a:lnTo>
                  <a:lnTo>
                    <a:pt x="6" y="312"/>
                  </a:lnTo>
                  <a:lnTo>
                    <a:pt x="16" y="254"/>
                  </a:lnTo>
                  <a:lnTo>
                    <a:pt x="28" y="200"/>
                  </a:lnTo>
                  <a:lnTo>
                    <a:pt x="28" y="200"/>
                  </a:lnTo>
                  <a:lnTo>
                    <a:pt x="36" y="174"/>
                  </a:lnTo>
                  <a:lnTo>
                    <a:pt x="44" y="150"/>
                  </a:lnTo>
                  <a:lnTo>
                    <a:pt x="52" y="128"/>
                  </a:lnTo>
                  <a:lnTo>
                    <a:pt x="62" y="108"/>
                  </a:lnTo>
                  <a:lnTo>
                    <a:pt x="74" y="88"/>
                  </a:lnTo>
                  <a:lnTo>
                    <a:pt x="84" y="72"/>
                  </a:lnTo>
                  <a:lnTo>
                    <a:pt x="98" y="56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122" y="32"/>
                  </a:lnTo>
                  <a:lnTo>
                    <a:pt x="134" y="22"/>
                  </a:lnTo>
                  <a:lnTo>
                    <a:pt x="146" y="16"/>
                  </a:lnTo>
                  <a:lnTo>
                    <a:pt x="160" y="10"/>
                  </a:lnTo>
                  <a:lnTo>
                    <a:pt x="176" y="6"/>
                  </a:lnTo>
                  <a:lnTo>
                    <a:pt x="192" y="2"/>
                  </a:lnTo>
                  <a:lnTo>
                    <a:pt x="208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58" y="2"/>
                  </a:lnTo>
                  <a:lnTo>
                    <a:pt x="286" y="6"/>
                  </a:lnTo>
                  <a:lnTo>
                    <a:pt x="310" y="14"/>
                  </a:lnTo>
                  <a:lnTo>
                    <a:pt x="320" y="20"/>
                  </a:lnTo>
                  <a:lnTo>
                    <a:pt x="330" y="26"/>
                  </a:lnTo>
                  <a:lnTo>
                    <a:pt x="330" y="26"/>
                  </a:lnTo>
                  <a:lnTo>
                    <a:pt x="346" y="40"/>
                  </a:lnTo>
                  <a:lnTo>
                    <a:pt x="362" y="58"/>
                  </a:lnTo>
                  <a:lnTo>
                    <a:pt x="374" y="80"/>
                  </a:lnTo>
                  <a:lnTo>
                    <a:pt x="386" y="106"/>
                  </a:lnTo>
                  <a:lnTo>
                    <a:pt x="386" y="106"/>
                  </a:lnTo>
                  <a:lnTo>
                    <a:pt x="398" y="134"/>
                  </a:lnTo>
                  <a:lnTo>
                    <a:pt x="406" y="166"/>
                  </a:lnTo>
                  <a:lnTo>
                    <a:pt x="414" y="202"/>
                  </a:lnTo>
                  <a:lnTo>
                    <a:pt x="422" y="242"/>
                  </a:lnTo>
                  <a:lnTo>
                    <a:pt x="296" y="288"/>
                  </a:lnTo>
                  <a:lnTo>
                    <a:pt x="296" y="288"/>
                  </a:lnTo>
                  <a:lnTo>
                    <a:pt x="292" y="266"/>
                  </a:lnTo>
                  <a:lnTo>
                    <a:pt x="286" y="246"/>
                  </a:lnTo>
                  <a:lnTo>
                    <a:pt x="278" y="228"/>
                  </a:lnTo>
                  <a:lnTo>
                    <a:pt x="270" y="214"/>
                  </a:lnTo>
                  <a:lnTo>
                    <a:pt x="270" y="214"/>
                  </a:lnTo>
                  <a:lnTo>
                    <a:pt x="260" y="202"/>
                  </a:lnTo>
                  <a:lnTo>
                    <a:pt x="248" y="194"/>
                  </a:lnTo>
                  <a:lnTo>
                    <a:pt x="236" y="190"/>
                  </a:lnTo>
                  <a:lnTo>
                    <a:pt x="222" y="188"/>
                  </a:lnTo>
                  <a:lnTo>
                    <a:pt x="222" y="188"/>
                  </a:lnTo>
                  <a:lnTo>
                    <a:pt x="212" y="190"/>
                  </a:lnTo>
                  <a:lnTo>
                    <a:pt x="202" y="192"/>
                  </a:lnTo>
                  <a:lnTo>
                    <a:pt x="194" y="196"/>
                  </a:lnTo>
                  <a:lnTo>
                    <a:pt x="184" y="204"/>
                  </a:lnTo>
                  <a:lnTo>
                    <a:pt x="176" y="212"/>
                  </a:lnTo>
                  <a:lnTo>
                    <a:pt x="168" y="222"/>
                  </a:lnTo>
                  <a:lnTo>
                    <a:pt x="162" y="234"/>
                  </a:lnTo>
                  <a:lnTo>
                    <a:pt x="154" y="248"/>
                  </a:lnTo>
                  <a:lnTo>
                    <a:pt x="154" y="248"/>
                  </a:lnTo>
                  <a:lnTo>
                    <a:pt x="148" y="266"/>
                  </a:lnTo>
                  <a:lnTo>
                    <a:pt x="144" y="284"/>
                  </a:lnTo>
                  <a:lnTo>
                    <a:pt x="136" y="328"/>
                  </a:lnTo>
                  <a:lnTo>
                    <a:pt x="130" y="380"/>
                  </a:lnTo>
                  <a:lnTo>
                    <a:pt x="130" y="440"/>
                  </a:lnTo>
                  <a:lnTo>
                    <a:pt x="130" y="440"/>
                  </a:lnTo>
                  <a:lnTo>
                    <a:pt x="130" y="506"/>
                  </a:lnTo>
                  <a:lnTo>
                    <a:pt x="136" y="560"/>
                  </a:lnTo>
                  <a:lnTo>
                    <a:pt x="140" y="584"/>
                  </a:lnTo>
                  <a:lnTo>
                    <a:pt x="144" y="606"/>
                  </a:lnTo>
                  <a:lnTo>
                    <a:pt x="148" y="624"/>
                  </a:lnTo>
                  <a:lnTo>
                    <a:pt x="154" y="640"/>
                  </a:lnTo>
                  <a:lnTo>
                    <a:pt x="154" y="640"/>
                  </a:lnTo>
                  <a:lnTo>
                    <a:pt x="162" y="654"/>
                  </a:lnTo>
                  <a:lnTo>
                    <a:pt x="170" y="666"/>
                  </a:lnTo>
                  <a:lnTo>
                    <a:pt x="178" y="676"/>
                  </a:lnTo>
                  <a:lnTo>
                    <a:pt x="186" y="684"/>
                  </a:lnTo>
                  <a:lnTo>
                    <a:pt x="194" y="692"/>
                  </a:lnTo>
                  <a:lnTo>
                    <a:pt x="204" y="696"/>
                  </a:lnTo>
                  <a:lnTo>
                    <a:pt x="216" y="698"/>
                  </a:lnTo>
                  <a:lnTo>
                    <a:pt x="226" y="700"/>
                  </a:lnTo>
                  <a:lnTo>
                    <a:pt x="226" y="700"/>
                  </a:lnTo>
                  <a:lnTo>
                    <a:pt x="238" y="698"/>
                  </a:lnTo>
                  <a:lnTo>
                    <a:pt x="248" y="696"/>
                  </a:lnTo>
                  <a:lnTo>
                    <a:pt x="258" y="692"/>
                  </a:lnTo>
                  <a:lnTo>
                    <a:pt x="268" y="686"/>
                  </a:lnTo>
                  <a:lnTo>
                    <a:pt x="268" y="686"/>
                  </a:lnTo>
                  <a:lnTo>
                    <a:pt x="278" y="680"/>
                  </a:lnTo>
                  <a:lnTo>
                    <a:pt x="290" y="670"/>
                  </a:lnTo>
                  <a:lnTo>
                    <a:pt x="314" y="642"/>
                  </a:lnTo>
                  <a:lnTo>
                    <a:pt x="314" y="562"/>
                  </a:lnTo>
                  <a:lnTo>
                    <a:pt x="226" y="5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9499680" y="41284440"/>
              <a:ext cx="637920" cy="13651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402" h="860">
                  <a:moveTo>
                    <a:pt x="0" y="0"/>
                  </a:moveTo>
                  <a:lnTo>
                    <a:pt x="130" y="0"/>
                  </a:lnTo>
                  <a:lnTo>
                    <a:pt x="130" y="300"/>
                  </a:lnTo>
                  <a:lnTo>
                    <a:pt x="272" y="300"/>
                  </a:lnTo>
                  <a:lnTo>
                    <a:pt x="272" y="0"/>
                  </a:lnTo>
                  <a:lnTo>
                    <a:pt x="402" y="0"/>
                  </a:lnTo>
                  <a:lnTo>
                    <a:pt x="402" y="860"/>
                  </a:lnTo>
                  <a:lnTo>
                    <a:pt x="272" y="860"/>
                  </a:lnTo>
                  <a:lnTo>
                    <a:pt x="272" y="512"/>
                  </a:lnTo>
                  <a:lnTo>
                    <a:pt x="130" y="512"/>
                  </a:lnTo>
                  <a:lnTo>
                    <a:pt x="130" y="860"/>
                  </a:lnTo>
                  <a:lnTo>
                    <a:pt x="0" y="8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グループ化 89"/>
          <p:cNvGrpSpPr/>
          <p:nvPr/>
        </p:nvGrpSpPr>
        <p:grpSpPr>
          <a:xfrm>
            <a:off x="657360" y="501480"/>
            <a:ext cx="9480240" cy="1409760"/>
            <a:chOff x="657360" y="501480"/>
            <a:chExt cx="9480240" cy="1409760"/>
          </a:xfrm>
        </p:grpSpPr>
        <p:sp>
          <p:nvSpPr>
            <p:cNvPr id="124" name="Freeform 31"/>
            <p:cNvSpPr/>
            <p:nvPr/>
          </p:nvSpPr>
          <p:spPr>
            <a:xfrm>
              <a:off x="657360" y="526680"/>
              <a:ext cx="612720" cy="1362240"/>
            </a:xfrm>
            <a:custGeom>
              <a:avLst/>
              <a:gdLst/>
              <a:ahLst/>
              <a:rect l="l" t="t" r="r" b="b"/>
              <a:pathLst>
                <a:path w="386" h="858">
                  <a:moveTo>
                    <a:pt x="0" y="0"/>
                  </a:moveTo>
                  <a:lnTo>
                    <a:pt x="192" y="0"/>
                  </a:lnTo>
                  <a:lnTo>
                    <a:pt x="192" y="0"/>
                  </a:lnTo>
                  <a:lnTo>
                    <a:pt x="220" y="2"/>
                  </a:lnTo>
                  <a:lnTo>
                    <a:pt x="244" y="8"/>
                  </a:lnTo>
                  <a:lnTo>
                    <a:pt x="266" y="18"/>
                  </a:lnTo>
                  <a:lnTo>
                    <a:pt x="276" y="24"/>
                  </a:lnTo>
                  <a:lnTo>
                    <a:pt x="284" y="30"/>
                  </a:lnTo>
                  <a:lnTo>
                    <a:pt x="284" y="30"/>
                  </a:lnTo>
                  <a:lnTo>
                    <a:pt x="302" y="48"/>
                  </a:lnTo>
                  <a:lnTo>
                    <a:pt x="316" y="70"/>
                  </a:lnTo>
                  <a:lnTo>
                    <a:pt x="330" y="94"/>
                  </a:lnTo>
                  <a:lnTo>
                    <a:pt x="342" y="122"/>
                  </a:lnTo>
                  <a:lnTo>
                    <a:pt x="342" y="122"/>
                  </a:lnTo>
                  <a:lnTo>
                    <a:pt x="354" y="152"/>
                  </a:lnTo>
                  <a:lnTo>
                    <a:pt x="362" y="186"/>
                  </a:lnTo>
                  <a:lnTo>
                    <a:pt x="370" y="222"/>
                  </a:lnTo>
                  <a:lnTo>
                    <a:pt x="376" y="260"/>
                  </a:lnTo>
                  <a:lnTo>
                    <a:pt x="376" y="260"/>
                  </a:lnTo>
                  <a:lnTo>
                    <a:pt x="380" y="300"/>
                  </a:lnTo>
                  <a:lnTo>
                    <a:pt x="384" y="340"/>
                  </a:lnTo>
                  <a:lnTo>
                    <a:pt x="386" y="382"/>
                  </a:lnTo>
                  <a:lnTo>
                    <a:pt x="386" y="426"/>
                  </a:lnTo>
                  <a:lnTo>
                    <a:pt x="386" y="426"/>
                  </a:lnTo>
                  <a:lnTo>
                    <a:pt x="386" y="490"/>
                  </a:lnTo>
                  <a:lnTo>
                    <a:pt x="382" y="548"/>
                  </a:lnTo>
                  <a:lnTo>
                    <a:pt x="378" y="598"/>
                  </a:lnTo>
                  <a:lnTo>
                    <a:pt x="372" y="640"/>
                  </a:lnTo>
                  <a:lnTo>
                    <a:pt x="372" y="640"/>
                  </a:lnTo>
                  <a:lnTo>
                    <a:pt x="362" y="676"/>
                  </a:lnTo>
                  <a:lnTo>
                    <a:pt x="352" y="710"/>
                  </a:lnTo>
                  <a:lnTo>
                    <a:pt x="342" y="740"/>
                  </a:lnTo>
                  <a:lnTo>
                    <a:pt x="328" y="766"/>
                  </a:lnTo>
                  <a:lnTo>
                    <a:pt x="328" y="766"/>
                  </a:lnTo>
                  <a:lnTo>
                    <a:pt x="314" y="790"/>
                  </a:lnTo>
                  <a:lnTo>
                    <a:pt x="300" y="810"/>
                  </a:lnTo>
                  <a:lnTo>
                    <a:pt x="286" y="824"/>
                  </a:lnTo>
                  <a:lnTo>
                    <a:pt x="270" y="834"/>
                  </a:lnTo>
                  <a:lnTo>
                    <a:pt x="270" y="834"/>
                  </a:lnTo>
                  <a:lnTo>
                    <a:pt x="250" y="846"/>
                  </a:lnTo>
                  <a:lnTo>
                    <a:pt x="230" y="852"/>
                  </a:lnTo>
                  <a:lnTo>
                    <a:pt x="210" y="856"/>
                  </a:lnTo>
                  <a:lnTo>
                    <a:pt x="192" y="858"/>
                  </a:lnTo>
                  <a:lnTo>
                    <a:pt x="0" y="858"/>
                  </a:lnTo>
                  <a:lnTo>
                    <a:pt x="0" y="0"/>
                  </a:lnTo>
                  <a:close/>
                  <a:moveTo>
                    <a:pt x="130" y="194"/>
                  </a:moveTo>
                  <a:lnTo>
                    <a:pt x="130" y="664"/>
                  </a:lnTo>
                  <a:lnTo>
                    <a:pt x="162" y="664"/>
                  </a:lnTo>
                  <a:lnTo>
                    <a:pt x="162" y="664"/>
                  </a:lnTo>
                  <a:lnTo>
                    <a:pt x="180" y="662"/>
                  </a:lnTo>
                  <a:lnTo>
                    <a:pt x="196" y="658"/>
                  </a:lnTo>
                  <a:lnTo>
                    <a:pt x="210" y="652"/>
                  </a:lnTo>
                  <a:lnTo>
                    <a:pt x="220" y="644"/>
                  </a:lnTo>
                  <a:lnTo>
                    <a:pt x="220" y="644"/>
                  </a:lnTo>
                  <a:lnTo>
                    <a:pt x="228" y="634"/>
                  </a:lnTo>
                  <a:lnTo>
                    <a:pt x="234" y="620"/>
                  </a:lnTo>
                  <a:lnTo>
                    <a:pt x="240" y="602"/>
                  </a:lnTo>
                  <a:lnTo>
                    <a:pt x="246" y="580"/>
                  </a:lnTo>
                  <a:lnTo>
                    <a:pt x="246" y="580"/>
                  </a:lnTo>
                  <a:lnTo>
                    <a:pt x="250" y="554"/>
                  </a:lnTo>
                  <a:lnTo>
                    <a:pt x="254" y="520"/>
                  </a:lnTo>
                  <a:lnTo>
                    <a:pt x="256" y="480"/>
                  </a:lnTo>
                  <a:lnTo>
                    <a:pt x="256" y="432"/>
                  </a:lnTo>
                  <a:lnTo>
                    <a:pt x="256" y="432"/>
                  </a:lnTo>
                  <a:lnTo>
                    <a:pt x="254" y="368"/>
                  </a:lnTo>
                  <a:lnTo>
                    <a:pt x="250" y="316"/>
                  </a:lnTo>
                  <a:lnTo>
                    <a:pt x="244" y="274"/>
                  </a:lnTo>
                  <a:lnTo>
                    <a:pt x="240" y="258"/>
                  </a:lnTo>
                  <a:lnTo>
                    <a:pt x="234" y="244"/>
                  </a:lnTo>
                  <a:lnTo>
                    <a:pt x="234" y="244"/>
                  </a:lnTo>
                  <a:lnTo>
                    <a:pt x="228" y="232"/>
                  </a:lnTo>
                  <a:lnTo>
                    <a:pt x="222" y="222"/>
                  </a:lnTo>
                  <a:lnTo>
                    <a:pt x="214" y="214"/>
                  </a:lnTo>
                  <a:lnTo>
                    <a:pt x="206" y="206"/>
                  </a:lnTo>
                  <a:lnTo>
                    <a:pt x="196" y="200"/>
                  </a:lnTo>
                  <a:lnTo>
                    <a:pt x="186" y="198"/>
                  </a:lnTo>
                  <a:lnTo>
                    <a:pt x="174" y="194"/>
                  </a:lnTo>
                  <a:lnTo>
                    <a:pt x="162" y="194"/>
                  </a:lnTo>
                  <a:lnTo>
                    <a:pt x="13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2"/>
            <p:cNvSpPr/>
            <p:nvPr/>
          </p:nvSpPr>
          <p:spPr>
            <a:xfrm>
              <a:off x="1352520" y="501480"/>
              <a:ext cx="691920" cy="1409760"/>
            </a:xfrm>
            <a:custGeom>
              <a:avLst/>
              <a:gdLst/>
              <a:ahLst/>
              <a:rect l="l" t="t" r="r" b="b"/>
              <a:pathLst>
                <a:path w="436" h="888">
                  <a:moveTo>
                    <a:pt x="0" y="446"/>
                  </a:moveTo>
                  <a:lnTo>
                    <a:pt x="0" y="446"/>
                  </a:lnTo>
                  <a:lnTo>
                    <a:pt x="2" y="394"/>
                  </a:lnTo>
                  <a:lnTo>
                    <a:pt x="4" y="346"/>
                  </a:lnTo>
                  <a:lnTo>
                    <a:pt x="8" y="300"/>
                  </a:lnTo>
                  <a:lnTo>
                    <a:pt x="14" y="258"/>
                  </a:lnTo>
                  <a:lnTo>
                    <a:pt x="22" y="218"/>
                  </a:lnTo>
                  <a:lnTo>
                    <a:pt x="32" y="182"/>
                  </a:lnTo>
                  <a:lnTo>
                    <a:pt x="44" y="148"/>
                  </a:lnTo>
                  <a:lnTo>
                    <a:pt x="58" y="118"/>
                  </a:lnTo>
                  <a:lnTo>
                    <a:pt x="58" y="118"/>
                  </a:lnTo>
                  <a:lnTo>
                    <a:pt x="72" y="90"/>
                  </a:lnTo>
                  <a:lnTo>
                    <a:pt x="88" y="66"/>
                  </a:lnTo>
                  <a:lnTo>
                    <a:pt x="106" y="46"/>
                  </a:lnTo>
                  <a:lnTo>
                    <a:pt x="126" y="30"/>
                  </a:lnTo>
                  <a:lnTo>
                    <a:pt x="146" y="18"/>
                  </a:lnTo>
                  <a:lnTo>
                    <a:pt x="168" y="8"/>
                  </a:lnTo>
                  <a:lnTo>
                    <a:pt x="192" y="2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42" y="2"/>
                  </a:lnTo>
                  <a:lnTo>
                    <a:pt x="266" y="8"/>
                  </a:lnTo>
                  <a:lnTo>
                    <a:pt x="288" y="16"/>
                  </a:lnTo>
                  <a:lnTo>
                    <a:pt x="310" y="30"/>
                  </a:lnTo>
                  <a:lnTo>
                    <a:pt x="330" y="46"/>
                  </a:lnTo>
                  <a:lnTo>
                    <a:pt x="348" y="66"/>
                  </a:lnTo>
                  <a:lnTo>
                    <a:pt x="364" y="88"/>
                  </a:lnTo>
                  <a:lnTo>
                    <a:pt x="378" y="116"/>
                  </a:lnTo>
                  <a:lnTo>
                    <a:pt x="378" y="116"/>
                  </a:lnTo>
                  <a:lnTo>
                    <a:pt x="392" y="146"/>
                  </a:lnTo>
                  <a:lnTo>
                    <a:pt x="404" y="180"/>
                  </a:lnTo>
                  <a:lnTo>
                    <a:pt x="414" y="216"/>
                  </a:lnTo>
                  <a:lnTo>
                    <a:pt x="422" y="254"/>
                  </a:lnTo>
                  <a:lnTo>
                    <a:pt x="428" y="296"/>
                  </a:lnTo>
                  <a:lnTo>
                    <a:pt x="432" y="340"/>
                  </a:lnTo>
                  <a:lnTo>
                    <a:pt x="434" y="388"/>
                  </a:lnTo>
                  <a:lnTo>
                    <a:pt x="436" y="438"/>
                  </a:lnTo>
                  <a:lnTo>
                    <a:pt x="436" y="438"/>
                  </a:lnTo>
                  <a:lnTo>
                    <a:pt x="434" y="510"/>
                  </a:lnTo>
                  <a:lnTo>
                    <a:pt x="430" y="576"/>
                  </a:lnTo>
                  <a:lnTo>
                    <a:pt x="422" y="634"/>
                  </a:lnTo>
                  <a:lnTo>
                    <a:pt x="410" y="686"/>
                  </a:lnTo>
                  <a:lnTo>
                    <a:pt x="410" y="686"/>
                  </a:lnTo>
                  <a:lnTo>
                    <a:pt x="396" y="730"/>
                  </a:lnTo>
                  <a:lnTo>
                    <a:pt x="380" y="772"/>
                  </a:lnTo>
                  <a:lnTo>
                    <a:pt x="370" y="790"/>
                  </a:lnTo>
                  <a:lnTo>
                    <a:pt x="360" y="806"/>
                  </a:lnTo>
                  <a:lnTo>
                    <a:pt x="350" y="822"/>
                  </a:lnTo>
                  <a:lnTo>
                    <a:pt x="338" y="836"/>
                  </a:lnTo>
                  <a:lnTo>
                    <a:pt x="338" y="836"/>
                  </a:lnTo>
                  <a:lnTo>
                    <a:pt x="326" y="848"/>
                  </a:lnTo>
                  <a:lnTo>
                    <a:pt x="314" y="858"/>
                  </a:lnTo>
                  <a:lnTo>
                    <a:pt x="300" y="868"/>
                  </a:lnTo>
                  <a:lnTo>
                    <a:pt x="286" y="876"/>
                  </a:lnTo>
                  <a:lnTo>
                    <a:pt x="272" y="882"/>
                  </a:lnTo>
                  <a:lnTo>
                    <a:pt x="256" y="886"/>
                  </a:lnTo>
                  <a:lnTo>
                    <a:pt x="240" y="888"/>
                  </a:lnTo>
                  <a:lnTo>
                    <a:pt x="222" y="888"/>
                  </a:lnTo>
                  <a:lnTo>
                    <a:pt x="222" y="888"/>
                  </a:lnTo>
                  <a:lnTo>
                    <a:pt x="204" y="888"/>
                  </a:lnTo>
                  <a:lnTo>
                    <a:pt x="188" y="886"/>
                  </a:lnTo>
                  <a:lnTo>
                    <a:pt x="172" y="882"/>
                  </a:lnTo>
                  <a:lnTo>
                    <a:pt x="158" y="878"/>
                  </a:lnTo>
                  <a:lnTo>
                    <a:pt x="142" y="870"/>
                  </a:lnTo>
                  <a:lnTo>
                    <a:pt x="130" y="862"/>
                  </a:lnTo>
                  <a:lnTo>
                    <a:pt x="116" y="854"/>
                  </a:lnTo>
                  <a:lnTo>
                    <a:pt x="104" y="842"/>
                  </a:lnTo>
                  <a:lnTo>
                    <a:pt x="104" y="842"/>
                  </a:lnTo>
                  <a:lnTo>
                    <a:pt x="94" y="830"/>
                  </a:lnTo>
                  <a:lnTo>
                    <a:pt x="82" y="816"/>
                  </a:lnTo>
                  <a:lnTo>
                    <a:pt x="72" y="800"/>
                  </a:lnTo>
                  <a:lnTo>
                    <a:pt x="62" y="782"/>
                  </a:lnTo>
                  <a:lnTo>
                    <a:pt x="44" y="742"/>
                  </a:lnTo>
                  <a:lnTo>
                    <a:pt x="30" y="696"/>
                  </a:lnTo>
                  <a:lnTo>
                    <a:pt x="30" y="696"/>
                  </a:lnTo>
                  <a:lnTo>
                    <a:pt x="22" y="670"/>
                  </a:lnTo>
                  <a:lnTo>
                    <a:pt x="16" y="642"/>
                  </a:lnTo>
                  <a:lnTo>
                    <a:pt x="8" y="584"/>
                  </a:lnTo>
                  <a:lnTo>
                    <a:pt x="2" y="518"/>
                  </a:lnTo>
                  <a:lnTo>
                    <a:pt x="0" y="446"/>
                  </a:lnTo>
                  <a:lnTo>
                    <a:pt x="0" y="446"/>
                  </a:lnTo>
                  <a:close/>
                  <a:moveTo>
                    <a:pt x="130" y="446"/>
                  </a:moveTo>
                  <a:lnTo>
                    <a:pt x="130" y="446"/>
                  </a:lnTo>
                  <a:lnTo>
                    <a:pt x="132" y="508"/>
                  </a:lnTo>
                  <a:lnTo>
                    <a:pt x="136" y="558"/>
                  </a:lnTo>
                  <a:lnTo>
                    <a:pt x="144" y="600"/>
                  </a:lnTo>
                  <a:lnTo>
                    <a:pt x="148" y="618"/>
                  </a:lnTo>
                  <a:lnTo>
                    <a:pt x="154" y="634"/>
                  </a:lnTo>
                  <a:lnTo>
                    <a:pt x="154" y="634"/>
                  </a:lnTo>
                  <a:lnTo>
                    <a:pt x="160" y="646"/>
                  </a:lnTo>
                  <a:lnTo>
                    <a:pt x="166" y="658"/>
                  </a:lnTo>
                  <a:lnTo>
                    <a:pt x="174" y="668"/>
                  </a:lnTo>
                  <a:lnTo>
                    <a:pt x="182" y="676"/>
                  </a:lnTo>
                  <a:lnTo>
                    <a:pt x="190" y="682"/>
                  </a:lnTo>
                  <a:lnTo>
                    <a:pt x="198" y="686"/>
                  </a:lnTo>
                  <a:lnTo>
                    <a:pt x="208" y="690"/>
                  </a:lnTo>
                  <a:lnTo>
                    <a:pt x="218" y="690"/>
                  </a:lnTo>
                  <a:lnTo>
                    <a:pt x="218" y="690"/>
                  </a:lnTo>
                  <a:lnTo>
                    <a:pt x="228" y="690"/>
                  </a:lnTo>
                  <a:lnTo>
                    <a:pt x="238" y="686"/>
                  </a:lnTo>
                  <a:lnTo>
                    <a:pt x="246" y="682"/>
                  </a:lnTo>
                  <a:lnTo>
                    <a:pt x="254" y="676"/>
                  </a:lnTo>
                  <a:lnTo>
                    <a:pt x="262" y="668"/>
                  </a:lnTo>
                  <a:lnTo>
                    <a:pt x="270" y="660"/>
                  </a:lnTo>
                  <a:lnTo>
                    <a:pt x="276" y="648"/>
                  </a:lnTo>
                  <a:lnTo>
                    <a:pt x="282" y="634"/>
                  </a:lnTo>
                  <a:lnTo>
                    <a:pt x="282" y="634"/>
                  </a:lnTo>
                  <a:lnTo>
                    <a:pt x="288" y="620"/>
                  </a:lnTo>
                  <a:lnTo>
                    <a:pt x="292" y="602"/>
                  </a:lnTo>
                  <a:lnTo>
                    <a:pt x="300" y="556"/>
                  </a:lnTo>
                  <a:lnTo>
                    <a:pt x="304" y="502"/>
                  </a:lnTo>
                  <a:lnTo>
                    <a:pt x="306" y="434"/>
                  </a:lnTo>
                  <a:lnTo>
                    <a:pt x="306" y="434"/>
                  </a:lnTo>
                  <a:lnTo>
                    <a:pt x="304" y="378"/>
                  </a:lnTo>
                  <a:lnTo>
                    <a:pt x="300" y="330"/>
                  </a:lnTo>
                  <a:lnTo>
                    <a:pt x="292" y="290"/>
                  </a:lnTo>
                  <a:lnTo>
                    <a:pt x="288" y="272"/>
                  </a:lnTo>
                  <a:lnTo>
                    <a:pt x="282" y="258"/>
                  </a:lnTo>
                  <a:lnTo>
                    <a:pt x="282" y="258"/>
                  </a:lnTo>
                  <a:lnTo>
                    <a:pt x="276" y="244"/>
                  </a:lnTo>
                  <a:lnTo>
                    <a:pt x="268" y="234"/>
                  </a:lnTo>
                  <a:lnTo>
                    <a:pt x="262" y="224"/>
                  </a:lnTo>
                  <a:lnTo>
                    <a:pt x="254" y="216"/>
                  </a:lnTo>
                  <a:lnTo>
                    <a:pt x="246" y="210"/>
                  </a:lnTo>
                  <a:lnTo>
                    <a:pt x="236" y="206"/>
                  </a:lnTo>
                  <a:lnTo>
                    <a:pt x="226" y="202"/>
                  </a:lnTo>
                  <a:lnTo>
                    <a:pt x="216" y="202"/>
                  </a:lnTo>
                  <a:lnTo>
                    <a:pt x="216" y="202"/>
                  </a:lnTo>
                  <a:lnTo>
                    <a:pt x="208" y="202"/>
                  </a:lnTo>
                  <a:lnTo>
                    <a:pt x="198" y="206"/>
                  </a:lnTo>
                  <a:lnTo>
                    <a:pt x="190" y="210"/>
                  </a:lnTo>
                  <a:lnTo>
                    <a:pt x="182" y="216"/>
                  </a:lnTo>
                  <a:lnTo>
                    <a:pt x="174" y="224"/>
                  </a:lnTo>
                  <a:lnTo>
                    <a:pt x="166" y="234"/>
                  </a:lnTo>
                  <a:lnTo>
                    <a:pt x="160" y="246"/>
                  </a:lnTo>
                  <a:lnTo>
                    <a:pt x="154" y="258"/>
                  </a:lnTo>
                  <a:lnTo>
                    <a:pt x="154" y="258"/>
                  </a:lnTo>
                  <a:lnTo>
                    <a:pt x="148" y="274"/>
                  </a:lnTo>
                  <a:lnTo>
                    <a:pt x="144" y="292"/>
                  </a:lnTo>
                  <a:lnTo>
                    <a:pt x="136" y="334"/>
                  </a:lnTo>
                  <a:lnTo>
                    <a:pt x="132" y="386"/>
                  </a:lnTo>
                  <a:lnTo>
                    <a:pt x="130" y="446"/>
                  </a:lnTo>
                  <a:lnTo>
                    <a:pt x="130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3"/>
            <p:cNvSpPr/>
            <p:nvPr/>
          </p:nvSpPr>
          <p:spPr>
            <a:xfrm>
              <a:off x="2467080" y="526680"/>
              <a:ext cx="637920" cy="136224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1362240"/>
                <a:gd name="textAreaBottom" fmla="*/ 1362240 h 1362240"/>
              </a:gdLst>
              <a:ahLst/>
              <a:rect l="textAreaLeft" t="textAreaTop" r="textAreaRight" b="textAreaBottom"/>
              <a:pathLst>
                <a:path w="402" h="858">
                  <a:moveTo>
                    <a:pt x="0" y="0"/>
                  </a:moveTo>
                  <a:lnTo>
                    <a:pt x="120" y="0"/>
                  </a:lnTo>
                  <a:lnTo>
                    <a:pt x="278" y="474"/>
                  </a:lnTo>
                  <a:lnTo>
                    <a:pt x="278" y="0"/>
                  </a:lnTo>
                  <a:lnTo>
                    <a:pt x="402" y="0"/>
                  </a:lnTo>
                  <a:lnTo>
                    <a:pt x="402" y="858"/>
                  </a:lnTo>
                  <a:lnTo>
                    <a:pt x="278" y="858"/>
                  </a:lnTo>
                  <a:lnTo>
                    <a:pt x="122" y="386"/>
                  </a:lnTo>
                  <a:lnTo>
                    <a:pt x="122" y="858"/>
                  </a:lnTo>
                  <a:lnTo>
                    <a:pt x="0" y="8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4"/>
            <p:cNvSpPr/>
            <p:nvPr/>
          </p:nvSpPr>
          <p:spPr>
            <a:xfrm>
              <a:off x="3216240" y="501480"/>
              <a:ext cx="688680" cy="140976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409760"/>
                <a:gd name="textAreaBottom" fmla="*/ 1409760 h 1409760"/>
              </a:gdLst>
              <a:ahLst/>
              <a:rect l="textAreaLeft" t="textAreaTop" r="textAreaRight" b="textAreaBottom"/>
              <a:pathLst>
                <a:path w="434" h="888">
                  <a:moveTo>
                    <a:pt x="0" y="446"/>
                  </a:moveTo>
                  <a:lnTo>
                    <a:pt x="0" y="446"/>
                  </a:lnTo>
                  <a:lnTo>
                    <a:pt x="0" y="394"/>
                  </a:lnTo>
                  <a:lnTo>
                    <a:pt x="2" y="346"/>
                  </a:lnTo>
                  <a:lnTo>
                    <a:pt x="8" y="300"/>
                  </a:lnTo>
                  <a:lnTo>
                    <a:pt x="14" y="258"/>
                  </a:lnTo>
                  <a:lnTo>
                    <a:pt x="22" y="218"/>
                  </a:lnTo>
                  <a:lnTo>
                    <a:pt x="32" y="182"/>
                  </a:lnTo>
                  <a:lnTo>
                    <a:pt x="44" y="148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72" y="90"/>
                  </a:lnTo>
                  <a:lnTo>
                    <a:pt x="88" y="66"/>
                  </a:lnTo>
                  <a:lnTo>
                    <a:pt x="106" y="46"/>
                  </a:lnTo>
                  <a:lnTo>
                    <a:pt x="124" y="30"/>
                  </a:lnTo>
                  <a:lnTo>
                    <a:pt x="146" y="18"/>
                  </a:lnTo>
                  <a:lnTo>
                    <a:pt x="168" y="8"/>
                  </a:lnTo>
                  <a:lnTo>
                    <a:pt x="192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42" y="2"/>
                  </a:lnTo>
                  <a:lnTo>
                    <a:pt x="266" y="8"/>
                  </a:lnTo>
                  <a:lnTo>
                    <a:pt x="288" y="16"/>
                  </a:lnTo>
                  <a:lnTo>
                    <a:pt x="308" y="30"/>
                  </a:lnTo>
                  <a:lnTo>
                    <a:pt x="328" y="46"/>
                  </a:lnTo>
                  <a:lnTo>
                    <a:pt x="346" y="66"/>
                  </a:lnTo>
                  <a:lnTo>
                    <a:pt x="362" y="88"/>
                  </a:lnTo>
                  <a:lnTo>
                    <a:pt x="378" y="116"/>
                  </a:lnTo>
                  <a:lnTo>
                    <a:pt x="378" y="116"/>
                  </a:lnTo>
                  <a:lnTo>
                    <a:pt x="390" y="146"/>
                  </a:lnTo>
                  <a:lnTo>
                    <a:pt x="402" y="180"/>
                  </a:lnTo>
                  <a:lnTo>
                    <a:pt x="412" y="216"/>
                  </a:lnTo>
                  <a:lnTo>
                    <a:pt x="420" y="254"/>
                  </a:lnTo>
                  <a:lnTo>
                    <a:pt x="426" y="296"/>
                  </a:lnTo>
                  <a:lnTo>
                    <a:pt x="430" y="340"/>
                  </a:lnTo>
                  <a:lnTo>
                    <a:pt x="434" y="388"/>
                  </a:lnTo>
                  <a:lnTo>
                    <a:pt x="434" y="438"/>
                  </a:lnTo>
                  <a:lnTo>
                    <a:pt x="434" y="438"/>
                  </a:lnTo>
                  <a:lnTo>
                    <a:pt x="432" y="510"/>
                  </a:lnTo>
                  <a:lnTo>
                    <a:pt x="428" y="576"/>
                  </a:lnTo>
                  <a:lnTo>
                    <a:pt x="420" y="634"/>
                  </a:lnTo>
                  <a:lnTo>
                    <a:pt x="410" y="686"/>
                  </a:lnTo>
                  <a:lnTo>
                    <a:pt x="410" y="686"/>
                  </a:lnTo>
                  <a:lnTo>
                    <a:pt x="396" y="730"/>
                  </a:lnTo>
                  <a:lnTo>
                    <a:pt x="380" y="772"/>
                  </a:lnTo>
                  <a:lnTo>
                    <a:pt x="370" y="790"/>
                  </a:lnTo>
                  <a:lnTo>
                    <a:pt x="360" y="806"/>
                  </a:lnTo>
                  <a:lnTo>
                    <a:pt x="350" y="822"/>
                  </a:lnTo>
                  <a:lnTo>
                    <a:pt x="338" y="836"/>
                  </a:lnTo>
                  <a:lnTo>
                    <a:pt x="338" y="836"/>
                  </a:lnTo>
                  <a:lnTo>
                    <a:pt x="326" y="848"/>
                  </a:lnTo>
                  <a:lnTo>
                    <a:pt x="312" y="858"/>
                  </a:lnTo>
                  <a:lnTo>
                    <a:pt x="300" y="868"/>
                  </a:lnTo>
                  <a:lnTo>
                    <a:pt x="286" y="876"/>
                  </a:lnTo>
                  <a:lnTo>
                    <a:pt x="270" y="882"/>
                  </a:lnTo>
                  <a:lnTo>
                    <a:pt x="254" y="886"/>
                  </a:lnTo>
                  <a:lnTo>
                    <a:pt x="238" y="888"/>
                  </a:lnTo>
                  <a:lnTo>
                    <a:pt x="222" y="888"/>
                  </a:lnTo>
                  <a:lnTo>
                    <a:pt x="222" y="888"/>
                  </a:lnTo>
                  <a:lnTo>
                    <a:pt x="204" y="888"/>
                  </a:lnTo>
                  <a:lnTo>
                    <a:pt x="188" y="886"/>
                  </a:lnTo>
                  <a:lnTo>
                    <a:pt x="172" y="882"/>
                  </a:lnTo>
                  <a:lnTo>
                    <a:pt x="156" y="878"/>
                  </a:lnTo>
                  <a:lnTo>
                    <a:pt x="142" y="870"/>
                  </a:lnTo>
                  <a:lnTo>
                    <a:pt x="128" y="862"/>
                  </a:lnTo>
                  <a:lnTo>
                    <a:pt x="116" y="854"/>
                  </a:lnTo>
                  <a:lnTo>
                    <a:pt x="104" y="842"/>
                  </a:lnTo>
                  <a:lnTo>
                    <a:pt x="104" y="842"/>
                  </a:lnTo>
                  <a:lnTo>
                    <a:pt x="92" y="830"/>
                  </a:lnTo>
                  <a:lnTo>
                    <a:pt x="82" y="816"/>
                  </a:lnTo>
                  <a:lnTo>
                    <a:pt x="72" y="800"/>
                  </a:lnTo>
                  <a:lnTo>
                    <a:pt x="62" y="782"/>
                  </a:lnTo>
                  <a:lnTo>
                    <a:pt x="44" y="742"/>
                  </a:lnTo>
                  <a:lnTo>
                    <a:pt x="28" y="696"/>
                  </a:lnTo>
                  <a:lnTo>
                    <a:pt x="28" y="696"/>
                  </a:lnTo>
                  <a:lnTo>
                    <a:pt x="22" y="670"/>
                  </a:lnTo>
                  <a:lnTo>
                    <a:pt x="16" y="642"/>
                  </a:lnTo>
                  <a:lnTo>
                    <a:pt x="6" y="584"/>
                  </a:lnTo>
                  <a:lnTo>
                    <a:pt x="0" y="518"/>
                  </a:lnTo>
                  <a:lnTo>
                    <a:pt x="0" y="446"/>
                  </a:lnTo>
                  <a:lnTo>
                    <a:pt x="0" y="446"/>
                  </a:lnTo>
                  <a:close/>
                  <a:moveTo>
                    <a:pt x="128" y="446"/>
                  </a:moveTo>
                  <a:lnTo>
                    <a:pt x="128" y="446"/>
                  </a:lnTo>
                  <a:lnTo>
                    <a:pt x="130" y="508"/>
                  </a:lnTo>
                  <a:lnTo>
                    <a:pt x="134" y="558"/>
                  </a:lnTo>
                  <a:lnTo>
                    <a:pt x="142" y="600"/>
                  </a:lnTo>
                  <a:lnTo>
                    <a:pt x="146" y="618"/>
                  </a:lnTo>
                  <a:lnTo>
                    <a:pt x="152" y="634"/>
                  </a:lnTo>
                  <a:lnTo>
                    <a:pt x="152" y="634"/>
                  </a:lnTo>
                  <a:lnTo>
                    <a:pt x="158" y="646"/>
                  </a:lnTo>
                  <a:lnTo>
                    <a:pt x="166" y="658"/>
                  </a:lnTo>
                  <a:lnTo>
                    <a:pt x="172" y="668"/>
                  </a:lnTo>
                  <a:lnTo>
                    <a:pt x="180" y="676"/>
                  </a:lnTo>
                  <a:lnTo>
                    <a:pt x="188" y="682"/>
                  </a:lnTo>
                  <a:lnTo>
                    <a:pt x="198" y="686"/>
                  </a:lnTo>
                  <a:lnTo>
                    <a:pt x="206" y="690"/>
                  </a:lnTo>
                  <a:lnTo>
                    <a:pt x="216" y="690"/>
                  </a:lnTo>
                  <a:lnTo>
                    <a:pt x="216" y="690"/>
                  </a:lnTo>
                  <a:lnTo>
                    <a:pt x="226" y="690"/>
                  </a:lnTo>
                  <a:lnTo>
                    <a:pt x="236" y="686"/>
                  </a:lnTo>
                  <a:lnTo>
                    <a:pt x="246" y="682"/>
                  </a:lnTo>
                  <a:lnTo>
                    <a:pt x="254" y="676"/>
                  </a:lnTo>
                  <a:lnTo>
                    <a:pt x="262" y="668"/>
                  </a:lnTo>
                  <a:lnTo>
                    <a:pt x="268" y="660"/>
                  </a:lnTo>
                  <a:lnTo>
                    <a:pt x="276" y="648"/>
                  </a:lnTo>
                  <a:lnTo>
                    <a:pt x="282" y="634"/>
                  </a:lnTo>
                  <a:lnTo>
                    <a:pt x="282" y="634"/>
                  </a:lnTo>
                  <a:lnTo>
                    <a:pt x="286" y="620"/>
                  </a:lnTo>
                  <a:lnTo>
                    <a:pt x="292" y="602"/>
                  </a:lnTo>
                  <a:lnTo>
                    <a:pt x="298" y="556"/>
                  </a:lnTo>
                  <a:lnTo>
                    <a:pt x="304" y="502"/>
                  </a:lnTo>
                  <a:lnTo>
                    <a:pt x="304" y="434"/>
                  </a:lnTo>
                  <a:lnTo>
                    <a:pt x="304" y="434"/>
                  </a:lnTo>
                  <a:lnTo>
                    <a:pt x="302" y="378"/>
                  </a:lnTo>
                  <a:lnTo>
                    <a:pt x="298" y="330"/>
                  </a:lnTo>
                  <a:lnTo>
                    <a:pt x="292" y="290"/>
                  </a:lnTo>
                  <a:lnTo>
                    <a:pt x="286" y="272"/>
                  </a:lnTo>
                  <a:lnTo>
                    <a:pt x="280" y="258"/>
                  </a:lnTo>
                  <a:lnTo>
                    <a:pt x="280" y="258"/>
                  </a:lnTo>
                  <a:lnTo>
                    <a:pt x="274" y="244"/>
                  </a:lnTo>
                  <a:lnTo>
                    <a:pt x="268" y="234"/>
                  </a:lnTo>
                  <a:lnTo>
                    <a:pt x="260" y="224"/>
                  </a:lnTo>
                  <a:lnTo>
                    <a:pt x="252" y="216"/>
                  </a:lnTo>
                  <a:lnTo>
                    <a:pt x="244" y="210"/>
                  </a:lnTo>
                  <a:lnTo>
                    <a:pt x="236" y="206"/>
                  </a:lnTo>
                  <a:lnTo>
                    <a:pt x="226" y="202"/>
                  </a:lnTo>
                  <a:lnTo>
                    <a:pt x="216" y="202"/>
                  </a:lnTo>
                  <a:lnTo>
                    <a:pt x="216" y="202"/>
                  </a:lnTo>
                  <a:lnTo>
                    <a:pt x="206" y="202"/>
                  </a:lnTo>
                  <a:lnTo>
                    <a:pt x="198" y="206"/>
                  </a:lnTo>
                  <a:lnTo>
                    <a:pt x="188" y="210"/>
                  </a:lnTo>
                  <a:lnTo>
                    <a:pt x="180" y="216"/>
                  </a:lnTo>
                  <a:lnTo>
                    <a:pt x="172" y="224"/>
                  </a:lnTo>
                  <a:lnTo>
                    <a:pt x="166" y="234"/>
                  </a:lnTo>
                  <a:lnTo>
                    <a:pt x="158" y="246"/>
                  </a:lnTo>
                  <a:lnTo>
                    <a:pt x="152" y="258"/>
                  </a:lnTo>
                  <a:lnTo>
                    <a:pt x="152" y="258"/>
                  </a:lnTo>
                  <a:lnTo>
                    <a:pt x="148" y="274"/>
                  </a:lnTo>
                  <a:lnTo>
                    <a:pt x="142" y="292"/>
                  </a:lnTo>
                  <a:lnTo>
                    <a:pt x="134" y="334"/>
                  </a:lnTo>
                  <a:lnTo>
                    <a:pt x="130" y="386"/>
                  </a:lnTo>
                  <a:lnTo>
                    <a:pt x="128" y="446"/>
                  </a:lnTo>
                  <a:lnTo>
                    <a:pt x="128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5"/>
            <p:cNvSpPr/>
            <p:nvPr/>
          </p:nvSpPr>
          <p:spPr>
            <a:xfrm>
              <a:off x="3968640" y="526680"/>
              <a:ext cx="628560" cy="13622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1362240"/>
                <a:gd name="textAreaBottom" fmla="*/ 1362240 h 1362240"/>
              </a:gdLst>
              <a:ahLst/>
              <a:rect l="textAreaLeft" t="textAreaTop" r="textAreaRight" b="textAreaBottom"/>
              <a:pathLst>
                <a:path w="396" h="858">
                  <a:moveTo>
                    <a:pt x="0" y="0"/>
                  </a:moveTo>
                  <a:lnTo>
                    <a:pt x="396" y="0"/>
                  </a:lnTo>
                  <a:lnTo>
                    <a:pt x="396" y="212"/>
                  </a:lnTo>
                  <a:lnTo>
                    <a:pt x="262" y="212"/>
                  </a:lnTo>
                  <a:lnTo>
                    <a:pt x="262" y="858"/>
                  </a:lnTo>
                  <a:lnTo>
                    <a:pt x="132" y="858"/>
                  </a:lnTo>
                  <a:lnTo>
                    <a:pt x="132" y="212"/>
                  </a:lnTo>
                  <a:lnTo>
                    <a:pt x="0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6"/>
            <p:cNvSpPr/>
            <p:nvPr/>
          </p:nvSpPr>
          <p:spPr>
            <a:xfrm>
              <a:off x="4952880" y="526680"/>
              <a:ext cx="625320" cy="1362240"/>
            </a:xfrm>
            <a:custGeom>
              <a:avLst/>
              <a:gdLst/>
              <a:ahLst/>
              <a:rect l="l" t="t" r="r" b="b"/>
              <a:pathLst>
                <a:path w="394" h="858">
                  <a:moveTo>
                    <a:pt x="0" y="0"/>
                  </a:moveTo>
                  <a:lnTo>
                    <a:pt x="394" y="0"/>
                  </a:lnTo>
                  <a:lnTo>
                    <a:pt x="394" y="212"/>
                  </a:lnTo>
                  <a:lnTo>
                    <a:pt x="262" y="212"/>
                  </a:lnTo>
                  <a:lnTo>
                    <a:pt x="262" y="858"/>
                  </a:lnTo>
                  <a:lnTo>
                    <a:pt x="132" y="858"/>
                  </a:lnTo>
                  <a:lnTo>
                    <a:pt x="132" y="212"/>
                  </a:lnTo>
                  <a:lnTo>
                    <a:pt x="0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7"/>
            <p:cNvSpPr/>
            <p:nvPr/>
          </p:nvSpPr>
          <p:spPr>
            <a:xfrm>
              <a:off x="5673600" y="526680"/>
              <a:ext cx="637920" cy="136224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1362240"/>
                <a:gd name="textAreaBottom" fmla="*/ 1362240 h 1362240"/>
              </a:gdLst>
              <a:ahLst/>
              <a:rect l="textAreaLeft" t="textAreaTop" r="textAreaRight" b="textAreaBottom"/>
              <a:pathLst>
                <a:path w="402" h="858">
                  <a:moveTo>
                    <a:pt x="0" y="0"/>
                  </a:moveTo>
                  <a:lnTo>
                    <a:pt x="130" y="0"/>
                  </a:lnTo>
                  <a:lnTo>
                    <a:pt x="130" y="300"/>
                  </a:lnTo>
                  <a:lnTo>
                    <a:pt x="272" y="300"/>
                  </a:lnTo>
                  <a:lnTo>
                    <a:pt x="272" y="0"/>
                  </a:lnTo>
                  <a:lnTo>
                    <a:pt x="402" y="0"/>
                  </a:lnTo>
                  <a:lnTo>
                    <a:pt x="402" y="858"/>
                  </a:lnTo>
                  <a:lnTo>
                    <a:pt x="272" y="858"/>
                  </a:lnTo>
                  <a:lnTo>
                    <a:pt x="272" y="510"/>
                  </a:lnTo>
                  <a:lnTo>
                    <a:pt x="130" y="510"/>
                  </a:lnTo>
                  <a:lnTo>
                    <a:pt x="130" y="858"/>
                  </a:lnTo>
                  <a:lnTo>
                    <a:pt x="0" y="8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38"/>
            <p:cNvSpPr/>
            <p:nvPr/>
          </p:nvSpPr>
          <p:spPr>
            <a:xfrm>
              <a:off x="6451560" y="526680"/>
              <a:ext cx="653760" cy="1362240"/>
            </a:xfrm>
            <a:custGeom>
              <a:avLst/>
              <a:gdLst/>
              <a:ahLst/>
              <a:rect l="l" t="t" r="r" b="b"/>
              <a:pathLst>
                <a:path w="412" h="858">
                  <a:moveTo>
                    <a:pt x="0" y="858"/>
                  </a:moveTo>
                  <a:lnTo>
                    <a:pt x="0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44" y="0"/>
                  </a:lnTo>
                  <a:lnTo>
                    <a:pt x="268" y="4"/>
                  </a:lnTo>
                  <a:lnTo>
                    <a:pt x="290" y="12"/>
                  </a:lnTo>
                  <a:lnTo>
                    <a:pt x="308" y="20"/>
                  </a:lnTo>
                  <a:lnTo>
                    <a:pt x="308" y="20"/>
                  </a:lnTo>
                  <a:lnTo>
                    <a:pt x="322" y="34"/>
                  </a:lnTo>
                  <a:lnTo>
                    <a:pt x="336" y="50"/>
                  </a:lnTo>
                  <a:lnTo>
                    <a:pt x="348" y="72"/>
                  </a:lnTo>
                  <a:lnTo>
                    <a:pt x="358" y="98"/>
                  </a:lnTo>
                  <a:lnTo>
                    <a:pt x="358" y="98"/>
                  </a:lnTo>
                  <a:lnTo>
                    <a:pt x="368" y="128"/>
                  </a:lnTo>
                  <a:lnTo>
                    <a:pt x="374" y="162"/>
                  </a:lnTo>
                  <a:lnTo>
                    <a:pt x="378" y="198"/>
                  </a:lnTo>
                  <a:lnTo>
                    <a:pt x="378" y="238"/>
                  </a:lnTo>
                  <a:lnTo>
                    <a:pt x="378" y="238"/>
                  </a:lnTo>
                  <a:lnTo>
                    <a:pt x="378" y="272"/>
                  </a:lnTo>
                  <a:lnTo>
                    <a:pt x="374" y="304"/>
                  </a:lnTo>
                  <a:lnTo>
                    <a:pt x="370" y="334"/>
                  </a:lnTo>
                  <a:lnTo>
                    <a:pt x="364" y="362"/>
                  </a:lnTo>
                  <a:lnTo>
                    <a:pt x="364" y="362"/>
                  </a:lnTo>
                  <a:lnTo>
                    <a:pt x="356" y="386"/>
                  </a:lnTo>
                  <a:lnTo>
                    <a:pt x="346" y="408"/>
                  </a:lnTo>
                  <a:lnTo>
                    <a:pt x="334" y="428"/>
                  </a:lnTo>
                  <a:lnTo>
                    <a:pt x="322" y="446"/>
                  </a:lnTo>
                  <a:lnTo>
                    <a:pt x="322" y="446"/>
                  </a:lnTo>
                  <a:lnTo>
                    <a:pt x="314" y="456"/>
                  </a:lnTo>
                  <a:lnTo>
                    <a:pt x="302" y="464"/>
                  </a:lnTo>
                  <a:lnTo>
                    <a:pt x="290" y="472"/>
                  </a:lnTo>
                  <a:lnTo>
                    <a:pt x="276" y="480"/>
                  </a:lnTo>
                  <a:lnTo>
                    <a:pt x="276" y="480"/>
                  </a:lnTo>
                  <a:lnTo>
                    <a:pt x="296" y="496"/>
                  </a:lnTo>
                  <a:lnTo>
                    <a:pt x="310" y="510"/>
                  </a:lnTo>
                  <a:lnTo>
                    <a:pt x="310" y="510"/>
                  </a:lnTo>
                  <a:lnTo>
                    <a:pt x="320" y="528"/>
                  </a:lnTo>
                  <a:lnTo>
                    <a:pt x="332" y="556"/>
                  </a:lnTo>
                  <a:lnTo>
                    <a:pt x="332" y="556"/>
                  </a:lnTo>
                  <a:lnTo>
                    <a:pt x="342" y="586"/>
                  </a:lnTo>
                  <a:lnTo>
                    <a:pt x="350" y="610"/>
                  </a:lnTo>
                  <a:lnTo>
                    <a:pt x="412" y="858"/>
                  </a:lnTo>
                  <a:lnTo>
                    <a:pt x="266" y="858"/>
                  </a:lnTo>
                  <a:lnTo>
                    <a:pt x="196" y="596"/>
                  </a:lnTo>
                  <a:lnTo>
                    <a:pt x="196" y="596"/>
                  </a:lnTo>
                  <a:lnTo>
                    <a:pt x="184" y="554"/>
                  </a:lnTo>
                  <a:lnTo>
                    <a:pt x="178" y="540"/>
                  </a:lnTo>
                  <a:lnTo>
                    <a:pt x="174" y="530"/>
                  </a:lnTo>
                  <a:lnTo>
                    <a:pt x="174" y="530"/>
                  </a:lnTo>
                  <a:lnTo>
                    <a:pt x="166" y="520"/>
                  </a:lnTo>
                  <a:lnTo>
                    <a:pt x="158" y="514"/>
                  </a:lnTo>
                  <a:lnTo>
                    <a:pt x="150" y="510"/>
                  </a:lnTo>
                  <a:lnTo>
                    <a:pt x="142" y="510"/>
                  </a:lnTo>
                  <a:lnTo>
                    <a:pt x="130" y="510"/>
                  </a:lnTo>
                  <a:lnTo>
                    <a:pt x="130" y="858"/>
                  </a:lnTo>
                  <a:lnTo>
                    <a:pt x="0" y="858"/>
                  </a:lnTo>
                  <a:close/>
                  <a:moveTo>
                    <a:pt x="130" y="348"/>
                  </a:moveTo>
                  <a:lnTo>
                    <a:pt x="184" y="348"/>
                  </a:lnTo>
                  <a:lnTo>
                    <a:pt x="184" y="348"/>
                  </a:lnTo>
                  <a:lnTo>
                    <a:pt x="198" y="344"/>
                  </a:lnTo>
                  <a:lnTo>
                    <a:pt x="218" y="336"/>
                  </a:lnTo>
                  <a:lnTo>
                    <a:pt x="218" y="336"/>
                  </a:lnTo>
                  <a:lnTo>
                    <a:pt x="224" y="332"/>
                  </a:lnTo>
                  <a:lnTo>
                    <a:pt x="230" y="326"/>
                  </a:lnTo>
                  <a:lnTo>
                    <a:pt x="236" y="318"/>
                  </a:lnTo>
                  <a:lnTo>
                    <a:pt x="240" y="308"/>
                  </a:lnTo>
                  <a:lnTo>
                    <a:pt x="240" y="308"/>
                  </a:lnTo>
                  <a:lnTo>
                    <a:pt x="246" y="286"/>
                  </a:lnTo>
                  <a:lnTo>
                    <a:pt x="248" y="258"/>
                  </a:lnTo>
                  <a:lnTo>
                    <a:pt x="248" y="258"/>
                  </a:lnTo>
                  <a:lnTo>
                    <a:pt x="248" y="240"/>
                  </a:lnTo>
                  <a:lnTo>
                    <a:pt x="244" y="222"/>
                  </a:lnTo>
                  <a:lnTo>
                    <a:pt x="240" y="208"/>
                  </a:lnTo>
                  <a:lnTo>
                    <a:pt x="236" y="196"/>
                  </a:lnTo>
                  <a:lnTo>
                    <a:pt x="236" y="196"/>
                  </a:lnTo>
                  <a:lnTo>
                    <a:pt x="228" y="186"/>
                  </a:lnTo>
                  <a:lnTo>
                    <a:pt x="216" y="178"/>
                  </a:lnTo>
                  <a:lnTo>
                    <a:pt x="204" y="174"/>
                  </a:lnTo>
                  <a:lnTo>
                    <a:pt x="186" y="172"/>
                  </a:lnTo>
                  <a:lnTo>
                    <a:pt x="130" y="172"/>
                  </a:lnTo>
                  <a:lnTo>
                    <a:pt x="130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9"/>
            <p:cNvSpPr/>
            <p:nvPr/>
          </p:nvSpPr>
          <p:spPr>
            <a:xfrm>
              <a:off x="7147080" y="501480"/>
              <a:ext cx="688680" cy="140976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409760"/>
                <a:gd name="textAreaBottom" fmla="*/ 1409760 h 1409760"/>
              </a:gdLst>
              <a:ahLst/>
              <a:rect l="textAreaLeft" t="textAreaTop" r="textAreaRight" b="textAreaBottom"/>
              <a:pathLst>
                <a:path w="434" h="888">
                  <a:moveTo>
                    <a:pt x="0" y="446"/>
                  </a:moveTo>
                  <a:lnTo>
                    <a:pt x="0" y="446"/>
                  </a:lnTo>
                  <a:lnTo>
                    <a:pt x="0" y="394"/>
                  </a:lnTo>
                  <a:lnTo>
                    <a:pt x="4" y="346"/>
                  </a:lnTo>
                  <a:lnTo>
                    <a:pt x="8" y="300"/>
                  </a:lnTo>
                  <a:lnTo>
                    <a:pt x="14" y="258"/>
                  </a:lnTo>
                  <a:lnTo>
                    <a:pt x="22" y="218"/>
                  </a:lnTo>
                  <a:lnTo>
                    <a:pt x="32" y="182"/>
                  </a:lnTo>
                  <a:lnTo>
                    <a:pt x="44" y="148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72" y="90"/>
                  </a:lnTo>
                  <a:lnTo>
                    <a:pt x="88" y="66"/>
                  </a:lnTo>
                  <a:lnTo>
                    <a:pt x="106" y="46"/>
                  </a:lnTo>
                  <a:lnTo>
                    <a:pt x="126" y="30"/>
                  </a:lnTo>
                  <a:lnTo>
                    <a:pt x="146" y="18"/>
                  </a:lnTo>
                  <a:lnTo>
                    <a:pt x="168" y="8"/>
                  </a:lnTo>
                  <a:lnTo>
                    <a:pt x="192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42" y="2"/>
                  </a:lnTo>
                  <a:lnTo>
                    <a:pt x="266" y="8"/>
                  </a:lnTo>
                  <a:lnTo>
                    <a:pt x="288" y="16"/>
                  </a:lnTo>
                  <a:lnTo>
                    <a:pt x="310" y="30"/>
                  </a:lnTo>
                  <a:lnTo>
                    <a:pt x="328" y="46"/>
                  </a:lnTo>
                  <a:lnTo>
                    <a:pt x="346" y="66"/>
                  </a:lnTo>
                  <a:lnTo>
                    <a:pt x="364" y="88"/>
                  </a:lnTo>
                  <a:lnTo>
                    <a:pt x="378" y="116"/>
                  </a:lnTo>
                  <a:lnTo>
                    <a:pt x="378" y="116"/>
                  </a:lnTo>
                  <a:lnTo>
                    <a:pt x="392" y="146"/>
                  </a:lnTo>
                  <a:lnTo>
                    <a:pt x="402" y="180"/>
                  </a:lnTo>
                  <a:lnTo>
                    <a:pt x="412" y="216"/>
                  </a:lnTo>
                  <a:lnTo>
                    <a:pt x="420" y="254"/>
                  </a:lnTo>
                  <a:lnTo>
                    <a:pt x="426" y="296"/>
                  </a:lnTo>
                  <a:lnTo>
                    <a:pt x="432" y="340"/>
                  </a:lnTo>
                  <a:lnTo>
                    <a:pt x="434" y="388"/>
                  </a:lnTo>
                  <a:lnTo>
                    <a:pt x="434" y="438"/>
                  </a:lnTo>
                  <a:lnTo>
                    <a:pt x="434" y="438"/>
                  </a:lnTo>
                  <a:lnTo>
                    <a:pt x="434" y="510"/>
                  </a:lnTo>
                  <a:lnTo>
                    <a:pt x="428" y="576"/>
                  </a:lnTo>
                  <a:lnTo>
                    <a:pt x="420" y="634"/>
                  </a:lnTo>
                  <a:lnTo>
                    <a:pt x="410" y="686"/>
                  </a:lnTo>
                  <a:lnTo>
                    <a:pt x="410" y="686"/>
                  </a:lnTo>
                  <a:lnTo>
                    <a:pt x="396" y="730"/>
                  </a:lnTo>
                  <a:lnTo>
                    <a:pt x="380" y="772"/>
                  </a:lnTo>
                  <a:lnTo>
                    <a:pt x="370" y="790"/>
                  </a:lnTo>
                  <a:lnTo>
                    <a:pt x="360" y="806"/>
                  </a:lnTo>
                  <a:lnTo>
                    <a:pt x="350" y="822"/>
                  </a:lnTo>
                  <a:lnTo>
                    <a:pt x="338" y="836"/>
                  </a:lnTo>
                  <a:lnTo>
                    <a:pt x="338" y="836"/>
                  </a:lnTo>
                  <a:lnTo>
                    <a:pt x="326" y="848"/>
                  </a:lnTo>
                  <a:lnTo>
                    <a:pt x="314" y="858"/>
                  </a:lnTo>
                  <a:lnTo>
                    <a:pt x="300" y="868"/>
                  </a:lnTo>
                  <a:lnTo>
                    <a:pt x="286" y="876"/>
                  </a:lnTo>
                  <a:lnTo>
                    <a:pt x="270" y="882"/>
                  </a:lnTo>
                  <a:lnTo>
                    <a:pt x="256" y="886"/>
                  </a:lnTo>
                  <a:lnTo>
                    <a:pt x="238" y="888"/>
                  </a:lnTo>
                  <a:lnTo>
                    <a:pt x="222" y="888"/>
                  </a:lnTo>
                  <a:lnTo>
                    <a:pt x="222" y="888"/>
                  </a:lnTo>
                  <a:lnTo>
                    <a:pt x="204" y="888"/>
                  </a:lnTo>
                  <a:lnTo>
                    <a:pt x="188" y="886"/>
                  </a:lnTo>
                  <a:lnTo>
                    <a:pt x="172" y="882"/>
                  </a:lnTo>
                  <a:lnTo>
                    <a:pt x="156" y="878"/>
                  </a:lnTo>
                  <a:lnTo>
                    <a:pt x="142" y="870"/>
                  </a:lnTo>
                  <a:lnTo>
                    <a:pt x="128" y="862"/>
                  </a:lnTo>
                  <a:lnTo>
                    <a:pt x="116" y="854"/>
                  </a:lnTo>
                  <a:lnTo>
                    <a:pt x="104" y="842"/>
                  </a:lnTo>
                  <a:lnTo>
                    <a:pt x="104" y="842"/>
                  </a:lnTo>
                  <a:lnTo>
                    <a:pt x="92" y="830"/>
                  </a:lnTo>
                  <a:lnTo>
                    <a:pt x="82" y="816"/>
                  </a:lnTo>
                  <a:lnTo>
                    <a:pt x="72" y="800"/>
                  </a:lnTo>
                  <a:lnTo>
                    <a:pt x="62" y="782"/>
                  </a:lnTo>
                  <a:lnTo>
                    <a:pt x="44" y="742"/>
                  </a:lnTo>
                  <a:lnTo>
                    <a:pt x="28" y="696"/>
                  </a:lnTo>
                  <a:lnTo>
                    <a:pt x="28" y="696"/>
                  </a:lnTo>
                  <a:lnTo>
                    <a:pt x="22" y="670"/>
                  </a:lnTo>
                  <a:lnTo>
                    <a:pt x="16" y="642"/>
                  </a:lnTo>
                  <a:lnTo>
                    <a:pt x="6" y="584"/>
                  </a:lnTo>
                  <a:lnTo>
                    <a:pt x="2" y="518"/>
                  </a:lnTo>
                  <a:lnTo>
                    <a:pt x="0" y="446"/>
                  </a:lnTo>
                  <a:lnTo>
                    <a:pt x="0" y="446"/>
                  </a:lnTo>
                  <a:close/>
                  <a:moveTo>
                    <a:pt x="130" y="446"/>
                  </a:moveTo>
                  <a:lnTo>
                    <a:pt x="130" y="446"/>
                  </a:lnTo>
                  <a:lnTo>
                    <a:pt x="130" y="508"/>
                  </a:lnTo>
                  <a:lnTo>
                    <a:pt x="136" y="558"/>
                  </a:lnTo>
                  <a:lnTo>
                    <a:pt x="142" y="600"/>
                  </a:lnTo>
                  <a:lnTo>
                    <a:pt x="148" y="618"/>
                  </a:lnTo>
                  <a:lnTo>
                    <a:pt x="154" y="634"/>
                  </a:lnTo>
                  <a:lnTo>
                    <a:pt x="154" y="634"/>
                  </a:lnTo>
                  <a:lnTo>
                    <a:pt x="160" y="646"/>
                  </a:lnTo>
                  <a:lnTo>
                    <a:pt x="166" y="658"/>
                  </a:lnTo>
                  <a:lnTo>
                    <a:pt x="174" y="668"/>
                  </a:lnTo>
                  <a:lnTo>
                    <a:pt x="180" y="676"/>
                  </a:lnTo>
                  <a:lnTo>
                    <a:pt x="190" y="682"/>
                  </a:lnTo>
                  <a:lnTo>
                    <a:pt x="198" y="686"/>
                  </a:lnTo>
                  <a:lnTo>
                    <a:pt x="208" y="690"/>
                  </a:lnTo>
                  <a:lnTo>
                    <a:pt x="218" y="690"/>
                  </a:lnTo>
                  <a:lnTo>
                    <a:pt x="218" y="690"/>
                  </a:lnTo>
                  <a:lnTo>
                    <a:pt x="228" y="690"/>
                  </a:lnTo>
                  <a:lnTo>
                    <a:pt x="238" y="686"/>
                  </a:lnTo>
                  <a:lnTo>
                    <a:pt x="246" y="682"/>
                  </a:lnTo>
                  <a:lnTo>
                    <a:pt x="254" y="676"/>
                  </a:lnTo>
                  <a:lnTo>
                    <a:pt x="262" y="668"/>
                  </a:lnTo>
                  <a:lnTo>
                    <a:pt x="270" y="660"/>
                  </a:lnTo>
                  <a:lnTo>
                    <a:pt x="276" y="648"/>
                  </a:lnTo>
                  <a:lnTo>
                    <a:pt x="282" y="634"/>
                  </a:lnTo>
                  <a:lnTo>
                    <a:pt x="282" y="634"/>
                  </a:lnTo>
                  <a:lnTo>
                    <a:pt x="288" y="620"/>
                  </a:lnTo>
                  <a:lnTo>
                    <a:pt x="292" y="602"/>
                  </a:lnTo>
                  <a:lnTo>
                    <a:pt x="300" y="556"/>
                  </a:lnTo>
                  <a:lnTo>
                    <a:pt x="304" y="502"/>
                  </a:lnTo>
                  <a:lnTo>
                    <a:pt x="306" y="434"/>
                  </a:lnTo>
                  <a:lnTo>
                    <a:pt x="306" y="434"/>
                  </a:lnTo>
                  <a:lnTo>
                    <a:pt x="304" y="378"/>
                  </a:lnTo>
                  <a:lnTo>
                    <a:pt x="300" y="330"/>
                  </a:lnTo>
                  <a:lnTo>
                    <a:pt x="292" y="290"/>
                  </a:lnTo>
                  <a:lnTo>
                    <a:pt x="286" y="272"/>
                  </a:lnTo>
                  <a:lnTo>
                    <a:pt x="282" y="258"/>
                  </a:lnTo>
                  <a:lnTo>
                    <a:pt x="282" y="258"/>
                  </a:lnTo>
                  <a:lnTo>
                    <a:pt x="274" y="244"/>
                  </a:lnTo>
                  <a:lnTo>
                    <a:pt x="268" y="234"/>
                  </a:lnTo>
                  <a:lnTo>
                    <a:pt x="260" y="224"/>
                  </a:lnTo>
                  <a:lnTo>
                    <a:pt x="252" y="216"/>
                  </a:lnTo>
                  <a:lnTo>
                    <a:pt x="244" y="210"/>
                  </a:lnTo>
                  <a:lnTo>
                    <a:pt x="236" y="206"/>
                  </a:lnTo>
                  <a:lnTo>
                    <a:pt x="226" y="202"/>
                  </a:lnTo>
                  <a:lnTo>
                    <a:pt x="216" y="202"/>
                  </a:lnTo>
                  <a:lnTo>
                    <a:pt x="216" y="202"/>
                  </a:lnTo>
                  <a:lnTo>
                    <a:pt x="206" y="202"/>
                  </a:lnTo>
                  <a:lnTo>
                    <a:pt x="198" y="206"/>
                  </a:lnTo>
                  <a:lnTo>
                    <a:pt x="188" y="210"/>
                  </a:lnTo>
                  <a:lnTo>
                    <a:pt x="180" y="216"/>
                  </a:lnTo>
                  <a:lnTo>
                    <a:pt x="174" y="224"/>
                  </a:lnTo>
                  <a:lnTo>
                    <a:pt x="166" y="234"/>
                  </a:lnTo>
                  <a:lnTo>
                    <a:pt x="160" y="246"/>
                  </a:lnTo>
                  <a:lnTo>
                    <a:pt x="154" y="258"/>
                  </a:lnTo>
                  <a:lnTo>
                    <a:pt x="154" y="258"/>
                  </a:lnTo>
                  <a:lnTo>
                    <a:pt x="148" y="274"/>
                  </a:lnTo>
                  <a:lnTo>
                    <a:pt x="142" y="292"/>
                  </a:lnTo>
                  <a:lnTo>
                    <a:pt x="136" y="334"/>
                  </a:lnTo>
                  <a:lnTo>
                    <a:pt x="130" y="386"/>
                  </a:lnTo>
                  <a:lnTo>
                    <a:pt x="130" y="446"/>
                  </a:lnTo>
                  <a:lnTo>
                    <a:pt x="130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0"/>
            <p:cNvSpPr/>
            <p:nvPr/>
          </p:nvSpPr>
          <p:spPr>
            <a:xfrm>
              <a:off x="7947000" y="526680"/>
              <a:ext cx="641160" cy="138456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1384560"/>
                <a:gd name="textAreaBottom" fmla="*/ 1384920 h 1384560"/>
              </a:gdLst>
              <a:ahLst/>
              <a:rect l="textAreaLeft" t="textAreaTop" r="textAreaRight" b="textAreaBottom"/>
              <a:pathLst>
                <a:path w="404" h="872">
                  <a:moveTo>
                    <a:pt x="274" y="0"/>
                  </a:moveTo>
                  <a:lnTo>
                    <a:pt x="404" y="0"/>
                  </a:lnTo>
                  <a:lnTo>
                    <a:pt x="404" y="512"/>
                  </a:lnTo>
                  <a:lnTo>
                    <a:pt x="404" y="512"/>
                  </a:lnTo>
                  <a:lnTo>
                    <a:pt x="402" y="548"/>
                  </a:lnTo>
                  <a:lnTo>
                    <a:pt x="400" y="586"/>
                  </a:lnTo>
                  <a:lnTo>
                    <a:pt x="396" y="620"/>
                  </a:lnTo>
                  <a:lnTo>
                    <a:pt x="392" y="654"/>
                  </a:lnTo>
                  <a:lnTo>
                    <a:pt x="392" y="654"/>
                  </a:lnTo>
                  <a:lnTo>
                    <a:pt x="386" y="688"/>
                  </a:lnTo>
                  <a:lnTo>
                    <a:pt x="376" y="718"/>
                  </a:lnTo>
                  <a:lnTo>
                    <a:pt x="366" y="746"/>
                  </a:lnTo>
                  <a:lnTo>
                    <a:pt x="356" y="774"/>
                  </a:lnTo>
                  <a:lnTo>
                    <a:pt x="356" y="774"/>
                  </a:lnTo>
                  <a:lnTo>
                    <a:pt x="342" y="796"/>
                  </a:lnTo>
                  <a:lnTo>
                    <a:pt x="330" y="816"/>
                  </a:lnTo>
                  <a:lnTo>
                    <a:pt x="316" y="832"/>
                  </a:lnTo>
                  <a:lnTo>
                    <a:pt x="304" y="844"/>
                  </a:lnTo>
                  <a:lnTo>
                    <a:pt x="304" y="844"/>
                  </a:lnTo>
                  <a:lnTo>
                    <a:pt x="284" y="856"/>
                  </a:lnTo>
                  <a:lnTo>
                    <a:pt x="262" y="866"/>
                  </a:lnTo>
                  <a:lnTo>
                    <a:pt x="238" y="872"/>
                  </a:lnTo>
                  <a:lnTo>
                    <a:pt x="212" y="872"/>
                  </a:lnTo>
                  <a:lnTo>
                    <a:pt x="212" y="872"/>
                  </a:lnTo>
                  <a:lnTo>
                    <a:pt x="180" y="870"/>
                  </a:lnTo>
                  <a:lnTo>
                    <a:pt x="146" y="864"/>
                  </a:lnTo>
                  <a:lnTo>
                    <a:pt x="146" y="864"/>
                  </a:lnTo>
                  <a:lnTo>
                    <a:pt x="128" y="858"/>
                  </a:lnTo>
                  <a:lnTo>
                    <a:pt x="112" y="852"/>
                  </a:lnTo>
                  <a:lnTo>
                    <a:pt x="98" y="842"/>
                  </a:lnTo>
                  <a:lnTo>
                    <a:pt x="86" y="830"/>
                  </a:lnTo>
                  <a:lnTo>
                    <a:pt x="86" y="830"/>
                  </a:lnTo>
                  <a:lnTo>
                    <a:pt x="74" y="814"/>
                  </a:lnTo>
                  <a:lnTo>
                    <a:pt x="62" y="798"/>
                  </a:lnTo>
                  <a:lnTo>
                    <a:pt x="50" y="778"/>
                  </a:lnTo>
                  <a:lnTo>
                    <a:pt x="40" y="756"/>
                  </a:lnTo>
                  <a:lnTo>
                    <a:pt x="40" y="756"/>
                  </a:lnTo>
                  <a:lnTo>
                    <a:pt x="32" y="732"/>
                  </a:lnTo>
                  <a:lnTo>
                    <a:pt x="24" y="706"/>
                  </a:lnTo>
                  <a:lnTo>
                    <a:pt x="18" y="682"/>
                  </a:lnTo>
                  <a:lnTo>
                    <a:pt x="12" y="656"/>
                  </a:lnTo>
                  <a:lnTo>
                    <a:pt x="12" y="656"/>
                  </a:lnTo>
                  <a:lnTo>
                    <a:pt x="8" y="616"/>
                  </a:lnTo>
                  <a:lnTo>
                    <a:pt x="4" y="580"/>
                  </a:lnTo>
                  <a:lnTo>
                    <a:pt x="2" y="544"/>
                  </a:lnTo>
                  <a:lnTo>
                    <a:pt x="0" y="512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30" y="524"/>
                  </a:lnTo>
                  <a:lnTo>
                    <a:pt x="130" y="524"/>
                  </a:lnTo>
                  <a:lnTo>
                    <a:pt x="132" y="556"/>
                  </a:lnTo>
                  <a:lnTo>
                    <a:pt x="136" y="586"/>
                  </a:lnTo>
                  <a:lnTo>
                    <a:pt x="142" y="612"/>
                  </a:lnTo>
                  <a:lnTo>
                    <a:pt x="150" y="634"/>
                  </a:lnTo>
                  <a:lnTo>
                    <a:pt x="150" y="634"/>
                  </a:lnTo>
                  <a:lnTo>
                    <a:pt x="160" y="650"/>
                  </a:lnTo>
                  <a:lnTo>
                    <a:pt x="172" y="662"/>
                  </a:lnTo>
                  <a:lnTo>
                    <a:pt x="180" y="668"/>
                  </a:lnTo>
                  <a:lnTo>
                    <a:pt x="186" y="670"/>
                  </a:lnTo>
                  <a:lnTo>
                    <a:pt x="194" y="672"/>
                  </a:lnTo>
                  <a:lnTo>
                    <a:pt x="202" y="672"/>
                  </a:lnTo>
                  <a:lnTo>
                    <a:pt x="202" y="672"/>
                  </a:lnTo>
                  <a:lnTo>
                    <a:pt x="210" y="672"/>
                  </a:lnTo>
                  <a:lnTo>
                    <a:pt x="218" y="670"/>
                  </a:lnTo>
                  <a:lnTo>
                    <a:pt x="226" y="668"/>
                  </a:lnTo>
                  <a:lnTo>
                    <a:pt x="232" y="662"/>
                  </a:lnTo>
                  <a:lnTo>
                    <a:pt x="244" y="650"/>
                  </a:lnTo>
                  <a:lnTo>
                    <a:pt x="254" y="634"/>
                  </a:lnTo>
                  <a:lnTo>
                    <a:pt x="254" y="634"/>
                  </a:lnTo>
                  <a:lnTo>
                    <a:pt x="264" y="612"/>
                  </a:lnTo>
                  <a:lnTo>
                    <a:pt x="270" y="586"/>
                  </a:lnTo>
                  <a:lnTo>
                    <a:pt x="272" y="556"/>
                  </a:lnTo>
                  <a:lnTo>
                    <a:pt x="274" y="524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1"/>
            <p:cNvSpPr/>
            <p:nvPr/>
          </p:nvSpPr>
          <p:spPr>
            <a:xfrm>
              <a:off x="8699400" y="501480"/>
              <a:ext cx="676080" cy="140976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409760"/>
                <a:gd name="textAreaBottom" fmla="*/ 1409760 h 1409760"/>
              </a:gdLst>
              <a:ahLst/>
              <a:rect l="textAreaLeft" t="textAreaTop" r="textAreaRight" b="textAreaBottom"/>
              <a:pathLst>
                <a:path w="426" h="888">
                  <a:moveTo>
                    <a:pt x="226" y="564"/>
                  </a:moveTo>
                  <a:lnTo>
                    <a:pt x="226" y="384"/>
                  </a:lnTo>
                  <a:lnTo>
                    <a:pt x="426" y="384"/>
                  </a:lnTo>
                  <a:lnTo>
                    <a:pt x="426" y="750"/>
                  </a:lnTo>
                  <a:lnTo>
                    <a:pt x="426" y="750"/>
                  </a:lnTo>
                  <a:lnTo>
                    <a:pt x="398" y="788"/>
                  </a:lnTo>
                  <a:lnTo>
                    <a:pt x="372" y="818"/>
                  </a:lnTo>
                  <a:lnTo>
                    <a:pt x="348" y="842"/>
                  </a:lnTo>
                  <a:lnTo>
                    <a:pt x="326" y="860"/>
                  </a:lnTo>
                  <a:lnTo>
                    <a:pt x="326" y="860"/>
                  </a:lnTo>
                  <a:lnTo>
                    <a:pt x="302" y="872"/>
                  </a:lnTo>
                  <a:lnTo>
                    <a:pt x="276" y="882"/>
                  </a:lnTo>
                  <a:lnTo>
                    <a:pt x="250" y="888"/>
                  </a:lnTo>
                  <a:lnTo>
                    <a:pt x="220" y="888"/>
                  </a:lnTo>
                  <a:lnTo>
                    <a:pt x="220" y="888"/>
                  </a:lnTo>
                  <a:lnTo>
                    <a:pt x="202" y="888"/>
                  </a:lnTo>
                  <a:lnTo>
                    <a:pt x="184" y="886"/>
                  </a:lnTo>
                  <a:lnTo>
                    <a:pt x="168" y="882"/>
                  </a:lnTo>
                  <a:lnTo>
                    <a:pt x="152" y="876"/>
                  </a:lnTo>
                  <a:lnTo>
                    <a:pt x="138" y="868"/>
                  </a:lnTo>
                  <a:lnTo>
                    <a:pt x="124" y="860"/>
                  </a:lnTo>
                  <a:lnTo>
                    <a:pt x="110" y="850"/>
                  </a:lnTo>
                  <a:lnTo>
                    <a:pt x="98" y="836"/>
                  </a:lnTo>
                  <a:lnTo>
                    <a:pt x="98" y="836"/>
                  </a:lnTo>
                  <a:lnTo>
                    <a:pt x="86" y="824"/>
                  </a:lnTo>
                  <a:lnTo>
                    <a:pt x="76" y="808"/>
                  </a:lnTo>
                  <a:lnTo>
                    <a:pt x="66" y="790"/>
                  </a:lnTo>
                  <a:lnTo>
                    <a:pt x="56" y="772"/>
                  </a:lnTo>
                  <a:lnTo>
                    <a:pt x="48" y="752"/>
                  </a:lnTo>
                  <a:lnTo>
                    <a:pt x="40" y="730"/>
                  </a:lnTo>
                  <a:lnTo>
                    <a:pt x="26" y="682"/>
                  </a:lnTo>
                  <a:lnTo>
                    <a:pt x="26" y="682"/>
                  </a:lnTo>
                  <a:lnTo>
                    <a:pt x="14" y="628"/>
                  </a:lnTo>
                  <a:lnTo>
                    <a:pt x="6" y="570"/>
                  </a:lnTo>
                  <a:lnTo>
                    <a:pt x="0" y="510"/>
                  </a:lnTo>
                  <a:lnTo>
                    <a:pt x="0" y="444"/>
                  </a:lnTo>
                  <a:lnTo>
                    <a:pt x="0" y="444"/>
                  </a:lnTo>
                  <a:lnTo>
                    <a:pt x="2" y="376"/>
                  </a:lnTo>
                  <a:lnTo>
                    <a:pt x="6" y="314"/>
                  </a:lnTo>
                  <a:lnTo>
                    <a:pt x="16" y="254"/>
                  </a:lnTo>
                  <a:lnTo>
                    <a:pt x="28" y="200"/>
                  </a:lnTo>
                  <a:lnTo>
                    <a:pt x="28" y="200"/>
                  </a:lnTo>
                  <a:lnTo>
                    <a:pt x="36" y="176"/>
                  </a:lnTo>
                  <a:lnTo>
                    <a:pt x="44" y="152"/>
                  </a:lnTo>
                  <a:lnTo>
                    <a:pt x="52" y="130"/>
                  </a:lnTo>
                  <a:lnTo>
                    <a:pt x="62" y="108"/>
                  </a:lnTo>
                  <a:lnTo>
                    <a:pt x="74" y="90"/>
                  </a:lnTo>
                  <a:lnTo>
                    <a:pt x="84" y="72"/>
                  </a:lnTo>
                  <a:lnTo>
                    <a:pt x="98" y="56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122" y="32"/>
                  </a:lnTo>
                  <a:lnTo>
                    <a:pt x="134" y="24"/>
                  </a:lnTo>
                  <a:lnTo>
                    <a:pt x="146" y="16"/>
                  </a:lnTo>
                  <a:lnTo>
                    <a:pt x="160" y="12"/>
                  </a:lnTo>
                  <a:lnTo>
                    <a:pt x="176" y="6"/>
                  </a:lnTo>
                  <a:lnTo>
                    <a:pt x="192" y="4"/>
                  </a:lnTo>
                  <a:lnTo>
                    <a:pt x="208" y="2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58" y="2"/>
                  </a:lnTo>
                  <a:lnTo>
                    <a:pt x="286" y="8"/>
                  </a:lnTo>
                  <a:lnTo>
                    <a:pt x="310" y="16"/>
                  </a:lnTo>
                  <a:lnTo>
                    <a:pt x="320" y="20"/>
                  </a:lnTo>
                  <a:lnTo>
                    <a:pt x="330" y="26"/>
                  </a:lnTo>
                  <a:lnTo>
                    <a:pt x="330" y="26"/>
                  </a:lnTo>
                  <a:lnTo>
                    <a:pt x="346" y="42"/>
                  </a:lnTo>
                  <a:lnTo>
                    <a:pt x="362" y="60"/>
                  </a:lnTo>
                  <a:lnTo>
                    <a:pt x="374" y="82"/>
                  </a:lnTo>
                  <a:lnTo>
                    <a:pt x="386" y="106"/>
                  </a:lnTo>
                  <a:lnTo>
                    <a:pt x="386" y="106"/>
                  </a:lnTo>
                  <a:lnTo>
                    <a:pt x="398" y="136"/>
                  </a:lnTo>
                  <a:lnTo>
                    <a:pt x="406" y="168"/>
                  </a:lnTo>
                  <a:lnTo>
                    <a:pt x="414" y="204"/>
                  </a:lnTo>
                  <a:lnTo>
                    <a:pt x="422" y="244"/>
                  </a:lnTo>
                  <a:lnTo>
                    <a:pt x="296" y="290"/>
                  </a:lnTo>
                  <a:lnTo>
                    <a:pt x="296" y="290"/>
                  </a:lnTo>
                  <a:lnTo>
                    <a:pt x="292" y="266"/>
                  </a:lnTo>
                  <a:lnTo>
                    <a:pt x="286" y="246"/>
                  </a:lnTo>
                  <a:lnTo>
                    <a:pt x="278" y="230"/>
                  </a:lnTo>
                  <a:lnTo>
                    <a:pt x="270" y="216"/>
                  </a:lnTo>
                  <a:lnTo>
                    <a:pt x="270" y="216"/>
                  </a:lnTo>
                  <a:lnTo>
                    <a:pt x="260" y="204"/>
                  </a:lnTo>
                  <a:lnTo>
                    <a:pt x="248" y="196"/>
                  </a:lnTo>
                  <a:lnTo>
                    <a:pt x="236" y="190"/>
                  </a:lnTo>
                  <a:lnTo>
                    <a:pt x="222" y="190"/>
                  </a:lnTo>
                  <a:lnTo>
                    <a:pt x="222" y="190"/>
                  </a:lnTo>
                  <a:lnTo>
                    <a:pt x="212" y="190"/>
                  </a:lnTo>
                  <a:lnTo>
                    <a:pt x="202" y="194"/>
                  </a:lnTo>
                  <a:lnTo>
                    <a:pt x="194" y="198"/>
                  </a:lnTo>
                  <a:lnTo>
                    <a:pt x="184" y="204"/>
                  </a:lnTo>
                  <a:lnTo>
                    <a:pt x="176" y="214"/>
                  </a:lnTo>
                  <a:lnTo>
                    <a:pt x="168" y="224"/>
                  </a:lnTo>
                  <a:lnTo>
                    <a:pt x="162" y="236"/>
                  </a:lnTo>
                  <a:lnTo>
                    <a:pt x="154" y="250"/>
                  </a:lnTo>
                  <a:lnTo>
                    <a:pt x="154" y="250"/>
                  </a:lnTo>
                  <a:lnTo>
                    <a:pt x="148" y="266"/>
                  </a:lnTo>
                  <a:lnTo>
                    <a:pt x="144" y="284"/>
                  </a:lnTo>
                  <a:lnTo>
                    <a:pt x="136" y="328"/>
                  </a:lnTo>
                  <a:lnTo>
                    <a:pt x="130" y="380"/>
                  </a:lnTo>
                  <a:lnTo>
                    <a:pt x="130" y="442"/>
                  </a:lnTo>
                  <a:lnTo>
                    <a:pt x="130" y="442"/>
                  </a:lnTo>
                  <a:lnTo>
                    <a:pt x="130" y="506"/>
                  </a:lnTo>
                  <a:lnTo>
                    <a:pt x="136" y="562"/>
                  </a:lnTo>
                  <a:lnTo>
                    <a:pt x="140" y="586"/>
                  </a:lnTo>
                  <a:lnTo>
                    <a:pt x="144" y="606"/>
                  </a:lnTo>
                  <a:lnTo>
                    <a:pt x="148" y="624"/>
                  </a:lnTo>
                  <a:lnTo>
                    <a:pt x="154" y="642"/>
                  </a:lnTo>
                  <a:lnTo>
                    <a:pt x="154" y="642"/>
                  </a:lnTo>
                  <a:lnTo>
                    <a:pt x="162" y="656"/>
                  </a:lnTo>
                  <a:lnTo>
                    <a:pt x="170" y="668"/>
                  </a:lnTo>
                  <a:lnTo>
                    <a:pt x="178" y="678"/>
                  </a:lnTo>
                  <a:lnTo>
                    <a:pt x="186" y="686"/>
                  </a:lnTo>
                  <a:lnTo>
                    <a:pt x="194" y="692"/>
                  </a:lnTo>
                  <a:lnTo>
                    <a:pt x="204" y="698"/>
                  </a:lnTo>
                  <a:lnTo>
                    <a:pt x="216" y="700"/>
                  </a:lnTo>
                  <a:lnTo>
                    <a:pt x="226" y="700"/>
                  </a:lnTo>
                  <a:lnTo>
                    <a:pt x="226" y="700"/>
                  </a:lnTo>
                  <a:lnTo>
                    <a:pt x="238" y="700"/>
                  </a:lnTo>
                  <a:lnTo>
                    <a:pt x="248" y="698"/>
                  </a:lnTo>
                  <a:lnTo>
                    <a:pt x="258" y="694"/>
                  </a:lnTo>
                  <a:lnTo>
                    <a:pt x="268" y="688"/>
                  </a:lnTo>
                  <a:lnTo>
                    <a:pt x="268" y="688"/>
                  </a:lnTo>
                  <a:lnTo>
                    <a:pt x="278" y="680"/>
                  </a:lnTo>
                  <a:lnTo>
                    <a:pt x="290" y="670"/>
                  </a:lnTo>
                  <a:lnTo>
                    <a:pt x="314" y="644"/>
                  </a:lnTo>
                  <a:lnTo>
                    <a:pt x="314" y="564"/>
                  </a:lnTo>
                  <a:lnTo>
                    <a:pt x="226" y="5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2"/>
            <p:cNvSpPr/>
            <p:nvPr/>
          </p:nvSpPr>
          <p:spPr>
            <a:xfrm>
              <a:off x="9499680" y="526680"/>
              <a:ext cx="637920" cy="136224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1362240"/>
                <a:gd name="textAreaBottom" fmla="*/ 1362240 h 1362240"/>
              </a:gdLst>
              <a:ahLst/>
              <a:rect l="textAreaLeft" t="textAreaTop" r="textAreaRight" b="textAreaBottom"/>
              <a:pathLst>
                <a:path w="402" h="858">
                  <a:moveTo>
                    <a:pt x="0" y="0"/>
                  </a:moveTo>
                  <a:lnTo>
                    <a:pt x="130" y="0"/>
                  </a:lnTo>
                  <a:lnTo>
                    <a:pt x="130" y="300"/>
                  </a:lnTo>
                  <a:lnTo>
                    <a:pt x="272" y="300"/>
                  </a:lnTo>
                  <a:lnTo>
                    <a:pt x="272" y="0"/>
                  </a:lnTo>
                  <a:lnTo>
                    <a:pt x="402" y="0"/>
                  </a:lnTo>
                  <a:lnTo>
                    <a:pt x="402" y="858"/>
                  </a:lnTo>
                  <a:lnTo>
                    <a:pt x="272" y="858"/>
                  </a:lnTo>
                  <a:lnTo>
                    <a:pt x="272" y="510"/>
                  </a:lnTo>
                  <a:lnTo>
                    <a:pt x="130" y="510"/>
                  </a:lnTo>
                  <a:lnTo>
                    <a:pt x="130" y="858"/>
                  </a:lnTo>
                  <a:lnTo>
                    <a:pt x="0" y="8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グループ化 102"/>
          <p:cNvGrpSpPr/>
          <p:nvPr/>
        </p:nvGrpSpPr>
        <p:grpSpPr>
          <a:xfrm>
            <a:off x="2724120" y="9680400"/>
            <a:ext cx="4889520" cy="22777560"/>
            <a:chOff x="2724120" y="9680400"/>
            <a:chExt cx="4889520" cy="22777560"/>
          </a:xfrm>
        </p:grpSpPr>
        <p:sp>
          <p:nvSpPr>
            <p:cNvPr id="137" name="Freeform 5"/>
            <p:cNvSpPr/>
            <p:nvPr/>
          </p:nvSpPr>
          <p:spPr>
            <a:xfrm>
              <a:off x="2724120" y="9680400"/>
              <a:ext cx="4883400" cy="4635360"/>
            </a:xfrm>
            <a:custGeom>
              <a:avLst/>
              <a:gdLst>
                <a:gd name="textAreaLeft" fmla="*/ 0 w 4883400"/>
                <a:gd name="textAreaRight" fmla="*/ 4883760 w 4883400"/>
                <a:gd name="textAreaTop" fmla="*/ 0 h 4635360"/>
                <a:gd name="textAreaBottom" fmla="*/ 4635720 h 4635360"/>
              </a:gdLst>
              <a:ahLst/>
              <a:rect l="textAreaLeft" t="textAreaTop" r="textAreaRight" b="textAreaBottom"/>
              <a:pathLst>
                <a:path w="3076" h="2920">
                  <a:moveTo>
                    <a:pt x="846" y="2212"/>
                  </a:moveTo>
                  <a:lnTo>
                    <a:pt x="846" y="2212"/>
                  </a:lnTo>
                  <a:lnTo>
                    <a:pt x="874" y="2256"/>
                  </a:lnTo>
                  <a:lnTo>
                    <a:pt x="886" y="2272"/>
                  </a:lnTo>
                  <a:lnTo>
                    <a:pt x="900" y="2288"/>
                  </a:lnTo>
                  <a:lnTo>
                    <a:pt x="914" y="2302"/>
                  </a:lnTo>
                  <a:lnTo>
                    <a:pt x="930" y="2316"/>
                  </a:lnTo>
                  <a:lnTo>
                    <a:pt x="972" y="2344"/>
                  </a:lnTo>
                  <a:lnTo>
                    <a:pt x="972" y="2344"/>
                  </a:lnTo>
                  <a:lnTo>
                    <a:pt x="978" y="2278"/>
                  </a:lnTo>
                  <a:lnTo>
                    <a:pt x="984" y="2200"/>
                  </a:lnTo>
                  <a:lnTo>
                    <a:pt x="986" y="2108"/>
                  </a:lnTo>
                  <a:lnTo>
                    <a:pt x="988" y="2006"/>
                  </a:lnTo>
                  <a:lnTo>
                    <a:pt x="988" y="1022"/>
                  </a:lnTo>
                  <a:lnTo>
                    <a:pt x="988" y="1022"/>
                  </a:lnTo>
                  <a:lnTo>
                    <a:pt x="988" y="910"/>
                  </a:lnTo>
                  <a:lnTo>
                    <a:pt x="984" y="818"/>
                  </a:lnTo>
                  <a:lnTo>
                    <a:pt x="980" y="734"/>
                  </a:lnTo>
                  <a:lnTo>
                    <a:pt x="972" y="646"/>
                  </a:lnTo>
                  <a:lnTo>
                    <a:pt x="972" y="646"/>
                  </a:lnTo>
                  <a:lnTo>
                    <a:pt x="1048" y="652"/>
                  </a:lnTo>
                  <a:lnTo>
                    <a:pt x="1128" y="656"/>
                  </a:lnTo>
                  <a:lnTo>
                    <a:pt x="1222" y="658"/>
                  </a:lnTo>
                  <a:lnTo>
                    <a:pt x="1336" y="658"/>
                  </a:lnTo>
                  <a:lnTo>
                    <a:pt x="1424" y="658"/>
                  </a:lnTo>
                  <a:lnTo>
                    <a:pt x="1424" y="658"/>
                  </a:lnTo>
                  <a:lnTo>
                    <a:pt x="1324" y="596"/>
                  </a:lnTo>
                  <a:lnTo>
                    <a:pt x="1288" y="574"/>
                  </a:lnTo>
                  <a:lnTo>
                    <a:pt x="1242" y="550"/>
                  </a:lnTo>
                  <a:lnTo>
                    <a:pt x="1418" y="452"/>
                  </a:lnTo>
                  <a:lnTo>
                    <a:pt x="1272" y="452"/>
                  </a:lnTo>
                  <a:lnTo>
                    <a:pt x="1272" y="452"/>
                  </a:lnTo>
                  <a:lnTo>
                    <a:pt x="1168" y="454"/>
                  </a:lnTo>
                  <a:lnTo>
                    <a:pt x="1084" y="456"/>
                  </a:lnTo>
                  <a:lnTo>
                    <a:pt x="1010" y="460"/>
                  </a:lnTo>
                  <a:lnTo>
                    <a:pt x="938" y="468"/>
                  </a:lnTo>
                  <a:lnTo>
                    <a:pt x="938" y="22"/>
                  </a:lnTo>
                  <a:lnTo>
                    <a:pt x="938" y="22"/>
                  </a:lnTo>
                  <a:lnTo>
                    <a:pt x="1022" y="30"/>
                  </a:lnTo>
                  <a:lnTo>
                    <a:pt x="1116" y="36"/>
                  </a:lnTo>
                  <a:lnTo>
                    <a:pt x="1226" y="40"/>
                  </a:lnTo>
                  <a:lnTo>
                    <a:pt x="1358" y="40"/>
                  </a:lnTo>
                  <a:lnTo>
                    <a:pt x="2302" y="40"/>
                  </a:lnTo>
                  <a:lnTo>
                    <a:pt x="2302" y="40"/>
                  </a:lnTo>
                  <a:lnTo>
                    <a:pt x="2452" y="40"/>
                  </a:lnTo>
                  <a:lnTo>
                    <a:pt x="2564" y="36"/>
                  </a:lnTo>
                  <a:lnTo>
                    <a:pt x="2644" y="30"/>
                  </a:lnTo>
                  <a:lnTo>
                    <a:pt x="2674" y="26"/>
                  </a:lnTo>
                  <a:lnTo>
                    <a:pt x="2700" y="22"/>
                  </a:lnTo>
                  <a:lnTo>
                    <a:pt x="2934" y="276"/>
                  </a:lnTo>
                  <a:lnTo>
                    <a:pt x="2934" y="276"/>
                  </a:lnTo>
                  <a:lnTo>
                    <a:pt x="2908" y="294"/>
                  </a:lnTo>
                  <a:lnTo>
                    <a:pt x="2884" y="312"/>
                  </a:lnTo>
                  <a:lnTo>
                    <a:pt x="2786" y="398"/>
                  </a:lnTo>
                  <a:lnTo>
                    <a:pt x="2786" y="398"/>
                  </a:lnTo>
                  <a:lnTo>
                    <a:pt x="2708" y="468"/>
                  </a:lnTo>
                  <a:lnTo>
                    <a:pt x="2626" y="536"/>
                  </a:lnTo>
                  <a:lnTo>
                    <a:pt x="2544" y="602"/>
                  </a:lnTo>
                  <a:lnTo>
                    <a:pt x="2466" y="658"/>
                  </a:lnTo>
                  <a:lnTo>
                    <a:pt x="2612" y="658"/>
                  </a:lnTo>
                  <a:lnTo>
                    <a:pt x="2612" y="658"/>
                  </a:lnTo>
                  <a:lnTo>
                    <a:pt x="2706" y="658"/>
                  </a:lnTo>
                  <a:lnTo>
                    <a:pt x="2784" y="656"/>
                  </a:lnTo>
                  <a:lnTo>
                    <a:pt x="2850" y="652"/>
                  </a:lnTo>
                  <a:lnTo>
                    <a:pt x="2912" y="646"/>
                  </a:lnTo>
                  <a:lnTo>
                    <a:pt x="2912" y="646"/>
                  </a:lnTo>
                  <a:lnTo>
                    <a:pt x="2906" y="708"/>
                  </a:lnTo>
                  <a:lnTo>
                    <a:pt x="2902" y="782"/>
                  </a:lnTo>
                  <a:lnTo>
                    <a:pt x="2900" y="872"/>
                  </a:lnTo>
                  <a:lnTo>
                    <a:pt x="2900" y="984"/>
                  </a:lnTo>
                  <a:lnTo>
                    <a:pt x="2900" y="2026"/>
                  </a:lnTo>
                  <a:lnTo>
                    <a:pt x="2900" y="2026"/>
                  </a:lnTo>
                  <a:lnTo>
                    <a:pt x="2898" y="2082"/>
                  </a:lnTo>
                  <a:lnTo>
                    <a:pt x="2894" y="2130"/>
                  </a:lnTo>
                  <a:lnTo>
                    <a:pt x="2886" y="2172"/>
                  </a:lnTo>
                  <a:lnTo>
                    <a:pt x="2880" y="2190"/>
                  </a:lnTo>
                  <a:lnTo>
                    <a:pt x="2874" y="2206"/>
                  </a:lnTo>
                  <a:lnTo>
                    <a:pt x="2868" y="2222"/>
                  </a:lnTo>
                  <a:lnTo>
                    <a:pt x="2860" y="2236"/>
                  </a:lnTo>
                  <a:lnTo>
                    <a:pt x="2850" y="2248"/>
                  </a:lnTo>
                  <a:lnTo>
                    <a:pt x="2840" y="2260"/>
                  </a:lnTo>
                  <a:lnTo>
                    <a:pt x="2828" y="2272"/>
                  </a:lnTo>
                  <a:lnTo>
                    <a:pt x="2814" y="2282"/>
                  </a:lnTo>
                  <a:lnTo>
                    <a:pt x="2786" y="2300"/>
                  </a:lnTo>
                  <a:lnTo>
                    <a:pt x="2786" y="2300"/>
                  </a:lnTo>
                  <a:lnTo>
                    <a:pt x="2760" y="2312"/>
                  </a:lnTo>
                  <a:lnTo>
                    <a:pt x="2730" y="2322"/>
                  </a:lnTo>
                  <a:lnTo>
                    <a:pt x="2694" y="2330"/>
                  </a:lnTo>
                  <a:lnTo>
                    <a:pt x="2654" y="2336"/>
                  </a:lnTo>
                  <a:lnTo>
                    <a:pt x="2606" y="2342"/>
                  </a:lnTo>
                  <a:lnTo>
                    <a:pt x="2554" y="2346"/>
                  </a:lnTo>
                  <a:lnTo>
                    <a:pt x="2496" y="2348"/>
                  </a:lnTo>
                  <a:lnTo>
                    <a:pt x="2430" y="2348"/>
                  </a:lnTo>
                  <a:lnTo>
                    <a:pt x="2430" y="2348"/>
                  </a:lnTo>
                  <a:lnTo>
                    <a:pt x="2324" y="2348"/>
                  </a:lnTo>
                  <a:lnTo>
                    <a:pt x="2324" y="2348"/>
                  </a:lnTo>
                  <a:lnTo>
                    <a:pt x="2310" y="2254"/>
                  </a:lnTo>
                  <a:lnTo>
                    <a:pt x="2294" y="2176"/>
                  </a:lnTo>
                  <a:lnTo>
                    <a:pt x="2284" y="2138"/>
                  </a:lnTo>
                  <a:lnTo>
                    <a:pt x="2274" y="2102"/>
                  </a:lnTo>
                  <a:lnTo>
                    <a:pt x="2248" y="2022"/>
                  </a:lnTo>
                  <a:lnTo>
                    <a:pt x="2248" y="2022"/>
                  </a:lnTo>
                  <a:lnTo>
                    <a:pt x="2322" y="2030"/>
                  </a:lnTo>
                  <a:lnTo>
                    <a:pt x="2384" y="2032"/>
                  </a:lnTo>
                  <a:lnTo>
                    <a:pt x="2384" y="2032"/>
                  </a:lnTo>
                  <a:lnTo>
                    <a:pt x="2400" y="2032"/>
                  </a:lnTo>
                  <a:lnTo>
                    <a:pt x="2414" y="2030"/>
                  </a:lnTo>
                  <a:lnTo>
                    <a:pt x="2424" y="2026"/>
                  </a:lnTo>
                  <a:lnTo>
                    <a:pt x="2430" y="2020"/>
                  </a:lnTo>
                  <a:lnTo>
                    <a:pt x="2436" y="2012"/>
                  </a:lnTo>
                  <a:lnTo>
                    <a:pt x="2438" y="2000"/>
                  </a:lnTo>
                  <a:lnTo>
                    <a:pt x="2440" y="1986"/>
                  </a:lnTo>
                  <a:lnTo>
                    <a:pt x="2440" y="1966"/>
                  </a:lnTo>
                  <a:lnTo>
                    <a:pt x="2440" y="1902"/>
                  </a:lnTo>
                  <a:lnTo>
                    <a:pt x="2152" y="1902"/>
                  </a:lnTo>
                  <a:lnTo>
                    <a:pt x="2152" y="1994"/>
                  </a:lnTo>
                  <a:lnTo>
                    <a:pt x="2152" y="1994"/>
                  </a:lnTo>
                  <a:lnTo>
                    <a:pt x="2154" y="2114"/>
                  </a:lnTo>
                  <a:lnTo>
                    <a:pt x="2156" y="2202"/>
                  </a:lnTo>
                  <a:lnTo>
                    <a:pt x="2160" y="2274"/>
                  </a:lnTo>
                  <a:lnTo>
                    <a:pt x="2168" y="2348"/>
                  </a:lnTo>
                  <a:lnTo>
                    <a:pt x="1690" y="2348"/>
                  </a:lnTo>
                  <a:lnTo>
                    <a:pt x="1690" y="2348"/>
                  </a:lnTo>
                  <a:lnTo>
                    <a:pt x="1698" y="2276"/>
                  </a:lnTo>
                  <a:lnTo>
                    <a:pt x="1704" y="2200"/>
                  </a:lnTo>
                  <a:lnTo>
                    <a:pt x="1708" y="2108"/>
                  </a:lnTo>
                  <a:lnTo>
                    <a:pt x="1710" y="1994"/>
                  </a:lnTo>
                  <a:lnTo>
                    <a:pt x="1710" y="1902"/>
                  </a:lnTo>
                  <a:lnTo>
                    <a:pt x="1446" y="1902"/>
                  </a:lnTo>
                  <a:lnTo>
                    <a:pt x="1446" y="2006"/>
                  </a:lnTo>
                  <a:lnTo>
                    <a:pt x="1446" y="2006"/>
                  </a:lnTo>
                  <a:lnTo>
                    <a:pt x="1448" y="2128"/>
                  </a:lnTo>
                  <a:lnTo>
                    <a:pt x="1450" y="2226"/>
                  </a:lnTo>
                  <a:lnTo>
                    <a:pt x="1452" y="2266"/>
                  </a:lnTo>
                  <a:lnTo>
                    <a:pt x="1456" y="2302"/>
                  </a:lnTo>
                  <a:lnTo>
                    <a:pt x="1460" y="2332"/>
                  </a:lnTo>
                  <a:lnTo>
                    <a:pt x="1466" y="2358"/>
                  </a:lnTo>
                  <a:lnTo>
                    <a:pt x="998" y="2358"/>
                  </a:lnTo>
                  <a:lnTo>
                    <a:pt x="998" y="2358"/>
                  </a:lnTo>
                  <a:lnTo>
                    <a:pt x="1030" y="2372"/>
                  </a:lnTo>
                  <a:lnTo>
                    <a:pt x="1060" y="2386"/>
                  </a:lnTo>
                  <a:lnTo>
                    <a:pt x="1090" y="2396"/>
                  </a:lnTo>
                  <a:lnTo>
                    <a:pt x="1120" y="2404"/>
                  </a:lnTo>
                  <a:lnTo>
                    <a:pt x="1156" y="2412"/>
                  </a:lnTo>
                  <a:lnTo>
                    <a:pt x="1194" y="2418"/>
                  </a:lnTo>
                  <a:lnTo>
                    <a:pt x="1240" y="2422"/>
                  </a:lnTo>
                  <a:lnTo>
                    <a:pt x="1292" y="2428"/>
                  </a:lnTo>
                  <a:lnTo>
                    <a:pt x="1292" y="2428"/>
                  </a:lnTo>
                  <a:lnTo>
                    <a:pt x="1414" y="2432"/>
                  </a:lnTo>
                  <a:lnTo>
                    <a:pt x="1614" y="2440"/>
                  </a:lnTo>
                  <a:lnTo>
                    <a:pt x="1826" y="2444"/>
                  </a:lnTo>
                  <a:lnTo>
                    <a:pt x="1978" y="2446"/>
                  </a:lnTo>
                  <a:lnTo>
                    <a:pt x="1978" y="2446"/>
                  </a:lnTo>
                  <a:lnTo>
                    <a:pt x="2100" y="2444"/>
                  </a:lnTo>
                  <a:lnTo>
                    <a:pt x="2226" y="2442"/>
                  </a:lnTo>
                  <a:lnTo>
                    <a:pt x="2360" y="2436"/>
                  </a:lnTo>
                  <a:lnTo>
                    <a:pt x="2496" y="2428"/>
                  </a:lnTo>
                  <a:lnTo>
                    <a:pt x="2638" y="2418"/>
                  </a:lnTo>
                  <a:lnTo>
                    <a:pt x="2782" y="2404"/>
                  </a:lnTo>
                  <a:lnTo>
                    <a:pt x="2928" y="2390"/>
                  </a:lnTo>
                  <a:lnTo>
                    <a:pt x="3076" y="2374"/>
                  </a:lnTo>
                  <a:lnTo>
                    <a:pt x="3076" y="2374"/>
                  </a:lnTo>
                  <a:lnTo>
                    <a:pt x="3056" y="2440"/>
                  </a:lnTo>
                  <a:lnTo>
                    <a:pt x="3036" y="2502"/>
                  </a:lnTo>
                  <a:lnTo>
                    <a:pt x="3020" y="2564"/>
                  </a:lnTo>
                  <a:lnTo>
                    <a:pt x="3006" y="2624"/>
                  </a:lnTo>
                  <a:lnTo>
                    <a:pt x="2994" y="2686"/>
                  </a:lnTo>
                  <a:lnTo>
                    <a:pt x="2982" y="2748"/>
                  </a:lnTo>
                  <a:lnTo>
                    <a:pt x="2972" y="2816"/>
                  </a:lnTo>
                  <a:lnTo>
                    <a:pt x="2962" y="2890"/>
                  </a:lnTo>
                  <a:lnTo>
                    <a:pt x="2962" y="2890"/>
                  </a:lnTo>
                  <a:lnTo>
                    <a:pt x="2716" y="2898"/>
                  </a:lnTo>
                  <a:lnTo>
                    <a:pt x="2472" y="2902"/>
                  </a:lnTo>
                  <a:lnTo>
                    <a:pt x="2190" y="2904"/>
                  </a:lnTo>
                  <a:lnTo>
                    <a:pt x="1836" y="2906"/>
                  </a:lnTo>
                  <a:lnTo>
                    <a:pt x="1836" y="2906"/>
                  </a:lnTo>
                  <a:lnTo>
                    <a:pt x="1716" y="2904"/>
                  </a:lnTo>
                  <a:lnTo>
                    <a:pt x="1602" y="2902"/>
                  </a:lnTo>
                  <a:lnTo>
                    <a:pt x="1492" y="2898"/>
                  </a:lnTo>
                  <a:lnTo>
                    <a:pt x="1390" y="2894"/>
                  </a:lnTo>
                  <a:lnTo>
                    <a:pt x="1294" y="2888"/>
                  </a:lnTo>
                  <a:lnTo>
                    <a:pt x="1208" y="2880"/>
                  </a:lnTo>
                  <a:lnTo>
                    <a:pt x="1132" y="2870"/>
                  </a:lnTo>
                  <a:lnTo>
                    <a:pt x="1066" y="2860"/>
                  </a:lnTo>
                  <a:lnTo>
                    <a:pt x="1066" y="2860"/>
                  </a:lnTo>
                  <a:lnTo>
                    <a:pt x="1000" y="2846"/>
                  </a:lnTo>
                  <a:lnTo>
                    <a:pt x="970" y="2838"/>
                  </a:lnTo>
                  <a:lnTo>
                    <a:pt x="938" y="2828"/>
                  </a:lnTo>
                  <a:lnTo>
                    <a:pt x="910" y="2818"/>
                  </a:lnTo>
                  <a:lnTo>
                    <a:pt x="880" y="2806"/>
                  </a:lnTo>
                  <a:lnTo>
                    <a:pt x="852" y="2792"/>
                  </a:lnTo>
                  <a:lnTo>
                    <a:pt x="826" y="2778"/>
                  </a:lnTo>
                  <a:lnTo>
                    <a:pt x="798" y="2764"/>
                  </a:lnTo>
                  <a:lnTo>
                    <a:pt x="772" y="2746"/>
                  </a:lnTo>
                  <a:lnTo>
                    <a:pt x="746" y="2728"/>
                  </a:lnTo>
                  <a:lnTo>
                    <a:pt x="720" y="2708"/>
                  </a:lnTo>
                  <a:lnTo>
                    <a:pt x="696" y="2688"/>
                  </a:lnTo>
                  <a:lnTo>
                    <a:pt x="670" y="2664"/>
                  </a:lnTo>
                  <a:lnTo>
                    <a:pt x="618" y="2614"/>
                  </a:lnTo>
                  <a:lnTo>
                    <a:pt x="618" y="2614"/>
                  </a:lnTo>
                  <a:lnTo>
                    <a:pt x="570" y="2658"/>
                  </a:lnTo>
                  <a:lnTo>
                    <a:pt x="526" y="2698"/>
                  </a:lnTo>
                  <a:lnTo>
                    <a:pt x="484" y="2734"/>
                  </a:lnTo>
                  <a:lnTo>
                    <a:pt x="442" y="2768"/>
                  </a:lnTo>
                  <a:lnTo>
                    <a:pt x="398" y="2802"/>
                  </a:lnTo>
                  <a:lnTo>
                    <a:pt x="348" y="2838"/>
                  </a:lnTo>
                  <a:lnTo>
                    <a:pt x="228" y="2920"/>
                  </a:lnTo>
                  <a:lnTo>
                    <a:pt x="0" y="2430"/>
                  </a:lnTo>
                  <a:lnTo>
                    <a:pt x="0" y="2430"/>
                  </a:lnTo>
                  <a:lnTo>
                    <a:pt x="46" y="2410"/>
                  </a:lnTo>
                  <a:lnTo>
                    <a:pt x="94" y="2388"/>
                  </a:lnTo>
                  <a:lnTo>
                    <a:pt x="140" y="2362"/>
                  </a:lnTo>
                  <a:lnTo>
                    <a:pt x="188" y="2334"/>
                  </a:lnTo>
                  <a:lnTo>
                    <a:pt x="236" y="2304"/>
                  </a:lnTo>
                  <a:lnTo>
                    <a:pt x="284" y="2270"/>
                  </a:lnTo>
                  <a:lnTo>
                    <a:pt x="336" y="2236"/>
                  </a:lnTo>
                  <a:lnTo>
                    <a:pt x="386" y="2196"/>
                  </a:lnTo>
                  <a:lnTo>
                    <a:pt x="386" y="1608"/>
                  </a:lnTo>
                  <a:lnTo>
                    <a:pt x="254" y="1608"/>
                  </a:lnTo>
                  <a:lnTo>
                    <a:pt x="254" y="1608"/>
                  </a:lnTo>
                  <a:lnTo>
                    <a:pt x="208" y="1608"/>
                  </a:lnTo>
                  <a:lnTo>
                    <a:pt x="166" y="1610"/>
                  </a:lnTo>
                  <a:lnTo>
                    <a:pt x="120" y="1616"/>
                  </a:lnTo>
                  <a:lnTo>
                    <a:pt x="64" y="1624"/>
                  </a:lnTo>
                  <a:lnTo>
                    <a:pt x="64" y="1140"/>
                  </a:lnTo>
                  <a:lnTo>
                    <a:pt x="64" y="1140"/>
                  </a:lnTo>
                  <a:lnTo>
                    <a:pt x="126" y="1146"/>
                  </a:lnTo>
                  <a:lnTo>
                    <a:pt x="184" y="1152"/>
                  </a:lnTo>
                  <a:lnTo>
                    <a:pt x="244" y="1154"/>
                  </a:lnTo>
                  <a:lnTo>
                    <a:pt x="320" y="1154"/>
                  </a:lnTo>
                  <a:lnTo>
                    <a:pt x="614" y="1154"/>
                  </a:lnTo>
                  <a:lnTo>
                    <a:pt x="614" y="1154"/>
                  </a:lnTo>
                  <a:lnTo>
                    <a:pt x="682" y="1154"/>
                  </a:lnTo>
                  <a:lnTo>
                    <a:pt x="744" y="1152"/>
                  </a:lnTo>
                  <a:lnTo>
                    <a:pt x="802" y="1146"/>
                  </a:lnTo>
                  <a:lnTo>
                    <a:pt x="858" y="1140"/>
                  </a:lnTo>
                  <a:lnTo>
                    <a:pt x="858" y="1140"/>
                  </a:lnTo>
                  <a:lnTo>
                    <a:pt x="852" y="1208"/>
                  </a:lnTo>
                  <a:lnTo>
                    <a:pt x="848" y="1284"/>
                  </a:lnTo>
                  <a:lnTo>
                    <a:pt x="846" y="1378"/>
                  </a:lnTo>
                  <a:lnTo>
                    <a:pt x="846" y="1500"/>
                  </a:lnTo>
                  <a:lnTo>
                    <a:pt x="846" y="2212"/>
                  </a:lnTo>
                  <a:close/>
                  <a:moveTo>
                    <a:pt x="374" y="0"/>
                  </a:moveTo>
                  <a:lnTo>
                    <a:pt x="374" y="0"/>
                  </a:lnTo>
                  <a:lnTo>
                    <a:pt x="468" y="78"/>
                  </a:lnTo>
                  <a:lnTo>
                    <a:pt x="554" y="152"/>
                  </a:lnTo>
                  <a:lnTo>
                    <a:pt x="632" y="224"/>
                  </a:lnTo>
                  <a:lnTo>
                    <a:pt x="706" y="294"/>
                  </a:lnTo>
                  <a:lnTo>
                    <a:pt x="774" y="362"/>
                  </a:lnTo>
                  <a:lnTo>
                    <a:pt x="840" y="434"/>
                  </a:lnTo>
                  <a:lnTo>
                    <a:pt x="902" y="506"/>
                  </a:lnTo>
                  <a:lnTo>
                    <a:pt x="966" y="582"/>
                  </a:lnTo>
                  <a:lnTo>
                    <a:pt x="598" y="952"/>
                  </a:lnTo>
                  <a:lnTo>
                    <a:pt x="598" y="952"/>
                  </a:lnTo>
                  <a:lnTo>
                    <a:pt x="526" y="860"/>
                  </a:lnTo>
                  <a:lnTo>
                    <a:pt x="458" y="776"/>
                  </a:lnTo>
                  <a:lnTo>
                    <a:pt x="392" y="700"/>
                  </a:lnTo>
                  <a:lnTo>
                    <a:pt x="326" y="628"/>
                  </a:lnTo>
                  <a:lnTo>
                    <a:pt x="256" y="558"/>
                  </a:lnTo>
                  <a:lnTo>
                    <a:pt x="184" y="490"/>
                  </a:lnTo>
                  <a:lnTo>
                    <a:pt x="104" y="420"/>
                  </a:lnTo>
                  <a:lnTo>
                    <a:pt x="16" y="344"/>
                  </a:lnTo>
                  <a:lnTo>
                    <a:pt x="374" y="0"/>
                  </a:lnTo>
                  <a:close/>
                  <a:moveTo>
                    <a:pt x="1446" y="1016"/>
                  </a:moveTo>
                  <a:lnTo>
                    <a:pt x="1446" y="1146"/>
                  </a:lnTo>
                  <a:lnTo>
                    <a:pt x="1710" y="1146"/>
                  </a:lnTo>
                  <a:lnTo>
                    <a:pt x="1710" y="1016"/>
                  </a:lnTo>
                  <a:lnTo>
                    <a:pt x="1446" y="1016"/>
                  </a:lnTo>
                  <a:close/>
                  <a:moveTo>
                    <a:pt x="1446" y="1582"/>
                  </a:moveTo>
                  <a:lnTo>
                    <a:pt x="1710" y="1582"/>
                  </a:lnTo>
                  <a:lnTo>
                    <a:pt x="1710" y="1450"/>
                  </a:lnTo>
                  <a:lnTo>
                    <a:pt x="1446" y="1450"/>
                  </a:lnTo>
                  <a:lnTo>
                    <a:pt x="1446" y="1582"/>
                  </a:lnTo>
                  <a:close/>
                  <a:moveTo>
                    <a:pt x="1722" y="452"/>
                  </a:moveTo>
                  <a:lnTo>
                    <a:pt x="1722" y="452"/>
                  </a:lnTo>
                  <a:lnTo>
                    <a:pt x="1782" y="496"/>
                  </a:lnTo>
                  <a:lnTo>
                    <a:pt x="1834" y="536"/>
                  </a:lnTo>
                  <a:lnTo>
                    <a:pt x="1946" y="626"/>
                  </a:lnTo>
                  <a:lnTo>
                    <a:pt x="1946" y="626"/>
                  </a:lnTo>
                  <a:lnTo>
                    <a:pt x="2006" y="586"/>
                  </a:lnTo>
                  <a:lnTo>
                    <a:pt x="2058" y="546"/>
                  </a:lnTo>
                  <a:lnTo>
                    <a:pt x="2108" y="502"/>
                  </a:lnTo>
                  <a:lnTo>
                    <a:pt x="2166" y="452"/>
                  </a:lnTo>
                  <a:lnTo>
                    <a:pt x="1722" y="452"/>
                  </a:lnTo>
                  <a:close/>
                  <a:moveTo>
                    <a:pt x="2152" y="1146"/>
                  </a:moveTo>
                  <a:lnTo>
                    <a:pt x="2440" y="1146"/>
                  </a:lnTo>
                  <a:lnTo>
                    <a:pt x="2440" y="1016"/>
                  </a:lnTo>
                  <a:lnTo>
                    <a:pt x="2152" y="1016"/>
                  </a:lnTo>
                  <a:lnTo>
                    <a:pt x="2152" y="1146"/>
                  </a:lnTo>
                  <a:close/>
                  <a:moveTo>
                    <a:pt x="2440" y="1450"/>
                  </a:moveTo>
                  <a:lnTo>
                    <a:pt x="2152" y="1450"/>
                  </a:lnTo>
                  <a:lnTo>
                    <a:pt x="2152" y="1582"/>
                  </a:lnTo>
                  <a:lnTo>
                    <a:pt x="2440" y="1582"/>
                  </a:lnTo>
                  <a:lnTo>
                    <a:pt x="2440" y="1450"/>
                  </a:lnTo>
                  <a:close/>
                </a:path>
              </a:pathLst>
            </a:custGeom>
            <a:solidFill>
              <a:srgbClr val="e60012"/>
            </a:solidFill>
            <a:ln w="1333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508200" y="15795360"/>
              <a:ext cx="3416400" cy="4572000"/>
            </a:xfrm>
            <a:custGeom>
              <a:avLst/>
              <a:gdLst>
                <a:gd name="textAreaLeft" fmla="*/ 0 w 3416400"/>
                <a:gd name="textAreaRight" fmla="*/ 3416760 w 341640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2152" h="2880">
                  <a:moveTo>
                    <a:pt x="646" y="22"/>
                  </a:moveTo>
                  <a:lnTo>
                    <a:pt x="646" y="22"/>
                  </a:lnTo>
                  <a:lnTo>
                    <a:pt x="630" y="74"/>
                  </a:lnTo>
                  <a:lnTo>
                    <a:pt x="614" y="136"/>
                  </a:lnTo>
                  <a:lnTo>
                    <a:pt x="598" y="204"/>
                  </a:lnTo>
                  <a:lnTo>
                    <a:pt x="582" y="282"/>
                  </a:lnTo>
                  <a:lnTo>
                    <a:pt x="566" y="370"/>
                  </a:lnTo>
                  <a:lnTo>
                    <a:pt x="550" y="468"/>
                  </a:lnTo>
                  <a:lnTo>
                    <a:pt x="516" y="698"/>
                  </a:lnTo>
                  <a:lnTo>
                    <a:pt x="516" y="698"/>
                  </a:lnTo>
                  <a:lnTo>
                    <a:pt x="556" y="632"/>
                  </a:lnTo>
                  <a:lnTo>
                    <a:pt x="596" y="568"/>
                  </a:lnTo>
                  <a:lnTo>
                    <a:pt x="638" y="510"/>
                  </a:lnTo>
                  <a:lnTo>
                    <a:pt x="680" y="456"/>
                  </a:lnTo>
                  <a:lnTo>
                    <a:pt x="724" y="408"/>
                  </a:lnTo>
                  <a:lnTo>
                    <a:pt x="770" y="362"/>
                  </a:lnTo>
                  <a:lnTo>
                    <a:pt x="818" y="322"/>
                  </a:lnTo>
                  <a:lnTo>
                    <a:pt x="866" y="286"/>
                  </a:lnTo>
                  <a:lnTo>
                    <a:pt x="916" y="254"/>
                  </a:lnTo>
                  <a:lnTo>
                    <a:pt x="968" y="226"/>
                  </a:lnTo>
                  <a:lnTo>
                    <a:pt x="1022" y="204"/>
                  </a:lnTo>
                  <a:lnTo>
                    <a:pt x="1078" y="184"/>
                  </a:lnTo>
                  <a:lnTo>
                    <a:pt x="1134" y="170"/>
                  </a:lnTo>
                  <a:lnTo>
                    <a:pt x="1194" y="160"/>
                  </a:lnTo>
                  <a:lnTo>
                    <a:pt x="1254" y="154"/>
                  </a:lnTo>
                  <a:lnTo>
                    <a:pt x="1316" y="152"/>
                  </a:lnTo>
                  <a:lnTo>
                    <a:pt x="1316" y="152"/>
                  </a:lnTo>
                  <a:lnTo>
                    <a:pt x="1356" y="152"/>
                  </a:lnTo>
                  <a:lnTo>
                    <a:pt x="1398" y="156"/>
                  </a:lnTo>
                  <a:lnTo>
                    <a:pt x="1436" y="162"/>
                  </a:lnTo>
                  <a:lnTo>
                    <a:pt x="1476" y="170"/>
                  </a:lnTo>
                  <a:lnTo>
                    <a:pt x="1516" y="182"/>
                  </a:lnTo>
                  <a:lnTo>
                    <a:pt x="1554" y="194"/>
                  </a:lnTo>
                  <a:lnTo>
                    <a:pt x="1592" y="210"/>
                  </a:lnTo>
                  <a:lnTo>
                    <a:pt x="1630" y="228"/>
                  </a:lnTo>
                  <a:lnTo>
                    <a:pt x="1666" y="248"/>
                  </a:lnTo>
                  <a:lnTo>
                    <a:pt x="1702" y="268"/>
                  </a:lnTo>
                  <a:lnTo>
                    <a:pt x="1736" y="292"/>
                  </a:lnTo>
                  <a:lnTo>
                    <a:pt x="1768" y="318"/>
                  </a:lnTo>
                  <a:lnTo>
                    <a:pt x="1802" y="346"/>
                  </a:lnTo>
                  <a:lnTo>
                    <a:pt x="1832" y="376"/>
                  </a:lnTo>
                  <a:lnTo>
                    <a:pt x="1862" y="406"/>
                  </a:lnTo>
                  <a:lnTo>
                    <a:pt x="1890" y="440"/>
                  </a:lnTo>
                  <a:lnTo>
                    <a:pt x="1890" y="440"/>
                  </a:lnTo>
                  <a:lnTo>
                    <a:pt x="1922" y="482"/>
                  </a:lnTo>
                  <a:lnTo>
                    <a:pt x="1952" y="526"/>
                  </a:lnTo>
                  <a:lnTo>
                    <a:pt x="1980" y="570"/>
                  </a:lnTo>
                  <a:lnTo>
                    <a:pt x="2006" y="618"/>
                  </a:lnTo>
                  <a:lnTo>
                    <a:pt x="2028" y="666"/>
                  </a:lnTo>
                  <a:lnTo>
                    <a:pt x="2050" y="718"/>
                  </a:lnTo>
                  <a:lnTo>
                    <a:pt x="2070" y="770"/>
                  </a:lnTo>
                  <a:lnTo>
                    <a:pt x="2088" y="824"/>
                  </a:lnTo>
                  <a:lnTo>
                    <a:pt x="2102" y="878"/>
                  </a:lnTo>
                  <a:lnTo>
                    <a:pt x="2116" y="936"/>
                  </a:lnTo>
                  <a:lnTo>
                    <a:pt x="2126" y="996"/>
                  </a:lnTo>
                  <a:lnTo>
                    <a:pt x="2136" y="1056"/>
                  </a:lnTo>
                  <a:lnTo>
                    <a:pt x="2144" y="1120"/>
                  </a:lnTo>
                  <a:lnTo>
                    <a:pt x="2148" y="1184"/>
                  </a:lnTo>
                  <a:lnTo>
                    <a:pt x="2152" y="1250"/>
                  </a:lnTo>
                  <a:lnTo>
                    <a:pt x="2152" y="1320"/>
                  </a:lnTo>
                  <a:lnTo>
                    <a:pt x="2152" y="1320"/>
                  </a:lnTo>
                  <a:lnTo>
                    <a:pt x="2150" y="1414"/>
                  </a:lnTo>
                  <a:lnTo>
                    <a:pt x="2144" y="1508"/>
                  </a:lnTo>
                  <a:lnTo>
                    <a:pt x="2136" y="1596"/>
                  </a:lnTo>
                  <a:lnTo>
                    <a:pt x="2122" y="1684"/>
                  </a:lnTo>
                  <a:lnTo>
                    <a:pt x="2104" y="1766"/>
                  </a:lnTo>
                  <a:lnTo>
                    <a:pt x="2084" y="1846"/>
                  </a:lnTo>
                  <a:lnTo>
                    <a:pt x="2060" y="1924"/>
                  </a:lnTo>
                  <a:lnTo>
                    <a:pt x="2032" y="1998"/>
                  </a:lnTo>
                  <a:lnTo>
                    <a:pt x="1998" y="2068"/>
                  </a:lnTo>
                  <a:lnTo>
                    <a:pt x="1982" y="2102"/>
                  </a:lnTo>
                  <a:lnTo>
                    <a:pt x="1964" y="2136"/>
                  </a:lnTo>
                  <a:lnTo>
                    <a:pt x="1944" y="2170"/>
                  </a:lnTo>
                  <a:lnTo>
                    <a:pt x="1924" y="2202"/>
                  </a:lnTo>
                  <a:lnTo>
                    <a:pt x="1902" y="2232"/>
                  </a:lnTo>
                  <a:lnTo>
                    <a:pt x="1880" y="2262"/>
                  </a:lnTo>
                  <a:lnTo>
                    <a:pt x="1856" y="2292"/>
                  </a:lnTo>
                  <a:lnTo>
                    <a:pt x="1832" y="2320"/>
                  </a:lnTo>
                  <a:lnTo>
                    <a:pt x="1808" y="2348"/>
                  </a:lnTo>
                  <a:lnTo>
                    <a:pt x="1782" y="2376"/>
                  </a:lnTo>
                  <a:lnTo>
                    <a:pt x="1754" y="2402"/>
                  </a:lnTo>
                  <a:lnTo>
                    <a:pt x="1726" y="2428"/>
                  </a:lnTo>
                  <a:lnTo>
                    <a:pt x="1698" y="2454"/>
                  </a:lnTo>
                  <a:lnTo>
                    <a:pt x="1668" y="2478"/>
                  </a:lnTo>
                  <a:lnTo>
                    <a:pt x="1668" y="2478"/>
                  </a:lnTo>
                  <a:lnTo>
                    <a:pt x="1634" y="2504"/>
                  </a:lnTo>
                  <a:lnTo>
                    <a:pt x="1596" y="2530"/>
                  </a:lnTo>
                  <a:lnTo>
                    <a:pt x="1560" y="2554"/>
                  </a:lnTo>
                  <a:lnTo>
                    <a:pt x="1520" y="2580"/>
                  </a:lnTo>
                  <a:lnTo>
                    <a:pt x="1478" y="2602"/>
                  </a:lnTo>
                  <a:lnTo>
                    <a:pt x="1436" y="2626"/>
                  </a:lnTo>
                  <a:lnTo>
                    <a:pt x="1392" y="2648"/>
                  </a:lnTo>
                  <a:lnTo>
                    <a:pt x="1348" y="2670"/>
                  </a:lnTo>
                  <a:lnTo>
                    <a:pt x="1302" y="2690"/>
                  </a:lnTo>
                  <a:lnTo>
                    <a:pt x="1254" y="2710"/>
                  </a:lnTo>
                  <a:lnTo>
                    <a:pt x="1206" y="2728"/>
                  </a:lnTo>
                  <a:lnTo>
                    <a:pt x="1156" y="2746"/>
                  </a:lnTo>
                  <a:lnTo>
                    <a:pt x="1104" y="2762"/>
                  </a:lnTo>
                  <a:lnTo>
                    <a:pt x="1052" y="2778"/>
                  </a:lnTo>
                  <a:lnTo>
                    <a:pt x="1000" y="2792"/>
                  </a:lnTo>
                  <a:lnTo>
                    <a:pt x="946" y="2806"/>
                  </a:lnTo>
                  <a:lnTo>
                    <a:pt x="946" y="2806"/>
                  </a:lnTo>
                  <a:lnTo>
                    <a:pt x="868" y="2826"/>
                  </a:lnTo>
                  <a:lnTo>
                    <a:pt x="788" y="2842"/>
                  </a:lnTo>
                  <a:lnTo>
                    <a:pt x="694" y="2860"/>
                  </a:lnTo>
                  <a:lnTo>
                    <a:pt x="572" y="2880"/>
                  </a:lnTo>
                  <a:lnTo>
                    <a:pt x="572" y="2880"/>
                  </a:lnTo>
                  <a:lnTo>
                    <a:pt x="546" y="2796"/>
                  </a:lnTo>
                  <a:lnTo>
                    <a:pt x="520" y="2724"/>
                  </a:lnTo>
                  <a:lnTo>
                    <a:pt x="496" y="2660"/>
                  </a:lnTo>
                  <a:lnTo>
                    <a:pt x="468" y="2600"/>
                  </a:lnTo>
                  <a:lnTo>
                    <a:pt x="440" y="2542"/>
                  </a:lnTo>
                  <a:lnTo>
                    <a:pt x="406" y="2480"/>
                  </a:lnTo>
                  <a:lnTo>
                    <a:pt x="366" y="2414"/>
                  </a:lnTo>
                  <a:lnTo>
                    <a:pt x="320" y="2338"/>
                  </a:lnTo>
                  <a:lnTo>
                    <a:pt x="320" y="2338"/>
                  </a:lnTo>
                  <a:lnTo>
                    <a:pt x="404" y="2332"/>
                  </a:lnTo>
                  <a:lnTo>
                    <a:pt x="484" y="2326"/>
                  </a:lnTo>
                  <a:lnTo>
                    <a:pt x="562" y="2316"/>
                  </a:lnTo>
                  <a:lnTo>
                    <a:pt x="636" y="2306"/>
                  </a:lnTo>
                  <a:lnTo>
                    <a:pt x="706" y="2294"/>
                  </a:lnTo>
                  <a:lnTo>
                    <a:pt x="774" y="2282"/>
                  </a:lnTo>
                  <a:lnTo>
                    <a:pt x="840" y="2266"/>
                  </a:lnTo>
                  <a:lnTo>
                    <a:pt x="902" y="2250"/>
                  </a:lnTo>
                  <a:lnTo>
                    <a:pt x="962" y="2232"/>
                  </a:lnTo>
                  <a:lnTo>
                    <a:pt x="1018" y="2212"/>
                  </a:lnTo>
                  <a:lnTo>
                    <a:pt x="1072" y="2190"/>
                  </a:lnTo>
                  <a:lnTo>
                    <a:pt x="1122" y="2168"/>
                  </a:lnTo>
                  <a:lnTo>
                    <a:pt x="1170" y="2142"/>
                  </a:lnTo>
                  <a:lnTo>
                    <a:pt x="1216" y="2116"/>
                  </a:lnTo>
                  <a:lnTo>
                    <a:pt x="1258" y="2088"/>
                  </a:lnTo>
                  <a:lnTo>
                    <a:pt x="1298" y="2056"/>
                  </a:lnTo>
                  <a:lnTo>
                    <a:pt x="1336" y="2024"/>
                  </a:lnTo>
                  <a:lnTo>
                    <a:pt x="1370" y="1990"/>
                  </a:lnTo>
                  <a:lnTo>
                    <a:pt x="1402" y="1954"/>
                  </a:lnTo>
                  <a:lnTo>
                    <a:pt x="1432" y="1916"/>
                  </a:lnTo>
                  <a:lnTo>
                    <a:pt x="1458" y="1878"/>
                  </a:lnTo>
                  <a:lnTo>
                    <a:pt x="1482" y="1836"/>
                  </a:lnTo>
                  <a:lnTo>
                    <a:pt x="1504" y="1792"/>
                  </a:lnTo>
                  <a:lnTo>
                    <a:pt x="1524" y="1746"/>
                  </a:lnTo>
                  <a:lnTo>
                    <a:pt x="1540" y="1698"/>
                  </a:lnTo>
                  <a:lnTo>
                    <a:pt x="1556" y="1648"/>
                  </a:lnTo>
                  <a:lnTo>
                    <a:pt x="1568" y="1596"/>
                  </a:lnTo>
                  <a:lnTo>
                    <a:pt x="1578" y="1542"/>
                  </a:lnTo>
                  <a:lnTo>
                    <a:pt x="1586" y="1486"/>
                  </a:lnTo>
                  <a:lnTo>
                    <a:pt x="1590" y="1426"/>
                  </a:lnTo>
                  <a:lnTo>
                    <a:pt x="1594" y="1366"/>
                  </a:lnTo>
                  <a:lnTo>
                    <a:pt x="1596" y="1304"/>
                  </a:lnTo>
                  <a:lnTo>
                    <a:pt x="1596" y="1304"/>
                  </a:lnTo>
                  <a:lnTo>
                    <a:pt x="1594" y="1232"/>
                  </a:lnTo>
                  <a:lnTo>
                    <a:pt x="1590" y="1164"/>
                  </a:lnTo>
                  <a:lnTo>
                    <a:pt x="1582" y="1100"/>
                  </a:lnTo>
                  <a:lnTo>
                    <a:pt x="1572" y="1040"/>
                  </a:lnTo>
                  <a:lnTo>
                    <a:pt x="1558" y="986"/>
                  </a:lnTo>
                  <a:lnTo>
                    <a:pt x="1544" y="936"/>
                  </a:lnTo>
                  <a:lnTo>
                    <a:pt x="1524" y="890"/>
                  </a:lnTo>
                  <a:lnTo>
                    <a:pt x="1504" y="848"/>
                  </a:lnTo>
                  <a:lnTo>
                    <a:pt x="1480" y="812"/>
                  </a:lnTo>
                  <a:lnTo>
                    <a:pt x="1468" y="794"/>
                  </a:lnTo>
                  <a:lnTo>
                    <a:pt x="1454" y="780"/>
                  </a:lnTo>
                  <a:lnTo>
                    <a:pt x="1440" y="764"/>
                  </a:lnTo>
                  <a:lnTo>
                    <a:pt x="1424" y="752"/>
                  </a:lnTo>
                  <a:lnTo>
                    <a:pt x="1410" y="740"/>
                  </a:lnTo>
                  <a:lnTo>
                    <a:pt x="1394" y="730"/>
                  </a:lnTo>
                  <a:lnTo>
                    <a:pt x="1376" y="720"/>
                  </a:lnTo>
                  <a:lnTo>
                    <a:pt x="1360" y="712"/>
                  </a:lnTo>
                  <a:lnTo>
                    <a:pt x="1342" y="706"/>
                  </a:lnTo>
                  <a:lnTo>
                    <a:pt x="1324" y="700"/>
                  </a:lnTo>
                  <a:lnTo>
                    <a:pt x="1304" y="694"/>
                  </a:lnTo>
                  <a:lnTo>
                    <a:pt x="1284" y="692"/>
                  </a:lnTo>
                  <a:lnTo>
                    <a:pt x="1264" y="690"/>
                  </a:lnTo>
                  <a:lnTo>
                    <a:pt x="1244" y="690"/>
                  </a:lnTo>
                  <a:lnTo>
                    <a:pt x="1244" y="690"/>
                  </a:lnTo>
                  <a:lnTo>
                    <a:pt x="1222" y="690"/>
                  </a:lnTo>
                  <a:lnTo>
                    <a:pt x="1200" y="692"/>
                  </a:lnTo>
                  <a:lnTo>
                    <a:pt x="1178" y="696"/>
                  </a:lnTo>
                  <a:lnTo>
                    <a:pt x="1158" y="700"/>
                  </a:lnTo>
                  <a:lnTo>
                    <a:pt x="1136" y="706"/>
                  </a:lnTo>
                  <a:lnTo>
                    <a:pt x="1116" y="714"/>
                  </a:lnTo>
                  <a:lnTo>
                    <a:pt x="1094" y="722"/>
                  </a:lnTo>
                  <a:lnTo>
                    <a:pt x="1072" y="734"/>
                  </a:lnTo>
                  <a:lnTo>
                    <a:pt x="1052" y="746"/>
                  </a:lnTo>
                  <a:lnTo>
                    <a:pt x="1030" y="760"/>
                  </a:lnTo>
                  <a:lnTo>
                    <a:pt x="988" y="790"/>
                  </a:lnTo>
                  <a:lnTo>
                    <a:pt x="946" y="828"/>
                  </a:lnTo>
                  <a:lnTo>
                    <a:pt x="902" y="872"/>
                  </a:lnTo>
                  <a:lnTo>
                    <a:pt x="902" y="872"/>
                  </a:lnTo>
                  <a:lnTo>
                    <a:pt x="868" y="910"/>
                  </a:lnTo>
                  <a:lnTo>
                    <a:pt x="834" y="950"/>
                  </a:lnTo>
                  <a:lnTo>
                    <a:pt x="802" y="992"/>
                  </a:lnTo>
                  <a:lnTo>
                    <a:pt x="772" y="1034"/>
                  </a:lnTo>
                  <a:lnTo>
                    <a:pt x="744" y="1076"/>
                  </a:lnTo>
                  <a:lnTo>
                    <a:pt x="718" y="1120"/>
                  </a:lnTo>
                  <a:lnTo>
                    <a:pt x="692" y="1166"/>
                  </a:lnTo>
                  <a:lnTo>
                    <a:pt x="670" y="1212"/>
                  </a:lnTo>
                  <a:lnTo>
                    <a:pt x="648" y="1260"/>
                  </a:lnTo>
                  <a:lnTo>
                    <a:pt x="628" y="1308"/>
                  </a:lnTo>
                  <a:lnTo>
                    <a:pt x="610" y="1356"/>
                  </a:lnTo>
                  <a:lnTo>
                    <a:pt x="596" y="1406"/>
                  </a:lnTo>
                  <a:lnTo>
                    <a:pt x="582" y="1456"/>
                  </a:lnTo>
                  <a:lnTo>
                    <a:pt x="570" y="1506"/>
                  </a:lnTo>
                  <a:lnTo>
                    <a:pt x="558" y="1556"/>
                  </a:lnTo>
                  <a:lnTo>
                    <a:pt x="550" y="1608"/>
                  </a:lnTo>
                  <a:lnTo>
                    <a:pt x="550" y="1608"/>
                  </a:lnTo>
                  <a:lnTo>
                    <a:pt x="544" y="1658"/>
                  </a:lnTo>
                  <a:lnTo>
                    <a:pt x="540" y="1708"/>
                  </a:lnTo>
                  <a:lnTo>
                    <a:pt x="538" y="1774"/>
                  </a:lnTo>
                  <a:lnTo>
                    <a:pt x="538" y="1866"/>
                  </a:lnTo>
                  <a:lnTo>
                    <a:pt x="6" y="1872"/>
                  </a:lnTo>
                  <a:lnTo>
                    <a:pt x="6" y="1872"/>
                  </a:lnTo>
                  <a:lnTo>
                    <a:pt x="10" y="1842"/>
                  </a:lnTo>
                  <a:lnTo>
                    <a:pt x="10" y="1820"/>
                  </a:lnTo>
                  <a:lnTo>
                    <a:pt x="10" y="1820"/>
                  </a:lnTo>
                  <a:lnTo>
                    <a:pt x="10" y="1756"/>
                  </a:lnTo>
                  <a:lnTo>
                    <a:pt x="10" y="1756"/>
                  </a:lnTo>
                  <a:lnTo>
                    <a:pt x="6" y="1654"/>
                  </a:lnTo>
                  <a:lnTo>
                    <a:pt x="2" y="1542"/>
                  </a:lnTo>
                  <a:lnTo>
                    <a:pt x="0" y="1354"/>
                  </a:lnTo>
                  <a:lnTo>
                    <a:pt x="0" y="1354"/>
                  </a:lnTo>
                  <a:lnTo>
                    <a:pt x="2" y="1212"/>
                  </a:lnTo>
                  <a:lnTo>
                    <a:pt x="4" y="1070"/>
                  </a:lnTo>
                  <a:lnTo>
                    <a:pt x="10" y="928"/>
                  </a:lnTo>
                  <a:lnTo>
                    <a:pt x="18" y="786"/>
                  </a:lnTo>
                  <a:lnTo>
                    <a:pt x="28" y="642"/>
                  </a:lnTo>
                  <a:lnTo>
                    <a:pt x="40" y="498"/>
                  </a:lnTo>
                  <a:lnTo>
                    <a:pt x="56" y="350"/>
                  </a:lnTo>
                  <a:lnTo>
                    <a:pt x="72" y="198"/>
                  </a:lnTo>
                  <a:lnTo>
                    <a:pt x="72" y="198"/>
                  </a:lnTo>
                  <a:lnTo>
                    <a:pt x="82" y="96"/>
                  </a:lnTo>
                  <a:lnTo>
                    <a:pt x="84" y="58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0"/>
                  </a:lnTo>
                  <a:lnTo>
                    <a:pt x="646" y="22"/>
                  </a:lnTo>
                  <a:close/>
                </a:path>
              </a:pathLst>
            </a:custGeom>
            <a:solidFill>
              <a:srgbClr val="e60012"/>
            </a:solidFill>
            <a:ln w="1333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2815920" y="21738960"/>
              <a:ext cx="4797720" cy="4705200"/>
            </a:xfrm>
            <a:custGeom>
              <a:avLst/>
              <a:gdLst>
                <a:gd name="textAreaLeft" fmla="*/ 0 w 4797720"/>
                <a:gd name="textAreaRight" fmla="*/ 4798080 w 4797720"/>
                <a:gd name="textAreaTop" fmla="*/ 0 h 4705200"/>
                <a:gd name="textAreaBottom" fmla="*/ 4705560 h 4705200"/>
              </a:gdLst>
              <a:ahLst/>
              <a:rect l="textAreaLeft" t="textAreaTop" r="textAreaRight" b="textAreaBottom"/>
              <a:pathLst>
                <a:path w="3022" h="2964">
                  <a:moveTo>
                    <a:pt x="2848" y="1258"/>
                  </a:moveTo>
                  <a:lnTo>
                    <a:pt x="2848" y="1258"/>
                  </a:lnTo>
                  <a:lnTo>
                    <a:pt x="2836" y="1284"/>
                  </a:lnTo>
                  <a:lnTo>
                    <a:pt x="2824" y="1314"/>
                  </a:lnTo>
                  <a:lnTo>
                    <a:pt x="2788" y="1424"/>
                  </a:lnTo>
                  <a:lnTo>
                    <a:pt x="2788" y="1424"/>
                  </a:lnTo>
                  <a:lnTo>
                    <a:pt x="2746" y="1546"/>
                  </a:lnTo>
                  <a:lnTo>
                    <a:pt x="2708" y="1658"/>
                  </a:lnTo>
                  <a:lnTo>
                    <a:pt x="2670" y="1760"/>
                  </a:lnTo>
                  <a:lnTo>
                    <a:pt x="2632" y="1852"/>
                  </a:lnTo>
                  <a:lnTo>
                    <a:pt x="2592" y="1938"/>
                  </a:lnTo>
                  <a:lnTo>
                    <a:pt x="2554" y="2016"/>
                  </a:lnTo>
                  <a:lnTo>
                    <a:pt x="2512" y="2090"/>
                  </a:lnTo>
                  <a:lnTo>
                    <a:pt x="2468" y="2160"/>
                  </a:lnTo>
                  <a:lnTo>
                    <a:pt x="2468" y="2160"/>
                  </a:lnTo>
                  <a:lnTo>
                    <a:pt x="2528" y="2210"/>
                  </a:lnTo>
                  <a:lnTo>
                    <a:pt x="2588" y="2256"/>
                  </a:lnTo>
                  <a:lnTo>
                    <a:pt x="2648" y="2296"/>
                  </a:lnTo>
                  <a:lnTo>
                    <a:pt x="2712" y="2336"/>
                  </a:lnTo>
                  <a:lnTo>
                    <a:pt x="2778" y="2372"/>
                  </a:lnTo>
                  <a:lnTo>
                    <a:pt x="2852" y="2408"/>
                  </a:lnTo>
                  <a:lnTo>
                    <a:pt x="2932" y="2446"/>
                  </a:lnTo>
                  <a:lnTo>
                    <a:pt x="3022" y="2484"/>
                  </a:lnTo>
                  <a:lnTo>
                    <a:pt x="3022" y="2484"/>
                  </a:lnTo>
                  <a:lnTo>
                    <a:pt x="2980" y="2546"/>
                  </a:lnTo>
                  <a:lnTo>
                    <a:pt x="2942" y="2604"/>
                  </a:lnTo>
                  <a:lnTo>
                    <a:pt x="2908" y="2660"/>
                  </a:lnTo>
                  <a:lnTo>
                    <a:pt x="2876" y="2714"/>
                  </a:lnTo>
                  <a:lnTo>
                    <a:pt x="2846" y="2770"/>
                  </a:lnTo>
                  <a:lnTo>
                    <a:pt x="2818" y="2828"/>
                  </a:lnTo>
                  <a:lnTo>
                    <a:pt x="2790" y="2892"/>
                  </a:lnTo>
                  <a:lnTo>
                    <a:pt x="2760" y="2962"/>
                  </a:lnTo>
                  <a:lnTo>
                    <a:pt x="2760" y="2962"/>
                  </a:lnTo>
                  <a:lnTo>
                    <a:pt x="2668" y="2912"/>
                  </a:lnTo>
                  <a:lnTo>
                    <a:pt x="2586" y="2864"/>
                  </a:lnTo>
                  <a:lnTo>
                    <a:pt x="2510" y="2816"/>
                  </a:lnTo>
                  <a:lnTo>
                    <a:pt x="2438" y="2768"/>
                  </a:lnTo>
                  <a:lnTo>
                    <a:pt x="2370" y="2716"/>
                  </a:lnTo>
                  <a:lnTo>
                    <a:pt x="2302" y="2660"/>
                  </a:lnTo>
                  <a:lnTo>
                    <a:pt x="2234" y="2598"/>
                  </a:lnTo>
                  <a:lnTo>
                    <a:pt x="2164" y="2532"/>
                  </a:lnTo>
                  <a:lnTo>
                    <a:pt x="2164" y="2532"/>
                  </a:lnTo>
                  <a:lnTo>
                    <a:pt x="2096" y="2596"/>
                  </a:lnTo>
                  <a:lnTo>
                    <a:pt x="2030" y="2656"/>
                  </a:lnTo>
                  <a:lnTo>
                    <a:pt x="1962" y="2710"/>
                  </a:lnTo>
                  <a:lnTo>
                    <a:pt x="1892" y="2764"/>
                  </a:lnTo>
                  <a:lnTo>
                    <a:pt x="1820" y="2814"/>
                  </a:lnTo>
                  <a:lnTo>
                    <a:pt x="1744" y="2864"/>
                  </a:lnTo>
                  <a:lnTo>
                    <a:pt x="1660" y="2914"/>
                  </a:lnTo>
                  <a:lnTo>
                    <a:pt x="1570" y="2964"/>
                  </a:lnTo>
                  <a:lnTo>
                    <a:pt x="1570" y="2964"/>
                  </a:lnTo>
                  <a:lnTo>
                    <a:pt x="1540" y="2906"/>
                  </a:lnTo>
                  <a:lnTo>
                    <a:pt x="1514" y="2854"/>
                  </a:lnTo>
                  <a:lnTo>
                    <a:pt x="1488" y="2806"/>
                  </a:lnTo>
                  <a:lnTo>
                    <a:pt x="1462" y="2762"/>
                  </a:lnTo>
                  <a:lnTo>
                    <a:pt x="1434" y="2718"/>
                  </a:lnTo>
                  <a:lnTo>
                    <a:pt x="1408" y="2678"/>
                  </a:lnTo>
                  <a:lnTo>
                    <a:pt x="1378" y="2636"/>
                  </a:lnTo>
                  <a:lnTo>
                    <a:pt x="1344" y="2592"/>
                  </a:lnTo>
                  <a:lnTo>
                    <a:pt x="1344" y="2592"/>
                  </a:lnTo>
                  <a:lnTo>
                    <a:pt x="1282" y="2684"/>
                  </a:lnTo>
                  <a:lnTo>
                    <a:pt x="1220" y="2770"/>
                  </a:lnTo>
                  <a:lnTo>
                    <a:pt x="1152" y="2854"/>
                  </a:lnTo>
                  <a:lnTo>
                    <a:pt x="1076" y="2942"/>
                  </a:lnTo>
                  <a:lnTo>
                    <a:pt x="1076" y="2942"/>
                  </a:lnTo>
                  <a:lnTo>
                    <a:pt x="1016" y="2844"/>
                  </a:lnTo>
                  <a:lnTo>
                    <a:pt x="988" y="2802"/>
                  </a:lnTo>
                  <a:lnTo>
                    <a:pt x="960" y="2760"/>
                  </a:lnTo>
                  <a:lnTo>
                    <a:pt x="932" y="2722"/>
                  </a:lnTo>
                  <a:lnTo>
                    <a:pt x="902" y="2684"/>
                  </a:lnTo>
                  <a:lnTo>
                    <a:pt x="868" y="2644"/>
                  </a:lnTo>
                  <a:lnTo>
                    <a:pt x="832" y="2600"/>
                  </a:lnTo>
                  <a:lnTo>
                    <a:pt x="832" y="2600"/>
                  </a:lnTo>
                  <a:lnTo>
                    <a:pt x="828" y="2642"/>
                  </a:lnTo>
                  <a:lnTo>
                    <a:pt x="824" y="2680"/>
                  </a:lnTo>
                  <a:lnTo>
                    <a:pt x="818" y="2712"/>
                  </a:lnTo>
                  <a:lnTo>
                    <a:pt x="812" y="2742"/>
                  </a:lnTo>
                  <a:lnTo>
                    <a:pt x="802" y="2766"/>
                  </a:lnTo>
                  <a:lnTo>
                    <a:pt x="790" y="2790"/>
                  </a:lnTo>
                  <a:lnTo>
                    <a:pt x="778" y="2812"/>
                  </a:lnTo>
                  <a:lnTo>
                    <a:pt x="762" y="2832"/>
                  </a:lnTo>
                  <a:lnTo>
                    <a:pt x="762" y="2832"/>
                  </a:lnTo>
                  <a:lnTo>
                    <a:pt x="746" y="2848"/>
                  </a:lnTo>
                  <a:lnTo>
                    <a:pt x="730" y="2862"/>
                  </a:lnTo>
                  <a:lnTo>
                    <a:pt x="714" y="2874"/>
                  </a:lnTo>
                  <a:lnTo>
                    <a:pt x="694" y="2886"/>
                  </a:lnTo>
                  <a:lnTo>
                    <a:pt x="676" y="2896"/>
                  </a:lnTo>
                  <a:lnTo>
                    <a:pt x="654" y="2906"/>
                  </a:lnTo>
                  <a:lnTo>
                    <a:pt x="630" y="2914"/>
                  </a:lnTo>
                  <a:lnTo>
                    <a:pt x="606" y="2922"/>
                  </a:lnTo>
                  <a:lnTo>
                    <a:pt x="580" y="2928"/>
                  </a:lnTo>
                  <a:lnTo>
                    <a:pt x="552" y="2934"/>
                  </a:lnTo>
                  <a:lnTo>
                    <a:pt x="488" y="2942"/>
                  </a:lnTo>
                  <a:lnTo>
                    <a:pt x="416" y="2948"/>
                  </a:lnTo>
                  <a:lnTo>
                    <a:pt x="332" y="2948"/>
                  </a:lnTo>
                  <a:lnTo>
                    <a:pt x="332" y="2948"/>
                  </a:lnTo>
                  <a:lnTo>
                    <a:pt x="232" y="2948"/>
                  </a:lnTo>
                  <a:lnTo>
                    <a:pt x="178" y="2946"/>
                  </a:lnTo>
                  <a:lnTo>
                    <a:pt x="110" y="2942"/>
                  </a:lnTo>
                  <a:lnTo>
                    <a:pt x="110" y="2942"/>
                  </a:lnTo>
                  <a:lnTo>
                    <a:pt x="102" y="2876"/>
                  </a:lnTo>
                  <a:lnTo>
                    <a:pt x="96" y="2818"/>
                  </a:lnTo>
                  <a:lnTo>
                    <a:pt x="86" y="2762"/>
                  </a:lnTo>
                  <a:lnTo>
                    <a:pt x="76" y="2710"/>
                  </a:lnTo>
                  <a:lnTo>
                    <a:pt x="64" y="2656"/>
                  </a:lnTo>
                  <a:lnTo>
                    <a:pt x="48" y="2600"/>
                  </a:lnTo>
                  <a:lnTo>
                    <a:pt x="30" y="2538"/>
                  </a:lnTo>
                  <a:lnTo>
                    <a:pt x="8" y="2470"/>
                  </a:lnTo>
                  <a:lnTo>
                    <a:pt x="8" y="2470"/>
                  </a:lnTo>
                  <a:lnTo>
                    <a:pt x="102" y="2480"/>
                  </a:lnTo>
                  <a:lnTo>
                    <a:pt x="174" y="2486"/>
                  </a:lnTo>
                  <a:lnTo>
                    <a:pt x="232" y="2490"/>
                  </a:lnTo>
                  <a:lnTo>
                    <a:pt x="282" y="2490"/>
                  </a:lnTo>
                  <a:lnTo>
                    <a:pt x="282" y="2490"/>
                  </a:lnTo>
                  <a:lnTo>
                    <a:pt x="304" y="2488"/>
                  </a:lnTo>
                  <a:lnTo>
                    <a:pt x="324" y="2486"/>
                  </a:lnTo>
                  <a:lnTo>
                    <a:pt x="338" y="2480"/>
                  </a:lnTo>
                  <a:lnTo>
                    <a:pt x="344" y="2476"/>
                  </a:lnTo>
                  <a:lnTo>
                    <a:pt x="350" y="2470"/>
                  </a:lnTo>
                  <a:lnTo>
                    <a:pt x="358" y="2458"/>
                  </a:lnTo>
                  <a:lnTo>
                    <a:pt x="362" y="2440"/>
                  </a:lnTo>
                  <a:lnTo>
                    <a:pt x="366" y="2418"/>
                  </a:lnTo>
                  <a:lnTo>
                    <a:pt x="366" y="2392"/>
                  </a:lnTo>
                  <a:lnTo>
                    <a:pt x="366" y="1892"/>
                  </a:lnTo>
                  <a:lnTo>
                    <a:pt x="262" y="1920"/>
                  </a:lnTo>
                  <a:lnTo>
                    <a:pt x="262" y="1920"/>
                  </a:lnTo>
                  <a:lnTo>
                    <a:pt x="152" y="1948"/>
                  </a:lnTo>
                  <a:lnTo>
                    <a:pt x="152" y="1948"/>
                  </a:lnTo>
                  <a:lnTo>
                    <a:pt x="114" y="1958"/>
                  </a:lnTo>
                  <a:lnTo>
                    <a:pt x="76" y="1970"/>
                  </a:lnTo>
                  <a:lnTo>
                    <a:pt x="0" y="1484"/>
                  </a:lnTo>
                  <a:lnTo>
                    <a:pt x="0" y="1484"/>
                  </a:lnTo>
                  <a:lnTo>
                    <a:pt x="68" y="1480"/>
                  </a:lnTo>
                  <a:lnTo>
                    <a:pt x="102" y="1476"/>
                  </a:lnTo>
                  <a:lnTo>
                    <a:pt x="140" y="1470"/>
                  </a:lnTo>
                  <a:lnTo>
                    <a:pt x="232" y="1454"/>
                  </a:lnTo>
                  <a:lnTo>
                    <a:pt x="366" y="1426"/>
                  </a:lnTo>
                  <a:lnTo>
                    <a:pt x="366" y="978"/>
                  </a:lnTo>
                  <a:lnTo>
                    <a:pt x="258" y="978"/>
                  </a:lnTo>
                  <a:lnTo>
                    <a:pt x="258" y="978"/>
                  </a:lnTo>
                  <a:lnTo>
                    <a:pt x="204" y="978"/>
                  </a:lnTo>
                  <a:lnTo>
                    <a:pt x="152" y="980"/>
                  </a:lnTo>
                  <a:lnTo>
                    <a:pt x="96" y="984"/>
                  </a:lnTo>
                  <a:lnTo>
                    <a:pt x="32" y="990"/>
                  </a:lnTo>
                  <a:lnTo>
                    <a:pt x="32" y="524"/>
                  </a:lnTo>
                  <a:lnTo>
                    <a:pt x="32" y="524"/>
                  </a:lnTo>
                  <a:lnTo>
                    <a:pt x="88" y="532"/>
                  </a:lnTo>
                  <a:lnTo>
                    <a:pt x="142" y="538"/>
                  </a:lnTo>
                  <a:lnTo>
                    <a:pt x="200" y="540"/>
                  </a:lnTo>
                  <a:lnTo>
                    <a:pt x="266" y="540"/>
                  </a:lnTo>
                  <a:lnTo>
                    <a:pt x="366" y="540"/>
                  </a:lnTo>
                  <a:lnTo>
                    <a:pt x="366" y="326"/>
                  </a:lnTo>
                  <a:lnTo>
                    <a:pt x="366" y="326"/>
                  </a:lnTo>
                  <a:lnTo>
                    <a:pt x="366" y="220"/>
                  </a:lnTo>
                  <a:lnTo>
                    <a:pt x="362" y="138"/>
                  </a:lnTo>
                  <a:lnTo>
                    <a:pt x="358" y="70"/>
                  </a:lnTo>
                  <a:lnTo>
                    <a:pt x="348" y="0"/>
                  </a:lnTo>
                  <a:lnTo>
                    <a:pt x="850" y="0"/>
                  </a:lnTo>
                  <a:lnTo>
                    <a:pt x="850" y="0"/>
                  </a:lnTo>
                  <a:lnTo>
                    <a:pt x="842" y="66"/>
                  </a:lnTo>
                  <a:lnTo>
                    <a:pt x="838" y="134"/>
                  </a:lnTo>
                  <a:lnTo>
                    <a:pt x="836" y="218"/>
                  </a:lnTo>
                  <a:lnTo>
                    <a:pt x="834" y="326"/>
                  </a:lnTo>
                  <a:lnTo>
                    <a:pt x="834" y="540"/>
                  </a:lnTo>
                  <a:lnTo>
                    <a:pt x="986" y="540"/>
                  </a:lnTo>
                  <a:lnTo>
                    <a:pt x="986" y="540"/>
                  </a:lnTo>
                  <a:lnTo>
                    <a:pt x="1040" y="538"/>
                  </a:lnTo>
                  <a:lnTo>
                    <a:pt x="1092" y="538"/>
                  </a:lnTo>
                  <a:lnTo>
                    <a:pt x="1092" y="372"/>
                  </a:lnTo>
                  <a:lnTo>
                    <a:pt x="1092" y="372"/>
                  </a:lnTo>
                  <a:lnTo>
                    <a:pt x="1174" y="382"/>
                  </a:lnTo>
                  <a:lnTo>
                    <a:pt x="1260" y="386"/>
                  </a:lnTo>
                  <a:lnTo>
                    <a:pt x="1356" y="390"/>
                  </a:lnTo>
                  <a:lnTo>
                    <a:pt x="1464" y="392"/>
                  </a:lnTo>
                  <a:lnTo>
                    <a:pt x="1464" y="392"/>
                  </a:lnTo>
                  <a:lnTo>
                    <a:pt x="1470" y="284"/>
                  </a:lnTo>
                  <a:lnTo>
                    <a:pt x="1472" y="198"/>
                  </a:lnTo>
                  <a:lnTo>
                    <a:pt x="1472" y="198"/>
                  </a:lnTo>
                  <a:lnTo>
                    <a:pt x="1470" y="148"/>
                  </a:lnTo>
                  <a:lnTo>
                    <a:pt x="1466" y="100"/>
                  </a:lnTo>
                  <a:lnTo>
                    <a:pt x="1462" y="52"/>
                  </a:lnTo>
                  <a:lnTo>
                    <a:pt x="1456" y="2"/>
                  </a:lnTo>
                  <a:lnTo>
                    <a:pt x="1974" y="2"/>
                  </a:lnTo>
                  <a:lnTo>
                    <a:pt x="1974" y="2"/>
                  </a:lnTo>
                  <a:lnTo>
                    <a:pt x="1968" y="48"/>
                  </a:lnTo>
                  <a:lnTo>
                    <a:pt x="1964" y="94"/>
                  </a:lnTo>
                  <a:lnTo>
                    <a:pt x="1960" y="156"/>
                  </a:lnTo>
                  <a:lnTo>
                    <a:pt x="1956" y="256"/>
                  </a:lnTo>
                  <a:lnTo>
                    <a:pt x="1956" y="256"/>
                  </a:lnTo>
                  <a:lnTo>
                    <a:pt x="1952" y="304"/>
                  </a:lnTo>
                  <a:lnTo>
                    <a:pt x="1948" y="392"/>
                  </a:lnTo>
                  <a:lnTo>
                    <a:pt x="2572" y="392"/>
                  </a:lnTo>
                  <a:lnTo>
                    <a:pt x="2572" y="392"/>
                  </a:lnTo>
                  <a:lnTo>
                    <a:pt x="2688" y="390"/>
                  </a:lnTo>
                  <a:lnTo>
                    <a:pt x="2786" y="386"/>
                  </a:lnTo>
                  <a:lnTo>
                    <a:pt x="2870" y="382"/>
                  </a:lnTo>
                  <a:lnTo>
                    <a:pt x="2946" y="372"/>
                  </a:lnTo>
                  <a:lnTo>
                    <a:pt x="2946" y="856"/>
                  </a:lnTo>
                  <a:lnTo>
                    <a:pt x="2946" y="856"/>
                  </a:lnTo>
                  <a:lnTo>
                    <a:pt x="2866" y="848"/>
                  </a:lnTo>
                  <a:lnTo>
                    <a:pt x="2782" y="842"/>
                  </a:lnTo>
                  <a:lnTo>
                    <a:pt x="2688" y="840"/>
                  </a:lnTo>
                  <a:lnTo>
                    <a:pt x="2578" y="838"/>
                  </a:lnTo>
                  <a:lnTo>
                    <a:pt x="1910" y="838"/>
                  </a:lnTo>
                  <a:lnTo>
                    <a:pt x="1910" y="838"/>
                  </a:lnTo>
                  <a:lnTo>
                    <a:pt x="1902" y="942"/>
                  </a:lnTo>
                  <a:lnTo>
                    <a:pt x="1888" y="1040"/>
                  </a:lnTo>
                  <a:lnTo>
                    <a:pt x="2396" y="1040"/>
                  </a:lnTo>
                  <a:lnTo>
                    <a:pt x="2396" y="1040"/>
                  </a:lnTo>
                  <a:lnTo>
                    <a:pt x="2478" y="1040"/>
                  </a:lnTo>
                  <a:lnTo>
                    <a:pt x="2542" y="1038"/>
                  </a:lnTo>
                  <a:lnTo>
                    <a:pt x="2594" y="1034"/>
                  </a:lnTo>
                  <a:lnTo>
                    <a:pt x="2642" y="1028"/>
                  </a:lnTo>
                  <a:lnTo>
                    <a:pt x="2848" y="1258"/>
                  </a:lnTo>
                  <a:close/>
                  <a:moveTo>
                    <a:pt x="834" y="2432"/>
                  </a:moveTo>
                  <a:lnTo>
                    <a:pt x="834" y="2432"/>
                  </a:lnTo>
                  <a:lnTo>
                    <a:pt x="896" y="2360"/>
                  </a:lnTo>
                  <a:lnTo>
                    <a:pt x="954" y="2282"/>
                  </a:lnTo>
                  <a:lnTo>
                    <a:pt x="1008" y="2202"/>
                  </a:lnTo>
                  <a:lnTo>
                    <a:pt x="1060" y="2120"/>
                  </a:lnTo>
                  <a:lnTo>
                    <a:pt x="1108" y="2032"/>
                  </a:lnTo>
                  <a:lnTo>
                    <a:pt x="1152" y="1942"/>
                  </a:lnTo>
                  <a:lnTo>
                    <a:pt x="1196" y="1848"/>
                  </a:lnTo>
                  <a:lnTo>
                    <a:pt x="1234" y="1750"/>
                  </a:lnTo>
                  <a:lnTo>
                    <a:pt x="1270" y="1650"/>
                  </a:lnTo>
                  <a:lnTo>
                    <a:pt x="1304" y="1544"/>
                  </a:lnTo>
                  <a:lnTo>
                    <a:pt x="1334" y="1436"/>
                  </a:lnTo>
                  <a:lnTo>
                    <a:pt x="1360" y="1324"/>
                  </a:lnTo>
                  <a:lnTo>
                    <a:pt x="1386" y="1208"/>
                  </a:lnTo>
                  <a:lnTo>
                    <a:pt x="1406" y="1088"/>
                  </a:lnTo>
                  <a:lnTo>
                    <a:pt x="1424" y="966"/>
                  </a:lnTo>
                  <a:lnTo>
                    <a:pt x="1440" y="838"/>
                  </a:lnTo>
                  <a:lnTo>
                    <a:pt x="1440" y="838"/>
                  </a:lnTo>
                  <a:lnTo>
                    <a:pt x="1346" y="838"/>
                  </a:lnTo>
                  <a:lnTo>
                    <a:pt x="1266" y="840"/>
                  </a:lnTo>
                  <a:lnTo>
                    <a:pt x="1194" y="844"/>
                  </a:lnTo>
                  <a:lnTo>
                    <a:pt x="1130" y="850"/>
                  </a:lnTo>
                  <a:lnTo>
                    <a:pt x="1130" y="986"/>
                  </a:lnTo>
                  <a:lnTo>
                    <a:pt x="1130" y="986"/>
                  </a:lnTo>
                  <a:lnTo>
                    <a:pt x="1114" y="984"/>
                  </a:lnTo>
                  <a:lnTo>
                    <a:pt x="1104" y="984"/>
                  </a:lnTo>
                  <a:lnTo>
                    <a:pt x="1104" y="984"/>
                  </a:lnTo>
                  <a:lnTo>
                    <a:pt x="1072" y="980"/>
                  </a:lnTo>
                  <a:lnTo>
                    <a:pt x="1042" y="978"/>
                  </a:lnTo>
                  <a:lnTo>
                    <a:pt x="986" y="978"/>
                  </a:lnTo>
                  <a:lnTo>
                    <a:pt x="834" y="978"/>
                  </a:lnTo>
                  <a:lnTo>
                    <a:pt x="834" y="1316"/>
                  </a:lnTo>
                  <a:lnTo>
                    <a:pt x="834" y="1316"/>
                  </a:lnTo>
                  <a:lnTo>
                    <a:pt x="996" y="1274"/>
                  </a:lnTo>
                  <a:lnTo>
                    <a:pt x="1168" y="1224"/>
                  </a:lnTo>
                  <a:lnTo>
                    <a:pt x="1168" y="1660"/>
                  </a:lnTo>
                  <a:lnTo>
                    <a:pt x="1168" y="1660"/>
                  </a:lnTo>
                  <a:lnTo>
                    <a:pt x="974" y="1722"/>
                  </a:lnTo>
                  <a:lnTo>
                    <a:pt x="834" y="1766"/>
                  </a:lnTo>
                  <a:lnTo>
                    <a:pt x="834" y="2432"/>
                  </a:lnTo>
                  <a:close/>
                  <a:moveTo>
                    <a:pt x="1408" y="2490"/>
                  </a:moveTo>
                  <a:lnTo>
                    <a:pt x="1408" y="2490"/>
                  </a:lnTo>
                  <a:lnTo>
                    <a:pt x="1476" y="2454"/>
                  </a:lnTo>
                  <a:lnTo>
                    <a:pt x="1538" y="2418"/>
                  </a:lnTo>
                  <a:lnTo>
                    <a:pt x="1598" y="2382"/>
                  </a:lnTo>
                  <a:lnTo>
                    <a:pt x="1656" y="2344"/>
                  </a:lnTo>
                  <a:lnTo>
                    <a:pt x="1710" y="2306"/>
                  </a:lnTo>
                  <a:lnTo>
                    <a:pt x="1764" y="2264"/>
                  </a:lnTo>
                  <a:lnTo>
                    <a:pt x="1816" y="2220"/>
                  </a:lnTo>
                  <a:lnTo>
                    <a:pt x="1870" y="2174"/>
                  </a:lnTo>
                  <a:lnTo>
                    <a:pt x="1870" y="2174"/>
                  </a:lnTo>
                  <a:lnTo>
                    <a:pt x="1818" y="2096"/>
                  </a:lnTo>
                  <a:lnTo>
                    <a:pt x="1774" y="2024"/>
                  </a:lnTo>
                  <a:lnTo>
                    <a:pt x="1734" y="1950"/>
                  </a:lnTo>
                  <a:lnTo>
                    <a:pt x="1692" y="1872"/>
                  </a:lnTo>
                  <a:lnTo>
                    <a:pt x="1692" y="1872"/>
                  </a:lnTo>
                  <a:lnTo>
                    <a:pt x="1662" y="1956"/>
                  </a:lnTo>
                  <a:lnTo>
                    <a:pt x="1630" y="2038"/>
                  </a:lnTo>
                  <a:lnTo>
                    <a:pt x="1598" y="2118"/>
                  </a:lnTo>
                  <a:lnTo>
                    <a:pt x="1564" y="2194"/>
                  </a:lnTo>
                  <a:lnTo>
                    <a:pt x="1528" y="2270"/>
                  </a:lnTo>
                  <a:lnTo>
                    <a:pt x="1490" y="2344"/>
                  </a:lnTo>
                  <a:lnTo>
                    <a:pt x="1450" y="2418"/>
                  </a:lnTo>
                  <a:lnTo>
                    <a:pt x="1408" y="2490"/>
                  </a:lnTo>
                  <a:lnTo>
                    <a:pt x="1408" y="2490"/>
                  </a:lnTo>
                  <a:close/>
                  <a:moveTo>
                    <a:pt x="1962" y="1464"/>
                  </a:moveTo>
                  <a:lnTo>
                    <a:pt x="1962" y="1464"/>
                  </a:lnTo>
                  <a:lnTo>
                    <a:pt x="1982" y="1514"/>
                  </a:lnTo>
                  <a:lnTo>
                    <a:pt x="2002" y="1560"/>
                  </a:lnTo>
                  <a:lnTo>
                    <a:pt x="2022" y="1604"/>
                  </a:lnTo>
                  <a:lnTo>
                    <a:pt x="2044" y="1648"/>
                  </a:lnTo>
                  <a:lnTo>
                    <a:pt x="2068" y="1690"/>
                  </a:lnTo>
                  <a:lnTo>
                    <a:pt x="2094" y="1734"/>
                  </a:lnTo>
                  <a:lnTo>
                    <a:pt x="2120" y="1776"/>
                  </a:lnTo>
                  <a:lnTo>
                    <a:pt x="2152" y="1822"/>
                  </a:lnTo>
                  <a:lnTo>
                    <a:pt x="2152" y="1822"/>
                  </a:lnTo>
                  <a:lnTo>
                    <a:pt x="2198" y="1740"/>
                  </a:lnTo>
                  <a:lnTo>
                    <a:pt x="2216" y="1702"/>
                  </a:lnTo>
                  <a:lnTo>
                    <a:pt x="2234" y="1662"/>
                  </a:lnTo>
                  <a:lnTo>
                    <a:pt x="2270" y="1576"/>
                  </a:lnTo>
                  <a:lnTo>
                    <a:pt x="2312" y="1464"/>
                  </a:lnTo>
                  <a:lnTo>
                    <a:pt x="1962" y="1464"/>
                  </a:lnTo>
                  <a:close/>
                </a:path>
              </a:pathLst>
            </a:custGeom>
            <a:solidFill>
              <a:srgbClr val="e60012"/>
            </a:solidFill>
            <a:ln w="1333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>
              <a:off x="3146400" y="27885960"/>
              <a:ext cx="4280040" cy="4572000"/>
            </a:xfrm>
            <a:custGeom>
              <a:avLst/>
              <a:gdLst>
                <a:gd name="textAreaLeft" fmla="*/ 0 w 4280040"/>
                <a:gd name="textAreaRight" fmla="*/ 4280400 w 428004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2696" h="2880">
                  <a:moveTo>
                    <a:pt x="710" y="84"/>
                  </a:moveTo>
                  <a:lnTo>
                    <a:pt x="710" y="84"/>
                  </a:lnTo>
                  <a:lnTo>
                    <a:pt x="680" y="186"/>
                  </a:lnTo>
                  <a:lnTo>
                    <a:pt x="654" y="292"/>
                  </a:lnTo>
                  <a:lnTo>
                    <a:pt x="630" y="400"/>
                  </a:lnTo>
                  <a:lnTo>
                    <a:pt x="608" y="510"/>
                  </a:lnTo>
                  <a:lnTo>
                    <a:pt x="588" y="624"/>
                  </a:lnTo>
                  <a:lnTo>
                    <a:pt x="572" y="740"/>
                  </a:lnTo>
                  <a:lnTo>
                    <a:pt x="556" y="860"/>
                  </a:lnTo>
                  <a:lnTo>
                    <a:pt x="542" y="982"/>
                  </a:lnTo>
                  <a:lnTo>
                    <a:pt x="542" y="982"/>
                  </a:lnTo>
                  <a:lnTo>
                    <a:pt x="534" y="1058"/>
                  </a:lnTo>
                  <a:lnTo>
                    <a:pt x="528" y="1138"/>
                  </a:lnTo>
                  <a:lnTo>
                    <a:pt x="522" y="1220"/>
                  </a:lnTo>
                  <a:lnTo>
                    <a:pt x="518" y="1310"/>
                  </a:lnTo>
                  <a:lnTo>
                    <a:pt x="512" y="1500"/>
                  </a:lnTo>
                  <a:lnTo>
                    <a:pt x="510" y="1710"/>
                  </a:lnTo>
                  <a:lnTo>
                    <a:pt x="510" y="1710"/>
                  </a:lnTo>
                  <a:lnTo>
                    <a:pt x="512" y="1828"/>
                  </a:lnTo>
                  <a:lnTo>
                    <a:pt x="512" y="1828"/>
                  </a:lnTo>
                  <a:lnTo>
                    <a:pt x="548" y="1726"/>
                  </a:lnTo>
                  <a:lnTo>
                    <a:pt x="584" y="1630"/>
                  </a:lnTo>
                  <a:lnTo>
                    <a:pt x="604" y="1582"/>
                  </a:lnTo>
                  <a:lnTo>
                    <a:pt x="626" y="1536"/>
                  </a:lnTo>
                  <a:lnTo>
                    <a:pt x="674" y="1438"/>
                  </a:lnTo>
                  <a:lnTo>
                    <a:pt x="1044" y="1622"/>
                  </a:lnTo>
                  <a:lnTo>
                    <a:pt x="1044" y="1622"/>
                  </a:lnTo>
                  <a:lnTo>
                    <a:pt x="1006" y="1686"/>
                  </a:lnTo>
                  <a:lnTo>
                    <a:pt x="970" y="1752"/>
                  </a:lnTo>
                  <a:lnTo>
                    <a:pt x="932" y="1822"/>
                  </a:lnTo>
                  <a:lnTo>
                    <a:pt x="898" y="1892"/>
                  </a:lnTo>
                  <a:lnTo>
                    <a:pt x="864" y="1964"/>
                  </a:lnTo>
                  <a:lnTo>
                    <a:pt x="832" y="2038"/>
                  </a:lnTo>
                  <a:lnTo>
                    <a:pt x="802" y="2112"/>
                  </a:lnTo>
                  <a:lnTo>
                    <a:pt x="774" y="2184"/>
                  </a:lnTo>
                  <a:lnTo>
                    <a:pt x="748" y="2258"/>
                  </a:lnTo>
                  <a:lnTo>
                    <a:pt x="724" y="2328"/>
                  </a:lnTo>
                  <a:lnTo>
                    <a:pt x="702" y="2398"/>
                  </a:lnTo>
                  <a:lnTo>
                    <a:pt x="684" y="2466"/>
                  </a:lnTo>
                  <a:lnTo>
                    <a:pt x="670" y="2530"/>
                  </a:lnTo>
                  <a:lnTo>
                    <a:pt x="656" y="2590"/>
                  </a:lnTo>
                  <a:lnTo>
                    <a:pt x="648" y="2648"/>
                  </a:lnTo>
                  <a:lnTo>
                    <a:pt x="642" y="2700"/>
                  </a:lnTo>
                  <a:lnTo>
                    <a:pt x="134" y="2720"/>
                  </a:lnTo>
                  <a:lnTo>
                    <a:pt x="134" y="2720"/>
                  </a:lnTo>
                  <a:lnTo>
                    <a:pt x="120" y="2638"/>
                  </a:lnTo>
                  <a:lnTo>
                    <a:pt x="88" y="2470"/>
                  </a:lnTo>
                  <a:lnTo>
                    <a:pt x="88" y="2470"/>
                  </a:lnTo>
                  <a:lnTo>
                    <a:pt x="68" y="2354"/>
                  </a:lnTo>
                  <a:lnTo>
                    <a:pt x="50" y="2234"/>
                  </a:lnTo>
                  <a:lnTo>
                    <a:pt x="36" y="2108"/>
                  </a:lnTo>
                  <a:lnTo>
                    <a:pt x="24" y="1980"/>
                  </a:lnTo>
                  <a:lnTo>
                    <a:pt x="14" y="1852"/>
                  </a:lnTo>
                  <a:lnTo>
                    <a:pt x="6" y="1722"/>
                  </a:lnTo>
                  <a:lnTo>
                    <a:pt x="2" y="1594"/>
                  </a:lnTo>
                  <a:lnTo>
                    <a:pt x="0" y="1466"/>
                  </a:lnTo>
                  <a:lnTo>
                    <a:pt x="0" y="1466"/>
                  </a:lnTo>
                  <a:lnTo>
                    <a:pt x="0" y="1344"/>
                  </a:lnTo>
                  <a:lnTo>
                    <a:pt x="4" y="1232"/>
                  </a:lnTo>
                  <a:lnTo>
                    <a:pt x="10" y="1120"/>
                  </a:lnTo>
                  <a:lnTo>
                    <a:pt x="18" y="1002"/>
                  </a:lnTo>
                  <a:lnTo>
                    <a:pt x="32" y="868"/>
                  </a:lnTo>
                  <a:lnTo>
                    <a:pt x="50" y="712"/>
                  </a:lnTo>
                  <a:lnTo>
                    <a:pt x="76" y="520"/>
                  </a:lnTo>
                  <a:lnTo>
                    <a:pt x="108" y="288"/>
                  </a:lnTo>
                  <a:lnTo>
                    <a:pt x="108" y="288"/>
                  </a:lnTo>
                  <a:lnTo>
                    <a:pt x="118" y="210"/>
                  </a:lnTo>
                  <a:lnTo>
                    <a:pt x="124" y="150"/>
                  </a:lnTo>
                  <a:lnTo>
                    <a:pt x="126" y="96"/>
                  </a:lnTo>
                  <a:lnTo>
                    <a:pt x="126" y="38"/>
                  </a:lnTo>
                  <a:lnTo>
                    <a:pt x="710" y="84"/>
                  </a:lnTo>
                  <a:close/>
                  <a:moveTo>
                    <a:pt x="846" y="634"/>
                  </a:moveTo>
                  <a:lnTo>
                    <a:pt x="846" y="634"/>
                  </a:lnTo>
                  <a:lnTo>
                    <a:pt x="906" y="644"/>
                  </a:lnTo>
                  <a:lnTo>
                    <a:pt x="970" y="652"/>
                  </a:lnTo>
                  <a:lnTo>
                    <a:pt x="1036" y="660"/>
                  </a:lnTo>
                  <a:lnTo>
                    <a:pt x="1106" y="666"/>
                  </a:lnTo>
                  <a:lnTo>
                    <a:pt x="1178" y="672"/>
                  </a:lnTo>
                  <a:lnTo>
                    <a:pt x="1252" y="676"/>
                  </a:lnTo>
                  <a:lnTo>
                    <a:pt x="1332" y="678"/>
                  </a:lnTo>
                  <a:lnTo>
                    <a:pt x="1414" y="678"/>
                  </a:lnTo>
                  <a:lnTo>
                    <a:pt x="1414" y="678"/>
                  </a:lnTo>
                  <a:lnTo>
                    <a:pt x="1496" y="678"/>
                  </a:lnTo>
                  <a:lnTo>
                    <a:pt x="1568" y="676"/>
                  </a:lnTo>
                  <a:lnTo>
                    <a:pt x="1636" y="672"/>
                  </a:lnTo>
                  <a:lnTo>
                    <a:pt x="1702" y="666"/>
                  </a:lnTo>
                  <a:lnTo>
                    <a:pt x="1702" y="666"/>
                  </a:lnTo>
                  <a:lnTo>
                    <a:pt x="1690" y="352"/>
                  </a:lnTo>
                  <a:lnTo>
                    <a:pt x="1680" y="178"/>
                  </a:lnTo>
                  <a:lnTo>
                    <a:pt x="1676" y="124"/>
                  </a:lnTo>
                  <a:lnTo>
                    <a:pt x="1670" y="82"/>
                  </a:lnTo>
                  <a:lnTo>
                    <a:pt x="1664" y="46"/>
                  </a:lnTo>
                  <a:lnTo>
                    <a:pt x="1656" y="8"/>
                  </a:lnTo>
                  <a:lnTo>
                    <a:pt x="2218" y="0"/>
                  </a:lnTo>
                  <a:lnTo>
                    <a:pt x="2218" y="0"/>
                  </a:lnTo>
                  <a:lnTo>
                    <a:pt x="2212" y="70"/>
                  </a:lnTo>
                  <a:lnTo>
                    <a:pt x="2210" y="96"/>
                  </a:lnTo>
                  <a:lnTo>
                    <a:pt x="2210" y="122"/>
                  </a:lnTo>
                  <a:lnTo>
                    <a:pt x="2210" y="122"/>
                  </a:lnTo>
                  <a:lnTo>
                    <a:pt x="2210" y="146"/>
                  </a:lnTo>
                  <a:lnTo>
                    <a:pt x="2212" y="182"/>
                  </a:lnTo>
                  <a:lnTo>
                    <a:pt x="2212" y="182"/>
                  </a:lnTo>
                  <a:lnTo>
                    <a:pt x="2218" y="336"/>
                  </a:lnTo>
                  <a:lnTo>
                    <a:pt x="2226" y="618"/>
                  </a:lnTo>
                  <a:lnTo>
                    <a:pt x="2226" y="618"/>
                  </a:lnTo>
                  <a:lnTo>
                    <a:pt x="2292" y="608"/>
                  </a:lnTo>
                  <a:lnTo>
                    <a:pt x="2354" y="598"/>
                  </a:lnTo>
                  <a:lnTo>
                    <a:pt x="2412" y="586"/>
                  </a:lnTo>
                  <a:lnTo>
                    <a:pt x="2466" y="574"/>
                  </a:lnTo>
                  <a:lnTo>
                    <a:pt x="2520" y="560"/>
                  </a:lnTo>
                  <a:lnTo>
                    <a:pt x="2570" y="546"/>
                  </a:lnTo>
                  <a:lnTo>
                    <a:pt x="2620" y="528"/>
                  </a:lnTo>
                  <a:lnTo>
                    <a:pt x="2668" y="510"/>
                  </a:lnTo>
                  <a:lnTo>
                    <a:pt x="2696" y="1040"/>
                  </a:lnTo>
                  <a:lnTo>
                    <a:pt x="2696" y="1040"/>
                  </a:lnTo>
                  <a:lnTo>
                    <a:pt x="2626" y="1048"/>
                  </a:lnTo>
                  <a:lnTo>
                    <a:pt x="2514" y="1068"/>
                  </a:lnTo>
                  <a:lnTo>
                    <a:pt x="2514" y="1068"/>
                  </a:lnTo>
                  <a:lnTo>
                    <a:pt x="2444" y="1082"/>
                  </a:lnTo>
                  <a:lnTo>
                    <a:pt x="2392" y="1090"/>
                  </a:lnTo>
                  <a:lnTo>
                    <a:pt x="2332" y="1098"/>
                  </a:lnTo>
                  <a:lnTo>
                    <a:pt x="2240" y="1108"/>
                  </a:lnTo>
                  <a:lnTo>
                    <a:pt x="2240" y="1108"/>
                  </a:lnTo>
                  <a:lnTo>
                    <a:pt x="2244" y="1266"/>
                  </a:lnTo>
                  <a:lnTo>
                    <a:pt x="2244" y="1364"/>
                  </a:lnTo>
                  <a:lnTo>
                    <a:pt x="2244" y="1364"/>
                  </a:lnTo>
                  <a:lnTo>
                    <a:pt x="2244" y="1440"/>
                  </a:lnTo>
                  <a:lnTo>
                    <a:pt x="2242" y="1512"/>
                  </a:lnTo>
                  <a:lnTo>
                    <a:pt x="2238" y="1584"/>
                  </a:lnTo>
                  <a:lnTo>
                    <a:pt x="2232" y="1652"/>
                  </a:lnTo>
                  <a:lnTo>
                    <a:pt x="2226" y="1720"/>
                  </a:lnTo>
                  <a:lnTo>
                    <a:pt x="2218" y="1784"/>
                  </a:lnTo>
                  <a:lnTo>
                    <a:pt x="2208" y="1846"/>
                  </a:lnTo>
                  <a:lnTo>
                    <a:pt x="2198" y="1906"/>
                  </a:lnTo>
                  <a:lnTo>
                    <a:pt x="2184" y="1964"/>
                  </a:lnTo>
                  <a:lnTo>
                    <a:pt x="2170" y="2018"/>
                  </a:lnTo>
                  <a:lnTo>
                    <a:pt x="2156" y="2072"/>
                  </a:lnTo>
                  <a:lnTo>
                    <a:pt x="2138" y="2122"/>
                  </a:lnTo>
                  <a:lnTo>
                    <a:pt x="2120" y="2172"/>
                  </a:lnTo>
                  <a:lnTo>
                    <a:pt x="2100" y="2218"/>
                  </a:lnTo>
                  <a:lnTo>
                    <a:pt x="2080" y="2260"/>
                  </a:lnTo>
                  <a:lnTo>
                    <a:pt x="2058" y="2302"/>
                  </a:lnTo>
                  <a:lnTo>
                    <a:pt x="2058" y="2302"/>
                  </a:lnTo>
                  <a:lnTo>
                    <a:pt x="2032" y="2346"/>
                  </a:lnTo>
                  <a:lnTo>
                    <a:pt x="2004" y="2388"/>
                  </a:lnTo>
                  <a:lnTo>
                    <a:pt x="1976" y="2430"/>
                  </a:lnTo>
                  <a:lnTo>
                    <a:pt x="1948" y="2468"/>
                  </a:lnTo>
                  <a:lnTo>
                    <a:pt x="1916" y="2506"/>
                  </a:lnTo>
                  <a:lnTo>
                    <a:pt x="1886" y="2542"/>
                  </a:lnTo>
                  <a:lnTo>
                    <a:pt x="1852" y="2578"/>
                  </a:lnTo>
                  <a:lnTo>
                    <a:pt x="1816" y="2612"/>
                  </a:lnTo>
                  <a:lnTo>
                    <a:pt x="1778" y="2646"/>
                  </a:lnTo>
                  <a:lnTo>
                    <a:pt x="1738" y="2680"/>
                  </a:lnTo>
                  <a:lnTo>
                    <a:pt x="1696" y="2712"/>
                  </a:lnTo>
                  <a:lnTo>
                    <a:pt x="1650" y="2746"/>
                  </a:lnTo>
                  <a:lnTo>
                    <a:pt x="1602" y="2780"/>
                  </a:lnTo>
                  <a:lnTo>
                    <a:pt x="1550" y="2812"/>
                  </a:lnTo>
                  <a:lnTo>
                    <a:pt x="1496" y="2846"/>
                  </a:lnTo>
                  <a:lnTo>
                    <a:pt x="1438" y="2880"/>
                  </a:lnTo>
                  <a:lnTo>
                    <a:pt x="1438" y="2880"/>
                  </a:lnTo>
                  <a:lnTo>
                    <a:pt x="1384" y="2816"/>
                  </a:lnTo>
                  <a:lnTo>
                    <a:pt x="1334" y="2756"/>
                  </a:lnTo>
                  <a:lnTo>
                    <a:pt x="1284" y="2702"/>
                  </a:lnTo>
                  <a:lnTo>
                    <a:pt x="1234" y="2652"/>
                  </a:lnTo>
                  <a:lnTo>
                    <a:pt x="1182" y="2604"/>
                  </a:lnTo>
                  <a:lnTo>
                    <a:pt x="1128" y="2558"/>
                  </a:lnTo>
                  <a:lnTo>
                    <a:pt x="1068" y="2510"/>
                  </a:lnTo>
                  <a:lnTo>
                    <a:pt x="1004" y="2460"/>
                  </a:lnTo>
                  <a:lnTo>
                    <a:pt x="1004" y="2460"/>
                  </a:lnTo>
                  <a:lnTo>
                    <a:pt x="1064" y="2432"/>
                  </a:lnTo>
                  <a:lnTo>
                    <a:pt x="1122" y="2404"/>
                  </a:lnTo>
                  <a:lnTo>
                    <a:pt x="1176" y="2374"/>
                  </a:lnTo>
                  <a:lnTo>
                    <a:pt x="1228" y="2344"/>
                  </a:lnTo>
                  <a:lnTo>
                    <a:pt x="1276" y="2312"/>
                  </a:lnTo>
                  <a:lnTo>
                    <a:pt x="1324" y="2280"/>
                  </a:lnTo>
                  <a:lnTo>
                    <a:pt x="1366" y="2246"/>
                  </a:lnTo>
                  <a:lnTo>
                    <a:pt x="1408" y="2212"/>
                  </a:lnTo>
                  <a:lnTo>
                    <a:pt x="1446" y="2176"/>
                  </a:lnTo>
                  <a:lnTo>
                    <a:pt x="1480" y="2140"/>
                  </a:lnTo>
                  <a:lnTo>
                    <a:pt x="1512" y="2102"/>
                  </a:lnTo>
                  <a:lnTo>
                    <a:pt x="1542" y="2064"/>
                  </a:lnTo>
                  <a:lnTo>
                    <a:pt x="1570" y="2024"/>
                  </a:lnTo>
                  <a:lnTo>
                    <a:pt x="1594" y="1984"/>
                  </a:lnTo>
                  <a:lnTo>
                    <a:pt x="1614" y="1942"/>
                  </a:lnTo>
                  <a:lnTo>
                    <a:pt x="1634" y="1900"/>
                  </a:lnTo>
                  <a:lnTo>
                    <a:pt x="1634" y="1900"/>
                  </a:lnTo>
                  <a:lnTo>
                    <a:pt x="1654" y="1840"/>
                  </a:lnTo>
                  <a:lnTo>
                    <a:pt x="1672" y="1778"/>
                  </a:lnTo>
                  <a:lnTo>
                    <a:pt x="1686" y="1706"/>
                  </a:lnTo>
                  <a:lnTo>
                    <a:pt x="1696" y="1628"/>
                  </a:lnTo>
                  <a:lnTo>
                    <a:pt x="1706" y="1538"/>
                  </a:lnTo>
                  <a:lnTo>
                    <a:pt x="1712" y="1436"/>
                  </a:lnTo>
                  <a:lnTo>
                    <a:pt x="1714" y="1322"/>
                  </a:lnTo>
                  <a:lnTo>
                    <a:pt x="1716" y="1190"/>
                  </a:lnTo>
                  <a:lnTo>
                    <a:pt x="1716" y="1190"/>
                  </a:lnTo>
                  <a:lnTo>
                    <a:pt x="1716" y="1152"/>
                  </a:lnTo>
                  <a:lnTo>
                    <a:pt x="1716" y="1152"/>
                  </a:lnTo>
                  <a:lnTo>
                    <a:pt x="1630" y="1158"/>
                  </a:lnTo>
                  <a:lnTo>
                    <a:pt x="1552" y="1162"/>
                  </a:lnTo>
                  <a:lnTo>
                    <a:pt x="1470" y="1164"/>
                  </a:lnTo>
                  <a:lnTo>
                    <a:pt x="1376" y="1166"/>
                  </a:lnTo>
                  <a:lnTo>
                    <a:pt x="1376" y="1166"/>
                  </a:lnTo>
                  <a:lnTo>
                    <a:pt x="1290" y="1166"/>
                  </a:lnTo>
                  <a:lnTo>
                    <a:pt x="1208" y="1164"/>
                  </a:lnTo>
                  <a:lnTo>
                    <a:pt x="1044" y="1156"/>
                  </a:lnTo>
                  <a:lnTo>
                    <a:pt x="1044" y="1156"/>
                  </a:lnTo>
                  <a:lnTo>
                    <a:pt x="940" y="1150"/>
                  </a:lnTo>
                  <a:lnTo>
                    <a:pt x="842" y="1150"/>
                  </a:lnTo>
                  <a:lnTo>
                    <a:pt x="846" y="634"/>
                  </a:lnTo>
                  <a:close/>
                </a:path>
              </a:pathLst>
            </a:custGeom>
            <a:solidFill>
              <a:srgbClr val="e60012"/>
            </a:solidFill>
            <a:ln w="1333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2724120" y="9680400"/>
              <a:ext cx="4883400" cy="4635360"/>
            </a:xfrm>
            <a:custGeom>
              <a:avLst/>
              <a:gdLst>
                <a:gd name="textAreaLeft" fmla="*/ 0 w 4883400"/>
                <a:gd name="textAreaRight" fmla="*/ 4883760 w 4883400"/>
                <a:gd name="textAreaTop" fmla="*/ 0 h 4635360"/>
                <a:gd name="textAreaBottom" fmla="*/ 4635720 h 4635360"/>
              </a:gdLst>
              <a:ahLst/>
              <a:rect l="textAreaLeft" t="textAreaTop" r="textAreaRight" b="textAreaBottom"/>
              <a:pathLst>
                <a:path w="3076" h="2920">
                  <a:moveTo>
                    <a:pt x="846" y="2212"/>
                  </a:moveTo>
                  <a:lnTo>
                    <a:pt x="846" y="2212"/>
                  </a:lnTo>
                  <a:lnTo>
                    <a:pt x="874" y="2256"/>
                  </a:lnTo>
                  <a:lnTo>
                    <a:pt x="886" y="2272"/>
                  </a:lnTo>
                  <a:lnTo>
                    <a:pt x="900" y="2288"/>
                  </a:lnTo>
                  <a:lnTo>
                    <a:pt x="914" y="2302"/>
                  </a:lnTo>
                  <a:lnTo>
                    <a:pt x="930" y="2316"/>
                  </a:lnTo>
                  <a:lnTo>
                    <a:pt x="972" y="2344"/>
                  </a:lnTo>
                  <a:lnTo>
                    <a:pt x="972" y="2344"/>
                  </a:lnTo>
                  <a:lnTo>
                    <a:pt x="978" y="2278"/>
                  </a:lnTo>
                  <a:lnTo>
                    <a:pt x="984" y="2200"/>
                  </a:lnTo>
                  <a:lnTo>
                    <a:pt x="986" y="2108"/>
                  </a:lnTo>
                  <a:lnTo>
                    <a:pt x="988" y="2006"/>
                  </a:lnTo>
                  <a:lnTo>
                    <a:pt x="988" y="1022"/>
                  </a:lnTo>
                  <a:lnTo>
                    <a:pt x="988" y="1022"/>
                  </a:lnTo>
                  <a:lnTo>
                    <a:pt x="988" y="910"/>
                  </a:lnTo>
                  <a:lnTo>
                    <a:pt x="984" y="818"/>
                  </a:lnTo>
                  <a:lnTo>
                    <a:pt x="980" y="734"/>
                  </a:lnTo>
                  <a:lnTo>
                    <a:pt x="972" y="646"/>
                  </a:lnTo>
                  <a:lnTo>
                    <a:pt x="972" y="646"/>
                  </a:lnTo>
                  <a:lnTo>
                    <a:pt x="1048" y="652"/>
                  </a:lnTo>
                  <a:lnTo>
                    <a:pt x="1128" y="656"/>
                  </a:lnTo>
                  <a:lnTo>
                    <a:pt x="1222" y="658"/>
                  </a:lnTo>
                  <a:lnTo>
                    <a:pt x="1336" y="658"/>
                  </a:lnTo>
                  <a:lnTo>
                    <a:pt x="1424" y="658"/>
                  </a:lnTo>
                  <a:lnTo>
                    <a:pt x="1424" y="658"/>
                  </a:lnTo>
                  <a:lnTo>
                    <a:pt x="1324" y="596"/>
                  </a:lnTo>
                  <a:lnTo>
                    <a:pt x="1288" y="574"/>
                  </a:lnTo>
                  <a:lnTo>
                    <a:pt x="1242" y="550"/>
                  </a:lnTo>
                  <a:lnTo>
                    <a:pt x="1418" y="452"/>
                  </a:lnTo>
                  <a:lnTo>
                    <a:pt x="1272" y="452"/>
                  </a:lnTo>
                  <a:lnTo>
                    <a:pt x="1272" y="452"/>
                  </a:lnTo>
                  <a:lnTo>
                    <a:pt x="1168" y="454"/>
                  </a:lnTo>
                  <a:lnTo>
                    <a:pt x="1084" y="456"/>
                  </a:lnTo>
                  <a:lnTo>
                    <a:pt x="1010" y="460"/>
                  </a:lnTo>
                  <a:lnTo>
                    <a:pt x="938" y="468"/>
                  </a:lnTo>
                  <a:lnTo>
                    <a:pt x="938" y="22"/>
                  </a:lnTo>
                  <a:lnTo>
                    <a:pt x="938" y="22"/>
                  </a:lnTo>
                  <a:lnTo>
                    <a:pt x="1022" y="30"/>
                  </a:lnTo>
                  <a:lnTo>
                    <a:pt x="1116" y="36"/>
                  </a:lnTo>
                  <a:lnTo>
                    <a:pt x="1226" y="40"/>
                  </a:lnTo>
                  <a:lnTo>
                    <a:pt x="1358" y="40"/>
                  </a:lnTo>
                  <a:lnTo>
                    <a:pt x="2302" y="40"/>
                  </a:lnTo>
                  <a:lnTo>
                    <a:pt x="2302" y="40"/>
                  </a:lnTo>
                  <a:lnTo>
                    <a:pt x="2452" y="40"/>
                  </a:lnTo>
                  <a:lnTo>
                    <a:pt x="2564" y="36"/>
                  </a:lnTo>
                  <a:lnTo>
                    <a:pt x="2644" y="30"/>
                  </a:lnTo>
                  <a:lnTo>
                    <a:pt x="2674" y="26"/>
                  </a:lnTo>
                  <a:lnTo>
                    <a:pt x="2700" y="22"/>
                  </a:lnTo>
                  <a:lnTo>
                    <a:pt x="2934" y="276"/>
                  </a:lnTo>
                  <a:lnTo>
                    <a:pt x="2934" y="276"/>
                  </a:lnTo>
                  <a:lnTo>
                    <a:pt x="2908" y="294"/>
                  </a:lnTo>
                  <a:lnTo>
                    <a:pt x="2884" y="312"/>
                  </a:lnTo>
                  <a:lnTo>
                    <a:pt x="2786" y="398"/>
                  </a:lnTo>
                  <a:lnTo>
                    <a:pt x="2786" y="398"/>
                  </a:lnTo>
                  <a:lnTo>
                    <a:pt x="2708" y="468"/>
                  </a:lnTo>
                  <a:lnTo>
                    <a:pt x="2626" y="536"/>
                  </a:lnTo>
                  <a:lnTo>
                    <a:pt x="2544" y="602"/>
                  </a:lnTo>
                  <a:lnTo>
                    <a:pt x="2466" y="658"/>
                  </a:lnTo>
                  <a:lnTo>
                    <a:pt x="2612" y="658"/>
                  </a:lnTo>
                  <a:lnTo>
                    <a:pt x="2612" y="658"/>
                  </a:lnTo>
                  <a:lnTo>
                    <a:pt x="2706" y="658"/>
                  </a:lnTo>
                  <a:lnTo>
                    <a:pt x="2784" y="656"/>
                  </a:lnTo>
                  <a:lnTo>
                    <a:pt x="2850" y="652"/>
                  </a:lnTo>
                  <a:lnTo>
                    <a:pt x="2912" y="646"/>
                  </a:lnTo>
                  <a:lnTo>
                    <a:pt x="2912" y="646"/>
                  </a:lnTo>
                  <a:lnTo>
                    <a:pt x="2906" y="708"/>
                  </a:lnTo>
                  <a:lnTo>
                    <a:pt x="2902" y="782"/>
                  </a:lnTo>
                  <a:lnTo>
                    <a:pt x="2900" y="872"/>
                  </a:lnTo>
                  <a:lnTo>
                    <a:pt x="2900" y="984"/>
                  </a:lnTo>
                  <a:lnTo>
                    <a:pt x="2900" y="2026"/>
                  </a:lnTo>
                  <a:lnTo>
                    <a:pt x="2900" y="2026"/>
                  </a:lnTo>
                  <a:lnTo>
                    <a:pt x="2898" y="2082"/>
                  </a:lnTo>
                  <a:lnTo>
                    <a:pt x="2894" y="2130"/>
                  </a:lnTo>
                  <a:lnTo>
                    <a:pt x="2886" y="2172"/>
                  </a:lnTo>
                  <a:lnTo>
                    <a:pt x="2880" y="2190"/>
                  </a:lnTo>
                  <a:lnTo>
                    <a:pt x="2874" y="2206"/>
                  </a:lnTo>
                  <a:lnTo>
                    <a:pt x="2868" y="2222"/>
                  </a:lnTo>
                  <a:lnTo>
                    <a:pt x="2860" y="2236"/>
                  </a:lnTo>
                  <a:lnTo>
                    <a:pt x="2850" y="2248"/>
                  </a:lnTo>
                  <a:lnTo>
                    <a:pt x="2840" y="2260"/>
                  </a:lnTo>
                  <a:lnTo>
                    <a:pt x="2828" y="2272"/>
                  </a:lnTo>
                  <a:lnTo>
                    <a:pt x="2814" y="2282"/>
                  </a:lnTo>
                  <a:lnTo>
                    <a:pt x="2786" y="2300"/>
                  </a:lnTo>
                  <a:lnTo>
                    <a:pt x="2786" y="2300"/>
                  </a:lnTo>
                  <a:lnTo>
                    <a:pt x="2760" y="2312"/>
                  </a:lnTo>
                  <a:lnTo>
                    <a:pt x="2730" y="2322"/>
                  </a:lnTo>
                  <a:lnTo>
                    <a:pt x="2694" y="2330"/>
                  </a:lnTo>
                  <a:lnTo>
                    <a:pt x="2654" y="2336"/>
                  </a:lnTo>
                  <a:lnTo>
                    <a:pt x="2606" y="2342"/>
                  </a:lnTo>
                  <a:lnTo>
                    <a:pt x="2554" y="2346"/>
                  </a:lnTo>
                  <a:lnTo>
                    <a:pt x="2496" y="2348"/>
                  </a:lnTo>
                  <a:lnTo>
                    <a:pt x="2430" y="2348"/>
                  </a:lnTo>
                  <a:lnTo>
                    <a:pt x="2430" y="2348"/>
                  </a:lnTo>
                  <a:lnTo>
                    <a:pt x="2324" y="2348"/>
                  </a:lnTo>
                  <a:lnTo>
                    <a:pt x="2324" y="2348"/>
                  </a:lnTo>
                  <a:lnTo>
                    <a:pt x="2310" y="2254"/>
                  </a:lnTo>
                  <a:lnTo>
                    <a:pt x="2294" y="2176"/>
                  </a:lnTo>
                  <a:lnTo>
                    <a:pt x="2284" y="2138"/>
                  </a:lnTo>
                  <a:lnTo>
                    <a:pt x="2274" y="2102"/>
                  </a:lnTo>
                  <a:lnTo>
                    <a:pt x="2248" y="2022"/>
                  </a:lnTo>
                  <a:lnTo>
                    <a:pt x="2248" y="2022"/>
                  </a:lnTo>
                  <a:lnTo>
                    <a:pt x="2322" y="2030"/>
                  </a:lnTo>
                  <a:lnTo>
                    <a:pt x="2384" y="2032"/>
                  </a:lnTo>
                  <a:lnTo>
                    <a:pt x="2384" y="2032"/>
                  </a:lnTo>
                  <a:lnTo>
                    <a:pt x="2400" y="2032"/>
                  </a:lnTo>
                  <a:lnTo>
                    <a:pt x="2414" y="2030"/>
                  </a:lnTo>
                  <a:lnTo>
                    <a:pt x="2424" y="2026"/>
                  </a:lnTo>
                  <a:lnTo>
                    <a:pt x="2430" y="2020"/>
                  </a:lnTo>
                  <a:lnTo>
                    <a:pt x="2436" y="2012"/>
                  </a:lnTo>
                  <a:lnTo>
                    <a:pt x="2438" y="2000"/>
                  </a:lnTo>
                  <a:lnTo>
                    <a:pt x="2440" y="1986"/>
                  </a:lnTo>
                  <a:lnTo>
                    <a:pt x="2440" y="1966"/>
                  </a:lnTo>
                  <a:lnTo>
                    <a:pt x="2440" y="1902"/>
                  </a:lnTo>
                  <a:lnTo>
                    <a:pt x="2152" y="1902"/>
                  </a:lnTo>
                  <a:lnTo>
                    <a:pt x="2152" y="1994"/>
                  </a:lnTo>
                  <a:lnTo>
                    <a:pt x="2152" y="1994"/>
                  </a:lnTo>
                  <a:lnTo>
                    <a:pt x="2154" y="2114"/>
                  </a:lnTo>
                  <a:lnTo>
                    <a:pt x="2156" y="2202"/>
                  </a:lnTo>
                  <a:lnTo>
                    <a:pt x="2160" y="2274"/>
                  </a:lnTo>
                  <a:lnTo>
                    <a:pt x="2168" y="2348"/>
                  </a:lnTo>
                  <a:lnTo>
                    <a:pt x="1690" y="2348"/>
                  </a:lnTo>
                  <a:lnTo>
                    <a:pt x="1690" y="2348"/>
                  </a:lnTo>
                  <a:lnTo>
                    <a:pt x="1698" y="2276"/>
                  </a:lnTo>
                  <a:lnTo>
                    <a:pt x="1704" y="2200"/>
                  </a:lnTo>
                  <a:lnTo>
                    <a:pt x="1708" y="2108"/>
                  </a:lnTo>
                  <a:lnTo>
                    <a:pt x="1710" y="1994"/>
                  </a:lnTo>
                  <a:lnTo>
                    <a:pt x="1710" y="1902"/>
                  </a:lnTo>
                  <a:lnTo>
                    <a:pt x="1446" y="1902"/>
                  </a:lnTo>
                  <a:lnTo>
                    <a:pt x="1446" y="2006"/>
                  </a:lnTo>
                  <a:lnTo>
                    <a:pt x="1446" y="2006"/>
                  </a:lnTo>
                  <a:lnTo>
                    <a:pt x="1448" y="2128"/>
                  </a:lnTo>
                  <a:lnTo>
                    <a:pt x="1450" y="2226"/>
                  </a:lnTo>
                  <a:lnTo>
                    <a:pt x="1452" y="2266"/>
                  </a:lnTo>
                  <a:lnTo>
                    <a:pt x="1456" y="2302"/>
                  </a:lnTo>
                  <a:lnTo>
                    <a:pt x="1460" y="2332"/>
                  </a:lnTo>
                  <a:lnTo>
                    <a:pt x="1466" y="2358"/>
                  </a:lnTo>
                  <a:lnTo>
                    <a:pt x="998" y="2358"/>
                  </a:lnTo>
                  <a:lnTo>
                    <a:pt x="998" y="2358"/>
                  </a:lnTo>
                  <a:lnTo>
                    <a:pt x="1030" y="2372"/>
                  </a:lnTo>
                  <a:lnTo>
                    <a:pt x="1060" y="2386"/>
                  </a:lnTo>
                  <a:lnTo>
                    <a:pt x="1090" y="2396"/>
                  </a:lnTo>
                  <a:lnTo>
                    <a:pt x="1120" y="2404"/>
                  </a:lnTo>
                  <a:lnTo>
                    <a:pt x="1156" y="2412"/>
                  </a:lnTo>
                  <a:lnTo>
                    <a:pt x="1194" y="2418"/>
                  </a:lnTo>
                  <a:lnTo>
                    <a:pt x="1240" y="2422"/>
                  </a:lnTo>
                  <a:lnTo>
                    <a:pt x="1292" y="2428"/>
                  </a:lnTo>
                  <a:lnTo>
                    <a:pt x="1292" y="2428"/>
                  </a:lnTo>
                  <a:lnTo>
                    <a:pt x="1414" y="2432"/>
                  </a:lnTo>
                  <a:lnTo>
                    <a:pt x="1614" y="2440"/>
                  </a:lnTo>
                  <a:lnTo>
                    <a:pt x="1826" y="2444"/>
                  </a:lnTo>
                  <a:lnTo>
                    <a:pt x="1978" y="2446"/>
                  </a:lnTo>
                  <a:lnTo>
                    <a:pt x="1978" y="2446"/>
                  </a:lnTo>
                  <a:lnTo>
                    <a:pt x="2100" y="2444"/>
                  </a:lnTo>
                  <a:lnTo>
                    <a:pt x="2226" y="2442"/>
                  </a:lnTo>
                  <a:lnTo>
                    <a:pt x="2360" y="2436"/>
                  </a:lnTo>
                  <a:lnTo>
                    <a:pt x="2496" y="2428"/>
                  </a:lnTo>
                  <a:lnTo>
                    <a:pt x="2638" y="2418"/>
                  </a:lnTo>
                  <a:lnTo>
                    <a:pt x="2782" y="2404"/>
                  </a:lnTo>
                  <a:lnTo>
                    <a:pt x="2928" y="2390"/>
                  </a:lnTo>
                  <a:lnTo>
                    <a:pt x="3076" y="2374"/>
                  </a:lnTo>
                  <a:lnTo>
                    <a:pt x="3076" y="2374"/>
                  </a:lnTo>
                  <a:lnTo>
                    <a:pt x="3056" y="2440"/>
                  </a:lnTo>
                  <a:lnTo>
                    <a:pt x="3036" y="2502"/>
                  </a:lnTo>
                  <a:lnTo>
                    <a:pt x="3020" y="2564"/>
                  </a:lnTo>
                  <a:lnTo>
                    <a:pt x="3006" y="2624"/>
                  </a:lnTo>
                  <a:lnTo>
                    <a:pt x="2994" y="2686"/>
                  </a:lnTo>
                  <a:lnTo>
                    <a:pt x="2982" y="2748"/>
                  </a:lnTo>
                  <a:lnTo>
                    <a:pt x="2972" y="2816"/>
                  </a:lnTo>
                  <a:lnTo>
                    <a:pt x="2962" y="2890"/>
                  </a:lnTo>
                  <a:lnTo>
                    <a:pt x="2962" y="2890"/>
                  </a:lnTo>
                  <a:lnTo>
                    <a:pt x="2716" y="2898"/>
                  </a:lnTo>
                  <a:lnTo>
                    <a:pt x="2472" y="2902"/>
                  </a:lnTo>
                  <a:lnTo>
                    <a:pt x="2190" y="2904"/>
                  </a:lnTo>
                  <a:lnTo>
                    <a:pt x="1836" y="2906"/>
                  </a:lnTo>
                  <a:lnTo>
                    <a:pt x="1836" y="2906"/>
                  </a:lnTo>
                  <a:lnTo>
                    <a:pt x="1716" y="2904"/>
                  </a:lnTo>
                  <a:lnTo>
                    <a:pt x="1602" y="2902"/>
                  </a:lnTo>
                  <a:lnTo>
                    <a:pt x="1492" y="2898"/>
                  </a:lnTo>
                  <a:lnTo>
                    <a:pt x="1390" y="2894"/>
                  </a:lnTo>
                  <a:lnTo>
                    <a:pt x="1294" y="2888"/>
                  </a:lnTo>
                  <a:lnTo>
                    <a:pt x="1208" y="2880"/>
                  </a:lnTo>
                  <a:lnTo>
                    <a:pt x="1132" y="2870"/>
                  </a:lnTo>
                  <a:lnTo>
                    <a:pt x="1066" y="2860"/>
                  </a:lnTo>
                  <a:lnTo>
                    <a:pt x="1066" y="2860"/>
                  </a:lnTo>
                  <a:lnTo>
                    <a:pt x="1000" y="2846"/>
                  </a:lnTo>
                  <a:lnTo>
                    <a:pt x="970" y="2838"/>
                  </a:lnTo>
                  <a:lnTo>
                    <a:pt x="938" y="2828"/>
                  </a:lnTo>
                  <a:lnTo>
                    <a:pt x="910" y="2818"/>
                  </a:lnTo>
                  <a:lnTo>
                    <a:pt x="880" y="2806"/>
                  </a:lnTo>
                  <a:lnTo>
                    <a:pt x="852" y="2792"/>
                  </a:lnTo>
                  <a:lnTo>
                    <a:pt x="826" y="2778"/>
                  </a:lnTo>
                  <a:lnTo>
                    <a:pt x="798" y="2764"/>
                  </a:lnTo>
                  <a:lnTo>
                    <a:pt x="772" y="2746"/>
                  </a:lnTo>
                  <a:lnTo>
                    <a:pt x="746" y="2728"/>
                  </a:lnTo>
                  <a:lnTo>
                    <a:pt x="720" y="2708"/>
                  </a:lnTo>
                  <a:lnTo>
                    <a:pt x="696" y="2688"/>
                  </a:lnTo>
                  <a:lnTo>
                    <a:pt x="670" y="2664"/>
                  </a:lnTo>
                  <a:lnTo>
                    <a:pt x="618" y="2614"/>
                  </a:lnTo>
                  <a:lnTo>
                    <a:pt x="618" y="2614"/>
                  </a:lnTo>
                  <a:lnTo>
                    <a:pt x="570" y="2658"/>
                  </a:lnTo>
                  <a:lnTo>
                    <a:pt x="526" y="2698"/>
                  </a:lnTo>
                  <a:lnTo>
                    <a:pt x="484" y="2734"/>
                  </a:lnTo>
                  <a:lnTo>
                    <a:pt x="442" y="2768"/>
                  </a:lnTo>
                  <a:lnTo>
                    <a:pt x="398" y="2802"/>
                  </a:lnTo>
                  <a:lnTo>
                    <a:pt x="348" y="2838"/>
                  </a:lnTo>
                  <a:lnTo>
                    <a:pt x="228" y="2920"/>
                  </a:lnTo>
                  <a:lnTo>
                    <a:pt x="0" y="2430"/>
                  </a:lnTo>
                  <a:lnTo>
                    <a:pt x="0" y="2430"/>
                  </a:lnTo>
                  <a:lnTo>
                    <a:pt x="46" y="2410"/>
                  </a:lnTo>
                  <a:lnTo>
                    <a:pt x="94" y="2388"/>
                  </a:lnTo>
                  <a:lnTo>
                    <a:pt x="140" y="2362"/>
                  </a:lnTo>
                  <a:lnTo>
                    <a:pt x="188" y="2334"/>
                  </a:lnTo>
                  <a:lnTo>
                    <a:pt x="236" y="2304"/>
                  </a:lnTo>
                  <a:lnTo>
                    <a:pt x="284" y="2270"/>
                  </a:lnTo>
                  <a:lnTo>
                    <a:pt x="336" y="2236"/>
                  </a:lnTo>
                  <a:lnTo>
                    <a:pt x="386" y="2196"/>
                  </a:lnTo>
                  <a:lnTo>
                    <a:pt x="386" y="1608"/>
                  </a:lnTo>
                  <a:lnTo>
                    <a:pt x="254" y="1608"/>
                  </a:lnTo>
                  <a:lnTo>
                    <a:pt x="254" y="1608"/>
                  </a:lnTo>
                  <a:lnTo>
                    <a:pt x="208" y="1608"/>
                  </a:lnTo>
                  <a:lnTo>
                    <a:pt x="166" y="1610"/>
                  </a:lnTo>
                  <a:lnTo>
                    <a:pt x="120" y="1616"/>
                  </a:lnTo>
                  <a:lnTo>
                    <a:pt x="64" y="1624"/>
                  </a:lnTo>
                  <a:lnTo>
                    <a:pt x="64" y="1140"/>
                  </a:lnTo>
                  <a:lnTo>
                    <a:pt x="64" y="1140"/>
                  </a:lnTo>
                  <a:lnTo>
                    <a:pt x="126" y="1146"/>
                  </a:lnTo>
                  <a:lnTo>
                    <a:pt x="184" y="1152"/>
                  </a:lnTo>
                  <a:lnTo>
                    <a:pt x="244" y="1154"/>
                  </a:lnTo>
                  <a:lnTo>
                    <a:pt x="320" y="1154"/>
                  </a:lnTo>
                  <a:lnTo>
                    <a:pt x="614" y="1154"/>
                  </a:lnTo>
                  <a:lnTo>
                    <a:pt x="614" y="1154"/>
                  </a:lnTo>
                  <a:lnTo>
                    <a:pt x="682" y="1154"/>
                  </a:lnTo>
                  <a:lnTo>
                    <a:pt x="744" y="1152"/>
                  </a:lnTo>
                  <a:lnTo>
                    <a:pt x="802" y="1146"/>
                  </a:lnTo>
                  <a:lnTo>
                    <a:pt x="858" y="1140"/>
                  </a:lnTo>
                  <a:lnTo>
                    <a:pt x="858" y="1140"/>
                  </a:lnTo>
                  <a:lnTo>
                    <a:pt x="852" y="1208"/>
                  </a:lnTo>
                  <a:lnTo>
                    <a:pt x="848" y="1284"/>
                  </a:lnTo>
                  <a:lnTo>
                    <a:pt x="846" y="1378"/>
                  </a:lnTo>
                  <a:lnTo>
                    <a:pt x="846" y="1500"/>
                  </a:lnTo>
                  <a:lnTo>
                    <a:pt x="846" y="2212"/>
                  </a:lnTo>
                  <a:close/>
                  <a:moveTo>
                    <a:pt x="374" y="0"/>
                  </a:moveTo>
                  <a:lnTo>
                    <a:pt x="374" y="0"/>
                  </a:lnTo>
                  <a:lnTo>
                    <a:pt x="468" y="78"/>
                  </a:lnTo>
                  <a:lnTo>
                    <a:pt x="554" y="152"/>
                  </a:lnTo>
                  <a:lnTo>
                    <a:pt x="632" y="224"/>
                  </a:lnTo>
                  <a:lnTo>
                    <a:pt x="706" y="294"/>
                  </a:lnTo>
                  <a:lnTo>
                    <a:pt x="774" y="362"/>
                  </a:lnTo>
                  <a:lnTo>
                    <a:pt x="840" y="434"/>
                  </a:lnTo>
                  <a:lnTo>
                    <a:pt x="902" y="506"/>
                  </a:lnTo>
                  <a:lnTo>
                    <a:pt x="966" y="582"/>
                  </a:lnTo>
                  <a:lnTo>
                    <a:pt x="598" y="952"/>
                  </a:lnTo>
                  <a:lnTo>
                    <a:pt x="598" y="952"/>
                  </a:lnTo>
                  <a:lnTo>
                    <a:pt x="526" y="860"/>
                  </a:lnTo>
                  <a:lnTo>
                    <a:pt x="458" y="776"/>
                  </a:lnTo>
                  <a:lnTo>
                    <a:pt x="392" y="700"/>
                  </a:lnTo>
                  <a:lnTo>
                    <a:pt x="326" y="628"/>
                  </a:lnTo>
                  <a:lnTo>
                    <a:pt x="256" y="558"/>
                  </a:lnTo>
                  <a:lnTo>
                    <a:pt x="184" y="490"/>
                  </a:lnTo>
                  <a:lnTo>
                    <a:pt x="104" y="420"/>
                  </a:lnTo>
                  <a:lnTo>
                    <a:pt x="16" y="344"/>
                  </a:lnTo>
                  <a:lnTo>
                    <a:pt x="374" y="0"/>
                  </a:lnTo>
                  <a:close/>
                  <a:moveTo>
                    <a:pt x="1446" y="1016"/>
                  </a:moveTo>
                  <a:lnTo>
                    <a:pt x="1446" y="1146"/>
                  </a:lnTo>
                  <a:lnTo>
                    <a:pt x="1710" y="1146"/>
                  </a:lnTo>
                  <a:lnTo>
                    <a:pt x="1710" y="1016"/>
                  </a:lnTo>
                  <a:lnTo>
                    <a:pt x="1446" y="1016"/>
                  </a:lnTo>
                  <a:close/>
                  <a:moveTo>
                    <a:pt x="1446" y="1582"/>
                  </a:moveTo>
                  <a:lnTo>
                    <a:pt x="1710" y="1582"/>
                  </a:lnTo>
                  <a:lnTo>
                    <a:pt x="1710" y="1450"/>
                  </a:lnTo>
                  <a:lnTo>
                    <a:pt x="1446" y="1450"/>
                  </a:lnTo>
                  <a:lnTo>
                    <a:pt x="1446" y="1582"/>
                  </a:lnTo>
                  <a:close/>
                  <a:moveTo>
                    <a:pt x="1722" y="452"/>
                  </a:moveTo>
                  <a:lnTo>
                    <a:pt x="1722" y="452"/>
                  </a:lnTo>
                  <a:lnTo>
                    <a:pt x="1782" y="496"/>
                  </a:lnTo>
                  <a:lnTo>
                    <a:pt x="1834" y="536"/>
                  </a:lnTo>
                  <a:lnTo>
                    <a:pt x="1946" y="626"/>
                  </a:lnTo>
                  <a:lnTo>
                    <a:pt x="1946" y="626"/>
                  </a:lnTo>
                  <a:lnTo>
                    <a:pt x="2006" y="586"/>
                  </a:lnTo>
                  <a:lnTo>
                    <a:pt x="2058" y="546"/>
                  </a:lnTo>
                  <a:lnTo>
                    <a:pt x="2108" y="502"/>
                  </a:lnTo>
                  <a:lnTo>
                    <a:pt x="2166" y="452"/>
                  </a:lnTo>
                  <a:lnTo>
                    <a:pt x="1722" y="452"/>
                  </a:lnTo>
                  <a:close/>
                  <a:moveTo>
                    <a:pt x="2152" y="1146"/>
                  </a:moveTo>
                  <a:lnTo>
                    <a:pt x="2440" y="1146"/>
                  </a:lnTo>
                  <a:lnTo>
                    <a:pt x="2440" y="1016"/>
                  </a:lnTo>
                  <a:lnTo>
                    <a:pt x="2152" y="1016"/>
                  </a:lnTo>
                  <a:lnTo>
                    <a:pt x="2152" y="1146"/>
                  </a:lnTo>
                  <a:close/>
                  <a:moveTo>
                    <a:pt x="2440" y="1450"/>
                  </a:moveTo>
                  <a:lnTo>
                    <a:pt x="2152" y="1450"/>
                  </a:lnTo>
                  <a:lnTo>
                    <a:pt x="2152" y="1582"/>
                  </a:lnTo>
                  <a:lnTo>
                    <a:pt x="2440" y="1582"/>
                  </a:lnTo>
                  <a:lnTo>
                    <a:pt x="2440" y="1450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3508200" y="15795360"/>
              <a:ext cx="3416400" cy="4572000"/>
            </a:xfrm>
            <a:custGeom>
              <a:avLst/>
              <a:gdLst>
                <a:gd name="textAreaLeft" fmla="*/ 0 w 3416400"/>
                <a:gd name="textAreaRight" fmla="*/ 3416760 w 341640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2152" h="2880">
                  <a:moveTo>
                    <a:pt x="646" y="22"/>
                  </a:moveTo>
                  <a:lnTo>
                    <a:pt x="646" y="22"/>
                  </a:lnTo>
                  <a:lnTo>
                    <a:pt x="630" y="74"/>
                  </a:lnTo>
                  <a:lnTo>
                    <a:pt x="614" y="136"/>
                  </a:lnTo>
                  <a:lnTo>
                    <a:pt x="598" y="204"/>
                  </a:lnTo>
                  <a:lnTo>
                    <a:pt x="582" y="282"/>
                  </a:lnTo>
                  <a:lnTo>
                    <a:pt x="566" y="370"/>
                  </a:lnTo>
                  <a:lnTo>
                    <a:pt x="550" y="468"/>
                  </a:lnTo>
                  <a:lnTo>
                    <a:pt x="516" y="698"/>
                  </a:lnTo>
                  <a:lnTo>
                    <a:pt x="516" y="698"/>
                  </a:lnTo>
                  <a:lnTo>
                    <a:pt x="556" y="632"/>
                  </a:lnTo>
                  <a:lnTo>
                    <a:pt x="596" y="568"/>
                  </a:lnTo>
                  <a:lnTo>
                    <a:pt x="638" y="510"/>
                  </a:lnTo>
                  <a:lnTo>
                    <a:pt x="680" y="456"/>
                  </a:lnTo>
                  <a:lnTo>
                    <a:pt x="724" y="408"/>
                  </a:lnTo>
                  <a:lnTo>
                    <a:pt x="770" y="362"/>
                  </a:lnTo>
                  <a:lnTo>
                    <a:pt x="818" y="322"/>
                  </a:lnTo>
                  <a:lnTo>
                    <a:pt x="866" y="286"/>
                  </a:lnTo>
                  <a:lnTo>
                    <a:pt x="916" y="254"/>
                  </a:lnTo>
                  <a:lnTo>
                    <a:pt x="968" y="226"/>
                  </a:lnTo>
                  <a:lnTo>
                    <a:pt x="1022" y="204"/>
                  </a:lnTo>
                  <a:lnTo>
                    <a:pt x="1078" y="184"/>
                  </a:lnTo>
                  <a:lnTo>
                    <a:pt x="1134" y="170"/>
                  </a:lnTo>
                  <a:lnTo>
                    <a:pt x="1194" y="160"/>
                  </a:lnTo>
                  <a:lnTo>
                    <a:pt x="1254" y="154"/>
                  </a:lnTo>
                  <a:lnTo>
                    <a:pt x="1316" y="152"/>
                  </a:lnTo>
                  <a:lnTo>
                    <a:pt x="1316" y="152"/>
                  </a:lnTo>
                  <a:lnTo>
                    <a:pt x="1356" y="152"/>
                  </a:lnTo>
                  <a:lnTo>
                    <a:pt x="1398" y="156"/>
                  </a:lnTo>
                  <a:lnTo>
                    <a:pt x="1436" y="162"/>
                  </a:lnTo>
                  <a:lnTo>
                    <a:pt x="1476" y="170"/>
                  </a:lnTo>
                  <a:lnTo>
                    <a:pt x="1516" y="182"/>
                  </a:lnTo>
                  <a:lnTo>
                    <a:pt x="1554" y="194"/>
                  </a:lnTo>
                  <a:lnTo>
                    <a:pt x="1592" y="210"/>
                  </a:lnTo>
                  <a:lnTo>
                    <a:pt x="1630" y="228"/>
                  </a:lnTo>
                  <a:lnTo>
                    <a:pt x="1666" y="248"/>
                  </a:lnTo>
                  <a:lnTo>
                    <a:pt x="1702" y="268"/>
                  </a:lnTo>
                  <a:lnTo>
                    <a:pt x="1736" y="292"/>
                  </a:lnTo>
                  <a:lnTo>
                    <a:pt x="1768" y="318"/>
                  </a:lnTo>
                  <a:lnTo>
                    <a:pt x="1802" y="346"/>
                  </a:lnTo>
                  <a:lnTo>
                    <a:pt x="1832" y="376"/>
                  </a:lnTo>
                  <a:lnTo>
                    <a:pt x="1862" y="406"/>
                  </a:lnTo>
                  <a:lnTo>
                    <a:pt x="1890" y="440"/>
                  </a:lnTo>
                  <a:lnTo>
                    <a:pt x="1890" y="440"/>
                  </a:lnTo>
                  <a:lnTo>
                    <a:pt x="1922" y="482"/>
                  </a:lnTo>
                  <a:lnTo>
                    <a:pt x="1952" y="526"/>
                  </a:lnTo>
                  <a:lnTo>
                    <a:pt x="1980" y="570"/>
                  </a:lnTo>
                  <a:lnTo>
                    <a:pt x="2006" y="618"/>
                  </a:lnTo>
                  <a:lnTo>
                    <a:pt x="2028" y="666"/>
                  </a:lnTo>
                  <a:lnTo>
                    <a:pt x="2050" y="718"/>
                  </a:lnTo>
                  <a:lnTo>
                    <a:pt x="2070" y="770"/>
                  </a:lnTo>
                  <a:lnTo>
                    <a:pt x="2088" y="824"/>
                  </a:lnTo>
                  <a:lnTo>
                    <a:pt x="2102" y="878"/>
                  </a:lnTo>
                  <a:lnTo>
                    <a:pt x="2116" y="936"/>
                  </a:lnTo>
                  <a:lnTo>
                    <a:pt x="2126" y="996"/>
                  </a:lnTo>
                  <a:lnTo>
                    <a:pt x="2136" y="1056"/>
                  </a:lnTo>
                  <a:lnTo>
                    <a:pt x="2144" y="1120"/>
                  </a:lnTo>
                  <a:lnTo>
                    <a:pt x="2148" y="1184"/>
                  </a:lnTo>
                  <a:lnTo>
                    <a:pt x="2152" y="1250"/>
                  </a:lnTo>
                  <a:lnTo>
                    <a:pt x="2152" y="1320"/>
                  </a:lnTo>
                  <a:lnTo>
                    <a:pt x="2152" y="1320"/>
                  </a:lnTo>
                  <a:lnTo>
                    <a:pt x="2150" y="1414"/>
                  </a:lnTo>
                  <a:lnTo>
                    <a:pt x="2144" y="1508"/>
                  </a:lnTo>
                  <a:lnTo>
                    <a:pt x="2136" y="1596"/>
                  </a:lnTo>
                  <a:lnTo>
                    <a:pt x="2122" y="1684"/>
                  </a:lnTo>
                  <a:lnTo>
                    <a:pt x="2104" y="1766"/>
                  </a:lnTo>
                  <a:lnTo>
                    <a:pt x="2084" y="1846"/>
                  </a:lnTo>
                  <a:lnTo>
                    <a:pt x="2060" y="1924"/>
                  </a:lnTo>
                  <a:lnTo>
                    <a:pt x="2032" y="1998"/>
                  </a:lnTo>
                  <a:lnTo>
                    <a:pt x="1998" y="2068"/>
                  </a:lnTo>
                  <a:lnTo>
                    <a:pt x="1982" y="2102"/>
                  </a:lnTo>
                  <a:lnTo>
                    <a:pt x="1964" y="2136"/>
                  </a:lnTo>
                  <a:lnTo>
                    <a:pt x="1944" y="2170"/>
                  </a:lnTo>
                  <a:lnTo>
                    <a:pt x="1924" y="2202"/>
                  </a:lnTo>
                  <a:lnTo>
                    <a:pt x="1902" y="2232"/>
                  </a:lnTo>
                  <a:lnTo>
                    <a:pt x="1880" y="2262"/>
                  </a:lnTo>
                  <a:lnTo>
                    <a:pt x="1856" y="2292"/>
                  </a:lnTo>
                  <a:lnTo>
                    <a:pt x="1832" y="2320"/>
                  </a:lnTo>
                  <a:lnTo>
                    <a:pt x="1808" y="2348"/>
                  </a:lnTo>
                  <a:lnTo>
                    <a:pt x="1782" y="2376"/>
                  </a:lnTo>
                  <a:lnTo>
                    <a:pt x="1754" y="2402"/>
                  </a:lnTo>
                  <a:lnTo>
                    <a:pt x="1726" y="2428"/>
                  </a:lnTo>
                  <a:lnTo>
                    <a:pt x="1698" y="2454"/>
                  </a:lnTo>
                  <a:lnTo>
                    <a:pt x="1668" y="2478"/>
                  </a:lnTo>
                  <a:lnTo>
                    <a:pt x="1668" y="2478"/>
                  </a:lnTo>
                  <a:lnTo>
                    <a:pt x="1634" y="2504"/>
                  </a:lnTo>
                  <a:lnTo>
                    <a:pt x="1596" y="2530"/>
                  </a:lnTo>
                  <a:lnTo>
                    <a:pt x="1560" y="2554"/>
                  </a:lnTo>
                  <a:lnTo>
                    <a:pt x="1520" y="2580"/>
                  </a:lnTo>
                  <a:lnTo>
                    <a:pt x="1478" y="2602"/>
                  </a:lnTo>
                  <a:lnTo>
                    <a:pt x="1436" y="2626"/>
                  </a:lnTo>
                  <a:lnTo>
                    <a:pt x="1392" y="2648"/>
                  </a:lnTo>
                  <a:lnTo>
                    <a:pt x="1348" y="2670"/>
                  </a:lnTo>
                  <a:lnTo>
                    <a:pt x="1302" y="2690"/>
                  </a:lnTo>
                  <a:lnTo>
                    <a:pt x="1254" y="2710"/>
                  </a:lnTo>
                  <a:lnTo>
                    <a:pt x="1206" y="2728"/>
                  </a:lnTo>
                  <a:lnTo>
                    <a:pt x="1156" y="2746"/>
                  </a:lnTo>
                  <a:lnTo>
                    <a:pt x="1104" y="2762"/>
                  </a:lnTo>
                  <a:lnTo>
                    <a:pt x="1052" y="2778"/>
                  </a:lnTo>
                  <a:lnTo>
                    <a:pt x="1000" y="2792"/>
                  </a:lnTo>
                  <a:lnTo>
                    <a:pt x="946" y="2806"/>
                  </a:lnTo>
                  <a:lnTo>
                    <a:pt x="946" y="2806"/>
                  </a:lnTo>
                  <a:lnTo>
                    <a:pt x="868" y="2826"/>
                  </a:lnTo>
                  <a:lnTo>
                    <a:pt x="788" y="2842"/>
                  </a:lnTo>
                  <a:lnTo>
                    <a:pt x="694" y="2860"/>
                  </a:lnTo>
                  <a:lnTo>
                    <a:pt x="572" y="2880"/>
                  </a:lnTo>
                  <a:lnTo>
                    <a:pt x="572" y="2880"/>
                  </a:lnTo>
                  <a:lnTo>
                    <a:pt x="546" y="2796"/>
                  </a:lnTo>
                  <a:lnTo>
                    <a:pt x="520" y="2724"/>
                  </a:lnTo>
                  <a:lnTo>
                    <a:pt x="496" y="2660"/>
                  </a:lnTo>
                  <a:lnTo>
                    <a:pt x="468" y="2600"/>
                  </a:lnTo>
                  <a:lnTo>
                    <a:pt x="440" y="2542"/>
                  </a:lnTo>
                  <a:lnTo>
                    <a:pt x="406" y="2480"/>
                  </a:lnTo>
                  <a:lnTo>
                    <a:pt x="366" y="2414"/>
                  </a:lnTo>
                  <a:lnTo>
                    <a:pt x="320" y="2338"/>
                  </a:lnTo>
                  <a:lnTo>
                    <a:pt x="320" y="2338"/>
                  </a:lnTo>
                  <a:lnTo>
                    <a:pt x="404" y="2332"/>
                  </a:lnTo>
                  <a:lnTo>
                    <a:pt x="484" y="2326"/>
                  </a:lnTo>
                  <a:lnTo>
                    <a:pt x="562" y="2316"/>
                  </a:lnTo>
                  <a:lnTo>
                    <a:pt x="636" y="2306"/>
                  </a:lnTo>
                  <a:lnTo>
                    <a:pt x="706" y="2294"/>
                  </a:lnTo>
                  <a:lnTo>
                    <a:pt x="774" y="2282"/>
                  </a:lnTo>
                  <a:lnTo>
                    <a:pt x="840" y="2266"/>
                  </a:lnTo>
                  <a:lnTo>
                    <a:pt x="902" y="2250"/>
                  </a:lnTo>
                  <a:lnTo>
                    <a:pt x="962" y="2232"/>
                  </a:lnTo>
                  <a:lnTo>
                    <a:pt x="1018" y="2212"/>
                  </a:lnTo>
                  <a:lnTo>
                    <a:pt x="1072" y="2190"/>
                  </a:lnTo>
                  <a:lnTo>
                    <a:pt x="1122" y="2168"/>
                  </a:lnTo>
                  <a:lnTo>
                    <a:pt x="1170" y="2142"/>
                  </a:lnTo>
                  <a:lnTo>
                    <a:pt x="1216" y="2116"/>
                  </a:lnTo>
                  <a:lnTo>
                    <a:pt x="1258" y="2088"/>
                  </a:lnTo>
                  <a:lnTo>
                    <a:pt x="1298" y="2056"/>
                  </a:lnTo>
                  <a:lnTo>
                    <a:pt x="1336" y="2024"/>
                  </a:lnTo>
                  <a:lnTo>
                    <a:pt x="1370" y="1990"/>
                  </a:lnTo>
                  <a:lnTo>
                    <a:pt x="1402" y="1954"/>
                  </a:lnTo>
                  <a:lnTo>
                    <a:pt x="1432" y="1916"/>
                  </a:lnTo>
                  <a:lnTo>
                    <a:pt x="1458" y="1878"/>
                  </a:lnTo>
                  <a:lnTo>
                    <a:pt x="1482" y="1836"/>
                  </a:lnTo>
                  <a:lnTo>
                    <a:pt x="1504" y="1792"/>
                  </a:lnTo>
                  <a:lnTo>
                    <a:pt x="1524" y="1746"/>
                  </a:lnTo>
                  <a:lnTo>
                    <a:pt x="1540" y="1698"/>
                  </a:lnTo>
                  <a:lnTo>
                    <a:pt x="1556" y="1648"/>
                  </a:lnTo>
                  <a:lnTo>
                    <a:pt x="1568" y="1596"/>
                  </a:lnTo>
                  <a:lnTo>
                    <a:pt x="1578" y="1542"/>
                  </a:lnTo>
                  <a:lnTo>
                    <a:pt x="1586" y="1486"/>
                  </a:lnTo>
                  <a:lnTo>
                    <a:pt x="1590" y="1426"/>
                  </a:lnTo>
                  <a:lnTo>
                    <a:pt x="1594" y="1366"/>
                  </a:lnTo>
                  <a:lnTo>
                    <a:pt x="1596" y="1304"/>
                  </a:lnTo>
                  <a:lnTo>
                    <a:pt x="1596" y="1304"/>
                  </a:lnTo>
                  <a:lnTo>
                    <a:pt x="1594" y="1232"/>
                  </a:lnTo>
                  <a:lnTo>
                    <a:pt x="1590" y="1164"/>
                  </a:lnTo>
                  <a:lnTo>
                    <a:pt x="1582" y="1100"/>
                  </a:lnTo>
                  <a:lnTo>
                    <a:pt x="1572" y="1040"/>
                  </a:lnTo>
                  <a:lnTo>
                    <a:pt x="1558" y="986"/>
                  </a:lnTo>
                  <a:lnTo>
                    <a:pt x="1544" y="936"/>
                  </a:lnTo>
                  <a:lnTo>
                    <a:pt x="1524" y="890"/>
                  </a:lnTo>
                  <a:lnTo>
                    <a:pt x="1504" y="848"/>
                  </a:lnTo>
                  <a:lnTo>
                    <a:pt x="1480" y="812"/>
                  </a:lnTo>
                  <a:lnTo>
                    <a:pt x="1468" y="794"/>
                  </a:lnTo>
                  <a:lnTo>
                    <a:pt x="1454" y="780"/>
                  </a:lnTo>
                  <a:lnTo>
                    <a:pt x="1440" y="764"/>
                  </a:lnTo>
                  <a:lnTo>
                    <a:pt x="1424" y="752"/>
                  </a:lnTo>
                  <a:lnTo>
                    <a:pt x="1410" y="740"/>
                  </a:lnTo>
                  <a:lnTo>
                    <a:pt x="1394" y="730"/>
                  </a:lnTo>
                  <a:lnTo>
                    <a:pt x="1376" y="720"/>
                  </a:lnTo>
                  <a:lnTo>
                    <a:pt x="1360" y="712"/>
                  </a:lnTo>
                  <a:lnTo>
                    <a:pt x="1342" y="706"/>
                  </a:lnTo>
                  <a:lnTo>
                    <a:pt x="1324" y="700"/>
                  </a:lnTo>
                  <a:lnTo>
                    <a:pt x="1304" y="694"/>
                  </a:lnTo>
                  <a:lnTo>
                    <a:pt x="1284" y="692"/>
                  </a:lnTo>
                  <a:lnTo>
                    <a:pt x="1264" y="690"/>
                  </a:lnTo>
                  <a:lnTo>
                    <a:pt x="1244" y="690"/>
                  </a:lnTo>
                  <a:lnTo>
                    <a:pt x="1244" y="690"/>
                  </a:lnTo>
                  <a:lnTo>
                    <a:pt x="1222" y="690"/>
                  </a:lnTo>
                  <a:lnTo>
                    <a:pt x="1200" y="692"/>
                  </a:lnTo>
                  <a:lnTo>
                    <a:pt x="1178" y="696"/>
                  </a:lnTo>
                  <a:lnTo>
                    <a:pt x="1158" y="700"/>
                  </a:lnTo>
                  <a:lnTo>
                    <a:pt x="1136" y="706"/>
                  </a:lnTo>
                  <a:lnTo>
                    <a:pt x="1116" y="714"/>
                  </a:lnTo>
                  <a:lnTo>
                    <a:pt x="1094" y="722"/>
                  </a:lnTo>
                  <a:lnTo>
                    <a:pt x="1072" y="734"/>
                  </a:lnTo>
                  <a:lnTo>
                    <a:pt x="1052" y="746"/>
                  </a:lnTo>
                  <a:lnTo>
                    <a:pt x="1030" y="760"/>
                  </a:lnTo>
                  <a:lnTo>
                    <a:pt x="988" y="790"/>
                  </a:lnTo>
                  <a:lnTo>
                    <a:pt x="946" y="828"/>
                  </a:lnTo>
                  <a:lnTo>
                    <a:pt x="902" y="872"/>
                  </a:lnTo>
                  <a:lnTo>
                    <a:pt x="902" y="872"/>
                  </a:lnTo>
                  <a:lnTo>
                    <a:pt x="868" y="910"/>
                  </a:lnTo>
                  <a:lnTo>
                    <a:pt x="834" y="950"/>
                  </a:lnTo>
                  <a:lnTo>
                    <a:pt x="802" y="992"/>
                  </a:lnTo>
                  <a:lnTo>
                    <a:pt x="772" y="1034"/>
                  </a:lnTo>
                  <a:lnTo>
                    <a:pt x="744" y="1076"/>
                  </a:lnTo>
                  <a:lnTo>
                    <a:pt x="718" y="1120"/>
                  </a:lnTo>
                  <a:lnTo>
                    <a:pt x="692" y="1166"/>
                  </a:lnTo>
                  <a:lnTo>
                    <a:pt x="670" y="1212"/>
                  </a:lnTo>
                  <a:lnTo>
                    <a:pt x="648" y="1260"/>
                  </a:lnTo>
                  <a:lnTo>
                    <a:pt x="628" y="1308"/>
                  </a:lnTo>
                  <a:lnTo>
                    <a:pt x="610" y="1356"/>
                  </a:lnTo>
                  <a:lnTo>
                    <a:pt x="596" y="1406"/>
                  </a:lnTo>
                  <a:lnTo>
                    <a:pt x="582" y="1456"/>
                  </a:lnTo>
                  <a:lnTo>
                    <a:pt x="570" y="1506"/>
                  </a:lnTo>
                  <a:lnTo>
                    <a:pt x="558" y="1556"/>
                  </a:lnTo>
                  <a:lnTo>
                    <a:pt x="550" y="1608"/>
                  </a:lnTo>
                  <a:lnTo>
                    <a:pt x="550" y="1608"/>
                  </a:lnTo>
                  <a:lnTo>
                    <a:pt x="544" y="1658"/>
                  </a:lnTo>
                  <a:lnTo>
                    <a:pt x="540" y="1708"/>
                  </a:lnTo>
                  <a:lnTo>
                    <a:pt x="538" y="1774"/>
                  </a:lnTo>
                  <a:lnTo>
                    <a:pt x="538" y="1866"/>
                  </a:lnTo>
                  <a:lnTo>
                    <a:pt x="6" y="1872"/>
                  </a:lnTo>
                  <a:lnTo>
                    <a:pt x="6" y="1872"/>
                  </a:lnTo>
                  <a:lnTo>
                    <a:pt x="10" y="1842"/>
                  </a:lnTo>
                  <a:lnTo>
                    <a:pt x="10" y="1820"/>
                  </a:lnTo>
                  <a:lnTo>
                    <a:pt x="10" y="1820"/>
                  </a:lnTo>
                  <a:lnTo>
                    <a:pt x="10" y="1756"/>
                  </a:lnTo>
                  <a:lnTo>
                    <a:pt x="10" y="1756"/>
                  </a:lnTo>
                  <a:lnTo>
                    <a:pt x="6" y="1654"/>
                  </a:lnTo>
                  <a:lnTo>
                    <a:pt x="2" y="1542"/>
                  </a:lnTo>
                  <a:lnTo>
                    <a:pt x="0" y="1354"/>
                  </a:lnTo>
                  <a:lnTo>
                    <a:pt x="0" y="1354"/>
                  </a:lnTo>
                  <a:lnTo>
                    <a:pt x="2" y="1212"/>
                  </a:lnTo>
                  <a:lnTo>
                    <a:pt x="4" y="1070"/>
                  </a:lnTo>
                  <a:lnTo>
                    <a:pt x="10" y="928"/>
                  </a:lnTo>
                  <a:lnTo>
                    <a:pt x="18" y="786"/>
                  </a:lnTo>
                  <a:lnTo>
                    <a:pt x="28" y="642"/>
                  </a:lnTo>
                  <a:lnTo>
                    <a:pt x="40" y="498"/>
                  </a:lnTo>
                  <a:lnTo>
                    <a:pt x="56" y="350"/>
                  </a:lnTo>
                  <a:lnTo>
                    <a:pt x="72" y="198"/>
                  </a:lnTo>
                  <a:lnTo>
                    <a:pt x="72" y="198"/>
                  </a:lnTo>
                  <a:lnTo>
                    <a:pt x="82" y="96"/>
                  </a:lnTo>
                  <a:lnTo>
                    <a:pt x="84" y="58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0"/>
                  </a:lnTo>
                  <a:lnTo>
                    <a:pt x="646" y="22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2815920" y="21738960"/>
              <a:ext cx="4797720" cy="4705200"/>
            </a:xfrm>
            <a:custGeom>
              <a:avLst/>
              <a:gdLst>
                <a:gd name="textAreaLeft" fmla="*/ 0 w 4797720"/>
                <a:gd name="textAreaRight" fmla="*/ 4798080 w 4797720"/>
                <a:gd name="textAreaTop" fmla="*/ 0 h 4705200"/>
                <a:gd name="textAreaBottom" fmla="*/ 4705560 h 4705200"/>
              </a:gdLst>
              <a:ahLst/>
              <a:rect l="textAreaLeft" t="textAreaTop" r="textAreaRight" b="textAreaBottom"/>
              <a:pathLst>
                <a:path w="3022" h="2964">
                  <a:moveTo>
                    <a:pt x="2848" y="1258"/>
                  </a:moveTo>
                  <a:lnTo>
                    <a:pt x="2848" y="1258"/>
                  </a:lnTo>
                  <a:lnTo>
                    <a:pt x="2836" y="1284"/>
                  </a:lnTo>
                  <a:lnTo>
                    <a:pt x="2824" y="1314"/>
                  </a:lnTo>
                  <a:lnTo>
                    <a:pt x="2788" y="1424"/>
                  </a:lnTo>
                  <a:lnTo>
                    <a:pt x="2788" y="1424"/>
                  </a:lnTo>
                  <a:lnTo>
                    <a:pt x="2746" y="1546"/>
                  </a:lnTo>
                  <a:lnTo>
                    <a:pt x="2708" y="1658"/>
                  </a:lnTo>
                  <a:lnTo>
                    <a:pt x="2670" y="1760"/>
                  </a:lnTo>
                  <a:lnTo>
                    <a:pt x="2632" y="1852"/>
                  </a:lnTo>
                  <a:lnTo>
                    <a:pt x="2592" y="1938"/>
                  </a:lnTo>
                  <a:lnTo>
                    <a:pt x="2554" y="2016"/>
                  </a:lnTo>
                  <a:lnTo>
                    <a:pt x="2512" y="2090"/>
                  </a:lnTo>
                  <a:lnTo>
                    <a:pt x="2468" y="2160"/>
                  </a:lnTo>
                  <a:lnTo>
                    <a:pt x="2468" y="2160"/>
                  </a:lnTo>
                  <a:lnTo>
                    <a:pt x="2528" y="2210"/>
                  </a:lnTo>
                  <a:lnTo>
                    <a:pt x="2588" y="2256"/>
                  </a:lnTo>
                  <a:lnTo>
                    <a:pt x="2648" y="2296"/>
                  </a:lnTo>
                  <a:lnTo>
                    <a:pt x="2712" y="2336"/>
                  </a:lnTo>
                  <a:lnTo>
                    <a:pt x="2778" y="2372"/>
                  </a:lnTo>
                  <a:lnTo>
                    <a:pt x="2852" y="2408"/>
                  </a:lnTo>
                  <a:lnTo>
                    <a:pt x="2932" y="2446"/>
                  </a:lnTo>
                  <a:lnTo>
                    <a:pt x="3022" y="2484"/>
                  </a:lnTo>
                  <a:lnTo>
                    <a:pt x="3022" y="2484"/>
                  </a:lnTo>
                  <a:lnTo>
                    <a:pt x="2980" y="2546"/>
                  </a:lnTo>
                  <a:lnTo>
                    <a:pt x="2942" y="2604"/>
                  </a:lnTo>
                  <a:lnTo>
                    <a:pt x="2908" y="2660"/>
                  </a:lnTo>
                  <a:lnTo>
                    <a:pt x="2876" y="2714"/>
                  </a:lnTo>
                  <a:lnTo>
                    <a:pt x="2846" y="2770"/>
                  </a:lnTo>
                  <a:lnTo>
                    <a:pt x="2818" y="2828"/>
                  </a:lnTo>
                  <a:lnTo>
                    <a:pt x="2790" y="2892"/>
                  </a:lnTo>
                  <a:lnTo>
                    <a:pt x="2760" y="2962"/>
                  </a:lnTo>
                  <a:lnTo>
                    <a:pt x="2760" y="2962"/>
                  </a:lnTo>
                  <a:lnTo>
                    <a:pt x="2668" y="2912"/>
                  </a:lnTo>
                  <a:lnTo>
                    <a:pt x="2586" y="2864"/>
                  </a:lnTo>
                  <a:lnTo>
                    <a:pt x="2510" y="2816"/>
                  </a:lnTo>
                  <a:lnTo>
                    <a:pt x="2438" y="2768"/>
                  </a:lnTo>
                  <a:lnTo>
                    <a:pt x="2370" y="2716"/>
                  </a:lnTo>
                  <a:lnTo>
                    <a:pt x="2302" y="2660"/>
                  </a:lnTo>
                  <a:lnTo>
                    <a:pt x="2234" y="2598"/>
                  </a:lnTo>
                  <a:lnTo>
                    <a:pt x="2164" y="2532"/>
                  </a:lnTo>
                  <a:lnTo>
                    <a:pt x="2164" y="2532"/>
                  </a:lnTo>
                  <a:lnTo>
                    <a:pt x="2096" y="2596"/>
                  </a:lnTo>
                  <a:lnTo>
                    <a:pt x="2030" y="2656"/>
                  </a:lnTo>
                  <a:lnTo>
                    <a:pt x="1962" y="2710"/>
                  </a:lnTo>
                  <a:lnTo>
                    <a:pt x="1892" y="2764"/>
                  </a:lnTo>
                  <a:lnTo>
                    <a:pt x="1820" y="2814"/>
                  </a:lnTo>
                  <a:lnTo>
                    <a:pt x="1744" y="2864"/>
                  </a:lnTo>
                  <a:lnTo>
                    <a:pt x="1660" y="2914"/>
                  </a:lnTo>
                  <a:lnTo>
                    <a:pt x="1570" y="2964"/>
                  </a:lnTo>
                  <a:lnTo>
                    <a:pt x="1570" y="2964"/>
                  </a:lnTo>
                  <a:lnTo>
                    <a:pt x="1540" y="2906"/>
                  </a:lnTo>
                  <a:lnTo>
                    <a:pt x="1514" y="2854"/>
                  </a:lnTo>
                  <a:lnTo>
                    <a:pt x="1488" y="2806"/>
                  </a:lnTo>
                  <a:lnTo>
                    <a:pt x="1462" y="2762"/>
                  </a:lnTo>
                  <a:lnTo>
                    <a:pt x="1434" y="2718"/>
                  </a:lnTo>
                  <a:lnTo>
                    <a:pt x="1408" y="2678"/>
                  </a:lnTo>
                  <a:lnTo>
                    <a:pt x="1378" y="2636"/>
                  </a:lnTo>
                  <a:lnTo>
                    <a:pt x="1344" y="2592"/>
                  </a:lnTo>
                  <a:lnTo>
                    <a:pt x="1344" y="2592"/>
                  </a:lnTo>
                  <a:lnTo>
                    <a:pt x="1282" y="2684"/>
                  </a:lnTo>
                  <a:lnTo>
                    <a:pt x="1220" y="2770"/>
                  </a:lnTo>
                  <a:lnTo>
                    <a:pt x="1152" y="2854"/>
                  </a:lnTo>
                  <a:lnTo>
                    <a:pt x="1076" y="2942"/>
                  </a:lnTo>
                  <a:lnTo>
                    <a:pt x="1076" y="2942"/>
                  </a:lnTo>
                  <a:lnTo>
                    <a:pt x="1016" y="2844"/>
                  </a:lnTo>
                  <a:lnTo>
                    <a:pt x="988" y="2802"/>
                  </a:lnTo>
                  <a:lnTo>
                    <a:pt x="960" y="2760"/>
                  </a:lnTo>
                  <a:lnTo>
                    <a:pt x="932" y="2722"/>
                  </a:lnTo>
                  <a:lnTo>
                    <a:pt x="902" y="2684"/>
                  </a:lnTo>
                  <a:lnTo>
                    <a:pt x="868" y="2644"/>
                  </a:lnTo>
                  <a:lnTo>
                    <a:pt x="832" y="2600"/>
                  </a:lnTo>
                  <a:lnTo>
                    <a:pt x="832" y="2600"/>
                  </a:lnTo>
                  <a:lnTo>
                    <a:pt x="828" y="2642"/>
                  </a:lnTo>
                  <a:lnTo>
                    <a:pt x="824" y="2680"/>
                  </a:lnTo>
                  <a:lnTo>
                    <a:pt x="818" y="2712"/>
                  </a:lnTo>
                  <a:lnTo>
                    <a:pt x="812" y="2742"/>
                  </a:lnTo>
                  <a:lnTo>
                    <a:pt x="802" y="2766"/>
                  </a:lnTo>
                  <a:lnTo>
                    <a:pt x="790" y="2790"/>
                  </a:lnTo>
                  <a:lnTo>
                    <a:pt x="778" y="2812"/>
                  </a:lnTo>
                  <a:lnTo>
                    <a:pt x="762" y="2832"/>
                  </a:lnTo>
                  <a:lnTo>
                    <a:pt x="762" y="2832"/>
                  </a:lnTo>
                  <a:lnTo>
                    <a:pt x="746" y="2848"/>
                  </a:lnTo>
                  <a:lnTo>
                    <a:pt x="730" y="2862"/>
                  </a:lnTo>
                  <a:lnTo>
                    <a:pt x="714" y="2874"/>
                  </a:lnTo>
                  <a:lnTo>
                    <a:pt x="694" y="2886"/>
                  </a:lnTo>
                  <a:lnTo>
                    <a:pt x="676" y="2896"/>
                  </a:lnTo>
                  <a:lnTo>
                    <a:pt x="654" y="2906"/>
                  </a:lnTo>
                  <a:lnTo>
                    <a:pt x="630" y="2914"/>
                  </a:lnTo>
                  <a:lnTo>
                    <a:pt x="606" y="2922"/>
                  </a:lnTo>
                  <a:lnTo>
                    <a:pt x="580" y="2928"/>
                  </a:lnTo>
                  <a:lnTo>
                    <a:pt x="552" y="2934"/>
                  </a:lnTo>
                  <a:lnTo>
                    <a:pt x="488" y="2942"/>
                  </a:lnTo>
                  <a:lnTo>
                    <a:pt x="416" y="2948"/>
                  </a:lnTo>
                  <a:lnTo>
                    <a:pt x="332" y="2948"/>
                  </a:lnTo>
                  <a:lnTo>
                    <a:pt x="332" y="2948"/>
                  </a:lnTo>
                  <a:lnTo>
                    <a:pt x="232" y="2948"/>
                  </a:lnTo>
                  <a:lnTo>
                    <a:pt x="178" y="2946"/>
                  </a:lnTo>
                  <a:lnTo>
                    <a:pt x="110" y="2942"/>
                  </a:lnTo>
                  <a:lnTo>
                    <a:pt x="110" y="2942"/>
                  </a:lnTo>
                  <a:lnTo>
                    <a:pt x="102" y="2876"/>
                  </a:lnTo>
                  <a:lnTo>
                    <a:pt x="96" y="2818"/>
                  </a:lnTo>
                  <a:lnTo>
                    <a:pt x="86" y="2762"/>
                  </a:lnTo>
                  <a:lnTo>
                    <a:pt x="76" y="2710"/>
                  </a:lnTo>
                  <a:lnTo>
                    <a:pt x="64" y="2656"/>
                  </a:lnTo>
                  <a:lnTo>
                    <a:pt x="48" y="2600"/>
                  </a:lnTo>
                  <a:lnTo>
                    <a:pt x="30" y="2538"/>
                  </a:lnTo>
                  <a:lnTo>
                    <a:pt x="8" y="2470"/>
                  </a:lnTo>
                  <a:lnTo>
                    <a:pt x="8" y="2470"/>
                  </a:lnTo>
                  <a:lnTo>
                    <a:pt x="102" y="2480"/>
                  </a:lnTo>
                  <a:lnTo>
                    <a:pt x="174" y="2486"/>
                  </a:lnTo>
                  <a:lnTo>
                    <a:pt x="232" y="2490"/>
                  </a:lnTo>
                  <a:lnTo>
                    <a:pt x="282" y="2490"/>
                  </a:lnTo>
                  <a:lnTo>
                    <a:pt x="282" y="2490"/>
                  </a:lnTo>
                  <a:lnTo>
                    <a:pt x="304" y="2488"/>
                  </a:lnTo>
                  <a:lnTo>
                    <a:pt x="324" y="2486"/>
                  </a:lnTo>
                  <a:lnTo>
                    <a:pt x="338" y="2480"/>
                  </a:lnTo>
                  <a:lnTo>
                    <a:pt x="344" y="2476"/>
                  </a:lnTo>
                  <a:lnTo>
                    <a:pt x="350" y="2470"/>
                  </a:lnTo>
                  <a:lnTo>
                    <a:pt x="358" y="2458"/>
                  </a:lnTo>
                  <a:lnTo>
                    <a:pt x="362" y="2440"/>
                  </a:lnTo>
                  <a:lnTo>
                    <a:pt x="366" y="2418"/>
                  </a:lnTo>
                  <a:lnTo>
                    <a:pt x="366" y="2392"/>
                  </a:lnTo>
                  <a:lnTo>
                    <a:pt x="366" y="1892"/>
                  </a:lnTo>
                  <a:lnTo>
                    <a:pt x="262" y="1920"/>
                  </a:lnTo>
                  <a:lnTo>
                    <a:pt x="262" y="1920"/>
                  </a:lnTo>
                  <a:lnTo>
                    <a:pt x="152" y="1948"/>
                  </a:lnTo>
                  <a:lnTo>
                    <a:pt x="152" y="1948"/>
                  </a:lnTo>
                  <a:lnTo>
                    <a:pt x="114" y="1958"/>
                  </a:lnTo>
                  <a:lnTo>
                    <a:pt x="76" y="1970"/>
                  </a:lnTo>
                  <a:lnTo>
                    <a:pt x="0" y="1484"/>
                  </a:lnTo>
                  <a:lnTo>
                    <a:pt x="0" y="1484"/>
                  </a:lnTo>
                  <a:lnTo>
                    <a:pt x="68" y="1480"/>
                  </a:lnTo>
                  <a:lnTo>
                    <a:pt x="102" y="1476"/>
                  </a:lnTo>
                  <a:lnTo>
                    <a:pt x="140" y="1470"/>
                  </a:lnTo>
                  <a:lnTo>
                    <a:pt x="232" y="1454"/>
                  </a:lnTo>
                  <a:lnTo>
                    <a:pt x="366" y="1426"/>
                  </a:lnTo>
                  <a:lnTo>
                    <a:pt x="366" y="978"/>
                  </a:lnTo>
                  <a:lnTo>
                    <a:pt x="258" y="978"/>
                  </a:lnTo>
                  <a:lnTo>
                    <a:pt x="258" y="978"/>
                  </a:lnTo>
                  <a:lnTo>
                    <a:pt x="204" y="978"/>
                  </a:lnTo>
                  <a:lnTo>
                    <a:pt x="152" y="980"/>
                  </a:lnTo>
                  <a:lnTo>
                    <a:pt x="96" y="984"/>
                  </a:lnTo>
                  <a:lnTo>
                    <a:pt x="32" y="990"/>
                  </a:lnTo>
                  <a:lnTo>
                    <a:pt x="32" y="524"/>
                  </a:lnTo>
                  <a:lnTo>
                    <a:pt x="32" y="524"/>
                  </a:lnTo>
                  <a:lnTo>
                    <a:pt x="88" y="532"/>
                  </a:lnTo>
                  <a:lnTo>
                    <a:pt x="142" y="538"/>
                  </a:lnTo>
                  <a:lnTo>
                    <a:pt x="200" y="540"/>
                  </a:lnTo>
                  <a:lnTo>
                    <a:pt x="266" y="540"/>
                  </a:lnTo>
                  <a:lnTo>
                    <a:pt x="366" y="540"/>
                  </a:lnTo>
                  <a:lnTo>
                    <a:pt x="366" y="326"/>
                  </a:lnTo>
                  <a:lnTo>
                    <a:pt x="366" y="326"/>
                  </a:lnTo>
                  <a:lnTo>
                    <a:pt x="366" y="220"/>
                  </a:lnTo>
                  <a:lnTo>
                    <a:pt x="362" y="138"/>
                  </a:lnTo>
                  <a:lnTo>
                    <a:pt x="358" y="70"/>
                  </a:lnTo>
                  <a:lnTo>
                    <a:pt x="348" y="0"/>
                  </a:lnTo>
                  <a:lnTo>
                    <a:pt x="850" y="0"/>
                  </a:lnTo>
                  <a:lnTo>
                    <a:pt x="850" y="0"/>
                  </a:lnTo>
                  <a:lnTo>
                    <a:pt x="842" y="66"/>
                  </a:lnTo>
                  <a:lnTo>
                    <a:pt x="838" y="134"/>
                  </a:lnTo>
                  <a:lnTo>
                    <a:pt x="836" y="218"/>
                  </a:lnTo>
                  <a:lnTo>
                    <a:pt x="834" y="326"/>
                  </a:lnTo>
                  <a:lnTo>
                    <a:pt x="834" y="540"/>
                  </a:lnTo>
                  <a:lnTo>
                    <a:pt x="986" y="540"/>
                  </a:lnTo>
                  <a:lnTo>
                    <a:pt x="986" y="540"/>
                  </a:lnTo>
                  <a:lnTo>
                    <a:pt x="1040" y="538"/>
                  </a:lnTo>
                  <a:lnTo>
                    <a:pt x="1092" y="538"/>
                  </a:lnTo>
                  <a:lnTo>
                    <a:pt x="1092" y="372"/>
                  </a:lnTo>
                  <a:lnTo>
                    <a:pt x="1092" y="372"/>
                  </a:lnTo>
                  <a:lnTo>
                    <a:pt x="1174" y="382"/>
                  </a:lnTo>
                  <a:lnTo>
                    <a:pt x="1260" y="386"/>
                  </a:lnTo>
                  <a:lnTo>
                    <a:pt x="1356" y="390"/>
                  </a:lnTo>
                  <a:lnTo>
                    <a:pt x="1464" y="392"/>
                  </a:lnTo>
                  <a:lnTo>
                    <a:pt x="1464" y="392"/>
                  </a:lnTo>
                  <a:lnTo>
                    <a:pt x="1470" y="284"/>
                  </a:lnTo>
                  <a:lnTo>
                    <a:pt x="1472" y="198"/>
                  </a:lnTo>
                  <a:lnTo>
                    <a:pt x="1472" y="198"/>
                  </a:lnTo>
                  <a:lnTo>
                    <a:pt x="1470" y="148"/>
                  </a:lnTo>
                  <a:lnTo>
                    <a:pt x="1466" y="100"/>
                  </a:lnTo>
                  <a:lnTo>
                    <a:pt x="1462" y="52"/>
                  </a:lnTo>
                  <a:lnTo>
                    <a:pt x="1456" y="2"/>
                  </a:lnTo>
                  <a:lnTo>
                    <a:pt x="1974" y="2"/>
                  </a:lnTo>
                  <a:lnTo>
                    <a:pt x="1974" y="2"/>
                  </a:lnTo>
                  <a:lnTo>
                    <a:pt x="1968" y="48"/>
                  </a:lnTo>
                  <a:lnTo>
                    <a:pt x="1964" y="94"/>
                  </a:lnTo>
                  <a:lnTo>
                    <a:pt x="1960" y="156"/>
                  </a:lnTo>
                  <a:lnTo>
                    <a:pt x="1956" y="256"/>
                  </a:lnTo>
                  <a:lnTo>
                    <a:pt x="1956" y="256"/>
                  </a:lnTo>
                  <a:lnTo>
                    <a:pt x="1952" y="304"/>
                  </a:lnTo>
                  <a:lnTo>
                    <a:pt x="1948" y="392"/>
                  </a:lnTo>
                  <a:lnTo>
                    <a:pt x="2572" y="392"/>
                  </a:lnTo>
                  <a:lnTo>
                    <a:pt x="2572" y="392"/>
                  </a:lnTo>
                  <a:lnTo>
                    <a:pt x="2688" y="390"/>
                  </a:lnTo>
                  <a:lnTo>
                    <a:pt x="2786" y="386"/>
                  </a:lnTo>
                  <a:lnTo>
                    <a:pt x="2870" y="382"/>
                  </a:lnTo>
                  <a:lnTo>
                    <a:pt x="2946" y="372"/>
                  </a:lnTo>
                  <a:lnTo>
                    <a:pt x="2946" y="856"/>
                  </a:lnTo>
                  <a:lnTo>
                    <a:pt x="2946" y="856"/>
                  </a:lnTo>
                  <a:lnTo>
                    <a:pt x="2866" y="848"/>
                  </a:lnTo>
                  <a:lnTo>
                    <a:pt x="2782" y="842"/>
                  </a:lnTo>
                  <a:lnTo>
                    <a:pt x="2688" y="840"/>
                  </a:lnTo>
                  <a:lnTo>
                    <a:pt x="2578" y="838"/>
                  </a:lnTo>
                  <a:lnTo>
                    <a:pt x="1910" y="838"/>
                  </a:lnTo>
                  <a:lnTo>
                    <a:pt x="1910" y="838"/>
                  </a:lnTo>
                  <a:lnTo>
                    <a:pt x="1902" y="942"/>
                  </a:lnTo>
                  <a:lnTo>
                    <a:pt x="1888" y="1040"/>
                  </a:lnTo>
                  <a:lnTo>
                    <a:pt x="2396" y="1040"/>
                  </a:lnTo>
                  <a:lnTo>
                    <a:pt x="2396" y="1040"/>
                  </a:lnTo>
                  <a:lnTo>
                    <a:pt x="2478" y="1040"/>
                  </a:lnTo>
                  <a:lnTo>
                    <a:pt x="2542" y="1038"/>
                  </a:lnTo>
                  <a:lnTo>
                    <a:pt x="2594" y="1034"/>
                  </a:lnTo>
                  <a:lnTo>
                    <a:pt x="2642" y="1028"/>
                  </a:lnTo>
                  <a:lnTo>
                    <a:pt x="2848" y="1258"/>
                  </a:lnTo>
                  <a:close/>
                  <a:moveTo>
                    <a:pt x="834" y="2432"/>
                  </a:moveTo>
                  <a:lnTo>
                    <a:pt x="834" y="2432"/>
                  </a:lnTo>
                  <a:lnTo>
                    <a:pt x="896" y="2360"/>
                  </a:lnTo>
                  <a:lnTo>
                    <a:pt x="954" y="2282"/>
                  </a:lnTo>
                  <a:lnTo>
                    <a:pt x="1008" y="2202"/>
                  </a:lnTo>
                  <a:lnTo>
                    <a:pt x="1060" y="2120"/>
                  </a:lnTo>
                  <a:lnTo>
                    <a:pt x="1108" y="2032"/>
                  </a:lnTo>
                  <a:lnTo>
                    <a:pt x="1152" y="1942"/>
                  </a:lnTo>
                  <a:lnTo>
                    <a:pt x="1196" y="1848"/>
                  </a:lnTo>
                  <a:lnTo>
                    <a:pt x="1234" y="1750"/>
                  </a:lnTo>
                  <a:lnTo>
                    <a:pt x="1270" y="1650"/>
                  </a:lnTo>
                  <a:lnTo>
                    <a:pt x="1304" y="1544"/>
                  </a:lnTo>
                  <a:lnTo>
                    <a:pt x="1334" y="1436"/>
                  </a:lnTo>
                  <a:lnTo>
                    <a:pt x="1360" y="1324"/>
                  </a:lnTo>
                  <a:lnTo>
                    <a:pt x="1386" y="1208"/>
                  </a:lnTo>
                  <a:lnTo>
                    <a:pt x="1406" y="1088"/>
                  </a:lnTo>
                  <a:lnTo>
                    <a:pt x="1424" y="966"/>
                  </a:lnTo>
                  <a:lnTo>
                    <a:pt x="1440" y="838"/>
                  </a:lnTo>
                  <a:lnTo>
                    <a:pt x="1440" y="838"/>
                  </a:lnTo>
                  <a:lnTo>
                    <a:pt x="1346" y="838"/>
                  </a:lnTo>
                  <a:lnTo>
                    <a:pt x="1266" y="840"/>
                  </a:lnTo>
                  <a:lnTo>
                    <a:pt x="1194" y="844"/>
                  </a:lnTo>
                  <a:lnTo>
                    <a:pt x="1130" y="850"/>
                  </a:lnTo>
                  <a:lnTo>
                    <a:pt x="1130" y="986"/>
                  </a:lnTo>
                  <a:lnTo>
                    <a:pt x="1130" y="986"/>
                  </a:lnTo>
                  <a:lnTo>
                    <a:pt x="1114" y="984"/>
                  </a:lnTo>
                  <a:lnTo>
                    <a:pt x="1104" y="984"/>
                  </a:lnTo>
                  <a:lnTo>
                    <a:pt x="1104" y="984"/>
                  </a:lnTo>
                  <a:lnTo>
                    <a:pt x="1072" y="980"/>
                  </a:lnTo>
                  <a:lnTo>
                    <a:pt x="1042" y="978"/>
                  </a:lnTo>
                  <a:lnTo>
                    <a:pt x="986" y="978"/>
                  </a:lnTo>
                  <a:lnTo>
                    <a:pt x="834" y="978"/>
                  </a:lnTo>
                  <a:lnTo>
                    <a:pt x="834" y="1316"/>
                  </a:lnTo>
                  <a:lnTo>
                    <a:pt x="834" y="1316"/>
                  </a:lnTo>
                  <a:lnTo>
                    <a:pt x="996" y="1274"/>
                  </a:lnTo>
                  <a:lnTo>
                    <a:pt x="1168" y="1224"/>
                  </a:lnTo>
                  <a:lnTo>
                    <a:pt x="1168" y="1660"/>
                  </a:lnTo>
                  <a:lnTo>
                    <a:pt x="1168" y="1660"/>
                  </a:lnTo>
                  <a:lnTo>
                    <a:pt x="974" y="1722"/>
                  </a:lnTo>
                  <a:lnTo>
                    <a:pt x="834" y="1766"/>
                  </a:lnTo>
                  <a:lnTo>
                    <a:pt x="834" y="2432"/>
                  </a:lnTo>
                  <a:close/>
                  <a:moveTo>
                    <a:pt x="1408" y="2490"/>
                  </a:moveTo>
                  <a:lnTo>
                    <a:pt x="1408" y="2490"/>
                  </a:lnTo>
                  <a:lnTo>
                    <a:pt x="1476" y="2454"/>
                  </a:lnTo>
                  <a:lnTo>
                    <a:pt x="1538" y="2418"/>
                  </a:lnTo>
                  <a:lnTo>
                    <a:pt x="1598" y="2382"/>
                  </a:lnTo>
                  <a:lnTo>
                    <a:pt x="1656" y="2344"/>
                  </a:lnTo>
                  <a:lnTo>
                    <a:pt x="1710" y="2306"/>
                  </a:lnTo>
                  <a:lnTo>
                    <a:pt x="1764" y="2264"/>
                  </a:lnTo>
                  <a:lnTo>
                    <a:pt x="1816" y="2220"/>
                  </a:lnTo>
                  <a:lnTo>
                    <a:pt x="1870" y="2174"/>
                  </a:lnTo>
                  <a:lnTo>
                    <a:pt x="1870" y="2174"/>
                  </a:lnTo>
                  <a:lnTo>
                    <a:pt x="1818" y="2096"/>
                  </a:lnTo>
                  <a:lnTo>
                    <a:pt x="1774" y="2024"/>
                  </a:lnTo>
                  <a:lnTo>
                    <a:pt x="1734" y="1950"/>
                  </a:lnTo>
                  <a:lnTo>
                    <a:pt x="1692" y="1872"/>
                  </a:lnTo>
                  <a:lnTo>
                    <a:pt x="1692" y="1872"/>
                  </a:lnTo>
                  <a:lnTo>
                    <a:pt x="1662" y="1956"/>
                  </a:lnTo>
                  <a:lnTo>
                    <a:pt x="1630" y="2038"/>
                  </a:lnTo>
                  <a:lnTo>
                    <a:pt x="1598" y="2118"/>
                  </a:lnTo>
                  <a:lnTo>
                    <a:pt x="1564" y="2194"/>
                  </a:lnTo>
                  <a:lnTo>
                    <a:pt x="1528" y="2270"/>
                  </a:lnTo>
                  <a:lnTo>
                    <a:pt x="1490" y="2344"/>
                  </a:lnTo>
                  <a:lnTo>
                    <a:pt x="1450" y="2418"/>
                  </a:lnTo>
                  <a:lnTo>
                    <a:pt x="1408" y="2490"/>
                  </a:lnTo>
                  <a:lnTo>
                    <a:pt x="1408" y="2490"/>
                  </a:lnTo>
                  <a:close/>
                  <a:moveTo>
                    <a:pt x="1962" y="1464"/>
                  </a:moveTo>
                  <a:lnTo>
                    <a:pt x="1962" y="1464"/>
                  </a:lnTo>
                  <a:lnTo>
                    <a:pt x="1982" y="1514"/>
                  </a:lnTo>
                  <a:lnTo>
                    <a:pt x="2002" y="1560"/>
                  </a:lnTo>
                  <a:lnTo>
                    <a:pt x="2022" y="1604"/>
                  </a:lnTo>
                  <a:lnTo>
                    <a:pt x="2044" y="1648"/>
                  </a:lnTo>
                  <a:lnTo>
                    <a:pt x="2068" y="1690"/>
                  </a:lnTo>
                  <a:lnTo>
                    <a:pt x="2094" y="1734"/>
                  </a:lnTo>
                  <a:lnTo>
                    <a:pt x="2120" y="1776"/>
                  </a:lnTo>
                  <a:lnTo>
                    <a:pt x="2152" y="1822"/>
                  </a:lnTo>
                  <a:lnTo>
                    <a:pt x="2152" y="1822"/>
                  </a:lnTo>
                  <a:lnTo>
                    <a:pt x="2198" y="1740"/>
                  </a:lnTo>
                  <a:lnTo>
                    <a:pt x="2216" y="1702"/>
                  </a:lnTo>
                  <a:lnTo>
                    <a:pt x="2234" y="1662"/>
                  </a:lnTo>
                  <a:lnTo>
                    <a:pt x="2270" y="1576"/>
                  </a:lnTo>
                  <a:lnTo>
                    <a:pt x="2312" y="1464"/>
                  </a:lnTo>
                  <a:lnTo>
                    <a:pt x="1962" y="1464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3146400" y="27885960"/>
              <a:ext cx="4280040" cy="4572000"/>
            </a:xfrm>
            <a:custGeom>
              <a:avLst/>
              <a:gdLst>
                <a:gd name="textAreaLeft" fmla="*/ 0 w 4280040"/>
                <a:gd name="textAreaRight" fmla="*/ 4280400 w 428004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2696" h="2880">
                  <a:moveTo>
                    <a:pt x="710" y="84"/>
                  </a:moveTo>
                  <a:lnTo>
                    <a:pt x="710" y="84"/>
                  </a:lnTo>
                  <a:lnTo>
                    <a:pt x="680" y="186"/>
                  </a:lnTo>
                  <a:lnTo>
                    <a:pt x="654" y="292"/>
                  </a:lnTo>
                  <a:lnTo>
                    <a:pt x="630" y="400"/>
                  </a:lnTo>
                  <a:lnTo>
                    <a:pt x="608" y="510"/>
                  </a:lnTo>
                  <a:lnTo>
                    <a:pt x="588" y="624"/>
                  </a:lnTo>
                  <a:lnTo>
                    <a:pt x="572" y="740"/>
                  </a:lnTo>
                  <a:lnTo>
                    <a:pt x="556" y="860"/>
                  </a:lnTo>
                  <a:lnTo>
                    <a:pt x="542" y="982"/>
                  </a:lnTo>
                  <a:lnTo>
                    <a:pt x="542" y="982"/>
                  </a:lnTo>
                  <a:lnTo>
                    <a:pt x="534" y="1058"/>
                  </a:lnTo>
                  <a:lnTo>
                    <a:pt x="528" y="1138"/>
                  </a:lnTo>
                  <a:lnTo>
                    <a:pt x="522" y="1220"/>
                  </a:lnTo>
                  <a:lnTo>
                    <a:pt x="518" y="1310"/>
                  </a:lnTo>
                  <a:lnTo>
                    <a:pt x="512" y="1500"/>
                  </a:lnTo>
                  <a:lnTo>
                    <a:pt x="510" y="1710"/>
                  </a:lnTo>
                  <a:lnTo>
                    <a:pt x="510" y="1710"/>
                  </a:lnTo>
                  <a:lnTo>
                    <a:pt x="512" y="1828"/>
                  </a:lnTo>
                  <a:lnTo>
                    <a:pt x="512" y="1828"/>
                  </a:lnTo>
                  <a:lnTo>
                    <a:pt x="548" y="1726"/>
                  </a:lnTo>
                  <a:lnTo>
                    <a:pt x="584" y="1630"/>
                  </a:lnTo>
                  <a:lnTo>
                    <a:pt x="604" y="1582"/>
                  </a:lnTo>
                  <a:lnTo>
                    <a:pt x="626" y="1536"/>
                  </a:lnTo>
                  <a:lnTo>
                    <a:pt x="674" y="1438"/>
                  </a:lnTo>
                  <a:lnTo>
                    <a:pt x="1044" y="1622"/>
                  </a:lnTo>
                  <a:lnTo>
                    <a:pt x="1044" y="1622"/>
                  </a:lnTo>
                  <a:lnTo>
                    <a:pt x="1006" y="1686"/>
                  </a:lnTo>
                  <a:lnTo>
                    <a:pt x="970" y="1752"/>
                  </a:lnTo>
                  <a:lnTo>
                    <a:pt x="932" y="1822"/>
                  </a:lnTo>
                  <a:lnTo>
                    <a:pt x="898" y="1892"/>
                  </a:lnTo>
                  <a:lnTo>
                    <a:pt x="864" y="1964"/>
                  </a:lnTo>
                  <a:lnTo>
                    <a:pt x="832" y="2038"/>
                  </a:lnTo>
                  <a:lnTo>
                    <a:pt x="802" y="2112"/>
                  </a:lnTo>
                  <a:lnTo>
                    <a:pt x="774" y="2184"/>
                  </a:lnTo>
                  <a:lnTo>
                    <a:pt x="748" y="2258"/>
                  </a:lnTo>
                  <a:lnTo>
                    <a:pt x="724" y="2328"/>
                  </a:lnTo>
                  <a:lnTo>
                    <a:pt x="702" y="2398"/>
                  </a:lnTo>
                  <a:lnTo>
                    <a:pt x="684" y="2466"/>
                  </a:lnTo>
                  <a:lnTo>
                    <a:pt x="670" y="2530"/>
                  </a:lnTo>
                  <a:lnTo>
                    <a:pt x="656" y="2590"/>
                  </a:lnTo>
                  <a:lnTo>
                    <a:pt x="648" y="2648"/>
                  </a:lnTo>
                  <a:lnTo>
                    <a:pt x="642" y="2700"/>
                  </a:lnTo>
                  <a:lnTo>
                    <a:pt x="134" y="2720"/>
                  </a:lnTo>
                  <a:lnTo>
                    <a:pt x="134" y="2720"/>
                  </a:lnTo>
                  <a:lnTo>
                    <a:pt x="120" y="2638"/>
                  </a:lnTo>
                  <a:lnTo>
                    <a:pt x="88" y="2470"/>
                  </a:lnTo>
                  <a:lnTo>
                    <a:pt x="88" y="2470"/>
                  </a:lnTo>
                  <a:lnTo>
                    <a:pt x="68" y="2354"/>
                  </a:lnTo>
                  <a:lnTo>
                    <a:pt x="50" y="2234"/>
                  </a:lnTo>
                  <a:lnTo>
                    <a:pt x="36" y="2108"/>
                  </a:lnTo>
                  <a:lnTo>
                    <a:pt x="24" y="1980"/>
                  </a:lnTo>
                  <a:lnTo>
                    <a:pt x="14" y="1852"/>
                  </a:lnTo>
                  <a:lnTo>
                    <a:pt x="6" y="1722"/>
                  </a:lnTo>
                  <a:lnTo>
                    <a:pt x="2" y="1594"/>
                  </a:lnTo>
                  <a:lnTo>
                    <a:pt x="0" y="1466"/>
                  </a:lnTo>
                  <a:lnTo>
                    <a:pt x="0" y="1466"/>
                  </a:lnTo>
                  <a:lnTo>
                    <a:pt x="0" y="1344"/>
                  </a:lnTo>
                  <a:lnTo>
                    <a:pt x="4" y="1232"/>
                  </a:lnTo>
                  <a:lnTo>
                    <a:pt x="10" y="1120"/>
                  </a:lnTo>
                  <a:lnTo>
                    <a:pt x="18" y="1002"/>
                  </a:lnTo>
                  <a:lnTo>
                    <a:pt x="32" y="868"/>
                  </a:lnTo>
                  <a:lnTo>
                    <a:pt x="50" y="712"/>
                  </a:lnTo>
                  <a:lnTo>
                    <a:pt x="76" y="520"/>
                  </a:lnTo>
                  <a:lnTo>
                    <a:pt x="108" y="288"/>
                  </a:lnTo>
                  <a:lnTo>
                    <a:pt x="108" y="288"/>
                  </a:lnTo>
                  <a:lnTo>
                    <a:pt x="118" y="210"/>
                  </a:lnTo>
                  <a:lnTo>
                    <a:pt x="124" y="150"/>
                  </a:lnTo>
                  <a:lnTo>
                    <a:pt x="126" y="96"/>
                  </a:lnTo>
                  <a:lnTo>
                    <a:pt x="126" y="38"/>
                  </a:lnTo>
                  <a:lnTo>
                    <a:pt x="710" y="84"/>
                  </a:lnTo>
                  <a:close/>
                  <a:moveTo>
                    <a:pt x="846" y="634"/>
                  </a:moveTo>
                  <a:lnTo>
                    <a:pt x="846" y="634"/>
                  </a:lnTo>
                  <a:lnTo>
                    <a:pt x="906" y="644"/>
                  </a:lnTo>
                  <a:lnTo>
                    <a:pt x="970" y="652"/>
                  </a:lnTo>
                  <a:lnTo>
                    <a:pt x="1036" y="660"/>
                  </a:lnTo>
                  <a:lnTo>
                    <a:pt x="1106" y="666"/>
                  </a:lnTo>
                  <a:lnTo>
                    <a:pt x="1178" y="672"/>
                  </a:lnTo>
                  <a:lnTo>
                    <a:pt x="1252" y="676"/>
                  </a:lnTo>
                  <a:lnTo>
                    <a:pt x="1332" y="678"/>
                  </a:lnTo>
                  <a:lnTo>
                    <a:pt x="1414" y="678"/>
                  </a:lnTo>
                  <a:lnTo>
                    <a:pt x="1414" y="678"/>
                  </a:lnTo>
                  <a:lnTo>
                    <a:pt x="1496" y="678"/>
                  </a:lnTo>
                  <a:lnTo>
                    <a:pt x="1568" y="676"/>
                  </a:lnTo>
                  <a:lnTo>
                    <a:pt x="1636" y="672"/>
                  </a:lnTo>
                  <a:lnTo>
                    <a:pt x="1702" y="666"/>
                  </a:lnTo>
                  <a:lnTo>
                    <a:pt x="1702" y="666"/>
                  </a:lnTo>
                  <a:lnTo>
                    <a:pt x="1690" y="352"/>
                  </a:lnTo>
                  <a:lnTo>
                    <a:pt x="1680" y="178"/>
                  </a:lnTo>
                  <a:lnTo>
                    <a:pt x="1676" y="124"/>
                  </a:lnTo>
                  <a:lnTo>
                    <a:pt x="1670" y="82"/>
                  </a:lnTo>
                  <a:lnTo>
                    <a:pt x="1664" y="46"/>
                  </a:lnTo>
                  <a:lnTo>
                    <a:pt x="1656" y="8"/>
                  </a:lnTo>
                  <a:lnTo>
                    <a:pt x="2218" y="0"/>
                  </a:lnTo>
                  <a:lnTo>
                    <a:pt x="2218" y="0"/>
                  </a:lnTo>
                  <a:lnTo>
                    <a:pt x="2212" y="70"/>
                  </a:lnTo>
                  <a:lnTo>
                    <a:pt x="2210" y="96"/>
                  </a:lnTo>
                  <a:lnTo>
                    <a:pt x="2210" y="122"/>
                  </a:lnTo>
                  <a:lnTo>
                    <a:pt x="2210" y="122"/>
                  </a:lnTo>
                  <a:lnTo>
                    <a:pt x="2210" y="146"/>
                  </a:lnTo>
                  <a:lnTo>
                    <a:pt x="2212" y="182"/>
                  </a:lnTo>
                  <a:lnTo>
                    <a:pt x="2212" y="182"/>
                  </a:lnTo>
                  <a:lnTo>
                    <a:pt x="2218" y="336"/>
                  </a:lnTo>
                  <a:lnTo>
                    <a:pt x="2226" y="618"/>
                  </a:lnTo>
                  <a:lnTo>
                    <a:pt x="2226" y="618"/>
                  </a:lnTo>
                  <a:lnTo>
                    <a:pt x="2292" y="608"/>
                  </a:lnTo>
                  <a:lnTo>
                    <a:pt x="2354" y="598"/>
                  </a:lnTo>
                  <a:lnTo>
                    <a:pt x="2412" y="586"/>
                  </a:lnTo>
                  <a:lnTo>
                    <a:pt x="2466" y="574"/>
                  </a:lnTo>
                  <a:lnTo>
                    <a:pt x="2520" y="560"/>
                  </a:lnTo>
                  <a:lnTo>
                    <a:pt x="2570" y="546"/>
                  </a:lnTo>
                  <a:lnTo>
                    <a:pt x="2620" y="528"/>
                  </a:lnTo>
                  <a:lnTo>
                    <a:pt x="2668" y="510"/>
                  </a:lnTo>
                  <a:lnTo>
                    <a:pt x="2696" y="1040"/>
                  </a:lnTo>
                  <a:lnTo>
                    <a:pt x="2696" y="1040"/>
                  </a:lnTo>
                  <a:lnTo>
                    <a:pt x="2626" y="1048"/>
                  </a:lnTo>
                  <a:lnTo>
                    <a:pt x="2514" y="1068"/>
                  </a:lnTo>
                  <a:lnTo>
                    <a:pt x="2514" y="1068"/>
                  </a:lnTo>
                  <a:lnTo>
                    <a:pt x="2444" y="1082"/>
                  </a:lnTo>
                  <a:lnTo>
                    <a:pt x="2392" y="1090"/>
                  </a:lnTo>
                  <a:lnTo>
                    <a:pt x="2332" y="1098"/>
                  </a:lnTo>
                  <a:lnTo>
                    <a:pt x="2240" y="1108"/>
                  </a:lnTo>
                  <a:lnTo>
                    <a:pt x="2240" y="1108"/>
                  </a:lnTo>
                  <a:lnTo>
                    <a:pt x="2244" y="1266"/>
                  </a:lnTo>
                  <a:lnTo>
                    <a:pt x="2244" y="1364"/>
                  </a:lnTo>
                  <a:lnTo>
                    <a:pt x="2244" y="1364"/>
                  </a:lnTo>
                  <a:lnTo>
                    <a:pt x="2244" y="1440"/>
                  </a:lnTo>
                  <a:lnTo>
                    <a:pt x="2242" y="1512"/>
                  </a:lnTo>
                  <a:lnTo>
                    <a:pt x="2238" y="1584"/>
                  </a:lnTo>
                  <a:lnTo>
                    <a:pt x="2232" y="1652"/>
                  </a:lnTo>
                  <a:lnTo>
                    <a:pt x="2226" y="1720"/>
                  </a:lnTo>
                  <a:lnTo>
                    <a:pt x="2218" y="1784"/>
                  </a:lnTo>
                  <a:lnTo>
                    <a:pt x="2208" y="1846"/>
                  </a:lnTo>
                  <a:lnTo>
                    <a:pt x="2198" y="1906"/>
                  </a:lnTo>
                  <a:lnTo>
                    <a:pt x="2184" y="1964"/>
                  </a:lnTo>
                  <a:lnTo>
                    <a:pt x="2170" y="2018"/>
                  </a:lnTo>
                  <a:lnTo>
                    <a:pt x="2156" y="2072"/>
                  </a:lnTo>
                  <a:lnTo>
                    <a:pt x="2138" y="2122"/>
                  </a:lnTo>
                  <a:lnTo>
                    <a:pt x="2120" y="2172"/>
                  </a:lnTo>
                  <a:lnTo>
                    <a:pt x="2100" y="2218"/>
                  </a:lnTo>
                  <a:lnTo>
                    <a:pt x="2080" y="2260"/>
                  </a:lnTo>
                  <a:lnTo>
                    <a:pt x="2058" y="2302"/>
                  </a:lnTo>
                  <a:lnTo>
                    <a:pt x="2058" y="2302"/>
                  </a:lnTo>
                  <a:lnTo>
                    <a:pt x="2032" y="2346"/>
                  </a:lnTo>
                  <a:lnTo>
                    <a:pt x="2004" y="2388"/>
                  </a:lnTo>
                  <a:lnTo>
                    <a:pt x="1976" y="2430"/>
                  </a:lnTo>
                  <a:lnTo>
                    <a:pt x="1948" y="2468"/>
                  </a:lnTo>
                  <a:lnTo>
                    <a:pt x="1916" y="2506"/>
                  </a:lnTo>
                  <a:lnTo>
                    <a:pt x="1886" y="2542"/>
                  </a:lnTo>
                  <a:lnTo>
                    <a:pt x="1852" y="2578"/>
                  </a:lnTo>
                  <a:lnTo>
                    <a:pt x="1816" y="2612"/>
                  </a:lnTo>
                  <a:lnTo>
                    <a:pt x="1778" y="2646"/>
                  </a:lnTo>
                  <a:lnTo>
                    <a:pt x="1738" y="2680"/>
                  </a:lnTo>
                  <a:lnTo>
                    <a:pt x="1696" y="2712"/>
                  </a:lnTo>
                  <a:lnTo>
                    <a:pt x="1650" y="2746"/>
                  </a:lnTo>
                  <a:lnTo>
                    <a:pt x="1602" y="2780"/>
                  </a:lnTo>
                  <a:lnTo>
                    <a:pt x="1550" y="2812"/>
                  </a:lnTo>
                  <a:lnTo>
                    <a:pt x="1496" y="2846"/>
                  </a:lnTo>
                  <a:lnTo>
                    <a:pt x="1438" y="2880"/>
                  </a:lnTo>
                  <a:lnTo>
                    <a:pt x="1438" y="2880"/>
                  </a:lnTo>
                  <a:lnTo>
                    <a:pt x="1384" y="2816"/>
                  </a:lnTo>
                  <a:lnTo>
                    <a:pt x="1334" y="2756"/>
                  </a:lnTo>
                  <a:lnTo>
                    <a:pt x="1284" y="2702"/>
                  </a:lnTo>
                  <a:lnTo>
                    <a:pt x="1234" y="2652"/>
                  </a:lnTo>
                  <a:lnTo>
                    <a:pt x="1182" y="2604"/>
                  </a:lnTo>
                  <a:lnTo>
                    <a:pt x="1128" y="2558"/>
                  </a:lnTo>
                  <a:lnTo>
                    <a:pt x="1068" y="2510"/>
                  </a:lnTo>
                  <a:lnTo>
                    <a:pt x="1004" y="2460"/>
                  </a:lnTo>
                  <a:lnTo>
                    <a:pt x="1004" y="2460"/>
                  </a:lnTo>
                  <a:lnTo>
                    <a:pt x="1064" y="2432"/>
                  </a:lnTo>
                  <a:lnTo>
                    <a:pt x="1122" y="2404"/>
                  </a:lnTo>
                  <a:lnTo>
                    <a:pt x="1176" y="2374"/>
                  </a:lnTo>
                  <a:lnTo>
                    <a:pt x="1228" y="2344"/>
                  </a:lnTo>
                  <a:lnTo>
                    <a:pt x="1276" y="2312"/>
                  </a:lnTo>
                  <a:lnTo>
                    <a:pt x="1324" y="2280"/>
                  </a:lnTo>
                  <a:lnTo>
                    <a:pt x="1366" y="2246"/>
                  </a:lnTo>
                  <a:lnTo>
                    <a:pt x="1408" y="2212"/>
                  </a:lnTo>
                  <a:lnTo>
                    <a:pt x="1446" y="2176"/>
                  </a:lnTo>
                  <a:lnTo>
                    <a:pt x="1480" y="2140"/>
                  </a:lnTo>
                  <a:lnTo>
                    <a:pt x="1512" y="2102"/>
                  </a:lnTo>
                  <a:lnTo>
                    <a:pt x="1542" y="2064"/>
                  </a:lnTo>
                  <a:lnTo>
                    <a:pt x="1570" y="2024"/>
                  </a:lnTo>
                  <a:lnTo>
                    <a:pt x="1594" y="1984"/>
                  </a:lnTo>
                  <a:lnTo>
                    <a:pt x="1614" y="1942"/>
                  </a:lnTo>
                  <a:lnTo>
                    <a:pt x="1634" y="1900"/>
                  </a:lnTo>
                  <a:lnTo>
                    <a:pt x="1634" y="1900"/>
                  </a:lnTo>
                  <a:lnTo>
                    <a:pt x="1654" y="1840"/>
                  </a:lnTo>
                  <a:lnTo>
                    <a:pt x="1672" y="1778"/>
                  </a:lnTo>
                  <a:lnTo>
                    <a:pt x="1686" y="1706"/>
                  </a:lnTo>
                  <a:lnTo>
                    <a:pt x="1696" y="1628"/>
                  </a:lnTo>
                  <a:lnTo>
                    <a:pt x="1706" y="1538"/>
                  </a:lnTo>
                  <a:lnTo>
                    <a:pt x="1712" y="1436"/>
                  </a:lnTo>
                  <a:lnTo>
                    <a:pt x="1714" y="1322"/>
                  </a:lnTo>
                  <a:lnTo>
                    <a:pt x="1716" y="1190"/>
                  </a:lnTo>
                  <a:lnTo>
                    <a:pt x="1716" y="1190"/>
                  </a:lnTo>
                  <a:lnTo>
                    <a:pt x="1716" y="1152"/>
                  </a:lnTo>
                  <a:lnTo>
                    <a:pt x="1716" y="1152"/>
                  </a:lnTo>
                  <a:lnTo>
                    <a:pt x="1630" y="1158"/>
                  </a:lnTo>
                  <a:lnTo>
                    <a:pt x="1552" y="1162"/>
                  </a:lnTo>
                  <a:lnTo>
                    <a:pt x="1470" y="1164"/>
                  </a:lnTo>
                  <a:lnTo>
                    <a:pt x="1376" y="1166"/>
                  </a:lnTo>
                  <a:lnTo>
                    <a:pt x="1376" y="1166"/>
                  </a:lnTo>
                  <a:lnTo>
                    <a:pt x="1290" y="1166"/>
                  </a:lnTo>
                  <a:lnTo>
                    <a:pt x="1208" y="1164"/>
                  </a:lnTo>
                  <a:lnTo>
                    <a:pt x="1044" y="1156"/>
                  </a:lnTo>
                  <a:lnTo>
                    <a:pt x="1044" y="1156"/>
                  </a:lnTo>
                  <a:lnTo>
                    <a:pt x="940" y="1150"/>
                  </a:lnTo>
                  <a:lnTo>
                    <a:pt x="842" y="1150"/>
                  </a:lnTo>
                  <a:lnTo>
                    <a:pt x="846" y="634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2724120" y="9680400"/>
              <a:ext cx="4883400" cy="4635360"/>
            </a:xfrm>
            <a:custGeom>
              <a:avLst/>
              <a:gdLst>
                <a:gd name="textAreaLeft" fmla="*/ 0 w 4883400"/>
                <a:gd name="textAreaRight" fmla="*/ 4883760 w 4883400"/>
                <a:gd name="textAreaTop" fmla="*/ 0 h 4635360"/>
                <a:gd name="textAreaBottom" fmla="*/ 4635720 h 4635360"/>
              </a:gdLst>
              <a:ahLst/>
              <a:rect l="textAreaLeft" t="textAreaTop" r="textAreaRight" b="textAreaBottom"/>
              <a:pathLst>
                <a:path w="3076" h="2920">
                  <a:moveTo>
                    <a:pt x="846" y="2212"/>
                  </a:moveTo>
                  <a:lnTo>
                    <a:pt x="846" y="2212"/>
                  </a:lnTo>
                  <a:lnTo>
                    <a:pt x="874" y="2256"/>
                  </a:lnTo>
                  <a:lnTo>
                    <a:pt x="886" y="2272"/>
                  </a:lnTo>
                  <a:lnTo>
                    <a:pt x="900" y="2288"/>
                  </a:lnTo>
                  <a:lnTo>
                    <a:pt x="914" y="2302"/>
                  </a:lnTo>
                  <a:lnTo>
                    <a:pt x="930" y="2316"/>
                  </a:lnTo>
                  <a:lnTo>
                    <a:pt x="972" y="2344"/>
                  </a:lnTo>
                  <a:lnTo>
                    <a:pt x="972" y="2344"/>
                  </a:lnTo>
                  <a:lnTo>
                    <a:pt x="978" y="2278"/>
                  </a:lnTo>
                  <a:lnTo>
                    <a:pt x="984" y="2200"/>
                  </a:lnTo>
                  <a:lnTo>
                    <a:pt x="986" y="2108"/>
                  </a:lnTo>
                  <a:lnTo>
                    <a:pt x="988" y="2006"/>
                  </a:lnTo>
                  <a:lnTo>
                    <a:pt x="988" y="1022"/>
                  </a:lnTo>
                  <a:lnTo>
                    <a:pt x="988" y="1022"/>
                  </a:lnTo>
                  <a:lnTo>
                    <a:pt x="988" y="910"/>
                  </a:lnTo>
                  <a:lnTo>
                    <a:pt x="984" y="818"/>
                  </a:lnTo>
                  <a:lnTo>
                    <a:pt x="980" y="734"/>
                  </a:lnTo>
                  <a:lnTo>
                    <a:pt x="972" y="646"/>
                  </a:lnTo>
                  <a:lnTo>
                    <a:pt x="972" y="646"/>
                  </a:lnTo>
                  <a:lnTo>
                    <a:pt x="1048" y="652"/>
                  </a:lnTo>
                  <a:lnTo>
                    <a:pt x="1128" y="656"/>
                  </a:lnTo>
                  <a:lnTo>
                    <a:pt x="1222" y="658"/>
                  </a:lnTo>
                  <a:lnTo>
                    <a:pt x="1336" y="658"/>
                  </a:lnTo>
                  <a:lnTo>
                    <a:pt x="1424" y="658"/>
                  </a:lnTo>
                  <a:lnTo>
                    <a:pt x="1424" y="658"/>
                  </a:lnTo>
                  <a:lnTo>
                    <a:pt x="1324" y="596"/>
                  </a:lnTo>
                  <a:lnTo>
                    <a:pt x="1288" y="574"/>
                  </a:lnTo>
                  <a:lnTo>
                    <a:pt x="1242" y="550"/>
                  </a:lnTo>
                  <a:lnTo>
                    <a:pt x="1418" y="452"/>
                  </a:lnTo>
                  <a:lnTo>
                    <a:pt x="1272" y="452"/>
                  </a:lnTo>
                  <a:lnTo>
                    <a:pt x="1272" y="452"/>
                  </a:lnTo>
                  <a:lnTo>
                    <a:pt x="1168" y="454"/>
                  </a:lnTo>
                  <a:lnTo>
                    <a:pt x="1084" y="456"/>
                  </a:lnTo>
                  <a:lnTo>
                    <a:pt x="1010" y="460"/>
                  </a:lnTo>
                  <a:lnTo>
                    <a:pt x="938" y="468"/>
                  </a:lnTo>
                  <a:lnTo>
                    <a:pt x="938" y="22"/>
                  </a:lnTo>
                  <a:lnTo>
                    <a:pt x="938" y="22"/>
                  </a:lnTo>
                  <a:lnTo>
                    <a:pt x="1022" y="30"/>
                  </a:lnTo>
                  <a:lnTo>
                    <a:pt x="1116" y="36"/>
                  </a:lnTo>
                  <a:lnTo>
                    <a:pt x="1226" y="40"/>
                  </a:lnTo>
                  <a:lnTo>
                    <a:pt x="1358" y="40"/>
                  </a:lnTo>
                  <a:lnTo>
                    <a:pt x="2302" y="40"/>
                  </a:lnTo>
                  <a:lnTo>
                    <a:pt x="2302" y="40"/>
                  </a:lnTo>
                  <a:lnTo>
                    <a:pt x="2452" y="40"/>
                  </a:lnTo>
                  <a:lnTo>
                    <a:pt x="2564" y="36"/>
                  </a:lnTo>
                  <a:lnTo>
                    <a:pt x="2644" y="30"/>
                  </a:lnTo>
                  <a:lnTo>
                    <a:pt x="2674" y="26"/>
                  </a:lnTo>
                  <a:lnTo>
                    <a:pt x="2700" y="22"/>
                  </a:lnTo>
                  <a:lnTo>
                    <a:pt x="2934" y="276"/>
                  </a:lnTo>
                  <a:lnTo>
                    <a:pt x="2934" y="276"/>
                  </a:lnTo>
                  <a:lnTo>
                    <a:pt x="2908" y="294"/>
                  </a:lnTo>
                  <a:lnTo>
                    <a:pt x="2884" y="312"/>
                  </a:lnTo>
                  <a:lnTo>
                    <a:pt x="2786" y="398"/>
                  </a:lnTo>
                  <a:lnTo>
                    <a:pt x="2786" y="398"/>
                  </a:lnTo>
                  <a:lnTo>
                    <a:pt x="2708" y="468"/>
                  </a:lnTo>
                  <a:lnTo>
                    <a:pt x="2626" y="536"/>
                  </a:lnTo>
                  <a:lnTo>
                    <a:pt x="2544" y="602"/>
                  </a:lnTo>
                  <a:lnTo>
                    <a:pt x="2466" y="658"/>
                  </a:lnTo>
                  <a:lnTo>
                    <a:pt x="2612" y="658"/>
                  </a:lnTo>
                  <a:lnTo>
                    <a:pt x="2612" y="658"/>
                  </a:lnTo>
                  <a:lnTo>
                    <a:pt x="2706" y="658"/>
                  </a:lnTo>
                  <a:lnTo>
                    <a:pt x="2784" y="656"/>
                  </a:lnTo>
                  <a:lnTo>
                    <a:pt x="2850" y="652"/>
                  </a:lnTo>
                  <a:lnTo>
                    <a:pt x="2912" y="646"/>
                  </a:lnTo>
                  <a:lnTo>
                    <a:pt x="2912" y="646"/>
                  </a:lnTo>
                  <a:lnTo>
                    <a:pt x="2906" y="708"/>
                  </a:lnTo>
                  <a:lnTo>
                    <a:pt x="2902" y="782"/>
                  </a:lnTo>
                  <a:lnTo>
                    <a:pt x="2900" y="872"/>
                  </a:lnTo>
                  <a:lnTo>
                    <a:pt x="2900" y="984"/>
                  </a:lnTo>
                  <a:lnTo>
                    <a:pt x="2900" y="2026"/>
                  </a:lnTo>
                  <a:lnTo>
                    <a:pt x="2900" y="2026"/>
                  </a:lnTo>
                  <a:lnTo>
                    <a:pt x="2898" y="2082"/>
                  </a:lnTo>
                  <a:lnTo>
                    <a:pt x="2894" y="2130"/>
                  </a:lnTo>
                  <a:lnTo>
                    <a:pt x="2886" y="2172"/>
                  </a:lnTo>
                  <a:lnTo>
                    <a:pt x="2880" y="2190"/>
                  </a:lnTo>
                  <a:lnTo>
                    <a:pt x="2874" y="2206"/>
                  </a:lnTo>
                  <a:lnTo>
                    <a:pt x="2868" y="2222"/>
                  </a:lnTo>
                  <a:lnTo>
                    <a:pt x="2860" y="2236"/>
                  </a:lnTo>
                  <a:lnTo>
                    <a:pt x="2850" y="2248"/>
                  </a:lnTo>
                  <a:lnTo>
                    <a:pt x="2840" y="2260"/>
                  </a:lnTo>
                  <a:lnTo>
                    <a:pt x="2828" y="2272"/>
                  </a:lnTo>
                  <a:lnTo>
                    <a:pt x="2814" y="2282"/>
                  </a:lnTo>
                  <a:lnTo>
                    <a:pt x="2786" y="2300"/>
                  </a:lnTo>
                  <a:lnTo>
                    <a:pt x="2786" y="2300"/>
                  </a:lnTo>
                  <a:lnTo>
                    <a:pt x="2760" y="2312"/>
                  </a:lnTo>
                  <a:lnTo>
                    <a:pt x="2730" y="2322"/>
                  </a:lnTo>
                  <a:lnTo>
                    <a:pt x="2694" y="2330"/>
                  </a:lnTo>
                  <a:lnTo>
                    <a:pt x="2654" y="2336"/>
                  </a:lnTo>
                  <a:lnTo>
                    <a:pt x="2606" y="2342"/>
                  </a:lnTo>
                  <a:lnTo>
                    <a:pt x="2554" y="2346"/>
                  </a:lnTo>
                  <a:lnTo>
                    <a:pt x="2496" y="2348"/>
                  </a:lnTo>
                  <a:lnTo>
                    <a:pt x="2430" y="2348"/>
                  </a:lnTo>
                  <a:lnTo>
                    <a:pt x="2430" y="2348"/>
                  </a:lnTo>
                  <a:lnTo>
                    <a:pt x="2324" y="2348"/>
                  </a:lnTo>
                  <a:lnTo>
                    <a:pt x="2324" y="2348"/>
                  </a:lnTo>
                  <a:lnTo>
                    <a:pt x="2310" y="2254"/>
                  </a:lnTo>
                  <a:lnTo>
                    <a:pt x="2294" y="2176"/>
                  </a:lnTo>
                  <a:lnTo>
                    <a:pt x="2284" y="2138"/>
                  </a:lnTo>
                  <a:lnTo>
                    <a:pt x="2274" y="2102"/>
                  </a:lnTo>
                  <a:lnTo>
                    <a:pt x="2248" y="2022"/>
                  </a:lnTo>
                  <a:lnTo>
                    <a:pt x="2248" y="2022"/>
                  </a:lnTo>
                  <a:lnTo>
                    <a:pt x="2322" y="2030"/>
                  </a:lnTo>
                  <a:lnTo>
                    <a:pt x="2384" y="2032"/>
                  </a:lnTo>
                  <a:lnTo>
                    <a:pt x="2384" y="2032"/>
                  </a:lnTo>
                  <a:lnTo>
                    <a:pt x="2400" y="2032"/>
                  </a:lnTo>
                  <a:lnTo>
                    <a:pt x="2414" y="2030"/>
                  </a:lnTo>
                  <a:lnTo>
                    <a:pt x="2424" y="2026"/>
                  </a:lnTo>
                  <a:lnTo>
                    <a:pt x="2430" y="2020"/>
                  </a:lnTo>
                  <a:lnTo>
                    <a:pt x="2436" y="2012"/>
                  </a:lnTo>
                  <a:lnTo>
                    <a:pt x="2438" y="2000"/>
                  </a:lnTo>
                  <a:lnTo>
                    <a:pt x="2440" y="1986"/>
                  </a:lnTo>
                  <a:lnTo>
                    <a:pt x="2440" y="1966"/>
                  </a:lnTo>
                  <a:lnTo>
                    <a:pt x="2440" y="1902"/>
                  </a:lnTo>
                  <a:lnTo>
                    <a:pt x="2152" y="1902"/>
                  </a:lnTo>
                  <a:lnTo>
                    <a:pt x="2152" y="1994"/>
                  </a:lnTo>
                  <a:lnTo>
                    <a:pt x="2152" y="1994"/>
                  </a:lnTo>
                  <a:lnTo>
                    <a:pt x="2154" y="2114"/>
                  </a:lnTo>
                  <a:lnTo>
                    <a:pt x="2156" y="2202"/>
                  </a:lnTo>
                  <a:lnTo>
                    <a:pt x="2160" y="2274"/>
                  </a:lnTo>
                  <a:lnTo>
                    <a:pt x="2168" y="2348"/>
                  </a:lnTo>
                  <a:lnTo>
                    <a:pt x="1690" y="2348"/>
                  </a:lnTo>
                  <a:lnTo>
                    <a:pt x="1690" y="2348"/>
                  </a:lnTo>
                  <a:lnTo>
                    <a:pt x="1698" y="2276"/>
                  </a:lnTo>
                  <a:lnTo>
                    <a:pt x="1704" y="2200"/>
                  </a:lnTo>
                  <a:lnTo>
                    <a:pt x="1708" y="2108"/>
                  </a:lnTo>
                  <a:lnTo>
                    <a:pt x="1710" y="1994"/>
                  </a:lnTo>
                  <a:lnTo>
                    <a:pt x="1710" y="1902"/>
                  </a:lnTo>
                  <a:lnTo>
                    <a:pt x="1446" y="1902"/>
                  </a:lnTo>
                  <a:lnTo>
                    <a:pt x="1446" y="2006"/>
                  </a:lnTo>
                  <a:lnTo>
                    <a:pt x="1446" y="2006"/>
                  </a:lnTo>
                  <a:lnTo>
                    <a:pt x="1448" y="2128"/>
                  </a:lnTo>
                  <a:lnTo>
                    <a:pt x="1450" y="2226"/>
                  </a:lnTo>
                  <a:lnTo>
                    <a:pt x="1452" y="2266"/>
                  </a:lnTo>
                  <a:lnTo>
                    <a:pt x="1456" y="2302"/>
                  </a:lnTo>
                  <a:lnTo>
                    <a:pt x="1460" y="2332"/>
                  </a:lnTo>
                  <a:lnTo>
                    <a:pt x="1466" y="2358"/>
                  </a:lnTo>
                  <a:lnTo>
                    <a:pt x="998" y="2358"/>
                  </a:lnTo>
                  <a:lnTo>
                    <a:pt x="998" y="2358"/>
                  </a:lnTo>
                  <a:lnTo>
                    <a:pt x="1030" y="2372"/>
                  </a:lnTo>
                  <a:lnTo>
                    <a:pt x="1060" y="2386"/>
                  </a:lnTo>
                  <a:lnTo>
                    <a:pt x="1090" y="2396"/>
                  </a:lnTo>
                  <a:lnTo>
                    <a:pt x="1120" y="2404"/>
                  </a:lnTo>
                  <a:lnTo>
                    <a:pt x="1156" y="2412"/>
                  </a:lnTo>
                  <a:lnTo>
                    <a:pt x="1194" y="2418"/>
                  </a:lnTo>
                  <a:lnTo>
                    <a:pt x="1240" y="2422"/>
                  </a:lnTo>
                  <a:lnTo>
                    <a:pt x="1292" y="2428"/>
                  </a:lnTo>
                  <a:lnTo>
                    <a:pt x="1292" y="2428"/>
                  </a:lnTo>
                  <a:lnTo>
                    <a:pt x="1414" y="2432"/>
                  </a:lnTo>
                  <a:lnTo>
                    <a:pt x="1614" y="2440"/>
                  </a:lnTo>
                  <a:lnTo>
                    <a:pt x="1826" y="2444"/>
                  </a:lnTo>
                  <a:lnTo>
                    <a:pt x="1978" y="2446"/>
                  </a:lnTo>
                  <a:lnTo>
                    <a:pt x="1978" y="2446"/>
                  </a:lnTo>
                  <a:lnTo>
                    <a:pt x="2100" y="2444"/>
                  </a:lnTo>
                  <a:lnTo>
                    <a:pt x="2226" y="2442"/>
                  </a:lnTo>
                  <a:lnTo>
                    <a:pt x="2360" y="2436"/>
                  </a:lnTo>
                  <a:lnTo>
                    <a:pt x="2496" y="2428"/>
                  </a:lnTo>
                  <a:lnTo>
                    <a:pt x="2638" y="2418"/>
                  </a:lnTo>
                  <a:lnTo>
                    <a:pt x="2782" y="2404"/>
                  </a:lnTo>
                  <a:lnTo>
                    <a:pt x="2928" y="2390"/>
                  </a:lnTo>
                  <a:lnTo>
                    <a:pt x="3076" y="2374"/>
                  </a:lnTo>
                  <a:lnTo>
                    <a:pt x="3076" y="2374"/>
                  </a:lnTo>
                  <a:lnTo>
                    <a:pt x="3056" y="2440"/>
                  </a:lnTo>
                  <a:lnTo>
                    <a:pt x="3036" y="2502"/>
                  </a:lnTo>
                  <a:lnTo>
                    <a:pt x="3020" y="2564"/>
                  </a:lnTo>
                  <a:lnTo>
                    <a:pt x="3006" y="2624"/>
                  </a:lnTo>
                  <a:lnTo>
                    <a:pt x="2994" y="2686"/>
                  </a:lnTo>
                  <a:lnTo>
                    <a:pt x="2982" y="2748"/>
                  </a:lnTo>
                  <a:lnTo>
                    <a:pt x="2972" y="2816"/>
                  </a:lnTo>
                  <a:lnTo>
                    <a:pt x="2962" y="2890"/>
                  </a:lnTo>
                  <a:lnTo>
                    <a:pt x="2962" y="2890"/>
                  </a:lnTo>
                  <a:lnTo>
                    <a:pt x="2716" y="2898"/>
                  </a:lnTo>
                  <a:lnTo>
                    <a:pt x="2472" y="2902"/>
                  </a:lnTo>
                  <a:lnTo>
                    <a:pt x="2190" y="2904"/>
                  </a:lnTo>
                  <a:lnTo>
                    <a:pt x="1836" y="2906"/>
                  </a:lnTo>
                  <a:lnTo>
                    <a:pt x="1836" y="2906"/>
                  </a:lnTo>
                  <a:lnTo>
                    <a:pt x="1716" y="2904"/>
                  </a:lnTo>
                  <a:lnTo>
                    <a:pt x="1602" y="2902"/>
                  </a:lnTo>
                  <a:lnTo>
                    <a:pt x="1492" y="2898"/>
                  </a:lnTo>
                  <a:lnTo>
                    <a:pt x="1390" y="2894"/>
                  </a:lnTo>
                  <a:lnTo>
                    <a:pt x="1294" y="2888"/>
                  </a:lnTo>
                  <a:lnTo>
                    <a:pt x="1208" y="2880"/>
                  </a:lnTo>
                  <a:lnTo>
                    <a:pt x="1132" y="2870"/>
                  </a:lnTo>
                  <a:lnTo>
                    <a:pt x="1066" y="2860"/>
                  </a:lnTo>
                  <a:lnTo>
                    <a:pt x="1066" y="2860"/>
                  </a:lnTo>
                  <a:lnTo>
                    <a:pt x="1000" y="2846"/>
                  </a:lnTo>
                  <a:lnTo>
                    <a:pt x="970" y="2838"/>
                  </a:lnTo>
                  <a:lnTo>
                    <a:pt x="938" y="2828"/>
                  </a:lnTo>
                  <a:lnTo>
                    <a:pt x="910" y="2818"/>
                  </a:lnTo>
                  <a:lnTo>
                    <a:pt x="880" y="2806"/>
                  </a:lnTo>
                  <a:lnTo>
                    <a:pt x="852" y="2792"/>
                  </a:lnTo>
                  <a:lnTo>
                    <a:pt x="826" y="2778"/>
                  </a:lnTo>
                  <a:lnTo>
                    <a:pt x="798" y="2764"/>
                  </a:lnTo>
                  <a:lnTo>
                    <a:pt x="772" y="2746"/>
                  </a:lnTo>
                  <a:lnTo>
                    <a:pt x="746" y="2728"/>
                  </a:lnTo>
                  <a:lnTo>
                    <a:pt x="720" y="2708"/>
                  </a:lnTo>
                  <a:lnTo>
                    <a:pt x="696" y="2688"/>
                  </a:lnTo>
                  <a:lnTo>
                    <a:pt x="670" y="2664"/>
                  </a:lnTo>
                  <a:lnTo>
                    <a:pt x="618" y="2614"/>
                  </a:lnTo>
                  <a:lnTo>
                    <a:pt x="618" y="2614"/>
                  </a:lnTo>
                  <a:lnTo>
                    <a:pt x="570" y="2658"/>
                  </a:lnTo>
                  <a:lnTo>
                    <a:pt x="526" y="2698"/>
                  </a:lnTo>
                  <a:lnTo>
                    <a:pt x="484" y="2734"/>
                  </a:lnTo>
                  <a:lnTo>
                    <a:pt x="442" y="2768"/>
                  </a:lnTo>
                  <a:lnTo>
                    <a:pt x="398" y="2802"/>
                  </a:lnTo>
                  <a:lnTo>
                    <a:pt x="348" y="2838"/>
                  </a:lnTo>
                  <a:lnTo>
                    <a:pt x="228" y="2920"/>
                  </a:lnTo>
                  <a:lnTo>
                    <a:pt x="0" y="2430"/>
                  </a:lnTo>
                  <a:lnTo>
                    <a:pt x="0" y="2430"/>
                  </a:lnTo>
                  <a:lnTo>
                    <a:pt x="46" y="2410"/>
                  </a:lnTo>
                  <a:lnTo>
                    <a:pt x="94" y="2388"/>
                  </a:lnTo>
                  <a:lnTo>
                    <a:pt x="140" y="2362"/>
                  </a:lnTo>
                  <a:lnTo>
                    <a:pt x="188" y="2334"/>
                  </a:lnTo>
                  <a:lnTo>
                    <a:pt x="236" y="2304"/>
                  </a:lnTo>
                  <a:lnTo>
                    <a:pt x="284" y="2270"/>
                  </a:lnTo>
                  <a:lnTo>
                    <a:pt x="336" y="2236"/>
                  </a:lnTo>
                  <a:lnTo>
                    <a:pt x="386" y="2196"/>
                  </a:lnTo>
                  <a:lnTo>
                    <a:pt x="386" y="1608"/>
                  </a:lnTo>
                  <a:lnTo>
                    <a:pt x="254" y="1608"/>
                  </a:lnTo>
                  <a:lnTo>
                    <a:pt x="254" y="1608"/>
                  </a:lnTo>
                  <a:lnTo>
                    <a:pt x="208" y="1608"/>
                  </a:lnTo>
                  <a:lnTo>
                    <a:pt x="166" y="1610"/>
                  </a:lnTo>
                  <a:lnTo>
                    <a:pt x="120" y="1616"/>
                  </a:lnTo>
                  <a:lnTo>
                    <a:pt x="64" y="1624"/>
                  </a:lnTo>
                  <a:lnTo>
                    <a:pt x="64" y="1140"/>
                  </a:lnTo>
                  <a:lnTo>
                    <a:pt x="64" y="1140"/>
                  </a:lnTo>
                  <a:lnTo>
                    <a:pt x="126" y="1146"/>
                  </a:lnTo>
                  <a:lnTo>
                    <a:pt x="184" y="1152"/>
                  </a:lnTo>
                  <a:lnTo>
                    <a:pt x="244" y="1154"/>
                  </a:lnTo>
                  <a:lnTo>
                    <a:pt x="320" y="1154"/>
                  </a:lnTo>
                  <a:lnTo>
                    <a:pt x="614" y="1154"/>
                  </a:lnTo>
                  <a:lnTo>
                    <a:pt x="614" y="1154"/>
                  </a:lnTo>
                  <a:lnTo>
                    <a:pt x="682" y="1154"/>
                  </a:lnTo>
                  <a:lnTo>
                    <a:pt x="744" y="1152"/>
                  </a:lnTo>
                  <a:lnTo>
                    <a:pt x="802" y="1146"/>
                  </a:lnTo>
                  <a:lnTo>
                    <a:pt x="858" y="1140"/>
                  </a:lnTo>
                  <a:lnTo>
                    <a:pt x="858" y="1140"/>
                  </a:lnTo>
                  <a:lnTo>
                    <a:pt x="852" y="1208"/>
                  </a:lnTo>
                  <a:lnTo>
                    <a:pt x="848" y="1284"/>
                  </a:lnTo>
                  <a:lnTo>
                    <a:pt x="846" y="1378"/>
                  </a:lnTo>
                  <a:lnTo>
                    <a:pt x="846" y="1500"/>
                  </a:lnTo>
                  <a:lnTo>
                    <a:pt x="846" y="2212"/>
                  </a:lnTo>
                  <a:close/>
                  <a:moveTo>
                    <a:pt x="374" y="0"/>
                  </a:moveTo>
                  <a:lnTo>
                    <a:pt x="374" y="0"/>
                  </a:lnTo>
                  <a:lnTo>
                    <a:pt x="468" y="78"/>
                  </a:lnTo>
                  <a:lnTo>
                    <a:pt x="554" y="152"/>
                  </a:lnTo>
                  <a:lnTo>
                    <a:pt x="632" y="224"/>
                  </a:lnTo>
                  <a:lnTo>
                    <a:pt x="706" y="294"/>
                  </a:lnTo>
                  <a:lnTo>
                    <a:pt x="774" y="362"/>
                  </a:lnTo>
                  <a:lnTo>
                    <a:pt x="840" y="434"/>
                  </a:lnTo>
                  <a:lnTo>
                    <a:pt x="902" y="506"/>
                  </a:lnTo>
                  <a:lnTo>
                    <a:pt x="966" y="582"/>
                  </a:lnTo>
                  <a:lnTo>
                    <a:pt x="598" y="952"/>
                  </a:lnTo>
                  <a:lnTo>
                    <a:pt x="598" y="952"/>
                  </a:lnTo>
                  <a:lnTo>
                    <a:pt x="526" y="860"/>
                  </a:lnTo>
                  <a:lnTo>
                    <a:pt x="458" y="776"/>
                  </a:lnTo>
                  <a:lnTo>
                    <a:pt x="392" y="700"/>
                  </a:lnTo>
                  <a:lnTo>
                    <a:pt x="326" y="628"/>
                  </a:lnTo>
                  <a:lnTo>
                    <a:pt x="256" y="558"/>
                  </a:lnTo>
                  <a:lnTo>
                    <a:pt x="184" y="490"/>
                  </a:lnTo>
                  <a:lnTo>
                    <a:pt x="104" y="420"/>
                  </a:lnTo>
                  <a:lnTo>
                    <a:pt x="16" y="344"/>
                  </a:lnTo>
                  <a:lnTo>
                    <a:pt x="374" y="0"/>
                  </a:lnTo>
                  <a:close/>
                  <a:moveTo>
                    <a:pt x="1446" y="1016"/>
                  </a:moveTo>
                  <a:lnTo>
                    <a:pt x="1446" y="1146"/>
                  </a:lnTo>
                  <a:lnTo>
                    <a:pt x="1710" y="1146"/>
                  </a:lnTo>
                  <a:lnTo>
                    <a:pt x="1710" y="1016"/>
                  </a:lnTo>
                  <a:lnTo>
                    <a:pt x="1446" y="1016"/>
                  </a:lnTo>
                  <a:close/>
                  <a:moveTo>
                    <a:pt x="1446" y="1582"/>
                  </a:moveTo>
                  <a:lnTo>
                    <a:pt x="1710" y="1582"/>
                  </a:lnTo>
                  <a:lnTo>
                    <a:pt x="1710" y="1450"/>
                  </a:lnTo>
                  <a:lnTo>
                    <a:pt x="1446" y="1450"/>
                  </a:lnTo>
                  <a:lnTo>
                    <a:pt x="1446" y="1582"/>
                  </a:lnTo>
                  <a:close/>
                  <a:moveTo>
                    <a:pt x="1722" y="452"/>
                  </a:moveTo>
                  <a:lnTo>
                    <a:pt x="1722" y="452"/>
                  </a:lnTo>
                  <a:lnTo>
                    <a:pt x="1782" y="496"/>
                  </a:lnTo>
                  <a:lnTo>
                    <a:pt x="1834" y="536"/>
                  </a:lnTo>
                  <a:lnTo>
                    <a:pt x="1946" y="626"/>
                  </a:lnTo>
                  <a:lnTo>
                    <a:pt x="1946" y="626"/>
                  </a:lnTo>
                  <a:lnTo>
                    <a:pt x="2006" y="586"/>
                  </a:lnTo>
                  <a:lnTo>
                    <a:pt x="2058" y="546"/>
                  </a:lnTo>
                  <a:lnTo>
                    <a:pt x="2108" y="502"/>
                  </a:lnTo>
                  <a:lnTo>
                    <a:pt x="2166" y="452"/>
                  </a:lnTo>
                  <a:lnTo>
                    <a:pt x="1722" y="452"/>
                  </a:lnTo>
                  <a:close/>
                  <a:moveTo>
                    <a:pt x="2152" y="1146"/>
                  </a:moveTo>
                  <a:lnTo>
                    <a:pt x="2440" y="1146"/>
                  </a:lnTo>
                  <a:lnTo>
                    <a:pt x="2440" y="1016"/>
                  </a:lnTo>
                  <a:lnTo>
                    <a:pt x="2152" y="1016"/>
                  </a:lnTo>
                  <a:lnTo>
                    <a:pt x="2152" y="1146"/>
                  </a:lnTo>
                  <a:close/>
                  <a:moveTo>
                    <a:pt x="2440" y="1450"/>
                  </a:moveTo>
                  <a:lnTo>
                    <a:pt x="2152" y="1450"/>
                  </a:lnTo>
                  <a:lnTo>
                    <a:pt x="2152" y="1582"/>
                  </a:lnTo>
                  <a:lnTo>
                    <a:pt x="2440" y="1582"/>
                  </a:lnTo>
                  <a:lnTo>
                    <a:pt x="2440" y="145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508200" y="15795360"/>
              <a:ext cx="3416400" cy="4572000"/>
            </a:xfrm>
            <a:custGeom>
              <a:avLst/>
              <a:gdLst>
                <a:gd name="textAreaLeft" fmla="*/ 0 w 3416400"/>
                <a:gd name="textAreaRight" fmla="*/ 3416760 w 341640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2152" h="2880">
                  <a:moveTo>
                    <a:pt x="646" y="22"/>
                  </a:moveTo>
                  <a:lnTo>
                    <a:pt x="646" y="22"/>
                  </a:lnTo>
                  <a:lnTo>
                    <a:pt x="630" y="74"/>
                  </a:lnTo>
                  <a:lnTo>
                    <a:pt x="614" y="136"/>
                  </a:lnTo>
                  <a:lnTo>
                    <a:pt x="598" y="204"/>
                  </a:lnTo>
                  <a:lnTo>
                    <a:pt x="582" y="282"/>
                  </a:lnTo>
                  <a:lnTo>
                    <a:pt x="566" y="370"/>
                  </a:lnTo>
                  <a:lnTo>
                    <a:pt x="550" y="468"/>
                  </a:lnTo>
                  <a:lnTo>
                    <a:pt x="516" y="698"/>
                  </a:lnTo>
                  <a:lnTo>
                    <a:pt x="516" y="698"/>
                  </a:lnTo>
                  <a:lnTo>
                    <a:pt x="556" y="632"/>
                  </a:lnTo>
                  <a:lnTo>
                    <a:pt x="596" y="568"/>
                  </a:lnTo>
                  <a:lnTo>
                    <a:pt x="638" y="510"/>
                  </a:lnTo>
                  <a:lnTo>
                    <a:pt x="680" y="456"/>
                  </a:lnTo>
                  <a:lnTo>
                    <a:pt x="724" y="408"/>
                  </a:lnTo>
                  <a:lnTo>
                    <a:pt x="770" y="362"/>
                  </a:lnTo>
                  <a:lnTo>
                    <a:pt x="818" y="322"/>
                  </a:lnTo>
                  <a:lnTo>
                    <a:pt x="866" y="286"/>
                  </a:lnTo>
                  <a:lnTo>
                    <a:pt x="916" y="254"/>
                  </a:lnTo>
                  <a:lnTo>
                    <a:pt x="968" y="226"/>
                  </a:lnTo>
                  <a:lnTo>
                    <a:pt x="1022" y="204"/>
                  </a:lnTo>
                  <a:lnTo>
                    <a:pt x="1078" y="184"/>
                  </a:lnTo>
                  <a:lnTo>
                    <a:pt x="1134" y="170"/>
                  </a:lnTo>
                  <a:lnTo>
                    <a:pt x="1194" y="160"/>
                  </a:lnTo>
                  <a:lnTo>
                    <a:pt x="1254" y="154"/>
                  </a:lnTo>
                  <a:lnTo>
                    <a:pt x="1316" y="152"/>
                  </a:lnTo>
                  <a:lnTo>
                    <a:pt x="1316" y="152"/>
                  </a:lnTo>
                  <a:lnTo>
                    <a:pt x="1356" y="152"/>
                  </a:lnTo>
                  <a:lnTo>
                    <a:pt x="1398" y="156"/>
                  </a:lnTo>
                  <a:lnTo>
                    <a:pt x="1436" y="162"/>
                  </a:lnTo>
                  <a:lnTo>
                    <a:pt x="1476" y="170"/>
                  </a:lnTo>
                  <a:lnTo>
                    <a:pt x="1516" y="182"/>
                  </a:lnTo>
                  <a:lnTo>
                    <a:pt x="1554" y="194"/>
                  </a:lnTo>
                  <a:lnTo>
                    <a:pt x="1592" y="210"/>
                  </a:lnTo>
                  <a:lnTo>
                    <a:pt x="1630" y="228"/>
                  </a:lnTo>
                  <a:lnTo>
                    <a:pt x="1666" y="248"/>
                  </a:lnTo>
                  <a:lnTo>
                    <a:pt x="1702" y="268"/>
                  </a:lnTo>
                  <a:lnTo>
                    <a:pt x="1736" y="292"/>
                  </a:lnTo>
                  <a:lnTo>
                    <a:pt x="1768" y="318"/>
                  </a:lnTo>
                  <a:lnTo>
                    <a:pt x="1802" y="346"/>
                  </a:lnTo>
                  <a:lnTo>
                    <a:pt x="1832" y="376"/>
                  </a:lnTo>
                  <a:lnTo>
                    <a:pt x="1862" y="406"/>
                  </a:lnTo>
                  <a:lnTo>
                    <a:pt x="1890" y="440"/>
                  </a:lnTo>
                  <a:lnTo>
                    <a:pt x="1890" y="440"/>
                  </a:lnTo>
                  <a:lnTo>
                    <a:pt x="1922" y="482"/>
                  </a:lnTo>
                  <a:lnTo>
                    <a:pt x="1952" y="526"/>
                  </a:lnTo>
                  <a:lnTo>
                    <a:pt x="1980" y="570"/>
                  </a:lnTo>
                  <a:lnTo>
                    <a:pt x="2006" y="618"/>
                  </a:lnTo>
                  <a:lnTo>
                    <a:pt x="2028" y="666"/>
                  </a:lnTo>
                  <a:lnTo>
                    <a:pt x="2050" y="718"/>
                  </a:lnTo>
                  <a:lnTo>
                    <a:pt x="2070" y="770"/>
                  </a:lnTo>
                  <a:lnTo>
                    <a:pt x="2088" y="824"/>
                  </a:lnTo>
                  <a:lnTo>
                    <a:pt x="2102" y="878"/>
                  </a:lnTo>
                  <a:lnTo>
                    <a:pt x="2116" y="936"/>
                  </a:lnTo>
                  <a:lnTo>
                    <a:pt x="2126" y="996"/>
                  </a:lnTo>
                  <a:lnTo>
                    <a:pt x="2136" y="1056"/>
                  </a:lnTo>
                  <a:lnTo>
                    <a:pt x="2144" y="1120"/>
                  </a:lnTo>
                  <a:lnTo>
                    <a:pt x="2148" y="1184"/>
                  </a:lnTo>
                  <a:lnTo>
                    <a:pt x="2152" y="1250"/>
                  </a:lnTo>
                  <a:lnTo>
                    <a:pt x="2152" y="1320"/>
                  </a:lnTo>
                  <a:lnTo>
                    <a:pt x="2152" y="1320"/>
                  </a:lnTo>
                  <a:lnTo>
                    <a:pt x="2150" y="1414"/>
                  </a:lnTo>
                  <a:lnTo>
                    <a:pt x="2144" y="1508"/>
                  </a:lnTo>
                  <a:lnTo>
                    <a:pt x="2136" y="1596"/>
                  </a:lnTo>
                  <a:lnTo>
                    <a:pt x="2122" y="1684"/>
                  </a:lnTo>
                  <a:lnTo>
                    <a:pt x="2104" y="1766"/>
                  </a:lnTo>
                  <a:lnTo>
                    <a:pt x="2084" y="1846"/>
                  </a:lnTo>
                  <a:lnTo>
                    <a:pt x="2060" y="1924"/>
                  </a:lnTo>
                  <a:lnTo>
                    <a:pt x="2032" y="1998"/>
                  </a:lnTo>
                  <a:lnTo>
                    <a:pt x="1998" y="2068"/>
                  </a:lnTo>
                  <a:lnTo>
                    <a:pt x="1982" y="2102"/>
                  </a:lnTo>
                  <a:lnTo>
                    <a:pt x="1964" y="2136"/>
                  </a:lnTo>
                  <a:lnTo>
                    <a:pt x="1944" y="2170"/>
                  </a:lnTo>
                  <a:lnTo>
                    <a:pt x="1924" y="2202"/>
                  </a:lnTo>
                  <a:lnTo>
                    <a:pt x="1902" y="2232"/>
                  </a:lnTo>
                  <a:lnTo>
                    <a:pt x="1880" y="2262"/>
                  </a:lnTo>
                  <a:lnTo>
                    <a:pt x="1856" y="2292"/>
                  </a:lnTo>
                  <a:lnTo>
                    <a:pt x="1832" y="2320"/>
                  </a:lnTo>
                  <a:lnTo>
                    <a:pt x="1808" y="2348"/>
                  </a:lnTo>
                  <a:lnTo>
                    <a:pt x="1782" y="2376"/>
                  </a:lnTo>
                  <a:lnTo>
                    <a:pt x="1754" y="2402"/>
                  </a:lnTo>
                  <a:lnTo>
                    <a:pt x="1726" y="2428"/>
                  </a:lnTo>
                  <a:lnTo>
                    <a:pt x="1698" y="2454"/>
                  </a:lnTo>
                  <a:lnTo>
                    <a:pt x="1668" y="2478"/>
                  </a:lnTo>
                  <a:lnTo>
                    <a:pt x="1668" y="2478"/>
                  </a:lnTo>
                  <a:lnTo>
                    <a:pt x="1634" y="2504"/>
                  </a:lnTo>
                  <a:lnTo>
                    <a:pt x="1596" y="2530"/>
                  </a:lnTo>
                  <a:lnTo>
                    <a:pt x="1560" y="2554"/>
                  </a:lnTo>
                  <a:lnTo>
                    <a:pt x="1520" y="2580"/>
                  </a:lnTo>
                  <a:lnTo>
                    <a:pt x="1478" y="2602"/>
                  </a:lnTo>
                  <a:lnTo>
                    <a:pt x="1436" y="2626"/>
                  </a:lnTo>
                  <a:lnTo>
                    <a:pt x="1392" y="2648"/>
                  </a:lnTo>
                  <a:lnTo>
                    <a:pt x="1348" y="2670"/>
                  </a:lnTo>
                  <a:lnTo>
                    <a:pt x="1302" y="2690"/>
                  </a:lnTo>
                  <a:lnTo>
                    <a:pt x="1254" y="2710"/>
                  </a:lnTo>
                  <a:lnTo>
                    <a:pt x="1206" y="2728"/>
                  </a:lnTo>
                  <a:lnTo>
                    <a:pt x="1156" y="2746"/>
                  </a:lnTo>
                  <a:lnTo>
                    <a:pt x="1104" y="2762"/>
                  </a:lnTo>
                  <a:lnTo>
                    <a:pt x="1052" y="2778"/>
                  </a:lnTo>
                  <a:lnTo>
                    <a:pt x="1000" y="2792"/>
                  </a:lnTo>
                  <a:lnTo>
                    <a:pt x="946" y="2806"/>
                  </a:lnTo>
                  <a:lnTo>
                    <a:pt x="946" y="2806"/>
                  </a:lnTo>
                  <a:lnTo>
                    <a:pt x="868" y="2826"/>
                  </a:lnTo>
                  <a:lnTo>
                    <a:pt x="788" y="2842"/>
                  </a:lnTo>
                  <a:lnTo>
                    <a:pt x="694" y="2860"/>
                  </a:lnTo>
                  <a:lnTo>
                    <a:pt x="572" y="2880"/>
                  </a:lnTo>
                  <a:lnTo>
                    <a:pt x="572" y="2880"/>
                  </a:lnTo>
                  <a:lnTo>
                    <a:pt x="546" y="2796"/>
                  </a:lnTo>
                  <a:lnTo>
                    <a:pt x="520" y="2724"/>
                  </a:lnTo>
                  <a:lnTo>
                    <a:pt x="496" y="2660"/>
                  </a:lnTo>
                  <a:lnTo>
                    <a:pt x="468" y="2600"/>
                  </a:lnTo>
                  <a:lnTo>
                    <a:pt x="440" y="2542"/>
                  </a:lnTo>
                  <a:lnTo>
                    <a:pt x="406" y="2480"/>
                  </a:lnTo>
                  <a:lnTo>
                    <a:pt x="366" y="2414"/>
                  </a:lnTo>
                  <a:lnTo>
                    <a:pt x="320" y="2338"/>
                  </a:lnTo>
                  <a:lnTo>
                    <a:pt x="320" y="2338"/>
                  </a:lnTo>
                  <a:lnTo>
                    <a:pt x="404" y="2332"/>
                  </a:lnTo>
                  <a:lnTo>
                    <a:pt x="484" y="2326"/>
                  </a:lnTo>
                  <a:lnTo>
                    <a:pt x="562" y="2316"/>
                  </a:lnTo>
                  <a:lnTo>
                    <a:pt x="636" y="2306"/>
                  </a:lnTo>
                  <a:lnTo>
                    <a:pt x="706" y="2294"/>
                  </a:lnTo>
                  <a:lnTo>
                    <a:pt x="774" y="2282"/>
                  </a:lnTo>
                  <a:lnTo>
                    <a:pt x="840" y="2266"/>
                  </a:lnTo>
                  <a:lnTo>
                    <a:pt x="902" y="2250"/>
                  </a:lnTo>
                  <a:lnTo>
                    <a:pt x="962" y="2232"/>
                  </a:lnTo>
                  <a:lnTo>
                    <a:pt x="1018" y="2212"/>
                  </a:lnTo>
                  <a:lnTo>
                    <a:pt x="1072" y="2190"/>
                  </a:lnTo>
                  <a:lnTo>
                    <a:pt x="1122" y="2168"/>
                  </a:lnTo>
                  <a:lnTo>
                    <a:pt x="1170" y="2142"/>
                  </a:lnTo>
                  <a:lnTo>
                    <a:pt x="1216" y="2116"/>
                  </a:lnTo>
                  <a:lnTo>
                    <a:pt x="1258" y="2088"/>
                  </a:lnTo>
                  <a:lnTo>
                    <a:pt x="1298" y="2056"/>
                  </a:lnTo>
                  <a:lnTo>
                    <a:pt x="1336" y="2024"/>
                  </a:lnTo>
                  <a:lnTo>
                    <a:pt x="1370" y="1990"/>
                  </a:lnTo>
                  <a:lnTo>
                    <a:pt x="1402" y="1954"/>
                  </a:lnTo>
                  <a:lnTo>
                    <a:pt x="1432" y="1916"/>
                  </a:lnTo>
                  <a:lnTo>
                    <a:pt x="1458" y="1878"/>
                  </a:lnTo>
                  <a:lnTo>
                    <a:pt x="1482" y="1836"/>
                  </a:lnTo>
                  <a:lnTo>
                    <a:pt x="1504" y="1792"/>
                  </a:lnTo>
                  <a:lnTo>
                    <a:pt x="1524" y="1746"/>
                  </a:lnTo>
                  <a:lnTo>
                    <a:pt x="1540" y="1698"/>
                  </a:lnTo>
                  <a:lnTo>
                    <a:pt x="1556" y="1648"/>
                  </a:lnTo>
                  <a:lnTo>
                    <a:pt x="1568" y="1596"/>
                  </a:lnTo>
                  <a:lnTo>
                    <a:pt x="1578" y="1542"/>
                  </a:lnTo>
                  <a:lnTo>
                    <a:pt x="1586" y="1486"/>
                  </a:lnTo>
                  <a:lnTo>
                    <a:pt x="1590" y="1426"/>
                  </a:lnTo>
                  <a:lnTo>
                    <a:pt x="1594" y="1366"/>
                  </a:lnTo>
                  <a:lnTo>
                    <a:pt x="1596" y="1304"/>
                  </a:lnTo>
                  <a:lnTo>
                    <a:pt x="1596" y="1304"/>
                  </a:lnTo>
                  <a:lnTo>
                    <a:pt x="1594" y="1232"/>
                  </a:lnTo>
                  <a:lnTo>
                    <a:pt x="1590" y="1164"/>
                  </a:lnTo>
                  <a:lnTo>
                    <a:pt x="1582" y="1100"/>
                  </a:lnTo>
                  <a:lnTo>
                    <a:pt x="1572" y="1040"/>
                  </a:lnTo>
                  <a:lnTo>
                    <a:pt x="1558" y="986"/>
                  </a:lnTo>
                  <a:lnTo>
                    <a:pt x="1544" y="936"/>
                  </a:lnTo>
                  <a:lnTo>
                    <a:pt x="1524" y="890"/>
                  </a:lnTo>
                  <a:lnTo>
                    <a:pt x="1504" y="848"/>
                  </a:lnTo>
                  <a:lnTo>
                    <a:pt x="1480" y="812"/>
                  </a:lnTo>
                  <a:lnTo>
                    <a:pt x="1468" y="794"/>
                  </a:lnTo>
                  <a:lnTo>
                    <a:pt x="1454" y="780"/>
                  </a:lnTo>
                  <a:lnTo>
                    <a:pt x="1440" y="764"/>
                  </a:lnTo>
                  <a:lnTo>
                    <a:pt x="1424" y="752"/>
                  </a:lnTo>
                  <a:lnTo>
                    <a:pt x="1410" y="740"/>
                  </a:lnTo>
                  <a:lnTo>
                    <a:pt x="1394" y="730"/>
                  </a:lnTo>
                  <a:lnTo>
                    <a:pt x="1376" y="720"/>
                  </a:lnTo>
                  <a:lnTo>
                    <a:pt x="1360" y="712"/>
                  </a:lnTo>
                  <a:lnTo>
                    <a:pt x="1342" y="706"/>
                  </a:lnTo>
                  <a:lnTo>
                    <a:pt x="1324" y="700"/>
                  </a:lnTo>
                  <a:lnTo>
                    <a:pt x="1304" y="694"/>
                  </a:lnTo>
                  <a:lnTo>
                    <a:pt x="1284" y="692"/>
                  </a:lnTo>
                  <a:lnTo>
                    <a:pt x="1264" y="690"/>
                  </a:lnTo>
                  <a:lnTo>
                    <a:pt x="1244" y="690"/>
                  </a:lnTo>
                  <a:lnTo>
                    <a:pt x="1244" y="690"/>
                  </a:lnTo>
                  <a:lnTo>
                    <a:pt x="1222" y="690"/>
                  </a:lnTo>
                  <a:lnTo>
                    <a:pt x="1200" y="692"/>
                  </a:lnTo>
                  <a:lnTo>
                    <a:pt x="1178" y="696"/>
                  </a:lnTo>
                  <a:lnTo>
                    <a:pt x="1158" y="700"/>
                  </a:lnTo>
                  <a:lnTo>
                    <a:pt x="1136" y="706"/>
                  </a:lnTo>
                  <a:lnTo>
                    <a:pt x="1116" y="714"/>
                  </a:lnTo>
                  <a:lnTo>
                    <a:pt x="1094" y="722"/>
                  </a:lnTo>
                  <a:lnTo>
                    <a:pt x="1072" y="734"/>
                  </a:lnTo>
                  <a:lnTo>
                    <a:pt x="1052" y="746"/>
                  </a:lnTo>
                  <a:lnTo>
                    <a:pt x="1030" y="760"/>
                  </a:lnTo>
                  <a:lnTo>
                    <a:pt x="988" y="790"/>
                  </a:lnTo>
                  <a:lnTo>
                    <a:pt x="946" y="828"/>
                  </a:lnTo>
                  <a:lnTo>
                    <a:pt x="902" y="872"/>
                  </a:lnTo>
                  <a:lnTo>
                    <a:pt x="902" y="872"/>
                  </a:lnTo>
                  <a:lnTo>
                    <a:pt x="868" y="910"/>
                  </a:lnTo>
                  <a:lnTo>
                    <a:pt x="834" y="950"/>
                  </a:lnTo>
                  <a:lnTo>
                    <a:pt x="802" y="992"/>
                  </a:lnTo>
                  <a:lnTo>
                    <a:pt x="772" y="1034"/>
                  </a:lnTo>
                  <a:lnTo>
                    <a:pt x="744" y="1076"/>
                  </a:lnTo>
                  <a:lnTo>
                    <a:pt x="718" y="1120"/>
                  </a:lnTo>
                  <a:lnTo>
                    <a:pt x="692" y="1166"/>
                  </a:lnTo>
                  <a:lnTo>
                    <a:pt x="670" y="1212"/>
                  </a:lnTo>
                  <a:lnTo>
                    <a:pt x="648" y="1260"/>
                  </a:lnTo>
                  <a:lnTo>
                    <a:pt x="628" y="1308"/>
                  </a:lnTo>
                  <a:lnTo>
                    <a:pt x="610" y="1356"/>
                  </a:lnTo>
                  <a:lnTo>
                    <a:pt x="596" y="1406"/>
                  </a:lnTo>
                  <a:lnTo>
                    <a:pt x="582" y="1456"/>
                  </a:lnTo>
                  <a:lnTo>
                    <a:pt x="570" y="1506"/>
                  </a:lnTo>
                  <a:lnTo>
                    <a:pt x="558" y="1556"/>
                  </a:lnTo>
                  <a:lnTo>
                    <a:pt x="550" y="1608"/>
                  </a:lnTo>
                  <a:lnTo>
                    <a:pt x="550" y="1608"/>
                  </a:lnTo>
                  <a:lnTo>
                    <a:pt x="544" y="1658"/>
                  </a:lnTo>
                  <a:lnTo>
                    <a:pt x="540" y="1708"/>
                  </a:lnTo>
                  <a:lnTo>
                    <a:pt x="538" y="1774"/>
                  </a:lnTo>
                  <a:lnTo>
                    <a:pt x="538" y="1866"/>
                  </a:lnTo>
                  <a:lnTo>
                    <a:pt x="6" y="1872"/>
                  </a:lnTo>
                  <a:lnTo>
                    <a:pt x="6" y="1872"/>
                  </a:lnTo>
                  <a:lnTo>
                    <a:pt x="10" y="1842"/>
                  </a:lnTo>
                  <a:lnTo>
                    <a:pt x="10" y="1820"/>
                  </a:lnTo>
                  <a:lnTo>
                    <a:pt x="10" y="1820"/>
                  </a:lnTo>
                  <a:lnTo>
                    <a:pt x="10" y="1756"/>
                  </a:lnTo>
                  <a:lnTo>
                    <a:pt x="10" y="1756"/>
                  </a:lnTo>
                  <a:lnTo>
                    <a:pt x="6" y="1654"/>
                  </a:lnTo>
                  <a:lnTo>
                    <a:pt x="2" y="1542"/>
                  </a:lnTo>
                  <a:lnTo>
                    <a:pt x="0" y="1354"/>
                  </a:lnTo>
                  <a:lnTo>
                    <a:pt x="0" y="1354"/>
                  </a:lnTo>
                  <a:lnTo>
                    <a:pt x="2" y="1212"/>
                  </a:lnTo>
                  <a:lnTo>
                    <a:pt x="4" y="1070"/>
                  </a:lnTo>
                  <a:lnTo>
                    <a:pt x="10" y="928"/>
                  </a:lnTo>
                  <a:lnTo>
                    <a:pt x="18" y="786"/>
                  </a:lnTo>
                  <a:lnTo>
                    <a:pt x="28" y="642"/>
                  </a:lnTo>
                  <a:lnTo>
                    <a:pt x="40" y="498"/>
                  </a:lnTo>
                  <a:lnTo>
                    <a:pt x="56" y="350"/>
                  </a:lnTo>
                  <a:lnTo>
                    <a:pt x="72" y="198"/>
                  </a:lnTo>
                  <a:lnTo>
                    <a:pt x="72" y="198"/>
                  </a:lnTo>
                  <a:lnTo>
                    <a:pt x="82" y="96"/>
                  </a:lnTo>
                  <a:lnTo>
                    <a:pt x="84" y="58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0"/>
                  </a:lnTo>
                  <a:lnTo>
                    <a:pt x="646" y="2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5"/>
            <p:cNvSpPr/>
            <p:nvPr/>
          </p:nvSpPr>
          <p:spPr>
            <a:xfrm>
              <a:off x="2815920" y="21738960"/>
              <a:ext cx="4797720" cy="4705200"/>
            </a:xfrm>
            <a:custGeom>
              <a:avLst/>
              <a:gdLst>
                <a:gd name="textAreaLeft" fmla="*/ 0 w 4797720"/>
                <a:gd name="textAreaRight" fmla="*/ 4798080 w 4797720"/>
                <a:gd name="textAreaTop" fmla="*/ 0 h 4705200"/>
                <a:gd name="textAreaBottom" fmla="*/ 4705560 h 4705200"/>
              </a:gdLst>
              <a:ahLst/>
              <a:rect l="textAreaLeft" t="textAreaTop" r="textAreaRight" b="textAreaBottom"/>
              <a:pathLst>
                <a:path w="3022" h="2964">
                  <a:moveTo>
                    <a:pt x="2848" y="1258"/>
                  </a:moveTo>
                  <a:lnTo>
                    <a:pt x="2848" y="1258"/>
                  </a:lnTo>
                  <a:lnTo>
                    <a:pt x="2836" y="1284"/>
                  </a:lnTo>
                  <a:lnTo>
                    <a:pt x="2824" y="1314"/>
                  </a:lnTo>
                  <a:lnTo>
                    <a:pt x="2788" y="1424"/>
                  </a:lnTo>
                  <a:lnTo>
                    <a:pt x="2788" y="1424"/>
                  </a:lnTo>
                  <a:lnTo>
                    <a:pt x="2746" y="1546"/>
                  </a:lnTo>
                  <a:lnTo>
                    <a:pt x="2708" y="1658"/>
                  </a:lnTo>
                  <a:lnTo>
                    <a:pt x="2670" y="1760"/>
                  </a:lnTo>
                  <a:lnTo>
                    <a:pt x="2632" y="1852"/>
                  </a:lnTo>
                  <a:lnTo>
                    <a:pt x="2592" y="1938"/>
                  </a:lnTo>
                  <a:lnTo>
                    <a:pt x="2554" y="2016"/>
                  </a:lnTo>
                  <a:lnTo>
                    <a:pt x="2512" y="2090"/>
                  </a:lnTo>
                  <a:lnTo>
                    <a:pt x="2468" y="2160"/>
                  </a:lnTo>
                  <a:lnTo>
                    <a:pt x="2468" y="2160"/>
                  </a:lnTo>
                  <a:lnTo>
                    <a:pt x="2528" y="2210"/>
                  </a:lnTo>
                  <a:lnTo>
                    <a:pt x="2588" y="2256"/>
                  </a:lnTo>
                  <a:lnTo>
                    <a:pt x="2648" y="2296"/>
                  </a:lnTo>
                  <a:lnTo>
                    <a:pt x="2712" y="2336"/>
                  </a:lnTo>
                  <a:lnTo>
                    <a:pt x="2778" y="2372"/>
                  </a:lnTo>
                  <a:lnTo>
                    <a:pt x="2852" y="2408"/>
                  </a:lnTo>
                  <a:lnTo>
                    <a:pt x="2932" y="2446"/>
                  </a:lnTo>
                  <a:lnTo>
                    <a:pt x="3022" y="2484"/>
                  </a:lnTo>
                  <a:lnTo>
                    <a:pt x="3022" y="2484"/>
                  </a:lnTo>
                  <a:lnTo>
                    <a:pt x="2980" y="2546"/>
                  </a:lnTo>
                  <a:lnTo>
                    <a:pt x="2942" y="2604"/>
                  </a:lnTo>
                  <a:lnTo>
                    <a:pt x="2908" y="2660"/>
                  </a:lnTo>
                  <a:lnTo>
                    <a:pt x="2876" y="2714"/>
                  </a:lnTo>
                  <a:lnTo>
                    <a:pt x="2846" y="2770"/>
                  </a:lnTo>
                  <a:lnTo>
                    <a:pt x="2818" y="2828"/>
                  </a:lnTo>
                  <a:lnTo>
                    <a:pt x="2790" y="2892"/>
                  </a:lnTo>
                  <a:lnTo>
                    <a:pt x="2760" y="2962"/>
                  </a:lnTo>
                  <a:lnTo>
                    <a:pt x="2760" y="2962"/>
                  </a:lnTo>
                  <a:lnTo>
                    <a:pt x="2668" y="2912"/>
                  </a:lnTo>
                  <a:lnTo>
                    <a:pt x="2586" y="2864"/>
                  </a:lnTo>
                  <a:lnTo>
                    <a:pt x="2510" y="2816"/>
                  </a:lnTo>
                  <a:lnTo>
                    <a:pt x="2438" y="2768"/>
                  </a:lnTo>
                  <a:lnTo>
                    <a:pt x="2370" y="2716"/>
                  </a:lnTo>
                  <a:lnTo>
                    <a:pt x="2302" y="2660"/>
                  </a:lnTo>
                  <a:lnTo>
                    <a:pt x="2234" y="2598"/>
                  </a:lnTo>
                  <a:lnTo>
                    <a:pt x="2164" y="2532"/>
                  </a:lnTo>
                  <a:lnTo>
                    <a:pt x="2164" y="2532"/>
                  </a:lnTo>
                  <a:lnTo>
                    <a:pt x="2096" y="2596"/>
                  </a:lnTo>
                  <a:lnTo>
                    <a:pt x="2030" y="2656"/>
                  </a:lnTo>
                  <a:lnTo>
                    <a:pt x="1962" y="2710"/>
                  </a:lnTo>
                  <a:lnTo>
                    <a:pt x="1892" y="2764"/>
                  </a:lnTo>
                  <a:lnTo>
                    <a:pt x="1820" y="2814"/>
                  </a:lnTo>
                  <a:lnTo>
                    <a:pt x="1744" y="2864"/>
                  </a:lnTo>
                  <a:lnTo>
                    <a:pt x="1660" y="2914"/>
                  </a:lnTo>
                  <a:lnTo>
                    <a:pt x="1570" y="2964"/>
                  </a:lnTo>
                  <a:lnTo>
                    <a:pt x="1570" y="2964"/>
                  </a:lnTo>
                  <a:lnTo>
                    <a:pt x="1540" y="2906"/>
                  </a:lnTo>
                  <a:lnTo>
                    <a:pt x="1514" y="2854"/>
                  </a:lnTo>
                  <a:lnTo>
                    <a:pt x="1488" y="2806"/>
                  </a:lnTo>
                  <a:lnTo>
                    <a:pt x="1462" y="2762"/>
                  </a:lnTo>
                  <a:lnTo>
                    <a:pt x="1434" y="2718"/>
                  </a:lnTo>
                  <a:lnTo>
                    <a:pt x="1408" y="2678"/>
                  </a:lnTo>
                  <a:lnTo>
                    <a:pt x="1378" y="2636"/>
                  </a:lnTo>
                  <a:lnTo>
                    <a:pt x="1344" y="2592"/>
                  </a:lnTo>
                  <a:lnTo>
                    <a:pt x="1344" y="2592"/>
                  </a:lnTo>
                  <a:lnTo>
                    <a:pt x="1282" y="2684"/>
                  </a:lnTo>
                  <a:lnTo>
                    <a:pt x="1220" y="2770"/>
                  </a:lnTo>
                  <a:lnTo>
                    <a:pt x="1152" y="2854"/>
                  </a:lnTo>
                  <a:lnTo>
                    <a:pt x="1076" y="2942"/>
                  </a:lnTo>
                  <a:lnTo>
                    <a:pt x="1076" y="2942"/>
                  </a:lnTo>
                  <a:lnTo>
                    <a:pt x="1016" y="2844"/>
                  </a:lnTo>
                  <a:lnTo>
                    <a:pt x="988" y="2802"/>
                  </a:lnTo>
                  <a:lnTo>
                    <a:pt x="960" y="2760"/>
                  </a:lnTo>
                  <a:lnTo>
                    <a:pt x="932" y="2722"/>
                  </a:lnTo>
                  <a:lnTo>
                    <a:pt x="902" y="2684"/>
                  </a:lnTo>
                  <a:lnTo>
                    <a:pt x="868" y="2644"/>
                  </a:lnTo>
                  <a:lnTo>
                    <a:pt x="832" y="2600"/>
                  </a:lnTo>
                  <a:lnTo>
                    <a:pt x="832" y="2600"/>
                  </a:lnTo>
                  <a:lnTo>
                    <a:pt x="828" y="2642"/>
                  </a:lnTo>
                  <a:lnTo>
                    <a:pt x="824" y="2680"/>
                  </a:lnTo>
                  <a:lnTo>
                    <a:pt x="818" y="2712"/>
                  </a:lnTo>
                  <a:lnTo>
                    <a:pt x="812" y="2742"/>
                  </a:lnTo>
                  <a:lnTo>
                    <a:pt x="802" y="2766"/>
                  </a:lnTo>
                  <a:lnTo>
                    <a:pt x="790" y="2790"/>
                  </a:lnTo>
                  <a:lnTo>
                    <a:pt x="778" y="2812"/>
                  </a:lnTo>
                  <a:lnTo>
                    <a:pt x="762" y="2832"/>
                  </a:lnTo>
                  <a:lnTo>
                    <a:pt x="762" y="2832"/>
                  </a:lnTo>
                  <a:lnTo>
                    <a:pt x="746" y="2848"/>
                  </a:lnTo>
                  <a:lnTo>
                    <a:pt x="730" y="2862"/>
                  </a:lnTo>
                  <a:lnTo>
                    <a:pt x="714" y="2874"/>
                  </a:lnTo>
                  <a:lnTo>
                    <a:pt x="694" y="2886"/>
                  </a:lnTo>
                  <a:lnTo>
                    <a:pt x="676" y="2896"/>
                  </a:lnTo>
                  <a:lnTo>
                    <a:pt x="654" y="2906"/>
                  </a:lnTo>
                  <a:lnTo>
                    <a:pt x="630" y="2914"/>
                  </a:lnTo>
                  <a:lnTo>
                    <a:pt x="606" y="2922"/>
                  </a:lnTo>
                  <a:lnTo>
                    <a:pt x="580" y="2928"/>
                  </a:lnTo>
                  <a:lnTo>
                    <a:pt x="552" y="2934"/>
                  </a:lnTo>
                  <a:lnTo>
                    <a:pt x="488" y="2942"/>
                  </a:lnTo>
                  <a:lnTo>
                    <a:pt x="416" y="2948"/>
                  </a:lnTo>
                  <a:lnTo>
                    <a:pt x="332" y="2948"/>
                  </a:lnTo>
                  <a:lnTo>
                    <a:pt x="332" y="2948"/>
                  </a:lnTo>
                  <a:lnTo>
                    <a:pt x="232" y="2948"/>
                  </a:lnTo>
                  <a:lnTo>
                    <a:pt x="178" y="2946"/>
                  </a:lnTo>
                  <a:lnTo>
                    <a:pt x="110" y="2942"/>
                  </a:lnTo>
                  <a:lnTo>
                    <a:pt x="110" y="2942"/>
                  </a:lnTo>
                  <a:lnTo>
                    <a:pt x="102" y="2876"/>
                  </a:lnTo>
                  <a:lnTo>
                    <a:pt x="96" y="2818"/>
                  </a:lnTo>
                  <a:lnTo>
                    <a:pt x="86" y="2762"/>
                  </a:lnTo>
                  <a:lnTo>
                    <a:pt x="76" y="2710"/>
                  </a:lnTo>
                  <a:lnTo>
                    <a:pt x="64" y="2656"/>
                  </a:lnTo>
                  <a:lnTo>
                    <a:pt x="48" y="2600"/>
                  </a:lnTo>
                  <a:lnTo>
                    <a:pt x="30" y="2538"/>
                  </a:lnTo>
                  <a:lnTo>
                    <a:pt x="8" y="2470"/>
                  </a:lnTo>
                  <a:lnTo>
                    <a:pt x="8" y="2470"/>
                  </a:lnTo>
                  <a:lnTo>
                    <a:pt x="102" y="2480"/>
                  </a:lnTo>
                  <a:lnTo>
                    <a:pt x="174" y="2486"/>
                  </a:lnTo>
                  <a:lnTo>
                    <a:pt x="232" y="2490"/>
                  </a:lnTo>
                  <a:lnTo>
                    <a:pt x="282" y="2490"/>
                  </a:lnTo>
                  <a:lnTo>
                    <a:pt x="282" y="2490"/>
                  </a:lnTo>
                  <a:lnTo>
                    <a:pt x="304" y="2488"/>
                  </a:lnTo>
                  <a:lnTo>
                    <a:pt x="324" y="2486"/>
                  </a:lnTo>
                  <a:lnTo>
                    <a:pt x="338" y="2480"/>
                  </a:lnTo>
                  <a:lnTo>
                    <a:pt x="344" y="2476"/>
                  </a:lnTo>
                  <a:lnTo>
                    <a:pt x="350" y="2470"/>
                  </a:lnTo>
                  <a:lnTo>
                    <a:pt x="358" y="2458"/>
                  </a:lnTo>
                  <a:lnTo>
                    <a:pt x="362" y="2440"/>
                  </a:lnTo>
                  <a:lnTo>
                    <a:pt x="366" y="2418"/>
                  </a:lnTo>
                  <a:lnTo>
                    <a:pt x="366" y="2392"/>
                  </a:lnTo>
                  <a:lnTo>
                    <a:pt x="366" y="1892"/>
                  </a:lnTo>
                  <a:lnTo>
                    <a:pt x="262" y="1920"/>
                  </a:lnTo>
                  <a:lnTo>
                    <a:pt x="262" y="1920"/>
                  </a:lnTo>
                  <a:lnTo>
                    <a:pt x="152" y="1948"/>
                  </a:lnTo>
                  <a:lnTo>
                    <a:pt x="152" y="1948"/>
                  </a:lnTo>
                  <a:lnTo>
                    <a:pt x="114" y="1958"/>
                  </a:lnTo>
                  <a:lnTo>
                    <a:pt x="76" y="1970"/>
                  </a:lnTo>
                  <a:lnTo>
                    <a:pt x="0" y="1484"/>
                  </a:lnTo>
                  <a:lnTo>
                    <a:pt x="0" y="1484"/>
                  </a:lnTo>
                  <a:lnTo>
                    <a:pt x="68" y="1480"/>
                  </a:lnTo>
                  <a:lnTo>
                    <a:pt x="102" y="1476"/>
                  </a:lnTo>
                  <a:lnTo>
                    <a:pt x="140" y="1470"/>
                  </a:lnTo>
                  <a:lnTo>
                    <a:pt x="232" y="1454"/>
                  </a:lnTo>
                  <a:lnTo>
                    <a:pt x="366" y="1426"/>
                  </a:lnTo>
                  <a:lnTo>
                    <a:pt x="366" y="978"/>
                  </a:lnTo>
                  <a:lnTo>
                    <a:pt x="258" y="978"/>
                  </a:lnTo>
                  <a:lnTo>
                    <a:pt x="258" y="978"/>
                  </a:lnTo>
                  <a:lnTo>
                    <a:pt x="204" y="978"/>
                  </a:lnTo>
                  <a:lnTo>
                    <a:pt x="152" y="980"/>
                  </a:lnTo>
                  <a:lnTo>
                    <a:pt x="96" y="984"/>
                  </a:lnTo>
                  <a:lnTo>
                    <a:pt x="32" y="990"/>
                  </a:lnTo>
                  <a:lnTo>
                    <a:pt x="32" y="524"/>
                  </a:lnTo>
                  <a:lnTo>
                    <a:pt x="32" y="524"/>
                  </a:lnTo>
                  <a:lnTo>
                    <a:pt x="88" y="532"/>
                  </a:lnTo>
                  <a:lnTo>
                    <a:pt x="142" y="538"/>
                  </a:lnTo>
                  <a:lnTo>
                    <a:pt x="200" y="540"/>
                  </a:lnTo>
                  <a:lnTo>
                    <a:pt x="266" y="540"/>
                  </a:lnTo>
                  <a:lnTo>
                    <a:pt x="366" y="540"/>
                  </a:lnTo>
                  <a:lnTo>
                    <a:pt x="366" y="326"/>
                  </a:lnTo>
                  <a:lnTo>
                    <a:pt x="366" y="326"/>
                  </a:lnTo>
                  <a:lnTo>
                    <a:pt x="366" y="220"/>
                  </a:lnTo>
                  <a:lnTo>
                    <a:pt x="362" y="138"/>
                  </a:lnTo>
                  <a:lnTo>
                    <a:pt x="358" y="70"/>
                  </a:lnTo>
                  <a:lnTo>
                    <a:pt x="348" y="0"/>
                  </a:lnTo>
                  <a:lnTo>
                    <a:pt x="850" y="0"/>
                  </a:lnTo>
                  <a:lnTo>
                    <a:pt x="850" y="0"/>
                  </a:lnTo>
                  <a:lnTo>
                    <a:pt x="842" y="66"/>
                  </a:lnTo>
                  <a:lnTo>
                    <a:pt x="838" y="134"/>
                  </a:lnTo>
                  <a:lnTo>
                    <a:pt x="836" y="218"/>
                  </a:lnTo>
                  <a:lnTo>
                    <a:pt x="834" y="326"/>
                  </a:lnTo>
                  <a:lnTo>
                    <a:pt x="834" y="540"/>
                  </a:lnTo>
                  <a:lnTo>
                    <a:pt x="986" y="540"/>
                  </a:lnTo>
                  <a:lnTo>
                    <a:pt x="986" y="540"/>
                  </a:lnTo>
                  <a:lnTo>
                    <a:pt x="1040" y="538"/>
                  </a:lnTo>
                  <a:lnTo>
                    <a:pt x="1092" y="538"/>
                  </a:lnTo>
                  <a:lnTo>
                    <a:pt x="1092" y="372"/>
                  </a:lnTo>
                  <a:lnTo>
                    <a:pt x="1092" y="372"/>
                  </a:lnTo>
                  <a:lnTo>
                    <a:pt x="1174" y="382"/>
                  </a:lnTo>
                  <a:lnTo>
                    <a:pt x="1260" y="386"/>
                  </a:lnTo>
                  <a:lnTo>
                    <a:pt x="1356" y="390"/>
                  </a:lnTo>
                  <a:lnTo>
                    <a:pt x="1464" y="392"/>
                  </a:lnTo>
                  <a:lnTo>
                    <a:pt x="1464" y="392"/>
                  </a:lnTo>
                  <a:lnTo>
                    <a:pt x="1470" y="284"/>
                  </a:lnTo>
                  <a:lnTo>
                    <a:pt x="1472" y="198"/>
                  </a:lnTo>
                  <a:lnTo>
                    <a:pt x="1472" y="198"/>
                  </a:lnTo>
                  <a:lnTo>
                    <a:pt x="1470" y="148"/>
                  </a:lnTo>
                  <a:lnTo>
                    <a:pt x="1466" y="100"/>
                  </a:lnTo>
                  <a:lnTo>
                    <a:pt x="1462" y="52"/>
                  </a:lnTo>
                  <a:lnTo>
                    <a:pt x="1456" y="2"/>
                  </a:lnTo>
                  <a:lnTo>
                    <a:pt x="1974" y="2"/>
                  </a:lnTo>
                  <a:lnTo>
                    <a:pt x="1974" y="2"/>
                  </a:lnTo>
                  <a:lnTo>
                    <a:pt x="1968" y="48"/>
                  </a:lnTo>
                  <a:lnTo>
                    <a:pt x="1964" y="94"/>
                  </a:lnTo>
                  <a:lnTo>
                    <a:pt x="1960" y="156"/>
                  </a:lnTo>
                  <a:lnTo>
                    <a:pt x="1956" y="256"/>
                  </a:lnTo>
                  <a:lnTo>
                    <a:pt x="1956" y="256"/>
                  </a:lnTo>
                  <a:lnTo>
                    <a:pt x="1952" y="304"/>
                  </a:lnTo>
                  <a:lnTo>
                    <a:pt x="1948" y="392"/>
                  </a:lnTo>
                  <a:lnTo>
                    <a:pt x="2572" y="392"/>
                  </a:lnTo>
                  <a:lnTo>
                    <a:pt x="2572" y="392"/>
                  </a:lnTo>
                  <a:lnTo>
                    <a:pt x="2688" y="390"/>
                  </a:lnTo>
                  <a:lnTo>
                    <a:pt x="2786" y="386"/>
                  </a:lnTo>
                  <a:lnTo>
                    <a:pt x="2870" y="382"/>
                  </a:lnTo>
                  <a:lnTo>
                    <a:pt x="2946" y="372"/>
                  </a:lnTo>
                  <a:lnTo>
                    <a:pt x="2946" y="856"/>
                  </a:lnTo>
                  <a:lnTo>
                    <a:pt x="2946" y="856"/>
                  </a:lnTo>
                  <a:lnTo>
                    <a:pt x="2866" y="848"/>
                  </a:lnTo>
                  <a:lnTo>
                    <a:pt x="2782" y="842"/>
                  </a:lnTo>
                  <a:lnTo>
                    <a:pt x="2688" y="840"/>
                  </a:lnTo>
                  <a:lnTo>
                    <a:pt x="2578" y="838"/>
                  </a:lnTo>
                  <a:lnTo>
                    <a:pt x="1910" y="838"/>
                  </a:lnTo>
                  <a:lnTo>
                    <a:pt x="1910" y="838"/>
                  </a:lnTo>
                  <a:lnTo>
                    <a:pt x="1902" y="942"/>
                  </a:lnTo>
                  <a:lnTo>
                    <a:pt x="1888" y="1040"/>
                  </a:lnTo>
                  <a:lnTo>
                    <a:pt x="2396" y="1040"/>
                  </a:lnTo>
                  <a:lnTo>
                    <a:pt x="2396" y="1040"/>
                  </a:lnTo>
                  <a:lnTo>
                    <a:pt x="2478" y="1040"/>
                  </a:lnTo>
                  <a:lnTo>
                    <a:pt x="2542" y="1038"/>
                  </a:lnTo>
                  <a:lnTo>
                    <a:pt x="2594" y="1034"/>
                  </a:lnTo>
                  <a:lnTo>
                    <a:pt x="2642" y="1028"/>
                  </a:lnTo>
                  <a:lnTo>
                    <a:pt x="2848" y="1258"/>
                  </a:lnTo>
                  <a:close/>
                  <a:moveTo>
                    <a:pt x="834" y="2432"/>
                  </a:moveTo>
                  <a:lnTo>
                    <a:pt x="834" y="2432"/>
                  </a:lnTo>
                  <a:lnTo>
                    <a:pt x="896" y="2360"/>
                  </a:lnTo>
                  <a:lnTo>
                    <a:pt x="954" y="2282"/>
                  </a:lnTo>
                  <a:lnTo>
                    <a:pt x="1008" y="2202"/>
                  </a:lnTo>
                  <a:lnTo>
                    <a:pt x="1060" y="2120"/>
                  </a:lnTo>
                  <a:lnTo>
                    <a:pt x="1108" y="2032"/>
                  </a:lnTo>
                  <a:lnTo>
                    <a:pt x="1152" y="1942"/>
                  </a:lnTo>
                  <a:lnTo>
                    <a:pt x="1196" y="1848"/>
                  </a:lnTo>
                  <a:lnTo>
                    <a:pt x="1234" y="1750"/>
                  </a:lnTo>
                  <a:lnTo>
                    <a:pt x="1270" y="1650"/>
                  </a:lnTo>
                  <a:lnTo>
                    <a:pt x="1304" y="1544"/>
                  </a:lnTo>
                  <a:lnTo>
                    <a:pt x="1334" y="1436"/>
                  </a:lnTo>
                  <a:lnTo>
                    <a:pt x="1360" y="1324"/>
                  </a:lnTo>
                  <a:lnTo>
                    <a:pt x="1386" y="1208"/>
                  </a:lnTo>
                  <a:lnTo>
                    <a:pt x="1406" y="1088"/>
                  </a:lnTo>
                  <a:lnTo>
                    <a:pt x="1424" y="966"/>
                  </a:lnTo>
                  <a:lnTo>
                    <a:pt x="1440" y="838"/>
                  </a:lnTo>
                  <a:lnTo>
                    <a:pt x="1440" y="838"/>
                  </a:lnTo>
                  <a:lnTo>
                    <a:pt x="1346" y="838"/>
                  </a:lnTo>
                  <a:lnTo>
                    <a:pt x="1266" y="840"/>
                  </a:lnTo>
                  <a:lnTo>
                    <a:pt x="1194" y="844"/>
                  </a:lnTo>
                  <a:lnTo>
                    <a:pt x="1130" y="850"/>
                  </a:lnTo>
                  <a:lnTo>
                    <a:pt x="1130" y="986"/>
                  </a:lnTo>
                  <a:lnTo>
                    <a:pt x="1130" y="986"/>
                  </a:lnTo>
                  <a:lnTo>
                    <a:pt x="1114" y="984"/>
                  </a:lnTo>
                  <a:lnTo>
                    <a:pt x="1104" y="984"/>
                  </a:lnTo>
                  <a:lnTo>
                    <a:pt x="1104" y="984"/>
                  </a:lnTo>
                  <a:lnTo>
                    <a:pt x="1072" y="980"/>
                  </a:lnTo>
                  <a:lnTo>
                    <a:pt x="1042" y="978"/>
                  </a:lnTo>
                  <a:lnTo>
                    <a:pt x="986" y="978"/>
                  </a:lnTo>
                  <a:lnTo>
                    <a:pt x="834" y="978"/>
                  </a:lnTo>
                  <a:lnTo>
                    <a:pt x="834" y="1316"/>
                  </a:lnTo>
                  <a:lnTo>
                    <a:pt x="834" y="1316"/>
                  </a:lnTo>
                  <a:lnTo>
                    <a:pt x="996" y="1274"/>
                  </a:lnTo>
                  <a:lnTo>
                    <a:pt x="1168" y="1224"/>
                  </a:lnTo>
                  <a:lnTo>
                    <a:pt x="1168" y="1660"/>
                  </a:lnTo>
                  <a:lnTo>
                    <a:pt x="1168" y="1660"/>
                  </a:lnTo>
                  <a:lnTo>
                    <a:pt x="974" y="1722"/>
                  </a:lnTo>
                  <a:lnTo>
                    <a:pt x="834" y="1766"/>
                  </a:lnTo>
                  <a:lnTo>
                    <a:pt x="834" y="2432"/>
                  </a:lnTo>
                  <a:close/>
                  <a:moveTo>
                    <a:pt x="1408" y="2490"/>
                  </a:moveTo>
                  <a:lnTo>
                    <a:pt x="1408" y="2490"/>
                  </a:lnTo>
                  <a:lnTo>
                    <a:pt x="1476" y="2454"/>
                  </a:lnTo>
                  <a:lnTo>
                    <a:pt x="1538" y="2418"/>
                  </a:lnTo>
                  <a:lnTo>
                    <a:pt x="1598" y="2382"/>
                  </a:lnTo>
                  <a:lnTo>
                    <a:pt x="1656" y="2344"/>
                  </a:lnTo>
                  <a:lnTo>
                    <a:pt x="1710" y="2306"/>
                  </a:lnTo>
                  <a:lnTo>
                    <a:pt x="1764" y="2264"/>
                  </a:lnTo>
                  <a:lnTo>
                    <a:pt x="1816" y="2220"/>
                  </a:lnTo>
                  <a:lnTo>
                    <a:pt x="1870" y="2174"/>
                  </a:lnTo>
                  <a:lnTo>
                    <a:pt x="1870" y="2174"/>
                  </a:lnTo>
                  <a:lnTo>
                    <a:pt x="1818" y="2096"/>
                  </a:lnTo>
                  <a:lnTo>
                    <a:pt x="1774" y="2024"/>
                  </a:lnTo>
                  <a:lnTo>
                    <a:pt x="1734" y="1950"/>
                  </a:lnTo>
                  <a:lnTo>
                    <a:pt x="1692" y="1872"/>
                  </a:lnTo>
                  <a:lnTo>
                    <a:pt x="1692" y="1872"/>
                  </a:lnTo>
                  <a:lnTo>
                    <a:pt x="1662" y="1956"/>
                  </a:lnTo>
                  <a:lnTo>
                    <a:pt x="1630" y="2038"/>
                  </a:lnTo>
                  <a:lnTo>
                    <a:pt x="1598" y="2118"/>
                  </a:lnTo>
                  <a:lnTo>
                    <a:pt x="1564" y="2194"/>
                  </a:lnTo>
                  <a:lnTo>
                    <a:pt x="1528" y="2270"/>
                  </a:lnTo>
                  <a:lnTo>
                    <a:pt x="1490" y="2344"/>
                  </a:lnTo>
                  <a:lnTo>
                    <a:pt x="1450" y="2418"/>
                  </a:lnTo>
                  <a:lnTo>
                    <a:pt x="1408" y="2490"/>
                  </a:lnTo>
                  <a:lnTo>
                    <a:pt x="1408" y="2490"/>
                  </a:lnTo>
                  <a:close/>
                  <a:moveTo>
                    <a:pt x="1962" y="1464"/>
                  </a:moveTo>
                  <a:lnTo>
                    <a:pt x="1962" y="1464"/>
                  </a:lnTo>
                  <a:lnTo>
                    <a:pt x="1982" y="1514"/>
                  </a:lnTo>
                  <a:lnTo>
                    <a:pt x="2002" y="1560"/>
                  </a:lnTo>
                  <a:lnTo>
                    <a:pt x="2022" y="1604"/>
                  </a:lnTo>
                  <a:lnTo>
                    <a:pt x="2044" y="1648"/>
                  </a:lnTo>
                  <a:lnTo>
                    <a:pt x="2068" y="1690"/>
                  </a:lnTo>
                  <a:lnTo>
                    <a:pt x="2094" y="1734"/>
                  </a:lnTo>
                  <a:lnTo>
                    <a:pt x="2120" y="1776"/>
                  </a:lnTo>
                  <a:lnTo>
                    <a:pt x="2152" y="1822"/>
                  </a:lnTo>
                  <a:lnTo>
                    <a:pt x="2152" y="1822"/>
                  </a:lnTo>
                  <a:lnTo>
                    <a:pt x="2198" y="1740"/>
                  </a:lnTo>
                  <a:lnTo>
                    <a:pt x="2216" y="1702"/>
                  </a:lnTo>
                  <a:lnTo>
                    <a:pt x="2234" y="1662"/>
                  </a:lnTo>
                  <a:lnTo>
                    <a:pt x="2270" y="1576"/>
                  </a:lnTo>
                  <a:lnTo>
                    <a:pt x="2312" y="1464"/>
                  </a:lnTo>
                  <a:lnTo>
                    <a:pt x="1962" y="146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6"/>
            <p:cNvSpPr/>
            <p:nvPr/>
          </p:nvSpPr>
          <p:spPr>
            <a:xfrm>
              <a:off x="3146400" y="27885960"/>
              <a:ext cx="4280040" cy="4572000"/>
            </a:xfrm>
            <a:custGeom>
              <a:avLst/>
              <a:gdLst>
                <a:gd name="textAreaLeft" fmla="*/ 0 w 4280040"/>
                <a:gd name="textAreaRight" fmla="*/ 4280400 w 428004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2696" h="2880">
                  <a:moveTo>
                    <a:pt x="710" y="84"/>
                  </a:moveTo>
                  <a:lnTo>
                    <a:pt x="710" y="84"/>
                  </a:lnTo>
                  <a:lnTo>
                    <a:pt x="680" y="186"/>
                  </a:lnTo>
                  <a:lnTo>
                    <a:pt x="654" y="292"/>
                  </a:lnTo>
                  <a:lnTo>
                    <a:pt x="630" y="400"/>
                  </a:lnTo>
                  <a:lnTo>
                    <a:pt x="608" y="510"/>
                  </a:lnTo>
                  <a:lnTo>
                    <a:pt x="588" y="624"/>
                  </a:lnTo>
                  <a:lnTo>
                    <a:pt x="572" y="740"/>
                  </a:lnTo>
                  <a:lnTo>
                    <a:pt x="556" y="860"/>
                  </a:lnTo>
                  <a:lnTo>
                    <a:pt x="542" y="982"/>
                  </a:lnTo>
                  <a:lnTo>
                    <a:pt x="542" y="982"/>
                  </a:lnTo>
                  <a:lnTo>
                    <a:pt x="534" y="1058"/>
                  </a:lnTo>
                  <a:lnTo>
                    <a:pt x="528" y="1138"/>
                  </a:lnTo>
                  <a:lnTo>
                    <a:pt x="522" y="1220"/>
                  </a:lnTo>
                  <a:lnTo>
                    <a:pt x="518" y="1310"/>
                  </a:lnTo>
                  <a:lnTo>
                    <a:pt x="512" y="1500"/>
                  </a:lnTo>
                  <a:lnTo>
                    <a:pt x="510" y="1710"/>
                  </a:lnTo>
                  <a:lnTo>
                    <a:pt x="510" y="1710"/>
                  </a:lnTo>
                  <a:lnTo>
                    <a:pt x="512" y="1828"/>
                  </a:lnTo>
                  <a:lnTo>
                    <a:pt x="512" y="1828"/>
                  </a:lnTo>
                  <a:lnTo>
                    <a:pt x="548" y="1726"/>
                  </a:lnTo>
                  <a:lnTo>
                    <a:pt x="584" y="1630"/>
                  </a:lnTo>
                  <a:lnTo>
                    <a:pt x="604" y="1582"/>
                  </a:lnTo>
                  <a:lnTo>
                    <a:pt x="626" y="1536"/>
                  </a:lnTo>
                  <a:lnTo>
                    <a:pt x="674" y="1438"/>
                  </a:lnTo>
                  <a:lnTo>
                    <a:pt x="1044" y="1622"/>
                  </a:lnTo>
                  <a:lnTo>
                    <a:pt x="1044" y="1622"/>
                  </a:lnTo>
                  <a:lnTo>
                    <a:pt x="1006" y="1686"/>
                  </a:lnTo>
                  <a:lnTo>
                    <a:pt x="970" y="1752"/>
                  </a:lnTo>
                  <a:lnTo>
                    <a:pt x="932" y="1822"/>
                  </a:lnTo>
                  <a:lnTo>
                    <a:pt x="898" y="1892"/>
                  </a:lnTo>
                  <a:lnTo>
                    <a:pt x="864" y="1964"/>
                  </a:lnTo>
                  <a:lnTo>
                    <a:pt x="832" y="2038"/>
                  </a:lnTo>
                  <a:lnTo>
                    <a:pt x="802" y="2112"/>
                  </a:lnTo>
                  <a:lnTo>
                    <a:pt x="774" y="2184"/>
                  </a:lnTo>
                  <a:lnTo>
                    <a:pt x="748" y="2258"/>
                  </a:lnTo>
                  <a:lnTo>
                    <a:pt x="724" y="2328"/>
                  </a:lnTo>
                  <a:lnTo>
                    <a:pt x="702" y="2398"/>
                  </a:lnTo>
                  <a:lnTo>
                    <a:pt x="684" y="2466"/>
                  </a:lnTo>
                  <a:lnTo>
                    <a:pt x="670" y="2530"/>
                  </a:lnTo>
                  <a:lnTo>
                    <a:pt x="656" y="2590"/>
                  </a:lnTo>
                  <a:lnTo>
                    <a:pt x="648" y="2648"/>
                  </a:lnTo>
                  <a:lnTo>
                    <a:pt x="642" y="2700"/>
                  </a:lnTo>
                  <a:lnTo>
                    <a:pt x="134" y="2720"/>
                  </a:lnTo>
                  <a:lnTo>
                    <a:pt x="134" y="2720"/>
                  </a:lnTo>
                  <a:lnTo>
                    <a:pt x="120" y="2638"/>
                  </a:lnTo>
                  <a:lnTo>
                    <a:pt x="88" y="2470"/>
                  </a:lnTo>
                  <a:lnTo>
                    <a:pt x="88" y="2470"/>
                  </a:lnTo>
                  <a:lnTo>
                    <a:pt x="68" y="2354"/>
                  </a:lnTo>
                  <a:lnTo>
                    <a:pt x="50" y="2234"/>
                  </a:lnTo>
                  <a:lnTo>
                    <a:pt x="36" y="2108"/>
                  </a:lnTo>
                  <a:lnTo>
                    <a:pt x="24" y="1980"/>
                  </a:lnTo>
                  <a:lnTo>
                    <a:pt x="14" y="1852"/>
                  </a:lnTo>
                  <a:lnTo>
                    <a:pt x="6" y="1722"/>
                  </a:lnTo>
                  <a:lnTo>
                    <a:pt x="2" y="1594"/>
                  </a:lnTo>
                  <a:lnTo>
                    <a:pt x="0" y="1466"/>
                  </a:lnTo>
                  <a:lnTo>
                    <a:pt x="0" y="1466"/>
                  </a:lnTo>
                  <a:lnTo>
                    <a:pt x="0" y="1344"/>
                  </a:lnTo>
                  <a:lnTo>
                    <a:pt x="4" y="1232"/>
                  </a:lnTo>
                  <a:lnTo>
                    <a:pt x="10" y="1120"/>
                  </a:lnTo>
                  <a:lnTo>
                    <a:pt x="18" y="1002"/>
                  </a:lnTo>
                  <a:lnTo>
                    <a:pt x="32" y="868"/>
                  </a:lnTo>
                  <a:lnTo>
                    <a:pt x="50" y="712"/>
                  </a:lnTo>
                  <a:lnTo>
                    <a:pt x="76" y="520"/>
                  </a:lnTo>
                  <a:lnTo>
                    <a:pt x="108" y="288"/>
                  </a:lnTo>
                  <a:lnTo>
                    <a:pt x="108" y="288"/>
                  </a:lnTo>
                  <a:lnTo>
                    <a:pt x="118" y="210"/>
                  </a:lnTo>
                  <a:lnTo>
                    <a:pt x="124" y="150"/>
                  </a:lnTo>
                  <a:lnTo>
                    <a:pt x="126" y="96"/>
                  </a:lnTo>
                  <a:lnTo>
                    <a:pt x="126" y="38"/>
                  </a:lnTo>
                  <a:lnTo>
                    <a:pt x="710" y="84"/>
                  </a:lnTo>
                  <a:close/>
                  <a:moveTo>
                    <a:pt x="846" y="634"/>
                  </a:moveTo>
                  <a:lnTo>
                    <a:pt x="846" y="634"/>
                  </a:lnTo>
                  <a:lnTo>
                    <a:pt x="906" y="644"/>
                  </a:lnTo>
                  <a:lnTo>
                    <a:pt x="970" y="652"/>
                  </a:lnTo>
                  <a:lnTo>
                    <a:pt x="1036" y="660"/>
                  </a:lnTo>
                  <a:lnTo>
                    <a:pt x="1106" y="666"/>
                  </a:lnTo>
                  <a:lnTo>
                    <a:pt x="1178" y="672"/>
                  </a:lnTo>
                  <a:lnTo>
                    <a:pt x="1252" y="676"/>
                  </a:lnTo>
                  <a:lnTo>
                    <a:pt x="1332" y="678"/>
                  </a:lnTo>
                  <a:lnTo>
                    <a:pt x="1414" y="678"/>
                  </a:lnTo>
                  <a:lnTo>
                    <a:pt x="1414" y="678"/>
                  </a:lnTo>
                  <a:lnTo>
                    <a:pt x="1496" y="678"/>
                  </a:lnTo>
                  <a:lnTo>
                    <a:pt x="1568" y="676"/>
                  </a:lnTo>
                  <a:lnTo>
                    <a:pt x="1636" y="672"/>
                  </a:lnTo>
                  <a:lnTo>
                    <a:pt x="1702" y="666"/>
                  </a:lnTo>
                  <a:lnTo>
                    <a:pt x="1702" y="666"/>
                  </a:lnTo>
                  <a:lnTo>
                    <a:pt x="1690" y="352"/>
                  </a:lnTo>
                  <a:lnTo>
                    <a:pt x="1680" y="178"/>
                  </a:lnTo>
                  <a:lnTo>
                    <a:pt x="1676" y="124"/>
                  </a:lnTo>
                  <a:lnTo>
                    <a:pt x="1670" y="82"/>
                  </a:lnTo>
                  <a:lnTo>
                    <a:pt x="1664" y="46"/>
                  </a:lnTo>
                  <a:lnTo>
                    <a:pt x="1656" y="8"/>
                  </a:lnTo>
                  <a:lnTo>
                    <a:pt x="2218" y="0"/>
                  </a:lnTo>
                  <a:lnTo>
                    <a:pt x="2218" y="0"/>
                  </a:lnTo>
                  <a:lnTo>
                    <a:pt x="2212" y="70"/>
                  </a:lnTo>
                  <a:lnTo>
                    <a:pt x="2210" y="96"/>
                  </a:lnTo>
                  <a:lnTo>
                    <a:pt x="2210" y="122"/>
                  </a:lnTo>
                  <a:lnTo>
                    <a:pt x="2210" y="122"/>
                  </a:lnTo>
                  <a:lnTo>
                    <a:pt x="2210" y="146"/>
                  </a:lnTo>
                  <a:lnTo>
                    <a:pt x="2212" y="182"/>
                  </a:lnTo>
                  <a:lnTo>
                    <a:pt x="2212" y="182"/>
                  </a:lnTo>
                  <a:lnTo>
                    <a:pt x="2218" y="336"/>
                  </a:lnTo>
                  <a:lnTo>
                    <a:pt x="2226" y="618"/>
                  </a:lnTo>
                  <a:lnTo>
                    <a:pt x="2226" y="618"/>
                  </a:lnTo>
                  <a:lnTo>
                    <a:pt x="2292" y="608"/>
                  </a:lnTo>
                  <a:lnTo>
                    <a:pt x="2354" y="598"/>
                  </a:lnTo>
                  <a:lnTo>
                    <a:pt x="2412" y="586"/>
                  </a:lnTo>
                  <a:lnTo>
                    <a:pt x="2466" y="574"/>
                  </a:lnTo>
                  <a:lnTo>
                    <a:pt x="2520" y="560"/>
                  </a:lnTo>
                  <a:lnTo>
                    <a:pt x="2570" y="546"/>
                  </a:lnTo>
                  <a:lnTo>
                    <a:pt x="2620" y="528"/>
                  </a:lnTo>
                  <a:lnTo>
                    <a:pt x="2668" y="510"/>
                  </a:lnTo>
                  <a:lnTo>
                    <a:pt x="2696" y="1040"/>
                  </a:lnTo>
                  <a:lnTo>
                    <a:pt x="2696" y="1040"/>
                  </a:lnTo>
                  <a:lnTo>
                    <a:pt x="2626" y="1048"/>
                  </a:lnTo>
                  <a:lnTo>
                    <a:pt x="2514" y="1068"/>
                  </a:lnTo>
                  <a:lnTo>
                    <a:pt x="2514" y="1068"/>
                  </a:lnTo>
                  <a:lnTo>
                    <a:pt x="2444" y="1082"/>
                  </a:lnTo>
                  <a:lnTo>
                    <a:pt x="2392" y="1090"/>
                  </a:lnTo>
                  <a:lnTo>
                    <a:pt x="2332" y="1098"/>
                  </a:lnTo>
                  <a:lnTo>
                    <a:pt x="2240" y="1108"/>
                  </a:lnTo>
                  <a:lnTo>
                    <a:pt x="2240" y="1108"/>
                  </a:lnTo>
                  <a:lnTo>
                    <a:pt x="2244" y="1266"/>
                  </a:lnTo>
                  <a:lnTo>
                    <a:pt x="2244" y="1364"/>
                  </a:lnTo>
                  <a:lnTo>
                    <a:pt x="2244" y="1364"/>
                  </a:lnTo>
                  <a:lnTo>
                    <a:pt x="2244" y="1440"/>
                  </a:lnTo>
                  <a:lnTo>
                    <a:pt x="2242" y="1512"/>
                  </a:lnTo>
                  <a:lnTo>
                    <a:pt x="2238" y="1584"/>
                  </a:lnTo>
                  <a:lnTo>
                    <a:pt x="2232" y="1652"/>
                  </a:lnTo>
                  <a:lnTo>
                    <a:pt x="2226" y="1720"/>
                  </a:lnTo>
                  <a:lnTo>
                    <a:pt x="2218" y="1784"/>
                  </a:lnTo>
                  <a:lnTo>
                    <a:pt x="2208" y="1846"/>
                  </a:lnTo>
                  <a:lnTo>
                    <a:pt x="2198" y="1906"/>
                  </a:lnTo>
                  <a:lnTo>
                    <a:pt x="2184" y="1964"/>
                  </a:lnTo>
                  <a:lnTo>
                    <a:pt x="2170" y="2018"/>
                  </a:lnTo>
                  <a:lnTo>
                    <a:pt x="2156" y="2072"/>
                  </a:lnTo>
                  <a:lnTo>
                    <a:pt x="2138" y="2122"/>
                  </a:lnTo>
                  <a:lnTo>
                    <a:pt x="2120" y="2172"/>
                  </a:lnTo>
                  <a:lnTo>
                    <a:pt x="2100" y="2218"/>
                  </a:lnTo>
                  <a:lnTo>
                    <a:pt x="2080" y="2260"/>
                  </a:lnTo>
                  <a:lnTo>
                    <a:pt x="2058" y="2302"/>
                  </a:lnTo>
                  <a:lnTo>
                    <a:pt x="2058" y="2302"/>
                  </a:lnTo>
                  <a:lnTo>
                    <a:pt x="2032" y="2346"/>
                  </a:lnTo>
                  <a:lnTo>
                    <a:pt x="2004" y="2388"/>
                  </a:lnTo>
                  <a:lnTo>
                    <a:pt x="1976" y="2430"/>
                  </a:lnTo>
                  <a:lnTo>
                    <a:pt x="1948" y="2468"/>
                  </a:lnTo>
                  <a:lnTo>
                    <a:pt x="1916" y="2506"/>
                  </a:lnTo>
                  <a:lnTo>
                    <a:pt x="1886" y="2542"/>
                  </a:lnTo>
                  <a:lnTo>
                    <a:pt x="1852" y="2578"/>
                  </a:lnTo>
                  <a:lnTo>
                    <a:pt x="1816" y="2612"/>
                  </a:lnTo>
                  <a:lnTo>
                    <a:pt x="1778" y="2646"/>
                  </a:lnTo>
                  <a:lnTo>
                    <a:pt x="1738" y="2680"/>
                  </a:lnTo>
                  <a:lnTo>
                    <a:pt x="1696" y="2712"/>
                  </a:lnTo>
                  <a:lnTo>
                    <a:pt x="1650" y="2746"/>
                  </a:lnTo>
                  <a:lnTo>
                    <a:pt x="1602" y="2780"/>
                  </a:lnTo>
                  <a:lnTo>
                    <a:pt x="1550" y="2812"/>
                  </a:lnTo>
                  <a:lnTo>
                    <a:pt x="1496" y="2846"/>
                  </a:lnTo>
                  <a:lnTo>
                    <a:pt x="1438" y="2880"/>
                  </a:lnTo>
                  <a:lnTo>
                    <a:pt x="1438" y="2880"/>
                  </a:lnTo>
                  <a:lnTo>
                    <a:pt x="1384" y="2816"/>
                  </a:lnTo>
                  <a:lnTo>
                    <a:pt x="1334" y="2756"/>
                  </a:lnTo>
                  <a:lnTo>
                    <a:pt x="1284" y="2702"/>
                  </a:lnTo>
                  <a:lnTo>
                    <a:pt x="1234" y="2652"/>
                  </a:lnTo>
                  <a:lnTo>
                    <a:pt x="1182" y="2604"/>
                  </a:lnTo>
                  <a:lnTo>
                    <a:pt x="1128" y="2558"/>
                  </a:lnTo>
                  <a:lnTo>
                    <a:pt x="1068" y="2510"/>
                  </a:lnTo>
                  <a:lnTo>
                    <a:pt x="1004" y="2460"/>
                  </a:lnTo>
                  <a:lnTo>
                    <a:pt x="1004" y="2460"/>
                  </a:lnTo>
                  <a:lnTo>
                    <a:pt x="1064" y="2432"/>
                  </a:lnTo>
                  <a:lnTo>
                    <a:pt x="1122" y="2404"/>
                  </a:lnTo>
                  <a:lnTo>
                    <a:pt x="1176" y="2374"/>
                  </a:lnTo>
                  <a:lnTo>
                    <a:pt x="1228" y="2344"/>
                  </a:lnTo>
                  <a:lnTo>
                    <a:pt x="1276" y="2312"/>
                  </a:lnTo>
                  <a:lnTo>
                    <a:pt x="1324" y="2280"/>
                  </a:lnTo>
                  <a:lnTo>
                    <a:pt x="1366" y="2246"/>
                  </a:lnTo>
                  <a:lnTo>
                    <a:pt x="1408" y="2212"/>
                  </a:lnTo>
                  <a:lnTo>
                    <a:pt x="1446" y="2176"/>
                  </a:lnTo>
                  <a:lnTo>
                    <a:pt x="1480" y="2140"/>
                  </a:lnTo>
                  <a:lnTo>
                    <a:pt x="1512" y="2102"/>
                  </a:lnTo>
                  <a:lnTo>
                    <a:pt x="1542" y="2064"/>
                  </a:lnTo>
                  <a:lnTo>
                    <a:pt x="1570" y="2024"/>
                  </a:lnTo>
                  <a:lnTo>
                    <a:pt x="1594" y="1984"/>
                  </a:lnTo>
                  <a:lnTo>
                    <a:pt x="1614" y="1942"/>
                  </a:lnTo>
                  <a:lnTo>
                    <a:pt x="1634" y="1900"/>
                  </a:lnTo>
                  <a:lnTo>
                    <a:pt x="1634" y="1900"/>
                  </a:lnTo>
                  <a:lnTo>
                    <a:pt x="1654" y="1840"/>
                  </a:lnTo>
                  <a:lnTo>
                    <a:pt x="1672" y="1778"/>
                  </a:lnTo>
                  <a:lnTo>
                    <a:pt x="1686" y="1706"/>
                  </a:lnTo>
                  <a:lnTo>
                    <a:pt x="1696" y="1628"/>
                  </a:lnTo>
                  <a:lnTo>
                    <a:pt x="1706" y="1538"/>
                  </a:lnTo>
                  <a:lnTo>
                    <a:pt x="1712" y="1436"/>
                  </a:lnTo>
                  <a:lnTo>
                    <a:pt x="1714" y="1322"/>
                  </a:lnTo>
                  <a:lnTo>
                    <a:pt x="1716" y="1190"/>
                  </a:lnTo>
                  <a:lnTo>
                    <a:pt x="1716" y="1190"/>
                  </a:lnTo>
                  <a:lnTo>
                    <a:pt x="1716" y="1152"/>
                  </a:lnTo>
                  <a:lnTo>
                    <a:pt x="1716" y="1152"/>
                  </a:lnTo>
                  <a:lnTo>
                    <a:pt x="1630" y="1158"/>
                  </a:lnTo>
                  <a:lnTo>
                    <a:pt x="1552" y="1162"/>
                  </a:lnTo>
                  <a:lnTo>
                    <a:pt x="1470" y="1164"/>
                  </a:lnTo>
                  <a:lnTo>
                    <a:pt x="1376" y="1166"/>
                  </a:lnTo>
                  <a:lnTo>
                    <a:pt x="1376" y="1166"/>
                  </a:lnTo>
                  <a:lnTo>
                    <a:pt x="1290" y="1166"/>
                  </a:lnTo>
                  <a:lnTo>
                    <a:pt x="1208" y="1164"/>
                  </a:lnTo>
                  <a:lnTo>
                    <a:pt x="1044" y="1156"/>
                  </a:lnTo>
                  <a:lnTo>
                    <a:pt x="1044" y="1156"/>
                  </a:lnTo>
                  <a:lnTo>
                    <a:pt x="940" y="1150"/>
                  </a:lnTo>
                  <a:lnTo>
                    <a:pt x="842" y="1150"/>
                  </a:lnTo>
                  <a:lnTo>
                    <a:pt x="846" y="63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2:48:56Z</dcterms:created>
  <dc:creator>seisaku</dc:creator>
  <dc:description/>
  <dc:language>en-US</dc:language>
  <cp:lastModifiedBy>seisaku</cp:lastModifiedBy>
  <dcterms:modified xsi:type="dcterms:W3CDTF">2012-05-14T02:52:30Z</dcterms:modified>
  <cp:revision>1</cp:revision>
  <dc:subject/>
  <dc:title>スライド 1</dc:title>
</cp:coreProperties>
</file>