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C1E6-E053-48CA-960C-CE2C3CC8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D604-4F7E-42DD-A95F-DA2613EC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69F-3FCF-40D0-8765-3C6FD4A0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8248-071F-4C96-97FD-405EC5ED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4D3-6102-41D6-B8A1-44D50DFC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6173-DF39-4D98-A483-08BA67BE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3C9-D92E-4E76-A856-5535D9DF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6AA-B8E4-4A24-9570-AF1750FC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A1B1-AC6F-4AD6-830C-8DBDECB8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469-F47A-496A-99AD-0CD50DE1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9E7-4137-4745-BC39-95C318F0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A1DB-D20D-4858-97AE-1F7624A9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920" indent="-5659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737640"/>
            <a:ext cx="1368108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0EA44E72-8FB2-467F-A1B3-E4F439F06D86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205400" cy="10693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527800" y="1089000"/>
            <a:ext cx="10112400" cy="858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226200" y="3220920"/>
            <a:ext cx="27066960" cy="5378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82640" y="739800"/>
            <a:ext cx="9275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zh-CN" sz="12000" spc="-1" strike="noStrike">
                <a:solidFill>
                  <a:srgbClr val="000000"/>
                </a:solidFill>
                <a:latin typeface="Arial"/>
              </a:rPr>
              <a:t>公会堂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3600" y="4917960"/>
            <a:ext cx="9275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Arial"/>
              </a:rPr>
              <a:t>第○回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06:29:14Z</dcterms:created>
  <dc:creator>fukase3</dc:creator>
  <dc:description/>
  <dc:language>en-US</dc:language>
  <cp:lastModifiedBy>fukase3</cp:lastModifiedBy>
  <dcterms:modified xsi:type="dcterms:W3CDTF">2009-05-07T06:33:41Z</dcterms:modified>
  <cp:revision>1</cp:revision>
  <dc:subject/>
  <dc:title>スライド 1</dc:title>
</cp:coreProperties>
</file>