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6988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4F20-4D4E-479F-ACBF-C16BE4E76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2C1D-3F99-4925-BB14-8093D1BE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0347-4673-4720-9B44-3C20A1DB8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720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404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36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720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404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59D8-7265-4BB0-A254-CA878BC32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1E4A-546C-4379-B4BB-EBCB19E0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8D65-C2AD-4573-85F8-8078DBF4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DF49-09A1-4FAD-BC16-004CF799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5F34-32E5-405E-B7CA-6D3A6859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360" y="428400"/>
            <a:ext cx="3888396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BEDC-277B-4232-81C4-B23A4CDD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3AA8-D2A3-4F2A-AAC8-A04FB578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7D04-2C19-4E30-B601-6F001A66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9C7F-676E-4465-B155-2F8969CB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49000"/>
          </a:bodyPr>
          <a:p>
            <a:pPr marL="565200" indent="-56520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1" marL="1225800" indent="-4712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2" marL="1886400" indent="-37728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3" marL="2640600" indent="-37728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4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5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6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1800" y="9910440"/>
            <a:ext cx="1368108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39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B0FD062D-0512-42EF-9C76-40F707523EF5}" type="slidenum">
              <a:rPr b="0" lang="ja-JP" sz="4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1"/>
          <p:cNvSpPr/>
          <p:nvPr/>
        </p:nvSpPr>
        <p:spPr>
          <a:xfrm>
            <a:off x="0" y="0"/>
            <a:ext cx="43205400" cy="7867800"/>
          </a:xfrm>
          <a:prstGeom prst="rect">
            <a:avLst/>
          </a:prstGeom>
          <a:solidFill>
            <a:srgbClr val="ea54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図形グループ 13"/>
          <p:cNvGrpSpPr/>
          <p:nvPr/>
        </p:nvGrpSpPr>
        <p:grpSpPr>
          <a:xfrm>
            <a:off x="0" y="522360"/>
            <a:ext cx="43205400" cy="6786360"/>
            <a:chOff x="0" y="522360"/>
            <a:chExt cx="43205400" cy="6786360"/>
          </a:xfrm>
        </p:grpSpPr>
        <p:sp>
          <p:nvSpPr>
            <p:cNvPr id="43" name="正方形/長方形 11"/>
            <p:cNvSpPr/>
            <p:nvPr/>
          </p:nvSpPr>
          <p:spPr>
            <a:xfrm>
              <a:off x="0" y="522360"/>
              <a:ext cx="43205400" cy="378000"/>
            </a:xfrm>
            <a:prstGeom prst="rect">
              <a:avLst/>
            </a:prstGeom>
            <a:solidFill>
              <a:srgbClr val="ea96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079800"/>
                  <a:tab algn="l" pos="6159600"/>
                  <a:tab algn="l" pos="9239400"/>
                </a:tabLst>
              </a:pPr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正方形/長方形 36"/>
            <p:cNvSpPr/>
            <p:nvPr/>
          </p:nvSpPr>
          <p:spPr>
            <a:xfrm>
              <a:off x="0" y="1584000"/>
              <a:ext cx="43205400" cy="378000"/>
            </a:xfrm>
            <a:prstGeom prst="rect">
              <a:avLst/>
            </a:prstGeom>
            <a:solidFill>
              <a:srgbClr val="ea96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079800"/>
                  <a:tab algn="l" pos="6159600"/>
                  <a:tab algn="l" pos="9239400"/>
                </a:tabLst>
              </a:pPr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正方形/長方形 37"/>
            <p:cNvSpPr/>
            <p:nvPr/>
          </p:nvSpPr>
          <p:spPr>
            <a:xfrm>
              <a:off x="0" y="2592360"/>
              <a:ext cx="43205400" cy="378000"/>
            </a:xfrm>
            <a:prstGeom prst="rect">
              <a:avLst/>
            </a:prstGeom>
            <a:solidFill>
              <a:srgbClr val="ea96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079800"/>
                  <a:tab algn="l" pos="6159600"/>
                  <a:tab algn="l" pos="9239400"/>
                </a:tabLst>
              </a:pPr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正方形/長方形 38"/>
            <p:cNvSpPr/>
            <p:nvPr/>
          </p:nvSpPr>
          <p:spPr>
            <a:xfrm>
              <a:off x="0" y="3690360"/>
              <a:ext cx="43205400" cy="378000"/>
            </a:xfrm>
            <a:prstGeom prst="rect">
              <a:avLst/>
            </a:prstGeom>
            <a:solidFill>
              <a:srgbClr val="ea96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079800"/>
                  <a:tab algn="l" pos="6159600"/>
                  <a:tab algn="l" pos="9239400"/>
                </a:tabLst>
              </a:pPr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正方形/長方形 39"/>
            <p:cNvSpPr/>
            <p:nvPr/>
          </p:nvSpPr>
          <p:spPr>
            <a:xfrm>
              <a:off x="0" y="4770720"/>
              <a:ext cx="43205400" cy="378000"/>
            </a:xfrm>
            <a:prstGeom prst="rect">
              <a:avLst/>
            </a:prstGeom>
            <a:solidFill>
              <a:srgbClr val="ea96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079800"/>
                  <a:tab algn="l" pos="6159600"/>
                  <a:tab algn="l" pos="9239400"/>
                </a:tabLst>
              </a:pPr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正方形/長方形 40"/>
            <p:cNvSpPr/>
            <p:nvPr/>
          </p:nvSpPr>
          <p:spPr>
            <a:xfrm>
              <a:off x="0" y="5850720"/>
              <a:ext cx="43205400" cy="378000"/>
            </a:xfrm>
            <a:prstGeom prst="rect">
              <a:avLst/>
            </a:prstGeom>
            <a:solidFill>
              <a:srgbClr val="ea96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079800"/>
                  <a:tab algn="l" pos="6159600"/>
                  <a:tab algn="l" pos="9239400"/>
                </a:tabLst>
              </a:pPr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正方形/長方形 41"/>
            <p:cNvSpPr/>
            <p:nvPr/>
          </p:nvSpPr>
          <p:spPr>
            <a:xfrm>
              <a:off x="0" y="6930720"/>
              <a:ext cx="43205400" cy="378000"/>
            </a:xfrm>
            <a:prstGeom prst="rect">
              <a:avLst/>
            </a:prstGeom>
            <a:solidFill>
              <a:srgbClr val="ea96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079800"/>
                  <a:tab algn="l" pos="6159600"/>
                  <a:tab algn="l" pos="9239400"/>
                </a:tabLst>
              </a:pPr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図 14" descr="uketukeoreng.png"/>
          <p:cNvPicPr/>
          <p:nvPr/>
        </p:nvPicPr>
        <p:blipFill>
          <a:blip r:embed="rId1"/>
          <a:stretch/>
        </p:blipFill>
        <p:spPr>
          <a:xfrm>
            <a:off x="17883360" y="493560"/>
            <a:ext cx="24817320" cy="7516800"/>
          </a:xfrm>
          <a:prstGeom prst="rect">
            <a:avLst/>
          </a:prstGeom>
          <a:ln w="0">
            <a:noFill/>
          </a:ln>
        </p:spPr>
      </p:pic>
      <p:grpSp>
        <p:nvGrpSpPr>
          <p:cNvPr id="51" name="図形グループ 10"/>
          <p:cNvGrpSpPr/>
          <p:nvPr/>
        </p:nvGrpSpPr>
        <p:grpSpPr>
          <a:xfrm>
            <a:off x="0" y="0"/>
            <a:ext cx="18507240" cy="7867800"/>
            <a:chOff x="0" y="0"/>
            <a:chExt cx="18507240" cy="7867800"/>
          </a:xfrm>
        </p:grpSpPr>
        <p:sp>
          <p:nvSpPr>
            <p:cNvPr id="52" name="正方形/長方形 3"/>
            <p:cNvSpPr/>
            <p:nvPr/>
          </p:nvSpPr>
          <p:spPr>
            <a:xfrm flipH="1">
              <a:off x="0" y="0"/>
              <a:ext cx="15134400" cy="7867800"/>
            </a:xfrm>
            <a:prstGeom prst="rect">
              <a:avLst/>
            </a:prstGeom>
            <a:solidFill>
              <a:srgbClr val="8cc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079800"/>
                  <a:tab algn="l" pos="6159600"/>
                  <a:tab algn="l" pos="9239400"/>
                </a:tabLst>
              </a:pPr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直角三角形 4"/>
            <p:cNvSpPr/>
            <p:nvPr/>
          </p:nvSpPr>
          <p:spPr>
            <a:xfrm>
              <a:off x="15062040" y="0"/>
              <a:ext cx="3445200" cy="7867800"/>
            </a:xfrm>
            <a:prstGeom prst="rtTriangle">
              <a:avLst/>
            </a:prstGeom>
            <a:solidFill>
              <a:srgbClr val="8cc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079800"/>
                  <a:tab algn="l" pos="6159600"/>
                  <a:tab algn="l" pos="9239400"/>
                </a:tabLst>
              </a:pPr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 Box 642"/>
          <p:cNvSpPr/>
          <p:nvPr/>
        </p:nvSpPr>
        <p:spPr>
          <a:xfrm>
            <a:off x="15966720" y="7939080"/>
            <a:ext cx="11271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◯◯</a:t>
            </a:r>
            <a:r>
              <a:rPr b="1" lang="ja-JP" sz="12000" spc="-1" strike="noStrike">
                <a:solidFill>
                  <a:srgbClr val="000000"/>
                </a:solidFill>
                <a:latin typeface="Arial"/>
              </a:rPr>
              <a:t>英会話スクール塾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正方形/長方形 9"/>
          <p:cNvSpPr/>
          <p:nvPr/>
        </p:nvSpPr>
        <p:spPr>
          <a:xfrm>
            <a:off x="0" y="10242720"/>
            <a:ext cx="43205400" cy="450720"/>
          </a:xfrm>
          <a:prstGeom prst="rect">
            <a:avLst/>
          </a:prstGeom>
          <a:solidFill>
            <a:srgbClr val="8cc3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図 5" descr="uketuke.png"/>
          <p:cNvPicPr/>
          <p:nvPr/>
        </p:nvPicPr>
        <p:blipFill>
          <a:blip r:embed="rId2"/>
          <a:stretch/>
        </p:blipFill>
        <p:spPr>
          <a:xfrm>
            <a:off x="18099000" y="927000"/>
            <a:ext cx="23834880" cy="5891400"/>
          </a:xfrm>
          <a:prstGeom prst="rect">
            <a:avLst/>
          </a:prstGeom>
          <a:ln w="0">
            <a:noFill/>
          </a:ln>
        </p:spPr>
      </p:pic>
      <p:pic>
        <p:nvPicPr>
          <p:cNvPr id="57" name="図 6" descr="kousyu.png"/>
          <p:cNvPicPr/>
          <p:nvPr/>
        </p:nvPicPr>
        <p:blipFill>
          <a:blip r:embed="rId3"/>
          <a:stretch/>
        </p:blipFill>
        <p:spPr>
          <a:xfrm>
            <a:off x="1081080" y="1530360"/>
            <a:ext cx="1454472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00:52:52Z</dcterms:created>
  <dc:creator>seisaku</dc:creator>
  <dc:description/>
  <dc:language>en-US</dc:language>
  <cp:lastModifiedBy>株式会社ジーン macpro2</cp:lastModifiedBy>
  <cp:lastPrinted>2013-02-07T07:38:20Z</cp:lastPrinted>
  <dcterms:modified xsi:type="dcterms:W3CDTF">2013-02-13T02:44:52Z</dcterms:modified>
  <cp:revision>16</cp:revision>
  <dc:subject/>
  <dc:title>スライド 1</dc:title>
</cp:coreProperties>
</file>