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0240" y="685440"/>
            <a:ext cx="8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1F45-A9D6-423F-ABAB-1C79011B6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2A59-8D72-4688-85BE-5CD1D34D6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3000240" y="685800"/>
            <a:ext cx="85752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5DE-80EE-4C84-8B41-3AB192B2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23F-3B13-435C-8850-8AFF486E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F24-F5EC-457B-B300-E6C25B0E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410-439C-48C9-9683-05729C40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F12-BEEE-4514-81A9-F7FB37F7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034-DBE9-4BC7-9B66-82E158B2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A3D-48BA-48F4-B2AD-340047F3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1DB-9029-43DC-AEA3-CAF189DD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730520"/>
            <a:ext cx="97218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BD4-FEC0-4A40-BDAF-120BF303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81B-EF79-4B48-AC3D-42B64460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4E6-6074-400D-903D-07AACB06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83A-078E-4475-849E-360E1632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76000"/>
          </a:bodyPr>
          <a:p>
            <a:pPr marL="878040" indent="-8780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1904760" indent="-7322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2930400" indent="-5846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4102920" indent="-5846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39344760"/>
            <a:ext cx="25210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39344760"/>
            <a:ext cx="34192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39344760"/>
            <a:ext cx="252072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AB38-0E87-4733-B588-5E39F09294E8}" type="slidenum">
              <a:rPr b="0" lang="en-US" sz="4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図 5" descr="sakura.png"/>
          <p:cNvPicPr/>
          <p:nvPr/>
        </p:nvPicPr>
        <p:blipFill>
          <a:blip r:embed="rId1"/>
          <a:stretch/>
        </p:blipFill>
        <p:spPr>
          <a:xfrm>
            <a:off x="0" y="0"/>
            <a:ext cx="10801440" cy="432054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6"/>
          <p:cNvSpPr/>
          <p:nvPr/>
        </p:nvSpPr>
        <p:spPr>
          <a:xfrm>
            <a:off x="-71280" y="0"/>
            <a:ext cx="10845720" cy="43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4680" y="7099200"/>
            <a:ext cx="10693440" cy="1800"/>
          </a:xfrm>
          <a:custGeom>
            <a:avLst/>
            <a:gdLst>
              <a:gd name="textAreaLeft" fmla="*/ 0 w 10693440"/>
              <a:gd name="textAreaRight" fmla="*/ 10693440 w 10693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736" h="1588">
                <a:moveTo>
                  <a:pt x="6736" y="0"/>
                </a:moveTo>
                <a:lnTo>
                  <a:pt x="0" y="0"/>
                </a:lnTo>
                <a:lnTo>
                  <a:pt x="6736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3200" bIns="-432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図 1" descr=""/>
          <p:cNvPicPr/>
          <p:nvPr/>
        </p:nvPicPr>
        <p:blipFill>
          <a:blip r:embed="rId2"/>
          <a:stretch/>
        </p:blipFill>
        <p:spPr>
          <a:xfrm>
            <a:off x="3505320" y="15409800"/>
            <a:ext cx="3771720" cy="26530200"/>
          </a:xfrm>
          <a:prstGeom prst="rect">
            <a:avLst/>
          </a:prstGeom>
          <a:ln w="0">
            <a:noFill/>
          </a:ln>
        </p:spPr>
      </p:pic>
      <p:sp>
        <p:nvSpPr>
          <p:cNvPr id="52" name="テキスト ボックス 7"/>
          <p:cNvSpPr/>
          <p:nvPr/>
        </p:nvSpPr>
        <p:spPr>
          <a:xfrm>
            <a:off x="19300680" y="-190440"/>
            <a:ext cx="1857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" descr="nyu.png"/>
          <p:cNvPicPr/>
          <p:nvPr/>
        </p:nvPicPr>
        <p:blipFill>
          <a:blip r:embed="rId3"/>
          <a:stretch/>
        </p:blipFill>
        <p:spPr>
          <a:xfrm>
            <a:off x="5543640" y="2376360"/>
            <a:ext cx="4763880" cy="11954160"/>
          </a:xfrm>
          <a:prstGeom prst="rect">
            <a:avLst/>
          </a:prstGeom>
          <a:ln w="0">
            <a:noFill/>
          </a:ln>
        </p:spPr>
      </p:pic>
      <p:pic>
        <p:nvPicPr>
          <p:cNvPr id="54" name="図 2" descr="sotu.png"/>
          <p:cNvPicPr/>
          <p:nvPr/>
        </p:nvPicPr>
        <p:blipFill>
          <a:blip r:embed="rId4"/>
          <a:stretch/>
        </p:blipFill>
        <p:spPr>
          <a:xfrm>
            <a:off x="779400" y="2305080"/>
            <a:ext cx="4765680" cy="119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0:36Z</dcterms:created>
  <dc:creator>NEC-PCuser</dc:creator>
  <dc:description/>
  <dc:language>en-US</dc:language>
  <cp:lastModifiedBy>株式会社ジーン macpro2</cp:lastModifiedBy>
  <cp:lastPrinted>2013-02-12T08:05:05Z</cp:lastPrinted>
  <dcterms:modified xsi:type="dcterms:W3CDTF">2013-03-08T07:26:50Z</dcterms:modified>
  <cp:revision>11</cp:revision>
  <dc:subject/>
  <dc:title>スライド 1</dc:title>
</cp:coreProperties>
</file>