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905-E5BC-44D4-B9E1-85C07EDB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9BA-8A1D-4B0B-83C0-FFAED8A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545-2B29-4D37-BC44-36187880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639-210C-4DC0-9910-EB2AD2C1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ECA-95A8-40FE-809E-B1F12D8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271-BC4A-431C-B862-7BFAE3C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B14-6078-4BC2-8A84-D8CDAF7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1B8-D58B-4DB3-8139-045BD66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D09-53EB-4D72-9E45-14CFD692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142-B655-4BAF-8D2E-BDAABF2D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499-BF4E-445F-A8F7-49C82F7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785-A85F-47AA-A6B4-BDC7402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74015AA0-BB2A-4464-A6F7-6162B9B63396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49"/>
          <p:cNvGrpSpPr/>
          <p:nvPr/>
        </p:nvGrpSpPr>
        <p:grpSpPr>
          <a:xfrm>
            <a:off x="0" y="11160"/>
            <a:ext cx="10693440" cy="43183080"/>
            <a:chOff x="0" y="11160"/>
            <a:chExt cx="10693440" cy="43183080"/>
          </a:xfrm>
        </p:grpSpPr>
        <p:sp>
          <p:nvSpPr>
            <p:cNvPr id="42" name="Freeform 5"/>
            <p:cNvSpPr/>
            <p:nvPr/>
          </p:nvSpPr>
          <p:spPr>
            <a:xfrm>
              <a:off x="0" y="11160"/>
              <a:ext cx="10693440" cy="43183080"/>
            </a:xfrm>
            <a:custGeom>
              <a:avLst/>
              <a:gdLst>
                <a:gd name="textAreaLeft" fmla="*/ 0 w 10693440"/>
                <a:gd name="textAreaRight" fmla="*/ 10693440 w 10693440"/>
                <a:gd name="textAreaTop" fmla="*/ 0 h 43183080"/>
                <a:gd name="textAreaBottom" fmla="*/ 43183440 h 43183080"/>
              </a:gdLst>
              <a:ahLst/>
              <a:rect l="textAreaLeft" t="textAreaTop" r="textAreaRight" b="textAreaBottom"/>
              <a:pathLst>
                <a:path w="6736" h="27202">
                  <a:moveTo>
                    <a:pt x="6736" y="26208"/>
                  </a:moveTo>
                  <a:lnTo>
                    <a:pt x="6736" y="0"/>
                  </a:lnTo>
                  <a:lnTo>
                    <a:pt x="2" y="0"/>
                  </a:lnTo>
                  <a:lnTo>
                    <a:pt x="2" y="21682"/>
                  </a:lnTo>
                  <a:lnTo>
                    <a:pt x="2" y="21682"/>
                  </a:lnTo>
                  <a:lnTo>
                    <a:pt x="2" y="21698"/>
                  </a:lnTo>
                  <a:lnTo>
                    <a:pt x="0" y="21742"/>
                  </a:lnTo>
                  <a:lnTo>
                    <a:pt x="0" y="21772"/>
                  </a:lnTo>
                  <a:lnTo>
                    <a:pt x="2" y="21810"/>
                  </a:lnTo>
                  <a:lnTo>
                    <a:pt x="4" y="21850"/>
                  </a:lnTo>
                  <a:lnTo>
                    <a:pt x="10" y="21896"/>
                  </a:lnTo>
                  <a:lnTo>
                    <a:pt x="18" y="21946"/>
                  </a:lnTo>
                  <a:lnTo>
                    <a:pt x="28" y="21998"/>
                  </a:lnTo>
                  <a:lnTo>
                    <a:pt x="42" y="22052"/>
                  </a:lnTo>
                  <a:lnTo>
                    <a:pt x="60" y="22108"/>
                  </a:lnTo>
                  <a:lnTo>
                    <a:pt x="82" y="22166"/>
                  </a:lnTo>
                  <a:lnTo>
                    <a:pt x="108" y="22226"/>
                  </a:lnTo>
                  <a:lnTo>
                    <a:pt x="124" y="22256"/>
                  </a:lnTo>
                  <a:lnTo>
                    <a:pt x="140" y="22284"/>
                  </a:lnTo>
                  <a:lnTo>
                    <a:pt x="158" y="22314"/>
                  </a:lnTo>
                  <a:lnTo>
                    <a:pt x="178" y="22344"/>
                  </a:lnTo>
                  <a:lnTo>
                    <a:pt x="178" y="22344"/>
                  </a:lnTo>
                  <a:lnTo>
                    <a:pt x="210" y="22388"/>
                  </a:lnTo>
                  <a:lnTo>
                    <a:pt x="248" y="22434"/>
                  </a:lnTo>
                  <a:lnTo>
                    <a:pt x="290" y="22480"/>
                  </a:lnTo>
                  <a:lnTo>
                    <a:pt x="338" y="22528"/>
                  </a:lnTo>
                  <a:lnTo>
                    <a:pt x="388" y="22578"/>
                  </a:lnTo>
                  <a:lnTo>
                    <a:pt x="442" y="22630"/>
                  </a:lnTo>
                  <a:lnTo>
                    <a:pt x="560" y="22740"/>
                  </a:lnTo>
                  <a:lnTo>
                    <a:pt x="688" y="22858"/>
                  </a:lnTo>
                  <a:lnTo>
                    <a:pt x="820" y="22986"/>
                  </a:lnTo>
                  <a:lnTo>
                    <a:pt x="888" y="23052"/>
                  </a:lnTo>
                  <a:lnTo>
                    <a:pt x="956" y="23124"/>
                  </a:lnTo>
                  <a:lnTo>
                    <a:pt x="1024" y="23196"/>
                  </a:lnTo>
                  <a:lnTo>
                    <a:pt x="1092" y="23272"/>
                  </a:lnTo>
                  <a:lnTo>
                    <a:pt x="1158" y="23352"/>
                  </a:lnTo>
                  <a:lnTo>
                    <a:pt x="1222" y="23434"/>
                  </a:lnTo>
                  <a:lnTo>
                    <a:pt x="1286" y="23522"/>
                  </a:lnTo>
                  <a:lnTo>
                    <a:pt x="1346" y="23610"/>
                  </a:lnTo>
                  <a:lnTo>
                    <a:pt x="1406" y="23704"/>
                  </a:lnTo>
                  <a:lnTo>
                    <a:pt x="1462" y="23802"/>
                  </a:lnTo>
                  <a:lnTo>
                    <a:pt x="1488" y="23852"/>
                  </a:lnTo>
                  <a:lnTo>
                    <a:pt x="1514" y="23902"/>
                  </a:lnTo>
                  <a:lnTo>
                    <a:pt x="1538" y="23954"/>
                  </a:lnTo>
                  <a:lnTo>
                    <a:pt x="1562" y="24008"/>
                  </a:lnTo>
                  <a:lnTo>
                    <a:pt x="1584" y="24062"/>
                  </a:lnTo>
                  <a:lnTo>
                    <a:pt x="1606" y="24116"/>
                  </a:lnTo>
                  <a:lnTo>
                    <a:pt x="1626" y="24174"/>
                  </a:lnTo>
                  <a:lnTo>
                    <a:pt x="1646" y="24230"/>
                  </a:lnTo>
                  <a:lnTo>
                    <a:pt x="1664" y="24290"/>
                  </a:lnTo>
                  <a:lnTo>
                    <a:pt x="1680" y="24348"/>
                  </a:lnTo>
                  <a:lnTo>
                    <a:pt x="1696" y="24410"/>
                  </a:lnTo>
                  <a:lnTo>
                    <a:pt x="1710" y="24472"/>
                  </a:lnTo>
                  <a:lnTo>
                    <a:pt x="1722" y="24534"/>
                  </a:lnTo>
                  <a:lnTo>
                    <a:pt x="1732" y="24598"/>
                  </a:lnTo>
                  <a:lnTo>
                    <a:pt x="1742" y="24664"/>
                  </a:lnTo>
                  <a:lnTo>
                    <a:pt x="1750" y="24730"/>
                  </a:lnTo>
                  <a:lnTo>
                    <a:pt x="1756" y="24798"/>
                  </a:lnTo>
                  <a:lnTo>
                    <a:pt x="1760" y="24868"/>
                  </a:lnTo>
                  <a:lnTo>
                    <a:pt x="1764" y="24938"/>
                  </a:lnTo>
                  <a:lnTo>
                    <a:pt x="1764" y="25010"/>
                  </a:lnTo>
                  <a:lnTo>
                    <a:pt x="1764" y="25010"/>
                  </a:lnTo>
                  <a:lnTo>
                    <a:pt x="1766" y="25140"/>
                  </a:lnTo>
                  <a:lnTo>
                    <a:pt x="1768" y="25268"/>
                  </a:lnTo>
                  <a:lnTo>
                    <a:pt x="1774" y="25392"/>
                  </a:lnTo>
                  <a:lnTo>
                    <a:pt x="1782" y="25512"/>
                  </a:lnTo>
                  <a:lnTo>
                    <a:pt x="1792" y="25626"/>
                  </a:lnTo>
                  <a:lnTo>
                    <a:pt x="1806" y="25738"/>
                  </a:lnTo>
                  <a:lnTo>
                    <a:pt x="1822" y="25846"/>
                  </a:lnTo>
                  <a:lnTo>
                    <a:pt x="1840" y="25950"/>
                  </a:lnTo>
                  <a:lnTo>
                    <a:pt x="1860" y="26050"/>
                  </a:lnTo>
                  <a:lnTo>
                    <a:pt x="1884" y="26146"/>
                  </a:lnTo>
                  <a:lnTo>
                    <a:pt x="1912" y="26238"/>
                  </a:lnTo>
                  <a:lnTo>
                    <a:pt x="1942" y="26326"/>
                  </a:lnTo>
                  <a:lnTo>
                    <a:pt x="1974" y="26410"/>
                  </a:lnTo>
                  <a:lnTo>
                    <a:pt x="2012" y="26490"/>
                  </a:lnTo>
                  <a:lnTo>
                    <a:pt x="2030" y="26528"/>
                  </a:lnTo>
                  <a:lnTo>
                    <a:pt x="2052" y="26566"/>
                  </a:lnTo>
                  <a:lnTo>
                    <a:pt x="2072" y="26602"/>
                  </a:lnTo>
                  <a:lnTo>
                    <a:pt x="2094" y="26638"/>
                  </a:lnTo>
                  <a:lnTo>
                    <a:pt x="2118" y="26672"/>
                  </a:lnTo>
                  <a:lnTo>
                    <a:pt x="2142" y="26704"/>
                  </a:lnTo>
                  <a:lnTo>
                    <a:pt x="2166" y="26738"/>
                  </a:lnTo>
                  <a:lnTo>
                    <a:pt x="2192" y="26768"/>
                  </a:lnTo>
                  <a:lnTo>
                    <a:pt x="2218" y="26798"/>
                  </a:lnTo>
                  <a:lnTo>
                    <a:pt x="2246" y="26828"/>
                  </a:lnTo>
                  <a:lnTo>
                    <a:pt x="2274" y="26856"/>
                  </a:lnTo>
                  <a:lnTo>
                    <a:pt x="2304" y="26882"/>
                  </a:lnTo>
                  <a:lnTo>
                    <a:pt x="2334" y="26908"/>
                  </a:lnTo>
                  <a:lnTo>
                    <a:pt x="2366" y="26932"/>
                  </a:lnTo>
                  <a:lnTo>
                    <a:pt x="2398" y="26956"/>
                  </a:lnTo>
                  <a:lnTo>
                    <a:pt x="2430" y="26978"/>
                  </a:lnTo>
                  <a:lnTo>
                    <a:pt x="2466" y="27000"/>
                  </a:lnTo>
                  <a:lnTo>
                    <a:pt x="2500" y="27020"/>
                  </a:lnTo>
                  <a:lnTo>
                    <a:pt x="2536" y="27040"/>
                  </a:lnTo>
                  <a:lnTo>
                    <a:pt x="2574" y="27058"/>
                  </a:lnTo>
                  <a:lnTo>
                    <a:pt x="2612" y="27076"/>
                  </a:lnTo>
                  <a:lnTo>
                    <a:pt x="2652" y="27092"/>
                  </a:lnTo>
                  <a:lnTo>
                    <a:pt x="2692" y="27108"/>
                  </a:lnTo>
                  <a:lnTo>
                    <a:pt x="2734" y="27120"/>
                  </a:lnTo>
                  <a:lnTo>
                    <a:pt x="2778" y="27134"/>
                  </a:lnTo>
                  <a:lnTo>
                    <a:pt x="2822" y="27146"/>
                  </a:lnTo>
                  <a:lnTo>
                    <a:pt x="2866" y="27156"/>
                  </a:lnTo>
                  <a:lnTo>
                    <a:pt x="2912" y="27166"/>
                  </a:lnTo>
                  <a:lnTo>
                    <a:pt x="2960" y="27174"/>
                  </a:lnTo>
                  <a:lnTo>
                    <a:pt x="3008" y="27182"/>
                  </a:lnTo>
                  <a:lnTo>
                    <a:pt x="3058" y="27188"/>
                  </a:lnTo>
                  <a:lnTo>
                    <a:pt x="3108" y="27192"/>
                  </a:lnTo>
                  <a:lnTo>
                    <a:pt x="3160" y="27196"/>
                  </a:lnTo>
                  <a:lnTo>
                    <a:pt x="3214" y="27200"/>
                  </a:lnTo>
                  <a:lnTo>
                    <a:pt x="3324" y="27202"/>
                  </a:lnTo>
                  <a:lnTo>
                    <a:pt x="5806" y="27202"/>
                  </a:lnTo>
                  <a:lnTo>
                    <a:pt x="5806" y="27202"/>
                  </a:lnTo>
                  <a:lnTo>
                    <a:pt x="5858" y="27200"/>
                  </a:lnTo>
                  <a:lnTo>
                    <a:pt x="5912" y="27196"/>
                  </a:lnTo>
                  <a:lnTo>
                    <a:pt x="5962" y="27186"/>
                  </a:lnTo>
                  <a:lnTo>
                    <a:pt x="6012" y="27176"/>
                  </a:lnTo>
                  <a:lnTo>
                    <a:pt x="6060" y="27162"/>
                  </a:lnTo>
                  <a:lnTo>
                    <a:pt x="6106" y="27146"/>
                  </a:lnTo>
                  <a:lnTo>
                    <a:pt x="6150" y="27126"/>
                  </a:lnTo>
                  <a:lnTo>
                    <a:pt x="6194" y="27104"/>
                  </a:lnTo>
                  <a:lnTo>
                    <a:pt x="6236" y="27080"/>
                  </a:lnTo>
                  <a:lnTo>
                    <a:pt x="6278" y="27054"/>
                  </a:lnTo>
                  <a:lnTo>
                    <a:pt x="6316" y="27026"/>
                  </a:lnTo>
                  <a:lnTo>
                    <a:pt x="6354" y="26996"/>
                  </a:lnTo>
                  <a:lnTo>
                    <a:pt x="6390" y="26964"/>
                  </a:lnTo>
                  <a:lnTo>
                    <a:pt x="6424" y="26930"/>
                  </a:lnTo>
                  <a:lnTo>
                    <a:pt x="6456" y="26894"/>
                  </a:lnTo>
                  <a:lnTo>
                    <a:pt x="6488" y="26858"/>
                  </a:lnTo>
                  <a:lnTo>
                    <a:pt x="6516" y="26820"/>
                  </a:lnTo>
                  <a:lnTo>
                    <a:pt x="6544" y="26782"/>
                  </a:lnTo>
                  <a:lnTo>
                    <a:pt x="6570" y="26742"/>
                  </a:lnTo>
                  <a:lnTo>
                    <a:pt x="6594" y="26702"/>
                  </a:lnTo>
                  <a:lnTo>
                    <a:pt x="6616" y="26662"/>
                  </a:lnTo>
                  <a:lnTo>
                    <a:pt x="6636" y="26620"/>
                  </a:lnTo>
                  <a:lnTo>
                    <a:pt x="6654" y="26578"/>
                  </a:lnTo>
                  <a:lnTo>
                    <a:pt x="6672" y="26536"/>
                  </a:lnTo>
                  <a:lnTo>
                    <a:pt x="6686" y="26494"/>
                  </a:lnTo>
                  <a:lnTo>
                    <a:pt x="6698" y="26452"/>
                  </a:lnTo>
                  <a:lnTo>
                    <a:pt x="6710" y="26410"/>
                  </a:lnTo>
                  <a:lnTo>
                    <a:pt x="6718" y="26368"/>
                  </a:lnTo>
                  <a:lnTo>
                    <a:pt x="6726" y="26326"/>
                  </a:lnTo>
                  <a:lnTo>
                    <a:pt x="6732" y="26286"/>
                  </a:lnTo>
                  <a:lnTo>
                    <a:pt x="6734" y="26246"/>
                  </a:lnTo>
                  <a:lnTo>
                    <a:pt x="6736" y="26208"/>
                  </a:lnTo>
                  <a:lnTo>
                    <a:pt x="6736" y="26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803160" y="3747960"/>
              <a:ext cx="9087120" cy="38643120"/>
            </a:xfrm>
            <a:custGeom>
              <a:avLst/>
              <a:gdLst>
                <a:gd name="textAreaLeft" fmla="*/ 0 w 9087120"/>
                <a:gd name="textAreaRight" fmla="*/ 9087480 w 9087120"/>
                <a:gd name="textAreaTop" fmla="*/ 0 h 38643120"/>
                <a:gd name="textAreaBottom" fmla="*/ 38643480 h 38643120"/>
              </a:gdLst>
              <a:ahLst/>
              <a:rect l="textAreaLeft" t="textAreaTop" r="textAreaRight" b="textAreaBottom"/>
              <a:pathLst>
                <a:path w="5724" h="24342">
                  <a:moveTo>
                    <a:pt x="5724" y="0"/>
                  </a:moveTo>
                  <a:lnTo>
                    <a:pt x="572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9354"/>
                  </a:lnTo>
                  <a:lnTo>
                    <a:pt x="2" y="19354"/>
                  </a:lnTo>
                  <a:lnTo>
                    <a:pt x="0" y="19376"/>
                  </a:lnTo>
                  <a:lnTo>
                    <a:pt x="0" y="19376"/>
                  </a:lnTo>
                  <a:lnTo>
                    <a:pt x="0" y="19408"/>
                  </a:lnTo>
                  <a:lnTo>
                    <a:pt x="0" y="19442"/>
                  </a:lnTo>
                  <a:lnTo>
                    <a:pt x="6" y="19486"/>
                  </a:lnTo>
                  <a:lnTo>
                    <a:pt x="16" y="19536"/>
                  </a:lnTo>
                  <a:lnTo>
                    <a:pt x="22" y="19564"/>
                  </a:lnTo>
                  <a:lnTo>
                    <a:pt x="32" y="19592"/>
                  </a:lnTo>
                  <a:lnTo>
                    <a:pt x="42" y="19620"/>
                  </a:lnTo>
                  <a:lnTo>
                    <a:pt x="54" y="19648"/>
                  </a:lnTo>
                  <a:lnTo>
                    <a:pt x="70" y="19676"/>
                  </a:lnTo>
                  <a:lnTo>
                    <a:pt x="88" y="19704"/>
                  </a:lnTo>
                  <a:lnTo>
                    <a:pt x="88" y="19704"/>
                  </a:lnTo>
                  <a:lnTo>
                    <a:pt x="110" y="19732"/>
                  </a:lnTo>
                  <a:lnTo>
                    <a:pt x="138" y="19764"/>
                  </a:lnTo>
                  <a:lnTo>
                    <a:pt x="172" y="19800"/>
                  </a:lnTo>
                  <a:lnTo>
                    <a:pt x="212" y="19840"/>
                  </a:lnTo>
                  <a:lnTo>
                    <a:pt x="300" y="19924"/>
                  </a:lnTo>
                  <a:lnTo>
                    <a:pt x="396" y="20014"/>
                  </a:lnTo>
                  <a:lnTo>
                    <a:pt x="396" y="20014"/>
                  </a:lnTo>
                  <a:lnTo>
                    <a:pt x="496" y="20106"/>
                  </a:lnTo>
                  <a:lnTo>
                    <a:pt x="602" y="20206"/>
                  </a:lnTo>
                  <a:lnTo>
                    <a:pt x="712" y="20314"/>
                  </a:lnTo>
                  <a:lnTo>
                    <a:pt x="768" y="20372"/>
                  </a:lnTo>
                  <a:lnTo>
                    <a:pt x="826" y="20432"/>
                  </a:lnTo>
                  <a:lnTo>
                    <a:pt x="882" y="20494"/>
                  </a:lnTo>
                  <a:lnTo>
                    <a:pt x="940" y="20558"/>
                  </a:lnTo>
                  <a:lnTo>
                    <a:pt x="996" y="20624"/>
                  </a:lnTo>
                  <a:lnTo>
                    <a:pt x="1054" y="20694"/>
                  </a:lnTo>
                  <a:lnTo>
                    <a:pt x="1110" y="20764"/>
                  </a:lnTo>
                  <a:lnTo>
                    <a:pt x="1164" y="20838"/>
                  </a:lnTo>
                  <a:lnTo>
                    <a:pt x="1218" y="20914"/>
                  </a:lnTo>
                  <a:lnTo>
                    <a:pt x="1272" y="20994"/>
                  </a:lnTo>
                  <a:lnTo>
                    <a:pt x="1322" y="21076"/>
                  </a:lnTo>
                  <a:lnTo>
                    <a:pt x="1372" y="21160"/>
                  </a:lnTo>
                  <a:lnTo>
                    <a:pt x="1420" y="21248"/>
                  </a:lnTo>
                  <a:lnTo>
                    <a:pt x="1466" y="21338"/>
                  </a:lnTo>
                  <a:lnTo>
                    <a:pt x="1508" y="21430"/>
                  </a:lnTo>
                  <a:lnTo>
                    <a:pt x="1550" y="21526"/>
                  </a:lnTo>
                  <a:lnTo>
                    <a:pt x="1586" y="21626"/>
                  </a:lnTo>
                  <a:lnTo>
                    <a:pt x="1622" y="21728"/>
                  </a:lnTo>
                  <a:lnTo>
                    <a:pt x="1654" y="21832"/>
                  </a:lnTo>
                  <a:lnTo>
                    <a:pt x="1682" y="21940"/>
                  </a:lnTo>
                  <a:lnTo>
                    <a:pt x="1706" y="22052"/>
                  </a:lnTo>
                  <a:lnTo>
                    <a:pt x="1726" y="22166"/>
                  </a:lnTo>
                  <a:lnTo>
                    <a:pt x="1742" y="22284"/>
                  </a:lnTo>
                  <a:lnTo>
                    <a:pt x="1748" y="22344"/>
                  </a:lnTo>
                  <a:lnTo>
                    <a:pt x="1754" y="22404"/>
                  </a:lnTo>
                  <a:lnTo>
                    <a:pt x="1758" y="22466"/>
                  </a:lnTo>
                  <a:lnTo>
                    <a:pt x="1760" y="22528"/>
                  </a:lnTo>
                  <a:lnTo>
                    <a:pt x="1762" y="22592"/>
                  </a:lnTo>
                  <a:lnTo>
                    <a:pt x="1764" y="22656"/>
                  </a:lnTo>
                  <a:lnTo>
                    <a:pt x="1764" y="22656"/>
                  </a:lnTo>
                  <a:lnTo>
                    <a:pt x="1764" y="22798"/>
                  </a:lnTo>
                  <a:lnTo>
                    <a:pt x="1768" y="22932"/>
                  </a:lnTo>
                  <a:lnTo>
                    <a:pt x="1776" y="23058"/>
                  </a:lnTo>
                  <a:lnTo>
                    <a:pt x="1784" y="23178"/>
                  </a:lnTo>
                  <a:lnTo>
                    <a:pt x="1796" y="23288"/>
                  </a:lnTo>
                  <a:lnTo>
                    <a:pt x="1810" y="23392"/>
                  </a:lnTo>
                  <a:lnTo>
                    <a:pt x="1826" y="23488"/>
                  </a:lnTo>
                  <a:lnTo>
                    <a:pt x="1844" y="23578"/>
                  </a:lnTo>
                  <a:lnTo>
                    <a:pt x="1864" y="23662"/>
                  </a:lnTo>
                  <a:lnTo>
                    <a:pt x="1888" y="23740"/>
                  </a:lnTo>
                  <a:lnTo>
                    <a:pt x="1912" y="23810"/>
                  </a:lnTo>
                  <a:lnTo>
                    <a:pt x="1940" y="23876"/>
                  </a:lnTo>
                  <a:lnTo>
                    <a:pt x="1968" y="23936"/>
                  </a:lnTo>
                  <a:lnTo>
                    <a:pt x="2000" y="23992"/>
                  </a:lnTo>
                  <a:lnTo>
                    <a:pt x="2032" y="24040"/>
                  </a:lnTo>
                  <a:lnTo>
                    <a:pt x="2066" y="24086"/>
                  </a:lnTo>
                  <a:lnTo>
                    <a:pt x="2102" y="24126"/>
                  </a:lnTo>
                  <a:lnTo>
                    <a:pt x="2140" y="24162"/>
                  </a:lnTo>
                  <a:lnTo>
                    <a:pt x="2180" y="24194"/>
                  </a:lnTo>
                  <a:lnTo>
                    <a:pt x="2222" y="24222"/>
                  </a:lnTo>
                  <a:lnTo>
                    <a:pt x="2264" y="24246"/>
                  </a:lnTo>
                  <a:lnTo>
                    <a:pt x="2308" y="24266"/>
                  </a:lnTo>
                  <a:lnTo>
                    <a:pt x="2354" y="24284"/>
                  </a:lnTo>
                  <a:lnTo>
                    <a:pt x="2400" y="24300"/>
                  </a:lnTo>
                  <a:lnTo>
                    <a:pt x="2450" y="24312"/>
                  </a:lnTo>
                  <a:lnTo>
                    <a:pt x="2498" y="24322"/>
                  </a:lnTo>
                  <a:lnTo>
                    <a:pt x="2550" y="24328"/>
                  </a:lnTo>
                  <a:lnTo>
                    <a:pt x="2600" y="24334"/>
                  </a:lnTo>
                  <a:lnTo>
                    <a:pt x="2654" y="24338"/>
                  </a:lnTo>
                  <a:lnTo>
                    <a:pt x="2708" y="24342"/>
                  </a:lnTo>
                  <a:lnTo>
                    <a:pt x="2818" y="24342"/>
                  </a:lnTo>
                  <a:lnTo>
                    <a:pt x="5300" y="24342"/>
                  </a:lnTo>
                  <a:lnTo>
                    <a:pt x="5300" y="24342"/>
                  </a:lnTo>
                  <a:lnTo>
                    <a:pt x="5324" y="24342"/>
                  </a:lnTo>
                  <a:lnTo>
                    <a:pt x="5346" y="24340"/>
                  </a:lnTo>
                  <a:lnTo>
                    <a:pt x="5370" y="24334"/>
                  </a:lnTo>
                  <a:lnTo>
                    <a:pt x="5392" y="24328"/>
                  </a:lnTo>
                  <a:lnTo>
                    <a:pt x="5414" y="24322"/>
                  </a:lnTo>
                  <a:lnTo>
                    <a:pt x="5434" y="24312"/>
                  </a:lnTo>
                  <a:lnTo>
                    <a:pt x="5456" y="24302"/>
                  </a:lnTo>
                  <a:lnTo>
                    <a:pt x="5476" y="24290"/>
                  </a:lnTo>
                  <a:lnTo>
                    <a:pt x="5494" y="24278"/>
                  </a:lnTo>
                  <a:lnTo>
                    <a:pt x="5512" y="24264"/>
                  </a:lnTo>
                  <a:lnTo>
                    <a:pt x="5548" y="24232"/>
                  </a:lnTo>
                  <a:lnTo>
                    <a:pt x="5580" y="24198"/>
                  </a:lnTo>
                  <a:lnTo>
                    <a:pt x="5610" y="24162"/>
                  </a:lnTo>
                  <a:lnTo>
                    <a:pt x="5636" y="24122"/>
                  </a:lnTo>
                  <a:lnTo>
                    <a:pt x="5658" y="24082"/>
                  </a:lnTo>
                  <a:lnTo>
                    <a:pt x="5678" y="24042"/>
                  </a:lnTo>
                  <a:lnTo>
                    <a:pt x="5694" y="24002"/>
                  </a:lnTo>
                  <a:lnTo>
                    <a:pt x="5708" y="23962"/>
                  </a:lnTo>
                  <a:lnTo>
                    <a:pt x="5716" y="23924"/>
                  </a:lnTo>
                  <a:lnTo>
                    <a:pt x="5722" y="23886"/>
                  </a:lnTo>
                  <a:lnTo>
                    <a:pt x="5724" y="23854"/>
                  </a:lnTo>
                  <a:lnTo>
                    <a:pt x="5724" y="23854"/>
                  </a:lnTo>
                  <a:lnTo>
                    <a:pt x="5724" y="0"/>
                  </a:lnTo>
                  <a:lnTo>
                    <a:pt x="5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203120" y="4147920"/>
              <a:ext cx="8286840" cy="37842840"/>
            </a:xfrm>
            <a:custGeom>
              <a:avLst/>
              <a:gdLst>
                <a:gd name="textAreaLeft" fmla="*/ 0 w 8286840"/>
                <a:gd name="textAreaRight" fmla="*/ 8287200 w 8286840"/>
                <a:gd name="textAreaTop" fmla="*/ 0 h 37842840"/>
                <a:gd name="textAreaBottom" fmla="*/ 37843200 h 37842840"/>
              </a:gdLst>
              <a:ahLst/>
              <a:rect l="textAreaLeft" t="textAreaTop" r="textAreaRight" b="textAreaBottom"/>
              <a:pathLst>
                <a:path w="5220" h="23838">
                  <a:moveTo>
                    <a:pt x="5220" y="0"/>
                  </a:moveTo>
                  <a:lnTo>
                    <a:pt x="522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9114"/>
                  </a:lnTo>
                  <a:lnTo>
                    <a:pt x="2" y="19114"/>
                  </a:lnTo>
                  <a:lnTo>
                    <a:pt x="0" y="19142"/>
                  </a:lnTo>
                  <a:lnTo>
                    <a:pt x="0" y="19142"/>
                  </a:lnTo>
                  <a:lnTo>
                    <a:pt x="0" y="19172"/>
                  </a:lnTo>
                  <a:lnTo>
                    <a:pt x="2" y="19192"/>
                  </a:lnTo>
                  <a:lnTo>
                    <a:pt x="6" y="19216"/>
                  </a:lnTo>
                  <a:lnTo>
                    <a:pt x="12" y="19238"/>
                  </a:lnTo>
                  <a:lnTo>
                    <a:pt x="20" y="19262"/>
                  </a:lnTo>
                  <a:lnTo>
                    <a:pt x="30" y="19286"/>
                  </a:lnTo>
                  <a:lnTo>
                    <a:pt x="44" y="19308"/>
                  </a:lnTo>
                  <a:lnTo>
                    <a:pt x="44" y="19308"/>
                  </a:lnTo>
                  <a:lnTo>
                    <a:pt x="60" y="19330"/>
                  </a:lnTo>
                  <a:lnTo>
                    <a:pt x="86" y="19358"/>
                  </a:lnTo>
                  <a:lnTo>
                    <a:pt x="156" y="19426"/>
                  </a:lnTo>
                  <a:lnTo>
                    <a:pt x="236" y="19504"/>
                  </a:lnTo>
                  <a:lnTo>
                    <a:pt x="314" y="19576"/>
                  </a:lnTo>
                  <a:lnTo>
                    <a:pt x="314" y="19576"/>
                  </a:lnTo>
                  <a:lnTo>
                    <a:pt x="414" y="19668"/>
                  </a:lnTo>
                  <a:lnTo>
                    <a:pt x="522" y="19770"/>
                  </a:lnTo>
                  <a:lnTo>
                    <a:pt x="636" y="19882"/>
                  </a:lnTo>
                  <a:lnTo>
                    <a:pt x="696" y="19942"/>
                  </a:lnTo>
                  <a:lnTo>
                    <a:pt x="754" y="20006"/>
                  </a:lnTo>
                  <a:lnTo>
                    <a:pt x="814" y="20070"/>
                  </a:lnTo>
                  <a:lnTo>
                    <a:pt x="876" y="20138"/>
                  </a:lnTo>
                  <a:lnTo>
                    <a:pt x="936" y="20210"/>
                  </a:lnTo>
                  <a:lnTo>
                    <a:pt x="996" y="20282"/>
                  </a:lnTo>
                  <a:lnTo>
                    <a:pt x="1056" y="20360"/>
                  </a:lnTo>
                  <a:lnTo>
                    <a:pt x="1114" y="20438"/>
                  </a:lnTo>
                  <a:lnTo>
                    <a:pt x="1172" y="20520"/>
                  </a:lnTo>
                  <a:lnTo>
                    <a:pt x="1230" y="20606"/>
                  </a:lnTo>
                  <a:lnTo>
                    <a:pt x="1284" y="20694"/>
                  </a:lnTo>
                  <a:lnTo>
                    <a:pt x="1338" y="20786"/>
                  </a:lnTo>
                  <a:lnTo>
                    <a:pt x="1390" y="20880"/>
                  </a:lnTo>
                  <a:lnTo>
                    <a:pt x="1438" y="20978"/>
                  </a:lnTo>
                  <a:lnTo>
                    <a:pt x="1486" y="21078"/>
                  </a:lnTo>
                  <a:lnTo>
                    <a:pt x="1530" y="21182"/>
                  </a:lnTo>
                  <a:lnTo>
                    <a:pt x="1570" y="21288"/>
                  </a:lnTo>
                  <a:lnTo>
                    <a:pt x="1608" y="21398"/>
                  </a:lnTo>
                  <a:lnTo>
                    <a:pt x="1642" y="21512"/>
                  </a:lnTo>
                  <a:lnTo>
                    <a:pt x="1674" y="21630"/>
                  </a:lnTo>
                  <a:lnTo>
                    <a:pt x="1688" y="21690"/>
                  </a:lnTo>
                  <a:lnTo>
                    <a:pt x="1700" y="21750"/>
                  </a:lnTo>
                  <a:lnTo>
                    <a:pt x="1712" y="21812"/>
                  </a:lnTo>
                  <a:lnTo>
                    <a:pt x="1722" y="21874"/>
                  </a:lnTo>
                  <a:lnTo>
                    <a:pt x="1732" y="21936"/>
                  </a:lnTo>
                  <a:lnTo>
                    <a:pt x="1740" y="22000"/>
                  </a:lnTo>
                  <a:lnTo>
                    <a:pt x="1748" y="22066"/>
                  </a:lnTo>
                  <a:lnTo>
                    <a:pt x="1754" y="22132"/>
                  </a:lnTo>
                  <a:lnTo>
                    <a:pt x="1758" y="22198"/>
                  </a:lnTo>
                  <a:lnTo>
                    <a:pt x="1762" y="22266"/>
                  </a:lnTo>
                  <a:lnTo>
                    <a:pt x="1764" y="22334"/>
                  </a:lnTo>
                  <a:lnTo>
                    <a:pt x="1764" y="22404"/>
                  </a:lnTo>
                  <a:lnTo>
                    <a:pt x="1764" y="22404"/>
                  </a:lnTo>
                  <a:lnTo>
                    <a:pt x="1764" y="22534"/>
                  </a:lnTo>
                  <a:lnTo>
                    <a:pt x="1768" y="22656"/>
                  </a:lnTo>
                  <a:lnTo>
                    <a:pt x="1774" y="22770"/>
                  </a:lnTo>
                  <a:lnTo>
                    <a:pt x="1780" y="22878"/>
                  </a:lnTo>
                  <a:lnTo>
                    <a:pt x="1790" y="22976"/>
                  </a:lnTo>
                  <a:lnTo>
                    <a:pt x="1800" y="23068"/>
                  </a:lnTo>
                  <a:lnTo>
                    <a:pt x="1814" y="23154"/>
                  </a:lnTo>
                  <a:lnTo>
                    <a:pt x="1828" y="23234"/>
                  </a:lnTo>
                  <a:lnTo>
                    <a:pt x="1846" y="23306"/>
                  </a:lnTo>
                  <a:lnTo>
                    <a:pt x="1864" y="23372"/>
                  </a:lnTo>
                  <a:lnTo>
                    <a:pt x="1882" y="23432"/>
                  </a:lnTo>
                  <a:lnTo>
                    <a:pt x="1904" y="23488"/>
                  </a:lnTo>
                  <a:lnTo>
                    <a:pt x="1926" y="23538"/>
                  </a:lnTo>
                  <a:lnTo>
                    <a:pt x="1950" y="23584"/>
                  </a:lnTo>
                  <a:lnTo>
                    <a:pt x="1976" y="23624"/>
                  </a:lnTo>
                  <a:lnTo>
                    <a:pt x="2004" y="23660"/>
                  </a:lnTo>
                  <a:lnTo>
                    <a:pt x="2032" y="23690"/>
                  </a:lnTo>
                  <a:lnTo>
                    <a:pt x="2060" y="23718"/>
                  </a:lnTo>
                  <a:lnTo>
                    <a:pt x="2092" y="23742"/>
                  </a:lnTo>
                  <a:lnTo>
                    <a:pt x="2122" y="23762"/>
                  </a:lnTo>
                  <a:lnTo>
                    <a:pt x="2156" y="23780"/>
                  </a:lnTo>
                  <a:lnTo>
                    <a:pt x="2188" y="23794"/>
                  </a:lnTo>
                  <a:lnTo>
                    <a:pt x="2224" y="23806"/>
                  </a:lnTo>
                  <a:lnTo>
                    <a:pt x="2258" y="23816"/>
                  </a:lnTo>
                  <a:lnTo>
                    <a:pt x="2294" y="23824"/>
                  </a:lnTo>
                  <a:lnTo>
                    <a:pt x="2332" y="23828"/>
                  </a:lnTo>
                  <a:lnTo>
                    <a:pt x="2370" y="23832"/>
                  </a:lnTo>
                  <a:lnTo>
                    <a:pt x="2408" y="23836"/>
                  </a:lnTo>
                  <a:lnTo>
                    <a:pt x="2486" y="23838"/>
                  </a:lnTo>
                  <a:lnTo>
                    <a:pt x="2566" y="23838"/>
                  </a:lnTo>
                  <a:lnTo>
                    <a:pt x="5048" y="23838"/>
                  </a:lnTo>
                  <a:lnTo>
                    <a:pt x="5048" y="23838"/>
                  </a:lnTo>
                  <a:lnTo>
                    <a:pt x="5062" y="23836"/>
                  </a:lnTo>
                  <a:lnTo>
                    <a:pt x="5078" y="23832"/>
                  </a:lnTo>
                  <a:lnTo>
                    <a:pt x="5094" y="23822"/>
                  </a:lnTo>
                  <a:lnTo>
                    <a:pt x="5108" y="23812"/>
                  </a:lnTo>
                  <a:lnTo>
                    <a:pt x="5122" y="23798"/>
                  </a:lnTo>
                  <a:lnTo>
                    <a:pt x="5138" y="23782"/>
                  </a:lnTo>
                  <a:lnTo>
                    <a:pt x="5150" y="23764"/>
                  </a:lnTo>
                  <a:lnTo>
                    <a:pt x="5164" y="23746"/>
                  </a:lnTo>
                  <a:lnTo>
                    <a:pt x="5186" y="23706"/>
                  </a:lnTo>
                  <a:lnTo>
                    <a:pt x="5204" y="23668"/>
                  </a:lnTo>
                  <a:lnTo>
                    <a:pt x="5210" y="23650"/>
                  </a:lnTo>
                  <a:lnTo>
                    <a:pt x="5216" y="23632"/>
                  </a:lnTo>
                  <a:lnTo>
                    <a:pt x="5218" y="23616"/>
                  </a:lnTo>
                  <a:lnTo>
                    <a:pt x="5220" y="23602"/>
                  </a:lnTo>
                  <a:lnTo>
                    <a:pt x="5220" y="23602"/>
                  </a:lnTo>
                  <a:lnTo>
                    <a:pt x="5220" y="0"/>
                  </a:lnTo>
                  <a:lnTo>
                    <a:pt x="5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1336680" y="4281480"/>
              <a:ext cx="8020080" cy="37576080"/>
            </a:xfrm>
            <a:custGeom>
              <a:avLst/>
              <a:gdLst>
                <a:gd name="textAreaLeft" fmla="*/ 0 w 8020080"/>
                <a:gd name="textAreaRight" fmla="*/ 8020440 w 8020080"/>
                <a:gd name="textAreaTop" fmla="*/ 0 h 37576080"/>
                <a:gd name="textAreaBottom" fmla="*/ 37576440 h 37576080"/>
              </a:gdLst>
              <a:ahLst/>
              <a:rect l="textAreaLeft" t="textAreaTop" r="textAreaRight" b="textAreaBottom"/>
              <a:pathLst>
                <a:path w="5052" h="23670">
                  <a:moveTo>
                    <a:pt x="5052" y="0"/>
                  </a:moveTo>
                  <a:lnTo>
                    <a:pt x="505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9034"/>
                  </a:lnTo>
                  <a:lnTo>
                    <a:pt x="2" y="19034"/>
                  </a:lnTo>
                  <a:lnTo>
                    <a:pt x="0" y="19062"/>
                  </a:lnTo>
                  <a:lnTo>
                    <a:pt x="0" y="19062"/>
                  </a:lnTo>
                  <a:lnTo>
                    <a:pt x="2" y="19088"/>
                  </a:lnTo>
                  <a:lnTo>
                    <a:pt x="6" y="19120"/>
                  </a:lnTo>
                  <a:lnTo>
                    <a:pt x="16" y="19150"/>
                  </a:lnTo>
                  <a:lnTo>
                    <a:pt x="22" y="19164"/>
                  </a:lnTo>
                  <a:lnTo>
                    <a:pt x="28" y="19176"/>
                  </a:lnTo>
                  <a:lnTo>
                    <a:pt x="28" y="19176"/>
                  </a:lnTo>
                  <a:lnTo>
                    <a:pt x="46" y="19196"/>
                  </a:lnTo>
                  <a:lnTo>
                    <a:pt x="70" y="19224"/>
                  </a:lnTo>
                  <a:lnTo>
                    <a:pt x="138" y="19290"/>
                  </a:lnTo>
                  <a:lnTo>
                    <a:pt x="216" y="19364"/>
                  </a:lnTo>
                  <a:lnTo>
                    <a:pt x="288" y="19430"/>
                  </a:lnTo>
                  <a:lnTo>
                    <a:pt x="288" y="19430"/>
                  </a:lnTo>
                  <a:lnTo>
                    <a:pt x="390" y="19524"/>
                  </a:lnTo>
                  <a:lnTo>
                    <a:pt x="500" y="19628"/>
                  </a:lnTo>
                  <a:lnTo>
                    <a:pt x="616" y="19742"/>
                  </a:lnTo>
                  <a:lnTo>
                    <a:pt x="676" y="19804"/>
                  </a:lnTo>
                  <a:lnTo>
                    <a:pt x="736" y="19868"/>
                  </a:lnTo>
                  <a:lnTo>
                    <a:pt x="798" y="19934"/>
                  </a:lnTo>
                  <a:lnTo>
                    <a:pt x="858" y="20004"/>
                  </a:lnTo>
                  <a:lnTo>
                    <a:pt x="920" y="20076"/>
                  </a:lnTo>
                  <a:lnTo>
                    <a:pt x="982" y="20150"/>
                  </a:lnTo>
                  <a:lnTo>
                    <a:pt x="1042" y="20228"/>
                  </a:lnTo>
                  <a:lnTo>
                    <a:pt x="1102" y="20310"/>
                  </a:lnTo>
                  <a:lnTo>
                    <a:pt x="1162" y="20394"/>
                  </a:lnTo>
                  <a:lnTo>
                    <a:pt x="1220" y="20480"/>
                  </a:lnTo>
                  <a:lnTo>
                    <a:pt x="1276" y="20570"/>
                  </a:lnTo>
                  <a:lnTo>
                    <a:pt x="1330" y="20664"/>
                  </a:lnTo>
                  <a:lnTo>
                    <a:pt x="1382" y="20760"/>
                  </a:lnTo>
                  <a:lnTo>
                    <a:pt x="1432" y="20860"/>
                  </a:lnTo>
                  <a:lnTo>
                    <a:pt x="1480" y="20962"/>
                  </a:lnTo>
                  <a:lnTo>
                    <a:pt x="1526" y="21068"/>
                  </a:lnTo>
                  <a:lnTo>
                    <a:pt x="1568" y="21178"/>
                  </a:lnTo>
                  <a:lnTo>
                    <a:pt x="1606" y="21290"/>
                  </a:lnTo>
                  <a:lnTo>
                    <a:pt x="1640" y="21408"/>
                  </a:lnTo>
                  <a:lnTo>
                    <a:pt x="1672" y="21526"/>
                  </a:lnTo>
                  <a:lnTo>
                    <a:pt x="1686" y="21588"/>
                  </a:lnTo>
                  <a:lnTo>
                    <a:pt x="1698" y="21650"/>
                  </a:lnTo>
                  <a:lnTo>
                    <a:pt x="1710" y="21712"/>
                  </a:lnTo>
                  <a:lnTo>
                    <a:pt x="1722" y="21776"/>
                  </a:lnTo>
                  <a:lnTo>
                    <a:pt x="1732" y="21842"/>
                  </a:lnTo>
                  <a:lnTo>
                    <a:pt x="1740" y="21906"/>
                  </a:lnTo>
                  <a:lnTo>
                    <a:pt x="1748" y="21974"/>
                  </a:lnTo>
                  <a:lnTo>
                    <a:pt x="1754" y="22040"/>
                  </a:lnTo>
                  <a:lnTo>
                    <a:pt x="1758" y="22110"/>
                  </a:lnTo>
                  <a:lnTo>
                    <a:pt x="1762" y="22178"/>
                  </a:lnTo>
                  <a:lnTo>
                    <a:pt x="1764" y="22248"/>
                  </a:lnTo>
                  <a:lnTo>
                    <a:pt x="1764" y="22320"/>
                  </a:lnTo>
                  <a:lnTo>
                    <a:pt x="1764" y="22320"/>
                  </a:lnTo>
                  <a:lnTo>
                    <a:pt x="1764" y="22442"/>
                  </a:lnTo>
                  <a:lnTo>
                    <a:pt x="1768" y="22558"/>
                  </a:lnTo>
                  <a:lnTo>
                    <a:pt x="1772" y="22666"/>
                  </a:lnTo>
                  <a:lnTo>
                    <a:pt x="1778" y="22766"/>
                  </a:lnTo>
                  <a:lnTo>
                    <a:pt x="1786" y="22860"/>
                  </a:lnTo>
                  <a:lnTo>
                    <a:pt x="1794" y="22946"/>
                  </a:lnTo>
                  <a:lnTo>
                    <a:pt x="1806" y="23026"/>
                  </a:lnTo>
                  <a:lnTo>
                    <a:pt x="1818" y="23100"/>
                  </a:lnTo>
                  <a:lnTo>
                    <a:pt x="1832" y="23168"/>
                  </a:lnTo>
                  <a:lnTo>
                    <a:pt x="1846" y="23232"/>
                  </a:lnTo>
                  <a:lnTo>
                    <a:pt x="1864" y="23288"/>
                  </a:lnTo>
                  <a:lnTo>
                    <a:pt x="1882" y="23340"/>
                  </a:lnTo>
                  <a:lnTo>
                    <a:pt x="1900" y="23388"/>
                  </a:lnTo>
                  <a:lnTo>
                    <a:pt x="1922" y="23430"/>
                  </a:lnTo>
                  <a:lnTo>
                    <a:pt x="1944" y="23468"/>
                  </a:lnTo>
                  <a:lnTo>
                    <a:pt x="1966" y="23502"/>
                  </a:lnTo>
                  <a:lnTo>
                    <a:pt x="1992" y="23532"/>
                  </a:lnTo>
                  <a:lnTo>
                    <a:pt x="2016" y="23558"/>
                  </a:lnTo>
                  <a:lnTo>
                    <a:pt x="2044" y="23580"/>
                  </a:lnTo>
                  <a:lnTo>
                    <a:pt x="2072" y="23600"/>
                  </a:lnTo>
                  <a:lnTo>
                    <a:pt x="2100" y="23616"/>
                  </a:lnTo>
                  <a:lnTo>
                    <a:pt x="2130" y="23630"/>
                  </a:lnTo>
                  <a:lnTo>
                    <a:pt x="2162" y="23640"/>
                  </a:lnTo>
                  <a:lnTo>
                    <a:pt x="2194" y="23650"/>
                  </a:lnTo>
                  <a:lnTo>
                    <a:pt x="2226" y="23656"/>
                  </a:lnTo>
                  <a:lnTo>
                    <a:pt x="2260" y="23662"/>
                  </a:lnTo>
                  <a:lnTo>
                    <a:pt x="2296" y="23666"/>
                  </a:lnTo>
                  <a:lnTo>
                    <a:pt x="2332" y="23668"/>
                  </a:lnTo>
                  <a:lnTo>
                    <a:pt x="2404" y="23670"/>
                  </a:lnTo>
                  <a:lnTo>
                    <a:pt x="2482" y="23670"/>
                  </a:lnTo>
                  <a:lnTo>
                    <a:pt x="2482" y="23670"/>
                  </a:lnTo>
                  <a:lnTo>
                    <a:pt x="4958" y="23670"/>
                  </a:lnTo>
                  <a:lnTo>
                    <a:pt x="4958" y="23670"/>
                  </a:lnTo>
                  <a:lnTo>
                    <a:pt x="4970" y="23662"/>
                  </a:lnTo>
                  <a:lnTo>
                    <a:pt x="4986" y="23646"/>
                  </a:lnTo>
                  <a:lnTo>
                    <a:pt x="5000" y="23628"/>
                  </a:lnTo>
                  <a:lnTo>
                    <a:pt x="5016" y="23606"/>
                  </a:lnTo>
                  <a:lnTo>
                    <a:pt x="5028" y="23582"/>
                  </a:lnTo>
                  <a:lnTo>
                    <a:pt x="5040" y="23558"/>
                  </a:lnTo>
                  <a:lnTo>
                    <a:pt x="5048" y="23534"/>
                  </a:lnTo>
                  <a:lnTo>
                    <a:pt x="5052" y="23514"/>
                  </a:lnTo>
                  <a:lnTo>
                    <a:pt x="5052" y="23514"/>
                  </a:lnTo>
                  <a:lnTo>
                    <a:pt x="5052" y="0"/>
                  </a:lnTo>
                  <a:lnTo>
                    <a:pt x="50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739476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735984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671220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667692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602928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599436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534672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531180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466416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62924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398124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94632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329868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263760" y="195120"/>
              <a:ext cx="752400" cy="29556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4" h="1862">
                  <a:moveTo>
                    <a:pt x="44" y="184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4" y="1840"/>
                  </a:lnTo>
                  <a:close/>
                  <a:moveTo>
                    <a:pt x="474" y="1840"/>
                  </a:moveTo>
                  <a:lnTo>
                    <a:pt x="474" y="22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4" y="1862"/>
                  </a:lnTo>
                  <a:lnTo>
                    <a:pt x="474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261612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258444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0" y="44"/>
                  </a:lnTo>
                  <a:lnTo>
                    <a:pt x="450" y="44"/>
                  </a:lnTo>
                  <a:lnTo>
                    <a:pt x="428" y="22"/>
                  </a:lnTo>
                  <a:lnTo>
                    <a:pt x="428" y="1840"/>
                  </a:lnTo>
                  <a:lnTo>
                    <a:pt x="450" y="1818"/>
                  </a:lnTo>
                  <a:lnTo>
                    <a:pt x="20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0" y="1862"/>
                  </a:lnTo>
                  <a:lnTo>
                    <a:pt x="450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193356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190188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0" y="44"/>
                  </a:lnTo>
                  <a:lnTo>
                    <a:pt x="450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0" y="1818"/>
                  </a:lnTo>
                  <a:lnTo>
                    <a:pt x="20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0" y="1862"/>
                  </a:lnTo>
                  <a:lnTo>
                    <a:pt x="450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125064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121896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0" y="44"/>
                  </a:lnTo>
                  <a:lnTo>
                    <a:pt x="450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0" y="1818"/>
                  </a:lnTo>
                  <a:lnTo>
                    <a:pt x="20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0" y="1862"/>
                  </a:lnTo>
                  <a:lnTo>
                    <a:pt x="450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56808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53640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0" y="44"/>
                  </a:lnTo>
                  <a:lnTo>
                    <a:pt x="450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0" y="1818"/>
                  </a:lnTo>
                  <a:lnTo>
                    <a:pt x="20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0" y="1862"/>
                  </a:lnTo>
                  <a:lnTo>
                    <a:pt x="450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1"/>
            <p:cNvSpPr/>
            <p:nvPr/>
          </p:nvSpPr>
          <p:spPr>
            <a:xfrm>
              <a:off x="722304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6540480" y="1191960"/>
              <a:ext cx="34272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33"/>
            <p:cNvSpPr/>
            <p:nvPr/>
          </p:nvSpPr>
          <p:spPr>
            <a:xfrm>
              <a:off x="5857920" y="1191960"/>
              <a:ext cx="34272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4"/>
            <p:cNvSpPr/>
            <p:nvPr/>
          </p:nvSpPr>
          <p:spPr>
            <a:xfrm>
              <a:off x="244800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5"/>
            <p:cNvSpPr/>
            <p:nvPr/>
          </p:nvSpPr>
          <p:spPr>
            <a:xfrm>
              <a:off x="176508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>
              <a:off x="108252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37"/>
            <p:cNvSpPr/>
            <p:nvPr/>
          </p:nvSpPr>
          <p:spPr>
            <a:xfrm>
              <a:off x="4492440" y="1191960"/>
              <a:ext cx="34272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38"/>
            <p:cNvSpPr/>
            <p:nvPr/>
          </p:nvSpPr>
          <p:spPr>
            <a:xfrm>
              <a:off x="3809880" y="1191960"/>
              <a:ext cx="34272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39"/>
            <p:cNvSpPr/>
            <p:nvPr/>
          </p:nvSpPr>
          <p:spPr>
            <a:xfrm>
              <a:off x="9442800" y="230040"/>
              <a:ext cx="67932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40752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2" y="44"/>
                  </a:lnTo>
                  <a:lnTo>
                    <a:pt x="450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0" y="1818"/>
                  </a:lnTo>
                  <a:lnTo>
                    <a:pt x="22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0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1"/>
            <p:cNvSpPr/>
            <p:nvPr/>
          </p:nvSpPr>
          <p:spPr>
            <a:xfrm>
              <a:off x="875988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72496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3"/>
            <p:cNvSpPr/>
            <p:nvPr/>
          </p:nvSpPr>
          <p:spPr>
            <a:xfrm>
              <a:off x="8077320" y="230040"/>
              <a:ext cx="682560" cy="28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8042400" y="195120"/>
              <a:ext cx="749160" cy="2955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955600"/>
                <a:gd name="textAreaBottom" fmla="*/ 2955960 h 2955600"/>
              </a:gdLst>
              <a:ahLst/>
              <a:rect l="textAreaLeft" t="textAreaTop" r="textAreaRight" b="textAreaBottom"/>
              <a:pathLst>
                <a:path w="472" h="1862">
                  <a:moveTo>
                    <a:pt x="42" y="1840"/>
                  </a:moveTo>
                  <a:lnTo>
                    <a:pt x="42" y="22"/>
                  </a:lnTo>
                  <a:lnTo>
                    <a:pt x="22" y="44"/>
                  </a:lnTo>
                  <a:lnTo>
                    <a:pt x="452" y="44"/>
                  </a:lnTo>
                  <a:lnTo>
                    <a:pt x="430" y="22"/>
                  </a:lnTo>
                  <a:lnTo>
                    <a:pt x="430" y="1840"/>
                  </a:lnTo>
                  <a:lnTo>
                    <a:pt x="452" y="1818"/>
                  </a:lnTo>
                  <a:lnTo>
                    <a:pt x="22" y="1818"/>
                  </a:lnTo>
                  <a:lnTo>
                    <a:pt x="42" y="1840"/>
                  </a:lnTo>
                  <a:close/>
                  <a:moveTo>
                    <a:pt x="472" y="1840"/>
                  </a:moveTo>
                  <a:lnTo>
                    <a:pt x="472" y="22"/>
                  </a:lnTo>
                  <a:lnTo>
                    <a:pt x="472" y="0"/>
                  </a:lnTo>
                  <a:lnTo>
                    <a:pt x="45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1840"/>
                  </a:lnTo>
                  <a:lnTo>
                    <a:pt x="0" y="1862"/>
                  </a:lnTo>
                  <a:lnTo>
                    <a:pt x="22" y="1862"/>
                  </a:lnTo>
                  <a:lnTo>
                    <a:pt x="452" y="1862"/>
                  </a:lnTo>
                  <a:lnTo>
                    <a:pt x="472" y="1862"/>
                  </a:lnTo>
                  <a:lnTo>
                    <a:pt x="472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5"/>
            <p:cNvSpPr/>
            <p:nvPr/>
          </p:nvSpPr>
          <p:spPr>
            <a:xfrm>
              <a:off x="927108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6"/>
            <p:cNvSpPr/>
            <p:nvPr/>
          </p:nvSpPr>
          <p:spPr>
            <a:xfrm>
              <a:off x="8588520" y="1191960"/>
              <a:ext cx="339480" cy="19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グループ化 50"/>
          <p:cNvGrpSpPr/>
          <p:nvPr/>
        </p:nvGrpSpPr>
        <p:grpSpPr>
          <a:xfrm>
            <a:off x="1530360" y="4600440"/>
            <a:ext cx="7442280" cy="36620640"/>
            <a:chOff x="1530360" y="4600440"/>
            <a:chExt cx="7442280" cy="36620640"/>
          </a:xfrm>
        </p:grpSpPr>
        <p:sp>
          <p:nvSpPr>
            <p:cNvPr id="85" name="Freeform 5"/>
            <p:cNvSpPr/>
            <p:nvPr/>
          </p:nvSpPr>
          <p:spPr>
            <a:xfrm>
              <a:off x="1679400" y="4600440"/>
              <a:ext cx="7112160" cy="14675040"/>
            </a:xfrm>
            <a:custGeom>
              <a:avLst/>
              <a:gdLst>
                <a:gd name="textAreaLeft" fmla="*/ 0 w 7112160"/>
                <a:gd name="textAreaRight" fmla="*/ 7112520 w 7112160"/>
                <a:gd name="textAreaTop" fmla="*/ 0 h 14675040"/>
                <a:gd name="textAreaBottom" fmla="*/ 14675400 h 14675040"/>
              </a:gdLst>
              <a:ahLst/>
              <a:rect l="textAreaLeft" t="textAreaTop" r="textAreaRight" b="textAreaBottom"/>
              <a:pathLst>
                <a:path w="4480" h="9244">
                  <a:moveTo>
                    <a:pt x="4158" y="2416"/>
                  </a:moveTo>
                  <a:lnTo>
                    <a:pt x="4158" y="2416"/>
                  </a:lnTo>
                  <a:lnTo>
                    <a:pt x="4120" y="2352"/>
                  </a:lnTo>
                  <a:lnTo>
                    <a:pt x="4082" y="2290"/>
                  </a:lnTo>
                  <a:lnTo>
                    <a:pt x="4040" y="2232"/>
                  </a:lnTo>
                  <a:lnTo>
                    <a:pt x="3998" y="2174"/>
                  </a:lnTo>
                  <a:lnTo>
                    <a:pt x="3954" y="2120"/>
                  </a:lnTo>
                  <a:lnTo>
                    <a:pt x="3908" y="2068"/>
                  </a:lnTo>
                  <a:lnTo>
                    <a:pt x="3862" y="2018"/>
                  </a:lnTo>
                  <a:lnTo>
                    <a:pt x="3814" y="1970"/>
                  </a:lnTo>
                  <a:lnTo>
                    <a:pt x="3764" y="1924"/>
                  </a:lnTo>
                  <a:lnTo>
                    <a:pt x="3714" y="1880"/>
                  </a:lnTo>
                  <a:lnTo>
                    <a:pt x="3662" y="1838"/>
                  </a:lnTo>
                  <a:lnTo>
                    <a:pt x="3610" y="1796"/>
                  </a:lnTo>
                  <a:lnTo>
                    <a:pt x="3556" y="1758"/>
                  </a:lnTo>
                  <a:lnTo>
                    <a:pt x="3502" y="1720"/>
                  </a:lnTo>
                  <a:lnTo>
                    <a:pt x="3446" y="1684"/>
                  </a:lnTo>
                  <a:lnTo>
                    <a:pt x="3390" y="1648"/>
                  </a:lnTo>
                  <a:lnTo>
                    <a:pt x="3332" y="1616"/>
                  </a:lnTo>
                  <a:lnTo>
                    <a:pt x="3274" y="1582"/>
                  </a:lnTo>
                  <a:lnTo>
                    <a:pt x="3216" y="1552"/>
                  </a:lnTo>
                  <a:lnTo>
                    <a:pt x="3156" y="1522"/>
                  </a:lnTo>
                  <a:lnTo>
                    <a:pt x="3034" y="1464"/>
                  </a:lnTo>
                  <a:lnTo>
                    <a:pt x="2912" y="1410"/>
                  </a:lnTo>
                  <a:lnTo>
                    <a:pt x="2786" y="1358"/>
                  </a:lnTo>
                  <a:lnTo>
                    <a:pt x="2660" y="1308"/>
                  </a:lnTo>
                  <a:lnTo>
                    <a:pt x="2404" y="1212"/>
                  </a:lnTo>
                  <a:lnTo>
                    <a:pt x="2146" y="1116"/>
                  </a:lnTo>
                  <a:lnTo>
                    <a:pt x="2018" y="1066"/>
                  </a:lnTo>
                  <a:lnTo>
                    <a:pt x="1890" y="1014"/>
                  </a:lnTo>
                  <a:lnTo>
                    <a:pt x="1764" y="960"/>
                  </a:lnTo>
                  <a:lnTo>
                    <a:pt x="1638" y="902"/>
                  </a:lnTo>
                  <a:lnTo>
                    <a:pt x="1576" y="870"/>
                  </a:lnTo>
                  <a:lnTo>
                    <a:pt x="1516" y="840"/>
                  </a:lnTo>
                  <a:lnTo>
                    <a:pt x="1456" y="808"/>
                  </a:lnTo>
                  <a:lnTo>
                    <a:pt x="1396" y="774"/>
                  </a:lnTo>
                  <a:lnTo>
                    <a:pt x="1336" y="738"/>
                  </a:lnTo>
                  <a:lnTo>
                    <a:pt x="1278" y="702"/>
                  </a:lnTo>
                  <a:lnTo>
                    <a:pt x="1220" y="664"/>
                  </a:lnTo>
                  <a:lnTo>
                    <a:pt x="1162" y="624"/>
                  </a:lnTo>
                  <a:lnTo>
                    <a:pt x="1106" y="584"/>
                  </a:lnTo>
                  <a:lnTo>
                    <a:pt x="1052" y="540"/>
                  </a:lnTo>
                  <a:lnTo>
                    <a:pt x="996" y="496"/>
                  </a:lnTo>
                  <a:lnTo>
                    <a:pt x="944" y="450"/>
                  </a:lnTo>
                  <a:lnTo>
                    <a:pt x="892" y="402"/>
                  </a:lnTo>
                  <a:lnTo>
                    <a:pt x="840" y="350"/>
                  </a:lnTo>
                  <a:lnTo>
                    <a:pt x="790" y="298"/>
                  </a:lnTo>
                  <a:lnTo>
                    <a:pt x="742" y="244"/>
                  </a:lnTo>
                  <a:lnTo>
                    <a:pt x="694" y="186"/>
                  </a:lnTo>
                  <a:lnTo>
                    <a:pt x="648" y="126"/>
                  </a:lnTo>
                  <a:lnTo>
                    <a:pt x="604" y="66"/>
                  </a:lnTo>
                  <a:lnTo>
                    <a:pt x="560" y="0"/>
                  </a:lnTo>
                  <a:lnTo>
                    <a:pt x="2168" y="6740"/>
                  </a:lnTo>
                  <a:lnTo>
                    <a:pt x="2168" y="6740"/>
                  </a:lnTo>
                  <a:lnTo>
                    <a:pt x="2076" y="6744"/>
                  </a:lnTo>
                  <a:lnTo>
                    <a:pt x="1988" y="6750"/>
                  </a:lnTo>
                  <a:lnTo>
                    <a:pt x="1900" y="6756"/>
                  </a:lnTo>
                  <a:lnTo>
                    <a:pt x="1816" y="6766"/>
                  </a:lnTo>
                  <a:lnTo>
                    <a:pt x="1732" y="6776"/>
                  </a:lnTo>
                  <a:lnTo>
                    <a:pt x="1652" y="6788"/>
                  </a:lnTo>
                  <a:lnTo>
                    <a:pt x="1574" y="6802"/>
                  </a:lnTo>
                  <a:lnTo>
                    <a:pt x="1496" y="6818"/>
                  </a:lnTo>
                  <a:lnTo>
                    <a:pt x="1422" y="6836"/>
                  </a:lnTo>
                  <a:lnTo>
                    <a:pt x="1350" y="6854"/>
                  </a:lnTo>
                  <a:lnTo>
                    <a:pt x="1280" y="6874"/>
                  </a:lnTo>
                  <a:lnTo>
                    <a:pt x="1212" y="6896"/>
                  </a:lnTo>
                  <a:lnTo>
                    <a:pt x="1144" y="6920"/>
                  </a:lnTo>
                  <a:lnTo>
                    <a:pt x="1080" y="6944"/>
                  </a:lnTo>
                  <a:lnTo>
                    <a:pt x="1018" y="6970"/>
                  </a:lnTo>
                  <a:lnTo>
                    <a:pt x="958" y="6998"/>
                  </a:lnTo>
                  <a:lnTo>
                    <a:pt x="900" y="7026"/>
                  </a:lnTo>
                  <a:lnTo>
                    <a:pt x="842" y="7056"/>
                  </a:lnTo>
                  <a:lnTo>
                    <a:pt x="788" y="7086"/>
                  </a:lnTo>
                  <a:lnTo>
                    <a:pt x="736" y="7118"/>
                  </a:lnTo>
                  <a:lnTo>
                    <a:pt x="686" y="7150"/>
                  </a:lnTo>
                  <a:lnTo>
                    <a:pt x="636" y="7184"/>
                  </a:lnTo>
                  <a:lnTo>
                    <a:pt x="590" y="7218"/>
                  </a:lnTo>
                  <a:lnTo>
                    <a:pt x="544" y="7254"/>
                  </a:lnTo>
                  <a:lnTo>
                    <a:pt x="502" y="7290"/>
                  </a:lnTo>
                  <a:lnTo>
                    <a:pt x="460" y="7328"/>
                  </a:lnTo>
                  <a:lnTo>
                    <a:pt x="422" y="7364"/>
                  </a:lnTo>
                  <a:lnTo>
                    <a:pt x="384" y="7404"/>
                  </a:lnTo>
                  <a:lnTo>
                    <a:pt x="348" y="7442"/>
                  </a:lnTo>
                  <a:lnTo>
                    <a:pt x="314" y="7482"/>
                  </a:lnTo>
                  <a:lnTo>
                    <a:pt x="282" y="7522"/>
                  </a:lnTo>
                  <a:lnTo>
                    <a:pt x="252" y="7562"/>
                  </a:lnTo>
                  <a:lnTo>
                    <a:pt x="224" y="7602"/>
                  </a:lnTo>
                  <a:lnTo>
                    <a:pt x="196" y="7644"/>
                  </a:lnTo>
                  <a:lnTo>
                    <a:pt x="172" y="7686"/>
                  </a:lnTo>
                  <a:lnTo>
                    <a:pt x="148" y="7728"/>
                  </a:lnTo>
                  <a:lnTo>
                    <a:pt x="128" y="7770"/>
                  </a:lnTo>
                  <a:lnTo>
                    <a:pt x="108" y="7812"/>
                  </a:lnTo>
                  <a:lnTo>
                    <a:pt x="90" y="7854"/>
                  </a:lnTo>
                  <a:lnTo>
                    <a:pt x="72" y="7896"/>
                  </a:lnTo>
                  <a:lnTo>
                    <a:pt x="58" y="7938"/>
                  </a:lnTo>
                  <a:lnTo>
                    <a:pt x="46" y="7980"/>
                  </a:lnTo>
                  <a:lnTo>
                    <a:pt x="34" y="8022"/>
                  </a:lnTo>
                  <a:lnTo>
                    <a:pt x="24" y="8064"/>
                  </a:lnTo>
                  <a:lnTo>
                    <a:pt x="16" y="8106"/>
                  </a:lnTo>
                  <a:lnTo>
                    <a:pt x="10" y="8148"/>
                  </a:lnTo>
                  <a:lnTo>
                    <a:pt x="4" y="8190"/>
                  </a:lnTo>
                  <a:lnTo>
                    <a:pt x="2" y="8230"/>
                  </a:lnTo>
                  <a:lnTo>
                    <a:pt x="0" y="8272"/>
                  </a:lnTo>
                  <a:lnTo>
                    <a:pt x="0" y="8312"/>
                  </a:lnTo>
                  <a:lnTo>
                    <a:pt x="2" y="8352"/>
                  </a:lnTo>
                  <a:lnTo>
                    <a:pt x="4" y="8390"/>
                  </a:lnTo>
                  <a:lnTo>
                    <a:pt x="8" y="8428"/>
                  </a:lnTo>
                  <a:lnTo>
                    <a:pt x="14" y="8466"/>
                  </a:lnTo>
                  <a:lnTo>
                    <a:pt x="22" y="8504"/>
                  </a:lnTo>
                  <a:lnTo>
                    <a:pt x="32" y="8540"/>
                  </a:lnTo>
                  <a:lnTo>
                    <a:pt x="42" y="8576"/>
                  </a:lnTo>
                  <a:lnTo>
                    <a:pt x="54" y="8610"/>
                  </a:lnTo>
                  <a:lnTo>
                    <a:pt x="68" y="8644"/>
                  </a:lnTo>
                  <a:lnTo>
                    <a:pt x="82" y="8678"/>
                  </a:lnTo>
                  <a:lnTo>
                    <a:pt x="98" y="8710"/>
                  </a:lnTo>
                  <a:lnTo>
                    <a:pt x="116" y="8742"/>
                  </a:lnTo>
                  <a:lnTo>
                    <a:pt x="136" y="8772"/>
                  </a:lnTo>
                  <a:lnTo>
                    <a:pt x="156" y="8800"/>
                  </a:lnTo>
                  <a:lnTo>
                    <a:pt x="156" y="8800"/>
                  </a:lnTo>
                  <a:lnTo>
                    <a:pt x="204" y="8858"/>
                  </a:lnTo>
                  <a:lnTo>
                    <a:pt x="250" y="8914"/>
                  </a:lnTo>
                  <a:lnTo>
                    <a:pt x="300" y="8964"/>
                  </a:lnTo>
                  <a:lnTo>
                    <a:pt x="350" y="9008"/>
                  </a:lnTo>
                  <a:lnTo>
                    <a:pt x="400" y="9050"/>
                  </a:lnTo>
                  <a:lnTo>
                    <a:pt x="452" y="9086"/>
                  </a:lnTo>
                  <a:lnTo>
                    <a:pt x="506" y="9120"/>
                  </a:lnTo>
                  <a:lnTo>
                    <a:pt x="558" y="9148"/>
                  </a:lnTo>
                  <a:lnTo>
                    <a:pt x="612" y="9174"/>
                  </a:lnTo>
                  <a:lnTo>
                    <a:pt x="668" y="9194"/>
                  </a:lnTo>
                  <a:lnTo>
                    <a:pt x="722" y="9212"/>
                  </a:lnTo>
                  <a:lnTo>
                    <a:pt x="778" y="9226"/>
                  </a:lnTo>
                  <a:lnTo>
                    <a:pt x="834" y="9236"/>
                  </a:lnTo>
                  <a:lnTo>
                    <a:pt x="890" y="9242"/>
                  </a:lnTo>
                  <a:lnTo>
                    <a:pt x="948" y="9244"/>
                  </a:lnTo>
                  <a:lnTo>
                    <a:pt x="1004" y="9244"/>
                  </a:lnTo>
                  <a:lnTo>
                    <a:pt x="1060" y="9240"/>
                  </a:lnTo>
                  <a:lnTo>
                    <a:pt x="1118" y="9234"/>
                  </a:lnTo>
                  <a:lnTo>
                    <a:pt x="1174" y="9224"/>
                  </a:lnTo>
                  <a:lnTo>
                    <a:pt x="1232" y="9212"/>
                  </a:lnTo>
                  <a:lnTo>
                    <a:pt x="1288" y="9196"/>
                  </a:lnTo>
                  <a:lnTo>
                    <a:pt x="1346" y="9178"/>
                  </a:lnTo>
                  <a:lnTo>
                    <a:pt x="1402" y="9156"/>
                  </a:lnTo>
                  <a:lnTo>
                    <a:pt x="1458" y="9132"/>
                  </a:lnTo>
                  <a:lnTo>
                    <a:pt x="1514" y="9106"/>
                  </a:lnTo>
                  <a:lnTo>
                    <a:pt x="1568" y="9076"/>
                  </a:lnTo>
                  <a:lnTo>
                    <a:pt x="1622" y="9044"/>
                  </a:lnTo>
                  <a:lnTo>
                    <a:pt x="1676" y="9010"/>
                  </a:lnTo>
                  <a:lnTo>
                    <a:pt x="1730" y="8974"/>
                  </a:lnTo>
                  <a:lnTo>
                    <a:pt x="1782" y="8936"/>
                  </a:lnTo>
                  <a:lnTo>
                    <a:pt x="1834" y="8896"/>
                  </a:lnTo>
                  <a:lnTo>
                    <a:pt x="1886" y="8854"/>
                  </a:lnTo>
                  <a:lnTo>
                    <a:pt x="1936" y="8810"/>
                  </a:lnTo>
                  <a:lnTo>
                    <a:pt x="1984" y="8764"/>
                  </a:lnTo>
                  <a:lnTo>
                    <a:pt x="2032" y="8716"/>
                  </a:lnTo>
                  <a:lnTo>
                    <a:pt x="2078" y="8668"/>
                  </a:lnTo>
                  <a:lnTo>
                    <a:pt x="2124" y="8616"/>
                  </a:lnTo>
                  <a:lnTo>
                    <a:pt x="2168" y="8564"/>
                  </a:lnTo>
                  <a:lnTo>
                    <a:pt x="2212" y="8510"/>
                  </a:lnTo>
                  <a:lnTo>
                    <a:pt x="2252" y="8456"/>
                  </a:lnTo>
                  <a:lnTo>
                    <a:pt x="2292" y="8400"/>
                  </a:lnTo>
                  <a:lnTo>
                    <a:pt x="2330" y="8342"/>
                  </a:lnTo>
                  <a:lnTo>
                    <a:pt x="2368" y="8284"/>
                  </a:lnTo>
                  <a:lnTo>
                    <a:pt x="2402" y="8224"/>
                  </a:lnTo>
                  <a:lnTo>
                    <a:pt x="2436" y="8164"/>
                  </a:lnTo>
                  <a:lnTo>
                    <a:pt x="2468" y="8104"/>
                  </a:lnTo>
                  <a:lnTo>
                    <a:pt x="2498" y="8042"/>
                  </a:lnTo>
                  <a:lnTo>
                    <a:pt x="2524" y="7980"/>
                  </a:lnTo>
                  <a:lnTo>
                    <a:pt x="2550" y="7918"/>
                  </a:lnTo>
                  <a:lnTo>
                    <a:pt x="2574" y="7854"/>
                  </a:lnTo>
                  <a:lnTo>
                    <a:pt x="2596" y="7792"/>
                  </a:lnTo>
                  <a:lnTo>
                    <a:pt x="2614" y="7728"/>
                  </a:lnTo>
                  <a:lnTo>
                    <a:pt x="2632" y="7664"/>
                  </a:lnTo>
                  <a:lnTo>
                    <a:pt x="2646" y="7600"/>
                  </a:lnTo>
                  <a:lnTo>
                    <a:pt x="2658" y="7536"/>
                  </a:lnTo>
                  <a:lnTo>
                    <a:pt x="2668" y="7472"/>
                  </a:lnTo>
                  <a:lnTo>
                    <a:pt x="2674" y="7408"/>
                  </a:lnTo>
                  <a:lnTo>
                    <a:pt x="2680" y="7344"/>
                  </a:lnTo>
                  <a:lnTo>
                    <a:pt x="2682" y="7282"/>
                  </a:lnTo>
                  <a:lnTo>
                    <a:pt x="2680" y="7218"/>
                  </a:lnTo>
                  <a:lnTo>
                    <a:pt x="2676" y="7156"/>
                  </a:lnTo>
                  <a:lnTo>
                    <a:pt x="2670" y="7094"/>
                  </a:lnTo>
                  <a:lnTo>
                    <a:pt x="2660" y="7034"/>
                  </a:lnTo>
                  <a:lnTo>
                    <a:pt x="2648" y="6974"/>
                  </a:lnTo>
                  <a:lnTo>
                    <a:pt x="2648" y="6974"/>
                  </a:lnTo>
                  <a:lnTo>
                    <a:pt x="1500" y="2164"/>
                  </a:lnTo>
                  <a:lnTo>
                    <a:pt x="1500" y="2164"/>
                  </a:lnTo>
                  <a:lnTo>
                    <a:pt x="1608" y="2214"/>
                  </a:lnTo>
                  <a:lnTo>
                    <a:pt x="1716" y="2258"/>
                  </a:lnTo>
                  <a:lnTo>
                    <a:pt x="1824" y="2300"/>
                  </a:lnTo>
                  <a:lnTo>
                    <a:pt x="1932" y="2338"/>
                  </a:lnTo>
                  <a:lnTo>
                    <a:pt x="2040" y="2372"/>
                  </a:lnTo>
                  <a:lnTo>
                    <a:pt x="2148" y="2404"/>
                  </a:lnTo>
                  <a:lnTo>
                    <a:pt x="2254" y="2432"/>
                  </a:lnTo>
                  <a:lnTo>
                    <a:pt x="2358" y="2460"/>
                  </a:lnTo>
                  <a:lnTo>
                    <a:pt x="2566" y="2510"/>
                  </a:lnTo>
                  <a:lnTo>
                    <a:pt x="2764" y="2560"/>
                  </a:lnTo>
                  <a:lnTo>
                    <a:pt x="2860" y="2584"/>
                  </a:lnTo>
                  <a:lnTo>
                    <a:pt x="2954" y="2608"/>
                  </a:lnTo>
                  <a:lnTo>
                    <a:pt x="3046" y="2634"/>
                  </a:lnTo>
                  <a:lnTo>
                    <a:pt x="3134" y="2662"/>
                  </a:lnTo>
                  <a:lnTo>
                    <a:pt x="3220" y="2692"/>
                  </a:lnTo>
                  <a:lnTo>
                    <a:pt x="3302" y="2724"/>
                  </a:lnTo>
                  <a:lnTo>
                    <a:pt x="3382" y="2758"/>
                  </a:lnTo>
                  <a:lnTo>
                    <a:pt x="3420" y="2776"/>
                  </a:lnTo>
                  <a:lnTo>
                    <a:pt x="3456" y="2796"/>
                  </a:lnTo>
                  <a:lnTo>
                    <a:pt x="3492" y="2816"/>
                  </a:lnTo>
                  <a:lnTo>
                    <a:pt x="3528" y="2836"/>
                  </a:lnTo>
                  <a:lnTo>
                    <a:pt x="3562" y="2858"/>
                  </a:lnTo>
                  <a:lnTo>
                    <a:pt x="3594" y="2882"/>
                  </a:lnTo>
                  <a:lnTo>
                    <a:pt x="3626" y="2906"/>
                  </a:lnTo>
                  <a:lnTo>
                    <a:pt x="3658" y="2932"/>
                  </a:lnTo>
                  <a:lnTo>
                    <a:pt x="3688" y="2958"/>
                  </a:lnTo>
                  <a:lnTo>
                    <a:pt x="3716" y="2986"/>
                  </a:lnTo>
                  <a:lnTo>
                    <a:pt x="3742" y="3016"/>
                  </a:lnTo>
                  <a:lnTo>
                    <a:pt x="3770" y="3046"/>
                  </a:lnTo>
                  <a:lnTo>
                    <a:pt x="3794" y="3078"/>
                  </a:lnTo>
                  <a:lnTo>
                    <a:pt x="3818" y="3112"/>
                  </a:lnTo>
                  <a:lnTo>
                    <a:pt x="3840" y="3148"/>
                  </a:lnTo>
                  <a:lnTo>
                    <a:pt x="3860" y="3184"/>
                  </a:lnTo>
                  <a:lnTo>
                    <a:pt x="3880" y="3222"/>
                  </a:lnTo>
                  <a:lnTo>
                    <a:pt x="3898" y="3262"/>
                  </a:lnTo>
                  <a:lnTo>
                    <a:pt x="3916" y="3304"/>
                  </a:lnTo>
                  <a:lnTo>
                    <a:pt x="3930" y="3348"/>
                  </a:lnTo>
                  <a:lnTo>
                    <a:pt x="3944" y="3392"/>
                  </a:lnTo>
                  <a:lnTo>
                    <a:pt x="3958" y="3440"/>
                  </a:lnTo>
                  <a:lnTo>
                    <a:pt x="3968" y="3490"/>
                  </a:lnTo>
                  <a:lnTo>
                    <a:pt x="3978" y="3540"/>
                  </a:lnTo>
                  <a:lnTo>
                    <a:pt x="3986" y="3594"/>
                  </a:lnTo>
                  <a:lnTo>
                    <a:pt x="3992" y="3650"/>
                  </a:lnTo>
                  <a:lnTo>
                    <a:pt x="3992" y="3650"/>
                  </a:lnTo>
                  <a:lnTo>
                    <a:pt x="4000" y="3760"/>
                  </a:lnTo>
                  <a:lnTo>
                    <a:pt x="4004" y="3868"/>
                  </a:lnTo>
                  <a:lnTo>
                    <a:pt x="4006" y="3972"/>
                  </a:lnTo>
                  <a:lnTo>
                    <a:pt x="4004" y="4072"/>
                  </a:lnTo>
                  <a:lnTo>
                    <a:pt x="3998" y="4168"/>
                  </a:lnTo>
                  <a:lnTo>
                    <a:pt x="3988" y="4260"/>
                  </a:lnTo>
                  <a:lnTo>
                    <a:pt x="3976" y="4350"/>
                  </a:lnTo>
                  <a:lnTo>
                    <a:pt x="3962" y="4436"/>
                  </a:lnTo>
                  <a:lnTo>
                    <a:pt x="3946" y="4518"/>
                  </a:lnTo>
                  <a:lnTo>
                    <a:pt x="3928" y="4596"/>
                  </a:lnTo>
                  <a:lnTo>
                    <a:pt x="3906" y="4672"/>
                  </a:lnTo>
                  <a:lnTo>
                    <a:pt x="3884" y="4744"/>
                  </a:lnTo>
                  <a:lnTo>
                    <a:pt x="3860" y="4812"/>
                  </a:lnTo>
                  <a:lnTo>
                    <a:pt x="3834" y="4878"/>
                  </a:lnTo>
                  <a:lnTo>
                    <a:pt x="3808" y="4940"/>
                  </a:lnTo>
                  <a:lnTo>
                    <a:pt x="3782" y="4998"/>
                  </a:lnTo>
                  <a:lnTo>
                    <a:pt x="3754" y="5054"/>
                  </a:lnTo>
                  <a:lnTo>
                    <a:pt x="3726" y="5106"/>
                  </a:lnTo>
                  <a:lnTo>
                    <a:pt x="3698" y="5156"/>
                  </a:lnTo>
                  <a:lnTo>
                    <a:pt x="3670" y="5202"/>
                  </a:lnTo>
                  <a:lnTo>
                    <a:pt x="3642" y="5244"/>
                  </a:lnTo>
                  <a:lnTo>
                    <a:pt x="3614" y="5284"/>
                  </a:lnTo>
                  <a:lnTo>
                    <a:pt x="3562" y="5354"/>
                  </a:lnTo>
                  <a:lnTo>
                    <a:pt x="3514" y="5412"/>
                  </a:lnTo>
                  <a:lnTo>
                    <a:pt x="3472" y="5460"/>
                  </a:lnTo>
                  <a:lnTo>
                    <a:pt x="3416" y="5518"/>
                  </a:lnTo>
                  <a:lnTo>
                    <a:pt x="3416" y="5518"/>
                  </a:lnTo>
                  <a:lnTo>
                    <a:pt x="3450" y="5502"/>
                  </a:lnTo>
                  <a:lnTo>
                    <a:pt x="3482" y="5484"/>
                  </a:lnTo>
                  <a:lnTo>
                    <a:pt x="3548" y="5444"/>
                  </a:lnTo>
                  <a:lnTo>
                    <a:pt x="3614" y="5398"/>
                  </a:lnTo>
                  <a:lnTo>
                    <a:pt x="3680" y="5346"/>
                  </a:lnTo>
                  <a:lnTo>
                    <a:pt x="3744" y="5288"/>
                  </a:lnTo>
                  <a:lnTo>
                    <a:pt x="3810" y="5226"/>
                  </a:lnTo>
                  <a:lnTo>
                    <a:pt x="3874" y="5158"/>
                  </a:lnTo>
                  <a:lnTo>
                    <a:pt x="3936" y="5086"/>
                  </a:lnTo>
                  <a:lnTo>
                    <a:pt x="3996" y="5010"/>
                  </a:lnTo>
                  <a:lnTo>
                    <a:pt x="4054" y="4930"/>
                  </a:lnTo>
                  <a:lnTo>
                    <a:pt x="4110" y="4844"/>
                  </a:lnTo>
                  <a:lnTo>
                    <a:pt x="4164" y="4754"/>
                  </a:lnTo>
                  <a:lnTo>
                    <a:pt x="4214" y="4662"/>
                  </a:lnTo>
                  <a:lnTo>
                    <a:pt x="4262" y="4566"/>
                  </a:lnTo>
                  <a:lnTo>
                    <a:pt x="4284" y="4516"/>
                  </a:lnTo>
                  <a:lnTo>
                    <a:pt x="4304" y="4464"/>
                  </a:lnTo>
                  <a:lnTo>
                    <a:pt x="4324" y="4414"/>
                  </a:lnTo>
                  <a:lnTo>
                    <a:pt x="4344" y="4362"/>
                  </a:lnTo>
                  <a:lnTo>
                    <a:pt x="4362" y="4308"/>
                  </a:lnTo>
                  <a:lnTo>
                    <a:pt x="4378" y="4254"/>
                  </a:lnTo>
                  <a:lnTo>
                    <a:pt x="4394" y="4200"/>
                  </a:lnTo>
                  <a:lnTo>
                    <a:pt x="4410" y="4146"/>
                  </a:lnTo>
                  <a:lnTo>
                    <a:pt x="4422" y="4090"/>
                  </a:lnTo>
                  <a:lnTo>
                    <a:pt x="4434" y="4034"/>
                  </a:lnTo>
                  <a:lnTo>
                    <a:pt x="4446" y="3976"/>
                  </a:lnTo>
                  <a:lnTo>
                    <a:pt x="4454" y="3918"/>
                  </a:lnTo>
                  <a:lnTo>
                    <a:pt x="4462" y="3860"/>
                  </a:lnTo>
                  <a:lnTo>
                    <a:pt x="4468" y="3802"/>
                  </a:lnTo>
                  <a:lnTo>
                    <a:pt x="4474" y="3742"/>
                  </a:lnTo>
                  <a:lnTo>
                    <a:pt x="4478" y="3682"/>
                  </a:lnTo>
                  <a:lnTo>
                    <a:pt x="4480" y="3622"/>
                  </a:lnTo>
                  <a:lnTo>
                    <a:pt x="4480" y="3562"/>
                  </a:lnTo>
                  <a:lnTo>
                    <a:pt x="4478" y="3500"/>
                  </a:lnTo>
                  <a:lnTo>
                    <a:pt x="4474" y="3438"/>
                  </a:lnTo>
                  <a:lnTo>
                    <a:pt x="4470" y="3376"/>
                  </a:lnTo>
                  <a:lnTo>
                    <a:pt x="4464" y="3314"/>
                  </a:lnTo>
                  <a:lnTo>
                    <a:pt x="4454" y="3252"/>
                  </a:lnTo>
                  <a:lnTo>
                    <a:pt x="4444" y="3188"/>
                  </a:lnTo>
                  <a:lnTo>
                    <a:pt x="4432" y="3126"/>
                  </a:lnTo>
                  <a:lnTo>
                    <a:pt x="4418" y="3062"/>
                  </a:lnTo>
                  <a:lnTo>
                    <a:pt x="4402" y="2998"/>
                  </a:lnTo>
                  <a:lnTo>
                    <a:pt x="4384" y="2934"/>
                  </a:lnTo>
                  <a:lnTo>
                    <a:pt x="4362" y="2870"/>
                  </a:lnTo>
                  <a:lnTo>
                    <a:pt x="4340" y="2804"/>
                  </a:lnTo>
                  <a:lnTo>
                    <a:pt x="4316" y="2740"/>
                  </a:lnTo>
                  <a:lnTo>
                    <a:pt x="4288" y="2676"/>
                  </a:lnTo>
                  <a:lnTo>
                    <a:pt x="4260" y="2610"/>
                  </a:lnTo>
                  <a:lnTo>
                    <a:pt x="4228" y="2546"/>
                  </a:lnTo>
                  <a:lnTo>
                    <a:pt x="4194" y="2480"/>
                  </a:lnTo>
                  <a:lnTo>
                    <a:pt x="4158" y="2416"/>
                  </a:lnTo>
                  <a:lnTo>
                    <a:pt x="4158" y="2416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4587840" y="32337360"/>
              <a:ext cx="4305240" cy="8883720"/>
            </a:xfrm>
            <a:custGeom>
              <a:avLst/>
              <a:gdLst>
                <a:gd name="textAreaLeft" fmla="*/ 0 w 4305240"/>
                <a:gd name="textAreaRight" fmla="*/ 4305600 w 4305240"/>
                <a:gd name="textAreaTop" fmla="*/ 0 h 8883720"/>
                <a:gd name="textAreaBottom" fmla="*/ 8884080 h 8883720"/>
              </a:gdLst>
              <a:ahLst/>
              <a:rect l="textAreaLeft" t="textAreaTop" r="textAreaRight" b="textAreaBottom"/>
              <a:pathLst>
                <a:path w="2712" h="5596">
                  <a:moveTo>
                    <a:pt x="2518" y="1462"/>
                  </a:moveTo>
                  <a:lnTo>
                    <a:pt x="2518" y="1462"/>
                  </a:lnTo>
                  <a:lnTo>
                    <a:pt x="2494" y="1424"/>
                  </a:lnTo>
                  <a:lnTo>
                    <a:pt x="2470" y="1386"/>
                  </a:lnTo>
                  <a:lnTo>
                    <a:pt x="2446" y="1352"/>
                  </a:lnTo>
                  <a:lnTo>
                    <a:pt x="2420" y="1316"/>
                  </a:lnTo>
                  <a:lnTo>
                    <a:pt x="2394" y="1284"/>
                  </a:lnTo>
                  <a:lnTo>
                    <a:pt x="2366" y="1252"/>
                  </a:lnTo>
                  <a:lnTo>
                    <a:pt x="2338" y="1222"/>
                  </a:lnTo>
                  <a:lnTo>
                    <a:pt x="2308" y="1192"/>
                  </a:lnTo>
                  <a:lnTo>
                    <a:pt x="2278" y="1166"/>
                  </a:lnTo>
                  <a:lnTo>
                    <a:pt x="2248" y="1138"/>
                  </a:lnTo>
                  <a:lnTo>
                    <a:pt x="2216" y="1112"/>
                  </a:lnTo>
                  <a:lnTo>
                    <a:pt x="2186" y="1088"/>
                  </a:lnTo>
                  <a:lnTo>
                    <a:pt x="2120" y="1042"/>
                  </a:lnTo>
                  <a:lnTo>
                    <a:pt x="2052" y="998"/>
                  </a:lnTo>
                  <a:lnTo>
                    <a:pt x="1982" y="958"/>
                  </a:lnTo>
                  <a:lnTo>
                    <a:pt x="1910" y="922"/>
                  </a:lnTo>
                  <a:lnTo>
                    <a:pt x="1836" y="886"/>
                  </a:lnTo>
                  <a:lnTo>
                    <a:pt x="1762" y="854"/>
                  </a:lnTo>
                  <a:lnTo>
                    <a:pt x="1686" y="822"/>
                  </a:lnTo>
                  <a:lnTo>
                    <a:pt x="1610" y="792"/>
                  </a:lnTo>
                  <a:lnTo>
                    <a:pt x="1454" y="734"/>
                  </a:lnTo>
                  <a:lnTo>
                    <a:pt x="1298" y="676"/>
                  </a:lnTo>
                  <a:lnTo>
                    <a:pt x="1220" y="646"/>
                  </a:lnTo>
                  <a:lnTo>
                    <a:pt x="1144" y="614"/>
                  </a:lnTo>
                  <a:lnTo>
                    <a:pt x="1068" y="580"/>
                  </a:lnTo>
                  <a:lnTo>
                    <a:pt x="992" y="546"/>
                  </a:lnTo>
                  <a:lnTo>
                    <a:pt x="918" y="508"/>
                  </a:lnTo>
                  <a:lnTo>
                    <a:pt x="844" y="468"/>
                  </a:lnTo>
                  <a:lnTo>
                    <a:pt x="772" y="426"/>
                  </a:lnTo>
                  <a:lnTo>
                    <a:pt x="704" y="378"/>
                  </a:lnTo>
                  <a:lnTo>
                    <a:pt x="636" y="328"/>
                  </a:lnTo>
                  <a:lnTo>
                    <a:pt x="604" y="300"/>
                  </a:lnTo>
                  <a:lnTo>
                    <a:pt x="570" y="272"/>
                  </a:lnTo>
                  <a:lnTo>
                    <a:pt x="540" y="244"/>
                  </a:lnTo>
                  <a:lnTo>
                    <a:pt x="508" y="212"/>
                  </a:lnTo>
                  <a:lnTo>
                    <a:pt x="478" y="180"/>
                  </a:lnTo>
                  <a:lnTo>
                    <a:pt x="448" y="148"/>
                  </a:lnTo>
                  <a:lnTo>
                    <a:pt x="420" y="114"/>
                  </a:lnTo>
                  <a:lnTo>
                    <a:pt x="392" y="78"/>
                  </a:lnTo>
                  <a:lnTo>
                    <a:pt x="364" y="40"/>
                  </a:lnTo>
                  <a:lnTo>
                    <a:pt x="338" y="0"/>
                  </a:lnTo>
                  <a:lnTo>
                    <a:pt x="1312" y="4082"/>
                  </a:lnTo>
                  <a:lnTo>
                    <a:pt x="1312" y="4082"/>
                  </a:lnTo>
                  <a:lnTo>
                    <a:pt x="1256" y="4084"/>
                  </a:lnTo>
                  <a:lnTo>
                    <a:pt x="1202" y="4086"/>
                  </a:lnTo>
                  <a:lnTo>
                    <a:pt x="1150" y="4090"/>
                  </a:lnTo>
                  <a:lnTo>
                    <a:pt x="1098" y="4096"/>
                  </a:lnTo>
                  <a:lnTo>
                    <a:pt x="1048" y="4102"/>
                  </a:lnTo>
                  <a:lnTo>
                    <a:pt x="1000" y="4110"/>
                  </a:lnTo>
                  <a:lnTo>
                    <a:pt x="952" y="4118"/>
                  </a:lnTo>
                  <a:lnTo>
                    <a:pt x="906" y="4128"/>
                  </a:lnTo>
                  <a:lnTo>
                    <a:pt x="860" y="4138"/>
                  </a:lnTo>
                  <a:lnTo>
                    <a:pt x="816" y="4150"/>
                  </a:lnTo>
                  <a:lnTo>
                    <a:pt x="774" y="4162"/>
                  </a:lnTo>
                  <a:lnTo>
                    <a:pt x="732" y="4176"/>
                  </a:lnTo>
                  <a:lnTo>
                    <a:pt x="654" y="4204"/>
                  </a:lnTo>
                  <a:lnTo>
                    <a:pt x="580" y="4236"/>
                  </a:lnTo>
                  <a:lnTo>
                    <a:pt x="510" y="4272"/>
                  </a:lnTo>
                  <a:lnTo>
                    <a:pt x="446" y="4310"/>
                  </a:lnTo>
                  <a:lnTo>
                    <a:pt x="386" y="4350"/>
                  </a:lnTo>
                  <a:lnTo>
                    <a:pt x="330" y="4392"/>
                  </a:lnTo>
                  <a:lnTo>
                    <a:pt x="278" y="4436"/>
                  </a:lnTo>
                  <a:lnTo>
                    <a:pt x="232" y="4482"/>
                  </a:lnTo>
                  <a:lnTo>
                    <a:pt x="190" y="4530"/>
                  </a:lnTo>
                  <a:lnTo>
                    <a:pt x="152" y="4578"/>
                  </a:lnTo>
                  <a:lnTo>
                    <a:pt x="118" y="4628"/>
                  </a:lnTo>
                  <a:lnTo>
                    <a:pt x="90" y="4678"/>
                  </a:lnTo>
                  <a:lnTo>
                    <a:pt x="64" y="4730"/>
                  </a:lnTo>
                  <a:lnTo>
                    <a:pt x="44" y="4780"/>
                  </a:lnTo>
                  <a:lnTo>
                    <a:pt x="28" y="4832"/>
                  </a:lnTo>
                  <a:lnTo>
                    <a:pt x="14" y="4882"/>
                  </a:lnTo>
                  <a:lnTo>
                    <a:pt x="6" y="4934"/>
                  </a:lnTo>
                  <a:lnTo>
                    <a:pt x="0" y="4982"/>
                  </a:lnTo>
                  <a:lnTo>
                    <a:pt x="0" y="5032"/>
                  </a:lnTo>
                  <a:lnTo>
                    <a:pt x="2" y="5080"/>
                  </a:lnTo>
                  <a:lnTo>
                    <a:pt x="8" y="5126"/>
                  </a:lnTo>
                  <a:lnTo>
                    <a:pt x="18" y="5170"/>
                  </a:lnTo>
                  <a:lnTo>
                    <a:pt x="32" y="5214"/>
                  </a:lnTo>
                  <a:lnTo>
                    <a:pt x="50" y="5254"/>
                  </a:lnTo>
                  <a:lnTo>
                    <a:pt x="70" y="5292"/>
                  </a:lnTo>
                  <a:lnTo>
                    <a:pt x="94" y="5328"/>
                  </a:lnTo>
                  <a:lnTo>
                    <a:pt x="94" y="5328"/>
                  </a:lnTo>
                  <a:lnTo>
                    <a:pt x="122" y="5364"/>
                  </a:lnTo>
                  <a:lnTo>
                    <a:pt x="152" y="5396"/>
                  </a:lnTo>
                  <a:lnTo>
                    <a:pt x="182" y="5426"/>
                  </a:lnTo>
                  <a:lnTo>
                    <a:pt x="212" y="5454"/>
                  </a:lnTo>
                  <a:lnTo>
                    <a:pt x="242" y="5478"/>
                  </a:lnTo>
                  <a:lnTo>
                    <a:pt x="274" y="5502"/>
                  </a:lnTo>
                  <a:lnTo>
                    <a:pt x="306" y="5522"/>
                  </a:lnTo>
                  <a:lnTo>
                    <a:pt x="338" y="5538"/>
                  </a:lnTo>
                  <a:lnTo>
                    <a:pt x="370" y="5554"/>
                  </a:lnTo>
                  <a:lnTo>
                    <a:pt x="404" y="5566"/>
                  </a:lnTo>
                  <a:lnTo>
                    <a:pt x="438" y="5576"/>
                  </a:lnTo>
                  <a:lnTo>
                    <a:pt x="470" y="5586"/>
                  </a:lnTo>
                  <a:lnTo>
                    <a:pt x="504" y="5592"/>
                  </a:lnTo>
                  <a:lnTo>
                    <a:pt x="538" y="5596"/>
                  </a:lnTo>
                  <a:lnTo>
                    <a:pt x="572" y="5596"/>
                  </a:lnTo>
                  <a:lnTo>
                    <a:pt x="608" y="5596"/>
                  </a:lnTo>
                  <a:lnTo>
                    <a:pt x="642" y="5594"/>
                  </a:lnTo>
                  <a:lnTo>
                    <a:pt x="676" y="5590"/>
                  </a:lnTo>
                  <a:lnTo>
                    <a:pt x="710" y="5584"/>
                  </a:lnTo>
                  <a:lnTo>
                    <a:pt x="746" y="5576"/>
                  </a:lnTo>
                  <a:lnTo>
                    <a:pt x="780" y="5568"/>
                  </a:lnTo>
                  <a:lnTo>
                    <a:pt x="814" y="5556"/>
                  </a:lnTo>
                  <a:lnTo>
                    <a:pt x="848" y="5544"/>
                  </a:lnTo>
                  <a:lnTo>
                    <a:pt x="882" y="5528"/>
                  </a:lnTo>
                  <a:lnTo>
                    <a:pt x="916" y="5512"/>
                  </a:lnTo>
                  <a:lnTo>
                    <a:pt x="950" y="5494"/>
                  </a:lnTo>
                  <a:lnTo>
                    <a:pt x="982" y="5476"/>
                  </a:lnTo>
                  <a:lnTo>
                    <a:pt x="1014" y="5456"/>
                  </a:lnTo>
                  <a:lnTo>
                    <a:pt x="1048" y="5434"/>
                  </a:lnTo>
                  <a:lnTo>
                    <a:pt x="1078" y="5410"/>
                  </a:lnTo>
                  <a:lnTo>
                    <a:pt x="1110" y="5386"/>
                  </a:lnTo>
                  <a:lnTo>
                    <a:pt x="1140" y="5360"/>
                  </a:lnTo>
                  <a:lnTo>
                    <a:pt x="1172" y="5334"/>
                  </a:lnTo>
                  <a:lnTo>
                    <a:pt x="1200" y="5306"/>
                  </a:lnTo>
                  <a:lnTo>
                    <a:pt x="1258" y="5248"/>
                  </a:lnTo>
                  <a:lnTo>
                    <a:pt x="1312" y="5184"/>
                  </a:lnTo>
                  <a:lnTo>
                    <a:pt x="1364" y="5120"/>
                  </a:lnTo>
                  <a:lnTo>
                    <a:pt x="1410" y="5050"/>
                  </a:lnTo>
                  <a:lnTo>
                    <a:pt x="1454" y="4980"/>
                  </a:lnTo>
                  <a:lnTo>
                    <a:pt x="1494" y="4906"/>
                  </a:lnTo>
                  <a:lnTo>
                    <a:pt x="1512" y="4870"/>
                  </a:lnTo>
                  <a:lnTo>
                    <a:pt x="1528" y="4832"/>
                  </a:lnTo>
                  <a:lnTo>
                    <a:pt x="1544" y="4794"/>
                  </a:lnTo>
                  <a:lnTo>
                    <a:pt x="1558" y="4756"/>
                  </a:lnTo>
                  <a:lnTo>
                    <a:pt x="1570" y="4716"/>
                  </a:lnTo>
                  <a:lnTo>
                    <a:pt x="1582" y="4678"/>
                  </a:lnTo>
                  <a:lnTo>
                    <a:pt x="1592" y="4640"/>
                  </a:lnTo>
                  <a:lnTo>
                    <a:pt x="1602" y="4600"/>
                  </a:lnTo>
                  <a:lnTo>
                    <a:pt x="1608" y="4562"/>
                  </a:lnTo>
                  <a:lnTo>
                    <a:pt x="1614" y="4524"/>
                  </a:lnTo>
                  <a:lnTo>
                    <a:pt x="1618" y="4484"/>
                  </a:lnTo>
                  <a:lnTo>
                    <a:pt x="1622" y="4446"/>
                  </a:lnTo>
                  <a:lnTo>
                    <a:pt x="1622" y="4408"/>
                  </a:lnTo>
                  <a:lnTo>
                    <a:pt x="1622" y="4370"/>
                  </a:lnTo>
                  <a:lnTo>
                    <a:pt x="1620" y="4332"/>
                  </a:lnTo>
                  <a:lnTo>
                    <a:pt x="1616" y="4296"/>
                  </a:lnTo>
                  <a:lnTo>
                    <a:pt x="1610" y="4258"/>
                  </a:lnTo>
                  <a:lnTo>
                    <a:pt x="1602" y="4222"/>
                  </a:lnTo>
                  <a:lnTo>
                    <a:pt x="1602" y="4222"/>
                  </a:lnTo>
                  <a:lnTo>
                    <a:pt x="908" y="1310"/>
                  </a:lnTo>
                  <a:lnTo>
                    <a:pt x="908" y="1310"/>
                  </a:lnTo>
                  <a:lnTo>
                    <a:pt x="972" y="1340"/>
                  </a:lnTo>
                  <a:lnTo>
                    <a:pt x="1038" y="1368"/>
                  </a:lnTo>
                  <a:lnTo>
                    <a:pt x="1104" y="1392"/>
                  </a:lnTo>
                  <a:lnTo>
                    <a:pt x="1170" y="1416"/>
                  </a:lnTo>
                  <a:lnTo>
                    <a:pt x="1234" y="1436"/>
                  </a:lnTo>
                  <a:lnTo>
                    <a:pt x="1300" y="1456"/>
                  </a:lnTo>
                  <a:lnTo>
                    <a:pt x="1428" y="1490"/>
                  </a:lnTo>
                  <a:lnTo>
                    <a:pt x="1552" y="1520"/>
                  </a:lnTo>
                  <a:lnTo>
                    <a:pt x="1674" y="1550"/>
                  </a:lnTo>
                  <a:lnTo>
                    <a:pt x="1788" y="1580"/>
                  </a:lnTo>
                  <a:lnTo>
                    <a:pt x="1844" y="1596"/>
                  </a:lnTo>
                  <a:lnTo>
                    <a:pt x="1898" y="1612"/>
                  </a:lnTo>
                  <a:lnTo>
                    <a:pt x="1950" y="1630"/>
                  </a:lnTo>
                  <a:lnTo>
                    <a:pt x="1998" y="1648"/>
                  </a:lnTo>
                  <a:lnTo>
                    <a:pt x="2046" y="1670"/>
                  </a:lnTo>
                  <a:lnTo>
                    <a:pt x="2092" y="1692"/>
                  </a:lnTo>
                  <a:lnTo>
                    <a:pt x="2136" y="1718"/>
                  </a:lnTo>
                  <a:lnTo>
                    <a:pt x="2176" y="1746"/>
                  </a:lnTo>
                  <a:lnTo>
                    <a:pt x="2214" y="1776"/>
                  </a:lnTo>
                  <a:lnTo>
                    <a:pt x="2250" y="1808"/>
                  </a:lnTo>
                  <a:lnTo>
                    <a:pt x="2282" y="1844"/>
                  </a:lnTo>
                  <a:lnTo>
                    <a:pt x="2310" y="1884"/>
                  </a:lnTo>
                  <a:lnTo>
                    <a:pt x="2336" y="1928"/>
                  </a:lnTo>
                  <a:lnTo>
                    <a:pt x="2348" y="1950"/>
                  </a:lnTo>
                  <a:lnTo>
                    <a:pt x="2360" y="1976"/>
                  </a:lnTo>
                  <a:lnTo>
                    <a:pt x="2370" y="2000"/>
                  </a:lnTo>
                  <a:lnTo>
                    <a:pt x="2380" y="2026"/>
                  </a:lnTo>
                  <a:lnTo>
                    <a:pt x="2396" y="2082"/>
                  </a:lnTo>
                  <a:lnTo>
                    <a:pt x="2408" y="2144"/>
                  </a:lnTo>
                  <a:lnTo>
                    <a:pt x="2416" y="2210"/>
                  </a:lnTo>
                  <a:lnTo>
                    <a:pt x="2416" y="2210"/>
                  </a:lnTo>
                  <a:lnTo>
                    <a:pt x="2422" y="2276"/>
                  </a:lnTo>
                  <a:lnTo>
                    <a:pt x="2424" y="2342"/>
                  </a:lnTo>
                  <a:lnTo>
                    <a:pt x="2424" y="2404"/>
                  </a:lnTo>
                  <a:lnTo>
                    <a:pt x="2424" y="2466"/>
                  </a:lnTo>
                  <a:lnTo>
                    <a:pt x="2420" y="2524"/>
                  </a:lnTo>
                  <a:lnTo>
                    <a:pt x="2414" y="2580"/>
                  </a:lnTo>
                  <a:lnTo>
                    <a:pt x="2408" y="2634"/>
                  </a:lnTo>
                  <a:lnTo>
                    <a:pt x="2398" y="2686"/>
                  </a:lnTo>
                  <a:lnTo>
                    <a:pt x="2388" y="2736"/>
                  </a:lnTo>
                  <a:lnTo>
                    <a:pt x="2378" y="2784"/>
                  </a:lnTo>
                  <a:lnTo>
                    <a:pt x="2364" y="2828"/>
                  </a:lnTo>
                  <a:lnTo>
                    <a:pt x="2350" y="2872"/>
                  </a:lnTo>
                  <a:lnTo>
                    <a:pt x="2336" y="2914"/>
                  </a:lnTo>
                  <a:lnTo>
                    <a:pt x="2322" y="2954"/>
                  </a:lnTo>
                  <a:lnTo>
                    <a:pt x="2306" y="2990"/>
                  </a:lnTo>
                  <a:lnTo>
                    <a:pt x="2288" y="3026"/>
                  </a:lnTo>
                  <a:lnTo>
                    <a:pt x="2254" y="3092"/>
                  </a:lnTo>
                  <a:lnTo>
                    <a:pt x="2220" y="3150"/>
                  </a:lnTo>
                  <a:lnTo>
                    <a:pt x="2188" y="3200"/>
                  </a:lnTo>
                  <a:lnTo>
                    <a:pt x="2156" y="3242"/>
                  </a:lnTo>
                  <a:lnTo>
                    <a:pt x="2126" y="3278"/>
                  </a:lnTo>
                  <a:lnTo>
                    <a:pt x="2102" y="3306"/>
                  </a:lnTo>
                  <a:lnTo>
                    <a:pt x="2068" y="3342"/>
                  </a:lnTo>
                  <a:lnTo>
                    <a:pt x="2068" y="3342"/>
                  </a:lnTo>
                  <a:lnTo>
                    <a:pt x="2108" y="3320"/>
                  </a:lnTo>
                  <a:lnTo>
                    <a:pt x="2148" y="3296"/>
                  </a:lnTo>
                  <a:lnTo>
                    <a:pt x="2188" y="3268"/>
                  </a:lnTo>
                  <a:lnTo>
                    <a:pt x="2226" y="3236"/>
                  </a:lnTo>
                  <a:lnTo>
                    <a:pt x="2266" y="3202"/>
                  </a:lnTo>
                  <a:lnTo>
                    <a:pt x="2306" y="3164"/>
                  </a:lnTo>
                  <a:lnTo>
                    <a:pt x="2344" y="3124"/>
                  </a:lnTo>
                  <a:lnTo>
                    <a:pt x="2382" y="3080"/>
                  </a:lnTo>
                  <a:lnTo>
                    <a:pt x="2418" y="3034"/>
                  </a:lnTo>
                  <a:lnTo>
                    <a:pt x="2454" y="2984"/>
                  </a:lnTo>
                  <a:lnTo>
                    <a:pt x="2488" y="2932"/>
                  </a:lnTo>
                  <a:lnTo>
                    <a:pt x="2520" y="2878"/>
                  </a:lnTo>
                  <a:lnTo>
                    <a:pt x="2550" y="2822"/>
                  </a:lnTo>
                  <a:lnTo>
                    <a:pt x="2580" y="2764"/>
                  </a:lnTo>
                  <a:lnTo>
                    <a:pt x="2606" y="2704"/>
                  </a:lnTo>
                  <a:lnTo>
                    <a:pt x="2630" y="2640"/>
                  </a:lnTo>
                  <a:lnTo>
                    <a:pt x="2650" y="2576"/>
                  </a:lnTo>
                  <a:lnTo>
                    <a:pt x="2668" y="2510"/>
                  </a:lnTo>
                  <a:lnTo>
                    <a:pt x="2684" y="2442"/>
                  </a:lnTo>
                  <a:lnTo>
                    <a:pt x="2696" y="2372"/>
                  </a:lnTo>
                  <a:lnTo>
                    <a:pt x="2706" y="2302"/>
                  </a:lnTo>
                  <a:lnTo>
                    <a:pt x="2710" y="2230"/>
                  </a:lnTo>
                  <a:lnTo>
                    <a:pt x="2712" y="2156"/>
                  </a:lnTo>
                  <a:lnTo>
                    <a:pt x="2708" y="2082"/>
                  </a:lnTo>
                  <a:lnTo>
                    <a:pt x="2702" y="2006"/>
                  </a:lnTo>
                  <a:lnTo>
                    <a:pt x="2690" y="1930"/>
                  </a:lnTo>
                  <a:lnTo>
                    <a:pt x="2674" y="1854"/>
                  </a:lnTo>
                  <a:lnTo>
                    <a:pt x="2654" y="1776"/>
                  </a:lnTo>
                  <a:lnTo>
                    <a:pt x="2628" y="1698"/>
                  </a:lnTo>
                  <a:lnTo>
                    <a:pt x="2612" y="1660"/>
                  </a:lnTo>
                  <a:lnTo>
                    <a:pt x="2596" y="1620"/>
                  </a:lnTo>
                  <a:lnTo>
                    <a:pt x="2578" y="1580"/>
                  </a:lnTo>
                  <a:lnTo>
                    <a:pt x="2560" y="1542"/>
                  </a:lnTo>
                  <a:lnTo>
                    <a:pt x="2540" y="1502"/>
                  </a:lnTo>
                  <a:lnTo>
                    <a:pt x="2518" y="1462"/>
                  </a:lnTo>
                  <a:lnTo>
                    <a:pt x="2518" y="1462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530360" y="21072240"/>
              <a:ext cx="7442280" cy="9077400"/>
            </a:xfrm>
            <a:custGeom>
              <a:avLst/>
              <a:gdLst>
                <a:gd name="textAreaLeft" fmla="*/ 0 w 7442280"/>
                <a:gd name="textAreaRight" fmla="*/ 7442640 w 7442280"/>
                <a:gd name="textAreaTop" fmla="*/ 0 h 9077400"/>
                <a:gd name="textAreaBottom" fmla="*/ 9077760 h 9077400"/>
              </a:gdLst>
              <a:ahLst/>
              <a:rect l="textAreaLeft" t="textAreaTop" r="textAreaRight" b="textAreaBottom"/>
              <a:pathLst>
                <a:path w="4688" h="5718">
                  <a:moveTo>
                    <a:pt x="4688" y="2736"/>
                  </a:moveTo>
                  <a:lnTo>
                    <a:pt x="4688" y="2736"/>
                  </a:lnTo>
                  <a:lnTo>
                    <a:pt x="4688" y="2684"/>
                  </a:lnTo>
                  <a:lnTo>
                    <a:pt x="4688" y="2634"/>
                  </a:lnTo>
                  <a:lnTo>
                    <a:pt x="4686" y="2584"/>
                  </a:lnTo>
                  <a:lnTo>
                    <a:pt x="4680" y="2534"/>
                  </a:lnTo>
                  <a:lnTo>
                    <a:pt x="4674" y="2486"/>
                  </a:lnTo>
                  <a:lnTo>
                    <a:pt x="4666" y="2440"/>
                  </a:lnTo>
                  <a:lnTo>
                    <a:pt x="4658" y="2392"/>
                  </a:lnTo>
                  <a:lnTo>
                    <a:pt x="4646" y="2348"/>
                  </a:lnTo>
                  <a:lnTo>
                    <a:pt x="4634" y="2302"/>
                  </a:lnTo>
                  <a:lnTo>
                    <a:pt x="4622" y="2258"/>
                  </a:lnTo>
                  <a:lnTo>
                    <a:pt x="4606" y="2214"/>
                  </a:lnTo>
                  <a:lnTo>
                    <a:pt x="4590" y="2170"/>
                  </a:lnTo>
                  <a:lnTo>
                    <a:pt x="4572" y="2128"/>
                  </a:lnTo>
                  <a:lnTo>
                    <a:pt x="4554" y="2086"/>
                  </a:lnTo>
                  <a:lnTo>
                    <a:pt x="4514" y="2004"/>
                  </a:lnTo>
                  <a:lnTo>
                    <a:pt x="4470" y="1922"/>
                  </a:lnTo>
                  <a:lnTo>
                    <a:pt x="4422" y="1842"/>
                  </a:lnTo>
                  <a:lnTo>
                    <a:pt x="4372" y="1764"/>
                  </a:lnTo>
                  <a:lnTo>
                    <a:pt x="4320" y="1688"/>
                  </a:lnTo>
                  <a:lnTo>
                    <a:pt x="4264" y="1612"/>
                  </a:lnTo>
                  <a:lnTo>
                    <a:pt x="4208" y="1536"/>
                  </a:lnTo>
                  <a:lnTo>
                    <a:pt x="4092" y="1386"/>
                  </a:lnTo>
                  <a:lnTo>
                    <a:pt x="3976" y="1236"/>
                  </a:lnTo>
                  <a:lnTo>
                    <a:pt x="3918" y="1158"/>
                  </a:lnTo>
                  <a:lnTo>
                    <a:pt x="3862" y="1082"/>
                  </a:lnTo>
                  <a:lnTo>
                    <a:pt x="3808" y="1004"/>
                  </a:lnTo>
                  <a:lnTo>
                    <a:pt x="3754" y="924"/>
                  </a:lnTo>
                  <a:lnTo>
                    <a:pt x="3704" y="842"/>
                  </a:lnTo>
                  <a:lnTo>
                    <a:pt x="3658" y="760"/>
                  </a:lnTo>
                  <a:lnTo>
                    <a:pt x="3614" y="674"/>
                  </a:lnTo>
                  <a:lnTo>
                    <a:pt x="3594" y="632"/>
                  </a:lnTo>
                  <a:lnTo>
                    <a:pt x="3576" y="588"/>
                  </a:lnTo>
                  <a:lnTo>
                    <a:pt x="3558" y="542"/>
                  </a:lnTo>
                  <a:lnTo>
                    <a:pt x="3540" y="498"/>
                  </a:lnTo>
                  <a:lnTo>
                    <a:pt x="3524" y="452"/>
                  </a:lnTo>
                  <a:lnTo>
                    <a:pt x="3510" y="404"/>
                  </a:lnTo>
                  <a:lnTo>
                    <a:pt x="3496" y="356"/>
                  </a:lnTo>
                  <a:lnTo>
                    <a:pt x="3486" y="308"/>
                  </a:lnTo>
                  <a:lnTo>
                    <a:pt x="3474" y="260"/>
                  </a:lnTo>
                  <a:lnTo>
                    <a:pt x="3466" y="210"/>
                  </a:lnTo>
                  <a:lnTo>
                    <a:pt x="3458" y="158"/>
                  </a:lnTo>
                  <a:lnTo>
                    <a:pt x="3454" y="106"/>
                  </a:lnTo>
                  <a:lnTo>
                    <a:pt x="3450" y="54"/>
                  </a:lnTo>
                  <a:lnTo>
                    <a:pt x="3448" y="0"/>
                  </a:lnTo>
                  <a:lnTo>
                    <a:pt x="1938" y="4558"/>
                  </a:lnTo>
                  <a:lnTo>
                    <a:pt x="1938" y="4558"/>
                  </a:lnTo>
                  <a:lnTo>
                    <a:pt x="1882" y="4528"/>
                  </a:lnTo>
                  <a:lnTo>
                    <a:pt x="1828" y="4498"/>
                  </a:lnTo>
                  <a:lnTo>
                    <a:pt x="1774" y="4470"/>
                  </a:lnTo>
                  <a:lnTo>
                    <a:pt x="1720" y="4444"/>
                  </a:lnTo>
                  <a:lnTo>
                    <a:pt x="1668" y="4420"/>
                  </a:lnTo>
                  <a:lnTo>
                    <a:pt x="1616" y="4398"/>
                  </a:lnTo>
                  <a:lnTo>
                    <a:pt x="1564" y="4378"/>
                  </a:lnTo>
                  <a:lnTo>
                    <a:pt x="1514" y="4360"/>
                  </a:lnTo>
                  <a:lnTo>
                    <a:pt x="1464" y="4342"/>
                  </a:lnTo>
                  <a:lnTo>
                    <a:pt x="1414" y="4328"/>
                  </a:lnTo>
                  <a:lnTo>
                    <a:pt x="1364" y="4314"/>
                  </a:lnTo>
                  <a:lnTo>
                    <a:pt x="1316" y="4302"/>
                  </a:lnTo>
                  <a:lnTo>
                    <a:pt x="1270" y="4292"/>
                  </a:lnTo>
                  <a:lnTo>
                    <a:pt x="1222" y="4282"/>
                  </a:lnTo>
                  <a:lnTo>
                    <a:pt x="1176" y="4274"/>
                  </a:lnTo>
                  <a:lnTo>
                    <a:pt x="1130" y="4268"/>
                  </a:lnTo>
                  <a:lnTo>
                    <a:pt x="1086" y="4264"/>
                  </a:lnTo>
                  <a:lnTo>
                    <a:pt x="1042" y="4260"/>
                  </a:lnTo>
                  <a:lnTo>
                    <a:pt x="998" y="4260"/>
                  </a:lnTo>
                  <a:lnTo>
                    <a:pt x="956" y="4258"/>
                  </a:lnTo>
                  <a:lnTo>
                    <a:pt x="914" y="4260"/>
                  </a:lnTo>
                  <a:lnTo>
                    <a:pt x="874" y="4262"/>
                  </a:lnTo>
                  <a:lnTo>
                    <a:pt x="834" y="4264"/>
                  </a:lnTo>
                  <a:lnTo>
                    <a:pt x="794" y="4270"/>
                  </a:lnTo>
                  <a:lnTo>
                    <a:pt x="756" y="4274"/>
                  </a:lnTo>
                  <a:lnTo>
                    <a:pt x="718" y="4282"/>
                  </a:lnTo>
                  <a:lnTo>
                    <a:pt x="680" y="4290"/>
                  </a:lnTo>
                  <a:lnTo>
                    <a:pt x="644" y="4298"/>
                  </a:lnTo>
                  <a:lnTo>
                    <a:pt x="610" y="4308"/>
                  </a:lnTo>
                  <a:lnTo>
                    <a:pt x="576" y="4320"/>
                  </a:lnTo>
                  <a:lnTo>
                    <a:pt x="508" y="4344"/>
                  </a:lnTo>
                  <a:lnTo>
                    <a:pt x="446" y="4372"/>
                  </a:lnTo>
                  <a:lnTo>
                    <a:pt x="388" y="4404"/>
                  </a:lnTo>
                  <a:lnTo>
                    <a:pt x="332" y="4438"/>
                  </a:lnTo>
                  <a:lnTo>
                    <a:pt x="282" y="4476"/>
                  </a:lnTo>
                  <a:lnTo>
                    <a:pt x="234" y="4516"/>
                  </a:lnTo>
                  <a:lnTo>
                    <a:pt x="192" y="4558"/>
                  </a:lnTo>
                  <a:lnTo>
                    <a:pt x="152" y="4602"/>
                  </a:lnTo>
                  <a:lnTo>
                    <a:pt x="118" y="4646"/>
                  </a:lnTo>
                  <a:lnTo>
                    <a:pt x="86" y="4694"/>
                  </a:lnTo>
                  <a:lnTo>
                    <a:pt x="60" y="4742"/>
                  </a:lnTo>
                  <a:lnTo>
                    <a:pt x="40" y="4790"/>
                  </a:lnTo>
                  <a:lnTo>
                    <a:pt x="22" y="4840"/>
                  </a:lnTo>
                  <a:lnTo>
                    <a:pt x="10" y="4890"/>
                  </a:lnTo>
                  <a:lnTo>
                    <a:pt x="2" y="4940"/>
                  </a:lnTo>
                  <a:lnTo>
                    <a:pt x="0" y="4964"/>
                  </a:lnTo>
                  <a:lnTo>
                    <a:pt x="0" y="4990"/>
                  </a:lnTo>
                  <a:lnTo>
                    <a:pt x="0" y="5014"/>
                  </a:lnTo>
                  <a:lnTo>
                    <a:pt x="2" y="5038"/>
                  </a:lnTo>
                  <a:lnTo>
                    <a:pt x="2" y="5038"/>
                  </a:lnTo>
                  <a:lnTo>
                    <a:pt x="8" y="5090"/>
                  </a:lnTo>
                  <a:lnTo>
                    <a:pt x="16" y="5140"/>
                  </a:lnTo>
                  <a:lnTo>
                    <a:pt x="26" y="5188"/>
                  </a:lnTo>
                  <a:lnTo>
                    <a:pt x="40" y="5232"/>
                  </a:lnTo>
                  <a:lnTo>
                    <a:pt x="54" y="5276"/>
                  </a:lnTo>
                  <a:lnTo>
                    <a:pt x="72" y="5316"/>
                  </a:lnTo>
                  <a:lnTo>
                    <a:pt x="90" y="5354"/>
                  </a:lnTo>
                  <a:lnTo>
                    <a:pt x="112" y="5390"/>
                  </a:lnTo>
                  <a:lnTo>
                    <a:pt x="134" y="5426"/>
                  </a:lnTo>
                  <a:lnTo>
                    <a:pt x="158" y="5458"/>
                  </a:lnTo>
                  <a:lnTo>
                    <a:pt x="184" y="5488"/>
                  </a:lnTo>
                  <a:lnTo>
                    <a:pt x="212" y="5516"/>
                  </a:lnTo>
                  <a:lnTo>
                    <a:pt x="242" y="5542"/>
                  </a:lnTo>
                  <a:lnTo>
                    <a:pt x="272" y="5566"/>
                  </a:lnTo>
                  <a:lnTo>
                    <a:pt x="306" y="5590"/>
                  </a:lnTo>
                  <a:lnTo>
                    <a:pt x="338" y="5610"/>
                  </a:lnTo>
                  <a:lnTo>
                    <a:pt x="374" y="5628"/>
                  </a:lnTo>
                  <a:lnTo>
                    <a:pt x="410" y="5646"/>
                  </a:lnTo>
                  <a:lnTo>
                    <a:pt x="446" y="5660"/>
                  </a:lnTo>
                  <a:lnTo>
                    <a:pt x="484" y="5674"/>
                  </a:lnTo>
                  <a:lnTo>
                    <a:pt x="524" y="5684"/>
                  </a:lnTo>
                  <a:lnTo>
                    <a:pt x="564" y="5694"/>
                  </a:lnTo>
                  <a:lnTo>
                    <a:pt x="606" y="5702"/>
                  </a:lnTo>
                  <a:lnTo>
                    <a:pt x="648" y="5708"/>
                  </a:lnTo>
                  <a:lnTo>
                    <a:pt x="690" y="5714"/>
                  </a:lnTo>
                  <a:lnTo>
                    <a:pt x="732" y="5716"/>
                  </a:lnTo>
                  <a:lnTo>
                    <a:pt x="776" y="5718"/>
                  </a:lnTo>
                  <a:lnTo>
                    <a:pt x="820" y="5718"/>
                  </a:lnTo>
                  <a:lnTo>
                    <a:pt x="864" y="5716"/>
                  </a:lnTo>
                  <a:lnTo>
                    <a:pt x="910" y="5712"/>
                  </a:lnTo>
                  <a:lnTo>
                    <a:pt x="954" y="5708"/>
                  </a:lnTo>
                  <a:lnTo>
                    <a:pt x="1000" y="5702"/>
                  </a:lnTo>
                  <a:lnTo>
                    <a:pt x="1046" y="5694"/>
                  </a:lnTo>
                  <a:lnTo>
                    <a:pt x="1092" y="5684"/>
                  </a:lnTo>
                  <a:lnTo>
                    <a:pt x="1136" y="5674"/>
                  </a:lnTo>
                  <a:lnTo>
                    <a:pt x="1182" y="5662"/>
                  </a:lnTo>
                  <a:lnTo>
                    <a:pt x="1228" y="5648"/>
                  </a:lnTo>
                  <a:lnTo>
                    <a:pt x="1272" y="5634"/>
                  </a:lnTo>
                  <a:lnTo>
                    <a:pt x="1318" y="5618"/>
                  </a:lnTo>
                  <a:lnTo>
                    <a:pt x="1362" y="5600"/>
                  </a:lnTo>
                  <a:lnTo>
                    <a:pt x="1406" y="5582"/>
                  </a:lnTo>
                  <a:lnTo>
                    <a:pt x="1450" y="5562"/>
                  </a:lnTo>
                  <a:lnTo>
                    <a:pt x="1492" y="5540"/>
                  </a:lnTo>
                  <a:lnTo>
                    <a:pt x="1534" y="5518"/>
                  </a:lnTo>
                  <a:lnTo>
                    <a:pt x="1576" y="5496"/>
                  </a:lnTo>
                  <a:lnTo>
                    <a:pt x="1618" y="5472"/>
                  </a:lnTo>
                  <a:lnTo>
                    <a:pt x="1656" y="5446"/>
                  </a:lnTo>
                  <a:lnTo>
                    <a:pt x="1696" y="5420"/>
                  </a:lnTo>
                  <a:lnTo>
                    <a:pt x="1734" y="5392"/>
                  </a:lnTo>
                  <a:lnTo>
                    <a:pt x="1770" y="5362"/>
                  </a:lnTo>
                  <a:lnTo>
                    <a:pt x="1806" y="5334"/>
                  </a:lnTo>
                  <a:lnTo>
                    <a:pt x="1842" y="5302"/>
                  </a:lnTo>
                  <a:lnTo>
                    <a:pt x="1874" y="5272"/>
                  </a:lnTo>
                  <a:lnTo>
                    <a:pt x="1906" y="5238"/>
                  </a:lnTo>
                  <a:lnTo>
                    <a:pt x="1936" y="5206"/>
                  </a:lnTo>
                  <a:lnTo>
                    <a:pt x="1966" y="5172"/>
                  </a:lnTo>
                  <a:lnTo>
                    <a:pt x="1994" y="5136"/>
                  </a:lnTo>
                  <a:lnTo>
                    <a:pt x="2018" y="5100"/>
                  </a:lnTo>
                  <a:lnTo>
                    <a:pt x="2042" y="5064"/>
                  </a:lnTo>
                  <a:lnTo>
                    <a:pt x="2066" y="5026"/>
                  </a:lnTo>
                  <a:lnTo>
                    <a:pt x="2086" y="4988"/>
                  </a:lnTo>
                  <a:lnTo>
                    <a:pt x="2104" y="4950"/>
                  </a:lnTo>
                  <a:lnTo>
                    <a:pt x="2120" y="4910"/>
                  </a:lnTo>
                  <a:lnTo>
                    <a:pt x="2136" y="4870"/>
                  </a:lnTo>
                  <a:lnTo>
                    <a:pt x="2136" y="4870"/>
                  </a:lnTo>
                  <a:lnTo>
                    <a:pt x="3212" y="1618"/>
                  </a:lnTo>
                  <a:lnTo>
                    <a:pt x="3212" y="1618"/>
                  </a:lnTo>
                  <a:lnTo>
                    <a:pt x="3258" y="1686"/>
                  </a:lnTo>
                  <a:lnTo>
                    <a:pt x="3306" y="1752"/>
                  </a:lnTo>
                  <a:lnTo>
                    <a:pt x="3354" y="1816"/>
                  </a:lnTo>
                  <a:lnTo>
                    <a:pt x="3404" y="1878"/>
                  </a:lnTo>
                  <a:lnTo>
                    <a:pt x="3456" y="1938"/>
                  </a:lnTo>
                  <a:lnTo>
                    <a:pt x="3508" y="1994"/>
                  </a:lnTo>
                  <a:lnTo>
                    <a:pt x="3610" y="2106"/>
                  </a:lnTo>
                  <a:lnTo>
                    <a:pt x="3714" y="2210"/>
                  </a:lnTo>
                  <a:lnTo>
                    <a:pt x="3814" y="2312"/>
                  </a:lnTo>
                  <a:lnTo>
                    <a:pt x="3908" y="2410"/>
                  </a:lnTo>
                  <a:lnTo>
                    <a:pt x="3952" y="2458"/>
                  </a:lnTo>
                  <a:lnTo>
                    <a:pt x="3994" y="2508"/>
                  </a:lnTo>
                  <a:lnTo>
                    <a:pt x="4034" y="2556"/>
                  </a:lnTo>
                  <a:lnTo>
                    <a:pt x="4072" y="2604"/>
                  </a:lnTo>
                  <a:lnTo>
                    <a:pt x="4104" y="2654"/>
                  </a:lnTo>
                  <a:lnTo>
                    <a:pt x="4136" y="2704"/>
                  </a:lnTo>
                  <a:lnTo>
                    <a:pt x="4162" y="2754"/>
                  </a:lnTo>
                  <a:lnTo>
                    <a:pt x="4186" y="2804"/>
                  </a:lnTo>
                  <a:lnTo>
                    <a:pt x="4204" y="2856"/>
                  </a:lnTo>
                  <a:lnTo>
                    <a:pt x="4212" y="2884"/>
                  </a:lnTo>
                  <a:lnTo>
                    <a:pt x="4218" y="2910"/>
                  </a:lnTo>
                  <a:lnTo>
                    <a:pt x="4224" y="2938"/>
                  </a:lnTo>
                  <a:lnTo>
                    <a:pt x="4228" y="2966"/>
                  </a:lnTo>
                  <a:lnTo>
                    <a:pt x="4232" y="2992"/>
                  </a:lnTo>
                  <a:lnTo>
                    <a:pt x="4232" y="3022"/>
                  </a:lnTo>
                  <a:lnTo>
                    <a:pt x="4234" y="3050"/>
                  </a:lnTo>
                  <a:lnTo>
                    <a:pt x="4232" y="3080"/>
                  </a:lnTo>
                  <a:lnTo>
                    <a:pt x="4230" y="3110"/>
                  </a:lnTo>
                  <a:lnTo>
                    <a:pt x="4226" y="3140"/>
                  </a:lnTo>
                  <a:lnTo>
                    <a:pt x="4220" y="3170"/>
                  </a:lnTo>
                  <a:lnTo>
                    <a:pt x="4214" y="3202"/>
                  </a:lnTo>
                  <a:lnTo>
                    <a:pt x="4206" y="3234"/>
                  </a:lnTo>
                  <a:lnTo>
                    <a:pt x="4196" y="3266"/>
                  </a:lnTo>
                  <a:lnTo>
                    <a:pt x="4184" y="3298"/>
                  </a:lnTo>
                  <a:lnTo>
                    <a:pt x="4170" y="3332"/>
                  </a:lnTo>
                  <a:lnTo>
                    <a:pt x="4156" y="3366"/>
                  </a:lnTo>
                  <a:lnTo>
                    <a:pt x="4140" y="3402"/>
                  </a:lnTo>
                  <a:lnTo>
                    <a:pt x="4140" y="3402"/>
                  </a:lnTo>
                  <a:lnTo>
                    <a:pt x="4104" y="3470"/>
                  </a:lnTo>
                  <a:lnTo>
                    <a:pt x="4068" y="3534"/>
                  </a:lnTo>
                  <a:lnTo>
                    <a:pt x="4030" y="3596"/>
                  </a:lnTo>
                  <a:lnTo>
                    <a:pt x="3992" y="3654"/>
                  </a:lnTo>
                  <a:lnTo>
                    <a:pt x="3954" y="3710"/>
                  </a:lnTo>
                  <a:lnTo>
                    <a:pt x="3914" y="3760"/>
                  </a:lnTo>
                  <a:lnTo>
                    <a:pt x="3876" y="3810"/>
                  </a:lnTo>
                  <a:lnTo>
                    <a:pt x="3836" y="3854"/>
                  </a:lnTo>
                  <a:lnTo>
                    <a:pt x="3796" y="3896"/>
                  </a:lnTo>
                  <a:lnTo>
                    <a:pt x="3756" y="3936"/>
                  </a:lnTo>
                  <a:lnTo>
                    <a:pt x="3716" y="3974"/>
                  </a:lnTo>
                  <a:lnTo>
                    <a:pt x="3676" y="4008"/>
                  </a:lnTo>
                  <a:lnTo>
                    <a:pt x="3638" y="4040"/>
                  </a:lnTo>
                  <a:lnTo>
                    <a:pt x="3600" y="4068"/>
                  </a:lnTo>
                  <a:lnTo>
                    <a:pt x="3560" y="4096"/>
                  </a:lnTo>
                  <a:lnTo>
                    <a:pt x="3524" y="4120"/>
                  </a:lnTo>
                  <a:lnTo>
                    <a:pt x="3488" y="4142"/>
                  </a:lnTo>
                  <a:lnTo>
                    <a:pt x="3452" y="4164"/>
                  </a:lnTo>
                  <a:lnTo>
                    <a:pt x="3384" y="4198"/>
                  </a:lnTo>
                  <a:lnTo>
                    <a:pt x="3320" y="4228"/>
                  </a:lnTo>
                  <a:lnTo>
                    <a:pt x="3264" y="4250"/>
                  </a:lnTo>
                  <a:lnTo>
                    <a:pt x="3214" y="4266"/>
                  </a:lnTo>
                  <a:lnTo>
                    <a:pt x="3174" y="4280"/>
                  </a:lnTo>
                  <a:lnTo>
                    <a:pt x="3120" y="4294"/>
                  </a:lnTo>
                  <a:lnTo>
                    <a:pt x="3120" y="4294"/>
                  </a:lnTo>
                  <a:lnTo>
                    <a:pt x="3170" y="4298"/>
                  </a:lnTo>
                  <a:lnTo>
                    <a:pt x="3224" y="4298"/>
                  </a:lnTo>
                  <a:lnTo>
                    <a:pt x="3280" y="4294"/>
                  </a:lnTo>
                  <a:lnTo>
                    <a:pt x="3336" y="4288"/>
                  </a:lnTo>
                  <a:lnTo>
                    <a:pt x="3396" y="4278"/>
                  </a:lnTo>
                  <a:lnTo>
                    <a:pt x="3458" y="4264"/>
                  </a:lnTo>
                  <a:lnTo>
                    <a:pt x="3520" y="4248"/>
                  </a:lnTo>
                  <a:lnTo>
                    <a:pt x="3582" y="4228"/>
                  </a:lnTo>
                  <a:lnTo>
                    <a:pt x="3646" y="4206"/>
                  </a:lnTo>
                  <a:lnTo>
                    <a:pt x="3710" y="4178"/>
                  </a:lnTo>
                  <a:lnTo>
                    <a:pt x="3774" y="4148"/>
                  </a:lnTo>
                  <a:lnTo>
                    <a:pt x="3838" y="4116"/>
                  </a:lnTo>
                  <a:lnTo>
                    <a:pt x="3902" y="4080"/>
                  </a:lnTo>
                  <a:lnTo>
                    <a:pt x="3964" y="4040"/>
                  </a:lnTo>
                  <a:lnTo>
                    <a:pt x="4026" y="3996"/>
                  </a:lnTo>
                  <a:lnTo>
                    <a:pt x="4088" y="3950"/>
                  </a:lnTo>
                  <a:lnTo>
                    <a:pt x="4146" y="3900"/>
                  </a:lnTo>
                  <a:lnTo>
                    <a:pt x="4204" y="3846"/>
                  </a:lnTo>
                  <a:lnTo>
                    <a:pt x="4260" y="3790"/>
                  </a:lnTo>
                  <a:lnTo>
                    <a:pt x="4314" y="3730"/>
                  </a:lnTo>
                  <a:lnTo>
                    <a:pt x="4366" y="3666"/>
                  </a:lnTo>
                  <a:lnTo>
                    <a:pt x="4414" y="3598"/>
                  </a:lnTo>
                  <a:lnTo>
                    <a:pt x="4458" y="3528"/>
                  </a:lnTo>
                  <a:lnTo>
                    <a:pt x="4500" y="3454"/>
                  </a:lnTo>
                  <a:lnTo>
                    <a:pt x="4520" y="3416"/>
                  </a:lnTo>
                  <a:lnTo>
                    <a:pt x="4540" y="3376"/>
                  </a:lnTo>
                  <a:lnTo>
                    <a:pt x="4558" y="3336"/>
                  </a:lnTo>
                  <a:lnTo>
                    <a:pt x="4574" y="3296"/>
                  </a:lnTo>
                  <a:lnTo>
                    <a:pt x="4590" y="3254"/>
                  </a:lnTo>
                  <a:lnTo>
                    <a:pt x="4604" y="3210"/>
                  </a:lnTo>
                  <a:lnTo>
                    <a:pt x="4618" y="3168"/>
                  </a:lnTo>
                  <a:lnTo>
                    <a:pt x="4632" y="3122"/>
                  </a:lnTo>
                  <a:lnTo>
                    <a:pt x="4642" y="3078"/>
                  </a:lnTo>
                  <a:lnTo>
                    <a:pt x="4652" y="3032"/>
                  </a:lnTo>
                  <a:lnTo>
                    <a:pt x="4662" y="2984"/>
                  </a:lnTo>
                  <a:lnTo>
                    <a:pt x="4670" y="2936"/>
                  </a:lnTo>
                  <a:lnTo>
                    <a:pt x="4676" y="2888"/>
                  </a:lnTo>
                  <a:lnTo>
                    <a:pt x="4682" y="2838"/>
                  </a:lnTo>
                  <a:lnTo>
                    <a:pt x="4686" y="2786"/>
                  </a:lnTo>
                  <a:lnTo>
                    <a:pt x="4688" y="2736"/>
                  </a:lnTo>
                  <a:lnTo>
                    <a:pt x="4688" y="2736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テキスト ボックス 54"/>
          <p:cNvSpPr/>
          <p:nvPr/>
        </p:nvSpPr>
        <p:spPr>
          <a:xfrm>
            <a:off x="-2443320" y="5689440"/>
            <a:ext cx="10542600" cy="32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東芝ピアノ教室</a:t>
            </a:r>
            <a:endParaRPr b="0" lang="en-US" sz="3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2:34:34Z</dcterms:created>
  <dc:creator>seisaku</dc:creator>
  <dc:description/>
  <dc:language>en-US</dc:language>
  <cp:lastModifiedBy>seisaku</cp:lastModifiedBy>
  <dcterms:modified xsi:type="dcterms:W3CDTF">2012-05-14T02:42:02Z</dcterms:modified>
  <cp:revision>1</cp:revision>
  <dc:subject/>
  <dc:title>スライド 1</dc:title>
</cp:coreProperties>
</file>