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EBC-F033-418D-AABA-92C338AE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7A1-26B1-4753-9DDF-24D5DBFF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B7D-045F-4085-A039-2CE5323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0B7-A2CC-4650-ACF6-1B11AE0C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E9F-EDB8-459F-8353-72DB3408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ADF-D1A4-47EA-9013-A295ADE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A71-7B27-441D-8374-FD70EAA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101-AA62-4021-B5C8-922D4E25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8C3-7881-4E84-BC1D-2450D5C1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C49-0826-4E86-B17F-6B65C0F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C22-E694-46EF-A9F4-1AD0F15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660-9CB2-45AA-9A01-D1E48F0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985E5F12-E6A9-4E17-ADB0-9F4C9E01BDD6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52360" y="1386000"/>
            <a:ext cx="4824720" cy="442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985080" y="5275440"/>
            <a:ext cx="4824360" cy="442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1386880" y="4194000"/>
            <a:ext cx="4824360" cy="442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8659240" y="738360"/>
            <a:ext cx="4824360" cy="442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2899200">
            <a:off x="12746520" y="1169280"/>
            <a:ext cx="4824360" cy="44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7733400" y="2322360"/>
            <a:ext cx="4824360" cy="442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2619960" y="5562720"/>
            <a:ext cx="4824360" cy="442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809640"/>
            <a:ext cx="43205400" cy="988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fukase3</cp:lastModifiedBy>
  <dcterms:modified xsi:type="dcterms:W3CDTF">2009-05-08T02:53:35Z</dcterms:modified>
  <cp:revision>8</cp:revision>
  <dc:subject/>
  <dc:title>スライド 1</dc:title>
</cp:coreProperties>
</file>