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799763" cy="43206988"/>
  <p:notesSz cx="9907588" cy="42414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0A24-A21A-4E8D-A6CA-C2D0613DF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6280"/>
                <a:tab algn="l" pos="6172200"/>
                <a:tab algn="l" pos="925848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0080360"/>
            <a:ext cx="972180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280" y="24973920"/>
            <a:ext cx="972180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247F-BF89-470B-80D6-8C62CECF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6280"/>
                <a:tab algn="l" pos="6172200"/>
                <a:tab algn="l" pos="925848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1008036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20960" y="1008036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280" y="2497392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20960" y="2497392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F8D0-E778-41C4-AC54-ACDA4913D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6280"/>
                <a:tab algn="l" pos="6172200"/>
                <a:tab algn="l" pos="925848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280" y="10080360"/>
            <a:ext cx="313020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6440" y="10080360"/>
            <a:ext cx="313020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13600" y="10080360"/>
            <a:ext cx="313020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280" y="24973920"/>
            <a:ext cx="313020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6440" y="24973920"/>
            <a:ext cx="313020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13600" y="24973920"/>
            <a:ext cx="313020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95F4-94CC-40E5-AD58-B62B26DC6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6280"/>
                <a:tab algn="l" pos="6172200"/>
                <a:tab algn="l" pos="925848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280" y="10080360"/>
            <a:ext cx="9721800" cy="285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01"/>
              </a:spcBef>
              <a:buNone/>
              <a:tabLst>
                <a:tab algn="l" pos="0"/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A897-B5F1-429B-90DC-0B379F8AF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6280"/>
                <a:tab algn="l" pos="6172200"/>
                <a:tab algn="l" pos="925848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280" y="10080360"/>
            <a:ext cx="9721800" cy="285145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CC14-804E-4E9D-8F69-B73A3C855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6280"/>
                <a:tab algn="l" pos="6172200"/>
                <a:tab algn="l" pos="925848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280" y="10080360"/>
            <a:ext cx="4744080" cy="285145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20960" y="10080360"/>
            <a:ext cx="4744080" cy="285145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B700-AFF7-4245-95D7-7DA6F1518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6280"/>
                <a:tab algn="l" pos="6172200"/>
                <a:tab algn="l" pos="925848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D967-E1EB-4B12-BF1C-F18E6A2C3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1730520"/>
            <a:ext cx="9721800" cy="333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01"/>
              </a:spcBef>
              <a:tabLst>
                <a:tab algn="l" pos="0"/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8D94-4ED0-4C3A-9441-2484EB3E4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6280"/>
                <a:tab algn="l" pos="6172200"/>
                <a:tab algn="l" pos="925848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280" y="1008036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20960" y="10080360"/>
            <a:ext cx="4744080" cy="285145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280" y="2497392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D47E-969B-4FE8-ACF2-E7FE95A9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6280"/>
                <a:tab algn="l" pos="6172200"/>
                <a:tab algn="l" pos="925848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280" y="10080360"/>
            <a:ext cx="4744080" cy="285145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20960" y="1008036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20960" y="2497392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AAFF-88D3-4D23-8CEA-B4C4A2B8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6280"/>
                <a:tab algn="l" pos="6172200"/>
                <a:tab algn="l" pos="925848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280" y="1008036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20960" y="1008036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280" y="24973920"/>
            <a:ext cx="972180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4842-B690-4BA5-9118-414E81E6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6280"/>
                <a:tab algn="l" pos="6172200"/>
                <a:tab algn="l" pos="9258480"/>
              </a:tabLst>
            </a:pPr>
            <a:r>
              <a:rPr b="0" lang="en-US" sz="1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0080360"/>
            <a:ext cx="9721800" cy="285145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 fontScale="77000"/>
          </a:bodyPr>
          <a:p>
            <a:pPr marL="891000" indent="-89100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86280"/>
                <a:tab algn="l" pos="6172200"/>
                <a:tab algn="l" pos="925848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1" marL="1931040" indent="-74304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86280"/>
                <a:tab algn="l" pos="6172200"/>
                <a:tab algn="l" pos="925848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2" marL="2970360" indent="-59400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86280"/>
                <a:tab algn="l" pos="6172200"/>
                <a:tab algn="l" pos="925848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3" marL="4158360" indent="-59400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86280"/>
                <a:tab algn="l" pos="6172200"/>
                <a:tab algn="l" pos="925848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4" marL="5346360" indent="-59400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86280"/>
                <a:tab algn="l" pos="6172200"/>
                <a:tab algn="l" pos="925848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5" marL="5346360" indent="-59400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86280"/>
                <a:tab algn="l" pos="6172200"/>
                <a:tab algn="l" pos="925848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6" marL="5346360" indent="-59400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86280"/>
                <a:tab algn="l" pos="6172200"/>
                <a:tab algn="l" pos="925848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280" y="39344760"/>
            <a:ext cx="2521080" cy="300024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91080" y="39344760"/>
            <a:ext cx="3419280" cy="300024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40720" y="39344760"/>
            <a:ext cx="2520720" cy="300024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91494-5CC5-48D4-B8CE-BB20A2302CB1}" type="slidenum">
              <a:rPr b="0" lang="en-US" sz="4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図 8" descr="PLAY035.WMF"/>
          <p:cNvPicPr/>
          <p:nvPr/>
        </p:nvPicPr>
        <p:blipFill>
          <a:blip r:embed="rId1"/>
          <a:stretch/>
        </p:blipFill>
        <p:spPr>
          <a:xfrm>
            <a:off x="3919680" y="28947960"/>
            <a:ext cx="6453000" cy="705672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16"/>
          <p:cNvSpPr/>
          <p:nvPr/>
        </p:nvSpPr>
        <p:spPr>
          <a:xfrm>
            <a:off x="0" y="0"/>
            <a:ext cx="10801440" cy="175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-4196160" y="6985080"/>
            <a:ext cx="10847880" cy="20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1875"/>
              </a:spcBef>
              <a:tabLst>
                <a:tab algn="l" pos="0"/>
                <a:tab algn="l" pos="3086280"/>
                <a:tab algn="l" pos="6172200"/>
                <a:tab algn="l" pos="9258480"/>
              </a:tabLst>
            </a:pPr>
            <a:r>
              <a:rPr b="0" lang="ja-JP" sz="35000" spc="-1" strike="noStrike">
                <a:solidFill>
                  <a:srgbClr val="000000"/>
                </a:solidFill>
                <a:latin typeface="HGS創英ﾌﾟﾚｾﾞﾝｽEB"/>
                <a:ea typeface="HGS創英ﾌﾟﾚｾﾞﾝｽEB"/>
              </a:rPr>
              <a:t>申込受付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テキスト ボックス 17"/>
          <p:cNvSpPr/>
          <p:nvPr/>
        </p:nvSpPr>
        <p:spPr>
          <a:xfrm>
            <a:off x="617400" y="36075960"/>
            <a:ext cx="10184040" cy="81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HGP創英ﾌﾟﾚｾﾞﾝｽEB"/>
                <a:ea typeface="HGP創英ﾌﾟﾚｾﾞﾝｽEB"/>
              </a:rPr>
              <a:t>【</a:t>
            </a:r>
            <a:r>
              <a:rPr b="1" lang="ja-JP" sz="8800" spc="-1" strike="noStrike">
                <a:solidFill>
                  <a:srgbClr val="000000"/>
                </a:solidFill>
                <a:latin typeface="HGP創英ﾌﾟﾚｾﾞﾝｽEB"/>
                <a:ea typeface="HGP創英ﾌﾟﾚｾﾞﾝｽEB"/>
              </a:rPr>
              <a:t>受付時間</a:t>
            </a:r>
            <a:r>
              <a:rPr b="1" lang="en-US" sz="8800" spc="-1" strike="noStrike">
                <a:solidFill>
                  <a:srgbClr val="000000"/>
                </a:solidFill>
                <a:latin typeface="HGP創英ﾌﾟﾚｾﾞﾝｽEB"/>
                <a:ea typeface="HGP創英ﾌﾟﾚｾﾞﾝｽEB"/>
              </a:rPr>
              <a:t>】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800" spc="-1" strike="noStrike">
                <a:solidFill>
                  <a:srgbClr val="000000"/>
                </a:solidFill>
                <a:latin typeface="HGP創英ﾌﾟﾚｾﾞﾝｽEB"/>
                <a:ea typeface="HGP創英ﾌﾟﾚｾﾞﾝｽEB"/>
              </a:rPr>
              <a:t>月～金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800" spc="-1" strike="noStrike">
                <a:solidFill>
                  <a:srgbClr val="000000"/>
                </a:solidFill>
                <a:latin typeface="HGP創英ﾌﾟﾚｾﾞﾝｽEB"/>
                <a:ea typeface="HGP創英ﾌﾟﾚｾﾞﾝｽEB"/>
              </a:rPr>
              <a:t>     </a:t>
            </a:r>
            <a:r>
              <a:rPr b="1" lang="en-US" sz="8800" spc="-1" strike="noStrike">
                <a:solidFill>
                  <a:srgbClr val="000000"/>
                </a:solidFill>
                <a:latin typeface="HGP創英ﾌﾟﾚｾﾞﾝｽEB"/>
                <a:ea typeface="HGP創英ﾌﾟﾚｾﾞﾝｽEB"/>
              </a:rPr>
              <a:t>10</a:t>
            </a:r>
            <a:r>
              <a:rPr b="1" lang="ja-JP" sz="8800" spc="-1" strike="noStrike">
                <a:solidFill>
                  <a:srgbClr val="000000"/>
                </a:solidFill>
                <a:latin typeface="HGP創英ﾌﾟﾚｾﾞﾝｽEB"/>
                <a:ea typeface="HGP創英ﾌﾟﾚｾﾞﾝｽEB"/>
              </a:rPr>
              <a:t>：</a:t>
            </a:r>
            <a:r>
              <a:rPr b="1" lang="en-US" sz="8800" spc="-1" strike="noStrike">
                <a:solidFill>
                  <a:srgbClr val="000000"/>
                </a:solidFill>
                <a:latin typeface="HGP創英ﾌﾟﾚｾﾞﾝｽEB"/>
                <a:ea typeface="HGP創英ﾌﾟﾚｾﾞﾝｽEB"/>
              </a:rPr>
              <a:t>00</a:t>
            </a:r>
            <a:r>
              <a:rPr b="1" lang="ja-JP" sz="8800" spc="-1" strike="noStrike">
                <a:solidFill>
                  <a:srgbClr val="000000"/>
                </a:solidFill>
                <a:latin typeface="HGP創英ﾌﾟﾚｾﾞﾝｽEB"/>
                <a:ea typeface="HGP創英ﾌﾟﾚｾﾞﾝｽEB"/>
              </a:rPr>
              <a:t>～</a:t>
            </a:r>
            <a:r>
              <a:rPr b="1" lang="en-US" sz="8800" spc="-1" strike="noStrike">
                <a:solidFill>
                  <a:srgbClr val="000000"/>
                </a:solidFill>
                <a:latin typeface="HGP創英ﾌﾟﾚｾﾞﾝｽEB"/>
                <a:ea typeface="HGP創英ﾌﾟﾚｾﾞﾝｽEB"/>
              </a:rPr>
              <a:t>7</a:t>
            </a:r>
            <a:r>
              <a:rPr b="1" lang="ja-JP" sz="8800" spc="-1" strike="noStrike">
                <a:solidFill>
                  <a:srgbClr val="000000"/>
                </a:solidFill>
                <a:latin typeface="HGP創英ﾌﾟﾚｾﾞﾝｽEB"/>
                <a:ea typeface="HGP創英ﾌﾟﾚｾﾞﾝｽEB"/>
              </a:rPr>
              <a:t>：</a:t>
            </a:r>
            <a:r>
              <a:rPr b="1" lang="en-US" sz="8800" spc="-1" strike="noStrike">
                <a:solidFill>
                  <a:srgbClr val="000000"/>
                </a:solidFill>
                <a:latin typeface="HGP創英ﾌﾟﾚｾﾞﾝｽEB"/>
                <a:ea typeface="HGP創英ﾌﾟﾚｾﾞﾝｽEB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800" spc="-1" strike="noStrike">
                <a:solidFill>
                  <a:srgbClr val="000000"/>
                </a:solidFill>
                <a:latin typeface="HGP創英ﾌﾟﾚｾﾞﾝｽEB"/>
                <a:ea typeface="HGP創英ﾌﾟﾚｾﾞﾝｽEB"/>
              </a:rPr>
              <a:t>土   </a:t>
            </a:r>
            <a:r>
              <a:rPr b="1" lang="en-US" sz="8800" spc="-1" strike="noStrike">
                <a:solidFill>
                  <a:srgbClr val="000000"/>
                </a:solidFill>
                <a:latin typeface="HGP創英ﾌﾟﾚｾﾞﾝｽEB"/>
                <a:ea typeface="HGP創英ﾌﾟﾚｾﾞﾝｽEB"/>
              </a:rPr>
              <a:t>2</a:t>
            </a:r>
            <a:r>
              <a:rPr b="1" lang="ja-JP" sz="8800" spc="-1" strike="noStrike">
                <a:solidFill>
                  <a:srgbClr val="000000"/>
                </a:solidFill>
                <a:latin typeface="HGP創英ﾌﾟﾚｾﾞﾝｽEB"/>
                <a:ea typeface="HGP創英ﾌﾟﾚｾﾞﾝｽEB"/>
              </a:rPr>
              <a:t>：</a:t>
            </a:r>
            <a:r>
              <a:rPr b="1" lang="en-US" sz="8800" spc="-1" strike="noStrike">
                <a:solidFill>
                  <a:srgbClr val="000000"/>
                </a:solidFill>
                <a:latin typeface="HGP創英ﾌﾟﾚｾﾞﾝｽEB"/>
                <a:ea typeface="HGP創英ﾌﾟﾚｾﾞﾝｽEB"/>
              </a:rPr>
              <a:t>00</a:t>
            </a:r>
            <a:r>
              <a:rPr b="1" lang="ja-JP" sz="8800" spc="-1" strike="noStrike">
                <a:solidFill>
                  <a:srgbClr val="000000"/>
                </a:solidFill>
                <a:latin typeface="HGP創英ﾌﾟﾚｾﾞﾝｽEB"/>
                <a:ea typeface="HGP創英ﾌﾟﾚｾﾞﾝｽEB"/>
              </a:rPr>
              <a:t>～</a:t>
            </a:r>
            <a:r>
              <a:rPr b="1" lang="en-US" sz="8800" spc="-1" strike="noStrike">
                <a:solidFill>
                  <a:srgbClr val="000000"/>
                </a:solidFill>
                <a:latin typeface="HGP創英ﾌﾟﾚｾﾞﾝｽEB"/>
                <a:ea typeface="HGP創英ﾌﾟﾚｾﾞﾝｽEB"/>
              </a:rPr>
              <a:t>7</a:t>
            </a:r>
            <a:r>
              <a:rPr b="1" lang="ja-JP" sz="8800" spc="-1" strike="noStrike">
                <a:solidFill>
                  <a:srgbClr val="000000"/>
                </a:solidFill>
                <a:latin typeface="HGP創英ﾌﾟﾚｾﾞﾝｽEB"/>
                <a:ea typeface="HGP創英ﾌﾟﾚｾﾞﾝｽEB"/>
              </a:rPr>
              <a:t>：</a:t>
            </a:r>
            <a:r>
              <a:rPr b="1" lang="en-US" sz="8800" spc="-1" strike="noStrike">
                <a:solidFill>
                  <a:srgbClr val="000000"/>
                </a:solidFill>
                <a:latin typeface="HGP創英ﾌﾟﾚｾﾞﾝｽEB"/>
                <a:ea typeface="HGP創英ﾌﾟﾚｾﾞﾝｽEB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800" spc="-1" strike="noStrike">
                <a:solidFill>
                  <a:srgbClr val="000000"/>
                </a:solidFill>
                <a:latin typeface="HGP創英ﾌﾟﾚｾﾞﾝｽEB"/>
                <a:ea typeface="HGP創英ﾌﾟﾚｾﾞﾝｽEB"/>
              </a:rPr>
              <a:t>日　</a:t>
            </a:r>
            <a:r>
              <a:rPr b="1" lang="en-US" sz="8800" spc="-1" strike="noStrike">
                <a:solidFill>
                  <a:srgbClr val="000000"/>
                </a:solidFill>
                <a:latin typeface="HGP創英ﾌﾟﾚｾﾞﾝｽEB"/>
                <a:ea typeface="HGP創英ﾌﾟﾚｾﾞﾝｽEB"/>
              </a:rPr>
              <a:t>10</a:t>
            </a:r>
            <a:r>
              <a:rPr b="1" lang="ja-JP" sz="8800" spc="-1" strike="noStrike">
                <a:solidFill>
                  <a:srgbClr val="000000"/>
                </a:solidFill>
                <a:latin typeface="HGP創英ﾌﾟﾚｾﾞﾝｽEB"/>
                <a:ea typeface="HGP創英ﾌﾟﾚｾﾞﾝｽEB"/>
              </a:rPr>
              <a:t>：</a:t>
            </a:r>
            <a:r>
              <a:rPr b="1" lang="en-US" sz="8800" spc="-1" strike="noStrike">
                <a:solidFill>
                  <a:srgbClr val="000000"/>
                </a:solidFill>
                <a:latin typeface="HGP創英ﾌﾟﾚｾﾞﾝｽEB"/>
                <a:ea typeface="HGP創英ﾌﾟﾚｾﾞﾝｽEB"/>
              </a:rPr>
              <a:t>00</a:t>
            </a:r>
            <a:r>
              <a:rPr b="1" lang="ja-JP" sz="8800" spc="-1" strike="noStrike">
                <a:solidFill>
                  <a:srgbClr val="000000"/>
                </a:solidFill>
                <a:latin typeface="HGP創英ﾌﾟﾚｾﾞﾝｽEB"/>
                <a:ea typeface="HGP創英ﾌﾟﾚｾﾞﾝｽEB"/>
              </a:rPr>
              <a:t>～</a:t>
            </a:r>
            <a:r>
              <a:rPr b="1" lang="en-US" sz="8800" spc="-1" strike="noStrike">
                <a:solidFill>
                  <a:srgbClr val="000000"/>
                </a:solidFill>
                <a:latin typeface="HGP創英ﾌﾟﾚｾﾞﾝｽEB"/>
                <a:ea typeface="HGP創英ﾌﾟﾚｾﾞﾝｽEB"/>
              </a:rPr>
              <a:t>3</a:t>
            </a:r>
            <a:r>
              <a:rPr b="1" lang="ja-JP" sz="8800" spc="-1" strike="noStrike">
                <a:solidFill>
                  <a:srgbClr val="000000"/>
                </a:solidFill>
                <a:latin typeface="HGP創英ﾌﾟﾚｾﾞﾝｽEB"/>
                <a:ea typeface="HGP創英ﾌﾟﾚｾﾞﾝｽEB"/>
              </a:rPr>
              <a:t>：</a:t>
            </a:r>
            <a:r>
              <a:rPr b="1" lang="en-US" sz="8800" spc="-1" strike="noStrike">
                <a:solidFill>
                  <a:srgbClr val="000000"/>
                </a:solidFill>
                <a:latin typeface="HGP創英ﾌﾟﾚｾﾞﾝｽEB"/>
                <a:ea typeface="HGP創英ﾌﾟﾚｾﾞﾝｽEB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右矢印 19"/>
          <p:cNvSpPr/>
          <p:nvPr/>
        </p:nvSpPr>
        <p:spPr>
          <a:xfrm>
            <a:off x="1716120" y="25414200"/>
            <a:ext cx="7500960" cy="302904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3086280"/>
                <a:tab algn="l" pos="6172200"/>
                <a:tab algn="l" pos="925848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図 7" descr="PLAY034.WMF"/>
          <p:cNvPicPr/>
          <p:nvPr/>
        </p:nvPicPr>
        <p:blipFill>
          <a:blip r:embed="rId2"/>
          <a:stretch/>
        </p:blipFill>
        <p:spPr>
          <a:xfrm>
            <a:off x="720720" y="2965320"/>
            <a:ext cx="5111640" cy="35877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2217600" y="1333440"/>
            <a:ext cx="7799400" cy="209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86280"/>
                <a:tab algn="l" pos="6172200"/>
                <a:tab algn="l" pos="9258480"/>
              </a:tabLst>
            </a:pPr>
            <a:r>
              <a:rPr b="1" lang="ja-JP" sz="25000" spc="-1" strike="noStrike">
                <a:solidFill>
                  <a:srgbClr val="000000"/>
                </a:solidFill>
                <a:latin typeface="HGP創英ﾌﾟﾚｾﾞﾝｽEB"/>
                <a:ea typeface="HGP創英ﾌﾟﾚｾﾞﾝｽEB"/>
              </a:rPr>
              <a:t>短期水泳教室</a:t>
            </a:r>
            <a:r>
              <a:rPr b="0" lang="ja-JP" sz="5000" spc="-1" strike="noStrike">
                <a:solidFill>
                  <a:srgbClr val="000000"/>
                </a:solidFill>
                <a:latin typeface="Arial"/>
                <a:ea typeface="HG明朝B"/>
              </a:rPr>
              <a:t>　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3T03:44:53Z</dcterms:created>
  <dc:creator>demo</dc:creator>
  <dc:description/>
  <dc:language>en-US</dc:language>
  <cp:lastModifiedBy>tec</cp:lastModifiedBy>
  <dcterms:modified xsi:type="dcterms:W3CDTF">2013-03-22T06:12:16Z</dcterms:modified>
  <cp:revision>18</cp:revision>
  <dc:subject/>
  <dc:title>スライド 1</dc:title>
</cp:coreProperties>
</file>