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B0F-6DB1-4A98-A2C2-C5A8AD85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6EF-4986-4BA1-AFB1-FE6BC58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7FA-1479-4DAD-8CFD-F8C25F9B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118-862D-473B-AE0F-C8CD3B6E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21C-9A10-4E1E-BC65-B494B3C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7B6-EB1D-4958-AE44-F0FE5810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D4F-8C76-4B8E-AC37-EF0937E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A09-8CBD-444E-B02B-AD46A976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54E-9DF0-48AE-8E61-911E2CB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D8B-40BB-4042-B709-04D02C1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70B-7DA7-4C11-9194-D1B1616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9F4-A031-488C-B67C-E647526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5A6FA97A-1D40-4B64-8434-092E49BEF1EF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43205400" cy="10693440"/>
          </a:xfrm>
          <a:prstGeom prst="rect">
            <a:avLst/>
          </a:prstGeom>
          <a:solidFill>
            <a:srgbClr val="c10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図形グループ 5"/>
          <p:cNvGrpSpPr/>
          <p:nvPr/>
        </p:nvGrpSpPr>
        <p:grpSpPr>
          <a:xfrm>
            <a:off x="24555600" y="0"/>
            <a:ext cx="18649800" cy="2467080"/>
            <a:chOff x="24555600" y="0"/>
            <a:chExt cx="18649800" cy="2467080"/>
          </a:xfrm>
        </p:grpSpPr>
        <p:sp>
          <p:nvSpPr>
            <p:cNvPr id="43" name="正方形/長方形 3"/>
            <p:cNvSpPr/>
            <p:nvPr/>
          </p:nvSpPr>
          <p:spPr>
            <a:xfrm>
              <a:off x="26355600" y="0"/>
              <a:ext cx="16849800" cy="24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4"/>
            <p:cNvSpPr/>
            <p:nvPr/>
          </p:nvSpPr>
          <p:spPr>
            <a:xfrm flipH="1">
              <a:off x="24555600" y="0"/>
              <a:ext cx="1800000" cy="246708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642"/>
          <p:cNvSpPr/>
          <p:nvPr/>
        </p:nvSpPr>
        <p:spPr>
          <a:xfrm>
            <a:off x="34504560" y="168120"/>
            <a:ext cx="6699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◯◯</a:t>
            </a:r>
            <a:r>
              <a:rPr b="1" lang="ja-JP" sz="1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英数塾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6" descr="nigakki.png"/>
          <p:cNvPicPr/>
          <p:nvPr/>
        </p:nvPicPr>
        <p:blipFill>
          <a:blip r:embed="rId1"/>
          <a:stretch/>
        </p:blipFill>
        <p:spPr>
          <a:xfrm>
            <a:off x="1297080" y="2112840"/>
            <a:ext cx="10409040" cy="7842240"/>
          </a:xfrm>
          <a:prstGeom prst="rect">
            <a:avLst/>
          </a:prstGeom>
          <a:ln w="0">
            <a:noFill/>
          </a:ln>
        </p:spPr>
      </p:pic>
      <p:pic>
        <p:nvPicPr>
          <p:cNvPr id="47" name="図 7" descr="cyukan.png"/>
          <p:cNvPicPr/>
          <p:nvPr/>
        </p:nvPicPr>
        <p:blipFill>
          <a:blip r:embed="rId2"/>
          <a:stretch/>
        </p:blipFill>
        <p:spPr>
          <a:xfrm>
            <a:off x="12385800" y="3292560"/>
            <a:ext cx="29451240" cy="5726160"/>
          </a:xfrm>
          <a:prstGeom prst="rect">
            <a:avLst/>
          </a:prstGeom>
          <a:ln w="0">
            <a:noFill/>
          </a:ln>
        </p:spPr>
      </p:pic>
      <p:sp>
        <p:nvSpPr>
          <p:cNvPr id="48" name="正方形/長方形 8"/>
          <p:cNvSpPr/>
          <p:nvPr/>
        </p:nvSpPr>
        <p:spPr>
          <a:xfrm>
            <a:off x="3755880" y="3618000"/>
            <a:ext cx="54385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23000" spc="-1" strike="noStrike">
                <a:solidFill>
                  <a:srgbClr val="c10d23"/>
                </a:solidFill>
                <a:latin typeface="HGS創英角ｺﾞｼｯｸUB"/>
                <a:ea typeface="HGS創英角ｺﾞｼｯｸUB"/>
              </a:rPr>
              <a:t>二学期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Jean</cp:lastModifiedBy>
  <cp:lastPrinted>2013-02-07T07:38:20Z</cp:lastPrinted>
  <dcterms:modified xsi:type="dcterms:W3CDTF">2013-02-14T10:17:37Z</dcterms:modified>
  <cp:revision>15</cp:revision>
  <dc:subject/>
  <dc:title>スライド 1</dc:title>
</cp:coreProperties>
</file>