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14113" cy="3429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BBC-893F-4AF7-B10F-34EBCFB1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2065248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866-7B4D-4FEC-9B03-C6B56BFC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675-508F-4130-847E-FCF031CD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 fontScale="98000"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 fontScale="98000"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 fontScale="98000"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 fontScale="98000"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 fontScale="98000"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 fontScale="98000"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6FF-204D-4EB8-AF47-13187E50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76"/>
              </a:spcBef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715-4136-4763-8DD2-FAC5A438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AD2-1092-4E07-95E6-7EE533B9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C6C-B0A0-4FAE-9E3A-59E60656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3C0-798F-4EA7-9AEF-9CA19A15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3047760"/>
            <a:ext cx="9617040" cy="264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76"/>
              </a:spcBef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C25-AB44-4098-8F3D-EBC0D242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E62-359D-4FAA-85E3-D0F89BEF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449-1C60-429E-B537-A332FA03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D65-7C38-4281-99E0-50192624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ctr">
            <a:noAutofit/>
          </a:bodyPr>
          <a:p>
            <a:pPr indent="0" algn="ct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rmAutofit fontScale="80000"/>
          </a:bodyPr>
          <a:p>
            <a:pPr marL="781920" indent="-781920">
              <a:spcBef>
                <a:spcPts val="2276"/>
              </a:spcBef>
              <a:buClr>
                <a:srgbClr val="000000"/>
              </a:buClr>
              <a:buFont typeface="Times New Roman"/>
              <a:buChar char="•"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4160" indent="-651600">
              <a:spcBef>
                <a:spcPts val="2276"/>
              </a:spcBef>
              <a:buClr>
                <a:srgbClr val="000000"/>
              </a:buClr>
              <a:buFont typeface="Times New Roman"/>
              <a:buChar char="–"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  <a:p>
            <a:pPr lvl="2" marL="2606040" indent="-520560">
              <a:spcBef>
                <a:spcPts val="2276"/>
              </a:spcBef>
              <a:buClr>
                <a:srgbClr val="000000"/>
              </a:buClr>
              <a:buFont typeface="Times New Roman"/>
              <a:buChar char="•"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  <a:p>
            <a:pPr lvl="3" marL="3648600" indent="-521640">
              <a:spcBef>
                <a:spcPts val="2276"/>
              </a:spcBef>
              <a:buClr>
                <a:srgbClr val="000000"/>
              </a:buClr>
              <a:buFont typeface="Times New Roman"/>
              <a:buChar char="–"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  <a:p>
            <a:pPr lvl="4" marL="4691520" indent="-522000">
              <a:spcBef>
                <a:spcPts val="2276"/>
              </a:spcBef>
              <a:buClr>
                <a:srgbClr val="000000"/>
              </a:buClr>
              <a:buFont typeface="Times New Roman"/>
              <a:buChar char="»"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  <a:p>
            <a:pPr lvl="5" marL="4691520" indent="-522000">
              <a:spcBef>
                <a:spcPts val="2276"/>
              </a:spcBef>
              <a:buClr>
                <a:srgbClr val="000000"/>
              </a:buClr>
              <a:buFont typeface="Times New Roman"/>
              <a:buChar char="»"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  <a:p>
            <a:pPr lvl="6" marL="4691520" indent="-522000">
              <a:spcBef>
                <a:spcPts val="2276"/>
              </a:spcBef>
              <a:buClr>
                <a:srgbClr val="000000"/>
              </a:buClr>
              <a:buFont typeface="Times New Roman"/>
              <a:buChar char="»"/>
              <a:tabLst>
                <a:tab algn="l" pos="2606760"/>
                <a:tab algn="l" pos="5213520"/>
                <a:tab algn="l" pos="7819920"/>
                <a:tab algn="l" pos="1042668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31241880"/>
            <a:ext cx="2357640" cy="2286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31241880"/>
            <a:ext cx="3584520" cy="2286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31241880"/>
            <a:ext cx="2357280" cy="2286000"/>
          </a:xfrm>
          <a:prstGeom prst="rect">
            <a:avLst/>
          </a:prstGeom>
          <a:noFill/>
          <a:ln w="0">
            <a:noFill/>
          </a:ln>
        </p:spPr>
        <p:txBody>
          <a:bodyPr lIns="260640" rIns="260640" tIns="130320" bIns="130320" anchor="t">
            <a:noAutofit/>
          </a:bodyPr>
          <a:lstStyle>
            <a:lvl1pPr indent="0" algn="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  <a:defRPr b="0" lang="en-US" sz="4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06760"/>
                <a:tab algn="l" pos="5213520"/>
                <a:tab algn="l" pos="7819920"/>
                <a:tab algn="l" pos="10426680"/>
              </a:tabLst>
            </a:pPr>
            <a:fld id="{DEBA7E37-3D47-4702-9601-7D74FD6552F6}" type="slidenum"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11315880" cy="34290000"/>
          </a:xfrm>
          <a:prstGeom prst="rect">
            <a:avLst/>
          </a:prstGeom>
          <a:solidFill>
            <a:srgbClr val="2dac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635040" y="29883240"/>
            <a:ext cx="10134720" cy="36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635040" y="431640"/>
            <a:ext cx="10134720" cy="452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2965320" y="27744840"/>
            <a:ext cx="538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ＤＦＧ太丸ゴシック体"/>
                <a:ea typeface="ＤＦＧ太丸ゴシック体"/>
              </a:rPr>
              <a:t>CAU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2629080" y="3319560"/>
            <a:ext cx="605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2946a"/>
                </a:solidFill>
                <a:latin typeface="ＤＦＧ太丸ゴシック体"/>
                <a:ea typeface="ＤＦＧ太丸ゴシック体"/>
              </a:rPr>
              <a:t>AUTOMATI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図 4" descr="auto01.png"/>
          <p:cNvPicPr/>
          <p:nvPr/>
        </p:nvPicPr>
        <p:blipFill>
          <a:blip r:embed="rId1"/>
          <a:stretch/>
        </p:blipFill>
        <p:spPr>
          <a:xfrm>
            <a:off x="689040" y="4975200"/>
            <a:ext cx="9937800" cy="9937800"/>
          </a:xfrm>
          <a:prstGeom prst="rect">
            <a:avLst/>
          </a:prstGeom>
          <a:ln w="0">
            <a:noFill/>
          </a:ln>
        </p:spPr>
      </p:pic>
      <p:pic>
        <p:nvPicPr>
          <p:cNvPr id="47" name="図 6" descr="caut01.png"/>
          <p:cNvPicPr/>
          <p:nvPr/>
        </p:nvPicPr>
        <p:blipFill>
          <a:blip r:embed="rId2"/>
          <a:stretch/>
        </p:blipFill>
        <p:spPr>
          <a:xfrm>
            <a:off x="1098720" y="19089720"/>
            <a:ext cx="9118440" cy="9117000"/>
          </a:xfrm>
          <a:prstGeom prst="rect">
            <a:avLst/>
          </a:prstGeom>
          <a:ln w="0">
            <a:noFill/>
          </a:ln>
        </p:spPr>
      </p:pic>
      <p:pic>
        <p:nvPicPr>
          <p:cNvPr id="48" name="図 14" descr="caut002.png"/>
          <p:cNvPicPr/>
          <p:nvPr/>
        </p:nvPicPr>
        <p:blipFill>
          <a:blip r:embed="rId3"/>
          <a:stretch/>
        </p:blipFill>
        <p:spPr>
          <a:xfrm>
            <a:off x="936720" y="30081600"/>
            <a:ext cx="9474120" cy="3265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3007080" y="14841360"/>
            <a:ext cx="530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ff"/>
                </a:solidFill>
                <a:latin typeface="ＤＦＧ太丸ゴシック体"/>
                <a:ea typeface="ＤＦＧ太丸ゴシック体"/>
              </a:rPr>
              <a:t>かけこまな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ff"/>
                </a:solidFill>
                <a:latin typeface="ＤＦＧ太丸ゴシック体"/>
                <a:ea typeface="ＤＦＧ太丸ゴシック体"/>
              </a:rPr>
              <a:t>立ち止まらな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ff"/>
                </a:solidFill>
                <a:latin typeface="ＤＦＧ太丸ゴシック体"/>
                <a:ea typeface="ＤＦＧ太丸ゴシック体"/>
              </a:rPr>
              <a:t>手をふれな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正方形/長方形 18"/>
          <p:cNvSpPr/>
          <p:nvPr/>
        </p:nvSpPr>
        <p:spPr>
          <a:xfrm>
            <a:off x="617400" y="29818080"/>
            <a:ext cx="1015380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正方形/長方形 30"/>
          <p:cNvSpPr/>
          <p:nvPr/>
        </p:nvSpPr>
        <p:spPr>
          <a:xfrm>
            <a:off x="617400" y="32986800"/>
            <a:ext cx="1015380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図 5" descr="doa.png"/>
          <p:cNvPicPr/>
          <p:nvPr/>
        </p:nvPicPr>
        <p:blipFill>
          <a:blip r:embed="rId4"/>
          <a:stretch/>
        </p:blipFill>
        <p:spPr>
          <a:xfrm>
            <a:off x="949320" y="727200"/>
            <a:ext cx="9532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4:51:43Z</dcterms:created>
  <dc:creator>ttec</dc:creator>
  <dc:description/>
  <dc:language>en-US</dc:language>
  <cp:lastModifiedBy>Jean</cp:lastModifiedBy>
  <cp:lastPrinted>2013-02-07T06:29:11Z</cp:lastPrinted>
  <dcterms:modified xsi:type="dcterms:W3CDTF">2013-02-12T04:50:23Z</dcterms:modified>
  <cp:revision>10</cp:revision>
  <dc:subject/>
  <dc:title>PowerPoint プレゼンテーション</dc:title>
</cp:coreProperties>
</file>