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1512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108-D216-41F1-9649-EB6A77B0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3160" y="1344600"/>
            <a:ext cx="90871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3160" y="4368960"/>
            <a:ext cx="9087120" cy="4328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3160" y="9108720"/>
            <a:ext cx="9087120" cy="4328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40F7-DC43-423A-A9E4-2FE5442F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3160" y="1344600"/>
            <a:ext cx="90871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3160" y="4368960"/>
            <a:ext cx="4434480" cy="4328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9760" y="4368960"/>
            <a:ext cx="4434480" cy="4328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160" y="9108720"/>
            <a:ext cx="4434480" cy="4328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9760" y="9108720"/>
            <a:ext cx="4434480" cy="4328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F9A-0C4E-4FAF-A7DF-5547BA93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3160" y="1344600"/>
            <a:ext cx="90871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3160" y="4368960"/>
            <a:ext cx="2925720" cy="4328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5400" y="4368960"/>
            <a:ext cx="2925720" cy="4328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48000" y="4368960"/>
            <a:ext cx="2925720" cy="4328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3160" y="9108720"/>
            <a:ext cx="2925720" cy="4328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5400" y="9108720"/>
            <a:ext cx="2925720" cy="4328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48000" y="9108720"/>
            <a:ext cx="2925720" cy="4328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5FA9-B2F1-4A3F-96A4-B4F28BBA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3160" y="1344600"/>
            <a:ext cx="90871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3160" y="4368960"/>
            <a:ext cx="9087120" cy="90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B05B-156D-492D-BC67-3EC0232B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3160" y="1344600"/>
            <a:ext cx="90871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3160" y="4368960"/>
            <a:ext cx="9087120" cy="9074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942-61A5-4F12-A680-2DDC48A0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3160" y="1344600"/>
            <a:ext cx="90871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3160" y="4368960"/>
            <a:ext cx="4434480" cy="9074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9760" y="4368960"/>
            <a:ext cx="4434480" cy="9074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C0E2-0C97-4398-8D57-4E462171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3160" y="1344600"/>
            <a:ext cx="90871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8EC-6033-42FD-9089-BC52BAB5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3160" y="1344600"/>
            <a:ext cx="9087120" cy="116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10AF-17A6-457D-A216-2EC15FBB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3160" y="1344600"/>
            <a:ext cx="90871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3160" y="4368960"/>
            <a:ext cx="4434480" cy="4328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9760" y="4368960"/>
            <a:ext cx="4434480" cy="9074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3160" y="9108720"/>
            <a:ext cx="4434480" cy="4328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F184-4CA6-470E-8C16-77204B08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3160" y="1344600"/>
            <a:ext cx="90871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3160" y="4368960"/>
            <a:ext cx="4434480" cy="9074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9760" y="4368960"/>
            <a:ext cx="4434480" cy="4328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9760" y="9108720"/>
            <a:ext cx="4434480" cy="4328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A858-DE40-49EA-A768-6FFCA705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3160" y="1344600"/>
            <a:ext cx="90871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3160" y="4368960"/>
            <a:ext cx="4434480" cy="4328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9760" y="4368960"/>
            <a:ext cx="4434480" cy="4328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3160" y="9108720"/>
            <a:ext cx="9087120" cy="4328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CD3-F2E5-4B63-86A7-047506E7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3160" y="1344600"/>
            <a:ext cx="90871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3160" y="4368960"/>
            <a:ext cx="9087120" cy="9074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98440" indent="-46008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Times New Roman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Times New Roman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Times New Roman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2800" y="13777920"/>
            <a:ext cx="2227320" cy="10080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13777920"/>
            <a:ext cx="3387600" cy="10080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600" y="13777920"/>
            <a:ext cx="2227320" cy="10080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8005-90B5-43AA-AA7F-C9E9F91E3E5C}" type="slidenum"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10693440" cy="15122520"/>
          </a:xfrm>
          <a:prstGeom prst="rect">
            <a:avLst/>
          </a:prstGeom>
          <a:solidFill>
            <a:srgbClr val="2dac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11514240"/>
            <a:ext cx="10691640" cy="36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635040" y="431640"/>
            <a:ext cx="9464760" cy="324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3"/>
          <p:cNvSpPr/>
          <p:nvPr/>
        </p:nvSpPr>
        <p:spPr>
          <a:xfrm>
            <a:off x="3633480" y="2786040"/>
            <a:ext cx="370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946a"/>
                </a:solidFill>
                <a:latin typeface="ＤＦＧ太丸ゴシック体"/>
                <a:ea typeface="ＤＦＧ太丸ゴシック体"/>
              </a:rPr>
              <a:t>AUTOMAT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図 4" descr="auto01.png"/>
          <p:cNvPicPr/>
          <p:nvPr/>
        </p:nvPicPr>
        <p:blipFill>
          <a:blip r:embed="rId1"/>
          <a:stretch/>
        </p:blipFill>
        <p:spPr>
          <a:xfrm>
            <a:off x="2014560" y="4805280"/>
            <a:ext cx="6519960" cy="6519960"/>
          </a:xfrm>
          <a:prstGeom prst="rect">
            <a:avLst/>
          </a:prstGeom>
          <a:ln w="0">
            <a:noFill/>
          </a:ln>
        </p:spPr>
      </p:pic>
      <p:pic>
        <p:nvPicPr>
          <p:cNvPr id="46" name="図 6" descr="caut01.png"/>
          <p:cNvPicPr/>
          <p:nvPr/>
        </p:nvPicPr>
        <p:blipFill>
          <a:blip r:embed="rId2"/>
          <a:stretch/>
        </p:blipFill>
        <p:spPr>
          <a:xfrm>
            <a:off x="522360" y="11880720"/>
            <a:ext cx="2736720" cy="2737080"/>
          </a:xfrm>
          <a:prstGeom prst="rect">
            <a:avLst/>
          </a:prstGeom>
          <a:ln w="0">
            <a:noFill/>
          </a:ln>
        </p:spPr>
      </p:pic>
      <p:pic>
        <p:nvPicPr>
          <p:cNvPr id="47" name="図 14" descr="caut002.png"/>
          <p:cNvPicPr/>
          <p:nvPr/>
        </p:nvPicPr>
        <p:blipFill>
          <a:blip r:embed="rId3"/>
          <a:stretch/>
        </p:blipFill>
        <p:spPr>
          <a:xfrm>
            <a:off x="3144960" y="12123720"/>
            <a:ext cx="7242120" cy="2497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-125280" y="3960720"/>
            <a:ext cx="107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2f2f2"/>
                </a:solidFill>
                <a:latin typeface="ＤＦＧ太丸ゴシック体"/>
                <a:ea typeface="ＤＦＧ太丸ゴシック体"/>
              </a:rPr>
              <a:t>かけこまない</a:t>
            </a:r>
            <a:r>
              <a:rPr b="1" lang="en-US" sz="3600" spc="-1" strike="noStrike">
                <a:solidFill>
                  <a:srgbClr val="f2f2f2"/>
                </a:solidFill>
                <a:latin typeface="ＤＦＧ太丸ゴシック体"/>
                <a:ea typeface="ＤＦＧ太丸ゴシック体"/>
              </a:rPr>
              <a:t>! </a:t>
            </a:r>
            <a:r>
              <a:rPr b="1" lang="ja-JP" sz="3600" spc="-1" strike="noStrike">
                <a:solidFill>
                  <a:srgbClr val="f2f2f2"/>
                </a:solidFill>
                <a:latin typeface="ＤＦＧ太丸ゴシック体"/>
                <a:ea typeface="ＤＦＧ太丸ゴシック体"/>
              </a:rPr>
              <a:t>立ち止まらない</a:t>
            </a:r>
            <a:r>
              <a:rPr b="1" lang="en-US" sz="3600" spc="-1" strike="noStrike">
                <a:solidFill>
                  <a:srgbClr val="f2f2f2"/>
                </a:solidFill>
                <a:latin typeface="ＤＦＧ太丸ゴシック体"/>
                <a:ea typeface="ＤＦＧ太丸ゴシック体"/>
              </a:rPr>
              <a:t>! </a:t>
            </a:r>
            <a:r>
              <a:rPr b="1" lang="ja-JP" sz="3600" spc="-1" strike="noStrike">
                <a:solidFill>
                  <a:srgbClr val="f2f2f2"/>
                </a:solidFill>
                <a:latin typeface="ＤＦＧ太丸ゴシック体"/>
                <a:ea typeface="ＤＦＧ太丸ゴシック体"/>
              </a:rPr>
              <a:t>手をふれない</a:t>
            </a:r>
            <a:r>
              <a:rPr b="1" lang="en-US" sz="3600" spc="-1" strike="noStrike">
                <a:solidFill>
                  <a:srgbClr val="f2f2f2"/>
                </a:solidFill>
                <a:latin typeface="ＤＦＧ太丸ゴシック体"/>
                <a:ea typeface="ＤＦＧ太丸ゴシック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正方形/長方形 23"/>
          <p:cNvSpPr/>
          <p:nvPr/>
        </p:nvSpPr>
        <p:spPr>
          <a:xfrm>
            <a:off x="-19080" y="11449080"/>
            <a:ext cx="10712520" cy="50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正方形/長方形 24"/>
          <p:cNvSpPr/>
          <p:nvPr/>
        </p:nvSpPr>
        <p:spPr>
          <a:xfrm>
            <a:off x="-19080" y="14617800"/>
            <a:ext cx="10712520" cy="50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図 5" descr="doa.png"/>
          <p:cNvPicPr/>
          <p:nvPr/>
        </p:nvPicPr>
        <p:blipFill>
          <a:blip r:embed="rId4"/>
          <a:stretch/>
        </p:blipFill>
        <p:spPr>
          <a:xfrm>
            <a:off x="1817640" y="720720"/>
            <a:ext cx="698976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4:51:43Z</dcterms:created>
  <dc:creator>ttec</dc:creator>
  <dc:description/>
  <dc:language>en-US</dc:language>
  <cp:lastModifiedBy>tec</cp:lastModifiedBy>
  <cp:lastPrinted>2013-02-07T06:29:11Z</cp:lastPrinted>
  <dcterms:modified xsi:type="dcterms:W3CDTF">2013-03-22T04:19:04Z</dcterms:modified>
  <cp:revision>11</cp:revision>
  <dc:subject/>
  <dc:title>PowerPoint プレゼンテーション</dc:title>
</cp:coreProperties>
</file>