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3C0-1CFA-4F4D-B606-13DC2F22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442-96DC-4F53-BE82-AF21D358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99A-B49E-47A0-A19C-392B4EA9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4C0-CB40-4CF6-8A1E-CF99C4F9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4A0-0E79-437D-84E3-C4A89D4D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74A-D462-4B81-8073-DA4E3CD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043-C5E2-493A-85CB-63DC84A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468-C976-46FC-870E-BDE1604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297080"/>
            <a:ext cx="9623520" cy="250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933-CDFF-4410-AB3A-EBD9E94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057-A191-4FD6-976A-2209A01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69F-6514-4FF8-A86E-C6F09D1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65E-FEF9-4A67-89F7-8B416A4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5000"/>
          </a:bodyPr>
          <a:p>
            <a:pPr marL="785160" indent="-78516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699920" indent="-6526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2616120" indent="-52344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3663360" indent="-52344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4709160" indent="-522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29508120"/>
            <a:ext cx="249552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29508120"/>
            <a:ext cx="338760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29508120"/>
            <a:ext cx="2495520" cy="2251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2C86C1D5-C095-4A41-8919-AA2CD3D59B88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3240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93160" y="29216520"/>
            <a:ext cx="1914480" cy="253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9880" y="18608760"/>
            <a:ext cx="2284560" cy="194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49360" y="4654440"/>
            <a:ext cx="2552760" cy="242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8280" y="28462320"/>
            <a:ext cx="2540160" cy="321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904160" y="19383480"/>
            <a:ext cx="2604960" cy="26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266920" y="5565600"/>
            <a:ext cx="5921280" cy="2584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96880" y="2225520"/>
            <a:ext cx="9553680" cy="229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1840" y="282600"/>
            <a:ext cx="2687400" cy="233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427960" y="5884920"/>
            <a:ext cx="1575000" cy="126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6:16:35Z</dcterms:created>
  <dc:creator>fukase3</dc:creator>
  <dc:description/>
  <dc:language>en-US</dc:language>
  <cp:lastModifiedBy>fukase3</cp:lastModifiedBy>
  <dcterms:modified xsi:type="dcterms:W3CDTF">2009-05-26T06:22:36Z</dcterms:modified>
  <cp:revision>2</cp:revision>
  <dc:subject/>
  <dc:title>スライド 1</dc:title>
</cp:coreProperties>
</file>