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17600" y="685440"/>
            <a:ext cx="2422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B1FB-EDC3-44D8-869F-7D43CB032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A5CA-1FB0-4235-A7D9-F87A31B6FA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217600" y="685800"/>
            <a:ext cx="24228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0048-F93E-4E33-9DBD-93DBD6E2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40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80120"/>
            <a:ext cx="68040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ACA2-9C4C-4A03-9638-0F4CF087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4600" y="249516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8012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4600" y="618012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43AF-9F9E-4BBB-8027-70328D285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21906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400" y="2495160"/>
            <a:ext cx="21906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160" y="2495160"/>
            <a:ext cx="21906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80120"/>
            <a:ext cx="21906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400" y="6180120"/>
            <a:ext cx="21906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160" y="6180120"/>
            <a:ext cx="21906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ED3D-AC46-432A-897A-660B1C85D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5160"/>
            <a:ext cx="6804000" cy="70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0385-C14D-4E27-A94E-796C68A5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4000" cy="70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3EB0-9E0E-41B0-AC6A-48D64C45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0280" cy="70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4600" y="2495160"/>
            <a:ext cx="3320280" cy="70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96AA-EADA-4248-AE1D-432B7F5B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1C62-9A2E-4264-AB7C-7AF7FE84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400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509F-D32E-4C50-9E24-5237C3EF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4600" y="2495160"/>
            <a:ext cx="3320280" cy="70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8012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CA06-BC09-40CF-A1BC-A2DBF176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0280" cy="70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4600" y="249516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4600" y="618012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F5F1-EDB7-42E5-90AF-29A277A8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4600" y="249516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80120"/>
            <a:ext cx="68040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D434-6AEE-4DB1-A2EE-E76ECC12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5160"/>
            <a:ext cx="6804000" cy="70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736200"/>
            <a:ext cx="17636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2640" y="9736200"/>
            <a:ext cx="23936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8000" y="9736200"/>
            <a:ext cx="17640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017D-385C-47CD-AE79-866410B88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図 1747" descr=""/>
          <p:cNvPicPr/>
          <p:nvPr/>
        </p:nvPicPr>
        <p:blipFill>
          <a:blip r:embed="rId1"/>
          <a:stretch/>
        </p:blipFill>
        <p:spPr>
          <a:xfrm>
            <a:off x="466560" y="2544840"/>
            <a:ext cx="3141720" cy="1150920"/>
          </a:xfrm>
          <a:prstGeom prst="rect">
            <a:avLst/>
          </a:prstGeom>
          <a:ln w="0">
            <a:noFill/>
          </a:ln>
        </p:spPr>
      </p:pic>
      <p:sp>
        <p:nvSpPr>
          <p:cNvPr id="49" name="テキスト ボックス 1748"/>
          <p:cNvSpPr/>
          <p:nvPr/>
        </p:nvSpPr>
        <p:spPr>
          <a:xfrm>
            <a:off x="1771200" y="2538360"/>
            <a:ext cx="33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メイリオ"/>
                <a:ea typeface="メイリオ"/>
              </a:rPr>
              <a:t>不動産の賃貸仲介・売買はおまかせ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1749"/>
          <p:cNvSpPr/>
          <p:nvPr/>
        </p:nvSpPr>
        <p:spPr>
          <a:xfrm>
            <a:off x="1347120" y="2687760"/>
            <a:ext cx="1398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○○</a:t>
            </a:r>
            <a:r>
              <a:rPr b="0" lang="ja-JP" sz="13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ハウジング株式会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1750"/>
          <p:cNvSpPr/>
          <p:nvPr/>
        </p:nvSpPr>
        <p:spPr>
          <a:xfrm>
            <a:off x="1321920" y="3048120"/>
            <a:ext cx="340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営業部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751"/>
          <p:cNvSpPr/>
          <p:nvPr/>
        </p:nvSpPr>
        <p:spPr>
          <a:xfrm>
            <a:off x="1530360" y="320184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大家 ハウジン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テキスト ボックス 1752"/>
          <p:cNvSpPr/>
          <p:nvPr/>
        </p:nvSpPr>
        <p:spPr>
          <a:xfrm>
            <a:off x="1465920" y="3408480"/>
            <a:ext cx="1103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Hanako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Hous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1753"/>
          <p:cNvSpPr/>
          <p:nvPr/>
        </p:nvSpPr>
        <p:spPr>
          <a:xfrm>
            <a:off x="499320" y="3767040"/>
            <a:ext cx="636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〒</a:t>
            </a: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000-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1754"/>
          <p:cNvSpPr/>
          <p:nvPr/>
        </p:nvSpPr>
        <p:spPr>
          <a:xfrm>
            <a:off x="1542240" y="3767040"/>
            <a:ext cx="1126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東京都品川区○丁目○</a:t>
            </a: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-○  ○○</a:t>
            </a: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ビルディング１</a:t>
            </a: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テキスト ボックス 1755"/>
          <p:cNvSpPr/>
          <p:nvPr/>
        </p:nvSpPr>
        <p:spPr>
          <a:xfrm>
            <a:off x="1598040" y="3897360"/>
            <a:ext cx="919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FAX.03-0000-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テキスト ボックス 1756"/>
          <p:cNvSpPr/>
          <p:nvPr/>
        </p:nvSpPr>
        <p:spPr>
          <a:xfrm>
            <a:off x="519120" y="3897360"/>
            <a:ext cx="909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TEL.03-0000-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テキスト ボックス 1757"/>
          <p:cNvSpPr/>
          <p:nvPr/>
        </p:nvSpPr>
        <p:spPr>
          <a:xfrm>
            <a:off x="506160" y="4011480"/>
            <a:ext cx="1257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Mail</a:t>
            </a: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：</a:t>
            </a: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00000@00000.co.j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図 1759" descr=""/>
          <p:cNvPicPr/>
          <p:nvPr/>
        </p:nvPicPr>
        <p:blipFill>
          <a:blip r:embed="rId2"/>
          <a:stretch/>
        </p:blipFill>
        <p:spPr>
          <a:xfrm>
            <a:off x="487440" y="4497480"/>
            <a:ext cx="3141720" cy="1150920"/>
          </a:xfrm>
          <a:prstGeom prst="rect">
            <a:avLst/>
          </a:prstGeom>
          <a:ln w="0">
            <a:noFill/>
          </a:ln>
        </p:spPr>
      </p:pic>
      <p:sp>
        <p:nvSpPr>
          <p:cNvPr id="60" name="テキスト ボックス 1760"/>
          <p:cNvSpPr/>
          <p:nvPr/>
        </p:nvSpPr>
        <p:spPr>
          <a:xfrm>
            <a:off x="1767960" y="4491000"/>
            <a:ext cx="33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メイリオ"/>
                <a:ea typeface="メイリオ"/>
              </a:rPr>
              <a:t>不動産の賃貸仲介・売買はおまかせ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テキスト ボックス 1761"/>
          <p:cNvSpPr/>
          <p:nvPr/>
        </p:nvSpPr>
        <p:spPr>
          <a:xfrm>
            <a:off x="1343880" y="4640400"/>
            <a:ext cx="1398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○○</a:t>
            </a:r>
            <a:r>
              <a:rPr b="0" lang="ja-JP" sz="13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ハウジング株式会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テキスト ボックス 1762"/>
          <p:cNvSpPr/>
          <p:nvPr/>
        </p:nvSpPr>
        <p:spPr>
          <a:xfrm>
            <a:off x="1318680" y="5000760"/>
            <a:ext cx="340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営業部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テキスト ボックス 1763"/>
          <p:cNvSpPr/>
          <p:nvPr/>
        </p:nvSpPr>
        <p:spPr>
          <a:xfrm>
            <a:off x="1527120" y="515448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大家 ハウジン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1764"/>
          <p:cNvSpPr/>
          <p:nvPr/>
        </p:nvSpPr>
        <p:spPr>
          <a:xfrm>
            <a:off x="1462680" y="5361120"/>
            <a:ext cx="1103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Hanako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Hous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1765"/>
          <p:cNvSpPr/>
          <p:nvPr/>
        </p:nvSpPr>
        <p:spPr>
          <a:xfrm>
            <a:off x="496440" y="5719680"/>
            <a:ext cx="636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〒</a:t>
            </a: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000-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1766"/>
          <p:cNvSpPr/>
          <p:nvPr/>
        </p:nvSpPr>
        <p:spPr>
          <a:xfrm>
            <a:off x="1539360" y="5719680"/>
            <a:ext cx="1126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東京都品川区○丁目○</a:t>
            </a: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-○  ○○</a:t>
            </a: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ビルディング１</a:t>
            </a: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テキスト ボックス 1767"/>
          <p:cNvSpPr/>
          <p:nvPr/>
        </p:nvSpPr>
        <p:spPr>
          <a:xfrm>
            <a:off x="1594800" y="5850000"/>
            <a:ext cx="919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FAX.03-0000-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テキスト ボックス 1768"/>
          <p:cNvSpPr/>
          <p:nvPr/>
        </p:nvSpPr>
        <p:spPr>
          <a:xfrm>
            <a:off x="515880" y="5850000"/>
            <a:ext cx="909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TEL.03-0000-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テキスト ボックス 1769"/>
          <p:cNvSpPr/>
          <p:nvPr/>
        </p:nvSpPr>
        <p:spPr>
          <a:xfrm>
            <a:off x="502920" y="5964120"/>
            <a:ext cx="1257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Mail</a:t>
            </a: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：</a:t>
            </a: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00000@00000.co.j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図 1771" descr=""/>
          <p:cNvPicPr/>
          <p:nvPr/>
        </p:nvPicPr>
        <p:blipFill>
          <a:blip r:embed="rId3"/>
          <a:stretch/>
        </p:blipFill>
        <p:spPr>
          <a:xfrm>
            <a:off x="490680" y="6505560"/>
            <a:ext cx="3141360" cy="1150920"/>
          </a:xfrm>
          <a:prstGeom prst="rect">
            <a:avLst/>
          </a:prstGeom>
          <a:ln w="0">
            <a:noFill/>
          </a:ln>
        </p:spPr>
      </p:pic>
      <p:sp>
        <p:nvSpPr>
          <p:cNvPr id="71" name="テキスト ボックス 1772"/>
          <p:cNvSpPr/>
          <p:nvPr/>
        </p:nvSpPr>
        <p:spPr>
          <a:xfrm>
            <a:off x="1771200" y="6499080"/>
            <a:ext cx="33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メイリオ"/>
                <a:ea typeface="メイリオ"/>
              </a:rPr>
              <a:t>不動産の賃貸仲介・売買はおまかせ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1773"/>
          <p:cNvSpPr/>
          <p:nvPr/>
        </p:nvSpPr>
        <p:spPr>
          <a:xfrm>
            <a:off x="1347120" y="6648480"/>
            <a:ext cx="1398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○○</a:t>
            </a:r>
            <a:r>
              <a:rPr b="0" lang="ja-JP" sz="13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ハウジング株式会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テキスト ボックス 1774"/>
          <p:cNvSpPr/>
          <p:nvPr/>
        </p:nvSpPr>
        <p:spPr>
          <a:xfrm>
            <a:off x="1321920" y="7008840"/>
            <a:ext cx="340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営業部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テキスト ボックス 1775"/>
          <p:cNvSpPr/>
          <p:nvPr/>
        </p:nvSpPr>
        <p:spPr>
          <a:xfrm>
            <a:off x="1530360" y="716436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大家 ハウジン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テキスト ボックス 1776"/>
          <p:cNvSpPr/>
          <p:nvPr/>
        </p:nvSpPr>
        <p:spPr>
          <a:xfrm>
            <a:off x="1465920" y="7369200"/>
            <a:ext cx="1103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Hanako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Hous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テキスト ボックス 1777"/>
          <p:cNvSpPr/>
          <p:nvPr/>
        </p:nvSpPr>
        <p:spPr>
          <a:xfrm>
            <a:off x="499320" y="7729560"/>
            <a:ext cx="636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〒</a:t>
            </a: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000-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テキスト ボックス 1778"/>
          <p:cNvSpPr/>
          <p:nvPr/>
        </p:nvSpPr>
        <p:spPr>
          <a:xfrm>
            <a:off x="1542240" y="7729560"/>
            <a:ext cx="1126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東京都品川区○丁目○</a:t>
            </a: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-○  ○○</a:t>
            </a: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ビルディング１</a:t>
            </a: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テキスト ボックス 1779"/>
          <p:cNvSpPr/>
          <p:nvPr/>
        </p:nvSpPr>
        <p:spPr>
          <a:xfrm>
            <a:off x="1598040" y="7859880"/>
            <a:ext cx="919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FAX.03-0000-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テキスト ボックス 1780"/>
          <p:cNvSpPr/>
          <p:nvPr/>
        </p:nvSpPr>
        <p:spPr>
          <a:xfrm>
            <a:off x="519120" y="7859880"/>
            <a:ext cx="909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TEL.03-0000-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テキスト ボックス 1781"/>
          <p:cNvSpPr/>
          <p:nvPr/>
        </p:nvSpPr>
        <p:spPr>
          <a:xfrm>
            <a:off x="506160" y="7974000"/>
            <a:ext cx="1257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Mail</a:t>
            </a: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：</a:t>
            </a: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00000@00000.co.j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図 1783" descr=""/>
          <p:cNvPicPr/>
          <p:nvPr/>
        </p:nvPicPr>
        <p:blipFill>
          <a:blip r:embed="rId4"/>
          <a:stretch/>
        </p:blipFill>
        <p:spPr>
          <a:xfrm>
            <a:off x="490680" y="8472600"/>
            <a:ext cx="3141360" cy="1150920"/>
          </a:xfrm>
          <a:prstGeom prst="rect">
            <a:avLst/>
          </a:prstGeom>
          <a:ln w="0">
            <a:noFill/>
          </a:ln>
        </p:spPr>
      </p:pic>
      <p:sp>
        <p:nvSpPr>
          <p:cNvPr id="82" name="テキスト ボックス 1784"/>
          <p:cNvSpPr/>
          <p:nvPr/>
        </p:nvSpPr>
        <p:spPr>
          <a:xfrm>
            <a:off x="1771200" y="8466120"/>
            <a:ext cx="33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メイリオ"/>
                <a:ea typeface="メイリオ"/>
              </a:rPr>
              <a:t>不動産の賃貸仲介・売買はおまかせ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テキスト ボックス 1785"/>
          <p:cNvSpPr/>
          <p:nvPr/>
        </p:nvSpPr>
        <p:spPr>
          <a:xfrm>
            <a:off x="1347120" y="8615520"/>
            <a:ext cx="1398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○○</a:t>
            </a:r>
            <a:r>
              <a:rPr b="0" lang="ja-JP" sz="13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ハウジング株式会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テキスト ボックス 1786"/>
          <p:cNvSpPr/>
          <p:nvPr/>
        </p:nvSpPr>
        <p:spPr>
          <a:xfrm>
            <a:off x="1321920" y="8975880"/>
            <a:ext cx="340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営業部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テキスト ボックス 1787"/>
          <p:cNvSpPr/>
          <p:nvPr/>
        </p:nvSpPr>
        <p:spPr>
          <a:xfrm>
            <a:off x="1530360" y="912960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大家 ハウジン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テキスト ボックス 1788"/>
          <p:cNvSpPr/>
          <p:nvPr/>
        </p:nvSpPr>
        <p:spPr>
          <a:xfrm>
            <a:off x="1465920" y="9336240"/>
            <a:ext cx="1103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Hanako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Hous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1789"/>
          <p:cNvSpPr/>
          <p:nvPr/>
        </p:nvSpPr>
        <p:spPr>
          <a:xfrm>
            <a:off x="499320" y="9694800"/>
            <a:ext cx="636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〒</a:t>
            </a: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000-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1790"/>
          <p:cNvSpPr/>
          <p:nvPr/>
        </p:nvSpPr>
        <p:spPr>
          <a:xfrm>
            <a:off x="1542240" y="9694800"/>
            <a:ext cx="1126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東京都品川区○丁目○</a:t>
            </a: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-○  ○○</a:t>
            </a: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ビルディング１</a:t>
            </a: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1791"/>
          <p:cNvSpPr/>
          <p:nvPr/>
        </p:nvSpPr>
        <p:spPr>
          <a:xfrm>
            <a:off x="1598040" y="9825120"/>
            <a:ext cx="919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FAX.03-0000-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テキスト ボックス 1792"/>
          <p:cNvSpPr/>
          <p:nvPr/>
        </p:nvSpPr>
        <p:spPr>
          <a:xfrm>
            <a:off x="519120" y="9825120"/>
            <a:ext cx="909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TEL.03-0000-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793"/>
          <p:cNvSpPr/>
          <p:nvPr/>
        </p:nvSpPr>
        <p:spPr>
          <a:xfrm>
            <a:off x="506160" y="9939240"/>
            <a:ext cx="1257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Mail</a:t>
            </a: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：</a:t>
            </a: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00000@00000.co.j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図 1807" descr=""/>
          <p:cNvPicPr/>
          <p:nvPr/>
        </p:nvPicPr>
        <p:blipFill>
          <a:blip r:embed="rId5"/>
          <a:stretch/>
        </p:blipFill>
        <p:spPr>
          <a:xfrm>
            <a:off x="3951360" y="2544840"/>
            <a:ext cx="3141720" cy="1150920"/>
          </a:xfrm>
          <a:prstGeom prst="rect">
            <a:avLst/>
          </a:prstGeom>
          <a:ln w="0">
            <a:noFill/>
          </a:ln>
        </p:spPr>
      </p:pic>
      <p:sp>
        <p:nvSpPr>
          <p:cNvPr id="93" name="テキスト ボックス 1808"/>
          <p:cNvSpPr/>
          <p:nvPr/>
        </p:nvSpPr>
        <p:spPr>
          <a:xfrm>
            <a:off x="5231880" y="2538360"/>
            <a:ext cx="33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メイリオ"/>
                <a:ea typeface="メイリオ"/>
              </a:rPr>
              <a:t>不動産の賃貸仲介・売買はおまかせ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テキスト ボックス 1809"/>
          <p:cNvSpPr/>
          <p:nvPr/>
        </p:nvSpPr>
        <p:spPr>
          <a:xfrm>
            <a:off x="4807800" y="2687760"/>
            <a:ext cx="1398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○○</a:t>
            </a:r>
            <a:r>
              <a:rPr b="0" lang="ja-JP" sz="13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ハウジング株式会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テキスト ボックス 1810"/>
          <p:cNvSpPr/>
          <p:nvPr/>
        </p:nvSpPr>
        <p:spPr>
          <a:xfrm>
            <a:off x="4782600" y="3048120"/>
            <a:ext cx="340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営業部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11"/>
          <p:cNvSpPr/>
          <p:nvPr/>
        </p:nvSpPr>
        <p:spPr>
          <a:xfrm>
            <a:off x="4991040" y="320184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大家 ハウジン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812"/>
          <p:cNvSpPr/>
          <p:nvPr/>
        </p:nvSpPr>
        <p:spPr>
          <a:xfrm>
            <a:off x="4926600" y="3408480"/>
            <a:ext cx="1103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Hanako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Hous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1813"/>
          <p:cNvSpPr/>
          <p:nvPr/>
        </p:nvSpPr>
        <p:spPr>
          <a:xfrm>
            <a:off x="3960360" y="3767040"/>
            <a:ext cx="636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〒</a:t>
            </a: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000-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814"/>
          <p:cNvSpPr/>
          <p:nvPr/>
        </p:nvSpPr>
        <p:spPr>
          <a:xfrm>
            <a:off x="5003280" y="3767040"/>
            <a:ext cx="1126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東京都品川区○丁目○</a:t>
            </a: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-○  ○○</a:t>
            </a: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ビルディング１</a:t>
            </a: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1815"/>
          <p:cNvSpPr/>
          <p:nvPr/>
        </p:nvSpPr>
        <p:spPr>
          <a:xfrm>
            <a:off x="5058720" y="3897360"/>
            <a:ext cx="919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FAX.03-0000-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1816"/>
          <p:cNvSpPr/>
          <p:nvPr/>
        </p:nvSpPr>
        <p:spPr>
          <a:xfrm>
            <a:off x="3979800" y="3897360"/>
            <a:ext cx="909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TEL.03-0000-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テキスト ボックス 1817"/>
          <p:cNvSpPr/>
          <p:nvPr/>
        </p:nvSpPr>
        <p:spPr>
          <a:xfrm>
            <a:off x="3966840" y="4011480"/>
            <a:ext cx="1257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Mail</a:t>
            </a: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：</a:t>
            </a: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00000@00000.co.j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図 1819" descr=""/>
          <p:cNvPicPr/>
          <p:nvPr/>
        </p:nvPicPr>
        <p:blipFill>
          <a:blip r:embed="rId6"/>
          <a:stretch/>
        </p:blipFill>
        <p:spPr>
          <a:xfrm>
            <a:off x="3946680" y="4497480"/>
            <a:ext cx="3141360" cy="1150920"/>
          </a:xfrm>
          <a:prstGeom prst="rect">
            <a:avLst/>
          </a:prstGeom>
          <a:ln w="0">
            <a:noFill/>
          </a:ln>
        </p:spPr>
      </p:pic>
      <p:sp>
        <p:nvSpPr>
          <p:cNvPr id="104" name="テキスト ボックス 1820"/>
          <p:cNvSpPr/>
          <p:nvPr/>
        </p:nvSpPr>
        <p:spPr>
          <a:xfrm>
            <a:off x="5227200" y="4491000"/>
            <a:ext cx="33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メイリオ"/>
                <a:ea typeface="メイリオ"/>
              </a:rPr>
              <a:t>不動産の賃貸仲介・売買はおまかせ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821"/>
          <p:cNvSpPr/>
          <p:nvPr/>
        </p:nvSpPr>
        <p:spPr>
          <a:xfrm>
            <a:off x="4803120" y="4640400"/>
            <a:ext cx="1398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○○</a:t>
            </a:r>
            <a:r>
              <a:rPr b="0" lang="ja-JP" sz="13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ハウジング株式会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テキスト ボックス 1822"/>
          <p:cNvSpPr/>
          <p:nvPr/>
        </p:nvSpPr>
        <p:spPr>
          <a:xfrm>
            <a:off x="4777920" y="5000760"/>
            <a:ext cx="340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営業部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テキスト ボックス 1823"/>
          <p:cNvSpPr/>
          <p:nvPr/>
        </p:nvSpPr>
        <p:spPr>
          <a:xfrm>
            <a:off x="4986360" y="515448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大家 ハウジン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テキスト ボックス 1824"/>
          <p:cNvSpPr/>
          <p:nvPr/>
        </p:nvSpPr>
        <p:spPr>
          <a:xfrm>
            <a:off x="4921920" y="5361120"/>
            <a:ext cx="1103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Hanako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Hous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テキスト ボックス 1825"/>
          <p:cNvSpPr/>
          <p:nvPr/>
        </p:nvSpPr>
        <p:spPr>
          <a:xfrm>
            <a:off x="3955320" y="5719680"/>
            <a:ext cx="636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〒</a:t>
            </a: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000-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テキスト ボックス 1826"/>
          <p:cNvSpPr/>
          <p:nvPr/>
        </p:nvSpPr>
        <p:spPr>
          <a:xfrm>
            <a:off x="4998240" y="5719680"/>
            <a:ext cx="1126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東京都品川区○丁目○</a:t>
            </a: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-○  ○○</a:t>
            </a: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ビルディング１</a:t>
            </a: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827"/>
          <p:cNvSpPr/>
          <p:nvPr/>
        </p:nvSpPr>
        <p:spPr>
          <a:xfrm>
            <a:off x="5054040" y="5850000"/>
            <a:ext cx="919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FAX.03-0000-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28"/>
          <p:cNvSpPr/>
          <p:nvPr/>
        </p:nvSpPr>
        <p:spPr>
          <a:xfrm>
            <a:off x="3975120" y="5850000"/>
            <a:ext cx="909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TEL.03-0000-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テキスト ボックス 1829"/>
          <p:cNvSpPr/>
          <p:nvPr/>
        </p:nvSpPr>
        <p:spPr>
          <a:xfrm>
            <a:off x="3962160" y="5964120"/>
            <a:ext cx="1257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Mail</a:t>
            </a: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：</a:t>
            </a: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00000@00000.co.j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図 1831" descr=""/>
          <p:cNvPicPr/>
          <p:nvPr/>
        </p:nvPicPr>
        <p:blipFill>
          <a:blip r:embed="rId7"/>
          <a:stretch/>
        </p:blipFill>
        <p:spPr>
          <a:xfrm>
            <a:off x="3951360" y="6505560"/>
            <a:ext cx="3141720" cy="1150920"/>
          </a:xfrm>
          <a:prstGeom prst="rect">
            <a:avLst/>
          </a:prstGeom>
          <a:ln w="0">
            <a:noFill/>
          </a:ln>
        </p:spPr>
      </p:pic>
      <p:sp>
        <p:nvSpPr>
          <p:cNvPr id="115" name="テキスト ボックス 1832"/>
          <p:cNvSpPr/>
          <p:nvPr/>
        </p:nvSpPr>
        <p:spPr>
          <a:xfrm>
            <a:off x="5231880" y="6499080"/>
            <a:ext cx="33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メイリオ"/>
                <a:ea typeface="メイリオ"/>
              </a:rPr>
              <a:t>不動産の賃貸仲介・売買はおまかせ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テキスト ボックス 1833"/>
          <p:cNvSpPr/>
          <p:nvPr/>
        </p:nvSpPr>
        <p:spPr>
          <a:xfrm>
            <a:off x="4807800" y="6648480"/>
            <a:ext cx="1398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○○</a:t>
            </a:r>
            <a:r>
              <a:rPr b="0" lang="ja-JP" sz="13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ハウジング株式会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テキスト ボックス 1834"/>
          <p:cNvSpPr/>
          <p:nvPr/>
        </p:nvSpPr>
        <p:spPr>
          <a:xfrm>
            <a:off x="4782600" y="7008840"/>
            <a:ext cx="340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営業部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テキスト ボックス 1835"/>
          <p:cNvSpPr/>
          <p:nvPr/>
        </p:nvSpPr>
        <p:spPr>
          <a:xfrm>
            <a:off x="4991040" y="716436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大家 ハウジン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テキスト ボックス 1836"/>
          <p:cNvSpPr/>
          <p:nvPr/>
        </p:nvSpPr>
        <p:spPr>
          <a:xfrm>
            <a:off x="4926600" y="7369200"/>
            <a:ext cx="1103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Hanako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Hous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テキスト ボックス 1837"/>
          <p:cNvSpPr/>
          <p:nvPr/>
        </p:nvSpPr>
        <p:spPr>
          <a:xfrm>
            <a:off x="3960360" y="7729560"/>
            <a:ext cx="636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〒</a:t>
            </a: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000-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テキスト ボックス 1838"/>
          <p:cNvSpPr/>
          <p:nvPr/>
        </p:nvSpPr>
        <p:spPr>
          <a:xfrm>
            <a:off x="5003280" y="7729560"/>
            <a:ext cx="1126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東京都品川区○丁目○</a:t>
            </a: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-○  ○○</a:t>
            </a: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ビルディング１</a:t>
            </a: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テキスト ボックス 1839"/>
          <p:cNvSpPr/>
          <p:nvPr/>
        </p:nvSpPr>
        <p:spPr>
          <a:xfrm>
            <a:off x="5058720" y="7859880"/>
            <a:ext cx="919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FAX.03-0000-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テキスト ボックス 1840"/>
          <p:cNvSpPr/>
          <p:nvPr/>
        </p:nvSpPr>
        <p:spPr>
          <a:xfrm>
            <a:off x="3979800" y="7859880"/>
            <a:ext cx="909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TEL.03-0000-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テキスト ボックス 1841"/>
          <p:cNvSpPr/>
          <p:nvPr/>
        </p:nvSpPr>
        <p:spPr>
          <a:xfrm>
            <a:off x="3966840" y="7974000"/>
            <a:ext cx="1257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Mail</a:t>
            </a: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：</a:t>
            </a: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00000@00000.co.j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図 1843" descr=""/>
          <p:cNvPicPr/>
          <p:nvPr/>
        </p:nvPicPr>
        <p:blipFill>
          <a:blip r:embed="rId8"/>
          <a:stretch/>
        </p:blipFill>
        <p:spPr>
          <a:xfrm>
            <a:off x="3951360" y="8472600"/>
            <a:ext cx="3141720" cy="1150920"/>
          </a:xfrm>
          <a:prstGeom prst="rect">
            <a:avLst/>
          </a:prstGeom>
          <a:ln w="0">
            <a:noFill/>
          </a:ln>
        </p:spPr>
      </p:pic>
      <p:sp>
        <p:nvSpPr>
          <p:cNvPr id="126" name="テキスト ボックス 1844"/>
          <p:cNvSpPr/>
          <p:nvPr/>
        </p:nvSpPr>
        <p:spPr>
          <a:xfrm>
            <a:off x="5231880" y="8466120"/>
            <a:ext cx="33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メイリオ"/>
                <a:ea typeface="メイリオ"/>
              </a:rPr>
              <a:t>不動産の賃貸仲介・売買はおまかせ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1845"/>
          <p:cNvSpPr/>
          <p:nvPr/>
        </p:nvSpPr>
        <p:spPr>
          <a:xfrm>
            <a:off x="4807800" y="8615520"/>
            <a:ext cx="1398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○○</a:t>
            </a:r>
            <a:r>
              <a:rPr b="0" lang="ja-JP" sz="13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ハウジング株式会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1846"/>
          <p:cNvSpPr/>
          <p:nvPr/>
        </p:nvSpPr>
        <p:spPr>
          <a:xfrm>
            <a:off x="4782600" y="8975880"/>
            <a:ext cx="340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営業部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1847"/>
          <p:cNvSpPr/>
          <p:nvPr/>
        </p:nvSpPr>
        <p:spPr>
          <a:xfrm>
            <a:off x="4991040" y="912960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大家 ハウジン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1848"/>
          <p:cNvSpPr/>
          <p:nvPr/>
        </p:nvSpPr>
        <p:spPr>
          <a:xfrm>
            <a:off x="4926600" y="9336240"/>
            <a:ext cx="1103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Hanako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Hous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1849"/>
          <p:cNvSpPr/>
          <p:nvPr/>
        </p:nvSpPr>
        <p:spPr>
          <a:xfrm>
            <a:off x="3960360" y="9694800"/>
            <a:ext cx="636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〒</a:t>
            </a: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000-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1850"/>
          <p:cNvSpPr/>
          <p:nvPr/>
        </p:nvSpPr>
        <p:spPr>
          <a:xfrm>
            <a:off x="5003280" y="9694800"/>
            <a:ext cx="1126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東京都品川区○丁目○</a:t>
            </a: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-○  ○○</a:t>
            </a: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ビルディング１</a:t>
            </a: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1851"/>
          <p:cNvSpPr/>
          <p:nvPr/>
        </p:nvSpPr>
        <p:spPr>
          <a:xfrm>
            <a:off x="5058720" y="9825120"/>
            <a:ext cx="919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FAX.03-0000-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1852"/>
          <p:cNvSpPr/>
          <p:nvPr/>
        </p:nvSpPr>
        <p:spPr>
          <a:xfrm>
            <a:off x="3979800" y="9825120"/>
            <a:ext cx="909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TEL.03-0000-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テキスト ボックス 1853"/>
          <p:cNvSpPr/>
          <p:nvPr/>
        </p:nvSpPr>
        <p:spPr>
          <a:xfrm>
            <a:off x="3966840" y="9939240"/>
            <a:ext cx="1257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Mail</a:t>
            </a: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：</a:t>
            </a: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00000@00000.co.j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図 1795" descr=""/>
          <p:cNvPicPr/>
          <p:nvPr/>
        </p:nvPicPr>
        <p:blipFill>
          <a:blip r:embed="rId9"/>
          <a:stretch/>
        </p:blipFill>
        <p:spPr>
          <a:xfrm>
            <a:off x="3951360" y="531720"/>
            <a:ext cx="3141720" cy="1150920"/>
          </a:xfrm>
          <a:prstGeom prst="rect">
            <a:avLst/>
          </a:prstGeom>
          <a:ln w="0">
            <a:noFill/>
          </a:ln>
        </p:spPr>
      </p:pic>
      <p:sp>
        <p:nvSpPr>
          <p:cNvPr id="137" name="テキスト ボックス 1796"/>
          <p:cNvSpPr/>
          <p:nvPr/>
        </p:nvSpPr>
        <p:spPr>
          <a:xfrm>
            <a:off x="5231880" y="525600"/>
            <a:ext cx="33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メイリオ"/>
                <a:ea typeface="メイリオ"/>
              </a:rPr>
              <a:t>不動産の賃貸仲介・売買はおまかせ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テキスト ボックス 1797"/>
          <p:cNvSpPr/>
          <p:nvPr/>
        </p:nvSpPr>
        <p:spPr>
          <a:xfrm>
            <a:off x="4807800" y="674640"/>
            <a:ext cx="1398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○○</a:t>
            </a:r>
            <a:r>
              <a:rPr b="0" lang="ja-JP" sz="13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ハウジング株式会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テキスト ボックス 1798"/>
          <p:cNvSpPr/>
          <p:nvPr/>
        </p:nvSpPr>
        <p:spPr>
          <a:xfrm>
            <a:off x="4782600" y="1035000"/>
            <a:ext cx="340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営業部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テキスト ボックス 1799"/>
          <p:cNvSpPr/>
          <p:nvPr/>
        </p:nvSpPr>
        <p:spPr>
          <a:xfrm>
            <a:off x="4991040" y="119052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大家 ハウジン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テキスト ボックス 1800"/>
          <p:cNvSpPr/>
          <p:nvPr/>
        </p:nvSpPr>
        <p:spPr>
          <a:xfrm>
            <a:off x="4925880" y="1395360"/>
            <a:ext cx="1103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Hanako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Hous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テキスト ボックス 1801"/>
          <p:cNvSpPr/>
          <p:nvPr/>
        </p:nvSpPr>
        <p:spPr>
          <a:xfrm>
            <a:off x="3959280" y="1754280"/>
            <a:ext cx="636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〒</a:t>
            </a: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000-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テキスト ボックス 1802"/>
          <p:cNvSpPr/>
          <p:nvPr/>
        </p:nvSpPr>
        <p:spPr>
          <a:xfrm>
            <a:off x="5003280" y="1754280"/>
            <a:ext cx="1126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東京都品川区○丁目○</a:t>
            </a: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-○  ○○</a:t>
            </a: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ビルディング１</a:t>
            </a: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テキスト ボックス 1803"/>
          <p:cNvSpPr/>
          <p:nvPr/>
        </p:nvSpPr>
        <p:spPr>
          <a:xfrm>
            <a:off x="5058720" y="1886040"/>
            <a:ext cx="919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FAX.03-0000-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テキスト ボックス 1804"/>
          <p:cNvSpPr/>
          <p:nvPr/>
        </p:nvSpPr>
        <p:spPr>
          <a:xfrm>
            <a:off x="3979800" y="1884240"/>
            <a:ext cx="909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TEL.03-0000-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テキスト ボックス 1805"/>
          <p:cNvSpPr/>
          <p:nvPr/>
        </p:nvSpPr>
        <p:spPr>
          <a:xfrm>
            <a:off x="3966840" y="2000160"/>
            <a:ext cx="1257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Mail</a:t>
            </a: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：</a:t>
            </a: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00000@00000.co.j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テキスト ボックス 1854"/>
          <p:cNvSpPr/>
          <p:nvPr/>
        </p:nvSpPr>
        <p:spPr>
          <a:xfrm>
            <a:off x="3980880" y="2122560"/>
            <a:ext cx="1774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URL</a:t>
            </a: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：</a:t>
            </a: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https://www.0000-housing.co.j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図 1859" descr=""/>
          <p:cNvPicPr/>
          <p:nvPr/>
        </p:nvPicPr>
        <p:blipFill>
          <a:blip r:embed="rId10"/>
          <a:stretch/>
        </p:blipFill>
        <p:spPr>
          <a:xfrm>
            <a:off x="498600" y="528480"/>
            <a:ext cx="3141360" cy="1150920"/>
          </a:xfrm>
          <a:prstGeom prst="rect">
            <a:avLst/>
          </a:prstGeom>
          <a:ln w="0">
            <a:noFill/>
          </a:ln>
        </p:spPr>
      </p:pic>
      <p:sp>
        <p:nvSpPr>
          <p:cNvPr id="149" name="テキスト ボックス 1860"/>
          <p:cNvSpPr/>
          <p:nvPr/>
        </p:nvSpPr>
        <p:spPr>
          <a:xfrm>
            <a:off x="1779120" y="522360"/>
            <a:ext cx="33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メイリオ"/>
                <a:ea typeface="メイリオ"/>
              </a:rPr>
              <a:t>不動産の賃貸仲介・売買はおまかせ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テキスト ボックス 1861"/>
          <p:cNvSpPr/>
          <p:nvPr/>
        </p:nvSpPr>
        <p:spPr>
          <a:xfrm>
            <a:off x="1355040" y="671400"/>
            <a:ext cx="1398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○○</a:t>
            </a:r>
            <a:r>
              <a:rPr b="0" lang="ja-JP" sz="13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ハウジング株式会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テキスト ボックス 1862"/>
          <p:cNvSpPr/>
          <p:nvPr/>
        </p:nvSpPr>
        <p:spPr>
          <a:xfrm>
            <a:off x="1329840" y="1031760"/>
            <a:ext cx="340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営業部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テキスト ボックス 1863"/>
          <p:cNvSpPr/>
          <p:nvPr/>
        </p:nvSpPr>
        <p:spPr>
          <a:xfrm>
            <a:off x="1538280" y="118728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大家 ハウジン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テキスト ボックス 1864"/>
          <p:cNvSpPr/>
          <p:nvPr/>
        </p:nvSpPr>
        <p:spPr>
          <a:xfrm>
            <a:off x="1473120" y="1392120"/>
            <a:ext cx="1103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Hanako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Hous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テキスト ボックス 1865"/>
          <p:cNvSpPr/>
          <p:nvPr/>
        </p:nvSpPr>
        <p:spPr>
          <a:xfrm>
            <a:off x="506520" y="1751040"/>
            <a:ext cx="636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〒</a:t>
            </a: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000-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テキスト ボックス 1866"/>
          <p:cNvSpPr/>
          <p:nvPr/>
        </p:nvSpPr>
        <p:spPr>
          <a:xfrm>
            <a:off x="1550160" y="1751040"/>
            <a:ext cx="1126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東京都品川区○丁目○</a:t>
            </a: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-○  ○○</a:t>
            </a: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ビルディング１</a:t>
            </a: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テキスト ボックス 1867"/>
          <p:cNvSpPr/>
          <p:nvPr/>
        </p:nvSpPr>
        <p:spPr>
          <a:xfrm>
            <a:off x="1605960" y="1882800"/>
            <a:ext cx="919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FAX.03-0000-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テキスト ボックス 1868"/>
          <p:cNvSpPr/>
          <p:nvPr/>
        </p:nvSpPr>
        <p:spPr>
          <a:xfrm>
            <a:off x="527040" y="1881360"/>
            <a:ext cx="909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TEL.03-0000-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テキスト ボックス 1869"/>
          <p:cNvSpPr/>
          <p:nvPr/>
        </p:nvSpPr>
        <p:spPr>
          <a:xfrm>
            <a:off x="514080" y="1996920"/>
            <a:ext cx="1257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Mail</a:t>
            </a: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：</a:t>
            </a: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00000@00000.co.j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テキスト ボックス 1858"/>
          <p:cNvSpPr/>
          <p:nvPr/>
        </p:nvSpPr>
        <p:spPr>
          <a:xfrm>
            <a:off x="528120" y="2119320"/>
            <a:ext cx="1774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URL</a:t>
            </a: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：</a:t>
            </a: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https://www.0000-housing.co.j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テキスト ボックス 1870"/>
          <p:cNvSpPr/>
          <p:nvPr/>
        </p:nvSpPr>
        <p:spPr>
          <a:xfrm>
            <a:off x="528120" y="4140360"/>
            <a:ext cx="1774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URL</a:t>
            </a: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：</a:t>
            </a: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https://www.0000-housing.co.j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テキスト ボックス 1871"/>
          <p:cNvSpPr/>
          <p:nvPr/>
        </p:nvSpPr>
        <p:spPr>
          <a:xfrm>
            <a:off x="3988800" y="4143240"/>
            <a:ext cx="1774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URL</a:t>
            </a: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：</a:t>
            </a: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https://www.0000-housing.co.j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テキスト ボックス 1872"/>
          <p:cNvSpPr/>
          <p:nvPr/>
        </p:nvSpPr>
        <p:spPr>
          <a:xfrm>
            <a:off x="524880" y="6084720"/>
            <a:ext cx="1774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URL</a:t>
            </a: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：</a:t>
            </a: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https://www.0000-housing.co.j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テキスト ボックス 1873"/>
          <p:cNvSpPr/>
          <p:nvPr/>
        </p:nvSpPr>
        <p:spPr>
          <a:xfrm>
            <a:off x="3984120" y="6086520"/>
            <a:ext cx="1774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URL</a:t>
            </a: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：</a:t>
            </a: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https://www.0000-housing.co.j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テキスト ボックス 1874"/>
          <p:cNvSpPr/>
          <p:nvPr/>
        </p:nvSpPr>
        <p:spPr>
          <a:xfrm>
            <a:off x="528120" y="8096400"/>
            <a:ext cx="1774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URL</a:t>
            </a: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：</a:t>
            </a: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https://www.0000-housing.co.j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テキスト ボックス 1875"/>
          <p:cNvSpPr/>
          <p:nvPr/>
        </p:nvSpPr>
        <p:spPr>
          <a:xfrm>
            <a:off x="3988800" y="8097840"/>
            <a:ext cx="1774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URL</a:t>
            </a: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：</a:t>
            </a: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https://www.0000-housing.co.j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テキスト ボックス 1876"/>
          <p:cNvSpPr/>
          <p:nvPr/>
        </p:nvSpPr>
        <p:spPr>
          <a:xfrm>
            <a:off x="524880" y="10040760"/>
            <a:ext cx="1774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URL</a:t>
            </a: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：</a:t>
            </a: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https://www.0000-housing.co.j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テキスト ボックス 1877"/>
          <p:cNvSpPr/>
          <p:nvPr/>
        </p:nvSpPr>
        <p:spPr>
          <a:xfrm>
            <a:off x="3984120" y="10042560"/>
            <a:ext cx="1774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URL</a:t>
            </a:r>
            <a:r>
              <a:rPr b="0" lang="ja-JP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：</a:t>
            </a:r>
            <a:r>
              <a:rPr b="0" lang="en-US" sz="700" spc="-1" strike="noStrike">
                <a:solidFill>
                  <a:srgbClr val="000000"/>
                </a:solidFill>
                <a:latin typeface="メイリオ"/>
                <a:ea typeface="メイリオ"/>
              </a:rPr>
              <a:t>https://www.0000-housing.co.j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3:29:22Z</dcterms:created>
  <dc:creator>NEC-PCuser</dc:creator>
  <dc:description/>
  <dc:language>en-US</dc:language>
  <cp:lastModifiedBy>安達 純子</cp:lastModifiedBy>
  <dcterms:modified xsi:type="dcterms:W3CDTF">2017-09-28T02:31:53Z</dcterms:modified>
  <cp:revision>14</cp:revision>
  <dc:subject/>
  <dc:title>スライド 1</dc:title>
</cp:coreProperties>
</file>