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2CF-CEEC-46BB-B748-21736A45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100-416F-405B-993A-7D3D8289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FF3-E2F9-4F88-8227-991D4DDA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008036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24973920"/>
            <a:ext cx="3098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89000"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E63-7496-4B78-97C9-BD44CF0D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496-30E7-474A-94F6-CAAD5E5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FA7B-9F88-4130-BBBA-2257A1CF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8FF-2A63-48A1-8912-0E4DD32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9C1-C2A6-4628-8BD4-865A786F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1730520"/>
            <a:ext cx="9623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FD2-8800-4FE6-863F-635397F6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60B-B283-42B7-95B6-74E52B12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2497392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4759-D459-4479-BA44-2C8D1EB9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0080360"/>
            <a:ext cx="469620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24973920"/>
            <a:ext cx="9623520" cy="136011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8030-48AC-401A-B09B-CACEEC71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1730520"/>
            <a:ext cx="9623520" cy="72007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0080360"/>
            <a:ext cx="9623520" cy="285145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77000"/>
          </a:bodyPr>
          <a:p>
            <a:pPr marL="889560" indent="-88956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1" marL="1926360" indent="-7408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2" marL="2964240" indent="-59292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3" marL="4149720" indent="-59292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4" marL="5335200" indent="-592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5" marL="5335200" indent="-592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  <a:p>
            <a:pPr lvl="6" marL="5335200" indent="-59256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39344760"/>
            <a:ext cx="2495520" cy="300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39344760"/>
            <a:ext cx="3387600" cy="300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39344760"/>
            <a:ext cx="2495520" cy="30002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Autofit/>
          </a:bodyPr>
          <a:lstStyle>
            <a:lvl1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en-US" sz="4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93A5B5AD-F11A-4DED-9460-D58245C808CC}" type="slidenum">
              <a:rPr b="0" lang="en-US" sz="4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10693440" cy="431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8518680" cy="4043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41520" y="35160120"/>
            <a:ext cx="7889760" cy="72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2:54:52Z</dcterms:created>
  <dc:creator>fukase3</dc:creator>
  <dc:description/>
  <dc:language>en-US</dc:language>
  <cp:lastModifiedBy>fukase3</cp:lastModifiedBy>
  <dcterms:modified xsi:type="dcterms:W3CDTF">2009-05-26T05:21:02Z</dcterms:modified>
  <cp:revision>2</cp:revision>
  <dc:subject/>
  <dc:title>スライド 1</dc:title>
</cp:coreProperties>
</file>