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829-5415-4DD2-A26B-AB3A5812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BA1-26B0-4EF8-8827-26D1FB25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3E1-B34A-444A-ACCC-D975C6CA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BDD-8A8E-4AB3-80EE-3883BAEB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2C0-1B72-4FA7-B695-94FD7E1D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8A3-EAFC-46EA-BEC1-7D90E503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4D9-2F15-48BD-BC39-654FDFB5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2F6-182B-48E2-BD47-7BF41F19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0EE-7F93-4E7C-934D-B89F30BF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3F6-7FD8-425E-BB4F-7425FCA2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766-3D65-43A3-9A62-C31E0805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D83-5360-48D5-B0DE-AE3C2F6C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737640"/>
            <a:ext cx="1026180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4A42D701-DD77-4588-8521-0E7EB894840C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40396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1080" y="8875800"/>
            <a:ext cx="1512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県○○市○○町○－○○－○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1080" y="6715080"/>
            <a:ext cx="15122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12000" spc="-1" strike="noStrike">
                <a:solidFill>
                  <a:srgbClr val="0000cc"/>
                </a:solidFill>
                <a:latin typeface="Arial"/>
              </a:rPr>
              <a:t>○○○</a:t>
            </a:r>
            <a:r>
              <a:rPr b="1" lang="zh-CN" sz="12000" spc="-1" strike="noStrike">
                <a:solidFill>
                  <a:srgbClr val="0000cc"/>
                </a:solidFill>
                <a:latin typeface="Arial"/>
              </a:rPr>
              <a:t>不動産（株）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17800" y="8226360"/>
            <a:ext cx="151225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00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en-US" sz="9000" spc="-1" strike="noStrike">
                <a:solidFill>
                  <a:srgbClr val="0000cc"/>
                </a:solidFill>
                <a:latin typeface="Arial"/>
              </a:rPr>
              <a:t>TEL.</a:t>
            </a:r>
            <a:r>
              <a:rPr b="1" lang="en-US" sz="10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2000" spc="-1" strike="noStrike">
                <a:solidFill>
                  <a:srgbClr val="0000cc"/>
                </a:solidFill>
                <a:latin typeface="Arial"/>
              </a:rPr>
              <a:t>000-000-00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273440" y="7147080"/>
            <a:ext cx="15122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～お部屋探しの方、お気軽にお電話下さい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76360" y="1170000"/>
            <a:ext cx="27651240" cy="504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008000" y="593640"/>
            <a:ext cx="1844640" cy="424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9595600" y="593640"/>
            <a:ext cx="1874880" cy="431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1179960" y="5159520"/>
            <a:ext cx="885960" cy="553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936720" y="5159520"/>
            <a:ext cx="885600" cy="5533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13080" y="6499080"/>
            <a:ext cx="2757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7:13:47Z</dcterms:created>
  <dc:creator>****</dc:creator>
  <dc:description/>
  <dc:language>en-US</dc:language>
  <cp:lastModifiedBy>fukase3</cp:lastModifiedBy>
  <dcterms:modified xsi:type="dcterms:W3CDTF">2009-05-26T07:38:51Z</dcterms:modified>
  <cp:revision>14</cp:revision>
  <dc:subject/>
  <dc:title>スライド 1</dc:title>
</cp:coreProperties>
</file>