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124113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A8F8-005C-4FEC-AF92-0FF4138B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6C58-9C89-4286-BE1D-6DB1E58D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36B-5604-4D56-80AD-F797DBAA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752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59760" y="249516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528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5752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59760" y="6180840"/>
            <a:ext cx="43826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2506-9CDE-4195-A7D5-F0014DF3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C1A-4A63-4E85-B133-E2B69D1B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542-68F6-4067-8294-0A556B19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3C6-024E-4581-A813-7E0E4AB4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F1C-4104-4A4B-9C7B-A68BDAC4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428400"/>
            <a:ext cx="1361124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0621-C320-4E9C-850A-D0538DB8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201B-A586-4F2B-A37E-9D6C9EA3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29920" y="618084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8A4-F4A2-4FC5-94BA-7AD84F88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528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29920" y="2495160"/>
            <a:ext cx="664200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5280" y="6180840"/>
            <a:ext cx="13611240" cy="33656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EE6-35BF-45D7-AF58-2AFB051D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280" y="428400"/>
            <a:ext cx="13611240" cy="178092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7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280" y="2495160"/>
            <a:ext cx="13611240" cy="705636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rmAutofit/>
          </a:bodyPr>
          <a:p>
            <a:pPr marL="552600" indent="-55260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1" marL="1198440" indent="-4600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2" marL="1844640" indent="-369720"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3" marL="2581200" indent="-368280">
              <a:spcBef>
                <a:spcPts val="1301"/>
              </a:spcBef>
              <a:buClr>
                <a:srgbClr val="000000"/>
              </a:buClr>
              <a:buFont typeface="Arial"/>
              <a:buChar char="–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4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5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lvl="6" marL="3319560" indent="-370080">
              <a:spcBef>
                <a:spcPts val="1301"/>
              </a:spcBef>
              <a:buClr>
                <a:srgbClr val="000000"/>
              </a:buClr>
              <a:buFont typeface="Arial"/>
              <a:buChar char="»"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28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167080" y="9737640"/>
            <a:ext cx="478764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9737640"/>
            <a:ext cx="3529080" cy="743040"/>
          </a:xfrm>
          <a:prstGeom prst="rect">
            <a:avLst/>
          </a:prstGeom>
          <a:noFill/>
          <a:ln w="0">
            <a:noFill/>
          </a:ln>
        </p:spPr>
        <p:txBody>
          <a:bodyPr lIns="147600" rIns="147600" tIns="73800" bIns="73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B281-2A34-44FB-9B19-7E44D0764767}" type="slidenum">
              <a:rPr b="0" lang="en-US" sz="2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表紙"/>
          <p:cNvPicPr/>
          <p:nvPr/>
        </p:nvPicPr>
        <p:blipFill>
          <a:blip r:embed="rId1"/>
          <a:srcRect l="50777" t="0" r="0" b="-42"/>
          <a:stretch/>
        </p:blipFill>
        <p:spPr>
          <a:xfrm>
            <a:off x="7678800" y="0"/>
            <a:ext cx="7443720" cy="10693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表紙"/>
          <p:cNvPicPr/>
          <p:nvPr/>
        </p:nvPicPr>
        <p:blipFill>
          <a:blip r:embed="rId2"/>
          <a:srcRect l="0" t="0" r="50589" b="0"/>
          <a:stretch/>
        </p:blipFill>
        <p:spPr>
          <a:xfrm>
            <a:off x="0" y="4680"/>
            <a:ext cx="7472520" cy="106887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0496520" y="7612200"/>
            <a:ext cx="25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:00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第４火曜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961560" y="3135240"/>
            <a:ext cx="25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崎テック飯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ライン"/>
          <p:cNvPicPr/>
          <p:nvPr/>
        </p:nvPicPr>
        <p:blipFill>
          <a:blip r:embed="rId3"/>
          <a:stretch/>
        </p:blipFill>
        <p:spPr>
          <a:xfrm>
            <a:off x="679320" y="701640"/>
            <a:ext cx="6318360" cy="927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ライン"/>
          <p:cNvPicPr/>
          <p:nvPr/>
        </p:nvPicPr>
        <p:blipFill>
          <a:blip r:embed="rId4"/>
          <a:stretch/>
        </p:blipFill>
        <p:spPr>
          <a:xfrm>
            <a:off x="8066160" y="701640"/>
            <a:ext cx="6318000" cy="927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タイトル"/>
          <p:cNvPicPr/>
          <p:nvPr/>
        </p:nvPicPr>
        <p:blipFill>
          <a:blip r:embed="rId5"/>
          <a:stretch/>
        </p:blipFill>
        <p:spPr>
          <a:xfrm>
            <a:off x="10402920" y="2543040"/>
            <a:ext cx="1743120" cy="324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龍"/>
          <p:cNvPicPr/>
          <p:nvPr/>
        </p:nvPicPr>
        <p:blipFill>
          <a:blip r:embed="rId6"/>
          <a:stretch/>
        </p:blipFill>
        <p:spPr>
          <a:xfrm>
            <a:off x="9736200" y="3813120"/>
            <a:ext cx="2800440" cy="3753000"/>
          </a:xfrm>
          <a:prstGeom prst="rect">
            <a:avLst/>
          </a:prstGeom>
          <a:ln w="0">
            <a:noFill/>
          </a:ln>
        </p:spPr>
      </p:pic>
      <p:sp>
        <p:nvSpPr>
          <p:cNvPr id="49" name="テキスト ボックス 2"/>
          <p:cNvSpPr/>
          <p:nvPr/>
        </p:nvSpPr>
        <p:spPr>
          <a:xfrm>
            <a:off x="15814800" y="1100160"/>
            <a:ext cx="1839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09:38:42Z</dcterms:created>
  <dc:creator>fukase3</dc:creator>
  <dc:description/>
  <dc:language>en-US</dc:language>
  <cp:lastModifiedBy>tec</cp:lastModifiedBy>
  <dcterms:modified xsi:type="dcterms:W3CDTF">2013-03-06T07:17:01Z</dcterms:modified>
  <cp:revision>4</cp:revision>
  <dc:subject/>
  <dc:title>スライド 1</dc:title>
</cp:coreProperties>
</file>