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59675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95F0-387D-457C-9964-326443937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6805440" cy="33656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6180840"/>
            <a:ext cx="6805440" cy="33656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1392-68FD-4715-AB81-D2F765E4F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532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4267-C9DE-4343-8229-5BCCDF653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8760" y="249516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79880" y="249516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618084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8760" y="618084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79880" y="618084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DF25-799D-4079-8362-2C340047C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2495160"/>
            <a:ext cx="680544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80E7-4A9A-41B1-8F6A-70E751DCC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6805440" cy="7056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5347-C6D7-4D50-ADAA-4411A701B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EF03-139D-4E19-AC05-ED805D036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20AC-304E-4204-9B9D-8B8EFBE3C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428400"/>
            <a:ext cx="680544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A99F-6588-4629-B5DB-683E1DCD0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9D52-4ABD-4F25-B78C-CA63B180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532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E9B1-4161-47E6-9E09-E046AA8A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6180840"/>
            <a:ext cx="6805440" cy="33656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CA39-355D-4634-BE9C-8EA2FB91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2495160"/>
            <a:ext cx="6805440" cy="7056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847800" indent="-32724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2" marL="1303200" indent="-2602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3" marL="1825560" indent="-26028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4" marL="2346480" indent="-26064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5" marL="2346480" indent="-26064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6" marL="2346480" indent="-26064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7640" y="9737640"/>
            <a:ext cx="1765080" cy="743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lstStyle>
            <a:lvl1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84080" y="9737640"/>
            <a:ext cx="2392200" cy="743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lstStyle>
            <a:lvl1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18000" y="9737640"/>
            <a:ext cx="1765440" cy="743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lstStyle>
            <a:lvl1pPr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6EFEB8DA-BDA9-4F74-BEF5-D90E7BCEE067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240" y="0"/>
            <a:ext cx="7558200" cy="10693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104920" y="3746520"/>
            <a:ext cx="3546720" cy="9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北京ダック・海老のチャーハ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中国野菜の炒め物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特製杏仁豆腐・中華スープ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41280" y="355680"/>
            <a:ext cx="6840720" cy="261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20760" y="770040"/>
            <a:ext cx="6850080" cy="1271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368280" y="4819680"/>
            <a:ext cx="6840720" cy="262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1940040" y="2170080"/>
            <a:ext cx="3659040" cy="5079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495360" y="2801880"/>
            <a:ext cx="1138320" cy="1812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6018120" y="2739960"/>
            <a:ext cx="1143000" cy="1811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995480" y="2876400"/>
            <a:ext cx="3613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5120" y="2928960"/>
            <a:ext cx="434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お一人様　　　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3,500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666720" y="5346720"/>
            <a:ext cx="6283440" cy="50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1T01:06:17Z</dcterms:created>
  <dc:creator>fukase3</dc:creator>
  <dc:description/>
  <dc:language>en-US</dc:language>
  <cp:lastModifiedBy>TTBS</cp:lastModifiedBy>
  <dcterms:modified xsi:type="dcterms:W3CDTF">2009-06-01T05:20:11Z</dcterms:modified>
  <cp:revision>7</cp:revision>
  <dc:subject/>
  <dc:title>スライド 1</dc:title>
</cp:coreProperties>
</file>