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0F9-1859-4CB6-99CD-436CFEC1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877-66B8-49C3-9A29-7EA370A1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A65-781A-479B-AF62-0E6526C4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010-9A6E-484F-A648-8C85629C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580-2CD9-456D-82A2-29FAA873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A7F-C610-4E7A-8F33-6A5CFBE8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078-93C3-4F52-86EB-A8A78C9E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8E2-A26C-4542-8D7C-845D9AE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DDE-CF99-4F7B-9907-2D0FCCDA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DB2-273C-4360-8278-AE3CFAE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CA1-F24F-47DE-ACC6-118C070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F5B-17A1-4A9C-9796-96DC7C1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rmAutofit/>
          </a:bodyPr>
          <a:p>
            <a:pPr marL="314280" indent="-3142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6352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2095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69880" indent="-2109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098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098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098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indent="0" algn="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D4ECFDC0-7829-41D4-B642-E16115636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1960" y="4896000"/>
            <a:ext cx="5194080" cy="461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6858000" cy="2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663120"/>
            <a:ext cx="6858000" cy="2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200" y="1319040"/>
            <a:ext cx="60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～オープンテラス席での朝食はいかがですか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49200" y="2031840"/>
            <a:ext cx="4359600" cy="151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1640" y="1882800"/>
            <a:ext cx="365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Arial"/>
              </a:rPr>
              <a:t>和洋中バイキン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43040" y="2544840"/>
            <a:ext cx="357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宿泊のお客様・・・９００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一般のお客様・・・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765600"/>
            <a:ext cx="685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2F</a:t>
            </a:r>
            <a:r>
              <a:rPr b="1" lang="zh-CN" sz="3400" spc="-1" strike="noStrike">
                <a:solidFill>
                  <a:srgbClr val="cc0000"/>
                </a:solidFill>
                <a:latin typeface="Arial"/>
              </a:rPr>
              <a:t>　デリシャスガーデ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49520" y="4319640"/>
            <a:ext cx="35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営業時間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11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2: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28720" y="549360"/>
            <a:ext cx="5133960" cy="75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63520" y="561960"/>
            <a:ext cx="503280" cy="89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049800" y="509760"/>
            <a:ext cx="52416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2:04:12Z</dcterms:created>
  <dc:creator>fukase3</dc:creator>
  <dc:description/>
  <dc:language>en-US</dc:language>
  <cp:lastModifiedBy>fukase3</cp:lastModifiedBy>
  <dcterms:modified xsi:type="dcterms:W3CDTF">2009-05-27T05:41:17Z</dcterms:modified>
  <cp:revision>7</cp:revision>
  <dc:subject/>
  <dc:title>スライド 1</dc:title>
</cp:coreProperties>
</file>