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978-3979-4EAE-ACE7-F5100902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027-B10B-4B16-9626-E530510A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793-A106-40FC-BF69-6E101061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D3C-444B-463B-91A3-6A04C087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6CD-A40B-4EAF-9C5D-82D34C25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1EE-DE35-43A3-9F38-31A5903B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DDE-CB29-4198-BDF9-16CBA96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C2D-CF0A-402A-AF48-5D133CA9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604440"/>
            <a:ext cx="9623520" cy="116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BA2-83D4-433A-AC44-82A4B9ED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B89-E056-4765-A397-6B8D450F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D0C-7135-4590-A35E-AB3B3ED0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06B-327A-4B49-8EF2-CAD39A20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3771080"/>
            <a:ext cx="2495520" cy="10494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13771080"/>
            <a:ext cx="3387600" cy="10494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13771080"/>
            <a:ext cx="2495520" cy="10494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DCF88E97-AC57-4E48-A062-43949142D6A7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15122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68360" y="2428920"/>
            <a:ext cx="2502000" cy="9912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283520" y="5815080"/>
            <a:ext cx="882720" cy="362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134040" y="10248840"/>
            <a:ext cx="31053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8:17:43Z</dcterms:created>
  <dc:creator>fukase3</dc:creator>
  <dc:description/>
  <dc:language>en-US</dc:language>
  <cp:lastModifiedBy>fukase3</cp:lastModifiedBy>
  <dcterms:modified xsi:type="dcterms:W3CDTF">2009-05-11T02:35:26Z</dcterms:modified>
  <cp:revision>2</cp:revision>
  <dc:subject/>
  <dc:title>スライド 1</dc:title>
</cp:coreProperties>
</file>