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3206988" cy="10691813"/>
  <p:notesSz cx="9928225" cy="42437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CEC30-D2FD-4767-BAF7-AFCC8E64A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160360" y="29880"/>
            <a:ext cx="38883960" cy="2580480"/>
          </a:xfrm>
          <a:prstGeom prst="rect">
            <a:avLst/>
          </a:prstGeom>
          <a:noFill/>
          <a:ln w="0">
            <a:noFill/>
          </a:ln>
        </p:spPr>
        <p:txBody>
          <a:bodyPr lIns="309600" rIns="309600" tIns="154800" bIns="154800" anchor="ctr">
            <a:noAutofit/>
          </a:bodyPr>
          <a:p>
            <a:pPr indent="0" algn="ctr">
              <a:buNone/>
              <a:tabLst>
                <a:tab algn="l" pos="0"/>
                <a:tab algn="l" pos="3095640"/>
                <a:tab algn="l" pos="6191280"/>
                <a:tab algn="l" pos="9286920"/>
              </a:tabLst>
            </a:pPr>
            <a:endParaRPr b="0" lang="en-US" sz="1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160360" y="2495160"/>
            <a:ext cx="38883960" cy="3365640"/>
          </a:xfrm>
          <a:prstGeom prst="rect">
            <a:avLst/>
          </a:prstGeom>
          <a:noFill/>
          <a:ln w="0">
            <a:noFill/>
          </a:ln>
        </p:spPr>
        <p:txBody>
          <a:bodyPr lIns="309600" rIns="309600" tIns="154800" bIns="15480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95640"/>
                <a:tab algn="l" pos="6191280"/>
                <a:tab algn="l" pos="928692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160360" y="6180840"/>
            <a:ext cx="38883960" cy="3365640"/>
          </a:xfrm>
          <a:prstGeom prst="rect">
            <a:avLst/>
          </a:prstGeom>
          <a:noFill/>
          <a:ln w="0">
            <a:noFill/>
          </a:ln>
        </p:spPr>
        <p:txBody>
          <a:bodyPr lIns="309600" rIns="309600" tIns="154800" bIns="15480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95640"/>
                <a:tab algn="l" pos="6191280"/>
                <a:tab algn="l" pos="928692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DA6B4-8C06-4F75-8A39-BBCCCC20D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160360" y="29880"/>
            <a:ext cx="38883960" cy="2580480"/>
          </a:xfrm>
          <a:prstGeom prst="rect">
            <a:avLst/>
          </a:prstGeom>
          <a:noFill/>
          <a:ln w="0">
            <a:noFill/>
          </a:ln>
        </p:spPr>
        <p:txBody>
          <a:bodyPr lIns="309600" rIns="309600" tIns="154800" bIns="154800" anchor="ctr">
            <a:noAutofit/>
          </a:bodyPr>
          <a:p>
            <a:pPr indent="0" algn="ctr">
              <a:buNone/>
              <a:tabLst>
                <a:tab algn="l" pos="0"/>
                <a:tab algn="l" pos="3095640"/>
                <a:tab algn="l" pos="6191280"/>
                <a:tab algn="l" pos="9286920"/>
              </a:tabLst>
            </a:pPr>
            <a:endParaRPr b="0" lang="en-US" sz="1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160360" y="2495160"/>
            <a:ext cx="18975240" cy="3365640"/>
          </a:xfrm>
          <a:prstGeom prst="rect">
            <a:avLst/>
          </a:prstGeom>
          <a:noFill/>
          <a:ln w="0">
            <a:noFill/>
          </a:ln>
        </p:spPr>
        <p:txBody>
          <a:bodyPr lIns="309600" rIns="309600" tIns="154800" bIns="15480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95640"/>
                <a:tab algn="l" pos="6191280"/>
                <a:tab algn="l" pos="928692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2084920" y="2495160"/>
            <a:ext cx="18975240" cy="3365640"/>
          </a:xfrm>
          <a:prstGeom prst="rect">
            <a:avLst/>
          </a:prstGeom>
          <a:noFill/>
          <a:ln w="0">
            <a:noFill/>
          </a:ln>
        </p:spPr>
        <p:txBody>
          <a:bodyPr lIns="309600" rIns="309600" tIns="154800" bIns="15480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95640"/>
                <a:tab algn="l" pos="6191280"/>
                <a:tab algn="l" pos="928692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160360" y="6180840"/>
            <a:ext cx="18975240" cy="3365640"/>
          </a:xfrm>
          <a:prstGeom prst="rect">
            <a:avLst/>
          </a:prstGeom>
          <a:noFill/>
          <a:ln w="0">
            <a:noFill/>
          </a:ln>
        </p:spPr>
        <p:txBody>
          <a:bodyPr lIns="309600" rIns="309600" tIns="154800" bIns="15480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95640"/>
                <a:tab algn="l" pos="6191280"/>
                <a:tab algn="l" pos="928692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2084920" y="6180840"/>
            <a:ext cx="18975240" cy="3365640"/>
          </a:xfrm>
          <a:prstGeom prst="rect">
            <a:avLst/>
          </a:prstGeom>
          <a:noFill/>
          <a:ln w="0">
            <a:noFill/>
          </a:ln>
        </p:spPr>
        <p:txBody>
          <a:bodyPr lIns="309600" rIns="309600" tIns="154800" bIns="15480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95640"/>
                <a:tab algn="l" pos="6191280"/>
                <a:tab algn="l" pos="928692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E0108-3C6D-40B0-8C18-ABC714B4A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160360" y="29880"/>
            <a:ext cx="38883960" cy="2580480"/>
          </a:xfrm>
          <a:prstGeom prst="rect">
            <a:avLst/>
          </a:prstGeom>
          <a:noFill/>
          <a:ln w="0">
            <a:noFill/>
          </a:ln>
        </p:spPr>
        <p:txBody>
          <a:bodyPr lIns="309600" rIns="309600" tIns="154800" bIns="154800" anchor="ctr">
            <a:noAutofit/>
          </a:bodyPr>
          <a:p>
            <a:pPr indent="0" algn="ctr">
              <a:buNone/>
              <a:tabLst>
                <a:tab algn="l" pos="0"/>
                <a:tab algn="l" pos="3095640"/>
                <a:tab algn="l" pos="6191280"/>
                <a:tab algn="l" pos="9286920"/>
              </a:tabLst>
            </a:pPr>
            <a:endParaRPr b="0" lang="en-US" sz="1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160360" y="2495160"/>
            <a:ext cx="12520440" cy="3365640"/>
          </a:xfrm>
          <a:prstGeom prst="rect">
            <a:avLst/>
          </a:prstGeom>
          <a:noFill/>
          <a:ln w="0">
            <a:noFill/>
          </a:ln>
        </p:spPr>
        <p:txBody>
          <a:bodyPr lIns="309600" rIns="309600" tIns="154800" bIns="15480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95640"/>
                <a:tab algn="l" pos="6191280"/>
                <a:tab algn="l" pos="928692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307200" y="2495160"/>
            <a:ext cx="12520440" cy="3365640"/>
          </a:xfrm>
          <a:prstGeom prst="rect">
            <a:avLst/>
          </a:prstGeom>
          <a:noFill/>
          <a:ln w="0">
            <a:noFill/>
          </a:ln>
        </p:spPr>
        <p:txBody>
          <a:bodyPr lIns="309600" rIns="309600" tIns="154800" bIns="15480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95640"/>
                <a:tab algn="l" pos="6191280"/>
                <a:tab algn="l" pos="928692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8454040" y="2495160"/>
            <a:ext cx="12520440" cy="3365640"/>
          </a:xfrm>
          <a:prstGeom prst="rect">
            <a:avLst/>
          </a:prstGeom>
          <a:noFill/>
          <a:ln w="0">
            <a:noFill/>
          </a:ln>
        </p:spPr>
        <p:txBody>
          <a:bodyPr lIns="309600" rIns="309600" tIns="154800" bIns="15480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95640"/>
                <a:tab algn="l" pos="6191280"/>
                <a:tab algn="l" pos="928692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160360" y="6180840"/>
            <a:ext cx="12520440" cy="3365640"/>
          </a:xfrm>
          <a:prstGeom prst="rect">
            <a:avLst/>
          </a:prstGeom>
          <a:noFill/>
          <a:ln w="0">
            <a:noFill/>
          </a:ln>
        </p:spPr>
        <p:txBody>
          <a:bodyPr lIns="309600" rIns="309600" tIns="154800" bIns="15480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95640"/>
                <a:tab algn="l" pos="6191280"/>
                <a:tab algn="l" pos="928692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307200" y="6180840"/>
            <a:ext cx="12520440" cy="3365640"/>
          </a:xfrm>
          <a:prstGeom prst="rect">
            <a:avLst/>
          </a:prstGeom>
          <a:noFill/>
          <a:ln w="0">
            <a:noFill/>
          </a:ln>
        </p:spPr>
        <p:txBody>
          <a:bodyPr lIns="309600" rIns="309600" tIns="154800" bIns="15480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95640"/>
                <a:tab algn="l" pos="6191280"/>
                <a:tab algn="l" pos="928692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8454040" y="6180840"/>
            <a:ext cx="12520440" cy="3365640"/>
          </a:xfrm>
          <a:prstGeom prst="rect">
            <a:avLst/>
          </a:prstGeom>
          <a:noFill/>
          <a:ln w="0">
            <a:noFill/>
          </a:ln>
        </p:spPr>
        <p:txBody>
          <a:bodyPr lIns="309600" rIns="309600" tIns="154800" bIns="15480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95640"/>
                <a:tab algn="l" pos="6191280"/>
                <a:tab algn="l" pos="928692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098A8-C9BA-4736-BF20-647DC442C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160360" y="29880"/>
            <a:ext cx="38883960" cy="2580480"/>
          </a:xfrm>
          <a:prstGeom prst="rect">
            <a:avLst/>
          </a:prstGeom>
          <a:noFill/>
          <a:ln w="0">
            <a:noFill/>
          </a:ln>
        </p:spPr>
        <p:txBody>
          <a:bodyPr lIns="309600" rIns="309600" tIns="154800" bIns="154800" anchor="ctr">
            <a:noAutofit/>
          </a:bodyPr>
          <a:p>
            <a:pPr indent="0" algn="ctr">
              <a:buNone/>
              <a:tabLst>
                <a:tab algn="l" pos="0"/>
                <a:tab algn="l" pos="3095640"/>
                <a:tab algn="l" pos="6191280"/>
                <a:tab algn="l" pos="9286920"/>
              </a:tabLst>
            </a:pPr>
            <a:endParaRPr b="0" lang="en-US" sz="1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160360" y="2495160"/>
            <a:ext cx="38883960" cy="70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701"/>
              </a:spcBef>
              <a:buNone/>
              <a:tabLst>
                <a:tab algn="l" pos="0"/>
                <a:tab algn="l" pos="3095640"/>
                <a:tab algn="l" pos="6191280"/>
                <a:tab algn="l" pos="928692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B3A82-8B4E-4C2B-ADB2-1F831A23E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160360" y="29880"/>
            <a:ext cx="38883960" cy="2580480"/>
          </a:xfrm>
          <a:prstGeom prst="rect">
            <a:avLst/>
          </a:prstGeom>
          <a:noFill/>
          <a:ln w="0">
            <a:noFill/>
          </a:ln>
        </p:spPr>
        <p:txBody>
          <a:bodyPr lIns="309600" rIns="309600" tIns="154800" bIns="154800" anchor="ctr">
            <a:noAutofit/>
          </a:bodyPr>
          <a:p>
            <a:pPr indent="0" algn="ctr">
              <a:buNone/>
              <a:tabLst>
                <a:tab algn="l" pos="0"/>
                <a:tab algn="l" pos="3095640"/>
                <a:tab algn="l" pos="6191280"/>
                <a:tab algn="l" pos="9286920"/>
              </a:tabLst>
            </a:pPr>
            <a:endParaRPr b="0" lang="en-US" sz="1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160360" y="2495160"/>
            <a:ext cx="38883960" cy="7056360"/>
          </a:xfrm>
          <a:prstGeom prst="rect">
            <a:avLst/>
          </a:prstGeom>
          <a:noFill/>
          <a:ln w="0">
            <a:noFill/>
          </a:ln>
        </p:spPr>
        <p:txBody>
          <a:bodyPr lIns="309600" rIns="309600" tIns="154800" bIns="15480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95640"/>
                <a:tab algn="l" pos="6191280"/>
                <a:tab algn="l" pos="928692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0F186-0A09-4DE4-8119-6CDFABF48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160360" y="29880"/>
            <a:ext cx="38883960" cy="2580480"/>
          </a:xfrm>
          <a:prstGeom prst="rect">
            <a:avLst/>
          </a:prstGeom>
          <a:noFill/>
          <a:ln w="0">
            <a:noFill/>
          </a:ln>
        </p:spPr>
        <p:txBody>
          <a:bodyPr lIns="309600" rIns="309600" tIns="154800" bIns="154800" anchor="ctr">
            <a:noAutofit/>
          </a:bodyPr>
          <a:p>
            <a:pPr indent="0" algn="ctr">
              <a:buNone/>
              <a:tabLst>
                <a:tab algn="l" pos="0"/>
                <a:tab algn="l" pos="3095640"/>
                <a:tab algn="l" pos="6191280"/>
                <a:tab algn="l" pos="9286920"/>
              </a:tabLst>
            </a:pPr>
            <a:endParaRPr b="0" lang="en-US" sz="1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160360" y="2495160"/>
            <a:ext cx="18975240" cy="7056360"/>
          </a:xfrm>
          <a:prstGeom prst="rect">
            <a:avLst/>
          </a:prstGeom>
          <a:noFill/>
          <a:ln w="0">
            <a:noFill/>
          </a:ln>
        </p:spPr>
        <p:txBody>
          <a:bodyPr lIns="309600" rIns="309600" tIns="154800" bIns="15480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95640"/>
                <a:tab algn="l" pos="6191280"/>
                <a:tab algn="l" pos="928692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2084920" y="2495160"/>
            <a:ext cx="18975240" cy="7056360"/>
          </a:xfrm>
          <a:prstGeom prst="rect">
            <a:avLst/>
          </a:prstGeom>
          <a:noFill/>
          <a:ln w="0">
            <a:noFill/>
          </a:ln>
        </p:spPr>
        <p:txBody>
          <a:bodyPr lIns="309600" rIns="309600" tIns="154800" bIns="15480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95640"/>
                <a:tab algn="l" pos="6191280"/>
                <a:tab algn="l" pos="928692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89D7F-FF4F-440B-8E13-1E187C849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160360" y="29880"/>
            <a:ext cx="38883960" cy="2580480"/>
          </a:xfrm>
          <a:prstGeom prst="rect">
            <a:avLst/>
          </a:prstGeom>
          <a:noFill/>
          <a:ln w="0">
            <a:noFill/>
          </a:ln>
        </p:spPr>
        <p:txBody>
          <a:bodyPr lIns="309600" rIns="309600" tIns="154800" bIns="154800" anchor="ctr">
            <a:noAutofit/>
          </a:bodyPr>
          <a:p>
            <a:pPr indent="0" algn="ctr">
              <a:buNone/>
              <a:tabLst>
                <a:tab algn="l" pos="0"/>
                <a:tab algn="l" pos="3095640"/>
                <a:tab algn="l" pos="6191280"/>
                <a:tab algn="l" pos="9286920"/>
              </a:tabLst>
            </a:pPr>
            <a:endParaRPr b="0" lang="en-US" sz="1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0D083-F6C5-4F21-8284-BB708BDA5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160360" y="428760"/>
            <a:ext cx="38883960" cy="826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701"/>
              </a:spcBef>
              <a:tabLst>
                <a:tab algn="l" pos="0"/>
                <a:tab algn="l" pos="3095640"/>
                <a:tab algn="l" pos="6191280"/>
                <a:tab algn="l" pos="928692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5F901-90E2-41C3-84C4-84BBBFECC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160360" y="29880"/>
            <a:ext cx="38883960" cy="2580480"/>
          </a:xfrm>
          <a:prstGeom prst="rect">
            <a:avLst/>
          </a:prstGeom>
          <a:noFill/>
          <a:ln w="0">
            <a:noFill/>
          </a:ln>
        </p:spPr>
        <p:txBody>
          <a:bodyPr lIns="309600" rIns="309600" tIns="154800" bIns="154800" anchor="ctr">
            <a:noAutofit/>
          </a:bodyPr>
          <a:p>
            <a:pPr indent="0" algn="ctr">
              <a:buNone/>
              <a:tabLst>
                <a:tab algn="l" pos="0"/>
                <a:tab algn="l" pos="3095640"/>
                <a:tab algn="l" pos="6191280"/>
                <a:tab algn="l" pos="9286920"/>
              </a:tabLst>
            </a:pPr>
            <a:endParaRPr b="0" lang="en-US" sz="1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160360" y="2495160"/>
            <a:ext cx="18975240" cy="3365640"/>
          </a:xfrm>
          <a:prstGeom prst="rect">
            <a:avLst/>
          </a:prstGeom>
          <a:noFill/>
          <a:ln w="0">
            <a:noFill/>
          </a:ln>
        </p:spPr>
        <p:txBody>
          <a:bodyPr lIns="309600" rIns="309600" tIns="154800" bIns="15480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95640"/>
                <a:tab algn="l" pos="6191280"/>
                <a:tab algn="l" pos="928692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2084920" y="2495160"/>
            <a:ext cx="18975240" cy="7056360"/>
          </a:xfrm>
          <a:prstGeom prst="rect">
            <a:avLst/>
          </a:prstGeom>
          <a:noFill/>
          <a:ln w="0">
            <a:noFill/>
          </a:ln>
        </p:spPr>
        <p:txBody>
          <a:bodyPr lIns="309600" rIns="309600" tIns="154800" bIns="15480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95640"/>
                <a:tab algn="l" pos="6191280"/>
                <a:tab algn="l" pos="928692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160360" y="6180840"/>
            <a:ext cx="18975240" cy="3365640"/>
          </a:xfrm>
          <a:prstGeom prst="rect">
            <a:avLst/>
          </a:prstGeom>
          <a:noFill/>
          <a:ln w="0">
            <a:noFill/>
          </a:ln>
        </p:spPr>
        <p:txBody>
          <a:bodyPr lIns="309600" rIns="309600" tIns="154800" bIns="15480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95640"/>
                <a:tab algn="l" pos="6191280"/>
                <a:tab algn="l" pos="928692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96B65-1587-4920-BE72-B2B22C6BF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160360" y="29880"/>
            <a:ext cx="38883960" cy="2580480"/>
          </a:xfrm>
          <a:prstGeom prst="rect">
            <a:avLst/>
          </a:prstGeom>
          <a:noFill/>
          <a:ln w="0">
            <a:noFill/>
          </a:ln>
        </p:spPr>
        <p:txBody>
          <a:bodyPr lIns="309600" rIns="309600" tIns="154800" bIns="154800" anchor="ctr">
            <a:noAutofit/>
          </a:bodyPr>
          <a:p>
            <a:pPr indent="0" algn="ctr">
              <a:buNone/>
              <a:tabLst>
                <a:tab algn="l" pos="0"/>
                <a:tab algn="l" pos="3095640"/>
                <a:tab algn="l" pos="6191280"/>
                <a:tab algn="l" pos="9286920"/>
              </a:tabLst>
            </a:pPr>
            <a:endParaRPr b="0" lang="en-US" sz="1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160360" y="2495160"/>
            <a:ext cx="18975240" cy="7056360"/>
          </a:xfrm>
          <a:prstGeom prst="rect">
            <a:avLst/>
          </a:prstGeom>
          <a:noFill/>
          <a:ln w="0">
            <a:noFill/>
          </a:ln>
        </p:spPr>
        <p:txBody>
          <a:bodyPr lIns="309600" rIns="309600" tIns="154800" bIns="15480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95640"/>
                <a:tab algn="l" pos="6191280"/>
                <a:tab algn="l" pos="928692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2084920" y="2495160"/>
            <a:ext cx="18975240" cy="3365640"/>
          </a:xfrm>
          <a:prstGeom prst="rect">
            <a:avLst/>
          </a:prstGeom>
          <a:noFill/>
          <a:ln w="0">
            <a:noFill/>
          </a:ln>
        </p:spPr>
        <p:txBody>
          <a:bodyPr lIns="309600" rIns="309600" tIns="154800" bIns="15480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95640"/>
                <a:tab algn="l" pos="6191280"/>
                <a:tab algn="l" pos="928692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2084920" y="6180840"/>
            <a:ext cx="18975240" cy="3365640"/>
          </a:xfrm>
          <a:prstGeom prst="rect">
            <a:avLst/>
          </a:prstGeom>
          <a:noFill/>
          <a:ln w="0">
            <a:noFill/>
          </a:ln>
        </p:spPr>
        <p:txBody>
          <a:bodyPr lIns="309600" rIns="309600" tIns="154800" bIns="15480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95640"/>
                <a:tab algn="l" pos="6191280"/>
                <a:tab algn="l" pos="928692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82D07-B46D-448B-9179-31B19FC64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160360" y="29880"/>
            <a:ext cx="38883960" cy="2580480"/>
          </a:xfrm>
          <a:prstGeom prst="rect">
            <a:avLst/>
          </a:prstGeom>
          <a:noFill/>
          <a:ln w="0">
            <a:noFill/>
          </a:ln>
        </p:spPr>
        <p:txBody>
          <a:bodyPr lIns="309600" rIns="309600" tIns="154800" bIns="154800" anchor="ctr">
            <a:noAutofit/>
          </a:bodyPr>
          <a:p>
            <a:pPr indent="0" algn="ctr">
              <a:buNone/>
              <a:tabLst>
                <a:tab algn="l" pos="0"/>
                <a:tab algn="l" pos="3095640"/>
                <a:tab algn="l" pos="6191280"/>
                <a:tab algn="l" pos="9286920"/>
              </a:tabLst>
            </a:pPr>
            <a:endParaRPr b="0" lang="en-US" sz="1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160360" y="2495160"/>
            <a:ext cx="18975240" cy="3365640"/>
          </a:xfrm>
          <a:prstGeom prst="rect">
            <a:avLst/>
          </a:prstGeom>
          <a:noFill/>
          <a:ln w="0">
            <a:noFill/>
          </a:ln>
        </p:spPr>
        <p:txBody>
          <a:bodyPr lIns="309600" rIns="309600" tIns="154800" bIns="15480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95640"/>
                <a:tab algn="l" pos="6191280"/>
                <a:tab algn="l" pos="928692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2084920" y="2495160"/>
            <a:ext cx="18975240" cy="3365640"/>
          </a:xfrm>
          <a:prstGeom prst="rect">
            <a:avLst/>
          </a:prstGeom>
          <a:noFill/>
          <a:ln w="0">
            <a:noFill/>
          </a:ln>
        </p:spPr>
        <p:txBody>
          <a:bodyPr lIns="309600" rIns="309600" tIns="154800" bIns="15480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95640"/>
                <a:tab algn="l" pos="6191280"/>
                <a:tab algn="l" pos="928692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160360" y="6180840"/>
            <a:ext cx="38883960" cy="3365640"/>
          </a:xfrm>
          <a:prstGeom prst="rect">
            <a:avLst/>
          </a:prstGeom>
          <a:noFill/>
          <a:ln w="0">
            <a:noFill/>
          </a:ln>
        </p:spPr>
        <p:txBody>
          <a:bodyPr lIns="309600" rIns="309600" tIns="154800" bIns="15480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95640"/>
                <a:tab algn="l" pos="6191280"/>
                <a:tab algn="l" pos="928692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503F8-D695-4CC7-8F86-75B0FB599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160360" y="428760"/>
            <a:ext cx="38883960" cy="1782720"/>
          </a:xfrm>
          <a:prstGeom prst="rect">
            <a:avLst/>
          </a:prstGeom>
          <a:noFill/>
          <a:ln w="0">
            <a:noFill/>
          </a:ln>
        </p:spPr>
        <p:txBody>
          <a:bodyPr lIns="309600" rIns="309600" tIns="154800" bIns="154800" anchor="ctr">
            <a:noAutofit/>
          </a:bodyPr>
          <a:p>
            <a:pPr indent="0" algn="ctr">
              <a:buNone/>
              <a:tabLst>
                <a:tab algn="l" pos="0"/>
                <a:tab algn="l" pos="3095640"/>
                <a:tab algn="l" pos="6191280"/>
                <a:tab algn="l" pos="9286920"/>
              </a:tabLst>
            </a:pPr>
            <a:r>
              <a:rPr b="0" lang="en-US" sz="14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160360" y="2495160"/>
            <a:ext cx="38883960" cy="7056360"/>
          </a:xfrm>
          <a:prstGeom prst="rect">
            <a:avLst/>
          </a:prstGeom>
          <a:noFill/>
          <a:ln w="0">
            <a:noFill/>
          </a:ln>
        </p:spPr>
        <p:txBody>
          <a:bodyPr lIns="309600" rIns="309600" tIns="154800" bIns="154800" anchor="t">
            <a:normAutofit fontScale="49000"/>
          </a:bodyPr>
          <a:p>
            <a:pPr marL="568440" indent="-568440">
              <a:spcBef>
                <a:spcPts val="2701"/>
              </a:spcBef>
              <a:buClr>
                <a:srgbClr val="000000"/>
              </a:buClr>
              <a:buFont typeface="Arial"/>
              <a:buChar char="•"/>
              <a:tabLst>
                <a:tab algn="l" pos="3095640"/>
                <a:tab algn="l" pos="6191280"/>
                <a:tab algn="l" pos="928692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  <a:p>
            <a:pPr lvl="1" marL="1232640" indent="-474480">
              <a:spcBef>
                <a:spcPts val="2701"/>
              </a:spcBef>
              <a:buClr>
                <a:srgbClr val="000000"/>
              </a:buClr>
              <a:buFont typeface="Arial"/>
              <a:buChar char="–"/>
              <a:tabLst>
                <a:tab algn="l" pos="3095640"/>
                <a:tab algn="l" pos="6191280"/>
                <a:tab algn="l" pos="928692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  <a:p>
            <a:pPr lvl="2" marL="1896120" indent="-379440">
              <a:spcBef>
                <a:spcPts val="2701"/>
              </a:spcBef>
              <a:buClr>
                <a:srgbClr val="000000"/>
              </a:buClr>
              <a:buFont typeface="Arial"/>
              <a:buChar char="•"/>
              <a:tabLst>
                <a:tab algn="l" pos="3095640"/>
                <a:tab algn="l" pos="6191280"/>
                <a:tab algn="l" pos="928692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  <a:p>
            <a:pPr lvl="3" marL="2654640" indent="-378720">
              <a:spcBef>
                <a:spcPts val="2701"/>
              </a:spcBef>
              <a:buClr>
                <a:srgbClr val="000000"/>
              </a:buClr>
              <a:buFont typeface="Arial"/>
              <a:buChar char="–"/>
              <a:tabLst>
                <a:tab algn="l" pos="3095640"/>
                <a:tab algn="l" pos="6191280"/>
                <a:tab algn="l" pos="928692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  <a:p>
            <a:pPr lvl="4" marL="3413880" indent="-379440">
              <a:spcBef>
                <a:spcPts val="2701"/>
              </a:spcBef>
              <a:buClr>
                <a:srgbClr val="000000"/>
              </a:buClr>
              <a:buFont typeface="Arial"/>
              <a:buChar char="»"/>
              <a:tabLst>
                <a:tab algn="l" pos="3095640"/>
                <a:tab algn="l" pos="6191280"/>
                <a:tab algn="l" pos="928692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  <a:p>
            <a:pPr lvl="5" marL="3413880" indent="-379440">
              <a:spcBef>
                <a:spcPts val="2701"/>
              </a:spcBef>
              <a:buClr>
                <a:srgbClr val="000000"/>
              </a:buClr>
              <a:buFont typeface="Arial"/>
              <a:buChar char="»"/>
              <a:tabLst>
                <a:tab algn="l" pos="3095640"/>
                <a:tab algn="l" pos="6191280"/>
                <a:tab algn="l" pos="928692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  <a:p>
            <a:pPr lvl="6" marL="3413880" indent="-379440">
              <a:spcBef>
                <a:spcPts val="2701"/>
              </a:spcBef>
              <a:buClr>
                <a:srgbClr val="000000"/>
              </a:buClr>
              <a:buFont typeface="Arial"/>
              <a:buChar char="»"/>
              <a:tabLst>
                <a:tab algn="l" pos="3095640"/>
                <a:tab algn="l" pos="6191280"/>
                <a:tab algn="l" pos="928692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160360" y="9737640"/>
            <a:ext cx="10080360" cy="743040"/>
          </a:xfrm>
          <a:prstGeom prst="rect">
            <a:avLst/>
          </a:prstGeom>
          <a:noFill/>
          <a:ln w="0">
            <a:noFill/>
          </a:ln>
        </p:spPr>
        <p:txBody>
          <a:bodyPr lIns="309600" rIns="309600" tIns="154800" bIns="154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761800" y="9737640"/>
            <a:ext cx="13681080" cy="743040"/>
          </a:xfrm>
          <a:prstGeom prst="rect">
            <a:avLst/>
          </a:prstGeom>
          <a:noFill/>
          <a:ln w="0">
            <a:noFill/>
          </a:ln>
        </p:spPr>
        <p:txBody>
          <a:bodyPr lIns="309600" rIns="309600" tIns="154800" bIns="154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963960" y="9737640"/>
            <a:ext cx="10080360" cy="743040"/>
          </a:xfrm>
          <a:prstGeom prst="rect">
            <a:avLst/>
          </a:prstGeom>
          <a:noFill/>
          <a:ln w="0">
            <a:noFill/>
          </a:ln>
        </p:spPr>
        <p:txBody>
          <a:bodyPr lIns="309600" rIns="309600" tIns="154800" bIns="154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47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B37F6-8EC1-47CC-AC4C-1DA8E003CC8A}" type="slidenum">
              <a:rPr b="0" lang="en-US" sz="4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図 12" descr=""/>
          <p:cNvPicPr/>
          <p:nvPr/>
        </p:nvPicPr>
        <p:blipFill>
          <a:blip r:embed="rId1"/>
          <a:srcRect l="37871" t="51630" r="335" b="0"/>
          <a:stretch/>
        </p:blipFill>
        <p:spPr>
          <a:xfrm>
            <a:off x="0" y="0"/>
            <a:ext cx="20523240" cy="10853640"/>
          </a:xfrm>
          <a:prstGeom prst="rect">
            <a:avLst/>
          </a:prstGeom>
          <a:ln w="0">
            <a:noFill/>
          </a:ln>
        </p:spPr>
      </p:pic>
      <p:pic>
        <p:nvPicPr>
          <p:cNvPr id="42" name="図 13" descr=""/>
          <p:cNvPicPr/>
          <p:nvPr/>
        </p:nvPicPr>
        <p:blipFill>
          <a:blip r:embed="rId2"/>
          <a:stretch/>
        </p:blipFill>
        <p:spPr>
          <a:xfrm>
            <a:off x="19370520" y="1714680"/>
            <a:ext cx="22288680" cy="7264080"/>
          </a:xfrm>
          <a:prstGeom prst="rect">
            <a:avLst/>
          </a:prstGeom>
          <a:ln w="0">
            <a:noFill/>
          </a:ln>
        </p:spPr>
      </p:pic>
      <p:sp>
        <p:nvSpPr>
          <p:cNvPr id="43" name="正方形/長方形 14"/>
          <p:cNvSpPr/>
          <p:nvPr/>
        </p:nvSpPr>
        <p:spPr>
          <a:xfrm>
            <a:off x="34233480" y="614520"/>
            <a:ext cx="547524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3079800"/>
                <a:tab algn="l" pos="6159600"/>
                <a:tab algn="l" pos="9239400"/>
              </a:tabLst>
            </a:pPr>
            <a:r>
              <a:rPr b="1" lang="en-US" sz="25000" spc="-1" strike="noStrike">
                <a:solidFill>
                  <a:srgbClr val="ea5514"/>
                </a:solidFill>
                <a:latin typeface="Arial"/>
              </a:rPr>
              <a:t>580</a:t>
            </a:r>
            <a:endParaRPr b="0" lang="en-US" sz="2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図 15" descr=""/>
          <p:cNvPicPr/>
          <p:nvPr/>
        </p:nvPicPr>
        <p:blipFill>
          <a:blip r:embed="rId3"/>
          <a:stretch/>
        </p:blipFill>
        <p:spPr>
          <a:xfrm>
            <a:off x="1655640" y="1144440"/>
            <a:ext cx="14706720" cy="8089920"/>
          </a:xfrm>
          <a:prstGeom prst="rect">
            <a:avLst/>
          </a:prstGeom>
          <a:ln w="0">
            <a:noFill/>
          </a:ln>
        </p:spPr>
      </p:pic>
      <p:pic>
        <p:nvPicPr>
          <p:cNvPr id="45" name="図 16" descr=""/>
          <p:cNvPicPr/>
          <p:nvPr/>
        </p:nvPicPr>
        <p:blipFill>
          <a:blip r:embed="rId4"/>
          <a:stretch/>
        </p:blipFill>
        <p:spPr>
          <a:xfrm>
            <a:off x="2087640" y="1589040"/>
            <a:ext cx="13830120" cy="7213680"/>
          </a:xfrm>
          <a:prstGeom prst="rect">
            <a:avLst/>
          </a:prstGeom>
          <a:ln w="0">
            <a:noFill/>
          </a:ln>
        </p:spPr>
      </p:pic>
      <p:sp>
        <p:nvSpPr>
          <p:cNvPr id="46" name="正方形/長方形 17"/>
          <p:cNvSpPr/>
          <p:nvPr/>
        </p:nvSpPr>
        <p:spPr>
          <a:xfrm>
            <a:off x="39947040" y="1425600"/>
            <a:ext cx="15523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3079800"/>
                <a:tab algn="l" pos="6159600"/>
                <a:tab algn="l" pos="9239400"/>
              </a:tabLst>
            </a:pPr>
            <a:r>
              <a:rPr b="1" lang="ja-JP" sz="18000" spc="-1" strike="noStrike">
                <a:solidFill>
                  <a:srgbClr val="ea5514"/>
                </a:solidFill>
                <a:latin typeface="Arial"/>
              </a:rPr>
              <a:t>円</a:t>
            </a:r>
            <a:endParaRPr b="0" lang="en-US" sz="1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5T02:19:30Z</dcterms:created>
  <dc:creator>ishida (6646)</dc:creator>
  <dc:description/>
  <dc:language>en-US</dc:language>
  <cp:lastModifiedBy>Jean</cp:lastModifiedBy>
  <cp:lastPrinted>2013-02-14T01:21:18Z</cp:lastPrinted>
  <dcterms:modified xsi:type="dcterms:W3CDTF">2013-02-14T10:31:38Z</dcterms:modified>
  <cp:revision>47</cp:revision>
  <dc:subject/>
  <dc:title>スライド 1</dc:title>
</cp:coreProperties>
</file>