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6988" cy="10691813"/>
  <p:notesSz cx="9928225" cy="42437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856A-EB74-4CC9-8EDC-1098ACAE4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360" y="29880"/>
            <a:ext cx="38883960" cy="258048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ctr">
            <a:noAutofit/>
          </a:bodyPr>
          <a:p>
            <a:pPr indent="0" algn="ctr">
              <a:buNone/>
              <a:tabLst>
                <a:tab algn="l" pos="0"/>
                <a:tab algn="l" pos="3095640"/>
                <a:tab algn="l" pos="6191280"/>
                <a:tab algn="l" pos="928692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FC48-E9D3-4FFE-8515-369A2566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360" y="29880"/>
            <a:ext cx="38883960" cy="258048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ctr">
            <a:noAutofit/>
          </a:bodyPr>
          <a:p>
            <a:pPr indent="0" algn="ctr">
              <a:buNone/>
              <a:tabLst>
                <a:tab algn="l" pos="0"/>
                <a:tab algn="l" pos="3095640"/>
                <a:tab algn="l" pos="6191280"/>
                <a:tab algn="l" pos="928692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AAE4-D1C9-4EFC-AAB6-DDD4A6F16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360" y="29880"/>
            <a:ext cx="38883960" cy="258048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ctr">
            <a:noAutofit/>
          </a:bodyPr>
          <a:p>
            <a:pPr indent="0" algn="ctr">
              <a:buNone/>
              <a:tabLst>
                <a:tab algn="l" pos="0"/>
                <a:tab algn="l" pos="3095640"/>
                <a:tab algn="l" pos="6191280"/>
                <a:tab algn="l" pos="928692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720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404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36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720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404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39D5-5021-4E70-84D2-0D27A93B4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360" y="29880"/>
            <a:ext cx="38883960" cy="258048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ctr">
            <a:noAutofit/>
          </a:bodyPr>
          <a:p>
            <a:pPr indent="0" algn="ctr">
              <a:buNone/>
              <a:tabLst>
                <a:tab algn="l" pos="0"/>
                <a:tab algn="l" pos="3095640"/>
                <a:tab algn="l" pos="6191280"/>
                <a:tab algn="l" pos="928692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74F6-CFA4-45B8-9BB6-2FA192C0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360" y="29880"/>
            <a:ext cx="38883960" cy="258048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ctr">
            <a:noAutofit/>
          </a:bodyPr>
          <a:p>
            <a:pPr indent="0" algn="ctr">
              <a:buNone/>
              <a:tabLst>
                <a:tab algn="l" pos="0"/>
                <a:tab algn="l" pos="3095640"/>
                <a:tab algn="l" pos="6191280"/>
                <a:tab algn="l" pos="928692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D720-140F-46BF-BAD8-9FD58134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360" y="29880"/>
            <a:ext cx="38883960" cy="258048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ctr">
            <a:noAutofit/>
          </a:bodyPr>
          <a:p>
            <a:pPr indent="0" algn="ctr">
              <a:buNone/>
              <a:tabLst>
                <a:tab algn="l" pos="0"/>
                <a:tab algn="l" pos="3095640"/>
                <a:tab algn="l" pos="6191280"/>
                <a:tab algn="l" pos="928692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B17D-59D6-4E78-BE56-D8C32AAF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360" y="29880"/>
            <a:ext cx="38883960" cy="258048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ctr">
            <a:noAutofit/>
          </a:bodyPr>
          <a:p>
            <a:pPr indent="0" algn="ctr">
              <a:buNone/>
              <a:tabLst>
                <a:tab algn="l" pos="0"/>
                <a:tab algn="l" pos="3095640"/>
                <a:tab algn="l" pos="6191280"/>
                <a:tab algn="l" pos="928692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EE86-5201-4103-93C6-04C23C78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360" y="428760"/>
            <a:ext cx="38883960" cy="82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F8F6-4BDF-480F-93CD-B7D19086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360" y="29880"/>
            <a:ext cx="38883960" cy="258048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ctr">
            <a:noAutofit/>
          </a:bodyPr>
          <a:p>
            <a:pPr indent="0" algn="ctr">
              <a:buNone/>
              <a:tabLst>
                <a:tab algn="l" pos="0"/>
                <a:tab algn="l" pos="3095640"/>
                <a:tab algn="l" pos="6191280"/>
                <a:tab algn="l" pos="928692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2B53-D001-4661-B16A-33F6E5BE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360" y="29880"/>
            <a:ext cx="38883960" cy="258048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ctr">
            <a:noAutofit/>
          </a:bodyPr>
          <a:p>
            <a:pPr indent="0" algn="ctr">
              <a:buNone/>
              <a:tabLst>
                <a:tab algn="l" pos="0"/>
                <a:tab algn="l" pos="3095640"/>
                <a:tab algn="l" pos="6191280"/>
                <a:tab algn="l" pos="928692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6E72-BF6D-4C88-B11D-C9CFEDF6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360" y="29880"/>
            <a:ext cx="38883960" cy="258048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ctr">
            <a:noAutofit/>
          </a:bodyPr>
          <a:p>
            <a:pPr indent="0" algn="ctr">
              <a:buNone/>
              <a:tabLst>
                <a:tab algn="l" pos="0"/>
                <a:tab algn="l" pos="3095640"/>
                <a:tab algn="l" pos="6191280"/>
                <a:tab algn="l" pos="928692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2038-10CD-44FB-B9CF-3716A9BF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360" y="428760"/>
            <a:ext cx="38883960" cy="178272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ctr">
            <a:noAutofit/>
          </a:bodyPr>
          <a:p>
            <a:pPr indent="0" algn="ctr">
              <a:buNone/>
              <a:tabLst>
                <a:tab algn="l" pos="0"/>
                <a:tab algn="l" pos="3095640"/>
                <a:tab algn="l" pos="6191280"/>
                <a:tab algn="l" pos="9286920"/>
              </a:tabLst>
            </a:pPr>
            <a:r>
              <a:rPr b="0" lang="en-US" sz="1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 fontScale="49000"/>
          </a:bodyPr>
          <a:p>
            <a:pPr marL="568440" indent="-56844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95640"/>
                <a:tab algn="l" pos="6191280"/>
                <a:tab algn="l" pos="92869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1" marL="1232640" indent="-47448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95640"/>
                <a:tab algn="l" pos="6191280"/>
                <a:tab algn="l" pos="92869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2" marL="1896120" indent="-37944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95640"/>
                <a:tab algn="l" pos="6191280"/>
                <a:tab algn="l" pos="92869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3" marL="2654640" indent="-37872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95640"/>
                <a:tab algn="l" pos="6191280"/>
                <a:tab algn="l" pos="92869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4" marL="3413880" indent="-3794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95640"/>
                <a:tab algn="l" pos="6191280"/>
                <a:tab algn="l" pos="92869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5" marL="3413880" indent="-3794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95640"/>
                <a:tab algn="l" pos="6191280"/>
                <a:tab algn="l" pos="92869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6" marL="3413880" indent="-3794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95640"/>
                <a:tab algn="l" pos="6191280"/>
                <a:tab algn="l" pos="92869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737640"/>
            <a:ext cx="10080360" cy="7430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1800" y="9737640"/>
            <a:ext cx="13681080" cy="7430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3960" y="9737640"/>
            <a:ext cx="10080360" cy="7430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20E7-331E-4655-A5A4-B66D9F2DE692}" type="slidenum">
              <a:rPr b="0" lang="en-US" sz="4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10" descr="名称未設定-1.gif"/>
          <p:cNvPicPr/>
          <p:nvPr/>
        </p:nvPicPr>
        <p:blipFill>
          <a:blip r:embed="rId1"/>
          <a:stretch/>
        </p:blipFill>
        <p:spPr>
          <a:xfrm>
            <a:off x="592200" y="1446120"/>
            <a:ext cx="41892480" cy="78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02:19:30Z</dcterms:created>
  <dc:creator>ishida (6646)</dc:creator>
  <dc:description/>
  <dc:language>en-US</dc:language>
  <cp:lastModifiedBy>tec</cp:lastModifiedBy>
  <cp:lastPrinted>2013-02-14T01:21:18Z</cp:lastPrinted>
  <dcterms:modified xsi:type="dcterms:W3CDTF">2013-03-21T08:00:17Z</dcterms:modified>
  <cp:revision>48</cp:revision>
  <dc:subject/>
  <dc:title>スライド 1</dc:title>
</cp:coreProperties>
</file>