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24113" cy="106918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77A2-A620-44AF-9226-EC7BC4CA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1337-B042-4C4B-B3F7-73A9818B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7A93-B99E-4A10-881B-88767A59D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52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5976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52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5976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87B6-4B7D-46C7-B72E-10A99F7F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2CB6-0469-47AF-B952-0A800D52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CB2A-54CE-4B71-A191-E53BEF82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2B66-627D-43EC-B989-A18DA276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14DB-B005-4380-BB44-AA647186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12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4716-D1ED-4184-BE7B-4DE63C85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0A06-EAFC-4BA4-8FCA-7CF88081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A1CA-D85E-422F-A847-F9F2192E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D5E2-C610-4AFD-A057-DA36B107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4600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2" marL="1844640" indent="-36972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4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5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6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9737640"/>
            <a:ext cx="3529080" cy="7430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080" y="9737640"/>
            <a:ext cx="4787640" cy="7430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9737640"/>
            <a:ext cx="3529080" cy="7430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A5E12BE4-3CC6-479C-86B7-4A0D04CDEDA7}" type="slidenum">
              <a:rPr b="0" lang="en-US" sz="2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5122520" cy="1069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61960" y="561960"/>
            <a:ext cx="14040000" cy="2568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1271240" y="560520"/>
            <a:ext cx="3321000" cy="1622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357280" y="3359160"/>
            <a:ext cx="10671480" cy="841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435400" y="4800600"/>
            <a:ext cx="1015668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07:27:12Z</dcterms:created>
  <dc:creator>fukase3</dc:creator>
  <dc:description/>
  <dc:language>en-US</dc:language>
  <cp:lastModifiedBy>TTBS</cp:lastModifiedBy>
  <dcterms:modified xsi:type="dcterms:W3CDTF">2009-05-29T07:23:10Z</dcterms:modified>
  <cp:revision>3</cp:revision>
  <dc:subject/>
  <dc:title>スライド 1</dc:title>
</cp:coreProperties>
</file>