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8D7-B8C1-4774-B144-6DF14C0E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B4F-76F2-40C2-8F6F-127AB95F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2D2-E223-446E-AAED-58FAD171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D0E-D2BC-4DCB-AA05-CB276986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E1F-3113-457F-ADED-5D07108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84A-7D4D-4E5F-9B71-7058257A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E5C-ADE3-4523-9C38-2EAD11A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C13-A079-4498-AFB5-681A3F5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7E4-B77E-44F1-9864-E05E42F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8FF-022D-42A1-A956-820E479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294-D02A-404C-83FE-D86B0DD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5E4-E63C-4748-A0F7-C93F61D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2F2698AC-DE3B-4508-8194-6F047BA1C87E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718480" y="5854680"/>
            <a:ext cx="3259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313120" y="7064280"/>
            <a:ext cx="19015200" cy="108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26280" y="827100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24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9000" spc="-1" strike="noStrike">
                <a:solidFill>
                  <a:srgbClr val="000000"/>
                </a:solidFill>
                <a:latin typeface="Arial"/>
              </a:rPr>
              <a:t>旅館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19520" y="1052640"/>
            <a:ext cx="6962760" cy="895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434760" y="2422440"/>
            <a:ext cx="28886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7:47:27Z</dcterms:created>
  <dc:creator>fukase3</dc:creator>
  <dc:description/>
  <dc:language>en-US</dc:language>
  <cp:lastModifiedBy>fukase3</cp:lastModifiedBy>
  <dcterms:modified xsi:type="dcterms:W3CDTF">2009-05-21T09:20:45Z</dcterms:modified>
  <cp:revision>3</cp:revision>
  <dc:subject/>
  <dc:title>スライド 1</dc:title>
</cp:coreProperties>
</file>