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2404050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C76F-EF2F-4E5B-991D-8D55BC5E5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20360" y="37080"/>
            <a:ext cx="2916252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20360" y="2495160"/>
            <a:ext cx="2916252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20360" y="6180840"/>
            <a:ext cx="2916252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CC7F-ED3B-44C7-BAAA-EAB2A67EC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20360" y="37080"/>
            <a:ext cx="2916252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20360" y="249516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563600" y="249516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20360" y="618084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563600" y="618084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CCF2-EA08-4A00-BB15-A1BBD9932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20360" y="37080"/>
            <a:ext cx="2916252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20360" y="2495160"/>
            <a:ext cx="9390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92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480400" y="2495160"/>
            <a:ext cx="9390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92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340800" y="2495160"/>
            <a:ext cx="9390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92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20360" y="6180840"/>
            <a:ext cx="9390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92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480400" y="6180840"/>
            <a:ext cx="9390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92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340800" y="6180840"/>
            <a:ext cx="9390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92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9030-9C7E-4755-8BED-0E0C6BB34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20360" y="37080"/>
            <a:ext cx="2916252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20360" y="2495160"/>
            <a:ext cx="2916252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01"/>
              </a:spcBef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D38C-E74F-4188-B1DF-C972AAAA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20360" y="37080"/>
            <a:ext cx="2916252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20360" y="2495160"/>
            <a:ext cx="2916252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3D50-BF54-450D-952C-D4F615AAF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20360" y="37080"/>
            <a:ext cx="2916252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20360" y="2495160"/>
            <a:ext cx="1423116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563600" y="2495160"/>
            <a:ext cx="1423116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112A-3DCF-4927-B85C-6829E8842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20360" y="37080"/>
            <a:ext cx="2916252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4338-6017-4E36-8530-E5CF2F5F7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20360" y="428400"/>
            <a:ext cx="2916252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01"/>
              </a:spcBef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2B41-062E-4CD1-96AA-64418568F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20360" y="37080"/>
            <a:ext cx="2916252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20360" y="249516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563600" y="2495160"/>
            <a:ext cx="1423116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20360" y="618084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FEEF-2862-4AFD-93EA-04BAE84F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20360" y="37080"/>
            <a:ext cx="2916252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20360" y="2495160"/>
            <a:ext cx="1423116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563600" y="249516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563600" y="618084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DA03-DDA9-441D-B43E-B98660FD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20360" y="37080"/>
            <a:ext cx="2916252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20360" y="249516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563600" y="249516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20360" y="6180840"/>
            <a:ext cx="2916252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9D3C-CB07-4ADD-A4BE-383548B6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20360" y="428400"/>
            <a:ext cx="29162520" cy="1780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en-US" sz="1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20360" y="2495160"/>
            <a:ext cx="2916252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49000"/>
          </a:bodyPr>
          <a:p>
            <a:pPr marL="565920" indent="-56592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1" marL="1225800" indent="-47124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2" marL="1886400" indent="-37728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3" marL="2640600" indent="-37728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4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5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6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20360" y="9737640"/>
            <a:ext cx="7559640" cy="7430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Autofit/>
          </a:bodyPr>
          <a:lstStyle>
            <a:lvl1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en-US" sz="4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070720" y="9737640"/>
            <a:ext cx="10261800" cy="7430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Autofit/>
          </a:bodyPr>
          <a:lstStyle>
            <a:lvl1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en-US" sz="4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223240" y="9737640"/>
            <a:ext cx="7559640" cy="7430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Autofit/>
          </a:bodyPr>
          <a:lstStyle>
            <a:lvl1pPr indent="0" algn="r"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en-US" sz="4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fld id="{44698682-D4DD-45BB-A291-CBEA3D016435}" type="slidenum">
              <a:rPr b="0" lang="en-US" sz="4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2403960" cy="106934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2920" y="1987560"/>
            <a:ext cx="16154280" cy="4454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550880" y="797040"/>
            <a:ext cx="7296120" cy="1092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5726160" y="6718320"/>
            <a:ext cx="11553840" cy="1860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5648400" y="8731080"/>
            <a:ext cx="1150308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1T01:50:16Z</dcterms:created>
  <dc:creator>fukase3</dc:creator>
  <dc:description/>
  <dc:language>en-US</dc:language>
  <cp:lastModifiedBy>fukase3</cp:lastModifiedBy>
  <dcterms:modified xsi:type="dcterms:W3CDTF">2009-05-11T03:58:24Z</dcterms:modified>
  <cp:revision>2</cp:revision>
  <dc:subject/>
  <dc:title>スライド 1</dc:title>
</cp:coreProperties>
</file>