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0E5-0EA3-4FDC-AD17-7654DAE4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B0B-F5FB-4BF4-89A8-FBA8F4C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7A4-1731-46E6-8B5C-35CD2D39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7DB-E207-46B6-A2E2-D3563B4C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9EE-BBEE-4F6F-B16E-89F955FB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A27-68D1-46B0-9D13-F2EF2E59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BCB-0723-4F2B-B41D-6E0C1AB2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184-4922-4117-B467-C188E32F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B43-7B0D-4D86-82A2-0BEF0635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4F9-AC36-4EAC-B657-B7C1350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D72-5FCA-440B-8A7A-DCC9ADF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FDA-B765-4511-833A-37D2969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6A10B672-EAF4-4E8A-8A1D-5F80231B7C9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かつどん.jpg"/>
          <p:cNvPicPr/>
          <p:nvPr/>
        </p:nvPicPr>
        <p:blipFill>
          <a:blip r:embed="rId1"/>
          <a:stretch/>
        </p:blipFill>
        <p:spPr>
          <a:xfrm>
            <a:off x="0" y="1440"/>
            <a:ext cx="10693440" cy="43202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39858840"/>
            <a:ext cx="10693440" cy="3343320"/>
          </a:xfrm>
          <a:prstGeom prst="rect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3240"/>
            <a:ext cx="10693440" cy="904680"/>
          </a:xfrm>
          <a:prstGeom prst="rect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6"/>
          <p:cNvGrpSpPr/>
          <p:nvPr/>
        </p:nvGrpSpPr>
        <p:grpSpPr>
          <a:xfrm>
            <a:off x="-812880" y="1666800"/>
            <a:ext cx="12136680" cy="28884600"/>
            <a:chOff x="-812880" y="1666800"/>
            <a:chExt cx="12136680" cy="28884600"/>
          </a:xfrm>
        </p:grpSpPr>
        <p:sp>
          <p:nvSpPr>
            <p:cNvPr id="45" name="Freeform 5"/>
            <p:cNvSpPr/>
            <p:nvPr/>
          </p:nvSpPr>
          <p:spPr>
            <a:xfrm>
              <a:off x="-812880" y="18586440"/>
              <a:ext cx="12136680" cy="11964960"/>
            </a:xfrm>
            <a:custGeom>
              <a:avLst/>
              <a:gdLst>
                <a:gd name="textAreaLeft" fmla="*/ 0 w 12136680"/>
                <a:gd name="textAreaRight" fmla="*/ 12137040 w 12136680"/>
                <a:gd name="textAreaTop" fmla="*/ 0 h 11964960"/>
                <a:gd name="textAreaBottom" fmla="*/ 11965320 h 11964960"/>
              </a:gdLst>
              <a:ahLst/>
              <a:rect l="textAreaLeft" t="textAreaTop" r="textAreaRight" b="textAreaBottom"/>
              <a:pathLst>
                <a:path w="7645" h="7537">
                  <a:moveTo>
                    <a:pt x="1946" y="1356"/>
                  </a:moveTo>
                  <a:lnTo>
                    <a:pt x="1946" y="1356"/>
                  </a:lnTo>
                  <a:lnTo>
                    <a:pt x="1980" y="1370"/>
                  </a:lnTo>
                  <a:lnTo>
                    <a:pt x="2028" y="1394"/>
                  </a:lnTo>
                  <a:lnTo>
                    <a:pt x="2028" y="1394"/>
                  </a:lnTo>
                  <a:lnTo>
                    <a:pt x="2060" y="1414"/>
                  </a:lnTo>
                  <a:lnTo>
                    <a:pt x="2088" y="1428"/>
                  </a:lnTo>
                  <a:lnTo>
                    <a:pt x="2114" y="1442"/>
                  </a:lnTo>
                  <a:lnTo>
                    <a:pt x="2136" y="1452"/>
                  </a:lnTo>
                  <a:lnTo>
                    <a:pt x="2136" y="1452"/>
                  </a:lnTo>
                  <a:lnTo>
                    <a:pt x="2170" y="1462"/>
                  </a:lnTo>
                  <a:lnTo>
                    <a:pt x="2214" y="1474"/>
                  </a:lnTo>
                  <a:lnTo>
                    <a:pt x="2270" y="1486"/>
                  </a:lnTo>
                  <a:lnTo>
                    <a:pt x="2336" y="1500"/>
                  </a:lnTo>
                  <a:lnTo>
                    <a:pt x="2504" y="1530"/>
                  </a:lnTo>
                  <a:lnTo>
                    <a:pt x="2714" y="1564"/>
                  </a:lnTo>
                  <a:lnTo>
                    <a:pt x="2714" y="1564"/>
                  </a:lnTo>
                  <a:lnTo>
                    <a:pt x="2732" y="1498"/>
                  </a:lnTo>
                  <a:lnTo>
                    <a:pt x="2748" y="1434"/>
                  </a:lnTo>
                  <a:lnTo>
                    <a:pt x="2762" y="1368"/>
                  </a:lnTo>
                  <a:lnTo>
                    <a:pt x="2774" y="1302"/>
                  </a:lnTo>
                  <a:lnTo>
                    <a:pt x="2784" y="1238"/>
                  </a:lnTo>
                  <a:lnTo>
                    <a:pt x="2792" y="1174"/>
                  </a:lnTo>
                  <a:lnTo>
                    <a:pt x="2800" y="1108"/>
                  </a:lnTo>
                  <a:lnTo>
                    <a:pt x="2804" y="1044"/>
                  </a:lnTo>
                  <a:lnTo>
                    <a:pt x="2808" y="980"/>
                  </a:lnTo>
                  <a:lnTo>
                    <a:pt x="2810" y="916"/>
                  </a:lnTo>
                  <a:lnTo>
                    <a:pt x="2808" y="852"/>
                  </a:lnTo>
                  <a:lnTo>
                    <a:pt x="2806" y="788"/>
                  </a:lnTo>
                  <a:lnTo>
                    <a:pt x="2802" y="724"/>
                  </a:lnTo>
                  <a:lnTo>
                    <a:pt x="2796" y="660"/>
                  </a:lnTo>
                  <a:lnTo>
                    <a:pt x="2790" y="596"/>
                  </a:lnTo>
                  <a:lnTo>
                    <a:pt x="2780" y="532"/>
                  </a:lnTo>
                  <a:lnTo>
                    <a:pt x="2780" y="532"/>
                  </a:lnTo>
                  <a:lnTo>
                    <a:pt x="2768" y="476"/>
                  </a:lnTo>
                  <a:lnTo>
                    <a:pt x="2758" y="424"/>
                  </a:lnTo>
                  <a:lnTo>
                    <a:pt x="2750" y="376"/>
                  </a:lnTo>
                  <a:lnTo>
                    <a:pt x="2746" y="332"/>
                  </a:lnTo>
                  <a:lnTo>
                    <a:pt x="2744" y="294"/>
                  </a:lnTo>
                  <a:lnTo>
                    <a:pt x="2746" y="262"/>
                  </a:lnTo>
                  <a:lnTo>
                    <a:pt x="2750" y="234"/>
                  </a:lnTo>
                  <a:lnTo>
                    <a:pt x="2756" y="210"/>
                  </a:lnTo>
                  <a:lnTo>
                    <a:pt x="2756" y="210"/>
                  </a:lnTo>
                  <a:lnTo>
                    <a:pt x="2772" y="174"/>
                  </a:lnTo>
                  <a:lnTo>
                    <a:pt x="2788" y="140"/>
                  </a:lnTo>
                  <a:lnTo>
                    <a:pt x="2808" y="112"/>
                  </a:lnTo>
                  <a:lnTo>
                    <a:pt x="2828" y="86"/>
                  </a:lnTo>
                  <a:lnTo>
                    <a:pt x="2852" y="62"/>
                  </a:lnTo>
                  <a:lnTo>
                    <a:pt x="2876" y="44"/>
                  </a:lnTo>
                  <a:lnTo>
                    <a:pt x="2904" y="28"/>
                  </a:lnTo>
                  <a:lnTo>
                    <a:pt x="2932" y="16"/>
                  </a:lnTo>
                  <a:lnTo>
                    <a:pt x="2962" y="8"/>
                  </a:lnTo>
                  <a:lnTo>
                    <a:pt x="2994" y="2"/>
                  </a:lnTo>
                  <a:lnTo>
                    <a:pt x="3030" y="0"/>
                  </a:lnTo>
                  <a:lnTo>
                    <a:pt x="3066" y="2"/>
                  </a:lnTo>
                  <a:lnTo>
                    <a:pt x="3104" y="6"/>
                  </a:lnTo>
                  <a:lnTo>
                    <a:pt x="3144" y="14"/>
                  </a:lnTo>
                  <a:lnTo>
                    <a:pt x="3186" y="26"/>
                  </a:lnTo>
                  <a:lnTo>
                    <a:pt x="3230" y="42"/>
                  </a:lnTo>
                  <a:lnTo>
                    <a:pt x="3230" y="42"/>
                  </a:lnTo>
                  <a:lnTo>
                    <a:pt x="3258" y="52"/>
                  </a:lnTo>
                  <a:lnTo>
                    <a:pt x="3284" y="66"/>
                  </a:lnTo>
                  <a:lnTo>
                    <a:pt x="3312" y="78"/>
                  </a:lnTo>
                  <a:lnTo>
                    <a:pt x="3340" y="94"/>
                  </a:lnTo>
                  <a:lnTo>
                    <a:pt x="3366" y="110"/>
                  </a:lnTo>
                  <a:lnTo>
                    <a:pt x="3394" y="130"/>
                  </a:lnTo>
                  <a:lnTo>
                    <a:pt x="3448" y="170"/>
                  </a:lnTo>
                  <a:lnTo>
                    <a:pt x="3502" y="216"/>
                  </a:lnTo>
                  <a:lnTo>
                    <a:pt x="3556" y="268"/>
                  </a:lnTo>
                  <a:lnTo>
                    <a:pt x="3610" y="326"/>
                  </a:lnTo>
                  <a:lnTo>
                    <a:pt x="3664" y="390"/>
                  </a:lnTo>
                  <a:lnTo>
                    <a:pt x="3664" y="390"/>
                  </a:lnTo>
                  <a:lnTo>
                    <a:pt x="3700" y="438"/>
                  </a:lnTo>
                  <a:lnTo>
                    <a:pt x="3732" y="488"/>
                  </a:lnTo>
                  <a:lnTo>
                    <a:pt x="3764" y="536"/>
                  </a:lnTo>
                  <a:lnTo>
                    <a:pt x="3792" y="586"/>
                  </a:lnTo>
                  <a:lnTo>
                    <a:pt x="3816" y="636"/>
                  </a:lnTo>
                  <a:lnTo>
                    <a:pt x="3841" y="688"/>
                  </a:lnTo>
                  <a:lnTo>
                    <a:pt x="3861" y="740"/>
                  </a:lnTo>
                  <a:lnTo>
                    <a:pt x="3879" y="790"/>
                  </a:lnTo>
                  <a:lnTo>
                    <a:pt x="3893" y="842"/>
                  </a:lnTo>
                  <a:lnTo>
                    <a:pt x="3905" y="896"/>
                  </a:lnTo>
                  <a:lnTo>
                    <a:pt x="3915" y="948"/>
                  </a:lnTo>
                  <a:lnTo>
                    <a:pt x="3923" y="1002"/>
                  </a:lnTo>
                  <a:lnTo>
                    <a:pt x="3927" y="1056"/>
                  </a:lnTo>
                  <a:lnTo>
                    <a:pt x="3929" y="1110"/>
                  </a:lnTo>
                  <a:lnTo>
                    <a:pt x="3927" y="1166"/>
                  </a:lnTo>
                  <a:lnTo>
                    <a:pt x="3923" y="1220"/>
                  </a:lnTo>
                  <a:lnTo>
                    <a:pt x="3923" y="1220"/>
                  </a:lnTo>
                  <a:lnTo>
                    <a:pt x="3921" y="1274"/>
                  </a:lnTo>
                  <a:lnTo>
                    <a:pt x="3917" y="1328"/>
                  </a:lnTo>
                  <a:lnTo>
                    <a:pt x="3909" y="1386"/>
                  </a:lnTo>
                  <a:lnTo>
                    <a:pt x="3901" y="1444"/>
                  </a:lnTo>
                  <a:lnTo>
                    <a:pt x="3889" y="1504"/>
                  </a:lnTo>
                  <a:lnTo>
                    <a:pt x="3875" y="1566"/>
                  </a:lnTo>
                  <a:lnTo>
                    <a:pt x="3859" y="1632"/>
                  </a:lnTo>
                  <a:lnTo>
                    <a:pt x="3841" y="1698"/>
                  </a:lnTo>
                  <a:lnTo>
                    <a:pt x="3841" y="1698"/>
                  </a:lnTo>
                  <a:lnTo>
                    <a:pt x="3957" y="1712"/>
                  </a:lnTo>
                  <a:lnTo>
                    <a:pt x="4077" y="1726"/>
                  </a:lnTo>
                  <a:lnTo>
                    <a:pt x="4197" y="1738"/>
                  </a:lnTo>
                  <a:lnTo>
                    <a:pt x="4321" y="1750"/>
                  </a:lnTo>
                  <a:lnTo>
                    <a:pt x="4321" y="1750"/>
                  </a:lnTo>
                  <a:lnTo>
                    <a:pt x="4501" y="1768"/>
                  </a:lnTo>
                  <a:lnTo>
                    <a:pt x="4677" y="1790"/>
                  </a:lnTo>
                  <a:lnTo>
                    <a:pt x="4847" y="1812"/>
                  </a:lnTo>
                  <a:lnTo>
                    <a:pt x="5011" y="1836"/>
                  </a:lnTo>
                  <a:lnTo>
                    <a:pt x="5173" y="1862"/>
                  </a:lnTo>
                  <a:lnTo>
                    <a:pt x="5327" y="1890"/>
                  </a:lnTo>
                  <a:lnTo>
                    <a:pt x="5479" y="1918"/>
                  </a:lnTo>
                  <a:lnTo>
                    <a:pt x="5625" y="1950"/>
                  </a:lnTo>
                  <a:lnTo>
                    <a:pt x="5625" y="1950"/>
                  </a:lnTo>
                  <a:lnTo>
                    <a:pt x="5633" y="1870"/>
                  </a:lnTo>
                  <a:lnTo>
                    <a:pt x="5637" y="1792"/>
                  </a:lnTo>
                  <a:lnTo>
                    <a:pt x="5639" y="1716"/>
                  </a:lnTo>
                  <a:lnTo>
                    <a:pt x="5639" y="1638"/>
                  </a:lnTo>
                  <a:lnTo>
                    <a:pt x="5635" y="1562"/>
                  </a:lnTo>
                  <a:lnTo>
                    <a:pt x="5627" y="1486"/>
                  </a:lnTo>
                  <a:lnTo>
                    <a:pt x="5617" y="1412"/>
                  </a:lnTo>
                  <a:lnTo>
                    <a:pt x="5605" y="1338"/>
                  </a:lnTo>
                  <a:lnTo>
                    <a:pt x="5605" y="1338"/>
                  </a:lnTo>
                  <a:lnTo>
                    <a:pt x="5595" y="1288"/>
                  </a:lnTo>
                  <a:lnTo>
                    <a:pt x="5587" y="1242"/>
                  </a:lnTo>
                  <a:lnTo>
                    <a:pt x="5583" y="1200"/>
                  </a:lnTo>
                  <a:lnTo>
                    <a:pt x="5581" y="1160"/>
                  </a:lnTo>
                  <a:lnTo>
                    <a:pt x="5581" y="1122"/>
                  </a:lnTo>
                  <a:lnTo>
                    <a:pt x="5585" y="1088"/>
                  </a:lnTo>
                  <a:lnTo>
                    <a:pt x="5591" y="1058"/>
                  </a:lnTo>
                  <a:lnTo>
                    <a:pt x="5599" y="1030"/>
                  </a:lnTo>
                  <a:lnTo>
                    <a:pt x="5599" y="1030"/>
                  </a:lnTo>
                  <a:lnTo>
                    <a:pt x="5615" y="996"/>
                  </a:lnTo>
                  <a:lnTo>
                    <a:pt x="5631" y="966"/>
                  </a:lnTo>
                  <a:lnTo>
                    <a:pt x="5649" y="938"/>
                  </a:lnTo>
                  <a:lnTo>
                    <a:pt x="5671" y="916"/>
                  </a:lnTo>
                  <a:lnTo>
                    <a:pt x="5693" y="896"/>
                  </a:lnTo>
                  <a:lnTo>
                    <a:pt x="5719" y="878"/>
                  </a:lnTo>
                  <a:lnTo>
                    <a:pt x="5747" y="864"/>
                  </a:lnTo>
                  <a:lnTo>
                    <a:pt x="5777" y="854"/>
                  </a:lnTo>
                  <a:lnTo>
                    <a:pt x="5809" y="848"/>
                  </a:lnTo>
                  <a:lnTo>
                    <a:pt x="5843" y="844"/>
                  </a:lnTo>
                  <a:lnTo>
                    <a:pt x="5879" y="844"/>
                  </a:lnTo>
                  <a:lnTo>
                    <a:pt x="5917" y="848"/>
                  </a:lnTo>
                  <a:lnTo>
                    <a:pt x="5959" y="854"/>
                  </a:lnTo>
                  <a:lnTo>
                    <a:pt x="6001" y="864"/>
                  </a:lnTo>
                  <a:lnTo>
                    <a:pt x="6047" y="876"/>
                  </a:lnTo>
                  <a:lnTo>
                    <a:pt x="6095" y="894"/>
                  </a:lnTo>
                  <a:lnTo>
                    <a:pt x="6095" y="894"/>
                  </a:lnTo>
                  <a:lnTo>
                    <a:pt x="6147" y="914"/>
                  </a:lnTo>
                  <a:lnTo>
                    <a:pt x="6197" y="938"/>
                  </a:lnTo>
                  <a:lnTo>
                    <a:pt x="6247" y="966"/>
                  </a:lnTo>
                  <a:lnTo>
                    <a:pt x="6297" y="996"/>
                  </a:lnTo>
                  <a:lnTo>
                    <a:pt x="6345" y="1028"/>
                  </a:lnTo>
                  <a:lnTo>
                    <a:pt x="6391" y="1064"/>
                  </a:lnTo>
                  <a:lnTo>
                    <a:pt x="6437" y="1102"/>
                  </a:lnTo>
                  <a:lnTo>
                    <a:pt x="6481" y="1144"/>
                  </a:lnTo>
                  <a:lnTo>
                    <a:pt x="6525" y="1188"/>
                  </a:lnTo>
                  <a:lnTo>
                    <a:pt x="6567" y="1236"/>
                  </a:lnTo>
                  <a:lnTo>
                    <a:pt x="6607" y="1284"/>
                  </a:lnTo>
                  <a:lnTo>
                    <a:pt x="6647" y="1338"/>
                  </a:lnTo>
                  <a:lnTo>
                    <a:pt x="6687" y="1394"/>
                  </a:lnTo>
                  <a:lnTo>
                    <a:pt x="6725" y="1452"/>
                  </a:lnTo>
                  <a:lnTo>
                    <a:pt x="6761" y="1512"/>
                  </a:lnTo>
                  <a:lnTo>
                    <a:pt x="6797" y="1576"/>
                  </a:lnTo>
                  <a:lnTo>
                    <a:pt x="6797" y="1576"/>
                  </a:lnTo>
                  <a:lnTo>
                    <a:pt x="6809" y="1610"/>
                  </a:lnTo>
                  <a:lnTo>
                    <a:pt x="6821" y="1646"/>
                  </a:lnTo>
                  <a:lnTo>
                    <a:pt x="6831" y="1684"/>
                  </a:lnTo>
                  <a:lnTo>
                    <a:pt x="6839" y="1724"/>
                  </a:lnTo>
                  <a:lnTo>
                    <a:pt x="6845" y="1766"/>
                  </a:lnTo>
                  <a:lnTo>
                    <a:pt x="6849" y="1810"/>
                  </a:lnTo>
                  <a:lnTo>
                    <a:pt x="6853" y="1856"/>
                  </a:lnTo>
                  <a:lnTo>
                    <a:pt x="6853" y="1904"/>
                  </a:lnTo>
                  <a:lnTo>
                    <a:pt x="6853" y="1956"/>
                  </a:lnTo>
                  <a:lnTo>
                    <a:pt x="6851" y="2008"/>
                  </a:lnTo>
                  <a:lnTo>
                    <a:pt x="6847" y="2062"/>
                  </a:lnTo>
                  <a:lnTo>
                    <a:pt x="6843" y="2120"/>
                  </a:lnTo>
                  <a:lnTo>
                    <a:pt x="6835" y="2180"/>
                  </a:lnTo>
                  <a:lnTo>
                    <a:pt x="6827" y="2240"/>
                  </a:lnTo>
                  <a:lnTo>
                    <a:pt x="6817" y="2304"/>
                  </a:lnTo>
                  <a:lnTo>
                    <a:pt x="6803" y="2370"/>
                  </a:lnTo>
                  <a:lnTo>
                    <a:pt x="6803" y="2370"/>
                  </a:lnTo>
                  <a:lnTo>
                    <a:pt x="6893" y="2420"/>
                  </a:lnTo>
                  <a:lnTo>
                    <a:pt x="6979" y="2476"/>
                  </a:lnTo>
                  <a:lnTo>
                    <a:pt x="7061" y="2534"/>
                  </a:lnTo>
                  <a:lnTo>
                    <a:pt x="7143" y="2594"/>
                  </a:lnTo>
                  <a:lnTo>
                    <a:pt x="7221" y="2658"/>
                  </a:lnTo>
                  <a:lnTo>
                    <a:pt x="7297" y="2724"/>
                  </a:lnTo>
                  <a:lnTo>
                    <a:pt x="7369" y="2794"/>
                  </a:lnTo>
                  <a:lnTo>
                    <a:pt x="7439" y="2866"/>
                  </a:lnTo>
                  <a:lnTo>
                    <a:pt x="7439" y="2866"/>
                  </a:lnTo>
                  <a:lnTo>
                    <a:pt x="7471" y="2906"/>
                  </a:lnTo>
                  <a:lnTo>
                    <a:pt x="7501" y="2946"/>
                  </a:lnTo>
                  <a:lnTo>
                    <a:pt x="7529" y="2986"/>
                  </a:lnTo>
                  <a:lnTo>
                    <a:pt x="7553" y="3024"/>
                  </a:lnTo>
                  <a:lnTo>
                    <a:pt x="7573" y="3062"/>
                  </a:lnTo>
                  <a:lnTo>
                    <a:pt x="7593" y="3098"/>
                  </a:lnTo>
                  <a:lnTo>
                    <a:pt x="7607" y="3136"/>
                  </a:lnTo>
                  <a:lnTo>
                    <a:pt x="7621" y="3170"/>
                  </a:lnTo>
                  <a:lnTo>
                    <a:pt x="7631" y="3206"/>
                  </a:lnTo>
                  <a:lnTo>
                    <a:pt x="7639" y="3240"/>
                  </a:lnTo>
                  <a:lnTo>
                    <a:pt x="7643" y="3272"/>
                  </a:lnTo>
                  <a:lnTo>
                    <a:pt x="7645" y="3304"/>
                  </a:lnTo>
                  <a:lnTo>
                    <a:pt x="7643" y="3336"/>
                  </a:lnTo>
                  <a:lnTo>
                    <a:pt x="7639" y="3368"/>
                  </a:lnTo>
                  <a:lnTo>
                    <a:pt x="7633" y="3398"/>
                  </a:lnTo>
                  <a:lnTo>
                    <a:pt x="7623" y="3428"/>
                  </a:lnTo>
                  <a:lnTo>
                    <a:pt x="7623" y="3428"/>
                  </a:lnTo>
                  <a:lnTo>
                    <a:pt x="7615" y="3446"/>
                  </a:lnTo>
                  <a:lnTo>
                    <a:pt x="7605" y="3464"/>
                  </a:lnTo>
                  <a:lnTo>
                    <a:pt x="7595" y="3482"/>
                  </a:lnTo>
                  <a:lnTo>
                    <a:pt x="7585" y="3498"/>
                  </a:lnTo>
                  <a:lnTo>
                    <a:pt x="7573" y="3512"/>
                  </a:lnTo>
                  <a:lnTo>
                    <a:pt x="7559" y="3526"/>
                  </a:lnTo>
                  <a:lnTo>
                    <a:pt x="7545" y="3540"/>
                  </a:lnTo>
                  <a:lnTo>
                    <a:pt x="7529" y="3552"/>
                  </a:lnTo>
                  <a:lnTo>
                    <a:pt x="7513" y="3562"/>
                  </a:lnTo>
                  <a:lnTo>
                    <a:pt x="7495" y="3572"/>
                  </a:lnTo>
                  <a:lnTo>
                    <a:pt x="7477" y="3580"/>
                  </a:lnTo>
                  <a:lnTo>
                    <a:pt x="7457" y="3588"/>
                  </a:lnTo>
                  <a:lnTo>
                    <a:pt x="7437" y="3594"/>
                  </a:lnTo>
                  <a:lnTo>
                    <a:pt x="7415" y="3600"/>
                  </a:lnTo>
                  <a:lnTo>
                    <a:pt x="7391" y="3604"/>
                  </a:lnTo>
                  <a:lnTo>
                    <a:pt x="7367" y="3608"/>
                  </a:lnTo>
                  <a:lnTo>
                    <a:pt x="7317" y="3610"/>
                  </a:lnTo>
                  <a:lnTo>
                    <a:pt x="7261" y="3610"/>
                  </a:lnTo>
                  <a:lnTo>
                    <a:pt x="7203" y="3604"/>
                  </a:lnTo>
                  <a:lnTo>
                    <a:pt x="7139" y="3594"/>
                  </a:lnTo>
                  <a:lnTo>
                    <a:pt x="7071" y="3580"/>
                  </a:lnTo>
                  <a:lnTo>
                    <a:pt x="6999" y="3562"/>
                  </a:lnTo>
                  <a:lnTo>
                    <a:pt x="6923" y="3538"/>
                  </a:lnTo>
                  <a:lnTo>
                    <a:pt x="6841" y="3512"/>
                  </a:lnTo>
                  <a:lnTo>
                    <a:pt x="6841" y="3512"/>
                  </a:lnTo>
                  <a:lnTo>
                    <a:pt x="6671" y="3458"/>
                  </a:lnTo>
                  <a:lnTo>
                    <a:pt x="6501" y="3408"/>
                  </a:lnTo>
                  <a:lnTo>
                    <a:pt x="6501" y="3408"/>
                  </a:lnTo>
                  <a:lnTo>
                    <a:pt x="6473" y="3486"/>
                  </a:lnTo>
                  <a:lnTo>
                    <a:pt x="6021" y="4686"/>
                  </a:lnTo>
                  <a:lnTo>
                    <a:pt x="6021" y="4686"/>
                  </a:lnTo>
                  <a:lnTo>
                    <a:pt x="6099" y="4736"/>
                  </a:lnTo>
                  <a:lnTo>
                    <a:pt x="6173" y="4788"/>
                  </a:lnTo>
                  <a:lnTo>
                    <a:pt x="6243" y="4842"/>
                  </a:lnTo>
                  <a:lnTo>
                    <a:pt x="6309" y="4898"/>
                  </a:lnTo>
                  <a:lnTo>
                    <a:pt x="6373" y="4954"/>
                  </a:lnTo>
                  <a:lnTo>
                    <a:pt x="6431" y="5012"/>
                  </a:lnTo>
                  <a:lnTo>
                    <a:pt x="6487" y="5070"/>
                  </a:lnTo>
                  <a:lnTo>
                    <a:pt x="6539" y="5130"/>
                  </a:lnTo>
                  <a:lnTo>
                    <a:pt x="6539" y="5130"/>
                  </a:lnTo>
                  <a:lnTo>
                    <a:pt x="6583" y="5184"/>
                  </a:lnTo>
                  <a:lnTo>
                    <a:pt x="6625" y="5238"/>
                  </a:lnTo>
                  <a:lnTo>
                    <a:pt x="6663" y="5288"/>
                  </a:lnTo>
                  <a:lnTo>
                    <a:pt x="6697" y="5341"/>
                  </a:lnTo>
                  <a:lnTo>
                    <a:pt x="6727" y="5389"/>
                  </a:lnTo>
                  <a:lnTo>
                    <a:pt x="6753" y="5435"/>
                  </a:lnTo>
                  <a:lnTo>
                    <a:pt x="6775" y="5481"/>
                  </a:lnTo>
                  <a:lnTo>
                    <a:pt x="6795" y="5527"/>
                  </a:lnTo>
                  <a:lnTo>
                    <a:pt x="6811" y="5569"/>
                  </a:lnTo>
                  <a:lnTo>
                    <a:pt x="6823" y="5611"/>
                  </a:lnTo>
                  <a:lnTo>
                    <a:pt x="6831" y="5651"/>
                  </a:lnTo>
                  <a:lnTo>
                    <a:pt x="6835" y="5691"/>
                  </a:lnTo>
                  <a:lnTo>
                    <a:pt x="6835" y="5727"/>
                  </a:lnTo>
                  <a:lnTo>
                    <a:pt x="6833" y="5763"/>
                  </a:lnTo>
                  <a:lnTo>
                    <a:pt x="6825" y="5799"/>
                  </a:lnTo>
                  <a:lnTo>
                    <a:pt x="6815" y="5831"/>
                  </a:lnTo>
                  <a:lnTo>
                    <a:pt x="6815" y="5831"/>
                  </a:lnTo>
                  <a:lnTo>
                    <a:pt x="6797" y="5875"/>
                  </a:lnTo>
                  <a:lnTo>
                    <a:pt x="6777" y="5915"/>
                  </a:lnTo>
                  <a:lnTo>
                    <a:pt x="6755" y="5949"/>
                  </a:lnTo>
                  <a:lnTo>
                    <a:pt x="6731" y="5981"/>
                  </a:lnTo>
                  <a:lnTo>
                    <a:pt x="6705" y="6007"/>
                  </a:lnTo>
                  <a:lnTo>
                    <a:pt x="6677" y="6031"/>
                  </a:lnTo>
                  <a:lnTo>
                    <a:pt x="6647" y="6051"/>
                  </a:lnTo>
                  <a:lnTo>
                    <a:pt x="6617" y="6065"/>
                  </a:lnTo>
                  <a:lnTo>
                    <a:pt x="6583" y="6077"/>
                  </a:lnTo>
                  <a:lnTo>
                    <a:pt x="6547" y="6085"/>
                  </a:lnTo>
                  <a:lnTo>
                    <a:pt x="6509" y="6087"/>
                  </a:lnTo>
                  <a:lnTo>
                    <a:pt x="6469" y="6087"/>
                  </a:lnTo>
                  <a:lnTo>
                    <a:pt x="6427" y="6083"/>
                  </a:lnTo>
                  <a:lnTo>
                    <a:pt x="6385" y="6075"/>
                  </a:lnTo>
                  <a:lnTo>
                    <a:pt x="6339" y="6063"/>
                  </a:lnTo>
                  <a:lnTo>
                    <a:pt x="6291" y="6045"/>
                  </a:lnTo>
                  <a:lnTo>
                    <a:pt x="6291" y="6045"/>
                  </a:lnTo>
                  <a:lnTo>
                    <a:pt x="6213" y="6015"/>
                  </a:lnTo>
                  <a:lnTo>
                    <a:pt x="6133" y="5983"/>
                  </a:lnTo>
                  <a:lnTo>
                    <a:pt x="6053" y="5949"/>
                  </a:lnTo>
                  <a:lnTo>
                    <a:pt x="5973" y="5911"/>
                  </a:lnTo>
                  <a:lnTo>
                    <a:pt x="5891" y="5873"/>
                  </a:lnTo>
                  <a:lnTo>
                    <a:pt x="5807" y="5833"/>
                  </a:lnTo>
                  <a:lnTo>
                    <a:pt x="5723" y="5789"/>
                  </a:lnTo>
                  <a:lnTo>
                    <a:pt x="5639" y="5745"/>
                  </a:lnTo>
                  <a:lnTo>
                    <a:pt x="5639" y="5745"/>
                  </a:lnTo>
                  <a:lnTo>
                    <a:pt x="5633" y="5739"/>
                  </a:lnTo>
                  <a:lnTo>
                    <a:pt x="5627" y="5731"/>
                  </a:lnTo>
                  <a:lnTo>
                    <a:pt x="5247" y="6741"/>
                  </a:lnTo>
                  <a:lnTo>
                    <a:pt x="5247" y="6741"/>
                  </a:lnTo>
                  <a:lnTo>
                    <a:pt x="5225" y="6801"/>
                  </a:lnTo>
                  <a:lnTo>
                    <a:pt x="5201" y="6859"/>
                  </a:lnTo>
                  <a:lnTo>
                    <a:pt x="5177" y="6913"/>
                  </a:lnTo>
                  <a:lnTo>
                    <a:pt x="5153" y="6967"/>
                  </a:lnTo>
                  <a:lnTo>
                    <a:pt x="5127" y="7017"/>
                  </a:lnTo>
                  <a:lnTo>
                    <a:pt x="5103" y="7065"/>
                  </a:lnTo>
                  <a:lnTo>
                    <a:pt x="5077" y="7111"/>
                  </a:lnTo>
                  <a:lnTo>
                    <a:pt x="5051" y="7153"/>
                  </a:lnTo>
                  <a:lnTo>
                    <a:pt x="5025" y="7195"/>
                  </a:lnTo>
                  <a:lnTo>
                    <a:pt x="4997" y="7233"/>
                  </a:lnTo>
                  <a:lnTo>
                    <a:pt x="4971" y="7271"/>
                  </a:lnTo>
                  <a:lnTo>
                    <a:pt x="4943" y="7305"/>
                  </a:lnTo>
                  <a:lnTo>
                    <a:pt x="4915" y="7335"/>
                  </a:lnTo>
                  <a:lnTo>
                    <a:pt x="4887" y="7365"/>
                  </a:lnTo>
                  <a:lnTo>
                    <a:pt x="4857" y="7393"/>
                  </a:lnTo>
                  <a:lnTo>
                    <a:pt x="4827" y="7417"/>
                  </a:lnTo>
                  <a:lnTo>
                    <a:pt x="4799" y="7439"/>
                  </a:lnTo>
                  <a:lnTo>
                    <a:pt x="4767" y="7459"/>
                  </a:lnTo>
                  <a:lnTo>
                    <a:pt x="4737" y="7477"/>
                  </a:lnTo>
                  <a:lnTo>
                    <a:pt x="4707" y="7493"/>
                  </a:lnTo>
                  <a:lnTo>
                    <a:pt x="4675" y="7507"/>
                  </a:lnTo>
                  <a:lnTo>
                    <a:pt x="4643" y="7517"/>
                  </a:lnTo>
                  <a:lnTo>
                    <a:pt x="4611" y="7525"/>
                  </a:lnTo>
                  <a:lnTo>
                    <a:pt x="4579" y="7531"/>
                  </a:lnTo>
                  <a:lnTo>
                    <a:pt x="4545" y="7535"/>
                  </a:lnTo>
                  <a:lnTo>
                    <a:pt x="4511" y="7537"/>
                  </a:lnTo>
                  <a:lnTo>
                    <a:pt x="4477" y="7537"/>
                  </a:lnTo>
                  <a:lnTo>
                    <a:pt x="4443" y="7533"/>
                  </a:lnTo>
                  <a:lnTo>
                    <a:pt x="4409" y="7527"/>
                  </a:lnTo>
                  <a:lnTo>
                    <a:pt x="4373" y="7521"/>
                  </a:lnTo>
                  <a:lnTo>
                    <a:pt x="4339" y="7509"/>
                  </a:lnTo>
                  <a:lnTo>
                    <a:pt x="4303" y="7497"/>
                  </a:lnTo>
                  <a:lnTo>
                    <a:pt x="4303" y="7497"/>
                  </a:lnTo>
                  <a:lnTo>
                    <a:pt x="4269" y="7485"/>
                  </a:lnTo>
                  <a:lnTo>
                    <a:pt x="4235" y="7469"/>
                  </a:lnTo>
                  <a:lnTo>
                    <a:pt x="4201" y="7453"/>
                  </a:lnTo>
                  <a:lnTo>
                    <a:pt x="4167" y="7433"/>
                  </a:lnTo>
                  <a:lnTo>
                    <a:pt x="4131" y="7413"/>
                  </a:lnTo>
                  <a:lnTo>
                    <a:pt x="4095" y="7391"/>
                  </a:lnTo>
                  <a:lnTo>
                    <a:pt x="4021" y="7341"/>
                  </a:lnTo>
                  <a:lnTo>
                    <a:pt x="3945" y="7283"/>
                  </a:lnTo>
                  <a:lnTo>
                    <a:pt x="3865" y="7217"/>
                  </a:lnTo>
                  <a:lnTo>
                    <a:pt x="3782" y="7145"/>
                  </a:lnTo>
                  <a:lnTo>
                    <a:pt x="3698" y="7065"/>
                  </a:lnTo>
                  <a:lnTo>
                    <a:pt x="3612" y="6977"/>
                  </a:lnTo>
                  <a:lnTo>
                    <a:pt x="3522" y="6883"/>
                  </a:lnTo>
                  <a:lnTo>
                    <a:pt x="3430" y="6781"/>
                  </a:lnTo>
                  <a:lnTo>
                    <a:pt x="3336" y="6671"/>
                  </a:lnTo>
                  <a:lnTo>
                    <a:pt x="3240" y="6555"/>
                  </a:lnTo>
                  <a:lnTo>
                    <a:pt x="3140" y="6431"/>
                  </a:lnTo>
                  <a:lnTo>
                    <a:pt x="3038" y="6299"/>
                  </a:lnTo>
                  <a:lnTo>
                    <a:pt x="2934" y="6161"/>
                  </a:lnTo>
                  <a:lnTo>
                    <a:pt x="2934" y="6161"/>
                  </a:lnTo>
                  <a:lnTo>
                    <a:pt x="2842" y="6043"/>
                  </a:lnTo>
                  <a:lnTo>
                    <a:pt x="2756" y="5931"/>
                  </a:lnTo>
                  <a:lnTo>
                    <a:pt x="2678" y="5823"/>
                  </a:lnTo>
                  <a:lnTo>
                    <a:pt x="2606" y="5723"/>
                  </a:lnTo>
                  <a:lnTo>
                    <a:pt x="2540" y="5629"/>
                  </a:lnTo>
                  <a:lnTo>
                    <a:pt x="2480" y="5541"/>
                  </a:lnTo>
                  <a:lnTo>
                    <a:pt x="2428" y="5459"/>
                  </a:lnTo>
                  <a:lnTo>
                    <a:pt x="2382" y="5383"/>
                  </a:lnTo>
                  <a:lnTo>
                    <a:pt x="2342" y="5313"/>
                  </a:lnTo>
                  <a:lnTo>
                    <a:pt x="2308" y="5248"/>
                  </a:lnTo>
                  <a:lnTo>
                    <a:pt x="2282" y="5190"/>
                  </a:lnTo>
                  <a:lnTo>
                    <a:pt x="2262" y="5138"/>
                  </a:lnTo>
                  <a:lnTo>
                    <a:pt x="2248" y="5092"/>
                  </a:lnTo>
                  <a:lnTo>
                    <a:pt x="2244" y="5072"/>
                  </a:lnTo>
                  <a:lnTo>
                    <a:pt x="2240" y="5052"/>
                  </a:lnTo>
                  <a:lnTo>
                    <a:pt x="2240" y="5034"/>
                  </a:lnTo>
                  <a:lnTo>
                    <a:pt x="2240" y="5018"/>
                  </a:lnTo>
                  <a:lnTo>
                    <a:pt x="2242" y="5004"/>
                  </a:lnTo>
                  <a:lnTo>
                    <a:pt x="2246" y="4990"/>
                  </a:lnTo>
                  <a:lnTo>
                    <a:pt x="2246" y="4990"/>
                  </a:lnTo>
                  <a:lnTo>
                    <a:pt x="2252" y="4978"/>
                  </a:lnTo>
                  <a:lnTo>
                    <a:pt x="2260" y="4966"/>
                  </a:lnTo>
                  <a:lnTo>
                    <a:pt x="2268" y="4958"/>
                  </a:lnTo>
                  <a:lnTo>
                    <a:pt x="2276" y="4954"/>
                  </a:lnTo>
                  <a:lnTo>
                    <a:pt x="2286" y="4950"/>
                  </a:lnTo>
                  <a:lnTo>
                    <a:pt x="2298" y="4950"/>
                  </a:lnTo>
                  <a:lnTo>
                    <a:pt x="2310" y="4952"/>
                  </a:lnTo>
                  <a:lnTo>
                    <a:pt x="2324" y="4956"/>
                  </a:lnTo>
                  <a:lnTo>
                    <a:pt x="2324" y="4956"/>
                  </a:lnTo>
                  <a:lnTo>
                    <a:pt x="2346" y="4966"/>
                  </a:lnTo>
                  <a:lnTo>
                    <a:pt x="2376" y="4986"/>
                  </a:lnTo>
                  <a:lnTo>
                    <a:pt x="2416" y="5016"/>
                  </a:lnTo>
                  <a:lnTo>
                    <a:pt x="2464" y="5056"/>
                  </a:lnTo>
                  <a:lnTo>
                    <a:pt x="2464" y="5056"/>
                  </a:lnTo>
                  <a:lnTo>
                    <a:pt x="2772" y="5280"/>
                  </a:lnTo>
                  <a:lnTo>
                    <a:pt x="3046" y="5477"/>
                  </a:lnTo>
                  <a:lnTo>
                    <a:pt x="3282" y="5645"/>
                  </a:lnTo>
                  <a:lnTo>
                    <a:pt x="3482" y="5785"/>
                  </a:lnTo>
                  <a:lnTo>
                    <a:pt x="3646" y="5897"/>
                  </a:lnTo>
                  <a:lnTo>
                    <a:pt x="3774" y="5981"/>
                  </a:lnTo>
                  <a:lnTo>
                    <a:pt x="3827" y="6013"/>
                  </a:lnTo>
                  <a:lnTo>
                    <a:pt x="3867" y="6037"/>
                  </a:lnTo>
                  <a:lnTo>
                    <a:pt x="3899" y="6055"/>
                  </a:lnTo>
                  <a:lnTo>
                    <a:pt x="3923" y="6065"/>
                  </a:lnTo>
                  <a:lnTo>
                    <a:pt x="3923" y="6065"/>
                  </a:lnTo>
                  <a:lnTo>
                    <a:pt x="3947" y="6073"/>
                  </a:lnTo>
                  <a:lnTo>
                    <a:pt x="3971" y="6079"/>
                  </a:lnTo>
                  <a:lnTo>
                    <a:pt x="3993" y="6081"/>
                  </a:lnTo>
                  <a:lnTo>
                    <a:pt x="4015" y="6081"/>
                  </a:lnTo>
                  <a:lnTo>
                    <a:pt x="4037" y="6077"/>
                  </a:lnTo>
                  <a:lnTo>
                    <a:pt x="4057" y="6071"/>
                  </a:lnTo>
                  <a:lnTo>
                    <a:pt x="4077" y="6063"/>
                  </a:lnTo>
                  <a:lnTo>
                    <a:pt x="4097" y="6053"/>
                  </a:lnTo>
                  <a:lnTo>
                    <a:pt x="4115" y="6039"/>
                  </a:lnTo>
                  <a:lnTo>
                    <a:pt x="4133" y="6021"/>
                  </a:lnTo>
                  <a:lnTo>
                    <a:pt x="4149" y="6003"/>
                  </a:lnTo>
                  <a:lnTo>
                    <a:pt x="4167" y="5979"/>
                  </a:lnTo>
                  <a:lnTo>
                    <a:pt x="4181" y="5955"/>
                  </a:lnTo>
                  <a:lnTo>
                    <a:pt x="4197" y="5927"/>
                  </a:lnTo>
                  <a:lnTo>
                    <a:pt x="4211" y="5897"/>
                  </a:lnTo>
                  <a:lnTo>
                    <a:pt x="4223" y="5865"/>
                  </a:lnTo>
                  <a:lnTo>
                    <a:pt x="4453" y="5256"/>
                  </a:lnTo>
                  <a:lnTo>
                    <a:pt x="4453" y="5256"/>
                  </a:lnTo>
                  <a:lnTo>
                    <a:pt x="4335" y="5216"/>
                  </a:lnTo>
                  <a:lnTo>
                    <a:pt x="4217" y="5176"/>
                  </a:lnTo>
                  <a:lnTo>
                    <a:pt x="4097" y="5138"/>
                  </a:lnTo>
                  <a:lnTo>
                    <a:pt x="3975" y="5100"/>
                  </a:lnTo>
                  <a:lnTo>
                    <a:pt x="3851" y="5064"/>
                  </a:lnTo>
                  <a:lnTo>
                    <a:pt x="3726" y="5028"/>
                  </a:lnTo>
                  <a:lnTo>
                    <a:pt x="3602" y="4994"/>
                  </a:lnTo>
                  <a:lnTo>
                    <a:pt x="3474" y="4960"/>
                  </a:lnTo>
                  <a:lnTo>
                    <a:pt x="3346" y="4928"/>
                  </a:lnTo>
                  <a:lnTo>
                    <a:pt x="3216" y="4898"/>
                  </a:lnTo>
                  <a:lnTo>
                    <a:pt x="3086" y="4866"/>
                  </a:lnTo>
                  <a:lnTo>
                    <a:pt x="2952" y="4838"/>
                  </a:lnTo>
                  <a:lnTo>
                    <a:pt x="2818" y="4808"/>
                  </a:lnTo>
                  <a:lnTo>
                    <a:pt x="2684" y="4782"/>
                  </a:lnTo>
                  <a:lnTo>
                    <a:pt x="2548" y="4754"/>
                  </a:lnTo>
                  <a:lnTo>
                    <a:pt x="2410" y="4730"/>
                  </a:lnTo>
                  <a:lnTo>
                    <a:pt x="2410" y="4730"/>
                  </a:lnTo>
                  <a:lnTo>
                    <a:pt x="2342" y="4836"/>
                  </a:lnTo>
                  <a:lnTo>
                    <a:pt x="2278" y="4936"/>
                  </a:lnTo>
                  <a:lnTo>
                    <a:pt x="2212" y="5034"/>
                  </a:lnTo>
                  <a:lnTo>
                    <a:pt x="2150" y="5128"/>
                  </a:lnTo>
                  <a:lnTo>
                    <a:pt x="2086" y="5218"/>
                  </a:lnTo>
                  <a:lnTo>
                    <a:pt x="2024" y="5305"/>
                  </a:lnTo>
                  <a:lnTo>
                    <a:pt x="1964" y="5385"/>
                  </a:lnTo>
                  <a:lnTo>
                    <a:pt x="1904" y="5463"/>
                  </a:lnTo>
                  <a:lnTo>
                    <a:pt x="1844" y="5537"/>
                  </a:lnTo>
                  <a:lnTo>
                    <a:pt x="1786" y="5605"/>
                  </a:lnTo>
                  <a:lnTo>
                    <a:pt x="1728" y="5671"/>
                  </a:lnTo>
                  <a:lnTo>
                    <a:pt x="1672" y="5731"/>
                  </a:lnTo>
                  <a:lnTo>
                    <a:pt x="1618" y="5789"/>
                  </a:lnTo>
                  <a:lnTo>
                    <a:pt x="1562" y="5841"/>
                  </a:lnTo>
                  <a:lnTo>
                    <a:pt x="1508" y="5891"/>
                  </a:lnTo>
                  <a:lnTo>
                    <a:pt x="1456" y="5935"/>
                  </a:lnTo>
                  <a:lnTo>
                    <a:pt x="1456" y="5935"/>
                  </a:lnTo>
                  <a:lnTo>
                    <a:pt x="1406" y="5979"/>
                  </a:lnTo>
                  <a:lnTo>
                    <a:pt x="1356" y="6021"/>
                  </a:lnTo>
                  <a:lnTo>
                    <a:pt x="1304" y="6055"/>
                  </a:lnTo>
                  <a:lnTo>
                    <a:pt x="1252" y="6087"/>
                  </a:lnTo>
                  <a:lnTo>
                    <a:pt x="1198" y="6115"/>
                  </a:lnTo>
                  <a:lnTo>
                    <a:pt x="1142" y="6137"/>
                  </a:lnTo>
                  <a:lnTo>
                    <a:pt x="1086" y="6155"/>
                  </a:lnTo>
                  <a:lnTo>
                    <a:pt x="1030" y="6167"/>
                  </a:lnTo>
                  <a:lnTo>
                    <a:pt x="972" y="6177"/>
                  </a:lnTo>
                  <a:lnTo>
                    <a:pt x="912" y="6181"/>
                  </a:lnTo>
                  <a:lnTo>
                    <a:pt x="852" y="6181"/>
                  </a:lnTo>
                  <a:lnTo>
                    <a:pt x="792" y="6175"/>
                  </a:lnTo>
                  <a:lnTo>
                    <a:pt x="728" y="6167"/>
                  </a:lnTo>
                  <a:lnTo>
                    <a:pt x="666" y="6153"/>
                  </a:lnTo>
                  <a:lnTo>
                    <a:pt x="600" y="6135"/>
                  </a:lnTo>
                  <a:lnTo>
                    <a:pt x="534" y="6113"/>
                  </a:lnTo>
                  <a:lnTo>
                    <a:pt x="534" y="6113"/>
                  </a:lnTo>
                  <a:lnTo>
                    <a:pt x="466" y="6085"/>
                  </a:lnTo>
                  <a:lnTo>
                    <a:pt x="400" y="6055"/>
                  </a:lnTo>
                  <a:lnTo>
                    <a:pt x="340" y="6023"/>
                  </a:lnTo>
                  <a:lnTo>
                    <a:pt x="282" y="5989"/>
                  </a:lnTo>
                  <a:lnTo>
                    <a:pt x="226" y="5953"/>
                  </a:lnTo>
                  <a:lnTo>
                    <a:pt x="176" y="5913"/>
                  </a:lnTo>
                  <a:lnTo>
                    <a:pt x="128" y="5873"/>
                  </a:lnTo>
                  <a:lnTo>
                    <a:pt x="86" y="5831"/>
                  </a:lnTo>
                  <a:lnTo>
                    <a:pt x="86" y="5831"/>
                  </a:lnTo>
                  <a:lnTo>
                    <a:pt x="58" y="5799"/>
                  </a:lnTo>
                  <a:lnTo>
                    <a:pt x="34" y="5767"/>
                  </a:lnTo>
                  <a:lnTo>
                    <a:pt x="26" y="5751"/>
                  </a:lnTo>
                  <a:lnTo>
                    <a:pt x="18" y="5735"/>
                  </a:lnTo>
                  <a:lnTo>
                    <a:pt x="12" y="5717"/>
                  </a:lnTo>
                  <a:lnTo>
                    <a:pt x="6" y="5701"/>
                  </a:lnTo>
                  <a:lnTo>
                    <a:pt x="2" y="5685"/>
                  </a:lnTo>
                  <a:lnTo>
                    <a:pt x="0" y="5669"/>
                  </a:lnTo>
                  <a:lnTo>
                    <a:pt x="0" y="5653"/>
                  </a:lnTo>
                  <a:lnTo>
                    <a:pt x="0" y="5637"/>
                  </a:lnTo>
                  <a:lnTo>
                    <a:pt x="0" y="5619"/>
                  </a:lnTo>
                  <a:lnTo>
                    <a:pt x="4" y="5603"/>
                  </a:lnTo>
                  <a:lnTo>
                    <a:pt x="8" y="5587"/>
                  </a:lnTo>
                  <a:lnTo>
                    <a:pt x="14" y="5569"/>
                  </a:lnTo>
                  <a:lnTo>
                    <a:pt x="14" y="5569"/>
                  </a:lnTo>
                  <a:lnTo>
                    <a:pt x="30" y="5533"/>
                  </a:lnTo>
                  <a:lnTo>
                    <a:pt x="50" y="5499"/>
                  </a:lnTo>
                  <a:lnTo>
                    <a:pt x="74" y="5465"/>
                  </a:lnTo>
                  <a:lnTo>
                    <a:pt x="102" y="5433"/>
                  </a:lnTo>
                  <a:lnTo>
                    <a:pt x="134" y="5403"/>
                  </a:lnTo>
                  <a:lnTo>
                    <a:pt x="170" y="5375"/>
                  </a:lnTo>
                  <a:lnTo>
                    <a:pt x="208" y="5347"/>
                  </a:lnTo>
                  <a:lnTo>
                    <a:pt x="252" y="5321"/>
                  </a:lnTo>
                  <a:lnTo>
                    <a:pt x="252" y="5321"/>
                  </a:lnTo>
                  <a:lnTo>
                    <a:pt x="318" y="5284"/>
                  </a:lnTo>
                  <a:lnTo>
                    <a:pt x="384" y="5244"/>
                  </a:lnTo>
                  <a:lnTo>
                    <a:pt x="448" y="5202"/>
                  </a:lnTo>
                  <a:lnTo>
                    <a:pt x="512" y="5160"/>
                  </a:lnTo>
                  <a:lnTo>
                    <a:pt x="576" y="5114"/>
                  </a:lnTo>
                  <a:lnTo>
                    <a:pt x="638" y="5066"/>
                  </a:lnTo>
                  <a:lnTo>
                    <a:pt x="702" y="5014"/>
                  </a:lnTo>
                  <a:lnTo>
                    <a:pt x="764" y="4962"/>
                  </a:lnTo>
                  <a:lnTo>
                    <a:pt x="826" y="4908"/>
                  </a:lnTo>
                  <a:lnTo>
                    <a:pt x="886" y="4850"/>
                  </a:lnTo>
                  <a:lnTo>
                    <a:pt x="948" y="4790"/>
                  </a:lnTo>
                  <a:lnTo>
                    <a:pt x="1008" y="4730"/>
                  </a:lnTo>
                  <a:lnTo>
                    <a:pt x="1068" y="4666"/>
                  </a:lnTo>
                  <a:lnTo>
                    <a:pt x="1128" y="4600"/>
                  </a:lnTo>
                  <a:lnTo>
                    <a:pt x="1186" y="4530"/>
                  </a:lnTo>
                  <a:lnTo>
                    <a:pt x="1244" y="4460"/>
                  </a:lnTo>
                  <a:lnTo>
                    <a:pt x="1244" y="4460"/>
                  </a:lnTo>
                  <a:lnTo>
                    <a:pt x="1124" y="4410"/>
                  </a:lnTo>
                  <a:lnTo>
                    <a:pt x="1066" y="4384"/>
                  </a:lnTo>
                  <a:lnTo>
                    <a:pt x="1010" y="4358"/>
                  </a:lnTo>
                  <a:lnTo>
                    <a:pt x="958" y="4332"/>
                  </a:lnTo>
                  <a:lnTo>
                    <a:pt x="908" y="4306"/>
                  </a:lnTo>
                  <a:lnTo>
                    <a:pt x="860" y="4278"/>
                  </a:lnTo>
                  <a:lnTo>
                    <a:pt x="814" y="4252"/>
                  </a:lnTo>
                  <a:lnTo>
                    <a:pt x="770" y="4224"/>
                  </a:lnTo>
                  <a:lnTo>
                    <a:pt x="730" y="4196"/>
                  </a:lnTo>
                  <a:lnTo>
                    <a:pt x="690" y="4168"/>
                  </a:lnTo>
                  <a:lnTo>
                    <a:pt x="654" y="4140"/>
                  </a:lnTo>
                  <a:lnTo>
                    <a:pt x="620" y="4110"/>
                  </a:lnTo>
                  <a:lnTo>
                    <a:pt x="588" y="4082"/>
                  </a:lnTo>
                  <a:lnTo>
                    <a:pt x="558" y="4052"/>
                  </a:lnTo>
                  <a:lnTo>
                    <a:pt x="532" y="4022"/>
                  </a:lnTo>
                  <a:lnTo>
                    <a:pt x="532" y="4022"/>
                  </a:lnTo>
                  <a:lnTo>
                    <a:pt x="494" y="3966"/>
                  </a:lnTo>
                  <a:lnTo>
                    <a:pt x="464" y="3914"/>
                  </a:lnTo>
                  <a:lnTo>
                    <a:pt x="438" y="3866"/>
                  </a:lnTo>
                  <a:lnTo>
                    <a:pt x="418" y="3824"/>
                  </a:lnTo>
                  <a:lnTo>
                    <a:pt x="406" y="3786"/>
                  </a:lnTo>
                  <a:lnTo>
                    <a:pt x="402" y="3768"/>
                  </a:lnTo>
                  <a:lnTo>
                    <a:pt x="398" y="3752"/>
                  </a:lnTo>
                  <a:lnTo>
                    <a:pt x="398" y="3738"/>
                  </a:lnTo>
                  <a:lnTo>
                    <a:pt x="398" y="3724"/>
                  </a:lnTo>
                  <a:lnTo>
                    <a:pt x="400" y="3712"/>
                  </a:lnTo>
                  <a:lnTo>
                    <a:pt x="402" y="3700"/>
                  </a:lnTo>
                  <a:lnTo>
                    <a:pt x="402" y="3700"/>
                  </a:lnTo>
                  <a:lnTo>
                    <a:pt x="412" y="3676"/>
                  </a:lnTo>
                  <a:lnTo>
                    <a:pt x="424" y="3654"/>
                  </a:lnTo>
                  <a:lnTo>
                    <a:pt x="438" y="3632"/>
                  </a:lnTo>
                  <a:lnTo>
                    <a:pt x="452" y="3610"/>
                  </a:lnTo>
                  <a:lnTo>
                    <a:pt x="468" y="3590"/>
                  </a:lnTo>
                  <a:lnTo>
                    <a:pt x="486" y="3572"/>
                  </a:lnTo>
                  <a:lnTo>
                    <a:pt x="506" y="3556"/>
                  </a:lnTo>
                  <a:lnTo>
                    <a:pt x="526" y="3538"/>
                  </a:lnTo>
                  <a:lnTo>
                    <a:pt x="548" y="3524"/>
                  </a:lnTo>
                  <a:lnTo>
                    <a:pt x="572" y="3510"/>
                  </a:lnTo>
                  <a:lnTo>
                    <a:pt x="598" y="3498"/>
                  </a:lnTo>
                  <a:lnTo>
                    <a:pt x="624" y="3486"/>
                  </a:lnTo>
                  <a:lnTo>
                    <a:pt x="652" y="3476"/>
                  </a:lnTo>
                  <a:lnTo>
                    <a:pt x="682" y="3466"/>
                  </a:lnTo>
                  <a:lnTo>
                    <a:pt x="714" y="3458"/>
                  </a:lnTo>
                  <a:lnTo>
                    <a:pt x="746" y="3450"/>
                  </a:lnTo>
                  <a:lnTo>
                    <a:pt x="746" y="3450"/>
                  </a:lnTo>
                  <a:lnTo>
                    <a:pt x="822" y="3442"/>
                  </a:lnTo>
                  <a:lnTo>
                    <a:pt x="896" y="3436"/>
                  </a:lnTo>
                  <a:lnTo>
                    <a:pt x="964" y="3434"/>
                  </a:lnTo>
                  <a:lnTo>
                    <a:pt x="1028" y="3436"/>
                  </a:lnTo>
                  <a:lnTo>
                    <a:pt x="1088" y="3440"/>
                  </a:lnTo>
                  <a:lnTo>
                    <a:pt x="1144" y="3450"/>
                  </a:lnTo>
                  <a:lnTo>
                    <a:pt x="1196" y="3462"/>
                  </a:lnTo>
                  <a:lnTo>
                    <a:pt x="1244" y="3476"/>
                  </a:lnTo>
                  <a:lnTo>
                    <a:pt x="1244" y="3476"/>
                  </a:lnTo>
                  <a:lnTo>
                    <a:pt x="1256" y="3482"/>
                  </a:lnTo>
                  <a:lnTo>
                    <a:pt x="1272" y="3492"/>
                  </a:lnTo>
                  <a:lnTo>
                    <a:pt x="1316" y="3520"/>
                  </a:lnTo>
                  <a:lnTo>
                    <a:pt x="1316" y="3520"/>
                  </a:lnTo>
                  <a:lnTo>
                    <a:pt x="1346" y="3538"/>
                  </a:lnTo>
                  <a:lnTo>
                    <a:pt x="1372" y="3554"/>
                  </a:lnTo>
                  <a:lnTo>
                    <a:pt x="1400" y="3566"/>
                  </a:lnTo>
                  <a:lnTo>
                    <a:pt x="1424" y="3576"/>
                  </a:lnTo>
                  <a:lnTo>
                    <a:pt x="1424" y="3576"/>
                  </a:lnTo>
                  <a:lnTo>
                    <a:pt x="1454" y="3586"/>
                  </a:lnTo>
                  <a:lnTo>
                    <a:pt x="1488" y="3596"/>
                  </a:lnTo>
                  <a:lnTo>
                    <a:pt x="1526" y="3606"/>
                  </a:lnTo>
                  <a:lnTo>
                    <a:pt x="1570" y="3616"/>
                  </a:lnTo>
                  <a:lnTo>
                    <a:pt x="1674" y="3634"/>
                  </a:lnTo>
                  <a:lnTo>
                    <a:pt x="1798" y="3654"/>
                  </a:lnTo>
                  <a:lnTo>
                    <a:pt x="1798" y="3654"/>
                  </a:lnTo>
                  <a:lnTo>
                    <a:pt x="1870" y="3520"/>
                  </a:lnTo>
                  <a:lnTo>
                    <a:pt x="1940" y="3384"/>
                  </a:lnTo>
                  <a:lnTo>
                    <a:pt x="2010" y="3244"/>
                  </a:lnTo>
                  <a:lnTo>
                    <a:pt x="2082" y="3100"/>
                  </a:lnTo>
                  <a:lnTo>
                    <a:pt x="2150" y="2952"/>
                  </a:lnTo>
                  <a:lnTo>
                    <a:pt x="2220" y="2802"/>
                  </a:lnTo>
                  <a:lnTo>
                    <a:pt x="2290" y="2646"/>
                  </a:lnTo>
                  <a:lnTo>
                    <a:pt x="2358" y="2486"/>
                  </a:lnTo>
                  <a:lnTo>
                    <a:pt x="2358" y="2486"/>
                  </a:lnTo>
                  <a:lnTo>
                    <a:pt x="2316" y="2470"/>
                  </a:lnTo>
                  <a:lnTo>
                    <a:pt x="2316" y="2470"/>
                  </a:lnTo>
                  <a:lnTo>
                    <a:pt x="2246" y="2444"/>
                  </a:lnTo>
                  <a:lnTo>
                    <a:pt x="2180" y="2416"/>
                  </a:lnTo>
                  <a:lnTo>
                    <a:pt x="2116" y="2388"/>
                  </a:lnTo>
                  <a:lnTo>
                    <a:pt x="2054" y="2360"/>
                  </a:lnTo>
                  <a:lnTo>
                    <a:pt x="1994" y="2330"/>
                  </a:lnTo>
                  <a:lnTo>
                    <a:pt x="1936" y="2300"/>
                  </a:lnTo>
                  <a:lnTo>
                    <a:pt x="1882" y="2270"/>
                  </a:lnTo>
                  <a:lnTo>
                    <a:pt x="1828" y="2240"/>
                  </a:lnTo>
                  <a:lnTo>
                    <a:pt x="1778" y="2208"/>
                  </a:lnTo>
                  <a:lnTo>
                    <a:pt x="1730" y="2178"/>
                  </a:lnTo>
                  <a:lnTo>
                    <a:pt x="1686" y="2144"/>
                  </a:lnTo>
                  <a:lnTo>
                    <a:pt x="1642" y="2112"/>
                  </a:lnTo>
                  <a:lnTo>
                    <a:pt x="1602" y="2078"/>
                  </a:lnTo>
                  <a:lnTo>
                    <a:pt x="1564" y="2044"/>
                  </a:lnTo>
                  <a:lnTo>
                    <a:pt x="1528" y="2010"/>
                  </a:lnTo>
                  <a:lnTo>
                    <a:pt x="1496" y="1976"/>
                  </a:lnTo>
                  <a:lnTo>
                    <a:pt x="1496" y="1976"/>
                  </a:lnTo>
                  <a:lnTo>
                    <a:pt x="1466" y="1942"/>
                  </a:lnTo>
                  <a:lnTo>
                    <a:pt x="1440" y="1908"/>
                  </a:lnTo>
                  <a:lnTo>
                    <a:pt x="1416" y="1874"/>
                  </a:lnTo>
                  <a:lnTo>
                    <a:pt x="1394" y="1842"/>
                  </a:lnTo>
                  <a:lnTo>
                    <a:pt x="1374" y="1810"/>
                  </a:lnTo>
                  <a:lnTo>
                    <a:pt x="1358" y="1778"/>
                  </a:lnTo>
                  <a:lnTo>
                    <a:pt x="1344" y="1748"/>
                  </a:lnTo>
                  <a:lnTo>
                    <a:pt x="1332" y="1716"/>
                  </a:lnTo>
                  <a:lnTo>
                    <a:pt x="1324" y="1688"/>
                  </a:lnTo>
                  <a:lnTo>
                    <a:pt x="1316" y="1658"/>
                  </a:lnTo>
                  <a:lnTo>
                    <a:pt x="1312" y="1630"/>
                  </a:lnTo>
                  <a:lnTo>
                    <a:pt x="1312" y="1602"/>
                  </a:lnTo>
                  <a:lnTo>
                    <a:pt x="1312" y="1574"/>
                  </a:lnTo>
                  <a:lnTo>
                    <a:pt x="1316" y="1546"/>
                  </a:lnTo>
                  <a:lnTo>
                    <a:pt x="1322" y="1520"/>
                  </a:lnTo>
                  <a:lnTo>
                    <a:pt x="1330" y="1494"/>
                  </a:lnTo>
                  <a:lnTo>
                    <a:pt x="1330" y="1494"/>
                  </a:lnTo>
                  <a:lnTo>
                    <a:pt x="1336" y="1478"/>
                  </a:lnTo>
                  <a:lnTo>
                    <a:pt x="1344" y="1464"/>
                  </a:lnTo>
                  <a:lnTo>
                    <a:pt x="1354" y="1450"/>
                  </a:lnTo>
                  <a:lnTo>
                    <a:pt x="1364" y="1436"/>
                  </a:lnTo>
                  <a:lnTo>
                    <a:pt x="1376" y="1422"/>
                  </a:lnTo>
                  <a:lnTo>
                    <a:pt x="1390" y="1410"/>
                  </a:lnTo>
                  <a:lnTo>
                    <a:pt x="1404" y="1398"/>
                  </a:lnTo>
                  <a:lnTo>
                    <a:pt x="1420" y="1388"/>
                  </a:lnTo>
                  <a:lnTo>
                    <a:pt x="1438" y="1376"/>
                  </a:lnTo>
                  <a:lnTo>
                    <a:pt x="1456" y="1366"/>
                  </a:lnTo>
                  <a:lnTo>
                    <a:pt x="1498" y="1348"/>
                  </a:lnTo>
                  <a:lnTo>
                    <a:pt x="1544" y="1334"/>
                  </a:lnTo>
                  <a:lnTo>
                    <a:pt x="1596" y="1320"/>
                  </a:lnTo>
                  <a:lnTo>
                    <a:pt x="1596" y="1320"/>
                  </a:lnTo>
                  <a:lnTo>
                    <a:pt x="1640" y="1314"/>
                  </a:lnTo>
                  <a:lnTo>
                    <a:pt x="1684" y="1310"/>
                  </a:lnTo>
                  <a:lnTo>
                    <a:pt x="1726" y="1310"/>
                  </a:lnTo>
                  <a:lnTo>
                    <a:pt x="1770" y="1314"/>
                  </a:lnTo>
                  <a:lnTo>
                    <a:pt x="1814" y="1320"/>
                  </a:lnTo>
                  <a:lnTo>
                    <a:pt x="1858" y="1328"/>
                  </a:lnTo>
                  <a:lnTo>
                    <a:pt x="1902" y="1340"/>
                  </a:lnTo>
                  <a:lnTo>
                    <a:pt x="1946" y="1356"/>
                  </a:lnTo>
                  <a:lnTo>
                    <a:pt x="1946" y="1356"/>
                  </a:lnTo>
                  <a:close/>
                  <a:moveTo>
                    <a:pt x="4851" y="4198"/>
                  </a:moveTo>
                  <a:lnTo>
                    <a:pt x="5265" y="3096"/>
                  </a:lnTo>
                  <a:lnTo>
                    <a:pt x="5265" y="3096"/>
                  </a:lnTo>
                  <a:lnTo>
                    <a:pt x="4971" y="3032"/>
                  </a:lnTo>
                  <a:lnTo>
                    <a:pt x="4677" y="2972"/>
                  </a:lnTo>
                  <a:lnTo>
                    <a:pt x="4383" y="2914"/>
                  </a:lnTo>
                  <a:lnTo>
                    <a:pt x="4087" y="2862"/>
                  </a:lnTo>
                  <a:lnTo>
                    <a:pt x="4087" y="2862"/>
                  </a:lnTo>
                  <a:lnTo>
                    <a:pt x="3919" y="2838"/>
                  </a:lnTo>
                  <a:lnTo>
                    <a:pt x="3756" y="2812"/>
                  </a:lnTo>
                  <a:lnTo>
                    <a:pt x="3598" y="2786"/>
                  </a:lnTo>
                  <a:lnTo>
                    <a:pt x="3448" y="2760"/>
                  </a:lnTo>
                  <a:lnTo>
                    <a:pt x="3448" y="2760"/>
                  </a:lnTo>
                  <a:lnTo>
                    <a:pt x="3392" y="2888"/>
                  </a:lnTo>
                  <a:lnTo>
                    <a:pt x="3334" y="3016"/>
                  </a:lnTo>
                  <a:lnTo>
                    <a:pt x="3272" y="3144"/>
                  </a:lnTo>
                  <a:lnTo>
                    <a:pt x="3212" y="3272"/>
                  </a:lnTo>
                  <a:lnTo>
                    <a:pt x="3148" y="3400"/>
                  </a:lnTo>
                  <a:lnTo>
                    <a:pt x="3084" y="3530"/>
                  </a:lnTo>
                  <a:lnTo>
                    <a:pt x="3016" y="3658"/>
                  </a:lnTo>
                  <a:lnTo>
                    <a:pt x="2948" y="3788"/>
                  </a:lnTo>
                  <a:lnTo>
                    <a:pt x="2948" y="3788"/>
                  </a:lnTo>
                  <a:lnTo>
                    <a:pt x="3242" y="3836"/>
                  </a:lnTo>
                  <a:lnTo>
                    <a:pt x="3526" y="3884"/>
                  </a:lnTo>
                  <a:lnTo>
                    <a:pt x="3526" y="3884"/>
                  </a:lnTo>
                  <a:lnTo>
                    <a:pt x="3486" y="3796"/>
                  </a:lnTo>
                  <a:lnTo>
                    <a:pt x="3486" y="3796"/>
                  </a:lnTo>
                  <a:lnTo>
                    <a:pt x="3458" y="3714"/>
                  </a:lnTo>
                  <a:lnTo>
                    <a:pt x="3436" y="3638"/>
                  </a:lnTo>
                  <a:lnTo>
                    <a:pt x="3420" y="3568"/>
                  </a:lnTo>
                  <a:lnTo>
                    <a:pt x="3414" y="3534"/>
                  </a:lnTo>
                  <a:lnTo>
                    <a:pt x="3408" y="3502"/>
                  </a:lnTo>
                  <a:lnTo>
                    <a:pt x="3406" y="3470"/>
                  </a:lnTo>
                  <a:lnTo>
                    <a:pt x="3404" y="3442"/>
                  </a:lnTo>
                  <a:lnTo>
                    <a:pt x="3404" y="3412"/>
                  </a:lnTo>
                  <a:lnTo>
                    <a:pt x="3406" y="3386"/>
                  </a:lnTo>
                  <a:lnTo>
                    <a:pt x="3408" y="3360"/>
                  </a:lnTo>
                  <a:lnTo>
                    <a:pt x="3412" y="3336"/>
                  </a:lnTo>
                  <a:lnTo>
                    <a:pt x="3418" y="3312"/>
                  </a:lnTo>
                  <a:lnTo>
                    <a:pt x="3426" y="3290"/>
                  </a:lnTo>
                  <a:lnTo>
                    <a:pt x="3426" y="3290"/>
                  </a:lnTo>
                  <a:lnTo>
                    <a:pt x="3450" y="3234"/>
                  </a:lnTo>
                  <a:lnTo>
                    <a:pt x="3474" y="3184"/>
                  </a:lnTo>
                  <a:lnTo>
                    <a:pt x="3502" y="3138"/>
                  </a:lnTo>
                  <a:lnTo>
                    <a:pt x="3518" y="3118"/>
                  </a:lnTo>
                  <a:lnTo>
                    <a:pt x="3534" y="3098"/>
                  </a:lnTo>
                  <a:lnTo>
                    <a:pt x="3550" y="3080"/>
                  </a:lnTo>
                  <a:lnTo>
                    <a:pt x="3566" y="3064"/>
                  </a:lnTo>
                  <a:lnTo>
                    <a:pt x="3584" y="3048"/>
                  </a:lnTo>
                  <a:lnTo>
                    <a:pt x="3602" y="3032"/>
                  </a:lnTo>
                  <a:lnTo>
                    <a:pt x="3622" y="3020"/>
                  </a:lnTo>
                  <a:lnTo>
                    <a:pt x="3640" y="3008"/>
                  </a:lnTo>
                  <a:lnTo>
                    <a:pt x="3660" y="2998"/>
                  </a:lnTo>
                  <a:lnTo>
                    <a:pt x="3682" y="2988"/>
                  </a:lnTo>
                  <a:lnTo>
                    <a:pt x="3702" y="2980"/>
                  </a:lnTo>
                  <a:lnTo>
                    <a:pt x="3724" y="2972"/>
                  </a:lnTo>
                  <a:lnTo>
                    <a:pt x="3746" y="2968"/>
                  </a:lnTo>
                  <a:lnTo>
                    <a:pt x="3770" y="2962"/>
                  </a:lnTo>
                  <a:lnTo>
                    <a:pt x="3794" y="2960"/>
                  </a:lnTo>
                  <a:lnTo>
                    <a:pt x="3818" y="2958"/>
                  </a:lnTo>
                  <a:lnTo>
                    <a:pt x="3843" y="2958"/>
                  </a:lnTo>
                  <a:lnTo>
                    <a:pt x="3869" y="2958"/>
                  </a:lnTo>
                  <a:lnTo>
                    <a:pt x="3895" y="2960"/>
                  </a:lnTo>
                  <a:lnTo>
                    <a:pt x="3923" y="2964"/>
                  </a:lnTo>
                  <a:lnTo>
                    <a:pt x="3977" y="2974"/>
                  </a:lnTo>
                  <a:lnTo>
                    <a:pt x="4035" y="2990"/>
                  </a:lnTo>
                  <a:lnTo>
                    <a:pt x="4097" y="3010"/>
                  </a:lnTo>
                  <a:lnTo>
                    <a:pt x="4097" y="3010"/>
                  </a:lnTo>
                  <a:lnTo>
                    <a:pt x="4119" y="3020"/>
                  </a:lnTo>
                  <a:lnTo>
                    <a:pt x="4143" y="3032"/>
                  </a:lnTo>
                  <a:lnTo>
                    <a:pt x="4165" y="3044"/>
                  </a:lnTo>
                  <a:lnTo>
                    <a:pt x="4187" y="3060"/>
                  </a:lnTo>
                  <a:lnTo>
                    <a:pt x="4209" y="3076"/>
                  </a:lnTo>
                  <a:lnTo>
                    <a:pt x="4231" y="3096"/>
                  </a:lnTo>
                  <a:lnTo>
                    <a:pt x="4253" y="3116"/>
                  </a:lnTo>
                  <a:lnTo>
                    <a:pt x="4275" y="3138"/>
                  </a:lnTo>
                  <a:lnTo>
                    <a:pt x="4295" y="3162"/>
                  </a:lnTo>
                  <a:lnTo>
                    <a:pt x="4317" y="3188"/>
                  </a:lnTo>
                  <a:lnTo>
                    <a:pt x="4337" y="3216"/>
                  </a:lnTo>
                  <a:lnTo>
                    <a:pt x="4359" y="3246"/>
                  </a:lnTo>
                  <a:lnTo>
                    <a:pt x="4399" y="3310"/>
                  </a:lnTo>
                  <a:lnTo>
                    <a:pt x="4441" y="3382"/>
                  </a:lnTo>
                  <a:lnTo>
                    <a:pt x="4441" y="3382"/>
                  </a:lnTo>
                  <a:lnTo>
                    <a:pt x="4461" y="3424"/>
                  </a:lnTo>
                  <a:lnTo>
                    <a:pt x="4481" y="3466"/>
                  </a:lnTo>
                  <a:lnTo>
                    <a:pt x="4497" y="3508"/>
                  </a:lnTo>
                  <a:lnTo>
                    <a:pt x="4513" y="3546"/>
                  </a:lnTo>
                  <a:lnTo>
                    <a:pt x="4525" y="3586"/>
                  </a:lnTo>
                  <a:lnTo>
                    <a:pt x="4537" y="3622"/>
                  </a:lnTo>
                  <a:lnTo>
                    <a:pt x="4545" y="3658"/>
                  </a:lnTo>
                  <a:lnTo>
                    <a:pt x="4553" y="3694"/>
                  </a:lnTo>
                  <a:lnTo>
                    <a:pt x="4557" y="3728"/>
                  </a:lnTo>
                  <a:lnTo>
                    <a:pt x="4561" y="3760"/>
                  </a:lnTo>
                  <a:lnTo>
                    <a:pt x="4563" y="3792"/>
                  </a:lnTo>
                  <a:lnTo>
                    <a:pt x="4561" y="3824"/>
                  </a:lnTo>
                  <a:lnTo>
                    <a:pt x="4559" y="3852"/>
                  </a:lnTo>
                  <a:lnTo>
                    <a:pt x="4553" y="3882"/>
                  </a:lnTo>
                  <a:lnTo>
                    <a:pt x="4547" y="3908"/>
                  </a:lnTo>
                  <a:lnTo>
                    <a:pt x="4539" y="3934"/>
                  </a:lnTo>
                  <a:lnTo>
                    <a:pt x="4539" y="3934"/>
                  </a:lnTo>
                  <a:lnTo>
                    <a:pt x="4521" y="3976"/>
                  </a:lnTo>
                  <a:lnTo>
                    <a:pt x="4503" y="4016"/>
                  </a:lnTo>
                  <a:lnTo>
                    <a:pt x="4485" y="4054"/>
                  </a:lnTo>
                  <a:lnTo>
                    <a:pt x="4463" y="4092"/>
                  </a:lnTo>
                  <a:lnTo>
                    <a:pt x="4463" y="4092"/>
                  </a:lnTo>
                  <a:lnTo>
                    <a:pt x="4659" y="4144"/>
                  </a:lnTo>
                  <a:lnTo>
                    <a:pt x="4851" y="4198"/>
                  </a:lnTo>
                  <a:lnTo>
                    <a:pt x="4851" y="4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949320" y="1666800"/>
              <a:ext cx="7780680" cy="8777160"/>
            </a:xfrm>
            <a:custGeom>
              <a:avLst/>
              <a:gdLst>
                <a:gd name="textAreaLeft" fmla="*/ 0 w 7780680"/>
                <a:gd name="textAreaRight" fmla="*/ 7781040 w 7780680"/>
                <a:gd name="textAreaTop" fmla="*/ 0 h 8777160"/>
                <a:gd name="textAreaBottom" fmla="*/ 8777520 h 8777160"/>
              </a:gdLst>
              <a:ahLst/>
              <a:rect l="textAreaLeft" t="textAreaTop" r="textAreaRight" b="textAreaBottom"/>
              <a:pathLst>
                <a:path w="4901" h="5529">
                  <a:moveTo>
                    <a:pt x="1644" y="1138"/>
                  </a:moveTo>
                  <a:lnTo>
                    <a:pt x="1644" y="1138"/>
                  </a:lnTo>
                  <a:lnTo>
                    <a:pt x="1636" y="946"/>
                  </a:lnTo>
                  <a:lnTo>
                    <a:pt x="1626" y="740"/>
                  </a:lnTo>
                  <a:lnTo>
                    <a:pt x="1612" y="540"/>
                  </a:lnTo>
                  <a:lnTo>
                    <a:pt x="1598" y="378"/>
                  </a:lnTo>
                  <a:lnTo>
                    <a:pt x="1598" y="378"/>
                  </a:lnTo>
                  <a:lnTo>
                    <a:pt x="1588" y="296"/>
                  </a:lnTo>
                  <a:lnTo>
                    <a:pt x="1580" y="230"/>
                  </a:lnTo>
                  <a:lnTo>
                    <a:pt x="1568" y="164"/>
                  </a:lnTo>
                  <a:lnTo>
                    <a:pt x="1550" y="84"/>
                  </a:lnTo>
                  <a:lnTo>
                    <a:pt x="2666" y="0"/>
                  </a:lnTo>
                  <a:lnTo>
                    <a:pt x="2666" y="0"/>
                  </a:lnTo>
                  <a:lnTo>
                    <a:pt x="2660" y="48"/>
                  </a:lnTo>
                  <a:lnTo>
                    <a:pt x="2656" y="92"/>
                  </a:lnTo>
                  <a:lnTo>
                    <a:pt x="2656" y="142"/>
                  </a:lnTo>
                  <a:lnTo>
                    <a:pt x="2654" y="202"/>
                  </a:lnTo>
                  <a:lnTo>
                    <a:pt x="2660" y="392"/>
                  </a:lnTo>
                  <a:lnTo>
                    <a:pt x="2672" y="724"/>
                  </a:lnTo>
                  <a:lnTo>
                    <a:pt x="2672" y="724"/>
                  </a:lnTo>
                  <a:lnTo>
                    <a:pt x="2682" y="882"/>
                  </a:lnTo>
                  <a:lnTo>
                    <a:pt x="2684" y="1028"/>
                  </a:lnTo>
                  <a:lnTo>
                    <a:pt x="3977" y="898"/>
                  </a:lnTo>
                  <a:lnTo>
                    <a:pt x="3977" y="898"/>
                  </a:lnTo>
                  <a:lnTo>
                    <a:pt x="4043" y="890"/>
                  </a:lnTo>
                  <a:lnTo>
                    <a:pt x="4103" y="882"/>
                  </a:lnTo>
                  <a:lnTo>
                    <a:pt x="4153" y="874"/>
                  </a:lnTo>
                  <a:lnTo>
                    <a:pt x="4197" y="862"/>
                  </a:lnTo>
                  <a:lnTo>
                    <a:pt x="4239" y="850"/>
                  </a:lnTo>
                  <a:lnTo>
                    <a:pt x="4281" y="834"/>
                  </a:lnTo>
                  <a:lnTo>
                    <a:pt x="4321" y="816"/>
                  </a:lnTo>
                  <a:lnTo>
                    <a:pt x="4367" y="792"/>
                  </a:lnTo>
                  <a:lnTo>
                    <a:pt x="4869" y="1148"/>
                  </a:lnTo>
                  <a:lnTo>
                    <a:pt x="4869" y="1148"/>
                  </a:lnTo>
                  <a:lnTo>
                    <a:pt x="4851" y="1192"/>
                  </a:lnTo>
                  <a:lnTo>
                    <a:pt x="4837" y="1232"/>
                  </a:lnTo>
                  <a:lnTo>
                    <a:pt x="4827" y="1272"/>
                  </a:lnTo>
                  <a:lnTo>
                    <a:pt x="4821" y="1316"/>
                  </a:lnTo>
                  <a:lnTo>
                    <a:pt x="4819" y="1366"/>
                  </a:lnTo>
                  <a:lnTo>
                    <a:pt x="4819" y="1428"/>
                  </a:lnTo>
                  <a:lnTo>
                    <a:pt x="4823" y="1502"/>
                  </a:lnTo>
                  <a:lnTo>
                    <a:pt x="4829" y="1594"/>
                  </a:lnTo>
                  <a:lnTo>
                    <a:pt x="4829" y="1594"/>
                  </a:lnTo>
                  <a:lnTo>
                    <a:pt x="4845" y="1830"/>
                  </a:lnTo>
                  <a:lnTo>
                    <a:pt x="4859" y="2058"/>
                  </a:lnTo>
                  <a:lnTo>
                    <a:pt x="4869" y="2278"/>
                  </a:lnTo>
                  <a:lnTo>
                    <a:pt x="4879" y="2493"/>
                  </a:lnTo>
                  <a:lnTo>
                    <a:pt x="4887" y="2697"/>
                  </a:lnTo>
                  <a:lnTo>
                    <a:pt x="4893" y="2893"/>
                  </a:lnTo>
                  <a:lnTo>
                    <a:pt x="4897" y="3079"/>
                  </a:lnTo>
                  <a:lnTo>
                    <a:pt x="4901" y="3257"/>
                  </a:lnTo>
                  <a:lnTo>
                    <a:pt x="4901" y="3423"/>
                  </a:lnTo>
                  <a:lnTo>
                    <a:pt x="4899" y="3579"/>
                  </a:lnTo>
                  <a:lnTo>
                    <a:pt x="4895" y="3725"/>
                  </a:lnTo>
                  <a:lnTo>
                    <a:pt x="4889" y="3859"/>
                  </a:lnTo>
                  <a:lnTo>
                    <a:pt x="4883" y="3979"/>
                  </a:lnTo>
                  <a:lnTo>
                    <a:pt x="4873" y="4089"/>
                  </a:lnTo>
                  <a:lnTo>
                    <a:pt x="4861" y="4185"/>
                  </a:lnTo>
                  <a:lnTo>
                    <a:pt x="4847" y="4267"/>
                  </a:lnTo>
                  <a:lnTo>
                    <a:pt x="4847" y="4267"/>
                  </a:lnTo>
                  <a:lnTo>
                    <a:pt x="4835" y="4319"/>
                  </a:lnTo>
                  <a:lnTo>
                    <a:pt x="4823" y="4369"/>
                  </a:lnTo>
                  <a:lnTo>
                    <a:pt x="4811" y="4417"/>
                  </a:lnTo>
                  <a:lnTo>
                    <a:pt x="4795" y="4463"/>
                  </a:lnTo>
                  <a:lnTo>
                    <a:pt x="4781" y="4509"/>
                  </a:lnTo>
                  <a:lnTo>
                    <a:pt x="4765" y="4551"/>
                  </a:lnTo>
                  <a:lnTo>
                    <a:pt x="4747" y="4591"/>
                  </a:lnTo>
                  <a:lnTo>
                    <a:pt x="4729" y="4631"/>
                  </a:lnTo>
                  <a:lnTo>
                    <a:pt x="4709" y="4667"/>
                  </a:lnTo>
                  <a:lnTo>
                    <a:pt x="4687" y="4703"/>
                  </a:lnTo>
                  <a:lnTo>
                    <a:pt x="4665" y="4737"/>
                  </a:lnTo>
                  <a:lnTo>
                    <a:pt x="4641" y="4769"/>
                  </a:lnTo>
                  <a:lnTo>
                    <a:pt x="4615" y="4799"/>
                  </a:lnTo>
                  <a:lnTo>
                    <a:pt x="4589" y="4827"/>
                  </a:lnTo>
                  <a:lnTo>
                    <a:pt x="4561" y="4855"/>
                  </a:lnTo>
                  <a:lnTo>
                    <a:pt x="4531" y="4881"/>
                  </a:lnTo>
                  <a:lnTo>
                    <a:pt x="4499" y="4905"/>
                  </a:lnTo>
                  <a:lnTo>
                    <a:pt x="4467" y="4929"/>
                  </a:lnTo>
                  <a:lnTo>
                    <a:pt x="4431" y="4949"/>
                  </a:lnTo>
                  <a:lnTo>
                    <a:pt x="4395" y="4969"/>
                  </a:lnTo>
                  <a:lnTo>
                    <a:pt x="4357" y="4989"/>
                  </a:lnTo>
                  <a:lnTo>
                    <a:pt x="4317" y="5007"/>
                  </a:lnTo>
                  <a:lnTo>
                    <a:pt x="4275" y="5023"/>
                  </a:lnTo>
                  <a:lnTo>
                    <a:pt x="4231" y="5037"/>
                  </a:lnTo>
                  <a:lnTo>
                    <a:pt x="4187" y="5051"/>
                  </a:lnTo>
                  <a:lnTo>
                    <a:pt x="4139" y="5065"/>
                  </a:lnTo>
                  <a:lnTo>
                    <a:pt x="4089" y="5075"/>
                  </a:lnTo>
                  <a:lnTo>
                    <a:pt x="4037" y="5087"/>
                  </a:lnTo>
                  <a:lnTo>
                    <a:pt x="3983" y="5095"/>
                  </a:lnTo>
                  <a:lnTo>
                    <a:pt x="3927" y="5105"/>
                  </a:lnTo>
                  <a:lnTo>
                    <a:pt x="3809" y="5119"/>
                  </a:lnTo>
                  <a:lnTo>
                    <a:pt x="3809" y="5119"/>
                  </a:lnTo>
                  <a:lnTo>
                    <a:pt x="3653" y="5133"/>
                  </a:lnTo>
                  <a:lnTo>
                    <a:pt x="3581" y="5137"/>
                  </a:lnTo>
                  <a:lnTo>
                    <a:pt x="3505" y="5141"/>
                  </a:lnTo>
                  <a:lnTo>
                    <a:pt x="3311" y="5145"/>
                  </a:lnTo>
                  <a:lnTo>
                    <a:pt x="3029" y="5149"/>
                  </a:lnTo>
                  <a:lnTo>
                    <a:pt x="3029" y="5149"/>
                  </a:lnTo>
                  <a:lnTo>
                    <a:pt x="3001" y="4985"/>
                  </a:lnTo>
                  <a:lnTo>
                    <a:pt x="2975" y="4841"/>
                  </a:lnTo>
                  <a:lnTo>
                    <a:pt x="2961" y="4775"/>
                  </a:lnTo>
                  <a:lnTo>
                    <a:pt x="2947" y="4713"/>
                  </a:lnTo>
                  <a:lnTo>
                    <a:pt x="2931" y="4655"/>
                  </a:lnTo>
                  <a:lnTo>
                    <a:pt x="2913" y="4597"/>
                  </a:lnTo>
                  <a:lnTo>
                    <a:pt x="2895" y="4541"/>
                  </a:lnTo>
                  <a:lnTo>
                    <a:pt x="2877" y="4485"/>
                  </a:lnTo>
                  <a:lnTo>
                    <a:pt x="2855" y="4429"/>
                  </a:lnTo>
                  <a:lnTo>
                    <a:pt x="2833" y="4373"/>
                  </a:lnTo>
                  <a:lnTo>
                    <a:pt x="2783" y="4255"/>
                  </a:lnTo>
                  <a:lnTo>
                    <a:pt x="2723" y="4127"/>
                  </a:lnTo>
                  <a:lnTo>
                    <a:pt x="2723" y="4127"/>
                  </a:lnTo>
                  <a:lnTo>
                    <a:pt x="2835" y="4143"/>
                  </a:lnTo>
                  <a:lnTo>
                    <a:pt x="2947" y="4157"/>
                  </a:lnTo>
                  <a:lnTo>
                    <a:pt x="3055" y="4167"/>
                  </a:lnTo>
                  <a:lnTo>
                    <a:pt x="3159" y="4173"/>
                  </a:lnTo>
                  <a:lnTo>
                    <a:pt x="3257" y="4177"/>
                  </a:lnTo>
                  <a:lnTo>
                    <a:pt x="3347" y="4177"/>
                  </a:lnTo>
                  <a:lnTo>
                    <a:pt x="3431" y="4175"/>
                  </a:lnTo>
                  <a:lnTo>
                    <a:pt x="3503" y="4169"/>
                  </a:lnTo>
                  <a:lnTo>
                    <a:pt x="3503" y="4169"/>
                  </a:lnTo>
                  <a:lnTo>
                    <a:pt x="3555" y="4163"/>
                  </a:lnTo>
                  <a:lnTo>
                    <a:pt x="3601" y="4153"/>
                  </a:lnTo>
                  <a:lnTo>
                    <a:pt x="3641" y="4143"/>
                  </a:lnTo>
                  <a:lnTo>
                    <a:pt x="3661" y="4135"/>
                  </a:lnTo>
                  <a:lnTo>
                    <a:pt x="3679" y="4129"/>
                  </a:lnTo>
                  <a:lnTo>
                    <a:pt x="3695" y="4119"/>
                  </a:lnTo>
                  <a:lnTo>
                    <a:pt x="3711" y="4109"/>
                  </a:lnTo>
                  <a:lnTo>
                    <a:pt x="3725" y="4099"/>
                  </a:lnTo>
                  <a:lnTo>
                    <a:pt x="3739" y="4087"/>
                  </a:lnTo>
                  <a:lnTo>
                    <a:pt x="3753" y="4075"/>
                  </a:lnTo>
                  <a:lnTo>
                    <a:pt x="3765" y="4059"/>
                  </a:lnTo>
                  <a:lnTo>
                    <a:pt x="3775" y="4045"/>
                  </a:lnTo>
                  <a:lnTo>
                    <a:pt x="3787" y="4027"/>
                  </a:lnTo>
                  <a:lnTo>
                    <a:pt x="3797" y="4009"/>
                  </a:lnTo>
                  <a:lnTo>
                    <a:pt x="3805" y="3989"/>
                  </a:lnTo>
                  <a:lnTo>
                    <a:pt x="3821" y="3945"/>
                  </a:lnTo>
                  <a:lnTo>
                    <a:pt x="3835" y="3893"/>
                  </a:lnTo>
                  <a:lnTo>
                    <a:pt x="3847" y="3835"/>
                  </a:lnTo>
                  <a:lnTo>
                    <a:pt x="3855" y="3767"/>
                  </a:lnTo>
                  <a:lnTo>
                    <a:pt x="3863" y="3693"/>
                  </a:lnTo>
                  <a:lnTo>
                    <a:pt x="3869" y="3609"/>
                  </a:lnTo>
                  <a:lnTo>
                    <a:pt x="3875" y="3515"/>
                  </a:lnTo>
                  <a:lnTo>
                    <a:pt x="3875" y="3515"/>
                  </a:lnTo>
                  <a:lnTo>
                    <a:pt x="3879" y="3349"/>
                  </a:lnTo>
                  <a:lnTo>
                    <a:pt x="3881" y="3157"/>
                  </a:lnTo>
                  <a:lnTo>
                    <a:pt x="3879" y="2947"/>
                  </a:lnTo>
                  <a:lnTo>
                    <a:pt x="3875" y="2725"/>
                  </a:lnTo>
                  <a:lnTo>
                    <a:pt x="3865" y="2497"/>
                  </a:lnTo>
                  <a:lnTo>
                    <a:pt x="3853" y="2270"/>
                  </a:lnTo>
                  <a:lnTo>
                    <a:pt x="3839" y="2052"/>
                  </a:lnTo>
                  <a:lnTo>
                    <a:pt x="3821" y="1852"/>
                  </a:lnTo>
                  <a:lnTo>
                    <a:pt x="2690" y="1966"/>
                  </a:lnTo>
                  <a:lnTo>
                    <a:pt x="2690" y="1966"/>
                  </a:lnTo>
                  <a:lnTo>
                    <a:pt x="2684" y="2198"/>
                  </a:lnTo>
                  <a:lnTo>
                    <a:pt x="2680" y="2338"/>
                  </a:lnTo>
                  <a:lnTo>
                    <a:pt x="2672" y="2443"/>
                  </a:lnTo>
                  <a:lnTo>
                    <a:pt x="2660" y="2567"/>
                  </a:lnTo>
                  <a:lnTo>
                    <a:pt x="2660" y="2567"/>
                  </a:lnTo>
                  <a:lnTo>
                    <a:pt x="2646" y="2681"/>
                  </a:lnTo>
                  <a:lnTo>
                    <a:pt x="2630" y="2791"/>
                  </a:lnTo>
                  <a:lnTo>
                    <a:pt x="2612" y="2901"/>
                  </a:lnTo>
                  <a:lnTo>
                    <a:pt x="2590" y="3007"/>
                  </a:lnTo>
                  <a:lnTo>
                    <a:pt x="2568" y="3113"/>
                  </a:lnTo>
                  <a:lnTo>
                    <a:pt x="2544" y="3215"/>
                  </a:lnTo>
                  <a:lnTo>
                    <a:pt x="2516" y="3317"/>
                  </a:lnTo>
                  <a:lnTo>
                    <a:pt x="2486" y="3417"/>
                  </a:lnTo>
                  <a:lnTo>
                    <a:pt x="2454" y="3515"/>
                  </a:lnTo>
                  <a:lnTo>
                    <a:pt x="2418" y="3611"/>
                  </a:lnTo>
                  <a:lnTo>
                    <a:pt x="2382" y="3707"/>
                  </a:lnTo>
                  <a:lnTo>
                    <a:pt x="2342" y="3801"/>
                  </a:lnTo>
                  <a:lnTo>
                    <a:pt x="2300" y="3893"/>
                  </a:lnTo>
                  <a:lnTo>
                    <a:pt x="2254" y="3985"/>
                  </a:lnTo>
                  <a:lnTo>
                    <a:pt x="2206" y="4075"/>
                  </a:lnTo>
                  <a:lnTo>
                    <a:pt x="2154" y="4163"/>
                  </a:lnTo>
                  <a:lnTo>
                    <a:pt x="2102" y="4251"/>
                  </a:lnTo>
                  <a:lnTo>
                    <a:pt x="2044" y="4339"/>
                  </a:lnTo>
                  <a:lnTo>
                    <a:pt x="1984" y="4427"/>
                  </a:lnTo>
                  <a:lnTo>
                    <a:pt x="1922" y="4513"/>
                  </a:lnTo>
                  <a:lnTo>
                    <a:pt x="1856" y="4599"/>
                  </a:lnTo>
                  <a:lnTo>
                    <a:pt x="1788" y="4683"/>
                  </a:lnTo>
                  <a:lnTo>
                    <a:pt x="1716" y="4769"/>
                  </a:lnTo>
                  <a:lnTo>
                    <a:pt x="1640" y="4853"/>
                  </a:lnTo>
                  <a:lnTo>
                    <a:pt x="1562" y="4937"/>
                  </a:lnTo>
                  <a:lnTo>
                    <a:pt x="1478" y="5021"/>
                  </a:lnTo>
                  <a:lnTo>
                    <a:pt x="1394" y="5105"/>
                  </a:lnTo>
                  <a:lnTo>
                    <a:pt x="1304" y="5189"/>
                  </a:lnTo>
                  <a:lnTo>
                    <a:pt x="1212" y="5275"/>
                  </a:lnTo>
                  <a:lnTo>
                    <a:pt x="1116" y="5359"/>
                  </a:lnTo>
                  <a:lnTo>
                    <a:pt x="1016" y="5443"/>
                  </a:lnTo>
                  <a:lnTo>
                    <a:pt x="914" y="5529"/>
                  </a:lnTo>
                  <a:lnTo>
                    <a:pt x="914" y="5529"/>
                  </a:lnTo>
                  <a:lnTo>
                    <a:pt x="802" y="5391"/>
                  </a:lnTo>
                  <a:lnTo>
                    <a:pt x="750" y="5329"/>
                  </a:lnTo>
                  <a:lnTo>
                    <a:pt x="698" y="5269"/>
                  </a:lnTo>
                  <a:lnTo>
                    <a:pt x="648" y="5213"/>
                  </a:lnTo>
                  <a:lnTo>
                    <a:pt x="598" y="5161"/>
                  </a:lnTo>
                  <a:lnTo>
                    <a:pt x="550" y="5111"/>
                  </a:lnTo>
                  <a:lnTo>
                    <a:pt x="500" y="5063"/>
                  </a:lnTo>
                  <a:lnTo>
                    <a:pt x="450" y="5017"/>
                  </a:lnTo>
                  <a:lnTo>
                    <a:pt x="400" y="4971"/>
                  </a:lnTo>
                  <a:lnTo>
                    <a:pt x="348" y="4927"/>
                  </a:lnTo>
                  <a:lnTo>
                    <a:pt x="294" y="4883"/>
                  </a:lnTo>
                  <a:lnTo>
                    <a:pt x="238" y="4841"/>
                  </a:lnTo>
                  <a:lnTo>
                    <a:pt x="180" y="4797"/>
                  </a:lnTo>
                  <a:lnTo>
                    <a:pt x="54" y="4707"/>
                  </a:lnTo>
                  <a:lnTo>
                    <a:pt x="54" y="4707"/>
                  </a:lnTo>
                  <a:lnTo>
                    <a:pt x="190" y="4615"/>
                  </a:lnTo>
                  <a:lnTo>
                    <a:pt x="318" y="4523"/>
                  </a:lnTo>
                  <a:lnTo>
                    <a:pt x="438" y="4431"/>
                  </a:lnTo>
                  <a:lnTo>
                    <a:pt x="552" y="4339"/>
                  </a:lnTo>
                  <a:lnTo>
                    <a:pt x="606" y="4293"/>
                  </a:lnTo>
                  <a:lnTo>
                    <a:pt x="660" y="4247"/>
                  </a:lnTo>
                  <a:lnTo>
                    <a:pt x="710" y="4199"/>
                  </a:lnTo>
                  <a:lnTo>
                    <a:pt x="760" y="4153"/>
                  </a:lnTo>
                  <a:lnTo>
                    <a:pt x="808" y="4107"/>
                  </a:lnTo>
                  <a:lnTo>
                    <a:pt x="854" y="4059"/>
                  </a:lnTo>
                  <a:lnTo>
                    <a:pt x="898" y="4011"/>
                  </a:lnTo>
                  <a:lnTo>
                    <a:pt x="942" y="3963"/>
                  </a:lnTo>
                  <a:lnTo>
                    <a:pt x="984" y="3915"/>
                  </a:lnTo>
                  <a:lnTo>
                    <a:pt x="1024" y="3867"/>
                  </a:lnTo>
                  <a:lnTo>
                    <a:pt x="1062" y="3817"/>
                  </a:lnTo>
                  <a:lnTo>
                    <a:pt x="1100" y="3767"/>
                  </a:lnTo>
                  <a:lnTo>
                    <a:pt x="1136" y="3717"/>
                  </a:lnTo>
                  <a:lnTo>
                    <a:pt x="1170" y="3667"/>
                  </a:lnTo>
                  <a:lnTo>
                    <a:pt x="1204" y="3615"/>
                  </a:lnTo>
                  <a:lnTo>
                    <a:pt x="1236" y="3563"/>
                  </a:lnTo>
                  <a:lnTo>
                    <a:pt x="1266" y="3511"/>
                  </a:lnTo>
                  <a:lnTo>
                    <a:pt x="1296" y="3457"/>
                  </a:lnTo>
                  <a:lnTo>
                    <a:pt x="1324" y="3403"/>
                  </a:lnTo>
                  <a:lnTo>
                    <a:pt x="1352" y="3347"/>
                  </a:lnTo>
                  <a:lnTo>
                    <a:pt x="1378" y="3293"/>
                  </a:lnTo>
                  <a:lnTo>
                    <a:pt x="1402" y="3235"/>
                  </a:lnTo>
                  <a:lnTo>
                    <a:pt x="1426" y="3177"/>
                  </a:lnTo>
                  <a:lnTo>
                    <a:pt x="1448" y="3119"/>
                  </a:lnTo>
                  <a:lnTo>
                    <a:pt x="1448" y="3119"/>
                  </a:lnTo>
                  <a:lnTo>
                    <a:pt x="1488" y="3005"/>
                  </a:lnTo>
                  <a:lnTo>
                    <a:pt x="1506" y="2949"/>
                  </a:lnTo>
                  <a:lnTo>
                    <a:pt x="1524" y="2895"/>
                  </a:lnTo>
                  <a:lnTo>
                    <a:pt x="1538" y="2839"/>
                  </a:lnTo>
                  <a:lnTo>
                    <a:pt x="1552" y="2785"/>
                  </a:lnTo>
                  <a:lnTo>
                    <a:pt x="1566" y="2727"/>
                  </a:lnTo>
                  <a:lnTo>
                    <a:pt x="1578" y="2669"/>
                  </a:lnTo>
                  <a:lnTo>
                    <a:pt x="1588" y="2609"/>
                  </a:lnTo>
                  <a:lnTo>
                    <a:pt x="1598" y="2545"/>
                  </a:lnTo>
                  <a:lnTo>
                    <a:pt x="1606" y="2479"/>
                  </a:lnTo>
                  <a:lnTo>
                    <a:pt x="1614" y="2409"/>
                  </a:lnTo>
                  <a:lnTo>
                    <a:pt x="1630" y="2254"/>
                  </a:lnTo>
                  <a:lnTo>
                    <a:pt x="1642" y="2076"/>
                  </a:lnTo>
                  <a:lnTo>
                    <a:pt x="902" y="2152"/>
                  </a:lnTo>
                  <a:lnTo>
                    <a:pt x="902" y="2152"/>
                  </a:lnTo>
                  <a:lnTo>
                    <a:pt x="650" y="2178"/>
                  </a:lnTo>
                  <a:lnTo>
                    <a:pt x="550" y="2190"/>
                  </a:lnTo>
                  <a:lnTo>
                    <a:pt x="460" y="2202"/>
                  </a:lnTo>
                  <a:lnTo>
                    <a:pt x="376" y="2216"/>
                  </a:lnTo>
                  <a:lnTo>
                    <a:pt x="292" y="2230"/>
                  </a:lnTo>
                  <a:lnTo>
                    <a:pt x="106" y="2266"/>
                  </a:lnTo>
                  <a:lnTo>
                    <a:pt x="0" y="1256"/>
                  </a:lnTo>
                  <a:lnTo>
                    <a:pt x="0" y="1256"/>
                  </a:lnTo>
                  <a:lnTo>
                    <a:pt x="104" y="1258"/>
                  </a:lnTo>
                  <a:lnTo>
                    <a:pt x="196" y="1260"/>
                  </a:lnTo>
                  <a:lnTo>
                    <a:pt x="282" y="1260"/>
                  </a:lnTo>
                  <a:lnTo>
                    <a:pt x="368" y="1258"/>
                  </a:lnTo>
                  <a:lnTo>
                    <a:pt x="460" y="1252"/>
                  </a:lnTo>
                  <a:lnTo>
                    <a:pt x="562" y="1244"/>
                  </a:lnTo>
                  <a:lnTo>
                    <a:pt x="826" y="1220"/>
                  </a:lnTo>
                  <a:lnTo>
                    <a:pt x="1644" y="1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2165400" y="10666440"/>
              <a:ext cx="8247240" cy="7853400"/>
            </a:xfrm>
            <a:custGeom>
              <a:avLst/>
              <a:gdLst>
                <a:gd name="textAreaLeft" fmla="*/ 0 w 8247240"/>
                <a:gd name="textAreaRight" fmla="*/ 8247600 w 8247240"/>
                <a:gd name="textAreaTop" fmla="*/ 0 h 7853400"/>
                <a:gd name="textAreaBottom" fmla="*/ 7853760 h 7853400"/>
              </a:gdLst>
              <a:ahLst/>
              <a:rect l="textAreaLeft" t="textAreaTop" r="textAreaRight" b="textAreaBottom"/>
              <a:pathLst>
                <a:path w="5195" h="4947">
                  <a:moveTo>
                    <a:pt x="5195" y="1748"/>
                  </a:moveTo>
                  <a:lnTo>
                    <a:pt x="5195" y="1748"/>
                  </a:lnTo>
                  <a:lnTo>
                    <a:pt x="5163" y="1788"/>
                  </a:lnTo>
                  <a:lnTo>
                    <a:pt x="5131" y="1828"/>
                  </a:lnTo>
                  <a:lnTo>
                    <a:pt x="5099" y="1870"/>
                  </a:lnTo>
                  <a:lnTo>
                    <a:pt x="5065" y="1920"/>
                  </a:lnTo>
                  <a:lnTo>
                    <a:pt x="5025" y="1976"/>
                  </a:lnTo>
                  <a:lnTo>
                    <a:pt x="4981" y="2044"/>
                  </a:lnTo>
                  <a:lnTo>
                    <a:pt x="4865" y="2226"/>
                  </a:lnTo>
                  <a:lnTo>
                    <a:pt x="4865" y="2226"/>
                  </a:lnTo>
                  <a:lnTo>
                    <a:pt x="4759" y="2390"/>
                  </a:lnTo>
                  <a:lnTo>
                    <a:pt x="4651" y="2546"/>
                  </a:lnTo>
                  <a:lnTo>
                    <a:pt x="4541" y="2698"/>
                  </a:lnTo>
                  <a:lnTo>
                    <a:pt x="4429" y="2844"/>
                  </a:lnTo>
                  <a:lnTo>
                    <a:pt x="4317" y="2984"/>
                  </a:lnTo>
                  <a:lnTo>
                    <a:pt x="4203" y="3118"/>
                  </a:lnTo>
                  <a:lnTo>
                    <a:pt x="4087" y="3246"/>
                  </a:lnTo>
                  <a:lnTo>
                    <a:pt x="4029" y="3310"/>
                  </a:lnTo>
                  <a:lnTo>
                    <a:pt x="3969" y="3370"/>
                  </a:lnTo>
                  <a:lnTo>
                    <a:pt x="3911" y="3430"/>
                  </a:lnTo>
                  <a:lnTo>
                    <a:pt x="3851" y="3489"/>
                  </a:lnTo>
                  <a:lnTo>
                    <a:pt x="3791" y="3547"/>
                  </a:lnTo>
                  <a:lnTo>
                    <a:pt x="3731" y="3603"/>
                  </a:lnTo>
                  <a:lnTo>
                    <a:pt x="3669" y="3657"/>
                  </a:lnTo>
                  <a:lnTo>
                    <a:pt x="3607" y="3711"/>
                  </a:lnTo>
                  <a:lnTo>
                    <a:pt x="3545" y="3763"/>
                  </a:lnTo>
                  <a:lnTo>
                    <a:pt x="3483" y="3815"/>
                  </a:lnTo>
                  <a:lnTo>
                    <a:pt x="3419" y="3865"/>
                  </a:lnTo>
                  <a:lnTo>
                    <a:pt x="3357" y="3913"/>
                  </a:lnTo>
                  <a:lnTo>
                    <a:pt x="3293" y="3961"/>
                  </a:lnTo>
                  <a:lnTo>
                    <a:pt x="3227" y="4007"/>
                  </a:lnTo>
                  <a:lnTo>
                    <a:pt x="3163" y="4053"/>
                  </a:lnTo>
                  <a:lnTo>
                    <a:pt x="3097" y="4097"/>
                  </a:lnTo>
                  <a:lnTo>
                    <a:pt x="3031" y="4139"/>
                  </a:lnTo>
                  <a:lnTo>
                    <a:pt x="2963" y="4181"/>
                  </a:lnTo>
                  <a:lnTo>
                    <a:pt x="2963" y="4181"/>
                  </a:lnTo>
                  <a:lnTo>
                    <a:pt x="2895" y="4221"/>
                  </a:lnTo>
                  <a:lnTo>
                    <a:pt x="2825" y="4261"/>
                  </a:lnTo>
                  <a:lnTo>
                    <a:pt x="2757" y="4299"/>
                  </a:lnTo>
                  <a:lnTo>
                    <a:pt x="2687" y="4337"/>
                  </a:lnTo>
                  <a:lnTo>
                    <a:pt x="2617" y="4373"/>
                  </a:lnTo>
                  <a:lnTo>
                    <a:pt x="2545" y="4407"/>
                  </a:lnTo>
                  <a:lnTo>
                    <a:pt x="2473" y="4441"/>
                  </a:lnTo>
                  <a:lnTo>
                    <a:pt x="2401" y="4473"/>
                  </a:lnTo>
                  <a:lnTo>
                    <a:pt x="2329" y="4505"/>
                  </a:lnTo>
                  <a:lnTo>
                    <a:pt x="2255" y="4535"/>
                  </a:lnTo>
                  <a:lnTo>
                    <a:pt x="2179" y="4565"/>
                  </a:lnTo>
                  <a:lnTo>
                    <a:pt x="2105" y="4593"/>
                  </a:lnTo>
                  <a:lnTo>
                    <a:pt x="2027" y="4619"/>
                  </a:lnTo>
                  <a:lnTo>
                    <a:pt x="1951" y="4645"/>
                  </a:lnTo>
                  <a:lnTo>
                    <a:pt x="1872" y="4671"/>
                  </a:lnTo>
                  <a:lnTo>
                    <a:pt x="1792" y="4695"/>
                  </a:lnTo>
                  <a:lnTo>
                    <a:pt x="1712" y="4717"/>
                  </a:lnTo>
                  <a:lnTo>
                    <a:pt x="1630" y="4739"/>
                  </a:lnTo>
                  <a:lnTo>
                    <a:pt x="1546" y="4759"/>
                  </a:lnTo>
                  <a:lnTo>
                    <a:pt x="1462" y="4779"/>
                  </a:lnTo>
                  <a:lnTo>
                    <a:pt x="1378" y="4799"/>
                  </a:lnTo>
                  <a:lnTo>
                    <a:pt x="1292" y="4817"/>
                  </a:lnTo>
                  <a:lnTo>
                    <a:pt x="1114" y="4851"/>
                  </a:lnTo>
                  <a:lnTo>
                    <a:pt x="930" y="4879"/>
                  </a:lnTo>
                  <a:lnTo>
                    <a:pt x="742" y="4905"/>
                  </a:lnTo>
                  <a:lnTo>
                    <a:pt x="546" y="4929"/>
                  </a:lnTo>
                  <a:lnTo>
                    <a:pt x="342" y="4947"/>
                  </a:lnTo>
                  <a:lnTo>
                    <a:pt x="342" y="4947"/>
                  </a:lnTo>
                  <a:lnTo>
                    <a:pt x="320" y="4781"/>
                  </a:lnTo>
                  <a:lnTo>
                    <a:pt x="308" y="4703"/>
                  </a:lnTo>
                  <a:lnTo>
                    <a:pt x="296" y="4631"/>
                  </a:lnTo>
                  <a:lnTo>
                    <a:pt x="282" y="4561"/>
                  </a:lnTo>
                  <a:lnTo>
                    <a:pt x="266" y="4495"/>
                  </a:lnTo>
                  <a:lnTo>
                    <a:pt x="250" y="4429"/>
                  </a:lnTo>
                  <a:lnTo>
                    <a:pt x="232" y="4365"/>
                  </a:lnTo>
                  <a:lnTo>
                    <a:pt x="212" y="4301"/>
                  </a:lnTo>
                  <a:lnTo>
                    <a:pt x="190" y="4235"/>
                  </a:lnTo>
                  <a:lnTo>
                    <a:pt x="166" y="4169"/>
                  </a:lnTo>
                  <a:lnTo>
                    <a:pt x="138" y="4101"/>
                  </a:lnTo>
                  <a:lnTo>
                    <a:pt x="108" y="4031"/>
                  </a:lnTo>
                  <a:lnTo>
                    <a:pt x="76" y="3957"/>
                  </a:lnTo>
                  <a:lnTo>
                    <a:pt x="0" y="3797"/>
                  </a:lnTo>
                  <a:lnTo>
                    <a:pt x="0" y="3797"/>
                  </a:lnTo>
                  <a:lnTo>
                    <a:pt x="140" y="3799"/>
                  </a:lnTo>
                  <a:lnTo>
                    <a:pt x="278" y="3797"/>
                  </a:lnTo>
                  <a:lnTo>
                    <a:pt x="410" y="3793"/>
                  </a:lnTo>
                  <a:lnTo>
                    <a:pt x="542" y="3787"/>
                  </a:lnTo>
                  <a:lnTo>
                    <a:pt x="668" y="3777"/>
                  </a:lnTo>
                  <a:lnTo>
                    <a:pt x="794" y="3763"/>
                  </a:lnTo>
                  <a:lnTo>
                    <a:pt x="918" y="3747"/>
                  </a:lnTo>
                  <a:lnTo>
                    <a:pt x="1038" y="3727"/>
                  </a:lnTo>
                  <a:lnTo>
                    <a:pt x="1158" y="3705"/>
                  </a:lnTo>
                  <a:lnTo>
                    <a:pt x="1276" y="3679"/>
                  </a:lnTo>
                  <a:lnTo>
                    <a:pt x="1394" y="3649"/>
                  </a:lnTo>
                  <a:lnTo>
                    <a:pt x="1510" y="3617"/>
                  </a:lnTo>
                  <a:lnTo>
                    <a:pt x="1626" y="3581"/>
                  </a:lnTo>
                  <a:lnTo>
                    <a:pt x="1742" y="3541"/>
                  </a:lnTo>
                  <a:lnTo>
                    <a:pt x="1858" y="3499"/>
                  </a:lnTo>
                  <a:lnTo>
                    <a:pt x="1975" y="3450"/>
                  </a:lnTo>
                  <a:lnTo>
                    <a:pt x="1975" y="3450"/>
                  </a:lnTo>
                  <a:lnTo>
                    <a:pt x="2051" y="3418"/>
                  </a:lnTo>
                  <a:lnTo>
                    <a:pt x="2125" y="3386"/>
                  </a:lnTo>
                  <a:lnTo>
                    <a:pt x="2197" y="3352"/>
                  </a:lnTo>
                  <a:lnTo>
                    <a:pt x="2269" y="3316"/>
                  </a:lnTo>
                  <a:lnTo>
                    <a:pt x="2339" y="3280"/>
                  </a:lnTo>
                  <a:lnTo>
                    <a:pt x="2407" y="3242"/>
                  </a:lnTo>
                  <a:lnTo>
                    <a:pt x="2475" y="3204"/>
                  </a:lnTo>
                  <a:lnTo>
                    <a:pt x="2541" y="3162"/>
                  </a:lnTo>
                  <a:lnTo>
                    <a:pt x="2607" y="3120"/>
                  </a:lnTo>
                  <a:lnTo>
                    <a:pt x="2673" y="3078"/>
                  </a:lnTo>
                  <a:lnTo>
                    <a:pt x="2735" y="3034"/>
                  </a:lnTo>
                  <a:lnTo>
                    <a:pt x="2799" y="2986"/>
                  </a:lnTo>
                  <a:lnTo>
                    <a:pt x="2861" y="2940"/>
                  </a:lnTo>
                  <a:lnTo>
                    <a:pt x="2921" y="2890"/>
                  </a:lnTo>
                  <a:lnTo>
                    <a:pt x="2981" y="2840"/>
                  </a:lnTo>
                  <a:lnTo>
                    <a:pt x="3041" y="2786"/>
                  </a:lnTo>
                  <a:lnTo>
                    <a:pt x="3101" y="2732"/>
                  </a:lnTo>
                  <a:lnTo>
                    <a:pt x="3159" y="2676"/>
                  </a:lnTo>
                  <a:lnTo>
                    <a:pt x="3215" y="2618"/>
                  </a:lnTo>
                  <a:lnTo>
                    <a:pt x="3273" y="2560"/>
                  </a:lnTo>
                  <a:lnTo>
                    <a:pt x="3329" y="2498"/>
                  </a:lnTo>
                  <a:lnTo>
                    <a:pt x="3385" y="2436"/>
                  </a:lnTo>
                  <a:lnTo>
                    <a:pt x="3439" y="2370"/>
                  </a:lnTo>
                  <a:lnTo>
                    <a:pt x="3495" y="2304"/>
                  </a:lnTo>
                  <a:lnTo>
                    <a:pt x="3549" y="2234"/>
                  </a:lnTo>
                  <a:lnTo>
                    <a:pt x="3603" y="2164"/>
                  </a:lnTo>
                  <a:lnTo>
                    <a:pt x="3657" y="2090"/>
                  </a:lnTo>
                  <a:lnTo>
                    <a:pt x="3711" y="2016"/>
                  </a:lnTo>
                  <a:lnTo>
                    <a:pt x="3765" y="1938"/>
                  </a:lnTo>
                  <a:lnTo>
                    <a:pt x="3817" y="1858"/>
                  </a:lnTo>
                  <a:lnTo>
                    <a:pt x="3871" y="1778"/>
                  </a:lnTo>
                  <a:lnTo>
                    <a:pt x="3923" y="1694"/>
                  </a:lnTo>
                  <a:lnTo>
                    <a:pt x="3923" y="1694"/>
                  </a:lnTo>
                  <a:lnTo>
                    <a:pt x="3975" y="1610"/>
                  </a:lnTo>
                  <a:lnTo>
                    <a:pt x="4021" y="1532"/>
                  </a:lnTo>
                  <a:lnTo>
                    <a:pt x="4063" y="1460"/>
                  </a:lnTo>
                  <a:lnTo>
                    <a:pt x="4101" y="1390"/>
                  </a:lnTo>
                  <a:lnTo>
                    <a:pt x="4135" y="1320"/>
                  </a:lnTo>
                  <a:lnTo>
                    <a:pt x="4169" y="1250"/>
                  </a:lnTo>
                  <a:lnTo>
                    <a:pt x="4203" y="1174"/>
                  </a:lnTo>
                  <a:lnTo>
                    <a:pt x="4237" y="1094"/>
                  </a:lnTo>
                  <a:lnTo>
                    <a:pt x="5195" y="1748"/>
                  </a:lnTo>
                  <a:close/>
                  <a:moveTo>
                    <a:pt x="1252" y="102"/>
                  </a:moveTo>
                  <a:lnTo>
                    <a:pt x="1252" y="102"/>
                  </a:lnTo>
                  <a:lnTo>
                    <a:pt x="1266" y="222"/>
                  </a:lnTo>
                  <a:lnTo>
                    <a:pt x="1278" y="338"/>
                  </a:lnTo>
                  <a:lnTo>
                    <a:pt x="1288" y="450"/>
                  </a:lnTo>
                  <a:lnTo>
                    <a:pt x="1298" y="562"/>
                  </a:lnTo>
                  <a:lnTo>
                    <a:pt x="1304" y="672"/>
                  </a:lnTo>
                  <a:lnTo>
                    <a:pt x="1310" y="782"/>
                  </a:lnTo>
                  <a:lnTo>
                    <a:pt x="1312" y="892"/>
                  </a:lnTo>
                  <a:lnTo>
                    <a:pt x="1314" y="1004"/>
                  </a:lnTo>
                  <a:lnTo>
                    <a:pt x="1312" y="1120"/>
                  </a:lnTo>
                  <a:lnTo>
                    <a:pt x="1310" y="1240"/>
                  </a:lnTo>
                  <a:lnTo>
                    <a:pt x="1306" y="1364"/>
                  </a:lnTo>
                  <a:lnTo>
                    <a:pt x="1300" y="1492"/>
                  </a:lnTo>
                  <a:lnTo>
                    <a:pt x="1292" y="1628"/>
                  </a:lnTo>
                  <a:lnTo>
                    <a:pt x="1282" y="1772"/>
                  </a:lnTo>
                  <a:lnTo>
                    <a:pt x="1256" y="2086"/>
                  </a:lnTo>
                  <a:lnTo>
                    <a:pt x="182" y="2012"/>
                  </a:lnTo>
                  <a:lnTo>
                    <a:pt x="182" y="2012"/>
                  </a:lnTo>
                  <a:lnTo>
                    <a:pt x="200" y="1870"/>
                  </a:lnTo>
                  <a:lnTo>
                    <a:pt x="218" y="1730"/>
                  </a:lnTo>
                  <a:lnTo>
                    <a:pt x="232" y="1592"/>
                  </a:lnTo>
                  <a:lnTo>
                    <a:pt x="246" y="1456"/>
                  </a:lnTo>
                  <a:lnTo>
                    <a:pt x="256" y="1324"/>
                  </a:lnTo>
                  <a:lnTo>
                    <a:pt x="266" y="1192"/>
                  </a:lnTo>
                  <a:lnTo>
                    <a:pt x="272" y="1064"/>
                  </a:lnTo>
                  <a:lnTo>
                    <a:pt x="278" y="936"/>
                  </a:lnTo>
                  <a:lnTo>
                    <a:pt x="280" y="812"/>
                  </a:lnTo>
                  <a:lnTo>
                    <a:pt x="280" y="690"/>
                  </a:lnTo>
                  <a:lnTo>
                    <a:pt x="280" y="568"/>
                  </a:lnTo>
                  <a:lnTo>
                    <a:pt x="276" y="450"/>
                  </a:lnTo>
                  <a:lnTo>
                    <a:pt x="270" y="334"/>
                  </a:lnTo>
                  <a:lnTo>
                    <a:pt x="262" y="222"/>
                  </a:lnTo>
                  <a:lnTo>
                    <a:pt x="252" y="110"/>
                  </a:lnTo>
                  <a:lnTo>
                    <a:pt x="238" y="0"/>
                  </a:lnTo>
                  <a:lnTo>
                    <a:pt x="1252" y="102"/>
                  </a:lnTo>
                  <a:close/>
                  <a:moveTo>
                    <a:pt x="2841" y="412"/>
                  </a:moveTo>
                  <a:lnTo>
                    <a:pt x="2841" y="412"/>
                  </a:lnTo>
                  <a:lnTo>
                    <a:pt x="2855" y="520"/>
                  </a:lnTo>
                  <a:lnTo>
                    <a:pt x="2869" y="626"/>
                  </a:lnTo>
                  <a:lnTo>
                    <a:pt x="2881" y="734"/>
                  </a:lnTo>
                  <a:lnTo>
                    <a:pt x="2889" y="844"/>
                  </a:lnTo>
                  <a:lnTo>
                    <a:pt x="2897" y="952"/>
                  </a:lnTo>
                  <a:lnTo>
                    <a:pt x="2903" y="1064"/>
                  </a:lnTo>
                  <a:lnTo>
                    <a:pt x="2907" y="1176"/>
                  </a:lnTo>
                  <a:lnTo>
                    <a:pt x="2909" y="1290"/>
                  </a:lnTo>
                  <a:lnTo>
                    <a:pt x="2909" y="1408"/>
                  </a:lnTo>
                  <a:lnTo>
                    <a:pt x="2909" y="1528"/>
                  </a:lnTo>
                  <a:lnTo>
                    <a:pt x="2905" y="1650"/>
                  </a:lnTo>
                  <a:lnTo>
                    <a:pt x="2901" y="1778"/>
                  </a:lnTo>
                  <a:lnTo>
                    <a:pt x="2895" y="1908"/>
                  </a:lnTo>
                  <a:lnTo>
                    <a:pt x="2887" y="2042"/>
                  </a:lnTo>
                  <a:lnTo>
                    <a:pt x="2877" y="2182"/>
                  </a:lnTo>
                  <a:lnTo>
                    <a:pt x="2865" y="2326"/>
                  </a:lnTo>
                  <a:lnTo>
                    <a:pt x="1796" y="2254"/>
                  </a:lnTo>
                  <a:lnTo>
                    <a:pt x="1796" y="2254"/>
                  </a:lnTo>
                  <a:lnTo>
                    <a:pt x="1810" y="2122"/>
                  </a:lnTo>
                  <a:lnTo>
                    <a:pt x="1824" y="1994"/>
                  </a:lnTo>
                  <a:lnTo>
                    <a:pt x="1836" y="1868"/>
                  </a:lnTo>
                  <a:lnTo>
                    <a:pt x="1846" y="1746"/>
                  </a:lnTo>
                  <a:lnTo>
                    <a:pt x="1854" y="1626"/>
                  </a:lnTo>
                  <a:lnTo>
                    <a:pt x="1862" y="1508"/>
                  </a:lnTo>
                  <a:lnTo>
                    <a:pt x="1866" y="1392"/>
                  </a:lnTo>
                  <a:lnTo>
                    <a:pt x="1870" y="1276"/>
                  </a:lnTo>
                  <a:lnTo>
                    <a:pt x="1872" y="1160"/>
                  </a:lnTo>
                  <a:lnTo>
                    <a:pt x="1872" y="1044"/>
                  </a:lnTo>
                  <a:lnTo>
                    <a:pt x="1870" y="926"/>
                  </a:lnTo>
                  <a:lnTo>
                    <a:pt x="1866" y="808"/>
                  </a:lnTo>
                  <a:lnTo>
                    <a:pt x="1862" y="686"/>
                  </a:lnTo>
                  <a:lnTo>
                    <a:pt x="1854" y="564"/>
                  </a:lnTo>
                  <a:lnTo>
                    <a:pt x="1846" y="438"/>
                  </a:lnTo>
                  <a:lnTo>
                    <a:pt x="1836" y="308"/>
                  </a:lnTo>
                  <a:lnTo>
                    <a:pt x="2841" y="4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グループ化 10"/>
          <p:cNvGrpSpPr/>
          <p:nvPr/>
        </p:nvGrpSpPr>
        <p:grpSpPr>
          <a:xfrm>
            <a:off x="6737400" y="1670040"/>
            <a:ext cx="3362400" cy="7505640"/>
            <a:chOff x="6737400" y="1670040"/>
            <a:chExt cx="3362400" cy="7505640"/>
          </a:xfrm>
        </p:grpSpPr>
        <p:sp>
          <p:nvSpPr>
            <p:cNvPr id="49" name="Freeform 5"/>
            <p:cNvSpPr/>
            <p:nvPr/>
          </p:nvSpPr>
          <p:spPr>
            <a:xfrm>
              <a:off x="8077320" y="1670040"/>
              <a:ext cx="2022480" cy="21049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2104920"/>
                <a:gd name="textAreaBottom" fmla="*/ 2105280 h 2104920"/>
              </a:gdLst>
              <a:ahLst/>
              <a:rect l="textAreaLeft" t="textAreaTop" r="textAreaRight" b="textAreaBottom"/>
              <a:pathLst>
                <a:path w="1274" h="1326">
                  <a:moveTo>
                    <a:pt x="1190" y="312"/>
                  </a:moveTo>
                  <a:lnTo>
                    <a:pt x="1190" y="312"/>
                  </a:lnTo>
                  <a:lnTo>
                    <a:pt x="1170" y="294"/>
                  </a:lnTo>
                  <a:lnTo>
                    <a:pt x="1148" y="278"/>
                  </a:lnTo>
                  <a:lnTo>
                    <a:pt x="1126" y="264"/>
                  </a:lnTo>
                  <a:lnTo>
                    <a:pt x="1102" y="250"/>
                  </a:lnTo>
                  <a:lnTo>
                    <a:pt x="1078" y="238"/>
                  </a:lnTo>
                  <a:lnTo>
                    <a:pt x="1052" y="228"/>
                  </a:lnTo>
                  <a:lnTo>
                    <a:pt x="1026" y="218"/>
                  </a:lnTo>
                  <a:lnTo>
                    <a:pt x="998" y="210"/>
                  </a:lnTo>
                  <a:lnTo>
                    <a:pt x="998" y="210"/>
                  </a:lnTo>
                  <a:lnTo>
                    <a:pt x="972" y="204"/>
                  </a:lnTo>
                  <a:lnTo>
                    <a:pt x="944" y="200"/>
                  </a:lnTo>
                  <a:lnTo>
                    <a:pt x="918" y="198"/>
                  </a:lnTo>
                  <a:lnTo>
                    <a:pt x="892" y="196"/>
                  </a:lnTo>
                  <a:lnTo>
                    <a:pt x="892" y="196"/>
                  </a:lnTo>
                  <a:lnTo>
                    <a:pt x="890" y="196"/>
                  </a:lnTo>
                  <a:lnTo>
                    <a:pt x="890" y="196"/>
                  </a:lnTo>
                  <a:lnTo>
                    <a:pt x="860" y="198"/>
                  </a:lnTo>
                  <a:lnTo>
                    <a:pt x="834" y="204"/>
                  </a:lnTo>
                  <a:lnTo>
                    <a:pt x="812" y="212"/>
                  </a:lnTo>
                  <a:lnTo>
                    <a:pt x="796" y="222"/>
                  </a:lnTo>
                  <a:lnTo>
                    <a:pt x="782" y="234"/>
                  </a:lnTo>
                  <a:lnTo>
                    <a:pt x="774" y="246"/>
                  </a:lnTo>
                  <a:lnTo>
                    <a:pt x="766" y="260"/>
                  </a:lnTo>
                  <a:lnTo>
                    <a:pt x="762" y="272"/>
                  </a:lnTo>
                  <a:lnTo>
                    <a:pt x="762" y="272"/>
                  </a:lnTo>
                  <a:lnTo>
                    <a:pt x="760" y="284"/>
                  </a:lnTo>
                  <a:lnTo>
                    <a:pt x="760" y="294"/>
                  </a:lnTo>
                  <a:lnTo>
                    <a:pt x="762" y="304"/>
                  </a:lnTo>
                  <a:lnTo>
                    <a:pt x="764" y="312"/>
                  </a:lnTo>
                  <a:lnTo>
                    <a:pt x="768" y="320"/>
                  </a:lnTo>
                  <a:lnTo>
                    <a:pt x="774" y="328"/>
                  </a:lnTo>
                  <a:lnTo>
                    <a:pt x="786" y="342"/>
                  </a:lnTo>
                  <a:lnTo>
                    <a:pt x="800" y="354"/>
                  </a:lnTo>
                  <a:lnTo>
                    <a:pt x="814" y="362"/>
                  </a:lnTo>
                  <a:lnTo>
                    <a:pt x="838" y="374"/>
                  </a:lnTo>
                  <a:lnTo>
                    <a:pt x="838" y="374"/>
                  </a:lnTo>
                  <a:lnTo>
                    <a:pt x="862" y="386"/>
                  </a:lnTo>
                  <a:lnTo>
                    <a:pt x="886" y="400"/>
                  </a:lnTo>
                  <a:lnTo>
                    <a:pt x="910" y="416"/>
                  </a:lnTo>
                  <a:lnTo>
                    <a:pt x="934" y="434"/>
                  </a:lnTo>
                  <a:lnTo>
                    <a:pt x="934" y="434"/>
                  </a:lnTo>
                  <a:lnTo>
                    <a:pt x="958" y="456"/>
                  </a:lnTo>
                  <a:lnTo>
                    <a:pt x="970" y="470"/>
                  </a:lnTo>
                  <a:lnTo>
                    <a:pt x="970" y="470"/>
                  </a:lnTo>
                  <a:lnTo>
                    <a:pt x="960" y="472"/>
                  </a:lnTo>
                  <a:lnTo>
                    <a:pt x="960" y="474"/>
                  </a:lnTo>
                  <a:lnTo>
                    <a:pt x="960" y="474"/>
                  </a:lnTo>
                  <a:lnTo>
                    <a:pt x="934" y="484"/>
                  </a:lnTo>
                  <a:lnTo>
                    <a:pt x="914" y="494"/>
                  </a:lnTo>
                  <a:lnTo>
                    <a:pt x="904" y="500"/>
                  </a:lnTo>
                  <a:lnTo>
                    <a:pt x="896" y="508"/>
                  </a:lnTo>
                  <a:lnTo>
                    <a:pt x="890" y="516"/>
                  </a:lnTo>
                  <a:lnTo>
                    <a:pt x="884" y="526"/>
                  </a:lnTo>
                  <a:lnTo>
                    <a:pt x="884" y="526"/>
                  </a:lnTo>
                  <a:lnTo>
                    <a:pt x="856" y="522"/>
                  </a:lnTo>
                  <a:lnTo>
                    <a:pt x="826" y="520"/>
                  </a:lnTo>
                  <a:lnTo>
                    <a:pt x="794" y="518"/>
                  </a:lnTo>
                  <a:lnTo>
                    <a:pt x="764" y="518"/>
                  </a:lnTo>
                  <a:lnTo>
                    <a:pt x="764" y="518"/>
                  </a:lnTo>
                  <a:lnTo>
                    <a:pt x="774" y="506"/>
                  </a:lnTo>
                  <a:lnTo>
                    <a:pt x="782" y="492"/>
                  </a:lnTo>
                  <a:lnTo>
                    <a:pt x="788" y="480"/>
                  </a:lnTo>
                  <a:lnTo>
                    <a:pt x="792" y="466"/>
                  </a:lnTo>
                  <a:lnTo>
                    <a:pt x="792" y="466"/>
                  </a:lnTo>
                  <a:lnTo>
                    <a:pt x="796" y="450"/>
                  </a:lnTo>
                  <a:lnTo>
                    <a:pt x="798" y="428"/>
                  </a:lnTo>
                  <a:lnTo>
                    <a:pt x="796" y="406"/>
                  </a:lnTo>
                  <a:lnTo>
                    <a:pt x="794" y="394"/>
                  </a:lnTo>
                  <a:lnTo>
                    <a:pt x="792" y="380"/>
                  </a:lnTo>
                  <a:lnTo>
                    <a:pt x="786" y="368"/>
                  </a:lnTo>
                  <a:lnTo>
                    <a:pt x="780" y="356"/>
                  </a:lnTo>
                  <a:lnTo>
                    <a:pt x="772" y="344"/>
                  </a:lnTo>
                  <a:lnTo>
                    <a:pt x="762" y="332"/>
                  </a:lnTo>
                  <a:lnTo>
                    <a:pt x="748" y="320"/>
                  </a:lnTo>
                  <a:lnTo>
                    <a:pt x="734" y="308"/>
                  </a:lnTo>
                  <a:lnTo>
                    <a:pt x="716" y="298"/>
                  </a:lnTo>
                  <a:lnTo>
                    <a:pt x="696" y="288"/>
                  </a:lnTo>
                  <a:lnTo>
                    <a:pt x="696" y="288"/>
                  </a:lnTo>
                  <a:lnTo>
                    <a:pt x="700" y="262"/>
                  </a:lnTo>
                  <a:lnTo>
                    <a:pt x="700" y="240"/>
                  </a:lnTo>
                  <a:lnTo>
                    <a:pt x="700" y="218"/>
                  </a:lnTo>
                  <a:lnTo>
                    <a:pt x="698" y="200"/>
                  </a:lnTo>
                  <a:lnTo>
                    <a:pt x="698" y="200"/>
                  </a:lnTo>
                  <a:lnTo>
                    <a:pt x="694" y="182"/>
                  </a:lnTo>
                  <a:lnTo>
                    <a:pt x="688" y="162"/>
                  </a:lnTo>
                  <a:lnTo>
                    <a:pt x="680" y="146"/>
                  </a:lnTo>
                  <a:lnTo>
                    <a:pt x="672" y="128"/>
                  </a:lnTo>
                  <a:lnTo>
                    <a:pt x="662" y="112"/>
                  </a:lnTo>
                  <a:lnTo>
                    <a:pt x="650" y="96"/>
                  </a:lnTo>
                  <a:lnTo>
                    <a:pt x="636" y="80"/>
                  </a:lnTo>
                  <a:lnTo>
                    <a:pt x="620" y="66"/>
                  </a:lnTo>
                  <a:lnTo>
                    <a:pt x="620" y="66"/>
                  </a:lnTo>
                  <a:lnTo>
                    <a:pt x="594" y="44"/>
                  </a:lnTo>
                  <a:lnTo>
                    <a:pt x="566" y="26"/>
                  </a:lnTo>
                  <a:lnTo>
                    <a:pt x="540" y="14"/>
                  </a:lnTo>
                  <a:lnTo>
                    <a:pt x="512" y="4"/>
                  </a:lnTo>
                  <a:lnTo>
                    <a:pt x="512" y="4"/>
                  </a:lnTo>
                  <a:lnTo>
                    <a:pt x="486" y="0"/>
                  </a:lnTo>
                  <a:lnTo>
                    <a:pt x="464" y="0"/>
                  </a:lnTo>
                  <a:lnTo>
                    <a:pt x="442" y="4"/>
                  </a:lnTo>
                  <a:lnTo>
                    <a:pt x="422" y="12"/>
                  </a:lnTo>
                  <a:lnTo>
                    <a:pt x="406" y="26"/>
                  </a:lnTo>
                  <a:lnTo>
                    <a:pt x="392" y="42"/>
                  </a:lnTo>
                  <a:lnTo>
                    <a:pt x="380" y="60"/>
                  </a:lnTo>
                  <a:lnTo>
                    <a:pt x="372" y="84"/>
                  </a:lnTo>
                  <a:lnTo>
                    <a:pt x="372" y="84"/>
                  </a:lnTo>
                  <a:lnTo>
                    <a:pt x="370" y="102"/>
                  </a:lnTo>
                  <a:lnTo>
                    <a:pt x="370" y="120"/>
                  </a:lnTo>
                  <a:lnTo>
                    <a:pt x="376" y="142"/>
                  </a:lnTo>
                  <a:lnTo>
                    <a:pt x="386" y="168"/>
                  </a:lnTo>
                  <a:lnTo>
                    <a:pt x="386" y="168"/>
                  </a:lnTo>
                  <a:lnTo>
                    <a:pt x="390" y="180"/>
                  </a:lnTo>
                  <a:lnTo>
                    <a:pt x="392" y="200"/>
                  </a:lnTo>
                  <a:lnTo>
                    <a:pt x="394" y="234"/>
                  </a:lnTo>
                  <a:lnTo>
                    <a:pt x="390" y="280"/>
                  </a:lnTo>
                  <a:lnTo>
                    <a:pt x="390" y="280"/>
                  </a:lnTo>
                  <a:lnTo>
                    <a:pt x="382" y="282"/>
                  </a:lnTo>
                  <a:lnTo>
                    <a:pt x="382" y="282"/>
                  </a:lnTo>
                  <a:lnTo>
                    <a:pt x="364" y="282"/>
                  </a:lnTo>
                  <a:lnTo>
                    <a:pt x="364" y="282"/>
                  </a:lnTo>
                  <a:lnTo>
                    <a:pt x="344" y="282"/>
                  </a:lnTo>
                  <a:lnTo>
                    <a:pt x="344" y="282"/>
                  </a:lnTo>
                  <a:lnTo>
                    <a:pt x="332" y="278"/>
                  </a:lnTo>
                  <a:lnTo>
                    <a:pt x="320" y="278"/>
                  </a:lnTo>
                  <a:lnTo>
                    <a:pt x="308" y="278"/>
                  </a:lnTo>
                  <a:lnTo>
                    <a:pt x="294" y="280"/>
                  </a:lnTo>
                  <a:lnTo>
                    <a:pt x="280" y="284"/>
                  </a:lnTo>
                  <a:lnTo>
                    <a:pt x="266" y="288"/>
                  </a:lnTo>
                  <a:lnTo>
                    <a:pt x="236" y="302"/>
                  </a:lnTo>
                  <a:lnTo>
                    <a:pt x="234" y="302"/>
                  </a:lnTo>
                  <a:lnTo>
                    <a:pt x="234" y="302"/>
                  </a:lnTo>
                  <a:lnTo>
                    <a:pt x="218" y="310"/>
                  </a:lnTo>
                  <a:lnTo>
                    <a:pt x="206" y="320"/>
                  </a:lnTo>
                  <a:lnTo>
                    <a:pt x="194" y="330"/>
                  </a:lnTo>
                  <a:lnTo>
                    <a:pt x="182" y="340"/>
                  </a:lnTo>
                  <a:lnTo>
                    <a:pt x="174" y="352"/>
                  </a:lnTo>
                  <a:lnTo>
                    <a:pt x="166" y="362"/>
                  </a:lnTo>
                  <a:lnTo>
                    <a:pt x="160" y="374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54" y="402"/>
                  </a:lnTo>
                  <a:lnTo>
                    <a:pt x="154" y="420"/>
                  </a:lnTo>
                  <a:lnTo>
                    <a:pt x="156" y="442"/>
                  </a:lnTo>
                  <a:lnTo>
                    <a:pt x="160" y="452"/>
                  </a:lnTo>
                  <a:lnTo>
                    <a:pt x="166" y="464"/>
                  </a:lnTo>
                  <a:lnTo>
                    <a:pt x="172" y="476"/>
                  </a:lnTo>
                  <a:lnTo>
                    <a:pt x="182" y="486"/>
                  </a:lnTo>
                  <a:lnTo>
                    <a:pt x="194" y="498"/>
                  </a:lnTo>
                  <a:lnTo>
                    <a:pt x="208" y="508"/>
                  </a:lnTo>
                  <a:lnTo>
                    <a:pt x="224" y="518"/>
                  </a:lnTo>
                  <a:lnTo>
                    <a:pt x="244" y="528"/>
                  </a:lnTo>
                  <a:lnTo>
                    <a:pt x="266" y="536"/>
                  </a:lnTo>
                  <a:lnTo>
                    <a:pt x="292" y="544"/>
                  </a:lnTo>
                  <a:lnTo>
                    <a:pt x="292" y="544"/>
                  </a:lnTo>
                  <a:lnTo>
                    <a:pt x="330" y="552"/>
                  </a:lnTo>
                  <a:lnTo>
                    <a:pt x="314" y="610"/>
                  </a:lnTo>
                  <a:lnTo>
                    <a:pt x="314" y="610"/>
                  </a:lnTo>
                  <a:lnTo>
                    <a:pt x="246" y="634"/>
                  </a:lnTo>
                  <a:lnTo>
                    <a:pt x="186" y="660"/>
                  </a:lnTo>
                  <a:lnTo>
                    <a:pt x="136" y="684"/>
                  </a:lnTo>
                  <a:lnTo>
                    <a:pt x="94" y="710"/>
                  </a:lnTo>
                  <a:lnTo>
                    <a:pt x="76" y="722"/>
                  </a:lnTo>
                  <a:lnTo>
                    <a:pt x="60" y="734"/>
                  </a:lnTo>
                  <a:lnTo>
                    <a:pt x="46" y="748"/>
                  </a:lnTo>
                  <a:lnTo>
                    <a:pt x="34" y="762"/>
                  </a:lnTo>
                  <a:lnTo>
                    <a:pt x="24" y="774"/>
                  </a:lnTo>
                  <a:lnTo>
                    <a:pt x="16" y="788"/>
                  </a:lnTo>
                  <a:lnTo>
                    <a:pt x="8" y="802"/>
                  </a:lnTo>
                  <a:lnTo>
                    <a:pt x="4" y="816"/>
                  </a:lnTo>
                  <a:lnTo>
                    <a:pt x="4" y="816"/>
                  </a:lnTo>
                  <a:lnTo>
                    <a:pt x="0" y="836"/>
                  </a:lnTo>
                  <a:lnTo>
                    <a:pt x="0" y="858"/>
                  </a:lnTo>
                  <a:lnTo>
                    <a:pt x="4" y="880"/>
                  </a:lnTo>
                  <a:lnTo>
                    <a:pt x="10" y="904"/>
                  </a:lnTo>
                  <a:lnTo>
                    <a:pt x="18" y="926"/>
                  </a:lnTo>
                  <a:lnTo>
                    <a:pt x="30" y="952"/>
                  </a:lnTo>
                  <a:lnTo>
                    <a:pt x="46" y="978"/>
                  </a:lnTo>
                  <a:lnTo>
                    <a:pt x="66" y="1004"/>
                  </a:lnTo>
                  <a:lnTo>
                    <a:pt x="66" y="1004"/>
                  </a:lnTo>
                  <a:lnTo>
                    <a:pt x="92" y="1036"/>
                  </a:lnTo>
                  <a:lnTo>
                    <a:pt x="122" y="1068"/>
                  </a:lnTo>
                  <a:lnTo>
                    <a:pt x="152" y="1098"/>
                  </a:lnTo>
                  <a:lnTo>
                    <a:pt x="186" y="1126"/>
                  </a:lnTo>
                  <a:lnTo>
                    <a:pt x="186" y="1126"/>
                  </a:lnTo>
                  <a:lnTo>
                    <a:pt x="232" y="1164"/>
                  </a:lnTo>
                  <a:lnTo>
                    <a:pt x="266" y="1188"/>
                  </a:lnTo>
                  <a:lnTo>
                    <a:pt x="290" y="1200"/>
                  </a:lnTo>
                  <a:lnTo>
                    <a:pt x="306" y="1206"/>
                  </a:lnTo>
                  <a:lnTo>
                    <a:pt x="306" y="1206"/>
                  </a:lnTo>
                  <a:lnTo>
                    <a:pt x="326" y="1210"/>
                  </a:lnTo>
                  <a:lnTo>
                    <a:pt x="344" y="1210"/>
                  </a:lnTo>
                  <a:lnTo>
                    <a:pt x="344" y="1210"/>
                  </a:lnTo>
                  <a:lnTo>
                    <a:pt x="360" y="1210"/>
                  </a:lnTo>
                  <a:lnTo>
                    <a:pt x="374" y="1208"/>
                  </a:lnTo>
                  <a:lnTo>
                    <a:pt x="390" y="1202"/>
                  </a:lnTo>
                  <a:lnTo>
                    <a:pt x="406" y="1196"/>
                  </a:lnTo>
                  <a:lnTo>
                    <a:pt x="424" y="1186"/>
                  </a:lnTo>
                  <a:lnTo>
                    <a:pt x="440" y="1172"/>
                  </a:lnTo>
                  <a:lnTo>
                    <a:pt x="456" y="1154"/>
                  </a:lnTo>
                  <a:lnTo>
                    <a:pt x="470" y="1132"/>
                  </a:lnTo>
                  <a:lnTo>
                    <a:pt x="470" y="1132"/>
                  </a:lnTo>
                  <a:lnTo>
                    <a:pt x="482" y="1112"/>
                  </a:lnTo>
                  <a:lnTo>
                    <a:pt x="492" y="1088"/>
                  </a:lnTo>
                  <a:lnTo>
                    <a:pt x="492" y="1088"/>
                  </a:lnTo>
                  <a:lnTo>
                    <a:pt x="506" y="1118"/>
                  </a:lnTo>
                  <a:lnTo>
                    <a:pt x="520" y="1146"/>
                  </a:lnTo>
                  <a:lnTo>
                    <a:pt x="538" y="1172"/>
                  </a:lnTo>
                  <a:lnTo>
                    <a:pt x="558" y="1198"/>
                  </a:lnTo>
                  <a:lnTo>
                    <a:pt x="558" y="1200"/>
                  </a:lnTo>
                  <a:lnTo>
                    <a:pt x="558" y="1200"/>
                  </a:lnTo>
                  <a:lnTo>
                    <a:pt x="578" y="1220"/>
                  </a:lnTo>
                  <a:lnTo>
                    <a:pt x="598" y="1240"/>
                  </a:lnTo>
                  <a:lnTo>
                    <a:pt x="620" y="1258"/>
                  </a:lnTo>
                  <a:lnTo>
                    <a:pt x="642" y="1274"/>
                  </a:lnTo>
                  <a:lnTo>
                    <a:pt x="666" y="1288"/>
                  </a:lnTo>
                  <a:lnTo>
                    <a:pt x="688" y="1300"/>
                  </a:lnTo>
                  <a:lnTo>
                    <a:pt x="714" y="1310"/>
                  </a:lnTo>
                  <a:lnTo>
                    <a:pt x="738" y="1318"/>
                  </a:lnTo>
                  <a:lnTo>
                    <a:pt x="738" y="1318"/>
                  </a:lnTo>
                  <a:lnTo>
                    <a:pt x="772" y="1324"/>
                  </a:lnTo>
                  <a:lnTo>
                    <a:pt x="804" y="1326"/>
                  </a:lnTo>
                  <a:lnTo>
                    <a:pt x="804" y="1326"/>
                  </a:lnTo>
                  <a:lnTo>
                    <a:pt x="832" y="1324"/>
                  </a:lnTo>
                  <a:lnTo>
                    <a:pt x="862" y="1320"/>
                  </a:lnTo>
                  <a:lnTo>
                    <a:pt x="890" y="1312"/>
                  </a:lnTo>
                  <a:lnTo>
                    <a:pt x="918" y="1302"/>
                  </a:lnTo>
                  <a:lnTo>
                    <a:pt x="948" y="1288"/>
                  </a:lnTo>
                  <a:lnTo>
                    <a:pt x="976" y="1270"/>
                  </a:lnTo>
                  <a:lnTo>
                    <a:pt x="1006" y="1252"/>
                  </a:lnTo>
                  <a:lnTo>
                    <a:pt x="1034" y="1228"/>
                  </a:lnTo>
                  <a:lnTo>
                    <a:pt x="1034" y="1228"/>
                  </a:lnTo>
                  <a:lnTo>
                    <a:pt x="1066" y="1200"/>
                  </a:lnTo>
                  <a:lnTo>
                    <a:pt x="1094" y="1172"/>
                  </a:lnTo>
                  <a:lnTo>
                    <a:pt x="1118" y="1142"/>
                  </a:lnTo>
                  <a:lnTo>
                    <a:pt x="1142" y="1110"/>
                  </a:lnTo>
                  <a:lnTo>
                    <a:pt x="1160" y="1078"/>
                  </a:lnTo>
                  <a:lnTo>
                    <a:pt x="1176" y="1046"/>
                  </a:lnTo>
                  <a:lnTo>
                    <a:pt x="1190" y="1012"/>
                  </a:lnTo>
                  <a:lnTo>
                    <a:pt x="1200" y="976"/>
                  </a:lnTo>
                  <a:lnTo>
                    <a:pt x="1200" y="976"/>
                  </a:lnTo>
                  <a:lnTo>
                    <a:pt x="1210" y="938"/>
                  </a:lnTo>
                  <a:lnTo>
                    <a:pt x="1214" y="900"/>
                  </a:lnTo>
                  <a:lnTo>
                    <a:pt x="1216" y="864"/>
                  </a:lnTo>
                  <a:lnTo>
                    <a:pt x="1214" y="830"/>
                  </a:lnTo>
                  <a:lnTo>
                    <a:pt x="1208" y="796"/>
                  </a:lnTo>
                  <a:lnTo>
                    <a:pt x="1200" y="762"/>
                  </a:lnTo>
                  <a:lnTo>
                    <a:pt x="1188" y="730"/>
                  </a:lnTo>
                  <a:lnTo>
                    <a:pt x="1172" y="700"/>
                  </a:lnTo>
                  <a:lnTo>
                    <a:pt x="1172" y="700"/>
                  </a:lnTo>
                  <a:lnTo>
                    <a:pt x="1150" y="668"/>
                  </a:lnTo>
                  <a:lnTo>
                    <a:pt x="1138" y="652"/>
                  </a:lnTo>
                  <a:lnTo>
                    <a:pt x="1124" y="638"/>
                  </a:lnTo>
                  <a:lnTo>
                    <a:pt x="1124" y="638"/>
                  </a:lnTo>
                  <a:lnTo>
                    <a:pt x="1160" y="632"/>
                  </a:lnTo>
                  <a:lnTo>
                    <a:pt x="1188" y="622"/>
                  </a:lnTo>
                  <a:lnTo>
                    <a:pt x="1210" y="610"/>
                  </a:lnTo>
                  <a:lnTo>
                    <a:pt x="1230" y="598"/>
                  </a:lnTo>
                  <a:lnTo>
                    <a:pt x="1244" y="584"/>
                  </a:lnTo>
                  <a:lnTo>
                    <a:pt x="1254" y="568"/>
                  </a:lnTo>
                  <a:lnTo>
                    <a:pt x="1262" y="554"/>
                  </a:lnTo>
                  <a:lnTo>
                    <a:pt x="1266" y="538"/>
                  </a:lnTo>
                  <a:lnTo>
                    <a:pt x="1266" y="538"/>
                  </a:lnTo>
                  <a:lnTo>
                    <a:pt x="1272" y="516"/>
                  </a:lnTo>
                  <a:lnTo>
                    <a:pt x="1274" y="490"/>
                  </a:lnTo>
                  <a:lnTo>
                    <a:pt x="1272" y="464"/>
                  </a:lnTo>
                  <a:lnTo>
                    <a:pt x="1268" y="434"/>
                  </a:lnTo>
                  <a:lnTo>
                    <a:pt x="1264" y="420"/>
                  </a:lnTo>
                  <a:lnTo>
                    <a:pt x="1258" y="404"/>
                  </a:lnTo>
                  <a:lnTo>
                    <a:pt x="1250" y="390"/>
                  </a:lnTo>
                  <a:lnTo>
                    <a:pt x="1242" y="374"/>
                  </a:lnTo>
                  <a:lnTo>
                    <a:pt x="1232" y="358"/>
                  </a:lnTo>
                  <a:lnTo>
                    <a:pt x="1220" y="342"/>
                  </a:lnTo>
                  <a:lnTo>
                    <a:pt x="1206" y="328"/>
                  </a:lnTo>
                  <a:lnTo>
                    <a:pt x="1190" y="312"/>
                  </a:lnTo>
                  <a:lnTo>
                    <a:pt x="1190" y="312"/>
                  </a:lnTo>
                  <a:close/>
                  <a:moveTo>
                    <a:pt x="882" y="782"/>
                  </a:moveTo>
                  <a:lnTo>
                    <a:pt x="882" y="782"/>
                  </a:lnTo>
                  <a:lnTo>
                    <a:pt x="902" y="790"/>
                  </a:lnTo>
                  <a:lnTo>
                    <a:pt x="918" y="796"/>
                  </a:lnTo>
                  <a:lnTo>
                    <a:pt x="930" y="804"/>
                  </a:lnTo>
                  <a:lnTo>
                    <a:pt x="938" y="814"/>
                  </a:lnTo>
                  <a:lnTo>
                    <a:pt x="942" y="824"/>
                  </a:lnTo>
                  <a:lnTo>
                    <a:pt x="944" y="836"/>
                  </a:lnTo>
                  <a:lnTo>
                    <a:pt x="944" y="850"/>
                  </a:lnTo>
                  <a:lnTo>
                    <a:pt x="940" y="864"/>
                  </a:lnTo>
                  <a:lnTo>
                    <a:pt x="940" y="864"/>
                  </a:lnTo>
                  <a:lnTo>
                    <a:pt x="938" y="870"/>
                  </a:lnTo>
                  <a:lnTo>
                    <a:pt x="930" y="882"/>
                  </a:lnTo>
                  <a:lnTo>
                    <a:pt x="914" y="906"/>
                  </a:lnTo>
                  <a:lnTo>
                    <a:pt x="886" y="942"/>
                  </a:lnTo>
                  <a:lnTo>
                    <a:pt x="886" y="942"/>
                  </a:lnTo>
                  <a:lnTo>
                    <a:pt x="886" y="942"/>
                  </a:lnTo>
                  <a:lnTo>
                    <a:pt x="872" y="960"/>
                  </a:lnTo>
                  <a:lnTo>
                    <a:pt x="856" y="972"/>
                  </a:lnTo>
                  <a:lnTo>
                    <a:pt x="840" y="984"/>
                  </a:lnTo>
                  <a:lnTo>
                    <a:pt x="822" y="994"/>
                  </a:lnTo>
                  <a:lnTo>
                    <a:pt x="820" y="994"/>
                  </a:lnTo>
                  <a:lnTo>
                    <a:pt x="820" y="994"/>
                  </a:lnTo>
                  <a:lnTo>
                    <a:pt x="804" y="1002"/>
                  </a:lnTo>
                  <a:lnTo>
                    <a:pt x="788" y="1006"/>
                  </a:lnTo>
                  <a:lnTo>
                    <a:pt x="772" y="1006"/>
                  </a:lnTo>
                  <a:lnTo>
                    <a:pt x="758" y="1004"/>
                  </a:lnTo>
                  <a:lnTo>
                    <a:pt x="758" y="1004"/>
                  </a:lnTo>
                  <a:lnTo>
                    <a:pt x="738" y="998"/>
                  </a:lnTo>
                  <a:lnTo>
                    <a:pt x="718" y="988"/>
                  </a:lnTo>
                  <a:lnTo>
                    <a:pt x="696" y="976"/>
                  </a:lnTo>
                  <a:lnTo>
                    <a:pt x="676" y="962"/>
                  </a:lnTo>
                  <a:lnTo>
                    <a:pt x="676" y="962"/>
                  </a:lnTo>
                  <a:lnTo>
                    <a:pt x="642" y="934"/>
                  </a:lnTo>
                  <a:lnTo>
                    <a:pt x="608" y="900"/>
                  </a:lnTo>
                  <a:lnTo>
                    <a:pt x="608" y="900"/>
                  </a:lnTo>
                  <a:lnTo>
                    <a:pt x="576" y="866"/>
                  </a:lnTo>
                  <a:lnTo>
                    <a:pt x="566" y="858"/>
                  </a:lnTo>
                  <a:lnTo>
                    <a:pt x="558" y="852"/>
                  </a:lnTo>
                  <a:lnTo>
                    <a:pt x="570" y="808"/>
                  </a:lnTo>
                  <a:lnTo>
                    <a:pt x="570" y="808"/>
                  </a:lnTo>
                  <a:lnTo>
                    <a:pt x="644" y="794"/>
                  </a:lnTo>
                  <a:lnTo>
                    <a:pt x="710" y="784"/>
                  </a:lnTo>
                  <a:lnTo>
                    <a:pt x="768" y="778"/>
                  </a:lnTo>
                  <a:lnTo>
                    <a:pt x="818" y="776"/>
                  </a:lnTo>
                  <a:lnTo>
                    <a:pt x="818" y="776"/>
                  </a:lnTo>
                  <a:lnTo>
                    <a:pt x="854" y="778"/>
                  </a:lnTo>
                  <a:lnTo>
                    <a:pt x="882" y="782"/>
                  </a:lnTo>
                  <a:lnTo>
                    <a:pt x="882" y="782"/>
                  </a:lnTo>
                  <a:close/>
                  <a:moveTo>
                    <a:pt x="236" y="896"/>
                  </a:moveTo>
                  <a:lnTo>
                    <a:pt x="236" y="896"/>
                  </a:lnTo>
                  <a:lnTo>
                    <a:pt x="228" y="916"/>
                  </a:lnTo>
                  <a:lnTo>
                    <a:pt x="228" y="916"/>
                  </a:lnTo>
                  <a:lnTo>
                    <a:pt x="214" y="904"/>
                  </a:lnTo>
                  <a:lnTo>
                    <a:pt x="214" y="904"/>
                  </a:lnTo>
                  <a:lnTo>
                    <a:pt x="236" y="896"/>
                  </a:lnTo>
                  <a:lnTo>
                    <a:pt x="23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7254720" y="3492360"/>
              <a:ext cx="2266920" cy="384156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3841560"/>
                <a:gd name="textAreaBottom" fmla="*/ 3841920 h 3841560"/>
              </a:gdLst>
              <a:ahLst/>
              <a:rect l="textAreaLeft" t="textAreaTop" r="textAreaRight" b="textAreaBottom"/>
              <a:pathLst>
                <a:path w="1428" h="2420">
                  <a:moveTo>
                    <a:pt x="1306" y="286"/>
                  </a:moveTo>
                  <a:lnTo>
                    <a:pt x="1306" y="284"/>
                  </a:lnTo>
                  <a:lnTo>
                    <a:pt x="1306" y="284"/>
                  </a:lnTo>
                  <a:lnTo>
                    <a:pt x="1274" y="256"/>
                  </a:lnTo>
                  <a:lnTo>
                    <a:pt x="1242" y="234"/>
                  </a:lnTo>
                  <a:lnTo>
                    <a:pt x="1226" y="224"/>
                  </a:lnTo>
                  <a:lnTo>
                    <a:pt x="1210" y="216"/>
                  </a:lnTo>
                  <a:lnTo>
                    <a:pt x="1192" y="210"/>
                  </a:lnTo>
                  <a:lnTo>
                    <a:pt x="1176" y="206"/>
                  </a:lnTo>
                  <a:lnTo>
                    <a:pt x="1176" y="206"/>
                  </a:lnTo>
                  <a:lnTo>
                    <a:pt x="1156" y="200"/>
                  </a:lnTo>
                  <a:lnTo>
                    <a:pt x="1136" y="198"/>
                  </a:lnTo>
                  <a:lnTo>
                    <a:pt x="1114" y="196"/>
                  </a:lnTo>
                  <a:lnTo>
                    <a:pt x="1094" y="194"/>
                  </a:lnTo>
                  <a:lnTo>
                    <a:pt x="1074" y="196"/>
                  </a:lnTo>
                  <a:lnTo>
                    <a:pt x="1056" y="196"/>
                  </a:lnTo>
                  <a:lnTo>
                    <a:pt x="1036" y="200"/>
                  </a:lnTo>
                  <a:lnTo>
                    <a:pt x="1016" y="204"/>
                  </a:lnTo>
                  <a:lnTo>
                    <a:pt x="1016" y="204"/>
                  </a:lnTo>
                  <a:lnTo>
                    <a:pt x="1016" y="204"/>
                  </a:lnTo>
                  <a:lnTo>
                    <a:pt x="990" y="214"/>
                  </a:lnTo>
                  <a:lnTo>
                    <a:pt x="964" y="228"/>
                  </a:lnTo>
                  <a:lnTo>
                    <a:pt x="938" y="244"/>
                  </a:lnTo>
                  <a:lnTo>
                    <a:pt x="912" y="264"/>
                  </a:lnTo>
                  <a:lnTo>
                    <a:pt x="888" y="288"/>
                  </a:lnTo>
                  <a:lnTo>
                    <a:pt x="862" y="316"/>
                  </a:lnTo>
                  <a:lnTo>
                    <a:pt x="836" y="346"/>
                  </a:lnTo>
                  <a:lnTo>
                    <a:pt x="812" y="382"/>
                  </a:lnTo>
                  <a:lnTo>
                    <a:pt x="812" y="382"/>
                  </a:lnTo>
                  <a:lnTo>
                    <a:pt x="818" y="366"/>
                  </a:lnTo>
                  <a:lnTo>
                    <a:pt x="820" y="356"/>
                  </a:lnTo>
                  <a:lnTo>
                    <a:pt x="820" y="356"/>
                  </a:lnTo>
                  <a:lnTo>
                    <a:pt x="828" y="320"/>
                  </a:lnTo>
                  <a:lnTo>
                    <a:pt x="830" y="282"/>
                  </a:lnTo>
                  <a:lnTo>
                    <a:pt x="828" y="248"/>
                  </a:lnTo>
                  <a:lnTo>
                    <a:pt x="822" y="212"/>
                  </a:lnTo>
                  <a:lnTo>
                    <a:pt x="810" y="176"/>
                  </a:lnTo>
                  <a:lnTo>
                    <a:pt x="792" y="142"/>
                  </a:lnTo>
                  <a:lnTo>
                    <a:pt x="772" y="110"/>
                  </a:lnTo>
                  <a:lnTo>
                    <a:pt x="746" y="76"/>
                  </a:lnTo>
                  <a:lnTo>
                    <a:pt x="746" y="76"/>
                  </a:lnTo>
                  <a:lnTo>
                    <a:pt x="722" y="50"/>
                  </a:lnTo>
                  <a:lnTo>
                    <a:pt x="698" y="30"/>
                  </a:lnTo>
                  <a:lnTo>
                    <a:pt x="686" y="22"/>
                  </a:lnTo>
                  <a:lnTo>
                    <a:pt x="674" y="16"/>
                  </a:lnTo>
                  <a:lnTo>
                    <a:pt x="662" y="10"/>
                  </a:lnTo>
                  <a:lnTo>
                    <a:pt x="652" y="6"/>
                  </a:lnTo>
                  <a:lnTo>
                    <a:pt x="652" y="6"/>
                  </a:lnTo>
                  <a:lnTo>
                    <a:pt x="630" y="2"/>
                  </a:lnTo>
                  <a:lnTo>
                    <a:pt x="610" y="0"/>
                  </a:lnTo>
                  <a:lnTo>
                    <a:pt x="610" y="0"/>
                  </a:lnTo>
                  <a:lnTo>
                    <a:pt x="590" y="2"/>
                  </a:lnTo>
                  <a:lnTo>
                    <a:pt x="572" y="8"/>
                  </a:lnTo>
                  <a:lnTo>
                    <a:pt x="556" y="14"/>
                  </a:lnTo>
                  <a:lnTo>
                    <a:pt x="540" y="24"/>
                  </a:lnTo>
                  <a:lnTo>
                    <a:pt x="528" y="38"/>
                  </a:lnTo>
                  <a:lnTo>
                    <a:pt x="516" y="52"/>
                  </a:lnTo>
                  <a:lnTo>
                    <a:pt x="508" y="70"/>
                  </a:lnTo>
                  <a:lnTo>
                    <a:pt x="502" y="90"/>
                  </a:lnTo>
                  <a:lnTo>
                    <a:pt x="502" y="90"/>
                  </a:lnTo>
                  <a:lnTo>
                    <a:pt x="498" y="102"/>
                  </a:lnTo>
                  <a:lnTo>
                    <a:pt x="498" y="116"/>
                  </a:lnTo>
                  <a:lnTo>
                    <a:pt x="496" y="152"/>
                  </a:lnTo>
                  <a:lnTo>
                    <a:pt x="496" y="154"/>
                  </a:lnTo>
                  <a:lnTo>
                    <a:pt x="496" y="154"/>
                  </a:lnTo>
                  <a:lnTo>
                    <a:pt x="498" y="178"/>
                  </a:lnTo>
                  <a:lnTo>
                    <a:pt x="496" y="188"/>
                  </a:lnTo>
                  <a:lnTo>
                    <a:pt x="496" y="188"/>
                  </a:lnTo>
                  <a:lnTo>
                    <a:pt x="490" y="208"/>
                  </a:lnTo>
                  <a:lnTo>
                    <a:pt x="472" y="240"/>
                  </a:lnTo>
                  <a:lnTo>
                    <a:pt x="472" y="240"/>
                  </a:lnTo>
                  <a:lnTo>
                    <a:pt x="434" y="306"/>
                  </a:lnTo>
                  <a:lnTo>
                    <a:pt x="434" y="306"/>
                  </a:lnTo>
                  <a:lnTo>
                    <a:pt x="434" y="308"/>
                  </a:lnTo>
                  <a:lnTo>
                    <a:pt x="434" y="308"/>
                  </a:lnTo>
                  <a:lnTo>
                    <a:pt x="384" y="406"/>
                  </a:lnTo>
                  <a:lnTo>
                    <a:pt x="362" y="452"/>
                  </a:lnTo>
                  <a:lnTo>
                    <a:pt x="342" y="496"/>
                  </a:lnTo>
                  <a:lnTo>
                    <a:pt x="324" y="538"/>
                  </a:lnTo>
                  <a:lnTo>
                    <a:pt x="310" y="580"/>
                  </a:lnTo>
                  <a:lnTo>
                    <a:pt x="296" y="618"/>
                  </a:lnTo>
                  <a:lnTo>
                    <a:pt x="286" y="656"/>
                  </a:lnTo>
                  <a:lnTo>
                    <a:pt x="286" y="656"/>
                  </a:lnTo>
                  <a:lnTo>
                    <a:pt x="278" y="686"/>
                  </a:lnTo>
                  <a:lnTo>
                    <a:pt x="272" y="716"/>
                  </a:lnTo>
                  <a:lnTo>
                    <a:pt x="268" y="746"/>
                  </a:lnTo>
                  <a:lnTo>
                    <a:pt x="266" y="774"/>
                  </a:lnTo>
                  <a:lnTo>
                    <a:pt x="264" y="802"/>
                  </a:lnTo>
                  <a:lnTo>
                    <a:pt x="264" y="830"/>
                  </a:lnTo>
                  <a:lnTo>
                    <a:pt x="264" y="856"/>
                  </a:lnTo>
                  <a:lnTo>
                    <a:pt x="268" y="882"/>
                  </a:lnTo>
                  <a:lnTo>
                    <a:pt x="272" y="906"/>
                  </a:lnTo>
                  <a:lnTo>
                    <a:pt x="276" y="930"/>
                  </a:lnTo>
                  <a:lnTo>
                    <a:pt x="284" y="952"/>
                  </a:lnTo>
                  <a:lnTo>
                    <a:pt x="292" y="974"/>
                  </a:lnTo>
                  <a:lnTo>
                    <a:pt x="302" y="996"/>
                  </a:lnTo>
                  <a:lnTo>
                    <a:pt x="314" y="1016"/>
                  </a:lnTo>
                  <a:lnTo>
                    <a:pt x="326" y="1036"/>
                  </a:lnTo>
                  <a:lnTo>
                    <a:pt x="340" y="1056"/>
                  </a:lnTo>
                  <a:lnTo>
                    <a:pt x="340" y="1056"/>
                  </a:lnTo>
                  <a:lnTo>
                    <a:pt x="356" y="1072"/>
                  </a:lnTo>
                  <a:lnTo>
                    <a:pt x="370" y="1088"/>
                  </a:lnTo>
                  <a:lnTo>
                    <a:pt x="388" y="1104"/>
                  </a:lnTo>
                  <a:lnTo>
                    <a:pt x="404" y="1116"/>
                  </a:lnTo>
                  <a:lnTo>
                    <a:pt x="404" y="1116"/>
                  </a:lnTo>
                  <a:lnTo>
                    <a:pt x="394" y="1118"/>
                  </a:lnTo>
                  <a:lnTo>
                    <a:pt x="382" y="1122"/>
                  </a:lnTo>
                  <a:lnTo>
                    <a:pt x="374" y="1128"/>
                  </a:lnTo>
                  <a:lnTo>
                    <a:pt x="364" y="1134"/>
                  </a:lnTo>
                  <a:lnTo>
                    <a:pt x="356" y="1142"/>
                  </a:lnTo>
                  <a:lnTo>
                    <a:pt x="350" y="1152"/>
                  </a:lnTo>
                  <a:lnTo>
                    <a:pt x="346" y="1162"/>
                  </a:lnTo>
                  <a:lnTo>
                    <a:pt x="342" y="1174"/>
                  </a:lnTo>
                  <a:lnTo>
                    <a:pt x="342" y="1174"/>
                  </a:lnTo>
                  <a:lnTo>
                    <a:pt x="340" y="1186"/>
                  </a:lnTo>
                  <a:lnTo>
                    <a:pt x="338" y="1200"/>
                  </a:lnTo>
                  <a:lnTo>
                    <a:pt x="340" y="1216"/>
                  </a:lnTo>
                  <a:lnTo>
                    <a:pt x="344" y="1230"/>
                  </a:lnTo>
                  <a:lnTo>
                    <a:pt x="350" y="1248"/>
                  </a:lnTo>
                  <a:lnTo>
                    <a:pt x="358" y="1264"/>
                  </a:lnTo>
                  <a:lnTo>
                    <a:pt x="370" y="1284"/>
                  </a:lnTo>
                  <a:lnTo>
                    <a:pt x="382" y="1304"/>
                  </a:lnTo>
                  <a:lnTo>
                    <a:pt x="382" y="1304"/>
                  </a:lnTo>
                  <a:lnTo>
                    <a:pt x="368" y="1298"/>
                  </a:lnTo>
                  <a:lnTo>
                    <a:pt x="354" y="1294"/>
                  </a:lnTo>
                  <a:lnTo>
                    <a:pt x="354" y="1294"/>
                  </a:lnTo>
                  <a:lnTo>
                    <a:pt x="328" y="1290"/>
                  </a:lnTo>
                  <a:lnTo>
                    <a:pt x="302" y="1288"/>
                  </a:lnTo>
                  <a:lnTo>
                    <a:pt x="278" y="1292"/>
                  </a:lnTo>
                  <a:lnTo>
                    <a:pt x="254" y="1298"/>
                  </a:lnTo>
                  <a:lnTo>
                    <a:pt x="252" y="1300"/>
                  </a:lnTo>
                  <a:lnTo>
                    <a:pt x="252" y="1300"/>
                  </a:lnTo>
                  <a:lnTo>
                    <a:pt x="240" y="1306"/>
                  </a:lnTo>
                  <a:lnTo>
                    <a:pt x="228" y="1314"/>
                  </a:lnTo>
                  <a:lnTo>
                    <a:pt x="216" y="1324"/>
                  </a:lnTo>
                  <a:lnTo>
                    <a:pt x="208" y="1334"/>
                  </a:lnTo>
                  <a:lnTo>
                    <a:pt x="200" y="1344"/>
                  </a:lnTo>
                  <a:lnTo>
                    <a:pt x="192" y="1356"/>
                  </a:lnTo>
                  <a:lnTo>
                    <a:pt x="186" y="1370"/>
                  </a:lnTo>
                  <a:lnTo>
                    <a:pt x="182" y="1384"/>
                  </a:lnTo>
                  <a:lnTo>
                    <a:pt x="182" y="1384"/>
                  </a:lnTo>
                  <a:lnTo>
                    <a:pt x="178" y="1410"/>
                  </a:lnTo>
                  <a:lnTo>
                    <a:pt x="176" y="1446"/>
                  </a:lnTo>
                  <a:lnTo>
                    <a:pt x="176" y="1446"/>
                  </a:lnTo>
                  <a:lnTo>
                    <a:pt x="176" y="1446"/>
                  </a:lnTo>
                  <a:lnTo>
                    <a:pt x="174" y="1470"/>
                  </a:lnTo>
                  <a:lnTo>
                    <a:pt x="174" y="1478"/>
                  </a:lnTo>
                  <a:lnTo>
                    <a:pt x="174" y="1478"/>
                  </a:lnTo>
                  <a:lnTo>
                    <a:pt x="172" y="1484"/>
                  </a:lnTo>
                  <a:lnTo>
                    <a:pt x="162" y="1504"/>
                  </a:lnTo>
                  <a:lnTo>
                    <a:pt x="144" y="1542"/>
                  </a:lnTo>
                  <a:lnTo>
                    <a:pt x="110" y="1602"/>
                  </a:lnTo>
                  <a:lnTo>
                    <a:pt x="110" y="1602"/>
                  </a:lnTo>
                  <a:lnTo>
                    <a:pt x="78" y="1660"/>
                  </a:lnTo>
                  <a:lnTo>
                    <a:pt x="52" y="1720"/>
                  </a:lnTo>
                  <a:lnTo>
                    <a:pt x="30" y="1776"/>
                  </a:lnTo>
                  <a:lnTo>
                    <a:pt x="14" y="1832"/>
                  </a:lnTo>
                  <a:lnTo>
                    <a:pt x="14" y="1832"/>
                  </a:lnTo>
                  <a:lnTo>
                    <a:pt x="8" y="1856"/>
                  </a:lnTo>
                  <a:lnTo>
                    <a:pt x="4" y="1882"/>
                  </a:lnTo>
                  <a:lnTo>
                    <a:pt x="0" y="1906"/>
                  </a:lnTo>
                  <a:lnTo>
                    <a:pt x="0" y="1930"/>
                  </a:lnTo>
                  <a:lnTo>
                    <a:pt x="0" y="1954"/>
                  </a:lnTo>
                  <a:lnTo>
                    <a:pt x="0" y="1976"/>
                  </a:lnTo>
                  <a:lnTo>
                    <a:pt x="4" y="2000"/>
                  </a:lnTo>
                  <a:lnTo>
                    <a:pt x="8" y="2024"/>
                  </a:lnTo>
                  <a:lnTo>
                    <a:pt x="14" y="2046"/>
                  </a:lnTo>
                  <a:lnTo>
                    <a:pt x="22" y="2068"/>
                  </a:lnTo>
                  <a:lnTo>
                    <a:pt x="30" y="2090"/>
                  </a:lnTo>
                  <a:lnTo>
                    <a:pt x="40" y="2112"/>
                  </a:lnTo>
                  <a:lnTo>
                    <a:pt x="52" y="2134"/>
                  </a:lnTo>
                  <a:lnTo>
                    <a:pt x="64" y="2156"/>
                  </a:lnTo>
                  <a:lnTo>
                    <a:pt x="78" y="2176"/>
                  </a:lnTo>
                  <a:lnTo>
                    <a:pt x="94" y="2198"/>
                  </a:lnTo>
                  <a:lnTo>
                    <a:pt x="94" y="2198"/>
                  </a:lnTo>
                  <a:lnTo>
                    <a:pt x="124" y="2234"/>
                  </a:lnTo>
                  <a:lnTo>
                    <a:pt x="156" y="2266"/>
                  </a:lnTo>
                  <a:lnTo>
                    <a:pt x="192" y="2296"/>
                  </a:lnTo>
                  <a:lnTo>
                    <a:pt x="230" y="2322"/>
                  </a:lnTo>
                  <a:lnTo>
                    <a:pt x="270" y="2346"/>
                  </a:lnTo>
                  <a:lnTo>
                    <a:pt x="312" y="2366"/>
                  </a:lnTo>
                  <a:lnTo>
                    <a:pt x="358" y="2382"/>
                  </a:lnTo>
                  <a:lnTo>
                    <a:pt x="406" y="2396"/>
                  </a:lnTo>
                  <a:lnTo>
                    <a:pt x="406" y="2396"/>
                  </a:lnTo>
                  <a:lnTo>
                    <a:pt x="450" y="2408"/>
                  </a:lnTo>
                  <a:lnTo>
                    <a:pt x="496" y="2414"/>
                  </a:lnTo>
                  <a:lnTo>
                    <a:pt x="540" y="2418"/>
                  </a:lnTo>
                  <a:lnTo>
                    <a:pt x="584" y="2420"/>
                  </a:lnTo>
                  <a:lnTo>
                    <a:pt x="584" y="2420"/>
                  </a:lnTo>
                  <a:lnTo>
                    <a:pt x="614" y="2420"/>
                  </a:lnTo>
                  <a:lnTo>
                    <a:pt x="642" y="2418"/>
                  </a:lnTo>
                  <a:lnTo>
                    <a:pt x="670" y="2414"/>
                  </a:lnTo>
                  <a:lnTo>
                    <a:pt x="700" y="2410"/>
                  </a:lnTo>
                  <a:lnTo>
                    <a:pt x="728" y="2404"/>
                  </a:lnTo>
                  <a:lnTo>
                    <a:pt x="756" y="2398"/>
                  </a:lnTo>
                  <a:lnTo>
                    <a:pt x="784" y="2388"/>
                  </a:lnTo>
                  <a:lnTo>
                    <a:pt x="810" y="2380"/>
                  </a:lnTo>
                  <a:lnTo>
                    <a:pt x="810" y="2380"/>
                  </a:lnTo>
                  <a:lnTo>
                    <a:pt x="838" y="2368"/>
                  </a:lnTo>
                  <a:lnTo>
                    <a:pt x="864" y="2356"/>
                  </a:lnTo>
                  <a:lnTo>
                    <a:pt x="890" y="2344"/>
                  </a:lnTo>
                  <a:lnTo>
                    <a:pt x="914" y="2330"/>
                  </a:lnTo>
                  <a:lnTo>
                    <a:pt x="936" y="2314"/>
                  </a:lnTo>
                  <a:lnTo>
                    <a:pt x="956" y="2298"/>
                  </a:lnTo>
                  <a:lnTo>
                    <a:pt x="976" y="2280"/>
                  </a:lnTo>
                  <a:lnTo>
                    <a:pt x="994" y="2262"/>
                  </a:lnTo>
                  <a:lnTo>
                    <a:pt x="1012" y="2244"/>
                  </a:lnTo>
                  <a:lnTo>
                    <a:pt x="1028" y="2222"/>
                  </a:lnTo>
                  <a:lnTo>
                    <a:pt x="1042" y="2202"/>
                  </a:lnTo>
                  <a:lnTo>
                    <a:pt x="1054" y="2180"/>
                  </a:lnTo>
                  <a:lnTo>
                    <a:pt x="1066" y="2156"/>
                  </a:lnTo>
                  <a:lnTo>
                    <a:pt x="1076" y="2132"/>
                  </a:lnTo>
                  <a:lnTo>
                    <a:pt x="1086" y="2106"/>
                  </a:lnTo>
                  <a:lnTo>
                    <a:pt x="1094" y="2080"/>
                  </a:lnTo>
                  <a:lnTo>
                    <a:pt x="1094" y="2080"/>
                  </a:lnTo>
                  <a:lnTo>
                    <a:pt x="1098" y="2054"/>
                  </a:lnTo>
                  <a:lnTo>
                    <a:pt x="1102" y="2028"/>
                  </a:lnTo>
                  <a:lnTo>
                    <a:pt x="1106" y="2002"/>
                  </a:lnTo>
                  <a:lnTo>
                    <a:pt x="1106" y="1974"/>
                  </a:lnTo>
                  <a:lnTo>
                    <a:pt x="1106" y="1946"/>
                  </a:lnTo>
                  <a:lnTo>
                    <a:pt x="1104" y="1916"/>
                  </a:lnTo>
                  <a:lnTo>
                    <a:pt x="1100" y="1886"/>
                  </a:lnTo>
                  <a:lnTo>
                    <a:pt x="1096" y="1856"/>
                  </a:lnTo>
                  <a:lnTo>
                    <a:pt x="1090" y="1826"/>
                  </a:lnTo>
                  <a:lnTo>
                    <a:pt x="1082" y="1794"/>
                  </a:lnTo>
                  <a:lnTo>
                    <a:pt x="1072" y="1760"/>
                  </a:lnTo>
                  <a:lnTo>
                    <a:pt x="1060" y="1728"/>
                  </a:lnTo>
                  <a:lnTo>
                    <a:pt x="1034" y="1658"/>
                  </a:lnTo>
                  <a:lnTo>
                    <a:pt x="1002" y="1588"/>
                  </a:lnTo>
                  <a:lnTo>
                    <a:pt x="1002" y="1588"/>
                  </a:lnTo>
                  <a:lnTo>
                    <a:pt x="984" y="1556"/>
                  </a:lnTo>
                  <a:lnTo>
                    <a:pt x="976" y="1542"/>
                  </a:lnTo>
                  <a:lnTo>
                    <a:pt x="968" y="1530"/>
                  </a:lnTo>
                  <a:lnTo>
                    <a:pt x="960" y="1520"/>
                  </a:lnTo>
                  <a:lnTo>
                    <a:pt x="950" y="1514"/>
                  </a:lnTo>
                  <a:lnTo>
                    <a:pt x="940" y="1508"/>
                  </a:lnTo>
                  <a:lnTo>
                    <a:pt x="930" y="1504"/>
                  </a:lnTo>
                  <a:lnTo>
                    <a:pt x="930" y="1504"/>
                  </a:lnTo>
                  <a:lnTo>
                    <a:pt x="912" y="1500"/>
                  </a:lnTo>
                  <a:lnTo>
                    <a:pt x="912" y="1500"/>
                  </a:lnTo>
                  <a:lnTo>
                    <a:pt x="900" y="1502"/>
                  </a:lnTo>
                  <a:lnTo>
                    <a:pt x="890" y="1504"/>
                  </a:lnTo>
                  <a:lnTo>
                    <a:pt x="880" y="1510"/>
                  </a:lnTo>
                  <a:lnTo>
                    <a:pt x="872" y="1514"/>
                  </a:lnTo>
                  <a:lnTo>
                    <a:pt x="864" y="1522"/>
                  </a:lnTo>
                  <a:lnTo>
                    <a:pt x="856" y="1530"/>
                  </a:lnTo>
                  <a:lnTo>
                    <a:pt x="852" y="1540"/>
                  </a:lnTo>
                  <a:lnTo>
                    <a:pt x="848" y="1552"/>
                  </a:lnTo>
                  <a:lnTo>
                    <a:pt x="848" y="1552"/>
                  </a:lnTo>
                  <a:lnTo>
                    <a:pt x="846" y="1558"/>
                  </a:lnTo>
                  <a:lnTo>
                    <a:pt x="846" y="1572"/>
                  </a:lnTo>
                  <a:lnTo>
                    <a:pt x="848" y="1650"/>
                  </a:lnTo>
                  <a:lnTo>
                    <a:pt x="848" y="1650"/>
                  </a:lnTo>
                  <a:lnTo>
                    <a:pt x="848" y="1720"/>
                  </a:lnTo>
                  <a:lnTo>
                    <a:pt x="844" y="1786"/>
                  </a:lnTo>
                  <a:lnTo>
                    <a:pt x="836" y="1848"/>
                  </a:lnTo>
                  <a:lnTo>
                    <a:pt x="830" y="1876"/>
                  </a:lnTo>
                  <a:lnTo>
                    <a:pt x="824" y="1904"/>
                  </a:lnTo>
                  <a:lnTo>
                    <a:pt x="824" y="1904"/>
                  </a:lnTo>
                  <a:lnTo>
                    <a:pt x="814" y="1938"/>
                  </a:lnTo>
                  <a:lnTo>
                    <a:pt x="802" y="1968"/>
                  </a:lnTo>
                  <a:lnTo>
                    <a:pt x="790" y="1996"/>
                  </a:lnTo>
                  <a:lnTo>
                    <a:pt x="774" y="2022"/>
                  </a:lnTo>
                  <a:lnTo>
                    <a:pt x="758" y="2046"/>
                  </a:lnTo>
                  <a:lnTo>
                    <a:pt x="740" y="2066"/>
                  </a:lnTo>
                  <a:lnTo>
                    <a:pt x="720" y="2084"/>
                  </a:lnTo>
                  <a:lnTo>
                    <a:pt x="696" y="2102"/>
                  </a:lnTo>
                  <a:lnTo>
                    <a:pt x="696" y="2102"/>
                  </a:lnTo>
                  <a:lnTo>
                    <a:pt x="696" y="2102"/>
                  </a:lnTo>
                  <a:lnTo>
                    <a:pt x="682" y="2110"/>
                  </a:lnTo>
                  <a:lnTo>
                    <a:pt x="668" y="2118"/>
                  </a:lnTo>
                  <a:lnTo>
                    <a:pt x="652" y="2124"/>
                  </a:lnTo>
                  <a:lnTo>
                    <a:pt x="636" y="2130"/>
                  </a:lnTo>
                  <a:lnTo>
                    <a:pt x="620" y="2134"/>
                  </a:lnTo>
                  <a:lnTo>
                    <a:pt x="604" y="2136"/>
                  </a:lnTo>
                  <a:lnTo>
                    <a:pt x="568" y="2140"/>
                  </a:lnTo>
                  <a:lnTo>
                    <a:pt x="568" y="2140"/>
                  </a:lnTo>
                  <a:lnTo>
                    <a:pt x="546" y="2138"/>
                  </a:lnTo>
                  <a:lnTo>
                    <a:pt x="524" y="2136"/>
                  </a:lnTo>
                  <a:lnTo>
                    <a:pt x="500" y="2132"/>
                  </a:lnTo>
                  <a:lnTo>
                    <a:pt x="476" y="2126"/>
                  </a:lnTo>
                  <a:lnTo>
                    <a:pt x="476" y="2126"/>
                  </a:lnTo>
                  <a:lnTo>
                    <a:pt x="454" y="2120"/>
                  </a:lnTo>
                  <a:lnTo>
                    <a:pt x="436" y="2114"/>
                  </a:lnTo>
                  <a:lnTo>
                    <a:pt x="416" y="2106"/>
                  </a:lnTo>
                  <a:lnTo>
                    <a:pt x="400" y="2096"/>
                  </a:lnTo>
                  <a:lnTo>
                    <a:pt x="384" y="2088"/>
                  </a:lnTo>
                  <a:lnTo>
                    <a:pt x="368" y="2076"/>
                  </a:lnTo>
                  <a:lnTo>
                    <a:pt x="354" y="2064"/>
                  </a:lnTo>
                  <a:lnTo>
                    <a:pt x="340" y="2052"/>
                  </a:lnTo>
                  <a:lnTo>
                    <a:pt x="340" y="2050"/>
                  </a:lnTo>
                  <a:lnTo>
                    <a:pt x="340" y="2050"/>
                  </a:lnTo>
                  <a:lnTo>
                    <a:pt x="328" y="2038"/>
                  </a:lnTo>
                  <a:lnTo>
                    <a:pt x="318" y="2024"/>
                  </a:lnTo>
                  <a:lnTo>
                    <a:pt x="310" y="2010"/>
                  </a:lnTo>
                  <a:lnTo>
                    <a:pt x="304" y="1996"/>
                  </a:lnTo>
                  <a:lnTo>
                    <a:pt x="300" y="1982"/>
                  </a:lnTo>
                  <a:lnTo>
                    <a:pt x="300" y="1966"/>
                  </a:lnTo>
                  <a:lnTo>
                    <a:pt x="300" y="1952"/>
                  </a:lnTo>
                  <a:lnTo>
                    <a:pt x="304" y="1936"/>
                  </a:lnTo>
                  <a:lnTo>
                    <a:pt x="304" y="1936"/>
                  </a:lnTo>
                  <a:lnTo>
                    <a:pt x="314" y="1904"/>
                  </a:lnTo>
                  <a:lnTo>
                    <a:pt x="330" y="1868"/>
                  </a:lnTo>
                  <a:lnTo>
                    <a:pt x="352" y="1828"/>
                  </a:lnTo>
                  <a:lnTo>
                    <a:pt x="378" y="1784"/>
                  </a:lnTo>
                  <a:lnTo>
                    <a:pt x="378" y="1782"/>
                  </a:lnTo>
                  <a:lnTo>
                    <a:pt x="378" y="1782"/>
                  </a:lnTo>
                  <a:lnTo>
                    <a:pt x="414" y="1724"/>
                  </a:lnTo>
                  <a:lnTo>
                    <a:pt x="434" y="1686"/>
                  </a:lnTo>
                  <a:lnTo>
                    <a:pt x="444" y="1664"/>
                  </a:lnTo>
                  <a:lnTo>
                    <a:pt x="450" y="1650"/>
                  </a:lnTo>
                  <a:lnTo>
                    <a:pt x="450" y="1650"/>
                  </a:lnTo>
                  <a:lnTo>
                    <a:pt x="454" y="1630"/>
                  </a:lnTo>
                  <a:lnTo>
                    <a:pt x="454" y="1610"/>
                  </a:lnTo>
                  <a:lnTo>
                    <a:pt x="454" y="1590"/>
                  </a:lnTo>
                  <a:lnTo>
                    <a:pt x="452" y="1570"/>
                  </a:lnTo>
                  <a:lnTo>
                    <a:pt x="452" y="1570"/>
                  </a:lnTo>
                  <a:lnTo>
                    <a:pt x="492" y="1606"/>
                  </a:lnTo>
                  <a:lnTo>
                    <a:pt x="528" y="1632"/>
                  </a:lnTo>
                  <a:lnTo>
                    <a:pt x="544" y="1642"/>
                  </a:lnTo>
                  <a:lnTo>
                    <a:pt x="558" y="1650"/>
                  </a:lnTo>
                  <a:lnTo>
                    <a:pt x="572" y="1656"/>
                  </a:lnTo>
                  <a:lnTo>
                    <a:pt x="586" y="1660"/>
                  </a:lnTo>
                  <a:lnTo>
                    <a:pt x="586" y="1660"/>
                  </a:lnTo>
                  <a:lnTo>
                    <a:pt x="614" y="1666"/>
                  </a:lnTo>
                  <a:lnTo>
                    <a:pt x="642" y="1666"/>
                  </a:lnTo>
                  <a:lnTo>
                    <a:pt x="670" y="1662"/>
                  </a:lnTo>
                  <a:lnTo>
                    <a:pt x="698" y="1654"/>
                  </a:lnTo>
                  <a:lnTo>
                    <a:pt x="700" y="1654"/>
                  </a:lnTo>
                  <a:lnTo>
                    <a:pt x="700" y="1654"/>
                  </a:lnTo>
                  <a:lnTo>
                    <a:pt x="716" y="1648"/>
                  </a:lnTo>
                  <a:lnTo>
                    <a:pt x="730" y="1640"/>
                  </a:lnTo>
                  <a:lnTo>
                    <a:pt x="742" y="1630"/>
                  </a:lnTo>
                  <a:lnTo>
                    <a:pt x="752" y="1618"/>
                  </a:lnTo>
                  <a:lnTo>
                    <a:pt x="762" y="1606"/>
                  </a:lnTo>
                  <a:lnTo>
                    <a:pt x="770" y="1594"/>
                  </a:lnTo>
                  <a:lnTo>
                    <a:pt x="778" y="1578"/>
                  </a:lnTo>
                  <a:lnTo>
                    <a:pt x="782" y="1564"/>
                  </a:lnTo>
                  <a:lnTo>
                    <a:pt x="782" y="1564"/>
                  </a:lnTo>
                  <a:lnTo>
                    <a:pt x="786" y="1540"/>
                  </a:lnTo>
                  <a:lnTo>
                    <a:pt x="788" y="1518"/>
                  </a:lnTo>
                  <a:lnTo>
                    <a:pt x="788" y="1496"/>
                  </a:lnTo>
                  <a:lnTo>
                    <a:pt x="786" y="1474"/>
                  </a:lnTo>
                  <a:lnTo>
                    <a:pt x="780" y="1450"/>
                  </a:lnTo>
                  <a:lnTo>
                    <a:pt x="774" y="1428"/>
                  </a:lnTo>
                  <a:lnTo>
                    <a:pt x="762" y="1406"/>
                  </a:lnTo>
                  <a:lnTo>
                    <a:pt x="750" y="1384"/>
                  </a:lnTo>
                  <a:lnTo>
                    <a:pt x="736" y="1362"/>
                  </a:lnTo>
                  <a:lnTo>
                    <a:pt x="718" y="1340"/>
                  </a:lnTo>
                  <a:lnTo>
                    <a:pt x="698" y="1320"/>
                  </a:lnTo>
                  <a:lnTo>
                    <a:pt x="676" y="1298"/>
                  </a:lnTo>
                  <a:lnTo>
                    <a:pt x="652" y="1276"/>
                  </a:lnTo>
                  <a:lnTo>
                    <a:pt x="624" y="1256"/>
                  </a:lnTo>
                  <a:lnTo>
                    <a:pt x="594" y="1234"/>
                  </a:lnTo>
                  <a:lnTo>
                    <a:pt x="562" y="1212"/>
                  </a:lnTo>
                  <a:lnTo>
                    <a:pt x="562" y="1212"/>
                  </a:lnTo>
                  <a:lnTo>
                    <a:pt x="538" y="1196"/>
                  </a:lnTo>
                  <a:lnTo>
                    <a:pt x="520" y="1184"/>
                  </a:lnTo>
                  <a:lnTo>
                    <a:pt x="508" y="1172"/>
                  </a:lnTo>
                  <a:lnTo>
                    <a:pt x="500" y="1164"/>
                  </a:lnTo>
                  <a:lnTo>
                    <a:pt x="500" y="1164"/>
                  </a:lnTo>
                  <a:lnTo>
                    <a:pt x="490" y="1154"/>
                  </a:lnTo>
                  <a:lnTo>
                    <a:pt x="490" y="1154"/>
                  </a:lnTo>
                  <a:lnTo>
                    <a:pt x="512" y="1158"/>
                  </a:lnTo>
                  <a:lnTo>
                    <a:pt x="536" y="1160"/>
                  </a:lnTo>
                  <a:lnTo>
                    <a:pt x="536" y="1160"/>
                  </a:lnTo>
                  <a:lnTo>
                    <a:pt x="536" y="1160"/>
                  </a:lnTo>
                  <a:lnTo>
                    <a:pt x="564" y="1158"/>
                  </a:lnTo>
                  <a:lnTo>
                    <a:pt x="590" y="1152"/>
                  </a:lnTo>
                  <a:lnTo>
                    <a:pt x="618" y="1140"/>
                  </a:lnTo>
                  <a:lnTo>
                    <a:pt x="644" y="1126"/>
                  </a:lnTo>
                  <a:lnTo>
                    <a:pt x="670" y="1108"/>
                  </a:lnTo>
                  <a:lnTo>
                    <a:pt x="696" y="1084"/>
                  </a:lnTo>
                  <a:lnTo>
                    <a:pt x="720" y="1058"/>
                  </a:lnTo>
                  <a:lnTo>
                    <a:pt x="744" y="1028"/>
                  </a:lnTo>
                  <a:lnTo>
                    <a:pt x="744" y="1028"/>
                  </a:lnTo>
                  <a:lnTo>
                    <a:pt x="764" y="1054"/>
                  </a:lnTo>
                  <a:lnTo>
                    <a:pt x="786" y="1082"/>
                  </a:lnTo>
                  <a:lnTo>
                    <a:pt x="812" y="1112"/>
                  </a:lnTo>
                  <a:lnTo>
                    <a:pt x="838" y="1142"/>
                  </a:lnTo>
                  <a:lnTo>
                    <a:pt x="838" y="1142"/>
                  </a:lnTo>
                  <a:lnTo>
                    <a:pt x="868" y="1174"/>
                  </a:lnTo>
                  <a:lnTo>
                    <a:pt x="898" y="1200"/>
                  </a:lnTo>
                  <a:lnTo>
                    <a:pt x="926" y="1224"/>
                  </a:lnTo>
                  <a:lnTo>
                    <a:pt x="952" y="1246"/>
                  </a:lnTo>
                  <a:lnTo>
                    <a:pt x="976" y="1262"/>
                  </a:lnTo>
                  <a:lnTo>
                    <a:pt x="1002" y="1276"/>
                  </a:lnTo>
                  <a:lnTo>
                    <a:pt x="1024" y="1286"/>
                  </a:lnTo>
                  <a:lnTo>
                    <a:pt x="1046" y="1294"/>
                  </a:lnTo>
                  <a:lnTo>
                    <a:pt x="1046" y="1294"/>
                  </a:lnTo>
                  <a:lnTo>
                    <a:pt x="1070" y="1298"/>
                  </a:lnTo>
                  <a:lnTo>
                    <a:pt x="1092" y="1300"/>
                  </a:lnTo>
                  <a:lnTo>
                    <a:pt x="1092" y="1300"/>
                  </a:lnTo>
                  <a:lnTo>
                    <a:pt x="1118" y="1298"/>
                  </a:lnTo>
                  <a:lnTo>
                    <a:pt x="1142" y="1292"/>
                  </a:lnTo>
                  <a:lnTo>
                    <a:pt x="1168" y="1282"/>
                  </a:lnTo>
                  <a:lnTo>
                    <a:pt x="1192" y="1268"/>
                  </a:lnTo>
                  <a:lnTo>
                    <a:pt x="1218" y="1250"/>
                  </a:lnTo>
                  <a:lnTo>
                    <a:pt x="1240" y="1228"/>
                  </a:lnTo>
                  <a:lnTo>
                    <a:pt x="1264" y="1204"/>
                  </a:lnTo>
                  <a:lnTo>
                    <a:pt x="1286" y="1174"/>
                  </a:lnTo>
                  <a:lnTo>
                    <a:pt x="1286" y="1174"/>
                  </a:lnTo>
                  <a:lnTo>
                    <a:pt x="1304" y="1148"/>
                  </a:lnTo>
                  <a:lnTo>
                    <a:pt x="1320" y="1122"/>
                  </a:lnTo>
                  <a:lnTo>
                    <a:pt x="1336" y="1094"/>
                  </a:lnTo>
                  <a:lnTo>
                    <a:pt x="1348" y="1066"/>
                  </a:lnTo>
                  <a:lnTo>
                    <a:pt x="1362" y="1038"/>
                  </a:lnTo>
                  <a:lnTo>
                    <a:pt x="1372" y="1008"/>
                  </a:lnTo>
                  <a:lnTo>
                    <a:pt x="1382" y="980"/>
                  </a:lnTo>
                  <a:lnTo>
                    <a:pt x="1390" y="948"/>
                  </a:lnTo>
                  <a:lnTo>
                    <a:pt x="1390" y="948"/>
                  </a:lnTo>
                  <a:lnTo>
                    <a:pt x="1400" y="906"/>
                  </a:lnTo>
                  <a:lnTo>
                    <a:pt x="1410" y="864"/>
                  </a:lnTo>
                  <a:lnTo>
                    <a:pt x="1416" y="822"/>
                  </a:lnTo>
                  <a:lnTo>
                    <a:pt x="1422" y="780"/>
                  </a:lnTo>
                  <a:lnTo>
                    <a:pt x="1424" y="738"/>
                  </a:lnTo>
                  <a:lnTo>
                    <a:pt x="1426" y="696"/>
                  </a:lnTo>
                  <a:lnTo>
                    <a:pt x="1428" y="654"/>
                  </a:lnTo>
                  <a:lnTo>
                    <a:pt x="1426" y="614"/>
                  </a:lnTo>
                  <a:lnTo>
                    <a:pt x="1426" y="614"/>
                  </a:lnTo>
                  <a:lnTo>
                    <a:pt x="1422" y="560"/>
                  </a:lnTo>
                  <a:lnTo>
                    <a:pt x="1414" y="512"/>
                  </a:lnTo>
                  <a:lnTo>
                    <a:pt x="1404" y="464"/>
                  </a:lnTo>
                  <a:lnTo>
                    <a:pt x="1390" y="422"/>
                  </a:lnTo>
                  <a:lnTo>
                    <a:pt x="1374" y="382"/>
                  </a:lnTo>
                  <a:lnTo>
                    <a:pt x="1354" y="346"/>
                  </a:lnTo>
                  <a:lnTo>
                    <a:pt x="1332" y="314"/>
                  </a:lnTo>
                  <a:lnTo>
                    <a:pt x="1306" y="286"/>
                  </a:lnTo>
                  <a:lnTo>
                    <a:pt x="1306" y="286"/>
                  </a:lnTo>
                  <a:close/>
                  <a:moveTo>
                    <a:pt x="1140" y="542"/>
                  </a:moveTo>
                  <a:lnTo>
                    <a:pt x="1140" y="542"/>
                  </a:lnTo>
                  <a:lnTo>
                    <a:pt x="1138" y="590"/>
                  </a:lnTo>
                  <a:lnTo>
                    <a:pt x="1134" y="640"/>
                  </a:lnTo>
                  <a:lnTo>
                    <a:pt x="1124" y="694"/>
                  </a:lnTo>
                  <a:lnTo>
                    <a:pt x="1112" y="748"/>
                  </a:lnTo>
                  <a:lnTo>
                    <a:pt x="1112" y="748"/>
                  </a:lnTo>
                  <a:lnTo>
                    <a:pt x="1100" y="790"/>
                  </a:lnTo>
                  <a:lnTo>
                    <a:pt x="1086" y="828"/>
                  </a:lnTo>
                  <a:lnTo>
                    <a:pt x="1070" y="862"/>
                  </a:lnTo>
                  <a:lnTo>
                    <a:pt x="1054" y="890"/>
                  </a:lnTo>
                  <a:lnTo>
                    <a:pt x="1054" y="892"/>
                  </a:lnTo>
                  <a:lnTo>
                    <a:pt x="1054" y="892"/>
                  </a:lnTo>
                  <a:lnTo>
                    <a:pt x="1042" y="910"/>
                  </a:lnTo>
                  <a:lnTo>
                    <a:pt x="1026" y="926"/>
                  </a:lnTo>
                  <a:lnTo>
                    <a:pt x="1020" y="932"/>
                  </a:lnTo>
                  <a:lnTo>
                    <a:pt x="1010" y="938"/>
                  </a:lnTo>
                  <a:lnTo>
                    <a:pt x="1002" y="940"/>
                  </a:lnTo>
                  <a:lnTo>
                    <a:pt x="994" y="942"/>
                  </a:lnTo>
                  <a:lnTo>
                    <a:pt x="994" y="942"/>
                  </a:lnTo>
                  <a:lnTo>
                    <a:pt x="982" y="940"/>
                  </a:lnTo>
                  <a:lnTo>
                    <a:pt x="982" y="940"/>
                  </a:lnTo>
                  <a:lnTo>
                    <a:pt x="962" y="934"/>
                  </a:lnTo>
                  <a:lnTo>
                    <a:pt x="940" y="926"/>
                  </a:lnTo>
                  <a:lnTo>
                    <a:pt x="916" y="914"/>
                  </a:lnTo>
                  <a:lnTo>
                    <a:pt x="890" y="898"/>
                  </a:lnTo>
                  <a:lnTo>
                    <a:pt x="890" y="898"/>
                  </a:lnTo>
                  <a:lnTo>
                    <a:pt x="828" y="860"/>
                  </a:lnTo>
                  <a:lnTo>
                    <a:pt x="828" y="860"/>
                  </a:lnTo>
                  <a:lnTo>
                    <a:pt x="888" y="710"/>
                  </a:lnTo>
                  <a:lnTo>
                    <a:pt x="888" y="710"/>
                  </a:lnTo>
                  <a:lnTo>
                    <a:pt x="918" y="640"/>
                  </a:lnTo>
                  <a:lnTo>
                    <a:pt x="948" y="578"/>
                  </a:lnTo>
                  <a:lnTo>
                    <a:pt x="976" y="526"/>
                  </a:lnTo>
                  <a:lnTo>
                    <a:pt x="1002" y="484"/>
                  </a:lnTo>
                  <a:lnTo>
                    <a:pt x="1002" y="484"/>
                  </a:lnTo>
                  <a:lnTo>
                    <a:pt x="1026" y="454"/>
                  </a:lnTo>
                  <a:lnTo>
                    <a:pt x="1048" y="432"/>
                  </a:lnTo>
                  <a:lnTo>
                    <a:pt x="1060" y="424"/>
                  </a:lnTo>
                  <a:lnTo>
                    <a:pt x="1070" y="418"/>
                  </a:lnTo>
                  <a:lnTo>
                    <a:pt x="1078" y="416"/>
                  </a:lnTo>
                  <a:lnTo>
                    <a:pt x="1088" y="414"/>
                  </a:lnTo>
                  <a:lnTo>
                    <a:pt x="1088" y="414"/>
                  </a:lnTo>
                  <a:lnTo>
                    <a:pt x="1096" y="416"/>
                  </a:lnTo>
                  <a:lnTo>
                    <a:pt x="1096" y="416"/>
                  </a:lnTo>
                  <a:lnTo>
                    <a:pt x="1102" y="418"/>
                  </a:lnTo>
                  <a:lnTo>
                    <a:pt x="1108" y="422"/>
                  </a:lnTo>
                  <a:lnTo>
                    <a:pt x="1114" y="426"/>
                  </a:lnTo>
                  <a:lnTo>
                    <a:pt x="1118" y="434"/>
                  </a:lnTo>
                  <a:lnTo>
                    <a:pt x="1126" y="448"/>
                  </a:lnTo>
                  <a:lnTo>
                    <a:pt x="1132" y="466"/>
                  </a:lnTo>
                  <a:lnTo>
                    <a:pt x="1136" y="486"/>
                  </a:lnTo>
                  <a:lnTo>
                    <a:pt x="1138" y="504"/>
                  </a:lnTo>
                  <a:lnTo>
                    <a:pt x="1140" y="542"/>
                  </a:lnTo>
                  <a:lnTo>
                    <a:pt x="1140" y="542"/>
                  </a:lnTo>
                  <a:close/>
                  <a:moveTo>
                    <a:pt x="552" y="872"/>
                  </a:moveTo>
                  <a:lnTo>
                    <a:pt x="552" y="872"/>
                  </a:lnTo>
                  <a:lnTo>
                    <a:pt x="548" y="876"/>
                  </a:lnTo>
                  <a:lnTo>
                    <a:pt x="548" y="876"/>
                  </a:lnTo>
                  <a:lnTo>
                    <a:pt x="550" y="860"/>
                  </a:lnTo>
                  <a:lnTo>
                    <a:pt x="554" y="838"/>
                  </a:lnTo>
                  <a:lnTo>
                    <a:pt x="554" y="838"/>
                  </a:lnTo>
                  <a:lnTo>
                    <a:pt x="564" y="808"/>
                  </a:lnTo>
                  <a:lnTo>
                    <a:pt x="574" y="778"/>
                  </a:lnTo>
                  <a:lnTo>
                    <a:pt x="588" y="748"/>
                  </a:lnTo>
                  <a:lnTo>
                    <a:pt x="604" y="714"/>
                  </a:lnTo>
                  <a:lnTo>
                    <a:pt x="622" y="680"/>
                  </a:lnTo>
                  <a:lnTo>
                    <a:pt x="642" y="646"/>
                  </a:lnTo>
                  <a:lnTo>
                    <a:pt x="666" y="608"/>
                  </a:lnTo>
                  <a:lnTo>
                    <a:pt x="692" y="570"/>
                  </a:lnTo>
                  <a:lnTo>
                    <a:pt x="692" y="570"/>
                  </a:lnTo>
                  <a:lnTo>
                    <a:pt x="738" y="502"/>
                  </a:lnTo>
                  <a:lnTo>
                    <a:pt x="738" y="502"/>
                  </a:lnTo>
                  <a:lnTo>
                    <a:pt x="714" y="548"/>
                  </a:lnTo>
                  <a:lnTo>
                    <a:pt x="690" y="596"/>
                  </a:lnTo>
                  <a:lnTo>
                    <a:pt x="668" y="648"/>
                  </a:lnTo>
                  <a:lnTo>
                    <a:pt x="644" y="702"/>
                  </a:lnTo>
                  <a:lnTo>
                    <a:pt x="644" y="702"/>
                  </a:lnTo>
                  <a:lnTo>
                    <a:pt x="614" y="770"/>
                  </a:lnTo>
                  <a:lnTo>
                    <a:pt x="588" y="818"/>
                  </a:lnTo>
                  <a:lnTo>
                    <a:pt x="568" y="852"/>
                  </a:lnTo>
                  <a:lnTo>
                    <a:pt x="552" y="872"/>
                  </a:lnTo>
                  <a:lnTo>
                    <a:pt x="552" y="8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6737400" y="7112160"/>
              <a:ext cx="1847880" cy="206352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2063520"/>
                <a:gd name="textAreaBottom" fmla="*/ 2063880 h 2063520"/>
              </a:gdLst>
              <a:ahLst/>
              <a:rect l="textAreaLeft" t="textAreaTop" r="textAreaRight" b="textAreaBottom"/>
              <a:pathLst>
                <a:path w="1164" h="1300">
                  <a:moveTo>
                    <a:pt x="1044" y="284"/>
                  </a:moveTo>
                  <a:lnTo>
                    <a:pt x="1042" y="284"/>
                  </a:lnTo>
                  <a:lnTo>
                    <a:pt x="1042" y="284"/>
                  </a:lnTo>
                  <a:lnTo>
                    <a:pt x="1012" y="256"/>
                  </a:lnTo>
                  <a:lnTo>
                    <a:pt x="978" y="234"/>
                  </a:lnTo>
                  <a:lnTo>
                    <a:pt x="962" y="224"/>
                  </a:lnTo>
                  <a:lnTo>
                    <a:pt x="946" y="216"/>
                  </a:lnTo>
                  <a:lnTo>
                    <a:pt x="930" y="210"/>
                  </a:lnTo>
                  <a:lnTo>
                    <a:pt x="914" y="204"/>
                  </a:lnTo>
                  <a:lnTo>
                    <a:pt x="914" y="204"/>
                  </a:lnTo>
                  <a:lnTo>
                    <a:pt x="894" y="200"/>
                  </a:lnTo>
                  <a:lnTo>
                    <a:pt x="872" y="196"/>
                  </a:lnTo>
                  <a:lnTo>
                    <a:pt x="852" y="194"/>
                  </a:lnTo>
                  <a:lnTo>
                    <a:pt x="832" y="194"/>
                  </a:lnTo>
                  <a:lnTo>
                    <a:pt x="812" y="194"/>
                  </a:lnTo>
                  <a:lnTo>
                    <a:pt x="792" y="196"/>
                  </a:lnTo>
                  <a:lnTo>
                    <a:pt x="774" y="200"/>
                  </a:lnTo>
                  <a:lnTo>
                    <a:pt x="754" y="204"/>
                  </a:lnTo>
                  <a:lnTo>
                    <a:pt x="752" y="204"/>
                  </a:lnTo>
                  <a:lnTo>
                    <a:pt x="752" y="204"/>
                  </a:lnTo>
                  <a:lnTo>
                    <a:pt x="728" y="214"/>
                  </a:lnTo>
                  <a:lnTo>
                    <a:pt x="702" y="226"/>
                  </a:lnTo>
                  <a:lnTo>
                    <a:pt x="676" y="244"/>
                  </a:lnTo>
                  <a:lnTo>
                    <a:pt x="650" y="264"/>
                  </a:lnTo>
                  <a:lnTo>
                    <a:pt x="624" y="288"/>
                  </a:lnTo>
                  <a:lnTo>
                    <a:pt x="600" y="316"/>
                  </a:lnTo>
                  <a:lnTo>
                    <a:pt x="574" y="346"/>
                  </a:lnTo>
                  <a:lnTo>
                    <a:pt x="548" y="380"/>
                  </a:lnTo>
                  <a:lnTo>
                    <a:pt x="548" y="380"/>
                  </a:lnTo>
                  <a:lnTo>
                    <a:pt x="554" y="366"/>
                  </a:lnTo>
                  <a:lnTo>
                    <a:pt x="558" y="356"/>
                  </a:lnTo>
                  <a:lnTo>
                    <a:pt x="558" y="356"/>
                  </a:lnTo>
                  <a:lnTo>
                    <a:pt x="566" y="318"/>
                  </a:lnTo>
                  <a:lnTo>
                    <a:pt x="568" y="282"/>
                  </a:lnTo>
                  <a:lnTo>
                    <a:pt x="566" y="246"/>
                  </a:lnTo>
                  <a:lnTo>
                    <a:pt x="558" y="212"/>
                  </a:lnTo>
                  <a:lnTo>
                    <a:pt x="546" y="176"/>
                  </a:lnTo>
                  <a:lnTo>
                    <a:pt x="530" y="142"/>
                  </a:lnTo>
                  <a:lnTo>
                    <a:pt x="508" y="108"/>
                  </a:lnTo>
                  <a:lnTo>
                    <a:pt x="482" y="76"/>
                  </a:lnTo>
                  <a:lnTo>
                    <a:pt x="482" y="76"/>
                  </a:lnTo>
                  <a:lnTo>
                    <a:pt x="458" y="50"/>
                  </a:lnTo>
                  <a:lnTo>
                    <a:pt x="434" y="28"/>
                  </a:lnTo>
                  <a:lnTo>
                    <a:pt x="424" y="22"/>
                  </a:lnTo>
                  <a:lnTo>
                    <a:pt x="412" y="14"/>
                  </a:lnTo>
                  <a:lnTo>
                    <a:pt x="400" y="10"/>
                  </a:lnTo>
                  <a:lnTo>
                    <a:pt x="388" y="6"/>
                  </a:lnTo>
                  <a:lnTo>
                    <a:pt x="388" y="6"/>
                  </a:lnTo>
                  <a:lnTo>
                    <a:pt x="368" y="2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28" y="2"/>
                  </a:lnTo>
                  <a:lnTo>
                    <a:pt x="310" y="6"/>
                  </a:lnTo>
                  <a:lnTo>
                    <a:pt x="294" y="14"/>
                  </a:lnTo>
                  <a:lnTo>
                    <a:pt x="278" y="24"/>
                  </a:lnTo>
                  <a:lnTo>
                    <a:pt x="266" y="36"/>
                  </a:lnTo>
                  <a:lnTo>
                    <a:pt x="254" y="52"/>
                  </a:lnTo>
                  <a:lnTo>
                    <a:pt x="246" y="70"/>
                  </a:lnTo>
                  <a:lnTo>
                    <a:pt x="238" y="90"/>
                  </a:lnTo>
                  <a:lnTo>
                    <a:pt x="238" y="90"/>
                  </a:lnTo>
                  <a:lnTo>
                    <a:pt x="236" y="102"/>
                  </a:lnTo>
                  <a:lnTo>
                    <a:pt x="234" y="116"/>
                  </a:lnTo>
                  <a:lnTo>
                    <a:pt x="234" y="152"/>
                  </a:lnTo>
                  <a:lnTo>
                    <a:pt x="234" y="154"/>
                  </a:lnTo>
                  <a:lnTo>
                    <a:pt x="234" y="154"/>
                  </a:lnTo>
                  <a:lnTo>
                    <a:pt x="234" y="178"/>
                  </a:lnTo>
                  <a:lnTo>
                    <a:pt x="234" y="188"/>
                  </a:lnTo>
                  <a:lnTo>
                    <a:pt x="234" y="188"/>
                  </a:lnTo>
                  <a:lnTo>
                    <a:pt x="226" y="208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172" y="306"/>
                  </a:lnTo>
                  <a:lnTo>
                    <a:pt x="172" y="306"/>
                  </a:lnTo>
                  <a:lnTo>
                    <a:pt x="170" y="308"/>
                  </a:lnTo>
                  <a:lnTo>
                    <a:pt x="170" y="308"/>
                  </a:lnTo>
                  <a:lnTo>
                    <a:pt x="120" y="404"/>
                  </a:lnTo>
                  <a:lnTo>
                    <a:pt x="98" y="450"/>
                  </a:lnTo>
                  <a:lnTo>
                    <a:pt x="80" y="494"/>
                  </a:lnTo>
                  <a:lnTo>
                    <a:pt x="62" y="538"/>
                  </a:lnTo>
                  <a:lnTo>
                    <a:pt x="46" y="578"/>
                  </a:lnTo>
                  <a:lnTo>
                    <a:pt x="34" y="618"/>
                  </a:lnTo>
                  <a:lnTo>
                    <a:pt x="24" y="654"/>
                  </a:lnTo>
                  <a:lnTo>
                    <a:pt x="24" y="654"/>
                  </a:lnTo>
                  <a:lnTo>
                    <a:pt x="16" y="686"/>
                  </a:lnTo>
                  <a:lnTo>
                    <a:pt x="10" y="716"/>
                  </a:lnTo>
                  <a:lnTo>
                    <a:pt x="6" y="746"/>
                  </a:lnTo>
                  <a:lnTo>
                    <a:pt x="2" y="774"/>
                  </a:lnTo>
                  <a:lnTo>
                    <a:pt x="0" y="802"/>
                  </a:lnTo>
                  <a:lnTo>
                    <a:pt x="0" y="828"/>
                  </a:lnTo>
                  <a:lnTo>
                    <a:pt x="2" y="856"/>
                  </a:lnTo>
                  <a:lnTo>
                    <a:pt x="4" y="880"/>
                  </a:lnTo>
                  <a:lnTo>
                    <a:pt x="8" y="906"/>
                  </a:lnTo>
                  <a:lnTo>
                    <a:pt x="14" y="928"/>
                  </a:lnTo>
                  <a:lnTo>
                    <a:pt x="22" y="952"/>
                  </a:lnTo>
                  <a:lnTo>
                    <a:pt x="30" y="974"/>
                  </a:lnTo>
                  <a:lnTo>
                    <a:pt x="40" y="996"/>
                  </a:lnTo>
                  <a:lnTo>
                    <a:pt x="50" y="1016"/>
                  </a:lnTo>
                  <a:lnTo>
                    <a:pt x="64" y="1036"/>
                  </a:lnTo>
                  <a:lnTo>
                    <a:pt x="78" y="1054"/>
                  </a:lnTo>
                  <a:lnTo>
                    <a:pt x="78" y="1054"/>
                  </a:lnTo>
                  <a:lnTo>
                    <a:pt x="92" y="1072"/>
                  </a:lnTo>
                  <a:lnTo>
                    <a:pt x="110" y="1090"/>
                  </a:lnTo>
                  <a:lnTo>
                    <a:pt x="126" y="1104"/>
                  </a:lnTo>
                  <a:lnTo>
                    <a:pt x="144" y="1118"/>
                  </a:lnTo>
                  <a:lnTo>
                    <a:pt x="162" y="1128"/>
                  </a:lnTo>
                  <a:lnTo>
                    <a:pt x="182" y="1138"/>
                  </a:lnTo>
                  <a:lnTo>
                    <a:pt x="202" y="1146"/>
                  </a:lnTo>
                  <a:lnTo>
                    <a:pt x="222" y="1152"/>
                  </a:lnTo>
                  <a:lnTo>
                    <a:pt x="222" y="1152"/>
                  </a:lnTo>
                  <a:lnTo>
                    <a:pt x="248" y="1158"/>
                  </a:lnTo>
                  <a:lnTo>
                    <a:pt x="272" y="1158"/>
                  </a:lnTo>
                  <a:lnTo>
                    <a:pt x="272" y="1158"/>
                  </a:lnTo>
                  <a:lnTo>
                    <a:pt x="300" y="1156"/>
                  </a:lnTo>
                  <a:lnTo>
                    <a:pt x="328" y="1150"/>
                  </a:lnTo>
                  <a:lnTo>
                    <a:pt x="356" y="1140"/>
                  </a:lnTo>
                  <a:lnTo>
                    <a:pt x="382" y="1126"/>
                  </a:lnTo>
                  <a:lnTo>
                    <a:pt x="408" y="1108"/>
                  </a:lnTo>
                  <a:lnTo>
                    <a:pt x="432" y="1084"/>
                  </a:lnTo>
                  <a:lnTo>
                    <a:pt x="458" y="1058"/>
                  </a:lnTo>
                  <a:lnTo>
                    <a:pt x="480" y="1026"/>
                  </a:lnTo>
                  <a:lnTo>
                    <a:pt x="480" y="1026"/>
                  </a:lnTo>
                  <a:lnTo>
                    <a:pt x="500" y="1054"/>
                  </a:lnTo>
                  <a:lnTo>
                    <a:pt x="524" y="1082"/>
                  </a:lnTo>
                  <a:lnTo>
                    <a:pt x="548" y="1112"/>
                  </a:lnTo>
                  <a:lnTo>
                    <a:pt x="576" y="1142"/>
                  </a:lnTo>
                  <a:lnTo>
                    <a:pt x="576" y="1142"/>
                  </a:lnTo>
                  <a:lnTo>
                    <a:pt x="606" y="1172"/>
                  </a:lnTo>
                  <a:lnTo>
                    <a:pt x="634" y="1200"/>
                  </a:lnTo>
                  <a:lnTo>
                    <a:pt x="662" y="1224"/>
                  </a:lnTo>
                  <a:lnTo>
                    <a:pt x="688" y="1244"/>
                  </a:lnTo>
                  <a:lnTo>
                    <a:pt x="714" y="1262"/>
                  </a:lnTo>
                  <a:lnTo>
                    <a:pt x="738" y="1276"/>
                  </a:lnTo>
                  <a:lnTo>
                    <a:pt x="762" y="1286"/>
                  </a:lnTo>
                  <a:lnTo>
                    <a:pt x="784" y="1294"/>
                  </a:lnTo>
                  <a:lnTo>
                    <a:pt x="784" y="1294"/>
                  </a:lnTo>
                  <a:lnTo>
                    <a:pt x="806" y="1298"/>
                  </a:lnTo>
                  <a:lnTo>
                    <a:pt x="828" y="1300"/>
                  </a:lnTo>
                  <a:lnTo>
                    <a:pt x="828" y="1300"/>
                  </a:lnTo>
                  <a:lnTo>
                    <a:pt x="854" y="1298"/>
                  </a:lnTo>
                  <a:lnTo>
                    <a:pt x="880" y="1292"/>
                  </a:lnTo>
                  <a:lnTo>
                    <a:pt x="906" y="1282"/>
                  </a:lnTo>
                  <a:lnTo>
                    <a:pt x="930" y="1268"/>
                  </a:lnTo>
                  <a:lnTo>
                    <a:pt x="954" y="1250"/>
                  </a:lnTo>
                  <a:lnTo>
                    <a:pt x="978" y="1228"/>
                  </a:lnTo>
                  <a:lnTo>
                    <a:pt x="1002" y="1202"/>
                  </a:lnTo>
                  <a:lnTo>
                    <a:pt x="1024" y="1174"/>
                  </a:lnTo>
                  <a:lnTo>
                    <a:pt x="1024" y="1174"/>
                  </a:lnTo>
                  <a:lnTo>
                    <a:pt x="1042" y="1148"/>
                  </a:lnTo>
                  <a:lnTo>
                    <a:pt x="1058" y="1120"/>
                  </a:lnTo>
                  <a:lnTo>
                    <a:pt x="1072" y="1094"/>
                  </a:lnTo>
                  <a:lnTo>
                    <a:pt x="1086" y="1066"/>
                  </a:lnTo>
                  <a:lnTo>
                    <a:pt x="1098" y="1038"/>
                  </a:lnTo>
                  <a:lnTo>
                    <a:pt x="1110" y="1008"/>
                  </a:lnTo>
                  <a:lnTo>
                    <a:pt x="1120" y="978"/>
                  </a:lnTo>
                  <a:lnTo>
                    <a:pt x="1128" y="948"/>
                  </a:lnTo>
                  <a:lnTo>
                    <a:pt x="1128" y="948"/>
                  </a:lnTo>
                  <a:lnTo>
                    <a:pt x="1138" y="906"/>
                  </a:lnTo>
                  <a:lnTo>
                    <a:pt x="1146" y="864"/>
                  </a:lnTo>
                  <a:lnTo>
                    <a:pt x="1154" y="822"/>
                  </a:lnTo>
                  <a:lnTo>
                    <a:pt x="1158" y="780"/>
                  </a:lnTo>
                  <a:lnTo>
                    <a:pt x="1162" y="738"/>
                  </a:lnTo>
                  <a:lnTo>
                    <a:pt x="1164" y="696"/>
                  </a:lnTo>
                  <a:lnTo>
                    <a:pt x="1164" y="654"/>
                  </a:lnTo>
                  <a:lnTo>
                    <a:pt x="1164" y="612"/>
                  </a:lnTo>
                  <a:lnTo>
                    <a:pt x="1164" y="612"/>
                  </a:lnTo>
                  <a:lnTo>
                    <a:pt x="1158" y="560"/>
                  </a:lnTo>
                  <a:lnTo>
                    <a:pt x="1152" y="510"/>
                  </a:lnTo>
                  <a:lnTo>
                    <a:pt x="1140" y="464"/>
                  </a:lnTo>
                  <a:lnTo>
                    <a:pt x="1128" y="422"/>
                  </a:lnTo>
                  <a:lnTo>
                    <a:pt x="1110" y="382"/>
                  </a:lnTo>
                  <a:lnTo>
                    <a:pt x="1092" y="346"/>
                  </a:lnTo>
                  <a:lnTo>
                    <a:pt x="1070" y="314"/>
                  </a:lnTo>
                  <a:lnTo>
                    <a:pt x="1044" y="284"/>
                  </a:lnTo>
                  <a:lnTo>
                    <a:pt x="1044" y="284"/>
                  </a:lnTo>
                  <a:close/>
                  <a:moveTo>
                    <a:pt x="878" y="540"/>
                  </a:moveTo>
                  <a:lnTo>
                    <a:pt x="878" y="540"/>
                  </a:lnTo>
                  <a:lnTo>
                    <a:pt x="876" y="590"/>
                  </a:lnTo>
                  <a:lnTo>
                    <a:pt x="870" y="640"/>
                  </a:lnTo>
                  <a:lnTo>
                    <a:pt x="862" y="692"/>
                  </a:lnTo>
                  <a:lnTo>
                    <a:pt x="850" y="746"/>
                  </a:lnTo>
                  <a:lnTo>
                    <a:pt x="850" y="746"/>
                  </a:lnTo>
                  <a:lnTo>
                    <a:pt x="838" y="788"/>
                  </a:lnTo>
                  <a:lnTo>
                    <a:pt x="824" y="826"/>
                  </a:lnTo>
                  <a:lnTo>
                    <a:pt x="808" y="860"/>
                  </a:lnTo>
                  <a:lnTo>
                    <a:pt x="792" y="890"/>
                  </a:lnTo>
                  <a:lnTo>
                    <a:pt x="790" y="890"/>
                  </a:lnTo>
                  <a:lnTo>
                    <a:pt x="790" y="890"/>
                  </a:lnTo>
                  <a:lnTo>
                    <a:pt x="778" y="908"/>
                  </a:lnTo>
                  <a:lnTo>
                    <a:pt x="764" y="924"/>
                  </a:lnTo>
                  <a:lnTo>
                    <a:pt x="756" y="932"/>
                  </a:lnTo>
                  <a:lnTo>
                    <a:pt x="748" y="936"/>
                  </a:lnTo>
                  <a:lnTo>
                    <a:pt x="740" y="940"/>
                  </a:lnTo>
                  <a:lnTo>
                    <a:pt x="732" y="942"/>
                  </a:lnTo>
                  <a:lnTo>
                    <a:pt x="732" y="942"/>
                  </a:lnTo>
                  <a:lnTo>
                    <a:pt x="720" y="940"/>
                  </a:lnTo>
                  <a:lnTo>
                    <a:pt x="720" y="940"/>
                  </a:lnTo>
                  <a:lnTo>
                    <a:pt x="700" y="934"/>
                  </a:lnTo>
                  <a:lnTo>
                    <a:pt x="678" y="924"/>
                  </a:lnTo>
                  <a:lnTo>
                    <a:pt x="654" y="912"/>
                  </a:lnTo>
                  <a:lnTo>
                    <a:pt x="628" y="898"/>
                  </a:lnTo>
                  <a:lnTo>
                    <a:pt x="628" y="898"/>
                  </a:lnTo>
                  <a:lnTo>
                    <a:pt x="566" y="860"/>
                  </a:lnTo>
                  <a:lnTo>
                    <a:pt x="566" y="860"/>
                  </a:lnTo>
                  <a:lnTo>
                    <a:pt x="624" y="708"/>
                  </a:lnTo>
                  <a:lnTo>
                    <a:pt x="624" y="708"/>
                  </a:lnTo>
                  <a:lnTo>
                    <a:pt x="656" y="638"/>
                  </a:lnTo>
                  <a:lnTo>
                    <a:pt x="684" y="578"/>
                  </a:lnTo>
                  <a:lnTo>
                    <a:pt x="712" y="526"/>
                  </a:lnTo>
                  <a:lnTo>
                    <a:pt x="740" y="484"/>
                  </a:lnTo>
                  <a:lnTo>
                    <a:pt x="740" y="484"/>
                  </a:lnTo>
                  <a:lnTo>
                    <a:pt x="762" y="454"/>
                  </a:lnTo>
                  <a:lnTo>
                    <a:pt x="786" y="432"/>
                  </a:lnTo>
                  <a:lnTo>
                    <a:pt x="796" y="424"/>
                  </a:lnTo>
                  <a:lnTo>
                    <a:pt x="806" y="418"/>
                  </a:lnTo>
                  <a:lnTo>
                    <a:pt x="816" y="414"/>
                  </a:lnTo>
                  <a:lnTo>
                    <a:pt x="824" y="414"/>
                  </a:lnTo>
                  <a:lnTo>
                    <a:pt x="824" y="414"/>
                  </a:lnTo>
                  <a:lnTo>
                    <a:pt x="832" y="414"/>
                  </a:lnTo>
                  <a:lnTo>
                    <a:pt x="832" y="414"/>
                  </a:lnTo>
                  <a:lnTo>
                    <a:pt x="840" y="418"/>
                  </a:lnTo>
                  <a:lnTo>
                    <a:pt x="846" y="422"/>
                  </a:lnTo>
                  <a:lnTo>
                    <a:pt x="852" y="426"/>
                  </a:lnTo>
                  <a:lnTo>
                    <a:pt x="856" y="432"/>
                  </a:lnTo>
                  <a:lnTo>
                    <a:pt x="864" y="448"/>
                  </a:lnTo>
                  <a:lnTo>
                    <a:pt x="870" y="466"/>
                  </a:lnTo>
                  <a:lnTo>
                    <a:pt x="874" y="484"/>
                  </a:lnTo>
                  <a:lnTo>
                    <a:pt x="876" y="504"/>
                  </a:lnTo>
                  <a:lnTo>
                    <a:pt x="878" y="540"/>
                  </a:lnTo>
                  <a:lnTo>
                    <a:pt x="878" y="540"/>
                  </a:lnTo>
                  <a:close/>
                  <a:moveTo>
                    <a:pt x="288" y="872"/>
                  </a:moveTo>
                  <a:lnTo>
                    <a:pt x="288" y="872"/>
                  </a:lnTo>
                  <a:lnTo>
                    <a:pt x="284" y="876"/>
                  </a:lnTo>
                  <a:lnTo>
                    <a:pt x="284" y="876"/>
                  </a:lnTo>
                  <a:lnTo>
                    <a:pt x="288" y="858"/>
                  </a:lnTo>
                  <a:lnTo>
                    <a:pt x="292" y="836"/>
                  </a:lnTo>
                  <a:lnTo>
                    <a:pt x="292" y="836"/>
                  </a:lnTo>
                  <a:lnTo>
                    <a:pt x="300" y="808"/>
                  </a:lnTo>
                  <a:lnTo>
                    <a:pt x="312" y="778"/>
                  </a:lnTo>
                  <a:lnTo>
                    <a:pt x="324" y="746"/>
                  </a:lnTo>
                  <a:lnTo>
                    <a:pt x="340" y="714"/>
                  </a:lnTo>
                  <a:lnTo>
                    <a:pt x="360" y="680"/>
                  </a:lnTo>
                  <a:lnTo>
                    <a:pt x="380" y="644"/>
                  </a:lnTo>
                  <a:lnTo>
                    <a:pt x="404" y="608"/>
                  </a:lnTo>
                  <a:lnTo>
                    <a:pt x="430" y="570"/>
                  </a:lnTo>
                  <a:lnTo>
                    <a:pt x="430" y="570"/>
                  </a:lnTo>
                  <a:lnTo>
                    <a:pt x="476" y="502"/>
                  </a:lnTo>
                  <a:lnTo>
                    <a:pt x="476" y="502"/>
                  </a:lnTo>
                  <a:lnTo>
                    <a:pt x="452" y="546"/>
                  </a:lnTo>
                  <a:lnTo>
                    <a:pt x="428" y="594"/>
                  </a:lnTo>
                  <a:lnTo>
                    <a:pt x="404" y="646"/>
                  </a:lnTo>
                  <a:lnTo>
                    <a:pt x="380" y="700"/>
                  </a:lnTo>
                  <a:lnTo>
                    <a:pt x="380" y="700"/>
                  </a:lnTo>
                  <a:lnTo>
                    <a:pt x="350" y="768"/>
                  </a:lnTo>
                  <a:lnTo>
                    <a:pt x="326" y="818"/>
                  </a:lnTo>
                  <a:lnTo>
                    <a:pt x="304" y="850"/>
                  </a:lnTo>
                  <a:lnTo>
                    <a:pt x="288" y="872"/>
                  </a:lnTo>
                  <a:lnTo>
                    <a:pt x="288" y="8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Freeform 8"/>
          <p:cNvSpPr/>
          <p:nvPr/>
        </p:nvSpPr>
        <p:spPr>
          <a:xfrm>
            <a:off x="727200" y="22104360"/>
            <a:ext cx="2361960" cy="75787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7578720"/>
              <a:gd name="textAreaBottom" fmla="*/ 7578720 h 7578720"/>
            </a:gdLst>
            <a:ahLst/>
            <a:rect l="textAreaLeft" t="textAreaTop" r="textAreaRight" b="textAreaBottom"/>
            <a:pathLst>
              <a:path w="1488" h="4774">
                <a:moveTo>
                  <a:pt x="1488" y="3836"/>
                </a:moveTo>
                <a:lnTo>
                  <a:pt x="1488" y="3836"/>
                </a:lnTo>
                <a:lnTo>
                  <a:pt x="1484" y="3814"/>
                </a:lnTo>
                <a:lnTo>
                  <a:pt x="1476" y="3794"/>
                </a:lnTo>
                <a:lnTo>
                  <a:pt x="1466" y="3774"/>
                </a:lnTo>
                <a:lnTo>
                  <a:pt x="1452" y="3756"/>
                </a:lnTo>
                <a:lnTo>
                  <a:pt x="1436" y="3738"/>
                </a:lnTo>
                <a:lnTo>
                  <a:pt x="1416" y="3722"/>
                </a:lnTo>
                <a:lnTo>
                  <a:pt x="1392" y="3708"/>
                </a:lnTo>
                <a:lnTo>
                  <a:pt x="1364" y="3694"/>
                </a:lnTo>
                <a:lnTo>
                  <a:pt x="1362" y="3694"/>
                </a:lnTo>
                <a:lnTo>
                  <a:pt x="1362" y="3694"/>
                </a:lnTo>
                <a:lnTo>
                  <a:pt x="1340" y="3684"/>
                </a:lnTo>
                <a:lnTo>
                  <a:pt x="1314" y="3676"/>
                </a:lnTo>
                <a:lnTo>
                  <a:pt x="1286" y="3670"/>
                </a:lnTo>
                <a:lnTo>
                  <a:pt x="1258" y="3664"/>
                </a:lnTo>
                <a:lnTo>
                  <a:pt x="1226" y="3662"/>
                </a:lnTo>
                <a:lnTo>
                  <a:pt x="1194" y="3660"/>
                </a:lnTo>
                <a:lnTo>
                  <a:pt x="1158" y="3658"/>
                </a:lnTo>
                <a:lnTo>
                  <a:pt x="1122" y="3660"/>
                </a:lnTo>
                <a:lnTo>
                  <a:pt x="1122" y="3660"/>
                </a:lnTo>
                <a:lnTo>
                  <a:pt x="1114" y="3636"/>
                </a:lnTo>
                <a:lnTo>
                  <a:pt x="1106" y="3616"/>
                </a:lnTo>
                <a:lnTo>
                  <a:pt x="1098" y="3598"/>
                </a:lnTo>
                <a:lnTo>
                  <a:pt x="1088" y="3582"/>
                </a:lnTo>
                <a:lnTo>
                  <a:pt x="1088" y="3582"/>
                </a:lnTo>
                <a:lnTo>
                  <a:pt x="1078" y="3570"/>
                </a:lnTo>
                <a:lnTo>
                  <a:pt x="1068" y="3558"/>
                </a:lnTo>
                <a:lnTo>
                  <a:pt x="1056" y="3546"/>
                </a:lnTo>
                <a:lnTo>
                  <a:pt x="1044" y="3536"/>
                </a:lnTo>
                <a:lnTo>
                  <a:pt x="1012" y="3516"/>
                </a:lnTo>
                <a:lnTo>
                  <a:pt x="976" y="3498"/>
                </a:lnTo>
                <a:lnTo>
                  <a:pt x="976" y="3498"/>
                </a:lnTo>
                <a:lnTo>
                  <a:pt x="950" y="3488"/>
                </a:lnTo>
                <a:lnTo>
                  <a:pt x="924" y="3480"/>
                </a:lnTo>
                <a:lnTo>
                  <a:pt x="924" y="3480"/>
                </a:lnTo>
                <a:lnTo>
                  <a:pt x="938" y="3464"/>
                </a:lnTo>
                <a:lnTo>
                  <a:pt x="954" y="3448"/>
                </a:lnTo>
                <a:lnTo>
                  <a:pt x="966" y="3430"/>
                </a:lnTo>
                <a:lnTo>
                  <a:pt x="980" y="3410"/>
                </a:lnTo>
                <a:lnTo>
                  <a:pt x="1082" y="3472"/>
                </a:lnTo>
                <a:lnTo>
                  <a:pt x="1084" y="3472"/>
                </a:lnTo>
                <a:lnTo>
                  <a:pt x="1084" y="3472"/>
                </a:lnTo>
                <a:lnTo>
                  <a:pt x="1122" y="3494"/>
                </a:lnTo>
                <a:lnTo>
                  <a:pt x="1156" y="3510"/>
                </a:lnTo>
                <a:lnTo>
                  <a:pt x="1182" y="3522"/>
                </a:lnTo>
                <a:lnTo>
                  <a:pt x="1206" y="3532"/>
                </a:lnTo>
                <a:lnTo>
                  <a:pt x="1224" y="3538"/>
                </a:lnTo>
                <a:lnTo>
                  <a:pt x="1240" y="3542"/>
                </a:lnTo>
                <a:lnTo>
                  <a:pt x="1252" y="3544"/>
                </a:lnTo>
                <a:lnTo>
                  <a:pt x="1262" y="3544"/>
                </a:lnTo>
                <a:lnTo>
                  <a:pt x="1262" y="3544"/>
                </a:lnTo>
                <a:lnTo>
                  <a:pt x="1270" y="3544"/>
                </a:lnTo>
                <a:lnTo>
                  <a:pt x="1270" y="3544"/>
                </a:lnTo>
                <a:lnTo>
                  <a:pt x="1282" y="3542"/>
                </a:lnTo>
                <a:lnTo>
                  <a:pt x="1294" y="3540"/>
                </a:lnTo>
                <a:lnTo>
                  <a:pt x="1306" y="3536"/>
                </a:lnTo>
                <a:lnTo>
                  <a:pt x="1318" y="3530"/>
                </a:lnTo>
                <a:lnTo>
                  <a:pt x="1328" y="3524"/>
                </a:lnTo>
                <a:lnTo>
                  <a:pt x="1338" y="3518"/>
                </a:lnTo>
                <a:lnTo>
                  <a:pt x="1348" y="3510"/>
                </a:lnTo>
                <a:lnTo>
                  <a:pt x="1356" y="3500"/>
                </a:lnTo>
                <a:lnTo>
                  <a:pt x="1356" y="3500"/>
                </a:lnTo>
                <a:lnTo>
                  <a:pt x="1364" y="3490"/>
                </a:lnTo>
                <a:lnTo>
                  <a:pt x="1372" y="3478"/>
                </a:lnTo>
                <a:lnTo>
                  <a:pt x="1378" y="3468"/>
                </a:lnTo>
                <a:lnTo>
                  <a:pt x="1382" y="3456"/>
                </a:lnTo>
                <a:lnTo>
                  <a:pt x="1386" y="3444"/>
                </a:lnTo>
                <a:lnTo>
                  <a:pt x="1388" y="3432"/>
                </a:lnTo>
                <a:lnTo>
                  <a:pt x="1388" y="3418"/>
                </a:lnTo>
                <a:lnTo>
                  <a:pt x="1388" y="3406"/>
                </a:lnTo>
                <a:lnTo>
                  <a:pt x="1388" y="3406"/>
                </a:lnTo>
                <a:lnTo>
                  <a:pt x="1384" y="3378"/>
                </a:lnTo>
                <a:lnTo>
                  <a:pt x="1374" y="3350"/>
                </a:lnTo>
                <a:lnTo>
                  <a:pt x="1362" y="3324"/>
                </a:lnTo>
                <a:lnTo>
                  <a:pt x="1344" y="3298"/>
                </a:lnTo>
                <a:lnTo>
                  <a:pt x="1322" y="3272"/>
                </a:lnTo>
                <a:lnTo>
                  <a:pt x="1294" y="3246"/>
                </a:lnTo>
                <a:lnTo>
                  <a:pt x="1262" y="3222"/>
                </a:lnTo>
                <a:lnTo>
                  <a:pt x="1226" y="3198"/>
                </a:lnTo>
                <a:lnTo>
                  <a:pt x="1226" y="3198"/>
                </a:lnTo>
                <a:lnTo>
                  <a:pt x="1184" y="3172"/>
                </a:lnTo>
                <a:lnTo>
                  <a:pt x="1142" y="3150"/>
                </a:lnTo>
                <a:lnTo>
                  <a:pt x="1096" y="3128"/>
                </a:lnTo>
                <a:lnTo>
                  <a:pt x="1046" y="3110"/>
                </a:lnTo>
                <a:lnTo>
                  <a:pt x="1046" y="3110"/>
                </a:lnTo>
                <a:lnTo>
                  <a:pt x="1046" y="3054"/>
                </a:lnTo>
                <a:lnTo>
                  <a:pt x="1044" y="3006"/>
                </a:lnTo>
                <a:lnTo>
                  <a:pt x="1044" y="3006"/>
                </a:lnTo>
                <a:lnTo>
                  <a:pt x="1038" y="2956"/>
                </a:lnTo>
                <a:lnTo>
                  <a:pt x="1038" y="2956"/>
                </a:lnTo>
                <a:lnTo>
                  <a:pt x="1090" y="2942"/>
                </a:lnTo>
                <a:lnTo>
                  <a:pt x="1130" y="2934"/>
                </a:lnTo>
                <a:lnTo>
                  <a:pt x="1130" y="2934"/>
                </a:lnTo>
                <a:lnTo>
                  <a:pt x="1134" y="2934"/>
                </a:lnTo>
                <a:lnTo>
                  <a:pt x="1134" y="2934"/>
                </a:lnTo>
                <a:lnTo>
                  <a:pt x="1154" y="2928"/>
                </a:lnTo>
                <a:lnTo>
                  <a:pt x="1174" y="2920"/>
                </a:lnTo>
                <a:lnTo>
                  <a:pt x="1190" y="2912"/>
                </a:lnTo>
                <a:lnTo>
                  <a:pt x="1204" y="2902"/>
                </a:lnTo>
                <a:lnTo>
                  <a:pt x="1216" y="2892"/>
                </a:lnTo>
                <a:lnTo>
                  <a:pt x="1226" y="2882"/>
                </a:lnTo>
                <a:lnTo>
                  <a:pt x="1234" y="2872"/>
                </a:lnTo>
                <a:lnTo>
                  <a:pt x="1242" y="2860"/>
                </a:lnTo>
                <a:lnTo>
                  <a:pt x="1246" y="2850"/>
                </a:lnTo>
                <a:lnTo>
                  <a:pt x="1250" y="2838"/>
                </a:lnTo>
                <a:lnTo>
                  <a:pt x="1256" y="2818"/>
                </a:lnTo>
                <a:lnTo>
                  <a:pt x="1258" y="2798"/>
                </a:lnTo>
                <a:lnTo>
                  <a:pt x="1258" y="2784"/>
                </a:lnTo>
                <a:lnTo>
                  <a:pt x="1258" y="2784"/>
                </a:lnTo>
                <a:lnTo>
                  <a:pt x="1254" y="2762"/>
                </a:lnTo>
                <a:lnTo>
                  <a:pt x="1248" y="2742"/>
                </a:lnTo>
                <a:lnTo>
                  <a:pt x="1240" y="2724"/>
                </a:lnTo>
                <a:lnTo>
                  <a:pt x="1228" y="2708"/>
                </a:lnTo>
                <a:lnTo>
                  <a:pt x="1214" y="2694"/>
                </a:lnTo>
                <a:lnTo>
                  <a:pt x="1198" y="2680"/>
                </a:lnTo>
                <a:lnTo>
                  <a:pt x="1178" y="2670"/>
                </a:lnTo>
                <a:lnTo>
                  <a:pt x="1156" y="2660"/>
                </a:lnTo>
                <a:lnTo>
                  <a:pt x="1156" y="2660"/>
                </a:lnTo>
                <a:lnTo>
                  <a:pt x="1156" y="2660"/>
                </a:lnTo>
                <a:lnTo>
                  <a:pt x="1136" y="2656"/>
                </a:lnTo>
                <a:lnTo>
                  <a:pt x="1116" y="2652"/>
                </a:lnTo>
                <a:lnTo>
                  <a:pt x="1096" y="2648"/>
                </a:lnTo>
                <a:lnTo>
                  <a:pt x="1074" y="2648"/>
                </a:lnTo>
                <a:lnTo>
                  <a:pt x="1074" y="2648"/>
                </a:lnTo>
                <a:lnTo>
                  <a:pt x="1100" y="2634"/>
                </a:lnTo>
                <a:lnTo>
                  <a:pt x="1122" y="2622"/>
                </a:lnTo>
                <a:lnTo>
                  <a:pt x="1138" y="2606"/>
                </a:lnTo>
                <a:lnTo>
                  <a:pt x="1154" y="2590"/>
                </a:lnTo>
                <a:lnTo>
                  <a:pt x="1164" y="2574"/>
                </a:lnTo>
                <a:lnTo>
                  <a:pt x="1172" y="2556"/>
                </a:lnTo>
                <a:lnTo>
                  <a:pt x="1176" y="2536"/>
                </a:lnTo>
                <a:lnTo>
                  <a:pt x="1176" y="2518"/>
                </a:lnTo>
                <a:lnTo>
                  <a:pt x="1176" y="2518"/>
                </a:lnTo>
                <a:lnTo>
                  <a:pt x="1172" y="2502"/>
                </a:lnTo>
                <a:lnTo>
                  <a:pt x="1168" y="2486"/>
                </a:lnTo>
                <a:lnTo>
                  <a:pt x="1160" y="2470"/>
                </a:lnTo>
                <a:lnTo>
                  <a:pt x="1148" y="2452"/>
                </a:lnTo>
                <a:lnTo>
                  <a:pt x="1130" y="2438"/>
                </a:lnTo>
                <a:lnTo>
                  <a:pt x="1108" y="2422"/>
                </a:lnTo>
                <a:lnTo>
                  <a:pt x="1082" y="2410"/>
                </a:lnTo>
                <a:lnTo>
                  <a:pt x="1048" y="2398"/>
                </a:lnTo>
                <a:lnTo>
                  <a:pt x="1046" y="2398"/>
                </a:lnTo>
                <a:lnTo>
                  <a:pt x="1046" y="2398"/>
                </a:lnTo>
                <a:lnTo>
                  <a:pt x="1012" y="2392"/>
                </a:lnTo>
                <a:lnTo>
                  <a:pt x="976" y="2388"/>
                </a:lnTo>
                <a:lnTo>
                  <a:pt x="940" y="2386"/>
                </a:lnTo>
                <a:lnTo>
                  <a:pt x="906" y="2388"/>
                </a:lnTo>
                <a:lnTo>
                  <a:pt x="906" y="2388"/>
                </a:lnTo>
                <a:lnTo>
                  <a:pt x="884" y="2390"/>
                </a:lnTo>
                <a:lnTo>
                  <a:pt x="856" y="2396"/>
                </a:lnTo>
                <a:lnTo>
                  <a:pt x="856" y="2396"/>
                </a:lnTo>
                <a:lnTo>
                  <a:pt x="844" y="2384"/>
                </a:lnTo>
                <a:lnTo>
                  <a:pt x="844" y="2384"/>
                </a:lnTo>
                <a:lnTo>
                  <a:pt x="872" y="2380"/>
                </a:lnTo>
                <a:lnTo>
                  <a:pt x="900" y="2376"/>
                </a:lnTo>
                <a:lnTo>
                  <a:pt x="926" y="2368"/>
                </a:lnTo>
                <a:lnTo>
                  <a:pt x="952" y="2360"/>
                </a:lnTo>
                <a:lnTo>
                  <a:pt x="976" y="2350"/>
                </a:lnTo>
                <a:lnTo>
                  <a:pt x="998" y="2340"/>
                </a:lnTo>
                <a:lnTo>
                  <a:pt x="1020" y="2326"/>
                </a:lnTo>
                <a:lnTo>
                  <a:pt x="1042" y="2312"/>
                </a:lnTo>
                <a:lnTo>
                  <a:pt x="1062" y="2296"/>
                </a:lnTo>
                <a:lnTo>
                  <a:pt x="1080" y="2278"/>
                </a:lnTo>
                <a:lnTo>
                  <a:pt x="1098" y="2258"/>
                </a:lnTo>
                <a:lnTo>
                  <a:pt x="1114" y="2238"/>
                </a:lnTo>
                <a:lnTo>
                  <a:pt x="1130" y="2216"/>
                </a:lnTo>
                <a:lnTo>
                  <a:pt x="1144" y="2192"/>
                </a:lnTo>
                <a:lnTo>
                  <a:pt x="1158" y="2166"/>
                </a:lnTo>
                <a:lnTo>
                  <a:pt x="1170" y="2138"/>
                </a:lnTo>
                <a:lnTo>
                  <a:pt x="1170" y="2138"/>
                </a:lnTo>
                <a:lnTo>
                  <a:pt x="1184" y="2098"/>
                </a:lnTo>
                <a:lnTo>
                  <a:pt x="1196" y="2054"/>
                </a:lnTo>
                <a:lnTo>
                  <a:pt x="1206" y="2006"/>
                </a:lnTo>
                <a:lnTo>
                  <a:pt x="1212" y="1956"/>
                </a:lnTo>
                <a:lnTo>
                  <a:pt x="1216" y="1906"/>
                </a:lnTo>
                <a:lnTo>
                  <a:pt x="1218" y="1850"/>
                </a:lnTo>
                <a:lnTo>
                  <a:pt x="1216" y="1794"/>
                </a:lnTo>
                <a:lnTo>
                  <a:pt x="1214" y="1734"/>
                </a:lnTo>
                <a:lnTo>
                  <a:pt x="1214" y="1734"/>
                </a:lnTo>
                <a:lnTo>
                  <a:pt x="1208" y="1684"/>
                </a:lnTo>
                <a:lnTo>
                  <a:pt x="1202" y="1636"/>
                </a:lnTo>
                <a:lnTo>
                  <a:pt x="1196" y="1590"/>
                </a:lnTo>
                <a:lnTo>
                  <a:pt x="1186" y="1546"/>
                </a:lnTo>
                <a:lnTo>
                  <a:pt x="1176" y="1506"/>
                </a:lnTo>
                <a:lnTo>
                  <a:pt x="1166" y="1468"/>
                </a:lnTo>
                <a:lnTo>
                  <a:pt x="1154" y="1430"/>
                </a:lnTo>
                <a:lnTo>
                  <a:pt x="1140" y="1396"/>
                </a:lnTo>
                <a:lnTo>
                  <a:pt x="1124" y="1366"/>
                </a:lnTo>
                <a:lnTo>
                  <a:pt x="1108" y="1336"/>
                </a:lnTo>
                <a:lnTo>
                  <a:pt x="1090" y="1308"/>
                </a:lnTo>
                <a:lnTo>
                  <a:pt x="1072" y="1284"/>
                </a:lnTo>
                <a:lnTo>
                  <a:pt x="1050" y="1260"/>
                </a:lnTo>
                <a:lnTo>
                  <a:pt x="1030" y="1240"/>
                </a:lnTo>
                <a:lnTo>
                  <a:pt x="1006" y="1222"/>
                </a:lnTo>
                <a:lnTo>
                  <a:pt x="982" y="1206"/>
                </a:lnTo>
                <a:lnTo>
                  <a:pt x="982" y="1206"/>
                </a:lnTo>
                <a:lnTo>
                  <a:pt x="958" y="1192"/>
                </a:lnTo>
                <a:lnTo>
                  <a:pt x="934" y="1182"/>
                </a:lnTo>
                <a:lnTo>
                  <a:pt x="934" y="1182"/>
                </a:lnTo>
                <a:lnTo>
                  <a:pt x="958" y="1172"/>
                </a:lnTo>
                <a:lnTo>
                  <a:pt x="982" y="1162"/>
                </a:lnTo>
                <a:lnTo>
                  <a:pt x="1004" y="1150"/>
                </a:lnTo>
                <a:lnTo>
                  <a:pt x="1026" y="1136"/>
                </a:lnTo>
                <a:lnTo>
                  <a:pt x="1048" y="1122"/>
                </a:lnTo>
                <a:lnTo>
                  <a:pt x="1068" y="1106"/>
                </a:lnTo>
                <a:lnTo>
                  <a:pt x="1088" y="1088"/>
                </a:lnTo>
                <a:lnTo>
                  <a:pt x="1106" y="1070"/>
                </a:lnTo>
                <a:lnTo>
                  <a:pt x="1106" y="1070"/>
                </a:lnTo>
                <a:lnTo>
                  <a:pt x="1136" y="1038"/>
                </a:lnTo>
                <a:lnTo>
                  <a:pt x="1160" y="1002"/>
                </a:lnTo>
                <a:lnTo>
                  <a:pt x="1180" y="968"/>
                </a:lnTo>
                <a:lnTo>
                  <a:pt x="1196" y="930"/>
                </a:lnTo>
                <a:lnTo>
                  <a:pt x="1208" y="892"/>
                </a:lnTo>
                <a:lnTo>
                  <a:pt x="1216" y="852"/>
                </a:lnTo>
                <a:lnTo>
                  <a:pt x="1220" y="812"/>
                </a:lnTo>
                <a:lnTo>
                  <a:pt x="1218" y="768"/>
                </a:lnTo>
                <a:lnTo>
                  <a:pt x="1218" y="768"/>
                </a:lnTo>
                <a:lnTo>
                  <a:pt x="1214" y="730"/>
                </a:lnTo>
                <a:lnTo>
                  <a:pt x="1206" y="694"/>
                </a:lnTo>
                <a:lnTo>
                  <a:pt x="1194" y="658"/>
                </a:lnTo>
                <a:lnTo>
                  <a:pt x="1180" y="624"/>
                </a:lnTo>
                <a:lnTo>
                  <a:pt x="1162" y="592"/>
                </a:lnTo>
                <a:lnTo>
                  <a:pt x="1142" y="562"/>
                </a:lnTo>
                <a:lnTo>
                  <a:pt x="1118" y="532"/>
                </a:lnTo>
                <a:lnTo>
                  <a:pt x="1092" y="506"/>
                </a:lnTo>
                <a:lnTo>
                  <a:pt x="1092" y="506"/>
                </a:lnTo>
                <a:lnTo>
                  <a:pt x="1070" y="488"/>
                </a:lnTo>
                <a:lnTo>
                  <a:pt x="1048" y="470"/>
                </a:lnTo>
                <a:lnTo>
                  <a:pt x="1026" y="456"/>
                </a:lnTo>
                <a:lnTo>
                  <a:pt x="1002" y="442"/>
                </a:lnTo>
                <a:lnTo>
                  <a:pt x="978" y="428"/>
                </a:lnTo>
                <a:lnTo>
                  <a:pt x="952" y="418"/>
                </a:lnTo>
                <a:lnTo>
                  <a:pt x="926" y="408"/>
                </a:lnTo>
                <a:lnTo>
                  <a:pt x="898" y="400"/>
                </a:lnTo>
                <a:lnTo>
                  <a:pt x="898" y="400"/>
                </a:lnTo>
                <a:lnTo>
                  <a:pt x="926" y="398"/>
                </a:lnTo>
                <a:lnTo>
                  <a:pt x="926" y="398"/>
                </a:lnTo>
                <a:lnTo>
                  <a:pt x="950" y="394"/>
                </a:lnTo>
                <a:lnTo>
                  <a:pt x="974" y="390"/>
                </a:lnTo>
                <a:lnTo>
                  <a:pt x="992" y="384"/>
                </a:lnTo>
                <a:lnTo>
                  <a:pt x="1010" y="378"/>
                </a:lnTo>
                <a:lnTo>
                  <a:pt x="1024" y="370"/>
                </a:lnTo>
                <a:lnTo>
                  <a:pt x="1036" y="360"/>
                </a:lnTo>
                <a:lnTo>
                  <a:pt x="1048" y="350"/>
                </a:lnTo>
                <a:lnTo>
                  <a:pt x="1056" y="340"/>
                </a:lnTo>
                <a:lnTo>
                  <a:pt x="1062" y="330"/>
                </a:lnTo>
                <a:lnTo>
                  <a:pt x="1068" y="320"/>
                </a:lnTo>
                <a:lnTo>
                  <a:pt x="1074" y="300"/>
                </a:lnTo>
                <a:lnTo>
                  <a:pt x="1076" y="282"/>
                </a:lnTo>
                <a:lnTo>
                  <a:pt x="1076" y="266"/>
                </a:lnTo>
                <a:lnTo>
                  <a:pt x="1076" y="266"/>
                </a:lnTo>
                <a:lnTo>
                  <a:pt x="1072" y="246"/>
                </a:lnTo>
                <a:lnTo>
                  <a:pt x="1066" y="226"/>
                </a:lnTo>
                <a:lnTo>
                  <a:pt x="1058" y="204"/>
                </a:lnTo>
                <a:lnTo>
                  <a:pt x="1044" y="184"/>
                </a:lnTo>
                <a:lnTo>
                  <a:pt x="1026" y="164"/>
                </a:lnTo>
                <a:lnTo>
                  <a:pt x="1016" y="154"/>
                </a:lnTo>
                <a:lnTo>
                  <a:pt x="1002" y="146"/>
                </a:lnTo>
                <a:lnTo>
                  <a:pt x="988" y="136"/>
                </a:lnTo>
                <a:lnTo>
                  <a:pt x="974" y="128"/>
                </a:lnTo>
                <a:lnTo>
                  <a:pt x="956" y="122"/>
                </a:lnTo>
                <a:lnTo>
                  <a:pt x="936" y="116"/>
                </a:lnTo>
                <a:lnTo>
                  <a:pt x="936" y="114"/>
                </a:lnTo>
                <a:lnTo>
                  <a:pt x="936" y="114"/>
                </a:lnTo>
                <a:lnTo>
                  <a:pt x="896" y="106"/>
                </a:lnTo>
                <a:lnTo>
                  <a:pt x="854" y="100"/>
                </a:lnTo>
                <a:lnTo>
                  <a:pt x="808" y="98"/>
                </a:lnTo>
                <a:lnTo>
                  <a:pt x="762" y="100"/>
                </a:lnTo>
                <a:lnTo>
                  <a:pt x="762" y="100"/>
                </a:lnTo>
                <a:lnTo>
                  <a:pt x="708" y="108"/>
                </a:lnTo>
                <a:lnTo>
                  <a:pt x="646" y="120"/>
                </a:lnTo>
                <a:lnTo>
                  <a:pt x="644" y="120"/>
                </a:lnTo>
                <a:lnTo>
                  <a:pt x="644" y="120"/>
                </a:lnTo>
                <a:lnTo>
                  <a:pt x="590" y="134"/>
                </a:lnTo>
                <a:lnTo>
                  <a:pt x="590" y="134"/>
                </a:lnTo>
                <a:lnTo>
                  <a:pt x="582" y="116"/>
                </a:lnTo>
                <a:lnTo>
                  <a:pt x="570" y="98"/>
                </a:lnTo>
                <a:lnTo>
                  <a:pt x="558" y="82"/>
                </a:lnTo>
                <a:lnTo>
                  <a:pt x="544" y="64"/>
                </a:lnTo>
                <a:lnTo>
                  <a:pt x="544" y="64"/>
                </a:lnTo>
                <a:lnTo>
                  <a:pt x="528" y="50"/>
                </a:lnTo>
                <a:lnTo>
                  <a:pt x="512" y="36"/>
                </a:lnTo>
                <a:lnTo>
                  <a:pt x="498" y="24"/>
                </a:lnTo>
                <a:lnTo>
                  <a:pt x="480" y="16"/>
                </a:lnTo>
                <a:lnTo>
                  <a:pt x="464" y="8"/>
                </a:lnTo>
                <a:lnTo>
                  <a:pt x="448" y="4"/>
                </a:lnTo>
                <a:lnTo>
                  <a:pt x="432" y="0"/>
                </a:lnTo>
                <a:lnTo>
                  <a:pt x="414" y="0"/>
                </a:lnTo>
                <a:lnTo>
                  <a:pt x="414" y="0"/>
                </a:lnTo>
                <a:lnTo>
                  <a:pt x="402" y="0"/>
                </a:lnTo>
                <a:lnTo>
                  <a:pt x="402" y="0"/>
                </a:lnTo>
                <a:lnTo>
                  <a:pt x="374" y="4"/>
                </a:lnTo>
                <a:lnTo>
                  <a:pt x="348" y="12"/>
                </a:lnTo>
                <a:lnTo>
                  <a:pt x="326" y="22"/>
                </a:lnTo>
                <a:lnTo>
                  <a:pt x="318" y="30"/>
                </a:lnTo>
                <a:lnTo>
                  <a:pt x="308" y="36"/>
                </a:lnTo>
                <a:lnTo>
                  <a:pt x="308" y="36"/>
                </a:lnTo>
                <a:lnTo>
                  <a:pt x="296" y="52"/>
                </a:lnTo>
                <a:lnTo>
                  <a:pt x="290" y="62"/>
                </a:lnTo>
                <a:lnTo>
                  <a:pt x="284" y="72"/>
                </a:lnTo>
                <a:lnTo>
                  <a:pt x="280" y="86"/>
                </a:lnTo>
                <a:lnTo>
                  <a:pt x="276" y="100"/>
                </a:lnTo>
                <a:lnTo>
                  <a:pt x="274" y="116"/>
                </a:lnTo>
                <a:lnTo>
                  <a:pt x="276" y="134"/>
                </a:lnTo>
                <a:lnTo>
                  <a:pt x="276" y="134"/>
                </a:lnTo>
                <a:lnTo>
                  <a:pt x="278" y="146"/>
                </a:lnTo>
                <a:lnTo>
                  <a:pt x="282" y="160"/>
                </a:lnTo>
                <a:lnTo>
                  <a:pt x="288" y="174"/>
                </a:lnTo>
                <a:lnTo>
                  <a:pt x="300" y="192"/>
                </a:lnTo>
                <a:lnTo>
                  <a:pt x="300" y="194"/>
                </a:lnTo>
                <a:lnTo>
                  <a:pt x="300" y="194"/>
                </a:lnTo>
                <a:lnTo>
                  <a:pt x="306" y="204"/>
                </a:lnTo>
                <a:lnTo>
                  <a:pt x="308" y="210"/>
                </a:lnTo>
                <a:lnTo>
                  <a:pt x="308" y="210"/>
                </a:lnTo>
                <a:lnTo>
                  <a:pt x="306" y="226"/>
                </a:lnTo>
                <a:lnTo>
                  <a:pt x="306" y="226"/>
                </a:lnTo>
                <a:lnTo>
                  <a:pt x="258" y="248"/>
                </a:lnTo>
                <a:lnTo>
                  <a:pt x="258" y="248"/>
                </a:lnTo>
                <a:lnTo>
                  <a:pt x="228" y="262"/>
                </a:lnTo>
                <a:lnTo>
                  <a:pt x="210" y="270"/>
                </a:lnTo>
                <a:lnTo>
                  <a:pt x="196" y="264"/>
                </a:lnTo>
                <a:lnTo>
                  <a:pt x="196" y="264"/>
                </a:lnTo>
                <a:lnTo>
                  <a:pt x="186" y="264"/>
                </a:lnTo>
                <a:lnTo>
                  <a:pt x="176" y="264"/>
                </a:lnTo>
                <a:lnTo>
                  <a:pt x="176" y="264"/>
                </a:lnTo>
                <a:lnTo>
                  <a:pt x="162" y="264"/>
                </a:lnTo>
                <a:lnTo>
                  <a:pt x="148" y="268"/>
                </a:lnTo>
                <a:lnTo>
                  <a:pt x="134" y="274"/>
                </a:lnTo>
                <a:lnTo>
                  <a:pt x="122" y="280"/>
                </a:lnTo>
                <a:lnTo>
                  <a:pt x="110" y="288"/>
                </a:lnTo>
                <a:lnTo>
                  <a:pt x="98" y="296"/>
                </a:lnTo>
                <a:lnTo>
                  <a:pt x="86" y="306"/>
                </a:lnTo>
                <a:lnTo>
                  <a:pt x="74" y="318"/>
                </a:lnTo>
                <a:lnTo>
                  <a:pt x="74" y="320"/>
                </a:lnTo>
                <a:lnTo>
                  <a:pt x="74" y="320"/>
                </a:lnTo>
                <a:lnTo>
                  <a:pt x="64" y="332"/>
                </a:lnTo>
                <a:lnTo>
                  <a:pt x="54" y="346"/>
                </a:lnTo>
                <a:lnTo>
                  <a:pt x="48" y="358"/>
                </a:lnTo>
                <a:lnTo>
                  <a:pt x="42" y="372"/>
                </a:lnTo>
                <a:lnTo>
                  <a:pt x="38" y="386"/>
                </a:lnTo>
                <a:lnTo>
                  <a:pt x="34" y="400"/>
                </a:lnTo>
                <a:lnTo>
                  <a:pt x="34" y="414"/>
                </a:lnTo>
                <a:lnTo>
                  <a:pt x="34" y="428"/>
                </a:lnTo>
                <a:lnTo>
                  <a:pt x="34" y="428"/>
                </a:lnTo>
                <a:lnTo>
                  <a:pt x="36" y="442"/>
                </a:lnTo>
                <a:lnTo>
                  <a:pt x="40" y="458"/>
                </a:lnTo>
                <a:lnTo>
                  <a:pt x="48" y="476"/>
                </a:lnTo>
                <a:lnTo>
                  <a:pt x="54" y="484"/>
                </a:lnTo>
                <a:lnTo>
                  <a:pt x="62" y="492"/>
                </a:lnTo>
                <a:lnTo>
                  <a:pt x="70" y="502"/>
                </a:lnTo>
                <a:lnTo>
                  <a:pt x="80" y="508"/>
                </a:lnTo>
                <a:lnTo>
                  <a:pt x="92" y="516"/>
                </a:lnTo>
                <a:lnTo>
                  <a:pt x="104" y="522"/>
                </a:lnTo>
                <a:lnTo>
                  <a:pt x="120" y="528"/>
                </a:lnTo>
                <a:lnTo>
                  <a:pt x="138" y="530"/>
                </a:lnTo>
                <a:lnTo>
                  <a:pt x="158" y="534"/>
                </a:lnTo>
                <a:lnTo>
                  <a:pt x="180" y="534"/>
                </a:lnTo>
                <a:lnTo>
                  <a:pt x="180" y="534"/>
                </a:lnTo>
                <a:lnTo>
                  <a:pt x="210" y="532"/>
                </a:lnTo>
                <a:lnTo>
                  <a:pt x="210" y="532"/>
                </a:lnTo>
                <a:lnTo>
                  <a:pt x="234" y="530"/>
                </a:lnTo>
                <a:lnTo>
                  <a:pt x="234" y="530"/>
                </a:lnTo>
                <a:lnTo>
                  <a:pt x="232" y="536"/>
                </a:lnTo>
                <a:lnTo>
                  <a:pt x="232" y="536"/>
                </a:lnTo>
                <a:lnTo>
                  <a:pt x="186" y="570"/>
                </a:lnTo>
                <a:lnTo>
                  <a:pt x="164" y="588"/>
                </a:lnTo>
                <a:lnTo>
                  <a:pt x="144" y="606"/>
                </a:lnTo>
                <a:lnTo>
                  <a:pt x="126" y="626"/>
                </a:lnTo>
                <a:lnTo>
                  <a:pt x="108" y="646"/>
                </a:lnTo>
                <a:lnTo>
                  <a:pt x="90" y="666"/>
                </a:lnTo>
                <a:lnTo>
                  <a:pt x="76" y="686"/>
                </a:lnTo>
                <a:lnTo>
                  <a:pt x="76" y="686"/>
                </a:lnTo>
                <a:lnTo>
                  <a:pt x="56" y="716"/>
                </a:lnTo>
                <a:lnTo>
                  <a:pt x="40" y="746"/>
                </a:lnTo>
                <a:lnTo>
                  <a:pt x="26" y="776"/>
                </a:lnTo>
                <a:lnTo>
                  <a:pt x="16" y="806"/>
                </a:lnTo>
                <a:lnTo>
                  <a:pt x="8" y="836"/>
                </a:lnTo>
                <a:lnTo>
                  <a:pt x="2" y="868"/>
                </a:lnTo>
                <a:lnTo>
                  <a:pt x="0" y="898"/>
                </a:lnTo>
                <a:lnTo>
                  <a:pt x="2" y="930"/>
                </a:lnTo>
                <a:lnTo>
                  <a:pt x="2" y="930"/>
                </a:lnTo>
                <a:lnTo>
                  <a:pt x="6" y="958"/>
                </a:lnTo>
                <a:lnTo>
                  <a:pt x="12" y="986"/>
                </a:lnTo>
                <a:lnTo>
                  <a:pt x="22" y="1012"/>
                </a:lnTo>
                <a:lnTo>
                  <a:pt x="34" y="1036"/>
                </a:lnTo>
                <a:lnTo>
                  <a:pt x="48" y="1060"/>
                </a:lnTo>
                <a:lnTo>
                  <a:pt x="66" y="1082"/>
                </a:lnTo>
                <a:lnTo>
                  <a:pt x="86" y="1102"/>
                </a:lnTo>
                <a:lnTo>
                  <a:pt x="108" y="1122"/>
                </a:lnTo>
                <a:lnTo>
                  <a:pt x="108" y="1122"/>
                </a:lnTo>
                <a:lnTo>
                  <a:pt x="132" y="1138"/>
                </a:lnTo>
                <a:lnTo>
                  <a:pt x="158" y="1152"/>
                </a:lnTo>
                <a:lnTo>
                  <a:pt x="182" y="1164"/>
                </a:lnTo>
                <a:lnTo>
                  <a:pt x="208" y="1174"/>
                </a:lnTo>
                <a:lnTo>
                  <a:pt x="236" y="1180"/>
                </a:lnTo>
                <a:lnTo>
                  <a:pt x="262" y="1184"/>
                </a:lnTo>
                <a:lnTo>
                  <a:pt x="290" y="1186"/>
                </a:lnTo>
                <a:lnTo>
                  <a:pt x="320" y="1184"/>
                </a:lnTo>
                <a:lnTo>
                  <a:pt x="320" y="1184"/>
                </a:lnTo>
                <a:lnTo>
                  <a:pt x="348" y="1180"/>
                </a:lnTo>
                <a:lnTo>
                  <a:pt x="380" y="1172"/>
                </a:lnTo>
                <a:lnTo>
                  <a:pt x="418" y="1158"/>
                </a:lnTo>
                <a:lnTo>
                  <a:pt x="462" y="1142"/>
                </a:lnTo>
                <a:lnTo>
                  <a:pt x="462" y="1142"/>
                </a:lnTo>
                <a:lnTo>
                  <a:pt x="484" y="1148"/>
                </a:lnTo>
                <a:lnTo>
                  <a:pt x="506" y="1148"/>
                </a:lnTo>
                <a:lnTo>
                  <a:pt x="506" y="1148"/>
                </a:lnTo>
                <a:lnTo>
                  <a:pt x="520" y="1146"/>
                </a:lnTo>
                <a:lnTo>
                  <a:pt x="534" y="1144"/>
                </a:lnTo>
                <a:lnTo>
                  <a:pt x="546" y="1140"/>
                </a:lnTo>
                <a:lnTo>
                  <a:pt x="558" y="1134"/>
                </a:lnTo>
                <a:lnTo>
                  <a:pt x="558" y="1134"/>
                </a:lnTo>
                <a:lnTo>
                  <a:pt x="570" y="1142"/>
                </a:lnTo>
                <a:lnTo>
                  <a:pt x="570" y="1142"/>
                </a:lnTo>
                <a:lnTo>
                  <a:pt x="598" y="1158"/>
                </a:lnTo>
                <a:lnTo>
                  <a:pt x="626" y="1172"/>
                </a:lnTo>
                <a:lnTo>
                  <a:pt x="654" y="1184"/>
                </a:lnTo>
                <a:lnTo>
                  <a:pt x="684" y="1194"/>
                </a:lnTo>
                <a:lnTo>
                  <a:pt x="684" y="1194"/>
                </a:lnTo>
                <a:lnTo>
                  <a:pt x="658" y="1208"/>
                </a:lnTo>
                <a:lnTo>
                  <a:pt x="634" y="1228"/>
                </a:lnTo>
                <a:lnTo>
                  <a:pt x="610" y="1250"/>
                </a:lnTo>
                <a:lnTo>
                  <a:pt x="586" y="1278"/>
                </a:lnTo>
                <a:lnTo>
                  <a:pt x="566" y="1310"/>
                </a:lnTo>
                <a:lnTo>
                  <a:pt x="548" y="1346"/>
                </a:lnTo>
                <a:lnTo>
                  <a:pt x="532" y="1388"/>
                </a:lnTo>
                <a:lnTo>
                  <a:pt x="520" y="1436"/>
                </a:lnTo>
                <a:lnTo>
                  <a:pt x="520" y="1436"/>
                </a:lnTo>
                <a:lnTo>
                  <a:pt x="508" y="1408"/>
                </a:lnTo>
                <a:lnTo>
                  <a:pt x="490" y="1380"/>
                </a:lnTo>
                <a:lnTo>
                  <a:pt x="468" y="1352"/>
                </a:lnTo>
                <a:lnTo>
                  <a:pt x="440" y="1322"/>
                </a:lnTo>
                <a:lnTo>
                  <a:pt x="440" y="1322"/>
                </a:lnTo>
                <a:lnTo>
                  <a:pt x="420" y="1302"/>
                </a:lnTo>
                <a:lnTo>
                  <a:pt x="402" y="1286"/>
                </a:lnTo>
                <a:lnTo>
                  <a:pt x="382" y="1272"/>
                </a:lnTo>
                <a:lnTo>
                  <a:pt x="364" y="1260"/>
                </a:lnTo>
                <a:lnTo>
                  <a:pt x="346" y="1252"/>
                </a:lnTo>
                <a:lnTo>
                  <a:pt x="328" y="1246"/>
                </a:lnTo>
                <a:lnTo>
                  <a:pt x="310" y="1242"/>
                </a:lnTo>
                <a:lnTo>
                  <a:pt x="292" y="1240"/>
                </a:lnTo>
                <a:lnTo>
                  <a:pt x="292" y="1240"/>
                </a:lnTo>
                <a:lnTo>
                  <a:pt x="282" y="1242"/>
                </a:lnTo>
                <a:lnTo>
                  <a:pt x="282" y="1242"/>
                </a:lnTo>
                <a:lnTo>
                  <a:pt x="260" y="1244"/>
                </a:lnTo>
                <a:lnTo>
                  <a:pt x="240" y="1252"/>
                </a:lnTo>
                <a:lnTo>
                  <a:pt x="222" y="1262"/>
                </a:lnTo>
                <a:lnTo>
                  <a:pt x="208" y="1276"/>
                </a:lnTo>
                <a:lnTo>
                  <a:pt x="198" y="1294"/>
                </a:lnTo>
                <a:lnTo>
                  <a:pt x="190" y="1312"/>
                </a:lnTo>
                <a:lnTo>
                  <a:pt x="186" y="1334"/>
                </a:lnTo>
                <a:lnTo>
                  <a:pt x="186" y="1356"/>
                </a:lnTo>
                <a:lnTo>
                  <a:pt x="186" y="1356"/>
                </a:lnTo>
                <a:lnTo>
                  <a:pt x="190" y="1384"/>
                </a:lnTo>
                <a:lnTo>
                  <a:pt x="200" y="1420"/>
                </a:lnTo>
                <a:lnTo>
                  <a:pt x="200" y="1420"/>
                </a:lnTo>
                <a:lnTo>
                  <a:pt x="202" y="1424"/>
                </a:lnTo>
                <a:lnTo>
                  <a:pt x="202" y="1424"/>
                </a:lnTo>
                <a:lnTo>
                  <a:pt x="210" y="1448"/>
                </a:lnTo>
                <a:lnTo>
                  <a:pt x="212" y="1458"/>
                </a:lnTo>
                <a:lnTo>
                  <a:pt x="212" y="1458"/>
                </a:lnTo>
                <a:lnTo>
                  <a:pt x="212" y="1472"/>
                </a:lnTo>
                <a:lnTo>
                  <a:pt x="212" y="1498"/>
                </a:lnTo>
                <a:lnTo>
                  <a:pt x="208" y="1532"/>
                </a:lnTo>
                <a:lnTo>
                  <a:pt x="200" y="1580"/>
                </a:lnTo>
                <a:lnTo>
                  <a:pt x="200" y="1580"/>
                </a:lnTo>
                <a:lnTo>
                  <a:pt x="172" y="1738"/>
                </a:lnTo>
                <a:lnTo>
                  <a:pt x="172" y="1738"/>
                </a:lnTo>
                <a:lnTo>
                  <a:pt x="172" y="1738"/>
                </a:lnTo>
                <a:lnTo>
                  <a:pt x="166" y="1786"/>
                </a:lnTo>
                <a:lnTo>
                  <a:pt x="162" y="1832"/>
                </a:lnTo>
                <a:lnTo>
                  <a:pt x="160" y="1874"/>
                </a:lnTo>
                <a:lnTo>
                  <a:pt x="162" y="1912"/>
                </a:lnTo>
                <a:lnTo>
                  <a:pt x="162" y="1912"/>
                </a:lnTo>
                <a:lnTo>
                  <a:pt x="166" y="1940"/>
                </a:lnTo>
                <a:lnTo>
                  <a:pt x="170" y="1968"/>
                </a:lnTo>
                <a:lnTo>
                  <a:pt x="178" y="1994"/>
                </a:lnTo>
                <a:lnTo>
                  <a:pt x="186" y="2018"/>
                </a:lnTo>
                <a:lnTo>
                  <a:pt x="198" y="2044"/>
                </a:lnTo>
                <a:lnTo>
                  <a:pt x="210" y="2066"/>
                </a:lnTo>
                <a:lnTo>
                  <a:pt x="224" y="2088"/>
                </a:lnTo>
                <a:lnTo>
                  <a:pt x="240" y="2110"/>
                </a:lnTo>
                <a:lnTo>
                  <a:pt x="242" y="2112"/>
                </a:lnTo>
                <a:lnTo>
                  <a:pt x="242" y="2112"/>
                </a:lnTo>
                <a:lnTo>
                  <a:pt x="262" y="2132"/>
                </a:lnTo>
                <a:lnTo>
                  <a:pt x="286" y="2152"/>
                </a:lnTo>
                <a:lnTo>
                  <a:pt x="310" y="2166"/>
                </a:lnTo>
                <a:lnTo>
                  <a:pt x="334" y="2178"/>
                </a:lnTo>
                <a:lnTo>
                  <a:pt x="362" y="2188"/>
                </a:lnTo>
                <a:lnTo>
                  <a:pt x="390" y="2192"/>
                </a:lnTo>
                <a:lnTo>
                  <a:pt x="418" y="2196"/>
                </a:lnTo>
                <a:lnTo>
                  <a:pt x="448" y="2194"/>
                </a:lnTo>
                <a:lnTo>
                  <a:pt x="448" y="2194"/>
                </a:lnTo>
                <a:lnTo>
                  <a:pt x="486" y="2190"/>
                </a:lnTo>
                <a:lnTo>
                  <a:pt x="504" y="2184"/>
                </a:lnTo>
                <a:lnTo>
                  <a:pt x="520" y="2180"/>
                </a:lnTo>
                <a:lnTo>
                  <a:pt x="536" y="2172"/>
                </a:lnTo>
                <a:lnTo>
                  <a:pt x="552" y="2166"/>
                </a:lnTo>
                <a:lnTo>
                  <a:pt x="568" y="2156"/>
                </a:lnTo>
                <a:lnTo>
                  <a:pt x="584" y="2146"/>
                </a:lnTo>
                <a:lnTo>
                  <a:pt x="598" y="2136"/>
                </a:lnTo>
                <a:lnTo>
                  <a:pt x="610" y="2124"/>
                </a:lnTo>
                <a:lnTo>
                  <a:pt x="636" y="2096"/>
                </a:lnTo>
                <a:lnTo>
                  <a:pt x="658" y="2066"/>
                </a:lnTo>
                <a:lnTo>
                  <a:pt x="678" y="2030"/>
                </a:lnTo>
                <a:lnTo>
                  <a:pt x="678" y="2030"/>
                </a:lnTo>
                <a:lnTo>
                  <a:pt x="690" y="2004"/>
                </a:lnTo>
                <a:lnTo>
                  <a:pt x="702" y="1974"/>
                </a:lnTo>
                <a:lnTo>
                  <a:pt x="712" y="1942"/>
                </a:lnTo>
                <a:lnTo>
                  <a:pt x="720" y="1908"/>
                </a:lnTo>
                <a:lnTo>
                  <a:pt x="728" y="1872"/>
                </a:lnTo>
                <a:lnTo>
                  <a:pt x="736" y="1834"/>
                </a:lnTo>
                <a:lnTo>
                  <a:pt x="740" y="1792"/>
                </a:lnTo>
                <a:lnTo>
                  <a:pt x="746" y="1748"/>
                </a:lnTo>
                <a:lnTo>
                  <a:pt x="746" y="1748"/>
                </a:lnTo>
                <a:lnTo>
                  <a:pt x="746" y="1744"/>
                </a:lnTo>
                <a:lnTo>
                  <a:pt x="746" y="1744"/>
                </a:lnTo>
                <a:lnTo>
                  <a:pt x="750" y="1622"/>
                </a:lnTo>
                <a:lnTo>
                  <a:pt x="754" y="1498"/>
                </a:lnTo>
                <a:lnTo>
                  <a:pt x="754" y="1498"/>
                </a:lnTo>
                <a:lnTo>
                  <a:pt x="756" y="1476"/>
                </a:lnTo>
                <a:lnTo>
                  <a:pt x="760" y="1456"/>
                </a:lnTo>
                <a:lnTo>
                  <a:pt x="762" y="1440"/>
                </a:lnTo>
                <a:lnTo>
                  <a:pt x="766" y="1426"/>
                </a:lnTo>
                <a:lnTo>
                  <a:pt x="772" y="1416"/>
                </a:lnTo>
                <a:lnTo>
                  <a:pt x="776" y="1408"/>
                </a:lnTo>
                <a:lnTo>
                  <a:pt x="782" y="1402"/>
                </a:lnTo>
                <a:lnTo>
                  <a:pt x="786" y="1402"/>
                </a:lnTo>
                <a:lnTo>
                  <a:pt x="786" y="1402"/>
                </a:lnTo>
                <a:lnTo>
                  <a:pt x="788" y="1400"/>
                </a:lnTo>
                <a:lnTo>
                  <a:pt x="788" y="1400"/>
                </a:lnTo>
                <a:lnTo>
                  <a:pt x="798" y="1402"/>
                </a:lnTo>
                <a:lnTo>
                  <a:pt x="808" y="1408"/>
                </a:lnTo>
                <a:lnTo>
                  <a:pt x="818" y="1418"/>
                </a:lnTo>
                <a:lnTo>
                  <a:pt x="828" y="1430"/>
                </a:lnTo>
                <a:lnTo>
                  <a:pt x="838" y="1444"/>
                </a:lnTo>
                <a:lnTo>
                  <a:pt x="846" y="1464"/>
                </a:lnTo>
                <a:lnTo>
                  <a:pt x="856" y="1484"/>
                </a:lnTo>
                <a:lnTo>
                  <a:pt x="864" y="1510"/>
                </a:lnTo>
                <a:lnTo>
                  <a:pt x="864" y="1510"/>
                </a:lnTo>
                <a:lnTo>
                  <a:pt x="864" y="1510"/>
                </a:lnTo>
                <a:lnTo>
                  <a:pt x="878" y="1558"/>
                </a:lnTo>
                <a:lnTo>
                  <a:pt x="890" y="1608"/>
                </a:lnTo>
                <a:lnTo>
                  <a:pt x="898" y="1662"/>
                </a:lnTo>
                <a:lnTo>
                  <a:pt x="904" y="1720"/>
                </a:lnTo>
                <a:lnTo>
                  <a:pt x="904" y="1720"/>
                </a:lnTo>
                <a:lnTo>
                  <a:pt x="906" y="1768"/>
                </a:lnTo>
                <a:lnTo>
                  <a:pt x="908" y="1812"/>
                </a:lnTo>
                <a:lnTo>
                  <a:pt x="906" y="1854"/>
                </a:lnTo>
                <a:lnTo>
                  <a:pt x="902" y="1894"/>
                </a:lnTo>
                <a:lnTo>
                  <a:pt x="898" y="1932"/>
                </a:lnTo>
                <a:lnTo>
                  <a:pt x="890" y="1968"/>
                </a:lnTo>
                <a:lnTo>
                  <a:pt x="880" y="2000"/>
                </a:lnTo>
                <a:lnTo>
                  <a:pt x="868" y="2030"/>
                </a:lnTo>
                <a:lnTo>
                  <a:pt x="868" y="2030"/>
                </a:lnTo>
                <a:lnTo>
                  <a:pt x="858" y="2048"/>
                </a:lnTo>
                <a:lnTo>
                  <a:pt x="848" y="2066"/>
                </a:lnTo>
                <a:lnTo>
                  <a:pt x="836" y="2080"/>
                </a:lnTo>
                <a:lnTo>
                  <a:pt x="822" y="2096"/>
                </a:lnTo>
                <a:lnTo>
                  <a:pt x="806" y="2110"/>
                </a:lnTo>
                <a:lnTo>
                  <a:pt x="788" y="2122"/>
                </a:lnTo>
                <a:lnTo>
                  <a:pt x="768" y="2134"/>
                </a:lnTo>
                <a:lnTo>
                  <a:pt x="748" y="2144"/>
                </a:lnTo>
                <a:lnTo>
                  <a:pt x="748" y="2144"/>
                </a:lnTo>
                <a:lnTo>
                  <a:pt x="714" y="2156"/>
                </a:lnTo>
                <a:lnTo>
                  <a:pt x="672" y="2170"/>
                </a:lnTo>
                <a:lnTo>
                  <a:pt x="620" y="2182"/>
                </a:lnTo>
                <a:lnTo>
                  <a:pt x="558" y="2194"/>
                </a:lnTo>
                <a:lnTo>
                  <a:pt x="558" y="2194"/>
                </a:lnTo>
                <a:lnTo>
                  <a:pt x="546" y="2198"/>
                </a:lnTo>
                <a:lnTo>
                  <a:pt x="534" y="2200"/>
                </a:lnTo>
                <a:lnTo>
                  <a:pt x="516" y="2210"/>
                </a:lnTo>
                <a:lnTo>
                  <a:pt x="504" y="2222"/>
                </a:lnTo>
                <a:lnTo>
                  <a:pt x="496" y="2234"/>
                </a:lnTo>
                <a:lnTo>
                  <a:pt x="490" y="2244"/>
                </a:lnTo>
                <a:lnTo>
                  <a:pt x="488" y="2256"/>
                </a:lnTo>
                <a:lnTo>
                  <a:pt x="488" y="2270"/>
                </a:lnTo>
                <a:lnTo>
                  <a:pt x="488" y="2270"/>
                </a:lnTo>
                <a:lnTo>
                  <a:pt x="490" y="2280"/>
                </a:lnTo>
                <a:lnTo>
                  <a:pt x="492" y="2290"/>
                </a:lnTo>
                <a:lnTo>
                  <a:pt x="498" y="2300"/>
                </a:lnTo>
                <a:lnTo>
                  <a:pt x="504" y="2308"/>
                </a:lnTo>
                <a:lnTo>
                  <a:pt x="512" y="2314"/>
                </a:lnTo>
                <a:lnTo>
                  <a:pt x="522" y="2322"/>
                </a:lnTo>
                <a:lnTo>
                  <a:pt x="534" y="2328"/>
                </a:lnTo>
                <a:lnTo>
                  <a:pt x="546" y="2334"/>
                </a:lnTo>
                <a:lnTo>
                  <a:pt x="546" y="2334"/>
                </a:lnTo>
                <a:lnTo>
                  <a:pt x="600" y="2354"/>
                </a:lnTo>
                <a:lnTo>
                  <a:pt x="600" y="2354"/>
                </a:lnTo>
                <a:lnTo>
                  <a:pt x="590" y="2364"/>
                </a:lnTo>
                <a:lnTo>
                  <a:pt x="582" y="2374"/>
                </a:lnTo>
                <a:lnTo>
                  <a:pt x="576" y="2386"/>
                </a:lnTo>
                <a:lnTo>
                  <a:pt x="570" y="2398"/>
                </a:lnTo>
                <a:lnTo>
                  <a:pt x="566" y="2410"/>
                </a:lnTo>
                <a:lnTo>
                  <a:pt x="564" y="2422"/>
                </a:lnTo>
                <a:lnTo>
                  <a:pt x="564" y="2436"/>
                </a:lnTo>
                <a:lnTo>
                  <a:pt x="564" y="2448"/>
                </a:lnTo>
                <a:lnTo>
                  <a:pt x="564" y="2448"/>
                </a:lnTo>
                <a:lnTo>
                  <a:pt x="566" y="2460"/>
                </a:lnTo>
                <a:lnTo>
                  <a:pt x="570" y="2472"/>
                </a:lnTo>
                <a:lnTo>
                  <a:pt x="578" y="2488"/>
                </a:lnTo>
                <a:lnTo>
                  <a:pt x="588" y="2504"/>
                </a:lnTo>
                <a:lnTo>
                  <a:pt x="432" y="2578"/>
                </a:lnTo>
                <a:lnTo>
                  <a:pt x="432" y="2578"/>
                </a:lnTo>
                <a:lnTo>
                  <a:pt x="378" y="2602"/>
                </a:lnTo>
                <a:lnTo>
                  <a:pt x="378" y="2602"/>
                </a:lnTo>
                <a:lnTo>
                  <a:pt x="360" y="2598"/>
                </a:lnTo>
                <a:lnTo>
                  <a:pt x="342" y="2596"/>
                </a:lnTo>
                <a:lnTo>
                  <a:pt x="342" y="2596"/>
                </a:lnTo>
                <a:lnTo>
                  <a:pt x="316" y="2600"/>
                </a:lnTo>
                <a:lnTo>
                  <a:pt x="290" y="2608"/>
                </a:lnTo>
                <a:lnTo>
                  <a:pt x="266" y="2618"/>
                </a:lnTo>
                <a:lnTo>
                  <a:pt x="244" y="2630"/>
                </a:lnTo>
                <a:lnTo>
                  <a:pt x="244" y="2632"/>
                </a:lnTo>
                <a:lnTo>
                  <a:pt x="244" y="2632"/>
                </a:lnTo>
                <a:lnTo>
                  <a:pt x="230" y="2642"/>
                </a:lnTo>
                <a:lnTo>
                  <a:pt x="218" y="2654"/>
                </a:lnTo>
                <a:lnTo>
                  <a:pt x="208" y="2668"/>
                </a:lnTo>
                <a:lnTo>
                  <a:pt x="200" y="2682"/>
                </a:lnTo>
                <a:lnTo>
                  <a:pt x="194" y="2696"/>
                </a:lnTo>
                <a:lnTo>
                  <a:pt x="190" y="2712"/>
                </a:lnTo>
                <a:lnTo>
                  <a:pt x="188" y="2728"/>
                </a:lnTo>
                <a:lnTo>
                  <a:pt x="188" y="2744"/>
                </a:lnTo>
                <a:lnTo>
                  <a:pt x="188" y="2744"/>
                </a:lnTo>
                <a:lnTo>
                  <a:pt x="190" y="2758"/>
                </a:lnTo>
                <a:lnTo>
                  <a:pt x="194" y="2770"/>
                </a:lnTo>
                <a:lnTo>
                  <a:pt x="200" y="2786"/>
                </a:lnTo>
                <a:lnTo>
                  <a:pt x="210" y="2800"/>
                </a:lnTo>
                <a:lnTo>
                  <a:pt x="222" y="2816"/>
                </a:lnTo>
                <a:lnTo>
                  <a:pt x="240" y="2828"/>
                </a:lnTo>
                <a:lnTo>
                  <a:pt x="262" y="2840"/>
                </a:lnTo>
                <a:lnTo>
                  <a:pt x="288" y="2850"/>
                </a:lnTo>
                <a:lnTo>
                  <a:pt x="288" y="2850"/>
                </a:lnTo>
                <a:lnTo>
                  <a:pt x="308" y="2854"/>
                </a:lnTo>
                <a:lnTo>
                  <a:pt x="308" y="2854"/>
                </a:lnTo>
                <a:lnTo>
                  <a:pt x="304" y="2870"/>
                </a:lnTo>
                <a:lnTo>
                  <a:pt x="300" y="2886"/>
                </a:lnTo>
                <a:lnTo>
                  <a:pt x="300" y="2902"/>
                </a:lnTo>
                <a:lnTo>
                  <a:pt x="300" y="2918"/>
                </a:lnTo>
                <a:lnTo>
                  <a:pt x="300" y="2918"/>
                </a:lnTo>
                <a:lnTo>
                  <a:pt x="302" y="2936"/>
                </a:lnTo>
                <a:lnTo>
                  <a:pt x="308" y="2954"/>
                </a:lnTo>
                <a:lnTo>
                  <a:pt x="316" y="2974"/>
                </a:lnTo>
                <a:lnTo>
                  <a:pt x="328" y="2994"/>
                </a:lnTo>
                <a:lnTo>
                  <a:pt x="344" y="3012"/>
                </a:lnTo>
                <a:lnTo>
                  <a:pt x="366" y="3030"/>
                </a:lnTo>
                <a:lnTo>
                  <a:pt x="378" y="3038"/>
                </a:lnTo>
                <a:lnTo>
                  <a:pt x="392" y="3046"/>
                </a:lnTo>
                <a:lnTo>
                  <a:pt x="408" y="3054"/>
                </a:lnTo>
                <a:lnTo>
                  <a:pt x="426" y="3060"/>
                </a:lnTo>
                <a:lnTo>
                  <a:pt x="426" y="3060"/>
                </a:lnTo>
                <a:lnTo>
                  <a:pt x="444" y="3066"/>
                </a:lnTo>
                <a:lnTo>
                  <a:pt x="464" y="3072"/>
                </a:lnTo>
                <a:lnTo>
                  <a:pt x="464" y="3072"/>
                </a:lnTo>
                <a:lnTo>
                  <a:pt x="434" y="3084"/>
                </a:lnTo>
                <a:lnTo>
                  <a:pt x="408" y="3096"/>
                </a:lnTo>
                <a:lnTo>
                  <a:pt x="408" y="3096"/>
                </a:lnTo>
                <a:lnTo>
                  <a:pt x="390" y="3108"/>
                </a:lnTo>
                <a:lnTo>
                  <a:pt x="374" y="3120"/>
                </a:lnTo>
                <a:lnTo>
                  <a:pt x="360" y="3132"/>
                </a:lnTo>
                <a:lnTo>
                  <a:pt x="346" y="3144"/>
                </a:lnTo>
                <a:lnTo>
                  <a:pt x="336" y="3156"/>
                </a:lnTo>
                <a:lnTo>
                  <a:pt x="326" y="3170"/>
                </a:lnTo>
                <a:lnTo>
                  <a:pt x="318" y="3182"/>
                </a:lnTo>
                <a:lnTo>
                  <a:pt x="312" y="3196"/>
                </a:lnTo>
                <a:lnTo>
                  <a:pt x="302" y="3222"/>
                </a:lnTo>
                <a:lnTo>
                  <a:pt x="296" y="3248"/>
                </a:lnTo>
                <a:lnTo>
                  <a:pt x="294" y="3274"/>
                </a:lnTo>
                <a:lnTo>
                  <a:pt x="296" y="3296"/>
                </a:lnTo>
                <a:lnTo>
                  <a:pt x="296" y="3296"/>
                </a:lnTo>
                <a:lnTo>
                  <a:pt x="300" y="3330"/>
                </a:lnTo>
                <a:lnTo>
                  <a:pt x="310" y="3360"/>
                </a:lnTo>
                <a:lnTo>
                  <a:pt x="324" y="3390"/>
                </a:lnTo>
                <a:lnTo>
                  <a:pt x="342" y="3418"/>
                </a:lnTo>
                <a:lnTo>
                  <a:pt x="364" y="3446"/>
                </a:lnTo>
                <a:lnTo>
                  <a:pt x="392" y="3470"/>
                </a:lnTo>
                <a:lnTo>
                  <a:pt x="424" y="3494"/>
                </a:lnTo>
                <a:lnTo>
                  <a:pt x="460" y="3516"/>
                </a:lnTo>
                <a:lnTo>
                  <a:pt x="460" y="3516"/>
                </a:lnTo>
                <a:lnTo>
                  <a:pt x="488" y="3530"/>
                </a:lnTo>
                <a:lnTo>
                  <a:pt x="516" y="3542"/>
                </a:lnTo>
                <a:lnTo>
                  <a:pt x="544" y="3552"/>
                </a:lnTo>
                <a:lnTo>
                  <a:pt x="572" y="3562"/>
                </a:lnTo>
                <a:lnTo>
                  <a:pt x="600" y="3568"/>
                </a:lnTo>
                <a:lnTo>
                  <a:pt x="628" y="3572"/>
                </a:lnTo>
                <a:lnTo>
                  <a:pt x="656" y="3576"/>
                </a:lnTo>
                <a:lnTo>
                  <a:pt x="684" y="3576"/>
                </a:lnTo>
                <a:lnTo>
                  <a:pt x="684" y="3576"/>
                </a:lnTo>
                <a:lnTo>
                  <a:pt x="716" y="3576"/>
                </a:lnTo>
                <a:lnTo>
                  <a:pt x="716" y="3576"/>
                </a:lnTo>
                <a:lnTo>
                  <a:pt x="740" y="3572"/>
                </a:lnTo>
                <a:lnTo>
                  <a:pt x="764" y="3568"/>
                </a:lnTo>
                <a:lnTo>
                  <a:pt x="764" y="3568"/>
                </a:lnTo>
                <a:lnTo>
                  <a:pt x="764" y="3586"/>
                </a:lnTo>
                <a:lnTo>
                  <a:pt x="764" y="3586"/>
                </a:lnTo>
                <a:lnTo>
                  <a:pt x="768" y="3606"/>
                </a:lnTo>
                <a:lnTo>
                  <a:pt x="772" y="3624"/>
                </a:lnTo>
                <a:lnTo>
                  <a:pt x="780" y="3640"/>
                </a:lnTo>
                <a:lnTo>
                  <a:pt x="790" y="3658"/>
                </a:lnTo>
                <a:lnTo>
                  <a:pt x="790" y="3658"/>
                </a:lnTo>
                <a:lnTo>
                  <a:pt x="802" y="3678"/>
                </a:lnTo>
                <a:lnTo>
                  <a:pt x="808" y="3694"/>
                </a:lnTo>
                <a:lnTo>
                  <a:pt x="814" y="3716"/>
                </a:lnTo>
                <a:lnTo>
                  <a:pt x="814" y="3716"/>
                </a:lnTo>
                <a:lnTo>
                  <a:pt x="642" y="3770"/>
                </a:lnTo>
                <a:lnTo>
                  <a:pt x="516" y="3810"/>
                </a:lnTo>
                <a:lnTo>
                  <a:pt x="516" y="3810"/>
                </a:lnTo>
                <a:lnTo>
                  <a:pt x="414" y="3844"/>
                </a:lnTo>
                <a:lnTo>
                  <a:pt x="414" y="3844"/>
                </a:lnTo>
                <a:lnTo>
                  <a:pt x="400" y="3840"/>
                </a:lnTo>
                <a:lnTo>
                  <a:pt x="386" y="3840"/>
                </a:lnTo>
                <a:lnTo>
                  <a:pt x="386" y="3840"/>
                </a:lnTo>
                <a:lnTo>
                  <a:pt x="372" y="3842"/>
                </a:lnTo>
                <a:lnTo>
                  <a:pt x="360" y="3844"/>
                </a:lnTo>
                <a:lnTo>
                  <a:pt x="346" y="3850"/>
                </a:lnTo>
                <a:lnTo>
                  <a:pt x="332" y="3856"/>
                </a:lnTo>
                <a:lnTo>
                  <a:pt x="306" y="3870"/>
                </a:lnTo>
                <a:lnTo>
                  <a:pt x="280" y="3892"/>
                </a:lnTo>
                <a:lnTo>
                  <a:pt x="280" y="3892"/>
                </a:lnTo>
                <a:lnTo>
                  <a:pt x="280" y="3892"/>
                </a:lnTo>
                <a:lnTo>
                  <a:pt x="266" y="3906"/>
                </a:lnTo>
                <a:lnTo>
                  <a:pt x="254" y="3920"/>
                </a:lnTo>
                <a:lnTo>
                  <a:pt x="246" y="3934"/>
                </a:lnTo>
                <a:lnTo>
                  <a:pt x="238" y="3948"/>
                </a:lnTo>
                <a:lnTo>
                  <a:pt x="232" y="3962"/>
                </a:lnTo>
                <a:lnTo>
                  <a:pt x="228" y="3976"/>
                </a:lnTo>
                <a:lnTo>
                  <a:pt x="228" y="3992"/>
                </a:lnTo>
                <a:lnTo>
                  <a:pt x="228" y="4006"/>
                </a:lnTo>
                <a:lnTo>
                  <a:pt x="228" y="4006"/>
                </a:lnTo>
                <a:lnTo>
                  <a:pt x="228" y="4018"/>
                </a:lnTo>
                <a:lnTo>
                  <a:pt x="232" y="4030"/>
                </a:lnTo>
                <a:lnTo>
                  <a:pt x="238" y="4042"/>
                </a:lnTo>
                <a:lnTo>
                  <a:pt x="246" y="4056"/>
                </a:lnTo>
                <a:lnTo>
                  <a:pt x="256" y="4070"/>
                </a:lnTo>
                <a:lnTo>
                  <a:pt x="272" y="4084"/>
                </a:lnTo>
                <a:lnTo>
                  <a:pt x="292" y="4096"/>
                </a:lnTo>
                <a:lnTo>
                  <a:pt x="316" y="4108"/>
                </a:lnTo>
                <a:lnTo>
                  <a:pt x="316" y="4108"/>
                </a:lnTo>
                <a:lnTo>
                  <a:pt x="340" y="4116"/>
                </a:lnTo>
                <a:lnTo>
                  <a:pt x="366" y="4120"/>
                </a:lnTo>
                <a:lnTo>
                  <a:pt x="392" y="4122"/>
                </a:lnTo>
                <a:lnTo>
                  <a:pt x="418" y="4122"/>
                </a:lnTo>
                <a:lnTo>
                  <a:pt x="418" y="4122"/>
                </a:lnTo>
                <a:lnTo>
                  <a:pt x="452" y="4118"/>
                </a:lnTo>
                <a:lnTo>
                  <a:pt x="496" y="4108"/>
                </a:lnTo>
                <a:lnTo>
                  <a:pt x="552" y="4094"/>
                </a:lnTo>
                <a:lnTo>
                  <a:pt x="616" y="4078"/>
                </a:lnTo>
                <a:lnTo>
                  <a:pt x="616" y="4078"/>
                </a:lnTo>
                <a:lnTo>
                  <a:pt x="598" y="4090"/>
                </a:lnTo>
                <a:lnTo>
                  <a:pt x="580" y="4106"/>
                </a:lnTo>
                <a:lnTo>
                  <a:pt x="566" y="4120"/>
                </a:lnTo>
                <a:lnTo>
                  <a:pt x="552" y="4134"/>
                </a:lnTo>
                <a:lnTo>
                  <a:pt x="540" y="4150"/>
                </a:lnTo>
                <a:lnTo>
                  <a:pt x="530" y="4164"/>
                </a:lnTo>
                <a:lnTo>
                  <a:pt x="522" y="4180"/>
                </a:lnTo>
                <a:lnTo>
                  <a:pt x="514" y="4196"/>
                </a:lnTo>
                <a:lnTo>
                  <a:pt x="504" y="4226"/>
                </a:lnTo>
                <a:lnTo>
                  <a:pt x="498" y="4256"/>
                </a:lnTo>
                <a:lnTo>
                  <a:pt x="496" y="4286"/>
                </a:lnTo>
                <a:lnTo>
                  <a:pt x="498" y="4312"/>
                </a:lnTo>
                <a:lnTo>
                  <a:pt x="498" y="4312"/>
                </a:lnTo>
                <a:lnTo>
                  <a:pt x="502" y="4340"/>
                </a:lnTo>
                <a:lnTo>
                  <a:pt x="508" y="4366"/>
                </a:lnTo>
                <a:lnTo>
                  <a:pt x="518" y="4390"/>
                </a:lnTo>
                <a:lnTo>
                  <a:pt x="530" y="4414"/>
                </a:lnTo>
                <a:lnTo>
                  <a:pt x="546" y="4436"/>
                </a:lnTo>
                <a:lnTo>
                  <a:pt x="564" y="4456"/>
                </a:lnTo>
                <a:lnTo>
                  <a:pt x="584" y="4474"/>
                </a:lnTo>
                <a:lnTo>
                  <a:pt x="608" y="4490"/>
                </a:lnTo>
                <a:lnTo>
                  <a:pt x="608" y="4490"/>
                </a:lnTo>
                <a:lnTo>
                  <a:pt x="630" y="4504"/>
                </a:lnTo>
                <a:lnTo>
                  <a:pt x="652" y="4516"/>
                </a:lnTo>
                <a:lnTo>
                  <a:pt x="676" y="4524"/>
                </a:lnTo>
                <a:lnTo>
                  <a:pt x="700" y="4532"/>
                </a:lnTo>
                <a:lnTo>
                  <a:pt x="726" y="4536"/>
                </a:lnTo>
                <a:lnTo>
                  <a:pt x="750" y="4540"/>
                </a:lnTo>
                <a:lnTo>
                  <a:pt x="778" y="4540"/>
                </a:lnTo>
                <a:lnTo>
                  <a:pt x="804" y="4540"/>
                </a:lnTo>
                <a:lnTo>
                  <a:pt x="804" y="4540"/>
                </a:lnTo>
                <a:lnTo>
                  <a:pt x="806" y="4540"/>
                </a:lnTo>
                <a:lnTo>
                  <a:pt x="806" y="4540"/>
                </a:lnTo>
                <a:lnTo>
                  <a:pt x="780" y="4560"/>
                </a:lnTo>
                <a:lnTo>
                  <a:pt x="752" y="4580"/>
                </a:lnTo>
                <a:lnTo>
                  <a:pt x="722" y="4598"/>
                </a:lnTo>
                <a:lnTo>
                  <a:pt x="692" y="4616"/>
                </a:lnTo>
                <a:lnTo>
                  <a:pt x="692" y="4616"/>
                </a:lnTo>
                <a:lnTo>
                  <a:pt x="666" y="4630"/>
                </a:lnTo>
                <a:lnTo>
                  <a:pt x="652" y="4640"/>
                </a:lnTo>
                <a:lnTo>
                  <a:pt x="640" y="4650"/>
                </a:lnTo>
                <a:lnTo>
                  <a:pt x="630" y="4662"/>
                </a:lnTo>
                <a:lnTo>
                  <a:pt x="622" y="4676"/>
                </a:lnTo>
                <a:lnTo>
                  <a:pt x="616" y="4690"/>
                </a:lnTo>
                <a:lnTo>
                  <a:pt x="616" y="4708"/>
                </a:lnTo>
                <a:lnTo>
                  <a:pt x="616" y="4708"/>
                </a:lnTo>
                <a:lnTo>
                  <a:pt x="618" y="4716"/>
                </a:lnTo>
                <a:lnTo>
                  <a:pt x="620" y="4726"/>
                </a:lnTo>
                <a:lnTo>
                  <a:pt x="626" y="4738"/>
                </a:lnTo>
                <a:lnTo>
                  <a:pt x="634" y="4748"/>
                </a:lnTo>
                <a:lnTo>
                  <a:pt x="646" y="4758"/>
                </a:lnTo>
                <a:lnTo>
                  <a:pt x="664" y="4768"/>
                </a:lnTo>
                <a:lnTo>
                  <a:pt x="686" y="4772"/>
                </a:lnTo>
                <a:lnTo>
                  <a:pt x="714" y="4774"/>
                </a:lnTo>
                <a:lnTo>
                  <a:pt x="714" y="4774"/>
                </a:lnTo>
                <a:lnTo>
                  <a:pt x="746" y="4774"/>
                </a:lnTo>
                <a:lnTo>
                  <a:pt x="746" y="4774"/>
                </a:lnTo>
                <a:lnTo>
                  <a:pt x="792" y="4768"/>
                </a:lnTo>
                <a:lnTo>
                  <a:pt x="838" y="4760"/>
                </a:lnTo>
                <a:lnTo>
                  <a:pt x="882" y="4746"/>
                </a:lnTo>
                <a:lnTo>
                  <a:pt x="926" y="4730"/>
                </a:lnTo>
                <a:lnTo>
                  <a:pt x="970" y="4712"/>
                </a:lnTo>
                <a:lnTo>
                  <a:pt x="1012" y="4688"/>
                </a:lnTo>
                <a:lnTo>
                  <a:pt x="1052" y="4662"/>
                </a:lnTo>
                <a:lnTo>
                  <a:pt x="1092" y="4632"/>
                </a:lnTo>
                <a:lnTo>
                  <a:pt x="1092" y="4632"/>
                </a:lnTo>
                <a:lnTo>
                  <a:pt x="1116" y="4614"/>
                </a:lnTo>
                <a:lnTo>
                  <a:pt x="1136" y="4596"/>
                </a:lnTo>
                <a:lnTo>
                  <a:pt x="1156" y="4576"/>
                </a:lnTo>
                <a:lnTo>
                  <a:pt x="1174" y="4556"/>
                </a:lnTo>
                <a:lnTo>
                  <a:pt x="1190" y="4536"/>
                </a:lnTo>
                <a:lnTo>
                  <a:pt x="1204" y="4516"/>
                </a:lnTo>
                <a:lnTo>
                  <a:pt x="1218" y="4496"/>
                </a:lnTo>
                <a:lnTo>
                  <a:pt x="1230" y="4474"/>
                </a:lnTo>
                <a:lnTo>
                  <a:pt x="1240" y="4452"/>
                </a:lnTo>
                <a:lnTo>
                  <a:pt x="1248" y="4430"/>
                </a:lnTo>
                <a:lnTo>
                  <a:pt x="1254" y="4408"/>
                </a:lnTo>
                <a:lnTo>
                  <a:pt x="1260" y="4386"/>
                </a:lnTo>
                <a:lnTo>
                  <a:pt x="1264" y="4362"/>
                </a:lnTo>
                <a:lnTo>
                  <a:pt x="1266" y="4340"/>
                </a:lnTo>
                <a:lnTo>
                  <a:pt x="1266" y="4316"/>
                </a:lnTo>
                <a:lnTo>
                  <a:pt x="1264" y="4292"/>
                </a:lnTo>
                <a:lnTo>
                  <a:pt x="1264" y="4292"/>
                </a:lnTo>
                <a:lnTo>
                  <a:pt x="1260" y="4258"/>
                </a:lnTo>
                <a:lnTo>
                  <a:pt x="1254" y="4224"/>
                </a:lnTo>
                <a:lnTo>
                  <a:pt x="1244" y="4194"/>
                </a:lnTo>
                <a:lnTo>
                  <a:pt x="1234" y="4166"/>
                </a:lnTo>
                <a:lnTo>
                  <a:pt x="1220" y="4138"/>
                </a:lnTo>
                <a:lnTo>
                  <a:pt x="1204" y="4114"/>
                </a:lnTo>
                <a:lnTo>
                  <a:pt x="1186" y="4092"/>
                </a:lnTo>
                <a:lnTo>
                  <a:pt x="1164" y="4072"/>
                </a:lnTo>
                <a:lnTo>
                  <a:pt x="1164" y="4072"/>
                </a:lnTo>
                <a:lnTo>
                  <a:pt x="1164" y="3974"/>
                </a:lnTo>
                <a:lnTo>
                  <a:pt x="1164" y="3974"/>
                </a:lnTo>
                <a:lnTo>
                  <a:pt x="1234" y="3970"/>
                </a:lnTo>
                <a:lnTo>
                  <a:pt x="1280" y="3970"/>
                </a:lnTo>
                <a:lnTo>
                  <a:pt x="1280" y="3970"/>
                </a:lnTo>
                <a:lnTo>
                  <a:pt x="1342" y="3974"/>
                </a:lnTo>
                <a:lnTo>
                  <a:pt x="1342" y="3974"/>
                </a:lnTo>
                <a:lnTo>
                  <a:pt x="1352" y="3976"/>
                </a:lnTo>
                <a:lnTo>
                  <a:pt x="1362" y="3976"/>
                </a:lnTo>
                <a:lnTo>
                  <a:pt x="1362" y="3976"/>
                </a:lnTo>
                <a:lnTo>
                  <a:pt x="1362" y="3976"/>
                </a:lnTo>
                <a:lnTo>
                  <a:pt x="1388" y="3972"/>
                </a:lnTo>
                <a:lnTo>
                  <a:pt x="1412" y="3964"/>
                </a:lnTo>
                <a:lnTo>
                  <a:pt x="1432" y="3952"/>
                </a:lnTo>
                <a:lnTo>
                  <a:pt x="1452" y="3938"/>
                </a:lnTo>
                <a:lnTo>
                  <a:pt x="1452" y="3938"/>
                </a:lnTo>
                <a:lnTo>
                  <a:pt x="1454" y="3934"/>
                </a:lnTo>
                <a:lnTo>
                  <a:pt x="1454" y="3934"/>
                </a:lnTo>
                <a:lnTo>
                  <a:pt x="1462" y="3924"/>
                </a:lnTo>
                <a:lnTo>
                  <a:pt x="1470" y="3912"/>
                </a:lnTo>
                <a:lnTo>
                  <a:pt x="1476" y="3902"/>
                </a:lnTo>
                <a:lnTo>
                  <a:pt x="1482" y="3888"/>
                </a:lnTo>
                <a:lnTo>
                  <a:pt x="1484" y="3876"/>
                </a:lnTo>
                <a:lnTo>
                  <a:pt x="1486" y="3862"/>
                </a:lnTo>
                <a:lnTo>
                  <a:pt x="1488" y="3850"/>
                </a:lnTo>
                <a:lnTo>
                  <a:pt x="1488" y="3836"/>
                </a:lnTo>
                <a:lnTo>
                  <a:pt x="1488" y="3836"/>
                </a:lnTo>
                <a:close/>
                <a:moveTo>
                  <a:pt x="484" y="3260"/>
                </a:moveTo>
                <a:lnTo>
                  <a:pt x="484" y="3260"/>
                </a:lnTo>
                <a:lnTo>
                  <a:pt x="490" y="3258"/>
                </a:lnTo>
                <a:lnTo>
                  <a:pt x="500" y="3254"/>
                </a:lnTo>
                <a:lnTo>
                  <a:pt x="514" y="3250"/>
                </a:lnTo>
                <a:lnTo>
                  <a:pt x="538" y="3246"/>
                </a:lnTo>
                <a:lnTo>
                  <a:pt x="538" y="3246"/>
                </a:lnTo>
                <a:lnTo>
                  <a:pt x="554" y="3246"/>
                </a:lnTo>
                <a:lnTo>
                  <a:pt x="554" y="3246"/>
                </a:lnTo>
                <a:lnTo>
                  <a:pt x="586" y="3248"/>
                </a:lnTo>
                <a:lnTo>
                  <a:pt x="624" y="3254"/>
                </a:lnTo>
                <a:lnTo>
                  <a:pt x="666" y="3264"/>
                </a:lnTo>
                <a:lnTo>
                  <a:pt x="712" y="3280"/>
                </a:lnTo>
                <a:lnTo>
                  <a:pt x="712" y="3280"/>
                </a:lnTo>
                <a:lnTo>
                  <a:pt x="702" y="3298"/>
                </a:lnTo>
                <a:lnTo>
                  <a:pt x="692" y="3312"/>
                </a:lnTo>
                <a:lnTo>
                  <a:pt x="682" y="3322"/>
                </a:lnTo>
                <a:lnTo>
                  <a:pt x="670" y="3330"/>
                </a:lnTo>
                <a:lnTo>
                  <a:pt x="658" y="3336"/>
                </a:lnTo>
                <a:lnTo>
                  <a:pt x="648" y="3340"/>
                </a:lnTo>
                <a:lnTo>
                  <a:pt x="636" y="3344"/>
                </a:lnTo>
                <a:lnTo>
                  <a:pt x="624" y="3344"/>
                </a:lnTo>
                <a:lnTo>
                  <a:pt x="624" y="3344"/>
                </a:lnTo>
                <a:lnTo>
                  <a:pt x="608" y="3346"/>
                </a:lnTo>
                <a:lnTo>
                  <a:pt x="608" y="3346"/>
                </a:lnTo>
                <a:lnTo>
                  <a:pt x="608" y="3346"/>
                </a:lnTo>
                <a:lnTo>
                  <a:pt x="588" y="3344"/>
                </a:lnTo>
                <a:lnTo>
                  <a:pt x="566" y="3340"/>
                </a:lnTo>
                <a:lnTo>
                  <a:pt x="546" y="3334"/>
                </a:lnTo>
                <a:lnTo>
                  <a:pt x="526" y="3326"/>
                </a:lnTo>
                <a:lnTo>
                  <a:pt x="526" y="3326"/>
                </a:lnTo>
                <a:lnTo>
                  <a:pt x="512" y="3318"/>
                </a:lnTo>
                <a:lnTo>
                  <a:pt x="500" y="3310"/>
                </a:lnTo>
                <a:lnTo>
                  <a:pt x="492" y="3304"/>
                </a:lnTo>
                <a:lnTo>
                  <a:pt x="488" y="3296"/>
                </a:lnTo>
                <a:lnTo>
                  <a:pt x="484" y="3290"/>
                </a:lnTo>
                <a:lnTo>
                  <a:pt x="482" y="3284"/>
                </a:lnTo>
                <a:lnTo>
                  <a:pt x="480" y="3276"/>
                </a:lnTo>
                <a:lnTo>
                  <a:pt x="480" y="3276"/>
                </a:lnTo>
                <a:lnTo>
                  <a:pt x="480" y="3268"/>
                </a:lnTo>
                <a:lnTo>
                  <a:pt x="482" y="3264"/>
                </a:lnTo>
                <a:lnTo>
                  <a:pt x="484" y="3260"/>
                </a:lnTo>
                <a:lnTo>
                  <a:pt x="484" y="3260"/>
                </a:lnTo>
                <a:close/>
                <a:moveTo>
                  <a:pt x="856" y="4216"/>
                </a:moveTo>
                <a:lnTo>
                  <a:pt x="856" y="4216"/>
                </a:lnTo>
                <a:lnTo>
                  <a:pt x="850" y="4244"/>
                </a:lnTo>
                <a:lnTo>
                  <a:pt x="840" y="4264"/>
                </a:lnTo>
                <a:lnTo>
                  <a:pt x="830" y="4280"/>
                </a:lnTo>
                <a:lnTo>
                  <a:pt x="820" y="4290"/>
                </a:lnTo>
                <a:lnTo>
                  <a:pt x="810" y="4296"/>
                </a:lnTo>
                <a:lnTo>
                  <a:pt x="800" y="4300"/>
                </a:lnTo>
                <a:lnTo>
                  <a:pt x="784" y="4302"/>
                </a:lnTo>
                <a:lnTo>
                  <a:pt x="784" y="4302"/>
                </a:lnTo>
                <a:lnTo>
                  <a:pt x="778" y="4302"/>
                </a:lnTo>
                <a:lnTo>
                  <a:pt x="778" y="4302"/>
                </a:lnTo>
                <a:lnTo>
                  <a:pt x="778" y="4302"/>
                </a:lnTo>
                <a:lnTo>
                  <a:pt x="770" y="4302"/>
                </a:lnTo>
                <a:lnTo>
                  <a:pt x="762" y="4300"/>
                </a:lnTo>
                <a:lnTo>
                  <a:pt x="754" y="4298"/>
                </a:lnTo>
                <a:lnTo>
                  <a:pt x="746" y="4294"/>
                </a:lnTo>
                <a:lnTo>
                  <a:pt x="746" y="4294"/>
                </a:lnTo>
                <a:lnTo>
                  <a:pt x="742" y="4292"/>
                </a:lnTo>
                <a:lnTo>
                  <a:pt x="742" y="4292"/>
                </a:lnTo>
                <a:lnTo>
                  <a:pt x="736" y="4286"/>
                </a:lnTo>
                <a:lnTo>
                  <a:pt x="732" y="4284"/>
                </a:lnTo>
                <a:lnTo>
                  <a:pt x="730" y="4280"/>
                </a:lnTo>
                <a:lnTo>
                  <a:pt x="730" y="4280"/>
                </a:lnTo>
                <a:lnTo>
                  <a:pt x="730" y="4272"/>
                </a:lnTo>
                <a:lnTo>
                  <a:pt x="732" y="4264"/>
                </a:lnTo>
                <a:lnTo>
                  <a:pt x="740" y="4254"/>
                </a:lnTo>
                <a:lnTo>
                  <a:pt x="746" y="4248"/>
                </a:lnTo>
                <a:lnTo>
                  <a:pt x="756" y="4240"/>
                </a:lnTo>
                <a:lnTo>
                  <a:pt x="756" y="4240"/>
                </a:lnTo>
                <a:lnTo>
                  <a:pt x="774" y="4232"/>
                </a:lnTo>
                <a:lnTo>
                  <a:pt x="794" y="4224"/>
                </a:lnTo>
                <a:lnTo>
                  <a:pt x="816" y="4220"/>
                </a:lnTo>
                <a:lnTo>
                  <a:pt x="838" y="4216"/>
                </a:lnTo>
                <a:lnTo>
                  <a:pt x="838" y="4216"/>
                </a:lnTo>
                <a:lnTo>
                  <a:pt x="856" y="4216"/>
                </a:lnTo>
                <a:lnTo>
                  <a:pt x="856" y="4216"/>
                </a:lnTo>
                <a:close/>
                <a:moveTo>
                  <a:pt x="256" y="912"/>
                </a:moveTo>
                <a:lnTo>
                  <a:pt x="256" y="912"/>
                </a:lnTo>
                <a:lnTo>
                  <a:pt x="242" y="914"/>
                </a:lnTo>
                <a:lnTo>
                  <a:pt x="242" y="914"/>
                </a:lnTo>
                <a:lnTo>
                  <a:pt x="232" y="914"/>
                </a:lnTo>
                <a:lnTo>
                  <a:pt x="232" y="914"/>
                </a:lnTo>
                <a:lnTo>
                  <a:pt x="232" y="914"/>
                </a:lnTo>
                <a:lnTo>
                  <a:pt x="220" y="914"/>
                </a:lnTo>
                <a:lnTo>
                  <a:pt x="216" y="912"/>
                </a:lnTo>
                <a:lnTo>
                  <a:pt x="216" y="912"/>
                </a:lnTo>
                <a:lnTo>
                  <a:pt x="216" y="912"/>
                </a:lnTo>
                <a:lnTo>
                  <a:pt x="214" y="908"/>
                </a:lnTo>
                <a:lnTo>
                  <a:pt x="214" y="900"/>
                </a:lnTo>
                <a:lnTo>
                  <a:pt x="214" y="900"/>
                </a:lnTo>
                <a:lnTo>
                  <a:pt x="214" y="886"/>
                </a:lnTo>
                <a:lnTo>
                  <a:pt x="218" y="872"/>
                </a:lnTo>
                <a:lnTo>
                  <a:pt x="226" y="858"/>
                </a:lnTo>
                <a:lnTo>
                  <a:pt x="236" y="842"/>
                </a:lnTo>
                <a:lnTo>
                  <a:pt x="236" y="842"/>
                </a:lnTo>
                <a:lnTo>
                  <a:pt x="244" y="878"/>
                </a:lnTo>
                <a:lnTo>
                  <a:pt x="256" y="912"/>
                </a:lnTo>
                <a:lnTo>
                  <a:pt x="256" y="912"/>
                </a:lnTo>
                <a:close/>
                <a:moveTo>
                  <a:pt x="782" y="836"/>
                </a:moveTo>
                <a:lnTo>
                  <a:pt x="782" y="836"/>
                </a:lnTo>
                <a:lnTo>
                  <a:pt x="804" y="794"/>
                </a:lnTo>
                <a:lnTo>
                  <a:pt x="822" y="754"/>
                </a:lnTo>
                <a:lnTo>
                  <a:pt x="838" y="714"/>
                </a:lnTo>
                <a:lnTo>
                  <a:pt x="852" y="672"/>
                </a:lnTo>
                <a:lnTo>
                  <a:pt x="852" y="672"/>
                </a:lnTo>
                <a:lnTo>
                  <a:pt x="864" y="686"/>
                </a:lnTo>
                <a:lnTo>
                  <a:pt x="870" y="702"/>
                </a:lnTo>
                <a:lnTo>
                  <a:pt x="876" y="720"/>
                </a:lnTo>
                <a:lnTo>
                  <a:pt x="878" y="738"/>
                </a:lnTo>
                <a:lnTo>
                  <a:pt x="878" y="738"/>
                </a:lnTo>
                <a:lnTo>
                  <a:pt x="880" y="760"/>
                </a:lnTo>
                <a:lnTo>
                  <a:pt x="876" y="780"/>
                </a:lnTo>
                <a:lnTo>
                  <a:pt x="870" y="800"/>
                </a:lnTo>
                <a:lnTo>
                  <a:pt x="862" y="822"/>
                </a:lnTo>
                <a:lnTo>
                  <a:pt x="850" y="840"/>
                </a:lnTo>
                <a:lnTo>
                  <a:pt x="836" y="860"/>
                </a:lnTo>
                <a:lnTo>
                  <a:pt x="818" y="880"/>
                </a:lnTo>
                <a:lnTo>
                  <a:pt x="798" y="898"/>
                </a:lnTo>
                <a:lnTo>
                  <a:pt x="796" y="898"/>
                </a:lnTo>
                <a:lnTo>
                  <a:pt x="796" y="898"/>
                </a:lnTo>
                <a:lnTo>
                  <a:pt x="772" y="920"/>
                </a:lnTo>
                <a:lnTo>
                  <a:pt x="748" y="936"/>
                </a:lnTo>
                <a:lnTo>
                  <a:pt x="722" y="950"/>
                </a:lnTo>
                <a:lnTo>
                  <a:pt x="696" y="962"/>
                </a:lnTo>
                <a:lnTo>
                  <a:pt x="696" y="962"/>
                </a:lnTo>
                <a:lnTo>
                  <a:pt x="718" y="934"/>
                </a:lnTo>
                <a:lnTo>
                  <a:pt x="740" y="902"/>
                </a:lnTo>
                <a:lnTo>
                  <a:pt x="762" y="870"/>
                </a:lnTo>
                <a:lnTo>
                  <a:pt x="782" y="836"/>
                </a:lnTo>
                <a:lnTo>
                  <a:pt x="782" y="836"/>
                </a:lnTo>
                <a:close/>
                <a:moveTo>
                  <a:pt x="482" y="1764"/>
                </a:moveTo>
                <a:lnTo>
                  <a:pt x="476" y="1818"/>
                </a:lnTo>
                <a:lnTo>
                  <a:pt x="476" y="1818"/>
                </a:lnTo>
                <a:lnTo>
                  <a:pt x="472" y="1852"/>
                </a:lnTo>
                <a:lnTo>
                  <a:pt x="472" y="1852"/>
                </a:lnTo>
                <a:lnTo>
                  <a:pt x="474" y="1816"/>
                </a:lnTo>
                <a:lnTo>
                  <a:pt x="482" y="1764"/>
                </a:lnTo>
                <a:lnTo>
                  <a:pt x="482" y="17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グループ化 15"/>
          <p:cNvGrpSpPr/>
          <p:nvPr/>
        </p:nvGrpSpPr>
        <p:grpSpPr>
          <a:xfrm>
            <a:off x="1619280" y="40579560"/>
            <a:ext cx="7385040" cy="1933560"/>
            <a:chOff x="1619280" y="40579560"/>
            <a:chExt cx="7385040" cy="1933560"/>
          </a:xfrm>
        </p:grpSpPr>
        <p:sp>
          <p:nvSpPr>
            <p:cNvPr id="54" name="Freeform 9"/>
            <p:cNvSpPr/>
            <p:nvPr/>
          </p:nvSpPr>
          <p:spPr>
            <a:xfrm>
              <a:off x="1619280" y="40674600"/>
              <a:ext cx="1698480" cy="17398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1070" h="1096">
                  <a:moveTo>
                    <a:pt x="1070" y="926"/>
                  </a:moveTo>
                  <a:lnTo>
                    <a:pt x="1070" y="926"/>
                  </a:lnTo>
                  <a:lnTo>
                    <a:pt x="1068" y="942"/>
                  </a:lnTo>
                  <a:lnTo>
                    <a:pt x="1064" y="956"/>
                  </a:lnTo>
                  <a:lnTo>
                    <a:pt x="1058" y="970"/>
                  </a:lnTo>
                  <a:lnTo>
                    <a:pt x="1048" y="982"/>
                  </a:lnTo>
                  <a:lnTo>
                    <a:pt x="1048" y="982"/>
                  </a:lnTo>
                  <a:lnTo>
                    <a:pt x="1038" y="992"/>
                  </a:lnTo>
                  <a:lnTo>
                    <a:pt x="1026" y="998"/>
                  </a:lnTo>
                  <a:lnTo>
                    <a:pt x="1012" y="1002"/>
                  </a:lnTo>
                  <a:lnTo>
                    <a:pt x="994" y="1004"/>
                  </a:lnTo>
                  <a:lnTo>
                    <a:pt x="994" y="1004"/>
                  </a:lnTo>
                  <a:lnTo>
                    <a:pt x="978" y="1002"/>
                  </a:lnTo>
                  <a:lnTo>
                    <a:pt x="960" y="994"/>
                  </a:lnTo>
                  <a:lnTo>
                    <a:pt x="940" y="982"/>
                  </a:lnTo>
                  <a:lnTo>
                    <a:pt x="920" y="964"/>
                  </a:lnTo>
                  <a:lnTo>
                    <a:pt x="920" y="964"/>
                  </a:lnTo>
                  <a:lnTo>
                    <a:pt x="852" y="896"/>
                  </a:lnTo>
                  <a:lnTo>
                    <a:pt x="852" y="896"/>
                  </a:lnTo>
                  <a:lnTo>
                    <a:pt x="816" y="944"/>
                  </a:lnTo>
                  <a:lnTo>
                    <a:pt x="780" y="984"/>
                  </a:lnTo>
                  <a:lnTo>
                    <a:pt x="762" y="1002"/>
                  </a:lnTo>
                  <a:lnTo>
                    <a:pt x="742" y="1018"/>
                  </a:lnTo>
                  <a:lnTo>
                    <a:pt x="724" y="1032"/>
                  </a:lnTo>
                  <a:lnTo>
                    <a:pt x="704" y="1046"/>
                  </a:lnTo>
                  <a:lnTo>
                    <a:pt x="686" y="1058"/>
                  </a:lnTo>
                  <a:lnTo>
                    <a:pt x="666" y="1068"/>
                  </a:lnTo>
                  <a:lnTo>
                    <a:pt x="646" y="1076"/>
                  </a:lnTo>
                  <a:lnTo>
                    <a:pt x="626" y="1084"/>
                  </a:lnTo>
                  <a:lnTo>
                    <a:pt x="606" y="1088"/>
                  </a:lnTo>
                  <a:lnTo>
                    <a:pt x="586" y="1092"/>
                  </a:lnTo>
                  <a:lnTo>
                    <a:pt x="564" y="1094"/>
                  </a:lnTo>
                  <a:lnTo>
                    <a:pt x="544" y="1096"/>
                  </a:lnTo>
                  <a:lnTo>
                    <a:pt x="544" y="1096"/>
                  </a:lnTo>
                  <a:lnTo>
                    <a:pt x="526" y="1094"/>
                  </a:lnTo>
                  <a:lnTo>
                    <a:pt x="504" y="1090"/>
                  </a:lnTo>
                  <a:lnTo>
                    <a:pt x="478" y="1084"/>
                  </a:lnTo>
                  <a:lnTo>
                    <a:pt x="448" y="1074"/>
                  </a:lnTo>
                  <a:lnTo>
                    <a:pt x="448" y="1074"/>
                  </a:lnTo>
                  <a:lnTo>
                    <a:pt x="416" y="1062"/>
                  </a:lnTo>
                  <a:lnTo>
                    <a:pt x="394" y="1050"/>
                  </a:lnTo>
                  <a:lnTo>
                    <a:pt x="386" y="1044"/>
                  </a:lnTo>
                  <a:lnTo>
                    <a:pt x="380" y="1038"/>
                  </a:lnTo>
                  <a:lnTo>
                    <a:pt x="378" y="1032"/>
                  </a:lnTo>
                  <a:lnTo>
                    <a:pt x="376" y="1026"/>
                  </a:lnTo>
                  <a:lnTo>
                    <a:pt x="376" y="1026"/>
                  </a:lnTo>
                  <a:lnTo>
                    <a:pt x="378" y="1018"/>
                  </a:lnTo>
                  <a:lnTo>
                    <a:pt x="382" y="1010"/>
                  </a:lnTo>
                  <a:lnTo>
                    <a:pt x="392" y="1002"/>
                  </a:lnTo>
                  <a:lnTo>
                    <a:pt x="402" y="996"/>
                  </a:lnTo>
                  <a:lnTo>
                    <a:pt x="402" y="996"/>
                  </a:lnTo>
                  <a:lnTo>
                    <a:pt x="444" y="978"/>
                  </a:lnTo>
                  <a:lnTo>
                    <a:pt x="482" y="958"/>
                  </a:lnTo>
                  <a:lnTo>
                    <a:pt x="520" y="932"/>
                  </a:lnTo>
                  <a:lnTo>
                    <a:pt x="558" y="904"/>
                  </a:lnTo>
                  <a:lnTo>
                    <a:pt x="594" y="872"/>
                  </a:lnTo>
                  <a:lnTo>
                    <a:pt x="628" y="838"/>
                  </a:lnTo>
                  <a:lnTo>
                    <a:pt x="660" y="798"/>
                  </a:lnTo>
                  <a:lnTo>
                    <a:pt x="692" y="756"/>
                  </a:lnTo>
                  <a:lnTo>
                    <a:pt x="692" y="756"/>
                  </a:lnTo>
                  <a:lnTo>
                    <a:pt x="648" y="718"/>
                  </a:lnTo>
                  <a:lnTo>
                    <a:pt x="606" y="688"/>
                  </a:lnTo>
                  <a:lnTo>
                    <a:pt x="570" y="662"/>
                  </a:lnTo>
                  <a:lnTo>
                    <a:pt x="540" y="642"/>
                  </a:lnTo>
                  <a:lnTo>
                    <a:pt x="540" y="642"/>
                  </a:lnTo>
                  <a:lnTo>
                    <a:pt x="496" y="718"/>
                  </a:lnTo>
                  <a:lnTo>
                    <a:pt x="474" y="752"/>
                  </a:lnTo>
                  <a:lnTo>
                    <a:pt x="452" y="782"/>
                  </a:lnTo>
                  <a:lnTo>
                    <a:pt x="432" y="812"/>
                  </a:lnTo>
                  <a:lnTo>
                    <a:pt x="410" y="838"/>
                  </a:lnTo>
                  <a:lnTo>
                    <a:pt x="388" y="862"/>
                  </a:lnTo>
                  <a:lnTo>
                    <a:pt x="368" y="884"/>
                  </a:lnTo>
                  <a:lnTo>
                    <a:pt x="348" y="902"/>
                  </a:lnTo>
                  <a:lnTo>
                    <a:pt x="328" y="918"/>
                  </a:lnTo>
                  <a:lnTo>
                    <a:pt x="308" y="932"/>
                  </a:lnTo>
                  <a:lnTo>
                    <a:pt x="288" y="944"/>
                  </a:lnTo>
                  <a:lnTo>
                    <a:pt x="268" y="952"/>
                  </a:lnTo>
                  <a:lnTo>
                    <a:pt x="248" y="958"/>
                  </a:lnTo>
                  <a:lnTo>
                    <a:pt x="228" y="962"/>
                  </a:lnTo>
                  <a:lnTo>
                    <a:pt x="208" y="964"/>
                  </a:lnTo>
                  <a:lnTo>
                    <a:pt x="208" y="964"/>
                  </a:lnTo>
                  <a:lnTo>
                    <a:pt x="188" y="962"/>
                  </a:lnTo>
                  <a:lnTo>
                    <a:pt x="166" y="958"/>
                  </a:lnTo>
                  <a:lnTo>
                    <a:pt x="146" y="952"/>
                  </a:lnTo>
                  <a:lnTo>
                    <a:pt x="126" y="944"/>
                  </a:lnTo>
                  <a:lnTo>
                    <a:pt x="108" y="934"/>
                  </a:lnTo>
                  <a:lnTo>
                    <a:pt x="90" y="920"/>
                  </a:lnTo>
                  <a:lnTo>
                    <a:pt x="74" y="906"/>
                  </a:lnTo>
                  <a:lnTo>
                    <a:pt x="58" y="888"/>
                  </a:lnTo>
                  <a:lnTo>
                    <a:pt x="58" y="888"/>
                  </a:lnTo>
                  <a:lnTo>
                    <a:pt x="44" y="870"/>
                  </a:lnTo>
                  <a:lnTo>
                    <a:pt x="32" y="852"/>
                  </a:lnTo>
                  <a:lnTo>
                    <a:pt x="22" y="832"/>
                  </a:lnTo>
                  <a:lnTo>
                    <a:pt x="14" y="812"/>
                  </a:lnTo>
                  <a:lnTo>
                    <a:pt x="8" y="792"/>
                  </a:lnTo>
                  <a:lnTo>
                    <a:pt x="4" y="772"/>
                  </a:lnTo>
                  <a:lnTo>
                    <a:pt x="0" y="752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2" y="696"/>
                  </a:lnTo>
                  <a:lnTo>
                    <a:pt x="6" y="666"/>
                  </a:lnTo>
                  <a:lnTo>
                    <a:pt x="14" y="638"/>
                  </a:lnTo>
                  <a:lnTo>
                    <a:pt x="26" y="610"/>
                  </a:lnTo>
                  <a:lnTo>
                    <a:pt x="42" y="586"/>
                  </a:lnTo>
                  <a:lnTo>
                    <a:pt x="60" y="562"/>
                  </a:lnTo>
                  <a:lnTo>
                    <a:pt x="82" y="540"/>
                  </a:lnTo>
                  <a:lnTo>
                    <a:pt x="106" y="520"/>
                  </a:lnTo>
                  <a:lnTo>
                    <a:pt x="106" y="520"/>
                  </a:lnTo>
                  <a:lnTo>
                    <a:pt x="132" y="504"/>
                  </a:lnTo>
                  <a:lnTo>
                    <a:pt x="158" y="492"/>
                  </a:lnTo>
                  <a:lnTo>
                    <a:pt x="184" y="480"/>
                  </a:lnTo>
                  <a:lnTo>
                    <a:pt x="214" y="472"/>
                  </a:lnTo>
                  <a:lnTo>
                    <a:pt x="244" y="464"/>
                  </a:lnTo>
                  <a:lnTo>
                    <a:pt x="274" y="458"/>
                  </a:lnTo>
                  <a:lnTo>
                    <a:pt x="308" y="456"/>
                  </a:lnTo>
                  <a:lnTo>
                    <a:pt x="342" y="454"/>
                  </a:lnTo>
                  <a:lnTo>
                    <a:pt x="342" y="454"/>
                  </a:lnTo>
                  <a:lnTo>
                    <a:pt x="380" y="456"/>
                  </a:lnTo>
                  <a:lnTo>
                    <a:pt x="432" y="462"/>
                  </a:lnTo>
                  <a:lnTo>
                    <a:pt x="432" y="462"/>
                  </a:lnTo>
                  <a:lnTo>
                    <a:pt x="456" y="418"/>
                  </a:lnTo>
                  <a:lnTo>
                    <a:pt x="476" y="376"/>
                  </a:lnTo>
                  <a:lnTo>
                    <a:pt x="494" y="338"/>
                  </a:lnTo>
                  <a:lnTo>
                    <a:pt x="508" y="304"/>
                  </a:lnTo>
                  <a:lnTo>
                    <a:pt x="520" y="272"/>
                  </a:lnTo>
                  <a:lnTo>
                    <a:pt x="526" y="244"/>
                  </a:lnTo>
                  <a:lnTo>
                    <a:pt x="532" y="218"/>
                  </a:lnTo>
                  <a:lnTo>
                    <a:pt x="534" y="196"/>
                  </a:lnTo>
                  <a:lnTo>
                    <a:pt x="534" y="196"/>
                  </a:lnTo>
                  <a:lnTo>
                    <a:pt x="532" y="180"/>
                  </a:lnTo>
                  <a:lnTo>
                    <a:pt x="528" y="176"/>
                  </a:lnTo>
                  <a:lnTo>
                    <a:pt x="526" y="170"/>
                  </a:lnTo>
                  <a:lnTo>
                    <a:pt x="520" y="166"/>
                  </a:lnTo>
                  <a:lnTo>
                    <a:pt x="514" y="164"/>
                  </a:lnTo>
                  <a:lnTo>
                    <a:pt x="508" y="162"/>
                  </a:lnTo>
                  <a:lnTo>
                    <a:pt x="500" y="162"/>
                  </a:lnTo>
                  <a:lnTo>
                    <a:pt x="500" y="162"/>
                  </a:lnTo>
                  <a:lnTo>
                    <a:pt x="474" y="164"/>
                  </a:lnTo>
                  <a:lnTo>
                    <a:pt x="440" y="172"/>
                  </a:lnTo>
                  <a:lnTo>
                    <a:pt x="398" y="186"/>
                  </a:lnTo>
                  <a:lnTo>
                    <a:pt x="346" y="204"/>
                  </a:lnTo>
                  <a:lnTo>
                    <a:pt x="346" y="204"/>
                  </a:lnTo>
                  <a:lnTo>
                    <a:pt x="296" y="222"/>
                  </a:lnTo>
                  <a:lnTo>
                    <a:pt x="250" y="236"/>
                  </a:lnTo>
                  <a:lnTo>
                    <a:pt x="212" y="242"/>
                  </a:lnTo>
                  <a:lnTo>
                    <a:pt x="182" y="246"/>
                  </a:lnTo>
                  <a:lnTo>
                    <a:pt x="182" y="246"/>
                  </a:lnTo>
                  <a:lnTo>
                    <a:pt x="164" y="244"/>
                  </a:lnTo>
                  <a:lnTo>
                    <a:pt x="148" y="240"/>
                  </a:lnTo>
                  <a:lnTo>
                    <a:pt x="132" y="234"/>
                  </a:lnTo>
                  <a:lnTo>
                    <a:pt x="116" y="224"/>
                  </a:lnTo>
                  <a:lnTo>
                    <a:pt x="116" y="224"/>
                  </a:lnTo>
                  <a:lnTo>
                    <a:pt x="100" y="212"/>
                  </a:lnTo>
                  <a:lnTo>
                    <a:pt x="90" y="200"/>
                  </a:lnTo>
                  <a:lnTo>
                    <a:pt x="82" y="184"/>
                  </a:lnTo>
                  <a:lnTo>
                    <a:pt x="80" y="170"/>
                  </a:lnTo>
                  <a:lnTo>
                    <a:pt x="80" y="170"/>
                  </a:lnTo>
                  <a:lnTo>
                    <a:pt x="82" y="160"/>
                  </a:lnTo>
                  <a:lnTo>
                    <a:pt x="86" y="152"/>
                  </a:lnTo>
                  <a:lnTo>
                    <a:pt x="90" y="142"/>
                  </a:lnTo>
                  <a:lnTo>
                    <a:pt x="98" y="132"/>
                  </a:lnTo>
                  <a:lnTo>
                    <a:pt x="108" y="122"/>
                  </a:lnTo>
                  <a:lnTo>
                    <a:pt x="120" y="110"/>
                  </a:lnTo>
                  <a:lnTo>
                    <a:pt x="150" y="88"/>
                  </a:lnTo>
                  <a:lnTo>
                    <a:pt x="150" y="88"/>
                  </a:lnTo>
                  <a:lnTo>
                    <a:pt x="168" y="80"/>
                  </a:lnTo>
                  <a:lnTo>
                    <a:pt x="182" y="76"/>
                  </a:lnTo>
                  <a:lnTo>
                    <a:pt x="182" y="76"/>
                  </a:lnTo>
                  <a:lnTo>
                    <a:pt x="212" y="76"/>
                  </a:lnTo>
                  <a:lnTo>
                    <a:pt x="212" y="76"/>
                  </a:lnTo>
                  <a:lnTo>
                    <a:pt x="250" y="64"/>
                  </a:lnTo>
                  <a:lnTo>
                    <a:pt x="250" y="64"/>
                  </a:lnTo>
                  <a:lnTo>
                    <a:pt x="386" y="22"/>
                  </a:lnTo>
                  <a:lnTo>
                    <a:pt x="386" y="22"/>
                  </a:lnTo>
                  <a:lnTo>
                    <a:pt x="426" y="12"/>
                  </a:lnTo>
                  <a:lnTo>
                    <a:pt x="462" y="6"/>
                  </a:lnTo>
                  <a:lnTo>
                    <a:pt x="496" y="0"/>
                  </a:lnTo>
                  <a:lnTo>
                    <a:pt x="526" y="0"/>
                  </a:lnTo>
                  <a:lnTo>
                    <a:pt x="526" y="0"/>
                  </a:lnTo>
                  <a:lnTo>
                    <a:pt x="546" y="0"/>
                  </a:lnTo>
                  <a:lnTo>
                    <a:pt x="564" y="2"/>
                  </a:lnTo>
                  <a:lnTo>
                    <a:pt x="584" y="6"/>
                  </a:lnTo>
                  <a:lnTo>
                    <a:pt x="600" y="12"/>
                  </a:lnTo>
                  <a:lnTo>
                    <a:pt x="618" y="18"/>
                  </a:lnTo>
                  <a:lnTo>
                    <a:pt x="634" y="26"/>
                  </a:lnTo>
                  <a:lnTo>
                    <a:pt x="648" y="34"/>
                  </a:lnTo>
                  <a:lnTo>
                    <a:pt x="662" y="46"/>
                  </a:lnTo>
                  <a:lnTo>
                    <a:pt x="662" y="46"/>
                  </a:lnTo>
                  <a:lnTo>
                    <a:pt x="676" y="58"/>
                  </a:lnTo>
                  <a:lnTo>
                    <a:pt x="688" y="72"/>
                  </a:lnTo>
                  <a:lnTo>
                    <a:pt x="698" y="88"/>
                  </a:lnTo>
                  <a:lnTo>
                    <a:pt x="704" y="104"/>
                  </a:lnTo>
                  <a:lnTo>
                    <a:pt x="712" y="120"/>
                  </a:lnTo>
                  <a:lnTo>
                    <a:pt x="716" y="138"/>
                  </a:lnTo>
                  <a:lnTo>
                    <a:pt x="718" y="158"/>
                  </a:lnTo>
                  <a:lnTo>
                    <a:pt x="720" y="178"/>
                  </a:lnTo>
                  <a:lnTo>
                    <a:pt x="720" y="178"/>
                  </a:lnTo>
                  <a:lnTo>
                    <a:pt x="718" y="204"/>
                  </a:lnTo>
                  <a:lnTo>
                    <a:pt x="712" y="234"/>
                  </a:lnTo>
                  <a:lnTo>
                    <a:pt x="702" y="268"/>
                  </a:lnTo>
                  <a:lnTo>
                    <a:pt x="690" y="308"/>
                  </a:lnTo>
                  <a:lnTo>
                    <a:pt x="674" y="352"/>
                  </a:lnTo>
                  <a:lnTo>
                    <a:pt x="654" y="402"/>
                  </a:lnTo>
                  <a:lnTo>
                    <a:pt x="632" y="456"/>
                  </a:lnTo>
                  <a:lnTo>
                    <a:pt x="606" y="514"/>
                  </a:lnTo>
                  <a:lnTo>
                    <a:pt x="606" y="514"/>
                  </a:lnTo>
                  <a:lnTo>
                    <a:pt x="784" y="600"/>
                  </a:lnTo>
                  <a:lnTo>
                    <a:pt x="784" y="600"/>
                  </a:lnTo>
                  <a:lnTo>
                    <a:pt x="804" y="556"/>
                  </a:lnTo>
                  <a:lnTo>
                    <a:pt x="822" y="516"/>
                  </a:lnTo>
                  <a:lnTo>
                    <a:pt x="836" y="476"/>
                  </a:lnTo>
                  <a:lnTo>
                    <a:pt x="848" y="440"/>
                  </a:lnTo>
                  <a:lnTo>
                    <a:pt x="858" y="406"/>
                  </a:lnTo>
                  <a:lnTo>
                    <a:pt x="866" y="374"/>
                  </a:lnTo>
                  <a:lnTo>
                    <a:pt x="870" y="344"/>
                  </a:lnTo>
                  <a:lnTo>
                    <a:pt x="870" y="318"/>
                  </a:lnTo>
                  <a:lnTo>
                    <a:pt x="870" y="318"/>
                  </a:lnTo>
                  <a:lnTo>
                    <a:pt x="870" y="304"/>
                  </a:lnTo>
                  <a:lnTo>
                    <a:pt x="864" y="284"/>
                  </a:lnTo>
                  <a:lnTo>
                    <a:pt x="864" y="284"/>
                  </a:lnTo>
                  <a:lnTo>
                    <a:pt x="858" y="264"/>
                  </a:lnTo>
                  <a:lnTo>
                    <a:pt x="856" y="250"/>
                  </a:lnTo>
                  <a:lnTo>
                    <a:pt x="856" y="250"/>
                  </a:lnTo>
                  <a:lnTo>
                    <a:pt x="858" y="238"/>
                  </a:lnTo>
                  <a:lnTo>
                    <a:pt x="860" y="230"/>
                  </a:lnTo>
                  <a:lnTo>
                    <a:pt x="864" y="222"/>
                  </a:lnTo>
                  <a:lnTo>
                    <a:pt x="868" y="216"/>
                  </a:lnTo>
                  <a:lnTo>
                    <a:pt x="876" y="210"/>
                  </a:lnTo>
                  <a:lnTo>
                    <a:pt x="884" y="206"/>
                  </a:lnTo>
                  <a:lnTo>
                    <a:pt x="894" y="204"/>
                  </a:lnTo>
                  <a:lnTo>
                    <a:pt x="906" y="204"/>
                  </a:lnTo>
                  <a:lnTo>
                    <a:pt x="906" y="204"/>
                  </a:lnTo>
                  <a:lnTo>
                    <a:pt x="920" y="204"/>
                  </a:lnTo>
                  <a:lnTo>
                    <a:pt x="932" y="208"/>
                  </a:lnTo>
                  <a:lnTo>
                    <a:pt x="944" y="214"/>
                  </a:lnTo>
                  <a:lnTo>
                    <a:pt x="958" y="222"/>
                  </a:lnTo>
                  <a:lnTo>
                    <a:pt x="970" y="232"/>
                  </a:lnTo>
                  <a:lnTo>
                    <a:pt x="982" y="244"/>
                  </a:lnTo>
                  <a:lnTo>
                    <a:pt x="994" y="260"/>
                  </a:lnTo>
                  <a:lnTo>
                    <a:pt x="1006" y="276"/>
                  </a:lnTo>
                  <a:lnTo>
                    <a:pt x="1006" y="276"/>
                  </a:lnTo>
                  <a:lnTo>
                    <a:pt x="1024" y="308"/>
                  </a:lnTo>
                  <a:lnTo>
                    <a:pt x="1038" y="340"/>
                  </a:lnTo>
                  <a:lnTo>
                    <a:pt x="1042" y="354"/>
                  </a:lnTo>
                  <a:lnTo>
                    <a:pt x="1046" y="370"/>
                  </a:lnTo>
                  <a:lnTo>
                    <a:pt x="1048" y="384"/>
                  </a:lnTo>
                  <a:lnTo>
                    <a:pt x="1048" y="398"/>
                  </a:lnTo>
                  <a:lnTo>
                    <a:pt x="1048" y="398"/>
                  </a:lnTo>
                  <a:lnTo>
                    <a:pt x="1048" y="422"/>
                  </a:lnTo>
                  <a:lnTo>
                    <a:pt x="1042" y="452"/>
                  </a:lnTo>
                  <a:lnTo>
                    <a:pt x="1034" y="486"/>
                  </a:lnTo>
                  <a:lnTo>
                    <a:pt x="1024" y="524"/>
                  </a:lnTo>
                  <a:lnTo>
                    <a:pt x="1010" y="566"/>
                  </a:lnTo>
                  <a:lnTo>
                    <a:pt x="992" y="612"/>
                  </a:lnTo>
                  <a:lnTo>
                    <a:pt x="972" y="664"/>
                  </a:lnTo>
                  <a:lnTo>
                    <a:pt x="950" y="718"/>
                  </a:lnTo>
                  <a:lnTo>
                    <a:pt x="950" y="718"/>
                  </a:lnTo>
                  <a:lnTo>
                    <a:pt x="1002" y="774"/>
                  </a:lnTo>
                  <a:lnTo>
                    <a:pt x="1020" y="794"/>
                  </a:lnTo>
                  <a:lnTo>
                    <a:pt x="1032" y="810"/>
                  </a:lnTo>
                  <a:lnTo>
                    <a:pt x="1032" y="810"/>
                  </a:lnTo>
                  <a:lnTo>
                    <a:pt x="1048" y="838"/>
                  </a:lnTo>
                  <a:lnTo>
                    <a:pt x="1060" y="868"/>
                  </a:lnTo>
                  <a:lnTo>
                    <a:pt x="1068" y="896"/>
                  </a:lnTo>
                  <a:lnTo>
                    <a:pt x="1070" y="926"/>
                  </a:lnTo>
                  <a:lnTo>
                    <a:pt x="1070" y="926"/>
                  </a:lnTo>
                  <a:close/>
                  <a:moveTo>
                    <a:pt x="368" y="572"/>
                  </a:moveTo>
                  <a:lnTo>
                    <a:pt x="368" y="572"/>
                  </a:lnTo>
                  <a:lnTo>
                    <a:pt x="322" y="566"/>
                  </a:lnTo>
                  <a:lnTo>
                    <a:pt x="280" y="564"/>
                  </a:lnTo>
                  <a:lnTo>
                    <a:pt x="280" y="564"/>
                  </a:lnTo>
                  <a:lnTo>
                    <a:pt x="242" y="566"/>
                  </a:lnTo>
                  <a:lnTo>
                    <a:pt x="206" y="572"/>
                  </a:lnTo>
                  <a:lnTo>
                    <a:pt x="188" y="576"/>
                  </a:lnTo>
                  <a:lnTo>
                    <a:pt x="172" y="582"/>
                  </a:lnTo>
                  <a:lnTo>
                    <a:pt x="156" y="588"/>
                  </a:lnTo>
                  <a:lnTo>
                    <a:pt x="142" y="596"/>
                  </a:lnTo>
                  <a:lnTo>
                    <a:pt x="142" y="596"/>
                  </a:lnTo>
                  <a:lnTo>
                    <a:pt x="126" y="606"/>
                  </a:lnTo>
                  <a:lnTo>
                    <a:pt x="112" y="618"/>
                  </a:lnTo>
                  <a:lnTo>
                    <a:pt x="100" y="630"/>
                  </a:lnTo>
                  <a:lnTo>
                    <a:pt x="90" y="644"/>
                  </a:lnTo>
                  <a:lnTo>
                    <a:pt x="82" y="658"/>
                  </a:lnTo>
                  <a:lnTo>
                    <a:pt x="76" y="674"/>
                  </a:lnTo>
                  <a:lnTo>
                    <a:pt x="72" y="692"/>
                  </a:lnTo>
                  <a:lnTo>
                    <a:pt x="72" y="710"/>
                  </a:lnTo>
                  <a:lnTo>
                    <a:pt x="72" y="710"/>
                  </a:lnTo>
                  <a:lnTo>
                    <a:pt x="74" y="726"/>
                  </a:lnTo>
                  <a:lnTo>
                    <a:pt x="78" y="742"/>
                  </a:lnTo>
                  <a:lnTo>
                    <a:pt x="84" y="758"/>
                  </a:lnTo>
                  <a:lnTo>
                    <a:pt x="94" y="772"/>
                  </a:lnTo>
                  <a:lnTo>
                    <a:pt x="94" y="772"/>
                  </a:lnTo>
                  <a:lnTo>
                    <a:pt x="106" y="786"/>
                  </a:lnTo>
                  <a:lnTo>
                    <a:pt x="118" y="794"/>
                  </a:lnTo>
                  <a:lnTo>
                    <a:pt x="132" y="800"/>
                  </a:lnTo>
                  <a:lnTo>
                    <a:pt x="148" y="802"/>
                  </a:lnTo>
                  <a:lnTo>
                    <a:pt x="148" y="802"/>
                  </a:lnTo>
                  <a:lnTo>
                    <a:pt x="158" y="800"/>
                  </a:lnTo>
                  <a:lnTo>
                    <a:pt x="168" y="798"/>
                  </a:lnTo>
                  <a:lnTo>
                    <a:pt x="178" y="794"/>
                  </a:lnTo>
                  <a:lnTo>
                    <a:pt x="190" y="786"/>
                  </a:lnTo>
                  <a:lnTo>
                    <a:pt x="214" y="768"/>
                  </a:lnTo>
                  <a:lnTo>
                    <a:pt x="240" y="744"/>
                  </a:lnTo>
                  <a:lnTo>
                    <a:pt x="268" y="712"/>
                  </a:lnTo>
                  <a:lnTo>
                    <a:pt x="300" y="672"/>
                  </a:lnTo>
                  <a:lnTo>
                    <a:pt x="332" y="626"/>
                  </a:lnTo>
                  <a:lnTo>
                    <a:pt x="368" y="572"/>
                  </a:lnTo>
                  <a:lnTo>
                    <a:pt x="368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3486240" y="40633200"/>
              <a:ext cx="1717560" cy="180684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1082" h="1138">
                  <a:moveTo>
                    <a:pt x="1082" y="512"/>
                  </a:moveTo>
                  <a:lnTo>
                    <a:pt x="1082" y="512"/>
                  </a:lnTo>
                  <a:lnTo>
                    <a:pt x="1080" y="524"/>
                  </a:lnTo>
                  <a:lnTo>
                    <a:pt x="1076" y="536"/>
                  </a:lnTo>
                  <a:lnTo>
                    <a:pt x="1072" y="548"/>
                  </a:lnTo>
                  <a:lnTo>
                    <a:pt x="1064" y="558"/>
                  </a:lnTo>
                  <a:lnTo>
                    <a:pt x="1064" y="558"/>
                  </a:lnTo>
                  <a:lnTo>
                    <a:pt x="1058" y="564"/>
                  </a:lnTo>
                  <a:lnTo>
                    <a:pt x="1046" y="570"/>
                  </a:lnTo>
                  <a:lnTo>
                    <a:pt x="1034" y="576"/>
                  </a:lnTo>
                  <a:lnTo>
                    <a:pt x="1016" y="580"/>
                  </a:lnTo>
                  <a:lnTo>
                    <a:pt x="972" y="590"/>
                  </a:lnTo>
                  <a:lnTo>
                    <a:pt x="914" y="598"/>
                  </a:lnTo>
                  <a:lnTo>
                    <a:pt x="914" y="598"/>
                  </a:lnTo>
                  <a:lnTo>
                    <a:pt x="830" y="606"/>
                  </a:lnTo>
                  <a:lnTo>
                    <a:pt x="762" y="616"/>
                  </a:lnTo>
                  <a:lnTo>
                    <a:pt x="706" y="626"/>
                  </a:lnTo>
                  <a:lnTo>
                    <a:pt x="666" y="634"/>
                  </a:lnTo>
                  <a:lnTo>
                    <a:pt x="666" y="634"/>
                  </a:lnTo>
                  <a:lnTo>
                    <a:pt x="630" y="644"/>
                  </a:lnTo>
                  <a:lnTo>
                    <a:pt x="596" y="654"/>
                  </a:lnTo>
                  <a:lnTo>
                    <a:pt x="566" y="668"/>
                  </a:lnTo>
                  <a:lnTo>
                    <a:pt x="538" y="682"/>
                  </a:lnTo>
                  <a:lnTo>
                    <a:pt x="512" y="698"/>
                  </a:lnTo>
                  <a:lnTo>
                    <a:pt x="490" y="714"/>
                  </a:lnTo>
                  <a:lnTo>
                    <a:pt x="468" y="732"/>
                  </a:lnTo>
                  <a:lnTo>
                    <a:pt x="450" y="752"/>
                  </a:lnTo>
                  <a:lnTo>
                    <a:pt x="450" y="752"/>
                  </a:lnTo>
                  <a:lnTo>
                    <a:pt x="436" y="772"/>
                  </a:lnTo>
                  <a:lnTo>
                    <a:pt x="428" y="792"/>
                  </a:lnTo>
                  <a:lnTo>
                    <a:pt x="422" y="816"/>
                  </a:lnTo>
                  <a:lnTo>
                    <a:pt x="420" y="840"/>
                  </a:lnTo>
                  <a:lnTo>
                    <a:pt x="420" y="840"/>
                  </a:lnTo>
                  <a:lnTo>
                    <a:pt x="420" y="854"/>
                  </a:lnTo>
                  <a:lnTo>
                    <a:pt x="424" y="868"/>
                  </a:lnTo>
                  <a:lnTo>
                    <a:pt x="430" y="880"/>
                  </a:lnTo>
                  <a:lnTo>
                    <a:pt x="438" y="892"/>
                  </a:lnTo>
                  <a:lnTo>
                    <a:pt x="448" y="902"/>
                  </a:lnTo>
                  <a:lnTo>
                    <a:pt x="460" y="912"/>
                  </a:lnTo>
                  <a:lnTo>
                    <a:pt x="474" y="922"/>
                  </a:lnTo>
                  <a:lnTo>
                    <a:pt x="492" y="930"/>
                  </a:lnTo>
                  <a:lnTo>
                    <a:pt x="492" y="930"/>
                  </a:lnTo>
                  <a:lnTo>
                    <a:pt x="520" y="940"/>
                  </a:lnTo>
                  <a:lnTo>
                    <a:pt x="550" y="946"/>
                  </a:lnTo>
                  <a:lnTo>
                    <a:pt x="582" y="950"/>
                  </a:lnTo>
                  <a:lnTo>
                    <a:pt x="616" y="952"/>
                  </a:lnTo>
                  <a:lnTo>
                    <a:pt x="616" y="952"/>
                  </a:lnTo>
                  <a:lnTo>
                    <a:pt x="656" y="950"/>
                  </a:lnTo>
                  <a:lnTo>
                    <a:pt x="696" y="948"/>
                  </a:lnTo>
                  <a:lnTo>
                    <a:pt x="738" y="942"/>
                  </a:lnTo>
                  <a:lnTo>
                    <a:pt x="782" y="934"/>
                  </a:lnTo>
                  <a:lnTo>
                    <a:pt x="782" y="934"/>
                  </a:lnTo>
                  <a:lnTo>
                    <a:pt x="828" y="926"/>
                  </a:lnTo>
                  <a:lnTo>
                    <a:pt x="852" y="924"/>
                  </a:lnTo>
                  <a:lnTo>
                    <a:pt x="852" y="924"/>
                  </a:lnTo>
                  <a:lnTo>
                    <a:pt x="870" y="926"/>
                  </a:lnTo>
                  <a:lnTo>
                    <a:pt x="888" y="932"/>
                  </a:lnTo>
                  <a:lnTo>
                    <a:pt x="910" y="942"/>
                  </a:lnTo>
                  <a:lnTo>
                    <a:pt x="930" y="956"/>
                  </a:lnTo>
                  <a:lnTo>
                    <a:pt x="930" y="956"/>
                  </a:lnTo>
                  <a:lnTo>
                    <a:pt x="950" y="972"/>
                  </a:lnTo>
                  <a:lnTo>
                    <a:pt x="962" y="988"/>
                  </a:lnTo>
                  <a:lnTo>
                    <a:pt x="968" y="998"/>
                  </a:lnTo>
                  <a:lnTo>
                    <a:pt x="972" y="1006"/>
                  </a:lnTo>
                  <a:lnTo>
                    <a:pt x="974" y="1014"/>
                  </a:lnTo>
                  <a:lnTo>
                    <a:pt x="974" y="1022"/>
                  </a:lnTo>
                  <a:lnTo>
                    <a:pt x="974" y="1022"/>
                  </a:lnTo>
                  <a:lnTo>
                    <a:pt x="972" y="1038"/>
                  </a:lnTo>
                  <a:lnTo>
                    <a:pt x="964" y="1052"/>
                  </a:lnTo>
                  <a:lnTo>
                    <a:pt x="954" y="1066"/>
                  </a:lnTo>
                  <a:lnTo>
                    <a:pt x="938" y="1078"/>
                  </a:lnTo>
                  <a:lnTo>
                    <a:pt x="918" y="1090"/>
                  </a:lnTo>
                  <a:lnTo>
                    <a:pt x="892" y="1100"/>
                  </a:lnTo>
                  <a:lnTo>
                    <a:pt x="864" y="1110"/>
                  </a:lnTo>
                  <a:lnTo>
                    <a:pt x="830" y="1118"/>
                  </a:lnTo>
                  <a:lnTo>
                    <a:pt x="830" y="1118"/>
                  </a:lnTo>
                  <a:lnTo>
                    <a:pt x="784" y="1126"/>
                  </a:lnTo>
                  <a:lnTo>
                    <a:pt x="736" y="1132"/>
                  </a:lnTo>
                  <a:lnTo>
                    <a:pt x="686" y="1136"/>
                  </a:lnTo>
                  <a:lnTo>
                    <a:pt x="636" y="1138"/>
                  </a:lnTo>
                  <a:lnTo>
                    <a:pt x="636" y="1138"/>
                  </a:lnTo>
                  <a:lnTo>
                    <a:pt x="578" y="1136"/>
                  </a:lnTo>
                  <a:lnTo>
                    <a:pt x="526" y="1130"/>
                  </a:lnTo>
                  <a:lnTo>
                    <a:pt x="502" y="1124"/>
                  </a:lnTo>
                  <a:lnTo>
                    <a:pt x="478" y="1120"/>
                  </a:lnTo>
                  <a:lnTo>
                    <a:pt x="454" y="1112"/>
                  </a:lnTo>
                  <a:lnTo>
                    <a:pt x="434" y="1104"/>
                  </a:lnTo>
                  <a:lnTo>
                    <a:pt x="412" y="1096"/>
                  </a:lnTo>
                  <a:lnTo>
                    <a:pt x="394" y="1086"/>
                  </a:lnTo>
                  <a:lnTo>
                    <a:pt x="376" y="1076"/>
                  </a:lnTo>
                  <a:lnTo>
                    <a:pt x="358" y="1064"/>
                  </a:lnTo>
                  <a:lnTo>
                    <a:pt x="342" y="1052"/>
                  </a:lnTo>
                  <a:lnTo>
                    <a:pt x="326" y="1038"/>
                  </a:lnTo>
                  <a:lnTo>
                    <a:pt x="312" y="1024"/>
                  </a:lnTo>
                  <a:lnTo>
                    <a:pt x="298" y="1008"/>
                  </a:lnTo>
                  <a:lnTo>
                    <a:pt x="298" y="1008"/>
                  </a:lnTo>
                  <a:lnTo>
                    <a:pt x="288" y="992"/>
                  </a:lnTo>
                  <a:lnTo>
                    <a:pt x="278" y="976"/>
                  </a:lnTo>
                  <a:lnTo>
                    <a:pt x="270" y="960"/>
                  </a:lnTo>
                  <a:lnTo>
                    <a:pt x="264" y="944"/>
                  </a:lnTo>
                  <a:lnTo>
                    <a:pt x="258" y="930"/>
                  </a:lnTo>
                  <a:lnTo>
                    <a:pt x="254" y="914"/>
                  </a:lnTo>
                  <a:lnTo>
                    <a:pt x="252" y="898"/>
                  </a:lnTo>
                  <a:lnTo>
                    <a:pt x="252" y="882"/>
                  </a:lnTo>
                  <a:lnTo>
                    <a:pt x="252" y="882"/>
                  </a:lnTo>
                  <a:lnTo>
                    <a:pt x="254" y="848"/>
                  </a:lnTo>
                  <a:lnTo>
                    <a:pt x="260" y="818"/>
                  </a:lnTo>
                  <a:lnTo>
                    <a:pt x="268" y="786"/>
                  </a:lnTo>
                  <a:lnTo>
                    <a:pt x="280" y="758"/>
                  </a:lnTo>
                  <a:lnTo>
                    <a:pt x="296" y="730"/>
                  </a:lnTo>
                  <a:lnTo>
                    <a:pt x="316" y="704"/>
                  </a:lnTo>
                  <a:lnTo>
                    <a:pt x="340" y="680"/>
                  </a:lnTo>
                  <a:lnTo>
                    <a:pt x="366" y="658"/>
                  </a:lnTo>
                  <a:lnTo>
                    <a:pt x="366" y="658"/>
                  </a:lnTo>
                  <a:lnTo>
                    <a:pt x="288" y="668"/>
                  </a:lnTo>
                  <a:lnTo>
                    <a:pt x="220" y="674"/>
                  </a:lnTo>
                  <a:lnTo>
                    <a:pt x="164" y="680"/>
                  </a:lnTo>
                  <a:lnTo>
                    <a:pt x="122" y="680"/>
                  </a:lnTo>
                  <a:lnTo>
                    <a:pt x="122" y="680"/>
                  </a:lnTo>
                  <a:lnTo>
                    <a:pt x="102" y="680"/>
                  </a:lnTo>
                  <a:lnTo>
                    <a:pt x="82" y="678"/>
                  </a:lnTo>
                  <a:lnTo>
                    <a:pt x="64" y="672"/>
                  </a:lnTo>
                  <a:lnTo>
                    <a:pt x="46" y="666"/>
                  </a:lnTo>
                  <a:lnTo>
                    <a:pt x="46" y="666"/>
                  </a:lnTo>
                  <a:lnTo>
                    <a:pt x="26" y="656"/>
                  </a:lnTo>
                  <a:lnTo>
                    <a:pt x="18" y="650"/>
                  </a:lnTo>
                  <a:lnTo>
                    <a:pt x="12" y="644"/>
                  </a:lnTo>
                  <a:lnTo>
                    <a:pt x="8" y="636"/>
                  </a:lnTo>
                  <a:lnTo>
                    <a:pt x="4" y="630"/>
                  </a:lnTo>
                  <a:lnTo>
                    <a:pt x="2" y="622"/>
                  </a:lnTo>
                  <a:lnTo>
                    <a:pt x="0" y="612"/>
                  </a:lnTo>
                  <a:lnTo>
                    <a:pt x="0" y="612"/>
                  </a:lnTo>
                  <a:lnTo>
                    <a:pt x="2" y="604"/>
                  </a:lnTo>
                  <a:lnTo>
                    <a:pt x="4" y="596"/>
                  </a:lnTo>
                  <a:lnTo>
                    <a:pt x="6" y="588"/>
                  </a:lnTo>
                  <a:lnTo>
                    <a:pt x="12" y="582"/>
                  </a:lnTo>
                  <a:lnTo>
                    <a:pt x="26" y="566"/>
                  </a:lnTo>
                  <a:lnTo>
                    <a:pt x="44" y="554"/>
                  </a:lnTo>
                  <a:lnTo>
                    <a:pt x="44" y="554"/>
                  </a:lnTo>
                  <a:lnTo>
                    <a:pt x="62" y="544"/>
                  </a:lnTo>
                  <a:lnTo>
                    <a:pt x="80" y="536"/>
                  </a:lnTo>
                  <a:lnTo>
                    <a:pt x="98" y="530"/>
                  </a:lnTo>
                  <a:lnTo>
                    <a:pt x="118" y="530"/>
                  </a:lnTo>
                  <a:lnTo>
                    <a:pt x="118" y="530"/>
                  </a:lnTo>
                  <a:lnTo>
                    <a:pt x="124" y="530"/>
                  </a:lnTo>
                  <a:lnTo>
                    <a:pt x="130" y="536"/>
                  </a:lnTo>
                  <a:lnTo>
                    <a:pt x="130" y="536"/>
                  </a:lnTo>
                  <a:lnTo>
                    <a:pt x="144" y="540"/>
                  </a:lnTo>
                  <a:lnTo>
                    <a:pt x="144" y="540"/>
                  </a:lnTo>
                  <a:lnTo>
                    <a:pt x="142" y="540"/>
                  </a:lnTo>
                  <a:lnTo>
                    <a:pt x="144" y="538"/>
                  </a:lnTo>
                  <a:lnTo>
                    <a:pt x="156" y="534"/>
                  </a:lnTo>
                  <a:lnTo>
                    <a:pt x="216" y="518"/>
                  </a:lnTo>
                  <a:lnTo>
                    <a:pt x="216" y="518"/>
                  </a:lnTo>
                  <a:lnTo>
                    <a:pt x="458" y="462"/>
                  </a:lnTo>
                  <a:lnTo>
                    <a:pt x="458" y="462"/>
                  </a:lnTo>
                  <a:lnTo>
                    <a:pt x="530" y="396"/>
                  </a:lnTo>
                  <a:lnTo>
                    <a:pt x="594" y="338"/>
                  </a:lnTo>
                  <a:lnTo>
                    <a:pt x="648" y="286"/>
                  </a:lnTo>
                  <a:lnTo>
                    <a:pt x="692" y="240"/>
                  </a:lnTo>
                  <a:lnTo>
                    <a:pt x="726" y="200"/>
                  </a:lnTo>
                  <a:lnTo>
                    <a:pt x="752" y="168"/>
                  </a:lnTo>
                  <a:lnTo>
                    <a:pt x="760" y="154"/>
                  </a:lnTo>
                  <a:lnTo>
                    <a:pt x="766" y="142"/>
                  </a:lnTo>
                  <a:lnTo>
                    <a:pt x="770" y="132"/>
                  </a:lnTo>
                  <a:lnTo>
                    <a:pt x="772" y="124"/>
                  </a:lnTo>
                  <a:lnTo>
                    <a:pt x="772" y="124"/>
                  </a:lnTo>
                  <a:lnTo>
                    <a:pt x="770" y="114"/>
                  </a:lnTo>
                  <a:lnTo>
                    <a:pt x="768" y="104"/>
                  </a:lnTo>
                  <a:lnTo>
                    <a:pt x="764" y="98"/>
                  </a:lnTo>
                  <a:lnTo>
                    <a:pt x="758" y="92"/>
                  </a:lnTo>
                  <a:lnTo>
                    <a:pt x="752" y="86"/>
                  </a:lnTo>
                  <a:lnTo>
                    <a:pt x="744" y="84"/>
                  </a:lnTo>
                  <a:lnTo>
                    <a:pt x="734" y="82"/>
                  </a:lnTo>
                  <a:lnTo>
                    <a:pt x="722" y="80"/>
                  </a:lnTo>
                  <a:lnTo>
                    <a:pt x="722" y="80"/>
                  </a:lnTo>
                  <a:lnTo>
                    <a:pt x="704" y="82"/>
                  </a:lnTo>
                  <a:lnTo>
                    <a:pt x="688" y="88"/>
                  </a:lnTo>
                  <a:lnTo>
                    <a:pt x="670" y="96"/>
                  </a:lnTo>
                  <a:lnTo>
                    <a:pt x="652" y="106"/>
                  </a:lnTo>
                  <a:lnTo>
                    <a:pt x="634" y="122"/>
                  </a:lnTo>
                  <a:lnTo>
                    <a:pt x="616" y="140"/>
                  </a:lnTo>
                  <a:lnTo>
                    <a:pt x="598" y="162"/>
                  </a:lnTo>
                  <a:lnTo>
                    <a:pt x="578" y="186"/>
                  </a:lnTo>
                  <a:lnTo>
                    <a:pt x="578" y="186"/>
                  </a:lnTo>
                  <a:lnTo>
                    <a:pt x="516" y="284"/>
                  </a:lnTo>
                  <a:lnTo>
                    <a:pt x="454" y="382"/>
                  </a:lnTo>
                  <a:lnTo>
                    <a:pt x="454" y="382"/>
                  </a:lnTo>
                  <a:lnTo>
                    <a:pt x="434" y="406"/>
                  </a:lnTo>
                  <a:lnTo>
                    <a:pt x="416" y="428"/>
                  </a:lnTo>
                  <a:lnTo>
                    <a:pt x="398" y="446"/>
                  </a:lnTo>
                  <a:lnTo>
                    <a:pt x="380" y="460"/>
                  </a:lnTo>
                  <a:lnTo>
                    <a:pt x="362" y="472"/>
                  </a:lnTo>
                  <a:lnTo>
                    <a:pt x="344" y="480"/>
                  </a:lnTo>
                  <a:lnTo>
                    <a:pt x="328" y="486"/>
                  </a:lnTo>
                  <a:lnTo>
                    <a:pt x="310" y="488"/>
                  </a:lnTo>
                  <a:lnTo>
                    <a:pt x="310" y="488"/>
                  </a:lnTo>
                  <a:lnTo>
                    <a:pt x="296" y="486"/>
                  </a:lnTo>
                  <a:lnTo>
                    <a:pt x="282" y="484"/>
                  </a:lnTo>
                  <a:lnTo>
                    <a:pt x="270" y="482"/>
                  </a:lnTo>
                  <a:lnTo>
                    <a:pt x="258" y="476"/>
                  </a:lnTo>
                  <a:lnTo>
                    <a:pt x="246" y="470"/>
                  </a:lnTo>
                  <a:lnTo>
                    <a:pt x="236" y="462"/>
                  </a:lnTo>
                  <a:lnTo>
                    <a:pt x="226" y="454"/>
                  </a:lnTo>
                  <a:lnTo>
                    <a:pt x="216" y="444"/>
                  </a:lnTo>
                  <a:lnTo>
                    <a:pt x="216" y="444"/>
                  </a:lnTo>
                  <a:lnTo>
                    <a:pt x="206" y="428"/>
                  </a:lnTo>
                  <a:lnTo>
                    <a:pt x="194" y="408"/>
                  </a:lnTo>
                  <a:lnTo>
                    <a:pt x="182" y="380"/>
                  </a:lnTo>
                  <a:lnTo>
                    <a:pt x="170" y="348"/>
                  </a:lnTo>
                  <a:lnTo>
                    <a:pt x="170" y="348"/>
                  </a:lnTo>
                  <a:lnTo>
                    <a:pt x="156" y="316"/>
                  </a:lnTo>
                  <a:lnTo>
                    <a:pt x="144" y="290"/>
                  </a:lnTo>
                  <a:lnTo>
                    <a:pt x="134" y="268"/>
                  </a:lnTo>
                  <a:lnTo>
                    <a:pt x="122" y="252"/>
                  </a:lnTo>
                  <a:lnTo>
                    <a:pt x="122" y="252"/>
                  </a:lnTo>
                  <a:lnTo>
                    <a:pt x="112" y="236"/>
                  </a:lnTo>
                  <a:lnTo>
                    <a:pt x="104" y="224"/>
                  </a:lnTo>
                  <a:lnTo>
                    <a:pt x="100" y="212"/>
                  </a:lnTo>
                  <a:lnTo>
                    <a:pt x="98" y="204"/>
                  </a:lnTo>
                  <a:lnTo>
                    <a:pt x="98" y="204"/>
                  </a:lnTo>
                  <a:lnTo>
                    <a:pt x="100" y="188"/>
                  </a:lnTo>
                  <a:lnTo>
                    <a:pt x="104" y="176"/>
                  </a:lnTo>
                  <a:lnTo>
                    <a:pt x="108" y="164"/>
                  </a:lnTo>
                  <a:lnTo>
                    <a:pt x="116" y="156"/>
                  </a:lnTo>
                  <a:lnTo>
                    <a:pt x="126" y="148"/>
                  </a:lnTo>
                  <a:lnTo>
                    <a:pt x="138" y="144"/>
                  </a:lnTo>
                  <a:lnTo>
                    <a:pt x="152" y="140"/>
                  </a:lnTo>
                  <a:lnTo>
                    <a:pt x="170" y="140"/>
                  </a:lnTo>
                  <a:lnTo>
                    <a:pt x="170" y="140"/>
                  </a:lnTo>
                  <a:lnTo>
                    <a:pt x="182" y="140"/>
                  </a:lnTo>
                  <a:lnTo>
                    <a:pt x="194" y="142"/>
                  </a:lnTo>
                  <a:lnTo>
                    <a:pt x="206" y="146"/>
                  </a:lnTo>
                  <a:lnTo>
                    <a:pt x="218" y="150"/>
                  </a:lnTo>
                  <a:lnTo>
                    <a:pt x="228" y="156"/>
                  </a:lnTo>
                  <a:lnTo>
                    <a:pt x="238" y="164"/>
                  </a:lnTo>
                  <a:lnTo>
                    <a:pt x="246" y="174"/>
                  </a:lnTo>
                  <a:lnTo>
                    <a:pt x="256" y="184"/>
                  </a:lnTo>
                  <a:lnTo>
                    <a:pt x="256" y="184"/>
                  </a:lnTo>
                  <a:lnTo>
                    <a:pt x="276" y="218"/>
                  </a:lnTo>
                  <a:lnTo>
                    <a:pt x="302" y="270"/>
                  </a:lnTo>
                  <a:lnTo>
                    <a:pt x="302" y="270"/>
                  </a:lnTo>
                  <a:lnTo>
                    <a:pt x="312" y="290"/>
                  </a:lnTo>
                  <a:lnTo>
                    <a:pt x="320" y="306"/>
                  </a:lnTo>
                  <a:lnTo>
                    <a:pt x="328" y="314"/>
                  </a:lnTo>
                  <a:lnTo>
                    <a:pt x="332" y="316"/>
                  </a:lnTo>
                  <a:lnTo>
                    <a:pt x="336" y="318"/>
                  </a:lnTo>
                  <a:lnTo>
                    <a:pt x="336" y="318"/>
                  </a:lnTo>
                  <a:lnTo>
                    <a:pt x="344" y="316"/>
                  </a:lnTo>
                  <a:lnTo>
                    <a:pt x="352" y="312"/>
                  </a:lnTo>
                  <a:lnTo>
                    <a:pt x="360" y="306"/>
                  </a:lnTo>
                  <a:lnTo>
                    <a:pt x="370" y="296"/>
                  </a:lnTo>
                  <a:lnTo>
                    <a:pt x="392" y="272"/>
                  </a:lnTo>
                  <a:lnTo>
                    <a:pt x="420" y="236"/>
                  </a:lnTo>
                  <a:lnTo>
                    <a:pt x="420" y="236"/>
                  </a:lnTo>
                  <a:lnTo>
                    <a:pt x="458" y="186"/>
                  </a:lnTo>
                  <a:lnTo>
                    <a:pt x="492" y="144"/>
                  </a:lnTo>
                  <a:lnTo>
                    <a:pt x="526" y="110"/>
                  </a:lnTo>
                  <a:lnTo>
                    <a:pt x="556" y="82"/>
                  </a:lnTo>
                  <a:lnTo>
                    <a:pt x="556" y="82"/>
                  </a:lnTo>
                  <a:lnTo>
                    <a:pt x="582" y="62"/>
                  </a:lnTo>
                  <a:lnTo>
                    <a:pt x="608" y="46"/>
                  </a:lnTo>
                  <a:lnTo>
                    <a:pt x="634" y="32"/>
                  </a:lnTo>
                  <a:lnTo>
                    <a:pt x="662" y="22"/>
                  </a:lnTo>
                  <a:lnTo>
                    <a:pt x="692" y="12"/>
                  </a:lnTo>
                  <a:lnTo>
                    <a:pt x="720" y="6"/>
                  </a:lnTo>
                  <a:lnTo>
                    <a:pt x="750" y="2"/>
                  </a:lnTo>
                  <a:lnTo>
                    <a:pt x="782" y="0"/>
                  </a:lnTo>
                  <a:lnTo>
                    <a:pt x="782" y="0"/>
                  </a:lnTo>
                  <a:lnTo>
                    <a:pt x="798" y="2"/>
                  </a:lnTo>
                  <a:lnTo>
                    <a:pt x="814" y="4"/>
                  </a:lnTo>
                  <a:lnTo>
                    <a:pt x="830" y="8"/>
                  </a:lnTo>
                  <a:lnTo>
                    <a:pt x="846" y="12"/>
                  </a:lnTo>
                  <a:lnTo>
                    <a:pt x="862" y="18"/>
                  </a:lnTo>
                  <a:lnTo>
                    <a:pt x="878" y="26"/>
                  </a:lnTo>
                  <a:lnTo>
                    <a:pt x="892" y="36"/>
                  </a:lnTo>
                  <a:lnTo>
                    <a:pt x="908" y="46"/>
                  </a:lnTo>
                  <a:lnTo>
                    <a:pt x="908" y="46"/>
                  </a:lnTo>
                  <a:lnTo>
                    <a:pt x="922" y="60"/>
                  </a:lnTo>
                  <a:lnTo>
                    <a:pt x="934" y="72"/>
                  </a:lnTo>
                  <a:lnTo>
                    <a:pt x="944" y="86"/>
                  </a:lnTo>
                  <a:lnTo>
                    <a:pt x="952" y="100"/>
                  </a:lnTo>
                  <a:lnTo>
                    <a:pt x="958" y="114"/>
                  </a:lnTo>
                  <a:lnTo>
                    <a:pt x="964" y="130"/>
                  </a:lnTo>
                  <a:lnTo>
                    <a:pt x="966" y="146"/>
                  </a:lnTo>
                  <a:lnTo>
                    <a:pt x="968" y="162"/>
                  </a:lnTo>
                  <a:lnTo>
                    <a:pt x="968" y="162"/>
                  </a:lnTo>
                  <a:lnTo>
                    <a:pt x="966" y="176"/>
                  </a:lnTo>
                  <a:lnTo>
                    <a:pt x="964" y="190"/>
                  </a:lnTo>
                  <a:lnTo>
                    <a:pt x="958" y="204"/>
                  </a:lnTo>
                  <a:lnTo>
                    <a:pt x="950" y="218"/>
                  </a:lnTo>
                  <a:lnTo>
                    <a:pt x="942" y="232"/>
                  </a:lnTo>
                  <a:lnTo>
                    <a:pt x="930" y="248"/>
                  </a:lnTo>
                  <a:lnTo>
                    <a:pt x="916" y="262"/>
                  </a:lnTo>
                  <a:lnTo>
                    <a:pt x="902" y="278"/>
                  </a:lnTo>
                  <a:lnTo>
                    <a:pt x="864" y="310"/>
                  </a:lnTo>
                  <a:lnTo>
                    <a:pt x="818" y="344"/>
                  </a:lnTo>
                  <a:lnTo>
                    <a:pt x="764" y="380"/>
                  </a:lnTo>
                  <a:lnTo>
                    <a:pt x="704" y="416"/>
                  </a:lnTo>
                  <a:lnTo>
                    <a:pt x="704" y="416"/>
                  </a:lnTo>
                  <a:lnTo>
                    <a:pt x="794" y="406"/>
                  </a:lnTo>
                  <a:lnTo>
                    <a:pt x="834" y="404"/>
                  </a:lnTo>
                  <a:lnTo>
                    <a:pt x="870" y="402"/>
                  </a:lnTo>
                  <a:lnTo>
                    <a:pt x="870" y="402"/>
                  </a:lnTo>
                  <a:lnTo>
                    <a:pt x="906" y="404"/>
                  </a:lnTo>
                  <a:lnTo>
                    <a:pt x="940" y="408"/>
                  </a:lnTo>
                  <a:lnTo>
                    <a:pt x="970" y="414"/>
                  </a:lnTo>
                  <a:lnTo>
                    <a:pt x="1000" y="424"/>
                  </a:lnTo>
                  <a:lnTo>
                    <a:pt x="1000" y="424"/>
                  </a:lnTo>
                  <a:lnTo>
                    <a:pt x="1018" y="432"/>
                  </a:lnTo>
                  <a:lnTo>
                    <a:pt x="1036" y="440"/>
                  </a:lnTo>
                  <a:lnTo>
                    <a:pt x="1050" y="450"/>
                  </a:lnTo>
                  <a:lnTo>
                    <a:pt x="1060" y="460"/>
                  </a:lnTo>
                  <a:lnTo>
                    <a:pt x="1070" y="472"/>
                  </a:lnTo>
                  <a:lnTo>
                    <a:pt x="1076" y="484"/>
                  </a:lnTo>
                  <a:lnTo>
                    <a:pt x="1080" y="498"/>
                  </a:lnTo>
                  <a:lnTo>
                    <a:pt x="1082" y="512"/>
                  </a:lnTo>
                  <a:lnTo>
                    <a:pt x="1082" y="5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5276880" y="40579560"/>
              <a:ext cx="1866960" cy="1933560"/>
            </a:xfrm>
            <a:custGeom>
              <a:avLst/>
              <a:gdLst>
                <a:gd name="textAreaLeft" fmla="*/ 0 w 1866960"/>
                <a:gd name="textAreaRight" fmla="*/ 1867320 w 1866960"/>
                <a:gd name="textAreaTop" fmla="*/ 0 h 1933560"/>
                <a:gd name="textAreaBottom" fmla="*/ 1933920 h 1933560"/>
              </a:gdLst>
              <a:ahLst/>
              <a:rect l="textAreaLeft" t="textAreaTop" r="textAreaRight" b="textAreaBottom"/>
              <a:pathLst>
                <a:path w="1176" h="1218">
                  <a:moveTo>
                    <a:pt x="124" y="30"/>
                  </a:moveTo>
                  <a:lnTo>
                    <a:pt x="124" y="30"/>
                  </a:lnTo>
                  <a:lnTo>
                    <a:pt x="144" y="32"/>
                  </a:lnTo>
                  <a:lnTo>
                    <a:pt x="166" y="38"/>
                  </a:lnTo>
                  <a:lnTo>
                    <a:pt x="190" y="46"/>
                  </a:lnTo>
                  <a:lnTo>
                    <a:pt x="216" y="56"/>
                  </a:lnTo>
                  <a:lnTo>
                    <a:pt x="242" y="72"/>
                  </a:lnTo>
                  <a:lnTo>
                    <a:pt x="268" y="90"/>
                  </a:lnTo>
                  <a:lnTo>
                    <a:pt x="298" y="110"/>
                  </a:lnTo>
                  <a:lnTo>
                    <a:pt x="328" y="136"/>
                  </a:lnTo>
                  <a:lnTo>
                    <a:pt x="328" y="136"/>
                  </a:lnTo>
                  <a:lnTo>
                    <a:pt x="346" y="152"/>
                  </a:lnTo>
                  <a:lnTo>
                    <a:pt x="364" y="170"/>
                  </a:lnTo>
                  <a:lnTo>
                    <a:pt x="378" y="188"/>
                  </a:lnTo>
                  <a:lnTo>
                    <a:pt x="388" y="204"/>
                  </a:lnTo>
                  <a:lnTo>
                    <a:pt x="398" y="222"/>
                  </a:lnTo>
                  <a:lnTo>
                    <a:pt x="404" y="238"/>
                  </a:lnTo>
                  <a:lnTo>
                    <a:pt x="408" y="254"/>
                  </a:lnTo>
                  <a:lnTo>
                    <a:pt x="410" y="272"/>
                  </a:lnTo>
                  <a:lnTo>
                    <a:pt x="410" y="272"/>
                  </a:lnTo>
                  <a:lnTo>
                    <a:pt x="408" y="280"/>
                  </a:lnTo>
                  <a:lnTo>
                    <a:pt x="406" y="286"/>
                  </a:lnTo>
                  <a:lnTo>
                    <a:pt x="400" y="294"/>
                  </a:lnTo>
                  <a:lnTo>
                    <a:pt x="394" y="302"/>
                  </a:lnTo>
                  <a:lnTo>
                    <a:pt x="394" y="302"/>
                  </a:lnTo>
                  <a:lnTo>
                    <a:pt x="394" y="338"/>
                  </a:lnTo>
                  <a:lnTo>
                    <a:pt x="396" y="502"/>
                  </a:lnTo>
                  <a:lnTo>
                    <a:pt x="396" y="502"/>
                  </a:lnTo>
                  <a:lnTo>
                    <a:pt x="412" y="488"/>
                  </a:lnTo>
                  <a:lnTo>
                    <a:pt x="412" y="488"/>
                  </a:lnTo>
                  <a:lnTo>
                    <a:pt x="426" y="480"/>
                  </a:lnTo>
                  <a:lnTo>
                    <a:pt x="442" y="474"/>
                  </a:lnTo>
                  <a:lnTo>
                    <a:pt x="458" y="472"/>
                  </a:lnTo>
                  <a:lnTo>
                    <a:pt x="476" y="470"/>
                  </a:lnTo>
                  <a:lnTo>
                    <a:pt x="476" y="470"/>
                  </a:lnTo>
                  <a:lnTo>
                    <a:pt x="494" y="472"/>
                  </a:lnTo>
                  <a:lnTo>
                    <a:pt x="494" y="472"/>
                  </a:lnTo>
                  <a:lnTo>
                    <a:pt x="516" y="476"/>
                  </a:lnTo>
                  <a:lnTo>
                    <a:pt x="516" y="476"/>
                  </a:lnTo>
                  <a:lnTo>
                    <a:pt x="522" y="474"/>
                  </a:lnTo>
                  <a:lnTo>
                    <a:pt x="532" y="472"/>
                  </a:lnTo>
                  <a:lnTo>
                    <a:pt x="560" y="458"/>
                  </a:lnTo>
                  <a:lnTo>
                    <a:pt x="600" y="438"/>
                  </a:lnTo>
                  <a:lnTo>
                    <a:pt x="654" y="408"/>
                  </a:lnTo>
                  <a:lnTo>
                    <a:pt x="654" y="266"/>
                  </a:lnTo>
                  <a:lnTo>
                    <a:pt x="654" y="266"/>
                  </a:lnTo>
                  <a:lnTo>
                    <a:pt x="654" y="240"/>
                  </a:lnTo>
                  <a:lnTo>
                    <a:pt x="652" y="216"/>
                  </a:lnTo>
                  <a:lnTo>
                    <a:pt x="648" y="194"/>
                  </a:lnTo>
                  <a:lnTo>
                    <a:pt x="644" y="174"/>
                  </a:lnTo>
                  <a:lnTo>
                    <a:pt x="638" y="154"/>
                  </a:lnTo>
                  <a:lnTo>
                    <a:pt x="632" y="138"/>
                  </a:lnTo>
                  <a:lnTo>
                    <a:pt x="624" y="122"/>
                  </a:lnTo>
                  <a:lnTo>
                    <a:pt x="614" y="110"/>
                  </a:lnTo>
                  <a:lnTo>
                    <a:pt x="614" y="110"/>
                  </a:lnTo>
                  <a:lnTo>
                    <a:pt x="606" y="96"/>
                  </a:lnTo>
                  <a:lnTo>
                    <a:pt x="598" y="84"/>
                  </a:lnTo>
                  <a:lnTo>
                    <a:pt x="594" y="74"/>
                  </a:lnTo>
                  <a:lnTo>
                    <a:pt x="592" y="66"/>
                  </a:lnTo>
                  <a:lnTo>
                    <a:pt x="592" y="66"/>
                  </a:lnTo>
                  <a:lnTo>
                    <a:pt x="594" y="50"/>
                  </a:lnTo>
                  <a:lnTo>
                    <a:pt x="598" y="38"/>
                  </a:lnTo>
                  <a:lnTo>
                    <a:pt x="602" y="26"/>
                  </a:lnTo>
                  <a:lnTo>
                    <a:pt x="610" y="18"/>
                  </a:lnTo>
                  <a:lnTo>
                    <a:pt x="620" y="10"/>
                  </a:lnTo>
                  <a:lnTo>
                    <a:pt x="632" y="4"/>
                  </a:lnTo>
                  <a:lnTo>
                    <a:pt x="648" y="2"/>
                  </a:lnTo>
                  <a:lnTo>
                    <a:pt x="664" y="0"/>
                  </a:lnTo>
                  <a:lnTo>
                    <a:pt x="664" y="0"/>
                  </a:lnTo>
                  <a:lnTo>
                    <a:pt x="686" y="2"/>
                  </a:lnTo>
                  <a:lnTo>
                    <a:pt x="708" y="4"/>
                  </a:lnTo>
                  <a:lnTo>
                    <a:pt x="728" y="10"/>
                  </a:lnTo>
                  <a:lnTo>
                    <a:pt x="750" y="18"/>
                  </a:lnTo>
                  <a:lnTo>
                    <a:pt x="770" y="26"/>
                  </a:lnTo>
                  <a:lnTo>
                    <a:pt x="790" y="38"/>
                  </a:lnTo>
                  <a:lnTo>
                    <a:pt x="810" y="52"/>
                  </a:lnTo>
                  <a:lnTo>
                    <a:pt x="830" y="68"/>
                  </a:lnTo>
                  <a:lnTo>
                    <a:pt x="830" y="68"/>
                  </a:lnTo>
                  <a:lnTo>
                    <a:pt x="844" y="82"/>
                  </a:lnTo>
                  <a:lnTo>
                    <a:pt x="854" y="100"/>
                  </a:lnTo>
                  <a:lnTo>
                    <a:pt x="864" y="124"/>
                  </a:lnTo>
                  <a:lnTo>
                    <a:pt x="870" y="154"/>
                  </a:lnTo>
                  <a:lnTo>
                    <a:pt x="876" y="188"/>
                  </a:lnTo>
                  <a:lnTo>
                    <a:pt x="880" y="226"/>
                  </a:lnTo>
                  <a:lnTo>
                    <a:pt x="884" y="268"/>
                  </a:lnTo>
                  <a:lnTo>
                    <a:pt x="884" y="318"/>
                  </a:lnTo>
                  <a:lnTo>
                    <a:pt x="884" y="334"/>
                  </a:lnTo>
                  <a:lnTo>
                    <a:pt x="884" y="334"/>
                  </a:lnTo>
                  <a:lnTo>
                    <a:pt x="912" y="336"/>
                  </a:lnTo>
                  <a:lnTo>
                    <a:pt x="940" y="340"/>
                  </a:lnTo>
                  <a:lnTo>
                    <a:pt x="968" y="346"/>
                  </a:lnTo>
                  <a:lnTo>
                    <a:pt x="996" y="352"/>
                  </a:lnTo>
                  <a:lnTo>
                    <a:pt x="1022" y="360"/>
                  </a:lnTo>
                  <a:lnTo>
                    <a:pt x="1048" y="368"/>
                  </a:lnTo>
                  <a:lnTo>
                    <a:pt x="1072" y="378"/>
                  </a:lnTo>
                  <a:lnTo>
                    <a:pt x="1098" y="390"/>
                  </a:lnTo>
                  <a:lnTo>
                    <a:pt x="1098" y="390"/>
                  </a:lnTo>
                  <a:lnTo>
                    <a:pt x="1116" y="402"/>
                  </a:lnTo>
                  <a:lnTo>
                    <a:pt x="1132" y="412"/>
                  </a:lnTo>
                  <a:lnTo>
                    <a:pt x="1146" y="424"/>
                  </a:lnTo>
                  <a:lnTo>
                    <a:pt x="1156" y="436"/>
                  </a:lnTo>
                  <a:lnTo>
                    <a:pt x="1164" y="448"/>
                  </a:lnTo>
                  <a:lnTo>
                    <a:pt x="1170" y="460"/>
                  </a:lnTo>
                  <a:lnTo>
                    <a:pt x="1174" y="474"/>
                  </a:lnTo>
                  <a:lnTo>
                    <a:pt x="1176" y="486"/>
                  </a:lnTo>
                  <a:lnTo>
                    <a:pt x="1176" y="486"/>
                  </a:lnTo>
                  <a:lnTo>
                    <a:pt x="1176" y="494"/>
                  </a:lnTo>
                  <a:lnTo>
                    <a:pt x="1174" y="504"/>
                  </a:lnTo>
                  <a:lnTo>
                    <a:pt x="1170" y="512"/>
                  </a:lnTo>
                  <a:lnTo>
                    <a:pt x="1166" y="518"/>
                  </a:lnTo>
                  <a:lnTo>
                    <a:pt x="1162" y="526"/>
                  </a:lnTo>
                  <a:lnTo>
                    <a:pt x="1156" y="532"/>
                  </a:lnTo>
                  <a:lnTo>
                    <a:pt x="1138" y="542"/>
                  </a:lnTo>
                  <a:lnTo>
                    <a:pt x="1118" y="550"/>
                  </a:lnTo>
                  <a:lnTo>
                    <a:pt x="1092" y="556"/>
                  </a:lnTo>
                  <a:lnTo>
                    <a:pt x="1062" y="560"/>
                  </a:lnTo>
                  <a:lnTo>
                    <a:pt x="1028" y="562"/>
                  </a:lnTo>
                  <a:lnTo>
                    <a:pt x="1028" y="562"/>
                  </a:lnTo>
                  <a:lnTo>
                    <a:pt x="956" y="570"/>
                  </a:lnTo>
                  <a:lnTo>
                    <a:pt x="882" y="582"/>
                  </a:lnTo>
                  <a:lnTo>
                    <a:pt x="878" y="1078"/>
                  </a:lnTo>
                  <a:lnTo>
                    <a:pt x="878" y="1078"/>
                  </a:lnTo>
                  <a:lnTo>
                    <a:pt x="878" y="1110"/>
                  </a:lnTo>
                  <a:lnTo>
                    <a:pt x="872" y="1140"/>
                  </a:lnTo>
                  <a:lnTo>
                    <a:pt x="866" y="1152"/>
                  </a:lnTo>
                  <a:lnTo>
                    <a:pt x="862" y="1162"/>
                  </a:lnTo>
                  <a:lnTo>
                    <a:pt x="856" y="1174"/>
                  </a:lnTo>
                  <a:lnTo>
                    <a:pt x="848" y="1182"/>
                  </a:lnTo>
                  <a:lnTo>
                    <a:pt x="840" y="1190"/>
                  </a:lnTo>
                  <a:lnTo>
                    <a:pt x="830" y="1198"/>
                  </a:lnTo>
                  <a:lnTo>
                    <a:pt x="820" y="1204"/>
                  </a:lnTo>
                  <a:lnTo>
                    <a:pt x="810" y="1208"/>
                  </a:lnTo>
                  <a:lnTo>
                    <a:pt x="798" y="1212"/>
                  </a:lnTo>
                  <a:lnTo>
                    <a:pt x="784" y="1214"/>
                  </a:lnTo>
                  <a:lnTo>
                    <a:pt x="756" y="1218"/>
                  </a:lnTo>
                  <a:lnTo>
                    <a:pt x="756" y="1218"/>
                  </a:lnTo>
                  <a:lnTo>
                    <a:pt x="730" y="1216"/>
                  </a:lnTo>
                  <a:lnTo>
                    <a:pt x="710" y="1210"/>
                  </a:lnTo>
                  <a:lnTo>
                    <a:pt x="700" y="1206"/>
                  </a:lnTo>
                  <a:lnTo>
                    <a:pt x="690" y="1200"/>
                  </a:lnTo>
                  <a:lnTo>
                    <a:pt x="682" y="1194"/>
                  </a:lnTo>
                  <a:lnTo>
                    <a:pt x="676" y="1186"/>
                  </a:lnTo>
                  <a:lnTo>
                    <a:pt x="670" y="1178"/>
                  </a:lnTo>
                  <a:lnTo>
                    <a:pt x="664" y="1168"/>
                  </a:lnTo>
                  <a:lnTo>
                    <a:pt x="656" y="1148"/>
                  </a:lnTo>
                  <a:lnTo>
                    <a:pt x="650" y="1122"/>
                  </a:lnTo>
                  <a:lnTo>
                    <a:pt x="648" y="1094"/>
                  </a:lnTo>
                  <a:lnTo>
                    <a:pt x="652" y="636"/>
                  </a:lnTo>
                  <a:lnTo>
                    <a:pt x="652" y="636"/>
                  </a:lnTo>
                  <a:lnTo>
                    <a:pt x="618" y="638"/>
                  </a:lnTo>
                  <a:lnTo>
                    <a:pt x="618" y="638"/>
                  </a:lnTo>
                  <a:lnTo>
                    <a:pt x="564" y="636"/>
                  </a:lnTo>
                  <a:lnTo>
                    <a:pt x="516" y="632"/>
                  </a:lnTo>
                  <a:lnTo>
                    <a:pt x="496" y="626"/>
                  </a:lnTo>
                  <a:lnTo>
                    <a:pt x="476" y="622"/>
                  </a:lnTo>
                  <a:lnTo>
                    <a:pt x="456" y="614"/>
                  </a:lnTo>
                  <a:lnTo>
                    <a:pt x="440" y="608"/>
                  </a:lnTo>
                  <a:lnTo>
                    <a:pt x="440" y="608"/>
                  </a:lnTo>
                  <a:lnTo>
                    <a:pt x="414" y="592"/>
                  </a:lnTo>
                  <a:lnTo>
                    <a:pt x="396" y="576"/>
                  </a:lnTo>
                  <a:lnTo>
                    <a:pt x="398" y="960"/>
                  </a:lnTo>
                  <a:lnTo>
                    <a:pt x="398" y="960"/>
                  </a:lnTo>
                  <a:lnTo>
                    <a:pt x="398" y="984"/>
                  </a:lnTo>
                  <a:lnTo>
                    <a:pt x="396" y="1008"/>
                  </a:lnTo>
                  <a:lnTo>
                    <a:pt x="394" y="1030"/>
                  </a:lnTo>
                  <a:lnTo>
                    <a:pt x="388" y="1050"/>
                  </a:lnTo>
                  <a:lnTo>
                    <a:pt x="382" y="1070"/>
                  </a:lnTo>
                  <a:lnTo>
                    <a:pt x="376" y="1090"/>
                  </a:lnTo>
                  <a:lnTo>
                    <a:pt x="366" y="1106"/>
                  </a:lnTo>
                  <a:lnTo>
                    <a:pt x="358" y="1122"/>
                  </a:lnTo>
                  <a:lnTo>
                    <a:pt x="358" y="1122"/>
                  </a:lnTo>
                  <a:lnTo>
                    <a:pt x="348" y="1136"/>
                  </a:lnTo>
                  <a:lnTo>
                    <a:pt x="338" y="1148"/>
                  </a:lnTo>
                  <a:lnTo>
                    <a:pt x="328" y="1158"/>
                  </a:lnTo>
                  <a:lnTo>
                    <a:pt x="318" y="1166"/>
                  </a:lnTo>
                  <a:lnTo>
                    <a:pt x="306" y="1172"/>
                  </a:lnTo>
                  <a:lnTo>
                    <a:pt x="294" y="1176"/>
                  </a:lnTo>
                  <a:lnTo>
                    <a:pt x="282" y="1180"/>
                  </a:lnTo>
                  <a:lnTo>
                    <a:pt x="268" y="1180"/>
                  </a:lnTo>
                  <a:lnTo>
                    <a:pt x="268" y="1180"/>
                  </a:lnTo>
                  <a:lnTo>
                    <a:pt x="246" y="1180"/>
                  </a:lnTo>
                  <a:lnTo>
                    <a:pt x="222" y="1174"/>
                  </a:lnTo>
                  <a:lnTo>
                    <a:pt x="200" y="1168"/>
                  </a:lnTo>
                  <a:lnTo>
                    <a:pt x="180" y="1158"/>
                  </a:lnTo>
                  <a:lnTo>
                    <a:pt x="158" y="1146"/>
                  </a:lnTo>
                  <a:lnTo>
                    <a:pt x="138" y="1130"/>
                  </a:lnTo>
                  <a:lnTo>
                    <a:pt x="118" y="1112"/>
                  </a:lnTo>
                  <a:lnTo>
                    <a:pt x="98" y="1092"/>
                  </a:lnTo>
                  <a:lnTo>
                    <a:pt x="98" y="1092"/>
                  </a:lnTo>
                  <a:lnTo>
                    <a:pt x="76" y="1064"/>
                  </a:lnTo>
                  <a:lnTo>
                    <a:pt x="56" y="1034"/>
                  </a:lnTo>
                  <a:lnTo>
                    <a:pt x="38" y="1006"/>
                  </a:lnTo>
                  <a:lnTo>
                    <a:pt x="24" y="978"/>
                  </a:lnTo>
                  <a:lnTo>
                    <a:pt x="14" y="950"/>
                  </a:lnTo>
                  <a:lnTo>
                    <a:pt x="6" y="920"/>
                  </a:lnTo>
                  <a:lnTo>
                    <a:pt x="2" y="892"/>
                  </a:lnTo>
                  <a:lnTo>
                    <a:pt x="0" y="864"/>
                  </a:lnTo>
                  <a:lnTo>
                    <a:pt x="0" y="864"/>
                  </a:lnTo>
                  <a:lnTo>
                    <a:pt x="2" y="848"/>
                  </a:lnTo>
                  <a:lnTo>
                    <a:pt x="6" y="830"/>
                  </a:lnTo>
                  <a:lnTo>
                    <a:pt x="14" y="810"/>
                  </a:lnTo>
                  <a:lnTo>
                    <a:pt x="26" y="788"/>
                  </a:lnTo>
                  <a:lnTo>
                    <a:pt x="40" y="764"/>
                  </a:lnTo>
                  <a:lnTo>
                    <a:pt x="58" y="738"/>
                  </a:lnTo>
                  <a:lnTo>
                    <a:pt x="80" y="712"/>
                  </a:lnTo>
                  <a:lnTo>
                    <a:pt x="104" y="682"/>
                  </a:lnTo>
                  <a:lnTo>
                    <a:pt x="104" y="682"/>
                  </a:lnTo>
                  <a:lnTo>
                    <a:pt x="120" y="664"/>
                  </a:lnTo>
                  <a:lnTo>
                    <a:pt x="130" y="648"/>
                  </a:lnTo>
                  <a:lnTo>
                    <a:pt x="136" y="630"/>
                  </a:lnTo>
                  <a:lnTo>
                    <a:pt x="138" y="614"/>
                  </a:lnTo>
                  <a:lnTo>
                    <a:pt x="138" y="614"/>
                  </a:lnTo>
                  <a:lnTo>
                    <a:pt x="136" y="608"/>
                  </a:lnTo>
                  <a:lnTo>
                    <a:pt x="126" y="596"/>
                  </a:lnTo>
                  <a:lnTo>
                    <a:pt x="112" y="582"/>
                  </a:lnTo>
                  <a:lnTo>
                    <a:pt x="92" y="566"/>
                  </a:lnTo>
                  <a:lnTo>
                    <a:pt x="92" y="566"/>
                  </a:lnTo>
                  <a:lnTo>
                    <a:pt x="70" y="550"/>
                  </a:lnTo>
                  <a:lnTo>
                    <a:pt x="52" y="532"/>
                  </a:lnTo>
                  <a:lnTo>
                    <a:pt x="36" y="516"/>
                  </a:lnTo>
                  <a:lnTo>
                    <a:pt x="22" y="500"/>
                  </a:lnTo>
                  <a:lnTo>
                    <a:pt x="12" y="486"/>
                  </a:lnTo>
                  <a:lnTo>
                    <a:pt x="6" y="470"/>
                  </a:lnTo>
                  <a:lnTo>
                    <a:pt x="2" y="454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2" y="428"/>
                  </a:lnTo>
                  <a:lnTo>
                    <a:pt x="10" y="414"/>
                  </a:lnTo>
                  <a:lnTo>
                    <a:pt x="22" y="398"/>
                  </a:lnTo>
                  <a:lnTo>
                    <a:pt x="40" y="382"/>
                  </a:lnTo>
                  <a:lnTo>
                    <a:pt x="62" y="364"/>
                  </a:lnTo>
                  <a:lnTo>
                    <a:pt x="88" y="346"/>
                  </a:lnTo>
                  <a:lnTo>
                    <a:pt x="120" y="328"/>
                  </a:lnTo>
                  <a:lnTo>
                    <a:pt x="158" y="306"/>
                  </a:lnTo>
                  <a:lnTo>
                    <a:pt x="158" y="306"/>
                  </a:lnTo>
                  <a:lnTo>
                    <a:pt x="172" y="298"/>
                  </a:lnTo>
                  <a:lnTo>
                    <a:pt x="182" y="288"/>
                  </a:lnTo>
                  <a:lnTo>
                    <a:pt x="188" y="280"/>
                  </a:lnTo>
                  <a:lnTo>
                    <a:pt x="190" y="272"/>
                  </a:lnTo>
                  <a:lnTo>
                    <a:pt x="190" y="272"/>
                  </a:lnTo>
                  <a:lnTo>
                    <a:pt x="188" y="266"/>
                  </a:lnTo>
                  <a:lnTo>
                    <a:pt x="178" y="260"/>
                  </a:lnTo>
                  <a:lnTo>
                    <a:pt x="146" y="240"/>
                  </a:lnTo>
                  <a:lnTo>
                    <a:pt x="146" y="240"/>
                  </a:lnTo>
                  <a:lnTo>
                    <a:pt x="116" y="224"/>
                  </a:lnTo>
                  <a:lnTo>
                    <a:pt x="90" y="208"/>
                  </a:lnTo>
                  <a:lnTo>
                    <a:pt x="66" y="194"/>
                  </a:lnTo>
                  <a:lnTo>
                    <a:pt x="48" y="180"/>
                  </a:lnTo>
                  <a:lnTo>
                    <a:pt x="34" y="166"/>
                  </a:lnTo>
                  <a:lnTo>
                    <a:pt x="24" y="152"/>
                  </a:lnTo>
                  <a:lnTo>
                    <a:pt x="18" y="140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8" y="104"/>
                  </a:lnTo>
                  <a:lnTo>
                    <a:pt x="22" y="86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8" y="44"/>
                  </a:lnTo>
                  <a:lnTo>
                    <a:pt x="76" y="36"/>
                  </a:lnTo>
                  <a:lnTo>
                    <a:pt x="98" y="32"/>
                  </a:lnTo>
                  <a:lnTo>
                    <a:pt x="124" y="30"/>
                  </a:lnTo>
                  <a:lnTo>
                    <a:pt x="124" y="30"/>
                  </a:lnTo>
                  <a:close/>
                  <a:moveTo>
                    <a:pt x="268" y="926"/>
                  </a:moveTo>
                  <a:lnTo>
                    <a:pt x="268" y="926"/>
                  </a:lnTo>
                  <a:lnTo>
                    <a:pt x="282" y="924"/>
                  </a:lnTo>
                  <a:lnTo>
                    <a:pt x="294" y="918"/>
                  </a:lnTo>
                  <a:lnTo>
                    <a:pt x="304" y="906"/>
                  </a:lnTo>
                  <a:lnTo>
                    <a:pt x="312" y="892"/>
                  </a:lnTo>
                  <a:lnTo>
                    <a:pt x="318" y="874"/>
                  </a:lnTo>
                  <a:lnTo>
                    <a:pt x="324" y="850"/>
                  </a:lnTo>
                  <a:lnTo>
                    <a:pt x="326" y="824"/>
                  </a:lnTo>
                  <a:lnTo>
                    <a:pt x="328" y="792"/>
                  </a:lnTo>
                  <a:lnTo>
                    <a:pt x="330" y="650"/>
                  </a:lnTo>
                  <a:lnTo>
                    <a:pt x="330" y="650"/>
                  </a:lnTo>
                  <a:lnTo>
                    <a:pt x="320" y="662"/>
                  </a:lnTo>
                  <a:lnTo>
                    <a:pt x="308" y="674"/>
                  </a:lnTo>
                  <a:lnTo>
                    <a:pt x="292" y="688"/>
                  </a:lnTo>
                  <a:lnTo>
                    <a:pt x="274" y="702"/>
                  </a:lnTo>
                  <a:lnTo>
                    <a:pt x="274" y="702"/>
                  </a:lnTo>
                  <a:lnTo>
                    <a:pt x="246" y="726"/>
                  </a:lnTo>
                  <a:lnTo>
                    <a:pt x="220" y="750"/>
                  </a:lnTo>
                  <a:lnTo>
                    <a:pt x="198" y="772"/>
                  </a:lnTo>
                  <a:lnTo>
                    <a:pt x="180" y="792"/>
                  </a:lnTo>
                  <a:lnTo>
                    <a:pt x="166" y="812"/>
                  </a:lnTo>
                  <a:lnTo>
                    <a:pt x="158" y="830"/>
                  </a:lnTo>
                  <a:lnTo>
                    <a:pt x="152" y="848"/>
                  </a:lnTo>
                  <a:lnTo>
                    <a:pt x="150" y="864"/>
                  </a:lnTo>
                  <a:lnTo>
                    <a:pt x="150" y="864"/>
                  </a:lnTo>
                  <a:lnTo>
                    <a:pt x="152" y="872"/>
                  </a:lnTo>
                  <a:lnTo>
                    <a:pt x="160" y="882"/>
                  </a:lnTo>
                  <a:lnTo>
                    <a:pt x="172" y="892"/>
                  </a:lnTo>
                  <a:lnTo>
                    <a:pt x="190" y="904"/>
                  </a:lnTo>
                  <a:lnTo>
                    <a:pt x="190" y="904"/>
                  </a:lnTo>
                  <a:lnTo>
                    <a:pt x="206" y="914"/>
                  </a:lnTo>
                  <a:lnTo>
                    <a:pt x="226" y="920"/>
                  </a:lnTo>
                  <a:lnTo>
                    <a:pt x="246" y="924"/>
                  </a:lnTo>
                  <a:lnTo>
                    <a:pt x="268" y="926"/>
                  </a:lnTo>
                  <a:lnTo>
                    <a:pt x="268" y="926"/>
                  </a:lnTo>
                  <a:close/>
                  <a:moveTo>
                    <a:pt x="330" y="576"/>
                  </a:moveTo>
                  <a:lnTo>
                    <a:pt x="336" y="334"/>
                  </a:lnTo>
                  <a:lnTo>
                    <a:pt x="336" y="334"/>
                  </a:lnTo>
                  <a:lnTo>
                    <a:pt x="318" y="342"/>
                  </a:lnTo>
                  <a:lnTo>
                    <a:pt x="318" y="342"/>
                  </a:lnTo>
                  <a:lnTo>
                    <a:pt x="252" y="368"/>
                  </a:lnTo>
                  <a:lnTo>
                    <a:pt x="206" y="390"/>
                  </a:lnTo>
                  <a:lnTo>
                    <a:pt x="190" y="400"/>
                  </a:lnTo>
                  <a:lnTo>
                    <a:pt x="178" y="410"/>
                  </a:lnTo>
                  <a:lnTo>
                    <a:pt x="172" y="418"/>
                  </a:lnTo>
                  <a:lnTo>
                    <a:pt x="168" y="424"/>
                  </a:lnTo>
                  <a:lnTo>
                    <a:pt x="168" y="424"/>
                  </a:lnTo>
                  <a:lnTo>
                    <a:pt x="170" y="430"/>
                  </a:lnTo>
                  <a:lnTo>
                    <a:pt x="172" y="436"/>
                  </a:lnTo>
                  <a:lnTo>
                    <a:pt x="184" y="450"/>
                  </a:lnTo>
                  <a:lnTo>
                    <a:pt x="202" y="466"/>
                  </a:lnTo>
                  <a:lnTo>
                    <a:pt x="226" y="482"/>
                  </a:lnTo>
                  <a:lnTo>
                    <a:pt x="226" y="482"/>
                  </a:lnTo>
                  <a:lnTo>
                    <a:pt x="264" y="508"/>
                  </a:lnTo>
                  <a:lnTo>
                    <a:pt x="294" y="532"/>
                  </a:lnTo>
                  <a:lnTo>
                    <a:pt x="316" y="554"/>
                  </a:lnTo>
                  <a:lnTo>
                    <a:pt x="324" y="566"/>
                  </a:lnTo>
                  <a:lnTo>
                    <a:pt x="330" y="576"/>
                  </a:lnTo>
                  <a:lnTo>
                    <a:pt x="330" y="5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7137360" y="40588920"/>
              <a:ext cx="1866960" cy="1905120"/>
            </a:xfrm>
            <a:custGeom>
              <a:avLst/>
              <a:gdLst>
                <a:gd name="textAreaLeft" fmla="*/ 0 w 1866960"/>
                <a:gd name="textAreaRight" fmla="*/ 1867320 w 18669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1176" h="1200">
                  <a:moveTo>
                    <a:pt x="224" y="20"/>
                  </a:moveTo>
                  <a:lnTo>
                    <a:pt x="224" y="20"/>
                  </a:lnTo>
                  <a:lnTo>
                    <a:pt x="236" y="20"/>
                  </a:lnTo>
                  <a:lnTo>
                    <a:pt x="248" y="24"/>
                  </a:lnTo>
                  <a:lnTo>
                    <a:pt x="262" y="28"/>
                  </a:lnTo>
                  <a:lnTo>
                    <a:pt x="274" y="34"/>
                  </a:lnTo>
                  <a:lnTo>
                    <a:pt x="286" y="44"/>
                  </a:lnTo>
                  <a:lnTo>
                    <a:pt x="300" y="54"/>
                  </a:lnTo>
                  <a:lnTo>
                    <a:pt x="326" y="82"/>
                  </a:lnTo>
                  <a:lnTo>
                    <a:pt x="326" y="82"/>
                  </a:lnTo>
                  <a:lnTo>
                    <a:pt x="336" y="94"/>
                  </a:lnTo>
                  <a:lnTo>
                    <a:pt x="344" y="106"/>
                  </a:lnTo>
                  <a:lnTo>
                    <a:pt x="352" y="120"/>
                  </a:lnTo>
                  <a:lnTo>
                    <a:pt x="358" y="134"/>
                  </a:lnTo>
                  <a:lnTo>
                    <a:pt x="362" y="148"/>
                  </a:lnTo>
                  <a:lnTo>
                    <a:pt x="366" y="162"/>
                  </a:lnTo>
                  <a:lnTo>
                    <a:pt x="368" y="178"/>
                  </a:lnTo>
                  <a:lnTo>
                    <a:pt x="368" y="194"/>
                  </a:lnTo>
                  <a:lnTo>
                    <a:pt x="368" y="194"/>
                  </a:lnTo>
                  <a:lnTo>
                    <a:pt x="368" y="222"/>
                  </a:lnTo>
                  <a:lnTo>
                    <a:pt x="364" y="254"/>
                  </a:lnTo>
                  <a:lnTo>
                    <a:pt x="356" y="288"/>
                  </a:lnTo>
                  <a:lnTo>
                    <a:pt x="346" y="324"/>
                  </a:lnTo>
                  <a:lnTo>
                    <a:pt x="334" y="364"/>
                  </a:lnTo>
                  <a:lnTo>
                    <a:pt x="318" y="406"/>
                  </a:lnTo>
                  <a:lnTo>
                    <a:pt x="300" y="450"/>
                  </a:lnTo>
                  <a:lnTo>
                    <a:pt x="278" y="496"/>
                  </a:lnTo>
                  <a:lnTo>
                    <a:pt x="278" y="496"/>
                  </a:lnTo>
                  <a:lnTo>
                    <a:pt x="292" y="524"/>
                  </a:lnTo>
                  <a:lnTo>
                    <a:pt x="308" y="554"/>
                  </a:lnTo>
                  <a:lnTo>
                    <a:pt x="308" y="554"/>
                  </a:lnTo>
                  <a:lnTo>
                    <a:pt x="316" y="580"/>
                  </a:lnTo>
                  <a:lnTo>
                    <a:pt x="324" y="614"/>
                  </a:lnTo>
                  <a:lnTo>
                    <a:pt x="332" y="656"/>
                  </a:lnTo>
                  <a:lnTo>
                    <a:pt x="336" y="702"/>
                  </a:lnTo>
                  <a:lnTo>
                    <a:pt x="342" y="758"/>
                  </a:lnTo>
                  <a:lnTo>
                    <a:pt x="344" y="820"/>
                  </a:lnTo>
                  <a:lnTo>
                    <a:pt x="346" y="888"/>
                  </a:lnTo>
                  <a:lnTo>
                    <a:pt x="348" y="966"/>
                  </a:lnTo>
                  <a:lnTo>
                    <a:pt x="348" y="966"/>
                  </a:lnTo>
                  <a:lnTo>
                    <a:pt x="384" y="970"/>
                  </a:lnTo>
                  <a:lnTo>
                    <a:pt x="384" y="970"/>
                  </a:lnTo>
                  <a:lnTo>
                    <a:pt x="682" y="1008"/>
                  </a:lnTo>
                  <a:lnTo>
                    <a:pt x="766" y="1018"/>
                  </a:lnTo>
                  <a:lnTo>
                    <a:pt x="808" y="1022"/>
                  </a:lnTo>
                  <a:lnTo>
                    <a:pt x="808" y="1022"/>
                  </a:lnTo>
                  <a:lnTo>
                    <a:pt x="816" y="1020"/>
                  </a:lnTo>
                  <a:lnTo>
                    <a:pt x="824" y="1018"/>
                  </a:lnTo>
                  <a:lnTo>
                    <a:pt x="830" y="1016"/>
                  </a:lnTo>
                  <a:lnTo>
                    <a:pt x="834" y="1012"/>
                  </a:lnTo>
                  <a:lnTo>
                    <a:pt x="838" y="1006"/>
                  </a:lnTo>
                  <a:lnTo>
                    <a:pt x="842" y="998"/>
                  </a:lnTo>
                  <a:lnTo>
                    <a:pt x="842" y="990"/>
                  </a:lnTo>
                  <a:lnTo>
                    <a:pt x="844" y="980"/>
                  </a:lnTo>
                  <a:lnTo>
                    <a:pt x="844" y="436"/>
                  </a:lnTo>
                  <a:lnTo>
                    <a:pt x="844" y="436"/>
                  </a:lnTo>
                  <a:lnTo>
                    <a:pt x="764" y="454"/>
                  </a:lnTo>
                  <a:lnTo>
                    <a:pt x="764" y="454"/>
                  </a:lnTo>
                  <a:lnTo>
                    <a:pt x="720" y="466"/>
                  </a:lnTo>
                  <a:lnTo>
                    <a:pt x="720" y="466"/>
                  </a:lnTo>
                  <a:lnTo>
                    <a:pt x="724" y="526"/>
                  </a:lnTo>
                  <a:lnTo>
                    <a:pt x="728" y="596"/>
                  </a:lnTo>
                  <a:lnTo>
                    <a:pt x="730" y="672"/>
                  </a:lnTo>
                  <a:lnTo>
                    <a:pt x="730" y="756"/>
                  </a:lnTo>
                  <a:lnTo>
                    <a:pt x="730" y="756"/>
                  </a:lnTo>
                  <a:lnTo>
                    <a:pt x="730" y="808"/>
                  </a:lnTo>
                  <a:lnTo>
                    <a:pt x="724" y="852"/>
                  </a:lnTo>
                  <a:lnTo>
                    <a:pt x="720" y="872"/>
                  </a:lnTo>
                  <a:lnTo>
                    <a:pt x="716" y="888"/>
                  </a:lnTo>
                  <a:lnTo>
                    <a:pt x="710" y="902"/>
                  </a:lnTo>
                  <a:lnTo>
                    <a:pt x="704" y="916"/>
                  </a:lnTo>
                  <a:lnTo>
                    <a:pt x="704" y="916"/>
                  </a:lnTo>
                  <a:lnTo>
                    <a:pt x="690" y="932"/>
                  </a:lnTo>
                  <a:lnTo>
                    <a:pt x="674" y="944"/>
                  </a:lnTo>
                  <a:lnTo>
                    <a:pt x="666" y="950"/>
                  </a:lnTo>
                  <a:lnTo>
                    <a:pt x="658" y="952"/>
                  </a:lnTo>
                  <a:lnTo>
                    <a:pt x="648" y="954"/>
                  </a:lnTo>
                  <a:lnTo>
                    <a:pt x="640" y="954"/>
                  </a:lnTo>
                  <a:lnTo>
                    <a:pt x="640" y="954"/>
                  </a:lnTo>
                  <a:lnTo>
                    <a:pt x="628" y="954"/>
                  </a:lnTo>
                  <a:lnTo>
                    <a:pt x="616" y="952"/>
                  </a:lnTo>
                  <a:lnTo>
                    <a:pt x="606" y="948"/>
                  </a:lnTo>
                  <a:lnTo>
                    <a:pt x="594" y="942"/>
                  </a:lnTo>
                  <a:lnTo>
                    <a:pt x="584" y="936"/>
                  </a:lnTo>
                  <a:lnTo>
                    <a:pt x="574" y="926"/>
                  </a:lnTo>
                  <a:lnTo>
                    <a:pt x="566" y="916"/>
                  </a:lnTo>
                  <a:lnTo>
                    <a:pt x="558" y="904"/>
                  </a:lnTo>
                  <a:lnTo>
                    <a:pt x="558" y="904"/>
                  </a:lnTo>
                  <a:lnTo>
                    <a:pt x="546" y="890"/>
                  </a:lnTo>
                  <a:lnTo>
                    <a:pt x="536" y="872"/>
                  </a:lnTo>
                  <a:lnTo>
                    <a:pt x="530" y="856"/>
                  </a:lnTo>
                  <a:lnTo>
                    <a:pt x="522" y="838"/>
                  </a:lnTo>
                  <a:lnTo>
                    <a:pt x="518" y="822"/>
                  </a:lnTo>
                  <a:lnTo>
                    <a:pt x="514" y="804"/>
                  </a:lnTo>
                  <a:lnTo>
                    <a:pt x="512" y="786"/>
                  </a:lnTo>
                  <a:lnTo>
                    <a:pt x="512" y="766"/>
                  </a:lnTo>
                  <a:lnTo>
                    <a:pt x="512" y="766"/>
                  </a:lnTo>
                  <a:lnTo>
                    <a:pt x="512" y="702"/>
                  </a:lnTo>
                  <a:lnTo>
                    <a:pt x="518" y="612"/>
                  </a:lnTo>
                  <a:lnTo>
                    <a:pt x="518" y="612"/>
                  </a:lnTo>
                  <a:lnTo>
                    <a:pt x="524" y="482"/>
                  </a:lnTo>
                  <a:lnTo>
                    <a:pt x="524" y="482"/>
                  </a:lnTo>
                  <a:lnTo>
                    <a:pt x="492" y="478"/>
                  </a:lnTo>
                  <a:lnTo>
                    <a:pt x="464" y="472"/>
                  </a:lnTo>
                  <a:lnTo>
                    <a:pt x="438" y="464"/>
                  </a:lnTo>
                  <a:lnTo>
                    <a:pt x="414" y="456"/>
                  </a:lnTo>
                  <a:lnTo>
                    <a:pt x="414" y="456"/>
                  </a:lnTo>
                  <a:lnTo>
                    <a:pt x="390" y="440"/>
                  </a:lnTo>
                  <a:lnTo>
                    <a:pt x="380" y="432"/>
                  </a:lnTo>
                  <a:lnTo>
                    <a:pt x="372" y="424"/>
                  </a:lnTo>
                  <a:lnTo>
                    <a:pt x="366" y="414"/>
                  </a:lnTo>
                  <a:lnTo>
                    <a:pt x="362" y="406"/>
                  </a:lnTo>
                  <a:lnTo>
                    <a:pt x="360" y="398"/>
                  </a:lnTo>
                  <a:lnTo>
                    <a:pt x="358" y="388"/>
                  </a:lnTo>
                  <a:lnTo>
                    <a:pt x="358" y="388"/>
                  </a:lnTo>
                  <a:lnTo>
                    <a:pt x="360" y="376"/>
                  </a:lnTo>
                  <a:lnTo>
                    <a:pt x="366" y="364"/>
                  </a:lnTo>
                  <a:lnTo>
                    <a:pt x="376" y="354"/>
                  </a:lnTo>
                  <a:lnTo>
                    <a:pt x="390" y="342"/>
                  </a:lnTo>
                  <a:lnTo>
                    <a:pt x="390" y="342"/>
                  </a:lnTo>
                  <a:lnTo>
                    <a:pt x="404" y="336"/>
                  </a:lnTo>
                  <a:lnTo>
                    <a:pt x="418" y="330"/>
                  </a:lnTo>
                  <a:lnTo>
                    <a:pt x="434" y="328"/>
                  </a:lnTo>
                  <a:lnTo>
                    <a:pt x="450" y="326"/>
                  </a:lnTo>
                  <a:lnTo>
                    <a:pt x="450" y="326"/>
                  </a:lnTo>
                  <a:lnTo>
                    <a:pt x="466" y="330"/>
                  </a:lnTo>
                  <a:lnTo>
                    <a:pt x="466" y="330"/>
                  </a:lnTo>
                  <a:lnTo>
                    <a:pt x="486" y="332"/>
                  </a:lnTo>
                  <a:lnTo>
                    <a:pt x="486" y="332"/>
                  </a:lnTo>
                  <a:lnTo>
                    <a:pt x="500" y="330"/>
                  </a:lnTo>
                  <a:lnTo>
                    <a:pt x="526" y="322"/>
                  </a:lnTo>
                  <a:lnTo>
                    <a:pt x="526" y="322"/>
                  </a:lnTo>
                  <a:lnTo>
                    <a:pt x="526" y="280"/>
                  </a:lnTo>
                  <a:lnTo>
                    <a:pt x="526" y="280"/>
                  </a:lnTo>
                  <a:lnTo>
                    <a:pt x="526" y="254"/>
                  </a:lnTo>
                  <a:lnTo>
                    <a:pt x="522" y="214"/>
                  </a:lnTo>
                  <a:lnTo>
                    <a:pt x="522" y="214"/>
                  </a:lnTo>
                  <a:lnTo>
                    <a:pt x="522" y="208"/>
                  </a:lnTo>
                  <a:lnTo>
                    <a:pt x="524" y="200"/>
                  </a:lnTo>
                  <a:lnTo>
                    <a:pt x="526" y="196"/>
                  </a:lnTo>
                  <a:lnTo>
                    <a:pt x="530" y="190"/>
                  </a:lnTo>
                  <a:lnTo>
                    <a:pt x="536" y="188"/>
                  </a:lnTo>
                  <a:lnTo>
                    <a:pt x="542" y="186"/>
                  </a:lnTo>
                  <a:lnTo>
                    <a:pt x="558" y="184"/>
                  </a:lnTo>
                  <a:lnTo>
                    <a:pt x="558" y="184"/>
                  </a:lnTo>
                  <a:lnTo>
                    <a:pt x="572" y="184"/>
                  </a:lnTo>
                  <a:lnTo>
                    <a:pt x="588" y="188"/>
                  </a:lnTo>
                  <a:lnTo>
                    <a:pt x="604" y="196"/>
                  </a:lnTo>
                  <a:lnTo>
                    <a:pt x="618" y="206"/>
                  </a:lnTo>
                  <a:lnTo>
                    <a:pt x="632" y="220"/>
                  </a:lnTo>
                  <a:lnTo>
                    <a:pt x="646" y="236"/>
                  </a:lnTo>
                  <a:lnTo>
                    <a:pt x="660" y="256"/>
                  </a:lnTo>
                  <a:lnTo>
                    <a:pt x="672" y="278"/>
                  </a:lnTo>
                  <a:lnTo>
                    <a:pt x="672" y="278"/>
                  </a:lnTo>
                  <a:lnTo>
                    <a:pt x="700" y="266"/>
                  </a:lnTo>
                  <a:lnTo>
                    <a:pt x="700" y="266"/>
                  </a:lnTo>
                  <a:lnTo>
                    <a:pt x="738" y="254"/>
                  </a:lnTo>
                  <a:lnTo>
                    <a:pt x="772" y="244"/>
                  </a:lnTo>
                  <a:lnTo>
                    <a:pt x="804" y="238"/>
                  </a:lnTo>
                  <a:lnTo>
                    <a:pt x="836" y="232"/>
                  </a:lnTo>
                  <a:lnTo>
                    <a:pt x="836" y="232"/>
                  </a:lnTo>
                  <a:lnTo>
                    <a:pt x="826" y="196"/>
                  </a:lnTo>
                  <a:lnTo>
                    <a:pt x="814" y="162"/>
                  </a:lnTo>
                  <a:lnTo>
                    <a:pt x="800" y="130"/>
                  </a:lnTo>
                  <a:lnTo>
                    <a:pt x="780" y="100"/>
                  </a:lnTo>
                  <a:lnTo>
                    <a:pt x="780" y="100"/>
                  </a:lnTo>
                  <a:lnTo>
                    <a:pt x="770" y="84"/>
                  </a:lnTo>
                  <a:lnTo>
                    <a:pt x="764" y="70"/>
                  </a:lnTo>
                  <a:lnTo>
                    <a:pt x="758" y="56"/>
                  </a:lnTo>
                  <a:lnTo>
                    <a:pt x="758" y="46"/>
                  </a:lnTo>
                  <a:lnTo>
                    <a:pt x="758" y="46"/>
                  </a:lnTo>
                  <a:lnTo>
                    <a:pt x="758" y="36"/>
                  </a:lnTo>
                  <a:lnTo>
                    <a:pt x="762" y="26"/>
                  </a:lnTo>
                  <a:lnTo>
                    <a:pt x="766" y="18"/>
                  </a:lnTo>
                  <a:lnTo>
                    <a:pt x="774" y="12"/>
                  </a:lnTo>
                  <a:lnTo>
                    <a:pt x="782" y="6"/>
                  </a:lnTo>
                  <a:lnTo>
                    <a:pt x="794" y="2"/>
                  </a:lnTo>
                  <a:lnTo>
                    <a:pt x="808" y="0"/>
                  </a:lnTo>
                  <a:lnTo>
                    <a:pt x="822" y="0"/>
                  </a:lnTo>
                  <a:lnTo>
                    <a:pt x="822" y="0"/>
                  </a:lnTo>
                  <a:lnTo>
                    <a:pt x="842" y="2"/>
                  </a:lnTo>
                  <a:lnTo>
                    <a:pt x="862" y="4"/>
                  </a:lnTo>
                  <a:lnTo>
                    <a:pt x="882" y="10"/>
                  </a:lnTo>
                  <a:lnTo>
                    <a:pt x="902" y="16"/>
                  </a:lnTo>
                  <a:lnTo>
                    <a:pt x="922" y="26"/>
                  </a:lnTo>
                  <a:lnTo>
                    <a:pt x="940" y="38"/>
                  </a:lnTo>
                  <a:lnTo>
                    <a:pt x="960" y="52"/>
                  </a:lnTo>
                  <a:lnTo>
                    <a:pt x="980" y="68"/>
                  </a:lnTo>
                  <a:lnTo>
                    <a:pt x="980" y="68"/>
                  </a:lnTo>
                  <a:lnTo>
                    <a:pt x="990" y="80"/>
                  </a:lnTo>
                  <a:lnTo>
                    <a:pt x="998" y="94"/>
                  </a:lnTo>
                  <a:lnTo>
                    <a:pt x="1006" y="112"/>
                  </a:lnTo>
                  <a:lnTo>
                    <a:pt x="1014" y="132"/>
                  </a:lnTo>
                  <a:lnTo>
                    <a:pt x="1022" y="156"/>
                  </a:lnTo>
                  <a:lnTo>
                    <a:pt x="1026" y="182"/>
                  </a:lnTo>
                  <a:lnTo>
                    <a:pt x="1032" y="210"/>
                  </a:lnTo>
                  <a:lnTo>
                    <a:pt x="1036" y="240"/>
                  </a:lnTo>
                  <a:lnTo>
                    <a:pt x="1036" y="240"/>
                  </a:lnTo>
                  <a:lnTo>
                    <a:pt x="1076" y="254"/>
                  </a:lnTo>
                  <a:lnTo>
                    <a:pt x="1112" y="270"/>
                  </a:lnTo>
                  <a:lnTo>
                    <a:pt x="1112" y="270"/>
                  </a:lnTo>
                  <a:lnTo>
                    <a:pt x="1128" y="280"/>
                  </a:lnTo>
                  <a:lnTo>
                    <a:pt x="1140" y="288"/>
                  </a:lnTo>
                  <a:lnTo>
                    <a:pt x="1152" y="298"/>
                  </a:lnTo>
                  <a:lnTo>
                    <a:pt x="1160" y="306"/>
                  </a:lnTo>
                  <a:lnTo>
                    <a:pt x="1166" y="316"/>
                  </a:lnTo>
                  <a:lnTo>
                    <a:pt x="1172" y="326"/>
                  </a:lnTo>
                  <a:lnTo>
                    <a:pt x="1174" y="336"/>
                  </a:lnTo>
                  <a:lnTo>
                    <a:pt x="1176" y="346"/>
                  </a:lnTo>
                  <a:lnTo>
                    <a:pt x="1176" y="346"/>
                  </a:lnTo>
                  <a:lnTo>
                    <a:pt x="1174" y="360"/>
                  </a:lnTo>
                  <a:lnTo>
                    <a:pt x="1168" y="372"/>
                  </a:lnTo>
                  <a:lnTo>
                    <a:pt x="1160" y="384"/>
                  </a:lnTo>
                  <a:lnTo>
                    <a:pt x="1146" y="392"/>
                  </a:lnTo>
                  <a:lnTo>
                    <a:pt x="1130" y="398"/>
                  </a:lnTo>
                  <a:lnTo>
                    <a:pt x="1110" y="404"/>
                  </a:lnTo>
                  <a:lnTo>
                    <a:pt x="1086" y="406"/>
                  </a:lnTo>
                  <a:lnTo>
                    <a:pt x="1058" y="408"/>
                  </a:lnTo>
                  <a:lnTo>
                    <a:pt x="1058" y="408"/>
                  </a:lnTo>
                  <a:lnTo>
                    <a:pt x="1042" y="410"/>
                  </a:lnTo>
                  <a:lnTo>
                    <a:pt x="1042" y="1008"/>
                  </a:lnTo>
                  <a:lnTo>
                    <a:pt x="1042" y="1008"/>
                  </a:lnTo>
                  <a:lnTo>
                    <a:pt x="1040" y="1050"/>
                  </a:lnTo>
                  <a:lnTo>
                    <a:pt x="1036" y="1088"/>
                  </a:lnTo>
                  <a:lnTo>
                    <a:pt x="1028" y="1120"/>
                  </a:lnTo>
                  <a:lnTo>
                    <a:pt x="1024" y="1132"/>
                  </a:lnTo>
                  <a:lnTo>
                    <a:pt x="1018" y="1144"/>
                  </a:lnTo>
                  <a:lnTo>
                    <a:pt x="1012" y="1156"/>
                  </a:lnTo>
                  <a:lnTo>
                    <a:pt x="1004" y="1164"/>
                  </a:lnTo>
                  <a:lnTo>
                    <a:pt x="996" y="1172"/>
                  </a:lnTo>
                  <a:lnTo>
                    <a:pt x="988" y="1178"/>
                  </a:lnTo>
                  <a:lnTo>
                    <a:pt x="978" y="1184"/>
                  </a:lnTo>
                  <a:lnTo>
                    <a:pt x="968" y="1188"/>
                  </a:lnTo>
                  <a:lnTo>
                    <a:pt x="958" y="1190"/>
                  </a:lnTo>
                  <a:lnTo>
                    <a:pt x="946" y="1190"/>
                  </a:lnTo>
                  <a:lnTo>
                    <a:pt x="946" y="1190"/>
                  </a:lnTo>
                  <a:lnTo>
                    <a:pt x="912" y="1188"/>
                  </a:lnTo>
                  <a:lnTo>
                    <a:pt x="876" y="1184"/>
                  </a:lnTo>
                  <a:lnTo>
                    <a:pt x="836" y="1176"/>
                  </a:lnTo>
                  <a:lnTo>
                    <a:pt x="790" y="1164"/>
                  </a:lnTo>
                  <a:lnTo>
                    <a:pt x="740" y="1150"/>
                  </a:lnTo>
                  <a:lnTo>
                    <a:pt x="686" y="1132"/>
                  </a:lnTo>
                  <a:lnTo>
                    <a:pt x="628" y="1110"/>
                  </a:lnTo>
                  <a:lnTo>
                    <a:pt x="566" y="1086"/>
                  </a:lnTo>
                  <a:lnTo>
                    <a:pt x="566" y="1086"/>
                  </a:lnTo>
                  <a:lnTo>
                    <a:pt x="484" y="1054"/>
                  </a:lnTo>
                  <a:lnTo>
                    <a:pt x="422" y="1026"/>
                  </a:lnTo>
                  <a:lnTo>
                    <a:pt x="376" y="1004"/>
                  </a:lnTo>
                  <a:lnTo>
                    <a:pt x="360" y="994"/>
                  </a:lnTo>
                  <a:lnTo>
                    <a:pt x="348" y="984"/>
                  </a:lnTo>
                  <a:lnTo>
                    <a:pt x="348" y="984"/>
                  </a:lnTo>
                  <a:lnTo>
                    <a:pt x="348" y="1000"/>
                  </a:lnTo>
                  <a:lnTo>
                    <a:pt x="348" y="1000"/>
                  </a:lnTo>
                  <a:lnTo>
                    <a:pt x="346" y="1054"/>
                  </a:lnTo>
                  <a:lnTo>
                    <a:pt x="340" y="1098"/>
                  </a:lnTo>
                  <a:lnTo>
                    <a:pt x="338" y="1116"/>
                  </a:lnTo>
                  <a:lnTo>
                    <a:pt x="332" y="1132"/>
                  </a:lnTo>
                  <a:lnTo>
                    <a:pt x="326" y="1148"/>
                  </a:lnTo>
                  <a:lnTo>
                    <a:pt x="320" y="1160"/>
                  </a:lnTo>
                  <a:lnTo>
                    <a:pt x="320" y="1160"/>
                  </a:lnTo>
                  <a:lnTo>
                    <a:pt x="306" y="1178"/>
                  </a:lnTo>
                  <a:lnTo>
                    <a:pt x="290" y="1190"/>
                  </a:lnTo>
                  <a:lnTo>
                    <a:pt x="282" y="1194"/>
                  </a:lnTo>
                  <a:lnTo>
                    <a:pt x="274" y="1198"/>
                  </a:lnTo>
                  <a:lnTo>
                    <a:pt x="266" y="1200"/>
                  </a:lnTo>
                  <a:lnTo>
                    <a:pt x="256" y="1200"/>
                  </a:lnTo>
                  <a:lnTo>
                    <a:pt x="256" y="1200"/>
                  </a:lnTo>
                  <a:lnTo>
                    <a:pt x="244" y="1200"/>
                  </a:lnTo>
                  <a:lnTo>
                    <a:pt x="232" y="1198"/>
                  </a:lnTo>
                  <a:lnTo>
                    <a:pt x="222" y="1194"/>
                  </a:lnTo>
                  <a:lnTo>
                    <a:pt x="212" y="1188"/>
                  </a:lnTo>
                  <a:lnTo>
                    <a:pt x="202" y="1182"/>
                  </a:lnTo>
                  <a:lnTo>
                    <a:pt x="192" y="1172"/>
                  </a:lnTo>
                  <a:lnTo>
                    <a:pt x="182" y="1162"/>
                  </a:lnTo>
                  <a:lnTo>
                    <a:pt x="174" y="1150"/>
                  </a:lnTo>
                  <a:lnTo>
                    <a:pt x="174" y="1150"/>
                  </a:lnTo>
                  <a:lnTo>
                    <a:pt x="164" y="1134"/>
                  </a:lnTo>
                  <a:lnTo>
                    <a:pt x="154" y="1118"/>
                  </a:lnTo>
                  <a:lnTo>
                    <a:pt x="146" y="1102"/>
                  </a:lnTo>
                  <a:lnTo>
                    <a:pt x="140" y="1084"/>
                  </a:lnTo>
                  <a:lnTo>
                    <a:pt x="134" y="1066"/>
                  </a:lnTo>
                  <a:lnTo>
                    <a:pt x="130" y="1048"/>
                  </a:lnTo>
                  <a:lnTo>
                    <a:pt x="128" y="1030"/>
                  </a:lnTo>
                  <a:lnTo>
                    <a:pt x="128" y="1010"/>
                  </a:lnTo>
                  <a:lnTo>
                    <a:pt x="128" y="1010"/>
                  </a:lnTo>
                  <a:lnTo>
                    <a:pt x="130" y="964"/>
                  </a:lnTo>
                  <a:lnTo>
                    <a:pt x="138" y="896"/>
                  </a:lnTo>
                  <a:lnTo>
                    <a:pt x="138" y="896"/>
                  </a:lnTo>
                  <a:lnTo>
                    <a:pt x="144" y="794"/>
                  </a:lnTo>
                  <a:lnTo>
                    <a:pt x="148" y="684"/>
                  </a:lnTo>
                  <a:lnTo>
                    <a:pt x="148" y="684"/>
                  </a:lnTo>
                  <a:lnTo>
                    <a:pt x="140" y="688"/>
                  </a:lnTo>
                  <a:lnTo>
                    <a:pt x="130" y="692"/>
                  </a:lnTo>
                  <a:lnTo>
                    <a:pt x="122" y="694"/>
                  </a:lnTo>
                  <a:lnTo>
                    <a:pt x="112" y="694"/>
                  </a:lnTo>
                  <a:lnTo>
                    <a:pt x="112" y="694"/>
                  </a:lnTo>
                  <a:lnTo>
                    <a:pt x="86" y="692"/>
                  </a:lnTo>
                  <a:lnTo>
                    <a:pt x="64" y="686"/>
                  </a:lnTo>
                  <a:lnTo>
                    <a:pt x="54" y="682"/>
                  </a:lnTo>
                  <a:lnTo>
                    <a:pt x="44" y="676"/>
                  </a:lnTo>
                  <a:lnTo>
                    <a:pt x="36" y="670"/>
                  </a:lnTo>
                  <a:lnTo>
                    <a:pt x="28" y="662"/>
                  </a:lnTo>
                  <a:lnTo>
                    <a:pt x="22" y="654"/>
                  </a:lnTo>
                  <a:lnTo>
                    <a:pt x="16" y="644"/>
                  </a:lnTo>
                  <a:lnTo>
                    <a:pt x="6" y="622"/>
                  </a:lnTo>
                  <a:lnTo>
                    <a:pt x="2" y="596"/>
                  </a:lnTo>
                  <a:lnTo>
                    <a:pt x="0" y="566"/>
                  </a:lnTo>
                  <a:lnTo>
                    <a:pt x="0" y="566"/>
                  </a:lnTo>
                  <a:lnTo>
                    <a:pt x="2" y="542"/>
                  </a:lnTo>
                  <a:lnTo>
                    <a:pt x="6" y="520"/>
                  </a:lnTo>
                  <a:lnTo>
                    <a:pt x="14" y="498"/>
                  </a:lnTo>
                  <a:lnTo>
                    <a:pt x="24" y="480"/>
                  </a:lnTo>
                  <a:lnTo>
                    <a:pt x="24" y="480"/>
                  </a:lnTo>
                  <a:lnTo>
                    <a:pt x="62" y="434"/>
                  </a:lnTo>
                  <a:lnTo>
                    <a:pt x="96" y="386"/>
                  </a:lnTo>
                  <a:lnTo>
                    <a:pt x="128" y="336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8" y="258"/>
                  </a:lnTo>
                  <a:lnTo>
                    <a:pt x="178" y="234"/>
                  </a:lnTo>
                  <a:lnTo>
                    <a:pt x="182" y="208"/>
                  </a:lnTo>
                  <a:lnTo>
                    <a:pt x="184" y="184"/>
                  </a:lnTo>
                  <a:lnTo>
                    <a:pt x="184" y="184"/>
                  </a:lnTo>
                  <a:lnTo>
                    <a:pt x="182" y="156"/>
                  </a:lnTo>
                  <a:lnTo>
                    <a:pt x="180" y="144"/>
                  </a:lnTo>
                  <a:lnTo>
                    <a:pt x="176" y="132"/>
                  </a:lnTo>
                  <a:lnTo>
                    <a:pt x="176" y="132"/>
                  </a:lnTo>
                  <a:lnTo>
                    <a:pt x="170" y="110"/>
                  </a:lnTo>
                  <a:lnTo>
                    <a:pt x="168" y="86"/>
                  </a:lnTo>
                  <a:lnTo>
                    <a:pt x="168" y="86"/>
                  </a:lnTo>
                  <a:lnTo>
                    <a:pt x="170" y="70"/>
                  </a:lnTo>
                  <a:lnTo>
                    <a:pt x="172" y="58"/>
                  </a:lnTo>
                  <a:lnTo>
                    <a:pt x="176" y="46"/>
                  </a:lnTo>
                  <a:lnTo>
                    <a:pt x="182" y="36"/>
                  </a:lnTo>
                  <a:lnTo>
                    <a:pt x="190" y="28"/>
                  </a:lnTo>
                  <a:lnTo>
                    <a:pt x="200" y="24"/>
                  </a:lnTo>
                  <a:lnTo>
                    <a:pt x="212" y="20"/>
                  </a:lnTo>
                  <a:lnTo>
                    <a:pt x="224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グループ化 20"/>
          <p:cNvGrpSpPr/>
          <p:nvPr/>
        </p:nvGrpSpPr>
        <p:grpSpPr>
          <a:xfrm>
            <a:off x="6829560" y="1758960"/>
            <a:ext cx="3181320" cy="7324560"/>
            <a:chOff x="6829560" y="1758960"/>
            <a:chExt cx="3181320" cy="7324560"/>
          </a:xfrm>
        </p:grpSpPr>
        <p:sp>
          <p:nvSpPr>
            <p:cNvPr id="59" name="Freeform 5"/>
            <p:cNvSpPr/>
            <p:nvPr/>
          </p:nvSpPr>
          <p:spPr>
            <a:xfrm>
              <a:off x="8166240" y="1758960"/>
              <a:ext cx="1844640" cy="1923840"/>
            </a:xfrm>
            <a:custGeom>
              <a:avLst/>
              <a:gdLst>
                <a:gd name="textAreaLeft" fmla="*/ 0 w 1844640"/>
                <a:gd name="textAreaRight" fmla="*/ 1845000 w 1844640"/>
                <a:gd name="textAreaTop" fmla="*/ 0 h 1923840"/>
                <a:gd name="textAreaBottom" fmla="*/ 1924200 h 1923840"/>
              </a:gdLst>
              <a:ahLst/>
              <a:rect l="textAreaLeft" t="textAreaTop" r="textAreaRight" b="textAreaBottom"/>
              <a:pathLst>
                <a:path w="1162" h="1212">
                  <a:moveTo>
                    <a:pt x="1090" y="906"/>
                  </a:moveTo>
                  <a:lnTo>
                    <a:pt x="1090" y="906"/>
                  </a:lnTo>
                  <a:lnTo>
                    <a:pt x="1080" y="938"/>
                  </a:lnTo>
                  <a:lnTo>
                    <a:pt x="1068" y="968"/>
                  </a:lnTo>
                  <a:lnTo>
                    <a:pt x="1054" y="996"/>
                  </a:lnTo>
                  <a:lnTo>
                    <a:pt x="1038" y="1024"/>
                  </a:lnTo>
                  <a:lnTo>
                    <a:pt x="1018" y="1052"/>
                  </a:lnTo>
                  <a:lnTo>
                    <a:pt x="994" y="1078"/>
                  </a:lnTo>
                  <a:lnTo>
                    <a:pt x="970" y="1104"/>
                  </a:lnTo>
                  <a:lnTo>
                    <a:pt x="942" y="1130"/>
                  </a:lnTo>
                  <a:lnTo>
                    <a:pt x="942" y="1130"/>
                  </a:lnTo>
                  <a:lnTo>
                    <a:pt x="910" y="1154"/>
                  </a:lnTo>
                  <a:lnTo>
                    <a:pt x="878" y="1174"/>
                  </a:lnTo>
                  <a:lnTo>
                    <a:pt x="848" y="1190"/>
                  </a:lnTo>
                  <a:lnTo>
                    <a:pt x="816" y="1202"/>
                  </a:lnTo>
                  <a:lnTo>
                    <a:pt x="786" y="1210"/>
                  </a:lnTo>
                  <a:lnTo>
                    <a:pt x="756" y="1212"/>
                  </a:lnTo>
                  <a:lnTo>
                    <a:pt x="726" y="1212"/>
                  </a:lnTo>
                  <a:lnTo>
                    <a:pt x="696" y="1206"/>
                  </a:lnTo>
                  <a:lnTo>
                    <a:pt x="696" y="1206"/>
                  </a:lnTo>
                  <a:lnTo>
                    <a:pt x="676" y="1200"/>
                  </a:lnTo>
                  <a:lnTo>
                    <a:pt x="656" y="1192"/>
                  </a:lnTo>
                  <a:lnTo>
                    <a:pt x="636" y="1182"/>
                  </a:lnTo>
                  <a:lnTo>
                    <a:pt x="616" y="1170"/>
                  </a:lnTo>
                  <a:lnTo>
                    <a:pt x="598" y="1156"/>
                  </a:lnTo>
                  <a:lnTo>
                    <a:pt x="580" y="1142"/>
                  </a:lnTo>
                  <a:lnTo>
                    <a:pt x="562" y="1126"/>
                  </a:lnTo>
                  <a:lnTo>
                    <a:pt x="546" y="1106"/>
                  </a:lnTo>
                  <a:lnTo>
                    <a:pt x="546" y="1106"/>
                  </a:lnTo>
                  <a:lnTo>
                    <a:pt x="532" y="1088"/>
                  </a:lnTo>
                  <a:lnTo>
                    <a:pt x="518" y="1070"/>
                  </a:lnTo>
                  <a:lnTo>
                    <a:pt x="508" y="1050"/>
                  </a:lnTo>
                  <a:lnTo>
                    <a:pt x="496" y="1030"/>
                  </a:lnTo>
                  <a:lnTo>
                    <a:pt x="488" y="1010"/>
                  </a:lnTo>
                  <a:lnTo>
                    <a:pt x="480" y="988"/>
                  </a:lnTo>
                  <a:lnTo>
                    <a:pt x="474" y="966"/>
                  </a:lnTo>
                  <a:lnTo>
                    <a:pt x="468" y="944"/>
                  </a:lnTo>
                  <a:lnTo>
                    <a:pt x="468" y="944"/>
                  </a:lnTo>
                  <a:lnTo>
                    <a:pt x="462" y="914"/>
                  </a:lnTo>
                  <a:lnTo>
                    <a:pt x="460" y="890"/>
                  </a:lnTo>
                  <a:lnTo>
                    <a:pt x="458" y="870"/>
                  </a:lnTo>
                  <a:lnTo>
                    <a:pt x="460" y="856"/>
                  </a:lnTo>
                  <a:lnTo>
                    <a:pt x="460" y="856"/>
                  </a:lnTo>
                  <a:lnTo>
                    <a:pt x="462" y="850"/>
                  </a:lnTo>
                  <a:lnTo>
                    <a:pt x="466" y="848"/>
                  </a:lnTo>
                  <a:lnTo>
                    <a:pt x="470" y="846"/>
                  </a:lnTo>
                  <a:lnTo>
                    <a:pt x="474" y="846"/>
                  </a:lnTo>
                  <a:lnTo>
                    <a:pt x="474" y="846"/>
                  </a:lnTo>
                  <a:lnTo>
                    <a:pt x="510" y="882"/>
                  </a:lnTo>
                  <a:lnTo>
                    <a:pt x="510" y="882"/>
                  </a:lnTo>
                  <a:lnTo>
                    <a:pt x="550" y="920"/>
                  </a:lnTo>
                  <a:lnTo>
                    <a:pt x="586" y="952"/>
                  </a:lnTo>
                  <a:lnTo>
                    <a:pt x="586" y="952"/>
                  </a:lnTo>
                  <a:lnTo>
                    <a:pt x="612" y="970"/>
                  </a:lnTo>
                  <a:lnTo>
                    <a:pt x="636" y="984"/>
                  </a:lnTo>
                  <a:lnTo>
                    <a:pt x="662" y="994"/>
                  </a:lnTo>
                  <a:lnTo>
                    <a:pt x="688" y="1002"/>
                  </a:lnTo>
                  <a:lnTo>
                    <a:pt x="688" y="1002"/>
                  </a:lnTo>
                  <a:lnTo>
                    <a:pt x="712" y="1006"/>
                  </a:lnTo>
                  <a:lnTo>
                    <a:pt x="738" y="1006"/>
                  </a:lnTo>
                  <a:lnTo>
                    <a:pt x="762" y="1000"/>
                  </a:lnTo>
                  <a:lnTo>
                    <a:pt x="790" y="990"/>
                  </a:lnTo>
                  <a:lnTo>
                    <a:pt x="790" y="990"/>
                  </a:lnTo>
                  <a:lnTo>
                    <a:pt x="812" y="978"/>
                  </a:lnTo>
                  <a:lnTo>
                    <a:pt x="834" y="962"/>
                  </a:lnTo>
                  <a:lnTo>
                    <a:pt x="856" y="944"/>
                  </a:lnTo>
                  <a:lnTo>
                    <a:pt x="874" y="922"/>
                  </a:lnTo>
                  <a:lnTo>
                    <a:pt x="874" y="922"/>
                  </a:lnTo>
                  <a:lnTo>
                    <a:pt x="900" y="890"/>
                  </a:lnTo>
                  <a:lnTo>
                    <a:pt x="918" y="864"/>
                  </a:lnTo>
                  <a:lnTo>
                    <a:pt x="932" y="840"/>
                  </a:lnTo>
                  <a:lnTo>
                    <a:pt x="938" y="824"/>
                  </a:lnTo>
                  <a:lnTo>
                    <a:pt x="938" y="824"/>
                  </a:lnTo>
                  <a:lnTo>
                    <a:pt x="944" y="794"/>
                  </a:lnTo>
                  <a:lnTo>
                    <a:pt x="944" y="782"/>
                  </a:lnTo>
                  <a:lnTo>
                    <a:pt x="944" y="770"/>
                  </a:lnTo>
                  <a:lnTo>
                    <a:pt x="942" y="758"/>
                  </a:lnTo>
                  <a:lnTo>
                    <a:pt x="940" y="746"/>
                  </a:lnTo>
                  <a:lnTo>
                    <a:pt x="934" y="736"/>
                  </a:lnTo>
                  <a:lnTo>
                    <a:pt x="930" y="726"/>
                  </a:lnTo>
                  <a:lnTo>
                    <a:pt x="922" y="718"/>
                  </a:lnTo>
                  <a:lnTo>
                    <a:pt x="914" y="708"/>
                  </a:lnTo>
                  <a:lnTo>
                    <a:pt x="906" y="700"/>
                  </a:lnTo>
                  <a:lnTo>
                    <a:pt x="894" y="694"/>
                  </a:lnTo>
                  <a:lnTo>
                    <a:pt x="870" y="682"/>
                  </a:lnTo>
                  <a:lnTo>
                    <a:pt x="840" y="672"/>
                  </a:lnTo>
                  <a:lnTo>
                    <a:pt x="840" y="672"/>
                  </a:lnTo>
                  <a:lnTo>
                    <a:pt x="812" y="666"/>
                  </a:lnTo>
                  <a:lnTo>
                    <a:pt x="778" y="664"/>
                  </a:lnTo>
                  <a:lnTo>
                    <a:pt x="740" y="664"/>
                  </a:lnTo>
                  <a:lnTo>
                    <a:pt x="696" y="666"/>
                  </a:lnTo>
                  <a:lnTo>
                    <a:pt x="648" y="672"/>
                  </a:lnTo>
                  <a:lnTo>
                    <a:pt x="592" y="680"/>
                  </a:lnTo>
                  <a:lnTo>
                    <a:pt x="534" y="690"/>
                  </a:lnTo>
                  <a:lnTo>
                    <a:pt x="468" y="704"/>
                  </a:lnTo>
                  <a:lnTo>
                    <a:pt x="410" y="928"/>
                  </a:lnTo>
                  <a:lnTo>
                    <a:pt x="410" y="928"/>
                  </a:lnTo>
                  <a:lnTo>
                    <a:pt x="400" y="966"/>
                  </a:lnTo>
                  <a:lnTo>
                    <a:pt x="388" y="998"/>
                  </a:lnTo>
                  <a:lnTo>
                    <a:pt x="378" y="1026"/>
                  </a:lnTo>
                  <a:lnTo>
                    <a:pt x="366" y="1046"/>
                  </a:lnTo>
                  <a:lnTo>
                    <a:pt x="366" y="1046"/>
                  </a:lnTo>
                  <a:lnTo>
                    <a:pt x="356" y="1062"/>
                  </a:lnTo>
                  <a:lnTo>
                    <a:pt x="346" y="1074"/>
                  </a:lnTo>
                  <a:lnTo>
                    <a:pt x="334" y="1084"/>
                  </a:lnTo>
                  <a:lnTo>
                    <a:pt x="322" y="1090"/>
                  </a:lnTo>
                  <a:lnTo>
                    <a:pt x="308" y="1096"/>
                  </a:lnTo>
                  <a:lnTo>
                    <a:pt x="294" y="1098"/>
                  </a:lnTo>
                  <a:lnTo>
                    <a:pt x="280" y="1098"/>
                  </a:lnTo>
                  <a:lnTo>
                    <a:pt x="264" y="1094"/>
                  </a:lnTo>
                  <a:lnTo>
                    <a:pt x="264" y="1094"/>
                  </a:lnTo>
                  <a:lnTo>
                    <a:pt x="248" y="1088"/>
                  </a:lnTo>
                  <a:lnTo>
                    <a:pt x="228" y="1074"/>
                  </a:lnTo>
                  <a:lnTo>
                    <a:pt x="200" y="1054"/>
                  </a:lnTo>
                  <a:lnTo>
                    <a:pt x="166" y="1028"/>
                  </a:lnTo>
                  <a:lnTo>
                    <a:pt x="166" y="1028"/>
                  </a:lnTo>
                  <a:lnTo>
                    <a:pt x="136" y="1000"/>
                  </a:lnTo>
                  <a:lnTo>
                    <a:pt x="106" y="974"/>
                  </a:lnTo>
                  <a:lnTo>
                    <a:pt x="80" y="944"/>
                  </a:lnTo>
                  <a:lnTo>
                    <a:pt x="54" y="914"/>
                  </a:lnTo>
                  <a:lnTo>
                    <a:pt x="54" y="914"/>
                  </a:lnTo>
                  <a:lnTo>
                    <a:pt x="40" y="892"/>
                  </a:lnTo>
                  <a:lnTo>
                    <a:pt x="28" y="872"/>
                  </a:lnTo>
                  <a:lnTo>
                    <a:pt x="16" y="854"/>
                  </a:lnTo>
                  <a:lnTo>
                    <a:pt x="10" y="836"/>
                  </a:lnTo>
                  <a:lnTo>
                    <a:pt x="4" y="820"/>
                  </a:lnTo>
                  <a:lnTo>
                    <a:pt x="2" y="804"/>
                  </a:lnTo>
                  <a:lnTo>
                    <a:pt x="0" y="788"/>
                  </a:lnTo>
                  <a:lnTo>
                    <a:pt x="4" y="774"/>
                  </a:lnTo>
                  <a:lnTo>
                    <a:pt x="4" y="774"/>
                  </a:lnTo>
                  <a:lnTo>
                    <a:pt x="6" y="764"/>
                  </a:lnTo>
                  <a:lnTo>
                    <a:pt x="12" y="752"/>
                  </a:lnTo>
                  <a:lnTo>
                    <a:pt x="20" y="742"/>
                  </a:lnTo>
                  <a:lnTo>
                    <a:pt x="30" y="732"/>
                  </a:lnTo>
                  <a:lnTo>
                    <a:pt x="42" y="720"/>
                  </a:lnTo>
                  <a:lnTo>
                    <a:pt x="56" y="710"/>
                  </a:lnTo>
                  <a:lnTo>
                    <a:pt x="90" y="688"/>
                  </a:lnTo>
                  <a:lnTo>
                    <a:pt x="132" y="666"/>
                  </a:lnTo>
                  <a:lnTo>
                    <a:pt x="182" y="644"/>
                  </a:lnTo>
                  <a:lnTo>
                    <a:pt x="240" y="620"/>
                  </a:lnTo>
                  <a:lnTo>
                    <a:pt x="306" y="598"/>
                  </a:lnTo>
                  <a:lnTo>
                    <a:pt x="346" y="444"/>
                  </a:lnTo>
                  <a:lnTo>
                    <a:pt x="346" y="444"/>
                  </a:lnTo>
                  <a:lnTo>
                    <a:pt x="290" y="440"/>
                  </a:lnTo>
                  <a:lnTo>
                    <a:pt x="268" y="436"/>
                  </a:lnTo>
                  <a:lnTo>
                    <a:pt x="250" y="434"/>
                  </a:lnTo>
                  <a:lnTo>
                    <a:pt x="250" y="434"/>
                  </a:lnTo>
                  <a:lnTo>
                    <a:pt x="226" y="426"/>
                  </a:lnTo>
                  <a:lnTo>
                    <a:pt x="204" y="418"/>
                  </a:lnTo>
                  <a:lnTo>
                    <a:pt x="186" y="408"/>
                  </a:lnTo>
                  <a:lnTo>
                    <a:pt x="172" y="398"/>
                  </a:lnTo>
                  <a:lnTo>
                    <a:pt x="162" y="386"/>
                  </a:lnTo>
                  <a:lnTo>
                    <a:pt x="156" y="374"/>
                  </a:lnTo>
                  <a:lnTo>
                    <a:pt x="154" y="360"/>
                  </a:lnTo>
                  <a:lnTo>
                    <a:pt x="156" y="346"/>
                  </a:lnTo>
                  <a:lnTo>
                    <a:pt x="156" y="346"/>
                  </a:lnTo>
                  <a:lnTo>
                    <a:pt x="162" y="332"/>
                  </a:lnTo>
                  <a:lnTo>
                    <a:pt x="172" y="320"/>
                  </a:lnTo>
                  <a:lnTo>
                    <a:pt x="186" y="308"/>
                  </a:lnTo>
                  <a:lnTo>
                    <a:pt x="206" y="296"/>
                  </a:lnTo>
                  <a:lnTo>
                    <a:pt x="206" y="296"/>
                  </a:lnTo>
                  <a:lnTo>
                    <a:pt x="226" y="286"/>
                  </a:lnTo>
                  <a:lnTo>
                    <a:pt x="244" y="280"/>
                  </a:lnTo>
                  <a:lnTo>
                    <a:pt x="260" y="278"/>
                  </a:lnTo>
                  <a:lnTo>
                    <a:pt x="276" y="280"/>
                  </a:lnTo>
                  <a:lnTo>
                    <a:pt x="276" y="280"/>
                  </a:lnTo>
                  <a:lnTo>
                    <a:pt x="296" y="282"/>
                  </a:lnTo>
                  <a:lnTo>
                    <a:pt x="330" y="282"/>
                  </a:lnTo>
                  <a:lnTo>
                    <a:pt x="330" y="282"/>
                  </a:lnTo>
                  <a:lnTo>
                    <a:pt x="364" y="278"/>
                  </a:lnTo>
                  <a:lnTo>
                    <a:pt x="384" y="274"/>
                  </a:lnTo>
                  <a:lnTo>
                    <a:pt x="384" y="274"/>
                  </a:lnTo>
                  <a:lnTo>
                    <a:pt x="392" y="214"/>
                  </a:lnTo>
                  <a:lnTo>
                    <a:pt x="394" y="162"/>
                  </a:lnTo>
                  <a:lnTo>
                    <a:pt x="394" y="140"/>
                  </a:lnTo>
                  <a:lnTo>
                    <a:pt x="390" y="120"/>
                  </a:lnTo>
                  <a:lnTo>
                    <a:pt x="388" y="104"/>
                  </a:lnTo>
                  <a:lnTo>
                    <a:pt x="382" y="90"/>
                  </a:lnTo>
                  <a:lnTo>
                    <a:pt x="382" y="90"/>
                  </a:lnTo>
                  <a:lnTo>
                    <a:pt x="376" y="74"/>
                  </a:lnTo>
                  <a:lnTo>
                    <a:pt x="372" y="60"/>
                  </a:lnTo>
                  <a:lnTo>
                    <a:pt x="370" y="50"/>
                  </a:lnTo>
                  <a:lnTo>
                    <a:pt x="370" y="42"/>
                  </a:lnTo>
                  <a:lnTo>
                    <a:pt x="370" y="42"/>
                  </a:lnTo>
                  <a:lnTo>
                    <a:pt x="374" y="30"/>
                  </a:lnTo>
                  <a:lnTo>
                    <a:pt x="380" y="20"/>
                  </a:lnTo>
                  <a:lnTo>
                    <a:pt x="388" y="12"/>
                  </a:lnTo>
                  <a:lnTo>
                    <a:pt x="396" y="6"/>
                  </a:lnTo>
                  <a:lnTo>
                    <a:pt x="404" y="2"/>
                  </a:lnTo>
                  <a:lnTo>
                    <a:pt x="416" y="0"/>
                  </a:lnTo>
                  <a:lnTo>
                    <a:pt x="428" y="0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462" y="10"/>
                  </a:lnTo>
                  <a:lnTo>
                    <a:pt x="484" y="20"/>
                  </a:lnTo>
                  <a:lnTo>
                    <a:pt x="506" y="34"/>
                  </a:lnTo>
                  <a:lnTo>
                    <a:pt x="526" y="52"/>
                  </a:lnTo>
                  <a:lnTo>
                    <a:pt x="526" y="52"/>
                  </a:lnTo>
                  <a:lnTo>
                    <a:pt x="538" y="64"/>
                  </a:lnTo>
                  <a:lnTo>
                    <a:pt x="548" y="74"/>
                  </a:lnTo>
                  <a:lnTo>
                    <a:pt x="558" y="86"/>
                  </a:lnTo>
                  <a:lnTo>
                    <a:pt x="566" y="100"/>
                  </a:lnTo>
                  <a:lnTo>
                    <a:pt x="572" y="112"/>
                  </a:lnTo>
                  <a:lnTo>
                    <a:pt x="578" y="124"/>
                  </a:lnTo>
                  <a:lnTo>
                    <a:pt x="582" y="138"/>
                  </a:lnTo>
                  <a:lnTo>
                    <a:pt x="586" y="152"/>
                  </a:lnTo>
                  <a:lnTo>
                    <a:pt x="586" y="152"/>
                  </a:lnTo>
                  <a:lnTo>
                    <a:pt x="588" y="176"/>
                  </a:lnTo>
                  <a:lnTo>
                    <a:pt x="586" y="202"/>
                  </a:lnTo>
                  <a:lnTo>
                    <a:pt x="584" y="234"/>
                  </a:lnTo>
                  <a:lnTo>
                    <a:pt x="578" y="270"/>
                  </a:lnTo>
                  <a:lnTo>
                    <a:pt x="578" y="270"/>
                  </a:lnTo>
                  <a:lnTo>
                    <a:pt x="608" y="280"/>
                  </a:lnTo>
                  <a:lnTo>
                    <a:pt x="632" y="290"/>
                  </a:lnTo>
                  <a:lnTo>
                    <a:pt x="652" y="304"/>
                  </a:lnTo>
                  <a:lnTo>
                    <a:pt x="668" y="318"/>
                  </a:lnTo>
                  <a:lnTo>
                    <a:pt x="674" y="326"/>
                  </a:lnTo>
                  <a:lnTo>
                    <a:pt x="678" y="336"/>
                  </a:lnTo>
                  <a:lnTo>
                    <a:pt x="682" y="344"/>
                  </a:lnTo>
                  <a:lnTo>
                    <a:pt x="684" y="354"/>
                  </a:lnTo>
                  <a:lnTo>
                    <a:pt x="686" y="364"/>
                  </a:lnTo>
                  <a:lnTo>
                    <a:pt x="686" y="374"/>
                  </a:lnTo>
                  <a:lnTo>
                    <a:pt x="682" y="396"/>
                  </a:lnTo>
                  <a:lnTo>
                    <a:pt x="682" y="396"/>
                  </a:lnTo>
                  <a:lnTo>
                    <a:pt x="676" y="410"/>
                  </a:lnTo>
                  <a:lnTo>
                    <a:pt x="666" y="422"/>
                  </a:lnTo>
                  <a:lnTo>
                    <a:pt x="654" y="432"/>
                  </a:lnTo>
                  <a:lnTo>
                    <a:pt x="636" y="440"/>
                  </a:lnTo>
                  <a:lnTo>
                    <a:pt x="616" y="446"/>
                  </a:lnTo>
                  <a:lnTo>
                    <a:pt x="592" y="450"/>
                  </a:lnTo>
                  <a:lnTo>
                    <a:pt x="564" y="452"/>
                  </a:lnTo>
                  <a:lnTo>
                    <a:pt x="534" y="450"/>
                  </a:lnTo>
                  <a:lnTo>
                    <a:pt x="510" y="540"/>
                  </a:lnTo>
                  <a:lnTo>
                    <a:pt x="510" y="540"/>
                  </a:lnTo>
                  <a:lnTo>
                    <a:pt x="562" y="532"/>
                  </a:lnTo>
                  <a:lnTo>
                    <a:pt x="610" y="524"/>
                  </a:lnTo>
                  <a:lnTo>
                    <a:pt x="658" y="520"/>
                  </a:lnTo>
                  <a:lnTo>
                    <a:pt x="706" y="518"/>
                  </a:lnTo>
                  <a:lnTo>
                    <a:pt x="750" y="520"/>
                  </a:lnTo>
                  <a:lnTo>
                    <a:pt x="794" y="522"/>
                  </a:lnTo>
                  <a:lnTo>
                    <a:pt x="834" y="528"/>
                  </a:lnTo>
                  <a:lnTo>
                    <a:pt x="874" y="538"/>
                  </a:lnTo>
                  <a:lnTo>
                    <a:pt x="874" y="538"/>
                  </a:lnTo>
                  <a:lnTo>
                    <a:pt x="908" y="548"/>
                  </a:lnTo>
                  <a:lnTo>
                    <a:pt x="938" y="560"/>
                  </a:lnTo>
                  <a:lnTo>
                    <a:pt x="964" y="572"/>
                  </a:lnTo>
                  <a:lnTo>
                    <a:pt x="990" y="588"/>
                  </a:lnTo>
                  <a:lnTo>
                    <a:pt x="1012" y="606"/>
                  </a:lnTo>
                  <a:lnTo>
                    <a:pt x="1034" y="626"/>
                  </a:lnTo>
                  <a:lnTo>
                    <a:pt x="1052" y="648"/>
                  </a:lnTo>
                  <a:lnTo>
                    <a:pt x="1066" y="672"/>
                  </a:lnTo>
                  <a:lnTo>
                    <a:pt x="1066" y="672"/>
                  </a:lnTo>
                  <a:lnTo>
                    <a:pt x="1080" y="698"/>
                  </a:lnTo>
                  <a:lnTo>
                    <a:pt x="1090" y="724"/>
                  </a:lnTo>
                  <a:lnTo>
                    <a:pt x="1098" y="752"/>
                  </a:lnTo>
                  <a:lnTo>
                    <a:pt x="1102" y="780"/>
                  </a:lnTo>
                  <a:lnTo>
                    <a:pt x="1104" y="810"/>
                  </a:lnTo>
                  <a:lnTo>
                    <a:pt x="1102" y="842"/>
                  </a:lnTo>
                  <a:lnTo>
                    <a:pt x="1098" y="874"/>
                  </a:lnTo>
                  <a:lnTo>
                    <a:pt x="1090" y="906"/>
                  </a:lnTo>
                  <a:lnTo>
                    <a:pt x="1090" y="906"/>
                  </a:lnTo>
                  <a:close/>
                  <a:moveTo>
                    <a:pt x="262" y="758"/>
                  </a:moveTo>
                  <a:lnTo>
                    <a:pt x="262" y="758"/>
                  </a:lnTo>
                  <a:lnTo>
                    <a:pt x="188" y="778"/>
                  </a:lnTo>
                  <a:lnTo>
                    <a:pt x="136" y="796"/>
                  </a:lnTo>
                  <a:lnTo>
                    <a:pt x="116" y="804"/>
                  </a:lnTo>
                  <a:lnTo>
                    <a:pt x="102" y="812"/>
                  </a:lnTo>
                  <a:lnTo>
                    <a:pt x="92" y="820"/>
                  </a:lnTo>
                  <a:lnTo>
                    <a:pt x="88" y="826"/>
                  </a:lnTo>
                  <a:lnTo>
                    <a:pt x="88" y="826"/>
                  </a:lnTo>
                  <a:lnTo>
                    <a:pt x="88" y="834"/>
                  </a:lnTo>
                  <a:lnTo>
                    <a:pt x="88" y="840"/>
                  </a:lnTo>
                  <a:lnTo>
                    <a:pt x="90" y="848"/>
                  </a:lnTo>
                  <a:lnTo>
                    <a:pt x="92" y="856"/>
                  </a:lnTo>
                  <a:lnTo>
                    <a:pt x="102" y="872"/>
                  </a:lnTo>
                  <a:lnTo>
                    <a:pt x="118" y="888"/>
                  </a:lnTo>
                  <a:lnTo>
                    <a:pt x="118" y="888"/>
                  </a:lnTo>
                  <a:lnTo>
                    <a:pt x="134" y="902"/>
                  </a:lnTo>
                  <a:lnTo>
                    <a:pt x="150" y="912"/>
                  </a:lnTo>
                  <a:lnTo>
                    <a:pt x="166" y="920"/>
                  </a:lnTo>
                  <a:lnTo>
                    <a:pt x="182" y="926"/>
                  </a:lnTo>
                  <a:lnTo>
                    <a:pt x="182" y="926"/>
                  </a:lnTo>
                  <a:lnTo>
                    <a:pt x="188" y="926"/>
                  </a:lnTo>
                  <a:lnTo>
                    <a:pt x="194" y="924"/>
                  </a:lnTo>
                  <a:lnTo>
                    <a:pt x="202" y="918"/>
                  </a:lnTo>
                  <a:lnTo>
                    <a:pt x="208" y="912"/>
                  </a:lnTo>
                  <a:lnTo>
                    <a:pt x="214" y="900"/>
                  </a:lnTo>
                  <a:lnTo>
                    <a:pt x="222" y="888"/>
                  </a:lnTo>
                  <a:lnTo>
                    <a:pt x="236" y="854"/>
                  </a:lnTo>
                  <a:lnTo>
                    <a:pt x="236" y="854"/>
                  </a:lnTo>
                  <a:lnTo>
                    <a:pt x="262" y="758"/>
                  </a:lnTo>
                  <a:lnTo>
                    <a:pt x="262" y="758"/>
                  </a:lnTo>
                  <a:close/>
                  <a:moveTo>
                    <a:pt x="1156" y="468"/>
                  </a:moveTo>
                  <a:lnTo>
                    <a:pt x="1156" y="468"/>
                  </a:lnTo>
                  <a:lnTo>
                    <a:pt x="1152" y="480"/>
                  </a:lnTo>
                  <a:lnTo>
                    <a:pt x="1144" y="490"/>
                  </a:lnTo>
                  <a:lnTo>
                    <a:pt x="1136" y="500"/>
                  </a:lnTo>
                  <a:lnTo>
                    <a:pt x="1124" y="508"/>
                  </a:lnTo>
                  <a:lnTo>
                    <a:pt x="1110" y="514"/>
                  </a:lnTo>
                  <a:lnTo>
                    <a:pt x="1092" y="520"/>
                  </a:lnTo>
                  <a:lnTo>
                    <a:pt x="1074" y="524"/>
                  </a:lnTo>
                  <a:lnTo>
                    <a:pt x="1052" y="526"/>
                  </a:lnTo>
                  <a:lnTo>
                    <a:pt x="1052" y="526"/>
                  </a:lnTo>
                  <a:lnTo>
                    <a:pt x="1018" y="528"/>
                  </a:lnTo>
                  <a:lnTo>
                    <a:pt x="984" y="528"/>
                  </a:lnTo>
                  <a:lnTo>
                    <a:pt x="952" y="524"/>
                  </a:lnTo>
                  <a:lnTo>
                    <a:pt x="922" y="518"/>
                  </a:lnTo>
                  <a:lnTo>
                    <a:pt x="922" y="518"/>
                  </a:lnTo>
                  <a:lnTo>
                    <a:pt x="902" y="512"/>
                  </a:lnTo>
                  <a:lnTo>
                    <a:pt x="890" y="506"/>
                  </a:lnTo>
                  <a:lnTo>
                    <a:pt x="882" y="498"/>
                  </a:lnTo>
                  <a:lnTo>
                    <a:pt x="882" y="494"/>
                  </a:lnTo>
                  <a:lnTo>
                    <a:pt x="882" y="490"/>
                  </a:lnTo>
                  <a:lnTo>
                    <a:pt x="882" y="490"/>
                  </a:lnTo>
                  <a:lnTo>
                    <a:pt x="884" y="488"/>
                  </a:lnTo>
                  <a:lnTo>
                    <a:pt x="892" y="484"/>
                  </a:lnTo>
                  <a:lnTo>
                    <a:pt x="924" y="470"/>
                  </a:lnTo>
                  <a:lnTo>
                    <a:pt x="924" y="470"/>
                  </a:lnTo>
                  <a:lnTo>
                    <a:pt x="942" y="462"/>
                  </a:lnTo>
                  <a:lnTo>
                    <a:pt x="958" y="452"/>
                  </a:lnTo>
                  <a:lnTo>
                    <a:pt x="968" y="442"/>
                  </a:lnTo>
                  <a:lnTo>
                    <a:pt x="972" y="436"/>
                  </a:lnTo>
                  <a:lnTo>
                    <a:pt x="974" y="430"/>
                  </a:lnTo>
                  <a:lnTo>
                    <a:pt x="974" y="430"/>
                  </a:lnTo>
                  <a:lnTo>
                    <a:pt x="976" y="420"/>
                  </a:lnTo>
                  <a:lnTo>
                    <a:pt x="974" y="408"/>
                  </a:lnTo>
                  <a:lnTo>
                    <a:pt x="970" y="398"/>
                  </a:lnTo>
                  <a:lnTo>
                    <a:pt x="964" y="386"/>
                  </a:lnTo>
                  <a:lnTo>
                    <a:pt x="956" y="374"/>
                  </a:lnTo>
                  <a:lnTo>
                    <a:pt x="944" y="362"/>
                  </a:lnTo>
                  <a:lnTo>
                    <a:pt x="930" y="348"/>
                  </a:lnTo>
                  <a:lnTo>
                    <a:pt x="914" y="334"/>
                  </a:lnTo>
                  <a:lnTo>
                    <a:pt x="914" y="334"/>
                  </a:lnTo>
                  <a:lnTo>
                    <a:pt x="886" y="314"/>
                  </a:lnTo>
                  <a:lnTo>
                    <a:pt x="860" y="296"/>
                  </a:lnTo>
                  <a:lnTo>
                    <a:pt x="832" y="280"/>
                  </a:lnTo>
                  <a:lnTo>
                    <a:pt x="806" y="266"/>
                  </a:lnTo>
                  <a:lnTo>
                    <a:pt x="806" y="266"/>
                  </a:lnTo>
                  <a:lnTo>
                    <a:pt x="784" y="256"/>
                  </a:lnTo>
                  <a:lnTo>
                    <a:pt x="770" y="246"/>
                  </a:lnTo>
                  <a:lnTo>
                    <a:pt x="762" y="238"/>
                  </a:lnTo>
                  <a:lnTo>
                    <a:pt x="760" y="234"/>
                  </a:lnTo>
                  <a:lnTo>
                    <a:pt x="760" y="230"/>
                  </a:lnTo>
                  <a:lnTo>
                    <a:pt x="760" y="230"/>
                  </a:lnTo>
                  <a:lnTo>
                    <a:pt x="764" y="222"/>
                  </a:lnTo>
                  <a:lnTo>
                    <a:pt x="768" y="216"/>
                  </a:lnTo>
                  <a:lnTo>
                    <a:pt x="776" y="210"/>
                  </a:lnTo>
                  <a:lnTo>
                    <a:pt x="784" y="206"/>
                  </a:lnTo>
                  <a:lnTo>
                    <a:pt x="794" y="202"/>
                  </a:lnTo>
                  <a:lnTo>
                    <a:pt x="806" y="200"/>
                  </a:lnTo>
                  <a:lnTo>
                    <a:pt x="836" y="196"/>
                  </a:lnTo>
                  <a:lnTo>
                    <a:pt x="836" y="196"/>
                  </a:lnTo>
                  <a:lnTo>
                    <a:pt x="858" y="198"/>
                  </a:lnTo>
                  <a:lnTo>
                    <a:pt x="882" y="200"/>
                  </a:lnTo>
                  <a:lnTo>
                    <a:pt x="904" y="204"/>
                  </a:lnTo>
                  <a:lnTo>
                    <a:pt x="928" y="210"/>
                  </a:lnTo>
                  <a:lnTo>
                    <a:pt x="928" y="210"/>
                  </a:lnTo>
                  <a:lnTo>
                    <a:pt x="952" y="216"/>
                  </a:lnTo>
                  <a:lnTo>
                    <a:pt x="976" y="224"/>
                  </a:lnTo>
                  <a:lnTo>
                    <a:pt x="998" y="234"/>
                  </a:lnTo>
                  <a:lnTo>
                    <a:pt x="1020" y="244"/>
                  </a:lnTo>
                  <a:lnTo>
                    <a:pt x="1040" y="256"/>
                  </a:lnTo>
                  <a:lnTo>
                    <a:pt x="1060" y="268"/>
                  </a:lnTo>
                  <a:lnTo>
                    <a:pt x="1078" y="282"/>
                  </a:lnTo>
                  <a:lnTo>
                    <a:pt x="1096" y="298"/>
                  </a:lnTo>
                  <a:lnTo>
                    <a:pt x="1096" y="298"/>
                  </a:lnTo>
                  <a:lnTo>
                    <a:pt x="1116" y="318"/>
                  </a:lnTo>
                  <a:lnTo>
                    <a:pt x="1132" y="338"/>
                  </a:lnTo>
                  <a:lnTo>
                    <a:pt x="1144" y="358"/>
                  </a:lnTo>
                  <a:lnTo>
                    <a:pt x="1154" y="378"/>
                  </a:lnTo>
                  <a:lnTo>
                    <a:pt x="1158" y="400"/>
                  </a:lnTo>
                  <a:lnTo>
                    <a:pt x="1162" y="422"/>
                  </a:lnTo>
                  <a:lnTo>
                    <a:pt x="1160" y="446"/>
                  </a:lnTo>
                  <a:lnTo>
                    <a:pt x="1156" y="468"/>
                  </a:lnTo>
                  <a:lnTo>
                    <a:pt x="1156" y="4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7763040" y="3584520"/>
              <a:ext cx="1666800" cy="187956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050" h="1184">
                  <a:moveTo>
                    <a:pt x="1016" y="876"/>
                  </a:moveTo>
                  <a:lnTo>
                    <a:pt x="1016" y="876"/>
                  </a:lnTo>
                  <a:lnTo>
                    <a:pt x="1008" y="904"/>
                  </a:lnTo>
                  <a:lnTo>
                    <a:pt x="998" y="932"/>
                  </a:lnTo>
                  <a:lnTo>
                    <a:pt x="988" y="958"/>
                  </a:lnTo>
                  <a:lnTo>
                    <a:pt x="978" y="984"/>
                  </a:lnTo>
                  <a:lnTo>
                    <a:pt x="964" y="1010"/>
                  </a:lnTo>
                  <a:lnTo>
                    <a:pt x="952" y="1036"/>
                  </a:lnTo>
                  <a:lnTo>
                    <a:pt x="936" y="1060"/>
                  </a:lnTo>
                  <a:lnTo>
                    <a:pt x="920" y="1084"/>
                  </a:lnTo>
                  <a:lnTo>
                    <a:pt x="920" y="1084"/>
                  </a:lnTo>
                  <a:lnTo>
                    <a:pt x="898" y="1112"/>
                  </a:lnTo>
                  <a:lnTo>
                    <a:pt x="876" y="1136"/>
                  </a:lnTo>
                  <a:lnTo>
                    <a:pt x="854" y="1154"/>
                  </a:lnTo>
                  <a:lnTo>
                    <a:pt x="832" y="1168"/>
                  </a:lnTo>
                  <a:lnTo>
                    <a:pt x="810" y="1178"/>
                  </a:lnTo>
                  <a:lnTo>
                    <a:pt x="786" y="1184"/>
                  </a:lnTo>
                  <a:lnTo>
                    <a:pt x="764" y="1184"/>
                  </a:lnTo>
                  <a:lnTo>
                    <a:pt x="742" y="1182"/>
                  </a:lnTo>
                  <a:lnTo>
                    <a:pt x="742" y="1182"/>
                  </a:lnTo>
                  <a:lnTo>
                    <a:pt x="722" y="1176"/>
                  </a:lnTo>
                  <a:lnTo>
                    <a:pt x="704" y="1166"/>
                  </a:lnTo>
                  <a:lnTo>
                    <a:pt x="682" y="1154"/>
                  </a:lnTo>
                  <a:lnTo>
                    <a:pt x="660" y="1138"/>
                  </a:lnTo>
                  <a:lnTo>
                    <a:pt x="638" y="1120"/>
                  </a:lnTo>
                  <a:lnTo>
                    <a:pt x="612" y="1098"/>
                  </a:lnTo>
                  <a:lnTo>
                    <a:pt x="586" y="1074"/>
                  </a:lnTo>
                  <a:lnTo>
                    <a:pt x="560" y="1046"/>
                  </a:lnTo>
                  <a:lnTo>
                    <a:pt x="560" y="1046"/>
                  </a:lnTo>
                  <a:lnTo>
                    <a:pt x="514" y="992"/>
                  </a:lnTo>
                  <a:lnTo>
                    <a:pt x="476" y="944"/>
                  </a:lnTo>
                  <a:lnTo>
                    <a:pt x="460" y="922"/>
                  </a:lnTo>
                  <a:lnTo>
                    <a:pt x="446" y="900"/>
                  </a:lnTo>
                  <a:lnTo>
                    <a:pt x="434" y="878"/>
                  </a:lnTo>
                  <a:lnTo>
                    <a:pt x="424" y="858"/>
                  </a:lnTo>
                  <a:lnTo>
                    <a:pt x="424" y="858"/>
                  </a:lnTo>
                  <a:lnTo>
                    <a:pt x="396" y="908"/>
                  </a:lnTo>
                  <a:lnTo>
                    <a:pt x="382" y="930"/>
                  </a:lnTo>
                  <a:lnTo>
                    <a:pt x="368" y="950"/>
                  </a:lnTo>
                  <a:lnTo>
                    <a:pt x="352" y="968"/>
                  </a:lnTo>
                  <a:lnTo>
                    <a:pt x="338" y="986"/>
                  </a:lnTo>
                  <a:lnTo>
                    <a:pt x="322" y="1000"/>
                  </a:lnTo>
                  <a:lnTo>
                    <a:pt x="308" y="1012"/>
                  </a:lnTo>
                  <a:lnTo>
                    <a:pt x="292" y="1022"/>
                  </a:lnTo>
                  <a:lnTo>
                    <a:pt x="276" y="1030"/>
                  </a:lnTo>
                  <a:lnTo>
                    <a:pt x="260" y="1038"/>
                  </a:lnTo>
                  <a:lnTo>
                    <a:pt x="244" y="1042"/>
                  </a:lnTo>
                  <a:lnTo>
                    <a:pt x="228" y="1044"/>
                  </a:lnTo>
                  <a:lnTo>
                    <a:pt x="212" y="1044"/>
                  </a:lnTo>
                  <a:lnTo>
                    <a:pt x="196" y="1044"/>
                  </a:lnTo>
                  <a:lnTo>
                    <a:pt x="180" y="1040"/>
                  </a:lnTo>
                  <a:lnTo>
                    <a:pt x="180" y="1040"/>
                  </a:lnTo>
                  <a:lnTo>
                    <a:pt x="162" y="1036"/>
                  </a:lnTo>
                  <a:lnTo>
                    <a:pt x="148" y="1028"/>
                  </a:lnTo>
                  <a:lnTo>
                    <a:pt x="132" y="1022"/>
                  </a:lnTo>
                  <a:lnTo>
                    <a:pt x="118" y="1012"/>
                  </a:lnTo>
                  <a:lnTo>
                    <a:pt x="104" y="1002"/>
                  </a:lnTo>
                  <a:lnTo>
                    <a:pt x="90" y="990"/>
                  </a:lnTo>
                  <a:lnTo>
                    <a:pt x="76" y="976"/>
                  </a:lnTo>
                  <a:lnTo>
                    <a:pt x="64" y="962"/>
                  </a:lnTo>
                  <a:lnTo>
                    <a:pt x="64" y="962"/>
                  </a:lnTo>
                  <a:lnTo>
                    <a:pt x="52" y="946"/>
                  </a:lnTo>
                  <a:lnTo>
                    <a:pt x="42" y="928"/>
                  </a:lnTo>
                  <a:lnTo>
                    <a:pt x="32" y="912"/>
                  </a:lnTo>
                  <a:lnTo>
                    <a:pt x="24" y="892"/>
                  </a:lnTo>
                  <a:lnTo>
                    <a:pt x="16" y="874"/>
                  </a:lnTo>
                  <a:lnTo>
                    <a:pt x="10" y="854"/>
                  </a:lnTo>
                  <a:lnTo>
                    <a:pt x="6" y="832"/>
                  </a:lnTo>
                  <a:lnTo>
                    <a:pt x="2" y="812"/>
                  </a:lnTo>
                  <a:lnTo>
                    <a:pt x="0" y="790"/>
                  </a:lnTo>
                  <a:lnTo>
                    <a:pt x="0" y="766"/>
                  </a:lnTo>
                  <a:lnTo>
                    <a:pt x="0" y="742"/>
                  </a:lnTo>
                  <a:lnTo>
                    <a:pt x="2" y="718"/>
                  </a:lnTo>
                  <a:lnTo>
                    <a:pt x="10" y="666"/>
                  </a:lnTo>
                  <a:lnTo>
                    <a:pt x="22" y="612"/>
                  </a:lnTo>
                  <a:lnTo>
                    <a:pt x="22" y="612"/>
                  </a:lnTo>
                  <a:lnTo>
                    <a:pt x="32" y="576"/>
                  </a:lnTo>
                  <a:lnTo>
                    <a:pt x="44" y="538"/>
                  </a:lnTo>
                  <a:lnTo>
                    <a:pt x="58" y="500"/>
                  </a:lnTo>
                  <a:lnTo>
                    <a:pt x="74" y="458"/>
                  </a:lnTo>
                  <a:lnTo>
                    <a:pt x="94" y="416"/>
                  </a:lnTo>
                  <a:lnTo>
                    <a:pt x="114" y="372"/>
                  </a:lnTo>
                  <a:lnTo>
                    <a:pt x="162" y="276"/>
                  </a:lnTo>
                  <a:lnTo>
                    <a:pt x="162" y="276"/>
                  </a:lnTo>
                  <a:lnTo>
                    <a:pt x="202" y="212"/>
                  </a:lnTo>
                  <a:lnTo>
                    <a:pt x="202" y="212"/>
                  </a:lnTo>
                  <a:lnTo>
                    <a:pt x="220" y="174"/>
                  </a:lnTo>
                  <a:lnTo>
                    <a:pt x="226" y="158"/>
                  </a:lnTo>
                  <a:lnTo>
                    <a:pt x="230" y="144"/>
                  </a:lnTo>
                  <a:lnTo>
                    <a:pt x="230" y="144"/>
                  </a:lnTo>
                  <a:lnTo>
                    <a:pt x="234" y="122"/>
                  </a:lnTo>
                  <a:lnTo>
                    <a:pt x="234" y="92"/>
                  </a:lnTo>
                  <a:lnTo>
                    <a:pt x="234" y="92"/>
                  </a:lnTo>
                  <a:lnTo>
                    <a:pt x="234" y="64"/>
                  </a:lnTo>
                  <a:lnTo>
                    <a:pt x="236" y="46"/>
                  </a:lnTo>
                  <a:lnTo>
                    <a:pt x="236" y="46"/>
                  </a:lnTo>
                  <a:lnTo>
                    <a:pt x="240" y="32"/>
                  </a:lnTo>
                  <a:lnTo>
                    <a:pt x="246" y="20"/>
                  </a:lnTo>
                  <a:lnTo>
                    <a:pt x="254" y="12"/>
                  </a:lnTo>
                  <a:lnTo>
                    <a:pt x="264" y="6"/>
                  </a:lnTo>
                  <a:lnTo>
                    <a:pt x="274" y="2"/>
                  </a:lnTo>
                  <a:lnTo>
                    <a:pt x="288" y="0"/>
                  </a:lnTo>
                  <a:lnTo>
                    <a:pt x="302" y="0"/>
                  </a:lnTo>
                  <a:lnTo>
                    <a:pt x="318" y="4"/>
                  </a:lnTo>
                  <a:lnTo>
                    <a:pt x="318" y="4"/>
                  </a:lnTo>
                  <a:lnTo>
                    <a:pt x="332" y="10"/>
                  </a:lnTo>
                  <a:lnTo>
                    <a:pt x="348" y="20"/>
                  </a:lnTo>
                  <a:lnTo>
                    <a:pt x="364" y="36"/>
                  </a:lnTo>
                  <a:lnTo>
                    <a:pt x="382" y="56"/>
                  </a:lnTo>
                  <a:lnTo>
                    <a:pt x="382" y="56"/>
                  </a:lnTo>
                  <a:lnTo>
                    <a:pt x="404" y="82"/>
                  </a:lnTo>
                  <a:lnTo>
                    <a:pt x="422" y="110"/>
                  </a:lnTo>
                  <a:lnTo>
                    <a:pt x="436" y="138"/>
                  </a:lnTo>
                  <a:lnTo>
                    <a:pt x="446" y="166"/>
                  </a:lnTo>
                  <a:lnTo>
                    <a:pt x="452" y="196"/>
                  </a:lnTo>
                  <a:lnTo>
                    <a:pt x="454" y="224"/>
                  </a:lnTo>
                  <a:lnTo>
                    <a:pt x="452" y="254"/>
                  </a:lnTo>
                  <a:lnTo>
                    <a:pt x="446" y="284"/>
                  </a:lnTo>
                  <a:lnTo>
                    <a:pt x="446" y="284"/>
                  </a:lnTo>
                  <a:lnTo>
                    <a:pt x="442" y="294"/>
                  </a:lnTo>
                  <a:lnTo>
                    <a:pt x="436" y="308"/>
                  </a:lnTo>
                  <a:lnTo>
                    <a:pt x="412" y="350"/>
                  </a:lnTo>
                  <a:lnTo>
                    <a:pt x="374" y="406"/>
                  </a:lnTo>
                  <a:lnTo>
                    <a:pt x="326" y="480"/>
                  </a:lnTo>
                  <a:lnTo>
                    <a:pt x="326" y="480"/>
                  </a:lnTo>
                  <a:lnTo>
                    <a:pt x="298" y="520"/>
                  </a:lnTo>
                  <a:lnTo>
                    <a:pt x="274" y="560"/>
                  </a:lnTo>
                  <a:lnTo>
                    <a:pt x="252" y="598"/>
                  </a:lnTo>
                  <a:lnTo>
                    <a:pt x="232" y="634"/>
                  </a:lnTo>
                  <a:lnTo>
                    <a:pt x="216" y="668"/>
                  </a:lnTo>
                  <a:lnTo>
                    <a:pt x="200" y="702"/>
                  </a:lnTo>
                  <a:lnTo>
                    <a:pt x="190" y="734"/>
                  </a:lnTo>
                  <a:lnTo>
                    <a:pt x="180" y="764"/>
                  </a:lnTo>
                  <a:lnTo>
                    <a:pt x="180" y="764"/>
                  </a:lnTo>
                  <a:lnTo>
                    <a:pt x="174" y="792"/>
                  </a:lnTo>
                  <a:lnTo>
                    <a:pt x="170" y="814"/>
                  </a:lnTo>
                  <a:lnTo>
                    <a:pt x="170" y="834"/>
                  </a:lnTo>
                  <a:lnTo>
                    <a:pt x="172" y="852"/>
                  </a:lnTo>
                  <a:lnTo>
                    <a:pt x="176" y="866"/>
                  </a:lnTo>
                  <a:lnTo>
                    <a:pt x="184" y="878"/>
                  </a:lnTo>
                  <a:lnTo>
                    <a:pt x="194" y="886"/>
                  </a:lnTo>
                  <a:lnTo>
                    <a:pt x="206" y="890"/>
                  </a:lnTo>
                  <a:lnTo>
                    <a:pt x="206" y="890"/>
                  </a:lnTo>
                  <a:lnTo>
                    <a:pt x="212" y="892"/>
                  </a:lnTo>
                  <a:lnTo>
                    <a:pt x="220" y="890"/>
                  </a:lnTo>
                  <a:lnTo>
                    <a:pt x="228" y="888"/>
                  </a:lnTo>
                  <a:lnTo>
                    <a:pt x="236" y="884"/>
                  </a:lnTo>
                  <a:lnTo>
                    <a:pt x="254" y="872"/>
                  </a:lnTo>
                  <a:lnTo>
                    <a:pt x="274" y="852"/>
                  </a:lnTo>
                  <a:lnTo>
                    <a:pt x="274" y="852"/>
                  </a:lnTo>
                  <a:lnTo>
                    <a:pt x="286" y="838"/>
                  </a:lnTo>
                  <a:lnTo>
                    <a:pt x="298" y="820"/>
                  </a:lnTo>
                  <a:lnTo>
                    <a:pt x="322" y="780"/>
                  </a:lnTo>
                  <a:lnTo>
                    <a:pt x="348" y="728"/>
                  </a:lnTo>
                  <a:lnTo>
                    <a:pt x="376" y="666"/>
                  </a:lnTo>
                  <a:lnTo>
                    <a:pt x="376" y="666"/>
                  </a:lnTo>
                  <a:lnTo>
                    <a:pt x="420" y="568"/>
                  </a:lnTo>
                  <a:lnTo>
                    <a:pt x="462" y="480"/>
                  </a:lnTo>
                  <a:lnTo>
                    <a:pt x="484" y="442"/>
                  </a:lnTo>
                  <a:lnTo>
                    <a:pt x="506" y="406"/>
                  </a:lnTo>
                  <a:lnTo>
                    <a:pt x="526" y="372"/>
                  </a:lnTo>
                  <a:lnTo>
                    <a:pt x="548" y="342"/>
                  </a:lnTo>
                  <a:lnTo>
                    <a:pt x="568" y="314"/>
                  </a:lnTo>
                  <a:lnTo>
                    <a:pt x="590" y="290"/>
                  </a:lnTo>
                  <a:lnTo>
                    <a:pt x="610" y="268"/>
                  </a:lnTo>
                  <a:lnTo>
                    <a:pt x="630" y="248"/>
                  </a:lnTo>
                  <a:lnTo>
                    <a:pt x="650" y="232"/>
                  </a:lnTo>
                  <a:lnTo>
                    <a:pt x="672" y="220"/>
                  </a:lnTo>
                  <a:lnTo>
                    <a:pt x="692" y="208"/>
                  </a:lnTo>
                  <a:lnTo>
                    <a:pt x="712" y="202"/>
                  </a:lnTo>
                  <a:lnTo>
                    <a:pt x="712" y="202"/>
                  </a:lnTo>
                  <a:lnTo>
                    <a:pt x="742" y="196"/>
                  </a:lnTo>
                  <a:lnTo>
                    <a:pt x="776" y="194"/>
                  </a:lnTo>
                  <a:lnTo>
                    <a:pt x="808" y="196"/>
                  </a:lnTo>
                  <a:lnTo>
                    <a:pt x="842" y="202"/>
                  </a:lnTo>
                  <a:lnTo>
                    <a:pt x="842" y="202"/>
                  </a:lnTo>
                  <a:lnTo>
                    <a:pt x="868" y="212"/>
                  </a:lnTo>
                  <a:lnTo>
                    <a:pt x="894" y="226"/>
                  </a:lnTo>
                  <a:lnTo>
                    <a:pt x="920" y="244"/>
                  </a:lnTo>
                  <a:lnTo>
                    <a:pt x="946" y="268"/>
                  </a:lnTo>
                  <a:lnTo>
                    <a:pt x="946" y="268"/>
                  </a:lnTo>
                  <a:lnTo>
                    <a:pt x="968" y="292"/>
                  </a:lnTo>
                  <a:lnTo>
                    <a:pt x="988" y="320"/>
                  </a:lnTo>
                  <a:lnTo>
                    <a:pt x="1004" y="352"/>
                  </a:lnTo>
                  <a:lnTo>
                    <a:pt x="1018" y="386"/>
                  </a:lnTo>
                  <a:lnTo>
                    <a:pt x="1030" y="424"/>
                  </a:lnTo>
                  <a:lnTo>
                    <a:pt x="1038" y="466"/>
                  </a:lnTo>
                  <a:lnTo>
                    <a:pt x="1046" y="510"/>
                  </a:lnTo>
                  <a:lnTo>
                    <a:pt x="1050" y="558"/>
                  </a:lnTo>
                  <a:lnTo>
                    <a:pt x="1050" y="558"/>
                  </a:lnTo>
                  <a:lnTo>
                    <a:pt x="1050" y="598"/>
                  </a:lnTo>
                  <a:lnTo>
                    <a:pt x="1050" y="638"/>
                  </a:lnTo>
                  <a:lnTo>
                    <a:pt x="1048" y="678"/>
                  </a:lnTo>
                  <a:lnTo>
                    <a:pt x="1044" y="716"/>
                  </a:lnTo>
                  <a:lnTo>
                    <a:pt x="1040" y="756"/>
                  </a:lnTo>
                  <a:lnTo>
                    <a:pt x="1034" y="796"/>
                  </a:lnTo>
                  <a:lnTo>
                    <a:pt x="1026" y="836"/>
                  </a:lnTo>
                  <a:lnTo>
                    <a:pt x="1016" y="876"/>
                  </a:lnTo>
                  <a:lnTo>
                    <a:pt x="1016" y="876"/>
                  </a:lnTo>
                  <a:close/>
                  <a:moveTo>
                    <a:pt x="846" y="704"/>
                  </a:moveTo>
                  <a:lnTo>
                    <a:pt x="846" y="704"/>
                  </a:lnTo>
                  <a:lnTo>
                    <a:pt x="860" y="646"/>
                  </a:lnTo>
                  <a:lnTo>
                    <a:pt x="870" y="590"/>
                  </a:lnTo>
                  <a:lnTo>
                    <a:pt x="876" y="536"/>
                  </a:lnTo>
                  <a:lnTo>
                    <a:pt x="876" y="482"/>
                  </a:lnTo>
                  <a:lnTo>
                    <a:pt x="876" y="482"/>
                  </a:lnTo>
                  <a:lnTo>
                    <a:pt x="876" y="446"/>
                  </a:lnTo>
                  <a:lnTo>
                    <a:pt x="872" y="412"/>
                  </a:lnTo>
                  <a:lnTo>
                    <a:pt x="864" y="384"/>
                  </a:lnTo>
                  <a:lnTo>
                    <a:pt x="854" y="358"/>
                  </a:lnTo>
                  <a:lnTo>
                    <a:pt x="842" y="338"/>
                  </a:lnTo>
                  <a:lnTo>
                    <a:pt x="836" y="330"/>
                  </a:lnTo>
                  <a:lnTo>
                    <a:pt x="828" y="322"/>
                  </a:lnTo>
                  <a:lnTo>
                    <a:pt x="820" y="316"/>
                  </a:lnTo>
                  <a:lnTo>
                    <a:pt x="810" y="310"/>
                  </a:lnTo>
                  <a:lnTo>
                    <a:pt x="800" y="306"/>
                  </a:lnTo>
                  <a:lnTo>
                    <a:pt x="790" y="302"/>
                  </a:lnTo>
                  <a:lnTo>
                    <a:pt x="790" y="302"/>
                  </a:lnTo>
                  <a:lnTo>
                    <a:pt x="772" y="300"/>
                  </a:lnTo>
                  <a:lnTo>
                    <a:pt x="752" y="300"/>
                  </a:lnTo>
                  <a:lnTo>
                    <a:pt x="734" y="306"/>
                  </a:lnTo>
                  <a:lnTo>
                    <a:pt x="714" y="316"/>
                  </a:lnTo>
                  <a:lnTo>
                    <a:pt x="694" y="328"/>
                  </a:lnTo>
                  <a:lnTo>
                    <a:pt x="674" y="346"/>
                  </a:lnTo>
                  <a:lnTo>
                    <a:pt x="656" y="368"/>
                  </a:lnTo>
                  <a:lnTo>
                    <a:pt x="636" y="394"/>
                  </a:lnTo>
                  <a:lnTo>
                    <a:pt x="636" y="394"/>
                  </a:lnTo>
                  <a:lnTo>
                    <a:pt x="608" y="438"/>
                  </a:lnTo>
                  <a:lnTo>
                    <a:pt x="578" y="494"/>
                  </a:lnTo>
                  <a:lnTo>
                    <a:pt x="546" y="558"/>
                  </a:lnTo>
                  <a:lnTo>
                    <a:pt x="514" y="630"/>
                  </a:lnTo>
                  <a:lnTo>
                    <a:pt x="514" y="630"/>
                  </a:lnTo>
                  <a:lnTo>
                    <a:pt x="438" y="824"/>
                  </a:lnTo>
                  <a:lnTo>
                    <a:pt x="438" y="824"/>
                  </a:lnTo>
                  <a:lnTo>
                    <a:pt x="540" y="890"/>
                  </a:lnTo>
                  <a:lnTo>
                    <a:pt x="540" y="890"/>
                  </a:lnTo>
                  <a:lnTo>
                    <a:pt x="572" y="906"/>
                  </a:lnTo>
                  <a:lnTo>
                    <a:pt x="600" y="920"/>
                  </a:lnTo>
                  <a:lnTo>
                    <a:pt x="624" y="930"/>
                  </a:lnTo>
                  <a:lnTo>
                    <a:pt x="648" y="938"/>
                  </a:lnTo>
                  <a:lnTo>
                    <a:pt x="648" y="938"/>
                  </a:lnTo>
                  <a:lnTo>
                    <a:pt x="668" y="940"/>
                  </a:lnTo>
                  <a:lnTo>
                    <a:pt x="686" y="940"/>
                  </a:lnTo>
                  <a:lnTo>
                    <a:pt x="702" y="936"/>
                  </a:lnTo>
                  <a:lnTo>
                    <a:pt x="720" y="928"/>
                  </a:lnTo>
                  <a:lnTo>
                    <a:pt x="736" y="918"/>
                  </a:lnTo>
                  <a:lnTo>
                    <a:pt x="752" y="904"/>
                  </a:lnTo>
                  <a:lnTo>
                    <a:pt x="766" y="884"/>
                  </a:lnTo>
                  <a:lnTo>
                    <a:pt x="782" y="864"/>
                  </a:lnTo>
                  <a:lnTo>
                    <a:pt x="782" y="864"/>
                  </a:lnTo>
                  <a:lnTo>
                    <a:pt x="800" y="830"/>
                  </a:lnTo>
                  <a:lnTo>
                    <a:pt x="818" y="792"/>
                  </a:lnTo>
                  <a:lnTo>
                    <a:pt x="834" y="750"/>
                  </a:lnTo>
                  <a:lnTo>
                    <a:pt x="846" y="704"/>
                  </a:lnTo>
                  <a:lnTo>
                    <a:pt x="846" y="70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7343640" y="5352840"/>
              <a:ext cx="1577880" cy="1892160"/>
            </a:xfrm>
            <a:custGeom>
              <a:avLst/>
              <a:gdLst>
                <a:gd name="textAreaLeft" fmla="*/ 0 w 1577880"/>
                <a:gd name="textAreaRight" fmla="*/ 1578240 w 157788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994" h="1192">
                  <a:moveTo>
                    <a:pt x="982" y="894"/>
                  </a:moveTo>
                  <a:lnTo>
                    <a:pt x="982" y="894"/>
                  </a:lnTo>
                  <a:lnTo>
                    <a:pt x="976" y="916"/>
                  </a:lnTo>
                  <a:lnTo>
                    <a:pt x="968" y="938"/>
                  </a:lnTo>
                  <a:lnTo>
                    <a:pt x="958" y="960"/>
                  </a:lnTo>
                  <a:lnTo>
                    <a:pt x="948" y="980"/>
                  </a:lnTo>
                  <a:lnTo>
                    <a:pt x="938" y="1000"/>
                  </a:lnTo>
                  <a:lnTo>
                    <a:pt x="924" y="1018"/>
                  </a:lnTo>
                  <a:lnTo>
                    <a:pt x="912" y="1036"/>
                  </a:lnTo>
                  <a:lnTo>
                    <a:pt x="896" y="1052"/>
                  </a:lnTo>
                  <a:lnTo>
                    <a:pt x="880" y="1068"/>
                  </a:lnTo>
                  <a:lnTo>
                    <a:pt x="864" y="1084"/>
                  </a:lnTo>
                  <a:lnTo>
                    <a:pt x="844" y="1098"/>
                  </a:lnTo>
                  <a:lnTo>
                    <a:pt x="826" y="1110"/>
                  </a:lnTo>
                  <a:lnTo>
                    <a:pt x="804" y="1122"/>
                  </a:lnTo>
                  <a:lnTo>
                    <a:pt x="782" y="1134"/>
                  </a:lnTo>
                  <a:lnTo>
                    <a:pt x="760" y="1144"/>
                  </a:lnTo>
                  <a:lnTo>
                    <a:pt x="736" y="1154"/>
                  </a:lnTo>
                  <a:lnTo>
                    <a:pt x="736" y="1154"/>
                  </a:lnTo>
                  <a:lnTo>
                    <a:pt x="690" y="1168"/>
                  </a:lnTo>
                  <a:lnTo>
                    <a:pt x="646" y="1180"/>
                  </a:lnTo>
                  <a:lnTo>
                    <a:pt x="600" y="1188"/>
                  </a:lnTo>
                  <a:lnTo>
                    <a:pt x="554" y="1192"/>
                  </a:lnTo>
                  <a:lnTo>
                    <a:pt x="508" y="1192"/>
                  </a:lnTo>
                  <a:lnTo>
                    <a:pt x="460" y="1188"/>
                  </a:lnTo>
                  <a:lnTo>
                    <a:pt x="412" y="1180"/>
                  </a:lnTo>
                  <a:lnTo>
                    <a:pt x="364" y="1170"/>
                  </a:lnTo>
                  <a:lnTo>
                    <a:pt x="364" y="1170"/>
                  </a:lnTo>
                  <a:lnTo>
                    <a:pt x="320" y="1158"/>
                  </a:lnTo>
                  <a:lnTo>
                    <a:pt x="280" y="1142"/>
                  </a:lnTo>
                  <a:lnTo>
                    <a:pt x="242" y="1124"/>
                  </a:lnTo>
                  <a:lnTo>
                    <a:pt x="204" y="1102"/>
                  </a:lnTo>
                  <a:lnTo>
                    <a:pt x="172" y="1078"/>
                  </a:lnTo>
                  <a:lnTo>
                    <a:pt x="140" y="1052"/>
                  </a:lnTo>
                  <a:lnTo>
                    <a:pt x="110" y="1022"/>
                  </a:lnTo>
                  <a:lnTo>
                    <a:pt x="84" y="990"/>
                  </a:lnTo>
                  <a:lnTo>
                    <a:pt x="84" y="990"/>
                  </a:lnTo>
                  <a:lnTo>
                    <a:pt x="56" y="954"/>
                  </a:lnTo>
                  <a:lnTo>
                    <a:pt x="36" y="916"/>
                  </a:lnTo>
                  <a:lnTo>
                    <a:pt x="26" y="898"/>
                  </a:lnTo>
                  <a:lnTo>
                    <a:pt x="20" y="878"/>
                  </a:lnTo>
                  <a:lnTo>
                    <a:pt x="12" y="860"/>
                  </a:lnTo>
                  <a:lnTo>
                    <a:pt x="8" y="840"/>
                  </a:lnTo>
                  <a:lnTo>
                    <a:pt x="4" y="820"/>
                  </a:lnTo>
                  <a:lnTo>
                    <a:pt x="2" y="800"/>
                  </a:lnTo>
                  <a:lnTo>
                    <a:pt x="0" y="778"/>
                  </a:lnTo>
                  <a:lnTo>
                    <a:pt x="0" y="758"/>
                  </a:lnTo>
                  <a:lnTo>
                    <a:pt x="2" y="738"/>
                  </a:lnTo>
                  <a:lnTo>
                    <a:pt x="4" y="716"/>
                  </a:lnTo>
                  <a:lnTo>
                    <a:pt x="12" y="674"/>
                  </a:lnTo>
                  <a:lnTo>
                    <a:pt x="12" y="674"/>
                  </a:lnTo>
                  <a:lnTo>
                    <a:pt x="28" y="622"/>
                  </a:lnTo>
                  <a:lnTo>
                    <a:pt x="48" y="568"/>
                  </a:lnTo>
                  <a:lnTo>
                    <a:pt x="74" y="514"/>
                  </a:lnTo>
                  <a:lnTo>
                    <a:pt x="104" y="458"/>
                  </a:lnTo>
                  <a:lnTo>
                    <a:pt x="104" y="458"/>
                  </a:lnTo>
                  <a:lnTo>
                    <a:pt x="152" y="368"/>
                  </a:lnTo>
                  <a:lnTo>
                    <a:pt x="166" y="338"/>
                  </a:lnTo>
                  <a:lnTo>
                    <a:pt x="172" y="320"/>
                  </a:lnTo>
                  <a:lnTo>
                    <a:pt x="172" y="320"/>
                  </a:lnTo>
                  <a:lnTo>
                    <a:pt x="176" y="302"/>
                  </a:lnTo>
                  <a:lnTo>
                    <a:pt x="176" y="274"/>
                  </a:lnTo>
                  <a:lnTo>
                    <a:pt x="176" y="274"/>
                  </a:lnTo>
                  <a:lnTo>
                    <a:pt x="178" y="246"/>
                  </a:lnTo>
                  <a:lnTo>
                    <a:pt x="180" y="226"/>
                  </a:lnTo>
                  <a:lnTo>
                    <a:pt x="180" y="226"/>
                  </a:lnTo>
                  <a:lnTo>
                    <a:pt x="186" y="210"/>
                  </a:lnTo>
                  <a:lnTo>
                    <a:pt x="194" y="198"/>
                  </a:lnTo>
                  <a:lnTo>
                    <a:pt x="206" y="188"/>
                  </a:lnTo>
                  <a:lnTo>
                    <a:pt x="220" y="180"/>
                  </a:lnTo>
                  <a:lnTo>
                    <a:pt x="220" y="180"/>
                  </a:lnTo>
                  <a:lnTo>
                    <a:pt x="234" y="174"/>
                  </a:lnTo>
                  <a:lnTo>
                    <a:pt x="250" y="172"/>
                  </a:lnTo>
                  <a:lnTo>
                    <a:pt x="266" y="174"/>
                  </a:lnTo>
                  <a:lnTo>
                    <a:pt x="284" y="176"/>
                  </a:lnTo>
                  <a:lnTo>
                    <a:pt x="284" y="176"/>
                  </a:lnTo>
                  <a:lnTo>
                    <a:pt x="302" y="184"/>
                  </a:lnTo>
                  <a:lnTo>
                    <a:pt x="324" y="194"/>
                  </a:lnTo>
                  <a:lnTo>
                    <a:pt x="348" y="210"/>
                  </a:lnTo>
                  <a:lnTo>
                    <a:pt x="376" y="228"/>
                  </a:lnTo>
                  <a:lnTo>
                    <a:pt x="376" y="228"/>
                  </a:lnTo>
                  <a:lnTo>
                    <a:pt x="404" y="248"/>
                  </a:lnTo>
                  <a:lnTo>
                    <a:pt x="428" y="264"/>
                  </a:lnTo>
                  <a:lnTo>
                    <a:pt x="448" y="274"/>
                  </a:lnTo>
                  <a:lnTo>
                    <a:pt x="466" y="280"/>
                  </a:lnTo>
                  <a:lnTo>
                    <a:pt x="466" y="280"/>
                  </a:lnTo>
                  <a:lnTo>
                    <a:pt x="480" y="282"/>
                  </a:lnTo>
                  <a:lnTo>
                    <a:pt x="490" y="282"/>
                  </a:lnTo>
                  <a:lnTo>
                    <a:pt x="496" y="278"/>
                  </a:lnTo>
                  <a:lnTo>
                    <a:pt x="500" y="270"/>
                  </a:lnTo>
                  <a:lnTo>
                    <a:pt x="500" y="270"/>
                  </a:lnTo>
                  <a:lnTo>
                    <a:pt x="500" y="266"/>
                  </a:lnTo>
                  <a:lnTo>
                    <a:pt x="496" y="260"/>
                  </a:lnTo>
                  <a:lnTo>
                    <a:pt x="480" y="238"/>
                  </a:lnTo>
                  <a:lnTo>
                    <a:pt x="416" y="156"/>
                  </a:lnTo>
                  <a:lnTo>
                    <a:pt x="416" y="156"/>
                  </a:lnTo>
                  <a:lnTo>
                    <a:pt x="380" y="108"/>
                  </a:lnTo>
                  <a:lnTo>
                    <a:pt x="366" y="88"/>
                  </a:lnTo>
                  <a:lnTo>
                    <a:pt x="354" y="70"/>
                  </a:lnTo>
                  <a:lnTo>
                    <a:pt x="346" y="52"/>
                  </a:lnTo>
                  <a:lnTo>
                    <a:pt x="342" y="38"/>
                  </a:lnTo>
                  <a:lnTo>
                    <a:pt x="340" y="26"/>
                  </a:lnTo>
                  <a:lnTo>
                    <a:pt x="340" y="16"/>
                  </a:lnTo>
                  <a:lnTo>
                    <a:pt x="340" y="16"/>
                  </a:lnTo>
                  <a:lnTo>
                    <a:pt x="344" y="8"/>
                  </a:lnTo>
                  <a:lnTo>
                    <a:pt x="350" y="2"/>
                  </a:lnTo>
                  <a:lnTo>
                    <a:pt x="358" y="0"/>
                  </a:lnTo>
                  <a:lnTo>
                    <a:pt x="368" y="2"/>
                  </a:lnTo>
                  <a:lnTo>
                    <a:pt x="368" y="2"/>
                  </a:lnTo>
                  <a:lnTo>
                    <a:pt x="374" y="4"/>
                  </a:lnTo>
                  <a:lnTo>
                    <a:pt x="380" y="10"/>
                  </a:lnTo>
                  <a:lnTo>
                    <a:pt x="402" y="30"/>
                  </a:lnTo>
                  <a:lnTo>
                    <a:pt x="402" y="30"/>
                  </a:lnTo>
                  <a:lnTo>
                    <a:pt x="416" y="44"/>
                  </a:lnTo>
                  <a:lnTo>
                    <a:pt x="432" y="58"/>
                  </a:lnTo>
                  <a:lnTo>
                    <a:pt x="452" y="74"/>
                  </a:lnTo>
                  <a:lnTo>
                    <a:pt x="476" y="88"/>
                  </a:lnTo>
                  <a:lnTo>
                    <a:pt x="476" y="88"/>
                  </a:lnTo>
                  <a:lnTo>
                    <a:pt x="530" y="126"/>
                  </a:lnTo>
                  <a:lnTo>
                    <a:pt x="554" y="144"/>
                  </a:lnTo>
                  <a:lnTo>
                    <a:pt x="576" y="162"/>
                  </a:lnTo>
                  <a:lnTo>
                    <a:pt x="596" y="180"/>
                  </a:lnTo>
                  <a:lnTo>
                    <a:pt x="612" y="198"/>
                  </a:lnTo>
                  <a:lnTo>
                    <a:pt x="628" y="216"/>
                  </a:lnTo>
                  <a:lnTo>
                    <a:pt x="640" y="234"/>
                  </a:lnTo>
                  <a:lnTo>
                    <a:pt x="652" y="252"/>
                  </a:lnTo>
                  <a:lnTo>
                    <a:pt x="662" y="270"/>
                  </a:lnTo>
                  <a:lnTo>
                    <a:pt x="668" y="288"/>
                  </a:lnTo>
                  <a:lnTo>
                    <a:pt x="672" y="306"/>
                  </a:lnTo>
                  <a:lnTo>
                    <a:pt x="676" y="324"/>
                  </a:lnTo>
                  <a:lnTo>
                    <a:pt x="676" y="342"/>
                  </a:lnTo>
                  <a:lnTo>
                    <a:pt x="674" y="360"/>
                  </a:lnTo>
                  <a:lnTo>
                    <a:pt x="672" y="376"/>
                  </a:lnTo>
                  <a:lnTo>
                    <a:pt x="672" y="376"/>
                  </a:lnTo>
                  <a:lnTo>
                    <a:pt x="664" y="394"/>
                  </a:lnTo>
                  <a:lnTo>
                    <a:pt x="654" y="408"/>
                  </a:lnTo>
                  <a:lnTo>
                    <a:pt x="640" y="420"/>
                  </a:lnTo>
                  <a:lnTo>
                    <a:pt x="624" y="430"/>
                  </a:lnTo>
                  <a:lnTo>
                    <a:pt x="624" y="430"/>
                  </a:lnTo>
                  <a:lnTo>
                    <a:pt x="604" y="434"/>
                  </a:lnTo>
                  <a:lnTo>
                    <a:pt x="584" y="438"/>
                  </a:lnTo>
                  <a:lnTo>
                    <a:pt x="564" y="436"/>
                  </a:lnTo>
                  <a:lnTo>
                    <a:pt x="544" y="434"/>
                  </a:lnTo>
                  <a:lnTo>
                    <a:pt x="544" y="434"/>
                  </a:lnTo>
                  <a:lnTo>
                    <a:pt x="534" y="430"/>
                  </a:lnTo>
                  <a:lnTo>
                    <a:pt x="522" y="424"/>
                  </a:lnTo>
                  <a:lnTo>
                    <a:pt x="494" y="406"/>
                  </a:lnTo>
                  <a:lnTo>
                    <a:pt x="460" y="380"/>
                  </a:lnTo>
                  <a:lnTo>
                    <a:pt x="422" y="344"/>
                  </a:lnTo>
                  <a:lnTo>
                    <a:pt x="422" y="344"/>
                  </a:lnTo>
                  <a:lnTo>
                    <a:pt x="382" y="310"/>
                  </a:lnTo>
                  <a:lnTo>
                    <a:pt x="348" y="282"/>
                  </a:lnTo>
                  <a:lnTo>
                    <a:pt x="332" y="272"/>
                  </a:lnTo>
                  <a:lnTo>
                    <a:pt x="316" y="262"/>
                  </a:lnTo>
                  <a:lnTo>
                    <a:pt x="302" y="256"/>
                  </a:lnTo>
                  <a:lnTo>
                    <a:pt x="288" y="252"/>
                  </a:lnTo>
                  <a:lnTo>
                    <a:pt x="288" y="252"/>
                  </a:lnTo>
                  <a:lnTo>
                    <a:pt x="276" y="250"/>
                  </a:lnTo>
                  <a:lnTo>
                    <a:pt x="266" y="252"/>
                  </a:lnTo>
                  <a:lnTo>
                    <a:pt x="260" y="258"/>
                  </a:lnTo>
                  <a:lnTo>
                    <a:pt x="256" y="266"/>
                  </a:lnTo>
                  <a:lnTo>
                    <a:pt x="256" y="266"/>
                  </a:lnTo>
                  <a:lnTo>
                    <a:pt x="256" y="272"/>
                  </a:lnTo>
                  <a:lnTo>
                    <a:pt x="260" y="280"/>
                  </a:lnTo>
                  <a:lnTo>
                    <a:pt x="280" y="306"/>
                  </a:lnTo>
                  <a:lnTo>
                    <a:pt x="280" y="306"/>
                  </a:lnTo>
                  <a:lnTo>
                    <a:pt x="308" y="342"/>
                  </a:lnTo>
                  <a:lnTo>
                    <a:pt x="320" y="358"/>
                  </a:lnTo>
                  <a:lnTo>
                    <a:pt x="328" y="374"/>
                  </a:lnTo>
                  <a:lnTo>
                    <a:pt x="328" y="374"/>
                  </a:lnTo>
                  <a:lnTo>
                    <a:pt x="336" y="396"/>
                  </a:lnTo>
                  <a:lnTo>
                    <a:pt x="342" y="418"/>
                  </a:lnTo>
                  <a:lnTo>
                    <a:pt x="342" y="442"/>
                  </a:lnTo>
                  <a:lnTo>
                    <a:pt x="338" y="464"/>
                  </a:lnTo>
                  <a:lnTo>
                    <a:pt x="338" y="464"/>
                  </a:lnTo>
                  <a:lnTo>
                    <a:pt x="332" y="480"/>
                  </a:lnTo>
                  <a:lnTo>
                    <a:pt x="320" y="504"/>
                  </a:lnTo>
                  <a:lnTo>
                    <a:pt x="274" y="580"/>
                  </a:lnTo>
                  <a:lnTo>
                    <a:pt x="274" y="580"/>
                  </a:lnTo>
                  <a:lnTo>
                    <a:pt x="246" y="628"/>
                  </a:lnTo>
                  <a:lnTo>
                    <a:pt x="222" y="672"/>
                  </a:lnTo>
                  <a:lnTo>
                    <a:pt x="204" y="714"/>
                  </a:lnTo>
                  <a:lnTo>
                    <a:pt x="192" y="750"/>
                  </a:lnTo>
                  <a:lnTo>
                    <a:pt x="192" y="750"/>
                  </a:lnTo>
                  <a:lnTo>
                    <a:pt x="188" y="774"/>
                  </a:lnTo>
                  <a:lnTo>
                    <a:pt x="186" y="796"/>
                  </a:lnTo>
                  <a:lnTo>
                    <a:pt x="188" y="818"/>
                  </a:lnTo>
                  <a:lnTo>
                    <a:pt x="194" y="838"/>
                  </a:lnTo>
                  <a:lnTo>
                    <a:pt x="202" y="860"/>
                  </a:lnTo>
                  <a:lnTo>
                    <a:pt x="212" y="880"/>
                  </a:lnTo>
                  <a:lnTo>
                    <a:pt x="226" y="900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60" y="934"/>
                  </a:lnTo>
                  <a:lnTo>
                    <a:pt x="276" y="948"/>
                  </a:lnTo>
                  <a:lnTo>
                    <a:pt x="296" y="962"/>
                  </a:lnTo>
                  <a:lnTo>
                    <a:pt x="314" y="974"/>
                  </a:lnTo>
                  <a:lnTo>
                    <a:pt x="336" y="984"/>
                  </a:lnTo>
                  <a:lnTo>
                    <a:pt x="358" y="994"/>
                  </a:lnTo>
                  <a:lnTo>
                    <a:pt x="380" y="1002"/>
                  </a:lnTo>
                  <a:lnTo>
                    <a:pt x="406" y="1010"/>
                  </a:lnTo>
                  <a:lnTo>
                    <a:pt x="406" y="1010"/>
                  </a:lnTo>
                  <a:lnTo>
                    <a:pt x="444" y="1018"/>
                  </a:lnTo>
                  <a:lnTo>
                    <a:pt x="482" y="1022"/>
                  </a:lnTo>
                  <a:lnTo>
                    <a:pt x="516" y="1024"/>
                  </a:lnTo>
                  <a:lnTo>
                    <a:pt x="550" y="1022"/>
                  </a:lnTo>
                  <a:lnTo>
                    <a:pt x="584" y="1016"/>
                  </a:lnTo>
                  <a:lnTo>
                    <a:pt x="614" y="1006"/>
                  </a:lnTo>
                  <a:lnTo>
                    <a:pt x="644" y="994"/>
                  </a:lnTo>
                  <a:lnTo>
                    <a:pt x="672" y="976"/>
                  </a:lnTo>
                  <a:lnTo>
                    <a:pt x="672" y="976"/>
                  </a:lnTo>
                  <a:lnTo>
                    <a:pt x="698" y="958"/>
                  </a:lnTo>
                  <a:lnTo>
                    <a:pt x="722" y="936"/>
                  </a:lnTo>
                  <a:lnTo>
                    <a:pt x="744" y="910"/>
                  </a:lnTo>
                  <a:lnTo>
                    <a:pt x="764" y="884"/>
                  </a:lnTo>
                  <a:lnTo>
                    <a:pt x="782" y="854"/>
                  </a:lnTo>
                  <a:lnTo>
                    <a:pt x="798" y="820"/>
                  </a:lnTo>
                  <a:lnTo>
                    <a:pt x="812" y="786"/>
                  </a:lnTo>
                  <a:lnTo>
                    <a:pt x="822" y="746"/>
                  </a:lnTo>
                  <a:lnTo>
                    <a:pt x="822" y="746"/>
                  </a:lnTo>
                  <a:lnTo>
                    <a:pt x="830" y="716"/>
                  </a:lnTo>
                  <a:lnTo>
                    <a:pt x="836" y="686"/>
                  </a:lnTo>
                  <a:lnTo>
                    <a:pt x="840" y="654"/>
                  </a:lnTo>
                  <a:lnTo>
                    <a:pt x="844" y="620"/>
                  </a:lnTo>
                  <a:lnTo>
                    <a:pt x="848" y="550"/>
                  </a:lnTo>
                  <a:lnTo>
                    <a:pt x="848" y="476"/>
                  </a:lnTo>
                  <a:lnTo>
                    <a:pt x="848" y="476"/>
                  </a:lnTo>
                  <a:lnTo>
                    <a:pt x="846" y="394"/>
                  </a:lnTo>
                  <a:lnTo>
                    <a:pt x="846" y="394"/>
                  </a:lnTo>
                  <a:lnTo>
                    <a:pt x="848" y="390"/>
                  </a:lnTo>
                  <a:lnTo>
                    <a:pt x="850" y="386"/>
                  </a:lnTo>
                  <a:lnTo>
                    <a:pt x="854" y="386"/>
                  </a:lnTo>
                  <a:lnTo>
                    <a:pt x="860" y="386"/>
                  </a:lnTo>
                  <a:lnTo>
                    <a:pt x="860" y="386"/>
                  </a:lnTo>
                  <a:lnTo>
                    <a:pt x="866" y="390"/>
                  </a:lnTo>
                  <a:lnTo>
                    <a:pt x="874" y="402"/>
                  </a:lnTo>
                  <a:lnTo>
                    <a:pt x="884" y="418"/>
                  </a:lnTo>
                  <a:lnTo>
                    <a:pt x="894" y="440"/>
                  </a:lnTo>
                  <a:lnTo>
                    <a:pt x="894" y="440"/>
                  </a:lnTo>
                  <a:lnTo>
                    <a:pt x="924" y="506"/>
                  </a:lnTo>
                  <a:lnTo>
                    <a:pt x="950" y="570"/>
                  </a:lnTo>
                  <a:lnTo>
                    <a:pt x="970" y="632"/>
                  </a:lnTo>
                  <a:lnTo>
                    <a:pt x="978" y="662"/>
                  </a:lnTo>
                  <a:lnTo>
                    <a:pt x="984" y="690"/>
                  </a:lnTo>
                  <a:lnTo>
                    <a:pt x="988" y="718"/>
                  </a:lnTo>
                  <a:lnTo>
                    <a:pt x="992" y="746"/>
                  </a:lnTo>
                  <a:lnTo>
                    <a:pt x="994" y="772"/>
                  </a:lnTo>
                  <a:lnTo>
                    <a:pt x="994" y="798"/>
                  </a:lnTo>
                  <a:lnTo>
                    <a:pt x="994" y="822"/>
                  </a:lnTo>
                  <a:lnTo>
                    <a:pt x="990" y="848"/>
                  </a:lnTo>
                  <a:lnTo>
                    <a:pt x="988" y="870"/>
                  </a:lnTo>
                  <a:lnTo>
                    <a:pt x="982" y="894"/>
                  </a:lnTo>
                  <a:lnTo>
                    <a:pt x="982" y="89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>
              <a:off x="6829560" y="7200720"/>
              <a:ext cx="1666800" cy="188280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1050" h="1186">
                  <a:moveTo>
                    <a:pt x="1014" y="878"/>
                  </a:moveTo>
                  <a:lnTo>
                    <a:pt x="1014" y="878"/>
                  </a:lnTo>
                  <a:lnTo>
                    <a:pt x="1008" y="906"/>
                  </a:lnTo>
                  <a:lnTo>
                    <a:pt x="998" y="934"/>
                  </a:lnTo>
                  <a:lnTo>
                    <a:pt x="988" y="960"/>
                  </a:lnTo>
                  <a:lnTo>
                    <a:pt x="976" y="986"/>
                  </a:lnTo>
                  <a:lnTo>
                    <a:pt x="964" y="1012"/>
                  </a:lnTo>
                  <a:lnTo>
                    <a:pt x="950" y="1036"/>
                  </a:lnTo>
                  <a:lnTo>
                    <a:pt x="936" y="1060"/>
                  </a:lnTo>
                  <a:lnTo>
                    <a:pt x="920" y="1084"/>
                  </a:lnTo>
                  <a:lnTo>
                    <a:pt x="920" y="1084"/>
                  </a:lnTo>
                  <a:lnTo>
                    <a:pt x="898" y="1112"/>
                  </a:lnTo>
                  <a:lnTo>
                    <a:pt x="876" y="1136"/>
                  </a:lnTo>
                  <a:lnTo>
                    <a:pt x="854" y="1156"/>
                  </a:lnTo>
                  <a:lnTo>
                    <a:pt x="832" y="1170"/>
                  </a:lnTo>
                  <a:lnTo>
                    <a:pt x="808" y="1180"/>
                  </a:lnTo>
                  <a:lnTo>
                    <a:pt x="786" y="1186"/>
                  </a:lnTo>
                  <a:lnTo>
                    <a:pt x="764" y="1186"/>
                  </a:lnTo>
                  <a:lnTo>
                    <a:pt x="740" y="1182"/>
                  </a:lnTo>
                  <a:lnTo>
                    <a:pt x="740" y="1182"/>
                  </a:lnTo>
                  <a:lnTo>
                    <a:pt x="722" y="1176"/>
                  </a:lnTo>
                  <a:lnTo>
                    <a:pt x="702" y="1168"/>
                  </a:lnTo>
                  <a:lnTo>
                    <a:pt x="682" y="1154"/>
                  </a:lnTo>
                  <a:lnTo>
                    <a:pt x="660" y="1140"/>
                  </a:lnTo>
                  <a:lnTo>
                    <a:pt x="636" y="1120"/>
                  </a:lnTo>
                  <a:lnTo>
                    <a:pt x="612" y="1100"/>
                  </a:lnTo>
                  <a:lnTo>
                    <a:pt x="586" y="1074"/>
                  </a:lnTo>
                  <a:lnTo>
                    <a:pt x="560" y="1046"/>
                  </a:lnTo>
                  <a:lnTo>
                    <a:pt x="560" y="1046"/>
                  </a:lnTo>
                  <a:lnTo>
                    <a:pt x="512" y="994"/>
                  </a:lnTo>
                  <a:lnTo>
                    <a:pt x="474" y="946"/>
                  </a:lnTo>
                  <a:lnTo>
                    <a:pt x="458" y="922"/>
                  </a:lnTo>
                  <a:lnTo>
                    <a:pt x="446" y="900"/>
                  </a:lnTo>
                  <a:lnTo>
                    <a:pt x="434" y="880"/>
                  </a:lnTo>
                  <a:lnTo>
                    <a:pt x="424" y="860"/>
                  </a:lnTo>
                  <a:lnTo>
                    <a:pt x="424" y="860"/>
                  </a:lnTo>
                  <a:lnTo>
                    <a:pt x="396" y="910"/>
                  </a:lnTo>
                  <a:lnTo>
                    <a:pt x="382" y="932"/>
                  </a:lnTo>
                  <a:lnTo>
                    <a:pt x="366" y="952"/>
                  </a:lnTo>
                  <a:lnTo>
                    <a:pt x="352" y="970"/>
                  </a:lnTo>
                  <a:lnTo>
                    <a:pt x="336" y="986"/>
                  </a:lnTo>
                  <a:lnTo>
                    <a:pt x="322" y="1000"/>
                  </a:lnTo>
                  <a:lnTo>
                    <a:pt x="306" y="1014"/>
                  </a:lnTo>
                  <a:lnTo>
                    <a:pt x="290" y="1024"/>
                  </a:lnTo>
                  <a:lnTo>
                    <a:pt x="276" y="1032"/>
                  </a:lnTo>
                  <a:lnTo>
                    <a:pt x="260" y="1038"/>
                  </a:lnTo>
                  <a:lnTo>
                    <a:pt x="244" y="1044"/>
                  </a:lnTo>
                  <a:lnTo>
                    <a:pt x="228" y="1046"/>
                  </a:lnTo>
                  <a:lnTo>
                    <a:pt x="212" y="1046"/>
                  </a:lnTo>
                  <a:lnTo>
                    <a:pt x="196" y="1044"/>
                  </a:lnTo>
                  <a:lnTo>
                    <a:pt x="178" y="1042"/>
                  </a:lnTo>
                  <a:lnTo>
                    <a:pt x="178" y="1042"/>
                  </a:lnTo>
                  <a:lnTo>
                    <a:pt x="162" y="1036"/>
                  </a:lnTo>
                  <a:lnTo>
                    <a:pt x="146" y="1030"/>
                  </a:lnTo>
                  <a:lnTo>
                    <a:pt x="132" y="1022"/>
                  </a:lnTo>
                  <a:lnTo>
                    <a:pt x="116" y="1014"/>
                  </a:lnTo>
                  <a:lnTo>
                    <a:pt x="102" y="1002"/>
                  </a:lnTo>
                  <a:lnTo>
                    <a:pt x="90" y="992"/>
                  </a:lnTo>
                  <a:lnTo>
                    <a:pt x="76" y="978"/>
                  </a:lnTo>
                  <a:lnTo>
                    <a:pt x="64" y="964"/>
                  </a:lnTo>
                  <a:lnTo>
                    <a:pt x="64" y="964"/>
                  </a:lnTo>
                  <a:lnTo>
                    <a:pt x="52" y="948"/>
                  </a:lnTo>
                  <a:lnTo>
                    <a:pt x="40" y="930"/>
                  </a:lnTo>
                  <a:lnTo>
                    <a:pt x="32" y="912"/>
                  </a:lnTo>
                  <a:lnTo>
                    <a:pt x="22" y="894"/>
                  </a:lnTo>
                  <a:lnTo>
                    <a:pt x="16" y="874"/>
                  </a:lnTo>
                  <a:lnTo>
                    <a:pt x="10" y="854"/>
                  </a:lnTo>
                  <a:lnTo>
                    <a:pt x="6" y="834"/>
                  </a:lnTo>
                  <a:lnTo>
                    <a:pt x="2" y="812"/>
                  </a:lnTo>
                  <a:lnTo>
                    <a:pt x="0" y="790"/>
                  </a:lnTo>
                  <a:lnTo>
                    <a:pt x="0" y="768"/>
                  </a:lnTo>
                  <a:lnTo>
                    <a:pt x="0" y="744"/>
                  </a:lnTo>
                  <a:lnTo>
                    <a:pt x="2" y="718"/>
                  </a:lnTo>
                  <a:lnTo>
                    <a:pt x="8" y="668"/>
                  </a:lnTo>
                  <a:lnTo>
                    <a:pt x="20" y="614"/>
                  </a:lnTo>
                  <a:lnTo>
                    <a:pt x="20" y="614"/>
                  </a:lnTo>
                  <a:lnTo>
                    <a:pt x="30" y="578"/>
                  </a:lnTo>
                  <a:lnTo>
                    <a:pt x="42" y="540"/>
                  </a:lnTo>
                  <a:lnTo>
                    <a:pt x="58" y="500"/>
                  </a:lnTo>
                  <a:lnTo>
                    <a:pt x="74" y="460"/>
                  </a:lnTo>
                  <a:lnTo>
                    <a:pt x="92" y="416"/>
                  </a:lnTo>
                  <a:lnTo>
                    <a:pt x="114" y="372"/>
                  </a:lnTo>
                  <a:lnTo>
                    <a:pt x="162" y="278"/>
                  </a:lnTo>
                  <a:lnTo>
                    <a:pt x="162" y="278"/>
                  </a:lnTo>
                  <a:lnTo>
                    <a:pt x="200" y="212"/>
                  </a:lnTo>
                  <a:lnTo>
                    <a:pt x="200" y="212"/>
                  </a:lnTo>
                  <a:lnTo>
                    <a:pt x="220" y="176"/>
                  </a:lnTo>
                  <a:lnTo>
                    <a:pt x="226" y="160"/>
                  </a:lnTo>
                  <a:lnTo>
                    <a:pt x="230" y="146"/>
                  </a:lnTo>
                  <a:lnTo>
                    <a:pt x="230" y="146"/>
                  </a:lnTo>
                  <a:lnTo>
                    <a:pt x="234" y="124"/>
                  </a:lnTo>
                  <a:lnTo>
                    <a:pt x="232" y="94"/>
                  </a:lnTo>
                  <a:lnTo>
                    <a:pt x="232" y="94"/>
                  </a:lnTo>
                  <a:lnTo>
                    <a:pt x="232" y="66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40" y="34"/>
                  </a:lnTo>
                  <a:lnTo>
                    <a:pt x="246" y="22"/>
                  </a:lnTo>
                  <a:lnTo>
                    <a:pt x="254" y="14"/>
                  </a:lnTo>
                  <a:lnTo>
                    <a:pt x="264" y="6"/>
                  </a:lnTo>
                  <a:lnTo>
                    <a:pt x="274" y="2"/>
                  </a:lnTo>
                  <a:lnTo>
                    <a:pt x="286" y="0"/>
                  </a:lnTo>
                  <a:lnTo>
                    <a:pt x="300" y="2"/>
                  </a:lnTo>
                  <a:lnTo>
                    <a:pt x="316" y="4"/>
                  </a:lnTo>
                  <a:lnTo>
                    <a:pt x="316" y="4"/>
                  </a:lnTo>
                  <a:lnTo>
                    <a:pt x="332" y="10"/>
                  </a:lnTo>
                  <a:lnTo>
                    <a:pt x="346" y="22"/>
                  </a:lnTo>
                  <a:lnTo>
                    <a:pt x="364" y="36"/>
                  </a:lnTo>
                  <a:lnTo>
                    <a:pt x="382" y="56"/>
                  </a:lnTo>
                  <a:lnTo>
                    <a:pt x="382" y="56"/>
                  </a:lnTo>
                  <a:lnTo>
                    <a:pt x="404" y="84"/>
                  </a:lnTo>
                  <a:lnTo>
                    <a:pt x="422" y="112"/>
                  </a:lnTo>
                  <a:lnTo>
                    <a:pt x="436" y="140"/>
                  </a:lnTo>
                  <a:lnTo>
                    <a:pt x="444" y="168"/>
                  </a:lnTo>
                  <a:lnTo>
                    <a:pt x="450" y="196"/>
                  </a:lnTo>
                  <a:lnTo>
                    <a:pt x="454" y="226"/>
                  </a:lnTo>
                  <a:lnTo>
                    <a:pt x="452" y="256"/>
                  </a:lnTo>
                  <a:lnTo>
                    <a:pt x="446" y="286"/>
                  </a:lnTo>
                  <a:lnTo>
                    <a:pt x="446" y="286"/>
                  </a:lnTo>
                  <a:lnTo>
                    <a:pt x="442" y="296"/>
                  </a:lnTo>
                  <a:lnTo>
                    <a:pt x="434" y="310"/>
                  </a:lnTo>
                  <a:lnTo>
                    <a:pt x="410" y="350"/>
                  </a:lnTo>
                  <a:lnTo>
                    <a:pt x="374" y="408"/>
                  </a:lnTo>
                  <a:lnTo>
                    <a:pt x="324" y="480"/>
                  </a:lnTo>
                  <a:lnTo>
                    <a:pt x="324" y="480"/>
                  </a:lnTo>
                  <a:lnTo>
                    <a:pt x="298" y="522"/>
                  </a:lnTo>
                  <a:lnTo>
                    <a:pt x="272" y="560"/>
                  </a:lnTo>
                  <a:lnTo>
                    <a:pt x="250" y="598"/>
                  </a:lnTo>
                  <a:lnTo>
                    <a:pt x="232" y="634"/>
                  </a:lnTo>
                  <a:lnTo>
                    <a:pt x="214" y="670"/>
                  </a:lnTo>
                  <a:lnTo>
                    <a:pt x="200" y="704"/>
                  </a:lnTo>
                  <a:lnTo>
                    <a:pt x="188" y="736"/>
                  </a:lnTo>
                  <a:lnTo>
                    <a:pt x="180" y="766"/>
                  </a:lnTo>
                  <a:lnTo>
                    <a:pt x="180" y="766"/>
                  </a:lnTo>
                  <a:lnTo>
                    <a:pt x="174" y="792"/>
                  </a:lnTo>
                  <a:lnTo>
                    <a:pt x="170" y="816"/>
                  </a:lnTo>
                  <a:lnTo>
                    <a:pt x="170" y="836"/>
                  </a:lnTo>
                  <a:lnTo>
                    <a:pt x="172" y="854"/>
                  </a:lnTo>
                  <a:lnTo>
                    <a:pt x="176" y="868"/>
                  </a:lnTo>
                  <a:lnTo>
                    <a:pt x="184" y="878"/>
                  </a:lnTo>
                  <a:lnTo>
                    <a:pt x="192" y="886"/>
                  </a:lnTo>
                  <a:lnTo>
                    <a:pt x="206" y="892"/>
                  </a:lnTo>
                  <a:lnTo>
                    <a:pt x="206" y="892"/>
                  </a:lnTo>
                  <a:lnTo>
                    <a:pt x="212" y="892"/>
                  </a:lnTo>
                  <a:lnTo>
                    <a:pt x="220" y="892"/>
                  </a:lnTo>
                  <a:lnTo>
                    <a:pt x="228" y="890"/>
                  </a:lnTo>
                  <a:lnTo>
                    <a:pt x="236" y="886"/>
                  </a:lnTo>
                  <a:lnTo>
                    <a:pt x="254" y="872"/>
                  </a:lnTo>
                  <a:lnTo>
                    <a:pt x="274" y="852"/>
                  </a:lnTo>
                  <a:lnTo>
                    <a:pt x="274" y="852"/>
                  </a:lnTo>
                  <a:lnTo>
                    <a:pt x="284" y="838"/>
                  </a:lnTo>
                  <a:lnTo>
                    <a:pt x="296" y="822"/>
                  </a:lnTo>
                  <a:lnTo>
                    <a:pt x="322" y="780"/>
                  </a:lnTo>
                  <a:lnTo>
                    <a:pt x="348" y="728"/>
                  </a:lnTo>
                  <a:lnTo>
                    <a:pt x="376" y="666"/>
                  </a:lnTo>
                  <a:lnTo>
                    <a:pt x="376" y="666"/>
                  </a:lnTo>
                  <a:lnTo>
                    <a:pt x="418" y="568"/>
                  </a:lnTo>
                  <a:lnTo>
                    <a:pt x="462" y="482"/>
                  </a:lnTo>
                  <a:lnTo>
                    <a:pt x="484" y="442"/>
                  </a:lnTo>
                  <a:lnTo>
                    <a:pt x="504" y="406"/>
                  </a:lnTo>
                  <a:lnTo>
                    <a:pt x="526" y="374"/>
                  </a:lnTo>
                  <a:lnTo>
                    <a:pt x="546" y="344"/>
                  </a:lnTo>
                  <a:lnTo>
                    <a:pt x="568" y="316"/>
                  </a:lnTo>
                  <a:lnTo>
                    <a:pt x="588" y="290"/>
                  </a:lnTo>
                  <a:lnTo>
                    <a:pt x="610" y="268"/>
                  </a:lnTo>
                  <a:lnTo>
                    <a:pt x="630" y="250"/>
                  </a:lnTo>
                  <a:lnTo>
                    <a:pt x="650" y="234"/>
                  </a:lnTo>
                  <a:lnTo>
                    <a:pt x="670" y="220"/>
                  </a:lnTo>
                  <a:lnTo>
                    <a:pt x="692" y="210"/>
                  </a:lnTo>
                  <a:lnTo>
                    <a:pt x="712" y="202"/>
                  </a:lnTo>
                  <a:lnTo>
                    <a:pt x="712" y="202"/>
                  </a:lnTo>
                  <a:lnTo>
                    <a:pt x="742" y="196"/>
                  </a:lnTo>
                  <a:lnTo>
                    <a:pt x="774" y="194"/>
                  </a:lnTo>
                  <a:lnTo>
                    <a:pt x="808" y="198"/>
                  </a:lnTo>
                  <a:lnTo>
                    <a:pt x="842" y="204"/>
                  </a:lnTo>
                  <a:lnTo>
                    <a:pt x="842" y="204"/>
                  </a:lnTo>
                  <a:lnTo>
                    <a:pt x="868" y="212"/>
                  </a:lnTo>
                  <a:lnTo>
                    <a:pt x="894" y="226"/>
                  </a:lnTo>
                  <a:lnTo>
                    <a:pt x="920" y="246"/>
                  </a:lnTo>
                  <a:lnTo>
                    <a:pt x="946" y="268"/>
                  </a:lnTo>
                  <a:lnTo>
                    <a:pt x="946" y="268"/>
                  </a:lnTo>
                  <a:lnTo>
                    <a:pt x="968" y="294"/>
                  </a:lnTo>
                  <a:lnTo>
                    <a:pt x="986" y="322"/>
                  </a:lnTo>
                  <a:lnTo>
                    <a:pt x="1004" y="354"/>
                  </a:lnTo>
                  <a:lnTo>
                    <a:pt x="1018" y="388"/>
                  </a:lnTo>
                  <a:lnTo>
                    <a:pt x="1028" y="426"/>
                  </a:lnTo>
                  <a:lnTo>
                    <a:pt x="1038" y="468"/>
                  </a:lnTo>
                  <a:lnTo>
                    <a:pt x="1044" y="512"/>
                  </a:lnTo>
                  <a:lnTo>
                    <a:pt x="1048" y="560"/>
                  </a:lnTo>
                  <a:lnTo>
                    <a:pt x="1048" y="560"/>
                  </a:lnTo>
                  <a:lnTo>
                    <a:pt x="1050" y="600"/>
                  </a:lnTo>
                  <a:lnTo>
                    <a:pt x="1050" y="638"/>
                  </a:lnTo>
                  <a:lnTo>
                    <a:pt x="1048" y="678"/>
                  </a:lnTo>
                  <a:lnTo>
                    <a:pt x="1044" y="718"/>
                  </a:lnTo>
                  <a:lnTo>
                    <a:pt x="1040" y="758"/>
                  </a:lnTo>
                  <a:lnTo>
                    <a:pt x="1032" y="798"/>
                  </a:lnTo>
                  <a:lnTo>
                    <a:pt x="1024" y="838"/>
                  </a:lnTo>
                  <a:lnTo>
                    <a:pt x="1014" y="878"/>
                  </a:lnTo>
                  <a:lnTo>
                    <a:pt x="1014" y="878"/>
                  </a:lnTo>
                  <a:close/>
                  <a:moveTo>
                    <a:pt x="846" y="704"/>
                  </a:moveTo>
                  <a:lnTo>
                    <a:pt x="846" y="704"/>
                  </a:lnTo>
                  <a:lnTo>
                    <a:pt x="860" y="646"/>
                  </a:lnTo>
                  <a:lnTo>
                    <a:pt x="868" y="590"/>
                  </a:lnTo>
                  <a:lnTo>
                    <a:pt x="874" y="536"/>
                  </a:lnTo>
                  <a:lnTo>
                    <a:pt x="876" y="484"/>
                  </a:lnTo>
                  <a:lnTo>
                    <a:pt x="876" y="484"/>
                  </a:lnTo>
                  <a:lnTo>
                    <a:pt x="874" y="446"/>
                  </a:lnTo>
                  <a:lnTo>
                    <a:pt x="870" y="414"/>
                  </a:lnTo>
                  <a:lnTo>
                    <a:pt x="864" y="384"/>
                  </a:lnTo>
                  <a:lnTo>
                    <a:pt x="854" y="360"/>
                  </a:lnTo>
                  <a:lnTo>
                    <a:pt x="842" y="340"/>
                  </a:lnTo>
                  <a:lnTo>
                    <a:pt x="834" y="330"/>
                  </a:lnTo>
                  <a:lnTo>
                    <a:pt x="826" y="324"/>
                  </a:lnTo>
                  <a:lnTo>
                    <a:pt x="818" y="316"/>
                  </a:lnTo>
                  <a:lnTo>
                    <a:pt x="810" y="312"/>
                  </a:lnTo>
                  <a:lnTo>
                    <a:pt x="800" y="308"/>
                  </a:lnTo>
                  <a:lnTo>
                    <a:pt x="790" y="304"/>
                  </a:lnTo>
                  <a:lnTo>
                    <a:pt x="790" y="304"/>
                  </a:lnTo>
                  <a:lnTo>
                    <a:pt x="770" y="300"/>
                  </a:lnTo>
                  <a:lnTo>
                    <a:pt x="752" y="302"/>
                  </a:lnTo>
                  <a:lnTo>
                    <a:pt x="732" y="308"/>
                  </a:lnTo>
                  <a:lnTo>
                    <a:pt x="714" y="316"/>
                  </a:lnTo>
                  <a:lnTo>
                    <a:pt x="694" y="330"/>
                  </a:lnTo>
                  <a:lnTo>
                    <a:pt x="674" y="348"/>
                  </a:lnTo>
                  <a:lnTo>
                    <a:pt x="654" y="370"/>
                  </a:lnTo>
                  <a:lnTo>
                    <a:pt x="634" y="394"/>
                  </a:lnTo>
                  <a:lnTo>
                    <a:pt x="634" y="394"/>
                  </a:lnTo>
                  <a:lnTo>
                    <a:pt x="606" y="440"/>
                  </a:lnTo>
                  <a:lnTo>
                    <a:pt x="578" y="494"/>
                  </a:lnTo>
                  <a:lnTo>
                    <a:pt x="546" y="558"/>
                  </a:lnTo>
                  <a:lnTo>
                    <a:pt x="514" y="632"/>
                  </a:lnTo>
                  <a:lnTo>
                    <a:pt x="514" y="632"/>
                  </a:lnTo>
                  <a:lnTo>
                    <a:pt x="438" y="826"/>
                  </a:lnTo>
                  <a:lnTo>
                    <a:pt x="438" y="826"/>
                  </a:lnTo>
                  <a:lnTo>
                    <a:pt x="540" y="890"/>
                  </a:lnTo>
                  <a:lnTo>
                    <a:pt x="540" y="890"/>
                  </a:lnTo>
                  <a:lnTo>
                    <a:pt x="570" y="908"/>
                  </a:lnTo>
                  <a:lnTo>
                    <a:pt x="598" y="920"/>
                  </a:lnTo>
                  <a:lnTo>
                    <a:pt x="624" y="932"/>
                  </a:lnTo>
                  <a:lnTo>
                    <a:pt x="648" y="938"/>
                  </a:lnTo>
                  <a:lnTo>
                    <a:pt x="648" y="938"/>
                  </a:lnTo>
                  <a:lnTo>
                    <a:pt x="666" y="942"/>
                  </a:lnTo>
                  <a:lnTo>
                    <a:pt x="684" y="942"/>
                  </a:lnTo>
                  <a:lnTo>
                    <a:pt x="702" y="938"/>
                  </a:lnTo>
                  <a:lnTo>
                    <a:pt x="718" y="930"/>
                  </a:lnTo>
                  <a:lnTo>
                    <a:pt x="734" y="918"/>
                  </a:lnTo>
                  <a:lnTo>
                    <a:pt x="750" y="904"/>
                  </a:lnTo>
                  <a:lnTo>
                    <a:pt x="766" y="886"/>
                  </a:lnTo>
                  <a:lnTo>
                    <a:pt x="780" y="864"/>
                  </a:lnTo>
                  <a:lnTo>
                    <a:pt x="780" y="864"/>
                  </a:lnTo>
                  <a:lnTo>
                    <a:pt x="800" y="832"/>
                  </a:lnTo>
                  <a:lnTo>
                    <a:pt x="818" y="794"/>
                  </a:lnTo>
                  <a:lnTo>
                    <a:pt x="832" y="752"/>
                  </a:lnTo>
                  <a:lnTo>
                    <a:pt x="846" y="704"/>
                  </a:lnTo>
                  <a:lnTo>
                    <a:pt x="846" y="70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グループ化 25"/>
          <p:cNvGrpSpPr/>
          <p:nvPr/>
        </p:nvGrpSpPr>
        <p:grpSpPr>
          <a:xfrm>
            <a:off x="819000" y="22193280"/>
            <a:ext cx="2178360" cy="7400880"/>
            <a:chOff x="819000" y="22193280"/>
            <a:chExt cx="2178360" cy="7400880"/>
          </a:xfrm>
        </p:grpSpPr>
        <p:sp>
          <p:nvSpPr>
            <p:cNvPr id="64" name="Freeform 9"/>
            <p:cNvSpPr/>
            <p:nvPr/>
          </p:nvSpPr>
          <p:spPr>
            <a:xfrm>
              <a:off x="819000" y="22193280"/>
              <a:ext cx="1752840" cy="17366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104" h="1094">
                  <a:moveTo>
                    <a:pt x="1104" y="718"/>
                  </a:moveTo>
                  <a:lnTo>
                    <a:pt x="1104" y="718"/>
                  </a:lnTo>
                  <a:lnTo>
                    <a:pt x="1104" y="754"/>
                  </a:lnTo>
                  <a:lnTo>
                    <a:pt x="1102" y="788"/>
                  </a:lnTo>
                  <a:lnTo>
                    <a:pt x="1096" y="822"/>
                  </a:lnTo>
                  <a:lnTo>
                    <a:pt x="1086" y="856"/>
                  </a:lnTo>
                  <a:lnTo>
                    <a:pt x="1072" y="886"/>
                  </a:lnTo>
                  <a:lnTo>
                    <a:pt x="1054" y="918"/>
                  </a:lnTo>
                  <a:lnTo>
                    <a:pt x="1032" y="946"/>
                  </a:lnTo>
                  <a:lnTo>
                    <a:pt x="1008" y="974"/>
                  </a:lnTo>
                  <a:lnTo>
                    <a:pt x="1008" y="974"/>
                  </a:lnTo>
                  <a:lnTo>
                    <a:pt x="982" y="1000"/>
                  </a:lnTo>
                  <a:lnTo>
                    <a:pt x="954" y="1022"/>
                  </a:lnTo>
                  <a:lnTo>
                    <a:pt x="924" y="1040"/>
                  </a:lnTo>
                  <a:lnTo>
                    <a:pt x="894" y="1058"/>
                  </a:lnTo>
                  <a:lnTo>
                    <a:pt x="862" y="1070"/>
                  </a:lnTo>
                  <a:lnTo>
                    <a:pt x="828" y="1082"/>
                  </a:lnTo>
                  <a:lnTo>
                    <a:pt x="792" y="1088"/>
                  </a:lnTo>
                  <a:lnTo>
                    <a:pt x="756" y="1092"/>
                  </a:lnTo>
                  <a:lnTo>
                    <a:pt x="756" y="1092"/>
                  </a:lnTo>
                  <a:lnTo>
                    <a:pt x="728" y="1094"/>
                  </a:lnTo>
                  <a:lnTo>
                    <a:pt x="700" y="1092"/>
                  </a:lnTo>
                  <a:lnTo>
                    <a:pt x="672" y="1090"/>
                  </a:lnTo>
                  <a:lnTo>
                    <a:pt x="646" y="1084"/>
                  </a:lnTo>
                  <a:lnTo>
                    <a:pt x="620" y="1076"/>
                  </a:lnTo>
                  <a:lnTo>
                    <a:pt x="594" y="1066"/>
                  </a:lnTo>
                  <a:lnTo>
                    <a:pt x="568" y="1052"/>
                  </a:lnTo>
                  <a:lnTo>
                    <a:pt x="542" y="1038"/>
                  </a:lnTo>
                  <a:lnTo>
                    <a:pt x="542" y="1038"/>
                  </a:lnTo>
                  <a:lnTo>
                    <a:pt x="528" y="1028"/>
                  </a:lnTo>
                  <a:lnTo>
                    <a:pt x="516" y="1016"/>
                  </a:lnTo>
                  <a:lnTo>
                    <a:pt x="510" y="1006"/>
                  </a:lnTo>
                  <a:lnTo>
                    <a:pt x="506" y="996"/>
                  </a:lnTo>
                  <a:lnTo>
                    <a:pt x="506" y="996"/>
                  </a:lnTo>
                  <a:lnTo>
                    <a:pt x="494" y="1012"/>
                  </a:lnTo>
                  <a:lnTo>
                    <a:pt x="488" y="1018"/>
                  </a:lnTo>
                  <a:lnTo>
                    <a:pt x="480" y="1024"/>
                  </a:lnTo>
                  <a:lnTo>
                    <a:pt x="472" y="1028"/>
                  </a:lnTo>
                  <a:lnTo>
                    <a:pt x="464" y="1032"/>
                  </a:lnTo>
                  <a:lnTo>
                    <a:pt x="444" y="1036"/>
                  </a:lnTo>
                  <a:lnTo>
                    <a:pt x="444" y="1036"/>
                  </a:lnTo>
                  <a:lnTo>
                    <a:pt x="434" y="1036"/>
                  </a:lnTo>
                  <a:lnTo>
                    <a:pt x="424" y="1034"/>
                  </a:lnTo>
                  <a:lnTo>
                    <a:pt x="414" y="1030"/>
                  </a:lnTo>
                  <a:lnTo>
                    <a:pt x="404" y="1024"/>
                  </a:lnTo>
                  <a:lnTo>
                    <a:pt x="404" y="1024"/>
                  </a:lnTo>
                  <a:lnTo>
                    <a:pt x="358" y="1044"/>
                  </a:lnTo>
                  <a:lnTo>
                    <a:pt x="318" y="1058"/>
                  </a:lnTo>
                  <a:lnTo>
                    <a:pt x="284" y="1068"/>
                  </a:lnTo>
                  <a:lnTo>
                    <a:pt x="256" y="1072"/>
                  </a:lnTo>
                  <a:lnTo>
                    <a:pt x="256" y="1072"/>
                  </a:lnTo>
                  <a:lnTo>
                    <a:pt x="234" y="1072"/>
                  </a:lnTo>
                  <a:lnTo>
                    <a:pt x="210" y="1072"/>
                  </a:lnTo>
                  <a:lnTo>
                    <a:pt x="188" y="1068"/>
                  </a:lnTo>
                  <a:lnTo>
                    <a:pt x="166" y="1062"/>
                  </a:lnTo>
                  <a:lnTo>
                    <a:pt x="146" y="1056"/>
                  </a:lnTo>
                  <a:lnTo>
                    <a:pt x="124" y="1046"/>
                  </a:lnTo>
                  <a:lnTo>
                    <a:pt x="104" y="1034"/>
                  </a:lnTo>
                  <a:lnTo>
                    <a:pt x="84" y="1022"/>
                  </a:lnTo>
                  <a:lnTo>
                    <a:pt x="84" y="1022"/>
                  </a:lnTo>
                  <a:lnTo>
                    <a:pt x="66" y="1006"/>
                  </a:lnTo>
                  <a:lnTo>
                    <a:pt x="50" y="990"/>
                  </a:lnTo>
                  <a:lnTo>
                    <a:pt x="38" y="972"/>
                  </a:lnTo>
                  <a:lnTo>
                    <a:pt x="26" y="954"/>
                  </a:lnTo>
                  <a:lnTo>
                    <a:pt x="16" y="934"/>
                  </a:lnTo>
                  <a:lnTo>
                    <a:pt x="8" y="914"/>
                  </a:lnTo>
                  <a:lnTo>
                    <a:pt x="4" y="892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0" y="842"/>
                  </a:lnTo>
                  <a:lnTo>
                    <a:pt x="2" y="816"/>
                  </a:lnTo>
                  <a:lnTo>
                    <a:pt x="6" y="790"/>
                  </a:lnTo>
                  <a:lnTo>
                    <a:pt x="12" y="764"/>
                  </a:lnTo>
                  <a:lnTo>
                    <a:pt x="22" y="740"/>
                  </a:lnTo>
                  <a:lnTo>
                    <a:pt x="34" y="714"/>
                  </a:lnTo>
                  <a:lnTo>
                    <a:pt x="48" y="688"/>
                  </a:lnTo>
                  <a:lnTo>
                    <a:pt x="64" y="664"/>
                  </a:lnTo>
                  <a:lnTo>
                    <a:pt x="64" y="664"/>
                  </a:lnTo>
                  <a:lnTo>
                    <a:pt x="80" y="642"/>
                  </a:lnTo>
                  <a:lnTo>
                    <a:pt x="96" y="622"/>
                  </a:lnTo>
                  <a:lnTo>
                    <a:pt x="114" y="602"/>
                  </a:lnTo>
                  <a:lnTo>
                    <a:pt x="134" y="584"/>
                  </a:lnTo>
                  <a:lnTo>
                    <a:pt x="156" y="566"/>
                  </a:lnTo>
                  <a:lnTo>
                    <a:pt x="178" y="548"/>
                  </a:lnTo>
                  <a:lnTo>
                    <a:pt x="202" y="530"/>
                  </a:lnTo>
                  <a:lnTo>
                    <a:pt x="226" y="514"/>
                  </a:lnTo>
                  <a:lnTo>
                    <a:pt x="226" y="514"/>
                  </a:lnTo>
                  <a:lnTo>
                    <a:pt x="236" y="452"/>
                  </a:lnTo>
                  <a:lnTo>
                    <a:pt x="248" y="400"/>
                  </a:lnTo>
                  <a:lnTo>
                    <a:pt x="248" y="400"/>
                  </a:lnTo>
                  <a:lnTo>
                    <a:pt x="192" y="414"/>
                  </a:lnTo>
                  <a:lnTo>
                    <a:pt x="168" y="418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22" y="422"/>
                  </a:lnTo>
                  <a:lnTo>
                    <a:pt x="98" y="420"/>
                  </a:lnTo>
                  <a:lnTo>
                    <a:pt x="80" y="416"/>
                  </a:lnTo>
                  <a:lnTo>
                    <a:pt x="64" y="412"/>
                  </a:lnTo>
                  <a:lnTo>
                    <a:pt x="50" y="404"/>
                  </a:lnTo>
                  <a:lnTo>
                    <a:pt x="42" y="394"/>
                  </a:lnTo>
                  <a:lnTo>
                    <a:pt x="36" y="382"/>
                  </a:lnTo>
                  <a:lnTo>
                    <a:pt x="32" y="366"/>
                  </a:lnTo>
                  <a:lnTo>
                    <a:pt x="32" y="366"/>
                  </a:lnTo>
                  <a:lnTo>
                    <a:pt x="32" y="350"/>
                  </a:lnTo>
                  <a:lnTo>
                    <a:pt x="38" y="334"/>
                  </a:lnTo>
                  <a:lnTo>
                    <a:pt x="46" y="318"/>
                  </a:lnTo>
                  <a:lnTo>
                    <a:pt x="58" y="300"/>
                  </a:lnTo>
                  <a:lnTo>
                    <a:pt x="58" y="300"/>
                  </a:lnTo>
                  <a:lnTo>
                    <a:pt x="74" y="286"/>
                  </a:lnTo>
                  <a:lnTo>
                    <a:pt x="90" y="274"/>
                  </a:lnTo>
                  <a:lnTo>
                    <a:pt x="106" y="266"/>
                  </a:lnTo>
                  <a:lnTo>
                    <a:pt x="122" y="264"/>
                  </a:lnTo>
                  <a:lnTo>
                    <a:pt x="152" y="272"/>
                  </a:lnTo>
                  <a:lnTo>
                    <a:pt x="152" y="272"/>
                  </a:lnTo>
                  <a:lnTo>
                    <a:pt x="164" y="268"/>
                  </a:lnTo>
                  <a:lnTo>
                    <a:pt x="180" y="264"/>
                  </a:lnTo>
                  <a:lnTo>
                    <a:pt x="224" y="244"/>
                  </a:lnTo>
                  <a:lnTo>
                    <a:pt x="224" y="244"/>
                  </a:lnTo>
                  <a:lnTo>
                    <a:pt x="298" y="210"/>
                  </a:lnTo>
                  <a:lnTo>
                    <a:pt x="298" y="210"/>
                  </a:lnTo>
                  <a:lnTo>
                    <a:pt x="304" y="172"/>
                  </a:lnTo>
                  <a:lnTo>
                    <a:pt x="306" y="152"/>
                  </a:lnTo>
                  <a:lnTo>
                    <a:pt x="306" y="152"/>
                  </a:lnTo>
                  <a:lnTo>
                    <a:pt x="304" y="142"/>
                  </a:lnTo>
                  <a:lnTo>
                    <a:pt x="302" y="130"/>
                  </a:lnTo>
                  <a:lnTo>
                    <a:pt x="296" y="118"/>
                  </a:lnTo>
                  <a:lnTo>
                    <a:pt x="290" y="108"/>
                  </a:lnTo>
                  <a:lnTo>
                    <a:pt x="290" y="108"/>
                  </a:lnTo>
                  <a:lnTo>
                    <a:pt x="278" y="86"/>
                  </a:lnTo>
                  <a:lnTo>
                    <a:pt x="274" y="72"/>
                  </a:lnTo>
                  <a:lnTo>
                    <a:pt x="274" y="72"/>
                  </a:lnTo>
                  <a:lnTo>
                    <a:pt x="274" y="58"/>
                  </a:lnTo>
                  <a:lnTo>
                    <a:pt x="276" y="44"/>
                  </a:lnTo>
                  <a:lnTo>
                    <a:pt x="282" y="32"/>
                  </a:lnTo>
                  <a:lnTo>
                    <a:pt x="290" y="22"/>
                  </a:lnTo>
                  <a:lnTo>
                    <a:pt x="300" y="14"/>
                  </a:lnTo>
                  <a:lnTo>
                    <a:pt x="314" y="8"/>
                  </a:lnTo>
                  <a:lnTo>
                    <a:pt x="330" y="2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62" y="0"/>
                  </a:lnTo>
                  <a:lnTo>
                    <a:pt x="374" y="2"/>
                  </a:lnTo>
                  <a:lnTo>
                    <a:pt x="384" y="4"/>
                  </a:lnTo>
                  <a:lnTo>
                    <a:pt x="396" y="10"/>
                  </a:lnTo>
                  <a:lnTo>
                    <a:pt x="408" y="16"/>
                  </a:lnTo>
                  <a:lnTo>
                    <a:pt x="420" y="26"/>
                  </a:lnTo>
                  <a:lnTo>
                    <a:pt x="432" y="36"/>
                  </a:lnTo>
                  <a:lnTo>
                    <a:pt x="444" y="48"/>
                  </a:lnTo>
                  <a:lnTo>
                    <a:pt x="444" y="48"/>
                  </a:lnTo>
                  <a:lnTo>
                    <a:pt x="462" y="70"/>
                  </a:lnTo>
                  <a:lnTo>
                    <a:pt x="478" y="94"/>
                  </a:lnTo>
                  <a:lnTo>
                    <a:pt x="488" y="120"/>
                  </a:lnTo>
                  <a:lnTo>
                    <a:pt x="494" y="148"/>
                  </a:lnTo>
                  <a:lnTo>
                    <a:pt x="494" y="148"/>
                  </a:lnTo>
                  <a:lnTo>
                    <a:pt x="600" y="118"/>
                  </a:lnTo>
                  <a:lnTo>
                    <a:pt x="600" y="118"/>
                  </a:lnTo>
                  <a:lnTo>
                    <a:pt x="658" y="108"/>
                  </a:lnTo>
                  <a:lnTo>
                    <a:pt x="708" y="100"/>
                  </a:lnTo>
                  <a:lnTo>
                    <a:pt x="708" y="100"/>
                  </a:lnTo>
                  <a:lnTo>
                    <a:pt x="750" y="100"/>
                  </a:lnTo>
                  <a:lnTo>
                    <a:pt x="790" y="100"/>
                  </a:lnTo>
                  <a:lnTo>
                    <a:pt x="826" y="106"/>
                  </a:lnTo>
                  <a:lnTo>
                    <a:pt x="862" y="114"/>
                  </a:lnTo>
                  <a:lnTo>
                    <a:pt x="862" y="114"/>
                  </a:lnTo>
                  <a:lnTo>
                    <a:pt x="884" y="122"/>
                  </a:lnTo>
                  <a:lnTo>
                    <a:pt x="904" y="130"/>
                  </a:lnTo>
                  <a:lnTo>
                    <a:pt x="920" y="140"/>
                  </a:lnTo>
                  <a:lnTo>
                    <a:pt x="934" y="152"/>
                  </a:lnTo>
                  <a:lnTo>
                    <a:pt x="944" y="166"/>
                  </a:lnTo>
                  <a:lnTo>
                    <a:pt x="952" y="180"/>
                  </a:lnTo>
                  <a:lnTo>
                    <a:pt x="958" y="196"/>
                  </a:lnTo>
                  <a:lnTo>
                    <a:pt x="960" y="214"/>
                  </a:lnTo>
                  <a:lnTo>
                    <a:pt x="960" y="214"/>
                  </a:lnTo>
                  <a:lnTo>
                    <a:pt x="960" y="230"/>
                  </a:lnTo>
                  <a:lnTo>
                    <a:pt x="956" y="242"/>
                  </a:lnTo>
                  <a:lnTo>
                    <a:pt x="950" y="254"/>
                  </a:lnTo>
                  <a:lnTo>
                    <a:pt x="938" y="264"/>
                  </a:lnTo>
                  <a:lnTo>
                    <a:pt x="924" y="272"/>
                  </a:lnTo>
                  <a:lnTo>
                    <a:pt x="908" y="278"/>
                  </a:lnTo>
                  <a:lnTo>
                    <a:pt x="886" y="282"/>
                  </a:lnTo>
                  <a:lnTo>
                    <a:pt x="862" y="286"/>
                  </a:lnTo>
                  <a:lnTo>
                    <a:pt x="862" y="286"/>
                  </a:lnTo>
                  <a:lnTo>
                    <a:pt x="806" y="288"/>
                  </a:lnTo>
                  <a:lnTo>
                    <a:pt x="806" y="288"/>
                  </a:lnTo>
                  <a:lnTo>
                    <a:pt x="748" y="290"/>
                  </a:lnTo>
                  <a:lnTo>
                    <a:pt x="748" y="290"/>
                  </a:lnTo>
                  <a:lnTo>
                    <a:pt x="722" y="292"/>
                  </a:lnTo>
                  <a:lnTo>
                    <a:pt x="722" y="292"/>
                  </a:lnTo>
                  <a:lnTo>
                    <a:pt x="696" y="296"/>
                  </a:lnTo>
                  <a:lnTo>
                    <a:pt x="696" y="296"/>
                  </a:lnTo>
                  <a:lnTo>
                    <a:pt x="708" y="304"/>
                  </a:lnTo>
                  <a:lnTo>
                    <a:pt x="718" y="312"/>
                  </a:lnTo>
                  <a:lnTo>
                    <a:pt x="728" y="322"/>
                  </a:lnTo>
                  <a:lnTo>
                    <a:pt x="736" y="332"/>
                  </a:lnTo>
                  <a:lnTo>
                    <a:pt x="744" y="344"/>
                  </a:lnTo>
                  <a:lnTo>
                    <a:pt x="752" y="358"/>
                  </a:lnTo>
                  <a:lnTo>
                    <a:pt x="758" y="370"/>
                  </a:lnTo>
                  <a:lnTo>
                    <a:pt x="764" y="386"/>
                  </a:lnTo>
                  <a:lnTo>
                    <a:pt x="764" y="386"/>
                  </a:lnTo>
                  <a:lnTo>
                    <a:pt x="798" y="392"/>
                  </a:lnTo>
                  <a:lnTo>
                    <a:pt x="830" y="398"/>
                  </a:lnTo>
                  <a:lnTo>
                    <a:pt x="860" y="410"/>
                  </a:lnTo>
                  <a:lnTo>
                    <a:pt x="890" y="422"/>
                  </a:lnTo>
                  <a:lnTo>
                    <a:pt x="918" y="436"/>
                  </a:lnTo>
                  <a:lnTo>
                    <a:pt x="946" y="452"/>
                  </a:lnTo>
                  <a:lnTo>
                    <a:pt x="970" y="470"/>
                  </a:lnTo>
                  <a:lnTo>
                    <a:pt x="994" y="492"/>
                  </a:lnTo>
                  <a:lnTo>
                    <a:pt x="994" y="492"/>
                  </a:lnTo>
                  <a:lnTo>
                    <a:pt x="1018" y="514"/>
                  </a:lnTo>
                  <a:lnTo>
                    <a:pt x="1038" y="540"/>
                  </a:lnTo>
                  <a:lnTo>
                    <a:pt x="1056" y="566"/>
                  </a:lnTo>
                  <a:lnTo>
                    <a:pt x="1070" y="592"/>
                  </a:lnTo>
                  <a:lnTo>
                    <a:pt x="1084" y="622"/>
                  </a:lnTo>
                  <a:lnTo>
                    <a:pt x="1092" y="652"/>
                  </a:lnTo>
                  <a:lnTo>
                    <a:pt x="1100" y="684"/>
                  </a:lnTo>
                  <a:lnTo>
                    <a:pt x="1104" y="718"/>
                  </a:lnTo>
                  <a:lnTo>
                    <a:pt x="1104" y="718"/>
                  </a:lnTo>
                  <a:close/>
                  <a:moveTo>
                    <a:pt x="276" y="882"/>
                  </a:moveTo>
                  <a:lnTo>
                    <a:pt x="276" y="882"/>
                  </a:lnTo>
                  <a:lnTo>
                    <a:pt x="266" y="866"/>
                  </a:lnTo>
                  <a:lnTo>
                    <a:pt x="256" y="848"/>
                  </a:lnTo>
                  <a:lnTo>
                    <a:pt x="248" y="826"/>
                  </a:lnTo>
                  <a:lnTo>
                    <a:pt x="240" y="800"/>
                  </a:lnTo>
                  <a:lnTo>
                    <a:pt x="234" y="772"/>
                  </a:lnTo>
                  <a:lnTo>
                    <a:pt x="228" y="742"/>
                  </a:lnTo>
                  <a:lnTo>
                    <a:pt x="224" y="708"/>
                  </a:lnTo>
                  <a:lnTo>
                    <a:pt x="220" y="670"/>
                  </a:lnTo>
                  <a:lnTo>
                    <a:pt x="220" y="670"/>
                  </a:lnTo>
                  <a:lnTo>
                    <a:pt x="190" y="694"/>
                  </a:lnTo>
                  <a:lnTo>
                    <a:pt x="164" y="716"/>
                  </a:lnTo>
                  <a:lnTo>
                    <a:pt x="142" y="738"/>
                  </a:lnTo>
                  <a:lnTo>
                    <a:pt x="126" y="762"/>
                  </a:lnTo>
                  <a:lnTo>
                    <a:pt x="112" y="784"/>
                  </a:lnTo>
                  <a:lnTo>
                    <a:pt x="104" y="806"/>
                  </a:lnTo>
                  <a:lnTo>
                    <a:pt x="98" y="826"/>
                  </a:lnTo>
                  <a:lnTo>
                    <a:pt x="98" y="848"/>
                  </a:lnTo>
                  <a:lnTo>
                    <a:pt x="98" y="848"/>
                  </a:lnTo>
                  <a:lnTo>
                    <a:pt x="102" y="866"/>
                  </a:lnTo>
                  <a:lnTo>
                    <a:pt x="106" y="880"/>
                  </a:lnTo>
                  <a:lnTo>
                    <a:pt x="114" y="892"/>
                  </a:lnTo>
                  <a:lnTo>
                    <a:pt x="124" y="902"/>
                  </a:lnTo>
                  <a:lnTo>
                    <a:pt x="136" y="908"/>
                  </a:lnTo>
                  <a:lnTo>
                    <a:pt x="152" y="912"/>
                  </a:lnTo>
                  <a:lnTo>
                    <a:pt x="168" y="914"/>
                  </a:lnTo>
                  <a:lnTo>
                    <a:pt x="188" y="914"/>
                  </a:lnTo>
                  <a:lnTo>
                    <a:pt x="188" y="914"/>
                  </a:lnTo>
                  <a:lnTo>
                    <a:pt x="206" y="912"/>
                  </a:lnTo>
                  <a:lnTo>
                    <a:pt x="228" y="904"/>
                  </a:lnTo>
                  <a:lnTo>
                    <a:pt x="250" y="896"/>
                  </a:lnTo>
                  <a:lnTo>
                    <a:pt x="276" y="882"/>
                  </a:lnTo>
                  <a:lnTo>
                    <a:pt x="276" y="882"/>
                  </a:lnTo>
                  <a:close/>
                  <a:moveTo>
                    <a:pt x="550" y="516"/>
                  </a:moveTo>
                  <a:lnTo>
                    <a:pt x="550" y="516"/>
                  </a:lnTo>
                  <a:lnTo>
                    <a:pt x="516" y="526"/>
                  </a:lnTo>
                  <a:lnTo>
                    <a:pt x="484" y="536"/>
                  </a:lnTo>
                  <a:lnTo>
                    <a:pt x="448" y="548"/>
                  </a:lnTo>
                  <a:lnTo>
                    <a:pt x="412" y="562"/>
                  </a:lnTo>
                  <a:lnTo>
                    <a:pt x="412" y="562"/>
                  </a:lnTo>
                  <a:lnTo>
                    <a:pt x="410" y="582"/>
                  </a:lnTo>
                  <a:lnTo>
                    <a:pt x="410" y="604"/>
                  </a:lnTo>
                  <a:lnTo>
                    <a:pt x="412" y="650"/>
                  </a:lnTo>
                  <a:lnTo>
                    <a:pt x="412" y="650"/>
                  </a:lnTo>
                  <a:lnTo>
                    <a:pt x="414" y="674"/>
                  </a:lnTo>
                  <a:lnTo>
                    <a:pt x="420" y="700"/>
                  </a:lnTo>
                  <a:lnTo>
                    <a:pt x="426" y="724"/>
                  </a:lnTo>
                  <a:lnTo>
                    <a:pt x="432" y="746"/>
                  </a:lnTo>
                  <a:lnTo>
                    <a:pt x="432" y="746"/>
                  </a:lnTo>
                  <a:lnTo>
                    <a:pt x="452" y="720"/>
                  </a:lnTo>
                  <a:lnTo>
                    <a:pt x="468" y="694"/>
                  </a:lnTo>
                  <a:lnTo>
                    <a:pt x="484" y="666"/>
                  </a:lnTo>
                  <a:lnTo>
                    <a:pt x="500" y="638"/>
                  </a:lnTo>
                  <a:lnTo>
                    <a:pt x="514" y="608"/>
                  </a:lnTo>
                  <a:lnTo>
                    <a:pt x="526" y="578"/>
                  </a:lnTo>
                  <a:lnTo>
                    <a:pt x="538" y="548"/>
                  </a:lnTo>
                  <a:lnTo>
                    <a:pt x="550" y="516"/>
                  </a:lnTo>
                  <a:lnTo>
                    <a:pt x="550" y="516"/>
                  </a:lnTo>
                  <a:close/>
                  <a:moveTo>
                    <a:pt x="558" y="386"/>
                  </a:moveTo>
                  <a:lnTo>
                    <a:pt x="558" y="386"/>
                  </a:lnTo>
                  <a:lnTo>
                    <a:pt x="548" y="368"/>
                  </a:lnTo>
                  <a:lnTo>
                    <a:pt x="540" y="352"/>
                  </a:lnTo>
                  <a:lnTo>
                    <a:pt x="536" y="338"/>
                  </a:lnTo>
                  <a:lnTo>
                    <a:pt x="534" y="324"/>
                  </a:lnTo>
                  <a:lnTo>
                    <a:pt x="534" y="324"/>
                  </a:lnTo>
                  <a:lnTo>
                    <a:pt x="492" y="332"/>
                  </a:lnTo>
                  <a:lnTo>
                    <a:pt x="458" y="342"/>
                  </a:lnTo>
                  <a:lnTo>
                    <a:pt x="458" y="342"/>
                  </a:lnTo>
                  <a:lnTo>
                    <a:pt x="436" y="414"/>
                  </a:lnTo>
                  <a:lnTo>
                    <a:pt x="436" y="414"/>
                  </a:lnTo>
                  <a:lnTo>
                    <a:pt x="466" y="406"/>
                  </a:lnTo>
                  <a:lnTo>
                    <a:pt x="498" y="398"/>
                  </a:lnTo>
                  <a:lnTo>
                    <a:pt x="528" y="392"/>
                  </a:lnTo>
                  <a:lnTo>
                    <a:pt x="558" y="386"/>
                  </a:lnTo>
                  <a:lnTo>
                    <a:pt x="558" y="386"/>
                  </a:lnTo>
                  <a:close/>
                  <a:moveTo>
                    <a:pt x="878" y="678"/>
                  </a:moveTo>
                  <a:lnTo>
                    <a:pt x="878" y="678"/>
                  </a:lnTo>
                  <a:lnTo>
                    <a:pt x="874" y="652"/>
                  </a:lnTo>
                  <a:lnTo>
                    <a:pt x="866" y="628"/>
                  </a:lnTo>
                  <a:lnTo>
                    <a:pt x="856" y="606"/>
                  </a:lnTo>
                  <a:lnTo>
                    <a:pt x="844" y="586"/>
                  </a:lnTo>
                  <a:lnTo>
                    <a:pt x="828" y="568"/>
                  </a:lnTo>
                  <a:lnTo>
                    <a:pt x="808" y="552"/>
                  </a:lnTo>
                  <a:lnTo>
                    <a:pt x="786" y="538"/>
                  </a:lnTo>
                  <a:lnTo>
                    <a:pt x="760" y="526"/>
                  </a:lnTo>
                  <a:lnTo>
                    <a:pt x="760" y="526"/>
                  </a:lnTo>
                  <a:lnTo>
                    <a:pt x="746" y="582"/>
                  </a:lnTo>
                  <a:lnTo>
                    <a:pt x="726" y="640"/>
                  </a:lnTo>
                  <a:lnTo>
                    <a:pt x="704" y="696"/>
                  </a:lnTo>
                  <a:lnTo>
                    <a:pt x="674" y="752"/>
                  </a:lnTo>
                  <a:lnTo>
                    <a:pt x="674" y="752"/>
                  </a:lnTo>
                  <a:lnTo>
                    <a:pt x="640" y="808"/>
                  </a:lnTo>
                  <a:lnTo>
                    <a:pt x="606" y="858"/>
                  </a:lnTo>
                  <a:lnTo>
                    <a:pt x="586" y="880"/>
                  </a:lnTo>
                  <a:lnTo>
                    <a:pt x="568" y="902"/>
                  </a:lnTo>
                  <a:lnTo>
                    <a:pt x="548" y="922"/>
                  </a:lnTo>
                  <a:lnTo>
                    <a:pt x="528" y="942"/>
                  </a:lnTo>
                  <a:lnTo>
                    <a:pt x="528" y="942"/>
                  </a:lnTo>
                  <a:lnTo>
                    <a:pt x="524" y="966"/>
                  </a:lnTo>
                  <a:lnTo>
                    <a:pt x="520" y="976"/>
                  </a:lnTo>
                  <a:lnTo>
                    <a:pt x="516" y="984"/>
                  </a:lnTo>
                  <a:lnTo>
                    <a:pt x="516" y="984"/>
                  </a:lnTo>
                  <a:lnTo>
                    <a:pt x="524" y="986"/>
                  </a:lnTo>
                  <a:lnTo>
                    <a:pt x="558" y="982"/>
                  </a:lnTo>
                  <a:lnTo>
                    <a:pt x="558" y="982"/>
                  </a:lnTo>
                  <a:lnTo>
                    <a:pt x="588" y="980"/>
                  </a:lnTo>
                  <a:lnTo>
                    <a:pt x="616" y="974"/>
                  </a:lnTo>
                  <a:lnTo>
                    <a:pt x="644" y="964"/>
                  </a:lnTo>
                  <a:lnTo>
                    <a:pt x="672" y="954"/>
                  </a:lnTo>
                  <a:lnTo>
                    <a:pt x="698" y="940"/>
                  </a:lnTo>
                  <a:lnTo>
                    <a:pt x="726" y="924"/>
                  </a:lnTo>
                  <a:lnTo>
                    <a:pt x="750" y="906"/>
                  </a:lnTo>
                  <a:lnTo>
                    <a:pt x="776" y="886"/>
                  </a:lnTo>
                  <a:lnTo>
                    <a:pt x="776" y="886"/>
                  </a:lnTo>
                  <a:lnTo>
                    <a:pt x="802" y="862"/>
                  </a:lnTo>
                  <a:lnTo>
                    <a:pt x="824" y="838"/>
                  </a:lnTo>
                  <a:lnTo>
                    <a:pt x="842" y="812"/>
                  </a:lnTo>
                  <a:lnTo>
                    <a:pt x="856" y="788"/>
                  </a:lnTo>
                  <a:lnTo>
                    <a:pt x="868" y="760"/>
                  </a:lnTo>
                  <a:lnTo>
                    <a:pt x="874" y="734"/>
                  </a:lnTo>
                  <a:lnTo>
                    <a:pt x="878" y="706"/>
                  </a:lnTo>
                  <a:lnTo>
                    <a:pt x="878" y="678"/>
                  </a:lnTo>
                  <a:lnTo>
                    <a:pt x="878" y="67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1072800" y="24031440"/>
              <a:ext cx="1499040" cy="1771560"/>
            </a:xfrm>
            <a:custGeom>
              <a:avLst/>
              <a:gdLst>
                <a:gd name="textAreaLeft" fmla="*/ 0 w 1499040"/>
                <a:gd name="textAreaRight" fmla="*/ 1499400 w 14990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944" h="1116">
                  <a:moveTo>
                    <a:pt x="938" y="526"/>
                  </a:moveTo>
                  <a:lnTo>
                    <a:pt x="938" y="526"/>
                  </a:lnTo>
                  <a:lnTo>
                    <a:pt x="942" y="582"/>
                  </a:lnTo>
                  <a:lnTo>
                    <a:pt x="944" y="636"/>
                  </a:lnTo>
                  <a:lnTo>
                    <a:pt x="942" y="686"/>
                  </a:lnTo>
                  <a:lnTo>
                    <a:pt x="938" y="734"/>
                  </a:lnTo>
                  <a:lnTo>
                    <a:pt x="932" y="780"/>
                  </a:lnTo>
                  <a:lnTo>
                    <a:pt x="922" y="824"/>
                  </a:lnTo>
                  <a:lnTo>
                    <a:pt x="912" y="866"/>
                  </a:lnTo>
                  <a:lnTo>
                    <a:pt x="898" y="904"/>
                  </a:lnTo>
                  <a:lnTo>
                    <a:pt x="898" y="904"/>
                  </a:lnTo>
                  <a:lnTo>
                    <a:pt x="888" y="928"/>
                  </a:lnTo>
                  <a:lnTo>
                    <a:pt x="876" y="950"/>
                  </a:lnTo>
                  <a:lnTo>
                    <a:pt x="864" y="970"/>
                  </a:lnTo>
                  <a:lnTo>
                    <a:pt x="850" y="990"/>
                  </a:lnTo>
                  <a:lnTo>
                    <a:pt x="836" y="1008"/>
                  </a:lnTo>
                  <a:lnTo>
                    <a:pt x="822" y="1024"/>
                  </a:lnTo>
                  <a:lnTo>
                    <a:pt x="806" y="1040"/>
                  </a:lnTo>
                  <a:lnTo>
                    <a:pt x="788" y="1054"/>
                  </a:lnTo>
                  <a:lnTo>
                    <a:pt x="770" y="1066"/>
                  </a:lnTo>
                  <a:lnTo>
                    <a:pt x="750" y="1078"/>
                  </a:lnTo>
                  <a:lnTo>
                    <a:pt x="730" y="1086"/>
                  </a:lnTo>
                  <a:lnTo>
                    <a:pt x="708" y="1096"/>
                  </a:lnTo>
                  <a:lnTo>
                    <a:pt x="686" y="1102"/>
                  </a:lnTo>
                  <a:lnTo>
                    <a:pt x="664" y="1108"/>
                  </a:lnTo>
                  <a:lnTo>
                    <a:pt x="638" y="1112"/>
                  </a:lnTo>
                  <a:lnTo>
                    <a:pt x="614" y="1114"/>
                  </a:lnTo>
                  <a:lnTo>
                    <a:pt x="614" y="1114"/>
                  </a:lnTo>
                  <a:lnTo>
                    <a:pt x="582" y="1116"/>
                  </a:lnTo>
                  <a:lnTo>
                    <a:pt x="550" y="1116"/>
                  </a:lnTo>
                  <a:lnTo>
                    <a:pt x="516" y="1112"/>
                  </a:lnTo>
                  <a:lnTo>
                    <a:pt x="484" y="1108"/>
                  </a:lnTo>
                  <a:lnTo>
                    <a:pt x="450" y="1100"/>
                  </a:lnTo>
                  <a:lnTo>
                    <a:pt x="416" y="1092"/>
                  </a:lnTo>
                  <a:lnTo>
                    <a:pt x="382" y="1080"/>
                  </a:lnTo>
                  <a:lnTo>
                    <a:pt x="348" y="1066"/>
                  </a:lnTo>
                  <a:lnTo>
                    <a:pt x="348" y="1066"/>
                  </a:lnTo>
                  <a:lnTo>
                    <a:pt x="332" y="1058"/>
                  </a:lnTo>
                  <a:lnTo>
                    <a:pt x="328" y="1054"/>
                  </a:lnTo>
                  <a:lnTo>
                    <a:pt x="326" y="1050"/>
                  </a:lnTo>
                  <a:lnTo>
                    <a:pt x="326" y="1050"/>
                  </a:lnTo>
                  <a:lnTo>
                    <a:pt x="328" y="1046"/>
                  </a:lnTo>
                  <a:lnTo>
                    <a:pt x="332" y="1042"/>
                  </a:lnTo>
                  <a:lnTo>
                    <a:pt x="340" y="1038"/>
                  </a:lnTo>
                  <a:lnTo>
                    <a:pt x="350" y="1036"/>
                  </a:lnTo>
                  <a:lnTo>
                    <a:pt x="350" y="1036"/>
                  </a:lnTo>
                  <a:lnTo>
                    <a:pt x="416" y="1022"/>
                  </a:lnTo>
                  <a:lnTo>
                    <a:pt x="470" y="1010"/>
                  </a:lnTo>
                  <a:lnTo>
                    <a:pt x="516" y="996"/>
                  </a:lnTo>
                  <a:lnTo>
                    <a:pt x="552" y="982"/>
                  </a:lnTo>
                  <a:lnTo>
                    <a:pt x="552" y="982"/>
                  </a:lnTo>
                  <a:lnTo>
                    <a:pt x="578" y="968"/>
                  </a:lnTo>
                  <a:lnTo>
                    <a:pt x="602" y="954"/>
                  </a:lnTo>
                  <a:lnTo>
                    <a:pt x="624" y="938"/>
                  </a:lnTo>
                  <a:lnTo>
                    <a:pt x="644" y="922"/>
                  </a:lnTo>
                  <a:lnTo>
                    <a:pt x="662" y="904"/>
                  </a:lnTo>
                  <a:lnTo>
                    <a:pt x="676" y="884"/>
                  </a:lnTo>
                  <a:lnTo>
                    <a:pt x="690" y="862"/>
                  </a:lnTo>
                  <a:lnTo>
                    <a:pt x="702" y="840"/>
                  </a:lnTo>
                  <a:lnTo>
                    <a:pt x="702" y="840"/>
                  </a:lnTo>
                  <a:lnTo>
                    <a:pt x="714" y="806"/>
                  </a:lnTo>
                  <a:lnTo>
                    <a:pt x="726" y="770"/>
                  </a:lnTo>
                  <a:lnTo>
                    <a:pt x="734" y="730"/>
                  </a:lnTo>
                  <a:lnTo>
                    <a:pt x="740" y="690"/>
                  </a:lnTo>
                  <a:lnTo>
                    <a:pt x="744" y="646"/>
                  </a:lnTo>
                  <a:lnTo>
                    <a:pt x="746" y="600"/>
                  </a:lnTo>
                  <a:lnTo>
                    <a:pt x="746" y="552"/>
                  </a:lnTo>
                  <a:lnTo>
                    <a:pt x="742" y="502"/>
                  </a:lnTo>
                  <a:lnTo>
                    <a:pt x="742" y="502"/>
                  </a:lnTo>
                  <a:lnTo>
                    <a:pt x="736" y="440"/>
                  </a:lnTo>
                  <a:lnTo>
                    <a:pt x="726" y="382"/>
                  </a:lnTo>
                  <a:lnTo>
                    <a:pt x="714" y="328"/>
                  </a:lnTo>
                  <a:lnTo>
                    <a:pt x="700" y="278"/>
                  </a:lnTo>
                  <a:lnTo>
                    <a:pt x="700" y="278"/>
                  </a:lnTo>
                  <a:lnTo>
                    <a:pt x="686" y="242"/>
                  </a:lnTo>
                  <a:lnTo>
                    <a:pt x="672" y="210"/>
                  </a:lnTo>
                  <a:lnTo>
                    <a:pt x="658" y="184"/>
                  </a:lnTo>
                  <a:lnTo>
                    <a:pt x="640" y="164"/>
                  </a:lnTo>
                  <a:lnTo>
                    <a:pt x="624" y="148"/>
                  </a:lnTo>
                  <a:lnTo>
                    <a:pt x="614" y="142"/>
                  </a:lnTo>
                  <a:lnTo>
                    <a:pt x="604" y="138"/>
                  </a:lnTo>
                  <a:lnTo>
                    <a:pt x="594" y="134"/>
                  </a:lnTo>
                  <a:lnTo>
                    <a:pt x="584" y="132"/>
                  </a:lnTo>
                  <a:lnTo>
                    <a:pt x="574" y="130"/>
                  </a:lnTo>
                  <a:lnTo>
                    <a:pt x="564" y="130"/>
                  </a:lnTo>
                  <a:lnTo>
                    <a:pt x="564" y="130"/>
                  </a:lnTo>
                  <a:lnTo>
                    <a:pt x="546" y="134"/>
                  </a:lnTo>
                  <a:lnTo>
                    <a:pt x="530" y="142"/>
                  </a:lnTo>
                  <a:lnTo>
                    <a:pt x="516" y="154"/>
                  </a:lnTo>
                  <a:lnTo>
                    <a:pt x="506" y="172"/>
                  </a:lnTo>
                  <a:lnTo>
                    <a:pt x="496" y="192"/>
                  </a:lnTo>
                  <a:lnTo>
                    <a:pt x="488" y="218"/>
                  </a:lnTo>
                  <a:lnTo>
                    <a:pt x="482" y="248"/>
                  </a:lnTo>
                  <a:lnTo>
                    <a:pt x="480" y="282"/>
                  </a:lnTo>
                  <a:lnTo>
                    <a:pt x="480" y="282"/>
                  </a:lnTo>
                  <a:lnTo>
                    <a:pt x="474" y="406"/>
                  </a:lnTo>
                  <a:lnTo>
                    <a:pt x="470" y="528"/>
                  </a:lnTo>
                  <a:lnTo>
                    <a:pt x="470" y="528"/>
                  </a:lnTo>
                  <a:lnTo>
                    <a:pt x="466" y="570"/>
                  </a:lnTo>
                  <a:lnTo>
                    <a:pt x="462" y="608"/>
                  </a:lnTo>
                  <a:lnTo>
                    <a:pt x="456" y="646"/>
                  </a:lnTo>
                  <a:lnTo>
                    <a:pt x="448" y="680"/>
                  </a:lnTo>
                  <a:lnTo>
                    <a:pt x="440" y="710"/>
                  </a:lnTo>
                  <a:lnTo>
                    <a:pt x="430" y="740"/>
                  </a:lnTo>
                  <a:lnTo>
                    <a:pt x="420" y="766"/>
                  </a:lnTo>
                  <a:lnTo>
                    <a:pt x="410" y="792"/>
                  </a:lnTo>
                  <a:lnTo>
                    <a:pt x="410" y="792"/>
                  </a:lnTo>
                  <a:lnTo>
                    <a:pt x="394" y="820"/>
                  </a:lnTo>
                  <a:lnTo>
                    <a:pt x="376" y="846"/>
                  </a:lnTo>
                  <a:lnTo>
                    <a:pt x="356" y="868"/>
                  </a:lnTo>
                  <a:lnTo>
                    <a:pt x="334" y="886"/>
                  </a:lnTo>
                  <a:lnTo>
                    <a:pt x="310" y="900"/>
                  </a:lnTo>
                  <a:lnTo>
                    <a:pt x="284" y="912"/>
                  </a:lnTo>
                  <a:lnTo>
                    <a:pt x="256" y="920"/>
                  </a:lnTo>
                  <a:lnTo>
                    <a:pt x="226" y="924"/>
                  </a:lnTo>
                  <a:lnTo>
                    <a:pt x="226" y="924"/>
                  </a:lnTo>
                  <a:lnTo>
                    <a:pt x="202" y="924"/>
                  </a:lnTo>
                  <a:lnTo>
                    <a:pt x="180" y="922"/>
                  </a:lnTo>
                  <a:lnTo>
                    <a:pt x="158" y="918"/>
                  </a:lnTo>
                  <a:lnTo>
                    <a:pt x="138" y="912"/>
                  </a:lnTo>
                  <a:lnTo>
                    <a:pt x="118" y="902"/>
                  </a:lnTo>
                  <a:lnTo>
                    <a:pt x="100" y="890"/>
                  </a:lnTo>
                  <a:lnTo>
                    <a:pt x="82" y="876"/>
                  </a:lnTo>
                  <a:lnTo>
                    <a:pt x="66" y="860"/>
                  </a:lnTo>
                  <a:lnTo>
                    <a:pt x="66" y="860"/>
                  </a:lnTo>
                  <a:lnTo>
                    <a:pt x="52" y="842"/>
                  </a:lnTo>
                  <a:lnTo>
                    <a:pt x="40" y="824"/>
                  </a:lnTo>
                  <a:lnTo>
                    <a:pt x="30" y="804"/>
                  </a:lnTo>
                  <a:lnTo>
                    <a:pt x="22" y="784"/>
                  </a:lnTo>
                  <a:lnTo>
                    <a:pt x="14" y="762"/>
                  </a:lnTo>
                  <a:lnTo>
                    <a:pt x="8" y="740"/>
                  </a:lnTo>
                  <a:lnTo>
                    <a:pt x="4" y="718"/>
                  </a:lnTo>
                  <a:lnTo>
                    <a:pt x="2" y="694"/>
                  </a:lnTo>
                  <a:lnTo>
                    <a:pt x="2" y="694"/>
                  </a:lnTo>
                  <a:lnTo>
                    <a:pt x="0" y="658"/>
                  </a:lnTo>
                  <a:lnTo>
                    <a:pt x="0" y="620"/>
                  </a:lnTo>
                  <a:lnTo>
                    <a:pt x="4" y="578"/>
                  </a:lnTo>
                  <a:lnTo>
                    <a:pt x="10" y="534"/>
                  </a:lnTo>
                  <a:lnTo>
                    <a:pt x="10" y="534"/>
                  </a:lnTo>
                  <a:lnTo>
                    <a:pt x="38" y="376"/>
                  </a:lnTo>
                  <a:lnTo>
                    <a:pt x="38" y="376"/>
                  </a:lnTo>
                  <a:lnTo>
                    <a:pt x="44" y="332"/>
                  </a:lnTo>
                  <a:lnTo>
                    <a:pt x="50" y="294"/>
                  </a:lnTo>
                  <a:lnTo>
                    <a:pt x="52" y="262"/>
                  </a:lnTo>
                  <a:lnTo>
                    <a:pt x="50" y="238"/>
                  </a:lnTo>
                  <a:lnTo>
                    <a:pt x="50" y="238"/>
                  </a:lnTo>
                  <a:lnTo>
                    <a:pt x="46" y="218"/>
                  </a:lnTo>
                  <a:lnTo>
                    <a:pt x="36" y="188"/>
                  </a:lnTo>
                  <a:lnTo>
                    <a:pt x="36" y="188"/>
                  </a:lnTo>
                  <a:lnTo>
                    <a:pt x="28" y="160"/>
                  </a:lnTo>
                  <a:lnTo>
                    <a:pt x="24" y="138"/>
                  </a:lnTo>
                  <a:lnTo>
                    <a:pt x="24" y="138"/>
                  </a:lnTo>
                  <a:lnTo>
                    <a:pt x="24" y="126"/>
                  </a:lnTo>
                  <a:lnTo>
                    <a:pt x="26" y="116"/>
                  </a:lnTo>
                  <a:lnTo>
                    <a:pt x="28" y="106"/>
                  </a:lnTo>
                  <a:lnTo>
                    <a:pt x="34" y="100"/>
                  </a:lnTo>
                  <a:lnTo>
                    <a:pt x="40" y="94"/>
                  </a:lnTo>
                  <a:lnTo>
                    <a:pt x="48" y="88"/>
                  </a:lnTo>
                  <a:lnTo>
                    <a:pt x="58" y="86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80" y="84"/>
                  </a:lnTo>
                  <a:lnTo>
                    <a:pt x="94" y="86"/>
                  </a:lnTo>
                  <a:lnTo>
                    <a:pt x="108" y="90"/>
                  </a:lnTo>
                  <a:lnTo>
                    <a:pt x="120" y="98"/>
                  </a:lnTo>
                  <a:lnTo>
                    <a:pt x="136" y="106"/>
                  </a:lnTo>
                  <a:lnTo>
                    <a:pt x="150" y="118"/>
                  </a:lnTo>
                  <a:lnTo>
                    <a:pt x="166" y="132"/>
                  </a:lnTo>
                  <a:lnTo>
                    <a:pt x="182" y="146"/>
                  </a:lnTo>
                  <a:lnTo>
                    <a:pt x="182" y="146"/>
                  </a:lnTo>
                  <a:lnTo>
                    <a:pt x="210" y="180"/>
                  </a:lnTo>
                  <a:lnTo>
                    <a:pt x="222" y="194"/>
                  </a:lnTo>
                  <a:lnTo>
                    <a:pt x="232" y="210"/>
                  </a:lnTo>
                  <a:lnTo>
                    <a:pt x="240" y="224"/>
                  </a:lnTo>
                  <a:lnTo>
                    <a:pt x="246" y="238"/>
                  </a:lnTo>
                  <a:lnTo>
                    <a:pt x="250" y="250"/>
                  </a:lnTo>
                  <a:lnTo>
                    <a:pt x="252" y="264"/>
                  </a:lnTo>
                  <a:lnTo>
                    <a:pt x="252" y="264"/>
                  </a:lnTo>
                  <a:lnTo>
                    <a:pt x="254" y="280"/>
                  </a:lnTo>
                  <a:lnTo>
                    <a:pt x="252" y="300"/>
                  </a:lnTo>
                  <a:lnTo>
                    <a:pt x="248" y="346"/>
                  </a:lnTo>
                  <a:lnTo>
                    <a:pt x="238" y="400"/>
                  </a:lnTo>
                  <a:lnTo>
                    <a:pt x="224" y="460"/>
                  </a:lnTo>
                  <a:lnTo>
                    <a:pt x="224" y="460"/>
                  </a:lnTo>
                  <a:lnTo>
                    <a:pt x="210" y="524"/>
                  </a:lnTo>
                  <a:lnTo>
                    <a:pt x="202" y="576"/>
                  </a:lnTo>
                  <a:lnTo>
                    <a:pt x="198" y="622"/>
                  </a:lnTo>
                  <a:lnTo>
                    <a:pt x="198" y="660"/>
                  </a:lnTo>
                  <a:lnTo>
                    <a:pt x="198" y="660"/>
                  </a:lnTo>
                  <a:lnTo>
                    <a:pt x="200" y="678"/>
                  </a:lnTo>
                  <a:lnTo>
                    <a:pt x="204" y="692"/>
                  </a:lnTo>
                  <a:lnTo>
                    <a:pt x="210" y="706"/>
                  </a:lnTo>
                  <a:lnTo>
                    <a:pt x="216" y="716"/>
                  </a:lnTo>
                  <a:lnTo>
                    <a:pt x="224" y="724"/>
                  </a:lnTo>
                  <a:lnTo>
                    <a:pt x="234" y="728"/>
                  </a:lnTo>
                  <a:lnTo>
                    <a:pt x="246" y="730"/>
                  </a:lnTo>
                  <a:lnTo>
                    <a:pt x="258" y="732"/>
                  </a:lnTo>
                  <a:lnTo>
                    <a:pt x="258" y="732"/>
                  </a:lnTo>
                  <a:lnTo>
                    <a:pt x="270" y="728"/>
                  </a:lnTo>
                  <a:lnTo>
                    <a:pt x="280" y="722"/>
                  </a:lnTo>
                  <a:lnTo>
                    <a:pt x="288" y="712"/>
                  </a:lnTo>
                  <a:lnTo>
                    <a:pt x="296" y="698"/>
                  </a:lnTo>
                  <a:lnTo>
                    <a:pt x="302" y="682"/>
                  </a:lnTo>
                  <a:lnTo>
                    <a:pt x="308" y="660"/>
                  </a:lnTo>
                  <a:lnTo>
                    <a:pt x="312" y="636"/>
                  </a:lnTo>
                  <a:lnTo>
                    <a:pt x="314" y="608"/>
                  </a:lnTo>
                  <a:lnTo>
                    <a:pt x="344" y="314"/>
                  </a:lnTo>
                  <a:lnTo>
                    <a:pt x="344" y="314"/>
                  </a:lnTo>
                  <a:lnTo>
                    <a:pt x="348" y="278"/>
                  </a:lnTo>
                  <a:lnTo>
                    <a:pt x="354" y="246"/>
                  </a:lnTo>
                  <a:lnTo>
                    <a:pt x="362" y="214"/>
                  </a:lnTo>
                  <a:lnTo>
                    <a:pt x="370" y="184"/>
                  </a:lnTo>
                  <a:lnTo>
                    <a:pt x="382" y="156"/>
                  </a:lnTo>
                  <a:lnTo>
                    <a:pt x="394" y="132"/>
                  </a:lnTo>
                  <a:lnTo>
                    <a:pt x="406" y="108"/>
                  </a:lnTo>
                  <a:lnTo>
                    <a:pt x="422" y="88"/>
                  </a:lnTo>
                  <a:lnTo>
                    <a:pt x="438" y="70"/>
                  </a:lnTo>
                  <a:lnTo>
                    <a:pt x="456" y="54"/>
                  </a:lnTo>
                  <a:lnTo>
                    <a:pt x="476" y="40"/>
                  </a:lnTo>
                  <a:lnTo>
                    <a:pt x="496" y="26"/>
                  </a:lnTo>
                  <a:lnTo>
                    <a:pt x="518" y="18"/>
                  </a:lnTo>
                  <a:lnTo>
                    <a:pt x="542" y="10"/>
                  </a:lnTo>
                  <a:lnTo>
                    <a:pt x="568" y="4"/>
                  </a:lnTo>
                  <a:lnTo>
                    <a:pt x="594" y="0"/>
                  </a:lnTo>
                  <a:lnTo>
                    <a:pt x="594" y="0"/>
                  </a:lnTo>
                  <a:lnTo>
                    <a:pt x="612" y="0"/>
                  </a:lnTo>
                  <a:lnTo>
                    <a:pt x="628" y="2"/>
                  </a:lnTo>
                  <a:lnTo>
                    <a:pt x="646" y="4"/>
                  </a:lnTo>
                  <a:lnTo>
                    <a:pt x="664" y="8"/>
                  </a:lnTo>
                  <a:lnTo>
                    <a:pt x="682" y="14"/>
                  </a:lnTo>
                  <a:lnTo>
                    <a:pt x="698" y="22"/>
                  </a:lnTo>
                  <a:lnTo>
                    <a:pt x="716" y="30"/>
                  </a:lnTo>
                  <a:lnTo>
                    <a:pt x="734" y="40"/>
                  </a:lnTo>
                  <a:lnTo>
                    <a:pt x="734" y="40"/>
                  </a:lnTo>
                  <a:lnTo>
                    <a:pt x="756" y="54"/>
                  </a:lnTo>
                  <a:lnTo>
                    <a:pt x="776" y="70"/>
                  </a:lnTo>
                  <a:lnTo>
                    <a:pt x="794" y="88"/>
                  </a:lnTo>
                  <a:lnTo>
                    <a:pt x="812" y="110"/>
                  </a:lnTo>
                  <a:lnTo>
                    <a:pt x="828" y="132"/>
                  </a:lnTo>
                  <a:lnTo>
                    <a:pt x="844" y="156"/>
                  </a:lnTo>
                  <a:lnTo>
                    <a:pt x="858" y="184"/>
                  </a:lnTo>
                  <a:lnTo>
                    <a:pt x="872" y="214"/>
                  </a:lnTo>
                  <a:lnTo>
                    <a:pt x="884" y="244"/>
                  </a:lnTo>
                  <a:lnTo>
                    <a:pt x="896" y="278"/>
                  </a:lnTo>
                  <a:lnTo>
                    <a:pt x="906" y="314"/>
                  </a:lnTo>
                  <a:lnTo>
                    <a:pt x="914" y="352"/>
                  </a:lnTo>
                  <a:lnTo>
                    <a:pt x="922" y="392"/>
                  </a:lnTo>
                  <a:lnTo>
                    <a:pt x="928" y="434"/>
                  </a:lnTo>
                  <a:lnTo>
                    <a:pt x="934" y="478"/>
                  </a:lnTo>
                  <a:lnTo>
                    <a:pt x="938" y="526"/>
                  </a:lnTo>
                  <a:lnTo>
                    <a:pt x="938" y="52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1117440" y="25882560"/>
              <a:ext cx="1724400" cy="180972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1086" h="1140">
                  <a:moveTo>
                    <a:pt x="1086" y="1030"/>
                  </a:moveTo>
                  <a:lnTo>
                    <a:pt x="1086" y="1030"/>
                  </a:lnTo>
                  <a:lnTo>
                    <a:pt x="1086" y="1044"/>
                  </a:lnTo>
                  <a:lnTo>
                    <a:pt x="1082" y="1058"/>
                  </a:lnTo>
                  <a:lnTo>
                    <a:pt x="1076" y="1070"/>
                  </a:lnTo>
                  <a:lnTo>
                    <a:pt x="1068" y="1082"/>
                  </a:lnTo>
                  <a:lnTo>
                    <a:pt x="1068" y="1082"/>
                  </a:lnTo>
                  <a:lnTo>
                    <a:pt x="1058" y="1092"/>
                  </a:lnTo>
                  <a:lnTo>
                    <a:pt x="1046" y="1100"/>
                  </a:lnTo>
                  <a:lnTo>
                    <a:pt x="1034" y="1106"/>
                  </a:lnTo>
                  <a:lnTo>
                    <a:pt x="1018" y="1108"/>
                  </a:lnTo>
                  <a:lnTo>
                    <a:pt x="1018" y="1108"/>
                  </a:lnTo>
                  <a:lnTo>
                    <a:pt x="1008" y="1108"/>
                  </a:lnTo>
                  <a:lnTo>
                    <a:pt x="996" y="1104"/>
                  </a:lnTo>
                  <a:lnTo>
                    <a:pt x="964" y="1092"/>
                  </a:lnTo>
                  <a:lnTo>
                    <a:pt x="920" y="1072"/>
                  </a:lnTo>
                  <a:lnTo>
                    <a:pt x="866" y="1042"/>
                  </a:lnTo>
                  <a:lnTo>
                    <a:pt x="866" y="1042"/>
                  </a:lnTo>
                  <a:lnTo>
                    <a:pt x="708" y="950"/>
                  </a:lnTo>
                  <a:lnTo>
                    <a:pt x="708" y="950"/>
                  </a:lnTo>
                  <a:lnTo>
                    <a:pt x="704" y="962"/>
                  </a:lnTo>
                  <a:lnTo>
                    <a:pt x="704" y="962"/>
                  </a:lnTo>
                  <a:lnTo>
                    <a:pt x="696" y="980"/>
                  </a:lnTo>
                  <a:lnTo>
                    <a:pt x="686" y="998"/>
                  </a:lnTo>
                  <a:lnTo>
                    <a:pt x="676" y="1014"/>
                  </a:lnTo>
                  <a:lnTo>
                    <a:pt x="664" y="1030"/>
                  </a:lnTo>
                  <a:lnTo>
                    <a:pt x="652" y="1044"/>
                  </a:lnTo>
                  <a:lnTo>
                    <a:pt x="638" y="1058"/>
                  </a:lnTo>
                  <a:lnTo>
                    <a:pt x="624" y="1072"/>
                  </a:lnTo>
                  <a:lnTo>
                    <a:pt x="608" y="1084"/>
                  </a:lnTo>
                  <a:lnTo>
                    <a:pt x="608" y="1084"/>
                  </a:lnTo>
                  <a:lnTo>
                    <a:pt x="592" y="1096"/>
                  </a:lnTo>
                  <a:lnTo>
                    <a:pt x="576" y="1106"/>
                  </a:lnTo>
                  <a:lnTo>
                    <a:pt x="560" y="1114"/>
                  </a:lnTo>
                  <a:lnTo>
                    <a:pt x="542" y="1122"/>
                  </a:lnTo>
                  <a:lnTo>
                    <a:pt x="524" y="1128"/>
                  </a:lnTo>
                  <a:lnTo>
                    <a:pt x="504" y="1134"/>
                  </a:lnTo>
                  <a:lnTo>
                    <a:pt x="486" y="1136"/>
                  </a:lnTo>
                  <a:lnTo>
                    <a:pt x="466" y="1138"/>
                  </a:lnTo>
                  <a:lnTo>
                    <a:pt x="466" y="1138"/>
                  </a:lnTo>
                  <a:lnTo>
                    <a:pt x="438" y="1140"/>
                  </a:lnTo>
                  <a:lnTo>
                    <a:pt x="410" y="1138"/>
                  </a:lnTo>
                  <a:lnTo>
                    <a:pt x="382" y="1136"/>
                  </a:lnTo>
                  <a:lnTo>
                    <a:pt x="354" y="1130"/>
                  </a:lnTo>
                  <a:lnTo>
                    <a:pt x="326" y="1122"/>
                  </a:lnTo>
                  <a:lnTo>
                    <a:pt x="298" y="1112"/>
                  </a:lnTo>
                  <a:lnTo>
                    <a:pt x="268" y="1100"/>
                  </a:lnTo>
                  <a:lnTo>
                    <a:pt x="240" y="1086"/>
                  </a:lnTo>
                  <a:lnTo>
                    <a:pt x="240" y="1086"/>
                  </a:lnTo>
                  <a:lnTo>
                    <a:pt x="210" y="1068"/>
                  </a:lnTo>
                  <a:lnTo>
                    <a:pt x="184" y="1050"/>
                  </a:lnTo>
                  <a:lnTo>
                    <a:pt x="162" y="1030"/>
                  </a:lnTo>
                  <a:lnTo>
                    <a:pt x="144" y="1008"/>
                  </a:lnTo>
                  <a:lnTo>
                    <a:pt x="128" y="986"/>
                  </a:lnTo>
                  <a:lnTo>
                    <a:pt x="118" y="962"/>
                  </a:lnTo>
                  <a:lnTo>
                    <a:pt x="110" y="938"/>
                  </a:lnTo>
                  <a:lnTo>
                    <a:pt x="106" y="912"/>
                  </a:lnTo>
                  <a:lnTo>
                    <a:pt x="106" y="912"/>
                  </a:lnTo>
                  <a:lnTo>
                    <a:pt x="106" y="890"/>
                  </a:lnTo>
                  <a:lnTo>
                    <a:pt x="108" y="868"/>
                  </a:lnTo>
                  <a:lnTo>
                    <a:pt x="114" y="848"/>
                  </a:lnTo>
                  <a:lnTo>
                    <a:pt x="122" y="828"/>
                  </a:lnTo>
                  <a:lnTo>
                    <a:pt x="134" y="812"/>
                  </a:lnTo>
                  <a:lnTo>
                    <a:pt x="150" y="794"/>
                  </a:lnTo>
                  <a:lnTo>
                    <a:pt x="168" y="780"/>
                  </a:lnTo>
                  <a:lnTo>
                    <a:pt x="190" y="766"/>
                  </a:lnTo>
                  <a:lnTo>
                    <a:pt x="190" y="766"/>
                  </a:lnTo>
                  <a:lnTo>
                    <a:pt x="208" y="756"/>
                  </a:lnTo>
                  <a:lnTo>
                    <a:pt x="228" y="748"/>
                  </a:lnTo>
                  <a:lnTo>
                    <a:pt x="248" y="740"/>
                  </a:lnTo>
                  <a:lnTo>
                    <a:pt x="270" y="734"/>
                  </a:lnTo>
                  <a:lnTo>
                    <a:pt x="316" y="724"/>
                  </a:lnTo>
                  <a:lnTo>
                    <a:pt x="366" y="718"/>
                  </a:lnTo>
                  <a:lnTo>
                    <a:pt x="366" y="718"/>
                  </a:lnTo>
                  <a:lnTo>
                    <a:pt x="408" y="716"/>
                  </a:lnTo>
                  <a:lnTo>
                    <a:pt x="454" y="716"/>
                  </a:lnTo>
                  <a:lnTo>
                    <a:pt x="498" y="718"/>
                  </a:lnTo>
                  <a:lnTo>
                    <a:pt x="546" y="722"/>
                  </a:lnTo>
                  <a:lnTo>
                    <a:pt x="544" y="704"/>
                  </a:lnTo>
                  <a:lnTo>
                    <a:pt x="544" y="704"/>
                  </a:lnTo>
                  <a:lnTo>
                    <a:pt x="530" y="594"/>
                  </a:lnTo>
                  <a:lnTo>
                    <a:pt x="530" y="594"/>
                  </a:lnTo>
                  <a:lnTo>
                    <a:pt x="480" y="612"/>
                  </a:lnTo>
                  <a:lnTo>
                    <a:pt x="430" y="626"/>
                  </a:lnTo>
                  <a:lnTo>
                    <a:pt x="382" y="636"/>
                  </a:lnTo>
                  <a:lnTo>
                    <a:pt x="334" y="642"/>
                  </a:lnTo>
                  <a:lnTo>
                    <a:pt x="334" y="642"/>
                  </a:lnTo>
                  <a:lnTo>
                    <a:pt x="296" y="644"/>
                  </a:lnTo>
                  <a:lnTo>
                    <a:pt x="262" y="642"/>
                  </a:lnTo>
                  <a:lnTo>
                    <a:pt x="228" y="636"/>
                  </a:lnTo>
                  <a:lnTo>
                    <a:pt x="198" y="626"/>
                  </a:lnTo>
                  <a:lnTo>
                    <a:pt x="198" y="626"/>
                  </a:lnTo>
                  <a:lnTo>
                    <a:pt x="178" y="618"/>
                  </a:lnTo>
                  <a:lnTo>
                    <a:pt x="162" y="610"/>
                  </a:lnTo>
                  <a:lnTo>
                    <a:pt x="148" y="600"/>
                  </a:lnTo>
                  <a:lnTo>
                    <a:pt x="134" y="590"/>
                  </a:lnTo>
                  <a:lnTo>
                    <a:pt x="126" y="576"/>
                  </a:lnTo>
                  <a:lnTo>
                    <a:pt x="118" y="564"/>
                  </a:lnTo>
                  <a:lnTo>
                    <a:pt x="112" y="548"/>
                  </a:lnTo>
                  <a:lnTo>
                    <a:pt x="110" y="532"/>
                  </a:lnTo>
                  <a:lnTo>
                    <a:pt x="110" y="532"/>
                  </a:lnTo>
                  <a:lnTo>
                    <a:pt x="110" y="520"/>
                  </a:lnTo>
                  <a:lnTo>
                    <a:pt x="112" y="508"/>
                  </a:lnTo>
                  <a:lnTo>
                    <a:pt x="116" y="494"/>
                  </a:lnTo>
                  <a:lnTo>
                    <a:pt x="120" y="480"/>
                  </a:lnTo>
                  <a:lnTo>
                    <a:pt x="126" y="466"/>
                  </a:lnTo>
                  <a:lnTo>
                    <a:pt x="134" y="452"/>
                  </a:lnTo>
                  <a:lnTo>
                    <a:pt x="156" y="422"/>
                  </a:lnTo>
                  <a:lnTo>
                    <a:pt x="144" y="422"/>
                  </a:lnTo>
                  <a:lnTo>
                    <a:pt x="144" y="422"/>
                  </a:lnTo>
                  <a:lnTo>
                    <a:pt x="122" y="424"/>
                  </a:lnTo>
                  <a:lnTo>
                    <a:pt x="98" y="422"/>
                  </a:lnTo>
                  <a:lnTo>
                    <a:pt x="78" y="420"/>
                  </a:lnTo>
                  <a:lnTo>
                    <a:pt x="58" y="414"/>
                  </a:lnTo>
                  <a:lnTo>
                    <a:pt x="58" y="414"/>
                  </a:lnTo>
                  <a:lnTo>
                    <a:pt x="44" y="410"/>
                  </a:lnTo>
                  <a:lnTo>
                    <a:pt x="34" y="406"/>
                  </a:lnTo>
                  <a:lnTo>
                    <a:pt x="24" y="400"/>
                  </a:lnTo>
                  <a:lnTo>
                    <a:pt x="16" y="394"/>
                  </a:lnTo>
                  <a:lnTo>
                    <a:pt x="10" y="386"/>
                  </a:lnTo>
                  <a:lnTo>
                    <a:pt x="4" y="378"/>
                  </a:lnTo>
                  <a:lnTo>
                    <a:pt x="2" y="370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342"/>
                  </a:lnTo>
                  <a:lnTo>
                    <a:pt x="2" y="334"/>
                  </a:lnTo>
                  <a:lnTo>
                    <a:pt x="6" y="326"/>
                  </a:lnTo>
                  <a:lnTo>
                    <a:pt x="16" y="310"/>
                  </a:lnTo>
                  <a:lnTo>
                    <a:pt x="32" y="298"/>
                  </a:lnTo>
                  <a:lnTo>
                    <a:pt x="32" y="298"/>
                  </a:lnTo>
                  <a:lnTo>
                    <a:pt x="46" y="288"/>
                  </a:lnTo>
                  <a:lnTo>
                    <a:pt x="64" y="282"/>
                  </a:lnTo>
                  <a:lnTo>
                    <a:pt x="82" y="276"/>
                  </a:lnTo>
                  <a:lnTo>
                    <a:pt x="102" y="274"/>
                  </a:lnTo>
                  <a:lnTo>
                    <a:pt x="102" y="274"/>
                  </a:lnTo>
                  <a:lnTo>
                    <a:pt x="108" y="274"/>
                  </a:lnTo>
                  <a:lnTo>
                    <a:pt x="116" y="274"/>
                  </a:lnTo>
                  <a:lnTo>
                    <a:pt x="130" y="282"/>
                  </a:lnTo>
                  <a:lnTo>
                    <a:pt x="130" y="282"/>
                  </a:lnTo>
                  <a:lnTo>
                    <a:pt x="164" y="270"/>
                  </a:lnTo>
                  <a:lnTo>
                    <a:pt x="210" y="248"/>
                  </a:lnTo>
                  <a:lnTo>
                    <a:pt x="426" y="148"/>
                  </a:lnTo>
                  <a:lnTo>
                    <a:pt x="426" y="148"/>
                  </a:lnTo>
                  <a:lnTo>
                    <a:pt x="396" y="104"/>
                  </a:lnTo>
                  <a:lnTo>
                    <a:pt x="396" y="104"/>
                  </a:lnTo>
                  <a:lnTo>
                    <a:pt x="380" y="78"/>
                  </a:lnTo>
                  <a:lnTo>
                    <a:pt x="376" y="70"/>
                  </a:lnTo>
                  <a:lnTo>
                    <a:pt x="374" y="64"/>
                  </a:lnTo>
                  <a:lnTo>
                    <a:pt x="374" y="64"/>
                  </a:lnTo>
                  <a:lnTo>
                    <a:pt x="374" y="50"/>
                  </a:lnTo>
                  <a:lnTo>
                    <a:pt x="376" y="38"/>
                  </a:lnTo>
                  <a:lnTo>
                    <a:pt x="382" y="28"/>
                  </a:lnTo>
                  <a:lnTo>
                    <a:pt x="388" y="20"/>
                  </a:lnTo>
                  <a:lnTo>
                    <a:pt x="396" y="12"/>
                  </a:lnTo>
                  <a:lnTo>
                    <a:pt x="408" y="6"/>
                  </a:lnTo>
                  <a:lnTo>
                    <a:pt x="422" y="4"/>
                  </a:lnTo>
                  <a:lnTo>
                    <a:pt x="438" y="2"/>
                  </a:lnTo>
                  <a:lnTo>
                    <a:pt x="438" y="2"/>
                  </a:lnTo>
                  <a:lnTo>
                    <a:pt x="458" y="0"/>
                  </a:lnTo>
                  <a:lnTo>
                    <a:pt x="476" y="4"/>
                  </a:lnTo>
                  <a:lnTo>
                    <a:pt x="496" y="10"/>
                  </a:lnTo>
                  <a:lnTo>
                    <a:pt x="516" y="18"/>
                  </a:lnTo>
                  <a:lnTo>
                    <a:pt x="536" y="28"/>
                  </a:lnTo>
                  <a:lnTo>
                    <a:pt x="554" y="42"/>
                  </a:lnTo>
                  <a:lnTo>
                    <a:pt x="574" y="60"/>
                  </a:lnTo>
                  <a:lnTo>
                    <a:pt x="594" y="78"/>
                  </a:lnTo>
                  <a:lnTo>
                    <a:pt x="594" y="78"/>
                  </a:lnTo>
                  <a:lnTo>
                    <a:pt x="634" y="68"/>
                  </a:lnTo>
                  <a:lnTo>
                    <a:pt x="664" y="64"/>
                  </a:lnTo>
                  <a:lnTo>
                    <a:pt x="664" y="64"/>
                  </a:lnTo>
                  <a:lnTo>
                    <a:pt x="696" y="62"/>
                  </a:lnTo>
                  <a:lnTo>
                    <a:pt x="726" y="64"/>
                  </a:lnTo>
                  <a:lnTo>
                    <a:pt x="756" y="68"/>
                  </a:lnTo>
                  <a:lnTo>
                    <a:pt x="788" y="74"/>
                  </a:lnTo>
                  <a:lnTo>
                    <a:pt x="788" y="74"/>
                  </a:lnTo>
                  <a:lnTo>
                    <a:pt x="806" y="80"/>
                  </a:lnTo>
                  <a:lnTo>
                    <a:pt x="824" y="86"/>
                  </a:lnTo>
                  <a:lnTo>
                    <a:pt x="838" y="94"/>
                  </a:lnTo>
                  <a:lnTo>
                    <a:pt x="850" y="102"/>
                  </a:lnTo>
                  <a:lnTo>
                    <a:pt x="858" y="110"/>
                  </a:lnTo>
                  <a:lnTo>
                    <a:pt x="866" y="120"/>
                  </a:lnTo>
                  <a:lnTo>
                    <a:pt x="870" y="130"/>
                  </a:lnTo>
                  <a:lnTo>
                    <a:pt x="872" y="142"/>
                  </a:lnTo>
                  <a:lnTo>
                    <a:pt x="872" y="142"/>
                  </a:lnTo>
                  <a:lnTo>
                    <a:pt x="872" y="152"/>
                  </a:lnTo>
                  <a:lnTo>
                    <a:pt x="870" y="164"/>
                  </a:lnTo>
                  <a:lnTo>
                    <a:pt x="864" y="174"/>
                  </a:lnTo>
                  <a:lnTo>
                    <a:pt x="856" y="184"/>
                  </a:lnTo>
                  <a:lnTo>
                    <a:pt x="844" y="194"/>
                  </a:lnTo>
                  <a:lnTo>
                    <a:pt x="832" y="202"/>
                  </a:lnTo>
                  <a:lnTo>
                    <a:pt x="816" y="212"/>
                  </a:lnTo>
                  <a:lnTo>
                    <a:pt x="796" y="220"/>
                  </a:lnTo>
                  <a:lnTo>
                    <a:pt x="796" y="220"/>
                  </a:lnTo>
                  <a:lnTo>
                    <a:pt x="784" y="226"/>
                  </a:lnTo>
                  <a:lnTo>
                    <a:pt x="760" y="234"/>
                  </a:lnTo>
                  <a:lnTo>
                    <a:pt x="678" y="258"/>
                  </a:lnTo>
                  <a:lnTo>
                    <a:pt x="678" y="258"/>
                  </a:lnTo>
                  <a:lnTo>
                    <a:pt x="700" y="340"/>
                  </a:lnTo>
                  <a:lnTo>
                    <a:pt x="700" y="340"/>
                  </a:lnTo>
                  <a:lnTo>
                    <a:pt x="744" y="330"/>
                  </a:lnTo>
                  <a:lnTo>
                    <a:pt x="790" y="326"/>
                  </a:lnTo>
                  <a:lnTo>
                    <a:pt x="790" y="326"/>
                  </a:lnTo>
                  <a:lnTo>
                    <a:pt x="818" y="324"/>
                  </a:lnTo>
                  <a:lnTo>
                    <a:pt x="846" y="326"/>
                  </a:lnTo>
                  <a:lnTo>
                    <a:pt x="870" y="328"/>
                  </a:lnTo>
                  <a:lnTo>
                    <a:pt x="892" y="334"/>
                  </a:lnTo>
                  <a:lnTo>
                    <a:pt x="892" y="334"/>
                  </a:lnTo>
                  <a:lnTo>
                    <a:pt x="906" y="340"/>
                  </a:lnTo>
                  <a:lnTo>
                    <a:pt x="918" y="346"/>
                  </a:lnTo>
                  <a:lnTo>
                    <a:pt x="928" y="354"/>
                  </a:lnTo>
                  <a:lnTo>
                    <a:pt x="936" y="362"/>
                  </a:lnTo>
                  <a:lnTo>
                    <a:pt x="944" y="372"/>
                  </a:lnTo>
                  <a:lnTo>
                    <a:pt x="948" y="384"/>
                  </a:lnTo>
                  <a:lnTo>
                    <a:pt x="952" y="396"/>
                  </a:lnTo>
                  <a:lnTo>
                    <a:pt x="954" y="408"/>
                  </a:lnTo>
                  <a:lnTo>
                    <a:pt x="954" y="408"/>
                  </a:lnTo>
                  <a:lnTo>
                    <a:pt x="954" y="424"/>
                  </a:lnTo>
                  <a:lnTo>
                    <a:pt x="952" y="440"/>
                  </a:lnTo>
                  <a:lnTo>
                    <a:pt x="946" y="454"/>
                  </a:lnTo>
                  <a:lnTo>
                    <a:pt x="938" y="466"/>
                  </a:lnTo>
                  <a:lnTo>
                    <a:pt x="926" y="476"/>
                  </a:lnTo>
                  <a:lnTo>
                    <a:pt x="912" y="484"/>
                  </a:lnTo>
                  <a:lnTo>
                    <a:pt x="894" y="492"/>
                  </a:lnTo>
                  <a:lnTo>
                    <a:pt x="874" y="498"/>
                  </a:lnTo>
                  <a:lnTo>
                    <a:pt x="874" y="498"/>
                  </a:lnTo>
                  <a:lnTo>
                    <a:pt x="814" y="512"/>
                  </a:lnTo>
                  <a:lnTo>
                    <a:pt x="730" y="532"/>
                  </a:lnTo>
                  <a:lnTo>
                    <a:pt x="730" y="532"/>
                  </a:lnTo>
                  <a:lnTo>
                    <a:pt x="736" y="580"/>
                  </a:lnTo>
                  <a:lnTo>
                    <a:pt x="736" y="580"/>
                  </a:lnTo>
                  <a:lnTo>
                    <a:pt x="742" y="632"/>
                  </a:lnTo>
                  <a:lnTo>
                    <a:pt x="742" y="632"/>
                  </a:lnTo>
                  <a:lnTo>
                    <a:pt x="744" y="692"/>
                  </a:lnTo>
                  <a:lnTo>
                    <a:pt x="744" y="768"/>
                  </a:lnTo>
                  <a:lnTo>
                    <a:pt x="744" y="768"/>
                  </a:lnTo>
                  <a:lnTo>
                    <a:pt x="800" y="790"/>
                  </a:lnTo>
                  <a:lnTo>
                    <a:pt x="852" y="812"/>
                  </a:lnTo>
                  <a:lnTo>
                    <a:pt x="902" y="838"/>
                  </a:lnTo>
                  <a:lnTo>
                    <a:pt x="950" y="866"/>
                  </a:lnTo>
                  <a:lnTo>
                    <a:pt x="950" y="866"/>
                  </a:lnTo>
                  <a:lnTo>
                    <a:pt x="980" y="886"/>
                  </a:lnTo>
                  <a:lnTo>
                    <a:pt x="1006" y="906"/>
                  </a:lnTo>
                  <a:lnTo>
                    <a:pt x="1030" y="926"/>
                  </a:lnTo>
                  <a:lnTo>
                    <a:pt x="1048" y="948"/>
                  </a:lnTo>
                  <a:lnTo>
                    <a:pt x="1064" y="968"/>
                  </a:lnTo>
                  <a:lnTo>
                    <a:pt x="1074" y="988"/>
                  </a:lnTo>
                  <a:lnTo>
                    <a:pt x="1082" y="1010"/>
                  </a:lnTo>
                  <a:lnTo>
                    <a:pt x="1086" y="1030"/>
                  </a:lnTo>
                  <a:lnTo>
                    <a:pt x="1086" y="1030"/>
                  </a:lnTo>
                  <a:close/>
                  <a:moveTo>
                    <a:pt x="536" y="866"/>
                  </a:moveTo>
                  <a:lnTo>
                    <a:pt x="536" y="866"/>
                  </a:lnTo>
                  <a:lnTo>
                    <a:pt x="498" y="850"/>
                  </a:lnTo>
                  <a:lnTo>
                    <a:pt x="462" y="838"/>
                  </a:lnTo>
                  <a:lnTo>
                    <a:pt x="428" y="828"/>
                  </a:lnTo>
                  <a:lnTo>
                    <a:pt x="396" y="820"/>
                  </a:lnTo>
                  <a:lnTo>
                    <a:pt x="366" y="814"/>
                  </a:lnTo>
                  <a:lnTo>
                    <a:pt x="338" y="810"/>
                  </a:lnTo>
                  <a:lnTo>
                    <a:pt x="312" y="808"/>
                  </a:lnTo>
                  <a:lnTo>
                    <a:pt x="288" y="810"/>
                  </a:lnTo>
                  <a:lnTo>
                    <a:pt x="288" y="810"/>
                  </a:lnTo>
                  <a:lnTo>
                    <a:pt x="260" y="812"/>
                  </a:lnTo>
                  <a:lnTo>
                    <a:pt x="238" y="818"/>
                  </a:lnTo>
                  <a:lnTo>
                    <a:pt x="218" y="826"/>
                  </a:lnTo>
                  <a:lnTo>
                    <a:pt x="202" y="836"/>
                  </a:lnTo>
                  <a:lnTo>
                    <a:pt x="190" y="850"/>
                  </a:lnTo>
                  <a:lnTo>
                    <a:pt x="182" y="864"/>
                  </a:lnTo>
                  <a:lnTo>
                    <a:pt x="178" y="880"/>
                  </a:lnTo>
                  <a:lnTo>
                    <a:pt x="178" y="900"/>
                  </a:lnTo>
                  <a:lnTo>
                    <a:pt x="178" y="900"/>
                  </a:lnTo>
                  <a:lnTo>
                    <a:pt x="180" y="914"/>
                  </a:lnTo>
                  <a:lnTo>
                    <a:pt x="184" y="930"/>
                  </a:lnTo>
                  <a:lnTo>
                    <a:pt x="192" y="942"/>
                  </a:lnTo>
                  <a:lnTo>
                    <a:pt x="200" y="956"/>
                  </a:lnTo>
                  <a:lnTo>
                    <a:pt x="210" y="968"/>
                  </a:lnTo>
                  <a:lnTo>
                    <a:pt x="224" y="978"/>
                  </a:lnTo>
                  <a:lnTo>
                    <a:pt x="238" y="988"/>
                  </a:lnTo>
                  <a:lnTo>
                    <a:pt x="256" y="998"/>
                  </a:lnTo>
                  <a:lnTo>
                    <a:pt x="256" y="998"/>
                  </a:lnTo>
                  <a:lnTo>
                    <a:pt x="286" y="1010"/>
                  </a:lnTo>
                  <a:lnTo>
                    <a:pt x="318" y="1018"/>
                  </a:lnTo>
                  <a:lnTo>
                    <a:pt x="350" y="1022"/>
                  </a:lnTo>
                  <a:lnTo>
                    <a:pt x="384" y="1020"/>
                  </a:lnTo>
                  <a:lnTo>
                    <a:pt x="384" y="1020"/>
                  </a:lnTo>
                  <a:lnTo>
                    <a:pt x="412" y="1016"/>
                  </a:lnTo>
                  <a:lnTo>
                    <a:pt x="424" y="1012"/>
                  </a:lnTo>
                  <a:lnTo>
                    <a:pt x="438" y="1008"/>
                  </a:lnTo>
                  <a:lnTo>
                    <a:pt x="450" y="1002"/>
                  </a:lnTo>
                  <a:lnTo>
                    <a:pt x="460" y="994"/>
                  </a:lnTo>
                  <a:lnTo>
                    <a:pt x="470" y="986"/>
                  </a:lnTo>
                  <a:lnTo>
                    <a:pt x="480" y="978"/>
                  </a:lnTo>
                  <a:lnTo>
                    <a:pt x="498" y="956"/>
                  </a:lnTo>
                  <a:lnTo>
                    <a:pt x="514" y="930"/>
                  </a:lnTo>
                  <a:lnTo>
                    <a:pt x="526" y="900"/>
                  </a:lnTo>
                  <a:lnTo>
                    <a:pt x="536" y="866"/>
                  </a:lnTo>
                  <a:lnTo>
                    <a:pt x="536" y="866"/>
                  </a:lnTo>
                  <a:close/>
                  <a:moveTo>
                    <a:pt x="502" y="416"/>
                  </a:moveTo>
                  <a:lnTo>
                    <a:pt x="484" y="326"/>
                  </a:lnTo>
                  <a:lnTo>
                    <a:pt x="484" y="326"/>
                  </a:lnTo>
                  <a:lnTo>
                    <a:pt x="362" y="368"/>
                  </a:lnTo>
                  <a:lnTo>
                    <a:pt x="316" y="384"/>
                  </a:lnTo>
                  <a:lnTo>
                    <a:pt x="316" y="384"/>
                  </a:lnTo>
                  <a:lnTo>
                    <a:pt x="288" y="398"/>
                  </a:lnTo>
                  <a:lnTo>
                    <a:pt x="264" y="412"/>
                  </a:lnTo>
                  <a:lnTo>
                    <a:pt x="244" y="424"/>
                  </a:lnTo>
                  <a:lnTo>
                    <a:pt x="228" y="438"/>
                  </a:lnTo>
                  <a:lnTo>
                    <a:pt x="214" y="450"/>
                  </a:lnTo>
                  <a:lnTo>
                    <a:pt x="206" y="464"/>
                  </a:lnTo>
                  <a:lnTo>
                    <a:pt x="200" y="476"/>
                  </a:lnTo>
                  <a:lnTo>
                    <a:pt x="200" y="490"/>
                  </a:lnTo>
                  <a:lnTo>
                    <a:pt x="200" y="490"/>
                  </a:lnTo>
                  <a:lnTo>
                    <a:pt x="202" y="498"/>
                  </a:lnTo>
                  <a:lnTo>
                    <a:pt x="204" y="504"/>
                  </a:lnTo>
                  <a:lnTo>
                    <a:pt x="210" y="510"/>
                  </a:lnTo>
                  <a:lnTo>
                    <a:pt x="216" y="516"/>
                  </a:lnTo>
                  <a:lnTo>
                    <a:pt x="224" y="518"/>
                  </a:lnTo>
                  <a:lnTo>
                    <a:pt x="234" y="520"/>
                  </a:lnTo>
                  <a:lnTo>
                    <a:pt x="246" y="522"/>
                  </a:lnTo>
                  <a:lnTo>
                    <a:pt x="258" y="520"/>
                  </a:lnTo>
                  <a:lnTo>
                    <a:pt x="258" y="520"/>
                  </a:lnTo>
                  <a:lnTo>
                    <a:pt x="268" y="518"/>
                  </a:lnTo>
                  <a:lnTo>
                    <a:pt x="284" y="514"/>
                  </a:lnTo>
                  <a:lnTo>
                    <a:pt x="334" y="494"/>
                  </a:lnTo>
                  <a:lnTo>
                    <a:pt x="406" y="462"/>
                  </a:lnTo>
                  <a:lnTo>
                    <a:pt x="502" y="416"/>
                  </a:lnTo>
                  <a:lnTo>
                    <a:pt x="502" y="4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177560" y="27711360"/>
              <a:ext cx="1819800" cy="1882800"/>
            </a:xfrm>
            <a:custGeom>
              <a:avLst/>
              <a:gdLst>
                <a:gd name="textAreaLeft" fmla="*/ 0 w 1819800"/>
                <a:gd name="textAreaRight" fmla="*/ 1820160 w 181980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1146" h="1186">
                  <a:moveTo>
                    <a:pt x="1146" y="308"/>
                  </a:moveTo>
                  <a:lnTo>
                    <a:pt x="1146" y="308"/>
                  </a:lnTo>
                  <a:lnTo>
                    <a:pt x="1146" y="324"/>
                  </a:lnTo>
                  <a:lnTo>
                    <a:pt x="1144" y="338"/>
                  </a:lnTo>
                  <a:lnTo>
                    <a:pt x="1138" y="352"/>
                  </a:lnTo>
                  <a:lnTo>
                    <a:pt x="1128" y="364"/>
                  </a:lnTo>
                  <a:lnTo>
                    <a:pt x="1128" y="364"/>
                  </a:lnTo>
                  <a:lnTo>
                    <a:pt x="1116" y="374"/>
                  </a:lnTo>
                  <a:lnTo>
                    <a:pt x="1104" y="380"/>
                  </a:lnTo>
                  <a:lnTo>
                    <a:pt x="1090" y="386"/>
                  </a:lnTo>
                  <a:lnTo>
                    <a:pt x="1074" y="388"/>
                  </a:lnTo>
                  <a:lnTo>
                    <a:pt x="1074" y="388"/>
                  </a:lnTo>
                  <a:lnTo>
                    <a:pt x="1074" y="388"/>
                  </a:lnTo>
                  <a:lnTo>
                    <a:pt x="1072" y="386"/>
                  </a:lnTo>
                  <a:lnTo>
                    <a:pt x="1060" y="386"/>
                  </a:lnTo>
                  <a:lnTo>
                    <a:pt x="1000" y="380"/>
                  </a:lnTo>
                  <a:lnTo>
                    <a:pt x="1000" y="380"/>
                  </a:lnTo>
                  <a:lnTo>
                    <a:pt x="974" y="380"/>
                  </a:lnTo>
                  <a:lnTo>
                    <a:pt x="940" y="382"/>
                  </a:lnTo>
                  <a:lnTo>
                    <a:pt x="844" y="388"/>
                  </a:lnTo>
                  <a:lnTo>
                    <a:pt x="822" y="390"/>
                  </a:lnTo>
                  <a:lnTo>
                    <a:pt x="822" y="390"/>
                  </a:lnTo>
                  <a:lnTo>
                    <a:pt x="824" y="488"/>
                  </a:lnTo>
                  <a:lnTo>
                    <a:pt x="822" y="570"/>
                  </a:lnTo>
                  <a:lnTo>
                    <a:pt x="826" y="568"/>
                  </a:lnTo>
                  <a:lnTo>
                    <a:pt x="826" y="568"/>
                  </a:lnTo>
                  <a:lnTo>
                    <a:pt x="846" y="586"/>
                  </a:lnTo>
                  <a:lnTo>
                    <a:pt x="864" y="604"/>
                  </a:lnTo>
                  <a:lnTo>
                    <a:pt x="880" y="626"/>
                  </a:lnTo>
                  <a:lnTo>
                    <a:pt x="894" y="648"/>
                  </a:lnTo>
                  <a:lnTo>
                    <a:pt x="904" y="674"/>
                  </a:lnTo>
                  <a:lnTo>
                    <a:pt x="914" y="702"/>
                  </a:lnTo>
                  <a:lnTo>
                    <a:pt x="920" y="732"/>
                  </a:lnTo>
                  <a:lnTo>
                    <a:pt x="924" y="764"/>
                  </a:lnTo>
                  <a:lnTo>
                    <a:pt x="924" y="764"/>
                  </a:lnTo>
                  <a:lnTo>
                    <a:pt x="924" y="784"/>
                  </a:lnTo>
                  <a:lnTo>
                    <a:pt x="924" y="804"/>
                  </a:lnTo>
                  <a:lnTo>
                    <a:pt x="922" y="824"/>
                  </a:lnTo>
                  <a:lnTo>
                    <a:pt x="920" y="844"/>
                  </a:lnTo>
                  <a:lnTo>
                    <a:pt x="914" y="864"/>
                  </a:lnTo>
                  <a:lnTo>
                    <a:pt x="908" y="882"/>
                  </a:lnTo>
                  <a:lnTo>
                    <a:pt x="902" y="902"/>
                  </a:lnTo>
                  <a:lnTo>
                    <a:pt x="892" y="920"/>
                  </a:lnTo>
                  <a:lnTo>
                    <a:pt x="882" y="938"/>
                  </a:lnTo>
                  <a:lnTo>
                    <a:pt x="872" y="956"/>
                  </a:lnTo>
                  <a:lnTo>
                    <a:pt x="858" y="972"/>
                  </a:lnTo>
                  <a:lnTo>
                    <a:pt x="844" y="990"/>
                  </a:lnTo>
                  <a:lnTo>
                    <a:pt x="812" y="1024"/>
                  </a:lnTo>
                  <a:lnTo>
                    <a:pt x="774" y="1056"/>
                  </a:lnTo>
                  <a:lnTo>
                    <a:pt x="774" y="1056"/>
                  </a:lnTo>
                  <a:lnTo>
                    <a:pt x="738" y="1084"/>
                  </a:lnTo>
                  <a:lnTo>
                    <a:pt x="700" y="1108"/>
                  </a:lnTo>
                  <a:lnTo>
                    <a:pt x="662" y="1128"/>
                  </a:lnTo>
                  <a:lnTo>
                    <a:pt x="622" y="1146"/>
                  </a:lnTo>
                  <a:lnTo>
                    <a:pt x="582" y="1160"/>
                  </a:lnTo>
                  <a:lnTo>
                    <a:pt x="540" y="1172"/>
                  </a:lnTo>
                  <a:lnTo>
                    <a:pt x="500" y="1180"/>
                  </a:lnTo>
                  <a:lnTo>
                    <a:pt x="456" y="1186"/>
                  </a:lnTo>
                  <a:lnTo>
                    <a:pt x="456" y="1186"/>
                  </a:lnTo>
                  <a:lnTo>
                    <a:pt x="428" y="1186"/>
                  </a:lnTo>
                  <a:lnTo>
                    <a:pt x="406" y="1184"/>
                  </a:lnTo>
                  <a:lnTo>
                    <a:pt x="398" y="1182"/>
                  </a:lnTo>
                  <a:lnTo>
                    <a:pt x="394" y="1180"/>
                  </a:lnTo>
                  <a:lnTo>
                    <a:pt x="390" y="1176"/>
                  </a:lnTo>
                  <a:lnTo>
                    <a:pt x="388" y="1170"/>
                  </a:lnTo>
                  <a:lnTo>
                    <a:pt x="388" y="1170"/>
                  </a:lnTo>
                  <a:lnTo>
                    <a:pt x="388" y="1168"/>
                  </a:lnTo>
                  <a:lnTo>
                    <a:pt x="390" y="1164"/>
                  </a:lnTo>
                  <a:lnTo>
                    <a:pt x="400" y="1156"/>
                  </a:lnTo>
                  <a:lnTo>
                    <a:pt x="414" y="1146"/>
                  </a:lnTo>
                  <a:lnTo>
                    <a:pt x="436" y="1134"/>
                  </a:lnTo>
                  <a:lnTo>
                    <a:pt x="436" y="1134"/>
                  </a:lnTo>
                  <a:lnTo>
                    <a:pt x="478" y="1108"/>
                  </a:lnTo>
                  <a:lnTo>
                    <a:pt x="518" y="1082"/>
                  </a:lnTo>
                  <a:lnTo>
                    <a:pt x="556" y="1052"/>
                  </a:lnTo>
                  <a:lnTo>
                    <a:pt x="592" y="1022"/>
                  </a:lnTo>
                  <a:lnTo>
                    <a:pt x="592" y="1022"/>
                  </a:lnTo>
                  <a:lnTo>
                    <a:pt x="632" y="984"/>
                  </a:lnTo>
                  <a:lnTo>
                    <a:pt x="650" y="964"/>
                  </a:lnTo>
                  <a:lnTo>
                    <a:pt x="666" y="946"/>
                  </a:lnTo>
                  <a:lnTo>
                    <a:pt x="680" y="928"/>
                  </a:lnTo>
                  <a:lnTo>
                    <a:pt x="690" y="910"/>
                  </a:lnTo>
                  <a:lnTo>
                    <a:pt x="700" y="892"/>
                  </a:lnTo>
                  <a:lnTo>
                    <a:pt x="708" y="874"/>
                  </a:lnTo>
                  <a:lnTo>
                    <a:pt x="708" y="874"/>
                  </a:lnTo>
                  <a:lnTo>
                    <a:pt x="690" y="888"/>
                  </a:lnTo>
                  <a:lnTo>
                    <a:pt x="670" y="902"/>
                  </a:lnTo>
                  <a:lnTo>
                    <a:pt x="646" y="916"/>
                  </a:lnTo>
                  <a:lnTo>
                    <a:pt x="618" y="926"/>
                  </a:lnTo>
                  <a:lnTo>
                    <a:pt x="618" y="926"/>
                  </a:lnTo>
                  <a:lnTo>
                    <a:pt x="592" y="936"/>
                  </a:lnTo>
                  <a:lnTo>
                    <a:pt x="566" y="942"/>
                  </a:lnTo>
                  <a:lnTo>
                    <a:pt x="540" y="948"/>
                  </a:lnTo>
                  <a:lnTo>
                    <a:pt x="516" y="950"/>
                  </a:lnTo>
                  <a:lnTo>
                    <a:pt x="516" y="950"/>
                  </a:lnTo>
                  <a:lnTo>
                    <a:pt x="494" y="952"/>
                  </a:lnTo>
                  <a:lnTo>
                    <a:pt x="472" y="950"/>
                  </a:lnTo>
                  <a:lnTo>
                    <a:pt x="450" y="948"/>
                  </a:lnTo>
                  <a:lnTo>
                    <a:pt x="430" y="944"/>
                  </a:lnTo>
                  <a:lnTo>
                    <a:pt x="410" y="938"/>
                  </a:lnTo>
                  <a:lnTo>
                    <a:pt x="392" y="932"/>
                  </a:lnTo>
                  <a:lnTo>
                    <a:pt x="372" y="922"/>
                  </a:lnTo>
                  <a:lnTo>
                    <a:pt x="354" y="912"/>
                  </a:lnTo>
                  <a:lnTo>
                    <a:pt x="354" y="912"/>
                  </a:lnTo>
                  <a:lnTo>
                    <a:pt x="336" y="898"/>
                  </a:lnTo>
                  <a:lnTo>
                    <a:pt x="320" y="884"/>
                  </a:lnTo>
                  <a:lnTo>
                    <a:pt x="306" y="868"/>
                  </a:lnTo>
                  <a:lnTo>
                    <a:pt x="294" y="852"/>
                  </a:lnTo>
                  <a:lnTo>
                    <a:pt x="286" y="836"/>
                  </a:lnTo>
                  <a:lnTo>
                    <a:pt x="278" y="816"/>
                  </a:lnTo>
                  <a:lnTo>
                    <a:pt x="272" y="796"/>
                  </a:lnTo>
                  <a:lnTo>
                    <a:pt x="270" y="776"/>
                  </a:lnTo>
                  <a:lnTo>
                    <a:pt x="270" y="776"/>
                  </a:lnTo>
                  <a:lnTo>
                    <a:pt x="270" y="744"/>
                  </a:lnTo>
                  <a:lnTo>
                    <a:pt x="274" y="716"/>
                  </a:lnTo>
                  <a:lnTo>
                    <a:pt x="282" y="688"/>
                  </a:lnTo>
                  <a:lnTo>
                    <a:pt x="294" y="662"/>
                  </a:lnTo>
                  <a:lnTo>
                    <a:pt x="312" y="638"/>
                  </a:lnTo>
                  <a:lnTo>
                    <a:pt x="334" y="616"/>
                  </a:lnTo>
                  <a:lnTo>
                    <a:pt x="360" y="596"/>
                  </a:lnTo>
                  <a:lnTo>
                    <a:pt x="390" y="576"/>
                  </a:lnTo>
                  <a:lnTo>
                    <a:pt x="390" y="576"/>
                  </a:lnTo>
                  <a:lnTo>
                    <a:pt x="416" y="564"/>
                  </a:lnTo>
                  <a:lnTo>
                    <a:pt x="444" y="552"/>
                  </a:lnTo>
                  <a:lnTo>
                    <a:pt x="472" y="542"/>
                  </a:lnTo>
                  <a:lnTo>
                    <a:pt x="502" y="534"/>
                  </a:lnTo>
                  <a:lnTo>
                    <a:pt x="534" y="526"/>
                  </a:lnTo>
                  <a:lnTo>
                    <a:pt x="566" y="520"/>
                  </a:lnTo>
                  <a:lnTo>
                    <a:pt x="600" y="516"/>
                  </a:lnTo>
                  <a:lnTo>
                    <a:pt x="634" y="514"/>
                  </a:lnTo>
                  <a:lnTo>
                    <a:pt x="634" y="514"/>
                  </a:lnTo>
                  <a:lnTo>
                    <a:pt x="632" y="462"/>
                  </a:lnTo>
                  <a:lnTo>
                    <a:pt x="632" y="462"/>
                  </a:lnTo>
                  <a:lnTo>
                    <a:pt x="628" y="412"/>
                  </a:lnTo>
                  <a:lnTo>
                    <a:pt x="628" y="412"/>
                  </a:lnTo>
                  <a:lnTo>
                    <a:pt x="570" y="424"/>
                  </a:lnTo>
                  <a:lnTo>
                    <a:pt x="502" y="440"/>
                  </a:lnTo>
                  <a:lnTo>
                    <a:pt x="422" y="460"/>
                  </a:lnTo>
                  <a:lnTo>
                    <a:pt x="330" y="486"/>
                  </a:lnTo>
                  <a:lnTo>
                    <a:pt x="330" y="486"/>
                  </a:lnTo>
                  <a:lnTo>
                    <a:pt x="264" y="506"/>
                  </a:lnTo>
                  <a:lnTo>
                    <a:pt x="208" y="520"/>
                  </a:lnTo>
                  <a:lnTo>
                    <a:pt x="162" y="528"/>
                  </a:lnTo>
                  <a:lnTo>
                    <a:pt x="128" y="534"/>
                  </a:lnTo>
                  <a:lnTo>
                    <a:pt x="128" y="534"/>
                  </a:lnTo>
                  <a:lnTo>
                    <a:pt x="108" y="534"/>
                  </a:lnTo>
                  <a:lnTo>
                    <a:pt x="90" y="532"/>
                  </a:lnTo>
                  <a:lnTo>
                    <a:pt x="70" y="528"/>
                  </a:lnTo>
                  <a:lnTo>
                    <a:pt x="52" y="522"/>
                  </a:lnTo>
                  <a:lnTo>
                    <a:pt x="52" y="522"/>
                  </a:lnTo>
                  <a:lnTo>
                    <a:pt x="30" y="512"/>
                  </a:lnTo>
                  <a:lnTo>
                    <a:pt x="22" y="506"/>
                  </a:lnTo>
                  <a:lnTo>
                    <a:pt x="14" y="500"/>
                  </a:lnTo>
                  <a:lnTo>
                    <a:pt x="8" y="494"/>
                  </a:lnTo>
                  <a:lnTo>
                    <a:pt x="4" y="486"/>
                  </a:lnTo>
                  <a:lnTo>
                    <a:pt x="2" y="478"/>
                  </a:lnTo>
                  <a:lnTo>
                    <a:pt x="0" y="470"/>
                  </a:lnTo>
                  <a:lnTo>
                    <a:pt x="0" y="470"/>
                  </a:lnTo>
                  <a:lnTo>
                    <a:pt x="0" y="462"/>
                  </a:lnTo>
                  <a:lnTo>
                    <a:pt x="2" y="454"/>
                  </a:lnTo>
                  <a:lnTo>
                    <a:pt x="8" y="436"/>
                  </a:lnTo>
                  <a:lnTo>
                    <a:pt x="18" y="418"/>
                  </a:lnTo>
                  <a:lnTo>
                    <a:pt x="34" y="402"/>
                  </a:lnTo>
                  <a:lnTo>
                    <a:pt x="34" y="402"/>
                  </a:lnTo>
                  <a:lnTo>
                    <a:pt x="52" y="386"/>
                  </a:lnTo>
                  <a:lnTo>
                    <a:pt x="72" y="376"/>
                  </a:lnTo>
                  <a:lnTo>
                    <a:pt x="90" y="368"/>
                  </a:lnTo>
                  <a:lnTo>
                    <a:pt x="106" y="364"/>
                  </a:lnTo>
                  <a:lnTo>
                    <a:pt x="106" y="364"/>
                  </a:lnTo>
                  <a:lnTo>
                    <a:pt x="122" y="372"/>
                  </a:lnTo>
                  <a:lnTo>
                    <a:pt x="124" y="374"/>
                  </a:lnTo>
                  <a:lnTo>
                    <a:pt x="124" y="374"/>
                  </a:lnTo>
                  <a:lnTo>
                    <a:pt x="250" y="332"/>
                  </a:lnTo>
                  <a:lnTo>
                    <a:pt x="250" y="332"/>
                  </a:lnTo>
                  <a:lnTo>
                    <a:pt x="394" y="286"/>
                  </a:lnTo>
                  <a:lnTo>
                    <a:pt x="598" y="222"/>
                  </a:lnTo>
                  <a:lnTo>
                    <a:pt x="598" y="222"/>
                  </a:lnTo>
                  <a:lnTo>
                    <a:pt x="588" y="182"/>
                  </a:lnTo>
                  <a:lnTo>
                    <a:pt x="578" y="146"/>
                  </a:lnTo>
                  <a:lnTo>
                    <a:pt x="566" y="116"/>
                  </a:lnTo>
                  <a:lnTo>
                    <a:pt x="554" y="94"/>
                  </a:lnTo>
                  <a:lnTo>
                    <a:pt x="554" y="94"/>
                  </a:lnTo>
                  <a:lnTo>
                    <a:pt x="546" y="82"/>
                  </a:lnTo>
                  <a:lnTo>
                    <a:pt x="542" y="72"/>
                  </a:lnTo>
                  <a:lnTo>
                    <a:pt x="538" y="62"/>
                  </a:lnTo>
                  <a:lnTo>
                    <a:pt x="536" y="50"/>
                  </a:lnTo>
                  <a:lnTo>
                    <a:pt x="536" y="50"/>
                  </a:lnTo>
                  <a:lnTo>
                    <a:pt x="536" y="40"/>
                  </a:lnTo>
                  <a:lnTo>
                    <a:pt x="538" y="30"/>
                  </a:lnTo>
                  <a:lnTo>
                    <a:pt x="540" y="22"/>
                  </a:lnTo>
                  <a:lnTo>
                    <a:pt x="544" y="14"/>
                  </a:lnTo>
                  <a:lnTo>
                    <a:pt x="550" y="8"/>
                  </a:lnTo>
                  <a:lnTo>
                    <a:pt x="558" y="4"/>
                  </a:lnTo>
                  <a:lnTo>
                    <a:pt x="566" y="2"/>
                  </a:lnTo>
                  <a:lnTo>
                    <a:pt x="576" y="0"/>
                  </a:lnTo>
                  <a:lnTo>
                    <a:pt x="576" y="0"/>
                  </a:lnTo>
                  <a:lnTo>
                    <a:pt x="598" y="0"/>
                  </a:lnTo>
                  <a:lnTo>
                    <a:pt x="622" y="2"/>
                  </a:lnTo>
                  <a:lnTo>
                    <a:pt x="646" y="8"/>
                  </a:lnTo>
                  <a:lnTo>
                    <a:pt x="670" y="18"/>
                  </a:lnTo>
                  <a:lnTo>
                    <a:pt x="670" y="18"/>
                  </a:lnTo>
                  <a:lnTo>
                    <a:pt x="698" y="32"/>
                  </a:lnTo>
                  <a:lnTo>
                    <a:pt x="722" y="48"/>
                  </a:lnTo>
                  <a:lnTo>
                    <a:pt x="742" y="64"/>
                  </a:lnTo>
                  <a:lnTo>
                    <a:pt x="758" y="82"/>
                  </a:lnTo>
                  <a:lnTo>
                    <a:pt x="758" y="82"/>
                  </a:lnTo>
                  <a:lnTo>
                    <a:pt x="768" y="100"/>
                  </a:lnTo>
                  <a:lnTo>
                    <a:pt x="778" y="124"/>
                  </a:lnTo>
                  <a:lnTo>
                    <a:pt x="786" y="152"/>
                  </a:lnTo>
                  <a:lnTo>
                    <a:pt x="794" y="186"/>
                  </a:lnTo>
                  <a:lnTo>
                    <a:pt x="794" y="186"/>
                  </a:lnTo>
                  <a:lnTo>
                    <a:pt x="836" y="184"/>
                  </a:lnTo>
                  <a:lnTo>
                    <a:pt x="874" y="184"/>
                  </a:lnTo>
                  <a:lnTo>
                    <a:pt x="910" y="184"/>
                  </a:lnTo>
                  <a:lnTo>
                    <a:pt x="944" y="186"/>
                  </a:lnTo>
                  <a:lnTo>
                    <a:pt x="976" y="190"/>
                  </a:lnTo>
                  <a:lnTo>
                    <a:pt x="1006" y="196"/>
                  </a:lnTo>
                  <a:lnTo>
                    <a:pt x="1032" y="204"/>
                  </a:lnTo>
                  <a:lnTo>
                    <a:pt x="1056" y="214"/>
                  </a:lnTo>
                  <a:lnTo>
                    <a:pt x="1056" y="214"/>
                  </a:lnTo>
                  <a:lnTo>
                    <a:pt x="1076" y="224"/>
                  </a:lnTo>
                  <a:lnTo>
                    <a:pt x="1094" y="234"/>
                  </a:lnTo>
                  <a:lnTo>
                    <a:pt x="1110" y="244"/>
                  </a:lnTo>
                  <a:lnTo>
                    <a:pt x="1122" y="256"/>
                  </a:lnTo>
                  <a:lnTo>
                    <a:pt x="1132" y="268"/>
                  </a:lnTo>
                  <a:lnTo>
                    <a:pt x="1140" y="282"/>
                  </a:lnTo>
                  <a:lnTo>
                    <a:pt x="1144" y="294"/>
                  </a:lnTo>
                  <a:lnTo>
                    <a:pt x="1146" y="308"/>
                  </a:lnTo>
                  <a:lnTo>
                    <a:pt x="1146" y="308"/>
                  </a:lnTo>
                  <a:close/>
                  <a:moveTo>
                    <a:pt x="636" y="640"/>
                  </a:moveTo>
                  <a:lnTo>
                    <a:pt x="636" y="640"/>
                  </a:lnTo>
                  <a:lnTo>
                    <a:pt x="616" y="632"/>
                  </a:lnTo>
                  <a:lnTo>
                    <a:pt x="596" y="628"/>
                  </a:lnTo>
                  <a:lnTo>
                    <a:pt x="572" y="628"/>
                  </a:lnTo>
                  <a:lnTo>
                    <a:pt x="550" y="628"/>
                  </a:lnTo>
                  <a:lnTo>
                    <a:pt x="550" y="628"/>
                  </a:lnTo>
                  <a:lnTo>
                    <a:pt x="520" y="632"/>
                  </a:lnTo>
                  <a:lnTo>
                    <a:pt x="492" y="638"/>
                  </a:lnTo>
                  <a:lnTo>
                    <a:pt x="466" y="648"/>
                  </a:lnTo>
                  <a:lnTo>
                    <a:pt x="442" y="660"/>
                  </a:lnTo>
                  <a:lnTo>
                    <a:pt x="442" y="660"/>
                  </a:lnTo>
                  <a:lnTo>
                    <a:pt x="428" y="670"/>
                  </a:lnTo>
                  <a:lnTo>
                    <a:pt x="416" y="680"/>
                  </a:lnTo>
                  <a:lnTo>
                    <a:pt x="408" y="690"/>
                  </a:lnTo>
                  <a:lnTo>
                    <a:pt x="400" y="702"/>
                  </a:lnTo>
                  <a:lnTo>
                    <a:pt x="394" y="714"/>
                  </a:lnTo>
                  <a:lnTo>
                    <a:pt x="390" y="726"/>
                  </a:lnTo>
                  <a:lnTo>
                    <a:pt x="388" y="738"/>
                  </a:lnTo>
                  <a:lnTo>
                    <a:pt x="388" y="752"/>
                  </a:lnTo>
                  <a:lnTo>
                    <a:pt x="388" y="752"/>
                  </a:lnTo>
                  <a:lnTo>
                    <a:pt x="390" y="760"/>
                  </a:lnTo>
                  <a:lnTo>
                    <a:pt x="392" y="770"/>
                  </a:lnTo>
                  <a:lnTo>
                    <a:pt x="396" y="776"/>
                  </a:lnTo>
                  <a:lnTo>
                    <a:pt x="400" y="784"/>
                  </a:lnTo>
                  <a:lnTo>
                    <a:pt x="414" y="798"/>
                  </a:lnTo>
                  <a:lnTo>
                    <a:pt x="432" y="810"/>
                  </a:lnTo>
                  <a:lnTo>
                    <a:pt x="432" y="810"/>
                  </a:lnTo>
                  <a:lnTo>
                    <a:pt x="448" y="818"/>
                  </a:lnTo>
                  <a:lnTo>
                    <a:pt x="466" y="824"/>
                  </a:lnTo>
                  <a:lnTo>
                    <a:pt x="486" y="828"/>
                  </a:lnTo>
                  <a:lnTo>
                    <a:pt x="506" y="826"/>
                  </a:lnTo>
                  <a:lnTo>
                    <a:pt x="506" y="826"/>
                  </a:lnTo>
                  <a:lnTo>
                    <a:pt x="520" y="826"/>
                  </a:lnTo>
                  <a:lnTo>
                    <a:pt x="532" y="822"/>
                  </a:lnTo>
                  <a:lnTo>
                    <a:pt x="546" y="818"/>
                  </a:lnTo>
                  <a:lnTo>
                    <a:pt x="558" y="812"/>
                  </a:lnTo>
                  <a:lnTo>
                    <a:pt x="568" y="804"/>
                  </a:lnTo>
                  <a:lnTo>
                    <a:pt x="578" y="796"/>
                  </a:lnTo>
                  <a:lnTo>
                    <a:pt x="588" y="786"/>
                  </a:lnTo>
                  <a:lnTo>
                    <a:pt x="596" y="776"/>
                  </a:lnTo>
                  <a:lnTo>
                    <a:pt x="604" y="762"/>
                  </a:lnTo>
                  <a:lnTo>
                    <a:pt x="612" y="750"/>
                  </a:lnTo>
                  <a:lnTo>
                    <a:pt x="618" y="734"/>
                  </a:lnTo>
                  <a:lnTo>
                    <a:pt x="622" y="718"/>
                  </a:lnTo>
                  <a:lnTo>
                    <a:pt x="630" y="682"/>
                  </a:lnTo>
                  <a:lnTo>
                    <a:pt x="636" y="640"/>
                  </a:lnTo>
                  <a:lnTo>
                    <a:pt x="636" y="64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30:29Z</dcterms:created>
  <dc:creator>seisaku</dc:creator>
  <dc:description/>
  <dc:language>en-US</dc:language>
  <cp:lastModifiedBy>seisaku</cp:lastModifiedBy>
  <dcterms:modified xsi:type="dcterms:W3CDTF">2012-05-15T02:34:22Z</dcterms:modified>
  <cp:revision>1</cp:revision>
  <dc:subject/>
  <dc:title>スライド 1</dc:title>
</cp:coreProperties>
</file>