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274-2274-4E9F-ADFF-25DA72E3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45C-E21E-4D38-BB81-81AAC75F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84C-3EB9-4FCC-9690-793AC0FA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437-CCDA-46A6-8B74-F4671F12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1EA-844D-464D-AF83-16304CAD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4DD-D219-49A9-ACF9-B07D61C0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2FB-B4C9-49AD-B920-D7791AF4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9E5-C2AA-4682-B819-CD490D06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981-2C08-4CD9-8BDF-2915FEDA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5BE-67C2-4694-9663-9769D02C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AEF-6D32-43F9-8E93-2D494E11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BD0-20BD-44AE-9905-1CB4A36C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29B9-391F-4C8C-AA99-4494933AE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6144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360" y="3503520"/>
            <a:ext cx="6913440" cy="7050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5120" y="120816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36480" y="4087800"/>
            <a:ext cx="746280" cy="87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006640" y="1033560"/>
            <a:ext cx="5027400" cy="1749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25560">
                  <a:solidFill>
                    <a:srgbClr val="cc9900"/>
                  </a:solidFill>
                  <a:miter/>
                </a:ln>
                <a:solidFill>
                  <a:srgbClr val="9966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ＭＳ Ｐゴシック"/>
              </a:rPr>
              <a:t>照り焼き</a:t>
            </a:r>
            <a:endParaRPr b="1" i="1" lang="en-US" sz="1800" spc="1" strike="noStrike">
              <a:ln w="25560">
                <a:solidFill>
                  <a:srgbClr val="cc9900"/>
                </a:solidFill>
                <a:miter/>
              </a:ln>
              <a:solidFill>
                <a:srgbClr val="9966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25560">
                  <a:solidFill>
                    <a:srgbClr val="cc9900"/>
                  </a:solidFill>
                  <a:miter/>
                </a:ln>
                <a:solidFill>
                  <a:srgbClr val="9966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ＭＳ Ｐゴシック"/>
              </a:rPr>
              <a:t>バーガーセット</a:t>
            </a:r>
            <a:endParaRPr b="1" i="1" lang="en-US" sz="1800" spc="1" strike="noStrike">
              <a:ln w="25560">
                <a:solidFill>
                  <a:srgbClr val="cc9900"/>
                </a:solidFill>
                <a:miter/>
              </a:ln>
              <a:solidFill>
                <a:srgbClr val="9966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46" name=""/>
          <p:cNvSpPr/>
          <p:nvPr/>
        </p:nvSpPr>
        <p:spPr>
          <a:xfrm>
            <a:off x="530280" y="29955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ＭＳ Ｐゴシック"/>
              </a:rPr>
              <a:t>照り焼きバーガー・ポテト（</a:t>
            </a:r>
            <a:r>
              <a:rPr b="1" lang="en-US" sz="2800" spc="-1" strike="noStrike">
                <a:solidFill>
                  <a:srgbClr val="cc0000"/>
                </a:solidFill>
                <a:latin typeface="ＭＳ Ｐゴシック"/>
              </a:rPr>
              <a:t>M</a:t>
            </a:r>
            <a:r>
              <a:rPr b="1" lang="zh-CN" sz="2800" spc="-1" strike="noStrike">
                <a:solidFill>
                  <a:srgbClr val="cc0000"/>
                </a:solidFill>
                <a:latin typeface="ＭＳ Ｐゴシック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cc0000"/>
                </a:solidFill>
                <a:latin typeface="ＭＳ Ｐゴシック"/>
              </a:rPr>
              <a:t>ドリンク</a:t>
            </a:r>
            <a:r>
              <a:rPr b="1" lang="en-US" sz="2800" spc="-1" strike="noStrike">
                <a:solidFill>
                  <a:srgbClr val="cc0000"/>
                </a:solidFill>
                <a:latin typeface="ＭＳ Ｐゴシック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96880" y="3763800"/>
            <a:ext cx="272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de0000"/>
                </a:solidFill>
                <a:latin typeface="Arial"/>
              </a:rPr>
              <a:t>68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8:54:08Z</dcterms:created>
  <dc:creator>fukase3</dc:creator>
  <dc:description/>
  <dc:language>en-US</dc:language>
  <cp:lastModifiedBy>fukase3</cp:lastModifiedBy>
  <dcterms:modified xsi:type="dcterms:W3CDTF">2009-05-14T09:20:52Z</dcterms:modified>
  <cp:revision>2</cp:revision>
  <dc:subject/>
  <dc:title>スライド 1</dc:title>
</cp:coreProperties>
</file>