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C68-41A8-40D4-B0F9-5C5E1EF1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691-7390-4827-89FB-7749665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972-5E06-414D-9705-350E3DA7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9EF-6D7C-40A7-934D-2D2D6AFF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BAF-DCA4-402D-BAA3-A356FADD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382-53EE-480F-87DE-350CA3F3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CAA-95B7-44C7-869E-81016693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BE8-6D22-476A-84DC-D1F663B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4440"/>
            <a:ext cx="962352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972-D1E8-441E-A3B1-D37F6447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D0D-7ECB-4BF3-8F49-0663841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057-934C-4858-9F66-96894E85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BEF-7FC0-4832-BF55-4FAB667A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3771080"/>
            <a:ext cx="338760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E76477B1-DF78-4DF7-996D-6CCFCD5A7A85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5122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2600" y="693720"/>
            <a:ext cx="10159920" cy="287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4077800"/>
            <a:ext cx="106934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Arial"/>
              </a:rPr>
              <a:t>居酒屋　○○○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102200"/>
            <a:ext cx="1069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$ＪＳ明朝"/>
              </a:rPr>
              <a:t>お造り三種盛り</a:t>
            </a:r>
            <a:br>
              <a:rPr sz="6000"/>
            </a:br>
            <a:r>
              <a:rPr b="1" lang="en-US" sz="8000" spc="-1" strike="noStrike">
                <a:solidFill>
                  <a:srgbClr val="cc0000"/>
                </a:solidFill>
                <a:latin typeface="$ＪＳ明朝"/>
                <a:ea typeface="$ＪＳ明朝"/>
              </a:rPr>
              <a:t>980</a:t>
            </a:r>
            <a:r>
              <a:rPr b="1" lang="zh-CN" sz="8000" spc="-1" strike="noStrike">
                <a:solidFill>
                  <a:srgbClr val="cc0000"/>
                </a:solidFill>
                <a:latin typeface="$ＪＳ明朝"/>
                <a:ea typeface="$ＪＳ明朝"/>
              </a:rPr>
              <a:t>円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$ＪＳ明朝"/>
              </a:rPr>
              <a:t>（税込み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823320" y="4422600"/>
            <a:ext cx="522360" cy="903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40040" y="3203640"/>
            <a:ext cx="522360" cy="903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3040" y="7097760"/>
            <a:ext cx="522360" cy="90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915080" y="11306160"/>
            <a:ext cx="522000" cy="903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9594720" y="12314160"/>
            <a:ext cx="522360" cy="903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9739440" y="7993080"/>
            <a:ext cx="522000" cy="90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170000" y="12169800"/>
            <a:ext cx="522360" cy="903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332840" y="9883800"/>
            <a:ext cx="1166760" cy="4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20640" y="4027320"/>
            <a:ext cx="1166760" cy="48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522360" y="5905440"/>
            <a:ext cx="1166760" cy="48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60360" y="9245520"/>
            <a:ext cx="1166760" cy="48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330720" y="12601440"/>
            <a:ext cx="1166760" cy="48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9018720" y="10656720"/>
            <a:ext cx="1166760" cy="48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9180360" y="6765840"/>
            <a:ext cx="1167120" cy="48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8813880" y="3463920"/>
            <a:ext cx="1166760" cy="48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2593800" y="7216920"/>
            <a:ext cx="1265400" cy="37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8426520" y="5319720"/>
            <a:ext cx="1265040" cy="37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7142040" y="12336480"/>
            <a:ext cx="1265400" cy="37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1"/>
          <a:stretch/>
        </p:blipFill>
        <p:spPr>
          <a:xfrm>
            <a:off x="399960" y="11831760"/>
            <a:ext cx="1265400" cy="37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2"/>
          <a:stretch/>
        </p:blipFill>
        <p:spPr>
          <a:xfrm>
            <a:off x="6756480" y="3624120"/>
            <a:ext cx="1265040" cy="3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3"/>
          <a:stretch/>
        </p:blipFill>
        <p:spPr>
          <a:xfrm>
            <a:off x="1187280" y="6626160"/>
            <a:ext cx="83185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7:30:24Z</dcterms:created>
  <dc:creator>fukase3</dc:creator>
  <dc:description/>
  <dc:language>en-US</dc:language>
  <cp:lastModifiedBy>fukase3</cp:lastModifiedBy>
  <dcterms:modified xsi:type="dcterms:W3CDTF">2009-05-28T02:29:23Z</dcterms:modified>
  <cp:revision>3</cp:revision>
  <dc:subject/>
  <dc:title>スライド 1</dc:title>
</cp:coreProperties>
</file>