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059-793A-49CD-9E9F-F0D3E7A9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43D-197C-4AD1-A94C-4CFA4957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952-B28B-479B-82DD-2433CE7D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4C4-592F-49E9-9157-1DEE06A6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7FE-57F4-4A66-B4EB-2804A09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A17-BB6D-4F22-AA8F-C9FBBC83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68C-C555-4963-BE60-5DB714F9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F7C-9813-42CD-903F-95055025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891-5C89-4DE4-A8E1-00BE0FB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6CC-D59C-4CDE-833D-B152CD0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BE7-91F8-46E5-AD56-AE85C8F8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51B-C491-4D3F-B8D4-DB01325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E8B56DF1-4B84-406B-9D51-BF5E83675830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43205400" cy="10693440"/>
          </a:xfrm>
          <a:prstGeom prst="rect">
            <a:avLst/>
          </a:prstGeom>
          <a:solidFill>
            <a:srgbClr val="005a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42"/>
          <p:cNvSpPr/>
          <p:nvPr/>
        </p:nvSpPr>
        <p:spPr>
          <a:xfrm>
            <a:off x="31741200" y="7723080"/>
            <a:ext cx="8827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1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関西</a:t>
            </a:r>
            <a:r>
              <a:rPr b="1" lang="en-US" sz="1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◯◯</a:t>
            </a:r>
            <a:r>
              <a:rPr b="1" lang="ja-JP" sz="1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ホテ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3" descr="cyusya.png"/>
          <p:cNvPicPr/>
          <p:nvPr/>
        </p:nvPicPr>
        <p:blipFill>
          <a:blip r:embed="rId1"/>
          <a:stretch/>
        </p:blipFill>
        <p:spPr>
          <a:xfrm>
            <a:off x="10945800" y="1098720"/>
            <a:ext cx="31115160" cy="6449760"/>
          </a:xfrm>
          <a:prstGeom prst="rect">
            <a:avLst/>
          </a:prstGeom>
          <a:ln w="0">
            <a:noFill/>
          </a:ln>
        </p:spPr>
      </p:pic>
      <p:pic>
        <p:nvPicPr>
          <p:cNvPr id="44" name="図 2" descr=""/>
          <p:cNvPicPr/>
          <p:nvPr/>
        </p:nvPicPr>
        <p:blipFill>
          <a:blip r:embed="rId2"/>
          <a:stretch/>
        </p:blipFill>
        <p:spPr>
          <a:xfrm>
            <a:off x="1081080" y="635040"/>
            <a:ext cx="9423360" cy="9423360"/>
          </a:xfrm>
          <a:prstGeom prst="rect">
            <a:avLst/>
          </a:prstGeom>
          <a:ln w="0">
            <a:noFill/>
          </a:ln>
        </p:spPr>
      </p:pic>
      <p:pic>
        <p:nvPicPr>
          <p:cNvPr id="45" name="図 4" descr=""/>
          <p:cNvPicPr/>
          <p:nvPr/>
        </p:nvPicPr>
        <p:blipFill>
          <a:blip r:embed="rId3"/>
          <a:stretch/>
        </p:blipFill>
        <p:spPr>
          <a:xfrm>
            <a:off x="3673440" y="2336760"/>
            <a:ext cx="5321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Jean</cp:lastModifiedBy>
  <cp:lastPrinted>2013-02-07T07:38:20Z</cp:lastPrinted>
  <dcterms:modified xsi:type="dcterms:W3CDTF">2013-03-07T07:22:06Z</dcterms:modified>
  <cp:revision>15</cp:revision>
  <dc:subject/>
  <dc:title>スライド 1</dc:title>
</cp:coreProperties>
</file>