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29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BEB-7665-41C7-923D-D7C130AA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291463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6815520"/>
            <a:ext cx="291463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213-7B78-4A6D-974A-1DBAC71B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922-08BE-4743-A9E7-55DD90AB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326880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326880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681552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681552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6815520"/>
            <a:ext cx="93848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3C8-2AE5-4D93-A176-17356A90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3268800"/>
            <a:ext cx="291463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471-57AF-4969-9B76-DCF8E144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291463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E30-1468-47B0-B0AC-2D533323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054-03CA-4FBE-A584-E02C3C8B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C16-613C-47CB-9F63-6CB83A6B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1006200"/>
            <a:ext cx="291463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6AB-D9DE-44DC-9330-37D4B445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E31-C5F9-43F1-A67E-8D7459C0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681552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A06-463B-48ED-BDDD-BF13E05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589680"/>
            <a:ext cx="2914632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3268800"/>
            <a:ext cx="142232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6815520"/>
            <a:ext cx="2914632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3DA-023B-4C6D-89DB-BC92ACA8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1006200"/>
            <a:ext cx="2914632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3268800"/>
            <a:ext cx="2914632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10308960"/>
            <a:ext cx="714384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10308960"/>
            <a:ext cx="1085832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10308960"/>
            <a:ext cx="71434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BE02-18B1-4D20-AB11-886B8A9580D4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\\10.40.8.205\Pluto\複営\!koike_data\1_データ受渡し\しゃぶしゃぶ\名称未設定-5.png"/>
          <p:cNvPicPr/>
          <p:nvPr/>
        </p:nvPicPr>
        <p:blipFill>
          <a:blip r:embed="rId1"/>
          <a:stretch/>
        </p:blipFill>
        <p:spPr>
          <a:xfrm>
            <a:off x="0" y="0"/>
            <a:ext cx="34290000" cy="11312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7" descr="\\10.40.8.205\Pluto\複営\!koike_data\1_データ受渡し\しゃぶしゃぶ\名称未設定-2.gif"/>
          <p:cNvPicPr/>
          <p:nvPr/>
        </p:nvPicPr>
        <p:blipFill>
          <a:blip r:embed="rId2"/>
          <a:stretch/>
        </p:blipFill>
        <p:spPr>
          <a:xfrm>
            <a:off x="19278720" y="4556160"/>
            <a:ext cx="8001000" cy="6759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9" descr="\\10.40.8.205\Pluto\複営\!koike_data\1_データ受渡し\しゃぶしゃぶ\名称未設定-4.gif"/>
          <p:cNvPicPr/>
          <p:nvPr/>
        </p:nvPicPr>
        <p:blipFill>
          <a:blip r:embed="rId3"/>
          <a:stretch/>
        </p:blipFill>
        <p:spPr>
          <a:xfrm>
            <a:off x="12563640" y="523800"/>
            <a:ext cx="6715080" cy="3514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1"/>
          <p:cNvSpPr/>
          <p:nvPr/>
        </p:nvSpPr>
        <p:spPr>
          <a:xfrm>
            <a:off x="762120" y="7010280"/>
            <a:ext cx="2034540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しゃぶしゃぶの美味しい季節になりまし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季節の野菜と牛肉、豚肉でしゃぶしゃぶパーティはいかがです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つけダレは「ポン酢」か「ゴマダレ」をお好みでそどうぞ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一味唐辛子やゆず胡椒を入れると、ピリッと大人の味に変わりま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22"/>
          <p:cNvSpPr/>
          <p:nvPr/>
        </p:nvSpPr>
        <p:spPr>
          <a:xfrm>
            <a:off x="1745280" y="533520"/>
            <a:ext cx="5928120" cy="111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6600"/>
                </a:solidFill>
                <a:latin typeface="Times New Roman"/>
              </a:rPr>
              <a:t>　季節のおすすめ料理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4" descr="\\10.40.8.205\Pluto\複営\!koike_data\1_データ受渡し\名称未設定-7.gif"/>
          <p:cNvPicPr/>
          <p:nvPr/>
        </p:nvPicPr>
        <p:blipFill>
          <a:blip r:embed="rId4"/>
          <a:stretch/>
        </p:blipFill>
        <p:spPr>
          <a:xfrm>
            <a:off x="914400" y="1398600"/>
            <a:ext cx="214884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2:05:01Z</dcterms:created>
  <dc:creator>ttec</dc:creator>
  <dc:description/>
  <dc:language>en-US</dc:language>
  <cp:lastModifiedBy>小池　京子</cp:lastModifiedBy>
  <dcterms:modified xsi:type="dcterms:W3CDTF">2011-11-10T09:54:36Z</dcterms:modified>
  <cp:revision>10</cp:revision>
  <dc:subject/>
  <dc:title>PowerPoint プレゼンテーション</dc:title>
</cp:coreProperties>
</file>