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3206988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9F2-CA5B-4EAC-B548-1D3822B4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EF2-62D3-4D89-AD18-CCF30F11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7D2-154D-4014-B764-DBC285B5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30720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454040" y="249516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6036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30720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454040" y="6180840"/>
            <a:ext cx="125204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4AAC-69F7-4FF5-855B-EA3F63B5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01"/>
              </a:spcBef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70A-8375-4C6E-8BC1-D78DEBEE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4EF-2F74-40BB-AA21-53414F03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8D0-DF5E-4F03-AFFA-59EF611B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CC3C-45AF-4789-AE1E-7074FD23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60360" y="428400"/>
            <a:ext cx="3888396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01"/>
              </a:spcBef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5542-4564-44BA-8099-F5AE69CD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4307-A6D1-49A6-816E-CFA551A6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084920" y="618084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F97E-00C3-42C0-AF66-52DF19E0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60360" y="37080"/>
            <a:ext cx="38883960" cy="2563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6036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084920" y="2495160"/>
            <a:ext cx="1897524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60360" y="6180840"/>
            <a:ext cx="38883960" cy="336564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/>
          </a:bodyPr>
          <a:p>
            <a:pPr indent="0">
              <a:spcBef>
                <a:spcPts val="2701"/>
              </a:spcBef>
              <a:buNone/>
              <a:tabLst>
                <a:tab algn="l" pos="3079800"/>
                <a:tab algn="l" pos="6159600"/>
                <a:tab algn="l" pos="9239400"/>
              </a:tabLst>
            </a:pP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A8D-306D-48AA-847A-0234CFD5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60360" y="428400"/>
            <a:ext cx="38883960" cy="178092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 algn="ctr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en-US" sz="1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60360" y="2495160"/>
            <a:ext cx="38883960" cy="705636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t">
            <a:normAutofit fontScale="49000"/>
          </a:bodyPr>
          <a:p>
            <a:pPr marL="565200" indent="-56520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1" marL="1225800" indent="-47124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2" marL="1886400" indent="-377280"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3" marL="2640600" indent="-377280">
              <a:spcBef>
                <a:spcPts val="2701"/>
              </a:spcBef>
              <a:buClr>
                <a:srgbClr val="000000"/>
              </a:buClr>
              <a:buFont typeface="Arial"/>
              <a:buChar char="–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4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5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  <a:p>
            <a:pPr lvl="6" marL="3395160" indent="-376920">
              <a:spcBef>
                <a:spcPts val="2701"/>
              </a:spcBef>
              <a:buClr>
                <a:srgbClr val="000000"/>
              </a:buClr>
              <a:buFont typeface="Arial"/>
              <a:buChar char="»"/>
              <a:tabLst>
                <a:tab algn="l" pos="3079800"/>
                <a:tab algn="l" pos="6159600"/>
                <a:tab algn="l" pos="9239400"/>
              </a:tabLst>
            </a:pPr>
            <a:r>
              <a:rPr b="0" lang="en-US" sz="10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0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1603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0" lang="ja-JP" sz="4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761800" y="9910440"/>
            <a:ext cx="1368108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p>
            <a:pPr indent="0"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963960" y="9910440"/>
            <a:ext cx="10080360" cy="569880"/>
          </a:xfrm>
          <a:prstGeom prst="rect">
            <a:avLst/>
          </a:prstGeom>
          <a:noFill/>
          <a:ln w="0">
            <a:noFill/>
          </a:ln>
        </p:spPr>
        <p:txBody>
          <a:bodyPr lIns="308160" rIns="308160" tIns="154080" bIns="154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  <a:defRPr b="0" lang="ja-JP" sz="4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3079800"/>
                <a:tab algn="l" pos="6159600"/>
                <a:tab algn="l" pos="9239400"/>
              </a:tabLst>
            </a:pPr>
            <a:fld id="{C6DAF9F5-EF3F-45CB-B7CC-038421C588D4}" type="slidenum">
              <a:rPr b="0" lang="ja-JP" sz="4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1"/>
          <p:cNvSpPr/>
          <p:nvPr/>
        </p:nvSpPr>
        <p:spPr>
          <a:xfrm>
            <a:off x="0" y="0"/>
            <a:ext cx="43205400" cy="1069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5"/>
          <p:cNvSpPr/>
          <p:nvPr/>
        </p:nvSpPr>
        <p:spPr>
          <a:xfrm>
            <a:off x="0" y="-11160"/>
            <a:ext cx="43205400" cy="461880"/>
          </a:xfrm>
          <a:prstGeom prst="rect">
            <a:avLst/>
          </a:prstGeom>
          <a:solidFill>
            <a:srgbClr val="4a45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図 3" descr=""/>
          <p:cNvPicPr/>
          <p:nvPr/>
        </p:nvPicPr>
        <p:blipFill>
          <a:blip r:embed="rId1"/>
          <a:stretch/>
        </p:blipFill>
        <p:spPr>
          <a:xfrm>
            <a:off x="11471400" y="2106720"/>
            <a:ext cx="29502000" cy="3848040"/>
          </a:xfrm>
          <a:prstGeom prst="rect">
            <a:avLst/>
          </a:prstGeom>
          <a:ln w="0">
            <a:noFill/>
          </a:ln>
        </p:spPr>
      </p:pic>
      <p:pic>
        <p:nvPicPr>
          <p:cNvPr id="44" name="図 4" descr=""/>
          <p:cNvPicPr/>
          <p:nvPr/>
        </p:nvPicPr>
        <p:blipFill>
          <a:blip r:embed="rId2"/>
          <a:stretch/>
        </p:blipFill>
        <p:spPr>
          <a:xfrm>
            <a:off x="1944720" y="0"/>
            <a:ext cx="8039160" cy="9956880"/>
          </a:xfrm>
          <a:prstGeom prst="rect">
            <a:avLst/>
          </a:prstGeom>
          <a:ln w="0">
            <a:noFill/>
          </a:ln>
        </p:spPr>
      </p:pic>
      <p:pic>
        <p:nvPicPr>
          <p:cNvPr id="45" name="図 7" descr=""/>
          <p:cNvPicPr/>
          <p:nvPr/>
        </p:nvPicPr>
        <p:blipFill>
          <a:blip r:embed="rId3"/>
          <a:stretch/>
        </p:blipFill>
        <p:spPr>
          <a:xfrm>
            <a:off x="2986200" y="2768760"/>
            <a:ext cx="5765760" cy="3657600"/>
          </a:xfrm>
          <a:prstGeom prst="rect">
            <a:avLst/>
          </a:prstGeom>
          <a:ln w="0">
            <a:noFill/>
          </a:ln>
        </p:spPr>
      </p:pic>
      <p:sp>
        <p:nvSpPr>
          <p:cNvPr id="46" name="角丸四角形 8"/>
          <p:cNvSpPr/>
          <p:nvPr/>
        </p:nvSpPr>
        <p:spPr>
          <a:xfrm>
            <a:off x="2664000" y="6786720"/>
            <a:ext cx="6408720" cy="1223640"/>
          </a:xfrm>
          <a:prstGeom prst="roundRect">
            <a:avLst>
              <a:gd name="adj" fmla="val 16667"/>
            </a:avLst>
          </a:prstGeom>
          <a:solidFill>
            <a:srgbClr val="000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079800"/>
                <a:tab algn="l" pos="6159600"/>
                <a:tab algn="l" pos="923940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42"/>
          <p:cNvSpPr/>
          <p:nvPr/>
        </p:nvSpPr>
        <p:spPr>
          <a:xfrm>
            <a:off x="16538400" y="6499080"/>
            <a:ext cx="9324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ja-JP" sz="20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おさしみ六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42"/>
          <p:cNvSpPr/>
          <p:nvPr/>
        </p:nvSpPr>
        <p:spPr>
          <a:xfrm>
            <a:off x="3930480" y="1098720"/>
            <a:ext cx="393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5400" spc="-1" strike="noStrike">
                <a:solidFill>
                  <a:srgbClr val="000090"/>
                </a:solidFill>
                <a:latin typeface="Arial"/>
                <a:ea typeface="ＭＳ Ｐゴシック"/>
              </a:rPr>
              <a:t>◯◯</a:t>
            </a:r>
            <a:r>
              <a:rPr b="1" lang="ja-JP" sz="5400" spc="-1" strike="noStrike">
                <a:solidFill>
                  <a:srgbClr val="000090"/>
                </a:solidFill>
                <a:latin typeface="Arial"/>
                <a:ea typeface="ＭＳ Ｐゴシック"/>
              </a:rPr>
              <a:t>水産（株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42"/>
          <p:cNvSpPr/>
          <p:nvPr/>
        </p:nvSpPr>
        <p:spPr>
          <a:xfrm>
            <a:off x="3280320" y="6859440"/>
            <a:ext cx="52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3079800"/>
                <a:tab algn="l" pos="6159600"/>
                <a:tab algn="l" pos="9239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11:</a:t>
            </a:r>
            <a:r>
              <a:rPr b="1" lang="ja-JP" sz="6000" spc="-1" strike="noStrike">
                <a:solidFill>
                  <a:srgbClr val="ffffff"/>
                </a:solidFill>
                <a:latin typeface="Arial"/>
              </a:rPr>
              <a:t>３０～１４：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図形グループ 10"/>
          <p:cNvGrpSpPr/>
          <p:nvPr/>
        </p:nvGrpSpPr>
        <p:grpSpPr>
          <a:xfrm>
            <a:off x="30253680" y="5490360"/>
            <a:ext cx="12002760" cy="4431240"/>
            <a:chOff x="30253680" y="5490360"/>
            <a:chExt cx="12002760" cy="4431240"/>
          </a:xfrm>
        </p:grpSpPr>
        <p:sp>
          <p:nvSpPr>
            <p:cNvPr id="51" name="正方形/長方形 9"/>
            <p:cNvSpPr/>
            <p:nvPr/>
          </p:nvSpPr>
          <p:spPr>
            <a:xfrm rot="21262800">
              <a:off x="30386880" y="6057000"/>
              <a:ext cx="11736360" cy="3297600"/>
            </a:xfrm>
            <a:prstGeom prst="rect">
              <a:avLst/>
            </a:prstGeom>
            <a:solidFill>
              <a:srgbClr val="ff0000"/>
            </a:solidFill>
            <a:ln w="19044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endParaRPr b="0" lang="en-US" sz="6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42"/>
            <p:cNvSpPr/>
            <p:nvPr/>
          </p:nvSpPr>
          <p:spPr>
            <a:xfrm rot="21262800">
              <a:off x="31417560" y="5911200"/>
              <a:ext cx="526464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r>
                <a:rPr b="1" lang="en-US" sz="24000" spc="-1" strike="noStrike">
                  <a:solidFill>
                    <a:srgbClr val="ffffff"/>
                  </a:solidFill>
                  <a:latin typeface="Arial"/>
                </a:rPr>
                <a:t>680</a:t>
              </a:r>
              <a:endParaRPr b="0" lang="en-US" sz="2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642"/>
            <p:cNvSpPr/>
            <p:nvPr/>
          </p:nvSpPr>
          <p:spPr>
            <a:xfrm rot="21262800">
              <a:off x="37670760" y="6005520"/>
              <a:ext cx="29239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3079800"/>
                  <a:tab algn="l" pos="6159600"/>
                  <a:tab algn="l" pos="9239400"/>
                </a:tabLst>
              </a:pPr>
              <a:r>
                <a:rPr b="1" lang="ja-JP" sz="180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円也</a:t>
              </a:r>
              <a:endParaRPr b="0" lang="en-US" sz="1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0:52:52Z</dcterms:created>
  <dc:creator>seisaku</dc:creator>
  <dc:description/>
  <dc:language>en-US</dc:language>
  <cp:lastModifiedBy>Jean</cp:lastModifiedBy>
  <cp:lastPrinted>2013-02-15T08:01:44Z</cp:lastPrinted>
  <dcterms:modified xsi:type="dcterms:W3CDTF">2013-02-15T09:54:55Z</dcterms:modified>
  <cp:revision>22</cp:revision>
  <dc:subject/>
  <dc:title>スライド 1</dc:title>
</cp:coreProperties>
</file>