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F2A-3590-4585-8E5F-3A65CE15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BF5-4C20-48C3-9736-93940931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0EB-2521-43B2-9CC3-198EFC8E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87E-C424-4237-AD6D-60E4C0D8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52A-E64C-4AF4-9071-65A319E1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7C2-0AE0-4D4E-84F2-F77F95B0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A03-BEC4-4069-9DBB-44957BF9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56E-8566-40AF-9167-B315990B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3D9-5EB1-4816-940A-358FDEAE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099-9365-4249-B400-9912E008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7A3-C61D-4A04-9DC4-48024F5B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D07-87CF-472D-A82B-CA679C18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920" indent="-5659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737640"/>
            <a:ext cx="1368108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E91B7630-67AD-4E40-932B-8594EDDAF684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205400" cy="1069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61040" y="3367080"/>
            <a:ext cx="29083320" cy="6842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076120" y="0"/>
            <a:ext cx="20831040" cy="3867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10520" y="4481640"/>
            <a:ext cx="1404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13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zh-CN" sz="6100" spc="-1" strike="noStrike">
                <a:solidFill>
                  <a:srgbClr val="ffffff"/>
                </a:solidFill>
                <a:latin typeface="Arial"/>
                <a:ea typeface="$ＪＳ明朝"/>
              </a:rPr>
              <a:t>ヨウカン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355960" y="4371840"/>
            <a:ext cx="1405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13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zh-CN" sz="6100" spc="-1" strike="noStrike">
                <a:solidFill>
                  <a:srgbClr val="ffffff"/>
                </a:solidFill>
                <a:latin typeface="Arial"/>
                <a:ea typeface="$ＪＳ明朝"/>
              </a:rPr>
              <a:t>お団子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238320" y="4621320"/>
            <a:ext cx="140508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13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6100" spc="-1" strike="noStrike">
                <a:solidFill>
                  <a:srgbClr val="ffffff"/>
                </a:solidFill>
                <a:latin typeface="Arial"/>
                <a:ea typeface="$ＪＳ明朝"/>
              </a:rPr>
              <a:t>どら焼　</a:t>
            </a:r>
            <a:br>
              <a:rPr sz="6100"/>
            </a:br>
            <a:r>
              <a:rPr b="1" lang="ja-JP" sz="6100" spc="-1" strike="noStrike">
                <a:solidFill>
                  <a:srgbClr val="ffffff"/>
                </a:solidFill>
                <a:latin typeface="Arial"/>
                <a:ea typeface="$ＪＳ明朝"/>
              </a:rPr>
              <a:t>き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4040" y="593640"/>
            <a:ext cx="607536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13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zh-CN" sz="6100" spc="-1" strike="noStrike">
                <a:solidFill>
                  <a:srgbClr val="000000"/>
                </a:solidFill>
                <a:latin typeface="Arial"/>
              </a:rPr>
              <a:t>期間</a:t>
            </a: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:6/1</a:t>
            </a:r>
            <a:r>
              <a:rPr b="0" lang="zh-CN" sz="61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7/31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839080" y="4248000"/>
            <a:ext cx="7018560" cy="3733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8786600" y="4433760"/>
            <a:ext cx="7094520" cy="377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8899000" y="4313160"/>
            <a:ext cx="6848280" cy="3643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832880" y="8902800"/>
            <a:ext cx="77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北海道産の小豆をたっぷり使い、上品に仕上げました。使用しまし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486280" y="8899560"/>
            <a:ext cx="80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みたらし、ごま、くるみ、くりなど、いろいろな味を御用意しておりま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633600" y="8902800"/>
            <a:ext cx="80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丁寧に焼き上げた皮と、つぶあんの相性がバッチリで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8:57:10Z</dcterms:created>
  <dc:creator>fukase3</dc:creator>
  <dc:description/>
  <dc:language>en-US</dc:language>
  <cp:lastModifiedBy>TTBS</cp:lastModifiedBy>
  <dcterms:modified xsi:type="dcterms:W3CDTF">2009-06-01T04:32:04Z</dcterms:modified>
  <cp:revision>7</cp:revision>
  <dc:subject/>
  <dc:title>スライド 1</dc:title>
</cp:coreProperties>
</file>