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BF0-BC8E-42BD-AC8F-24751DB3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190-EF31-4B14-926D-672DFC9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5D7-371B-4387-AE7B-1F7D69A5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AB5-F9D0-475B-9E16-7155F1EC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9C4-F10D-4006-B880-ED8B3975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B2C-BF0B-4C6D-B4C2-BFB151F1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BF5-2BF3-48E2-A1E7-6281271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7D3-B1E1-4B93-B418-301FFCD3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2B8-35C2-4E4F-9B15-DB5EA19D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F36-9F7F-4EBD-B58B-A4CE247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256-9E3B-4508-9064-5F53E92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EA2-ECA4-48B2-8495-4052355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6C3AC972-B067-49C3-A798-616EC124D04E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メニュー表紙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684360" y="3490920"/>
            <a:ext cx="37083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海の幸をふんだんに使ったものか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煮込み料理まで多数あ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84360" y="6262560"/>
            <a:ext cx="37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ハンバーグからパスタまで昔懐かしい味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おもてなしいた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84360" y="9034560"/>
            <a:ext cx="37083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場中国の料理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格中華の味をお楽しみ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640480" y="6222960"/>
            <a:ext cx="3708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駅南口より徒歩３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地下鉄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駅北口より徒歩４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駅北口より徒歩４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お車でお越しの際は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当店駐車場をご利用くｊ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map"/>
          <p:cNvPicPr/>
          <p:nvPr/>
        </p:nvPicPr>
        <p:blipFill>
          <a:blip r:embed="rId2"/>
          <a:stretch/>
        </p:blipFill>
        <p:spPr>
          <a:xfrm>
            <a:off x="6568920" y="3736800"/>
            <a:ext cx="1847880" cy="184176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3"/>
          <p:cNvSpPr/>
          <p:nvPr/>
        </p:nvSpPr>
        <p:spPr>
          <a:xfrm>
            <a:off x="9990000" y="0"/>
            <a:ext cx="212760" cy="10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13"/>
          <p:cNvSpPr/>
          <p:nvPr/>
        </p:nvSpPr>
        <p:spPr>
          <a:xfrm>
            <a:off x="4781520" y="0"/>
            <a:ext cx="212760" cy="10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16332120" y="1168560"/>
            <a:ext cx="1843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0:10:25Z</dcterms:created>
  <dc:creator>fukase3</dc:creator>
  <dc:description/>
  <dc:language>en-US</dc:language>
  <cp:lastModifiedBy>株式会社ジーン macpro2</cp:lastModifiedBy>
  <dcterms:modified xsi:type="dcterms:W3CDTF">2013-02-05T06:16:46Z</dcterms:modified>
  <cp:revision>23</cp:revision>
  <dc:subject/>
  <dc:title>スライド 1</dc:title>
</cp:coreProperties>
</file>