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F38-4D2A-402E-AB9B-A9E3712D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C0F-25CD-44F3-821E-E8B0A19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ACA-A0DB-41DE-A0CA-EDC65EE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4B3-4C39-4748-A228-43042D82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B7B-7509-4780-BA56-F40DB5EA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170-1C39-4689-9420-43FAA948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245-3D78-4344-9941-D0C8DE7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74B-CD80-4BF9-8F70-061CCEAB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35C-47E2-46BB-8C3D-E300CF3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051-6DC8-4436-B36F-33873BB3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67E-FB74-4A94-8C1F-7C9EE1E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3D7-1102-4A20-961D-89855118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7000"/>
          </a:bodyPr>
          <a:p>
            <a:pPr marL="889560" indent="-8895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26360" indent="-7408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64240" indent="-592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49720" indent="-5929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39344760"/>
            <a:ext cx="249552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39344760"/>
            <a:ext cx="338760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39344760"/>
            <a:ext cx="249552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C22BDF74-E248-40E3-894F-A845673F9448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43205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971800" y="3100320"/>
            <a:ext cx="4902120" cy="30768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219320" y="2209680"/>
            <a:ext cx="847440" cy="3047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458200" y="5554800"/>
            <a:ext cx="1263600" cy="26638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33840" y="0"/>
            <a:ext cx="6159600" cy="6159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37045800"/>
            <a:ext cx="61596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8:39:30Z</dcterms:created>
  <dc:creator>fukase3</dc:creator>
  <dc:description/>
  <dc:language>en-US</dc:language>
  <cp:lastModifiedBy>fukase3</cp:lastModifiedBy>
  <dcterms:modified xsi:type="dcterms:W3CDTF">2009-05-11T08:43:41Z</dcterms:modified>
  <cp:revision>1</cp:revision>
  <dc:subject/>
  <dc:title>スライド 1</dc:title>
</cp:coreProperties>
</file>