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987-4554-4277-BD16-C3FDA7E2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E08-0098-40C1-9FF9-EF9DCD1C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986-3252-4A3A-BD09-F8B7D6B5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5B7-7C0A-4D31-B5EF-E0EEDE6B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FAA-3F28-4AF6-A683-5CAA16D5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934-92BB-4C94-8494-DFDA8D7B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83E-DC2A-414C-8E4A-41FE0370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394-891C-486F-9C13-15508153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8F5-8F55-44F5-A5D3-0C6F3D2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A08-BCE4-4AFF-B5CD-1C97FAE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152-D96B-4920-99EE-04D8CFD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89A-E38F-476F-9F32-96944B3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1F7CC1B-89FF-420B-8CF5-F9A270748BE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01600" cy="9601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38640" y="622440"/>
            <a:ext cx="43243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02440" y="-174600"/>
            <a:ext cx="681012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297000" y="7748640"/>
            <a:ext cx="6810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983040" y="1214280"/>
            <a:ext cx="4933800" cy="2619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628640" y="4467240"/>
            <a:ext cx="9544320" cy="209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94240" y="6622920"/>
            <a:ext cx="3267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2:39:59Z</dcterms:created>
  <dc:creator>fukase3</dc:creator>
  <dc:description/>
  <dc:language>en-US</dc:language>
  <cp:lastModifiedBy>TTBS</cp:lastModifiedBy>
  <dcterms:modified xsi:type="dcterms:W3CDTF">2009-05-29T07:23:47Z</dcterms:modified>
  <cp:revision>7</cp:revision>
  <dc:subject/>
  <dc:title>スライド 1</dc:title>
</cp:coreProperties>
</file>