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F22-68E2-41F3-97C3-86F6D9FB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2A6-3A3E-4571-8264-4DD668C8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ADA-F7A1-480B-86DD-4C78890C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527-62A7-445C-8235-145648F6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95F-AF70-4C8A-901D-B7911A1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A19-4574-4E0F-8421-B93B5C3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4BA-FBD5-47B0-9885-7B58B22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064-B673-430D-B759-15D1BEB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360-FD81-4F0D-9DE9-5E2827D8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855-497C-4C32-8CA6-FCD1CF4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081-6A4A-4F3E-B9B8-994D1E1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5D4-B2E7-488F-A8CB-F051194B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A937FB90-88F5-4639-9E63-2343C775FBCF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22"/>
          <p:cNvGrpSpPr/>
          <p:nvPr/>
        </p:nvGrpSpPr>
        <p:grpSpPr>
          <a:xfrm>
            <a:off x="34048800" y="1257480"/>
            <a:ext cx="8191440" cy="7111800"/>
            <a:chOff x="34048800" y="1257480"/>
            <a:chExt cx="8191440" cy="7111800"/>
          </a:xfrm>
        </p:grpSpPr>
        <p:sp>
          <p:nvSpPr>
            <p:cNvPr id="42" name="Freeform 5"/>
            <p:cNvSpPr/>
            <p:nvPr/>
          </p:nvSpPr>
          <p:spPr>
            <a:xfrm>
              <a:off x="36807840" y="2232000"/>
              <a:ext cx="3479760" cy="5635440"/>
            </a:xfrm>
            <a:custGeom>
              <a:avLst/>
              <a:gdLst>
                <a:gd name="textAreaLeft" fmla="*/ 0 w 3479760"/>
                <a:gd name="textAreaRight" fmla="*/ 3480120 w 3479760"/>
                <a:gd name="textAreaTop" fmla="*/ 0 h 5635440"/>
                <a:gd name="textAreaBottom" fmla="*/ 5635800 h 5635440"/>
              </a:gdLst>
              <a:ahLst/>
              <a:rect l="textAreaLeft" t="textAreaTop" r="textAreaRight" b="textAreaBottom"/>
              <a:pathLst>
                <a:path w="2192" h="3550">
                  <a:moveTo>
                    <a:pt x="2192" y="3172"/>
                  </a:moveTo>
                  <a:lnTo>
                    <a:pt x="1094" y="0"/>
                  </a:lnTo>
                  <a:lnTo>
                    <a:pt x="0" y="378"/>
                  </a:lnTo>
                  <a:lnTo>
                    <a:pt x="1098" y="3550"/>
                  </a:lnTo>
                  <a:lnTo>
                    <a:pt x="2192" y="3172"/>
                  </a:lnTo>
                  <a:close/>
                </a:path>
              </a:pathLst>
            </a:custGeom>
            <a:solidFill>
              <a:srgbClr val="8f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34048800" y="2625840"/>
              <a:ext cx="5010120" cy="5743440"/>
            </a:xfrm>
            <a:custGeom>
              <a:avLst/>
              <a:gdLst>
                <a:gd name="textAreaLeft" fmla="*/ 0 w 5010120"/>
                <a:gd name="textAreaRight" fmla="*/ 5010480 w 5010120"/>
                <a:gd name="textAreaTop" fmla="*/ 0 h 5743440"/>
                <a:gd name="textAreaBottom" fmla="*/ 5743800 h 5743440"/>
              </a:gdLst>
              <a:ahLst/>
              <a:rect l="textAreaLeft" t="textAreaTop" r="textAreaRight" b="textAreaBottom"/>
              <a:pathLst>
                <a:path w="3156" h="3618">
                  <a:moveTo>
                    <a:pt x="3156" y="3216"/>
                  </a:moveTo>
                  <a:lnTo>
                    <a:pt x="2044" y="0"/>
                  </a:lnTo>
                  <a:lnTo>
                    <a:pt x="0" y="708"/>
                  </a:lnTo>
                  <a:lnTo>
                    <a:pt x="626" y="2516"/>
                  </a:lnTo>
                  <a:lnTo>
                    <a:pt x="1508" y="2212"/>
                  </a:lnTo>
                  <a:lnTo>
                    <a:pt x="1994" y="3618"/>
                  </a:lnTo>
                  <a:lnTo>
                    <a:pt x="3156" y="321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38036520" y="1257480"/>
              <a:ext cx="4203720" cy="6216480"/>
            </a:xfrm>
            <a:custGeom>
              <a:avLst/>
              <a:gdLst>
                <a:gd name="textAreaLeft" fmla="*/ 0 w 4203720"/>
                <a:gd name="textAreaRight" fmla="*/ 4204080 w 4203720"/>
                <a:gd name="textAreaTop" fmla="*/ 0 h 6216480"/>
                <a:gd name="textAreaBottom" fmla="*/ 6216840 h 6216480"/>
              </a:gdLst>
              <a:ahLst/>
              <a:rect l="textAreaLeft" t="textAreaTop" r="textAreaRight" b="textAreaBottom"/>
              <a:pathLst>
                <a:path w="2648" h="3916">
                  <a:moveTo>
                    <a:pt x="0" y="700"/>
                  </a:moveTo>
                  <a:lnTo>
                    <a:pt x="1114" y="3916"/>
                  </a:lnTo>
                  <a:lnTo>
                    <a:pt x="2252" y="3522"/>
                  </a:lnTo>
                  <a:lnTo>
                    <a:pt x="1766" y="2114"/>
                  </a:lnTo>
                  <a:lnTo>
                    <a:pt x="2648" y="1810"/>
                  </a:lnTo>
                  <a:lnTo>
                    <a:pt x="2022" y="0"/>
                  </a:lnTo>
                  <a:lnTo>
                    <a:pt x="0" y="70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6474480" y="2517840"/>
              <a:ext cx="1958760" cy="367668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3676680"/>
                <a:gd name="textAreaBottom" fmla="*/ 3677040 h 3676680"/>
              </a:gdLst>
              <a:ahLst/>
              <a:rect l="textAreaLeft" t="textAreaTop" r="textAreaRight" b="textAreaBottom"/>
              <a:pathLst>
                <a:path w="1234" h="2316">
                  <a:moveTo>
                    <a:pt x="1234" y="2146"/>
                  </a:moveTo>
                  <a:lnTo>
                    <a:pt x="492" y="0"/>
                  </a:lnTo>
                  <a:lnTo>
                    <a:pt x="0" y="172"/>
                  </a:lnTo>
                  <a:lnTo>
                    <a:pt x="742" y="2316"/>
                  </a:lnTo>
                  <a:lnTo>
                    <a:pt x="1234" y="2146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1d20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7928520" y="2016000"/>
              <a:ext cx="1958760" cy="36734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3673440"/>
                <a:gd name="textAreaBottom" fmla="*/ 3673800 h 3673440"/>
              </a:gdLst>
              <a:ahLst/>
              <a:rect l="textAreaLeft" t="textAreaTop" r="textAreaRight" b="textAreaBottom"/>
              <a:pathLst>
                <a:path w="1234" h="2314">
                  <a:moveTo>
                    <a:pt x="1234" y="2144"/>
                  </a:moveTo>
                  <a:lnTo>
                    <a:pt x="492" y="0"/>
                  </a:lnTo>
                  <a:lnTo>
                    <a:pt x="0" y="170"/>
                  </a:lnTo>
                  <a:lnTo>
                    <a:pt x="742" y="2314"/>
                  </a:lnTo>
                  <a:lnTo>
                    <a:pt x="1234" y="2144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1d20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5645760" y="4089600"/>
              <a:ext cx="1365120" cy="1365120"/>
            </a:xfrm>
            <a:custGeom>
              <a:avLst/>
              <a:gdLst/>
              <a:ahLst/>
              <a:rect l="l" t="t" r="r" b="b"/>
              <a:pathLst>
                <a:path w="860" h="860">
                  <a:moveTo>
                    <a:pt x="570" y="836"/>
                  </a:moveTo>
                  <a:lnTo>
                    <a:pt x="570" y="836"/>
                  </a:lnTo>
                  <a:lnTo>
                    <a:pt x="612" y="820"/>
                  </a:lnTo>
                  <a:lnTo>
                    <a:pt x="650" y="798"/>
                  </a:lnTo>
                  <a:lnTo>
                    <a:pt x="686" y="776"/>
                  </a:lnTo>
                  <a:lnTo>
                    <a:pt x="718" y="748"/>
                  </a:lnTo>
                  <a:lnTo>
                    <a:pt x="748" y="720"/>
                  </a:lnTo>
                  <a:lnTo>
                    <a:pt x="774" y="688"/>
                  </a:lnTo>
                  <a:lnTo>
                    <a:pt x="798" y="654"/>
                  </a:lnTo>
                  <a:lnTo>
                    <a:pt x="818" y="618"/>
                  </a:lnTo>
                  <a:lnTo>
                    <a:pt x="834" y="580"/>
                  </a:lnTo>
                  <a:lnTo>
                    <a:pt x="846" y="540"/>
                  </a:lnTo>
                  <a:lnTo>
                    <a:pt x="854" y="500"/>
                  </a:lnTo>
                  <a:lnTo>
                    <a:pt x="860" y="458"/>
                  </a:lnTo>
                  <a:lnTo>
                    <a:pt x="860" y="416"/>
                  </a:lnTo>
                  <a:lnTo>
                    <a:pt x="856" y="374"/>
                  </a:lnTo>
                  <a:lnTo>
                    <a:pt x="848" y="330"/>
                  </a:lnTo>
                  <a:lnTo>
                    <a:pt x="836" y="288"/>
                  </a:lnTo>
                  <a:lnTo>
                    <a:pt x="836" y="288"/>
                  </a:lnTo>
                  <a:lnTo>
                    <a:pt x="820" y="248"/>
                  </a:lnTo>
                  <a:lnTo>
                    <a:pt x="800" y="210"/>
                  </a:lnTo>
                  <a:lnTo>
                    <a:pt x="776" y="174"/>
                  </a:lnTo>
                  <a:lnTo>
                    <a:pt x="750" y="142"/>
                  </a:lnTo>
                  <a:lnTo>
                    <a:pt x="720" y="112"/>
                  </a:lnTo>
                  <a:lnTo>
                    <a:pt x="688" y="86"/>
                  </a:lnTo>
                  <a:lnTo>
                    <a:pt x="654" y="62"/>
                  </a:lnTo>
                  <a:lnTo>
                    <a:pt x="618" y="42"/>
                  </a:lnTo>
                  <a:lnTo>
                    <a:pt x="580" y="26"/>
                  </a:lnTo>
                  <a:lnTo>
                    <a:pt x="540" y="14"/>
                  </a:lnTo>
                  <a:lnTo>
                    <a:pt x="500" y="4"/>
                  </a:lnTo>
                  <a:lnTo>
                    <a:pt x="458" y="0"/>
                  </a:lnTo>
                  <a:lnTo>
                    <a:pt x="416" y="0"/>
                  </a:lnTo>
                  <a:lnTo>
                    <a:pt x="374" y="2"/>
                  </a:lnTo>
                  <a:lnTo>
                    <a:pt x="332" y="10"/>
                  </a:lnTo>
                  <a:lnTo>
                    <a:pt x="290" y="22"/>
                  </a:lnTo>
                  <a:lnTo>
                    <a:pt x="290" y="22"/>
                  </a:lnTo>
                  <a:lnTo>
                    <a:pt x="248" y="40"/>
                  </a:lnTo>
                  <a:lnTo>
                    <a:pt x="210" y="60"/>
                  </a:lnTo>
                  <a:lnTo>
                    <a:pt x="176" y="84"/>
                  </a:lnTo>
                  <a:lnTo>
                    <a:pt x="142" y="110"/>
                  </a:lnTo>
                  <a:lnTo>
                    <a:pt x="114" y="138"/>
                  </a:lnTo>
                  <a:lnTo>
                    <a:pt x="86" y="170"/>
                  </a:lnTo>
                  <a:lnTo>
                    <a:pt x="64" y="206"/>
                  </a:lnTo>
                  <a:lnTo>
                    <a:pt x="44" y="242"/>
                  </a:lnTo>
                  <a:lnTo>
                    <a:pt x="28" y="280"/>
                  </a:lnTo>
                  <a:lnTo>
                    <a:pt x="14" y="318"/>
                  </a:lnTo>
                  <a:lnTo>
                    <a:pt x="6" y="360"/>
                  </a:lnTo>
                  <a:lnTo>
                    <a:pt x="2" y="400"/>
                  </a:lnTo>
                  <a:lnTo>
                    <a:pt x="0" y="442"/>
                  </a:lnTo>
                  <a:lnTo>
                    <a:pt x="4" y="486"/>
                  </a:lnTo>
                  <a:lnTo>
                    <a:pt x="12" y="528"/>
                  </a:lnTo>
                  <a:lnTo>
                    <a:pt x="24" y="570"/>
                  </a:lnTo>
                  <a:lnTo>
                    <a:pt x="24" y="570"/>
                  </a:lnTo>
                  <a:lnTo>
                    <a:pt x="40" y="610"/>
                  </a:lnTo>
                  <a:lnTo>
                    <a:pt x="60" y="648"/>
                  </a:lnTo>
                  <a:lnTo>
                    <a:pt x="84" y="684"/>
                  </a:lnTo>
                  <a:lnTo>
                    <a:pt x="110" y="716"/>
                  </a:lnTo>
                  <a:lnTo>
                    <a:pt x="140" y="746"/>
                  </a:lnTo>
                  <a:lnTo>
                    <a:pt x="172" y="774"/>
                  </a:lnTo>
                  <a:lnTo>
                    <a:pt x="206" y="796"/>
                  </a:lnTo>
                  <a:lnTo>
                    <a:pt x="242" y="816"/>
                  </a:lnTo>
                  <a:lnTo>
                    <a:pt x="280" y="832"/>
                  </a:lnTo>
                  <a:lnTo>
                    <a:pt x="320" y="844"/>
                  </a:lnTo>
                  <a:lnTo>
                    <a:pt x="360" y="854"/>
                  </a:lnTo>
                  <a:lnTo>
                    <a:pt x="402" y="858"/>
                  </a:lnTo>
                  <a:lnTo>
                    <a:pt x="444" y="860"/>
                  </a:lnTo>
                  <a:lnTo>
                    <a:pt x="486" y="856"/>
                  </a:lnTo>
                  <a:lnTo>
                    <a:pt x="528" y="848"/>
                  </a:lnTo>
                  <a:lnTo>
                    <a:pt x="570" y="836"/>
                  </a:lnTo>
                  <a:lnTo>
                    <a:pt x="57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5940960" y="4181400"/>
              <a:ext cx="717480" cy="53640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452" h="338">
                  <a:moveTo>
                    <a:pt x="330" y="202"/>
                  </a:moveTo>
                  <a:lnTo>
                    <a:pt x="330" y="202"/>
                  </a:lnTo>
                  <a:lnTo>
                    <a:pt x="338" y="184"/>
                  </a:lnTo>
                  <a:lnTo>
                    <a:pt x="348" y="172"/>
                  </a:lnTo>
                  <a:lnTo>
                    <a:pt x="358" y="160"/>
                  </a:lnTo>
                  <a:lnTo>
                    <a:pt x="368" y="154"/>
                  </a:lnTo>
                  <a:lnTo>
                    <a:pt x="378" y="150"/>
                  </a:lnTo>
                  <a:lnTo>
                    <a:pt x="388" y="148"/>
                  </a:lnTo>
                  <a:lnTo>
                    <a:pt x="398" y="148"/>
                  </a:lnTo>
                  <a:lnTo>
                    <a:pt x="408" y="148"/>
                  </a:lnTo>
                  <a:lnTo>
                    <a:pt x="426" y="154"/>
                  </a:lnTo>
                  <a:lnTo>
                    <a:pt x="438" y="162"/>
                  </a:lnTo>
                  <a:lnTo>
                    <a:pt x="452" y="172"/>
                  </a:lnTo>
                  <a:lnTo>
                    <a:pt x="452" y="172"/>
                  </a:lnTo>
                  <a:lnTo>
                    <a:pt x="438" y="150"/>
                  </a:lnTo>
                  <a:lnTo>
                    <a:pt x="422" y="126"/>
                  </a:lnTo>
                  <a:lnTo>
                    <a:pt x="400" y="100"/>
                  </a:lnTo>
                  <a:lnTo>
                    <a:pt x="374" y="70"/>
                  </a:lnTo>
                  <a:lnTo>
                    <a:pt x="358" y="56"/>
                  </a:lnTo>
                  <a:lnTo>
                    <a:pt x="342" y="44"/>
                  </a:lnTo>
                  <a:lnTo>
                    <a:pt x="324" y="32"/>
                  </a:lnTo>
                  <a:lnTo>
                    <a:pt x="304" y="22"/>
                  </a:lnTo>
                  <a:lnTo>
                    <a:pt x="284" y="14"/>
                  </a:lnTo>
                  <a:lnTo>
                    <a:pt x="264" y="8"/>
                  </a:lnTo>
                  <a:lnTo>
                    <a:pt x="264" y="8"/>
                  </a:lnTo>
                  <a:lnTo>
                    <a:pt x="226" y="2"/>
                  </a:lnTo>
                  <a:lnTo>
                    <a:pt x="194" y="0"/>
                  </a:lnTo>
                  <a:lnTo>
                    <a:pt x="168" y="2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20" y="14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96" y="26"/>
                  </a:lnTo>
                  <a:lnTo>
                    <a:pt x="80" y="34"/>
                  </a:lnTo>
                  <a:lnTo>
                    <a:pt x="68" y="42"/>
                  </a:lnTo>
                  <a:lnTo>
                    <a:pt x="54" y="52"/>
                  </a:lnTo>
                  <a:lnTo>
                    <a:pt x="44" y="64"/>
                  </a:lnTo>
                  <a:lnTo>
                    <a:pt x="34" y="76"/>
                  </a:lnTo>
                  <a:lnTo>
                    <a:pt x="24" y="88"/>
                  </a:lnTo>
                  <a:lnTo>
                    <a:pt x="16" y="102"/>
                  </a:lnTo>
                  <a:lnTo>
                    <a:pt x="10" y="116"/>
                  </a:lnTo>
                  <a:lnTo>
                    <a:pt x="6" y="132"/>
                  </a:lnTo>
                  <a:lnTo>
                    <a:pt x="2" y="148"/>
                  </a:lnTo>
                  <a:lnTo>
                    <a:pt x="0" y="164"/>
                  </a:lnTo>
                  <a:lnTo>
                    <a:pt x="0" y="180"/>
                  </a:lnTo>
                  <a:lnTo>
                    <a:pt x="2" y="196"/>
                  </a:lnTo>
                  <a:lnTo>
                    <a:pt x="4" y="212"/>
                  </a:lnTo>
                  <a:lnTo>
                    <a:pt x="10" y="228"/>
                  </a:lnTo>
                  <a:lnTo>
                    <a:pt x="10" y="228"/>
                  </a:lnTo>
                  <a:lnTo>
                    <a:pt x="16" y="244"/>
                  </a:lnTo>
                  <a:lnTo>
                    <a:pt x="24" y="258"/>
                  </a:lnTo>
                  <a:lnTo>
                    <a:pt x="32" y="272"/>
                  </a:lnTo>
                  <a:lnTo>
                    <a:pt x="42" y="284"/>
                  </a:lnTo>
                  <a:lnTo>
                    <a:pt x="54" y="294"/>
                  </a:lnTo>
                  <a:lnTo>
                    <a:pt x="66" y="304"/>
                  </a:lnTo>
                  <a:lnTo>
                    <a:pt x="78" y="314"/>
                  </a:lnTo>
                  <a:lnTo>
                    <a:pt x="92" y="322"/>
                  </a:lnTo>
                  <a:lnTo>
                    <a:pt x="108" y="328"/>
                  </a:lnTo>
                  <a:lnTo>
                    <a:pt x="122" y="332"/>
                  </a:lnTo>
                  <a:lnTo>
                    <a:pt x="138" y="336"/>
                  </a:lnTo>
                  <a:lnTo>
                    <a:pt x="154" y="338"/>
                  </a:lnTo>
                  <a:lnTo>
                    <a:pt x="170" y="338"/>
                  </a:lnTo>
                  <a:lnTo>
                    <a:pt x="186" y="336"/>
                  </a:lnTo>
                  <a:lnTo>
                    <a:pt x="202" y="334"/>
                  </a:lnTo>
                  <a:lnTo>
                    <a:pt x="218" y="328"/>
                  </a:lnTo>
                  <a:lnTo>
                    <a:pt x="218" y="328"/>
                  </a:lnTo>
                  <a:lnTo>
                    <a:pt x="220" y="328"/>
                  </a:lnTo>
                  <a:lnTo>
                    <a:pt x="230" y="324"/>
                  </a:lnTo>
                  <a:lnTo>
                    <a:pt x="230" y="324"/>
                  </a:lnTo>
                  <a:lnTo>
                    <a:pt x="254" y="310"/>
                  </a:lnTo>
                  <a:lnTo>
                    <a:pt x="274" y="296"/>
                  </a:lnTo>
                  <a:lnTo>
                    <a:pt x="290" y="282"/>
                  </a:lnTo>
                  <a:lnTo>
                    <a:pt x="302" y="266"/>
                  </a:lnTo>
                  <a:lnTo>
                    <a:pt x="310" y="250"/>
                  </a:lnTo>
                  <a:lnTo>
                    <a:pt x="318" y="234"/>
                  </a:lnTo>
                  <a:lnTo>
                    <a:pt x="330" y="202"/>
                  </a:lnTo>
                  <a:lnTo>
                    <a:pt x="330" y="20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36414000" y="4537080"/>
              <a:ext cx="517320" cy="6634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26" h="418">
                  <a:moveTo>
                    <a:pt x="60" y="298"/>
                  </a:moveTo>
                  <a:lnTo>
                    <a:pt x="60" y="298"/>
                  </a:lnTo>
                  <a:lnTo>
                    <a:pt x="72" y="314"/>
                  </a:lnTo>
                  <a:lnTo>
                    <a:pt x="80" y="328"/>
                  </a:lnTo>
                  <a:lnTo>
                    <a:pt x="84" y="342"/>
                  </a:lnTo>
                  <a:lnTo>
                    <a:pt x="86" y="354"/>
                  </a:lnTo>
                  <a:lnTo>
                    <a:pt x="86" y="364"/>
                  </a:lnTo>
                  <a:lnTo>
                    <a:pt x="82" y="374"/>
                  </a:lnTo>
                  <a:lnTo>
                    <a:pt x="78" y="384"/>
                  </a:lnTo>
                  <a:lnTo>
                    <a:pt x="72" y="392"/>
                  </a:lnTo>
                  <a:lnTo>
                    <a:pt x="58" y="404"/>
                  </a:lnTo>
                  <a:lnTo>
                    <a:pt x="46" y="412"/>
                  </a:lnTo>
                  <a:lnTo>
                    <a:pt x="30" y="418"/>
                  </a:lnTo>
                  <a:lnTo>
                    <a:pt x="30" y="418"/>
                  </a:lnTo>
                  <a:lnTo>
                    <a:pt x="56" y="418"/>
                  </a:lnTo>
                  <a:lnTo>
                    <a:pt x="84" y="414"/>
                  </a:lnTo>
                  <a:lnTo>
                    <a:pt x="118" y="408"/>
                  </a:lnTo>
                  <a:lnTo>
                    <a:pt x="156" y="398"/>
                  </a:lnTo>
                  <a:lnTo>
                    <a:pt x="176" y="390"/>
                  </a:lnTo>
                  <a:lnTo>
                    <a:pt x="196" y="382"/>
                  </a:lnTo>
                  <a:lnTo>
                    <a:pt x="214" y="370"/>
                  </a:lnTo>
                  <a:lnTo>
                    <a:pt x="232" y="358"/>
                  </a:lnTo>
                  <a:lnTo>
                    <a:pt x="248" y="34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86" y="300"/>
                  </a:lnTo>
                  <a:lnTo>
                    <a:pt x="302" y="272"/>
                  </a:lnTo>
                  <a:lnTo>
                    <a:pt x="314" y="248"/>
                  </a:lnTo>
                  <a:lnTo>
                    <a:pt x="320" y="228"/>
                  </a:lnTo>
                  <a:lnTo>
                    <a:pt x="324" y="212"/>
                  </a:lnTo>
                  <a:lnTo>
                    <a:pt x="326" y="200"/>
                  </a:lnTo>
                  <a:lnTo>
                    <a:pt x="326" y="188"/>
                  </a:lnTo>
                  <a:lnTo>
                    <a:pt x="326" y="188"/>
                  </a:lnTo>
                  <a:lnTo>
                    <a:pt x="326" y="172"/>
                  </a:lnTo>
                  <a:lnTo>
                    <a:pt x="326" y="156"/>
                  </a:lnTo>
                  <a:lnTo>
                    <a:pt x="326" y="140"/>
                  </a:lnTo>
                  <a:lnTo>
                    <a:pt x="322" y="124"/>
                  </a:lnTo>
                  <a:lnTo>
                    <a:pt x="318" y="108"/>
                  </a:lnTo>
                  <a:lnTo>
                    <a:pt x="312" y="94"/>
                  </a:lnTo>
                  <a:lnTo>
                    <a:pt x="304" y="80"/>
                  </a:lnTo>
                  <a:lnTo>
                    <a:pt x="296" y="68"/>
                  </a:lnTo>
                  <a:lnTo>
                    <a:pt x="286" y="54"/>
                  </a:lnTo>
                  <a:lnTo>
                    <a:pt x="274" y="44"/>
                  </a:lnTo>
                  <a:lnTo>
                    <a:pt x="262" y="34"/>
                  </a:lnTo>
                  <a:lnTo>
                    <a:pt x="250" y="24"/>
                  </a:lnTo>
                  <a:lnTo>
                    <a:pt x="236" y="16"/>
                  </a:lnTo>
                  <a:lnTo>
                    <a:pt x="220" y="10"/>
                  </a:lnTo>
                  <a:lnTo>
                    <a:pt x="204" y="6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172" y="0"/>
                  </a:lnTo>
                  <a:lnTo>
                    <a:pt x="156" y="0"/>
                  </a:lnTo>
                  <a:lnTo>
                    <a:pt x="140" y="2"/>
                  </a:lnTo>
                  <a:lnTo>
                    <a:pt x="124" y="6"/>
                  </a:lnTo>
                  <a:lnTo>
                    <a:pt x="108" y="10"/>
                  </a:lnTo>
                  <a:lnTo>
                    <a:pt x="94" y="16"/>
                  </a:lnTo>
                  <a:lnTo>
                    <a:pt x="80" y="24"/>
                  </a:lnTo>
                  <a:lnTo>
                    <a:pt x="66" y="32"/>
                  </a:lnTo>
                  <a:lnTo>
                    <a:pt x="54" y="42"/>
                  </a:lnTo>
                  <a:lnTo>
                    <a:pt x="44" y="52"/>
                  </a:lnTo>
                  <a:lnTo>
                    <a:pt x="32" y="64"/>
                  </a:lnTo>
                  <a:lnTo>
                    <a:pt x="24" y="78"/>
                  </a:lnTo>
                  <a:lnTo>
                    <a:pt x="16" y="92"/>
                  </a:lnTo>
                  <a:lnTo>
                    <a:pt x="10" y="106"/>
                  </a:lnTo>
                  <a:lnTo>
                    <a:pt x="4" y="122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2" y="14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80"/>
                  </a:lnTo>
                  <a:lnTo>
                    <a:pt x="4" y="204"/>
                  </a:lnTo>
                  <a:lnTo>
                    <a:pt x="10" y="224"/>
                  </a:lnTo>
                  <a:lnTo>
                    <a:pt x="18" y="242"/>
                  </a:lnTo>
                  <a:lnTo>
                    <a:pt x="28" y="258"/>
                  </a:lnTo>
                  <a:lnTo>
                    <a:pt x="40" y="272"/>
                  </a:lnTo>
                  <a:lnTo>
                    <a:pt x="60" y="298"/>
                  </a:lnTo>
                  <a:lnTo>
                    <a:pt x="60" y="2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5813880" y="4673520"/>
              <a:ext cx="583920" cy="6444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68" h="406">
                  <a:moveTo>
                    <a:pt x="140" y="86"/>
                  </a:moveTo>
                  <a:lnTo>
                    <a:pt x="140" y="86"/>
                  </a:lnTo>
                  <a:lnTo>
                    <a:pt x="120" y="88"/>
                  </a:lnTo>
                  <a:lnTo>
                    <a:pt x="104" y="88"/>
                  </a:lnTo>
                  <a:lnTo>
                    <a:pt x="90" y="86"/>
                  </a:lnTo>
                  <a:lnTo>
                    <a:pt x="78" y="80"/>
                  </a:lnTo>
                  <a:lnTo>
                    <a:pt x="70" y="74"/>
                  </a:lnTo>
                  <a:lnTo>
                    <a:pt x="62" y="68"/>
                  </a:lnTo>
                  <a:lnTo>
                    <a:pt x="56" y="58"/>
                  </a:lnTo>
                  <a:lnTo>
                    <a:pt x="52" y="50"/>
                  </a:lnTo>
                  <a:lnTo>
                    <a:pt x="48" y="32"/>
                  </a:lnTo>
                  <a:lnTo>
                    <a:pt x="48" y="1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8" y="24"/>
                  </a:lnTo>
                  <a:lnTo>
                    <a:pt x="26" y="50"/>
                  </a:lnTo>
                  <a:lnTo>
                    <a:pt x="14" y="82"/>
                  </a:lnTo>
                  <a:lnTo>
                    <a:pt x="6" y="120"/>
                  </a:lnTo>
                  <a:lnTo>
                    <a:pt x="2" y="140"/>
                  </a:lnTo>
                  <a:lnTo>
                    <a:pt x="0" y="162"/>
                  </a:lnTo>
                  <a:lnTo>
                    <a:pt x="0" y="184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0" y="248"/>
                  </a:lnTo>
                  <a:lnTo>
                    <a:pt x="26" y="282"/>
                  </a:lnTo>
                  <a:lnTo>
                    <a:pt x="40" y="308"/>
                  </a:lnTo>
                  <a:lnTo>
                    <a:pt x="56" y="330"/>
                  </a:lnTo>
                  <a:lnTo>
                    <a:pt x="70" y="346"/>
                  </a:lnTo>
                  <a:lnTo>
                    <a:pt x="82" y="358"/>
                  </a:lnTo>
                  <a:lnTo>
                    <a:pt x="92" y="366"/>
                  </a:lnTo>
                  <a:lnTo>
                    <a:pt x="102" y="370"/>
                  </a:lnTo>
                  <a:lnTo>
                    <a:pt x="102" y="370"/>
                  </a:lnTo>
                  <a:lnTo>
                    <a:pt x="116" y="380"/>
                  </a:lnTo>
                  <a:lnTo>
                    <a:pt x="130" y="388"/>
                  </a:lnTo>
                  <a:lnTo>
                    <a:pt x="144" y="396"/>
                  </a:lnTo>
                  <a:lnTo>
                    <a:pt x="160" y="400"/>
                  </a:lnTo>
                  <a:lnTo>
                    <a:pt x="176" y="404"/>
                  </a:lnTo>
                  <a:lnTo>
                    <a:pt x="190" y="406"/>
                  </a:lnTo>
                  <a:lnTo>
                    <a:pt x="206" y="406"/>
                  </a:lnTo>
                  <a:lnTo>
                    <a:pt x="222" y="406"/>
                  </a:lnTo>
                  <a:lnTo>
                    <a:pt x="238" y="402"/>
                  </a:lnTo>
                  <a:lnTo>
                    <a:pt x="252" y="398"/>
                  </a:lnTo>
                  <a:lnTo>
                    <a:pt x="268" y="394"/>
                  </a:lnTo>
                  <a:lnTo>
                    <a:pt x="282" y="386"/>
                  </a:lnTo>
                  <a:lnTo>
                    <a:pt x="296" y="378"/>
                  </a:lnTo>
                  <a:lnTo>
                    <a:pt x="308" y="368"/>
                  </a:lnTo>
                  <a:lnTo>
                    <a:pt x="320" y="358"/>
                  </a:lnTo>
                  <a:lnTo>
                    <a:pt x="332" y="344"/>
                  </a:lnTo>
                  <a:lnTo>
                    <a:pt x="332" y="344"/>
                  </a:lnTo>
                  <a:lnTo>
                    <a:pt x="342" y="332"/>
                  </a:lnTo>
                  <a:lnTo>
                    <a:pt x="350" y="316"/>
                  </a:lnTo>
                  <a:lnTo>
                    <a:pt x="356" y="302"/>
                  </a:lnTo>
                  <a:lnTo>
                    <a:pt x="362" y="286"/>
                  </a:lnTo>
                  <a:lnTo>
                    <a:pt x="366" y="272"/>
                  </a:lnTo>
                  <a:lnTo>
                    <a:pt x="368" y="256"/>
                  </a:lnTo>
                  <a:lnTo>
                    <a:pt x="368" y="240"/>
                  </a:lnTo>
                  <a:lnTo>
                    <a:pt x="366" y="224"/>
                  </a:lnTo>
                  <a:lnTo>
                    <a:pt x="364" y="208"/>
                  </a:lnTo>
                  <a:lnTo>
                    <a:pt x="360" y="194"/>
                  </a:lnTo>
                  <a:lnTo>
                    <a:pt x="354" y="178"/>
                  </a:lnTo>
                  <a:lnTo>
                    <a:pt x="348" y="164"/>
                  </a:lnTo>
                  <a:lnTo>
                    <a:pt x="340" y="150"/>
                  </a:lnTo>
                  <a:lnTo>
                    <a:pt x="330" y="138"/>
                  </a:lnTo>
                  <a:lnTo>
                    <a:pt x="318" y="126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4" y="112"/>
                  </a:lnTo>
                  <a:lnTo>
                    <a:pt x="296" y="106"/>
                  </a:lnTo>
                  <a:lnTo>
                    <a:pt x="296" y="106"/>
                  </a:lnTo>
                  <a:lnTo>
                    <a:pt x="272" y="92"/>
                  </a:lnTo>
                  <a:lnTo>
                    <a:pt x="248" y="84"/>
                  </a:lnTo>
                  <a:lnTo>
                    <a:pt x="228" y="78"/>
                  </a:lnTo>
                  <a:lnTo>
                    <a:pt x="208" y="78"/>
                  </a:lnTo>
                  <a:lnTo>
                    <a:pt x="190" y="78"/>
                  </a:lnTo>
                  <a:lnTo>
                    <a:pt x="172" y="80"/>
                  </a:lnTo>
                  <a:lnTo>
                    <a:pt x="140" y="86"/>
                  </a:lnTo>
                  <a:lnTo>
                    <a:pt x="140" y="8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9487680" y="2835360"/>
              <a:ext cx="1365120" cy="1365120"/>
            </a:xfrm>
            <a:custGeom>
              <a:avLst/>
              <a:gdLst/>
              <a:ahLst/>
              <a:rect l="l" t="t" r="r" b="b"/>
              <a:pathLst>
                <a:path w="860" h="860">
                  <a:moveTo>
                    <a:pt x="570" y="836"/>
                  </a:moveTo>
                  <a:lnTo>
                    <a:pt x="570" y="836"/>
                  </a:lnTo>
                  <a:lnTo>
                    <a:pt x="612" y="820"/>
                  </a:lnTo>
                  <a:lnTo>
                    <a:pt x="650" y="800"/>
                  </a:lnTo>
                  <a:lnTo>
                    <a:pt x="684" y="776"/>
                  </a:lnTo>
                  <a:lnTo>
                    <a:pt x="718" y="750"/>
                  </a:lnTo>
                  <a:lnTo>
                    <a:pt x="748" y="720"/>
                  </a:lnTo>
                  <a:lnTo>
                    <a:pt x="774" y="688"/>
                  </a:lnTo>
                  <a:lnTo>
                    <a:pt x="796" y="654"/>
                  </a:lnTo>
                  <a:lnTo>
                    <a:pt x="816" y="618"/>
                  </a:lnTo>
                  <a:lnTo>
                    <a:pt x="832" y="580"/>
                  </a:lnTo>
                  <a:lnTo>
                    <a:pt x="846" y="542"/>
                  </a:lnTo>
                  <a:lnTo>
                    <a:pt x="854" y="500"/>
                  </a:lnTo>
                  <a:lnTo>
                    <a:pt x="858" y="460"/>
                  </a:lnTo>
                  <a:lnTo>
                    <a:pt x="860" y="418"/>
                  </a:lnTo>
                  <a:lnTo>
                    <a:pt x="856" y="374"/>
                  </a:lnTo>
                  <a:lnTo>
                    <a:pt x="848" y="332"/>
                  </a:lnTo>
                  <a:lnTo>
                    <a:pt x="836" y="290"/>
                  </a:lnTo>
                  <a:lnTo>
                    <a:pt x="836" y="290"/>
                  </a:lnTo>
                  <a:lnTo>
                    <a:pt x="820" y="250"/>
                  </a:lnTo>
                  <a:lnTo>
                    <a:pt x="800" y="210"/>
                  </a:lnTo>
                  <a:lnTo>
                    <a:pt x="776" y="176"/>
                  </a:lnTo>
                  <a:lnTo>
                    <a:pt x="750" y="142"/>
                  </a:lnTo>
                  <a:lnTo>
                    <a:pt x="720" y="114"/>
                  </a:lnTo>
                  <a:lnTo>
                    <a:pt x="688" y="86"/>
                  </a:lnTo>
                  <a:lnTo>
                    <a:pt x="654" y="64"/>
                  </a:lnTo>
                  <a:lnTo>
                    <a:pt x="618" y="44"/>
                  </a:lnTo>
                  <a:lnTo>
                    <a:pt x="580" y="28"/>
                  </a:lnTo>
                  <a:lnTo>
                    <a:pt x="540" y="14"/>
                  </a:lnTo>
                  <a:lnTo>
                    <a:pt x="500" y="6"/>
                  </a:lnTo>
                  <a:lnTo>
                    <a:pt x="458" y="2"/>
                  </a:lnTo>
                  <a:lnTo>
                    <a:pt x="416" y="0"/>
                  </a:lnTo>
                  <a:lnTo>
                    <a:pt x="374" y="4"/>
                  </a:lnTo>
                  <a:lnTo>
                    <a:pt x="332" y="12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48" y="40"/>
                  </a:lnTo>
                  <a:lnTo>
                    <a:pt x="210" y="60"/>
                  </a:lnTo>
                  <a:lnTo>
                    <a:pt x="174" y="84"/>
                  </a:lnTo>
                  <a:lnTo>
                    <a:pt x="142" y="110"/>
                  </a:lnTo>
                  <a:lnTo>
                    <a:pt x="112" y="140"/>
                  </a:lnTo>
                  <a:lnTo>
                    <a:pt x="86" y="172"/>
                  </a:lnTo>
                  <a:lnTo>
                    <a:pt x="62" y="206"/>
                  </a:lnTo>
                  <a:lnTo>
                    <a:pt x="44" y="242"/>
                  </a:lnTo>
                  <a:lnTo>
                    <a:pt x="26" y="280"/>
                  </a:lnTo>
                  <a:lnTo>
                    <a:pt x="14" y="320"/>
                  </a:lnTo>
                  <a:lnTo>
                    <a:pt x="6" y="360"/>
                  </a:lnTo>
                  <a:lnTo>
                    <a:pt x="0" y="402"/>
                  </a:lnTo>
                  <a:lnTo>
                    <a:pt x="0" y="444"/>
                  </a:lnTo>
                  <a:lnTo>
                    <a:pt x="4" y="486"/>
                  </a:lnTo>
                  <a:lnTo>
                    <a:pt x="12" y="528"/>
                  </a:lnTo>
                  <a:lnTo>
                    <a:pt x="24" y="572"/>
                  </a:lnTo>
                  <a:lnTo>
                    <a:pt x="24" y="572"/>
                  </a:lnTo>
                  <a:lnTo>
                    <a:pt x="40" y="612"/>
                  </a:lnTo>
                  <a:lnTo>
                    <a:pt x="60" y="650"/>
                  </a:lnTo>
                  <a:lnTo>
                    <a:pt x="84" y="686"/>
                  </a:lnTo>
                  <a:lnTo>
                    <a:pt x="110" y="718"/>
                  </a:lnTo>
                  <a:lnTo>
                    <a:pt x="140" y="748"/>
                  </a:lnTo>
                  <a:lnTo>
                    <a:pt x="172" y="774"/>
                  </a:lnTo>
                  <a:lnTo>
                    <a:pt x="206" y="798"/>
                  </a:lnTo>
                  <a:lnTo>
                    <a:pt x="242" y="818"/>
                  </a:lnTo>
                  <a:lnTo>
                    <a:pt x="280" y="834"/>
                  </a:lnTo>
                  <a:lnTo>
                    <a:pt x="320" y="846"/>
                  </a:lnTo>
                  <a:lnTo>
                    <a:pt x="360" y="854"/>
                  </a:lnTo>
                  <a:lnTo>
                    <a:pt x="402" y="860"/>
                  </a:lnTo>
                  <a:lnTo>
                    <a:pt x="444" y="860"/>
                  </a:lnTo>
                  <a:lnTo>
                    <a:pt x="486" y="856"/>
                  </a:lnTo>
                  <a:lnTo>
                    <a:pt x="528" y="850"/>
                  </a:lnTo>
                  <a:lnTo>
                    <a:pt x="570" y="836"/>
                  </a:lnTo>
                  <a:lnTo>
                    <a:pt x="57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39782880" y="2930400"/>
              <a:ext cx="717480" cy="53316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452" h="336">
                  <a:moveTo>
                    <a:pt x="330" y="202"/>
                  </a:moveTo>
                  <a:lnTo>
                    <a:pt x="330" y="202"/>
                  </a:lnTo>
                  <a:lnTo>
                    <a:pt x="338" y="184"/>
                  </a:lnTo>
                  <a:lnTo>
                    <a:pt x="348" y="170"/>
                  </a:lnTo>
                  <a:lnTo>
                    <a:pt x="358" y="160"/>
                  </a:lnTo>
                  <a:lnTo>
                    <a:pt x="368" y="154"/>
                  </a:lnTo>
                  <a:lnTo>
                    <a:pt x="378" y="148"/>
                  </a:lnTo>
                  <a:lnTo>
                    <a:pt x="388" y="146"/>
                  </a:lnTo>
                  <a:lnTo>
                    <a:pt x="398" y="146"/>
                  </a:lnTo>
                  <a:lnTo>
                    <a:pt x="408" y="148"/>
                  </a:lnTo>
                  <a:lnTo>
                    <a:pt x="424" y="154"/>
                  </a:lnTo>
                  <a:lnTo>
                    <a:pt x="438" y="162"/>
                  </a:lnTo>
                  <a:lnTo>
                    <a:pt x="452" y="172"/>
                  </a:lnTo>
                  <a:lnTo>
                    <a:pt x="452" y="172"/>
                  </a:lnTo>
                  <a:lnTo>
                    <a:pt x="438" y="150"/>
                  </a:lnTo>
                  <a:lnTo>
                    <a:pt x="422" y="126"/>
                  </a:lnTo>
                  <a:lnTo>
                    <a:pt x="400" y="98"/>
                  </a:lnTo>
                  <a:lnTo>
                    <a:pt x="374" y="70"/>
                  </a:lnTo>
                  <a:lnTo>
                    <a:pt x="358" y="56"/>
                  </a:lnTo>
                  <a:lnTo>
                    <a:pt x="340" y="44"/>
                  </a:lnTo>
                  <a:lnTo>
                    <a:pt x="322" y="32"/>
                  </a:lnTo>
                  <a:lnTo>
                    <a:pt x="304" y="22"/>
                  </a:lnTo>
                  <a:lnTo>
                    <a:pt x="284" y="14"/>
                  </a:lnTo>
                  <a:lnTo>
                    <a:pt x="262" y="8"/>
                  </a:lnTo>
                  <a:lnTo>
                    <a:pt x="262" y="8"/>
                  </a:lnTo>
                  <a:lnTo>
                    <a:pt x="226" y="2"/>
                  </a:lnTo>
                  <a:lnTo>
                    <a:pt x="194" y="0"/>
                  </a:lnTo>
                  <a:lnTo>
                    <a:pt x="168" y="2"/>
                  </a:lnTo>
                  <a:lnTo>
                    <a:pt x="146" y="4"/>
                  </a:lnTo>
                  <a:lnTo>
                    <a:pt x="130" y="10"/>
                  </a:lnTo>
                  <a:lnTo>
                    <a:pt x="120" y="1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42" y="62"/>
                  </a:lnTo>
                  <a:lnTo>
                    <a:pt x="32" y="74"/>
                  </a:lnTo>
                  <a:lnTo>
                    <a:pt x="24" y="88"/>
                  </a:lnTo>
                  <a:lnTo>
                    <a:pt x="16" y="102"/>
                  </a:lnTo>
                  <a:lnTo>
                    <a:pt x="10" y="116"/>
                  </a:lnTo>
                  <a:lnTo>
                    <a:pt x="6" y="132"/>
                  </a:lnTo>
                  <a:lnTo>
                    <a:pt x="2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" y="194"/>
                  </a:lnTo>
                  <a:lnTo>
                    <a:pt x="4" y="210"/>
                  </a:lnTo>
                  <a:lnTo>
                    <a:pt x="8" y="226"/>
                  </a:lnTo>
                  <a:lnTo>
                    <a:pt x="8" y="226"/>
                  </a:lnTo>
                  <a:lnTo>
                    <a:pt x="16" y="242"/>
                  </a:lnTo>
                  <a:lnTo>
                    <a:pt x="22" y="256"/>
                  </a:lnTo>
                  <a:lnTo>
                    <a:pt x="32" y="270"/>
                  </a:lnTo>
                  <a:lnTo>
                    <a:pt x="42" y="282"/>
                  </a:lnTo>
                  <a:lnTo>
                    <a:pt x="54" y="294"/>
                  </a:lnTo>
                  <a:lnTo>
                    <a:pt x="66" y="304"/>
                  </a:lnTo>
                  <a:lnTo>
                    <a:pt x="78" y="314"/>
                  </a:lnTo>
                  <a:lnTo>
                    <a:pt x="92" y="320"/>
                  </a:lnTo>
                  <a:lnTo>
                    <a:pt x="106" y="326"/>
                  </a:lnTo>
                  <a:lnTo>
                    <a:pt x="122" y="332"/>
                  </a:lnTo>
                  <a:lnTo>
                    <a:pt x="138" y="334"/>
                  </a:lnTo>
                  <a:lnTo>
                    <a:pt x="152" y="336"/>
                  </a:lnTo>
                  <a:lnTo>
                    <a:pt x="168" y="336"/>
                  </a:lnTo>
                  <a:lnTo>
                    <a:pt x="184" y="336"/>
                  </a:lnTo>
                  <a:lnTo>
                    <a:pt x="202" y="332"/>
                  </a:lnTo>
                  <a:lnTo>
                    <a:pt x="218" y="328"/>
                  </a:lnTo>
                  <a:lnTo>
                    <a:pt x="218" y="328"/>
                  </a:lnTo>
                  <a:lnTo>
                    <a:pt x="220" y="328"/>
                  </a:lnTo>
                  <a:lnTo>
                    <a:pt x="230" y="324"/>
                  </a:lnTo>
                  <a:lnTo>
                    <a:pt x="230" y="324"/>
                  </a:lnTo>
                  <a:lnTo>
                    <a:pt x="254" y="310"/>
                  </a:lnTo>
                  <a:lnTo>
                    <a:pt x="274" y="296"/>
                  </a:lnTo>
                  <a:lnTo>
                    <a:pt x="290" y="280"/>
                  </a:lnTo>
                  <a:lnTo>
                    <a:pt x="302" y="264"/>
                  </a:lnTo>
                  <a:lnTo>
                    <a:pt x="310" y="248"/>
                  </a:lnTo>
                  <a:lnTo>
                    <a:pt x="318" y="232"/>
                  </a:lnTo>
                  <a:lnTo>
                    <a:pt x="330" y="202"/>
                  </a:lnTo>
                  <a:lnTo>
                    <a:pt x="330" y="20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0255920" y="3286080"/>
              <a:ext cx="517320" cy="6634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26" h="418">
                  <a:moveTo>
                    <a:pt x="60" y="296"/>
                  </a:moveTo>
                  <a:lnTo>
                    <a:pt x="60" y="296"/>
                  </a:lnTo>
                  <a:lnTo>
                    <a:pt x="72" y="312"/>
                  </a:lnTo>
                  <a:lnTo>
                    <a:pt x="80" y="328"/>
                  </a:lnTo>
                  <a:lnTo>
                    <a:pt x="84" y="340"/>
                  </a:lnTo>
                  <a:lnTo>
                    <a:pt x="86" y="352"/>
                  </a:lnTo>
                  <a:lnTo>
                    <a:pt x="84" y="364"/>
                  </a:lnTo>
                  <a:lnTo>
                    <a:pt x="82" y="374"/>
                  </a:lnTo>
                  <a:lnTo>
                    <a:pt x="78" y="382"/>
                  </a:lnTo>
                  <a:lnTo>
                    <a:pt x="72" y="390"/>
                  </a:lnTo>
                  <a:lnTo>
                    <a:pt x="58" y="402"/>
                  </a:lnTo>
                  <a:lnTo>
                    <a:pt x="44" y="412"/>
                  </a:lnTo>
                  <a:lnTo>
                    <a:pt x="30" y="418"/>
                  </a:lnTo>
                  <a:lnTo>
                    <a:pt x="30" y="418"/>
                  </a:lnTo>
                  <a:lnTo>
                    <a:pt x="56" y="416"/>
                  </a:lnTo>
                  <a:lnTo>
                    <a:pt x="84" y="414"/>
                  </a:lnTo>
                  <a:lnTo>
                    <a:pt x="118" y="408"/>
                  </a:lnTo>
                  <a:lnTo>
                    <a:pt x="156" y="396"/>
                  </a:lnTo>
                  <a:lnTo>
                    <a:pt x="176" y="390"/>
                  </a:lnTo>
                  <a:lnTo>
                    <a:pt x="196" y="380"/>
                  </a:lnTo>
                  <a:lnTo>
                    <a:pt x="214" y="370"/>
                  </a:lnTo>
                  <a:lnTo>
                    <a:pt x="232" y="358"/>
                  </a:lnTo>
                  <a:lnTo>
                    <a:pt x="248" y="34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86" y="298"/>
                  </a:lnTo>
                  <a:lnTo>
                    <a:pt x="302" y="272"/>
                  </a:lnTo>
                  <a:lnTo>
                    <a:pt x="312" y="248"/>
                  </a:lnTo>
                  <a:lnTo>
                    <a:pt x="320" y="228"/>
                  </a:lnTo>
                  <a:lnTo>
                    <a:pt x="324" y="210"/>
                  </a:lnTo>
                  <a:lnTo>
                    <a:pt x="324" y="198"/>
                  </a:lnTo>
                  <a:lnTo>
                    <a:pt x="324" y="188"/>
                  </a:lnTo>
                  <a:lnTo>
                    <a:pt x="324" y="188"/>
                  </a:lnTo>
                  <a:lnTo>
                    <a:pt x="326" y="172"/>
                  </a:lnTo>
                  <a:lnTo>
                    <a:pt x="326" y="154"/>
                  </a:lnTo>
                  <a:lnTo>
                    <a:pt x="324" y="138"/>
                  </a:lnTo>
                  <a:lnTo>
                    <a:pt x="322" y="124"/>
                  </a:lnTo>
                  <a:lnTo>
                    <a:pt x="318" y="108"/>
                  </a:lnTo>
                  <a:lnTo>
                    <a:pt x="312" y="94"/>
                  </a:lnTo>
                  <a:lnTo>
                    <a:pt x="304" y="80"/>
                  </a:lnTo>
                  <a:lnTo>
                    <a:pt x="294" y="66"/>
                  </a:lnTo>
                  <a:lnTo>
                    <a:pt x="286" y="54"/>
                  </a:lnTo>
                  <a:lnTo>
                    <a:pt x="274" y="42"/>
                  </a:lnTo>
                  <a:lnTo>
                    <a:pt x="262" y="32"/>
                  </a:lnTo>
                  <a:lnTo>
                    <a:pt x="248" y="24"/>
                  </a:lnTo>
                  <a:lnTo>
                    <a:pt x="234" y="16"/>
                  </a:lnTo>
                  <a:lnTo>
                    <a:pt x="220" y="10"/>
                  </a:lnTo>
                  <a:lnTo>
                    <a:pt x="204" y="4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172" y="0"/>
                  </a:lnTo>
                  <a:lnTo>
                    <a:pt x="154" y="0"/>
                  </a:lnTo>
                  <a:lnTo>
                    <a:pt x="138" y="2"/>
                  </a:lnTo>
                  <a:lnTo>
                    <a:pt x="122" y="4"/>
                  </a:lnTo>
                  <a:lnTo>
                    <a:pt x="108" y="8"/>
                  </a:lnTo>
                  <a:lnTo>
                    <a:pt x="94" y="14"/>
                  </a:lnTo>
                  <a:lnTo>
                    <a:pt x="80" y="22"/>
                  </a:lnTo>
                  <a:lnTo>
                    <a:pt x="66" y="32"/>
                  </a:lnTo>
                  <a:lnTo>
                    <a:pt x="54" y="40"/>
                  </a:lnTo>
                  <a:lnTo>
                    <a:pt x="42" y="52"/>
                  </a:lnTo>
                  <a:lnTo>
                    <a:pt x="32" y="64"/>
                  </a:lnTo>
                  <a:lnTo>
                    <a:pt x="24" y="78"/>
                  </a:lnTo>
                  <a:lnTo>
                    <a:pt x="16" y="92"/>
                  </a:lnTo>
                  <a:lnTo>
                    <a:pt x="10" y="106"/>
                  </a:lnTo>
                  <a:lnTo>
                    <a:pt x="4" y="12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80"/>
                  </a:lnTo>
                  <a:lnTo>
                    <a:pt x="2" y="204"/>
                  </a:lnTo>
                  <a:lnTo>
                    <a:pt x="10" y="224"/>
                  </a:lnTo>
                  <a:lnTo>
                    <a:pt x="18" y="242"/>
                  </a:lnTo>
                  <a:lnTo>
                    <a:pt x="28" y="258"/>
                  </a:lnTo>
                  <a:lnTo>
                    <a:pt x="38" y="272"/>
                  </a:lnTo>
                  <a:lnTo>
                    <a:pt x="60" y="296"/>
                  </a:lnTo>
                  <a:lnTo>
                    <a:pt x="60" y="29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39652560" y="3422520"/>
              <a:ext cx="587160" cy="64440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70" h="406">
                  <a:moveTo>
                    <a:pt x="140" y="86"/>
                  </a:moveTo>
                  <a:lnTo>
                    <a:pt x="140" y="86"/>
                  </a:lnTo>
                  <a:lnTo>
                    <a:pt x="122" y="88"/>
                  </a:lnTo>
                  <a:lnTo>
                    <a:pt x="104" y="88"/>
                  </a:lnTo>
                  <a:lnTo>
                    <a:pt x="92" y="84"/>
                  </a:lnTo>
                  <a:lnTo>
                    <a:pt x="80" y="80"/>
                  </a:lnTo>
                  <a:lnTo>
                    <a:pt x="70" y="74"/>
                  </a:lnTo>
                  <a:lnTo>
                    <a:pt x="64" y="66"/>
                  </a:lnTo>
                  <a:lnTo>
                    <a:pt x="58" y="58"/>
                  </a:lnTo>
                  <a:lnTo>
                    <a:pt x="54" y="50"/>
                  </a:lnTo>
                  <a:lnTo>
                    <a:pt x="50" y="32"/>
                  </a:lnTo>
                  <a:lnTo>
                    <a:pt x="50" y="1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22"/>
                  </a:lnTo>
                  <a:lnTo>
                    <a:pt x="28" y="48"/>
                  </a:lnTo>
                  <a:lnTo>
                    <a:pt x="16" y="82"/>
                  </a:lnTo>
                  <a:lnTo>
                    <a:pt x="6" y="120"/>
                  </a:lnTo>
                  <a:lnTo>
                    <a:pt x="4" y="140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204"/>
                  </a:lnTo>
                  <a:lnTo>
                    <a:pt x="6" y="226"/>
                  </a:lnTo>
                  <a:lnTo>
                    <a:pt x="12" y="246"/>
                  </a:lnTo>
                  <a:lnTo>
                    <a:pt x="12" y="246"/>
                  </a:lnTo>
                  <a:lnTo>
                    <a:pt x="28" y="280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72" y="346"/>
                  </a:lnTo>
                  <a:lnTo>
                    <a:pt x="84" y="358"/>
                  </a:lnTo>
                  <a:lnTo>
                    <a:pt x="94" y="364"/>
                  </a:lnTo>
                  <a:lnTo>
                    <a:pt x="104" y="370"/>
                  </a:lnTo>
                  <a:lnTo>
                    <a:pt x="104" y="370"/>
                  </a:lnTo>
                  <a:lnTo>
                    <a:pt x="116" y="380"/>
                  </a:lnTo>
                  <a:lnTo>
                    <a:pt x="132" y="388"/>
                  </a:lnTo>
                  <a:lnTo>
                    <a:pt x="146" y="394"/>
                  </a:lnTo>
                  <a:lnTo>
                    <a:pt x="160" y="400"/>
                  </a:lnTo>
                  <a:lnTo>
                    <a:pt x="176" y="402"/>
                  </a:lnTo>
                  <a:lnTo>
                    <a:pt x="192" y="404"/>
                  </a:lnTo>
                  <a:lnTo>
                    <a:pt x="208" y="406"/>
                  </a:lnTo>
                  <a:lnTo>
                    <a:pt x="224" y="404"/>
                  </a:lnTo>
                  <a:lnTo>
                    <a:pt x="240" y="402"/>
                  </a:lnTo>
                  <a:lnTo>
                    <a:pt x="254" y="398"/>
                  </a:lnTo>
                  <a:lnTo>
                    <a:pt x="270" y="392"/>
                  </a:lnTo>
                  <a:lnTo>
                    <a:pt x="284" y="386"/>
                  </a:lnTo>
                  <a:lnTo>
                    <a:pt x="298" y="378"/>
                  </a:lnTo>
                  <a:lnTo>
                    <a:pt x="310" y="368"/>
                  </a:lnTo>
                  <a:lnTo>
                    <a:pt x="322" y="356"/>
                  </a:lnTo>
                  <a:lnTo>
                    <a:pt x="334" y="344"/>
                  </a:lnTo>
                  <a:lnTo>
                    <a:pt x="334" y="344"/>
                  </a:lnTo>
                  <a:lnTo>
                    <a:pt x="344" y="330"/>
                  </a:lnTo>
                  <a:lnTo>
                    <a:pt x="352" y="316"/>
                  </a:lnTo>
                  <a:lnTo>
                    <a:pt x="358" y="302"/>
                  </a:lnTo>
                  <a:lnTo>
                    <a:pt x="364" y="286"/>
                  </a:lnTo>
                  <a:lnTo>
                    <a:pt x="366" y="270"/>
                  </a:lnTo>
                  <a:lnTo>
                    <a:pt x="368" y="256"/>
                  </a:lnTo>
                  <a:lnTo>
                    <a:pt x="370" y="240"/>
                  </a:lnTo>
                  <a:lnTo>
                    <a:pt x="368" y="224"/>
                  </a:lnTo>
                  <a:lnTo>
                    <a:pt x="366" y="208"/>
                  </a:lnTo>
                  <a:lnTo>
                    <a:pt x="362" y="192"/>
                  </a:lnTo>
                  <a:lnTo>
                    <a:pt x="356" y="178"/>
                  </a:lnTo>
                  <a:lnTo>
                    <a:pt x="350" y="164"/>
                  </a:lnTo>
                  <a:lnTo>
                    <a:pt x="342" y="150"/>
                  </a:lnTo>
                  <a:lnTo>
                    <a:pt x="332" y="136"/>
                  </a:lnTo>
                  <a:lnTo>
                    <a:pt x="320" y="124"/>
                  </a:lnTo>
                  <a:lnTo>
                    <a:pt x="308" y="114"/>
                  </a:lnTo>
                  <a:lnTo>
                    <a:pt x="308" y="114"/>
                  </a:lnTo>
                  <a:lnTo>
                    <a:pt x="306" y="112"/>
                  </a:lnTo>
                  <a:lnTo>
                    <a:pt x="298" y="106"/>
                  </a:lnTo>
                  <a:lnTo>
                    <a:pt x="298" y="106"/>
                  </a:lnTo>
                  <a:lnTo>
                    <a:pt x="272" y="92"/>
                  </a:lnTo>
                  <a:lnTo>
                    <a:pt x="250" y="82"/>
                  </a:lnTo>
                  <a:lnTo>
                    <a:pt x="230" y="78"/>
                  </a:lnTo>
                  <a:lnTo>
                    <a:pt x="210" y="76"/>
                  </a:lnTo>
                  <a:lnTo>
                    <a:pt x="192" y="78"/>
                  </a:lnTo>
                  <a:lnTo>
                    <a:pt x="174" y="80"/>
                  </a:lnTo>
                  <a:lnTo>
                    <a:pt x="140" y="86"/>
                  </a:lnTo>
                  <a:lnTo>
                    <a:pt x="140" y="8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Freeform 18"/>
          <p:cNvSpPr/>
          <p:nvPr/>
        </p:nvSpPr>
        <p:spPr>
          <a:xfrm>
            <a:off x="2349360" y="4876920"/>
            <a:ext cx="3486240" cy="5213160"/>
          </a:xfrm>
          <a:custGeom>
            <a:avLst/>
            <a:gdLst>
              <a:gd name="textAreaLeft" fmla="*/ 0 w 3486240"/>
              <a:gd name="textAreaRight" fmla="*/ 3486600 w 3486240"/>
              <a:gd name="textAreaTop" fmla="*/ 0 h 5213160"/>
              <a:gd name="textAreaBottom" fmla="*/ 5213520 h 5213160"/>
            </a:gdLst>
            <a:ahLst/>
            <a:rect l="textAreaLeft" t="textAreaTop" r="textAreaRight" b="textAreaBottom"/>
            <a:pathLst>
              <a:path w="2196" h="3284">
                <a:moveTo>
                  <a:pt x="1846" y="1904"/>
                </a:moveTo>
                <a:lnTo>
                  <a:pt x="1846" y="1904"/>
                </a:lnTo>
                <a:lnTo>
                  <a:pt x="1874" y="1872"/>
                </a:lnTo>
                <a:lnTo>
                  <a:pt x="1900" y="1838"/>
                </a:lnTo>
                <a:lnTo>
                  <a:pt x="1926" y="1804"/>
                </a:lnTo>
                <a:lnTo>
                  <a:pt x="1950" y="1770"/>
                </a:lnTo>
                <a:lnTo>
                  <a:pt x="1972" y="1734"/>
                </a:lnTo>
                <a:lnTo>
                  <a:pt x="1992" y="1698"/>
                </a:lnTo>
                <a:lnTo>
                  <a:pt x="2030" y="1628"/>
                </a:lnTo>
                <a:lnTo>
                  <a:pt x="2062" y="1556"/>
                </a:lnTo>
                <a:lnTo>
                  <a:pt x="2090" y="1486"/>
                </a:lnTo>
                <a:lnTo>
                  <a:pt x="2114" y="1418"/>
                </a:lnTo>
                <a:lnTo>
                  <a:pt x="2134" y="1352"/>
                </a:lnTo>
                <a:lnTo>
                  <a:pt x="2152" y="1292"/>
                </a:lnTo>
                <a:lnTo>
                  <a:pt x="2166" y="1236"/>
                </a:lnTo>
                <a:lnTo>
                  <a:pt x="2176" y="1186"/>
                </a:lnTo>
                <a:lnTo>
                  <a:pt x="2184" y="1142"/>
                </a:lnTo>
                <a:lnTo>
                  <a:pt x="2192" y="1080"/>
                </a:lnTo>
                <a:lnTo>
                  <a:pt x="2196" y="1058"/>
                </a:lnTo>
                <a:lnTo>
                  <a:pt x="2196" y="1058"/>
                </a:lnTo>
                <a:lnTo>
                  <a:pt x="2176" y="1060"/>
                </a:lnTo>
                <a:lnTo>
                  <a:pt x="2120" y="1072"/>
                </a:lnTo>
                <a:lnTo>
                  <a:pt x="2082" y="1080"/>
                </a:lnTo>
                <a:lnTo>
                  <a:pt x="2038" y="1092"/>
                </a:lnTo>
                <a:lnTo>
                  <a:pt x="1988" y="1108"/>
                </a:lnTo>
                <a:lnTo>
                  <a:pt x="1934" y="1126"/>
                </a:lnTo>
                <a:lnTo>
                  <a:pt x="1876" y="1150"/>
                </a:lnTo>
                <a:lnTo>
                  <a:pt x="1816" y="1176"/>
                </a:lnTo>
                <a:lnTo>
                  <a:pt x="1754" y="1208"/>
                </a:lnTo>
                <a:lnTo>
                  <a:pt x="1690" y="1246"/>
                </a:lnTo>
                <a:lnTo>
                  <a:pt x="1660" y="1266"/>
                </a:lnTo>
                <a:lnTo>
                  <a:pt x="1628" y="1288"/>
                </a:lnTo>
                <a:lnTo>
                  <a:pt x="1596" y="1310"/>
                </a:lnTo>
                <a:lnTo>
                  <a:pt x="1564" y="1336"/>
                </a:lnTo>
                <a:lnTo>
                  <a:pt x="1534" y="1362"/>
                </a:lnTo>
                <a:lnTo>
                  <a:pt x="1504" y="1390"/>
                </a:lnTo>
                <a:lnTo>
                  <a:pt x="1474" y="1420"/>
                </a:lnTo>
                <a:lnTo>
                  <a:pt x="1446" y="1450"/>
                </a:lnTo>
                <a:lnTo>
                  <a:pt x="1446" y="1450"/>
                </a:lnTo>
                <a:lnTo>
                  <a:pt x="1442" y="1456"/>
                </a:lnTo>
                <a:lnTo>
                  <a:pt x="1442" y="1456"/>
                </a:lnTo>
                <a:lnTo>
                  <a:pt x="1452" y="1382"/>
                </a:lnTo>
                <a:lnTo>
                  <a:pt x="1462" y="1306"/>
                </a:lnTo>
                <a:lnTo>
                  <a:pt x="1468" y="1228"/>
                </a:lnTo>
                <a:lnTo>
                  <a:pt x="1470" y="1148"/>
                </a:lnTo>
                <a:lnTo>
                  <a:pt x="1470" y="1148"/>
                </a:lnTo>
                <a:lnTo>
                  <a:pt x="1468" y="1090"/>
                </a:lnTo>
                <a:lnTo>
                  <a:pt x="1464" y="1032"/>
                </a:lnTo>
                <a:lnTo>
                  <a:pt x="1460" y="974"/>
                </a:lnTo>
                <a:lnTo>
                  <a:pt x="1454" y="918"/>
                </a:lnTo>
                <a:lnTo>
                  <a:pt x="1444" y="862"/>
                </a:lnTo>
                <a:lnTo>
                  <a:pt x="1434" y="808"/>
                </a:lnTo>
                <a:lnTo>
                  <a:pt x="1424" y="754"/>
                </a:lnTo>
                <a:lnTo>
                  <a:pt x="1412" y="702"/>
                </a:lnTo>
                <a:lnTo>
                  <a:pt x="1398" y="652"/>
                </a:lnTo>
                <a:lnTo>
                  <a:pt x="1382" y="602"/>
                </a:lnTo>
                <a:lnTo>
                  <a:pt x="1352" y="506"/>
                </a:lnTo>
                <a:lnTo>
                  <a:pt x="1318" y="418"/>
                </a:lnTo>
                <a:lnTo>
                  <a:pt x="1284" y="338"/>
                </a:lnTo>
                <a:lnTo>
                  <a:pt x="1248" y="262"/>
                </a:lnTo>
                <a:lnTo>
                  <a:pt x="1214" y="196"/>
                </a:lnTo>
                <a:lnTo>
                  <a:pt x="1184" y="140"/>
                </a:lnTo>
                <a:lnTo>
                  <a:pt x="1156" y="92"/>
                </a:lnTo>
                <a:lnTo>
                  <a:pt x="1114" y="24"/>
                </a:lnTo>
                <a:lnTo>
                  <a:pt x="1098" y="0"/>
                </a:lnTo>
                <a:lnTo>
                  <a:pt x="1098" y="0"/>
                </a:lnTo>
                <a:lnTo>
                  <a:pt x="1082" y="24"/>
                </a:lnTo>
                <a:lnTo>
                  <a:pt x="1040" y="92"/>
                </a:lnTo>
                <a:lnTo>
                  <a:pt x="1010" y="140"/>
                </a:lnTo>
                <a:lnTo>
                  <a:pt x="980" y="196"/>
                </a:lnTo>
                <a:lnTo>
                  <a:pt x="946" y="262"/>
                </a:lnTo>
                <a:lnTo>
                  <a:pt x="912" y="338"/>
                </a:lnTo>
                <a:lnTo>
                  <a:pt x="876" y="418"/>
                </a:lnTo>
                <a:lnTo>
                  <a:pt x="844" y="506"/>
                </a:lnTo>
                <a:lnTo>
                  <a:pt x="812" y="602"/>
                </a:lnTo>
                <a:lnTo>
                  <a:pt x="798" y="652"/>
                </a:lnTo>
                <a:lnTo>
                  <a:pt x="784" y="702"/>
                </a:lnTo>
                <a:lnTo>
                  <a:pt x="770" y="754"/>
                </a:lnTo>
                <a:lnTo>
                  <a:pt x="760" y="808"/>
                </a:lnTo>
                <a:lnTo>
                  <a:pt x="750" y="862"/>
                </a:lnTo>
                <a:lnTo>
                  <a:pt x="742" y="918"/>
                </a:lnTo>
                <a:lnTo>
                  <a:pt x="734" y="974"/>
                </a:lnTo>
                <a:lnTo>
                  <a:pt x="730" y="1032"/>
                </a:lnTo>
                <a:lnTo>
                  <a:pt x="726" y="1090"/>
                </a:lnTo>
                <a:lnTo>
                  <a:pt x="726" y="1148"/>
                </a:lnTo>
                <a:lnTo>
                  <a:pt x="726" y="1148"/>
                </a:lnTo>
                <a:lnTo>
                  <a:pt x="728" y="1228"/>
                </a:lnTo>
                <a:lnTo>
                  <a:pt x="732" y="1306"/>
                </a:lnTo>
                <a:lnTo>
                  <a:pt x="742" y="1382"/>
                </a:lnTo>
                <a:lnTo>
                  <a:pt x="754" y="1456"/>
                </a:lnTo>
                <a:lnTo>
                  <a:pt x="754" y="1456"/>
                </a:lnTo>
                <a:lnTo>
                  <a:pt x="748" y="1450"/>
                </a:lnTo>
                <a:lnTo>
                  <a:pt x="748" y="1450"/>
                </a:lnTo>
                <a:lnTo>
                  <a:pt x="720" y="1420"/>
                </a:lnTo>
                <a:lnTo>
                  <a:pt x="690" y="1390"/>
                </a:lnTo>
                <a:lnTo>
                  <a:pt x="660" y="1362"/>
                </a:lnTo>
                <a:lnTo>
                  <a:pt x="630" y="1336"/>
                </a:lnTo>
                <a:lnTo>
                  <a:pt x="598" y="1310"/>
                </a:lnTo>
                <a:lnTo>
                  <a:pt x="568" y="1288"/>
                </a:lnTo>
                <a:lnTo>
                  <a:pt x="536" y="1266"/>
                </a:lnTo>
                <a:lnTo>
                  <a:pt x="504" y="1246"/>
                </a:lnTo>
                <a:lnTo>
                  <a:pt x="440" y="1208"/>
                </a:lnTo>
                <a:lnTo>
                  <a:pt x="378" y="1176"/>
                </a:lnTo>
                <a:lnTo>
                  <a:pt x="318" y="1150"/>
                </a:lnTo>
                <a:lnTo>
                  <a:pt x="260" y="1126"/>
                </a:lnTo>
                <a:lnTo>
                  <a:pt x="206" y="1108"/>
                </a:lnTo>
                <a:lnTo>
                  <a:pt x="156" y="1092"/>
                </a:lnTo>
                <a:lnTo>
                  <a:pt x="112" y="1080"/>
                </a:lnTo>
                <a:lnTo>
                  <a:pt x="74" y="1072"/>
                </a:lnTo>
                <a:lnTo>
                  <a:pt x="18" y="1060"/>
                </a:lnTo>
                <a:lnTo>
                  <a:pt x="0" y="1058"/>
                </a:lnTo>
                <a:lnTo>
                  <a:pt x="0" y="1058"/>
                </a:lnTo>
                <a:lnTo>
                  <a:pt x="2" y="1080"/>
                </a:lnTo>
                <a:lnTo>
                  <a:pt x="10" y="1142"/>
                </a:lnTo>
                <a:lnTo>
                  <a:pt x="18" y="1186"/>
                </a:lnTo>
                <a:lnTo>
                  <a:pt x="30" y="1236"/>
                </a:lnTo>
                <a:lnTo>
                  <a:pt x="42" y="1292"/>
                </a:lnTo>
                <a:lnTo>
                  <a:pt x="60" y="1352"/>
                </a:lnTo>
                <a:lnTo>
                  <a:pt x="80" y="1418"/>
                </a:lnTo>
                <a:lnTo>
                  <a:pt x="104" y="1486"/>
                </a:lnTo>
                <a:lnTo>
                  <a:pt x="132" y="1556"/>
                </a:lnTo>
                <a:lnTo>
                  <a:pt x="166" y="1628"/>
                </a:lnTo>
                <a:lnTo>
                  <a:pt x="202" y="1698"/>
                </a:lnTo>
                <a:lnTo>
                  <a:pt x="224" y="1734"/>
                </a:lnTo>
                <a:lnTo>
                  <a:pt x="246" y="1770"/>
                </a:lnTo>
                <a:lnTo>
                  <a:pt x="268" y="1804"/>
                </a:lnTo>
                <a:lnTo>
                  <a:pt x="294" y="1838"/>
                </a:lnTo>
                <a:lnTo>
                  <a:pt x="320" y="1872"/>
                </a:lnTo>
                <a:lnTo>
                  <a:pt x="348" y="1904"/>
                </a:lnTo>
                <a:lnTo>
                  <a:pt x="348" y="1904"/>
                </a:lnTo>
                <a:lnTo>
                  <a:pt x="374" y="1932"/>
                </a:lnTo>
                <a:lnTo>
                  <a:pt x="400" y="1958"/>
                </a:lnTo>
                <a:lnTo>
                  <a:pt x="426" y="1984"/>
                </a:lnTo>
                <a:lnTo>
                  <a:pt x="452" y="2008"/>
                </a:lnTo>
                <a:lnTo>
                  <a:pt x="508" y="2052"/>
                </a:lnTo>
                <a:lnTo>
                  <a:pt x="564" y="2092"/>
                </a:lnTo>
                <a:lnTo>
                  <a:pt x="564" y="2092"/>
                </a:lnTo>
                <a:lnTo>
                  <a:pt x="516" y="2096"/>
                </a:lnTo>
                <a:lnTo>
                  <a:pt x="468" y="2104"/>
                </a:lnTo>
                <a:lnTo>
                  <a:pt x="424" y="2116"/>
                </a:lnTo>
                <a:lnTo>
                  <a:pt x="380" y="2130"/>
                </a:lnTo>
                <a:lnTo>
                  <a:pt x="340" y="2146"/>
                </a:lnTo>
                <a:lnTo>
                  <a:pt x="300" y="2162"/>
                </a:lnTo>
                <a:lnTo>
                  <a:pt x="264" y="2180"/>
                </a:lnTo>
                <a:lnTo>
                  <a:pt x="232" y="2200"/>
                </a:lnTo>
                <a:lnTo>
                  <a:pt x="202" y="2218"/>
                </a:lnTo>
                <a:lnTo>
                  <a:pt x="174" y="2236"/>
                </a:lnTo>
                <a:lnTo>
                  <a:pt x="132" y="2266"/>
                </a:lnTo>
                <a:lnTo>
                  <a:pt x="104" y="2288"/>
                </a:lnTo>
                <a:lnTo>
                  <a:pt x="96" y="2296"/>
                </a:lnTo>
                <a:lnTo>
                  <a:pt x="96" y="2296"/>
                </a:lnTo>
                <a:lnTo>
                  <a:pt x="106" y="2306"/>
                </a:lnTo>
                <a:lnTo>
                  <a:pt x="134" y="2330"/>
                </a:lnTo>
                <a:lnTo>
                  <a:pt x="180" y="2362"/>
                </a:lnTo>
                <a:lnTo>
                  <a:pt x="210" y="2380"/>
                </a:lnTo>
                <a:lnTo>
                  <a:pt x="242" y="2400"/>
                </a:lnTo>
                <a:lnTo>
                  <a:pt x="278" y="2420"/>
                </a:lnTo>
                <a:lnTo>
                  <a:pt x="316" y="2438"/>
                </a:lnTo>
                <a:lnTo>
                  <a:pt x="358" y="2456"/>
                </a:lnTo>
                <a:lnTo>
                  <a:pt x="402" y="2472"/>
                </a:lnTo>
                <a:lnTo>
                  <a:pt x="448" y="2484"/>
                </a:lnTo>
                <a:lnTo>
                  <a:pt x="496" y="2494"/>
                </a:lnTo>
                <a:lnTo>
                  <a:pt x="544" y="2500"/>
                </a:lnTo>
                <a:lnTo>
                  <a:pt x="596" y="2504"/>
                </a:lnTo>
                <a:lnTo>
                  <a:pt x="596" y="2504"/>
                </a:lnTo>
                <a:lnTo>
                  <a:pt x="636" y="2502"/>
                </a:lnTo>
                <a:lnTo>
                  <a:pt x="674" y="2498"/>
                </a:lnTo>
                <a:lnTo>
                  <a:pt x="712" y="2492"/>
                </a:lnTo>
                <a:lnTo>
                  <a:pt x="750" y="2484"/>
                </a:lnTo>
                <a:lnTo>
                  <a:pt x="784" y="2474"/>
                </a:lnTo>
                <a:lnTo>
                  <a:pt x="818" y="2462"/>
                </a:lnTo>
                <a:lnTo>
                  <a:pt x="852" y="2448"/>
                </a:lnTo>
                <a:lnTo>
                  <a:pt x="884" y="2434"/>
                </a:lnTo>
                <a:lnTo>
                  <a:pt x="912" y="2420"/>
                </a:lnTo>
                <a:lnTo>
                  <a:pt x="940" y="2406"/>
                </a:lnTo>
                <a:lnTo>
                  <a:pt x="990" y="2376"/>
                </a:lnTo>
                <a:lnTo>
                  <a:pt x="1032" y="2348"/>
                </a:lnTo>
                <a:lnTo>
                  <a:pt x="1064" y="2324"/>
                </a:lnTo>
                <a:lnTo>
                  <a:pt x="1064" y="2324"/>
                </a:lnTo>
                <a:lnTo>
                  <a:pt x="1084" y="2362"/>
                </a:lnTo>
                <a:lnTo>
                  <a:pt x="1102" y="2402"/>
                </a:lnTo>
                <a:lnTo>
                  <a:pt x="1114" y="2442"/>
                </a:lnTo>
                <a:lnTo>
                  <a:pt x="1124" y="2484"/>
                </a:lnTo>
                <a:lnTo>
                  <a:pt x="1132" y="2528"/>
                </a:lnTo>
                <a:lnTo>
                  <a:pt x="1136" y="2574"/>
                </a:lnTo>
                <a:lnTo>
                  <a:pt x="1138" y="2618"/>
                </a:lnTo>
                <a:lnTo>
                  <a:pt x="1136" y="2664"/>
                </a:lnTo>
                <a:lnTo>
                  <a:pt x="1132" y="2710"/>
                </a:lnTo>
                <a:lnTo>
                  <a:pt x="1126" y="2756"/>
                </a:lnTo>
                <a:lnTo>
                  <a:pt x="1116" y="2800"/>
                </a:lnTo>
                <a:lnTo>
                  <a:pt x="1106" y="2844"/>
                </a:lnTo>
                <a:lnTo>
                  <a:pt x="1092" y="2886"/>
                </a:lnTo>
                <a:lnTo>
                  <a:pt x="1078" y="2928"/>
                </a:lnTo>
                <a:lnTo>
                  <a:pt x="1062" y="2968"/>
                </a:lnTo>
                <a:lnTo>
                  <a:pt x="1044" y="3004"/>
                </a:lnTo>
                <a:lnTo>
                  <a:pt x="1044" y="3004"/>
                </a:lnTo>
                <a:lnTo>
                  <a:pt x="1020" y="3046"/>
                </a:lnTo>
                <a:lnTo>
                  <a:pt x="994" y="3084"/>
                </a:lnTo>
                <a:lnTo>
                  <a:pt x="968" y="3116"/>
                </a:lnTo>
                <a:lnTo>
                  <a:pt x="940" y="3144"/>
                </a:lnTo>
                <a:lnTo>
                  <a:pt x="912" y="3166"/>
                </a:lnTo>
                <a:lnTo>
                  <a:pt x="898" y="3176"/>
                </a:lnTo>
                <a:lnTo>
                  <a:pt x="884" y="3184"/>
                </a:lnTo>
                <a:lnTo>
                  <a:pt x="868" y="3190"/>
                </a:lnTo>
                <a:lnTo>
                  <a:pt x="854" y="3194"/>
                </a:lnTo>
                <a:lnTo>
                  <a:pt x="840" y="3196"/>
                </a:lnTo>
                <a:lnTo>
                  <a:pt x="826" y="3198"/>
                </a:lnTo>
                <a:lnTo>
                  <a:pt x="826" y="3198"/>
                </a:lnTo>
                <a:lnTo>
                  <a:pt x="818" y="3200"/>
                </a:lnTo>
                <a:lnTo>
                  <a:pt x="810" y="3202"/>
                </a:lnTo>
                <a:lnTo>
                  <a:pt x="804" y="3206"/>
                </a:lnTo>
                <a:lnTo>
                  <a:pt x="798" y="3212"/>
                </a:lnTo>
                <a:lnTo>
                  <a:pt x="792" y="3218"/>
                </a:lnTo>
                <a:lnTo>
                  <a:pt x="788" y="3226"/>
                </a:lnTo>
                <a:lnTo>
                  <a:pt x="786" y="3234"/>
                </a:lnTo>
                <a:lnTo>
                  <a:pt x="786" y="3242"/>
                </a:lnTo>
                <a:lnTo>
                  <a:pt x="786" y="3242"/>
                </a:lnTo>
                <a:lnTo>
                  <a:pt x="788" y="3252"/>
                </a:lnTo>
                <a:lnTo>
                  <a:pt x="790" y="3260"/>
                </a:lnTo>
                <a:lnTo>
                  <a:pt x="794" y="3266"/>
                </a:lnTo>
                <a:lnTo>
                  <a:pt x="800" y="3272"/>
                </a:lnTo>
                <a:lnTo>
                  <a:pt x="806" y="3278"/>
                </a:lnTo>
                <a:lnTo>
                  <a:pt x="814" y="3280"/>
                </a:lnTo>
                <a:lnTo>
                  <a:pt x="822" y="3284"/>
                </a:lnTo>
                <a:lnTo>
                  <a:pt x="830" y="3284"/>
                </a:lnTo>
                <a:lnTo>
                  <a:pt x="830" y="3284"/>
                </a:lnTo>
                <a:lnTo>
                  <a:pt x="850" y="3282"/>
                </a:lnTo>
                <a:lnTo>
                  <a:pt x="870" y="3278"/>
                </a:lnTo>
                <a:lnTo>
                  <a:pt x="890" y="3272"/>
                </a:lnTo>
                <a:lnTo>
                  <a:pt x="910" y="3264"/>
                </a:lnTo>
                <a:lnTo>
                  <a:pt x="930" y="3256"/>
                </a:lnTo>
                <a:lnTo>
                  <a:pt x="948" y="3244"/>
                </a:lnTo>
                <a:lnTo>
                  <a:pt x="968" y="3232"/>
                </a:lnTo>
                <a:lnTo>
                  <a:pt x="986" y="3218"/>
                </a:lnTo>
                <a:lnTo>
                  <a:pt x="1004" y="3202"/>
                </a:lnTo>
                <a:lnTo>
                  <a:pt x="1022" y="3184"/>
                </a:lnTo>
                <a:lnTo>
                  <a:pt x="1040" y="3164"/>
                </a:lnTo>
                <a:lnTo>
                  <a:pt x="1056" y="3142"/>
                </a:lnTo>
                <a:lnTo>
                  <a:pt x="1072" y="3120"/>
                </a:lnTo>
                <a:lnTo>
                  <a:pt x="1088" y="3096"/>
                </a:lnTo>
                <a:lnTo>
                  <a:pt x="1104" y="3070"/>
                </a:lnTo>
                <a:lnTo>
                  <a:pt x="1118" y="3044"/>
                </a:lnTo>
                <a:lnTo>
                  <a:pt x="1118" y="3044"/>
                </a:lnTo>
                <a:lnTo>
                  <a:pt x="1136" y="3008"/>
                </a:lnTo>
                <a:lnTo>
                  <a:pt x="1154" y="2968"/>
                </a:lnTo>
                <a:lnTo>
                  <a:pt x="1168" y="2928"/>
                </a:lnTo>
                <a:lnTo>
                  <a:pt x="1182" y="2886"/>
                </a:lnTo>
                <a:lnTo>
                  <a:pt x="1194" y="2844"/>
                </a:lnTo>
                <a:lnTo>
                  <a:pt x="1204" y="2798"/>
                </a:lnTo>
                <a:lnTo>
                  <a:pt x="1210" y="2754"/>
                </a:lnTo>
                <a:lnTo>
                  <a:pt x="1216" y="2708"/>
                </a:lnTo>
                <a:lnTo>
                  <a:pt x="1220" y="2664"/>
                </a:lnTo>
                <a:lnTo>
                  <a:pt x="1222" y="2618"/>
                </a:lnTo>
                <a:lnTo>
                  <a:pt x="1220" y="2572"/>
                </a:lnTo>
                <a:lnTo>
                  <a:pt x="1216" y="2526"/>
                </a:lnTo>
                <a:lnTo>
                  <a:pt x="1210" y="2482"/>
                </a:lnTo>
                <a:lnTo>
                  <a:pt x="1202" y="2438"/>
                </a:lnTo>
                <a:lnTo>
                  <a:pt x="1190" y="2396"/>
                </a:lnTo>
                <a:lnTo>
                  <a:pt x="1174" y="2356"/>
                </a:lnTo>
                <a:lnTo>
                  <a:pt x="1174" y="2356"/>
                </a:lnTo>
                <a:lnTo>
                  <a:pt x="1206" y="2376"/>
                </a:lnTo>
                <a:lnTo>
                  <a:pt x="1242" y="2396"/>
                </a:lnTo>
                <a:lnTo>
                  <a:pt x="1280" y="2414"/>
                </a:lnTo>
                <a:lnTo>
                  <a:pt x="1322" y="2432"/>
                </a:lnTo>
                <a:lnTo>
                  <a:pt x="1368" y="2448"/>
                </a:lnTo>
                <a:lnTo>
                  <a:pt x="1418" y="2460"/>
                </a:lnTo>
                <a:lnTo>
                  <a:pt x="1442" y="2466"/>
                </a:lnTo>
                <a:lnTo>
                  <a:pt x="1468" y="2468"/>
                </a:lnTo>
                <a:lnTo>
                  <a:pt x="1494" y="2470"/>
                </a:lnTo>
                <a:lnTo>
                  <a:pt x="1520" y="2472"/>
                </a:lnTo>
                <a:lnTo>
                  <a:pt x="1520" y="2472"/>
                </a:lnTo>
                <a:lnTo>
                  <a:pt x="1564" y="2470"/>
                </a:lnTo>
                <a:lnTo>
                  <a:pt x="1606" y="2464"/>
                </a:lnTo>
                <a:lnTo>
                  <a:pt x="1646" y="2456"/>
                </a:lnTo>
                <a:lnTo>
                  <a:pt x="1686" y="2444"/>
                </a:lnTo>
                <a:lnTo>
                  <a:pt x="1722" y="2430"/>
                </a:lnTo>
                <a:lnTo>
                  <a:pt x="1758" y="2416"/>
                </a:lnTo>
                <a:lnTo>
                  <a:pt x="1790" y="2400"/>
                </a:lnTo>
                <a:lnTo>
                  <a:pt x="1820" y="2384"/>
                </a:lnTo>
                <a:lnTo>
                  <a:pt x="1848" y="2368"/>
                </a:lnTo>
                <a:lnTo>
                  <a:pt x="1872" y="2352"/>
                </a:lnTo>
                <a:lnTo>
                  <a:pt x="1912" y="2324"/>
                </a:lnTo>
                <a:lnTo>
                  <a:pt x="1936" y="2304"/>
                </a:lnTo>
                <a:lnTo>
                  <a:pt x="1944" y="2296"/>
                </a:lnTo>
                <a:lnTo>
                  <a:pt x="1944" y="2296"/>
                </a:lnTo>
                <a:lnTo>
                  <a:pt x="1916" y="2274"/>
                </a:lnTo>
                <a:lnTo>
                  <a:pt x="1882" y="2248"/>
                </a:lnTo>
                <a:lnTo>
                  <a:pt x="1838" y="2220"/>
                </a:lnTo>
                <a:lnTo>
                  <a:pt x="1812" y="2204"/>
                </a:lnTo>
                <a:lnTo>
                  <a:pt x="1784" y="2190"/>
                </a:lnTo>
                <a:lnTo>
                  <a:pt x="1754" y="2176"/>
                </a:lnTo>
                <a:lnTo>
                  <a:pt x="1722" y="2162"/>
                </a:lnTo>
                <a:lnTo>
                  <a:pt x="1686" y="2150"/>
                </a:lnTo>
                <a:lnTo>
                  <a:pt x="1652" y="2140"/>
                </a:lnTo>
                <a:lnTo>
                  <a:pt x="1614" y="2132"/>
                </a:lnTo>
                <a:lnTo>
                  <a:pt x="1576" y="2126"/>
                </a:lnTo>
                <a:lnTo>
                  <a:pt x="1576" y="2126"/>
                </a:lnTo>
                <a:lnTo>
                  <a:pt x="1610" y="2104"/>
                </a:lnTo>
                <a:lnTo>
                  <a:pt x="1646" y="2080"/>
                </a:lnTo>
                <a:lnTo>
                  <a:pt x="1680" y="2056"/>
                </a:lnTo>
                <a:lnTo>
                  <a:pt x="1714" y="2030"/>
                </a:lnTo>
                <a:lnTo>
                  <a:pt x="1748" y="2000"/>
                </a:lnTo>
                <a:lnTo>
                  <a:pt x="1782" y="1970"/>
                </a:lnTo>
                <a:lnTo>
                  <a:pt x="1816" y="1938"/>
                </a:lnTo>
                <a:lnTo>
                  <a:pt x="1846" y="1904"/>
                </a:lnTo>
                <a:lnTo>
                  <a:pt x="1846" y="1904"/>
                </a:lnTo>
                <a:close/>
              </a:path>
            </a:pathLst>
          </a:custGeom>
          <a:solidFill>
            <a:srgbClr val="f6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"/>
          <p:cNvSpPr/>
          <p:nvPr/>
        </p:nvSpPr>
        <p:spPr>
          <a:xfrm>
            <a:off x="4083120" y="5051520"/>
            <a:ext cx="6188040" cy="4943520"/>
          </a:xfrm>
          <a:custGeom>
            <a:avLst/>
            <a:gdLst>
              <a:gd name="textAreaLeft" fmla="*/ 0 w 6188040"/>
              <a:gd name="textAreaRight" fmla="*/ 6188400 w 6188040"/>
              <a:gd name="textAreaTop" fmla="*/ 0 h 4943520"/>
              <a:gd name="textAreaBottom" fmla="*/ 4943880 h 4943520"/>
            </a:gdLst>
            <a:ahLst/>
            <a:rect l="textAreaLeft" t="textAreaTop" r="textAreaRight" b="textAreaBottom"/>
            <a:pathLst>
              <a:path w="3898" h="3114">
                <a:moveTo>
                  <a:pt x="2224" y="2086"/>
                </a:moveTo>
                <a:lnTo>
                  <a:pt x="2224" y="2086"/>
                </a:lnTo>
                <a:lnTo>
                  <a:pt x="2216" y="2080"/>
                </a:lnTo>
                <a:lnTo>
                  <a:pt x="2216" y="2080"/>
                </a:lnTo>
                <a:lnTo>
                  <a:pt x="2306" y="2090"/>
                </a:lnTo>
                <a:lnTo>
                  <a:pt x="2396" y="2096"/>
                </a:lnTo>
                <a:lnTo>
                  <a:pt x="2442" y="2098"/>
                </a:lnTo>
                <a:lnTo>
                  <a:pt x="2488" y="2096"/>
                </a:lnTo>
                <a:lnTo>
                  <a:pt x="2534" y="2096"/>
                </a:lnTo>
                <a:lnTo>
                  <a:pt x="2582" y="2092"/>
                </a:lnTo>
                <a:lnTo>
                  <a:pt x="2582" y="2092"/>
                </a:lnTo>
                <a:lnTo>
                  <a:pt x="2650" y="2086"/>
                </a:lnTo>
                <a:lnTo>
                  <a:pt x="2720" y="2076"/>
                </a:lnTo>
                <a:lnTo>
                  <a:pt x="2786" y="2064"/>
                </a:lnTo>
                <a:lnTo>
                  <a:pt x="2852" y="2050"/>
                </a:lnTo>
                <a:lnTo>
                  <a:pt x="2918" y="2032"/>
                </a:lnTo>
                <a:lnTo>
                  <a:pt x="2980" y="2014"/>
                </a:lnTo>
                <a:lnTo>
                  <a:pt x="3042" y="1992"/>
                </a:lnTo>
                <a:lnTo>
                  <a:pt x="3102" y="1970"/>
                </a:lnTo>
                <a:lnTo>
                  <a:pt x="3162" y="1946"/>
                </a:lnTo>
                <a:lnTo>
                  <a:pt x="3218" y="1922"/>
                </a:lnTo>
                <a:lnTo>
                  <a:pt x="3274" y="1896"/>
                </a:lnTo>
                <a:lnTo>
                  <a:pt x="3326" y="1868"/>
                </a:lnTo>
                <a:lnTo>
                  <a:pt x="3378" y="1840"/>
                </a:lnTo>
                <a:lnTo>
                  <a:pt x="3428" y="1812"/>
                </a:lnTo>
                <a:lnTo>
                  <a:pt x="3520" y="1756"/>
                </a:lnTo>
                <a:lnTo>
                  <a:pt x="3604" y="1700"/>
                </a:lnTo>
                <a:lnTo>
                  <a:pt x="3678" y="1646"/>
                </a:lnTo>
                <a:lnTo>
                  <a:pt x="3744" y="1598"/>
                </a:lnTo>
                <a:lnTo>
                  <a:pt x="3798" y="1552"/>
                </a:lnTo>
                <a:lnTo>
                  <a:pt x="3842" y="1516"/>
                </a:lnTo>
                <a:lnTo>
                  <a:pt x="3872" y="1488"/>
                </a:lnTo>
                <a:lnTo>
                  <a:pt x="3898" y="1462"/>
                </a:lnTo>
                <a:lnTo>
                  <a:pt x="3898" y="1462"/>
                </a:lnTo>
                <a:lnTo>
                  <a:pt x="3870" y="1442"/>
                </a:lnTo>
                <a:lnTo>
                  <a:pt x="3834" y="1418"/>
                </a:lnTo>
                <a:lnTo>
                  <a:pt x="3788" y="1388"/>
                </a:lnTo>
                <a:lnTo>
                  <a:pt x="3728" y="1352"/>
                </a:lnTo>
                <a:lnTo>
                  <a:pt x="3656" y="1314"/>
                </a:lnTo>
                <a:lnTo>
                  <a:pt x="3576" y="1272"/>
                </a:lnTo>
                <a:lnTo>
                  <a:pt x="3484" y="1228"/>
                </a:lnTo>
                <a:lnTo>
                  <a:pt x="3386" y="1188"/>
                </a:lnTo>
                <a:lnTo>
                  <a:pt x="3332" y="1166"/>
                </a:lnTo>
                <a:lnTo>
                  <a:pt x="3278" y="1148"/>
                </a:lnTo>
                <a:lnTo>
                  <a:pt x="3222" y="1128"/>
                </a:lnTo>
                <a:lnTo>
                  <a:pt x="3164" y="1112"/>
                </a:lnTo>
                <a:lnTo>
                  <a:pt x="3104" y="1096"/>
                </a:lnTo>
                <a:lnTo>
                  <a:pt x="3042" y="1080"/>
                </a:lnTo>
                <a:lnTo>
                  <a:pt x="2980" y="1068"/>
                </a:lnTo>
                <a:lnTo>
                  <a:pt x="2916" y="1056"/>
                </a:lnTo>
                <a:lnTo>
                  <a:pt x="2852" y="1048"/>
                </a:lnTo>
                <a:lnTo>
                  <a:pt x="2784" y="1040"/>
                </a:lnTo>
                <a:lnTo>
                  <a:pt x="2718" y="1036"/>
                </a:lnTo>
                <a:lnTo>
                  <a:pt x="2650" y="1034"/>
                </a:lnTo>
                <a:lnTo>
                  <a:pt x="2580" y="1034"/>
                </a:lnTo>
                <a:lnTo>
                  <a:pt x="2510" y="1038"/>
                </a:lnTo>
                <a:lnTo>
                  <a:pt x="2510" y="1038"/>
                </a:lnTo>
                <a:lnTo>
                  <a:pt x="2464" y="1042"/>
                </a:lnTo>
                <a:lnTo>
                  <a:pt x="2418" y="1048"/>
                </a:lnTo>
                <a:lnTo>
                  <a:pt x="2372" y="1054"/>
                </a:lnTo>
                <a:lnTo>
                  <a:pt x="2326" y="1062"/>
                </a:lnTo>
                <a:lnTo>
                  <a:pt x="2238" y="1082"/>
                </a:lnTo>
                <a:lnTo>
                  <a:pt x="2152" y="1106"/>
                </a:lnTo>
                <a:lnTo>
                  <a:pt x="2152" y="1106"/>
                </a:lnTo>
                <a:lnTo>
                  <a:pt x="2158" y="1098"/>
                </a:lnTo>
                <a:lnTo>
                  <a:pt x="2158" y="1098"/>
                </a:lnTo>
                <a:lnTo>
                  <a:pt x="2192" y="1054"/>
                </a:lnTo>
                <a:lnTo>
                  <a:pt x="2224" y="1010"/>
                </a:lnTo>
                <a:lnTo>
                  <a:pt x="2254" y="966"/>
                </a:lnTo>
                <a:lnTo>
                  <a:pt x="2282" y="920"/>
                </a:lnTo>
                <a:lnTo>
                  <a:pt x="2308" y="872"/>
                </a:lnTo>
                <a:lnTo>
                  <a:pt x="2332" y="826"/>
                </a:lnTo>
                <a:lnTo>
                  <a:pt x="2356" y="780"/>
                </a:lnTo>
                <a:lnTo>
                  <a:pt x="2376" y="732"/>
                </a:lnTo>
                <a:lnTo>
                  <a:pt x="2396" y="686"/>
                </a:lnTo>
                <a:lnTo>
                  <a:pt x="2414" y="640"/>
                </a:lnTo>
                <a:lnTo>
                  <a:pt x="2446" y="548"/>
                </a:lnTo>
                <a:lnTo>
                  <a:pt x="2472" y="460"/>
                </a:lnTo>
                <a:lnTo>
                  <a:pt x="2494" y="376"/>
                </a:lnTo>
                <a:lnTo>
                  <a:pt x="2510" y="298"/>
                </a:lnTo>
                <a:lnTo>
                  <a:pt x="2524" y="226"/>
                </a:lnTo>
                <a:lnTo>
                  <a:pt x="2534" y="162"/>
                </a:lnTo>
                <a:lnTo>
                  <a:pt x="2540" y="108"/>
                </a:lnTo>
                <a:lnTo>
                  <a:pt x="2548" y="28"/>
                </a:lnTo>
                <a:lnTo>
                  <a:pt x="2550" y="0"/>
                </a:lnTo>
                <a:lnTo>
                  <a:pt x="2550" y="0"/>
                </a:lnTo>
                <a:lnTo>
                  <a:pt x="2522" y="6"/>
                </a:lnTo>
                <a:lnTo>
                  <a:pt x="2452" y="24"/>
                </a:lnTo>
                <a:lnTo>
                  <a:pt x="2400" y="40"/>
                </a:lnTo>
                <a:lnTo>
                  <a:pt x="2342" y="60"/>
                </a:lnTo>
                <a:lnTo>
                  <a:pt x="2278" y="84"/>
                </a:lnTo>
                <a:lnTo>
                  <a:pt x="2208" y="112"/>
                </a:lnTo>
                <a:lnTo>
                  <a:pt x="2132" y="148"/>
                </a:lnTo>
                <a:lnTo>
                  <a:pt x="2054" y="188"/>
                </a:lnTo>
                <a:lnTo>
                  <a:pt x="2014" y="210"/>
                </a:lnTo>
                <a:lnTo>
                  <a:pt x="1974" y="234"/>
                </a:lnTo>
                <a:lnTo>
                  <a:pt x="1934" y="260"/>
                </a:lnTo>
                <a:lnTo>
                  <a:pt x="1894" y="288"/>
                </a:lnTo>
                <a:lnTo>
                  <a:pt x="1854" y="316"/>
                </a:lnTo>
                <a:lnTo>
                  <a:pt x="1814" y="346"/>
                </a:lnTo>
                <a:lnTo>
                  <a:pt x="1774" y="380"/>
                </a:lnTo>
                <a:lnTo>
                  <a:pt x="1734" y="414"/>
                </a:lnTo>
                <a:lnTo>
                  <a:pt x="1696" y="450"/>
                </a:lnTo>
                <a:lnTo>
                  <a:pt x="1658" y="488"/>
                </a:lnTo>
                <a:lnTo>
                  <a:pt x="1622" y="528"/>
                </a:lnTo>
                <a:lnTo>
                  <a:pt x="1586" y="570"/>
                </a:lnTo>
                <a:lnTo>
                  <a:pt x="1586" y="570"/>
                </a:lnTo>
                <a:lnTo>
                  <a:pt x="1554" y="610"/>
                </a:lnTo>
                <a:lnTo>
                  <a:pt x="1526" y="648"/>
                </a:lnTo>
                <a:lnTo>
                  <a:pt x="1500" y="688"/>
                </a:lnTo>
                <a:lnTo>
                  <a:pt x="1474" y="730"/>
                </a:lnTo>
                <a:lnTo>
                  <a:pt x="1450" y="770"/>
                </a:lnTo>
                <a:lnTo>
                  <a:pt x="1426" y="812"/>
                </a:lnTo>
                <a:lnTo>
                  <a:pt x="1406" y="852"/>
                </a:lnTo>
                <a:lnTo>
                  <a:pt x="1386" y="894"/>
                </a:lnTo>
                <a:lnTo>
                  <a:pt x="1386" y="894"/>
                </a:lnTo>
                <a:lnTo>
                  <a:pt x="1380" y="860"/>
                </a:lnTo>
                <a:lnTo>
                  <a:pt x="1374" y="826"/>
                </a:lnTo>
                <a:lnTo>
                  <a:pt x="1360" y="760"/>
                </a:lnTo>
                <a:lnTo>
                  <a:pt x="1342" y="698"/>
                </a:lnTo>
                <a:lnTo>
                  <a:pt x="1322" y="638"/>
                </a:lnTo>
                <a:lnTo>
                  <a:pt x="1300" y="580"/>
                </a:lnTo>
                <a:lnTo>
                  <a:pt x="1276" y="528"/>
                </a:lnTo>
                <a:lnTo>
                  <a:pt x="1250" y="478"/>
                </a:lnTo>
                <a:lnTo>
                  <a:pt x="1226" y="432"/>
                </a:lnTo>
                <a:lnTo>
                  <a:pt x="1202" y="392"/>
                </a:lnTo>
                <a:lnTo>
                  <a:pt x="1178" y="356"/>
                </a:lnTo>
                <a:lnTo>
                  <a:pt x="1138" y="298"/>
                </a:lnTo>
                <a:lnTo>
                  <a:pt x="1108" y="260"/>
                </a:lnTo>
                <a:lnTo>
                  <a:pt x="1098" y="248"/>
                </a:lnTo>
                <a:lnTo>
                  <a:pt x="1098" y="248"/>
                </a:lnTo>
                <a:lnTo>
                  <a:pt x="1088" y="264"/>
                </a:lnTo>
                <a:lnTo>
                  <a:pt x="1064" y="306"/>
                </a:lnTo>
                <a:lnTo>
                  <a:pt x="1048" y="338"/>
                </a:lnTo>
                <a:lnTo>
                  <a:pt x="1030" y="376"/>
                </a:lnTo>
                <a:lnTo>
                  <a:pt x="1010" y="418"/>
                </a:lnTo>
                <a:lnTo>
                  <a:pt x="990" y="466"/>
                </a:lnTo>
                <a:lnTo>
                  <a:pt x="972" y="518"/>
                </a:lnTo>
                <a:lnTo>
                  <a:pt x="952" y="574"/>
                </a:lnTo>
                <a:lnTo>
                  <a:pt x="936" y="634"/>
                </a:lnTo>
                <a:lnTo>
                  <a:pt x="922" y="698"/>
                </a:lnTo>
                <a:lnTo>
                  <a:pt x="910" y="764"/>
                </a:lnTo>
                <a:lnTo>
                  <a:pt x="904" y="832"/>
                </a:lnTo>
                <a:lnTo>
                  <a:pt x="902" y="868"/>
                </a:lnTo>
                <a:lnTo>
                  <a:pt x="900" y="904"/>
                </a:lnTo>
                <a:lnTo>
                  <a:pt x="900" y="940"/>
                </a:lnTo>
                <a:lnTo>
                  <a:pt x="902" y="976"/>
                </a:lnTo>
                <a:lnTo>
                  <a:pt x="902" y="976"/>
                </a:lnTo>
                <a:lnTo>
                  <a:pt x="908" y="1034"/>
                </a:lnTo>
                <a:lnTo>
                  <a:pt x="916" y="1088"/>
                </a:lnTo>
                <a:lnTo>
                  <a:pt x="928" y="1142"/>
                </a:lnTo>
                <a:lnTo>
                  <a:pt x="940" y="1192"/>
                </a:lnTo>
                <a:lnTo>
                  <a:pt x="956" y="1242"/>
                </a:lnTo>
                <a:lnTo>
                  <a:pt x="974" y="1290"/>
                </a:lnTo>
                <a:lnTo>
                  <a:pt x="992" y="1336"/>
                </a:lnTo>
                <a:lnTo>
                  <a:pt x="1012" y="1378"/>
                </a:lnTo>
                <a:lnTo>
                  <a:pt x="1030" y="1420"/>
                </a:lnTo>
                <a:lnTo>
                  <a:pt x="1052" y="1458"/>
                </a:lnTo>
                <a:lnTo>
                  <a:pt x="1092" y="1526"/>
                </a:lnTo>
                <a:lnTo>
                  <a:pt x="1128" y="1582"/>
                </a:lnTo>
                <a:lnTo>
                  <a:pt x="1158" y="1626"/>
                </a:lnTo>
                <a:lnTo>
                  <a:pt x="1158" y="1626"/>
                </a:lnTo>
                <a:lnTo>
                  <a:pt x="1156" y="1626"/>
                </a:lnTo>
                <a:lnTo>
                  <a:pt x="1156" y="1626"/>
                </a:lnTo>
                <a:lnTo>
                  <a:pt x="1138" y="1644"/>
                </a:lnTo>
                <a:lnTo>
                  <a:pt x="1118" y="1658"/>
                </a:lnTo>
                <a:lnTo>
                  <a:pt x="1096" y="1672"/>
                </a:lnTo>
                <a:lnTo>
                  <a:pt x="1076" y="1684"/>
                </a:lnTo>
                <a:lnTo>
                  <a:pt x="1032" y="1708"/>
                </a:lnTo>
                <a:lnTo>
                  <a:pt x="988" y="1726"/>
                </a:lnTo>
                <a:lnTo>
                  <a:pt x="942" y="1740"/>
                </a:lnTo>
                <a:lnTo>
                  <a:pt x="896" y="1750"/>
                </a:lnTo>
                <a:lnTo>
                  <a:pt x="848" y="1756"/>
                </a:lnTo>
                <a:lnTo>
                  <a:pt x="800" y="1760"/>
                </a:lnTo>
                <a:lnTo>
                  <a:pt x="752" y="1762"/>
                </a:lnTo>
                <a:lnTo>
                  <a:pt x="706" y="1758"/>
                </a:lnTo>
                <a:lnTo>
                  <a:pt x="658" y="1754"/>
                </a:lnTo>
                <a:lnTo>
                  <a:pt x="612" y="1748"/>
                </a:lnTo>
                <a:lnTo>
                  <a:pt x="568" y="1738"/>
                </a:lnTo>
                <a:lnTo>
                  <a:pt x="526" y="1728"/>
                </a:lnTo>
                <a:lnTo>
                  <a:pt x="484" y="1714"/>
                </a:lnTo>
                <a:lnTo>
                  <a:pt x="446" y="1700"/>
                </a:lnTo>
                <a:lnTo>
                  <a:pt x="446" y="1700"/>
                </a:lnTo>
                <a:lnTo>
                  <a:pt x="410" y="1686"/>
                </a:lnTo>
                <a:lnTo>
                  <a:pt x="376" y="1670"/>
                </a:lnTo>
                <a:lnTo>
                  <a:pt x="344" y="1652"/>
                </a:lnTo>
                <a:lnTo>
                  <a:pt x="314" y="1634"/>
                </a:lnTo>
                <a:lnTo>
                  <a:pt x="286" y="1616"/>
                </a:lnTo>
                <a:lnTo>
                  <a:pt x="258" y="1596"/>
                </a:lnTo>
                <a:lnTo>
                  <a:pt x="234" y="1576"/>
                </a:lnTo>
                <a:lnTo>
                  <a:pt x="210" y="1554"/>
                </a:lnTo>
                <a:lnTo>
                  <a:pt x="190" y="1532"/>
                </a:lnTo>
                <a:lnTo>
                  <a:pt x="172" y="1510"/>
                </a:lnTo>
                <a:lnTo>
                  <a:pt x="156" y="1486"/>
                </a:lnTo>
                <a:lnTo>
                  <a:pt x="142" y="1464"/>
                </a:lnTo>
                <a:lnTo>
                  <a:pt x="130" y="1440"/>
                </a:lnTo>
                <a:lnTo>
                  <a:pt x="120" y="1416"/>
                </a:lnTo>
                <a:lnTo>
                  <a:pt x="114" y="1390"/>
                </a:lnTo>
                <a:lnTo>
                  <a:pt x="110" y="1366"/>
                </a:lnTo>
                <a:lnTo>
                  <a:pt x="110" y="1366"/>
                </a:lnTo>
                <a:lnTo>
                  <a:pt x="108" y="1356"/>
                </a:lnTo>
                <a:lnTo>
                  <a:pt x="104" y="1346"/>
                </a:lnTo>
                <a:lnTo>
                  <a:pt x="98" y="1336"/>
                </a:lnTo>
                <a:lnTo>
                  <a:pt x="90" y="1330"/>
                </a:lnTo>
                <a:lnTo>
                  <a:pt x="82" y="1324"/>
                </a:lnTo>
                <a:lnTo>
                  <a:pt x="72" y="1320"/>
                </a:lnTo>
                <a:lnTo>
                  <a:pt x="60" y="1318"/>
                </a:lnTo>
                <a:lnTo>
                  <a:pt x="50" y="1318"/>
                </a:lnTo>
                <a:lnTo>
                  <a:pt x="50" y="1318"/>
                </a:lnTo>
                <a:lnTo>
                  <a:pt x="38" y="1320"/>
                </a:lnTo>
                <a:lnTo>
                  <a:pt x="28" y="1324"/>
                </a:lnTo>
                <a:lnTo>
                  <a:pt x="20" y="1330"/>
                </a:lnTo>
                <a:lnTo>
                  <a:pt x="12" y="1338"/>
                </a:lnTo>
                <a:lnTo>
                  <a:pt x="6" y="1346"/>
                </a:lnTo>
                <a:lnTo>
                  <a:pt x="2" y="1356"/>
                </a:lnTo>
                <a:lnTo>
                  <a:pt x="0" y="1366"/>
                </a:lnTo>
                <a:lnTo>
                  <a:pt x="0" y="1378"/>
                </a:lnTo>
                <a:lnTo>
                  <a:pt x="0" y="1378"/>
                </a:lnTo>
                <a:lnTo>
                  <a:pt x="6" y="1410"/>
                </a:lnTo>
                <a:lnTo>
                  <a:pt x="14" y="1442"/>
                </a:lnTo>
                <a:lnTo>
                  <a:pt x="24" y="1474"/>
                </a:lnTo>
                <a:lnTo>
                  <a:pt x="38" y="1506"/>
                </a:lnTo>
                <a:lnTo>
                  <a:pt x="56" y="1536"/>
                </a:lnTo>
                <a:lnTo>
                  <a:pt x="74" y="1566"/>
                </a:lnTo>
                <a:lnTo>
                  <a:pt x="96" y="1594"/>
                </a:lnTo>
                <a:lnTo>
                  <a:pt x="122" y="1622"/>
                </a:lnTo>
                <a:lnTo>
                  <a:pt x="148" y="1648"/>
                </a:lnTo>
                <a:lnTo>
                  <a:pt x="178" y="1674"/>
                </a:lnTo>
                <a:lnTo>
                  <a:pt x="210" y="1700"/>
                </a:lnTo>
                <a:lnTo>
                  <a:pt x="246" y="1722"/>
                </a:lnTo>
                <a:lnTo>
                  <a:pt x="282" y="1746"/>
                </a:lnTo>
                <a:lnTo>
                  <a:pt x="322" y="1766"/>
                </a:lnTo>
                <a:lnTo>
                  <a:pt x="362" y="1786"/>
                </a:lnTo>
                <a:lnTo>
                  <a:pt x="406" y="1804"/>
                </a:lnTo>
                <a:lnTo>
                  <a:pt x="406" y="1804"/>
                </a:lnTo>
                <a:lnTo>
                  <a:pt x="444" y="1818"/>
                </a:lnTo>
                <a:lnTo>
                  <a:pt x="484" y="1830"/>
                </a:lnTo>
                <a:lnTo>
                  <a:pt x="528" y="1842"/>
                </a:lnTo>
                <a:lnTo>
                  <a:pt x="572" y="1852"/>
                </a:lnTo>
                <a:lnTo>
                  <a:pt x="616" y="1860"/>
                </a:lnTo>
                <a:lnTo>
                  <a:pt x="662" y="1866"/>
                </a:lnTo>
                <a:lnTo>
                  <a:pt x="710" y="1870"/>
                </a:lnTo>
                <a:lnTo>
                  <a:pt x="758" y="1872"/>
                </a:lnTo>
                <a:lnTo>
                  <a:pt x="806" y="1870"/>
                </a:lnTo>
                <a:lnTo>
                  <a:pt x="854" y="1866"/>
                </a:lnTo>
                <a:lnTo>
                  <a:pt x="902" y="1860"/>
                </a:lnTo>
                <a:lnTo>
                  <a:pt x="950" y="1850"/>
                </a:lnTo>
                <a:lnTo>
                  <a:pt x="998" y="1838"/>
                </a:lnTo>
                <a:lnTo>
                  <a:pt x="1044" y="1822"/>
                </a:lnTo>
                <a:lnTo>
                  <a:pt x="1090" y="1802"/>
                </a:lnTo>
                <a:lnTo>
                  <a:pt x="1134" y="1780"/>
                </a:lnTo>
                <a:lnTo>
                  <a:pt x="1134" y="1780"/>
                </a:lnTo>
                <a:lnTo>
                  <a:pt x="1114" y="1824"/>
                </a:lnTo>
                <a:lnTo>
                  <a:pt x="1092" y="1876"/>
                </a:lnTo>
                <a:lnTo>
                  <a:pt x="1074" y="1934"/>
                </a:lnTo>
                <a:lnTo>
                  <a:pt x="1056" y="1998"/>
                </a:lnTo>
                <a:lnTo>
                  <a:pt x="1042" y="2064"/>
                </a:lnTo>
                <a:lnTo>
                  <a:pt x="1036" y="2098"/>
                </a:lnTo>
                <a:lnTo>
                  <a:pt x="1032" y="2134"/>
                </a:lnTo>
                <a:lnTo>
                  <a:pt x="1028" y="2172"/>
                </a:lnTo>
                <a:lnTo>
                  <a:pt x="1026" y="2208"/>
                </a:lnTo>
                <a:lnTo>
                  <a:pt x="1026" y="2246"/>
                </a:lnTo>
                <a:lnTo>
                  <a:pt x="1028" y="2284"/>
                </a:lnTo>
                <a:lnTo>
                  <a:pt x="1028" y="2284"/>
                </a:lnTo>
                <a:lnTo>
                  <a:pt x="1034" y="2346"/>
                </a:lnTo>
                <a:lnTo>
                  <a:pt x="1044" y="2404"/>
                </a:lnTo>
                <a:lnTo>
                  <a:pt x="1058" y="2462"/>
                </a:lnTo>
                <a:lnTo>
                  <a:pt x="1076" y="2516"/>
                </a:lnTo>
                <a:lnTo>
                  <a:pt x="1094" y="2566"/>
                </a:lnTo>
                <a:lnTo>
                  <a:pt x="1116" y="2616"/>
                </a:lnTo>
                <a:lnTo>
                  <a:pt x="1138" y="2660"/>
                </a:lnTo>
                <a:lnTo>
                  <a:pt x="1160" y="2702"/>
                </a:lnTo>
                <a:lnTo>
                  <a:pt x="1180" y="2738"/>
                </a:lnTo>
                <a:lnTo>
                  <a:pt x="1202" y="2772"/>
                </a:lnTo>
                <a:lnTo>
                  <a:pt x="1238" y="2824"/>
                </a:lnTo>
                <a:lnTo>
                  <a:pt x="1264" y="2858"/>
                </a:lnTo>
                <a:lnTo>
                  <a:pt x="1274" y="2870"/>
                </a:lnTo>
                <a:lnTo>
                  <a:pt x="1274" y="2870"/>
                </a:lnTo>
                <a:lnTo>
                  <a:pt x="1280" y="2858"/>
                </a:lnTo>
                <a:lnTo>
                  <a:pt x="1298" y="2826"/>
                </a:lnTo>
                <a:lnTo>
                  <a:pt x="1324" y="2778"/>
                </a:lnTo>
                <a:lnTo>
                  <a:pt x="1354" y="2712"/>
                </a:lnTo>
                <a:lnTo>
                  <a:pt x="1370" y="2674"/>
                </a:lnTo>
                <a:lnTo>
                  <a:pt x="1384" y="2632"/>
                </a:lnTo>
                <a:lnTo>
                  <a:pt x="1398" y="2588"/>
                </a:lnTo>
                <a:lnTo>
                  <a:pt x="1412" y="2540"/>
                </a:lnTo>
                <a:lnTo>
                  <a:pt x="1422" y="2492"/>
                </a:lnTo>
                <a:lnTo>
                  <a:pt x="1432" y="2440"/>
                </a:lnTo>
                <a:lnTo>
                  <a:pt x="1438" y="2386"/>
                </a:lnTo>
                <a:lnTo>
                  <a:pt x="1440" y="2332"/>
                </a:lnTo>
                <a:lnTo>
                  <a:pt x="1440" y="2332"/>
                </a:lnTo>
                <a:lnTo>
                  <a:pt x="1470" y="2378"/>
                </a:lnTo>
                <a:lnTo>
                  <a:pt x="1500" y="2426"/>
                </a:lnTo>
                <a:lnTo>
                  <a:pt x="1532" y="2474"/>
                </a:lnTo>
                <a:lnTo>
                  <a:pt x="1568" y="2520"/>
                </a:lnTo>
                <a:lnTo>
                  <a:pt x="1604" y="2566"/>
                </a:lnTo>
                <a:lnTo>
                  <a:pt x="1642" y="2610"/>
                </a:lnTo>
                <a:lnTo>
                  <a:pt x="1684" y="2654"/>
                </a:lnTo>
                <a:lnTo>
                  <a:pt x="1728" y="2696"/>
                </a:lnTo>
                <a:lnTo>
                  <a:pt x="1728" y="2696"/>
                </a:lnTo>
                <a:lnTo>
                  <a:pt x="1768" y="2732"/>
                </a:lnTo>
                <a:lnTo>
                  <a:pt x="1810" y="2766"/>
                </a:lnTo>
                <a:lnTo>
                  <a:pt x="1852" y="2798"/>
                </a:lnTo>
                <a:lnTo>
                  <a:pt x="1896" y="2828"/>
                </a:lnTo>
                <a:lnTo>
                  <a:pt x="1940" y="2856"/>
                </a:lnTo>
                <a:lnTo>
                  <a:pt x="1984" y="2882"/>
                </a:lnTo>
                <a:lnTo>
                  <a:pt x="2026" y="2906"/>
                </a:lnTo>
                <a:lnTo>
                  <a:pt x="2070" y="2930"/>
                </a:lnTo>
                <a:lnTo>
                  <a:pt x="2114" y="2950"/>
                </a:lnTo>
                <a:lnTo>
                  <a:pt x="2158" y="2970"/>
                </a:lnTo>
                <a:lnTo>
                  <a:pt x="2200" y="2988"/>
                </a:lnTo>
                <a:lnTo>
                  <a:pt x="2244" y="3004"/>
                </a:lnTo>
                <a:lnTo>
                  <a:pt x="2326" y="3032"/>
                </a:lnTo>
                <a:lnTo>
                  <a:pt x="2404" y="3054"/>
                </a:lnTo>
                <a:lnTo>
                  <a:pt x="2478" y="3072"/>
                </a:lnTo>
                <a:lnTo>
                  <a:pt x="2546" y="3086"/>
                </a:lnTo>
                <a:lnTo>
                  <a:pt x="2606" y="3098"/>
                </a:lnTo>
                <a:lnTo>
                  <a:pt x="2658" y="3104"/>
                </a:lnTo>
                <a:lnTo>
                  <a:pt x="2730" y="3112"/>
                </a:lnTo>
                <a:lnTo>
                  <a:pt x="2758" y="3114"/>
                </a:lnTo>
                <a:lnTo>
                  <a:pt x="2758" y="3114"/>
                </a:lnTo>
                <a:lnTo>
                  <a:pt x="2752" y="3086"/>
                </a:lnTo>
                <a:lnTo>
                  <a:pt x="2734" y="3010"/>
                </a:lnTo>
                <a:lnTo>
                  <a:pt x="2720" y="2956"/>
                </a:lnTo>
                <a:lnTo>
                  <a:pt x="2702" y="2894"/>
                </a:lnTo>
                <a:lnTo>
                  <a:pt x="2680" y="2824"/>
                </a:lnTo>
                <a:lnTo>
                  <a:pt x="2652" y="2750"/>
                </a:lnTo>
                <a:lnTo>
                  <a:pt x="2620" y="2670"/>
                </a:lnTo>
                <a:lnTo>
                  <a:pt x="2582" y="2586"/>
                </a:lnTo>
                <a:lnTo>
                  <a:pt x="2538" y="2502"/>
                </a:lnTo>
                <a:lnTo>
                  <a:pt x="2514" y="2458"/>
                </a:lnTo>
                <a:lnTo>
                  <a:pt x="2488" y="2416"/>
                </a:lnTo>
                <a:lnTo>
                  <a:pt x="2462" y="2372"/>
                </a:lnTo>
                <a:lnTo>
                  <a:pt x="2432" y="2330"/>
                </a:lnTo>
                <a:lnTo>
                  <a:pt x="2402" y="2286"/>
                </a:lnTo>
                <a:lnTo>
                  <a:pt x="2370" y="2244"/>
                </a:lnTo>
                <a:lnTo>
                  <a:pt x="2336" y="2204"/>
                </a:lnTo>
                <a:lnTo>
                  <a:pt x="2300" y="2164"/>
                </a:lnTo>
                <a:lnTo>
                  <a:pt x="2262" y="2124"/>
                </a:lnTo>
                <a:lnTo>
                  <a:pt x="2224" y="2086"/>
                </a:lnTo>
                <a:lnTo>
                  <a:pt x="2224" y="2086"/>
                </a:lnTo>
                <a:close/>
              </a:path>
            </a:pathLst>
          </a:custGeom>
          <a:solidFill>
            <a:srgbClr val="ea69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グループ化 24"/>
          <p:cNvGrpSpPr/>
          <p:nvPr/>
        </p:nvGrpSpPr>
        <p:grpSpPr>
          <a:xfrm>
            <a:off x="37071360" y="4441680"/>
            <a:ext cx="5003640" cy="5740560"/>
            <a:chOff x="37071360" y="4441680"/>
            <a:chExt cx="5003640" cy="5740560"/>
          </a:xfrm>
        </p:grpSpPr>
        <p:sp>
          <p:nvSpPr>
            <p:cNvPr id="58" name="Freeform 5"/>
            <p:cNvSpPr/>
            <p:nvPr/>
          </p:nvSpPr>
          <p:spPr>
            <a:xfrm>
              <a:off x="37827000" y="6572160"/>
              <a:ext cx="2714400" cy="2114640"/>
            </a:xfrm>
            <a:custGeom>
              <a:avLst/>
              <a:gdLst>
                <a:gd name="textAreaLeft" fmla="*/ 0 w 2714400"/>
                <a:gd name="textAreaRight" fmla="*/ 2714400 w 2714400"/>
                <a:gd name="textAreaTop" fmla="*/ 0 h 2114640"/>
                <a:gd name="textAreaBottom" fmla="*/ 2115000 h 2114640"/>
              </a:gdLst>
              <a:ahLst/>
              <a:rect l="textAreaLeft" t="textAreaTop" r="textAreaRight" b="textAreaBottom"/>
              <a:pathLst>
                <a:path w="1710" h="1332">
                  <a:moveTo>
                    <a:pt x="0" y="0"/>
                  </a:moveTo>
                  <a:lnTo>
                    <a:pt x="0" y="0"/>
                  </a:lnTo>
                  <a:lnTo>
                    <a:pt x="2" y="76"/>
                  </a:lnTo>
                  <a:lnTo>
                    <a:pt x="8" y="152"/>
                  </a:lnTo>
                  <a:lnTo>
                    <a:pt x="18" y="228"/>
                  </a:lnTo>
                  <a:lnTo>
                    <a:pt x="32" y="304"/>
                  </a:lnTo>
                  <a:lnTo>
                    <a:pt x="50" y="378"/>
                  </a:lnTo>
                  <a:lnTo>
                    <a:pt x="74" y="450"/>
                  </a:lnTo>
                  <a:lnTo>
                    <a:pt x="102" y="522"/>
                  </a:lnTo>
                  <a:lnTo>
                    <a:pt x="132" y="592"/>
                  </a:lnTo>
                  <a:lnTo>
                    <a:pt x="168" y="660"/>
                  </a:lnTo>
                  <a:lnTo>
                    <a:pt x="208" y="726"/>
                  </a:lnTo>
                  <a:lnTo>
                    <a:pt x="252" y="790"/>
                  </a:lnTo>
                  <a:lnTo>
                    <a:pt x="300" y="852"/>
                  </a:lnTo>
                  <a:lnTo>
                    <a:pt x="352" y="912"/>
                  </a:lnTo>
                  <a:lnTo>
                    <a:pt x="380" y="940"/>
                  </a:lnTo>
                  <a:lnTo>
                    <a:pt x="408" y="968"/>
                  </a:lnTo>
                  <a:lnTo>
                    <a:pt x="438" y="996"/>
                  </a:lnTo>
                  <a:lnTo>
                    <a:pt x="468" y="1022"/>
                  </a:lnTo>
                  <a:lnTo>
                    <a:pt x="500" y="1048"/>
                  </a:lnTo>
                  <a:lnTo>
                    <a:pt x="532" y="1074"/>
                  </a:lnTo>
                  <a:lnTo>
                    <a:pt x="532" y="1074"/>
                  </a:lnTo>
                  <a:lnTo>
                    <a:pt x="566" y="1096"/>
                  </a:lnTo>
                  <a:lnTo>
                    <a:pt x="600" y="1120"/>
                  </a:lnTo>
                  <a:lnTo>
                    <a:pt x="634" y="1140"/>
                  </a:lnTo>
                  <a:lnTo>
                    <a:pt x="668" y="1162"/>
                  </a:lnTo>
                  <a:lnTo>
                    <a:pt x="704" y="1180"/>
                  </a:lnTo>
                  <a:lnTo>
                    <a:pt x="738" y="1198"/>
                  </a:lnTo>
                  <a:lnTo>
                    <a:pt x="810" y="1230"/>
                  </a:lnTo>
                  <a:lnTo>
                    <a:pt x="884" y="1258"/>
                  </a:lnTo>
                  <a:lnTo>
                    <a:pt x="958" y="1282"/>
                  </a:lnTo>
                  <a:lnTo>
                    <a:pt x="1032" y="1302"/>
                  </a:lnTo>
                  <a:lnTo>
                    <a:pt x="1108" y="1316"/>
                  </a:lnTo>
                  <a:lnTo>
                    <a:pt x="1184" y="1326"/>
                  </a:lnTo>
                  <a:lnTo>
                    <a:pt x="1260" y="1330"/>
                  </a:lnTo>
                  <a:lnTo>
                    <a:pt x="1336" y="1332"/>
                  </a:lnTo>
                  <a:lnTo>
                    <a:pt x="1412" y="1328"/>
                  </a:lnTo>
                  <a:lnTo>
                    <a:pt x="1488" y="1320"/>
                  </a:lnTo>
                  <a:lnTo>
                    <a:pt x="1562" y="1308"/>
                  </a:lnTo>
                  <a:lnTo>
                    <a:pt x="1636" y="1292"/>
                  </a:lnTo>
                  <a:lnTo>
                    <a:pt x="1710" y="1272"/>
                  </a:lnTo>
                </a:path>
              </a:pathLst>
            </a:custGeom>
            <a:noFill/>
            <a:ln w="73080">
              <a:solidFill>
                <a:srgbClr val="c6a8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38645640" y="7388280"/>
              <a:ext cx="641160" cy="866520"/>
            </a:xfrm>
            <a:prstGeom prst="line">
              <a:avLst/>
            </a:prstGeom>
            <a:ln w="73080">
              <a:solidFill>
                <a:srgbClr val="c6a8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38433240" y="7051680"/>
              <a:ext cx="158400" cy="1066680"/>
            </a:xfrm>
            <a:prstGeom prst="line">
              <a:avLst/>
            </a:prstGeom>
            <a:ln w="73080">
              <a:solidFill>
                <a:srgbClr val="c6a8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H="1">
              <a:off x="38795040" y="8109000"/>
              <a:ext cx="1066680" cy="158760"/>
            </a:xfrm>
            <a:prstGeom prst="line">
              <a:avLst/>
            </a:prstGeom>
            <a:ln w="73080">
              <a:solidFill>
                <a:srgbClr val="c6a8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9"/>
            <p:cNvSpPr/>
            <p:nvPr/>
          </p:nvSpPr>
          <p:spPr>
            <a:xfrm>
              <a:off x="37725120" y="4441680"/>
              <a:ext cx="4349880" cy="4251600"/>
            </a:xfrm>
            <a:custGeom>
              <a:avLst/>
              <a:gdLst>
                <a:gd name="textAreaLeft" fmla="*/ 0 w 4349880"/>
                <a:gd name="textAreaRight" fmla="*/ 4350240 w 4349880"/>
                <a:gd name="textAreaTop" fmla="*/ 0 h 4251600"/>
                <a:gd name="textAreaBottom" fmla="*/ 4251960 h 4251600"/>
              </a:gdLst>
              <a:ahLst/>
              <a:rect l="textAreaLeft" t="textAreaTop" r="textAreaRight" b="textAreaBottom"/>
              <a:pathLst>
                <a:path w="2740" h="2678">
                  <a:moveTo>
                    <a:pt x="1780" y="2678"/>
                  </a:moveTo>
                  <a:lnTo>
                    <a:pt x="1780" y="2678"/>
                  </a:lnTo>
                  <a:lnTo>
                    <a:pt x="1830" y="2662"/>
                  </a:lnTo>
                  <a:lnTo>
                    <a:pt x="1878" y="2642"/>
                  </a:lnTo>
                  <a:lnTo>
                    <a:pt x="1928" y="2622"/>
                  </a:lnTo>
                  <a:lnTo>
                    <a:pt x="1976" y="2600"/>
                  </a:lnTo>
                  <a:lnTo>
                    <a:pt x="2022" y="2576"/>
                  </a:lnTo>
                  <a:lnTo>
                    <a:pt x="2068" y="2550"/>
                  </a:lnTo>
                  <a:lnTo>
                    <a:pt x="2114" y="2522"/>
                  </a:lnTo>
                  <a:lnTo>
                    <a:pt x="2158" y="2492"/>
                  </a:lnTo>
                  <a:lnTo>
                    <a:pt x="2202" y="2460"/>
                  </a:lnTo>
                  <a:lnTo>
                    <a:pt x="2244" y="2426"/>
                  </a:lnTo>
                  <a:lnTo>
                    <a:pt x="2284" y="2390"/>
                  </a:lnTo>
                  <a:lnTo>
                    <a:pt x="2324" y="2354"/>
                  </a:lnTo>
                  <a:lnTo>
                    <a:pt x="2364" y="2314"/>
                  </a:lnTo>
                  <a:lnTo>
                    <a:pt x="2400" y="2274"/>
                  </a:lnTo>
                  <a:lnTo>
                    <a:pt x="2436" y="2230"/>
                  </a:lnTo>
                  <a:lnTo>
                    <a:pt x="2470" y="2186"/>
                  </a:lnTo>
                  <a:lnTo>
                    <a:pt x="2470" y="2186"/>
                  </a:lnTo>
                  <a:lnTo>
                    <a:pt x="2512" y="2128"/>
                  </a:lnTo>
                  <a:lnTo>
                    <a:pt x="2548" y="2068"/>
                  </a:lnTo>
                  <a:lnTo>
                    <a:pt x="2582" y="2008"/>
                  </a:lnTo>
                  <a:lnTo>
                    <a:pt x="2614" y="1948"/>
                  </a:lnTo>
                  <a:lnTo>
                    <a:pt x="2640" y="1884"/>
                  </a:lnTo>
                  <a:lnTo>
                    <a:pt x="2664" y="1822"/>
                  </a:lnTo>
                  <a:lnTo>
                    <a:pt x="2684" y="1758"/>
                  </a:lnTo>
                  <a:lnTo>
                    <a:pt x="2702" y="1692"/>
                  </a:lnTo>
                  <a:lnTo>
                    <a:pt x="2716" y="1628"/>
                  </a:lnTo>
                  <a:lnTo>
                    <a:pt x="2728" y="1562"/>
                  </a:lnTo>
                  <a:lnTo>
                    <a:pt x="2734" y="1496"/>
                  </a:lnTo>
                  <a:lnTo>
                    <a:pt x="2740" y="1430"/>
                  </a:lnTo>
                  <a:lnTo>
                    <a:pt x="2740" y="1364"/>
                  </a:lnTo>
                  <a:lnTo>
                    <a:pt x="2738" y="1298"/>
                  </a:lnTo>
                  <a:lnTo>
                    <a:pt x="2734" y="1234"/>
                  </a:lnTo>
                  <a:lnTo>
                    <a:pt x="2726" y="1168"/>
                  </a:lnTo>
                  <a:lnTo>
                    <a:pt x="2714" y="1104"/>
                  </a:lnTo>
                  <a:lnTo>
                    <a:pt x="2700" y="1040"/>
                  </a:lnTo>
                  <a:lnTo>
                    <a:pt x="2682" y="976"/>
                  </a:lnTo>
                  <a:lnTo>
                    <a:pt x="2662" y="912"/>
                  </a:lnTo>
                  <a:lnTo>
                    <a:pt x="2638" y="852"/>
                  </a:lnTo>
                  <a:lnTo>
                    <a:pt x="2612" y="790"/>
                  </a:lnTo>
                  <a:lnTo>
                    <a:pt x="2582" y="730"/>
                  </a:lnTo>
                  <a:lnTo>
                    <a:pt x="2550" y="672"/>
                  </a:lnTo>
                  <a:lnTo>
                    <a:pt x="2514" y="616"/>
                  </a:lnTo>
                  <a:lnTo>
                    <a:pt x="2476" y="560"/>
                  </a:lnTo>
                  <a:lnTo>
                    <a:pt x="2436" y="508"/>
                  </a:lnTo>
                  <a:lnTo>
                    <a:pt x="2392" y="456"/>
                  </a:lnTo>
                  <a:lnTo>
                    <a:pt x="2344" y="406"/>
                  </a:lnTo>
                  <a:lnTo>
                    <a:pt x="2294" y="358"/>
                  </a:lnTo>
                  <a:lnTo>
                    <a:pt x="2242" y="312"/>
                  </a:lnTo>
                  <a:lnTo>
                    <a:pt x="2186" y="268"/>
                  </a:lnTo>
                  <a:lnTo>
                    <a:pt x="2186" y="268"/>
                  </a:lnTo>
                  <a:lnTo>
                    <a:pt x="2128" y="228"/>
                  </a:lnTo>
                  <a:lnTo>
                    <a:pt x="2068" y="190"/>
                  </a:lnTo>
                  <a:lnTo>
                    <a:pt x="2008" y="156"/>
                  </a:lnTo>
                  <a:lnTo>
                    <a:pt x="1948" y="126"/>
                  </a:lnTo>
                  <a:lnTo>
                    <a:pt x="1884" y="100"/>
                  </a:lnTo>
                  <a:lnTo>
                    <a:pt x="1822" y="76"/>
                  </a:lnTo>
                  <a:lnTo>
                    <a:pt x="1758" y="54"/>
                  </a:lnTo>
                  <a:lnTo>
                    <a:pt x="1694" y="38"/>
                  </a:lnTo>
                  <a:lnTo>
                    <a:pt x="1628" y="24"/>
                  </a:lnTo>
                  <a:lnTo>
                    <a:pt x="1562" y="12"/>
                  </a:lnTo>
                  <a:lnTo>
                    <a:pt x="1496" y="4"/>
                  </a:lnTo>
                  <a:lnTo>
                    <a:pt x="1430" y="0"/>
                  </a:lnTo>
                  <a:lnTo>
                    <a:pt x="1364" y="0"/>
                  </a:lnTo>
                  <a:lnTo>
                    <a:pt x="1300" y="2"/>
                  </a:lnTo>
                  <a:lnTo>
                    <a:pt x="1234" y="6"/>
                  </a:lnTo>
                  <a:lnTo>
                    <a:pt x="1168" y="14"/>
                  </a:lnTo>
                  <a:lnTo>
                    <a:pt x="1104" y="26"/>
                  </a:lnTo>
                  <a:lnTo>
                    <a:pt x="1040" y="40"/>
                  </a:lnTo>
                  <a:lnTo>
                    <a:pt x="976" y="58"/>
                  </a:lnTo>
                  <a:lnTo>
                    <a:pt x="912" y="78"/>
                  </a:lnTo>
                  <a:lnTo>
                    <a:pt x="852" y="100"/>
                  </a:lnTo>
                  <a:lnTo>
                    <a:pt x="790" y="128"/>
                  </a:lnTo>
                  <a:lnTo>
                    <a:pt x="732" y="156"/>
                  </a:lnTo>
                  <a:lnTo>
                    <a:pt x="672" y="190"/>
                  </a:lnTo>
                  <a:lnTo>
                    <a:pt x="616" y="224"/>
                  </a:lnTo>
                  <a:lnTo>
                    <a:pt x="560" y="264"/>
                  </a:lnTo>
                  <a:lnTo>
                    <a:pt x="508" y="304"/>
                  </a:lnTo>
                  <a:lnTo>
                    <a:pt x="456" y="348"/>
                  </a:lnTo>
                  <a:lnTo>
                    <a:pt x="406" y="396"/>
                  </a:lnTo>
                  <a:lnTo>
                    <a:pt x="358" y="446"/>
                  </a:lnTo>
                  <a:lnTo>
                    <a:pt x="312" y="498"/>
                  </a:lnTo>
                  <a:lnTo>
                    <a:pt x="268" y="554"/>
                  </a:lnTo>
                  <a:lnTo>
                    <a:pt x="268" y="554"/>
                  </a:lnTo>
                  <a:lnTo>
                    <a:pt x="236" y="600"/>
                  </a:lnTo>
                  <a:lnTo>
                    <a:pt x="206" y="646"/>
                  </a:lnTo>
                  <a:lnTo>
                    <a:pt x="178" y="694"/>
                  </a:lnTo>
                  <a:lnTo>
                    <a:pt x="152" y="742"/>
                  </a:lnTo>
                  <a:lnTo>
                    <a:pt x="128" y="790"/>
                  </a:lnTo>
                  <a:lnTo>
                    <a:pt x="106" y="840"/>
                  </a:lnTo>
                  <a:lnTo>
                    <a:pt x="86" y="890"/>
                  </a:lnTo>
                  <a:lnTo>
                    <a:pt x="68" y="940"/>
                  </a:lnTo>
                  <a:lnTo>
                    <a:pt x="52" y="990"/>
                  </a:lnTo>
                  <a:lnTo>
                    <a:pt x="38" y="1042"/>
                  </a:lnTo>
                  <a:lnTo>
                    <a:pt x="28" y="1094"/>
                  </a:lnTo>
                  <a:lnTo>
                    <a:pt x="18" y="1146"/>
                  </a:lnTo>
                  <a:lnTo>
                    <a:pt x="10" y="1198"/>
                  </a:lnTo>
                  <a:lnTo>
                    <a:pt x="4" y="1250"/>
                  </a:lnTo>
                  <a:lnTo>
                    <a:pt x="0" y="1302"/>
                  </a:lnTo>
                  <a:lnTo>
                    <a:pt x="0" y="1354"/>
                  </a:lnTo>
                  <a:lnTo>
                    <a:pt x="1780" y="267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38436480" y="4898880"/>
              <a:ext cx="3130560" cy="3146400"/>
            </a:xfrm>
            <a:custGeom>
              <a:avLst/>
              <a:gdLst>
                <a:gd name="textAreaLeft" fmla="*/ 0 w 3130560"/>
                <a:gd name="textAreaRight" fmla="*/ 3130920 w 313056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1972" h="1982">
                  <a:moveTo>
                    <a:pt x="464" y="1096"/>
                  </a:moveTo>
                  <a:lnTo>
                    <a:pt x="464" y="1096"/>
                  </a:lnTo>
                  <a:lnTo>
                    <a:pt x="652" y="1206"/>
                  </a:lnTo>
                  <a:lnTo>
                    <a:pt x="558" y="1338"/>
                  </a:lnTo>
                  <a:lnTo>
                    <a:pt x="558" y="1338"/>
                  </a:lnTo>
                  <a:lnTo>
                    <a:pt x="548" y="1348"/>
                  </a:lnTo>
                  <a:lnTo>
                    <a:pt x="540" y="1354"/>
                  </a:lnTo>
                  <a:lnTo>
                    <a:pt x="532" y="1360"/>
                  </a:lnTo>
                  <a:lnTo>
                    <a:pt x="522" y="1362"/>
                  </a:lnTo>
                  <a:lnTo>
                    <a:pt x="514" y="1364"/>
                  </a:lnTo>
                  <a:lnTo>
                    <a:pt x="504" y="1362"/>
                  </a:lnTo>
                  <a:lnTo>
                    <a:pt x="494" y="1358"/>
                  </a:lnTo>
                  <a:lnTo>
                    <a:pt x="484" y="1352"/>
                  </a:lnTo>
                  <a:lnTo>
                    <a:pt x="484" y="1352"/>
                  </a:lnTo>
                  <a:lnTo>
                    <a:pt x="468" y="1338"/>
                  </a:lnTo>
                  <a:lnTo>
                    <a:pt x="438" y="1308"/>
                  </a:lnTo>
                  <a:lnTo>
                    <a:pt x="344" y="1210"/>
                  </a:lnTo>
                  <a:lnTo>
                    <a:pt x="344" y="1210"/>
                  </a:lnTo>
                  <a:lnTo>
                    <a:pt x="366" y="1192"/>
                  </a:lnTo>
                  <a:lnTo>
                    <a:pt x="386" y="1176"/>
                  </a:lnTo>
                  <a:lnTo>
                    <a:pt x="404" y="1158"/>
                  </a:lnTo>
                  <a:lnTo>
                    <a:pt x="420" y="1140"/>
                  </a:lnTo>
                  <a:lnTo>
                    <a:pt x="420" y="1140"/>
                  </a:lnTo>
                  <a:lnTo>
                    <a:pt x="436" y="1114"/>
                  </a:lnTo>
                  <a:lnTo>
                    <a:pt x="450" y="1088"/>
                  </a:lnTo>
                  <a:lnTo>
                    <a:pt x="450" y="1088"/>
                  </a:lnTo>
                  <a:lnTo>
                    <a:pt x="464" y="1096"/>
                  </a:lnTo>
                  <a:lnTo>
                    <a:pt x="464" y="1096"/>
                  </a:lnTo>
                  <a:close/>
                  <a:moveTo>
                    <a:pt x="1022" y="18"/>
                  </a:moveTo>
                  <a:lnTo>
                    <a:pt x="1008" y="32"/>
                  </a:lnTo>
                  <a:lnTo>
                    <a:pt x="1008" y="32"/>
                  </a:lnTo>
                  <a:lnTo>
                    <a:pt x="1002" y="38"/>
                  </a:lnTo>
                  <a:lnTo>
                    <a:pt x="994" y="42"/>
                  </a:lnTo>
                  <a:lnTo>
                    <a:pt x="970" y="50"/>
                  </a:lnTo>
                  <a:lnTo>
                    <a:pt x="938" y="58"/>
                  </a:lnTo>
                  <a:lnTo>
                    <a:pt x="898" y="62"/>
                  </a:lnTo>
                  <a:lnTo>
                    <a:pt x="898" y="62"/>
                  </a:lnTo>
                  <a:lnTo>
                    <a:pt x="864" y="66"/>
                  </a:lnTo>
                  <a:lnTo>
                    <a:pt x="830" y="68"/>
                  </a:lnTo>
                  <a:lnTo>
                    <a:pt x="800" y="68"/>
                  </a:lnTo>
                  <a:lnTo>
                    <a:pt x="774" y="68"/>
                  </a:lnTo>
                  <a:lnTo>
                    <a:pt x="748" y="66"/>
                  </a:lnTo>
                  <a:lnTo>
                    <a:pt x="724" y="62"/>
                  </a:lnTo>
                  <a:lnTo>
                    <a:pt x="702" y="56"/>
                  </a:lnTo>
                  <a:lnTo>
                    <a:pt x="684" y="50"/>
                  </a:lnTo>
                  <a:lnTo>
                    <a:pt x="684" y="50"/>
                  </a:lnTo>
                  <a:lnTo>
                    <a:pt x="680" y="48"/>
                  </a:lnTo>
                  <a:lnTo>
                    <a:pt x="674" y="48"/>
                  </a:lnTo>
                  <a:lnTo>
                    <a:pt x="670" y="48"/>
                  </a:lnTo>
                  <a:lnTo>
                    <a:pt x="664" y="50"/>
                  </a:lnTo>
                  <a:lnTo>
                    <a:pt x="654" y="56"/>
                  </a:lnTo>
                  <a:lnTo>
                    <a:pt x="644" y="68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4"/>
                  </a:lnTo>
                  <a:lnTo>
                    <a:pt x="634" y="94"/>
                  </a:lnTo>
                  <a:lnTo>
                    <a:pt x="632" y="106"/>
                  </a:lnTo>
                  <a:lnTo>
                    <a:pt x="632" y="132"/>
                  </a:lnTo>
                  <a:lnTo>
                    <a:pt x="638" y="164"/>
                  </a:lnTo>
                  <a:lnTo>
                    <a:pt x="638" y="164"/>
                  </a:lnTo>
                  <a:lnTo>
                    <a:pt x="648" y="196"/>
                  </a:lnTo>
                  <a:lnTo>
                    <a:pt x="662" y="226"/>
                  </a:lnTo>
                  <a:lnTo>
                    <a:pt x="662" y="226"/>
                  </a:lnTo>
                  <a:lnTo>
                    <a:pt x="662" y="234"/>
                  </a:lnTo>
                  <a:lnTo>
                    <a:pt x="664" y="242"/>
                  </a:lnTo>
                  <a:lnTo>
                    <a:pt x="664" y="242"/>
                  </a:lnTo>
                  <a:lnTo>
                    <a:pt x="664" y="272"/>
                  </a:lnTo>
                  <a:lnTo>
                    <a:pt x="662" y="304"/>
                  </a:lnTo>
                  <a:lnTo>
                    <a:pt x="658" y="338"/>
                  </a:lnTo>
                  <a:lnTo>
                    <a:pt x="652" y="376"/>
                  </a:lnTo>
                  <a:lnTo>
                    <a:pt x="652" y="376"/>
                  </a:lnTo>
                  <a:lnTo>
                    <a:pt x="650" y="392"/>
                  </a:lnTo>
                  <a:lnTo>
                    <a:pt x="650" y="406"/>
                  </a:lnTo>
                  <a:lnTo>
                    <a:pt x="650" y="406"/>
                  </a:lnTo>
                  <a:lnTo>
                    <a:pt x="574" y="386"/>
                  </a:lnTo>
                  <a:lnTo>
                    <a:pt x="498" y="362"/>
                  </a:lnTo>
                  <a:lnTo>
                    <a:pt x="498" y="362"/>
                  </a:lnTo>
                  <a:lnTo>
                    <a:pt x="484" y="360"/>
                  </a:lnTo>
                  <a:lnTo>
                    <a:pt x="470" y="358"/>
                  </a:lnTo>
                  <a:lnTo>
                    <a:pt x="458" y="358"/>
                  </a:lnTo>
                  <a:lnTo>
                    <a:pt x="446" y="360"/>
                  </a:lnTo>
                  <a:lnTo>
                    <a:pt x="436" y="364"/>
                  </a:lnTo>
                  <a:lnTo>
                    <a:pt x="426" y="368"/>
                  </a:lnTo>
                  <a:lnTo>
                    <a:pt x="416" y="376"/>
                  </a:lnTo>
                  <a:lnTo>
                    <a:pt x="408" y="386"/>
                  </a:lnTo>
                  <a:lnTo>
                    <a:pt x="408" y="386"/>
                  </a:lnTo>
                  <a:lnTo>
                    <a:pt x="404" y="394"/>
                  </a:lnTo>
                  <a:lnTo>
                    <a:pt x="400" y="404"/>
                  </a:lnTo>
                  <a:lnTo>
                    <a:pt x="398" y="414"/>
                  </a:lnTo>
                  <a:lnTo>
                    <a:pt x="398" y="424"/>
                  </a:lnTo>
                  <a:lnTo>
                    <a:pt x="400" y="438"/>
                  </a:lnTo>
                  <a:lnTo>
                    <a:pt x="402" y="450"/>
                  </a:lnTo>
                  <a:lnTo>
                    <a:pt x="414" y="480"/>
                  </a:lnTo>
                  <a:lnTo>
                    <a:pt x="414" y="480"/>
                  </a:lnTo>
                  <a:lnTo>
                    <a:pt x="420" y="502"/>
                  </a:lnTo>
                  <a:lnTo>
                    <a:pt x="430" y="520"/>
                  </a:lnTo>
                  <a:lnTo>
                    <a:pt x="438" y="538"/>
                  </a:lnTo>
                  <a:lnTo>
                    <a:pt x="448" y="556"/>
                  </a:lnTo>
                  <a:lnTo>
                    <a:pt x="458" y="572"/>
                  </a:lnTo>
                  <a:lnTo>
                    <a:pt x="470" y="586"/>
                  </a:lnTo>
                  <a:lnTo>
                    <a:pt x="482" y="598"/>
                  </a:lnTo>
                  <a:lnTo>
                    <a:pt x="496" y="610"/>
                  </a:lnTo>
                  <a:lnTo>
                    <a:pt x="496" y="610"/>
                  </a:lnTo>
                  <a:lnTo>
                    <a:pt x="490" y="614"/>
                  </a:lnTo>
                  <a:lnTo>
                    <a:pt x="484" y="620"/>
                  </a:lnTo>
                  <a:lnTo>
                    <a:pt x="484" y="620"/>
                  </a:lnTo>
                  <a:lnTo>
                    <a:pt x="480" y="626"/>
                  </a:lnTo>
                  <a:lnTo>
                    <a:pt x="478" y="634"/>
                  </a:lnTo>
                  <a:lnTo>
                    <a:pt x="478" y="642"/>
                  </a:lnTo>
                  <a:lnTo>
                    <a:pt x="478" y="652"/>
                  </a:lnTo>
                  <a:lnTo>
                    <a:pt x="480" y="662"/>
                  </a:lnTo>
                  <a:lnTo>
                    <a:pt x="484" y="674"/>
                  </a:lnTo>
                  <a:lnTo>
                    <a:pt x="496" y="698"/>
                  </a:lnTo>
                  <a:lnTo>
                    <a:pt x="496" y="698"/>
                  </a:lnTo>
                  <a:lnTo>
                    <a:pt x="508" y="718"/>
                  </a:lnTo>
                  <a:lnTo>
                    <a:pt x="522" y="738"/>
                  </a:lnTo>
                  <a:lnTo>
                    <a:pt x="540" y="758"/>
                  </a:lnTo>
                  <a:lnTo>
                    <a:pt x="560" y="778"/>
                  </a:lnTo>
                  <a:lnTo>
                    <a:pt x="560" y="778"/>
                  </a:lnTo>
                  <a:lnTo>
                    <a:pt x="488" y="752"/>
                  </a:lnTo>
                  <a:lnTo>
                    <a:pt x="424" y="732"/>
                  </a:lnTo>
                  <a:lnTo>
                    <a:pt x="368" y="716"/>
                  </a:lnTo>
                  <a:lnTo>
                    <a:pt x="320" y="708"/>
                  </a:lnTo>
                  <a:lnTo>
                    <a:pt x="282" y="702"/>
                  </a:lnTo>
                  <a:lnTo>
                    <a:pt x="264" y="702"/>
                  </a:lnTo>
                  <a:lnTo>
                    <a:pt x="250" y="704"/>
                  </a:lnTo>
                  <a:lnTo>
                    <a:pt x="238" y="706"/>
                  </a:lnTo>
                  <a:lnTo>
                    <a:pt x="228" y="710"/>
                  </a:lnTo>
                  <a:lnTo>
                    <a:pt x="218" y="716"/>
                  </a:lnTo>
                  <a:lnTo>
                    <a:pt x="212" y="722"/>
                  </a:lnTo>
                  <a:lnTo>
                    <a:pt x="212" y="722"/>
                  </a:lnTo>
                  <a:lnTo>
                    <a:pt x="204" y="734"/>
                  </a:lnTo>
                  <a:lnTo>
                    <a:pt x="198" y="748"/>
                  </a:lnTo>
                  <a:lnTo>
                    <a:pt x="192" y="764"/>
                  </a:lnTo>
                  <a:lnTo>
                    <a:pt x="190" y="780"/>
                  </a:lnTo>
                  <a:lnTo>
                    <a:pt x="188" y="796"/>
                  </a:lnTo>
                  <a:lnTo>
                    <a:pt x="188" y="814"/>
                  </a:lnTo>
                  <a:lnTo>
                    <a:pt x="188" y="834"/>
                  </a:lnTo>
                  <a:lnTo>
                    <a:pt x="192" y="854"/>
                  </a:lnTo>
                  <a:lnTo>
                    <a:pt x="192" y="854"/>
                  </a:lnTo>
                  <a:lnTo>
                    <a:pt x="198" y="872"/>
                  </a:lnTo>
                  <a:lnTo>
                    <a:pt x="204" y="888"/>
                  </a:lnTo>
                  <a:lnTo>
                    <a:pt x="214" y="904"/>
                  </a:lnTo>
                  <a:lnTo>
                    <a:pt x="224" y="922"/>
                  </a:lnTo>
                  <a:lnTo>
                    <a:pt x="236" y="938"/>
                  </a:lnTo>
                  <a:lnTo>
                    <a:pt x="250" y="954"/>
                  </a:lnTo>
                  <a:lnTo>
                    <a:pt x="266" y="970"/>
                  </a:lnTo>
                  <a:lnTo>
                    <a:pt x="282" y="986"/>
                  </a:lnTo>
                  <a:lnTo>
                    <a:pt x="282" y="986"/>
                  </a:lnTo>
                  <a:lnTo>
                    <a:pt x="272" y="988"/>
                  </a:lnTo>
                  <a:lnTo>
                    <a:pt x="272" y="988"/>
                  </a:lnTo>
                  <a:lnTo>
                    <a:pt x="214" y="1012"/>
                  </a:lnTo>
                  <a:lnTo>
                    <a:pt x="166" y="1028"/>
                  </a:lnTo>
                  <a:lnTo>
                    <a:pt x="132" y="1038"/>
                  </a:lnTo>
                  <a:lnTo>
                    <a:pt x="118" y="1038"/>
                  </a:lnTo>
                  <a:lnTo>
                    <a:pt x="108" y="1038"/>
                  </a:lnTo>
                  <a:lnTo>
                    <a:pt x="90" y="1038"/>
                  </a:lnTo>
                  <a:lnTo>
                    <a:pt x="90" y="1038"/>
                  </a:lnTo>
                  <a:lnTo>
                    <a:pt x="78" y="1038"/>
                  </a:lnTo>
                  <a:lnTo>
                    <a:pt x="68" y="1042"/>
                  </a:lnTo>
                  <a:lnTo>
                    <a:pt x="58" y="1048"/>
                  </a:lnTo>
                  <a:lnTo>
                    <a:pt x="50" y="1058"/>
                  </a:lnTo>
                  <a:lnTo>
                    <a:pt x="50" y="1058"/>
                  </a:lnTo>
                  <a:lnTo>
                    <a:pt x="38" y="1076"/>
                  </a:lnTo>
                  <a:lnTo>
                    <a:pt x="26" y="1094"/>
                  </a:lnTo>
                  <a:lnTo>
                    <a:pt x="18" y="1110"/>
                  </a:lnTo>
                  <a:lnTo>
                    <a:pt x="10" y="1128"/>
                  </a:lnTo>
                  <a:lnTo>
                    <a:pt x="6" y="1144"/>
                  </a:lnTo>
                  <a:lnTo>
                    <a:pt x="2" y="1160"/>
                  </a:lnTo>
                  <a:lnTo>
                    <a:pt x="0" y="1176"/>
                  </a:lnTo>
                  <a:lnTo>
                    <a:pt x="0" y="1190"/>
                  </a:lnTo>
                  <a:lnTo>
                    <a:pt x="2" y="1206"/>
                  </a:lnTo>
                  <a:lnTo>
                    <a:pt x="6" y="1220"/>
                  </a:lnTo>
                  <a:lnTo>
                    <a:pt x="10" y="1234"/>
                  </a:lnTo>
                  <a:lnTo>
                    <a:pt x="18" y="1248"/>
                  </a:lnTo>
                  <a:lnTo>
                    <a:pt x="26" y="1260"/>
                  </a:lnTo>
                  <a:lnTo>
                    <a:pt x="38" y="1274"/>
                  </a:lnTo>
                  <a:lnTo>
                    <a:pt x="50" y="1286"/>
                  </a:lnTo>
                  <a:lnTo>
                    <a:pt x="64" y="1298"/>
                  </a:lnTo>
                  <a:lnTo>
                    <a:pt x="64" y="1298"/>
                  </a:lnTo>
                  <a:lnTo>
                    <a:pt x="76" y="1306"/>
                  </a:lnTo>
                  <a:lnTo>
                    <a:pt x="90" y="1312"/>
                  </a:lnTo>
                  <a:lnTo>
                    <a:pt x="104" y="1314"/>
                  </a:lnTo>
                  <a:lnTo>
                    <a:pt x="120" y="1314"/>
                  </a:lnTo>
                  <a:lnTo>
                    <a:pt x="136" y="1314"/>
                  </a:lnTo>
                  <a:lnTo>
                    <a:pt x="154" y="1310"/>
                  </a:lnTo>
                  <a:lnTo>
                    <a:pt x="174" y="1304"/>
                  </a:lnTo>
                  <a:lnTo>
                    <a:pt x="194" y="1296"/>
                  </a:lnTo>
                  <a:lnTo>
                    <a:pt x="194" y="1296"/>
                  </a:lnTo>
                  <a:lnTo>
                    <a:pt x="238" y="1274"/>
                  </a:lnTo>
                  <a:lnTo>
                    <a:pt x="280" y="1250"/>
                  </a:lnTo>
                  <a:lnTo>
                    <a:pt x="280" y="1250"/>
                  </a:lnTo>
                  <a:lnTo>
                    <a:pt x="300" y="1296"/>
                  </a:lnTo>
                  <a:lnTo>
                    <a:pt x="324" y="1350"/>
                  </a:lnTo>
                  <a:lnTo>
                    <a:pt x="324" y="1350"/>
                  </a:lnTo>
                  <a:lnTo>
                    <a:pt x="350" y="1404"/>
                  </a:lnTo>
                  <a:lnTo>
                    <a:pt x="374" y="1452"/>
                  </a:lnTo>
                  <a:lnTo>
                    <a:pt x="398" y="1494"/>
                  </a:lnTo>
                  <a:lnTo>
                    <a:pt x="420" y="1534"/>
                  </a:lnTo>
                  <a:lnTo>
                    <a:pt x="444" y="1566"/>
                  </a:lnTo>
                  <a:lnTo>
                    <a:pt x="466" y="1594"/>
                  </a:lnTo>
                  <a:lnTo>
                    <a:pt x="488" y="1618"/>
                  </a:lnTo>
                  <a:lnTo>
                    <a:pt x="508" y="1636"/>
                  </a:lnTo>
                  <a:lnTo>
                    <a:pt x="508" y="1636"/>
                  </a:lnTo>
                  <a:lnTo>
                    <a:pt x="536" y="1654"/>
                  </a:lnTo>
                  <a:lnTo>
                    <a:pt x="562" y="1666"/>
                  </a:lnTo>
                  <a:lnTo>
                    <a:pt x="586" y="1674"/>
                  </a:lnTo>
                  <a:lnTo>
                    <a:pt x="608" y="1676"/>
                  </a:lnTo>
                  <a:lnTo>
                    <a:pt x="618" y="1676"/>
                  </a:lnTo>
                  <a:lnTo>
                    <a:pt x="628" y="1676"/>
                  </a:lnTo>
                  <a:lnTo>
                    <a:pt x="636" y="1672"/>
                  </a:lnTo>
                  <a:lnTo>
                    <a:pt x="646" y="1668"/>
                  </a:lnTo>
                  <a:lnTo>
                    <a:pt x="654" y="1664"/>
                  </a:lnTo>
                  <a:lnTo>
                    <a:pt x="662" y="1658"/>
                  </a:lnTo>
                  <a:lnTo>
                    <a:pt x="676" y="1642"/>
                  </a:lnTo>
                  <a:lnTo>
                    <a:pt x="868" y="1382"/>
                  </a:lnTo>
                  <a:lnTo>
                    <a:pt x="868" y="1382"/>
                  </a:lnTo>
                  <a:lnTo>
                    <a:pt x="890" y="1354"/>
                  </a:lnTo>
                  <a:lnTo>
                    <a:pt x="890" y="1354"/>
                  </a:lnTo>
                  <a:lnTo>
                    <a:pt x="944" y="1388"/>
                  </a:lnTo>
                  <a:lnTo>
                    <a:pt x="994" y="1422"/>
                  </a:lnTo>
                  <a:lnTo>
                    <a:pt x="994" y="1422"/>
                  </a:lnTo>
                  <a:lnTo>
                    <a:pt x="992" y="1458"/>
                  </a:lnTo>
                  <a:lnTo>
                    <a:pt x="988" y="1496"/>
                  </a:lnTo>
                  <a:lnTo>
                    <a:pt x="982" y="1538"/>
                  </a:lnTo>
                  <a:lnTo>
                    <a:pt x="972" y="1580"/>
                  </a:lnTo>
                  <a:lnTo>
                    <a:pt x="962" y="1628"/>
                  </a:lnTo>
                  <a:lnTo>
                    <a:pt x="950" y="1676"/>
                  </a:lnTo>
                  <a:lnTo>
                    <a:pt x="934" y="1728"/>
                  </a:lnTo>
                  <a:lnTo>
                    <a:pt x="916" y="1782"/>
                  </a:lnTo>
                  <a:lnTo>
                    <a:pt x="916" y="1782"/>
                  </a:lnTo>
                  <a:lnTo>
                    <a:pt x="912" y="1810"/>
                  </a:lnTo>
                  <a:lnTo>
                    <a:pt x="910" y="1834"/>
                  </a:lnTo>
                  <a:lnTo>
                    <a:pt x="912" y="1858"/>
                  </a:lnTo>
                  <a:lnTo>
                    <a:pt x="916" y="1880"/>
                  </a:lnTo>
                  <a:lnTo>
                    <a:pt x="924" y="1900"/>
                  </a:lnTo>
                  <a:lnTo>
                    <a:pt x="934" y="1920"/>
                  </a:lnTo>
                  <a:lnTo>
                    <a:pt x="948" y="1936"/>
                  </a:lnTo>
                  <a:lnTo>
                    <a:pt x="966" y="1952"/>
                  </a:lnTo>
                  <a:lnTo>
                    <a:pt x="966" y="1952"/>
                  </a:lnTo>
                  <a:lnTo>
                    <a:pt x="978" y="1960"/>
                  </a:lnTo>
                  <a:lnTo>
                    <a:pt x="992" y="1968"/>
                  </a:lnTo>
                  <a:lnTo>
                    <a:pt x="1004" y="1974"/>
                  </a:lnTo>
                  <a:lnTo>
                    <a:pt x="1018" y="1978"/>
                  </a:lnTo>
                  <a:lnTo>
                    <a:pt x="1030" y="1980"/>
                  </a:lnTo>
                  <a:lnTo>
                    <a:pt x="1044" y="1982"/>
                  </a:lnTo>
                  <a:lnTo>
                    <a:pt x="1056" y="1982"/>
                  </a:lnTo>
                  <a:lnTo>
                    <a:pt x="1068" y="1980"/>
                  </a:lnTo>
                  <a:lnTo>
                    <a:pt x="1080" y="1978"/>
                  </a:lnTo>
                  <a:lnTo>
                    <a:pt x="1094" y="1974"/>
                  </a:lnTo>
                  <a:lnTo>
                    <a:pt x="1106" y="1968"/>
                  </a:lnTo>
                  <a:lnTo>
                    <a:pt x="1118" y="1960"/>
                  </a:lnTo>
                  <a:lnTo>
                    <a:pt x="1130" y="1950"/>
                  </a:lnTo>
                  <a:lnTo>
                    <a:pt x="1140" y="1940"/>
                  </a:lnTo>
                  <a:lnTo>
                    <a:pt x="1164" y="1916"/>
                  </a:lnTo>
                  <a:lnTo>
                    <a:pt x="1164" y="1916"/>
                  </a:lnTo>
                  <a:lnTo>
                    <a:pt x="1174" y="1896"/>
                  </a:lnTo>
                  <a:lnTo>
                    <a:pt x="1184" y="1878"/>
                  </a:lnTo>
                  <a:lnTo>
                    <a:pt x="1192" y="1856"/>
                  </a:lnTo>
                  <a:lnTo>
                    <a:pt x="1200" y="1834"/>
                  </a:lnTo>
                  <a:lnTo>
                    <a:pt x="1206" y="1810"/>
                  </a:lnTo>
                  <a:lnTo>
                    <a:pt x="1210" y="1784"/>
                  </a:lnTo>
                  <a:lnTo>
                    <a:pt x="1214" y="1758"/>
                  </a:lnTo>
                  <a:lnTo>
                    <a:pt x="1216" y="1730"/>
                  </a:lnTo>
                  <a:lnTo>
                    <a:pt x="1216" y="1730"/>
                  </a:lnTo>
                  <a:lnTo>
                    <a:pt x="1216" y="1690"/>
                  </a:lnTo>
                  <a:lnTo>
                    <a:pt x="1216" y="1652"/>
                  </a:lnTo>
                  <a:lnTo>
                    <a:pt x="1212" y="1612"/>
                  </a:lnTo>
                  <a:lnTo>
                    <a:pt x="1208" y="1574"/>
                  </a:lnTo>
                  <a:lnTo>
                    <a:pt x="1250" y="1606"/>
                  </a:lnTo>
                  <a:lnTo>
                    <a:pt x="1250" y="1606"/>
                  </a:lnTo>
                  <a:lnTo>
                    <a:pt x="1292" y="1638"/>
                  </a:lnTo>
                  <a:lnTo>
                    <a:pt x="1334" y="1676"/>
                  </a:lnTo>
                  <a:lnTo>
                    <a:pt x="1334" y="1676"/>
                  </a:lnTo>
                  <a:lnTo>
                    <a:pt x="1352" y="1688"/>
                  </a:lnTo>
                  <a:lnTo>
                    <a:pt x="1370" y="1696"/>
                  </a:lnTo>
                  <a:lnTo>
                    <a:pt x="1386" y="1700"/>
                  </a:lnTo>
                  <a:lnTo>
                    <a:pt x="1402" y="1702"/>
                  </a:lnTo>
                  <a:lnTo>
                    <a:pt x="1416" y="1700"/>
                  </a:lnTo>
                  <a:lnTo>
                    <a:pt x="1430" y="1694"/>
                  </a:lnTo>
                  <a:lnTo>
                    <a:pt x="1442" y="1686"/>
                  </a:lnTo>
                  <a:lnTo>
                    <a:pt x="1454" y="1674"/>
                  </a:lnTo>
                  <a:lnTo>
                    <a:pt x="1454" y="1674"/>
                  </a:lnTo>
                  <a:lnTo>
                    <a:pt x="1462" y="1660"/>
                  </a:lnTo>
                  <a:lnTo>
                    <a:pt x="1468" y="1644"/>
                  </a:lnTo>
                  <a:lnTo>
                    <a:pt x="1470" y="1628"/>
                  </a:lnTo>
                  <a:lnTo>
                    <a:pt x="1470" y="1610"/>
                  </a:lnTo>
                  <a:lnTo>
                    <a:pt x="1468" y="1590"/>
                  </a:lnTo>
                  <a:lnTo>
                    <a:pt x="1464" y="1570"/>
                  </a:lnTo>
                  <a:lnTo>
                    <a:pt x="1458" y="1546"/>
                  </a:lnTo>
                  <a:lnTo>
                    <a:pt x="1448" y="1524"/>
                  </a:lnTo>
                  <a:lnTo>
                    <a:pt x="1448" y="1524"/>
                  </a:lnTo>
                  <a:lnTo>
                    <a:pt x="1432" y="1490"/>
                  </a:lnTo>
                  <a:lnTo>
                    <a:pt x="1412" y="1458"/>
                  </a:lnTo>
                  <a:lnTo>
                    <a:pt x="1390" y="1428"/>
                  </a:lnTo>
                  <a:lnTo>
                    <a:pt x="1366" y="1398"/>
                  </a:lnTo>
                  <a:lnTo>
                    <a:pt x="1338" y="1368"/>
                  </a:lnTo>
                  <a:lnTo>
                    <a:pt x="1308" y="1340"/>
                  </a:lnTo>
                  <a:lnTo>
                    <a:pt x="1276" y="1312"/>
                  </a:lnTo>
                  <a:lnTo>
                    <a:pt x="1242" y="1284"/>
                  </a:lnTo>
                  <a:lnTo>
                    <a:pt x="1242" y="1284"/>
                  </a:lnTo>
                  <a:lnTo>
                    <a:pt x="1190" y="1248"/>
                  </a:lnTo>
                  <a:lnTo>
                    <a:pt x="1126" y="1210"/>
                  </a:lnTo>
                  <a:lnTo>
                    <a:pt x="1052" y="1168"/>
                  </a:lnTo>
                  <a:lnTo>
                    <a:pt x="966" y="1122"/>
                  </a:lnTo>
                  <a:lnTo>
                    <a:pt x="868" y="1076"/>
                  </a:lnTo>
                  <a:lnTo>
                    <a:pt x="760" y="1026"/>
                  </a:lnTo>
                  <a:lnTo>
                    <a:pt x="640" y="972"/>
                  </a:lnTo>
                  <a:lnTo>
                    <a:pt x="510" y="916"/>
                  </a:lnTo>
                  <a:lnTo>
                    <a:pt x="510" y="916"/>
                  </a:lnTo>
                  <a:lnTo>
                    <a:pt x="418" y="880"/>
                  </a:lnTo>
                  <a:lnTo>
                    <a:pt x="368" y="858"/>
                  </a:lnTo>
                  <a:lnTo>
                    <a:pt x="368" y="858"/>
                  </a:lnTo>
                  <a:lnTo>
                    <a:pt x="360" y="852"/>
                  </a:lnTo>
                  <a:lnTo>
                    <a:pt x="356" y="846"/>
                  </a:lnTo>
                  <a:lnTo>
                    <a:pt x="352" y="838"/>
                  </a:lnTo>
                  <a:lnTo>
                    <a:pt x="348" y="832"/>
                  </a:lnTo>
                  <a:lnTo>
                    <a:pt x="348" y="826"/>
                  </a:lnTo>
                  <a:lnTo>
                    <a:pt x="350" y="818"/>
                  </a:lnTo>
                  <a:lnTo>
                    <a:pt x="352" y="812"/>
                  </a:lnTo>
                  <a:lnTo>
                    <a:pt x="356" y="804"/>
                  </a:lnTo>
                  <a:lnTo>
                    <a:pt x="356" y="804"/>
                  </a:lnTo>
                  <a:lnTo>
                    <a:pt x="366" y="798"/>
                  </a:lnTo>
                  <a:lnTo>
                    <a:pt x="378" y="792"/>
                  </a:lnTo>
                  <a:lnTo>
                    <a:pt x="396" y="788"/>
                  </a:lnTo>
                  <a:lnTo>
                    <a:pt x="420" y="786"/>
                  </a:lnTo>
                  <a:lnTo>
                    <a:pt x="420" y="786"/>
                  </a:lnTo>
                  <a:lnTo>
                    <a:pt x="438" y="786"/>
                  </a:lnTo>
                  <a:lnTo>
                    <a:pt x="460" y="790"/>
                  </a:lnTo>
                  <a:lnTo>
                    <a:pt x="488" y="798"/>
                  </a:lnTo>
                  <a:lnTo>
                    <a:pt x="520" y="808"/>
                  </a:lnTo>
                  <a:lnTo>
                    <a:pt x="600" y="838"/>
                  </a:lnTo>
                  <a:lnTo>
                    <a:pt x="698" y="880"/>
                  </a:lnTo>
                  <a:lnTo>
                    <a:pt x="698" y="880"/>
                  </a:lnTo>
                  <a:lnTo>
                    <a:pt x="716" y="888"/>
                  </a:lnTo>
                  <a:lnTo>
                    <a:pt x="716" y="888"/>
                  </a:lnTo>
                  <a:lnTo>
                    <a:pt x="794" y="930"/>
                  </a:lnTo>
                  <a:lnTo>
                    <a:pt x="882" y="976"/>
                  </a:lnTo>
                  <a:lnTo>
                    <a:pt x="882" y="976"/>
                  </a:lnTo>
                  <a:lnTo>
                    <a:pt x="992" y="1036"/>
                  </a:lnTo>
                  <a:lnTo>
                    <a:pt x="1100" y="1098"/>
                  </a:lnTo>
                  <a:lnTo>
                    <a:pt x="1206" y="1164"/>
                  </a:lnTo>
                  <a:lnTo>
                    <a:pt x="1310" y="1234"/>
                  </a:lnTo>
                  <a:lnTo>
                    <a:pt x="1310" y="1234"/>
                  </a:lnTo>
                  <a:lnTo>
                    <a:pt x="1338" y="1252"/>
                  </a:lnTo>
                  <a:lnTo>
                    <a:pt x="1366" y="1266"/>
                  </a:lnTo>
                  <a:lnTo>
                    <a:pt x="1390" y="1276"/>
                  </a:lnTo>
                  <a:lnTo>
                    <a:pt x="1412" y="1282"/>
                  </a:lnTo>
                  <a:lnTo>
                    <a:pt x="1432" y="1282"/>
                  </a:lnTo>
                  <a:lnTo>
                    <a:pt x="1450" y="1280"/>
                  </a:lnTo>
                  <a:lnTo>
                    <a:pt x="1458" y="1276"/>
                  </a:lnTo>
                  <a:lnTo>
                    <a:pt x="1464" y="1272"/>
                  </a:lnTo>
                  <a:lnTo>
                    <a:pt x="1478" y="1258"/>
                  </a:lnTo>
                  <a:lnTo>
                    <a:pt x="1478" y="1258"/>
                  </a:lnTo>
                  <a:lnTo>
                    <a:pt x="1492" y="1288"/>
                  </a:lnTo>
                  <a:lnTo>
                    <a:pt x="1504" y="1312"/>
                  </a:lnTo>
                  <a:lnTo>
                    <a:pt x="1516" y="1328"/>
                  </a:lnTo>
                  <a:lnTo>
                    <a:pt x="1526" y="1340"/>
                  </a:lnTo>
                  <a:lnTo>
                    <a:pt x="1526" y="1340"/>
                  </a:lnTo>
                  <a:lnTo>
                    <a:pt x="1544" y="1352"/>
                  </a:lnTo>
                  <a:lnTo>
                    <a:pt x="1560" y="1360"/>
                  </a:lnTo>
                  <a:lnTo>
                    <a:pt x="1576" y="1368"/>
                  </a:lnTo>
                  <a:lnTo>
                    <a:pt x="1592" y="1374"/>
                  </a:lnTo>
                  <a:lnTo>
                    <a:pt x="1608" y="1378"/>
                  </a:lnTo>
                  <a:lnTo>
                    <a:pt x="1624" y="1380"/>
                  </a:lnTo>
                  <a:lnTo>
                    <a:pt x="1640" y="1380"/>
                  </a:lnTo>
                  <a:lnTo>
                    <a:pt x="1656" y="1378"/>
                  </a:lnTo>
                  <a:lnTo>
                    <a:pt x="1670" y="1374"/>
                  </a:lnTo>
                  <a:lnTo>
                    <a:pt x="1686" y="1368"/>
                  </a:lnTo>
                  <a:lnTo>
                    <a:pt x="1700" y="1360"/>
                  </a:lnTo>
                  <a:lnTo>
                    <a:pt x="1714" y="1350"/>
                  </a:lnTo>
                  <a:lnTo>
                    <a:pt x="1728" y="1340"/>
                  </a:lnTo>
                  <a:lnTo>
                    <a:pt x="1742" y="1326"/>
                  </a:lnTo>
                  <a:lnTo>
                    <a:pt x="1756" y="1310"/>
                  </a:lnTo>
                  <a:lnTo>
                    <a:pt x="1770" y="1294"/>
                  </a:lnTo>
                  <a:lnTo>
                    <a:pt x="1770" y="1294"/>
                  </a:lnTo>
                  <a:lnTo>
                    <a:pt x="1778" y="1282"/>
                  </a:lnTo>
                  <a:lnTo>
                    <a:pt x="1782" y="1268"/>
                  </a:lnTo>
                  <a:lnTo>
                    <a:pt x="1784" y="1254"/>
                  </a:lnTo>
                  <a:lnTo>
                    <a:pt x="1784" y="1238"/>
                  </a:lnTo>
                  <a:lnTo>
                    <a:pt x="1782" y="1222"/>
                  </a:lnTo>
                  <a:lnTo>
                    <a:pt x="1778" y="1204"/>
                  </a:lnTo>
                  <a:lnTo>
                    <a:pt x="1770" y="1186"/>
                  </a:lnTo>
                  <a:lnTo>
                    <a:pt x="1760" y="1168"/>
                  </a:lnTo>
                  <a:lnTo>
                    <a:pt x="1760" y="1168"/>
                  </a:lnTo>
                  <a:lnTo>
                    <a:pt x="1648" y="968"/>
                  </a:lnTo>
                  <a:lnTo>
                    <a:pt x="1648" y="968"/>
                  </a:lnTo>
                  <a:lnTo>
                    <a:pt x="1698" y="970"/>
                  </a:lnTo>
                  <a:lnTo>
                    <a:pt x="1754" y="970"/>
                  </a:lnTo>
                  <a:lnTo>
                    <a:pt x="1754" y="970"/>
                  </a:lnTo>
                  <a:lnTo>
                    <a:pt x="1790" y="968"/>
                  </a:lnTo>
                  <a:lnTo>
                    <a:pt x="1824" y="964"/>
                  </a:lnTo>
                  <a:lnTo>
                    <a:pt x="1852" y="960"/>
                  </a:lnTo>
                  <a:lnTo>
                    <a:pt x="1878" y="954"/>
                  </a:lnTo>
                  <a:lnTo>
                    <a:pt x="1902" y="946"/>
                  </a:lnTo>
                  <a:lnTo>
                    <a:pt x="1920" y="936"/>
                  </a:lnTo>
                  <a:lnTo>
                    <a:pt x="1936" y="926"/>
                  </a:lnTo>
                  <a:lnTo>
                    <a:pt x="1948" y="914"/>
                  </a:lnTo>
                  <a:lnTo>
                    <a:pt x="1948" y="914"/>
                  </a:lnTo>
                  <a:lnTo>
                    <a:pt x="1958" y="898"/>
                  </a:lnTo>
                  <a:lnTo>
                    <a:pt x="1964" y="880"/>
                  </a:lnTo>
                  <a:lnTo>
                    <a:pt x="1970" y="862"/>
                  </a:lnTo>
                  <a:lnTo>
                    <a:pt x="1972" y="842"/>
                  </a:lnTo>
                  <a:lnTo>
                    <a:pt x="1972" y="822"/>
                  </a:lnTo>
                  <a:lnTo>
                    <a:pt x="1968" y="798"/>
                  </a:lnTo>
                  <a:lnTo>
                    <a:pt x="1962" y="776"/>
                  </a:lnTo>
                  <a:lnTo>
                    <a:pt x="1954" y="750"/>
                  </a:lnTo>
                  <a:lnTo>
                    <a:pt x="1954" y="750"/>
                  </a:lnTo>
                  <a:lnTo>
                    <a:pt x="1944" y="724"/>
                  </a:lnTo>
                  <a:lnTo>
                    <a:pt x="1932" y="700"/>
                  </a:lnTo>
                  <a:lnTo>
                    <a:pt x="1918" y="676"/>
                  </a:lnTo>
                  <a:lnTo>
                    <a:pt x="1902" y="654"/>
                  </a:lnTo>
                  <a:lnTo>
                    <a:pt x="1884" y="632"/>
                  </a:lnTo>
                  <a:lnTo>
                    <a:pt x="1864" y="612"/>
                  </a:lnTo>
                  <a:lnTo>
                    <a:pt x="1844" y="592"/>
                  </a:lnTo>
                  <a:lnTo>
                    <a:pt x="1820" y="574"/>
                  </a:lnTo>
                  <a:lnTo>
                    <a:pt x="1820" y="574"/>
                  </a:lnTo>
                  <a:lnTo>
                    <a:pt x="1794" y="558"/>
                  </a:lnTo>
                  <a:lnTo>
                    <a:pt x="1760" y="536"/>
                  </a:lnTo>
                  <a:lnTo>
                    <a:pt x="1718" y="514"/>
                  </a:lnTo>
                  <a:lnTo>
                    <a:pt x="1666" y="486"/>
                  </a:lnTo>
                  <a:lnTo>
                    <a:pt x="1666" y="486"/>
                  </a:lnTo>
                  <a:lnTo>
                    <a:pt x="1622" y="466"/>
                  </a:lnTo>
                  <a:lnTo>
                    <a:pt x="1598" y="442"/>
                  </a:lnTo>
                  <a:lnTo>
                    <a:pt x="1598" y="442"/>
                  </a:lnTo>
                  <a:lnTo>
                    <a:pt x="1588" y="436"/>
                  </a:lnTo>
                  <a:lnTo>
                    <a:pt x="1576" y="434"/>
                  </a:lnTo>
                  <a:lnTo>
                    <a:pt x="1560" y="434"/>
                  </a:lnTo>
                  <a:lnTo>
                    <a:pt x="1542" y="436"/>
                  </a:lnTo>
                  <a:lnTo>
                    <a:pt x="1542" y="436"/>
                  </a:lnTo>
                  <a:lnTo>
                    <a:pt x="1518" y="444"/>
                  </a:lnTo>
                  <a:lnTo>
                    <a:pt x="1500" y="452"/>
                  </a:lnTo>
                  <a:lnTo>
                    <a:pt x="1484" y="462"/>
                  </a:lnTo>
                  <a:lnTo>
                    <a:pt x="1474" y="474"/>
                  </a:lnTo>
                  <a:lnTo>
                    <a:pt x="1474" y="474"/>
                  </a:lnTo>
                  <a:lnTo>
                    <a:pt x="1468" y="486"/>
                  </a:lnTo>
                  <a:lnTo>
                    <a:pt x="1464" y="498"/>
                  </a:lnTo>
                  <a:lnTo>
                    <a:pt x="1466" y="514"/>
                  </a:lnTo>
                  <a:lnTo>
                    <a:pt x="1470" y="532"/>
                  </a:lnTo>
                  <a:lnTo>
                    <a:pt x="1470" y="532"/>
                  </a:lnTo>
                  <a:lnTo>
                    <a:pt x="1480" y="554"/>
                  </a:lnTo>
                  <a:lnTo>
                    <a:pt x="1496" y="578"/>
                  </a:lnTo>
                  <a:lnTo>
                    <a:pt x="1516" y="600"/>
                  </a:lnTo>
                  <a:lnTo>
                    <a:pt x="1540" y="622"/>
                  </a:lnTo>
                  <a:lnTo>
                    <a:pt x="1540" y="622"/>
                  </a:lnTo>
                  <a:lnTo>
                    <a:pt x="1548" y="628"/>
                  </a:lnTo>
                  <a:lnTo>
                    <a:pt x="1558" y="632"/>
                  </a:lnTo>
                  <a:lnTo>
                    <a:pt x="1584" y="640"/>
                  </a:lnTo>
                  <a:lnTo>
                    <a:pt x="1584" y="640"/>
                  </a:lnTo>
                  <a:lnTo>
                    <a:pt x="1638" y="660"/>
                  </a:lnTo>
                  <a:lnTo>
                    <a:pt x="1682" y="678"/>
                  </a:lnTo>
                  <a:lnTo>
                    <a:pt x="1712" y="690"/>
                  </a:lnTo>
                  <a:lnTo>
                    <a:pt x="1728" y="700"/>
                  </a:lnTo>
                  <a:lnTo>
                    <a:pt x="1728" y="700"/>
                  </a:lnTo>
                  <a:lnTo>
                    <a:pt x="1742" y="710"/>
                  </a:lnTo>
                  <a:lnTo>
                    <a:pt x="1752" y="722"/>
                  </a:lnTo>
                  <a:lnTo>
                    <a:pt x="1760" y="730"/>
                  </a:lnTo>
                  <a:lnTo>
                    <a:pt x="1766" y="740"/>
                  </a:lnTo>
                  <a:lnTo>
                    <a:pt x="1768" y="750"/>
                  </a:lnTo>
                  <a:lnTo>
                    <a:pt x="1770" y="760"/>
                  </a:lnTo>
                  <a:lnTo>
                    <a:pt x="1768" y="768"/>
                  </a:lnTo>
                  <a:lnTo>
                    <a:pt x="1764" y="778"/>
                  </a:lnTo>
                  <a:lnTo>
                    <a:pt x="1764" y="778"/>
                  </a:lnTo>
                  <a:lnTo>
                    <a:pt x="1756" y="788"/>
                  </a:lnTo>
                  <a:lnTo>
                    <a:pt x="1744" y="798"/>
                  </a:lnTo>
                  <a:lnTo>
                    <a:pt x="1728" y="808"/>
                  </a:lnTo>
                  <a:lnTo>
                    <a:pt x="1710" y="820"/>
                  </a:lnTo>
                  <a:lnTo>
                    <a:pt x="1662" y="844"/>
                  </a:lnTo>
                  <a:lnTo>
                    <a:pt x="1598" y="874"/>
                  </a:lnTo>
                  <a:lnTo>
                    <a:pt x="1598" y="874"/>
                  </a:lnTo>
                  <a:lnTo>
                    <a:pt x="1536" y="754"/>
                  </a:lnTo>
                  <a:lnTo>
                    <a:pt x="1490" y="658"/>
                  </a:lnTo>
                  <a:lnTo>
                    <a:pt x="1474" y="620"/>
                  </a:lnTo>
                  <a:lnTo>
                    <a:pt x="1460" y="588"/>
                  </a:lnTo>
                  <a:lnTo>
                    <a:pt x="1452" y="564"/>
                  </a:lnTo>
                  <a:lnTo>
                    <a:pt x="1448" y="544"/>
                  </a:lnTo>
                  <a:lnTo>
                    <a:pt x="1448" y="544"/>
                  </a:lnTo>
                  <a:lnTo>
                    <a:pt x="1446" y="530"/>
                  </a:lnTo>
                  <a:lnTo>
                    <a:pt x="1444" y="518"/>
                  </a:lnTo>
                  <a:lnTo>
                    <a:pt x="1438" y="510"/>
                  </a:lnTo>
                  <a:lnTo>
                    <a:pt x="1432" y="502"/>
                  </a:lnTo>
                  <a:lnTo>
                    <a:pt x="1432" y="502"/>
                  </a:lnTo>
                  <a:lnTo>
                    <a:pt x="1408" y="488"/>
                  </a:lnTo>
                  <a:lnTo>
                    <a:pt x="1396" y="482"/>
                  </a:lnTo>
                  <a:lnTo>
                    <a:pt x="1384" y="478"/>
                  </a:lnTo>
                  <a:lnTo>
                    <a:pt x="1384" y="478"/>
                  </a:lnTo>
                  <a:lnTo>
                    <a:pt x="1390" y="464"/>
                  </a:lnTo>
                  <a:lnTo>
                    <a:pt x="1394" y="448"/>
                  </a:lnTo>
                  <a:lnTo>
                    <a:pt x="1398" y="434"/>
                  </a:lnTo>
                  <a:lnTo>
                    <a:pt x="1400" y="418"/>
                  </a:lnTo>
                  <a:lnTo>
                    <a:pt x="1400" y="386"/>
                  </a:lnTo>
                  <a:lnTo>
                    <a:pt x="1398" y="354"/>
                  </a:lnTo>
                  <a:lnTo>
                    <a:pt x="1398" y="354"/>
                  </a:lnTo>
                  <a:lnTo>
                    <a:pt x="1390" y="332"/>
                  </a:lnTo>
                  <a:lnTo>
                    <a:pt x="1380" y="312"/>
                  </a:lnTo>
                  <a:lnTo>
                    <a:pt x="1368" y="292"/>
                  </a:lnTo>
                  <a:lnTo>
                    <a:pt x="1356" y="272"/>
                  </a:lnTo>
                  <a:lnTo>
                    <a:pt x="1340" y="254"/>
                  </a:lnTo>
                  <a:lnTo>
                    <a:pt x="1322" y="236"/>
                  </a:lnTo>
                  <a:lnTo>
                    <a:pt x="1302" y="218"/>
                  </a:lnTo>
                  <a:lnTo>
                    <a:pt x="1280" y="200"/>
                  </a:lnTo>
                  <a:lnTo>
                    <a:pt x="1280" y="200"/>
                  </a:lnTo>
                  <a:lnTo>
                    <a:pt x="1260" y="188"/>
                  </a:lnTo>
                  <a:lnTo>
                    <a:pt x="1232" y="172"/>
                  </a:lnTo>
                  <a:lnTo>
                    <a:pt x="1150" y="128"/>
                  </a:lnTo>
                  <a:lnTo>
                    <a:pt x="1150" y="128"/>
                  </a:lnTo>
                  <a:lnTo>
                    <a:pt x="1148" y="120"/>
                  </a:lnTo>
                  <a:lnTo>
                    <a:pt x="1146" y="110"/>
                  </a:lnTo>
                  <a:lnTo>
                    <a:pt x="1134" y="90"/>
                  </a:lnTo>
                  <a:lnTo>
                    <a:pt x="1134" y="90"/>
                  </a:lnTo>
                  <a:lnTo>
                    <a:pt x="1120" y="66"/>
                  </a:lnTo>
                  <a:lnTo>
                    <a:pt x="1104" y="44"/>
                  </a:lnTo>
                  <a:lnTo>
                    <a:pt x="1086" y="24"/>
                  </a:lnTo>
                  <a:lnTo>
                    <a:pt x="1066" y="8"/>
                  </a:lnTo>
                  <a:lnTo>
                    <a:pt x="1066" y="8"/>
                  </a:lnTo>
                  <a:lnTo>
                    <a:pt x="1060" y="4"/>
                  </a:lnTo>
                  <a:lnTo>
                    <a:pt x="1056" y="2"/>
                  </a:lnTo>
                  <a:lnTo>
                    <a:pt x="1050" y="0"/>
                  </a:lnTo>
                  <a:lnTo>
                    <a:pt x="1044" y="2"/>
                  </a:lnTo>
                  <a:lnTo>
                    <a:pt x="1038" y="4"/>
                  </a:lnTo>
                  <a:lnTo>
                    <a:pt x="1032" y="6"/>
                  </a:lnTo>
                  <a:lnTo>
                    <a:pt x="1022" y="18"/>
                  </a:lnTo>
                  <a:lnTo>
                    <a:pt x="1022" y="18"/>
                  </a:lnTo>
                  <a:close/>
                  <a:moveTo>
                    <a:pt x="968" y="664"/>
                  </a:moveTo>
                  <a:lnTo>
                    <a:pt x="968" y="664"/>
                  </a:lnTo>
                  <a:lnTo>
                    <a:pt x="1018" y="660"/>
                  </a:lnTo>
                  <a:lnTo>
                    <a:pt x="1064" y="654"/>
                  </a:lnTo>
                  <a:lnTo>
                    <a:pt x="1108" y="646"/>
                  </a:lnTo>
                  <a:lnTo>
                    <a:pt x="1150" y="636"/>
                  </a:lnTo>
                  <a:lnTo>
                    <a:pt x="1188" y="624"/>
                  </a:lnTo>
                  <a:lnTo>
                    <a:pt x="1222" y="612"/>
                  </a:lnTo>
                  <a:lnTo>
                    <a:pt x="1254" y="598"/>
                  </a:lnTo>
                  <a:lnTo>
                    <a:pt x="1284" y="584"/>
                  </a:lnTo>
                  <a:lnTo>
                    <a:pt x="1284" y="584"/>
                  </a:lnTo>
                  <a:lnTo>
                    <a:pt x="1288" y="622"/>
                  </a:lnTo>
                  <a:lnTo>
                    <a:pt x="1294" y="670"/>
                  </a:lnTo>
                  <a:lnTo>
                    <a:pt x="1306" y="724"/>
                  </a:lnTo>
                  <a:lnTo>
                    <a:pt x="1322" y="786"/>
                  </a:lnTo>
                  <a:lnTo>
                    <a:pt x="1322" y="786"/>
                  </a:lnTo>
                  <a:lnTo>
                    <a:pt x="1358" y="908"/>
                  </a:lnTo>
                  <a:lnTo>
                    <a:pt x="1390" y="1014"/>
                  </a:lnTo>
                  <a:lnTo>
                    <a:pt x="1390" y="1014"/>
                  </a:lnTo>
                  <a:lnTo>
                    <a:pt x="1370" y="994"/>
                  </a:lnTo>
                  <a:lnTo>
                    <a:pt x="1348" y="974"/>
                  </a:lnTo>
                  <a:lnTo>
                    <a:pt x="1326" y="954"/>
                  </a:lnTo>
                  <a:lnTo>
                    <a:pt x="1302" y="936"/>
                  </a:lnTo>
                  <a:lnTo>
                    <a:pt x="1302" y="936"/>
                  </a:lnTo>
                  <a:lnTo>
                    <a:pt x="1270" y="914"/>
                  </a:lnTo>
                  <a:lnTo>
                    <a:pt x="1234" y="892"/>
                  </a:lnTo>
                  <a:lnTo>
                    <a:pt x="1198" y="870"/>
                  </a:lnTo>
                  <a:lnTo>
                    <a:pt x="1158" y="850"/>
                  </a:lnTo>
                  <a:lnTo>
                    <a:pt x="1116" y="832"/>
                  </a:lnTo>
                  <a:lnTo>
                    <a:pt x="1070" y="812"/>
                  </a:lnTo>
                  <a:lnTo>
                    <a:pt x="1022" y="794"/>
                  </a:lnTo>
                  <a:lnTo>
                    <a:pt x="972" y="778"/>
                  </a:lnTo>
                  <a:lnTo>
                    <a:pt x="972" y="778"/>
                  </a:lnTo>
                  <a:lnTo>
                    <a:pt x="772" y="710"/>
                  </a:lnTo>
                  <a:lnTo>
                    <a:pt x="702" y="684"/>
                  </a:lnTo>
                  <a:lnTo>
                    <a:pt x="652" y="664"/>
                  </a:lnTo>
                  <a:lnTo>
                    <a:pt x="652" y="664"/>
                  </a:lnTo>
                  <a:lnTo>
                    <a:pt x="684" y="668"/>
                  </a:lnTo>
                  <a:lnTo>
                    <a:pt x="718" y="670"/>
                  </a:lnTo>
                  <a:lnTo>
                    <a:pt x="794" y="672"/>
                  </a:lnTo>
                  <a:lnTo>
                    <a:pt x="876" y="670"/>
                  </a:lnTo>
                  <a:lnTo>
                    <a:pt x="968" y="664"/>
                  </a:lnTo>
                  <a:lnTo>
                    <a:pt x="968" y="664"/>
                  </a:lnTo>
                  <a:close/>
                  <a:moveTo>
                    <a:pt x="864" y="266"/>
                  </a:moveTo>
                  <a:lnTo>
                    <a:pt x="864" y="266"/>
                  </a:lnTo>
                  <a:lnTo>
                    <a:pt x="874" y="310"/>
                  </a:lnTo>
                  <a:lnTo>
                    <a:pt x="880" y="360"/>
                  </a:lnTo>
                  <a:lnTo>
                    <a:pt x="880" y="360"/>
                  </a:lnTo>
                  <a:lnTo>
                    <a:pt x="884" y="382"/>
                  </a:lnTo>
                  <a:lnTo>
                    <a:pt x="888" y="402"/>
                  </a:lnTo>
                  <a:lnTo>
                    <a:pt x="898" y="420"/>
                  </a:lnTo>
                  <a:lnTo>
                    <a:pt x="908" y="438"/>
                  </a:lnTo>
                  <a:lnTo>
                    <a:pt x="908" y="438"/>
                  </a:lnTo>
                  <a:lnTo>
                    <a:pt x="858" y="436"/>
                  </a:lnTo>
                  <a:lnTo>
                    <a:pt x="806" y="432"/>
                  </a:lnTo>
                  <a:lnTo>
                    <a:pt x="806" y="432"/>
                  </a:lnTo>
                  <a:lnTo>
                    <a:pt x="820" y="412"/>
                  </a:lnTo>
                  <a:lnTo>
                    <a:pt x="820" y="412"/>
                  </a:lnTo>
                  <a:lnTo>
                    <a:pt x="824" y="404"/>
                  </a:lnTo>
                  <a:lnTo>
                    <a:pt x="826" y="394"/>
                  </a:lnTo>
                  <a:lnTo>
                    <a:pt x="828" y="372"/>
                  </a:lnTo>
                  <a:lnTo>
                    <a:pt x="828" y="348"/>
                  </a:lnTo>
                  <a:lnTo>
                    <a:pt x="822" y="320"/>
                  </a:lnTo>
                  <a:lnTo>
                    <a:pt x="822" y="320"/>
                  </a:lnTo>
                  <a:lnTo>
                    <a:pt x="814" y="296"/>
                  </a:lnTo>
                  <a:lnTo>
                    <a:pt x="804" y="274"/>
                  </a:lnTo>
                  <a:lnTo>
                    <a:pt x="804" y="274"/>
                  </a:lnTo>
                  <a:lnTo>
                    <a:pt x="864" y="266"/>
                  </a:lnTo>
                  <a:lnTo>
                    <a:pt x="864" y="266"/>
                  </a:lnTo>
                  <a:close/>
                  <a:moveTo>
                    <a:pt x="990" y="242"/>
                  </a:moveTo>
                  <a:lnTo>
                    <a:pt x="990" y="242"/>
                  </a:lnTo>
                  <a:lnTo>
                    <a:pt x="1030" y="258"/>
                  </a:lnTo>
                  <a:lnTo>
                    <a:pt x="1030" y="258"/>
                  </a:lnTo>
                  <a:lnTo>
                    <a:pt x="1134" y="304"/>
                  </a:lnTo>
                  <a:lnTo>
                    <a:pt x="1166" y="320"/>
                  </a:lnTo>
                  <a:lnTo>
                    <a:pt x="1184" y="330"/>
                  </a:lnTo>
                  <a:lnTo>
                    <a:pt x="1184" y="330"/>
                  </a:lnTo>
                  <a:lnTo>
                    <a:pt x="1196" y="342"/>
                  </a:lnTo>
                  <a:lnTo>
                    <a:pt x="1200" y="346"/>
                  </a:lnTo>
                  <a:lnTo>
                    <a:pt x="1202" y="352"/>
                  </a:lnTo>
                  <a:lnTo>
                    <a:pt x="1202" y="358"/>
                  </a:lnTo>
                  <a:lnTo>
                    <a:pt x="1202" y="366"/>
                  </a:lnTo>
                  <a:lnTo>
                    <a:pt x="1200" y="380"/>
                  </a:lnTo>
                  <a:lnTo>
                    <a:pt x="1200" y="380"/>
                  </a:lnTo>
                  <a:lnTo>
                    <a:pt x="1190" y="388"/>
                  </a:lnTo>
                  <a:lnTo>
                    <a:pt x="1178" y="398"/>
                  </a:lnTo>
                  <a:lnTo>
                    <a:pt x="1164" y="406"/>
                  </a:lnTo>
                  <a:lnTo>
                    <a:pt x="1146" y="414"/>
                  </a:lnTo>
                  <a:lnTo>
                    <a:pt x="1124" y="420"/>
                  </a:lnTo>
                  <a:lnTo>
                    <a:pt x="1102" y="424"/>
                  </a:lnTo>
                  <a:lnTo>
                    <a:pt x="1074" y="428"/>
                  </a:lnTo>
                  <a:lnTo>
                    <a:pt x="1046" y="432"/>
                  </a:lnTo>
                  <a:lnTo>
                    <a:pt x="1046" y="432"/>
                  </a:lnTo>
                  <a:lnTo>
                    <a:pt x="1060" y="416"/>
                  </a:lnTo>
                  <a:lnTo>
                    <a:pt x="1060" y="416"/>
                  </a:lnTo>
                  <a:lnTo>
                    <a:pt x="1062" y="408"/>
                  </a:lnTo>
                  <a:lnTo>
                    <a:pt x="1064" y="400"/>
                  </a:lnTo>
                  <a:lnTo>
                    <a:pt x="1062" y="390"/>
                  </a:lnTo>
                  <a:lnTo>
                    <a:pt x="1060" y="378"/>
                  </a:lnTo>
                  <a:lnTo>
                    <a:pt x="1052" y="350"/>
                  </a:lnTo>
                  <a:lnTo>
                    <a:pt x="1036" y="318"/>
                  </a:lnTo>
                  <a:lnTo>
                    <a:pt x="1036" y="318"/>
                  </a:lnTo>
                  <a:lnTo>
                    <a:pt x="1026" y="298"/>
                  </a:lnTo>
                  <a:lnTo>
                    <a:pt x="1012" y="278"/>
                  </a:lnTo>
                  <a:lnTo>
                    <a:pt x="1000" y="260"/>
                  </a:lnTo>
                  <a:lnTo>
                    <a:pt x="986" y="242"/>
                  </a:lnTo>
                  <a:lnTo>
                    <a:pt x="986" y="242"/>
                  </a:lnTo>
                  <a:lnTo>
                    <a:pt x="990" y="242"/>
                  </a:lnTo>
                  <a:lnTo>
                    <a:pt x="99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37071360" y="8188200"/>
              <a:ext cx="1631880" cy="1994040"/>
            </a:xfrm>
            <a:custGeom>
              <a:avLst/>
              <a:gdLst>
                <a:gd name="textAreaLeft" fmla="*/ 0 w 1631880"/>
                <a:gd name="textAreaRight" fmla="*/ 1632240 w 1631880"/>
                <a:gd name="textAreaTop" fmla="*/ 0 h 1994040"/>
                <a:gd name="textAreaBottom" fmla="*/ 1994040 h 1994040"/>
              </a:gdLst>
              <a:ahLst/>
              <a:rect l="textAreaLeft" t="textAreaTop" r="textAreaRight" b="textAreaBottom"/>
              <a:pathLst>
                <a:path w="1028" h="1256">
                  <a:moveTo>
                    <a:pt x="304" y="1180"/>
                  </a:moveTo>
                  <a:lnTo>
                    <a:pt x="1028" y="70"/>
                  </a:lnTo>
                  <a:lnTo>
                    <a:pt x="934" y="0"/>
                  </a:lnTo>
                  <a:lnTo>
                    <a:pt x="38" y="982"/>
                  </a:lnTo>
                  <a:lnTo>
                    <a:pt x="42" y="986"/>
                  </a:lnTo>
                  <a:lnTo>
                    <a:pt x="42" y="986"/>
                  </a:lnTo>
                  <a:lnTo>
                    <a:pt x="36" y="992"/>
                  </a:lnTo>
                  <a:lnTo>
                    <a:pt x="36" y="992"/>
                  </a:lnTo>
                  <a:lnTo>
                    <a:pt x="26" y="1006"/>
                  </a:lnTo>
                  <a:lnTo>
                    <a:pt x="18" y="1022"/>
                  </a:lnTo>
                  <a:lnTo>
                    <a:pt x="12" y="1038"/>
                  </a:lnTo>
                  <a:lnTo>
                    <a:pt x="6" y="1052"/>
                  </a:lnTo>
                  <a:lnTo>
                    <a:pt x="2" y="1070"/>
                  </a:lnTo>
                  <a:lnTo>
                    <a:pt x="0" y="1086"/>
                  </a:lnTo>
                  <a:lnTo>
                    <a:pt x="0" y="1102"/>
                  </a:lnTo>
                  <a:lnTo>
                    <a:pt x="2" y="1118"/>
                  </a:lnTo>
                  <a:lnTo>
                    <a:pt x="4" y="1134"/>
                  </a:lnTo>
                  <a:lnTo>
                    <a:pt x="8" y="1148"/>
                  </a:lnTo>
                  <a:lnTo>
                    <a:pt x="14" y="1164"/>
                  </a:lnTo>
                  <a:lnTo>
                    <a:pt x="20" y="1178"/>
                  </a:lnTo>
                  <a:lnTo>
                    <a:pt x="30" y="1192"/>
                  </a:lnTo>
                  <a:lnTo>
                    <a:pt x="38" y="1204"/>
                  </a:lnTo>
                  <a:lnTo>
                    <a:pt x="50" y="1216"/>
                  </a:lnTo>
                  <a:lnTo>
                    <a:pt x="64" y="1226"/>
                  </a:lnTo>
                  <a:lnTo>
                    <a:pt x="64" y="1226"/>
                  </a:lnTo>
                  <a:lnTo>
                    <a:pt x="76" y="1236"/>
                  </a:lnTo>
                  <a:lnTo>
                    <a:pt x="92" y="1242"/>
                  </a:lnTo>
                  <a:lnTo>
                    <a:pt x="106" y="1248"/>
                  </a:lnTo>
                  <a:lnTo>
                    <a:pt x="122" y="1252"/>
                  </a:lnTo>
                  <a:lnTo>
                    <a:pt x="138" y="1256"/>
                  </a:lnTo>
                  <a:lnTo>
                    <a:pt x="154" y="1256"/>
                  </a:lnTo>
                  <a:lnTo>
                    <a:pt x="170" y="1256"/>
                  </a:lnTo>
                  <a:lnTo>
                    <a:pt x="184" y="1254"/>
                  </a:lnTo>
                  <a:lnTo>
                    <a:pt x="200" y="1250"/>
                  </a:lnTo>
                  <a:lnTo>
                    <a:pt x="216" y="1244"/>
                  </a:lnTo>
                  <a:lnTo>
                    <a:pt x="232" y="1238"/>
                  </a:lnTo>
                  <a:lnTo>
                    <a:pt x="246" y="1230"/>
                  </a:lnTo>
                  <a:lnTo>
                    <a:pt x="260" y="1220"/>
                  </a:lnTo>
                  <a:lnTo>
                    <a:pt x="272" y="1210"/>
                  </a:lnTo>
                  <a:lnTo>
                    <a:pt x="284" y="1198"/>
                  </a:lnTo>
                  <a:lnTo>
                    <a:pt x="296" y="1184"/>
                  </a:lnTo>
                  <a:lnTo>
                    <a:pt x="296" y="1184"/>
                  </a:lnTo>
                  <a:lnTo>
                    <a:pt x="300" y="1178"/>
                  </a:lnTo>
                  <a:lnTo>
                    <a:pt x="304" y="1180"/>
                  </a:lnTo>
                  <a:close/>
                </a:path>
              </a:pathLst>
            </a:custGeom>
            <a:solidFill>
              <a:srgbClr val="c6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Freeform 12"/>
          <p:cNvSpPr/>
          <p:nvPr/>
        </p:nvSpPr>
        <p:spPr>
          <a:xfrm>
            <a:off x="2733840" y="1758960"/>
            <a:ext cx="4606920" cy="5375160"/>
          </a:xfrm>
          <a:custGeom>
            <a:avLst/>
            <a:gdLst>
              <a:gd name="textAreaLeft" fmla="*/ 0 w 4606920"/>
              <a:gd name="textAreaRight" fmla="*/ 4607280 w 4606920"/>
              <a:gd name="textAreaTop" fmla="*/ 0 h 5375160"/>
              <a:gd name="textAreaBottom" fmla="*/ 5375520 h 5375160"/>
            </a:gdLst>
            <a:ahLst/>
            <a:rect l="textAreaLeft" t="textAreaTop" r="textAreaRight" b="textAreaBottom"/>
            <a:pathLst>
              <a:path w="2902" h="3386">
                <a:moveTo>
                  <a:pt x="2154" y="1642"/>
                </a:moveTo>
                <a:lnTo>
                  <a:pt x="2154" y="1642"/>
                </a:lnTo>
                <a:lnTo>
                  <a:pt x="2102" y="1596"/>
                </a:lnTo>
                <a:lnTo>
                  <a:pt x="2050" y="1552"/>
                </a:lnTo>
                <a:lnTo>
                  <a:pt x="1996" y="1512"/>
                </a:lnTo>
                <a:lnTo>
                  <a:pt x="1942" y="1472"/>
                </a:lnTo>
                <a:lnTo>
                  <a:pt x="1942" y="1472"/>
                </a:lnTo>
                <a:lnTo>
                  <a:pt x="1992" y="1464"/>
                </a:lnTo>
                <a:lnTo>
                  <a:pt x="2040" y="1454"/>
                </a:lnTo>
                <a:lnTo>
                  <a:pt x="2086" y="1442"/>
                </a:lnTo>
                <a:lnTo>
                  <a:pt x="2132" y="1430"/>
                </a:lnTo>
                <a:lnTo>
                  <a:pt x="2178" y="1414"/>
                </a:lnTo>
                <a:lnTo>
                  <a:pt x="2222" y="1400"/>
                </a:lnTo>
                <a:lnTo>
                  <a:pt x="2266" y="1382"/>
                </a:lnTo>
                <a:lnTo>
                  <a:pt x="2308" y="1366"/>
                </a:lnTo>
                <a:lnTo>
                  <a:pt x="2388" y="1328"/>
                </a:lnTo>
                <a:lnTo>
                  <a:pt x="2464" y="1290"/>
                </a:lnTo>
                <a:lnTo>
                  <a:pt x="2534" y="1248"/>
                </a:lnTo>
                <a:lnTo>
                  <a:pt x="2598" y="1208"/>
                </a:lnTo>
                <a:lnTo>
                  <a:pt x="2656" y="1168"/>
                </a:lnTo>
                <a:lnTo>
                  <a:pt x="2708" y="1130"/>
                </a:lnTo>
                <a:lnTo>
                  <a:pt x="2754" y="1094"/>
                </a:lnTo>
                <a:lnTo>
                  <a:pt x="2792" y="1064"/>
                </a:lnTo>
                <a:lnTo>
                  <a:pt x="2848" y="1014"/>
                </a:lnTo>
                <a:lnTo>
                  <a:pt x="2870" y="992"/>
                </a:lnTo>
                <a:lnTo>
                  <a:pt x="2902" y="960"/>
                </a:lnTo>
                <a:lnTo>
                  <a:pt x="2866" y="934"/>
                </a:lnTo>
                <a:lnTo>
                  <a:pt x="2866" y="934"/>
                </a:lnTo>
                <a:lnTo>
                  <a:pt x="2838" y="914"/>
                </a:lnTo>
                <a:lnTo>
                  <a:pt x="2808" y="894"/>
                </a:lnTo>
                <a:lnTo>
                  <a:pt x="2770" y="870"/>
                </a:lnTo>
                <a:lnTo>
                  <a:pt x="2722" y="842"/>
                </a:lnTo>
                <a:lnTo>
                  <a:pt x="2666" y="810"/>
                </a:lnTo>
                <a:lnTo>
                  <a:pt x="2604" y="778"/>
                </a:lnTo>
                <a:lnTo>
                  <a:pt x="2532" y="746"/>
                </a:lnTo>
                <a:lnTo>
                  <a:pt x="2456" y="714"/>
                </a:lnTo>
                <a:lnTo>
                  <a:pt x="2374" y="684"/>
                </a:lnTo>
                <a:lnTo>
                  <a:pt x="2330" y="670"/>
                </a:lnTo>
                <a:lnTo>
                  <a:pt x="2284" y="656"/>
                </a:lnTo>
                <a:lnTo>
                  <a:pt x="2238" y="644"/>
                </a:lnTo>
                <a:lnTo>
                  <a:pt x="2192" y="634"/>
                </a:lnTo>
                <a:lnTo>
                  <a:pt x="2144" y="624"/>
                </a:lnTo>
                <a:lnTo>
                  <a:pt x="2094" y="616"/>
                </a:lnTo>
                <a:lnTo>
                  <a:pt x="2044" y="608"/>
                </a:lnTo>
                <a:lnTo>
                  <a:pt x="1992" y="604"/>
                </a:lnTo>
                <a:lnTo>
                  <a:pt x="1940" y="600"/>
                </a:lnTo>
                <a:lnTo>
                  <a:pt x="1888" y="598"/>
                </a:lnTo>
                <a:lnTo>
                  <a:pt x="1836" y="600"/>
                </a:lnTo>
                <a:lnTo>
                  <a:pt x="1782" y="602"/>
                </a:lnTo>
                <a:lnTo>
                  <a:pt x="1782" y="602"/>
                </a:lnTo>
                <a:lnTo>
                  <a:pt x="1714" y="610"/>
                </a:lnTo>
                <a:lnTo>
                  <a:pt x="1648" y="620"/>
                </a:lnTo>
                <a:lnTo>
                  <a:pt x="1582" y="634"/>
                </a:lnTo>
                <a:lnTo>
                  <a:pt x="1520" y="650"/>
                </a:lnTo>
                <a:lnTo>
                  <a:pt x="1520" y="650"/>
                </a:lnTo>
                <a:lnTo>
                  <a:pt x="1548" y="596"/>
                </a:lnTo>
                <a:lnTo>
                  <a:pt x="1574" y="544"/>
                </a:lnTo>
                <a:lnTo>
                  <a:pt x="1596" y="492"/>
                </a:lnTo>
                <a:lnTo>
                  <a:pt x="1614" y="440"/>
                </a:lnTo>
                <a:lnTo>
                  <a:pt x="1632" y="388"/>
                </a:lnTo>
                <a:lnTo>
                  <a:pt x="1646" y="340"/>
                </a:lnTo>
                <a:lnTo>
                  <a:pt x="1656" y="294"/>
                </a:lnTo>
                <a:lnTo>
                  <a:pt x="1666" y="250"/>
                </a:lnTo>
                <a:lnTo>
                  <a:pt x="1680" y="170"/>
                </a:lnTo>
                <a:lnTo>
                  <a:pt x="1688" y="108"/>
                </a:lnTo>
                <a:lnTo>
                  <a:pt x="1692" y="66"/>
                </a:lnTo>
                <a:lnTo>
                  <a:pt x="1692" y="48"/>
                </a:lnTo>
                <a:lnTo>
                  <a:pt x="1694" y="0"/>
                </a:lnTo>
                <a:lnTo>
                  <a:pt x="1646" y="8"/>
                </a:lnTo>
                <a:lnTo>
                  <a:pt x="1646" y="8"/>
                </a:lnTo>
                <a:lnTo>
                  <a:pt x="1624" y="12"/>
                </a:lnTo>
                <a:lnTo>
                  <a:pt x="1574" y="26"/>
                </a:lnTo>
                <a:lnTo>
                  <a:pt x="1540" y="36"/>
                </a:lnTo>
                <a:lnTo>
                  <a:pt x="1500" y="50"/>
                </a:lnTo>
                <a:lnTo>
                  <a:pt x="1458" y="66"/>
                </a:lnTo>
                <a:lnTo>
                  <a:pt x="1410" y="86"/>
                </a:lnTo>
                <a:lnTo>
                  <a:pt x="1362" y="108"/>
                </a:lnTo>
                <a:lnTo>
                  <a:pt x="1310" y="136"/>
                </a:lnTo>
                <a:lnTo>
                  <a:pt x="1258" y="166"/>
                </a:lnTo>
                <a:lnTo>
                  <a:pt x="1204" y="202"/>
                </a:lnTo>
                <a:lnTo>
                  <a:pt x="1152" y="242"/>
                </a:lnTo>
                <a:lnTo>
                  <a:pt x="1100" y="286"/>
                </a:lnTo>
                <a:lnTo>
                  <a:pt x="1074" y="310"/>
                </a:lnTo>
                <a:lnTo>
                  <a:pt x="1050" y="334"/>
                </a:lnTo>
                <a:lnTo>
                  <a:pt x="1026" y="362"/>
                </a:lnTo>
                <a:lnTo>
                  <a:pt x="1002" y="390"/>
                </a:lnTo>
                <a:lnTo>
                  <a:pt x="1002" y="390"/>
                </a:lnTo>
                <a:lnTo>
                  <a:pt x="966" y="434"/>
                </a:lnTo>
                <a:lnTo>
                  <a:pt x="936" y="482"/>
                </a:lnTo>
                <a:lnTo>
                  <a:pt x="906" y="530"/>
                </a:lnTo>
                <a:lnTo>
                  <a:pt x="882" y="578"/>
                </a:lnTo>
                <a:lnTo>
                  <a:pt x="858" y="626"/>
                </a:lnTo>
                <a:lnTo>
                  <a:pt x="838" y="674"/>
                </a:lnTo>
                <a:lnTo>
                  <a:pt x="820" y="720"/>
                </a:lnTo>
                <a:lnTo>
                  <a:pt x="804" y="766"/>
                </a:lnTo>
                <a:lnTo>
                  <a:pt x="792" y="812"/>
                </a:lnTo>
                <a:lnTo>
                  <a:pt x="780" y="856"/>
                </a:lnTo>
                <a:lnTo>
                  <a:pt x="762" y="936"/>
                </a:lnTo>
                <a:lnTo>
                  <a:pt x="752" y="1006"/>
                </a:lnTo>
                <a:lnTo>
                  <a:pt x="744" y="1062"/>
                </a:lnTo>
                <a:lnTo>
                  <a:pt x="744" y="1062"/>
                </a:lnTo>
                <a:lnTo>
                  <a:pt x="700" y="1050"/>
                </a:lnTo>
                <a:lnTo>
                  <a:pt x="656" y="1036"/>
                </a:lnTo>
                <a:lnTo>
                  <a:pt x="614" y="1016"/>
                </a:lnTo>
                <a:lnTo>
                  <a:pt x="574" y="994"/>
                </a:lnTo>
                <a:lnTo>
                  <a:pt x="536" y="970"/>
                </a:lnTo>
                <a:lnTo>
                  <a:pt x="498" y="942"/>
                </a:lnTo>
                <a:lnTo>
                  <a:pt x="464" y="910"/>
                </a:lnTo>
                <a:lnTo>
                  <a:pt x="430" y="878"/>
                </a:lnTo>
                <a:lnTo>
                  <a:pt x="398" y="844"/>
                </a:lnTo>
                <a:lnTo>
                  <a:pt x="368" y="808"/>
                </a:lnTo>
                <a:lnTo>
                  <a:pt x="340" y="772"/>
                </a:lnTo>
                <a:lnTo>
                  <a:pt x="314" y="734"/>
                </a:lnTo>
                <a:lnTo>
                  <a:pt x="290" y="696"/>
                </a:lnTo>
                <a:lnTo>
                  <a:pt x="270" y="658"/>
                </a:lnTo>
                <a:lnTo>
                  <a:pt x="250" y="620"/>
                </a:lnTo>
                <a:lnTo>
                  <a:pt x="232" y="582"/>
                </a:lnTo>
                <a:lnTo>
                  <a:pt x="232" y="582"/>
                </a:lnTo>
                <a:lnTo>
                  <a:pt x="216" y="546"/>
                </a:lnTo>
                <a:lnTo>
                  <a:pt x="202" y="508"/>
                </a:lnTo>
                <a:lnTo>
                  <a:pt x="192" y="472"/>
                </a:lnTo>
                <a:lnTo>
                  <a:pt x="182" y="436"/>
                </a:lnTo>
                <a:lnTo>
                  <a:pt x="174" y="400"/>
                </a:lnTo>
                <a:lnTo>
                  <a:pt x="168" y="366"/>
                </a:lnTo>
                <a:lnTo>
                  <a:pt x="164" y="332"/>
                </a:lnTo>
                <a:lnTo>
                  <a:pt x="162" y="298"/>
                </a:lnTo>
                <a:lnTo>
                  <a:pt x="160" y="268"/>
                </a:lnTo>
                <a:lnTo>
                  <a:pt x="162" y="238"/>
                </a:lnTo>
                <a:lnTo>
                  <a:pt x="166" y="208"/>
                </a:lnTo>
                <a:lnTo>
                  <a:pt x="172" y="180"/>
                </a:lnTo>
                <a:lnTo>
                  <a:pt x="180" y="154"/>
                </a:lnTo>
                <a:lnTo>
                  <a:pt x="190" y="130"/>
                </a:lnTo>
                <a:lnTo>
                  <a:pt x="202" y="108"/>
                </a:lnTo>
                <a:lnTo>
                  <a:pt x="214" y="88"/>
                </a:lnTo>
                <a:lnTo>
                  <a:pt x="214" y="88"/>
                </a:lnTo>
                <a:lnTo>
                  <a:pt x="220" y="78"/>
                </a:lnTo>
                <a:lnTo>
                  <a:pt x="224" y="68"/>
                </a:lnTo>
                <a:lnTo>
                  <a:pt x="226" y="58"/>
                </a:lnTo>
                <a:lnTo>
                  <a:pt x="226" y="48"/>
                </a:lnTo>
                <a:lnTo>
                  <a:pt x="222" y="36"/>
                </a:lnTo>
                <a:lnTo>
                  <a:pt x="218" y="28"/>
                </a:lnTo>
                <a:lnTo>
                  <a:pt x="212" y="18"/>
                </a:lnTo>
                <a:lnTo>
                  <a:pt x="204" y="10"/>
                </a:lnTo>
                <a:lnTo>
                  <a:pt x="204" y="10"/>
                </a:lnTo>
                <a:lnTo>
                  <a:pt x="194" y="4"/>
                </a:lnTo>
                <a:lnTo>
                  <a:pt x="184" y="2"/>
                </a:lnTo>
                <a:lnTo>
                  <a:pt x="174" y="0"/>
                </a:lnTo>
                <a:lnTo>
                  <a:pt x="162" y="0"/>
                </a:lnTo>
                <a:lnTo>
                  <a:pt x="152" y="2"/>
                </a:lnTo>
                <a:lnTo>
                  <a:pt x="142" y="8"/>
                </a:lnTo>
                <a:lnTo>
                  <a:pt x="134" y="14"/>
                </a:lnTo>
                <a:lnTo>
                  <a:pt x="126" y="22"/>
                </a:lnTo>
                <a:lnTo>
                  <a:pt x="126" y="22"/>
                </a:lnTo>
                <a:lnTo>
                  <a:pt x="108" y="48"/>
                </a:lnTo>
                <a:lnTo>
                  <a:pt x="92" y="78"/>
                </a:lnTo>
                <a:lnTo>
                  <a:pt x="80" y="108"/>
                </a:lnTo>
                <a:lnTo>
                  <a:pt x="68" y="140"/>
                </a:lnTo>
                <a:lnTo>
                  <a:pt x="60" y="174"/>
                </a:lnTo>
                <a:lnTo>
                  <a:pt x="54" y="210"/>
                </a:lnTo>
                <a:lnTo>
                  <a:pt x="52" y="248"/>
                </a:lnTo>
                <a:lnTo>
                  <a:pt x="50" y="286"/>
                </a:lnTo>
                <a:lnTo>
                  <a:pt x="52" y="326"/>
                </a:lnTo>
                <a:lnTo>
                  <a:pt x="56" y="366"/>
                </a:lnTo>
                <a:lnTo>
                  <a:pt x="62" y="408"/>
                </a:lnTo>
                <a:lnTo>
                  <a:pt x="70" y="450"/>
                </a:lnTo>
                <a:lnTo>
                  <a:pt x="82" y="494"/>
                </a:lnTo>
                <a:lnTo>
                  <a:pt x="96" y="538"/>
                </a:lnTo>
                <a:lnTo>
                  <a:pt x="112" y="582"/>
                </a:lnTo>
                <a:lnTo>
                  <a:pt x="130" y="628"/>
                </a:lnTo>
                <a:lnTo>
                  <a:pt x="130" y="628"/>
                </a:lnTo>
                <a:lnTo>
                  <a:pt x="148" y="664"/>
                </a:lnTo>
                <a:lnTo>
                  <a:pt x="166" y="700"/>
                </a:lnTo>
                <a:lnTo>
                  <a:pt x="186" y="736"/>
                </a:lnTo>
                <a:lnTo>
                  <a:pt x="208" y="774"/>
                </a:lnTo>
                <a:lnTo>
                  <a:pt x="234" y="810"/>
                </a:lnTo>
                <a:lnTo>
                  <a:pt x="258" y="846"/>
                </a:lnTo>
                <a:lnTo>
                  <a:pt x="286" y="882"/>
                </a:lnTo>
                <a:lnTo>
                  <a:pt x="316" y="918"/>
                </a:lnTo>
                <a:lnTo>
                  <a:pt x="346" y="950"/>
                </a:lnTo>
                <a:lnTo>
                  <a:pt x="380" y="984"/>
                </a:lnTo>
                <a:lnTo>
                  <a:pt x="414" y="1014"/>
                </a:lnTo>
                <a:lnTo>
                  <a:pt x="450" y="1042"/>
                </a:lnTo>
                <a:lnTo>
                  <a:pt x="486" y="1070"/>
                </a:lnTo>
                <a:lnTo>
                  <a:pt x="526" y="1094"/>
                </a:lnTo>
                <a:lnTo>
                  <a:pt x="566" y="1116"/>
                </a:lnTo>
                <a:lnTo>
                  <a:pt x="608" y="1134"/>
                </a:lnTo>
                <a:lnTo>
                  <a:pt x="608" y="1134"/>
                </a:lnTo>
                <a:lnTo>
                  <a:pt x="562" y="1154"/>
                </a:lnTo>
                <a:lnTo>
                  <a:pt x="516" y="1176"/>
                </a:lnTo>
                <a:lnTo>
                  <a:pt x="466" y="1204"/>
                </a:lnTo>
                <a:lnTo>
                  <a:pt x="416" y="1234"/>
                </a:lnTo>
                <a:lnTo>
                  <a:pt x="366" y="1270"/>
                </a:lnTo>
                <a:lnTo>
                  <a:pt x="316" y="1312"/>
                </a:lnTo>
                <a:lnTo>
                  <a:pt x="292" y="1334"/>
                </a:lnTo>
                <a:lnTo>
                  <a:pt x="268" y="1358"/>
                </a:lnTo>
                <a:lnTo>
                  <a:pt x="246" y="1382"/>
                </a:lnTo>
                <a:lnTo>
                  <a:pt x="224" y="1408"/>
                </a:lnTo>
                <a:lnTo>
                  <a:pt x="224" y="1408"/>
                </a:lnTo>
                <a:lnTo>
                  <a:pt x="186" y="1458"/>
                </a:lnTo>
                <a:lnTo>
                  <a:pt x="154" y="1508"/>
                </a:lnTo>
                <a:lnTo>
                  <a:pt x="124" y="1560"/>
                </a:lnTo>
                <a:lnTo>
                  <a:pt x="100" y="1612"/>
                </a:lnTo>
                <a:lnTo>
                  <a:pt x="78" y="1664"/>
                </a:lnTo>
                <a:lnTo>
                  <a:pt x="60" y="1716"/>
                </a:lnTo>
                <a:lnTo>
                  <a:pt x="46" y="1764"/>
                </a:lnTo>
                <a:lnTo>
                  <a:pt x="34" y="1810"/>
                </a:lnTo>
                <a:lnTo>
                  <a:pt x="24" y="1854"/>
                </a:lnTo>
                <a:lnTo>
                  <a:pt x="16" y="1896"/>
                </a:lnTo>
                <a:lnTo>
                  <a:pt x="6" y="1964"/>
                </a:lnTo>
                <a:lnTo>
                  <a:pt x="2" y="2010"/>
                </a:lnTo>
                <a:lnTo>
                  <a:pt x="0" y="2030"/>
                </a:lnTo>
                <a:lnTo>
                  <a:pt x="0" y="2078"/>
                </a:lnTo>
                <a:lnTo>
                  <a:pt x="46" y="2070"/>
                </a:lnTo>
                <a:lnTo>
                  <a:pt x="46" y="2070"/>
                </a:lnTo>
                <a:lnTo>
                  <a:pt x="88" y="2060"/>
                </a:lnTo>
                <a:lnTo>
                  <a:pt x="130" y="2048"/>
                </a:lnTo>
                <a:lnTo>
                  <a:pt x="184" y="2030"/>
                </a:lnTo>
                <a:lnTo>
                  <a:pt x="244" y="2004"/>
                </a:lnTo>
                <a:lnTo>
                  <a:pt x="278" y="1990"/>
                </a:lnTo>
                <a:lnTo>
                  <a:pt x="312" y="1972"/>
                </a:lnTo>
                <a:lnTo>
                  <a:pt x="348" y="1954"/>
                </a:lnTo>
                <a:lnTo>
                  <a:pt x="382" y="1932"/>
                </a:lnTo>
                <a:lnTo>
                  <a:pt x="418" y="1908"/>
                </a:lnTo>
                <a:lnTo>
                  <a:pt x="454" y="1882"/>
                </a:lnTo>
                <a:lnTo>
                  <a:pt x="454" y="1882"/>
                </a:lnTo>
                <a:lnTo>
                  <a:pt x="442" y="1970"/>
                </a:lnTo>
                <a:lnTo>
                  <a:pt x="438" y="2016"/>
                </a:lnTo>
                <a:lnTo>
                  <a:pt x="436" y="2064"/>
                </a:lnTo>
                <a:lnTo>
                  <a:pt x="434" y="2110"/>
                </a:lnTo>
                <a:lnTo>
                  <a:pt x="434" y="2158"/>
                </a:lnTo>
                <a:lnTo>
                  <a:pt x="434" y="2206"/>
                </a:lnTo>
                <a:lnTo>
                  <a:pt x="436" y="2254"/>
                </a:lnTo>
                <a:lnTo>
                  <a:pt x="436" y="2254"/>
                </a:lnTo>
                <a:lnTo>
                  <a:pt x="442" y="2312"/>
                </a:lnTo>
                <a:lnTo>
                  <a:pt x="448" y="2368"/>
                </a:lnTo>
                <a:lnTo>
                  <a:pt x="458" y="2422"/>
                </a:lnTo>
                <a:lnTo>
                  <a:pt x="468" y="2476"/>
                </a:lnTo>
                <a:lnTo>
                  <a:pt x="480" y="2530"/>
                </a:lnTo>
                <a:lnTo>
                  <a:pt x="492" y="2582"/>
                </a:lnTo>
                <a:lnTo>
                  <a:pt x="508" y="2632"/>
                </a:lnTo>
                <a:lnTo>
                  <a:pt x="524" y="2682"/>
                </a:lnTo>
                <a:lnTo>
                  <a:pt x="540" y="2730"/>
                </a:lnTo>
                <a:lnTo>
                  <a:pt x="558" y="2776"/>
                </a:lnTo>
                <a:lnTo>
                  <a:pt x="596" y="2866"/>
                </a:lnTo>
                <a:lnTo>
                  <a:pt x="636" y="2948"/>
                </a:lnTo>
                <a:lnTo>
                  <a:pt x="676" y="3024"/>
                </a:lnTo>
                <a:lnTo>
                  <a:pt x="716" y="3094"/>
                </a:lnTo>
                <a:lnTo>
                  <a:pt x="754" y="3156"/>
                </a:lnTo>
                <a:lnTo>
                  <a:pt x="792" y="3210"/>
                </a:lnTo>
                <a:lnTo>
                  <a:pt x="824" y="3256"/>
                </a:lnTo>
                <a:lnTo>
                  <a:pt x="874" y="3322"/>
                </a:lnTo>
                <a:lnTo>
                  <a:pt x="898" y="3350"/>
                </a:lnTo>
                <a:lnTo>
                  <a:pt x="930" y="3386"/>
                </a:lnTo>
                <a:lnTo>
                  <a:pt x="958" y="3344"/>
                </a:lnTo>
                <a:lnTo>
                  <a:pt x="958" y="3344"/>
                </a:lnTo>
                <a:lnTo>
                  <a:pt x="976" y="3318"/>
                </a:lnTo>
                <a:lnTo>
                  <a:pt x="1012" y="3252"/>
                </a:lnTo>
                <a:lnTo>
                  <a:pt x="1036" y="3208"/>
                </a:lnTo>
                <a:lnTo>
                  <a:pt x="1062" y="3156"/>
                </a:lnTo>
                <a:lnTo>
                  <a:pt x="1090" y="3096"/>
                </a:lnTo>
                <a:lnTo>
                  <a:pt x="1120" y="3028"/>
                </a:lnTo>
                <a:lnTo>
                  <a:pt x="1148" y="2954"/>
                </a:lnTo>
                <a:lnTo>
                  <a:pt x="1176" y="2876"/>
                </a:lnTo>
                <a:lnTo>
                  <a:pt x="1200" y="2792"/>
                </a:lnTo>
                <a:lnTo>
                  <a:pt x="1224" y="2702"/>
                </a:lnTo>
                <a:lnTo>
                  <a:pt x="1234" y="2656"/>
                </a:lnTo>
                <a:lnTo>
                  <a:pt x="1244" y="2608"/>
                </a:lnTo>
                <a:lnTo>
                  <a:pt x="1252" y="2560"/>
                </a:lnTo>
                <a:lnTo>
                  <a:pt x="1258" y="2510"/>
                </a:lnTo>
                <a:lnTo>
                  <a:pt x="1264" y="2460"/>
                </a:lnTo>
                <a:lnTo>
                  <a:pt x="1268" y="2408"/>
                </a:lnTo>
                <a:lnTo>
                  <a:pt x="1270" y="2358"/>
                </a:lnTo>
                <a:lnTo>
                  <a:pt x="1272" y="2304"/>
                </a:lnTo>
                <a:lnTo>
                  <a:pt x="1272" y="2304"/>
                </a:lnTo>
                <a:lnTo>
                  <a:pt x="1314" y="2354"/>
                </a:lnTo>
                <a:lnTo>
                  <a:pt x="1358" y="2402"/>
                </a:lnTo>
                <a:lnTo>
                  <a:pt x="1404" y="2450"/>
                </a:lnTo>
                <a:lnTo>
                  <a:pt x="1452" y="2496"/>
                </a:lnTo>
                <a:lnTo>
                  <a:pt x="1452" y="2496"/>
                </a:lnTo>
                <a:lnTo>
                  <a:pt x="1506" y="2544"/>
                </a:lnTo>
                <a:lnTo>
                  <a:pt x="1562" y="2590"/>
                </a:lnTo>
                <a:lnTo>
                  <a:pt x="1618" y="2632"/>
                </a:lnTo>
                <a:lnTo>
                  <a:pt x="1674" y="2672"/>
                </a:lnTo>
                <a:lnTo>
                  <a:pt x="1732" y="2710"/>
                </a:lnTo>
                <a:lnTo>
                  <a:pt x="1788" y="2744"/>
                </a:lnTo>
                <a:lnTo>
                  <a:pt x="1846" y="2776"/>
                </a:lnTo>
                <a:lnTo>
                  <a:pt x="1904" y="2806"/>
                </a:lnTo>
                <a:lnTo>
                  <a:pt x="1960" y="2834"/>
                </a:lnTo>
                <a:lnTo>
                  <a:pt x="2018" y="2860"/>
                </a:lnTo>
                <a:lnTo>
                  <a:pt x="2074" y="2884"/>
                </a:lnTo>
                <a:lnTo>
                  <a:pt x="2130" y="2904"/>
                </a:lnTo>
                <a:lnTo>
                  <a:pt x="2184" y="2924"/>
                </a:lnTo>
                <a:lnTo>
                  <a:pt x="2238" y="2942"/>
                </a:lnTo>
                <a:lnTo>
                  <a:pt x="2290" y="2958"/>
                </a:lnTo>
                <a:lnTo>
                  <a:pt x="2342" y="2974"/>
                </a:lnTo>
                <a:lnTo>
                  <a:pt x="2438" y="2998"/>
                </a:lnTo>
                <a:lnTo>
                  <a:pt x="2528" y="3016"/>
                </a:lnTo>
                <a:lnTo>
                  <a:pt x="2608" y="3032"/>
                </a:lnTo>
                <a:lnTo>
                  <a:pt x="2678" y="3042"/>
                </a:lnTo>
                <a:lnTo>
                  <a:pt x="2738" y="3048"/>
                </a:lnTo>
                <a:lnTo>
                  <a:pt x="2782" y="3052"/>
                </a:lnTo>
                <a:lnTo>
                  <a:pt x="2828" y="3054"/>
                </a:lnTo>
                <a:lnTo>
                  <a:pt x="2874" y="3056"/>
                </a:lnTo>
                <a:lnTo>
                  <a:pt x="2866" y="3010"/>
                </a:lnTo>
                <a:lnTo>
                  <a:pt x="2866" y="3010"/>
                </a:lnTo>
                <a:lnTo>
                  <a:pt x="2858" y="2962"/>
                </a:lnTo>
                <a:lnTo>
                  <a:pt x="2848" y="2916"/>
                </a:lnTo>
                <a:lnTo>
                  <a:pt x="2834" y="2856"/>
                </a:lnTo>
                <a:lnTo>
                  <a:pt x="2814" y="2784"/>
                </a:lnTo>
                <a:lnTo>
                  <a:pt x="2790" y="2700"/>
                </a:lnTo>
                <a:lnTo>
                  <a:pt x="2758" y="2610"/>
                </a:lnTo>
                <a:lnTo>
                  <a:pt x="2722" y="2510"/>
                </a:lnTo>
                <a:lnTo>
                  <a:pt x="2678" y="2406"/>
                </a:lnTo>
                <a:lnTo>
                  <a:pt x="2654" y="2352"/>
                </a:lnTo>
                <a:lnTo>
                  <a:pt x="2628" y="2296"/>
                </a:lnTo>
                <a:lnTo>
                  <a:pt x="2600" y="2242"/>
                </a:lnTo>
                <a:lnTo>
                  <a:pt x="2570" y="2186"/>
                </a:lnTo>
                <a:lnTo>
                  <a:pt x="2540" y="2128"/>
                </a:lnTo>
                <a:lnTo>
                  <a:pt x="2506" y="2072"/>
                </a:lnTo>
                <a:lnTo>
                  <a:pt x="2470" y="2016"/>
                </a:lnTo>
                <a:lnTo>
                  <a:pt x="2432" y="1960"/>
                </a:lnTo>
                <a:lnTo>
                  <a:pt x="2390" y="1904"/>
                </a:lnTo>
                <a:lnTo>
                  <a:pt x="2348" y="1850"/>
                </a:lnTo>
                <a:lnTo>
                  <a:pt x="2304" y="1796"/>
                </a:lnTo>
                <a:lnTo>
                  <a:pt x="2256" y="1744"/>
                </a:lnTo>
                <a:lnTo>
                  <a:pt x="2206" y="1692"/>
                </a:lnTo>
                <a:lnTo>
                  <a:pt x="2154" y="1642"/>
                </a:lnTo>
                <a:lnTo>
                  <a:pt x="2154" y="1642"/>
                </a:lnTo>
                <a:close/>
              </a:path>
            </a:pathLst>
          </a:custGeom>
          <a:solidFill>
            <a:srgbClr val="fb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33"/>
          <p:cNvSpPr/>
          <p:nvPr/>
        </p:nvSpPr>
        <p:spPr>
          <a:xfrm>
            <a:off x="1728720" y="954000"/>
            <a:ext cx="88567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9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第</a:t>
            </a:r>
            <a:r>
              <a:rPr b="0" lang="en-US" sz="19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</a:t>
            </a:r>
            <a:r>
              <a:rPr b="0" lang="ja-JP" sz="19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回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4"/>
          <p:cNvSpPr/>
          <p:nvPr/>
        </p:nvSpPr>
        <p:spPr>
          <a:xfrm>
            <a:off x="13944600" y="1752480"/>
            <a:ext cx="17983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5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秋祭り</a:t>
            </a:r>
            <a:endParaRPr b="0" lang="en-US" sz="4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4:19:11Z</dcterms:created>
  <dc:creator>seisaku</dc:creator>
  <dc:description/>
  <dc:language>en-US</dc:language>
  <cp:lastModifiedBy>ttec</cp:lastModifiedBy>
  <dcterms:modified xsi:type="dcterms:W3CDTF">2012-05-31T04:46:35Z</dcterms:modified>
  <cp:revision>6</cp:revision>
  <dc:subject/>
  <dc:title>スライド 1</dc:title>
</cp:coreProperties>
</file>