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FA6-E206-4CC9-8AC8-05D2C06B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AEB-18C7-4CA6-885B-FBE0E1E4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63D-F8E5-4329-BC74-C21E0F6E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6D8-02B5-404C-AAFA-EECE0810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09D-5608-4855-BC73-1A66015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07A-9289-4A32-9ABF-2D5A824C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3F4-3581-45FE-A862-2FF1ECAF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F93-8541-407E-A90E-7CE64529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01A-4631-4CA5-BBF5-2DE934D4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4C1-3598-47F9-ADE5-C2A9434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2C8-BF6E-4367-84B9-252736D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B58-27A7-4C02-ADB2-488B529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33B40D44-37AF-43B2-8BEF-027702E1690A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図 5" descr=""/>
          <p:cNvPicPr/>
          <p:nvPr/>
        </p:nvPicPr>
        <p:blipFill>
          <a:blip r:embed="rId2"/>
          <a:stretch/>
        </p:blipFill>
        <p:spPr>
          <a:xfrm>
            <a:off x="15468480" y="954000"/>
            <a:ext cx="12268440" cy="1460520"/>
          </a:xfrm>
          <a:prstGeom prst="rect">
            <a:avLst/>
          </a:prstGeom>
          <a:ln w="0">
            <a:noFill/>
          </a:ln>
        </p:spPr>
      </p:pic>
      <p:pic>
        <p:nvPicPr>
          <p:cNvPr id="43" name="図 6" descr=""/>
          <p:cNvPicPr/>
          <p:nvPr/>
        </p:nvPicPr>
        <p:blipFill>
          <a:blip r:embed="rId3"/>
          <a:stretch/>
        </p:blipFill>
        <p:spPr>
          <a:xfrm>
            <a:off x="5499000" y="3390840"/>
            <a:ext cx="32207400" cy="3898800"/>
          </a:xfrm>
          <a:prstGeom prst="rect">
            <a:avLst/>
          </a:prstGeom>
          <a:ln w="0">
            <a:noFill/>
          </a:ln>
        </p:spPr>
      </p:pic>
      <p:sp>
        <p:nvSpPr>
          <p:cNvPr id="44" name="正方形/長方形 11"/>
          <p:cNvSpPr/>
          <p:nvPr/>
        </p:nvSpPr>
        <p:spPr>
          <a:xfrm>
            <a:off x="6628680" y="8442360"/>
            <a:ext cx="22192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3000" spc="-1" strike="noStrike">
                <a:solidFill>
                  <a:srgbClr val="ffffff"/>
                </a:solidFill>
                <a:latin typeface="HGP創英ﾌﾟﾚｾﾞﾝｽEB"/>
                <a:ea typeface="HGP創英ﾌﾟﾚｾﾞﾝｽEB"/>
              </a:rPr>
              <a:t>期間：</a:t>
            </a:r>
            <a:r>
              <a:rPr b="0" lang="en-US" sz="13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0000.00.00</a:t>
            </a:r>
            <a:r>
              <a:rPr b="0" lang="en-US" sz="13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〜</a:t>
            </a:r>
            <a:r>
              <a:rPr b="0" lang="en-US" sz="13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0000.00.00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sugimura yuki(杉村 有希 TEC □ＲＳ本□ＲＳＳＳ□エリア・ＢＰ推進)</cp:lastModifiedBy>
  <cp:lastPrinted>2013-02-07T07:38:20Z</cp:lastPrinted>
  <dcterms:modified xsi:type="dcterms:W3CDTF">2025-10-02T05:03:57Z</dcterms:modified>
  <cp:revision>28</cp:revision>
  <dc:subject/>
  <dc:title>スライド 1</dc:title>
</cp:coreProperties>
</file>