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CF2-EFC2-4C68-B276-25D94675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388620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9000" y="6815520"/>
            <a:ext cx="388620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DB6-882C-4839-8BD8-D4EF6DA1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900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98D-8295-4EA5-BF4D-66588F2C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8280" y="326880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560" y="326880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9000" y="681552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8280" y="681552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560" y="6815520"/>
            <a:ext cx="1251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CCF-8E25-499B-819C-F75F1F31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9000" y="3268800"/>
            <a:ext cx="3886200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A85-5E9E-4E3E-96EE-19E92AEE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388620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A25-9E47-46BC-B1F1-95ADA0B6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C0B-5BF6-4F04-B87C-A8B14180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DCC-A3AB-42E1-BC1A-27A116D0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9000" y="1006200"/>
            <a:ext cx="3886200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A2F-DCEB-4E51-86A3-1C95C2D2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900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9FC-6414-406E-A1A7-2BAA71E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681552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8E5-6E8B-41B3-BEE1-77E622F3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9000" y="589680"/>
            <a:ext cx="38862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900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44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9000" y="6815520"/>
            <a:ext cx="388620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3CA-B997-45A6-B50E-CA966CCA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9000" y="1006200"/>
            <a:ext cx="3886200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9000" y="3268800"/>
            <a:ext cx="388620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900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1120" y="10308960"/>
            <a:ext cx="1447776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612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8E52C1A7-4F2C-4ED3-8A50-D56E0A93AC1A}" type="slidenum"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00" cy="113158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lm10_da10001-s" descr=""/>
          <p:cNvPicPr/>
          <p:nvPr/>
        </p:nvPicPr>
        <p:blipFill>
          <a:blip r:embed="rId1"/>
          <a:stretch/>
        </p:blipFill>
        <p:spPr>
          <a:xfrm>
            <a:off x="20729520" y="282600"/>
            <a:ext cx="7616880" cy="7870680"/>
          </a:xfrm>
          <a:prstGeom prst="rect">
            <a:avLst/>
          </a:prstGeom>
          <a:ln w="0">
            <a:noFill/>
          </a:ln>
        </p:spPr>
      </p:pic>
      <p:pic>
        <p:nvPicPr>
          <p:cNvPr id="43" name="名称未設定-13" descr=""/>
          <p:cNvPicPr/>
          <p:nvPr/>
        </p:nvPicPr>
        <p:blipFill>
          <a:blip r:embed="rId2"/>
          <a:stretch/>
        </p:blipFill>
        <p:spPr>
          <a:xfrm>
            <a:off x="26212680" y="409680"/>
            <a:ext cx="7566120" cy="10496520"/>
          </a:xfrm>
          <a:prstGeom prst="rect">
            <a:avLst/>
          </a:prstGeom>
          <a:ln w="0">
            <a:noFill/>
          </a:ln>
        </p:spPr>
      </p:pic>
      <p:pic>
        <p:nvPicPr>
          <p:cNvPr id="44" name="名称未設定-9" descr=""/>
          <p:cNvPicPr/>
          <p:nvPr/>
        </p:nvPicPr>
        <p:blipFill>
          <a:blip r:embed="rId3"/>
          <a:stretch/>
        </p:blipFill>
        <p:spPr>
          <a:xfrm>
            <a:off x="419040" y="352440"/>
            <a:ext cx="8604360" cy="8791560"/>
          </a:xfrm>
          <a:prstGeom prst="rect">
            <a:avLst/>
          </a:prstGeom>
          <a:ln w="0">
            <a:noFill/>
          </a:ln>
        </p:spPr>
      </p:pic>
      <p:pic>
        <p:nvPicPr>
          <p:cNvPr id="45" name="名称未設定-10" descr=""/>
          <p:cNvPicPr/>
          <p:nvPr/>
        </p:nvPicPr>
        <p:blipFill>
          <a:blip r:embed="rId4"/>
          <a:stretch/>
        </p:blipFill>
        <p:spPr>
          <a:xfrm>
            <a:off x="37161720" y="380880"/>
            <a:ext cx="8177400" cy="10211040"/>
          </a:xfrm>
          <a:prstGeom prst="rect">
            <a:avLst/>
          </a:prstGeom>
          <a:ln w="0">
            <a:noFill/>
          </a:ln>
        </p:spPr>
      </p:pic>
      <p:pic>
        <p:nvPicPr>
          <p:cNvPr id="46" name="名称未設定-12" descr=""/>
          <p:cNvPicPr/>
          <p:nvPr/>
        </p:nvPicPr>
        <p:blipFill>
          <a:blip r:embed="rId5"/>
          <a:stretch/>
        </p:blipFill>
        <p:spPr>
          <a:xfrm>
            <a:off x="24612480" y="4114800"/>
            <a:ext cx="14706720" cy="6632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38880" y="5657760"/>
            <a:ext cx="60984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670572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5657760"/>
            <a:ext cx="60984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452920" y="9067680"/>
            <a:ext cx="60948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157280" y="10058400"/>
            <a:ext cx="45720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356680" y="76212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32800" y="838080"/>
            <a:ext cx="45720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39080" y="9296280"/>
            <a:ext cx="45720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163000">
            <a:off x="1599840" y="2514240"/>
            <a:ext cx="2133720" cy="202896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585280" y="2209680"/>
            <a:ext cx="1295640" cy="12319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lm10_da10001-s" descr=""/>
          <p:cNvPicPr/>
          <p:nvPr/>
        </p:nvPicPr>
        <p:blipFill>
          <a:blip r:embed="rId6"/>
          <a:stretch/>
        </p:blipFill>
        <p:spPr>
          <a:xfrm>
            <a:off x="6095880" y="4419720"/>
            <a:ext cx="6454800" cy="6667560"/>
          </a:xfrm>
          <a:prstGeom prst="rect">
            <a:avLst/>
          </a:prstGeom>
          <a:ln w="0">
            <a:noFill/>
          </a:ln>
        </p:spPr>
      </p:pic>
      <p:pic>
        <p:nvPicPr>
          <p:cNvPr id="58" name="名称未設定-11" descr=""/>
          <p:cNvPicPr/>
          <p:nvPr/>
        </p:nvPicPr>
        <p:blipFill>
          <a:blip r:embed="rId7"/>
          <a:stretch/>
        </p:blipFill>
        <p:spPr>
          <a:xfrm>
            <a:off x="10302840" y="905040"/>
            <a:ext cx="13534920" cy="9915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92320" y="5657760"/>
            <a:ext cx="2257200" cy="21463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7120" y="981396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ffff"/>
                </a:solidFill>
                <a:latin typeface="Times New Roman"/>
              </a:rPr>
              <a:t>メリークリスマ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2:05:01Z</dcterms:created>
  <dc:creator>ttec</dc:creator>
  <dc:description/>
  <dc:language>en-US</dc:language>
  <cp:lastModifiedBy>ttec</cp:lastModifiedBy>
  <dcterms:modified xsi:type="dcterms:W3CDTF">2011-11-10T06:39:29Z</dcterms:modified>
  <cp:revision>18</cp:revision>
  <dc:subject/>
  <dc:title>PowerPoint プレゼンテーション</dc:title>
</cp:coreProperties>
</file>