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BEE-B140-41B3-B1DB-1602CFDD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598-9E3F-483B-B52F-EEBEF8B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E0A-C420-429E-876F-2DAC902E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1E3-5E1E-485B-9A7D-C47FCCFF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ADF-FB69-4E82-8618-C6E2E1ED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557-E4F4-4B09-86BD-AFAEB5E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BA2-C218-4FE6-8BC7-6ECA081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EF4-67AE-4E2E-AA5D-014FD47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1006200"/>
            <a:ext cx="291463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A9C-0FAF-49BB-9CBF-022BEE7B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84A-304E-4FBA-B501-E441CD74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6B9-1DDB-45F9-A392-7E0DEA0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927-98FD-4ED1-8891-157092C5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1006200"/>
            <a:ext cx="291463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10308960"/>
            <a:ext cx="71438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10308960"/>
            <a:ext cx="1085832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10308960"/>
            <a:ext cx="71434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AA8A0FD7-5F5A-45E4-B336-251C60CB4F3E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290000" cy="113158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lm10_da10001-s" descr=""/>
          <p:cNvPicPr/>
          <p:nvPr/>
        </p:nvPicPr>
        <p:blipFill>
          <a:blip r:embed="rId1"/>
          <a:stretch/>
        </p:blipFill>
        <p:spPr>
          <a:xfrm>
            <a:off x="17145000" y="115920"/>
            <a:ext cx="6991200" cy="7224840"/>
          </a:xfrm>
          <a:prstGeom prst="rect">
            <a:avLst/>
          </a:prstGeom>
          <a:ln w="0">
            <a:noFill/>
          </a:ln>
        </p:spPr>
      </p:pic>
      <p:pic>
        <p:nvPicPr>
          <p:cNvPr id="43" name="名称未設定-13" descr=""/>
          <p:cNvPicPr/>
          <p:nvPr/>
        </p:nvPicPr>
        <p:blipFill>
          <a:blip r:embed="rId2"/>
          <a:stretch/>
        </p:blipFill>
        <p:spPr>
          <a:xfrm>
            <a:off x="20878920" y="804960"/>
            <a:ext cx="6945120" cy="9634320"/>
          </a:xfrm>
          <a:prstGeom prst="rect">
            <a:avLst/>
          </a:prstGeom>
          <a:ln w="0">
            <a:noFill/>
          </a:ln>
        </p:spPr>
      </p:pic>
      <p:pic>
        <p:nvPicPr>
          <p:cNvPr id="44" name="名称未設定-9" descr=""/>
          <p:cNvPicPr/>
          <p:nvPr/>
        </p:nvPicPr>
        <p:blipFill>
          <a:blip r:embed="rId3"/>
          <a:stretch/>
        </p:blipFill>
        <p:spPr>
          <a:xfrm>
            <a:off x="0" y="262080"/>
            <a:ext cx="7897680" cy="8069040"/>
          </a:xfrm>
          <a:prstGeom prst="rect">
            <a:avLst/>
          </a:prstGeom>
          <a:ln w="0">
            <a:noFill/>
          </a:ln>
        </p:spPr>
      </p:pic>
      <p:pic>
        <p:nvPicPr>
          <p:cNvPr id="45" name="名称未設定-10" descr=""/>
          <p:cNvPicPr/>
          <p:nvPr/>
        </p:nvPicPr>
        <p:blipFill>
          <a:blip r:embed="rId4"/>
          <a:stretch/>
        </p:blipFill>
        <p:spPr>
          <a:xfrm>
            <a:off x="26555760" y="406440"/>
            <a:ext cx="7505640" cy="9372600"/>
          </a:xfrm>
          <a:prstGeom prst="rect">
            <a:avLst/>
          </a:prstGeom>
          <a:ln w="0">
            <a:noFill/>
          </a:ln>
        </p:spPr>
      </p:pic>
      <p:pic>
        <p:nvPicPr>
          <p:cNvPr id="46" name="名称未設定-12" descr=""/>
          <p:cNvPicPr/>
          <p:nvPr/>
        </p:nvPicPr>
        <p:blipFill>
          <a:blip r:embed="rId5"/>
          <a:stretch/>
        </p:blipFill>
        <p:spPr>
          <a:xfrm>
            <a:off x="20574000" y="5987880"/>
            <a:ext cx="10210680" cy="4604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19840" y="4896000"/>
            <a:ext cx="558720" cy="5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3840" y="5943600"/>
            <a:ext cx="558720" cy="5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5240" y="4896000"/>
            <a:ext cx="558720" cy="5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075200" y="8305920"/>
            <a:ext cx="559080" cy="5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79920" y="9283680"/>
            <a:ext cx="419040" cy="4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041480" y="9982080"/>
            <a:ext cx="559080" cy="55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89000" y="10274400"/>
            <a:ext cx="419040" cy="4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0040" y="8521560"/>
            <a:ext cx="419040" cy="419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163000">
            <a:off x="1133280" y="1481040"/>
            <a:ext cx="2330280" cy="22161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07920" y="1498680"/>
            <a:ext cx="1189080" cy="11304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lm10_da10001-s" descr=""/>
          <p:cNvPicPr/>
          <p:nvPr/>
        </p:nvPicPr>
        <p:blipFill>
          <a:blip r:embed="rId6"/>
          <a:stretch/>
        </p:blipFill>
        <p:spPr>
          <a:xfrm>
            <a:off x="3946680" y="4183200"/>
            <a:ext cx="592452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名称未設定-11" descr=""/>
          <p:cNvPicPr/>
          <p:nvPr/>
        </p:nvPicPr>
        <p:blipFill>
          <a:blip r:embed="rId7"/>
          <a:stretch/>
        </p:blipFill>
        <p:spPr>
          <a:xfrm>
            <a:off x="8153280" y="934920"/>
            <a:ext cx="12423960" cy="910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642760" y="5049720"/>
            <a:ext cx="2071800" cy="19702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472280" y="950904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ffff"/>
                </a:solidFill>
                <a:latin typeface="Times New Roman"/>
              </a:rPr>
              <a:t>メリークリスマ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2:05:01Z</dcterms:created>
  <dc:creator>ttec</dc:creator>
  <dc:description/>
  <dc:language>en-US</dc:language>
  <cp:lastModifiedBy>ttec</cp:lastModifiedBy>
  <dcterms:modified xsi:type="dcterms:W3CDTF">2011-11-10T06:41:19Z</dcterms:modified>
  <cp:revision>19</cp:revision>
  <dc:subject/>
  <dc:title>PowerPoint プレゼンテーション</dc:title>
</cp:coreProperties>
</file>